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70725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40C3-7F81-47EA-8821-2F048661E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00200" y="398844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CC7B-580A-4EBB-A6A3-686038C41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9640" y="160020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00200" y="398844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09640" y="398844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5A13-32C3-49A4-87A9-59634B50B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47840" y="160020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95480" y="160020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00200" y="398844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47840" y="398844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95480" y="398844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1963-B412-4C2E-B709-BE5D24BB9E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87D0-7057-498F-B8BE-577DC1A01A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EBBA-0740-404D-8431-742FCD58D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60020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992C-1D01-4FD9-ADB7-08E23687F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C899-C722-4E7F-8AA4-0538AD819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00200" y="68544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98D8-C789-45FA-9CD3-FAAF7539F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9640" y="160020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00200" y="398844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2F4B-0C49-476C-B7FC-B099A8EFD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9640" y="160020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09640" y="398844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A38C-F51F-4C18-B21F-B4CE5054F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9640" y="160020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00200" y="398844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C930-2D7C-4945-BADF-420A2A171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cd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71600" y="0"/>
            <a:ext cx="7772400" cy="6858000"/>
          </a:xfrm>
          <a:prstGeom prst="rect">
            <a:avLst/>
          </a:prstGeom>
          <a:gradFill rotWithShape="0">
            <a:gsLst>
              <a:gs pos="0">
                <a:srgbClr val="eff9ff"/>
              </a:gs>
              <a:gs pos="100000">
                <a:srgbClr val="cde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394F-2447-4EB7-A717-D6AFCFCA851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lueEye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6541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2120" y="1522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Blue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47640" y="5335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Huma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onitoring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36560" y="533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1294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lueEyes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uman-Operator Monitoring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00040" y="58669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znań University of Technology, Pol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ttp://www.put.poznan.p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90920" y="3048120"/>
            <a:ext cx="5181480" cy="2538720"/>
            <a:chOff x="2590920" y="3048120"/>
            <a:chExt cx="5181480" cy="2538720"/>
          </a:xfrm>
        </p:grpSpPr>
        <p:sp>
          <p:nvSpPr>
            <p:cNvPr id="49" name=""/>
            <p:cNvSpPr/>
            <p:nvPr/>
          </p:nvSpPr>
          <p:spPr>
            <a:xfrm>
              <a:off x="2590920" y="4724280"/>
              <a:ext cx="22860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eam men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590920" y="3048120"/>
              <a:ext cx="5181480" cy="2075040"/>
              <a:chOff x="2590920" y="3048120"/>
              <a:chExt cx="5181480" cy="2075040"/>
            </a:xfrm>
          </p:grpSpPr>
          <p:sp>
            <p:nvSpPr>
              <p:cNvPr id="51" name=""/>
              <p:cNvSpPr/>
              <p:nvPr/>
            </p:nvSpPr>
            <p:spPr>
              <a:xfrm>
                <a:off x="2590920" y="3048120"/>
                <a:ext cx="228600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Team memb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952880" y="3048120"/>
                <a:ext cx="281952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Paweł Kowalik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Piotr Kubiaczyk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Krystian Nowak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Stanisław Osiński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Tomasz Puża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52880" y="4724280"/>
                <a:ext cx="281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Jan Kniat, Ph. D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4" name=""/>
          <p:cNvGraphicFramePr/>
          <p:nvPr/>
        </p:nvGraphicFramePr>
        <p:xfrm>
          <a:off x="2133720" y="5562720"/>
          <a:ext cx="9903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562720"/>
                    <a:ext cx="990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0" y="1447920"/>
            <a:ext cx="15238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ye movement sens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ye position measuring - direct infrared oculograp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xy- and deoxyhemoglobin measur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ax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lerome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bient l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648320" y="3276720"/>
            <a:ext cx="3504960" cy="2971800"/>
            <a:chOff x="4648320" y="3276720"/>
            <a:chExt cx="3504960" cy="2971800"/>
          </a:xfrm>
        </p:grpSpPr>
        <p:graphicFrame>
          <p:nvGraphicFramePr>
            <p:cNvPr id="113" name=""/>
            <p:cNvGraphicFramePr/>
            <p:nvPr/>
          </p:nvGraphicFramePr>
          <p:xfrm>
            <a:off x="4648320" y="3276720"/>
            <a:ext cx="3428640" cy="255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48320" y="3276720"/>
                      <a:ext cx="3428640" cy="255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648320" y="5791320"/>
              <a:ext cx="350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Jazz Multisen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0" y="1447920"/>
            <a:ext cx="152388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es, wires, wires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60760" cy="3946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05120" y="2209680"/>
            <a:ext cx="4724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rious limitation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447920"/>
            <a:ext cx="152388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sonal Area Network 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155592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209680" y="2819520"/>
            <a:ext cx="4724640" cy="2628720"/>
            <a:chOff x="2209680" y="2819520"/>
            <a:chExt cx="4724640" cy="2628720"/>
          </a:xfrm>
        </p:grpSpPr>
        <p:sp>
          <p:nvSpPr>
            <p:cNvPr id="124" name=""/>
            <p:cNvSpPr/>
            <p:nvPr/>
          </p:nvSpPr>
          <p:spPr>
            <a:xfrm>
              <a:off x="2209680" y="2819520"/>
              <a:ext cx="4724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 wireless Personal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048120" y="4038480"/>
              <a:ext cx="2295360" cy="140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1447920"/>
            <a:ext cx="152388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133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00200" y="2057400"/>
            <a:ext cx="7238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liable real-time buffering, processing and recor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lear visualization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hanisms for creating custom data analy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ensure a possibility of distributing the processing among a number of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 obj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obile data acquisition de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15238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048120"/>
            <a:ext cx="137160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C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 ov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05520" y="1676520"/>
            <a:ext cx="3657600" cy="2209680"/>
            <a:chOff x="5105520" y="1676520"/>
            <a:chExt cx="3657600" cy="2209680"/>
          </a:xfrm>
        </p:grpSpPr>
        <p:sp>
          <p:nvSpPr>
            <p:cNvPr id="135" name=""/>
            <p:cNvSpPr/>
            <p:nvPr/>
          </p:nvSpPr>
          <p:spPr>
            <a:xfrm>
              <a:off x="5105520" y="2133720"/>
              <a:ext cx="3657600" cy="17524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4120" y="1676520"/>
              <a:ext cx="2286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entral System Un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23880" y="1676520"/>
            <a:ext cx="2667240" cy="2209680"/>
            <a:chOff x="1523880" y="1676520"/>
            <a:chExt cx="2667240" cy="2209680"/>
          </a:xfrm>
        </p:grpSpPr>
        <p:sp>
          <p:nvSpPr>
            <p:cNvPr id="138" name=""/>
            <p:cNvSpPr/>
            <p:nvPr/>
          </p:nvSpPr>
          <p:spPr>
            <a:xfrm>
              <a:off x="1523880" y="2133720"/>
              <a:ext cx="2286000" cy="17524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0200" y="1676520"/>
              <a:ext cx="25909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ata Acquisition Un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676520" y="2514600"/>
            <a:ext cx="12189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el 89C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3200400"/>
            <a:ext cx="12189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z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243828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312408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438280"/>
            <a:ext cx="10666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00200" y="2438280"/>
            <a:ext cx="5181480" cy="3462120"/>
            <a:chOff x="1600200" y="2438280"/>
            <a:chExt cx="5181480" cy="3462120"/>
          </a:xfrm>
        </p:grpSpPr>
        <p:grpSp>
          <p:nvGrpSpPr>
            <p:cNvPr id="146" name=""/>
            <p:cNvGrpSpPr/>
            <p:nvPr/>
          </p:nvGrpSpPr>
          <p:grpSpPr>
            <a:xfrm>
              <a:off x="3200400" y="2438280"/>
              <a:ext cx="2514240" cy="533160"/>
              <a:chOff x="3200400" y="2438280"/>
              <a:chExt cx="2514240" cy="533160"/>
            </a:xfrm>
          </p:grpSpPr>
          <p:sp>
            <p:nvSpPr>
              <p:cNvPr id="147" name=""/>
              <p:cNvSpPr/>
              <p:nvPr/>
            </p:nvSpPr>
            <p:spPr>
              <a:xfrm>
                <a:off x="3200400" y="2514240"/>
                <a:ext cx="902520" cy="457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Impact"/>
                  </a:rPr>
                  <a:t>Bluetoo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4127040" y="2438280"/>
                <a:ext cx="772920" cy="532440"/>
                <a:chOff x="4127040" y="2438280"/>
                <a:chExt cx="772920" cy="53244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4127040" y="2610360"/>
                  <a:ext cx="772920" cy="360360"/>
                  <a:chOff x="4127040" y="2610360"/>
                  <a:chExt cx="772920" cy="3603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4127040" y="2610360"/>
                    <a:ext cx="666000" cy="36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134">
                        <a:moveTo>
                          <a:pt x="0" y="71"/>
                        </a:moveTo>
                        <a:lnTo>
                          <a:pt x="177" y="0"/>
                        </a:lnTo>
                        <a:lnTo>
                          <a:pt x="156" y="134"/>
                        </a:lnTo>
                        <a:lnTo>
                          <a:pt x="305" y="85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4762440" y="2779920"/>
                    <a:ext cx="13752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0">
                        <a:moveTo>
                          <a:pt x="0" y="0"/>
                        </a:moveTo>
                        <a:lnTo>
                          <a:pt x="63" y="8"/>
                        </a:lnTo>
                        <a:lnTo>
                          <a:pt x="21" y="5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4127040" y="2438280"/>
                  <a:ext cx="772560" cy="362520"/>
                  <a:chOff x="4127040" y="2438280"/>
                  <a:chExt cx="772560" cy="36252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4235760" y="2438280"/>
                    <a:ext cx="663840" cy="36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135">
                        <a:moveTo>
                          <a:pt x="304" y="64"/>
                        </a:moveTo>
                        <a:lnTo>
                          <a:pt x="127" y="135"/>
                        </a:lnTo>
                        <a:lnTo>
                          <a:pt x="148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127040" y="2513160"/>
                    <a:ext cx="1393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43">
                        <a:moveTo>
                          <a:pt x="64" y="43"/>
                        </a:moveTo>
                        <a:lnTo>
                          <a:pt x="0" y="36"/>
                        </a:lnTo>
                        <a:lnTo>
                          <a:pt x="42" y="0"/>
                        </a:lnTo>
                        <a:lnTo>
                          <a:pt x="64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5" name=""/>
              <p:cNvSpPr/>
              <p:nvPr/>
            </p:nvSpPr>
            <p:spPr>
              <a:xfrm>
                <a:off x="4876560" y="2514240"/>
                <a:ext cx="838080" cy="457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Impact"/>
                  </a:rPr>
                  <a:t>Bluetoo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600200" y="4343400"/>
              <a:ext cx="5181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Bluetooth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technology provides means for creating a Personal Area Network linking the operators and the central syste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010280" y="3124080"/>
            <a:ext cx="1600200" cy="2067120"/>
            <a:chOff x="7010280" y="3124080"/>
            <a:chExt cx="1600200" cy="2067120"/>
          </a:xfrm>
        </p:grpSpPr>
        <p:sp>
          <p:nvSpPr>
            <p:cNvPr id="158" name=""/>
            <p:cNvSpPr/>
            <p:nvPr/>
          </p:nvSpPr>
          <p:spPr>
            <a:xfrm>
              <a:off x="7391520" y="3124080"/>
              <a:ext cx="106668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7010280" y="3962520"/>
              <a:ext cx="771480" cy="1228680"/>
              <a:chOff x="7010280" y="3962520"/>
              <a:chExt cx="771480" cy="1228680"/>
            </a:xfrm>
          </p:grpSpPr>
          <p:sp>
            <p:nvSpPr>
              <p:cNvPr id="160" name=""/>
              <p:cNvSpPr/>
              <p:nvPr/>
            </p:nvSpPr>
            <p:spPr>
              <a:xfrm>
                <a:off x="7162560" y="3962520"/>
                <a:ext cx="457200" cy="38124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1" name=""/>
              <p:cNvGraphicFramePr/>
              <p:nvPr/>
            </p:nvGraphicFramePr>
            <p:xfrm>
              <a:off x="7010280" y="4419720"/>
              <a:ext cx="771480" cy="771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010280" y="4419720"/>
                        <a:ext cx="771480" cy="771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63" name=""/>
            <p:cNvGrpSpPr/>
            <p:nvPr/>
          </p:nvGrpSpPr>
          <p:grpSpPr>
            <a:xfrm>
              <a:off x="7848720" y="3962520"/>
              <a:ext cx="761760" cy="1143000"/>
              <a:chOff x="7848720" y="3962520"/>
              <a:chExt cx="761760" cy="1143000"/>
            </a:xfrm>
          </p:grpSpPr>
          <p:sp>
            <p:nvSpPr>
              <p:cNvPr id="164" name=""/>
              <p:cNvSpPr/>
              <p:nvPr/>
            </p:nvSpPr>
            <p:spPr>
              <a:xfrm>
                <a:off x="8001000" y="3962520"/>
                <a:ext cx="457200" cy="533160"/>
              </a:xfrm>
              <a:prstGeom prst="upDownArrow">
                <a:avLst>
                  <a:gd name="adj1" fmla="val 50000"/>
                  <a:gd name="adj2" fmla="val 23215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5" name=""/>
              <p:cNvGraphicFramePr/>
              <p:nvPr/>
            </p:nvGraphicFramePr>
            <p:xfrm>
              <a:off x="7848720" y="4572000"/>
              <a:ext cx="761760" cy="533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48720" y="4572000"/>
                        <a:ext cx="761760" cy="53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67" name=""/>
          <p:cNvSpPr/>
          <p:nvPr/>
        </p:nvSpPr>
        <p:spPr>
          <a:xfrm>
            <a:off x="0" y="1447920"/>
            <a:ext cx="15238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3048120"/>
            <a:ext cx="137160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C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U -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19720" y="1752120"/>
            <a:ext cx="4419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we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s on batteries - low power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y to use - does not disturb the operator wor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 cards for operator author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transmission using hardware PCM cod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23880" y="1676520"/>
            <a:ext cx="2667240" cy="2209680"/>
            <a:chOff x="1523880" y="1676520"/>
            <a:chExt cx="2667240" cy="2209680"/>
          </a:xfrm>
        </p:grpSpPr>
        <p:sp>
          <p:nvSpPr>
            <p:cNvPr id="172" name=""/>
            <p:cNvSpPr/>
            <p:nvPr/>
          </p:nvSpPr>
          <p:spPr>
            <a:xfrm>
              <a:off x="1523880" y="2133720"/>
              <a:ext cx="2286000" cy="17524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0200" y="1676520"/>
              <a:ext cx="25909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ata Acquisition Un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676520" y="2514600"/>
            <a:ext cx="12189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el 89C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3200400"/>
            <a:ext cx="12189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z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2514600"/>
            <a:ext cx="90324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Blueto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447920"/>
            <a:ext cx="15238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3048120"/>
            <a:ext cx="137160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C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SU -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05520" y="1676520"/>
            <a:ext cx="3657600" cy="2209680"/>
            <a:chOff x="5105520" y="1676520"/>
            <a:chExt cx="3657600" cy="2209680"/>
          </a:xfrm>
        </p:grpSpPr>
        <p:sp>
          <p:nvSpPr>
            <p:cNvPr id="181" name=""/>
            <p:cNvSpPr/>
            <p:nvPr/>
          </p:nvSpPr>
          <p:spPr>
            <a:xfrm>
              <a:off x="5105520" y="2133720"/>
              <a:ext cx="3657600" cy="17524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4120" y="1676520"/>
              <a:ext cx="2286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entral System Un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019920" y="243828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312408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2438280"/>
            <a:ext cx="10666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2514600"/>
            <a:ext cx="8380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Blueto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1752480"/>
            <a:ext cx="3200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4419720"/>
            <a:ext cx="5486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if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43828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447920"/>
            <a:ext cx="15238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3048120"/>
            <a:ext cx="137160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10280" y="3124080"/>
            <a:ext cx="1600200" cy="2067120"/>
            <a:chOff x="7010280" y="3124080"/>
            <a:chExt cx="1600200" cy="2067120"/>
          </a:xfrm>
        </p:grpSpPr>
        <p:sp>
          <p:nvSpPr>
            <p:cNvPr id="193" name=""/>
            <p:cNvSpPr/>
            <p:nvPr/>
          </p:nvSpPr>
          <p:spPr>
            <a:xfrm>
              <a:off x="7391520" y="3124080"/>
              <a:ext cx="106668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7010280" y="3962520"/>
              <a:ext cx="771480" cy="1228680"/>
              <a:chOff x="7010280" y="3962520"/>
              <a:chExt cx="771480" cy="1228680"/>
            </a:xfrm>
          </p:grpSpPr>
          <p:sp>
            <p:nvSpPr>
              <p:cNvPr id="195" name=""/>
              <p:cNvSpPr/>
              <p:nvPr/>
            </p:nvSpPr>
            <p:spPr>
              <a:xfrm>
                <a:off x="7162560" y="3962520"/>
                <a:ext cx="457200" cy="38124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96" name=""/>
              <p:cNvGraphicFramePr/>
              <p:nvPr/>
            </p:nvGraphicFramePr>
            <p:xfrm>
              <a:off x="7010280" y="4419720"/>
              <a:ext cx="771480" cy="771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010280" y="4419720"/>
                        <a:ext cx="771480" cy="771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98" name=""/>
            <p:cNvGrpSpPr/>
            <p:nvPr/>
          </p:nvGrpSpPr>
          <p:grpSpPr>
            <a:xfrm>
              <a:off x="7848720" y="3962520"/>
              <a:ext cx="761760" cy="1143000"/>
              <a:chOff x="7848720" y="3962520"/>
              <a:chExt cx="761760" cy="1143000"/>
            </a:xfrm>
          </p:grpSpPr>
          <p:sp>
            <p:nvSpPr>
              <p:cNvPr id="199" name=""/>
              <p:cNvSpPr/>
              <p:nvPr/>
            </p:nvSpPr>
            <p:spPr>
              <a:xfrm>
                <a:off x="8001000" y="3962520"/>
                <a:ext cx="457200" cy="533160"/>
              </a:xfrm>
              <a:prstGeom prst="upDownArrow">
                <a:avLst>
                  <a:gd name="adj1" fmla="val 50000"/>
                  <a:gd name="adj2" fmla="val 23215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0" name=""/>
              <p:cNvGraphicFramePr/>
              <p:nvPr/>
            </p:nvGraphicFramePr>
            <p:xfrm>
              <a:off x="7848720" y="4572000"/>
              <a:ext cx="761760" cy="533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48720" y="4572000"/>
                        <a:ext cx="761760" cy="53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SU - saccade det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ccade detector and conscious brain involvement level calc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76720" y="2514600"/>
            <a:ext cx="5292720" cy="1881360"/>
            <a:chOff x="3276720" y="2514600"/>
            <a:chExt cx="5292720" cy="188136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3276720" y="2514600"/>
              <a:ext cx="5292720" cy="188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"/>
            <p:cNvGrpSpPr/>
            <p:nvPr/>
          </p:nvGrpSpPr>
          <p:grpSpPr>
            <a:xfrm>
              <a:off x="5434200" y="2783520"/>
              <a:ext cx="872280" cy="354240"/>
              <a:chOff x="5434200" y="2783520"/>
              <a:chExt cx="872280" cy="354240"/>
            </a:xfrm>
          </p:grpSpPr>
          <p:sp>
            <p:nvSpPr>
              <p:cNvPr id="207" name=""/>
              <p:cNvSpPr/>
              <p:nvPr/>
            </p:nvSpPr>
            <p:spPr>
              <a:xfrm>
                <a:off x="5434200" y="2899440"/>
                <a:ext cx="261000" cy="238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06160" y="2783520"/>
                <a:ext cx="400320" cy="209160"/>
              </a:xfrm>
              <a:prstGeom prst="borderCallout1">
                <a:avLst>
                  <a:gd name="adj1" fmla="val 18750"/>
                  <a:gd name="adj2" fmla="val -8333"/>
                  <a:gd name="adj3" fmla="val 65314"/>
                  <a:gd name="adj4" fmla="val -6029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800" spc="-1" strike="noStrike">
                    <a:solidFill>
                      <a:srgbClr val="000000"/>
                    </a:solidFill>
                    <a:latin typeface="Arial"/>
                  </a:rPr>
                  <a:t>sacca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1600200" y="2565360"/>
            <a:ext cx="160020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aw ey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vement 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00200" y="2819880"/>
            <a:ext cx="2132280" cy="1449360"/>
            <a:chOff x="1600200" y="2819880"/>
            <a:chExt cx="2132280" cy="1449360"/>
          </a:xfrm>
        </p:grpSpPr>
        <p:sp>
          <p:nvSpPr>
            <p:cNvPr id="211" name=""/>
            <p:cNvSpPr/>
            <p:nvPr/>
          </p:nvSpPr>
          <p:spPr>
            <a:xfrm flipH="1" rot="16200000">
              <a:off x="2513520" y="2819520"/>
              <a:ext cx="12182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9" y="0"/>
                  </a:moveTo>
                  <a:arcTo wR="10800" hR="10800" stAng="-5400173" swAng="54001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9" y="0"/>
                  </a:moveTo>
                  <a:arcTo wR="10800" hR="10800" stAng="-5400173" swAng="5400173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0200" y="39621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ifferent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248520" y="3810600"/>
            <a:ext cx="2286000" cy="2028240"/>
            <a:chOff x="6248520" y="3810600"/>
            <a:chExt cx="2286000" cy="2028240"/>
          </a:xfrm>
        </p:grpSpPr>
        <p:sp>
          <p:nvSpPr>
            <p:cNvPr id="214" name=""/>
            <p:cNvSpPr/>
            <p:nvPr/>
          </p:nvSpPr>
          <p:spPr>
            <a:xfrm rot="5400000">
              <a:off x="6248520" y="3810240"/>
              <a:ext cx="12182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9" y="0"/>
                  </a:moveTo>
                  <a:arcTo wR="10800" hR="10800" stAng="-5400173" swAng="54001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9" y="0"/>
                  </a:moveTo>
                  <a:arcTo wR="10800" hR="10800" stAng="-5400173" swAng="5400173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10280" y="5105520"/>
              <a:ext cx="1524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onscious brain involvement 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562040" y="4495680"/>
            <a:ext cx="5253120" cy="1992600"/>
            <a:chOff x="1562040" y="4495680"/>
            <a:chExt cx="5253120" cy="199260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562040" y="4495680"/>
              <a:ext cx="5253120" cy="19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143080" y="5737320"/>
              <a:ext cx="43434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0" y="1447920"/>
            <a:ext cx="15238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3048120"/>
            <a:ext cx="137160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SU - Visualization Mod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447920"/>
            <a:ext cx="15238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3048120"/>
            <a:ext cx="137160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16002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w and processed data visualization u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600200" y="4572000"/>
            <a:ext cx="7238880" cy="1959120"/>
            <a:chOff x="1600200" y="4572000"/>
            <a:chExt cx="7238880" cy="195912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4724280" y="4648320"/>
              <a:ext cx="306720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600200" y="4572000"/>
              <a:ext cx="72388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udio and video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ta play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00200" y="2133720"/>
            <a:ext cx="6553080" cy="2228760"/>
            <a:chOff x="1600200" y="2133720"/>
            <a:chExt cx="6553080" cy="222876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5181480" y="213372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600200" y="2514600"/>
              <a:ext cx="33526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U-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ie-cha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ime se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secu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registered mobile dev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connect to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tooth connection authent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tooth connection encry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 rights restri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onal and physiological data encry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15238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3048120"/>
            <a:ext cx="137160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BlueEy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nd what is not)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ological found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ture impro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Project work 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demons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47920"/>
            <a:ext cx="15238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 - D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600200" y="20574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tooth module in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zz sen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phon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rphone soc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-key key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lines, 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acters LC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wered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AA batt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447920"/>
            <a:ext cx="1523880" cy="40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358128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C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600200" y="1600200"/>
            <a:ext cx="7238880" cy="4735440"/>
            <a:chOff x="1600200" y="1600200"/>
            <a:chExt cx="7238880" cy="4735440"/>
          </a:xfrm>
        </p:grpSpPr>
        <p:graphicFrame>
          <p:nvGraphicFramePr>
            <p:cNvPr id="240" name=""/>
            <p:cNvGraphicFramePr/>
            <p:nvPr/>
          </p:nvGraphicFramePr>
          <p:xfrm>
            <a:off x="5029200" y="2743200"/>
            <a:ext cx="3733920" cy="359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29200" y="2743200"/>
                      <a:ext cx="3733920" cy="35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2" name=""/>
            <p:cNvSpPr/>
            <p:nvPr/>
          </p:nvSpPr>
          <p:spPr>
            <a:xfrm>
              <a:off x="1600200" y="1600200"/>
              <a:ext cx="7238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de from scratch by the t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 - D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6095880" cy="457200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2362320" y="2057400"/>
            <a:ext cx="5486400" cy="2971800"/>
            <a:chOff x="2362320" y="2057400"/>
            <a:chExt cx="5486400" cy="2971800"/>
          </a:xfrm>
        </p:grpSpPr>
        <p:sp>
          <p:nvSpPr>
            <p:cNvPr id="246" name=""/>
            <p:cNvSpPr/>
            <p:nvPr/>
          </p:nvSpPr>
          <p:spPr>
            <a:xfrm>
              <a:off x="4876920" y="2057400"/>
              <a:ext cx="2971800" cy="1752480"/>
            </a:xfrm>
            <a:prstGeom prst="rect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62320" y="4114800"/>
              <a:ext cx="3581280" cy="914400"/>
            </a:xfrm>
            <a:prstGeom prst="wedgeRoundRectCallout">
              <a:avLst>
                <a:gd name="adj1" fmla="val 38120"/>
                <a:gd name="adj2" fmla="val -8437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luetooth 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828800" y="2209680"/>
            <a:ext cx="6248520" cy="3886200"/>
            <a:chOff x="1828800" y="2209680"/>
            <a:chExt cx="6248520" cy="3886200"/>
          </a:xfrm>
        </p:grpSpPr>
        <p:sp>
          <p:nvSpPr>
            <p:cNvPr id="249" name=""/>
            <p:cNvSpPr/>
            <p:nvPr/>
          </p:nvSpPr>
          <p:spPr>
            <a:xfrm>
              <a:off x="4952880" y="3505320"/>
              <a:ext cx="3124440" cy="2590560"/>
            </a:xfrm>
            <a:prstGeom prst="rect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28800" y="2209680"/>
              <a:ext cx="3581280" cy="914400"/>
            </a:xfrm>
            <a:prstGeom prst="wedgeRoundRectCallout">
              <a:avLst>
                <a:gd name="adj1" fmla="val 42597"/>
                <a:gd name="adj2" fmla="val 8975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CM codec bo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523880" y="1828800"/>
            <a:ext cx="4114800" cy="3276720"/>
            <a:chOff x="1523880" y="1828800"/>
            <a:chExt cx="4114800" cy="3276720"/>
          </a:xfrm>
        </p:grpSpPr>
        <p:sp>
          <p:nvSpPr>
            <p:cNvPr id="252" name=""/>
            <p:cNvSpPr/>
            <p:nvPr/>
          </p:nvSpPr>
          <p:spPr>
            <a:xfrm>
              <a:off x="2514600" y="1828800"/>
              <a:ext cx="2133720" cy="1447920"/>
            </a:xfrm>
            <a:prstGeom prst="rect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2895480"/>
              <a:ext cx="990360" cy="762120"/>
            </a:xfrm>
            <a:prstGeom prst="rect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23880" y="3886200"/>
              <a:ext cx="3733920" cy="1219320"/>
            </a:xfrm>
            <a:prstGeom prst="wedgeRoundRectCallout">
              <a:avLst>
                <a:gd name="adj1" fmla="val 36138"/>
                <a:gd name="adj2" fmla="val -6640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atteries an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oltage level mon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209680" y="2057400"/>
            <a:ext cx="6172200" cy="4038480"/>
            <a:chOff x="2209680" y="2057400"/>
            <a:chExt cx="6172200" cy="4038480"/>
          </a:xfrm>
        </p:grpSpPr>
        <p:sp>
          <p:nvSpPr>
            <p:cNvPr id="256" name=""/>
            <p:cNvSpPr/>
            <p:nvPr/>
          </p:nvSpPr>
          <p:spPr>
            <a:xfrm>
              <a:off x="2209680" y="3200400"/>
              <a:ext cx="3124440" cy="2895480"/>
            </a:xfrm>
            <a:prstGeom prst="rect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00600" y="2057400"/>
              <a:ext cx="3581280" cy="914400"/>
            </a:xfrm>
            <a:prstGeom prst="wedgeRoundRectCallout">
              <a:avLst>
                <a:gd name="adj1" fmla="val -46541"/>
                <a:gd name="adj2" fmla="val 75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icrocontroller bo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0" y="1447920"/>
            <a:ext cx="1523880" cy="40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358128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C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 - CS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00200" y="22860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-buil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too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l USB cam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 card programm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using Visual C++ 6.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loyment environmen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 2000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 SQL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447920"/>
            <a:ext cx="1523880" cy="40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358128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600200" y="1523880"/>
            <a:ext cx="7238880" cy="2705400"/>
            <a:chOff x="1600200" y="1523880"/>
            <a:chExt cx="7238880" cy="270540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5334120" y="1600200"/>
              <a:ext cx="3504960" cy="26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600200" y="1523880"/>
              <a:ext cx="365760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 MDI us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ture </a:t>
            </a: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improv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CMOS camera to monitor the operator’s point of ga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PCB (SMD technlog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 voltage ICs - LiIO batteries po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S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mining algorith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vanced database encryption using e.g. AES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447920"/>
            <a:ext cx="15238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utu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ject work summ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1752480"/>
            <a:ext cx="6934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tooth and PAN technology ac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skills on designing software and hardware systems g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obile device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1 KLOC of C++ cod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KLOC of 8051 assembler code 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parts of the Project Kit efficiently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ew approach to system safety proposed and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447920"/>
            <a:ext cx="15238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Verdana"/>
              </a:rPr>
              <a:t>Project work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00200" y="18288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lueEyes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uman-Operator Monitoring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38862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stem demon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447920"/>
            <a:ext cx="15238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monstration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1600200" y="36576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Impact"/>
              </a:rPr>
              <a:t>BlueEyes</a:t>
            </a:r>
            <a:br>
              <a:rPr sz="4400"/>
            </a:br>
            <a:r>
              <a:rPr b="0" lang="en-US" sz="3000" spc="-1" strike="noStrike">
                <a:solidFill>
                  <a:srgbClr val="808080"/>
                </a:solidFill>
                <a:latin typeface="Verdana"/>
              </a:rPr>
              <a:t>Human-Operator Monitoring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0400" y="5867280"/>
            <a:ext cx="52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znań University of Technology, Po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ttp://www.put.poznan.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133720" y="5562720"/>
          <a:ext cx="9903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562720"/>
                    <a:ext cx="990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0" y="1447920"/>
            <a:ext cx="15238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2743200" y="2057400"/>
            <a:ext cx="5029200" cy="3429000"/>
            <a:chOff x="2743200" y="2057400"/>
            <a:chExt cx="5029200" cy="3429000"/>
          </a:xfrm>
        </p:grpSpPr>
        <p:sp>
          <p:nvSpPr>
            <p:cNvPr id="284" name=""/>
            <p:cNvSpPr/>
            <p:nvPr/>
          </p:nvSpPr>
          <p:spPr>
            <a:xfrm>
              <a:off x="2743200" y="2057400"/>
              <a:ext cx="4952880" cy="34290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72200" y="4876920"/>
              <a:ext cx="1600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BlueE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Data Acquisition Un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381560" y="5181480"/>
            <a:ext cx="762120" cy="91440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914400"/>
              <a:gd name="textAreaBottom" fmla="*/ 877320 h 914400"/>
            </a:gdLst>
            <a:ahLst/>
            <a:rect l="textAreaLeft" t="textAreaTop" r="textAreaRight" b="textAreaBottom"/>
            <a:pathLst>
              <a:path w="21600" h="25914">
                <a:moveTo>
                  <a:pt x="3600" y="0"/>
                </a:moveTo>
                <a:arcTo wR="3600" hR="3600" stAng="16200000" swAng="-5400000"/>
                <a:lnTo>
                  <a:pt x="0" y="22314"/>
                </a:lnTo>
                <a:arcTo wR="3600" hR="3600" stAng="10800000" swAng="-5400000"/>
                <a:lnTo>
                  <a:pt x="18000" y="25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ID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U - compon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2362320"/>
            <a:ext cx="19051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 145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 co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5181480"/>
            <a:ext cx="9144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 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5181480"/>
            <a:ext cx="8380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876920"/>
            <a:ext cx="304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4876920"/>
            <a:ext cx="30456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3124080"/>
            <a:ext cx="144792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zz Multi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31240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0" y="3657600"/>
            <a:ext cx="144792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e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114800"/>
            <a:ext cx="144792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CD 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4572000"/>
            <a:ext cx="144792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D indic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733200" y="363384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733200" y="410544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733200" y="455292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3048120"/>
            <a:ext cx="1905120" cy="1828800"/>
          </a:xfrm>
          <a:prstGeom prst="rect">
            <a:avLst/>
          </a:prstGeom>
          <a:solidFill>
            <a:srgbClr val="e9f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el 89C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426708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Verdana"/>
              </a:rPr>
              <a:t>U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05720" y="4191120"/>
            <a:ext cx="7617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2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6743520" y="377172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Verdana"/>
              </a:rPr>
              <a:t>U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553080" y="3029040"/>
            <a:ext cx="1712160" cy="609480"/>
            <a:chOff x="6553080" y="3029040"/>
            <a:chExt cx="1712160" cy="609480"/>
          </a:xfrm>
        </p:grpSpPr>
        <p:sp>
          <p:nvSpPr>
            <p:cNvPr id="306" name=""/>
            <p:cNvSpPr/>
            <p:nvPr/>
          </p:nvSpPr>
          <p:spPr>
            <a:xfrm>
              <a:off x="6553080" y="3029040"/>
              <a:ext cx="90324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Blueto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7493040" y="3048120"/>
              <a:ext cx="772200" cy="532440"/>
              <a:chOff x="7493040" y="3048120"/>
              <a:chExt cx="772200" cy="53244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7493040" y="3220200"/>
                <a:ext cx="772200" cy="360360"/>
                <a:chOff x="7493040" y="3220200"/>
                <a:chExt cx="772200" cy="3603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493040" y="3220200"/>
                  <a:ext cx="665280" cy="360360"/>
                </a:xfrm>
                <a:custGeom>
                  <a:avLst/>
                  <a:gdLst/>
                  <a:ahLst/>
                  <a:rect l="l" t="t" r="r" b="b"/>
                  <a:pathLst>
                    <a:path w="305" h="134">
                      <a:moveTo>
                        <a:pt x="0" y="71"/>
                      </a:moveTo>
                      <a:lnTo>
                        <a:pt x="177" y="0"/>
                      </a:lnTo>
                      <a:lnTo>
                        <a:pt x="156" y="134"/>
                      </a:lnTo>
                      <a:lnTo>
                        <a:pt x="305" y="8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127720" y="3389760"/>
                  <a:ext cx="137520" cy="13392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0" y="0"/>
                      </a:moveTo>
                      <a:lnTo>
                        <a:pt x="63" y="8"/>
                      </a:lnTo>
                      <a:lnTo>
                        <a:pt x="21" y="5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7493040" y="3048120"/>
                <a:ext cx="772200" cy="362520"/>
                <a:chOff x="7493040" y="3048120"/>
                <a:chExt cx="772200" cy="3625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7601760" y="3048120"/>
                  <a:ext cx="663480" cy="362520"/>
                </a:xfrm>
                <a:custGeom>
                  <a:avLst/>
                  <a:gdLst/>
                  <a:ahLst/>
                  <a:rect l="l" t="t" r="r" b="b"/>
                  <a:pathLst>
                    <a:path w="304" h="135">
                      <a:moveTo>
                        <a:pt x="304" y="64"/>
                      </a:moveTo>
                      <a:lnTo>
                        <a:pt x="127" y="135"/>
                      </a:lnTo>
                      <a:lnTo>
                        <a:pt x="148" y="0"/>
                      </a:lnTo>
                      <a:lnTo>
                        <a:pt x="0" y="5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493040" y="3123000"/>
                  <a:ext cx="139320" cy="115560"/>
                </a:xfrm>
                <a:custGeom>
                  <a:avLst/>
                  <a:gdLst/>
                  <a:ahLst/>
                  <a:rect l="l" t="t" r="r" b="b"/>
                  <a:pathLst>
                    <a:path w="64" h="43">
                      <a:moveTo>
                        <a:pt x="64" y="43"/>
                      </a:moveTo>
                      <a:lnTo>
                        <a:pt x="0" y="36"/>
                      </a:lnTo>
                      <a:lnTo>
                        <a:pt x="42" y="0"/>
                      </a:lnTo>
                      <a:lnTo>
                        <a:pt x="64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4" name=""/>
          <p:cNvGrpSpPr/>
          <p:nvPr/>
        </p:nvGrpSpPr>
        <p:grpSpPr>
          <a:xfrm>
            <a:off x="1409760" y="2324160"/>
            <a:ext cx="2857320" cy="515160"/>
            <a:chOff x="1409760" y="2324160"/>
            <a:chExt cx="2857320" cy="515160"/>
          </a:xfrm>
        </p:grpSpPr>
        <p:sp>
          <p:nvSpPr>
            <p:cNvPr id="315" name=""/>
            <p:cNvSpPr/>
            <p:nvPr/>
          </p:nvSpPr>
          <p:spPr>
            <a:xfrm>
              <a:off x="2362320" y="261000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623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622600" y="2700360"/>
              <a:ext cx="16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615760" y="2451240"/>
              <a:ext cx="164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09760" y="2324160"/>
              <a:ext cx="106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Verdana"/>
                </a:rPr>
                <a:t>microph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71760" y="2577960"/>
              <a:ext cx="88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100" spc="-1" strike="noStrike">
                  <a:solidFill>
                    <a:srgbClr val="000000"/>
                  </a:solidFill>
                  <a:latin typeface="Verdana"/>
                </a:rPr>
                <a:t>earph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172200" y="2343240"/>
            <a:ext cx="952560" cy="857160"/>
            <a:chOff x="6172200" y="2343240"/>
            <a:chExt cx="952560" cy="857160"/>
          </a:xfrm>
        </p:grpSpPr>
        <p:sp>
          <p:nvSpPr>
            <p:cNvPr id="322" name=""/>
            <p:cNvSpPr/>
            <p:nvPr/>
          </p:nvSpPr>
          <p:spPr>
            <a:xfrm>
              <a:off x="6172200" y="2343240"/>
              <a:ext cx="533520" cy="385560"/>
            </a:xfrm>
            <a:prstGeom prst="leftArrow">
              <a:avLst>
                <a:gd name="adj1" fmla="val 50000"/>
                <a:gd name="adj2" fmla="val 3459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86680" y="2438280"/>
              <a:ext cx="838080" cy="762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400001"/>
                  <a:lnTo>
                    <a:pt x="10800" y="0"/>
                  </a:lnTo>
                  <a:arcTo wR="10800" hR="10800" stAng="-5400001" swAng="540000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05720" y="2438280"/>
              <a:ext cx="0" cy="198720"/>
            </a:xfrm>
            <a:prstGeom prst="line">
              <a:avLst/>
            </a:prstGeom>
            <a:ln w="12600">
              <a:solidFill>
                <a:srgbClr val="009c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257800" y="19051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izes Bluetooth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quires for new devices in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es conn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s operator ro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eds Operator Manager with physiologic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600200" y="3048120"/>
            <a:ext cx="1219320" cy="3200400"/>
            <a:chOff x="1600200" y="3048120"/>
            <a:chExt cx="1219320" cy="3200400"/>
          </a:xfrm>
        </p:grpSpPr>
        <p:sp>
          <p:nvSpPr>
            <p:cNvPr id="327" name=""/>
            <p:cNvSpPr/>
            <p:nvPr/>
          </p:nvSpPr>
          <p:spPr>
            <a:xfrm>
              <a:off x="1600200" y="5791320"/>
              <a:ext cx="83808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Blueto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38280" y="5829480"/>
              <a:ext cx="381240" cy="304560"/>
            </a:xfrm>
            <a:prstGeom prst="leftRightArrow">
              <a:avLst>
                <a:gd name="adj1" fmla="val 50000"/>
                <a:gd name="adj2" fmla="val 2491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00200" y="3048120"/>
              <a:ext cx="83808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Blueto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3086280"/>
              <a:ext cx="381240" cy="304560"/>
            </a:xfrm>
            <a:prstGeom prst="leftRightArrow">
              <a:avLst>
                <a:gd name="adj1" fmla="val 50000"/>
                <a:gd name="adj2" fmla="val 2491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28800" y="4114800"/>
              <a:ext cx="457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SU - Connection Manag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"/>
          <p:cNvSpPr/>
          <p:nvPr/>
        </p:nvSpPr>
        <p:spPr>
          <a:xfrm>
            <a:off x="2819520" y="3048120"/>
            <a:ext cx="2133360" cy="3200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2822400" y="261288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809800" y="2073240"/>
          <a:ext cx="6098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9800" y="2073240"/>
                    <a:ext cx="6098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375000" y="2133720"/>
            <a:ext cx="587520" cy="304560"/>
          </a:xfrm>
          <a:prstGeom prst="leftRightArrow">
            <a:avLst>
              <a:gd name="adj1" fmla="val 50000"/>
              <a:gd name="adj2" fmla="val 384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1905120"/>
            <a:ext cx="9903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276720"/>
            <a:ext cx="381240" cy="304560"/>
          </a:xfrm>
          <a:prstGeom prst="leftRightArrow">
            <a:avLst>
              <a:gd name="adj1" fmla="val 50000"/>
              <a:gd name="adj2" fmla="val 249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363204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772400" y="3048120"/>
            <a:ext cx="1371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pa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str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19920" y="411480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048120"/>
            <a:ext cx="9903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4480" y="3657600"/>
            <a:ext cx="9144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 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238880" y="36576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24480" y="3048120"/>
            <a:ext cx="914400" cy="609480"/>
          </a:xfrm>
          <a:prstGeom prst="rect">
            <a:avLst/>
          </a:prstGeom>
          <a:solidFill>
            <a:srgbClr val="e9f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89640" y="312408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289640" y="324180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89640" y="335916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89640" y="347040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952880" y="5334120"/>
            <a:ext cx="3581640" cy="914400"/>
            <a:chOff x="4952880" y="5334120"/>
            <a:chExt cx="3581640" cy="914400"/>
          </a:xfrm>
        </p:grpSpPr>
        <p:sp>
          <p:nvSpPr>
            <p:cNvPr id="352" name=""/>
            <p:cNvSpPr/>
            <p:nvPr/>
          </p:nvSpPr>
          <p:spPr>
            <a:xfrm>
              <a:off x="4952880" y="5562720"/>
              <a:ext cx="381240" cy="304560"/>
            </a:xfrm>
            <a:prstGeom prst="leftRightArrow">
              <a:avLst>
                <a:gd name="adj1" fmla="val 50000"/>
                <a:gd name="adj2" fmla="val 2491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72400" y="591804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le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4120" y="5334120"/>
              <a:ext cx="990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e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24480" y="5943600"/>
              <a:ext cx="914400" cy="304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238880" y="594360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24480" y="5334120"/>
              <a:ext cx="914400" cy="609480"/>
            </a:xfrm>
            <a:prstGeom prst="rect">
              <a:avLst/>
            </a:prstGeom>
            <a:solidFill>
              <a:srgbClr val="e9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w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89640" y="5410080"/>
              <a:ext cx="48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89640" y="5527800"/>
              <a:ext cx="48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89640" y="5645160"/>
              <a:ext cx="48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89640" y="5756400"/>
              <a:ext cx="48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5257800" y="1981080"/>
            <a:ext cx="2362320" cy="762120"/>
          </a:xfrm>
          <a:prstGeom prst="wedgeRoundRectCallout">
            <a:avLst>
              <a:gd name="adj1" fmla="val 5712"/>
              <a:gd name="adj2" fmla="val 84583"/>
              <a:gd name="adj3" fmla="val 1666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de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producer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SU - Data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 data analyzers - decision tree based cl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905120" y="2666880"/>
            <a:ext cx="678168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Operator gesture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simplifi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876920" y="3581280"/>
            <a:ext cx="3580560" cy="580680"/>
            <a:chOff x="4876920" y="3581280"/>
            <a:chExt cx="3580560" cy="580680"/>
          </a:xfrm>
        </p:grpSpPr>
        <p:sp>
          <p:nvSpPr>
            <p:cNvPr id="367" name=""/>
            <p:cNvSpPr/>
            <p:nvPr/>
          </p:nvSpPr>
          <p:spPr>
            <a:xfrm>
              <a:off x="4876920" y="3990960"/>
              <a:ext cx="1742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51160" y="3581280"/>
              <a:ext cx="340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ertical Acceleration </a:t>
              </a:r>
              <a:r>
                <a:rPr b="0" lang="pl-PL" sz="1600" spc="-1" strike="noStrike">
                  <a:solidFill>
                    <a:srgbClr val="000000"/>
                  </a:solidFill>
                  <a:latin typeface="Verdana"/>
                </a:rPr>
                <a:t>vari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value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410080" y="4403880"/>
            <a:ext cx="3429000" cy="580680"/>
            <a:chOff x="5410080" y="4403880"/>
            <a:chExt cx="3429000" cy="580680"/>
          </a:xfrm>
        </p:grpSpPr>
        <p:sp>
          <p:nvSpPr>
            <p:cNvPr id="370" name=""/>
            <p:cNvSpPr/>
            <p:nvPr/>
          </p:nvSpPr>
          <p:spPr>
            <a:xfrm>
              <a:off x="5410080" y="48135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62720" y="4403880"/>
              <a:ext cx="327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Horizontal Acceleration </a:t>
              </a:r>
              <a:r>
                <a:rPr b="0" lang="pl-PL" sz="1600" spc="-1" strike="noStrike">
                  <a:solidFill>
                    <a:srgbClr val="000000"/>
                  </a:solidFill>
                  <a:latin typeface="Verdana"/>
                </a:rPr>
                <a:t>vari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981080" y="4191120"/>
            <a:ext cx="2514240" cy="714240"/>
            <a:chOff x="1981080" y="4191120"/>
            <a:chExt cx="2514240" cy="714240"/>
          </a:xfrm>
        </p:grpSpPr>
        <p:sp>
          <p:nvSpPr>
            <p:cNvPr id="373" name=""/>
            <p:cNvSpPr/>
            <p:nvPr/>
          </p:nvSpPr>
          <p:spPr>
            <a:xfrm>
              <a:off x="4333320" y="4753080"/>
              <a:ext cx="1620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81080" y="4191120"/>
              <a:ext cx="251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Horizontal Acceleration </a:t>
              </a:r>
              <a:r>
                <a:rPr b="0" lang="pl-PL" sz="1600" spc="-1" strike="noStrike">
                  <a:solidFill>
                    <a:srgbClr val="000000"/>
                  </a:solidFill>
                  <a:latin typeface="Verdana"/>
                </a:rPr>
                <a:t>vari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419720" y="4114800"/>
            <a:ext cx="456840" cy="638280"/>
            <a:chOff x="4419720" y="4114800"/>
            <a:chExt cx="456840" cy="638280"/>
          </a:xfrm>
        </p:grpSpPr>
        <p:sp>
          <p:nvSpPr>
            <p:cNvPr id="376" name=""/>
            <p:cNvSpPr/>
            <p:nvPr/>
          </p:nvSpPr>
          <p:spPr>
            <a:xfrm flipH="1">
              <a:off x="4495320" y="4143240"/>
              <a:ext cx="3812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19720" y="41148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029200" y="4114800"/>
            <a:ext cx="457200" cy="638280"/>
            <a:chOff x="5029200" y="4114800"/>
            <a:chExt cx="457200" cy="638280"/>
          </a:xfrm>
        </p:grpSpPr>
        <p:sp>
          <p:nvSpPr>
            <p:cNvPr id="379" name=""/>
            <p:cNvSpPr/>
            <p:nvPr/>
          </p:nvSpPr>
          <p:spPr>
            <a:xfrm>
              <a:off x="5029200" y="4143240"/>
              <a:ext cx="380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8148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495680" y="4952880"/>
            <a:ext cx="381240" cy="609840"/>
            <a:chOff x="4495680" y="4952880"/>
            <a:chExt cx="381240" cy="609840"/>
          </a:xfrm>
        </p:grpSpPr>
        <p:sp>
          <p:nvSpPr>
            <p:cNvPr id="382" name=""/>
            <p:cNvSpPr/>
            <p:nvPr/>
          </p:nvSpPr>
          <p:spPr>
            <a:xfrm>
              <a:off x="4495680" y="4952880"/>
              <a:ext cx="3812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72000" y="4952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029200" y="4952880"/>
            <a:ext cx="380880" cy="609840"/>
            <a:chOff x="5029200" y="4952880"/>
            <a:chExt cx="380880" cy="609840"/>
          </a:xfrm>
        </p:grpSpPr>
        <p:sp>
          <p:nvSpPr>
            <p:cNvPr id="385" name=""/>
            <p:cNvSpPr/>
            <p:nvPr/>
          </p:nvSpPr>
          <p:spPr>
            <a:xfrm flipH="1">
              <a:off x="5029200" y="4952880"/>
              <a:ext cx="380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29200" y="4952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562720" y="4952880"/>
            <a:ext cx="457200" cy="609840"/>
            <a:chOff x="5562720" y="4952880"/>
            <a:chExt cx="457200" cy="609840"/>
          </a:xfrm>
        </p:grpSpPr>
        <p:sp>
          <p:nvSpPr>
            <p:cNvPr id="388" name=""/>
            <p:cNvSpPr/>
            <p:nvPr/>
          </p:nvSpPr>
          <p:spPr>
            <a:xfrm>
              <a:off x="5562720" y="4952880"/>
              <a:ext cx="380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15000" y="4952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886200" y="4952880"/>
            <a:ext cx="457200" cy="609840"/>
            <a:chOff x="3886200" y="4952880"/>
            <a:chExt cx="457200" cy="609840"/>
          </a:xfrm>
        </p:grpSpPr>
        <p:sp>
          <p:nvSpPr>
            <p:cNvPr id="391" name=""/>
            <p:cNvSpPr/>
            <p:nvPr/>
          </p:nvSpPr>
          <p:spPr>
            <a:xfrm flipH="1">
              <a:off x="3962520" y="4952880"/>
              <a:ext cx="380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86200" y="4952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4114800" y="56228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563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5638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uman error - a frequent reason of catastrophes and ecological disa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47920"/>
            <a:ext cx="15238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5029200"/>
            <a:ext cx="7238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ack of complex solution exploiting wireless link technology, database systems and AI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00200" y="2438280"/>
            <a:ext cx="7238880" cy="2438640"/>
            <a:chOff x="1600200" y="2438280"/>
            <a:chExt cx="7238880" cy="243864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6400800" y="2514600"/>
              <a:ext cx="217980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600200" y="2438280"/>
              <a:ext cx="7238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emporal indis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600200" y="2895480"/>
            <a:ext cx="7238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1" marL="349200" indent="-134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ari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ing of conscio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in involv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able sensor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SU - Data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16002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 data analyzers - decision tree based class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2514600"/>
            <a:ext cx="6933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decision tree coefficients generation - C4.5 bas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362320" y="3581280"/>
            <a:ext cx="3047760" cy="580680"/>
            <a:chOff x="2362320" y="3581280"/>
            <a:chExt cx="3047760" cy="580680"/>
          </a:xfrm>
        </p:grpSpPr>
        <p:sp>
          <p:nvSpPr>
            <p:cNvPr id="400" name=""/>
            <p:cNvSpPr/>
            <p:nvPr/>
          </p:nvSpPr>
          <p:spPr>
            <a:xfrm>
              <a:off x="2362320" y="373392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ata s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38480" y="358128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ssign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4267080"/>
            <a:ext cx="2514600" cy="307080"/>
            <a:chOff x="2666880" y="4267080"/>
            <a:chExt cx="2514600" cy="307080"/>
          </a:xfrm>
        </p:grpSpPr>
        <p:grpSp>
          <p:nvGrpSpPr>
            <p:cNvPr id="403" name=""/>
            <p:cNvGrpSpPr/>
            <p:nvPr/>
          </p:nvGrpSpPr>
          <p:grpSpPr>
            <a:xfrm>
              <a:off x="2666880" y="4267080"/>
              <a:ext cx="990360" cy="304920"/>
              <a:chOff x="2666880" y="4267080"/>
              <a:chExt cx="990360" cy="304920"/>
            </a:xfrm>
          </p:grpSpPr>
          <p:sp>
            <p:nvSpPr>
              <p:cNvPr id="404" name=""/>
              <p:cNvSpPr/>
              <p:nvPr/>
            </p:nvSpPr>
            <p:spPr>
              <a:xfrm>
                <a:off x="2666880" y="4267080"/>
                <a:ext cx="9903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742840" y="441936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746080" y="4308480"/>
                <a:ext cx="816120" cy="199800"/>
              </a:xfrm>
              <a:custGeom>
                <a:avLst/>
                <a:gdLst/>
                <a:ahLst/>
                <a:rect l="l" t="t" r="r" b="b"/>
                <a:pathLst>
                  <a:path w="514" h="126">
                    <a:moveTo>
                      <a:pt x="0" y="74"/>
                    </a:moveTo>
                    <a:cubicBezTo>
                      <a:pt x="3" y="58"/>
                      <a:pt x="5" y="42"/>
                      <a:pt x="8" y="26"/>
                    </a:cubicBezTo>
                    <a:cubicBezTo>
                      <a:pt x="9" y="18"/>
                      <a:pt x="4" y="3"/>
                      <a:pt x="12" y="2"/>
                    </a:cubicBezTo>
                    <a:cubicBezTo>
                      <a:pt x="17" y="1"/>
                      <a:pt x="21" y="1"/>
                      <a:pt x="26" y="0"/>
                    </a:cubicBezTo>
                    <a:cubicBezTo>
                      <a:pt x="32" y="35"/>
                      <a:pt x="34" y="67"/>
                      <a:pt x="36" y="102"/>
                    </a:cubicBezTo>
                    <a:cubicBezTo>
                      <a:pt x="48" y="71"/>
                      <a:pt x="40" y="30"/>
                      <a:pt x="64" y="6"/>
                    </a:cubicBezTo>
                    <a:cubicBezTo>
                      <a:pt x="74" y="35"/>
                      <a:pt x="73" y="59"/>
                      <a:pt x="74" y="90"/>
                    </a:cubicBezTo>
                    <a:cubicBezTo>
                      <a:pt x="79" y="71"/>
                      <a:pt x="80" y="49"/>
                      <a:pt x="100" y="42"/>
                    </a:cubicBezTo>
                    <a:cubicBezTo>
                      <a:pt x="113" y="23"/>
                      <a:pt x="124" y="40"/>
                      <a:pt x="128" y="54"/>
                    </a:cubicBezTo>
                    <a:cubicBezTo>
                      <a:pt x="138" y="38"/>
                      <a:pt x="147" y="35"/>
                      <a:pt x="166" y="32"/>
                    </a:cubicBezTo>
                    <a:cubicBezTo>
                      <a:pt x="186" y="35"/>
                      <a:pt x="199" y="36"/>
                      <a:pt x="220" y="34"/>
                    </a:cubicBezTo>
                    <a:cubicBezTo>
                      <a:pt x="236" y="29"/>
                      <a:pt x="242" y="27"/>
                      <a:pt x="258" y="32"/>
                    </a:cubicBezTo>
                    <a:cubicBezTo>
                      <a:pt x="260" y="40"/>
                      <a:pt x="264" y="78"/>
                      <a:pt x="272" y="90"/>
                    </a:cubicBezTo>
                    <a:cubicBezTo>
                      <a:pt x="278" y="72"/>
                      <a:pt x="275" y="45"/>
                      <a:pt x="292" y="34"/>
                    </a:cubicBezTo>
                    <a:cubicBezTo>
                      <a:pt x="304" y="49"/>
                      <a:pt x="315" y="59"/>
                      <a:pt x="320" y="78"/>
                    </a:cubicBezTo>
                    <a:cubicBezTo>
                      <a:pt x="325" y="95"/>
                      <a:pt x="320" y="110"/>
                      <a:pt x="328" y="126"/>
                    </a:cubicBezTo>
                    <a:cubicBezTo>
                      <a:pt x="333" y="97"/>
                      <a:pt x="337" y="67"/>
                      <a:pt x="342" y="38"/>
                    </a:cubicBezTo>
                    <a:cubicBezTo>
                      <a:pt x="344" y="29"/>
                      <a:pt x="339" y="16"/>
                      <a:pt x="346" y="10"/>
                    </a:cubicBezTo>
                    <a:cubicBezTo>
                      <a:pt x="350" y="7"/>
                      <a:pt x="355" y="9"/>
                      <a:pt x="360" y="8"/>
                    </a:cubicBezTo>
                    <a:cubicBezTo>
                      <a:pt x="380" y="35"/>
                      <a:pt x="378" y="65"/>
                      <a:pt x="388" y="96"/>
                    </a:cubicBezTo>
                    <a:cubicBezTo>
                      <a:pt x="391" y="121"/>
                      <a:pt x="396" y="112"/>
                      <a:pt x="398" y="94"/>
                    </a:cubicBezTo>
                    <a:cubicBezTo>
                      <a:pt x="403" y="45"/>
                      <a:pt x="400" y="69"/>
                      <a:pt x="404" y="42"/>
                    </a:cubicBezTo>
                    <a:cubicBezTo>
                      <a:pt x="408" y="42"/>
                      <a:pt x="422" y="42"/>
                      <a:pt x="426" y="48"/>
                    </a:cubicBezTo>
                    <a:cubicBezTo>
                      <a:pt x="436" y="64"/>
                      <a:pt x="423" y="58"/>
                      <a:pt x="438" y="62"/>
                    </a:cubicBezTo>
                    <a:cubicBezTo>
                      <a:pt x="442" y="50"/>
                      <a:pt x="443" y="37"/>
                      <a:pt x="452" y="28"/>
                    </a:cubicBezTo>
                    <a:cubicBezTo>
                      <a:pt x="478" y="32"/>
                      <a:pt x="486" y="25"/>
                      <a:pt x="490" y="48"/>
                    </a:cubicBezTo>
                    <a:cubicBezTo>
                      <a:pt x="492" y="114"/>
                      <a:pt x="471" y="120"/>
                      <a:pt x="514" y="1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4191120" y="426708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</a:rPr>
                <a:t>Yes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33920" y="4419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666880" y="4648320"/>
            <a:ext cx="2514600" cy="520200"/>
            <a:chOff x="2666880" y="4648320"/>
            <a:chExt cx="2514600" cy="520200"/>
          </a:xfrm>
        </p:grpSpPr>
        <p:grpSp>
          <p:nvGrpSpPr>
            <p:cNvPr id="410" name=""/>
            <p:cNvGrpSpPr/>
            <p:nvPr/>
          </p:nvGrpSpPr>
          <p:grpSpPr>
            <a:xfrm>
              <a:off x="2666880" y="4648320"/>
              <a:ext cx="990360" cy="304560"/>
              <a:chOff x="2666880" y="4648320"/>
              <a:chExt cx="990360" cy="304560"/>
            </a:xfrm>
          </p:grpSpPr>
          <p:sp>
            <p:nvSpPr>
              <p:cNvPr id="411" name=""/>
              <p:cNvSpPr/>
              <p:nvPr/>
            </p:nvSpPr>
            <p:spPr>
              <a:xfrm>
                <a:off x="2666880" y="4648320"/>
                <a:ext cx="9903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742840" y="480024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765160" y="4722480"/>
                <a:ext cx="806400" cy="176040"/>
              </a:xfrm>
              <a:custGeom>
                <a:avLst/>
                <a:gdLst/>
                <a:ahLst/>
                <a:rect l="l" t="t" r="r" b="b"/>
                <a:pathLst>
                  <a:path w="508" h="111">
                    <a:moveTo>
                      <a:pt x="0" y="85"/>
                    </a:moveTo>
                    <a:cubicBezTo>
                      <a:pt x="58" y="104"/>
                      <a:pt x="30" y="54"/>
                      <a:pt x="72" y="43"/>
                    </a:cubicBezTo>
                    <a:cubicBezTo>
                      <a:pt x="88" y="46"/>
                      <a:pt x="83" y="56"/>
                      <a:pt x="96" y="63"/>
                    </a:cubicBezTo>
                    <a:cubicBezTo>
                      <a:pt x="112" y="52"/>
                      <a:pt x="109" y="25"/>
                      <a:pt x="120" y="9"/>
                    </a:cubicBezTo>
                    <a:cubicBezTo>
                      <a:pt x="121" y="6"/>
                      <a:pt x="119" y="0"/>
                      <a:pt x="122" y="1"/>
                    </a:cubicBezTo>
                    <a:cubicBezTo>
                      <a:pt x="133" y="4"/>
                      <a:pt x="130" y="23"/>
                      <a:pt x="132" y="35"/>
                    </a:cubicBezTo>
                    <a:cubicBezTo>
                      <a:pt x="136" y="62"/>
                      <a:pt x="147" y="95"/>
                      <a:pt x="170" y="111"/>
                    </a:cubicBezTo>
                    <a:cubicBezTo>
                      <a:pt x="174" y="99"/>
                      <a:pt x="173" y="87"/>
                      <a:pt x="176" y="75"/>
                    </a:cubicBezTo>
                    <a:cubicBezTo>
                      <a:pt x="178" y="58"/>
                      <a:pt x="177" y="52"/>
                      <a:pt x="186" y="39"/>
                    </a:cubicBezTo>
                    <a:cubicBezTo>
                      <a:pt x="188" y="16"/>
                      <a:pt x="184" y="14"/>
                      <a:pt x="202" y="5"/>
                    </a:cubicBezTo>
                    <a:cubicBezTo>
                      <a:pt x="214" y="7"/>
                      <a:pt x="214" y="13"/>
                      <a:pt x="224" y="17"/>
                    </a:cubicBezTo>
                    <a:cubicBezTo>
                      <a:pt x="235" y="21"/>
                      <a:pt x="242" y="22"/>
                      <a:pt x="254" y="23"/>
                    </a:cubicBezTo>
                    <a:cubicBezTo>
                      <a:pt x="271" y="21"/>
                      <a:pt x="272" y="22"/>
                      <a:pt x="276" y="7"/>
                    </a:cubicBezTo>
                    <a:cubicBezTo>
                      <a:pt x="280" y="25"/>
                      <a:pt x="278" y="31"/>
                      <a:pt x="292" y="45"/>
                    </a:cubicBezTo>
                    <a:cubicBezTo>
                      <a:pt x="294" y="59"/>
                      <a:pt x="292" y="70"/>
                      <a:pt x="306" y="77"/>
                    </a:cubicBezTo>
                    <a:cubicBezTo>
                      <a:pt x="315" y="76"/>
                      <a:pt x="326" y="82"/>
                      <a:pt x="332" y="75"/>
                    </a:cubicBezTo>
                    <a:cubicBezTo>
                      <a:pt x="344" y="61"/>
                      <a:pt x="325" y="23"/>
                      <a:pt x="356" y="15"/>
                    </a:cubicBezTo>
                    <a:cubicBezTo>
                      <a:pt x="361" y="16"/>
                      <a:pt x="369" y="15"/>
                      <a:pt x="372" y="19"/>
                    </a:cubicBezTo>
                    <a:cubicBezTo>
                      <a:pt x="377" y="25"/>
                      <a:pt x="378" y="43"/>
                      <a:pt x="378" y="43"/>
                    </a:cubicBezTo>
                    <a:cubicBezTo>
                      <a:pt x="381" y="85"/>
                      <a:pt x="390" y="83"/>
                      <a:pt x="424" y="87"/>
                    </a:cubicBezTo>
                    <a:cubicBezTo>
                      <a:pt x="438" y="84"/>
                      <a:pt x="438" y="75"/>
                      <a:pt x="450" y="69"/>
                    </a:cubicBezTo>
                    <a:cubicBezTo>
                      <a:pt x="459" y="57"/>
                      <a:pt x="458" y="38"/>
                      <a:pt x="466" y="27"/>
                    </a:cubicBezTo>
                    <a:cubicBezTo>
                      <a:pt x="472" y="18"/>
                      <a:pt x="487" y="22"/>
                      <a:pt x="498" y="21"/>
                    </a:cubicBezTo>
                    <a:cubicBezTo>
                      <a:pt x="507" y="19"/>
                      <a:pt x="505" y="21"/>
                      <a:pt x="508" y="1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4191120" y="4648320"/>
              <a:ext cx="99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</a:rPr>
                <a:t>No ans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3392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666880" y="5334120"/>
            <a:ext cx="2514600" cy="307080"/>
            <a:chOff x="2666880" y="5334120"/>
            <a:chExt cx="2514600" cy="307080"/>
          </a:xfrm>
        </p:grpSpPr>
        <p:grpSp>
          <p:nvGrpSpPr>
            <p:cNvPr id="417" name=""/>
            <p:cNvGrpSpPr/>
            <p:nvPr/>
          </p:nvGrpSpPr>
          <p:grpSpPr>
            <a:xfrm>
              <a:off x="2666880" y="5334120"/>
              <a:ext cx="990360" cy="304560"/>
              <a:chOff x="2666880" y="5334120"/>
              <a:chExt cx="990360" cy="304560"/>
            </a:xfrm>
          </p:grpSpPr>
          <p:sp>
            <p:nvSpPr>
              <p:cNvPr id="418" name=""/>
              <p:cNvSpPr/>
              <p:nvPr/>
            </p:nvSpPr>
            <p:spPr>
              <a:xfrm>
                <a:off x="2666880" y="5334120"/>
                <a:ext cx="9903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42840" y="548604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52560" y="5403600"/>
                <a:ext cx="831600" cy="139320"/>
              </a:xfrm>
              <a:custGeom>
                <a:avLst/>
                <a:gdLst/>
                <a:ahLst/>
                <a:rect l="l" t="t" r="r" b="b"/>
                <a:pathLst>
                  <a:path w="524" h="88">
                    <a:moveTo>
                      <a:pt x="0" y="32"/>
                    </a:moveTo>
                    <a:cubicBezTo>
                      <a:pt x="20" y="24"/>
                      <a:pt x="41" y="17"/>
                      <a:pt x="62" y="14"/>
                    </a:cubicBezTo>
                    <a:cubicBezTo>
                      <a:pt x="109" y="18"/>
                      <a:pt x="80" y="19"/>
                      <a:pt x="104" y="40"/>
                    </a:cubicBezTo>
                    <a:cubicBezTo>
                      <a:pt x="114" y="49"/>
                      <a:pt x="136" y="47"/>
                      <a:pt x="146" y="48"/>
                    </a:cubicBezTo>
                    <a:cubicBezTo>
                      <a:pt x="180" y="44"/>
                      <a:pt x="183" y="44"/>
                      <a:pt x="208" y="28"/>
                    </a:cubicBezTo>
                    <a:cubicBezTo>
                      <a:pt x="214" y="24"/>
                      <a:pt x="218" y="18"/>
                      <a:pt x="224" y="16"/>
                    </a:cubicBezTo>
                    <a:cubicBezTo>
                      <a:pt x="228" y="15"/>
                      <a:pt x="236" y="12"/>
                      <a:pt x="236" y="12"/>
                    </a:cubicBezTo>
                    <a:cubicBezTo>
                      <a:pt x="249" y="13"/>
                      <a:pt x="263" y="12"/>
                      <a:pt x="276" y="14"/>
                    </a:cubicBezTo>
                    <a:cubicBezTo>
                      <a:pt x="280" y="15"/>
                      <a:pt x="284" y="24"/>
                      <a:pt x="286" y="26"/>
                    </a:cubicBezTo>
                    <a:cubicBezTo>
                      <a:pt x="292" y="32"/>
                      <a:pt x="304" y="44"/>
                      <a:pt x="304" y="44"/>
                    </a:cubicBezTo>
                    <a:cubicBezTo>
                      <a:pt x="310" y="62"/>
                      <a:pt x="321" y="76"/>
                      <a:pt x="336" y="88"/>
                    </a:cubicBezTo>
                    <a:cubicBezTo>
                      <a:pt x="355" y="86"/>
                      <a:pt x="361" y="84"/>
                      <a:pt x="378" y="78"/>
                    </a:cubicBezTo>
                    <a:cubicBezTo>
                      <a:pt x="398" y="58"/>
                      <a:pt x="394" y="31"/>
                      <a:pt x="426" y="26"/>
                    </a:cubicBezTo>
                    <a:cubicBezTo>
                      <a:pt x="439" y="20"/>
                      <a:pt x="454" y="16"/>
                      <a:pt x="468" y="14"/>
                    </a:cubicBezTo>
                    <a:cubicBezTo>
                      <a:pt x="482" y="3"/>
                      <a:pt x="507" y="0"/>
                      <a:pt x="5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4191120" y="533412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</a:rPr>
                <a:t>Yes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33920" y="5486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666880" y="5715000"/>
            <a:ext cx="2514600" cy="307080"/>
            <a:chOff x="2666880" y="5715000"/>
            <a:chExt cx="2514600" cy="307080"/>
          </a:xfrm>
        </p:grpSpPr>
        <p:grpSp>
          <p:nvGrpSpPr>
            <p:cNvPr id="424" name=""/>
            <p:cNvGrpSpPr/>
            <p:nvPr/>
          </p:nvGrpSpPr>
          <p:grpSpPr>
            <a:xfrm>
              <a:off x="2666880" y="5715000"/>
              <a:ext cx="990360" cy="304920"/>
              <a:chOff x="2666880" y="5715000"/>
              <a:chExt cx="990360" cy="304920"/>
            </a:xfrm>
          </p:grpSpPr>
          <p:sp>
            <p:nvSpPr>
              <p:cNvPr id="425" name=""/>
              <p:cNvSpPr/>
              <p:nvPr/>
            </p:nvSpPr>
            <p:spPr>
              <a:xfrm>
                <a:off x="2666880" y="5715000"/>
                <a:ext cx="9903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42840" y="586728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765160" y="5778360"/>
                <a:ext cx="835200" cy="212760"/>
              </a:xfrm>
              <a:custGeom>
                <a:avLst/>
                <a:gdLst/>
                <a:ahLst/>
                <a:rect l="l" t="t" r="r" b="b"/>
                <a:pathLst>
                  <a:path w="526" h="134">
                    <a:moveTo>
                      <a:pt x="0" y="134"/>
                    </a:moveTo>
                    <a:cubicBezTo>
                      <a:pt x="16" y="130"/>
                      <a:pt x="32" y="130"/>
                      <a:pt x="48" y="126"/>
                    </a:cubicBezTo>
                    <a:cubicBezTo>
                      <a:pt x="71" y="120"/>
                      <a:pt x="95" y="112"/>
                      <a:pt x="118" y="108"/>
                    </a:cubicBezTo>
                    <a:cubicBezTo>
                      <a:pt x="140" y="100"/>
                      <a:pt x="153" y="87"/>
                      <a:pt x="178" y="84"/>
                    </a:cubicBezTo>
                    <a:cubicBezTo>
                      <a:pt x="207" y="74"/>
                      <a:pt x="219" y="75"/>
                      <a:pt x="256" y="74"/>
                    </a:cubicBezTo>
                    <a:cubicBezTo>
                      <a:pt x="275" y="62"/>
                      <a:pt x="290" y="38"/>
                      <a:pt x="312" y="34"/>
                    </a:cubicBezTo>
                    <a:cubicBezTo>
                      <a:pt x="323" y="13"/>
                      <a:pt x="353" y="7"/>
                      <a:pt x="374" y="4"/>
                    </a:cubicBezTo>
                    <a:cubicBezTo>
                      <a:pt x="451" y="7"/>
                      <a:pt x="408" y="0"/>
                      <a:pt x="444" y="36"/>
                    </a:cubicBezTo>
                    <a:cubicBezTo>
                      <a:pt x="447" y="56"/>
                      <a:pt x="454" y="65"/>
                      <a:pt x="464" y="84"/>
                    </a:cubicBezTo>
                    <a:cubicBezTo>
                      <a:pt x="464" y="84"/>
                      <a:pt x="470" y="103"/>
                      <a:pt x="472" y="104"/>
                    </a:cubicBezTo>
                    <a:cubicBezTo>
                      <a:pt x="488" y="113"/>
                      <a:pt x="508" y="114"/>
                      <a:pt x="526" y="11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191120" y="571500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</a:rPr>
                <a:t>No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33920" y="5867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666880" y="6095880"/>
            <a:ext cx="2514600" cy="520200"/>
            <a:chOff x="2666880" y="6095880"/>
            <a:chExt cx="2514600" cy="520200"/>
          </a:xfrm>
        </p:grpSpPr>
        <p:grpSp>
          <p:nvGrpSpPr>
            <p:cNvPr id="431" name=""/>
            <p:cNvGrpSpPr/>
            <p:nvPr/>
          </p:nvGrpSpPr>
          <p:grpSpPr>
            <a:xfrm>
              <a:off x="2666880" y="6095880"/>
              <a:ext cx="990360" cy="304920"/>
              <a:chOff x="2666880" y="6095880"/>
              <a:chExt cx="990360" cy="304920"/>
            </a:xfrm>
          </p:grpSpPr>
          <p:sp>
            <p:nvSpPr>
              <p:cNvPr id="432" name=""/>
              <p:cNvSpPr/>
              <p:nvPr/>
            </p:nvSpPr>
            <p:spPr>
              <a:xfrm>
                <a:off x="2666880" y="6095880"/>
                <a:ext cx="9903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742840" y="624816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765160" y="6165720"/>
                <a:ext cx="828720" cy="152280"/>
              </a:xfrm>
              <a:custGeom>
                <a:avLst/>
                <a:gdLst/>
                <a:ahLst/>
                <a:rect l="l" t="t" r="r" b="b"/>
                <a:pathLst>
                  <a:path w="522" h="96">
                    <a:moveTo>
                      <a:pt x="0" y="0"/>
                    </a:moveTo>
                    <a:cubicBezTo>
                      <a:pt x="10" y="42"/>
                      <a:pt x="31" y="21"/>
                      <a:pt x="84" y="20"/>
                    </a:cubicBezTo>
                    <a:cubicBezTo>
                      <a:pt x="92" y="16"/>
                      <a:pt x="98" y="14"/>
                      <a:pt x="106" y="12"/>
                    </a:cubicBezTo>
                    <a:cubicBezTo>
                      <a:pt x="180" y="15"/>
                      <a:pt x="254" y="17"/>
                      <a:pt x="328" y="20"/>
                    </a:cubicBezTo>
                    <a:cubicBezTo>
                      <a:pt x="379" y="14"/>
                      <a:pt x="358" y="12"/>
                      <a:pt x="424" y="14"/>
                    </a:cubicBezTo>
                    <a:cubicBezTo>
                      <a:pt x="433" y="23"/>
                      <a:pt x="459" y="28"/>
                      <a:pt x="472" y="32"/>
                    </a:cubicBezTo>
                    <a:cubicBezTo>
                      <a:pt x="478" y="49"/>
                      <a:pt x="488" y="64"/>
                      <a:pt x="494" y="82"/>
                    </a:cubicBezTo>
                    <a:cubicBezTo>
                      <a:pt x="495" y="84"/>
                      <a:pt x="497" y="93"/>
                      <a:pt x="500" y="94"/>
                    </a:cubicBezTo>
                    <a:cubicBezTo>
                      <a:pt x="507" y="96"/>
                      <a:pt x="515" y="94"/>
                      <a:pt x="522" y="9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4191120" y="6095880"/>
              <a:ext cx="99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</a:rPr>
                <a:t>No ans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3920" y="6248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257800" y="4267080"/>
            <a:ext cx="533520" cy="2133720"/>
          </a:xfrm>
          <a:custGeom>
            <a:avLst/>
            <a:gdLst>
              <a:gd name="textAreaLeft" fmla="*/ 0 w 533520"/>
              <a:gd name="textAreaRight" fmla="*/ 192600 w 5335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4940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791320" y="4952880"/>
            <a:ext cx="2438280" cy="1142640"/>
            <a:chOff x="5791320" y="4952880"/>
            <a:chExt cx="2438280" cy="1142640"/>
          </a:xfrm>
        </p:grpSpPr>
        <p:grpSp>
          <p:nvGrpSpPr>
            <p:cNvPr id="440" name=""/>
            <p:cNvGrpSpPr/>
            <p:nvPr/>
          </p:nvGrpSpPr>
          <p:grpSpPr>
            <a:xfrm>
              <a:off x="7162920" y="5257800"/>
              <a:ext cx="1066680" cy="837720"/>
              <a:chOff x="7162920" y="5257800"/>
              <a:chExt cx="1066680" cy="837720"/>
            </a:xfrm>
          </p:grpSpPr>
          <p:sp>
            <p:nvSpPr>
              <p:cNvPr id="441" name=""/>
              <p:cNvSpPr/>
              <p:nvPr/>
            </p:nvSpPr>
            <p:spPr>
              <a:xfrm>
                <a:off x="7655040" y="5257800"/>
                <a:ext cx="82080" cy="81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942320" y="5696280"/>
                <a:ext cx="81720" cy="81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368120" y="5664240"/>
                <a:ext cx="81720" cy="81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7449480" y="5339160"/>
                <a:ext cx="204840" cy="32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737120" y="5339160"/>
                <a:ext cx="204840" cy="32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449840" y="5770800"/>
                <a:ext cx="204840" cy="32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7736760" y="5770800"/>
                <a:ext cx="204840" cy="32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024400" y="5770800"/>
                <a:ext cx="205200" cy="32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7162920" y="5770800"/>
                <a:ext cx="205200" cy="32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5791320" y="4952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ecision tree coeffici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SU - intermodule commun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buffered thread-safe queues and producer-consumer sch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600200" y="4191120"/>
            <a:ext cx="12193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19520" y="4495680"/>
            <a:ext cx="533160" cy="53352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3124080"/>
            <a:ext cx="990720" cy="3200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343400" y="3276720"/>
            <a:ext cx="533520" cy="2895480"/>
            <a:chOff x="4343400" y="3276720"/>
            <a:chExt cx="533520" cy="2895480"/>
          </a:xfrm>
        </p:grpSpPr>
        <p:sp>
          <p:nvSpPr>
            <p:cNvPr id="457" name=""/>
            <p:cNvSpPr/>
            <p:nvPr/>
          </p:nvSpPr>
          <p:spPr>
            <a:xfrm>
              <a:off x="4343400" y="3276720"/>
              <a:ext cx="533520" cy="5331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43400" y="4419720"/>
              <a:ext cx="533520" cy="5331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43400" y="5638680"/>
              <a:ext cx="533520" cy="53352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4876920" y="4191120"/>
            <a:ext cx="990360" cy="990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76920" y="5410080"/>
            <a:ext cx="99036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81080" y="3581280"/>
            <a:ext cx="1143000" cy="457200"/>
          </a:xfrm>
          <a:prstGeom prst="wedgeRoundRectCallout">
            <a:avLst>
              <a:gd name="adj1" fmla="val 48333"/>
              <a:gd name="adj2" fmla="val 149305"/>
              <a:gd name="adj3" fmla="val 16667"/>
            </a:avLst>
          </a:prstGeom>
          <a:solidFill>
            <a:srgbClr val="dd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3048120"/>
            <a:ext cx="990360" cy="990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876920" y="4191120"/>
            <a:ext cx="990360" cy="2209680"/>
            <a:chOff x="4876920" y="4191120"/>
            <a:chExt cx="990360" cy="2209680"/>
          </a:xfrm>
        </p:grpSpPr>
        <p:sp>
          <p:nvSpPr>
            <p:cNvPr id="465" name=""/>
            <p:cNvSpPr/>
            <p:nvPr/>
          </p:nvSpPr>
          <p:spPr>
            <a:xfrm>
              <a:off x="4876920" y="4191120"/>
              <a:ext cx="990360" cy="9903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76920" y="5410080"/>
              <a:ext cx="990360" cy="9907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Process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876920" y="4191120"/>
            <a:ext cx="990360" cy="2209680"/>
            <a:chOff x="4876920" y="4191120"/>
            <a:chExt cx="990360" cy="2209680"/>
          </a:xfrm>
        </p:grpSpPr>
        <p:sp>
          <p:nvSpPr>
            <p:cNvPr id="468" name=""/>
            <p:cNvSpPr/>
            <p:nvPr/>
          </p:nvSpPr>
          <p:spPr>
            <a:xfrm>
              <a:off x="4876920" y="4191120"/>
              <a:ext cx="990360" cy="990360"/>
            </a:xfrm>
            <a:prstGeom prst="ellipse">
              <a:avLst/>
            </a:prstGeom>
            <a:solidFill>
              <a:srgbClr val="ddf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nsumer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duc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6920" y="5410080"/>
              <a:ext cx="990360" cy="990720"/>
            </a:xfrm>
            <a:prstGeom prst="ellipse">
              <a:avLst/>
            </a:prstGeom>
            <a:solidFill>
              <a:srgbClr val="ddf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nsumer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duc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7280" y="4419720"/>
            <a:ext cx="533520" cy="1752480"/>
            <a:chOff x="5867280" y="4419720"/>
            <a:chExt cx="533520" cy="1752480"/>
          </a:xfrm>
        </p:grpSpPr>
        <p:sp>
          <p:nvSpPr>
            <p:cNvPr id="471" name=""/>
            <p:cNvSpPr/>
            <p:nvPr/>
          </p:nvSpPr>
          <p:spPr>
            <a:xfrm>
              <a:off x="5867280" y="4419720"/>
              <a:ext cx="533520" cy="5331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67280" y="5638680"/>
              <a:ext cx="533520" cy="53352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400800" y="4191120"/>
            <a:ext cx="533520" cy="2286000"/>
            <a:chOff x="6400800" y="4191120"/>
            <a:chExt cx="533520" cy="2286000"/>
          </a:xfrm>
        </p:grpSpPr>
        <p:sp>
          <p:nvSpPr>
            <p:cNvPr id="474" name=""/>
            <p:cNvSpPr/>
            <p:nvPr/>
          </p:nvSpPr>
          <p:spPr>
            <a:xfrm>
              <a:off x="6400800" y="4191120"/>
              <a:ext cx="533520" cy="10666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que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00800" y="5410080"/>
              <a:ext cx="533520" cy="1067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que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184640" y="2438280"/>
            <a:ext cx="1682640" cy="4041000"/>
            <a:chOff x="4184640" y="2438280"/>
            <a:chExt cx="1682640" cy="4041000"/>
          </a:xfrm>
        </p:grpSpPr>
        <p:sp>
          <p:nvSpPr>
            <p:cNvPr id="477" name=""/>
            <p:cNvSpPr/>
            <p:nvPr/>
          </p:nvSpPr>
          <p:spPr>
            <a:xfrm>
              <a:off x="4419720" y="2438280"/>
              <a:ext cx="1447560" cy="457200"/>
            </a:xfrm>
            <a:prstGeom prst="wedgeRoundRectCallout">
              <a:avLst>
                <a:gd name="adj1" fmla="val -36842"/>
                <a:gd name="adj2" fmla="val 124305"/>
                <a:gd name="adj3" fmla="val 16667"/>
              </a:avLst>
            </a:prstGeom>
            <a:solidFill>
              <a:srgbClr val="ddf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gister 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rot="2232600">
              <a:off x="4320360" y="3395880"/>
              <a:ext cx="564840" cy="64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42" y="918"/>
                  </a:moveTo>
                  <a:arcTo wR="10800" hR="10800" stAng="-6827997" swAng="6712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6442" y="918"/>
                  </a:moveTo>
                  <a:arcTo wR="10800" hR="10800" stAng="-6827997" swAng="6712776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rot="2232600">
              <a:off x="4320360" y="4513320"/>
              <a:ext cx="564840" cy="64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42" y="918"/>
                  </a:moveTo>
                  <a:arcTo wR="10800" hR="10800" stAng="-6827997" swAng="6712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6442" y="918"/>
                  </a:moveTo>
                  <a:arcTo wR="10800" hR="10800" stAng="-6827997" swAng="6712776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rot="2232600">
              <a:off x="4320360" y="5732640"/>
              <a:ext cx="564840" cy="64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42" y="918"/>
                  </a:moveTo>
                  <a:arcTo wR="10800" hR="10800" stAng="-6827997" swAng="6712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6442" y="918"/>
                  </a:moveTo>
                  <a:arcTo wR="10800" hR="10800" stAng="-6827997" swAng="6712776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850440" y="4466160"/>
            <a:ext cx="745200" cy="1811880"/>
            <a:chOff x="6850440" y="4466160"/>
            <a:chExt cx="745200" cy="1811880"/>
          </a:xfrm>
        </p:grpSpPr>
        <p:sp>
          <p:nvSpPr>
            <p:cNvPr id="482" name=""/>
            <p:cNvSpPr/>
            <p:nvPr/>
          </p:nvSpPr>
          <p:spPr>
            <a:xfrm flipV="1" rot="19437000">
              <a:off x="6956280" y="5638680"/>
              <a:ext cx="533520" cy="53352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2163000">
              <a:off x="6956280" y="4572000"/>
              <a:ext cx="533520" cy="53352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257960" y="4876920"/>
            <a:ext cx="990720" cy="990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437880" y="4723920"/>
            <a:ext cx="1061640" cy="1292400"/>
            <a:chOff x="6437880" y="4723920"/>
            <a:chExt cx="1061640" cy="1292400"/>
          </a:xfrm>
        </p:grpSpPr>
        <p:sp>
          <p:nvSpPr>
            <p:cNvPr id="486" name=""/>
            <p:cNvSpPr/>
            <p:nvPr/>
          </p:nvSpPr>
          <p:spPr>
            <a:xfrm flipH="1" rot="10800000">
              <a:off x="6437520" y="5406840"/>
              <a:ext cx="10616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16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16516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 rot="10800000">
              <a:off x="6437520" y="4723560"/>
              <a:ext cx="10616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16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16516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SU - intermodule commun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1981080" y="4038480"/>
            <a:ext cx="160020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38480" y="4038480"/>
            <a:ext cx="152424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038480"/>
            <a:ext cx="213372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670880" y="4943520"/>
            <a:ext cx="771480" cy="1228680"/>
            <a:chOff x="7670880" y="4943520"/>
            <a:chExt cx="771480" cy="1228680"/>
          </a:xfrm>
        </p:grpSpPr>
        <p:sp>
          <p:nvSpPr>
            <p:cNvPr id="493" name=""/>
            <p:cNvSpPr/>
            <p:nvPr/>
          </p:nvSpPr>
          <p:spPr>
            <a:xfrm>
              <a:off x="7823160" y="4943520"/>
              <a:ext cx="45720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7670880" y="5400720"/>
            <a:ext cx="771480" cy="771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70880" y="5400720"/>
                      <a:ext cx="771480" cy="7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6" name=""/>
          <p:cNvGrpSpPr/>
          <p:nvPr/>
        </p:nvGrpSpPr>
        <p:grpSpPr>
          <a:xfrm>
            <a:off x="6946920" y="4952880"/>
            <a:ext cx="761760" cy="1143000"/>
            <a:chOff x="6946920" y="4952880"/>
            <a:chExt cx="761760" cy="1143000"/>
          </a:xfrm>
        </p:grpSpPr>
        <p:sp>
          <p:nvSpPr>
            <p:cNvPr id="497" name=""/>
            <p:cNvSpPr/>
            <p:nvPr/>
          </p:nvSpPr>
          <p:spPr>
            <a:xfrm>
              <a:off x="7099200" y="4952880"/>
              <a:ext cx="457200" cy="533160"/>
            </a:xfrm>
            <a:prstGeom prst="upDownArrow">
              <a:avLst>
                <a:gd name="adj1" fmla="val 50000"/>
                <a:gd name="adj2" fmla="val 2321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8" name=""/>
            <p:cNvGraphicFramePr/>
            <p:nvPr/>
          </p:nvGraphicFramePr>
          <p:xfrm>
            <a:off x="6946920" y="5562360"/>
            <a:ext cx="761760" cy="53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46920" y="5562360"/>
                      <a:ext cx="7617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0" name=""/>
          <p:cNvSpPr/>
          <p:nvPr/>
        </p:nvSpPr>
        <p:spPr>
          <a:xfrm>
            <a:off x="48006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5181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124080" y="1676520"/>
            <a:ext cx="3657600" cy="990000"/>
            <a:chOff x="3124080" y="1676520"/>
            <a:chExt cx="3657600" cy="990000"/>
          </a:xfrm>
        </p:grpSpPr>
        <p:sp>
          <p:nvSpPr>
            <p:cNvPr id="503" name=""/>
            <p:cNvSpPr/>
            <p:nvPr/>
          </p:nvSpPr>
          <p:spPr>
            <a:xfrm>
              <a:off x="3124080" y="2209680"/>
              <a:ext cx="2286000" cy="4568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Operator manager (O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67280" y="2209680"/>
              <a:ext cx="380880" cy="4568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00440" y="2209680"/>
              <a:ext cx="381240" cy="4568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24080" y="1676520"/>
              <a:ext cx="36576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73440" y="2133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41911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10800000">
            <a:off x="4191120" y="3353040"/>
            <a:ext cx="15120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2670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48320" y="3505320"/>
            <a:ext cx="15192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4038840" y="3352680"/>
            <a:ext cx="1519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004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27672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6200000">
            <a:off x="3200760" y="3504600"/>
            <a:ext cx="15120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343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24280" y="3505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82040" y="3505320"/>
            <a:ext cx="15192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743200" y="2438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0800000">
            <a:off x="3276720" y="5029560"/>
            <a:ext cx="15120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5400000">
            <a:off x="6477480" y="5029200"/>
            <a:ext cx="15120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62940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6200000">
            <a:off x="2743560" y="2361600"/>
            <a:ext cx="15120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195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91120" y="29718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parated physiological data str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5320" y="5181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cessed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5400000">
            <a:off x="4648680" y="5029200"/>
            <a:ext cx="15120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80060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3048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81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5400000">
            <a:off x="6629760" y="5715360"/>
            <a:ext cx="15120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124080" y="58672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3048120" y="5715360"/>
            <a:ext cx="15120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481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0800000">
            <a:off x="5334120" y="5715360"/>
            <a:ext cx="15120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341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5320" y="58672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orded (off-line)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BlueEy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plex solution for human-operator monitor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cious brain involvement monit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ggering user-defined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recor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447920"/>
            <a:ext cx="15238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426708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BlueEy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5029200"/>
            <a:ext cx="7238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n’t predict nor interfere with operator’s 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not force directly the operator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o is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BlueEy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or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ic control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wer s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ain brid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ight control cen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rating theatres – anesthesiolog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ap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mpler system version for driv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447920"/>
            <a:ext cx="15238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BlueEye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16002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on from dangerous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600200" y="2035080"/>
            <a:ext cx="7238880" cy="2708280"/>
            <a:chOff x="1600200" y="2035080"/>
            <a:chExt cx="7238880" cy="270828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6248520" y="2971800"/>
              <a:ext cx="217944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600200" y="2035080"/>
              <a:ext cx="7238880" cy="18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inimization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cological consequ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inancial l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 threat to a human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3880" y="4114800"/>
            <a:ext cx="7239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cours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rator’s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47920"/>
            <a:ext cx="15238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ysiological found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289548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econscious b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47920"/>
            <a:ext cx="152388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3429000"/>
            <a:ext cx="3505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nages the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logical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kes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429000"/>
            <a:ext cx="3276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2895480"/>
            <a:ext cx="3505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Verdana"/>
              </a:rPr>
              <a:t>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scious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19810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man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343400" y="251460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51460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cious brain - operation m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58672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Verdana"/>
              </a:rPr>
              <a:t>Exploratory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1395360" cy="3927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67280" y="58672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Verdana"/>
              </a:rPr>
              <a:t>Planning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05720" y="2286000"/>
            <a:ext cx="134928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648320" y="2514600"/>
          <a:ext cx="1095120" cy="23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514600"/>
                    <a:ext cx="10951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600200" y="1523880"/>
            <a:ext cx="3124080" cy="502920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5029200"/>
              <a:gd name="textAreaBottom" fmla="*/ 4876920 h 5029200"/>
            </a:gdLst>
            <a:ahLst/>
            <a:rect l="textAreaLeft" t="textAreaTop" r="textAreaRight" b="textAreaBottom"/>
            <a:pathLst>
              <a:path w="21600" h="34771">
                <a:moveTo>
                  <a:pt x="3600" y="0"/>
                </a:moveTo>
                <a:arcTo wR="3600" hR="3600" stAng="16200000" swAng="-5400000"/>
                <a:lnTo>
                  <a:pt x="0" y="31171"/>
                </a:lnTo>
                <a:arcTo wR="3600" hR="3600" stAng="10800000" swAng="-5400000"/>
                <a:lnTo>
                  <a:pt x="18000" y="34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47920"/>
            <a:ext cx="152388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Eye mov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200400"/>
            <a:ext cx="3504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accade - a rapid eye jump to a new location assigned by the conscious attention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54864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accades presence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Exploratory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057400"/>
            <a:ext cx="5715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vis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scious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00200" y="1600200"/>
            <a:ext cx="6924600" cy="3419640"/>
            <a:chOff x="1600200" y="1600200"/>
            <a:chExt cx="6924600" cy="3419640"/>
          </a:xfrm>
        </p:grpSpPr>
        <p:graphicFrame>
          <p:nvGraphicFramePr>
            <p:cNvPr id="106" name=""/>
            <p:cNvGraphicFramePr/>
            <p:nvPr/>
          </p:nvGraphicFramePr>
          <p:xfrm>
            <a:off x="5715000" y="2362320"/>
            <a:ext cx="2809800" cy="265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2362320"/>
                      <a:ext cx="2809800" cy="26575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1600200" y="1600200"/>
              <a:ext cx="5715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etina - central vision (macul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1447920"/>
            <a:ext cx="152388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What i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BlueEyes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ysiological fou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Future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Project work</a:t>
            </a:r>
            <a:br>
              <a:rPr sz="1200"/>
            </a:br>
            <a:r>
              <a:rPr b="0" lang="pl-PL" sz="1200" spc="-1" strike="noStrike">
                <a:solidFill>
                  <a:srgbClr val="808080"/>
                </a:solidFill>
                <a:latin typeface="Verdan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System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demon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9:55:26Z</dcterms:created>
  <dc:creator>Blue</dc:creator>
  <dc:description/>
  <dc:language>en-US</dc:language>
  <cp:lastModifiedBy>BlueEyes</cp:lastModifiedBy>
  <cp:lastPrinted>2001-06-18T19:20:01Z</cp:lastPrinted>
  <dcterms:modified xsi:type="dcterms:W3CDTF">2001-06-24T15:51:23Z</dcterms:modified>
  <cp:revision>340</cp:revision>
  <dc:subject/>
  <dc:title>BlueEyes Human-Operator Monitoring System</dc:title>
</cp:coreProperties>
</file>