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13B1F-9EF4-4F17-AE80-878343EA3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5DD3E-A5AF-4A83-97D1-A8DDE6315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7E63E-4135-4388-8145-E0C26E28C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84573-444D-4800-AE8B-85C7B5CD8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7DF0B-62BF-45E9-8E3C-9173EED0E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1EA0E-0974-4083-9C72-958009D87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9095C-7BA5-4946-A78E-18EB238DB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2183E-930E-4AF2-B185-41073231F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82E94-6A69-404A-AEA2-339E1A3EB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1C4F0-6FC3-48CD-8F8B-D960B6B12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5FE41-C24C-4CFE-8196-4D9C687DB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B2E85-AE47-475A-8AC9-691A2C69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FF263-7B6A-4F2B-BC28-DB139D71F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7CC6D-C908-42F0-9B20-C0CE43304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5B0A9-3E24-49F4-B995-0E1B82228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4B02E-F240-43A4-8E2A-337D891AA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BF0EF-6169-4B88-B674-B66449132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D5ED6-E701-442D-BBC0-0AB02AE3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FC9C1-9D21-4CE1-94E9-C9CF79C4E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A1882-EC43-4E1D-9DF9-3B09C2D1F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5BDF3-55BE-458D-8DC7-371426399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75F6-CBB3-4BD3-9672-30FD23069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4E03-5CA5-4449-9B27-0AFC43AF7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9D571-8FCD-45F3-8BBA-FC4E1CF3A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C7DA-E578-4AB9-86A8-B6121E4F680F}" type="slidenum">
              <a:rPr b="0" lang="pl-PL"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16080" y="2438280"/>
            <a:ext cx="8692920" cy="1052640"/>
            <a:chOff x="316080" y="2438280"/>
            <a:chExt cx="8692920" cy="1052640"/>
          </a:xfrm>
        </p:grpSpPr>
        <p:sp>
          <p:nvSpPr>
            <p:cNvPr id="4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C32E-2EDB-496F-85AF-57C0750B5644}" type="slidenum">
              <a:rPr b="0" lang="pl-PL"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zwed5@wp.pl" TargetMode="External"/><Relationship Id="rId2" Type="http://schemas.openxmlformats.org/officeDocument/2006/relationships/hyperlink" Target="mailto:szwed5@wp.pl" TargetMode="External"/><Relationship Id="rId3" Type="http://schemas.openxmlformats.org/officeDocument/2006/relationships/hyperlink" Target="mailto:szwed5@wp.pl" TargetMode="External"/><Relationship Id="rId4" Type="http://schemas.openxmlformats.org/officeDocument/2006/relationships/hyperlink" Target="mailto:szwed5@wp.pl"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Błażej Pietrzak</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u="sng">
                <a:solidFill>
                  <a:srgbClr val="ff0000"/>
                </a:solidFill>
                <a:uFillTx/>
                <a:latin typeface="Tahoma"/>
                <a:hlinkClick r:id="rId1"/>
              </a:rPr>
              <a:t>szwed5@</a:t>
            </a:r>
            <a:r>
              <a:rPr b="0" lang="pl-PL" sz="3200" spc="-1" strike="noStrike" u="sng">
                <a:solidFill>
                  <a:srgbClr val="ff0000"/>
                </a:solidFill>
                <a:uFillTx/>
                <a:latin typeface="Tahoma"/>
                <a:hlinkClick r:id="rId2"/>
              </a:rPr>
              <a:t>wp</a:t>
            </a:r>
            <a:r>
              <a:rPr b="0" lang="pl-PL" sz="3200" spc="-1" strike="noStrike" u="sng">
                <a:solidFill>
                  <a:srgbClr val="ff0000"/>
                </a:solidFill>
                <a:uFillTx/>
                <a:latin typeface="Tahoma"/>
                <a:hlinkClick r:id="rId3"/>
              </a:rPr>
              <a:t>.</a:t>
            </a:r>
            <a:r>
              <a:rPr b="0" lang="pl-PL" sz="3200" spc="-1" strike="noStrike" u="sng">
                <a:solidFill>
                  <a:srgbClr val="ff0000"/>
                </a:solidFill>
                <a:uFillTx/>
                <a:latin typeface="Tahoma"/>
                <a:hlinkClick r:id="rId4"/>
              </a:rPr>
              <a:t>pl</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The STRIDE Threat Model – categories:</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Spoofing identity – illegally accessing and then using another user’s authentication information.</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Tampering with data – malicious modification of data like unauthorized changes made to persistent data or data as it flows between two computers over an open network, such as Internet</a:t>
            </a:r>
            <a:endParaRPr b="0" lang="en-US" sz="2800" spc="-1" strike="noStrike">
              <a:solidFill>
                <a:srgbClr val="000000"/>
              </a:solidFill>
              <a:latin typeface="Tahoma"/>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The STRIDE Threat Model – categories cont.:</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Repudiation – they are associated with users who deny performing an action without other parties having any way to prove otherwise.</a:t>
            </a:r>
            <a:br>
              <a:rPr sz="2400"/>
            </a:br>
            <a:r>
              <a:rPr b="0" lang="pl-PL" sz="2400" spc="-1" strike="noStrike">
                <a:solidFill>
                  <a:srgbClr val="000000"/>
                </a:solidFill>
                <a:latin typeface="Tahoma"/>
              </a:rPr>
              <a:t>Nonrepudiation is the ability of the system to counter repudiation threats.</a:t>
            </a:r>
            <a:br>
              <a:rPr sz="2400"/>
            </a:br>
            <a:r>
              <a:rPr b="0" lang="pl-PL" sz="2400" spc="-1" strike="noStrike">
                <a:solidFill>
                  <a:srgbClr val="000000"/>
                </a:solidFill>
                <a:latin typeface="Tahoma"/>
              </a:rPr>
              <a:t>Example:</a:t>
            </a:r>
            <a:br>
              <a:rPr sz="2400"/>
            </a:br>
            <a:r>
              <a:rPr b="0" lang="pl-PL" sz="2400" spc="-1" strike="noStrike">
                <a:solidFill>
                  <a:srgbClr val="000000"/>
                </a:solidFill>
                <a:latin typeface="Tahoma"/>
              </a:rPr>
              <a:t>If a user purchases an item, he might have to sign for the item upon receipt. The vendor can then use the signed receipt as evidence that the user did receive the package.</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The STRIDE Threat Model – categories cont.:</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Information disclosure – exposure of information to individuals who are not supposed to have access to it</a:t>
            </a:r>
            <a:br>
              <a:rPr sz="2400"/>
            </a:br>
            <a:r>
              <a:rPr b="0" lang="pl-PL" sz="2400" spc="-1" strike="noStrike">
                <a:solidFill>
                  <a:srgbClr val="000000"/>
                </a:solidFill>
                <a:latin typeface="Tahoma"/>
              </a:rPr>
              <a:t>Example:</a:t>
            </a:r>
            <a:br>
              <a:rPr sz="2400"/>
            </a:br>
            <a:r>
              <a:rPr b="0" lang="pl-PL" sz="2400" spc="-1" strike="noStrike">
                <a:solidFill>
                  <a:srgbClr val="000000"/>
                </a:solidFill>
                <a:latin typeface="Tahoma"/>
              </a:rPr>
              <a:t>A user’s ability to read a file that she was not granted access to and an intruder’s ability to read data in transit between two computer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Denial of service</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Elevation of privilege</a:t>
            </a:r>
            <a:br>
              <a:rPr sz="2400"/>
            </a:br>
            <a:r>
              <a:rPr b="0" lang="pl-PL" sz="2400" spc="-1" strike="noStrike">
                <a:solidFill>
                  <a:srgbClr val="000000"/>
                </a:solidFill>
                <a:latin typeface="Tahoma"/>
              </a:rPr>
              <a:t>Example: Obtaining root accou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Items to Note While Thread Modeling</a:t>
            </a:r>
            <a:endParaRPr b="0" lang="en-US" sz="32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Title – descriptive and short i.e.: „Attacker accesses a user’s shopping cart”</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Threat type(s) – a threat can fall under multiple STRIDE categories</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Target – which part of application is prone to the attack</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hance – chance of the threat to occur from 1 (greatest) to 10 (lea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Items to Note While Thread Modeling – cont.:</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Criticality – extent and severity of the damage (some data are invaluable) from 1 (least damage) to 10 (greatest damage)</a:t>
            </a:r>
            <a:endParaRPr b="0" lang="en-US" sz="24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Attack techniques – How would an attacker manifest the threat?</a:t>
            </a:r>
            <a:endParaRPr b="0" lang="en-US" sz="24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Mitigation techniques (optional) – What would mitigate such threat? How difficult it is to mitigate?</a:t>
            </a:r>
            <a:endParaRPr b="0" lang="en-US" sz="24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Mitigation status – Has the threat been mitigated? Valid entries are: Yes, No, Somewhat and Needs Investigating.</a:t>
            </a:r>
            <a:endParaRPr b="0" lang="en-US" sz="24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Bug number</a:t>
            </a:r>
            <a:endParaRPr b="0" lang="en-US" sz="2400" spc="-1" strike="noStrike">
              <a:solidFill>
                <a:srgbClr val="000000"/>
              </a:solidFill>
              <a:latin typeface="Tahoma"/>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Rank the threats by Decreasing Risk</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Risk = Criticality / Chance</a:t>
            </a:r>
            <a:endParaRPr b="0" lang="en-US" sz="24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hoose how to respond to the Threats</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Do nothing</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Inform the user of the threat</a:t>
            </a:r>
            <a:endParaRPr b="0" lang="en-US" sz="2400" spc="-1" strike="noStrike">
              <a:solidFill>
                <a:srgbClr val="000000"/>
              </a:solidFill>
              <a:latin typeface="Tahoma"/>
            </a:endParaRPr>
          </a:p>
          <a:p>
            <a:pPr lvl="2" marL="1097280" indent="-21924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Many users don’t what the right decision is</a:t>
            </a:r>
            <a:endParaRPr b="0" lang="en-US" sz="2000" spc="-1" strike="noStrike">
              <a:solidFill>
                <a:srgbClr val="000000"/>
              </a:solidFill>
              <a:latin typeface="Tahoma"/>
            </a:endParaRPr>
          </a:p>
          <a:p>
            <a:pPr lvl="2" marL="1097280" indent="-21924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Users will learn to ignore warnings if they come up to often.</a:t>
            </a:r>
            <a:endParaRPr b="0" lang="en-US" sz="20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Remove the problem</a:t>
            </a:r>
            <a:endParaRPr b="0" lang="en-US" sz="2400" spc="-1" strike="noStrike">
              <a:solidFill>
                <a:srgbClr val="000000"/>
              </a:solidFill>
              <a:latin typeface="Tahoma"/>
            </a:endParaRPr>
          </a:p>
          <a:p>
            <a:pPr lvl="2" marL="1097280" indent="-21924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There is always the next version!</a:t>
            </a:r>
            <a:endParaRPr b="0" lang="en-US" sz="20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Fix the probl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hoose techniques to mitigate the Threats (techniques != technologies)</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Spoofing identity</a:t>
            </a:r>
            <a:endParaRPr b="0" lang="en-US" sz="2400" spc="-1" strike="noStrike">
              <a:solidFill>
                <a:srgbClr val="000000"/>
              </a:solidFill>
              <a:latin typeface="Tahoma"/>
            </a:endParaRPr>
          </a:p>
          <a:p>
            <a:pPr lvl="2" marL="1005840" indent="-2008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Authentication (i.e. X.509 certificates, IPSec, HTTP Basic Authentication, Digest Authentication, DCOM)</a:t>
            </a:r>
            <a:endParaRPr b="0" lang="en-US" sz="2000" spc="-1" strike="noStrike">
              <a:solidFill>
                <a:srgbClr val="000000"/>
              </a:solidFill>
              <a:latin typeface="Tahoma"/>
            </a:endParaRPr>
          </a:p>
          <a:p>
            <a:pPr lvl="2" marL="1005840" indent="-2008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Protect secrets</a:t>
            </a:r>
            <a:endParaRPr b="0" lang="en-US" sz="2000" spc="-1" strike="noStrike">
              <a:solidFill>
                <a:srgbClr val="000000"/>
              </a:solidFill>
              <a:latin typeface="Tahoma"/>
            </a:endParaRPr>
          </a:p>
          <a:p>
            <a:pPr lvl="2" marL="1005840" indent="-2008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Don’t store secrets</a:t>
            </a:r>
            <a:endParaRPr b="0" lang="en-US" sz="20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Tampering with data</a:t>
            </a:r>
            <a:endParaRPr b="0" lang="en-US" sz="2400" spc="-1" strike="noStrike">
              <a:solidFill>
                <a:srgbClr val="000000"/>
              </a:solidFill>
              <a:latin typeface="Tahoma"/>
            </a:endParaRPr>
          </a:p>
          <a:p>
            <a:pPr lvl="2" marL="1005840" indent="-2008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Authorization (i.e. ACL, Privileges, IP adress restrictions)</a:t>
            </a:r>
            <a:endParaRPr b="0" lang="en-US" sz="2000" spc="-1" strike="noStrike">
              <a:solidFill>
                <a:srgbClr val="000000"/>
              </a:solidFill>
              <a:latin typeface="Tahoma"/>
            </a:endParaRPr>
          </a:p>
          <a:p>
            <a:pPr lvl="2" marL="1005840" indent="-2008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Hashes</a:t>
            </a:r>
            <a:endParaRPr b="0" lang="en-US" sz="2000" spc="-1" strike="noStrike">
              <a:solidFill>
                <a:srgbClr val="000000"/>
              </a:solidFill>
              <a:latin typeface="Tahoma"/>
            </a:endParaRPr>
          </a:p>
          <a:p>
            <a:pPr lvl="2" marL="1005840" indent="-2008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Message authentication codes</a:t>
            </a:r>
            <a:endParaRPr b="0" lang="en-US" sz="2000" spc="-1" strike="noStrike">
              <a:solidFill>
                <a:srgbClr val="000000"/>
              </a:solidFill>
              <a:latin typeface="Tahoma"/>
            </a:endParaRPr>
          </a:p>
          <a:p>
            <a:pPr lvl="2" marL="1005840" indent="-2008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Digital signatures</a:t>
            </a:r>
            <a:endParaRPr b="0" lang="en-US" sz="2000" spc="-1" strike="noStrike">
              <a:solidFill>
                <a:srgbClr val="000000"/>
              </a:solidFill>
              <a:latin typeface="Tahoma"/>
            </a:endParaRPr>
          </a:p>
          <a:p>
            <a:pPr lvl="2" marL="1005840" indent="-2008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Tamper-resistant protocols (SSL/TLS, IPSec, DCOM, EF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hoose techniques to mitigate the Threats – cont.:</a:t>
            </a:r>
            <a:endParaRPr b="0" lang="en-US" sz="2800" spc="-1" strike="noStrike">
              <a:solidFill>
                <a:srgbClr val="000000"/>
              </a:solidFill>
              <a:latin typeface="Tahoma"/>
            </a:endParaRPr>
          </a:p>
          <a:p>
            <a:pPr lvl="1" marL="698400" indent="-2685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Repudiation</a:t>
            </a:r>
            <a:endParaRPr b="0" lang="en-US" sz="24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Digital signatures</a:t>
            </a:r>
            <a:endParaRPr b="0" lang="en-US" sz="20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Timestamps</a:t>
            </a:r>
            <a:endParaRPr b="0" lang="en-US" sz="20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Audit trails</a:t>
            </a:r>
            <a:endParaRPr b="0" lang="en-US" sz="2000" spc="-1" strike="noStrike">
              <a:solidFill>
                <a:srgbClr val="000000"/>
              </a:solidFill>
              <a:latin typeface="Tahoma"/>
            </a:endParaRPr>
          </a:p>
          <a:p>
            <a:pPr lvl="1" marL="698400" indent="-2685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Information disclosure</a:t>
            </a:r>
            <a:endParaRPr b="0" lang="en-US" sz="24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Authorization</a:t>
            </a:r>
            <a:endParaRPr b="0" lang="en-US" sz="20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Privacy-enhanced protocols</a:t>
            </a:r>
            <a:endParaRPr b="0" lang="en-US" sz="20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Encryption</a:t>
            </a:r>
            <a:endParaRPr b="0" lang="en-US" sz="20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Protect secrets</a:t>
            </a:r>
            <a:endParaRPr b="0" lang="en-US" sz="20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Don’t store secre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hoose techniques to mitigate the Threats – con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Denial of servic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Authenticatio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Authorizatio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Filtering</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Throttling – limiting the number of requests to the system</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Quality of service – i.e. prioritising the traffi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Elevation of privileg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Run with least privile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Defining ACL (Access Control List) Lists:</a:t>
            </a:r>
            <a:endParaRPr b="0" lang="en-US" sz="32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Determine the resource you use</a:t>
            </a: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Determine the business defined access requirements</a:t>
            </a: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Determine the appropriate access control technology</a:t>
            </a: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onvert the access requirements to access control technolog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Two common security mistakes:</a:t>
            </a:r>
            <a:endParaRPr b="0" lang="en-US" sz="3200" spc="-1" strike="noStrike">
              <a:solidFill>
                <a:srgbClr val="000000"/>
              </a:solidFill>
              <a:latin typeface="Tahom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Applications are designed by teams of people who do not understand security</a:t>
            </a:r>
            <a:endParaRPr b="0" lang="en-US" sz="2800" spc="-1" strike="noStrike">
              <a:solidFill>
                <a:srgbClr val="000000"/>
              </a:solidFill>
              <a:latin typeface="Tahom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Adding security to the application as an afterthought:</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It is expensive</a:t>
            </a:r>
            <a:endParaRPr b="0" lang="en-US" sz="24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Adding security might change the way you’ve implemented features</a:t>
            </a:r>
            <a:endParaRPr b="0" lang="en-US" sz="24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Adding security might change the application interfa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ACL consists of A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ACE i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Subjec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Access Righ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Always place deny ACEs at the start of the A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Why these mistakes are mad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Security is bor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Security is often seen as functionality disable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Security is difficult to measur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Security is usually not the primary skill or interest of the designers and developers creating the product</a:t>
            </a:r>
            <a:endParaRPr b="0" lang="en-US" sz="2800" spc="-1" strike="noStrike">
              <a:solidFill>
                <a:srgbClr val="000000"/>
              </a:solidFill>
              <a:latin typeface="Tahoma"/>
            </a:endParaRPr>
          </a:p>
        </p:txBody>
      </p:sp>
      <p:sp>
        <p:nvSpPr>
          <p:cNvPr id="93" name=""/>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Security Principles to Live By:</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Establish a security process</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Management control and revision control of specifications, code, documentation and tests</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Define the product security goals</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Consider security as a product feature</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Learn from mistakes</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Use least privilege</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Use defense in depth</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Imagine your application is the last application standing, and every defensive mechanism protecting you has been destroy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Security Principles to Live By – co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Assume external systems are insecur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Plan on failure</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What happens if the firewall is breached?</a:t>
            </a:r>
            <a:br>
              <a:rPr sz="2000"/>
            </a:br>
            <a:r>
              <a:rPr b="0" lang="pl-PL" sz="2000" spc="-1" strike="noStrike">
                <a:solidFill>
                  <a:srgbClr val="000000"/>
                </a:solidFill>
                <a:latin typeface="Tahoma"/>
              </a:rPr>
              <a:t>Death, taxes and computer system failure are all inevitable to some degree. Plan for the event.</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Fail to a secure mode</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If the attacker knows that he can make your code fail, he can bypass security mechanisms because your failure mode is insecu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Security Principles to Live By – con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Employ secure defaults</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The less often used features should be off by default to reduce potential security exposure</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Remember that security features != secure featur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Never depend on security through obscurity</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rPr>
              <a:t>Always assume that the attacker has access to all source code and all designs</a:t>
            </a:r>
            <a:endParaRPr b="0" lang="en-US" sz="20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Three Final Poi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If you find a security bug fix it and go looking for similar issues in other parts of cod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Make the fix as close as possible to the location of vulnerabil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ure the problem, not the sympto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572760" indent="-5727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ahoma"/>
              </a:rPr>
              <a:t>Security design by Threat Modelling:</a:t>
            </a:r>
            <a:endParaRPr b="0" lang="en-US" sz="3200" spc="-1" strike="noStrike">
              <a:solidFill>
                <a:srgbClr val="000000"/>
              </a:solidFill>
              <a:latin typeface="Tahoma"/>
            </a:endParaRPr>
          </a:p>
          <a:p>
            <a:pPr lvl="1" marL="930960" indent="-50148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Brainstorm the known threats to the system</a:t>
            </a:r>
            <a:endParaRPr b="0" lang="en-US" sz="2800" spc="-1" strike="noStrike">
              <a:solidFill>
                <a:srgbClr val="000000"/>
              </a:solidFill>
              <a:latin typeface="Tahoma"/>
            </a:endParaRPr>
          </a:p>
          <a:p>
            <a:pPr lvl="1" marL="930960" indent="-50148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Rank the threats by decreasing risk</a:t>
            </a:r>
            <a:endParaRPr b="0" lang="en-US" sz="2800" spc="-1" strike="noStrike">
              <a:solidFill>
                <a:srgbClr val="000000"/>
              </a:solidFill>
              <a:latin typeface="Tahoma"/>
            </a:endParaRPr>
          </a:p>
          <a:p>
            <a:pPr lvl="1" marL="930960" indent="-50148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hoose how to respond to the threats</a:t>
            </a:r>
            <a:endParaRPr b="0" lang="en-US" sz="2800" spc="-1" strike="noStrike">
              <a:solidFill>
                <a:srgbClr val="000000"/>
              </a:solidFill>
              <a:latin typeface="Tahoma"/>
            </a:endParaRPr>
          </a:p>
          <a:p>
            <a:pPr lvl="1" marL="930960" indent="-50148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hoose techniques to mitigate the threats</a:t>
            </a:r>
            <a:endParaRPr b="0" lang="en-US" sz="2800" spc="-1" strike="noStrike">
              <a:solidFill>
                <a:srgbClr val="000000"/>
              </a:solidFill>
              <a:latin typeface="Tahoma"/>
            </a:endParaRPr>
          </a:p>
          <a:p>
            <a:pPr lvl="1" marL="930960" indent="-50148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Choose the appropriate technologies from the identified techniques</a:t>
            </a:r>
            <a:endParaRPr b="0" lang="en-US" sz="2800" spc="-1" strike="noStrike">
              <a:solidFill>
                <a:srgbClr val="000000"/>
              </a:solidFill>
              <a:latin typeface="Tahoma"/>
            </a:endParaRPr>
          </a:p>
          <a:p>
            <a:pPr lvl="1" marL="9309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99"/>
                </a:solidFill>
                <a:latin typeface="Tahoma"/>
              </a:rPr>
              <a:t>Designing secure code</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ahoma"/>
              </a:rPr>
              <a:t>Brainstorm the known threats to the system</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Two or three hours for the initial brainstorm meeting with group up to 10 people</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Have one person lead the meeting – the most security savvy of the team</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At least one member from each development discipline: design, coding, testing, documentation</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The design and code changes are made after the meeting</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rPr>
              <a:t>Have a overall system architecture on the whiteboar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5T10:02:25Z</dcterms:created>
  <dc:creator>BP</dc:creator>
  <dc:description/>
  <dc:language>en-US</dc:language>
  <cp:lastModifiedBy>BP</cp:lastModifiedBy>
  <dcterms:modified xsi:type="dcterms:W3CDTF">2002-11-05T12:31:08Z</dcterms:modified>
  <cp:revision>51</cp:revision>
  <dc:subject/>
  <dc:title>Designing secure code</dc:title>
</cp:coreProperties>
</file>