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9DE990-C925-480B-A93C-20C75EEF9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2C4A51-4FA0-4E07-99AF-E95BBCAEC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E3D39A-5F6E-480C-BC4B-D33FB145B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F5DB12-4F05-45B5-888C-E17A52AA7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1D8E8F-D45C-4817-B483-243964B8A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C384E5-3639-4A73-BDB1-19878937D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0874B0-6DD8-4ABA-A348-B5E932B71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B91B55-2342-473B-85F3-396CEE398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4E2189-CE62-4532-AFBD-E0B952E19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9289A6-DF0E-4251-A069-50A21D112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32D0F5-41B8-4F13-A804-9A927B0C7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FFEC07-0F5B-4E2A-9A03-29F890F27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3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97B93-21EB-438D-A2A8-3356B51547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Times New Roman"/>
              </a:rPr>
              <a:t>Glen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Ł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2.05.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zykłady (4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gl_outto( tid, „data”, i, k, value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gl_into( „data”, i, k, ? value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ysłanie krotki „data” do procesu o identyfikatorze „tid”. Oczekiwanie na odbiór krotki - rozpoznanie krotki na podstawie parametrów „i” oraz „k” - zmiennej „value” zostanie przypisana wartość trzeciego parametru z odebranej krotk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lend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6E5398-E6F6-4245-9563-4709E5F7438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22.05.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Times New Roman"/>
              </a:rPr>
              <a:t>Odpowiedniki funkcji PVM’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gl_send( tid, msgtag, ...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7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ysłanie pakietu dany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gl_recv( tid, msgtag, ...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7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Odebranie pakietu dany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gl_wait( tid, msgtag, ...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7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Oczekiwanie na wiadomość/wiadomoś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gl_p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7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Spakowanie danych do wysła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gl_unp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7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Rozpakowanie danych z odebranej wiadomoś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lend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37F97F-0D9D-4C14-904D-C8C3CBC8F86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22.05.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Times New Roman"/>
              </a:rPr>
              <a:t>Glen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rogramistyczne środowisko przetwarzania równoległ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zbudowana z wykorzystaniem Lindy i PVM’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35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Elastyczność programowania Lin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335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Efektywność komunikacji PVM’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lend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C1A699-824E-4F77-A3A3-F03EA48A247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22.05.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łówne założen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realizacja przestrzeni krotek Lin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redukcja liczby funkcji, które występują w PVM’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wykorzystanie efektywności komunikacji PVM’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utrzymanie przenośności PVM’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lend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4C39EC-A7CA-4492-977A-3D6922CC87A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22.05.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nkcje kontrol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gl_mytid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Rejestracja w system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gl_spawn(nam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ruchomienie nowego zada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gl_exit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Zakończenie przetwarzania - współpracy z serwerem krotek i PVM’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lend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ABB249-C0BF-4A1F-B03E-2BC2F791DB6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22.05.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eracje na przestrzeni krote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gl_out( name, ...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7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stawienie krotki do przestrzeni krot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gl_in( name, ...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7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obranie krotki wraz z usunięciem z przestrze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gl_inp( name, ...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7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obranie nie blokują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gl_rd( name, ...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7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Odczyt krotki bez usunięcia z przestrze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gl_rdp( name, ...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7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Odczyt nie blokują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lend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DF6867-1A00-449A-8EC3-8F1ACB1A9C2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22.05.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ezpośrednie operacje na krotkac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gl_outto( tid, name, ...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ysłanie krotki do konkretnego procesu/procesó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gl_into( name, ...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Odebranie krotki wysłanej za pomocą gl_out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lend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6DAFA6-2193-400B-A8C9-7D6B0AED150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22.05.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zykłady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gl_out( „data”, i, k, value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Jeśli zmienne są tablicami to ich rozmiar jest nieograniczo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gl_out( „row”, i, x:len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x” - tablica, „len” - tyle elementów zostanie zapisany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lend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5F4315-50BE-4E82-991C-E3539E63697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22.05.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zykłady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gl_in( „data”, i, k, ? value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obranie krotki „data”, której dwa kolejne parametry zgadzają się z wartościami przechowywanymi w „i” oraz „k”. Wartość trzeciego parametru krotki zostanie przypisana zmiennej „valu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gl_inp( „row”, i, ? x:len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obranie krotki „row” wybranej na podstawie parametru „i”. Zapisanie „len” elementów tablicy „x” wartościami zawartymi w krotce. Operacja nie blokują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lend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487F41-087E-4640-826D-93F42855911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22.05.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zykłady 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gl_rd( „data”, i, k, ? value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Odczyt krotki „data”, której dwa kolejne parametry zgadzają się z wartościami przechowywanymi w „i” oraz „k”. Wartość trzeciego parametru krotki zostanie przypisana zmiennej „value”. Krotka nie jest usuwana z przestrzeni krot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gl_rdp( „row”, i, ? x:len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Odczyt krotki „row” wybranej na podstawie parametru „i”. Zapisanie „len” elementów tablicy „x” wartościami zawartymi w krotce. Bez usuwania krotki. Operacja nie blokują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lend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4AE8E-E844-43F0-B459-F8A6A799957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22.05.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3T20:27:06Z</dcterms:created>
  <dc:creator>L</dc:creator>
  <dc:description/>
  <dc:language>en-US</dc:language>
  <cp:lastModifiedBy>L</cp:lastModifiedBy>
  <dcterms:modified xsi:type="dcterms:W3CDTF">2001-05-23T22:57:45Z</dcterms:modified>
  <cp:revision>18</cp:revision>
  <dc:subject/>
  <dc:title>Glenda</dc:title>
</cp:coreProperties>
</file>