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13.png" ContentType="image/png"/>
  <Override PartName="/ppt/media/image33.wmf" ContentType="image/x-wmf"/>
  <Override PartName="/ppt/media/image12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34.wmf" ContentType="image/x-wmf"/>
  <Override PartName="/ppt/media/image14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7.wmf" ContentType="image/x-wmf"/>
  <Override PartName="/ppt/media/image6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1F99-762D-40F3-B4A2-9EC5F052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B9C-FFB4-44C9-8405-0EF9AF5D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01A-1BEF-460B-B43A-4C9CD650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86F-D583-4A73-84B5-DFA1579A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1AC6-FB15-42D8-8A20-4E42FA3D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7FC7-5DA3-44D4-ADBB-F7824E97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4B17-8DC6-44CC-BEE6-3A7C41D3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B5F1-B972-4C1A-92EA-2EFE72E2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7829-A661-423D-A0B7-24847918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2B60-95CD-4704-97D8-4B58DD42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43E6-DD3F-4F08-B533-A59328F3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079-0C83-451D-BB82-14A6EAFF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01EE-BC65-4CA6-8D8F-1B5F2D10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FCBE-238F-4815-A6A2-C48830A1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CB26-48A6-44A4-BE07-0201647D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B608-171E-436F-83D4-021904B7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2D23-B67C-4383-A97C-0A66CF6D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8F33-FA11-453F-9E42-705CD866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F255B-1C2A-49E5-88BE-1648F5E4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43CF4-CA8F-4497-93F8-8AABAC79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964D5-C9C8-4904-9DC4-BAC9DE8C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382EE-4B3C-409D-AE0B-1971EF9A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E40-18AC-4B08-9402-146998F6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17125-05FA-4FFD-B77E-ADCE352D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EEA3-70A3-4CAB-9215-750FA2B1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63B4C-C992-4B01-A783-16BF1BD3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B7A3E-CC62-44FB-9038-51EDAABC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9BBA1-DC27-4BB5-BD68-8CCF9EF7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44584-DC41-409B-A501-5B5F096F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CCCD-3395-47B8-87E6-11225092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E2555-678F-4045-A891-045DD1DD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5E8F6-5D90-45B4-BECC-25FFD1C2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7C1FB-F368-40B8-AC46-E1399523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7A2-AD53-433A-AE94-46BD9FBC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76FDC-3607-49BD-9A4E-E35E3026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7D628-92AA-4906-9CDE-CCFCD8E9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B0AFC-2DBB-4378-A150-DA4D565A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7154A-C2AB-4BEF-92CD-4EF68D1D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81C1A-E13E-465F-B023-AA665B19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7C321-FE19-470A-A76F-4A07A617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87C63-3776-46B2-BE69-BF2052F4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04EEC-9047-4DA5-9692-0698CB00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C4318-0267-4398-964A-FD7DE0B4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391-1C55-44C7-8287-2186C175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B45-29FC-45FC-812D-55CD6DAA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24D-06F3-47AA-88A2-5B333917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FB9-97ED-45D6-9AB1-AE78988A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55C-62F7-48A8-B17E-E8DBEDE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9067-7190-4AEB-9F8E-B2E8141A4E50}" type="slidenum"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owolny kształt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Dowolny kształt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Dowolny kształt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8FE3-F39C-4BBA-A067-656432B26FD5}" type="slidenum"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owolny kształt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Dowolny kształt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Dowolny kształt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2850-76A0-4A80-9A90-67DE943D0A58}" type="slidenum"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Dowolny kształt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Dowolny kształt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2CDE-2EBD-4472-BA83-F13D0AE7E689}" type="slidenum"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ytuł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Architektura / Optymalne rozwiązania / Czego się wystrzegać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ole tekstowe 3"/>
          <p:cNvSpPr/>
          <p:nvPr/>
        </p:nvSpPr>
        <p:spPr>
          <a:xfrm>
            <a:off x="6166440" y="628668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onstantia"/>
              </a:rPr>
              <a:t>Autor: Paweł Warczyńsk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Pakowanie obrazkó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543480" y="3386160"/>
            <a:ext cx="2057400" cy="1485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2286000" y="2428920"/>
            <a:ext cx="190440" cy="3714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6715080" y="3929040"/>
            <a:ext cx="954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Pakowanie plików Javascript i CS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Łączenie Javascript w jeden pli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Usuwanie białych znaków, zmiana nazw zmiennych, funckj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JS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Pack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4648320" y="2560680"/>
            <a:ext cx="40384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Po co serwować „content” jeżeli użytkownik już raz go sciągnął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Eta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Kontrola nagłówków (data wygaśnięcia treśc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2" descr="C:\Documents and Settings\Wareq\Desktop\wysoko skalowane aplikacje internetowe\etag.png"/>
          <p:cNvPicPr/>
          <p:nvPr/>
        </p:nvPicPr>
        <p:blipFill>
          <a:blip r:embed="rId1"/>
          <a:stretch/>
        </p:blipFill>
        <p:spPr>
          <a:xfrm>
            <a:off x="4648320" y="2674800"/>
            <a:ext cx="403848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Gzi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4500720"/>
            <a:ext cx="8186760" cy="18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iększość współczesnych przeglądarek obsługuję kompresje </a:t>
            </a:r>
            <a:r>
              <a:rPr b="0" lang="pl-PL" sz="2600" spc="-1" strike="noStrike">
                <a:solidFill>
                  <a:srgbClr val="c00000"/>
                </a:solidFill>
                <a:latin typeface="Constantia"/>
              </a:rPr>
              <a:t>Gzi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Negocjowanie transmisji danych między przeglądarką a serwerem WW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4" descr="C:\Documents and Settings\Wareq\Desktop\wysoko skalowane aplikacje internetowe\gzip.png"/>
          <p:cNvPicPr/>
          <p:nvPr/>
        </p:nvPicPr>
        <p:blipFill>
          <a:blip r:embed="rId1"/>
          <a:stretch/>
        </p:blipFill>
        <p:spPr>
          <a:xfrm>
            <a:off x="285840" y="2071800"/>
            <a:ext cx="842148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Dane rozproszone po kilku hostach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3" descr="C:\Documents and Settings\Wareq\Desktop\wysoko skalowane aplikacje internetowe\nasza_klasa_static_content.png"/>
          <p:cNvPicPr/>
          <p:nvPr/>
        </p:nvPicPr>
        <p:blipFill>
          <a:blip r:embed="rId1"/>
          <a:stretch/>
        </p:blipFill>
        <p:spPr>
          <a:xfrm>
            <a:off x="927000" y="1935000"/>
            <a:ext cx="7290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Obsługa żąda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3076560" y="2633760"/>
            <a:ext cx="2990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Cache, cache i jeszcze raz cache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00000"/>
                </a:solidFill>
                <a:latin typeface="Constantia"/>
              </a:rPr>
              <a:t>Baza danych jako ostatni bastion danych!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nstantia"/>
              </a:rPr>
              <a:t>Trzy główne typy cach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C:\Documents and Settings\Wareq\Desktop\wysoko skalowane aplikacje internetowe\cache.png"/>
          <p:cNvPicPr/>
          <p:nvPr/>
        </p:nvPicPr>
        <p:blipFill>
          <a:blip r:embed="rId1"/>
          <a:stretch/>
        </p:blipFill>
        <p:spPr>
          <a:xfrm>
            <a:off x="4648320" y="2735280"/>
            <a:ext cx="40384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Filecach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Strony rzadko ulegające zmianie (</a:t>
            </a:r>
            <a:r>
              <a:rPr b="0" i="1" lang="pl-PL" sz="2600" spc="-1" strike="noStrike">
                <a:solidFill>
                  <a:srgbClr val="000000"/>
                </a:solidFill>
                <a:latin typeface="Constantia"/>
              </a:rPr>
              <a:t>np. strona główna naszej klasy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Zapisane w filecachu fragmenty st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ady – trzymane lokalnie na każdym apach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C:\Documents and Settings\Wareq\Desktop\wysoko skalowane aplikacje internetowe\nasza_klasa_main_page.png"/>
          <p:cNvPicPr/>
          <p:nvPr/>
        </p:nvPicPr>
        <p:blipFill>
          <a:blip r:embed="rId1"/>
          <a:stretch/>
        </p:blipFill>
        <p:spPr>
          <a:xfrm>
            <a:off x="4648320" y="2540160"/>
            <a:ext cx="403848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Memcach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Przechowujemy wyniki zapytań SQ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Wyniki skomplikowanych obliczeń, które powinniśmy wykonywać tylko raz co pewien cz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Wady – dane ulotne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. Stwórz md5 z parametrów wejściowy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. Zapytaj memcache o wyni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. Jeżeli zwrócony wynik jest różny (!==) od "false" wykorzystaj go. W przeciwnym razie przejdź dalej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. Zapytaj bazę dany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5. Zwrócony wynik zapisz pod wcześniej obliczonym kluczem w memcach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rostokąt 4"/>
          <p:cNvSpPr/>
          <p:nvPr/>
        </p:nvSpPr>
        <p:spPr>
          <a:xfrm>
            <a:off x="4572000" y="1785960"/>
            <a:ext cx="4214880" cy="46432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eAcceler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Pamięć RAM trzymana lokalnie na serwerze WW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Przechowujem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Parametry serwera WWW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Często używane zmienne aplikacji internetowej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W przypadku architektury z jednym komputerem przechowujemy sesje użytkowników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762440" y="2989440"/>
            <a:ext cx="38102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Plan prezentacj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Obsłużymy żądan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Zbudujemy „idealną” architektur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Rozwiążemy kilka zagadek </a:t>
            </a:r>
            <a:r>
              <a:rPr b="0" lang="pl-P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7" descr="C:\Documents and Settings\Wareq\Local Settings\Temporary Internet Files\Content.IE5\B2XP3SHM\MPj04277620000[1].jpg"/>
          <p:cNvPicPr/>
          <p:nvPr/>
        </p:nvPicPr>
        <p:blipFill>
          <a:blip r:embed="rId1"/>
          <a:stretch/>
        </p:blipFill>
        <p:spPr>
          <a:xfrm>
            <a:off x="457200" y="2655720"/>
            <a:ext cx="40384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4617b"/>
                </a:solidFill>
                <a:latin typeface="Calibri"/>
              </a:rPr>
              <a:t>PHP 4 vs PHP 5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nstantia"/>
              </a:rPr>
              <a:t>Wydajność a czytelność i łatwość pisania kodu!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4" descr="C:\Documents and Settings\Wareq\Desktop\wysoko skalowane aplikacje internetowe\php.png"/>
          <p:cNvPicPr/>
          <p:nvPr/>
        </p:nvPicPr>
        <p:blipFill>
          <a:blip r:embed="rId1"/>
          <a:srcRect l="11886" t="0" r="11886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A może wspomóc się innymi technologiami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PHP jako język interpretowa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Proste funkcjonalności napisane w FastCGI lub czystym 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Idealnym przykładem są liczniki odwiedzin, odświeżeń strony WW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2" descr="C:\Program Files (x86)\Microsoft Office\MEDIA\CAGCAT10\j0199805.wmf"/>
          <p:cNvPicPr/>
          <p:nvPr/>
        </p:nvPicPr>
        <p:blipFill>
          <a:blip r:embed="rId1"/>
          <a:stretch/>
        </p:blipFill>
        <p:spPr>
          <a:xfrm>
            <a:off x="5286240" y="2394000"/>
            <a:ext cx="27291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Złe nawyki programistyczne – nieoptymalne skrypt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$tablica = array(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 =&gt; 'kot'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=&gt; 'pies'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=&gt; 'motyl'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$i = 0; $i &lt; count($tablica); $i++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tablica[$i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Baza danych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3024360" y="2700360"/>
            <a:ext cx="3095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Kiedy korzystać z systemów ORM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Najpopularniejsze systemy ORM dla 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Prop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Doctr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Idealne rozwiązanie dla backendu – ale </a:t>
            </a:r>
            <a:r>
              <a:rPr b="0" lang="pl-PL" sz="2600" spc="-1" strike="noStrike">
                <a:solidFill>
                  <a:srgbClr val="c00000"/>
                </a:solidFill>
                <a:latin typeface="Constantia"/>
              </a:rPr>
              <a:t>tylko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 dla backendu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Dla frontedu warto skorzystać z np. P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5" descr="C:\Documents and Settings\Wareq\Local Settings\Temporary Internet Files\Content.IE5\BVGTPSNN\MCj04102610000[1].wmf"/>
          <p:cNvPicPr/>
          <p:nvPr/>
        </p:nvPicPr>
        <p:blipFill>
          <a:blip r:embed="rId1"/>
          <a:stretch/>
        </p:blipFill>
        <p:spPr>
          <a:xfrm>
            <a:off x="5126040" y="2658960"/>
            <a:ext cx="280368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Replikacja dany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Operacje UPDATE, DELETE, INSERT realizowane tylko na jednym serwerze typu „Master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szystkie zapytania typu „SELECT” kierowane do losowanego serwera typu „Slav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2" descr="C:\Documents and Settings\Wareq\Desktop\wysoko skalowane aplikacje internetowe\master_slave.png"/>
          <p:cNvPicPr/>
          <p:nvPr/>
        </p:nvPicPr>
        <p:blipFill>
          <a:blip r:embed="rId1"/>
          <a:stretch/>
        </p:blipFill>
        <p:spPr>
          <a:xfrm>
            <a:off x="4648320" y="2816280"/>
            <a:ext cx="40384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Konfiguracja bazy dany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max_buffer_size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max_conne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max_heap_table_size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sort_buffer_siz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read_buffer_siz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key_buff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4767120" y="2751120"/>
            <a:ext cx="38005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Ramdys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Około 1000 razy szybsze od dysku twardeg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Przestrzeń ram dysk dedykowana dla bazy dany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Operacje GROUP BY, ORDER B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4" descr="C:\Documents and Settings\Wareq\Local Settings\Temporary Internet Files\Content.IE5\Q6LN1JQJ\MPj04266460000[1].jpg"/>
          <p:cNvPicPr/>
          <p:nvPr/>
        </p:nvPicPr>
        <p:blipFill>
          <a:blip r:embed="rId1"/>
          <a:stretch/>
        </p:blipFill>
        <p:spPr>
          <a:xfrm>
            <a:off x="4648320" y="262260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Diabeł tkwi w szczegóła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Picture 3" descr="C:\Documents and Settings\Wareq\Local Settings\Temporary Internet Files\Content.IE5\Q6LN1JQJ\MCj03491210000[1].wmf"/>
          <p:cNvPicPr/>
          <p:nvPr/>
        </p:nvPicPr>
        <p:blipFill>
          <a:blip r:embed="rId1"/>
          <a:stretch/>
        </p:blipFill>
        <p:spPr>
          <a:xfrm>
            <a:off x="2428920" y="2357280"/>
            <a:ext cx="38307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Dane rozproszone po kilku hostach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Picture 3" descr="C:\Documents and Settings\Wareq\Desktop\wysoko skalowane aplikacje internetowe\nasza_klasa_static_content.png"/>
          <p:cNvPicPr/>
          <p:nvPr/>
        </p:nvPicPr>
        <p:blipFill>
          <a:blip r:embed="rId1"/>
          <a:stretch/>
        </p:blipFill>
        <p:spPr>
          <a:xfrm>
            <a:off x="927000" y="1935000"/>
            <a:ext cx="7290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Wysoko skalowalne aplikacje internetow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Nasza-klasa.p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ykop.p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Onet.p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Allegro.p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p.p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Szerlok.p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C:\Documents and Settings\Wareq\Desktop\wysoko skalowane aplikacje internetowe\przykladowe_portale.png"/>
          <p:cNvPicPr/>
          <p:nvPr/>
        </p:nvPicPr>
        <p:blipFill>
          <a:blip r:embed="rId1"/>
          <a:stretch/>
        </p:blipFill>
        <p:spPr>
          <a:xfrm>
            <a:off x="4648320" y="2119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Kolejność includowania elementów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71680" y="24220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Javascrip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2" descr="C:\Documents and Settings\Wareq\Local Settings\Temporary Internet Files\Content.IE5\B2XP3SHM\MCj02955380000[1].wmf"/>
          <p:cNvPicPr/>
          <p:nvPr/>
        </p:nvPicPr>
        <p:blipFill>
          <a:blip r:embed="rId1"/>
          <a:stretch/>
        </p:blipFill>
        <p:spPr>
          <a:xfrm>
            <a:off x="4929120" y="3000240"/>
            <a:ext cx="33465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Wypychanie stro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Pozwólmy przeglądarce użytkownika ściągnąć p0czątek strony zanim jego żądanie zostanie przetworzone na serwerz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!-- css--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/head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&lt;?php flush();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body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.. &lt;!-- content --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Powinno korzystać się z AJAX GE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Żądanie AJAX POST jest procesem dwustopniowy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odebranie nagłówk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odebranie dany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3" name="Prostokąt 4" descr=""/>
          <p:cNvPicPr/>
          <p:nvPr/>
        </p:nvPicPr>
        <p:blipFill>
          <a:blip r:embed="rId1"/>
          <a:stretch/>
        </p:blipFill>
        <p:spPr>
          <a:xfrm>
            <a:off x="4498920" y="2462040"/>
            <a:ext cx="421164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Ciasteczka (cookie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Przy każdym żądaniu użytkownika przesyłana jest zawartość wszystkich ciasteczek związanych z daną stron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Powinny służyć tylko i wyłącznie do identyfikowania użytkownik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Dane trzymane po stronie serwer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5143680" y="2662200"/>
            <a:ext cx="3047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Wielostopniowe formularz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28760" y="22147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 jaki sposób przechowywać dane  między kolejnymi krokami formularz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Na pewno </a:t>
            </a:r>
            <a:r>
              <a:rPr b="0" lang="pl-PL" sz="2600" spc="-1" strike="noStrike">
                <a:solidFill>
                  <a:srgbClr val="c00000"/>
                </a:solidFill>
                <a:latin typeface="Constantia"/>
              </a:rPr>
              <a:t>NIE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 przez sesj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arto skorzystać 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Pola typu „hidden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Parametrów G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Memcach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C:\Documents and Settings\Wareq\Local Settings\Temporary Internet Files\Content.IE5\Q6LN1JQJ\MCj04042630000[1].wmf"/>
          <p:cNvPicPr/>
          <p:nvPr/>
        </p:nvPicPr>
        <p:blipFill>
          <a:blip r:embed="rId1"/>
          <a:stretch/>
        </p:blipFill>
        <p:spPr>
          <a:xfrm>
            <a:off x="5214960" y="2500200"/>
            <a:ext cx="311004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Dziękuje za uwagę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Równomierne rozłożenie obciążenia - load balancer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3" descr="C:\Documents and Settings\Wareq\Desktop\wysoko skalowane aplikacje internetowe\load_balancer.png"/>
          <p:cNvPicPr/>
          <p:nvPr/>
        </p:nvPicPr>
        <p:blipFill>
          <a:blip r:embed="rId1"/>
          <a:stretch/>
        </p:blipFill>
        <p:spPr>
          <a:xfrm>
            <a:off x="1127160" y="1935000"/>
            <a:ext cx="68896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Kontrola sesj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Sesja trzymana w bazie danych/memcach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Użytkownik na stałe skojarzony z serwerem WWW. Kontrola za pomocą ciastecze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Documents and Settings\Wareq\Desktop\wysoko skalowane aplikacje internetowe\sesion_in_memcache.png"/>
          <p:cNvPicPr/>
          <p:nvPr/>
        </p:nvPicPr>
        <p:blipFill>
          <a:blip r:embed="rId1"/>
          <a:stretch/>
        </p:blipFill>
        <p:spPr>
          <a:xfrm>
            <a:off x="4648320" y="2851200"/>
            <a:ext cx="40384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Bezpośredni dostęp do statycznej zawartości (static content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Zapytania o statyczną zawartość strony bezpośrednio kierowane są do zasobó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Zasada- nie angażujemy apacha gdy nie jest to potrzeb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3" descr="C:\Documents and Settings\Wareq\Desktop\wysoko skalowane aplikacje internetowe\proxy.png"/>
          <p:cNvPicPr/>
          <p:nvPr/>
        </p:nvPicPr>
        <p:blipFill>
          <a:blip r:embed="rId1"/>
          <a:stretch/>
        </p:blipFill>
        <p:spPr>
          <a:xfrm>
            <a:off x="4648320" y="2695680"/>
            <a:ext cx="40384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Nginx prox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Rozwiązanie stworzone przez rosyjskich programistó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Plik konfiguracyjny podobny do htaccess’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Korzystają z niego epuls.pl, nasza-klasa.pl, grono.net, wordPress.com, ibood.com, szerlok.p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5000760" y="3710160"/>
            <a:ext cx="33336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Jak ograniczyć liczbę zapytań do serwera WWW!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3" descr="C:\Documents and Settings\Wareq\Desktop\wysoko skalowane aplikacje internetowe\nasza_klasa_screen.png"/>
          <p:cNvPicPr/>
          <p:nvPr/>
        </p:nvPicPr>
        <p:blipFill>
          <a:blip r:embed="rId1"/>
          <a:stretch/>
        </p:blipFill>
        <p:spPr>
          <a:xfrm>
            <a:off x="2075040" y="1935000"/>
            <a:ext cx="4993920" cy="4389480"/>
          </a:xfrm>
          <a:prstGeom prst="rect">
            <a:avLst/>
          </a:prstGeom>
          <a:ln w="0">
            <a:noFill/>
          </a:ln>
        </p:spPr>
      </p:pic>
      <p:sp>
        <p:nvSpPr>
          <p:cNvPr id="217" name="pole tekstowe 8"/>
          <p:cNvSpPr/>
          <p:nvPr/>
        </p:nvSpPr>
        <p:spPr>
          <a:xfrm rot="1861800">
            <a:off x="459720" y="529416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Constantia"/>
              </a:rPr>
              <a:t>Ale ile ich właściwie jest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Nasza-klasa.p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3" descr="C:\Documents and Settings\Wareq\Desktop\wysoko skalowane aplikacje internetowe\nasza_klasa_requesty.png"/>
          <p:cNvPicPr/>
          <p:nvPr/>
        </p:nvPicPr>
        <p:blipFill>
          <a:blip r:embed="rId1"/>
          <a:stretch/>
        </p:blipFill>
        <p:spPr>
          <a:xfrm>
            <a:off x="1789200" y="1935000"/>
            <a:ext cx="5565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4:33:36Z</dcterms:created>
  <dc:creator>wareq</dc:creator>
  <dc:description/>
  <dc:language>en-US</dc:language>
  <cp:lastModifiedBy>wareq</cp:lastModifiedBy>
  <dcterms:modified xsi:type="dcterms:W3CDTF">2009-04-29T18:36:57Z</dcterms:modified>
  <cp:revision>5</cp:revision>
  <dc:subject/>
  <dc:title>Wysoko skalowalne aplikacje internetowe</dc:title>
</cp:coreProperties>
</file>