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move the slide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DCDE-1D3A-4249-A7FC-3A7848A8695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6A8C-735D-4FB2-87BA-2885DD7546A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B25-3E81-4A83-A4AE-F9AC4E1C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728-370B-4D2A-B97A-0AD43723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0C1-7B53-43A2-98DF-DF6C8B14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46D-4081-4CB8-B00E-E23059F8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0C71-CD78-4666-B5DB-305FB1B2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1458-9586-4563-AA3F-8DAB005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9C1-1AE0-4332-81F9-62F95E53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FFDB-108A-4556-A029-7AB2C75B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F03-07E8-4E3E-94E1-D6F4F800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F22F-E828-49B0-8C53-25FA9EE7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BA3C-F3B2-4A23-B448-D7F98C2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958-ECBF-431C-BAFE-417E146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8870-FC05-4F0F-A6C6-1AE0023C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8C1E-BC0A-4E93-B516-E780F2E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EF6B-C50C-4FD9-8F45-3D77766C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70D4-587B-4418-B7D4-E2738D74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F86-0F2A-4B52-A6EF-EF3A102D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98F-E3E8-4E1A-8BFA-A57B9E0C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8C9-C9F3-4CCA-BE23-B685F89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679-6A5B-4B01-82FC-B8DE40ED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253-F0A7-431F-98F6-713C8891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4DE-BA29-45E6-A06E-5F736460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CB8-541F-459E-A053-9E75F8B7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23D-FD76-4C67-8FDD-5C0C4520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400800"/>
            <a:ext cx="441972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4000" y="640404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481E-BF58-4DF2-ABA8-FA4E49954794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52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3AF-0DDB-4ECC-B314-73D5E44E883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logopp-biale" descr=""/>
          <p:cNvPicPr/>
          <p:nvPr/>
        </p:nvPicPr>
        <p:blipFill>
          <a:blip r:embed="rId2"/>
          <a:stretch/>
        </p:blipFill>
        <p:spPr>
          <a:xfrm>
            <a:off x="81000" y="214200"/>
            <a:ext cx="2343240" cy="223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erzy.Nawrocki@put.poznan.pl" TargetMode="External"/><Relationship Id="rId2" Type="http://schemas.openxmlformats.org/officeDocument/2006/relationships/hyperlink" Target="mailto:Jerzy.Nawrocki@put.poznan.pl" TargetMode="External"/><Relationship Id="rId3" Type="http://schemas.openxmlformats.org/officeDocument/2006/relationships/hyperlink" Target="mailto:Jerzy.Nawrocki@put.poznan.pl" TargetMode="External"/><Relationship Id="rId4" Type="http://schemas.openxmlformats.org/officeDocument/2006/relationships/hyperlink" Target="mailto:Jerzy.Nawrocki@put.poznan.pl" TargetMode="External"/><Relationship Id="rId5" Type="http://schemas.openxmlformats.org/officeDocument/2006/relationships/hyperlink" Target="mailto:Jerzy.Nawrocki@put.poznan.pl" TargetMode="External"/><Relationship Id="rId6" Type="http://schemas.openxmlformats.org/officeDocument/2006/relationships/hyperlink" Target="mailto:Jerzy.Nawrocki@put.poznan.pl" TargetMode="External"/><Relationship Id="rId7" Type="http://schemas.openxmlformats.org/officeDocument/2006/relationships/hyperlink" Target="mailto:Jerzy.Nawrocki@put.poznan.pl" TargetMode="External"/><Relationship Id="rId8" Type="http://schemas.openxmlformats.org/officeDocument/2006/relationships/hyperlink" Target="mailto:Jerzy.Nawrocki@put.poznan.pl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 Narrow"/>
              </a:rPr>
              <a:t>Acceptance Testing (2)</a:t>
            </a:r>
            <a:endParaRPr b="0" lang="en-US" sz="36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7040" y="5057640"/>
            <a:ext cx="60958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1"/>
              </a:rPr>
              <a:t>Jerzy.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2"/>
              </a:rPr>
              <a:t>Nawrocki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3"/>
              </a:rPr>
              <a:t>@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4"/>
              </a:rPr>
              <a:t>put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5"/>
              </a:rPr>
              <a:t>.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6"/>
              </a:rPr>
              <a:t>poznan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7"/>
              </a:rPr>
              <a:t>.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8"/>
              </a:rPr>
              <a:t>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www.cs.put.poznan.pl/jnawrocki/requi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24852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3849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99ff"/>
                </a:solidFill>
                <a:latin typeface="Arial Narrow"/>
              </a:rPr>
              <a:t>Copyright, 2006 </a:t>
            </a:r>
            <a:r>
              <a:rPr b="0" lang="pl-PL" sz="2000" spc="-1" strike="noStrike">
                <a:solidFill>
                  <a:srgbClr val="3399ff"/>
                </a:solidFill>
                <a:latin typeface="Symbol"/>
                <a:ea typeface="Symbol"/>
              </a:rPr>
              <a:t></a:t>
            </a:r>
            <a:r>
              <a:rPr b="0" lang="pl-PL" sz="2000" spc="-1" strike="noStrike">
                <a:solidFill>
                  <a:srgbClr val="3399ff"/>
                </a:solidFill>
                <a:latin typeface="Arial Narrow"/>
              </a:rPr>
              <a:t> Jerzy R. Nawroc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20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Requirements Engineering &amp; Projec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Lecture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ctiv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test conditions (‘what’ to test) and priori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80880" y="1600200"/>
            <a:ext cx="5257800" cy="1130040"/>
            <a:chOff x="380880" y="1600200"/>
            <a:chExt cx="5257800" cy="1130040"/>
          </a:xfrm>
        </p:grpSpPr>
        <p:sp>
          <p:nvSpPr>
            <p:cNvPr id="202" name=""/>
            <p:cNvSpPr/>
            <p:nvPr/>
          </p:nvSpPr>
          <p:spPr>
            <a:xfrm>
              <a:off x="685800" y="2209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Design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‘how’ to test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880" y="1600200"/>
              <a:ext cx="60984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219320" y="2743200"/>
            <a:ext cx="5181480" cy="1144440"/>
            <a:chOff x="1219320" y="2743200"/>
            <a:chExt cx="5181480" cy="1144440"/>
          </a:xfrm>
        </p:grpSpPr>
        <p:sp>
          <p:nvSpPr>
            <p:cNvPr id="205" name=""/>
            <p:cNvSpPr/>
            <p:nvPr/>
          </p:nvSpPr>
          <p:spPr>
            <a:xfrm>
              <a:off x="1371600" y="33670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Build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scripts, data etc.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2743200"/>
              <a:ext cx="6094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33720" y="4038480"/>
            <a:ext cx="3657600" cy="1054080"/>
            <a:chOff x="2133720" y="4038480"/>
            <a:chExt cx="3657600" cy="1054080"/>
          </a:xfrm>
        </p:grpSpPr>
        <p:sp>
          <p:nvSpPr>
            <p:cNvPr id="208" name=""/>
            <p:cNvSpPr/>
            <p:nvPr/>
          </p:nvSpPr>
          <p:spPr>
            <a:xfrm>
              <a:off x="2133720" y="4572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Execu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038480"/>
              <a:ext cx="60984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43200" y="5181480"/>
            <a:ext cx="6324480" cy="1068480"/>
            <a:chOff x="2743200" y="5181480"/>
            <a:chExt cx="6324480" cy="1068480"/>
          </a:xfrm>
        </p:grpSpPr>
        <p:sp>
          <p:nvSpPr>
            <p:cNvPr id="211" name=""/>
            <p:cNvSpPr/>
            <p:nvPr/>
          </p:nvSpPr>
          <p:spPr>
            <a:xfrm>
              <a:off x="2743200" y="5729400"/>
              <a:ext cx="63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ompar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outcomes to expected outcom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5181480"/>
              <a:ext cx="60948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828800" y="3838680"/>
            <a:ext cx="3809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Equivalence Partition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91320" y="3838680"/>
            <a:ext cx="33526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Boundary Value Anal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he manual test proces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85800"/>
            <a:ext cx="5639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nscripted manual tes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 conditions to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hink up specific in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nter the in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hecked it worked 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he manual test proces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685800"/>
            <a:ext cx="5639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nscripted manual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Vague manual scrip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Read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hink up specific in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nter the in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hecked it worked 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Vague manual scrip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914400"/>
            <a:ext cx="89154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 Run up Scribbl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ile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menu displa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 Open file with sorted List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File contents displa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3 Add some items to List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Items added in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4 Move an ite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Item moved, List now uns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5 Add an ite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Item added at end of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6 Delete item form list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Item del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7 Use invalid position number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Error message displa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o delete an 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8 Save changes in new fil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End of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An example test cas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609480"/>
            <a:ext cx="8686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erequisi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ogged into the purchase order system as a data entry cler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atabase system must contain the standard Data S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o other new purchase order activity on the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280" y="2108160"/>
          <a:ext cx="8839440" cy="4572000"/>
        </p:xfrm>
        <a:graphic>
          <a:graphicData uri="http://schemas.openxmlformats.org/drawingml/2006/table">
            <a:tbl>
              <a:tblPr/>
              <a:tblGrid>
                <a:gridCol w="762120"/>
                <a:gridCol w="3505320"/>
                <a:gridCol w="3581280"/>
                <a:gridCol w="9907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Ste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Exp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eate a new order for any one standard order, setting quantity to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der confirmation message displa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B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B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firm the 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chase order prin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B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int a new orders re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w orders report printed showing just this one new 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B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B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ncel the or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chase order cancellation notice prin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he manual test proces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85800"/>
            <a:ext cx="5639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nscripted manual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Vague manual scri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tailed manual scrip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Read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nter the in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hecked it worked 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etailed manual scrip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914400"/>
            <a:ext cx="891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 Click on Scribble icon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Scribble opened,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ile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m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 Move mouse to File menu, click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Options available: Open, New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Ex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3 Move mouse to Open option,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Filenames displayed inclu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lick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countries.d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4 Move mouse to countries.dcm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Text plus List of 3 countr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Belgium, Netherlands, UK, File 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and List menus displa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 . .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	</a:t>
            </a:r>
            <a:r>
              <a:rPr b="0" lang="pl-PL" sz="2800" spc="-1" strike="noStrike">
                <a:solidFill>
                  <a:srgbClr val="66ccff"/>
                </a:solidFill>
                <a:latin typeface="Arial Narrow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ctiv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test conditions (‘what’ to test) and priori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1600200"/>
            <a:ext cx="5257800" cy="1130040"/>
            <a:chOff x="380880" y="1600200"/>
            <a:chExt cx="5257800" cy="1130040"/>
          </a:xfrm>
        </p:grpSpPr>
        <p:sp>
          <p:nvSpPr>
            <p:cNvPr id="231" name=""/>
            <p:cNvSpPr/>
            <p:nvPr/>
          </p:nvSpPr>
          <p:spPr>
            <a:xfrm>
              <a:off x="685800" y="2209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Design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‘how’ to test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1600200"/>
              <a:ext cx="60984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219320" y="2743200"/>
            <a:ext cx="5181480" cy="1144440"/>
            <a:chOff x="1219320" y="2743200"/>
            <a:chExt cx="5181480" cy="1144440"/>
          </a:xfrm>
        </p:grpSpPr>
        <p:sp>
          <p:nvSpPr>
            <p:cNvPr id="234" name=""/>
            <p:cNvSpPr/>
            <p:nvPr/>
          </p:nvSpPr>
          <p:spPr>
            <a:xfrm>
              <a:off x="1371600" y="33670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Build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scripts, data etc.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19320" y="2743200"/>
              <a:ext cx="6094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133720" y="4038480"/>
            <a:ext cx="3657600" cy="1054080"/>
            <a:chOff x="2133720" y="4038480"/>
            <a:chExt cx="3657600" cy="1054080"/>
          </a:xfrm>
        </p:grpSpPr>
        <p:sp>
          <p:nvSpPr>
            <p:cNvPr id="237" name=""/>
            <p:cNvSpPr/>
            <p:nvPr/>
          </p:nvSpPr>
          <p:spPr>
            <a:xfrm>
              <a:off x="2133720" y="4572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Execu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9680" y="4038480"/>
              <a:ext cx="60984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43200" y="5181480"/>
            <a:ext cx="6324480" cy="1068480"/>
            <a:chOff x="2743200" y="5181480"/>
            <a:chExt cx="6324480" cy="1068480"/>
          </a:xfrm>
        </p:grpSpPr>
        <p:sp>
          <p:nvSpPr>
            <p:cNvPr id="240" name=""/>
            <p:cNvSpPr/>
            <p:nvPr/>
          </p:nvSpPr>
          <p:spPr>
            <a:xfrm>
              <a:off x="2743200" y="5729400"/>
              <a:ext cx="63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ompar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outcomes to expected outcom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8120" y="5181480"/>
              <a:ext cx="60948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1828800" y="3838680"/>
            <a:ext cx="3809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Equivalence Partition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1320" y="3838680"/>
            <a:ext cx="33526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Boundary Value Anal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Internet-based Book Stor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pic>
        <p:nvPicPr>
          <p:cNvPr id="245" name="amazon-com" descr=""/>
          <p:cNvPicPr/>
          <p:nvPr/>
        </p:nvPicPr>
        <p:blipFill>
          <a:blip r:embed="rId1"/>
          <a:stretch/>
        </p:blipFill>
        <p:spPr>
          <a:xfrm>
            <a:off x="152280" y="682560"/>
            <a:ext cx="8915400" cy="617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condition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1752480"/>
            <a:ext cx="777240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upno pojedynczej 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upno książek, które będą wysłane w kilku pacz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Nieefektywny zakup 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prawdzenie co się dzieje z kupionymi książk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danie swojej recenz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płata kartą płatnicz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apłata czek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Model V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614600"/>
            <a:ext cx="3352680" cy="52056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7819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quirements spe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600200"/>
            <a:ext cx="2819520" cy="52056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7819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cceptance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743200"/>
            <a:ext cx="335304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743200"/>
            <a:ext cx="281952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gration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886200"/>
            <a:ext cx="335304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886200"/>
            <a:ext cx="28191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ni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276720"/>
            <a:ext cx="381240" cy="6094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133720"/>
            <a:ext cx="381240" cy="6094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19560" y="3276720"/>
            <a:ext cx="609480" cy="60948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933960" y="2133720"/>
            <a:ext cx="609480" cy="60948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419720"/>
            <a:ext cx="1066680" cy="15238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14440" y="4419720"/>
            <a:ext cx="1523880" cy="152388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19810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352680" y="833400"/>
            <a:ext cx="2589840" cy="1836000"/>
            <a:chOff x="3352680" y="833400"/>
            <a:chExt cx="2589840" cy="1836000"/>
          </a:xfrm>
        </p:grpSpPr>
        <p:grpSp>
          <p:nvGrpSpPr>
            <p:cNvPr id="112" name=""/>
            <p:cNvGrpSpPr/>
            <p:nvPr/>
          </p:nvGrpSpPr>
          <p:grpSpPr>
            <a:xfrm>
              <a:off x="3352680" y="833400"/>
              <a:ext cx="2589840" cy="1528560"/>
              <a:chOff x="3352680" y="833400"/>
              <a:chExt cx="2589840" cy="15285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352680" y="985680"/>
                <a:ext cx="1449360" cy="1376280"/>
                <a:chOff x="3352680" y="985680"/>
                <a:chExt cx="1449360" cy="1376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857400" y="985680"/>
                  <a:ext cx="324360" cy="345960"/>
                </a:xfrm>
                <a:custGeom>
                  <a:avLst/>
                  <a:gdLst/>
                  <a:ahLst/>
                  <a:rect l="l" t="t" r="r" b="b"/>
                  <a:pathLst>
                    <a:path w="537" h="654">
                      <a:moveTo>
                        <a:pt x="138" y="302"/>
                      </a:moveTo>
                      <a:lnTo>
                        <a:pt x="179" y="171"/>
                      </a:lnTo>
                      <a:lnTo>
                        <a:pt x="248" y="66"/>
                      </a:lnTo>
                      <a:lnTo>
                        <a:pt x="317" y="13"/>
                      </a:lnTo>
                      <a:lnTo>
                        <a:pt x="399" y="0"/>
                      </a:lnTo>
                      <a:lnTo>
                        <a:pt x="455" y="13"/>
                      </a:lnTo>
                      <a:lnTo>
                        <a:pt x="524" y="53"/>
                      </a:lnTo>
                      <a:lnTo>
                        <a:pt x="537" y="144"/>
                      </a:lnTo>
                      <a:lnTo>
                        <a:pt x="537" y="275"/>
                      </a:lnTo>
                      <a:lnTo>
                        <a:pt x="482" y="418"/>
                      </a:lnTo>
                      <a:lnTo>
                        <a:pt x="399" y="511"/>
                      </a:lnTo>
                      <a:lnTo>
                        <a:pt x="359" y="563"/>
                      </a:lnTo>
                      <a:lnTo>
                        <a:pt x="290" y="602"/>
                      </a:lnTo>
                      <a:lnTo>
                        <a:pt x="234" y="589"/>
                      </a:lnTo>
                      <a:lnTo>
                        <a:pt x="193" y="576"/>
                      </a:lnTo>
                      <a:lnTo>
                        <a:pt x="151" y="536"/>
                      </a:lnTo>
                      <a:lnTo>
                        <a:pt x="27" y="654"/>
                      </a:lnTo>
                      <a:lnTo>
                        <a:pt x="0" y="576"/>
                      </a:lnTo>
                      <a:lnTo>
                        <a:pt x="124" y="458"/>
                      </a:lnTo>
                      <a:lnTo>
                        <a:pt x="138" y="30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41280" y="1338120"/>
                  <a:ext cx="207000" cy="463680"/>
                </a:xfrm>
                <a:custGeom>
                  <a:avLst/>
                  <a:gdLst/>
                  <a:ahLst/>
                  <a:rect l="l" t="t" r="r" b="b"/>
                  <a:pathLst>
                    <a:path w="345" h="876">
                      <a:moveTo>
                        <a:pt x="111" y="26"/>
                      </a:moveTo>
                      <a:lnTo>
                        <a:pt x="180" y="0"/>
                      </a:lnTo>
                      <a:lnTo>
                        <a:pt x="262" y="26"/>
                      </a:lnTo>
                      <a:lnTo>
                        <a:pt x="318" y="118"/>
                      </a:lnTo>
                      <a:lnTo>
                        <a:pt x="345" y="262"/>
                      </a:lnTo>
                      <a:lnTo>
                        <a:pt x="345" y="483"/>
                      </a:lnTo>
                      <a:lnTo>
                        <a:pt x="303" y="654"/>
                      </a:lnTo>
                      <a:lnTo>
                        <a:pt x="262" y="785"/>
                      </a:lnTo>
                      <a:lnTo>
                        <a:pt x="151" y="876"/>
                      </a:lnTo>
                      <a:lnTo>
                        <a:pt x="55" y="863"/>
                      </a:lnTo>
                      <a:lnTo>
                        <a:pt x="0" y="745"/>
                      </a:lnTo>
                      <a:lnTo>
                        <a:pt x="42" y="614"/>
                      </a:lnTo>
                      <a:lnTo>
                        <a:pt x="82" y="496"/>
                      </a:lnTo>
                      <a:lnTo>
                        <a:pt x="96" y="380"/>
                      </a:lnTo>
                      <a:lnTo>
                        <a:pt x="82" y="222"/>
                      </a:lnTo>
                      <a:lnTo>
                        <a:pt x="82" y="78"/>
                      </a:lnTo>
                      <a:lnTo>
                        <a:pt x="111" y="2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52680" y="1344600"/>
                  <a:ext cx="670680" cy="353880"/>
                </a:xfrm>
                <a:custGeom>
                  <a:avLst/>
                  <a:gdLst/>
                  <a:ahLst/>
                  <a:rect l="l" t="t" r="r" b="b"/>
                  <a:pathLst>
                    <a:path w="1117" h="667">
                      <a:moveTo>
                        <a:pt x="910" y="104"/>
                      </a:moveTo>
                      <a:lnTo>
                        <a:pt x="992" y="26"/>
                      </a:lnTo>
                      <a:lnTo>
                        <a:pt x="1061" y="0"/>
                      </a:lnTo>
                      <a:lnTo>
                        <a:pt x="1103" y="13"/>
                      </a:lnTo>
                      <a:lnTo>
                        <a:pt x="1117" y="64"/>
                      </a:lnTo>
                      <a:lnTo>
                        <a:pt x="1103" y="117"/>
                      </a:lnTo>
                      <a:lnTo>
                        <a:pt x="1075" y="130"/>
                      </a:lnTo>
                      <a:lnTo>
                        <a:pt x="938" y="209"/>
                      </a:lnTo>
                      <a:lnTo>
                        <a:pt x="800" y="300"/>
                      </a:lnTo>
                      <a:lnTo>
                        <a:pt x="689" y="365"/>
                      </a:lnTo>
                      <a:lnTo>
                        <a:pt x="551" y="418"/>
                      </a:lnTo>
                      <a:lnTo>
                        <a:pt x="386" y="470"/>
                      </a:lnTo>
                      <a:lnTo>
                        <a:pt x="359" y="496"/>
                      </a:lnTo>
                      <a:lnTo>
                        <a:pt x="399" y="640"/>
                      </a:lnTo>
                      <a:lnTo>
                        <a:pt x="372" y="640"/>
                      </a:lnTo>
                      <a:lnTo>
                        <a:pt x="317" y="536"/>
                      </a:lnTo>
                      <a:lnTo>
                        <a:pt x="290" y="536"/>
                      </a:lnTo>
                      <a:lnTo>
                        <a:pt x="221" y="667"/>
                      </a:lnTo>
                      <a:lnTo>
                        <a:pt x="179" y="667"/>
                      </a:lnTo>
                      <a:lnTo>
                        <a:pt x="234" y="536"/>
                      </a:lnTo>
                      <a:lnTo>
                        <a:pt x="221" y="496"/>
                      </a:lnTo>
                      <a:lnTo>
                        <a:pt x="0" y="509"/>
                      </a:lnTo>
                      <a:lnTo>
                        <a:pt x="0" y="470"/>
                      </a:lnTo>
                      <a:lnTo>
                        <a:pt x="207" y="444"/>
                      </a:lnTo>
                      <a:lnTo>
                        <a:pt x="221" y="418"/>
                      </a:lnTo>
                      <a:lnTo>
                        <a:pt x="110" y="340"/>
                      </a:lnTo>
                      <a:lnTo>
                        <a:pt x="152" y="326"/>
                      </a:lnTo>
                      <a:lnTo>
                        <a:pt x="290" y="391"/>
                      </a:lnTo>
                      <a:lnTo>
                        <a:pt x="372" y="391"/>
                      </a:lnTo>
                      <a:lnTo>
                        <a:pt x="510" y="378"/>
                      </a:lnTo>
                      <a:lnTo>
                        <a:pt x="593" y="340"/>
                      </a:lnTo>
                      <a:lnTo>
                        <a:pt x="731" y="274"/>
                      </a:lnTo>
                      <a:lnTo>
                        <a:pt x="841" y="169"/>
                      </a:lnTo>
                      <a:lnTo>
                        <a:pt x="910" y="10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56840" y="1206360"/>
                  <a:ext cx="745200" cy="193680"/>
                </a:xfrm>
                <a:custGeom>
                  <a:avLst/>
                  <a:gdLst/>
                  <a:ahLst/>
                  <a:rect l="l" t="t" r="r" b="b"/>
                  <a:pathLst>
                    <a:path w="1241" h="367">
                      <a:moveTo>
                        <a:pt x="0" y="289"/>
                      </a:moveTo>
                      <a:lnTo>
                        <a:pt x="15" y="236"/>
                      </a:lnTo>
                      <a:lnTo>
                        <a:pt x="194" y="171"/>
                      </a:lnTo>
                      <a:lnTo>
                        <a:pt x="387" y="105"/>
                      </a:lnTo>
                      <a:lnTo>
                        <a:pt x="690" y="66"/>
                      </a:lnTo>
                      <a:lnTo>
                        <a:pt x="966" y="79"/>
                      </a:lnTo>
                      <a:lnTo>
                        <a:pt x="1063" y="79"/>
                      </a:lnTo>
                      <a:lnTo>
                        <a:pt x="1214" y="0"/>
                      </a:lnTo>
                      <a:lnTo>
                        <a:pt x="1241" y="26"/>
                      </a:lnTo>
                      <a:lnTo>
                        <a:pt x="1104" y="131"/>
                      </a:lnTo>
                      <a:lnTo>
                        <a:pt x="993" y="236"/>
                      </a:lnTo>
                      <a:lnTo>
                        <a:pt x="924" y="341"/>
                      </a:lnTo>
                      <a:lnTo>
                        <a:pt x="884" y="302"/>
                      </a:lnTo>
                      <a:lnTo>
                        <a:pt x="897" y="236"/>
                      </a:lnTo>
                      <a:lnTo>
                        <a:pt x="911" y="158"/>
                      </a:lnTo>
                      <a:lnTo>
                        <a:pt x="842" y="144"/>
                      </a:lnTo>
                      <a:lnTo>
                        <a:pt x="690" y="131"/>
                      </a:lnTo>
                      <a:lnTo>
                        <a:pt x="566" y="131"/>
                      </a:lnTo>
                      <a:lnTo>
                        <a:pt x="373" y="184"/>
                      </a:lnTo>
                      <a:lnTo>
                        <a:pt x="180" y="289"/>
                      </a:lnTo>
                      <a:lnTo>
                        <a:pt x="0" y="367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982320" y="1676160"/>
                  <a:ext cx="223920" cy="622440"/>
                </a:xfrm>
                <a:custGeom>
                  <a:avLst/>
                  <a:gdLst/>
                  <a:ahLst/>
                  <a:rect l="l" t="t" r="r" b="b"/>
                  <a:pathLst>
                    <a:path w="374" h="1176">
                      <a:moveTo>
                        <a:pt x="111" y="0"/>
                      </a:moveTo>
                      <a:lnTo>
                        <a:pt x="180" y="26"/>
                      </a:lnTo>
                      <a:lnTo>
                        <a:pt x="236" y="156"/>
                      </a:lnTo>
                      <a:lnTo>
                        <a:pt x="264" y="300"/>
                      </a:lnTo>
                      <a:lnTo>
                        <a:pt x="278" y="496"/>
                      </a:lnTo>
                      <a:lnTo>
                        <a:pt x="222" y="705"/>
                      </a:lnTo>
                      <a:lnTo>
                        <a:pt x="140" y="887"/>
                      </a:lnTo>
                      <a:lnTo>
                        <a:pt x="153" y="953"/>
                      </a:lnTo>
                      <a:lnTo>
                        <a:pt x="347" y="1045"/>
                      </a:lnTo>
                      <a:lnTo>
                        <a:pt x="374" y="1096"/>
                      </a:lnTo>
                      <a:lnTo>
                        <a:pt x="264" y="1176"/>
                      </a:lnTo>
                      <a:lnTo>
                        <a:pt x="209" y="1136"/>
                      </a:lnTo>
                      <a:lnTo>
                        <a:pt x="98" y="1018"/>
                      </a:lnTo>
                      <a:lnTo>
                        <a:pt x="0" y="953"/>
                      </a:lnTo>
                      <a:lnTo>
                        <a:pt x="0" y="914"/>
                      </a:lnTo>
                      <a:lnTo>
                        <a:pt x="56" y="836"/>
                      </a:lnTo>
                      <a:lnTo>
                        <a:pt x="140" y="718"/>
                      </a:lnTo>
                      <a:lnTo>
                        <a:pt x="195" y="535"/>
                      </a:lnTo>
                      <a:lnTo>
                        <a:pt x="195" y="300"/>
                      </a:lnTo>
                      <a:lnTo>
                        <a:pt x="153" y="169"/>
                      </a:lnTo>
                      <a:lnTo>
                        <a:pt x="98" y="10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15560" y="1684080"/>
                  <a:ext cx="300240" cy="677880"/>
                </a:xfrm>
                <a:custGeom>
                  <a:avLst/>
                  <a:gdLst/>
                  <a:ahLst/>
                  <a:rect l="l" t="t" r="r" b="b"/>
                  <a:pathLst>
                    <a:path w="498" h="1281">
                      <a:moveTo>
                        <a:pt x="263" y="156"/>
                      </a:moveTo>
                      <a:lnTo>
                        <a:pt x="318" y="38"/>
                      </a:lnTo>
                      <a:lnTo>
                        <a:pt x="456" y="0"/>
                      </a:lnTo>
                      <a:lnTo>
                        <a:pt x="498" y="64"/>
                      </a:lnTo>
                      <a:lnTo>
                        <a:pt x="401" y="169"/>
                      </a:lnTo>
                      <a:lnTo>
                        <a:pt x="345" y="235"/>
                      </a:lnTo>
                      <a:lnTo>
                        <a:pt x="332" y="365"/>
                      </a:lnTo>
                      <a:lnTo>
                        <a:pt x="305" y="587"/>
                      </a:lnTo>
                      <a:lnTo>
                        <a:pt x="318" y="874"/>
                      </a:lnTo>
                      <a:lnTo>
                        <a:pt x="332" y="1005"/>
                      </a:lnTo>
                      <a:lnTo>
                        <a:pt x="360" y="1058"/>
                      </a:lnTo>
                      <a:lnTo>
                        <a:pt x="345" y="1110"/>
                      </a:lnTo>
                      <a:lnTo>
                        <a:pt x="249" y="1150"/>
                      </a:lnTo>
                      <a:lnTo>
                        <a:pt x="98" y="1281"/>
                      </a:lnTo>
                      <a:lnTo>
                        <a:pt x="42" y="1281"/>
                      </a:lnTo>
                      <a:lnTo>
                        <a:pt x="0" y="1176"/>
                      </a:lnTo>
                      <a:lnTo>
                        <a:pt x="98" y="1110"/>
                      </a:lnTo>
                      <a:lnTo>
                        <a:pt x="222" y="1071"/>
                      </a:lnTo>
                      <a:lnTo>
                        <a:pt x="276" y="1045"/>
                      </a:lnTo>
                      <a:lnTo>
                        <a:pt x="263" y="927"/>
                      </a:lnTo>
                      <a:lnTo>
                        <a:pt x="236" y="665"/>
                      </a:lnTo>
                      <a:lnTo>
                        <a:pt x="222" y="444"/>
                      </a:lnTo>
                      <a:lnTo>
                        <a:pt x="236" y="260"/>
                      </a:lnTo>
                      <a:lnTo>
                        <a:pt x="263" y="1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398840" y="833400"/>
                <a:ext cx="1543680" cy="1458720"/>
                <a:chOff x="4398840" y="833400"/>
                <a:chExt cx="1543680" cy="14587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398840" y="833400"/>
                  <a:ext cx="1543680" cy="1458720"/>
                </a:xfrm>
                <a:custGeom>
                  <a:avLst/>
                  <a:gdLst/>
                  <a:ahLst/>
                  <a:rect l="l" t="t" r="r" b="b"/>
                  <a:pathLst>
                    <a:path w="2567" h="2757">
                      <a:moveTo>
                        <a:pt x="898" y="510"/>
                      </a:moveTo>
                      <a:lnTo>
                        <a:pt x="746" y="641"/>
                      </a:lnTo>
                      <a:lnTo>
                        <a:pt x="566" y="772"/>
                      </a:lnTo>
                      <a:lnTo>
                        <a:pt x="374" y="981"/>
                      </a:lnTo>
                      <a:lnTo>
                        <a:pt x="167" y="1255"/>
                      </a:lnTo>
                      <a:lnTo>
                        <a:pt x="56" y="1490"/>
                      </a:lnTo>
                      <a:lnTo>
                        <a:pt x="0" y="1673"/>
                      </a:lnTo>
                      <a:lnTo>
                        <a:pt x="0" y="1790"/>
                      </a:lnTo>
                      <a:lnTo>
                        <a:pt x="15" y="2039"/>
                      </a:lnTo>
                      <a:lnTo>
                        <a:pt x="56" y="2222"/>
                      </a:lnTo>
                      <a:lnTo>
                        <a:pt x="167" y="2339"/>
                      </a:lnTo>
                      <a:lnTo>
                        <a:pt x="387" y="2484"/>
                      </a:lnTo>
                      <a:lnTo>
                        <a:pt x="595" y="2575"/>
                      </a:lnTo>
                      <a:lnTo>
                        <a:pt x="856" y="2666"/>
                      </a:lnTo>
                      <a:lnTo>
                        <a:pt x="1008" y="2718"/>
                      </a:lnTo>
                      <a:lnTo>
                        <a:pt x="1270" y="2757"/>
                      </a:lnTo>
                      <a:lnTo>
                        <a:pt x="1669" y="2718"/>
                      </a:lnTo>
                      <a:lnTo>
                        <a:pt x="2015" y="2627"/>
                      </a:lnTo>
                      <a:lnTo>
                        <a:pt x="2235" y="2496"/>
                      </a:lnTo>
                      <a:lnTo>
                        <a:pt x="2373" y="2353"/>
                      </a:lnTo>
                      <a:lnTo>
                        <a:pt x="2456" y="2209"/>
                      </a:lnTo>
                      <a:lnTo>
                        <a:pt x="2538" y="2026"/>
                      </a:lnTo>
                      <a:lnTo>
                        <a:pt x="2567" y="1817"/>
                      </a:lnTo>
                      <a:lnTo>
                        <a:pt x="2567" y="1530"/>
                      </a:lnTo>
                      <a:lnTo>
                        <a:pt x="2511" y="1346"/>
                      </a:lnTo>
                      <a:lnTo>
                        <a:pt x="2400" y="1150"/>
                      </a:lnTo>
                      <a:lnTo>
                        <a:pt x="2249" y="968"/>
                      </a:lnTo>
                      <a:lnTo>
                        <a:pt x="2084" y="823"/>
                      </a:lnTo>
                      <a:lnTo>
                        <a:pt x="1918" y="706"/>
                      </a:lnTo>
                      <a:lnTo>
                        <a:pt x="1683" y="601"/>
                      </a:lnTo>
                      <a:lnTo>
                        <a:pt x="1669" y="536"/>
                      </a:lnTo>
                      <a:lnTo>
                        <a:pt x="1877" y="327"/>
                      </a:lnTo>
                      <a:lnTo>
                        <a:pt x="1890" y="196"/>
                      </a:lnTo>
                      <a:lnTo>
                        <a:pt x="1656" y="327"/>
                      </a:lnTo>
                      <a:lnTo>
                        <a:pt x="1738" y="92"/>
                      </a:lnTo>
                      <a:lnTo>
                        <a:pt x="1711" y="79"/>
                      </a:lnTo>
                      <a:lnTo>
                        <a:pt x="1629" y="79"/>
                      </a:lnTo>
                      <a:lnTo>
                        <a:pt x="1491" y="236"/>
                      </a:lnTo>
                      <a:lnTo>
                        <a:pt x="1408" y="327"/>
                      </a:lnTo>
                      <a:lnTo>
                        <a:pt x="1435" y="157"/>
                      </a:lnTo>
                      <a:lnTo>
                        <a:pt x="1491" y="27"/>
                      </a:lnTo>
                      <a:lnTo>
                        <a:pt x="1449" y="0"/>
                      </a:lnTo>
                      <a:lnTo>
                        <a:pt x="1353" y="79"/>
                      </a:lnTo>
                      <a:lnTo>
                        <a:pt x="1256" y="274"/>
                      </a:lnTo>
                      <a:lnTo>
                        <a:pt x="1215" y="170"/>
                      </a:lnTo>
                      <a:lnTo>
                        <a:pt x="1132" y="131"/>
                      </a:lnTo>
                      <a:lnTo>
                        <a:pt x="1077" y="261"/>
                      </a:lnTo>
                      <a:lnTo>
                        <a:pt x="1063" y="340"/>
                      </a:lnTo>
                      <a:lnTo>
                        <a:pt x="911" y="157"/>
                      </a:lnTo>
                      <a:lnTo>
                        <a:pt x="718" y="14"/>
                      </a:lnTo>
                      <a:lnTo>
                        <a:pt x="664" y="40"/>
                      </a:lnTo>
                      <a:lnTo>
                        <a:pt x="649" y="118"/>
                      </a:lnTo>
                      <a:lnTo>
                        <a:pt x="718" y="236"/>
                      </a:lnTo>
                      <a:lnTo>
                        <a:pt x="800" y="379"/>
                      </a:lnTo>
                      <a:lnTo>
                        <a:pt x="1008" y="628"/>
                      </a:lnTo>
                      <a:lnTo>
                        <a:pt x="980" y="679"/>
                      </a:lnTo>
                      <a:lnTo>
                        <a:pt x="938" y="706"/>
                      </a:lnTo>
                      <a:lnTo>
                        <a:pt x="967" y="758"/>
                      </a:lnTo>
                      <a:lnTo>
                        <a:pt x="1146" y="823"/>
                      </a:lnTo>
                      <a:lnTo>
                        <a:pt x="1435" y="823"/>
                      </a:lnTo>
                      <a:lnTo>
                        <a:pt x="1683" y="797"/>
                      </a:lnTo>
                      <a:lnTo>
                        <a:pt x="1767" y="719"/>
                      </a:lnTo>
                      <a:lnTo>
                        <a:pt x="1711" y="693"/>
                      </a:lnTo>
                      <a:lnTo>
                        <a:pt x="1656" y="732"/>
                      </a:lnTo>
                      <a:lnTo>
                        <a:pt x="1504" y="745"/>
                      </a:lnTo>
                      <a:lnTo>
                        <a:pt x="1353" y="772"/>
                      </a:lnTo>
                      <a:lnTo>
                        <a:pt x="1187" y="745"/>
                      </a:lnTo>
                      <a:lnTo>
                        <a:pt x="1435" y="719"/>
                      </a:lnTo>
                      <a:lnTo>
                        <a:pt x="1600" y="667"/>
                      </a:lnTo>
                      <a:lnTo>
                        <a:pt x="1629" y="641"/>
                      </a:lnTo>
                      <a:lnTo>
                        <a:pt x="1560" y="614"/>
                      </a:lnTo>
                      <a:lnTo>
                        <a:pt x="1477" y="654"/>
                      </a:lnTo>
                      <a:lnTo>
                        <a:pt x="1284" y="679"/>
                      </a:lnTo>
                      <a:lnTo>
                        <a:pt x="1146" y="667"/>
                      </a:lnTo>
                      <a:lnTo>
                        <a:pt x="1077" y="641"/>
                      </a:lnTo>
                      <a:lnTo>
                        <a:pt x="1105" y="576"/>
                      </a:lnTo>
                      <a:lnTo>
                        <a:pt x="980" y="484"/>
                      </a:lnTo>
                      <a:lnTo>
                        <a:pt x="856" y="367"/>
                      </a:lnTo>
                      <a:lnTo>
                        <a:pt x="787" y="249"/>
                      </a:lnTo>
                      <a:lnTo>
                        <a:pt x="760" y="170"/>
                      </a:lnTo>
                      <a:lnTo>
                        <a:pt x="760" y="145"/>
                      </a:lnTo>
                      <a:lnTo>
                        <a:pt x="787" y="145"/>
                      </a:lnTo>
                      <a:lnTo>
                        <a:pt x="856" y="196"/>
                      </a:lnTo>
                      <a:lnTo>
                        <a:pt x="952" y="314"/>
                      </a:lnTo>
                      <a:lnTo>
                        <a:pt x="1077" y="458"/>
                      </a:lnTo>
                      <a:lnTo>
                        <a:pt x="1105" y="497"/>
                      </a:lnTo>
                      <a:lnTo>
                        <a:pt x="1159" y="470"/>
                      </a:lnTo>
                      <a:lnTo>
                        <a:pt x="1132" y="392"/>
                      </a:lnTo>
                      <a:lnTo>
                        <a:pt x="1146" y="340"/>
                      </a:lnTo>
                      <a:lnTo>
                        <a:pt x="1159" y="274"/>
                      </a:lnTo>
                      <a:lnTo>
                        <a:pt x="1187" y="274"/>
                      </a:lnTo>
                      <a:lnTo>
                        <a:pt x="1215" y="354"/>
                      </a:lnTo>
                      <a:lnTo>
                        <a:pt x="1228" y="405"/>
                      </a:lnTo>
                      <a:lnTo>
                        <a:pt x="1270" y="419"/>
                      </a:lnTo>
                      <a:lnTo>
                        <a:pt x="1326" y="301"/>
                      </a:lnTo>
                      <a:lnTo>
                        <a:pt x="1353" y="261"/>
                      </a:lnTo>
                      <a:lnTo>
                        <a:pt x="1366" y="327"/>
                      </a:lnTo>
                      <a:lnTo>
                        <a:pt x="1366" y="432"/>
                      </a:lnTo>
                      <a:lnTo>
                        <a:pt x="1408" y="458"/>
                      </a:lnTo>
                      <a:lnTo>
                        <a:pt x="1477" y="367"/>
                      </a:lnTo>
                      <a:lnTo>
                        <a:pt x="1546" y="249"/>
                      </a:lnTo>
                      <a:lnTo>
                        <a:pt x="1615" y="223"/>
                      </a:lnTo>
                      <a:lnTo>
                        <a:pt x="1615" y="236"/>
                      </a:lnTo>
                      <a:lnTo>
                        <a:pt x="1573" y="314"/>
                      </a:lnTo>
                      <a:lnTo>
                        <a:pt x="1531" y="432"/>
                      </a:lnTo>
                      <a:lnTo>
                        <a:pt x="1573" y="445"/>
                      </a:lnTo>
                      <a:lnTo>
                        <a:pt x="1794" y="301"/>
                      </a:lnTo>
                      <a:lnTo>
                        <a:pt x="1821" y="301"/>
                      </a:lnTo>
                      <a:lnTo>
                        <a:pt x="1615" y="497"/>
                      </a:lnTo>
                      <a:lnTo>
                        <a:pt x="1573" y="536"/>
                      </a:lnTo>
                      <a:lnTo>
                        <a:pt x="1560" y="601"/>
                      </a:lnTo>
                      <a:lnTo>
                        <a:pt x="1600" y="628"/>
                      </a:lnTo>
                      <a:lnTo>
                        <a:pt x="1725" y="679"/>
                      </a:lnTo>
                      <a:lnTo>
                        <a:pt x="1932" y="785"/>
                      </a:lnTo>
                      <a:lnTo>
                        <a:pt x="2070" y="888"/>
                      </a:lnTo>
                      <a:lnTo>
                        <a:pt x="2235" y="1046"/>
                      </a:lnTo>
                      <a:lnTo>
                        <a:pt x="2360" y="1215"/>
                      </a:lnTo>
                      <a:lnTo>
                        <a:pt x="2442" y="1399"/>
                      </a:lnTo>
                      <a:lnTo>
                        <a:pt x="2498" y="1634"/>
                      </a:lnTo>
                      <a:lnTo>
                        <a:pt x="2483" y="1804"/>
                      </a:lnTo>
                      <a:lnTo>
                        <a:pt x="2469" y="1986"/>
                      </a:lnTo>
                      <a:lnTo>
                        <a:pt x="2387" y="2182"/>
                      </a:lnTo>
                      <a:lnTo>
                        <a:pt x="2304" y="2326"/>
                      </a:lnTo>
                      <a:lnTo>
                        <a:pt x="2208" y="2404"/>
                      </a:lnTo>
                      <a:lnTo>
                        <a:pt x="2097" y="2509"/>
                      </a:lnTo>
                      <a:lnTo>
                        <a:pt x="1890" y="2588"/>
                      </a:lnTo>
                      <a:lnTo>
                        <a:pt x="1642" y="2653"/>
                      </a:lnTo>
                      <a:lnTo>
                        <a:pt x="1518" y="2666"/>
                      </a:lnTo>
                      <a:lnTo>
                        <a:pt x="1284" y="2666"/>
                      </a:lnTo>
                      <a:lnTo>
                        <a:pt x="1063" y="2640"/>
                      </a:lnTo>
                      <a:lnTo>
                        <a:pt x="800" y="2575"/>
                      </a:lnTo>
                      <a:lnTo>
                        <a:pt x="553" y="2470"/>
                      </a:lnTo>
                      <a:lnTo>
                        <a:pt x="359" y="2366"/>
                      </a:lnTo>
                      <a:lnTo>
                        <a:pt x="194" y="2248"/>
                      </a:lnTo>
                      <a:lnTo>
                        <a:pt x="125" y="2157"/>
                      </a:lnTo>
                      <a:lnTo>
                        <a:pt x="111" y="2064"/>
                      </a:lnTo>
                      <a:lnTo>
                        <a:pt x="84" y="1790"/>
                      </a:lnTo>
                      <a:lnTo>
                        <a:pt x="98" y="1608"/>
                      </a:lnTo>
                      <a:lnTo>
                        <a:pt x="180" y="1412"/>
                      </a:lnTo>
                      <a:lnTo>
                        <a:pt x="290" y="1190"/>
                      </a:lnTo>
                      <a:lnTo>
                        <a:pt x="484" y="994"/>
                      </a:lnTo>
                      <a:lnTo>
                        <a:pt x="664" y="772"/>
                      </a:lnTo>
                      <a:lnTo>
                        <a:pt x="829" y="654"/>
                      </a:lnTo>
                      <a:lnTo>
                        <a:pt x="925" y="576"/>
                      </a:lnTo>
                      <a:lnTo>
                        <a:pt x="898" y="5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05080" y="1407960"/>
                  <a:ext cx="314640" cy="449280"/>
                </a:xfrm>
                <a:custGeom>
                  <a:avLst/>
                  <a:gdLst/>
                  <a:ahLst/>
                  <a:rect l="l" t="t" r="r" b="b"/>
                  <a:pathLst>
                    <a:path w="524" h="849">
                      <a:moveTo>
                        <a:pt x="317" y="156"/>
                      </a:moveTo>
                      <a:lnTo>
                        <a:pt x="413" y="169"/>
                      </a:lnTo>
                      <a:lnTo>
                        <a:pt x="495" y="235"/>
                      </a:lnTo>
                      <a:lnTo>
                        <a:pt x="524" y="300"/>
                      </a:lnTo>
                      <a:lnTo>
                        <a:pt x="426" y="326"/>
                      </a:lnTo>
                      <a:lnTo>
                        <a:pt x="371" y="273"/>
                      </a:lnTo>
                      <a:lnTo>
                        <a:pt x="303" y="247"/>
                      </a:lnTo>
                      <a:lnTo>
                        <a:pt x="234" y="235"/>
                      </a:lnTo>
                      <a:lnTo>
                        <a:pt x="123" y="260"/>
                      </a:lnTo>
                      <a:lnTo>
                        <a:pt x="96" y="326"/>
                      </a:lnTo>
                      <a:lnTo>
                        <a:pt x="151" y="378"/>
                      </a:lnTo>
                      <a:lnTo>
                        <a:pt x="288" y="417"/>
                      </a:lnTo>
                      <a:lnTo>
                        <a:pt x="426" y="417"/>
                      </a:lnTo>
                      <a:lnTo>
                        <a:pt x="468" y="456"/>
                      </a:lnTo>
                      <a:lnTo>
                        <a:pt x="495" y="522"/>
                      </a:lnTo>
                      <a:lnTo>
                        <a:pt x="482" y="600"/>
                      </a:lnTo>
                      <a:lnTo>
                        <a:pt x="399" y="653"/>
                      </a:lnTo>
                      <a:lnTo>
                        <a:pt x="303" y="653"/>
                      </a:lnTo>
                      <a:lnTo>
                        <a:pt x="234" y="653"/>
                      </a:lnTo>
                      <a:lnTo>
                        <a:pt x="206" y="718"/>
                      </a:lnTo>
                      <a:lnTo>
                        <a:pt x="219" y="835"/>
                      </a:lnTo>
                      <a:lnTo>
                        <a:pt x="123" y="849"/>
                      </a:lnTo>
                      <a:lnTo>
                        <a:pt x="109" y="757"/>
                      </a:lnTo>
                      <a:lnTo>
                        <a:pt x="137" y="653"/>
                      </a:lnTo>
                      <a:lnTo>
                        <a:pt x="54" y="613"/>
                      </a:lnTo>
                      <a:lnTo>
                        <a:pt x="0" y="574"/>
                      </a:lnTo>
                      <a:lnTo>
                        <a:pt x="82" y="496"/>
                      </a:lnTo>
                      <a:lnTo>
                        <a:pt x="123" y="548"/>
                      </a:lnTo>
                      <a:lnTo>
                        <a:pt x="192" y="560"/>
                      </a:lnTo>
                      <a:lnTo>
                        <a:pt x="288" y="574"/>
                      </a:lnTo>
                      <a:lnTo>
                        <a:pt x="371" y="574"/>
                      </a:lnTo>
                      <a:lnTo>
                        <a:pt x="413" y="560"/>
                      </a:lnTo>
                      <a:lnTo>
                        <a:pt x="386" y="509"/>
                      </a:lnTo>
                      <a:lnTo>
                        <a:pt x="317" y="496"/>
                      </a:lnTo>
                      <a:lnTo>
                        <a:pt x="192" y="469"/>
                      </a:lnTo>
                      <a:lnTo>
                        <a:pt x="68" y="431"/>
                      </a:lnTo>
                      <a:lnTo>
                        <a:pt x="27" y="365"/>
                      </a:lnTo>
                      <a:lnTo>
                        <a:pt x="13" y="287"/>
                      </a:lnTo>
                      <a:lnTo>
                        <a:pt x="82" y="208"/>
                      </a:lnTo>
                      <a:lnTo>
                        <a:pt x="178" y="143"/>
                      </a:lnTo>
                      <a:lnTo>
                        <a:pt x="247" y="143"/>
                      </a:lnTo>
                      <a:lnTo>
                        <a:pt x="275" y="0"/>
                      </a:lnTo>
                      <a:lnTo>
                        <a:pt x="357" y="13"/>
                      </a:lnTo>
                      <a:lnTo>
                        <a:pt x="317" y="1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13840" y="1385640"/>
                  <a:ext cx="134640" cy="160560"/>
                </a:xfrm>
                <a:custGeom>
                  <a:avLst/>
                  <a:gdLst/>
                  <a:ahLst/>
                  <a:rect l="l" t="t" r="r" b="b"/>
                  <a:pathLst>
                    <a:path w="220" h="301">
                      <a:moveTo>
                        <a:pt x="0" y="236"/>
                      </a:moveTo>
                      <a:lnTo>
                        <a:pt x="96" y="78"/>
                      </a:lnTo>
                      <a:lnTo>
                        <a:pt x="220" y="0"/>
                      </a:lnTo>
                      <a:lnTo>
                        <a:pt x="220" y="40"/>
                      </a:lnTo>
                      <a:lnTo>
                        <a:pt x="136" y="131"/>
                      </a:lnTo>
                      <a:lnTo>
                        <a:pt x="40" y="301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601240" y="1787400"/>
                  <a:ext cx="84240" cy="111240"/>
                </a:xfrm>
                <a:custGeom>
                  <a:avLst/>
                  <a:gdLst/>
                  <a:ahLst/>
                  <a:rect l="l" t="t" r="r" b="b"/>
                  <a:pathLst>
                    <a:path w="138" h="209">
                      <a:moveTo>
                        <a:pt x="138" y="0"/>
                      </a:moveTo>
                      <a:lnTo>
                        <a:pt x="42" y="130"/>
                      </a:lnTo>
                      <a:lnTo>
                        <a:pt x="0" y="182"/>
                      </a:lnTo>
                      <a:lnTo>
                        <a:pt x="55" y="209"/>
                      </a:lnTo>
                      <a:lnTo>
                        <a:pt x="96" y="182"/>
                      </a:lnTo>
                      <a:lnTo>
                        <a:pt x="138" y="91"/>
                      </a:lnTo>
                      <a:lnTo>
                        <a:pt x="138" y="5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045320" y="2209680"/>
              <a:ext cx="12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Custom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Prior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1752480"/>
            <a:ext cx="777240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6699"/>
                </a:solidFill>
                <a:latin typeface="Arial Narrow"/>
              </a:rPr>
              <a:t>Kupno pojedynczej 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99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6699"/>
                </a:solidFill>
                <a:latin typeface="Arial Narrow"/>
              </a:rPr>
              <a:t>Kupno książek, które będą wysłane w kilku pacz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99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6699"/>
                </a:solidFill>
                <a:latin typeface="Arial Narrow"/>
              </a:rPr>
              <a:t>Nieefektywny zakup 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prawdzenie co się dzieje z kupionymi książk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99ff99"/>
                </a:solidFill>
                <a:latin typeface="Arial Narrow"/>
              </a:rPr>
              <a:t>Dodanie swojej recenz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6699"/>
                </a:solidFill>
                <a:latin typeface="Arial Narrow"/>
              </a:rPr>
              <a:t>Zapłata kartą płatnicz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Zapłata czek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scenario design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1066680"/>
            <a:ext cx="41148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effective purcha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 Klient wkłada do kos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 Klient wyjmuje z koszy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szystkie włożone 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1066680"/>
            <a:ext cx="41148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effective purcha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 Klient wkłada do kos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2 Klient wyjmuje z kos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szystkie włożone książ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3 Klient wkłada do kos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siążk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4 Klient wyjmuje z koszy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siążk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UC-based Test Scenario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720720"/>
            <a:ext cx="807696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Zakup książ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1. Klient przegląda książki dostępne w księgar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2. Klient wkłada do koszyka wybraną książk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. Klient przechodzi do sfinalizowania zakup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. System prosi o podanie adresu i danych do faktu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. Klient podaje adres i dane do faktu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. System prosi o wybranie sposobu zapła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7. Klient płaci za książkę w wybrany sposó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8. System dziękuje za zakup i informuje o przesył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Wyjąt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a. Klient chce rozważyć możliwość zakupu jeszcze jednej książk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a1. Następuje powrót do kroku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b. Klient chce zrezygnować z zakupu książki, którą ma w koszy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b1. Klient wyjmuje książkę z koszy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320" y="5076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UC-based Test Scenario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720720"/>
            <a:ext cx="807696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Zakup książ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99"/>
                </a:solidFill>
                <a:latin typeface="Arial Narrow"/>
              </a:rPr>
              <a:t>1. Klient przegląda książki dostępne w księgar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99"/>
                </a:solidFill>
                <a:latin typeface="Arial Narrow"/>
              </a:rPr>
              <a:t>2. Klient wkłada do koszyka wybraną książk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. Klient przechodzi do sfinalizowania zakup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4. System prosi o podanie adresu i danych do faktu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5. Klient podaje adres i dane do faktu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6. System prosi o wybranie sposobu zapła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7. Klient płaci za książkę w wybrany sposó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8. System dziękuje za zakup i informuje o przesył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Wyjąt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a. Klient chce rozważyć możliwość zakupu jeszcze jednej książk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a1. Następuje powrót do kroku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99"/>
                </a:solidFill>
                <a:latin typeface="Arial Narrow"/>
              </a:rPr>
              <a:t>3b. Klient chce zrezygnować z zakupu książki, którą ma w koszy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3b1. Klient wyjmuje książkę z koszyka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Building Test Cas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066680"/>
            <a:ext cx="3200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 LiczbaCyfr(int 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[1-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[10-9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[100-99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[.. –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55627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Equivalence Partition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724280" y="1752480"/>
            <a:ext cx="4191120" cy="4419720"/>
            <a:chOff x="4724280" y="1752480"/>
            <a:chExt cx="4191120" cy="4419720"/>
          </a:xfrm>
        </p:grpSpPr>
        <p:sp>
          <p:nvSpPr>
            <p:cNvPr id="261" name=""/>
            <p:cNvSpPr/>
            <p:nvPr/>
          </p:nvSpPr>
          <p:spPr>
            <a:xfrm>
              <a:off x="4724280" y="23623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1, 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280" y="29862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10, 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280" y="35956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100, 999, 255, 25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24280" y="4267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r>
                <a:rPr b="0" lang="pl-PL" sz="2800" spc="-1" strike="noStrike" baseline="30000">
                  <a:solidFill>
                    <a:srgbClr val="ffffff"/>
                  </a:solidFill>
                  <a:latin typeface="Arial Narrow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28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4724280" y="5514840"/>
              <a:ext cx="41911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40186" dir="20503642" blurRad="0" rotWithShape="0">
                      <a:srgbClr val="000099"/>
                    </a:outerShdw>
                  </a:effectLst>
                  <a:latin typeface="Impact"/>
                </a:rPr>
                <a:t>Boundary Value Analysis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4890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-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ata-driven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2362320"/>
            <a:ext cx="7086600" cy="3276360"/>
          </a:xfrm>
          <a:prstGeom prst="cloudCallout">
            <a:avLst>
              <a:gd name="adj1" fmla="val 26476"/>
              <a:gd name="adj2" fmla="val -39583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5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45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8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36417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952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3336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3565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3260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3565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1066680"/>
            <a:ext cx="2971800" cy="685800"/>
          </a:xfrm>
          <a:prstGeom prst="wedgeRoundRectCallout">
            <a:avLst>
              <a:gd name="adj1" fmla="val -42949"/>
              <a:gd name="adj2" fmla="val 156712"/>
              <a:gd name="adj3" fmla="val 16667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oftware under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5867280"/>
            <a:ext cx="5562720" cy="609840"/>
          </a:xfrm>
          <a:prstGeom prst="wedgeRoundRectCallout">
            <a:avLst>
              <a:gd name="adj1" fmla="val 3481"/>
              <a:gd name="adj2" fmla="val -207291"/>
              <a:gd name="adj3" fmla="val 16667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ey automated regression test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914400"/>
            <a:ext cx="3352680" cy="914400"/>
          </a:xfrm>
          <a:prstGeom prst="wedgeRoundRectCallout">
            <a:avLst>
              <a:gd name="adj1" fmla="val 37263"/>
              <a:gd name="adj2" fmla="val 188370"/>
              <a:gd name="adj3" fmla="val 16667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dditional automated regression test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ctiv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7632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test conditions (‘what’ to test) and priori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0880" y="1600200"/>
            <a:ext cx="5257800" cy="1130040"/>
            <a:chOff x="380880" y="1600200"/>
            <a:chExt cx="5257800" cy="1130040"/>
          </a:xfrm>
        </p:grpSpPr>
        <p:sp>
          <p:nvSpPr>
            <p:cNvPr id="290" name=""/>
            <p:cNvSpPr/>
            <p:nvPr/>
          </p:nvSpPr>
          <p:spPr>
            <a:xfrm>
              <a:off x="685800" y="2209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Design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‘how’ to test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1600200"/>
              <a:ext cx="60984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219320" y="2743200"/>
            <a:ext cx="5181480" cy="1144440"/>
            <a:chOff x="1219320" y="2743200"/>
            <a:chExt cx="5181480" cy="1144440"/>
          </a:xfrm>
        </p:grpSpPr>
        <p:sp>
          <p:nvSpPr>
            <p:cNvPr id="293" name=""/>
            <p:cNvSpPr/>
            <p:nvPr/>
          </p:nvSpPr>
          <p:spPr>
            <a:xfrm>
              <a:off x="1371600" y="33670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Build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scripts, data etc.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9320" y="2743200"/>
              <a:ext cx="6094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133720" y="4038480"/>
            <a:ext cx="3657600" cy="1054080"/>
            <a:chOff x="2133720" y="4038480"/>
            <a:chExt cx="3657600" cy="1054080"/>
          </a:xfrm>
        </p:grpSpPr>
        <p:sp>
          <p:nvSpPr>
            <p:cNvPr id="296" name=""/>
            <p:cNvSpPr/>
            <p:nvPr/>
          </p:nvSpPr>
          <p:spPr>
            <a:xfrm>
              <a:off x="2133720" y="4572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Execu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09680" y="4038480"/>
              <a:ext cx="60984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43200" y="5181480"/>
            <a:ext cx="6324480" cy="1068480"/>
            <a:chOff x="2743200" y="5181480"/>
            <a:chExt cx="6324480" cy="1068480"/>
          </a:xfrm>
        </p:grpSpPr>
        <p:sp>
          <p:nvSpPr>
            <p:cNvPr id="299" name=""/>
            <p:cNvSpPr/>
            <p:nvPr/>
          </p:nvSpPr>
          <p:spPr>
            <a:xfrm>
              <a:off x="2743200" y="5729400"/>
              <a:ext cx="63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ompar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outcomes to expected outcom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8120" y="5181480"/>
              <a:ext cx="60948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ctiv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10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mportant scenarios (criticality/frequency) and priori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80880" y="1600200"/>
            <a:ext cx="6171840" cy="1130040"/>
            <a:chOff x="380880" y="1600200"/>
            <a:chExt cx="6171840" cy="1130040"/>
          </a:xfrm>
        </p:grpSpPr>
        <p:sp>
          <p:nvSpPr>
            <p:cNvPr id="304" name=""/>
            <p:cNvSpPr/>
            <p:nvPr/>
          </p:nvSpPr>
          <p:spPr>
            <a:xfrm>
              <a:off x="738720" y="2209680"/>
              <a:ext cx="58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Instantia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he selected scenarios (1 -&gt; *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880" y="1600200"/>
              <a:ext cx="7156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219320" y="2743200"/>
            <a:ext cx="5181480" cy="1144440"/>
            <a:chOff x="1219320" y="2743200"/>
            <a:chExt cx="5181480" cy="1144440"/>
          </a:xfrm>
        </p:grpSpPr>
        <p:sp>
          <p:nvSpPr>
            <p:cNvPr id="307" name=""/>
            <p:cNvSpPr/>
            <p:nvPr/>
          </p:nvSpPr>
          <p:spPr>
            <a:xfrm>
              <a:off x="1371600" y="33670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Implement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(scripts, data etc.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9320" y="2743200"/>
              <a:ext cx="6094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133720" y="4038480"/>
            <a:ext cx="3657600" cy="1054080"/>
            <a:chOff x="2133720" y="4038480"/>
            <a:chExt cx="3657600" cy="1054080"/>
          </a:xfrm>
        </p:grpSpPr>
        <p:sp>
          <p:nvSpPr>
            <p:cNvPr id="310" name=""/>
            <p:cNvSpPr/>
            <p:nvPr/>
          </p:nvSpPr>
          <p:spPr>
            <a:xfrm>
              <a:off x="2133720" y="4572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Execu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9680" y="4038480"/>
              <a:ext cx="60984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743200" y="5181480"/>
            <a:ext cx="6324480" cy="1068480"/>
            <a:chOff x="2743200" y="5181480"/>
            <a:chExt cx="6324480" cy="1068480"/>
          </a:xfrm>
        </p:grpSpPr>
        <p:sp>
          <p:nvSpPr>
            <p:cNvPr id="313" name=""/>
            <p:cNvSpPr/>
            <p:nvPr/>
          </p:nvSpPr>
          <p:spPr>
            <a:xfrm>
              <a:off x="2743200" y="5729400"/>
              <a:ext cx="63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ompar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outcomes to expected outcom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8120" y="5181480"/>
              <a:ext cx="60948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3048120" y="3809880"/>
            <a:ext cx="3809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.. or write manual script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76520" y="1600200"/>
            <a:ext cx="3809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McCabe's coverage rati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Quality attributes of a test cas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1828800"/>
            <a:ext cx="5867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How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ffectiv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n detecting defec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How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xemplar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? (the more exemplary, the less test cases need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How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How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volvable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? (maintenance eff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utomation effec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1523880"/>
            <a:ext cx="0" cy="40388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3429000"/>
            <a:ext cx="56386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9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653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xemp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volv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3138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cono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2676600">
            <a:off x="2873160" y="2154240"/>
            <a:ext cx="2584440" cy="2635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76720" y="1600200"/>
            <a:ext cx="1752480" cy="3733920"/>
            <a:chOff x="3276720" y="1600200"/>
            <a:chExt cx="1752480" cy="3733920"/>
          </a:xfrm>
        </p:grpSpPr>
        <p:sp>
          <p:nvSpPr>
            <p:cNvPr id="328" name=""/>
            <p:cNvSpPr/>
            <p:nvPr/>
          </p:nvSpPr>
          <p:spPr>
            <a:xfrm>
              <a:off x="4191120" y="1600200"/>
              <a:ext cx="838080" cy="18288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191120" y="3429000"/>
              <a:ext cx="838080" cy="1905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276720" y="1600200"/>
              <a:ext cx="914400" cy="18288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720" y="3429000"/>
              <a:ext cx="914400" cy="1905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800" y="1676520"/>
            <a:ext cx="2362320" cy="3657600"/>
            <a:chOff x="1828800" y="1676520"/>
            <a:chExt cx="2362320" cy="3657600"/>
          </a:xfrm>
        </p:grpSpPr>
        <p:sp>
          <p:nvSpPr>
            <p:cNvPr id="333" name=""/>
            <p:cNvSpPr/>
            <p:nvPr/>
          </p:nvSpPr>
          <p:spPr>
            <a:xfrm flipH="1">
              <a:off x="1828800" y="1676520"/>
              <a:ext cx="2362320" cy="175248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3429000"/>
              <a:ext cx="2362320" cy="190512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pic>
        <p:nvPicPr>
          <p:cNvPr id="127" name="kent-beck-black-white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149200" cy="3352680"/>
          </a:xfrm>
          <a:prstGeom prst="rect">
            <a:avLst/>
          </a:prstGeom>
          <a:ln w="0">
            <a:noFill/>
          </a:ln>
        </p:spPr>
      </p:pic>
      <p:pic>
        <p:nvPicPr>
          <p:cNvPr id="128" name="xp-explained" descr=""/>
          <p:cNvPicPr/>
          <p:nvPr/>
        </p:nvPicPr>
        <p:blipFill>
          <a:blip r:embed="rId2"/>
          <a:stretch/>
        </p:blipFill>
        <p:spPr>
          <a:xfrm>
            <a:off x="76320" y="1901880"/>
            <a:ext cx="2651040" cy="335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81480" y="1447920"/>
            <a:ext cx="38102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cceptance tests: custo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utomated accept.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. testing: customer+t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gress measurement based on accept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Summary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338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345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28640" y="1676520"/>
            <a:ext cx="56386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DS test develop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se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anual test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utomated test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cri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est case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sharing the scri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httpUnit or Rational Rob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Narrow"/>
              </a:rPr>
              <a:t>Questions</a:t>
            </a: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Presentation Conten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80720" y="180324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 Narrow"/>
              </a:rPr>
              <a:t>Testing 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he Scribble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he Manual Tes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 Auto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Use-Case-Based Accept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52280" y="2108160"/>
            <a:ext cx="1676520" cy="2286000"/>
            <a:chOff x="152280" y="2108160"/>
            <a:chExt cx="1676520" cy="2286000"/>
          </a:xfrm>
        </p:grpSpPr>
        <p:sp>
          <p:nvSpPr>
            <p:cNvPr id="356" name=""/>
            <p:cNvSpPr/>
            <p:nvPr/>
          </p:nvSpPr>
          <p:spPr>
            <a:xfrm>
              <a:off x="152280" y="2108160"/>
              <a:ext cx="1676520" cy="228600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" y="26413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200" y="27939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" y="30225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200" y="33271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363204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ctiv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7632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test conditions (‘what’ to test) and priori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4757760"/>
            <a:ext cx="289548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66ffff"/>
                </a:solidFill>
                <a:latin typeface="Arial Narrow"/>
              </a:rPr>
              <a:t>val</a:t>
            </a:r>
            <a:r>
              <a:rPr b="1" lang="pl-PL" sz="2800" spc="-1" strike="noStrike" baseline="-25000">
                <a:solidFill>
                  <a:srgbClr val="66ffff"/>
                </a:solidFill>
                <a:latin typeface="Arial Narrow"/>
              </a:rPr>
              <a:t>i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&gt; </a:t>
            </a:r>
            <a:r>
              <a:rPr b="1" lang="pl-PL" sz="2800" spc="-1" strike="noStrike">
                <a:solidFill>
                  <a:srgbClr val="66ffff"/>
                </a:solidFill>
                <a:latin typeface="Arial Narrow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ubject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1" lang="pl-PL" sz="2800" spc="-1" strike="noStrike" baseline="-25000">
                <a:solidFill>
                  <a:srgbClr val="ffff00"/>
                </a:solidFill>
                <a:latin typeface="Arial Narrow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6320" y="2133720"/>
            <a:ext cx="7467480" cy="2973240"/>
            <a:chOff x="76320" y="2133720"/>
            <a:chExt cx="7467480" cy="2973240"/>
          </a:xfrm>
        </p:grpSpPr>
        <p:grpSp>
          <p:nvGrpSpPr>
            <p:cNvPr id="366" name=""/>
            <p:cNvGrpSpPr/>
            <p:nvPr/>
          </p:nvGrpSpPr>
          <p:grpSpPr>
            <a:xfrm>
              <a:off x="76320" y="2819520"/>
              <a:ext cx="1447200" cy="1752120"/>
              <a:chOff x="76320" y="2819520"/>
              <a:chExt cx="1447200" cy="1752120"/>
            </a:xfrm>
          </p:grpSpPr>
          <p:sp>
            <p:nvSpPr>
              <p:cNvPr id="367" name=""/>
              <p:cNvSpPr/>
              <p:nvPr/>
            </p:nvSpPr>
            <p:spPr>
              <a:xfrm>
                <a:off x="76320" y="2819520"/>
                <a:ext cx="1447200" cy="1752120"/>
              </a:xfrm>
              <a:custGeom>
                <a:avLst/>
                <a:gdLst/>
                <a:ahLst/>
                <a:rect l="l" t="t" r="r" b="b"/>
                <a:pathLst>
                  <a:path w="2567" h="2757">
                    <a:moveTo>
                      <a:pt x="898" y="510"/>
                    </a:moveTo>
                    <a:lnTo>
                      <a:pt x="746" y="641"/>
                    </a:lnTo>
                    <a:lnTo>
                      <a:pt x="566" y="772"/>
                    </a:lnTo>
                    <a:lnTo>
                      <a:pt x="374" y="981"/>
                    </a:lnTo>
                    <a:lnTo>
                      <a:pt x="167" y="1255"/>
                    </a:lnTo>
                    <a:lnTo>
                      <a:pt x="56" y="1490"/>
                    </a:lnTo>
                    <a:lnTo>
                      <a:pt x="0" y="1673"/>
                    </a:lnTo>
                    <a:lnTo>
                      <a:pt x="0" y="1790"/>
                    </a:lnTo>
                    <a:lnTo>
                      <a:pt x="15" y="2039"/>
                    </a:lnTo>
                    <a:lnTo>
                      <a:pt x="56" y="2222"/>
                    </a:lnTo>
                    <a:lnTo>
                      <a:pt x="167" y="2339"/>
                    </a:lnTo>
                    <a:lnTo>
                      <a:pt x="387" y="2484"/>
                    </a:lnTo>
                    <a:lnTo>
                      <a:pt x="595" y="2575"/>
                    </a:lnTo>
                    <a:lnTo>
                      <a:pt x="856" y="2666"/>
                    </a:lnTo>
                    <a:lnTo>
                      <a:pt x="1008" y="2718"/>
                    </a:lnTo>
                    <a:lnTo>
                      <a:pt x="1270" y="2757"/>
                    </a:lnTo>
                    <a:lnTo>
                      <a:pt x="1669" y="2718"/>
                    </a:lnTo>
                    <a:lnTo>
                      <a:pt x="2015" y="2627"/>
                    </a:lnTo>
                    <a:lnTo>
                      <a:pt x="2235" y="2496"/>
                    </a:lnTo>
                    <a:lnTo>
                      <a:pt x="2373" y="2353"/>
                    </a:lnTo>
                    <a:lnTo>
                      <a:pt x="2456" y="2209"/>
                    </a:lnTo>
                    <a:lnTo>
                      <a:pt x="2538" y="2026"/>
                    </a:lnTo>
                    <a:lnTo>
                      <a:pt x="2567" y="1817"/>
                    </a:lnTo>
                    <a:lnTo>
                      <a:pt x="2567" y="1530"/>
                    </a:lnTo>
                    <a:lnTo>
                      <a:pt x="2511" y="1346"/>
                    </a:lnTo>
                    <a:lnTo>
                      <a:pt x="2400" y="1150"/>
                    </a:lnTo>
                    <a:lnTo>
                      <a:pt x="2249" y="968"/>
                    </a:lnTo>
                    <a:lnTo>
                      <a:pt x="2084" y="823"/>
                    </a:lnTo>
                    <a:lnTo>
                      <a:pt x="1918" y="706"/>
                    </a:lnTo>
                    <a:lnTo>
                      <a:pt x="1683" y="601"/>
                    </a:lnTo>
                    <a:lnTo>
                      <a:pt x="1669" y="536"/>
                    </a:lnTo>
                    <a:lnTo>
                      <a:pt x="1877" y="327"/>
                    </a:lnTo>
                    <a:lnTo>
                      <a:pt x="1890" y="196"/>
                    </a:lnTo>
                    <a:lnTo>
                      <a:pt x="1656" y="327"/>
                    </a:lnTo>
                    <a:lnTo>
                      <a:pt x="1738" y="92"/>
                    </a:lnTo>
                    <a:lnTo>
                      <a:pt x="1711" y="79"/>
                    </a:lnTo>
                    <a:lnTo>
                      <a:pt x="1629" y="79"/>
                    </a:lnTo>
                    <a:lnTo>
                      <a:pt x="1491" y="236"/>
                    </a:lnTo>
                    <a:lnTo>
                      <a:pt x="1408" y="327"/>
                    </a:lnTo>
                    <a:lnTo>
                      <a:pt x="1435" y="157"/>
                    </a:lnTo>
                    <a:lnTo>
                      <a:pt x="1491" y="27"/>
                    </a:lnTo>
                    <a:lnTo>
                      <a:pt x="1449" y="0"/>
                    </a:lnTo>
                    <a:lnTo>
                      <a:pt x="1353" y="79"/>
                    </a:lnTo>
                    <a:lnTo>
                      <a:pt x="1256" y="274"/>
                    </a:lnTo>
                    <a:lnTo>
                      <a:pt x="1215" y="170"/>
                    </a:lnTo>
                    <a:lnTo>
                      <a:pt x="1132" y="131"/>
                    </a:lnTo>
                    <a:lnTo>
                      <a:pt x="1077" y="261"/>
                    </a:lnTo>
                    <a:lnTo>
                      <a:pt x="1063" y="340"/>
                    </a:lnTo>
                    <a:lnTo>
                      <a:pt x="911" y="157"/>
                    </a:lnTo>
                    <a:lnTo>
                      <a:pt x="718" y="14"/>
                    </a:lnTo>
                    <a:lnTo>
                      <a:pt x="664" y="40"/>
                    </a:lnTo>
                    <a:lnTo>
                      <a:pt x="649" y="118"/>
                    </a:lnTo>
                    <a:lnTo>
                      <a:pt x="718" y="236"/>
                    </a:lnTo>
                    <a:lnTo>
                      <a:pt x="800" y="379"/>
                    </a:lnTo>
                    <a:lnTo>
                      <a:pt x="1008" y="628"/>
                    </a:lnTo>
                    <a:lnTo>
                      <a:pt x="980" y="679"/>
                    </a:lnTo>
                    <a:lnTo>
                      <a:pt x="938" y="706"/>
                    </a:lnTo>
                    <a:lnTo>
                      <a:pt x="967" y="758"/>
                    </a:lnTo>
                    <a:lnTo>
                      <a:pt x="1146" y="823"/>
                    </a:lnTo>
                    <a:lnTo>
                      <a:pt x="1435" y="823"/>
                    </a:lnTo>
                    <a:lnTo>
                      <a:pt x="1683" y="797"/>
                    </a:lnTo>
                    <a:lnTo>
                      <a:pt x="1767" y="719"/>
                    </a:lnTo>
                    <a:lnTo>
                      <a:pt x="1711" y="693"/>
                    </a:lnTo>
                    <a:lnTo>
                      <a:pt x="1656" y="732"/>
                    </a:lnTo>
                    <a:lnTo>
                      <a:pt x="1504" y="745"/>
                    </a:lnTo>
                    <a:lnTo>
                      <a:pt x="1353" y="772"/>
                    </a:lnTo>
                    <a:lnTo>
                      <a:pt x="1187" y="745"/>
                    </a:lnTo>
                    <a:lnTo>
                      <a:pt x="1435" y="719"/>
                    </a:lnTo>
                    <a:lnTo>
                      <a:pt x="1600" y="667"/>
                    </a:lnTo>
                    <a:lnTo>
                      <a:pt x="1629" y="641"/>
                    </a:lnTo>
                    <a:lnTo>
                      <a:pt x="1560" y="614"/>
                    </a:lnTo>
                    <a:lnTo>
                      <a:pt x="1477" y="654"/>
                    </a:lnTo>
                    <a:lnTo>
                      <a:pt x="1284" y="679"/>
                    </a:lnTo>
                    <a:lnTo>
                      <a:pt x="1146" y="667"/>
                    </a:lnTo>
                    <a:lnTo>
                      <a:pt x="1077" y="641"/>
                    </a:lnTo>
                    <a:lnTo>
                      <a:pt x="1105" y="576"/>
                    </a:lnTo>
                    <a:lnTo>
                      <a:pt x="980" y="484"/>
                    </a:lnTo>
                    <a:lnTo>
                      <a:pt x="856" y="367"/>
                    </a:lnTo>
                    <a:lnTo>
                      <a:pt x="787" y="249"/>
                    </a:lnTo>
                    <a:lnTo>
                      <a:pt x="760" y="170"/>
                    </a:lnTo>
                    <a:lnTo>
                      <a:pt x="760" y="145"/>
                    </a:lnTo>
                    <a:lnTo>
                      <a:pt x="787" y="145"/>
                    </a:lnTo>
                    <a:lnTo>
                      <a:pt x="856" y="196"/>
                    </a:lnTo>
                    <a:lnTo>
                      <a:pt x="952" y="314"/>
                    </a:lnTo>
                    <a:lnTo>
                      <a:pt x="1077" y="458"/>
                    </a:lnTo>
                    <a:lnTo>
                      <a:pt x="1105" y="497"/>
                    </a:lnTo>
                    <a:lnTo>
                      <a:pt x="1159" y="470"/>
                    </a:lnTo>
                    <a:lnTo>
                      <a:pt x="1132" y="392"/>
                    </a:lnTo>
                    <a:lnTo>
                      <a:pt x="1146" y="340"/>
                    </a:lnTo>
                    <a:lnTo>
                      <a:pt x="1159" y="274"/>
                    </a:lnTo>
                    <a:lnTo>
                      <a:pt x="1187" y="274"/>
                    </a:lnTo>
                    <a:lnTo>
                      <a:pt x="1215" y="354"/>
                    </a:lnTo>
                    <a:lnTo>
                      <a:pt x="1228" y="405"/>
                    </a:lnTo>
                    <a:lnTo>
                      <a:pt x="1270" y="419"/>
                    </a:lnTo>
                    <a:lnTo>
                      <a:pt x="1326" y="301"/>
                    </a:lnTo>
                    <a:lnTo>
                      <a:pt x="1353" y="261"/>
                    </a:lnTo>
                    <a:lnTo>
                      <a:pt x="1366" y="327"/>
                    </a:lnTo>
                    <a:lnTo>
                      <a:pt x="1366" y="432"/>
                    </a:lnTo>
                    <a:lnTo>
                      <a:pt x="1408" y="458"/>
                    </a:lnTo>
                    <a:lnTo>
                      <a:pt x="1477" y="367"/>
                    </a:lnTo>
                    <a:lnTo>
                      <a:pt x="1546" y="249"/>
                    </a:lnTo>
                    <a:lnTo>
                      <a:pt x="1615" y="223"/>
                    </a:lnTo>
                    <a:lnTo>
                      <a:pt x="1615" y="236"/>
                    </a:lnTo>
                    <a:lnTo>
                      <a:pt x="1573" y="314"/>
                    </a:lnTo>
                    <a:lnTo>
                      <a:pt x="1531" y="432"/>
                    </a:lnTo>
                    <a:lnTo>
                      <a:pt x="1573" y="445"/>
                    </a:lnTo>
                    <a:lnTo>
                      <a:pt x="1794" y="301"/>
                    </a:lnTo>
                    <a:lnTo>
                      <a:pt x="1821" y="301"/>
                    </a:lnTo>
                    <a:lnTo>
                      <a:pt x="1615" y="497"/>
                    </a:lnTo>
                    <a:lnTo>
                      <a:pt x="1573" y="536"/>
                    </a:lnTo>
                    <a:lnTo>
                      <a:pt x="1560" y="601"/>
                    </a:lnTo>
                    <a:lnTo>
                      <a:pt x="1600" y="628"/>
                    </a:lnTo>
                    <a:lnTo>
                      <a:pt x="1725" y="679"/>
                    </a:lnTo>
                    <a:lnTo>
                      <a:pt x="1932" y="785"/>
                    </a:lnTo>
                    <a:lnTo>
                      <a:pt x="2070" y="888"/>
                    </a:lnTo>
                    <a:lnTo>
                      <a:pt x="2235" y="1046"/>
                    </a:lnTo>
                    <a:lnTo>
                      <a:pt x="2360" y="1215"/>
                    </a:lnTo>
                    <a:lnTo>
                      <a:pt x="2442" y="1399"/>
                    </a:lnTo>
                    <a:lnTo>
                      <a:pt x="2498" y="1634"/>
                    </a:lnTo>
                    <a:lnTo>
                      <a:pt x="2483" y="1804"/>
                    </a:lnTo>
                    <a:lnTo>
                      <a:pt x="2469" y="1986"/>
                    </a:lnTo>
                    <a:lnTo>
                      <a:pt x="2387" y="2182"/>
                    </a:lnTo>
                    <a:lnTo>
                      <a:pt x="2304" y="2326"/>
                    </a:lnTo>
                    <a:lnTo>
                      <a:pt x="2208" y="2404"/>
                    </a:lnTo>
                    <a:lnTo>
                      <a:pt x="2097" y="2509"/>
                    </a:lnTo>
                    <a:lnTo>
                      <a:pt x="1890" y="2588"/>
                    </a:lnTo>
                    <a:lnTo>
                      <a:pt x="1642" y="2653"/>
                    </a:lnTo>
                    <a:lnTo>
                      <a:pt x="1518" y="2666"/>
                    </a:lnTo>
                    <a:lnTo>
                      <a:pt x="1284" y="2666"/>
                    </a:lnTo>
                    <a:lnTo>
                      <a:pt x="1063" y="2640"/>
                    </a:lnTo>
                    <a:lnTo>
                      <a:pt x="800" y="2575"/>
                    </a:lnTo>
                    <a:lnTo>
                      <a:pt x="553" y="2470"/>
                    </a:lnTo>
                    <a:lnTo>
                      <a:pt x="359" y="2366"/>
                    </a:lnTo>
                    <a:lnTo>
                      <a:pt x="194" y="2248"/>
                    </a:lnTo>
                    <a:lnTo>
                      <a:pt x="125" y="2157"/>
                    </a:lnTo>
                    <a:lnTo>
                      <a:pt x="111" y="2064"/>
                    </a:lnTo>
                    <a:lnTo>
                      <a:pt x="84" y="1790"/>
                    </a:lnTo>
                    <a:lnTo>
                      <a:pt x="98" y="1608"/>
                    </a:lnTo>
                    <a:lnTo>
                      <a:pt x="180" y="1412"/>
                    </a:lnTo>
                    <a:lnTo>
                      <a:pt x="290" y="1190"/>
                    </a:lnTo>
                    <a:lnTo>
                      <a:pt x="484" y="994"/>
                    </a:lnTo>
                    <a:lnTo>
                      <a:pt x="664" y="772"/>
                    </a:lnTo>
                    <a:lnTo>
                      <a:pt x="829" y="654"/>
                    </a:lnTo>
                    <a:lnTo>
                      <a:pt x="925" y="576"/>
                    </a:lnTo>
                    <a:lnTo>
                      <a:pt x="898" y="5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4760" y="3509640"/>
                <a:ext cx="294840" cy="539640"/>
              </a:xfrm>
              <a:custGeom>
                <a:avLst/>
                <a:gdLst/>
                <a:ahLst/>
                <a:rect l="l" t="t" r="r" b="b"/>
                <a:pathLst>
                  <a:path w="524" h="849">
                    <a:moveTo>
                      <a:pt x="317" y="156"/>
                    </a:moveTo>
                    <a:lnTo>
                      <a:pt x="413" y="169"/>
                    </a:lnTo>
                    <a:lnTo>
                      <a:pt x="495" y="235"/>
                    </a:lnTo>
                    <a:lnTo>
                      <a:pt x="524" y="300"/>
                    </a:lnTo>
                    <a:lnTo>
                      <a:pt x="426" y="326"/>
                    </a:lnTo>
                    <a:lnTo>
                      <a:pt x="371" y="273"/>
                    </a:lnTo>
                    <a:lnTo>
                      <a:pt x="303" y="247"/>
                    </a:lnTo>
                    <a:lnTo>
                      <a:pt x="234" y="235"/>
                    </a:lnTo>
                    <a:lnTo>
                      <a:pt x="123" y="260"/>
                    </a:lnTo>
                    <a:lnTo>
                      <a:pt x="96" y="326"/>
                    </a:lnTo>
                    <a:lnTo>
                      <a:pt x="151" y="378"/>
                    </a:lnTo>
                    <a:lnTo>
                      <a:pt x="288" y="417"/>
                    </a:lnTo>
                    <a:lnTo>
                      <a:pt x="426" y="417"/>
                    </a:lnTo>
                    <a:lnTo>
                      <a:pt x="468" y="456"/>
                    </a:lnTo>
                    <a:lnTo>
                      <a:pt x="495" y="522"/>
                    </a:lnTo>
                    <a:lnTo>
                      <a:pt x="482" y="600"/>
                    </a:lnTo>
                    <a:lnTo>
                      <a:pt x="399" y="653"/>
                    </a:lnTo>
                    <a:lnTo>
                      <a:pt x="303" y="653"/>
                    </a:lnTo>
                    <a:lnTo>
                      <a:pt x="234" y="653"/>
                    </a:lnTo>
                    <a:lnTo>
                      <a:pt x="206" y="718"/>
                    </a:lnTo>
                    <a:lnTo>
                      <a:pt x="219" y="835"/>
                    </a:lnTo>
                    <a:lnTo>
                      <a:pt x="123" y="849"/>
                    </a:lnTo>
                    <a:lnTo>
                      <a:pt x="109" y="757"/>
                    </a:lnTo>
                    <a:lnTo>
                      <a:pt x="137" y="653"/>
                    </a:lnTo>
                    <a:lnTo>
                      <a:pt x="54" y="613"/>
                    </a:lnTo>
                    <a:lnTo>
                      <a:pt x="0" y="574"/>
                    </a:lnTo>
                    <a:lnTo>
                      <a:pt x="82" y="496"/>
                    </a:lnTo>
                    <a:lnTo>
                      <a:pt x="123" y="548"/>
                    </a:lnTo>
                    <a:lnTo>
                      <a:pt x="192" y="560"/>
                    </a:lnTo>
                    <a:lnTo>
                      <a:pt x="288" y="574"/>
                    </a:lnTo>
                    <a:lnTo>
                      <a:pt x="371" y="574"/>
                    </a:lnTo>
                    <a:lnTo>
                      <a:pt x="413" y="560"/>
                    </a:lnTo>
                    <a:lnTo>
                      <a:pt x="386" y="509"/>
                    </a:lnTo>
                    <a:lnTo>
                      <a:pt x="317" y="496"/>
                    </a:lnTo>
                    <a:lnTo>
                      <a:pt x="192" y="469"/>
                    </a:lnTo>
                    <a:lnTo>
                      <a:pt x="68" y="431"/>
                    </a:lnTo>
                    <a:lnTo>
                      <a:pt x="27" y="365"/>
                    </a:lnTo>
                    <a:lnTo>
                      <a:pt x="13" y="287"/>
                    </a:lnTo>
                    <a:lnTo>
                      <a:pt x="82" y="208"/>
                    </a:lnTo>
                    <a:lnTo>
                      <a:pt x="178" y="143"/>
                    </a:lnTo>
                    <a:lnTo>
                      <a:pt x="247" y="143"/>
                    </a:lnTo>
                    <a:lnTo>
                      <a:pt x="275" y="0"/>
                    </a:lnTo>
                    <a:lnTo>
                      <a:pt x="357" y="13"/>
                    </a:lnTo>
                    <a:lnTo>
                      <a:pt x="317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1520" y="3482640"/>
                <a:ext cx="126000" cy="192600"/>
              </a:xfrm>
              <a:custGeom>
                <a:avLst/>
                <a:gdLst/>
                <a:ahLst/>
                <a:rect l="l" t="t" r="r" b="b"/>
                <a:pathLst>
                  <a:path w="220" h="301">
                    <a:moveTo>
                      <a:pt x="0" y="236"/>
                    </a:moveTo>
                    <a:lnTo>
                      <a:pt x="96" y="78"/>
                    </a:lnTo>
                    <a:lnTo>
                      <a:pt x="220" y="0"/>
                    </a:lnTo>
                    <a:lnTo>
                      <a:pt x="220" y="40"/>
                    </a:lnTo>
                    <a:lnTo>
                      <a:pt x="136" y="131"/>
                    </a:lnTo>
                    <a:lnTo>
                      <a:pt x="40" y="301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203480" y="3965400"/>
                <a:ext cx="79200" cy="133560"/>
              </a:xfrm>
              <a:custGeom>
                <a:avLst/>
                <a:gdLst/>
                <a:ahLst/>
                <a:rect l="l" t="t" r="r" b="b"/>
                <a:pathLst>
                  <a:path w="138" h="209">
                    <a:moveTo>
                      <a:pt x="138" y="0"/>
                    </a:moveTo>
                    <a:lnTo>
                      <a:pt x="42" y="130"/>
                    </a:lnTo>
                    <a:lnTo>
                      <a:pt x="0" y="182"/>
                    </a:lnTo>
                    <a:lnTo>
                      <a:pt x="55" y="209"/>
                    </a:lnTo>
                    <a:lnTo>
                      <a:pt x="96" y="182"/>
                    </a:lnTo>
                    <a:lnTo>
                      <a:pt x="138" y="91"/>
                    </a:lnTo>
                    <a:lnTo>
                      <a:pt x="138" y="51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905120" y="2133720"/>
              <a:ext cx="2943000" cy="567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Knapsack probl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43200" y="3062160"/>
              <a:ext cx="533160" cy="520560"/>
              <a:chOff x="2743200" y="3062160"/>
              <a:chExt cx="533160" cy="52056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3200" y="3062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43200" y="30621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cc"/>
                    </a:solidFill>
                    <a:latin typeface="Arial Narrow"/>
                  </a:rPr>
                  <a:t>1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828800" y="3076560"/>
              <a:ext cx="533520" cy="520560"/>
              <a:chOff x="1828800" y="3076560"/>
              <a:chExt cx="533520" cy="520560"/>
            </a:xfrm>
          </p:grpSpPr>
          <p:sp>
            <p:nvSpPr>
              <p:cNvPr id="376" name=""/>
              <p:cNvSpPr/>
              <p:nvPr/>
            </p:nvSpPr>
            <p:spPr>
              <a:xfrm>
                <a:off x="1828800" y="30765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28800" y="30765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cc"/>
                    </a:solidFill>
                    <a:latin typeface="Arial Narrow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657600" y="2924280"/>
              <a:ext cx="838080" cy="823680"/>
              <a:chOff x="3657600" y="2924280"/>
              <a:chExt cx="838080" cy="823680"/>
            </a:xfrm>
          </p:grpSpPr>
          <p:sp>
            <p:nvSpPr>
              <p:cNvPr id="379" name=""/>
              <p:cNvSpPr/>
              <p:nvPr/>
            </p:nvSpPr>
            <p:spPr>
              <a:xfrm>
                <a:off x="3657600" y="2924280"/>
                <a:ext cx="838080" cy="8236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09880" y="30765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cc"/>
                    </a:solidFill>
                    <a:latin typeface="Arial Narrow"/>
                  </a:rPr>
                  <a:t>1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952880" y="2757600"/>
              <a:ext cx="1218960" cy="1218960"/>
              <a:chOff x="4952880" y="2757600"/>
              <a:chExt cx="1218960" cy="1218960"/>
            </a:xfrm>
          </p:grpSpPr>
          <p:sp>
            <p:nvSpPr>
              <p:cNvPr id="382" name=""/>
              <p:cNvSpPr/>
              <p:nvPr/>
            </p:nvSpPr>
            <p:spPr>
              <a:xfrm>
                <a:off x="4952880" y="2757600"/>
                <a:ext cx="1218960" cy="121896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57440" y="31381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0000cc"/>
                    </a:solidFill>
                    <a:latin typeface="Arial Narrow"/>
                  </a:rPr>
                  <a:t>1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828800" y="3519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00"/>
                  </a:solidFill>
                  <a:latin typeface="Arial Narrow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19520" y="3519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00"/>
                  </a:solidFill>
                  <a:latin typeface="Arial Narrow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3672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00"/>
                  </a:solidFill>
                  <a:latin typeface="Arial Narrow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34120" y="3976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00"/>
                  </a:solidFill>
                  <a:latin typeface="Arial Narrow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9400" y="390060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size</a:t>
              </a:r>
              <a:r>
                <a:rPr b="1" lang="pl-PL" sz="2800" spc="-1" strike="noStrike" baseline="-25000">
                  <a:solidFill>
                    <a:srgbClr val="ffff00"/>
                  </a:solidFill>
                  <a:latin typeface="Arial Narrow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9400" y="313848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ffff"/>
                  </a:solidFill>
                  <a:latin typeface="Arial Narrow"/>
                </a:rPr>
                <a:t>val</a:t>
              </a:r>
              <a:r>
                <a:rPr b="1" lang="pl-PL" sz="2800" spc="-1" strike="noStrike" baseline="-25000">
                  <a:solidFill>
                    <a:srgbClr val="66ffff"/>
                  </a:solidFill>
                  <a:latin typeface="Arial Narrow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320" y="45864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apac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880" y="22860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ffff"/>
                  </a:solidFill>
                  <a:latin typeface="Arial Narrow"/>
                </a:rPr>
                <a:t>Val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Presentation Conten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80720" y="180324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ing Life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he Scribble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 Narrow"/>
              </a:rPr>
              <a:t>The Manual Test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 Auto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Use-Case-Based Accept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52280" y="2108160"/>
            <a:ext cx="1676520" cy="2286000"/>
            <a:chOff x="152280" y="2108160"/>
            <a:chExt cx="1676520" cy="2286000"/>
          </a:xfrm>
        </p:grpSpPr>
        <p:sp>
          <p:nvSpPr>
            <p:cNvPr id="395" name=""/>
            <p:cNvSpPr/>
            <p:nvPr/>
          </p:nvSpPr>
          <p:spPr>
            <a:xfrm>
              <a:off x="152280" y="2108160"/>
              <a:ext cx="1676520" cy="228600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" y="26413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" y="27939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200" y="30225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33271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200" y="363204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Presentation Conten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80720" y="180324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ing Life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he Scribble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he Manual Tes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st Auto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 Narrow"/>
              </a:rPr>
              <a:t>Use-Case-Based Acceptance T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52280" y="2108160"/>
            <a:ext cx="1676520" cy="2286000"/>
            <a:chOff x="152280" y="2108160"/>
            <a:chExt cx="1676520" cy="2286000"/>
          </a:xfrm>
        </p:grpSpPr>
        <p:sp>
          <p:nvSpPr>
            <p:cNvPr id="404" name=""/>
            <p:cNvSpPr/>
            <p:nvPr/>
          </p:nvSpPr>
          <p:spPr>
            <a:xfrm>
              <a:off x="152280" y="2108160"/>
              <a:ext cx="1676520" cy="228600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00" y="26413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200" y="27939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7200" y="30225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" y="33271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" y="363204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ctiv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76320" y="10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important scenarios (criticality/frequency) and priori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80880" y="1600200"/>
            <a:ext cx="6171840" cy="1130040"/>
            <a:chOff x="380880" y="1600200"/>
            <a:chExt cx="6171840" cy="1130040"/>
          </a:xfrm>
        </p:grpSpPr>
        <p:sp>
          <p:nvSpPr>
            <p:cNvPr id="413" name=""/>
            <p:cNvSpPr/>
            <p:nvPr/>
          </p:nvSpPr>
          <p:spPr>
            <a:xfrm>
              <a:off x="738720" y="2209680"/>
              <a:ext cx="58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Instantia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he selected scenarios (1 -&gt; *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880" y="1600200"/>
              <a:ext cx="7156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219320" y="2743200"/>
            <a:ext cx="5181480" cy="1144440"/>
            <a:chOff x="1219320" y="2743200"/>
            <a:chExt cx="5181480" cy="1144440"/>
          </a:xfrm>
        </p:grpSpPr>
        <p:sp>
          <p:nvSpPr>
            <p:cNvPr id="416" name=""/>
            <p:cNvSpPr/>
            <p:nvPr/>
          </p:nvSpPr>
          <p:spPr>
            <a:xfrm>
              <a:off x="1371600" y="33670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Implement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(scripts, data etc.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19320" y="2743200"/>
              <a:ext cx="6094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133720" y="4038480"/>
            <a:ext cx="3657600" cy="1054080"/>
            <a:chOff x="2133720" y="4038480"/>
            <a:chExt cx="3657600" cy="1054080"/>
          </a:xfrm>
        </p:grpSpPr>
        <p:sp>
          <p:nvSpPr>
            <p:cNvPr id="419" name=""/>
            <p:cNvSpPr/>
            <p:nvPr/>
          </p:nvSpPr>
          <p:spPr>
            <a:xfrm>
              <a:off x="2133720" y="4572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Execu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09680" y="4038480"/>
              <a:ext cx="60984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743200" y="5181480"/>
            <a:ext cx="6324480" cy="1068480"/>
            <a:chOff x="2743200" y="5181480"/>
            <a:chExt cx="6324480" cy="1068480"/>
          </a:xfrm>
        </p:grpSpPr>
        <p:sp>
          <p:nvSpPr>
            <p:cNvPr id="422" name=""/>
            <p:cNvSpPr/>
            <p:nvPr/>
          </p:nvSpPr>
          <p:spPr>
            <a:xfrm>
              <a:off x="2743200" y="5729400"/>
              <a:ext cx="63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ompar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outcomes to expected outcom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8120" y="5181480"/>
              <a:ext cx="60948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 txBox="1"/>
          <p:nvPr/>
        </p:nvSpPr>
        <p:spPr>
          <a:xfrm>
            <a:off x="3048120" y="3809880"/>
            <a:ext cx="3809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.. or write manual script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762120"/>
            <a:ext cx="9144000" cy="594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3048120"/>
            <a:ext cx="45720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286000" y="3048120"/>
            <a:ext cx="38088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97160" y="2781360"/>
            <a:ext cx="8380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Use case goal level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209680" y="2438280"/>
            <a:ext cx="1676520" cy="685800"/>
            <a:chOff x="2209680" y="2438280"/>
            <a:chExt cx="1676520" cy="685800"/>
          </a:xfrm>
        </p:grpSpPr>
        <p:sp>
          <p:nvSpPr>
            <p:cNvPr id="431" name=""/>
            <p:cNvSpPr/>
            <p:nvPr/>
          </p:nvSpPr>
          <p:spPr>
            <a:xfrm>
              <a:off x="2209680" y="2438280"/>
              <a:ext cx="16765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514600"/>
              <a:ext cx="15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Book tr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276720" y="3276720"/>
            <a:ext cx="1676160" cy="685800"/>
            <a:chOff x="3276720" y="3276720"/>
            <a:chExt cx="1676160" cy="685800"/>
          </a:xfrm>
        </p:grpSpPr>
        <p:sp>
          <p:nvSpPr>
            <p:cNvPr id="434" name=""/>
            <p:cNvSpPr/>
            <p:nvPr/>
          </p:nvSpPr>
          <p:spPr>
            <a:xfrm>
              <a:off x="3276720" y="3276720"/>
              <a:ext cx="16761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52680" y="3353040"/>
              <a:ext cx="152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Book hot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295280" y="3276720"/>
            <a:ext cx="1676520" cy="685800"/>
            <a:chOff x="1295280" y="3276720"/>
            <a:chExt cx="1676520" cy="685800"/>
          </a:xfrm>
        </p:grpSpPr>
        <p:sp>
          <p:nvSpPr>
            <p:cNvPr id="437" name=""/>
            <p:cNvSpPr/>
            <p:nvPr/>
          </p:nvSpPr>
          <p:spPr>
            <a:xfrm>
              <a:off x="1295280" y="3276720"/>
              <a:ext cx="16765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71600" y="3352680"/>
              <a:ext cx="15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Book flig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143000" y="2514600"/>
            <a:ext cx="152280" cy="533520"/>
            <a:chOff x="1143000" y="2514600"/>
            <a:chExt cx="152280" cy="533520"/>
          </a:xfrm>
        </p:grpSpPr>
        <p:sp>
          <p:nvSpPr>
            <p:cNvPr id="440" name=""/>
            <p:cNvSpPr/>
            <p:nvPr/>
          </p:nvSpPr>
          <p:spPr>
            <a:xfrm>
              <a:off x="1143000" y="2514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19320" y="2667240"/>
              <a:ext cx="0" cy="22860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3000" y="2743200"/>
              <a:ext cx="1522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2895840"/>
              <a:ext cx="75960" cy="1522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143000" y="2895840"/>
              <a:ext cx="76320" cy="1522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04920" y="4191120"/>
            <a:ext cx="8001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2209680"/>
            <a:ext cx="8001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2835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User Go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143000" y="1143000"/>
            <a:ext cx="7543800" cy="1800360"/>
            <a:chOff x="1143000" y="1143000"/>
            <a:chExt cx="7543800" cy="1800360"/>
          </a:xfrm>
        </p:grpSpPr>
        <p:sp>
          <p:nvSpPr>
            <p:cNvPr id="449" name=""/>
            <p:cNvSpPr/>
            <p:nvPr/>
          </p:nvSpPr>
          <p:spPr>
            <a:xfrm>
              <a:off x="1384200" y="1549440"/>
              <a:ext cx="83844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2209680" y="1219320"/>
              <a:ext cx="1676160" cy="685800"/>
              <a:chOff x="2209680" y="1219320"/>
              <a:chExt cx="1676160" cy="685800"/>
            </a:xfrm>
          </p:grpSpPr>
          <p:sp>
            <p:nvSpPr>
              <p:cNvPr id="451" name=""/>
              <p:cNvSpPr/>
              <p:nvPr/>
            </p:nvSpPr>
            <p:spPr>
              <a:xfrm>
                <a:off x="2209680" y="1219320"/>
                <a:ext cx="1676160" cy="685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5640" y="1295640"/>
                <a:ext cx="152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Book tr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143000" y="1295280"/>
              <a:ext cx="152280" cy="533520"/>
              <a:chOff x="1143000" y="1295280"/>
              <a:chExt cx="15228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43000" y="12952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19320" y="1447920"/>
                <a:ext cx="0" cy="22860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143000" y="1523880"/>
                <a:ext cx="152280" cy="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19320" y="1676520"/>
                <a:ext cx="75960" cy="15228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1143000" y="1676520"/>
                <a:ext cx="76320" cy="15228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7238880" y="1143000"/>
              <a:ext cx="144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Summary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34120" y="1371600"/>
              <a:ext cx="304560" cy="1523880"/>
            </a:xfrm>
            <a:prstGeom prst="upArrow">
              <a:avLst>
                <a:gd name="adj1" fmla="val 50000"/>
                <a:gd name="adj2" fmla="val 125089"/>
              </a:avLst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5715000" y="2286000"/>
              <a:ext cx="1047600" cy="657360"/>
            </a:xfrm>
            <a:prstGeom prst="rect">
              <a:avLst/>
            </a:prstGeom>
          </p:spPr>
          <p:txBody>
            <a:bodyPr wrap="none" lIns="91800" rIns="91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Why?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09480" y="3429000"/>
            <a:ext cx="8458200" cy="3200400"/>
            <a:chOff x="609480" y="3429000"/>
            <a:chExt cx="8458200" cy="3200400"/>
          </a:xfrm>
        </p:grpSpPr>
        <p:sp>
          <p:nvSpPr>
            <p:cNvPr id="463" name=""/>
            <p:cNvSpPr/>
            <p:nvPr/>
          </p:nvSpPr>
          <p:spPr>
            <a:xfrm>
              <a:off x="5486400" y="5562720"/>
              <a:ext cx="609480" cy="3808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692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33720" y="5638680"/>
              <a:ext cx="457200" cy="22860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33920" y="4952880"/>
              <a:ext cx="45720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5791320"/>
              <a:ext cx="0" cy="1522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057400" y="4952880"/>
              <a:ext cx="38088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23880" y="4762440"/>
              <a:ext cx="83844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286000" y="4419720"/>
              <a:ext cx="1676160" cy="685800"/>
              <a:chOff x="2286000" y="4419720"/>
              <a:chExt cx="1676160" cy="685800"/>
            </a:xfrm>
          </p:grpSpPr>
          <p:sp>
            <p:nvSpPr>
              <p:cNvPr id="471" name=""/>
              <p:cNvSpPr/>
              <p:nvPr/>
            </p:nvSpPr>
            <p:spPr>
              <a:xfrm>
                <a:off x="2286000" y="4419720"/>
                <a:ext cx="1676160" cy="685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61960" y="4496040"/>
                <a:ext cx="152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Book tr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4038480" y="5105520"/>
              <a:ext cx="16765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14800" y="5181480"/>
              <a:ext cx="15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Book hot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80" y="5105520"/>
              <a:ext cx="16765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5181480"/>
              <a:ext cx="15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Book flig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09480" y="5943600"/>
              <a:ext cx="1676520" cy="685800"/>
              <a:chOff x="609480" y="5943600"/>
              <a:chExt cx="1676520" cy="685800"/>
            </a:xfrm>
          </p:grpSpPr>
          <p:sp>
            <p:nvSpPr>
              <p:cNvPr id="478" name=""/>
              <p:cNvSpPr/>
              <p:nvPr/>
            </p:nvSpPr>
            <p:spPr>
              <a:xfrm>
                <a:off x="609480" y="5943600"/>
                <a:ext cx="1676520" cy="685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5800" y="6019920"/>
                <a:ext cx="1523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Find f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2286000" y="5715000"/>
              <a:ext cx="1676160" cy="824040"/>
              <a:chOff x="2286000" y="5715000"/>
              <a:chExt cx="1676160" cy="824040"/>
            </a:xfrm>
          </p:grpSpPr>
          <p:sp>
            <p:nvSpPr>
              <p:cNvPr id="481" name=""/>
              <p:cNvSpPr/>
              <p:nvPr/>
            </p:nvSpPr>
            <p:spPr>
              <a:xfrm>
                <a:off x="2286000" y="5791320"/>
                <a:ext cx="1676160" cy="685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61960" y="5715000"/>
                <a:ext cx="1524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Reserve sea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114800" y="5943600"/>
              <a:ext cx="1676520" cy="685800"/>
              <a:chOff x="4114800" y="5943600"/>
              <a:chExt cx="1676520" cy="68580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4800" y="5943600"/>
                <a:ext cx="1676520" cy="685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1120" y="6019920"/>
                <a:ext cx="1523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Find hot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5791320" y="5715000"/>
              <a:ext cx="1676160" cy="824040"/>
              <a:chOff x="5791320" y="5715000"/>
              <a:chExt cx="1676160" cy="82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5791320" y="5791320"/>
                <a:ext cx="1676160" cy="685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7280" y="5715000"/>
                <a:ext cx="1524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cc"/>
                    </a:solidFill>
                    <a:latin typeface="Arial Narrow"/>
                  </a:rPr>
                  <a:t>Reserve roo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1295280" y="4495680"/>
              <a:ext cx="152280" cy="533520"/>
              <a:chOff x="1295280" y="4495680"/>
              <a:chExt cx="152280" cy="533520"/>
            </a:xfrm>
          </p:grpSpPr>
          <p:sp>
            <p:nvSpPr>
              <p:cNvPr id="490" name=""/>
              <p:cNvSpPr/>
              <p:nvPr/>
            </p:nvSpPr>
            <p:spPr>
              <a:xfrm>
                <a:off x="1295280" y="44956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4648320"/>
                <a:ext cx="0" cy="22860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295280" y="4724280"/>
                <a:ext cx="152280" cy="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4876920"/>
                <a:ext cx="75960" cy="15228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1295280" y="4876920"/>
                <a:ext cx="76320" cy="152280"/>
              </a:xfrm>
              <a:prstGeom prst="line">
                <a:avLst/>
              </a:prstGeom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391520" y="4740120"/>
              <a:ext cx="167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cc"/>
                  </a:solidFill>
                  <a:latin typeface="Arial Narrow"/>
                </a:rPr>
                <a:t>Subfunction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4120" y="3429000"/>
              <a:ext cx="304560" cy="1600200"/>
            </a:xfrm>
            <a:prstGeom prst="downArrow">
              <a:avLst>
                <a:gd name="adj1" fmla="val 50000"/>
                <a:gd name="adj2" fmla="val 131353"/>
              </a:avLst>
            </a:prstGeom>
            <a:solidFill>
              <a:srgbClr val="ffffff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5715000" y="3457440"/>
              <a:ext cx="1047600" cy="657360"/>
            </a:xfrm>
            <a:prstGeom prst="rect">
              <a:avLst/>
            </a:prstGeom>
          </p:spPr>
          <p:txBody>
            <a:bodyPr wrap="none" lIns="91800" rIns="91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000099"/>
                    </a:outerShdw>
                  </a:effectLst>
                  <a:latin typeface="Impact"/>
                </a:rPr>
                <a:t>How?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320" y="990720"/>
            <a:ext cx="8991360" cy="441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coverag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6320" y="990720"/>
            <a:ext cx="8991000" cy="4419000"/>
            <a:chOff x="76320" y="990720"/>
            <a:chExt cx="8991000" cy="4419000"/>
          </a:xfrm>
        </p:grpSpPr>
        <p:grpSp>
          <p:nvGrpSpPr>
            <p:cNvPr id="501" name=""/>
            <p:cNvGrpSpPr/>
            <p:nvPr/>
          </p:nvGrpSpPr>
          <p:grpSpPr>
            <a:xfrm>
              <a:off x="83880" y="997200"/>
              <a:ext cx="8974800" cy="4404600"/>
              <a:chOff x="83880" y="997200"/>
              <a:chExt cx="8974800" cy="440460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83880" y="997200"/>
                <a:ext cx="5349600" cy="880200"/>
                <a:chOff x="83880" y="997200"/>
                <a:chExt cx="5349600" cy="8802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55520" y="997200"/>
                  <a:ext cx="5205600" cy="88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tSoftwa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3880" y="997200"/>
                  <a:ext cx="5349600" cy="88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433840" y="997200"/>
                <a:ext cx="1206360" cy="880200"/>
                <a:chOff x="5433840" y="997200"/>
                <a:chExt cx="1206360" cy="8802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506200" y="997200"/>
                  <a:ext cx="1061280" cy="88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1: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433840" y="997200"/>
                  <a:ext cx="1206360" cy="88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640920" y="997200"/>
                <a:ext cx="1208520" cy="880200"/>
                <a:chOff x="6640920" y="997200"/>
                <a:chExt cx="1208520" cy="8802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640920" y="997200"/>
                  <a:ext cx="1208520" cy="88020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6640920" y="997200"/>
                  <a:ext cx="1208160" cy="879840"/>
                  <a:chOff x="6640920" y="997200"/>
                  <a:chExt cx="1208160" cy="8798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6712560" y="997200"/>
                    <a:ext cx="1064520" cy="87984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6640920" y="997200"/>
                    <a:ext cx="1208160" cy="87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3" name=""/>
              <p:cNvGrpSpPr/>
              <p:nvPr/>
            </p:nvGrpSpPr>
            <p:grpSpPr>
              <a:xfrm>
                <a:off x="7850160" y="997200"/>
                <a:ext cx="1208520" cy="880200"/>
                <a:chOff x="7850160" y="997200"/>
                <a:chExt cx="1208520" cy="8802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850160" y="997200"/>
                  <a:ext cx="1208520" cy="88020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" name=""/>
                <p:cNvGrpSpPr/>
                <p:nvPr/>
              </p:nvGrpSpPr>
              <p:grpSpPr>
                <a:xfrm>
                  <a:off x="7850160" y="997200"/>
                  <a:ext cx="1208160" cy="879840"/>
                  <a:chOff x="7850160" y="997200"/>
                  <a:chExt cx="1208160" cy="8798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7922520" y="997200"/>
                    <a:ext cx="1063800" cy="87984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850160" y="997200"/>
                    <a:ext cx="1208160" cy="87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" name=""/>
              <p:cNvGrpSpPr/>
              <p:nvPr/>
            </p:nvGrpSpPr>
            <p:grpSpPr>
              <a:xfrm>
                <a:off x="83880" y="1877760"/>
                <a:ext cx="5349600" cy="880920"/>
                <a:chOff x="83880" y="1877760"/>
                <a:chExt cx="5349600" cy="880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55520" y="1877760"/>
                  <a:ext cx="520560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electAProjec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3880" y="1877760"/>
                  <a:ext cx="5349600" cy="88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433840" y="1877760"/>
                <a:ext cx="1206360" cy="880920"/>
                <a:chOff x="5433840" y="1877760"/>
                <a:chExt cx="1206360" cy="880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506200" y="1877760"/>
                  <a:ext cx="106128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1: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433840" y="1877760"/>
                  <a:ext cx="1206360" cy="88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40920" y="1877760"/>
                <a:ext cx="1208520" cy="880920"/>
                <a:chOff x="6640920" y="1877760"/>
                <a:chExt cx="1208520" cy="880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40920" y="1877760"/>
                  <a:ext cx="1208520" cy="880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6640920" y="1877760"/>
                  <a:ext cx="1208160" cy="880560"/>
                  <a:chOff x="6640920" y="1877760"/>
                  <a:chExt cx="1208160" cy="8805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6712560" y="1877760"/>
                    <a:ext cx="1064520" cy="88056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640920" y="1877760"/>
                    <a:ext cx="1208160" cy="88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850160" y="1877760"/>
                <a:ext cx="1208520" cy="880920"/>
                <a:chOff x="7850160" y="1877760"/>
                <a:chExt cx="1208520" cy="880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850160" y="1877760"/>
                  <a:ext cx="1208520" cy="880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7850160" y="1877760"/>
                  <a:ext cx="1208160" cy="880560"/>
                  <a:chOff x="7850160" y="1877760"/>
                  <a:chExt cx="1208160" cy="88056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7922520" y="1877760"/>
                    <a:ext cx="1063800" cy="88056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850160" y="1877760"/>
                    <a:ext cx="1208160" cy="88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83880" y="2759040"/>
                <a:ext cx="5349600" cy="880200"/>
                <a:chOff x="83880" y="2759040"/>
                <a:chExt cx="5349600" cy="8802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55520" y="2759040"/>
                  <a:ext cx="5205600" cy="88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tInfoAboutProject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3880" y="2759040"/>
                  <a:ext cx="5349600" cy="88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5433840" y="2759040"/>
                <a:ext cx="1206360" cy="880200"/>
                <a:chOff x="5433840" y="2759040"/>
                <a:chExt cx="1206360" cy="8802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506200" y="2759040"/>
                  <a:ext cx="1061280" cy="88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1: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433840" y="2759040"/>
                  <a:ext cx="1206360" cy="88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40920" y="2759040"/>
                <a:ext cx="1208520" cy="880200"/>
                <a:chOff x="6640920" y="2759040"/>
                <a:chExt cx="1208520" cy="880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40920" y="2759040"/>
                  <a:ext cx="1208520" cy="88020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640920" y="2759040"/>
                  <a:ext cx="1208160" cy="879840"/>
                  <a:chOff x="6640920" y="2759040"/>
                  <a:chExt cx="1208160" cy="8798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712560" y="2759040"/>
                    <a:ext cx="1064520" cy="87984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640920" y="2759040"/>
                    <a:ext cx="1208160" cy="87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7850160" y="2759040"/>
                <a:ext cx="1208520" cy="880200"/>
                <a:chOff x="7850160" y="2759040"/>
                <a:chExt cx="1208520" cy="880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850160" y="2759040"/>
                  <a:ext cx="1208520" cy="88020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7850160" y="2759040"/>
                  <a:ext cx="1208160" cy="879840"/>
                  <a:chOff x="7850160" y="2759040"/>
                  <a:chExt cx="1208160" cy="87984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7922520" y="2759040"/>
                    <a:ext cx="1063800" cy="87984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850160" y="2759040"/>
                    <a:ext cx="1208160" cy="87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83880" y="3639960"/>
                <a:ext cx="5349600" cy="880200"/>
                <a:chOff x="83880" y="3639960"/>
                <a:chExt cx="5349600" cy="880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55520" y="3639960"/>
                  <a:ext cx="5205600" cy="88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gisterACustome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3880" y="3639960"/>
                  <a:ext cx="5349600" cy="88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5433840" y="3639960"/>
                <a:ext cx="1206360" cy="880200"/>
                <a:chOff x="5433840" y="3639960"/>
                <a:chExt cx="1206360" cy="8802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5506200" y="3639960"/>
                  <a:ext cx="1061280" cy="88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1: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433840" y="3639960"/>
                  <a:ext cx="1206360" cy="88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6640920" y="3639960"/>
                <a:ext cx="1208520" cy="880200"/>
                <a:chOff x="6640920" y="3639960"/>
                <a:chExt cx="1208520" cy="8802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712560" y="3639960"/>
                  <a:ext cx="1064520" cy="88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Z1: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640920" y="3639960"/>
                  <a:ext cx="1208520" cy="88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850160" y="3639960"/>
                <a:ext cx="1208520" cy="880200"/>
                <a:chOff x="7850160" y="3639960"/>
                <a:chExt cx="1208520" cy="8802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7850160" y="3639960"/>
                  <a:ext cx="1208520" cy="88020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7850160" y="3639960"/>
                  <a:ext cx="1208160" cy="879840"/>
                  <a:chOff x="7850160" y="3639960"/>
                  <a:chExt cx="1208160" cy="8798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7922520" y="3639960"/>
                    <a:ext cx="1063800" cy="87984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850160" y="3639960"/>
                    <a:ext cx="1208160" cy="87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4" name=""/>
              <p:cNvGrpSpPr/>
              <p:nvPr/>
            </p:nvGrpSpPr>
            <p:grpSpPr>
              <a:xfrm>
                <a:off x="83880" y="4520880"/>
                <a:ext cx="5349600" cy="880920"/>
                <a:chOff x="83880" y="4520880"/>
                <a:chExt cx="5349600" cy="8809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5520" y="4520880"/>
                  <a:ext cx="520560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bmitAProposal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3880" y="4520880"/>
                  <a:ext cx="5349600" cy="88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5433840" y="4520880"/>
                <a:ext cx="1206360" cy="880920"/>
                <a:chOff x="5433840" y="4520880"/>
                <a:chExt cx="1206360" cy="8809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5506200" y="4520880"/>
                  <a:ext cx="106128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1: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433840" y="4520880"/>
                  <a:ext cx="1206360" cy="88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6640920" y="4520880"/>
                <a:ext cx="1208520" cy="880920"/>
                <a:chOff x="6640920" y="4520880"/>
                <a:chExt cx="1208520" cy="8809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6712560" y="4520880"/>
                  <a:ext cx="106452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1: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640920" y="4520880"/>
                  <a:ext cx="1208520" cy="88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7850160" y="4520880"/>
                <a:ext cx="1208520" cy="880920"/>
                <a:chOff x="7850160" y="4520880"/>
                <a:chExt cx="1208520" cy="8809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7922520" y="4520880"/>
                  <a:ext cx="106416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1: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850160" y="4520880"/>
                  <a:ext cx="1208520" cy="88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6" name=""/>
            <p:cNvSpPr/>
            <p:nvPr/>
          </p:nvSpPr>
          <p:spPr>
            <a:xfrm>
              <a:off x="76320" y="990720"/>
              <a:ext cx="8991000" cy="441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276720" y="5562720"/>
            <a:ext cx="1523880" cy="609480"/>
          </a:xfrm>
          <a:prstGeom prst="wedgeRoundRectCallout">
            <a:avLst>
              <a:gd name="adj1" fmla="val 111874"/>
              <a:gd name="adj2" fmla="val -306773"/>
              <a:gd name="adj3" fmla="val 16667"/>
            </a:avLst>
          </a:prstGeom>
          <a:solidFill>
            <a:srgbClr val="ffffff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 Narrow"/>
              </a:rPr>
              <a:t>Sce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5791320"/>
            <a:ext cx="2057400" cy="609480"/>
          </a:xfrm>
          <a:prstGeom prst="wedgeRoundRectCallout">
            <a:avLst>
              <a:gd name="adj1" fmla="val -63194"/>
              <a:gd name="adj2" fmla="val -335157"/>
              <a:gd name="adj3" fmla="val 16667"/>
            </a:avLst>
          </a:prstGeom>
          <a:solidFill>
            <a:srgbClr val="ffffff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Arial Narrow"/>
              </a:rPr>
              <a:t>Total c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Use-Case Exampl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80" name=""/>
          <p:cNvSpPr/>
          <p:nvPr/>
        </p:nvSpPr>
        <p:spPr>
          <a:xfrm>
            <a:off x="152280" y="1447920"/>
            <a:ext cx="8839440" cy="50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Success Guarantees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: Requestor has goods, correct budet ready do be debi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Trigger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: Requestor decides to buy somet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Main Success Sce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Requestor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: Initiate a requ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Approver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: Check money in the budget, check price of goods, complete request for submis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Buyer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: Check contents of storage, find best vendor for go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Authorizer</a:t>
            </a: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: Validate Approver’s sign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c"/>
                </a:solidFill>
                <a:latin typeface="Arial Narrow"/>
              </a:rPr>
              <a:t>1a. Requestor does not know vendor or price: leave those parts blank and contin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Extreme Programming 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pic>
        <p:nvPicPr>
          <p:cNvPr id="131" name="xp-explained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2651040" cy="335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24080" y="8524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3160" indent="-3143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cceptance testing -&gt; Progress meas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81360" y="2152800"/>
            <a:ext cx="6324480" cy="3638520"/>
            <a:chOff x="2781360" y="2152800"/>
            <a:chExt cx="6324480" cy="3638520"/>
          </a:xfrm>
        </p:grpSpPr>
        <p:pic>
          <p:nvPicPr>
            <p:cNvPr id="134" name="image001" descr=""/>
            <p:cNvPicPr/>
            <p:nvPr/>
          </p:nvPicPr>
          <p:blipFill>
            <a:blip r:embed="rId2"/>
            <a:stretch/>
          </p:blipFill>
          <p:spPr>
            <a:xfrm>
              <a:off x="2781360" y="2152800"/>
              <a:ext cx="632448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410080" y="5195880"/>
              <a:ext cx="19051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Wee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25800">
              <a:off x="1798200" y="3549240"/>
              <a:ext cx="2590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Number of te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scenario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3240" y="684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k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Reprezentant kli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Zarejestrowanie organizacji klienta w bazie danych S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ochodz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przypadku użycia RegisterACustomer [RegCus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40" y="1598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u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J.Nawrocki;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modyfikowa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28.11.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40" y="19051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cenarius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Główny scenariusz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cenariusze pomocniczych przypadkó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arunki wstęp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Firma X nie jest zarejestrowana jako reprezentant klien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unkt wejśc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Przeglądarka internetowa (Internet Explorer 5.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-1440" y="3270240"/>
            <a:ext cx="8992800" cy="3053880"/>
            <a:chOff x="-1440" y="3270240"/>
            <a:chExt cx="8992800" cy="3053880"/>
          </a:xfrm>
        </p:grpSpPr>
        <p:grpSp>
          <p:nvGrpSpPr>
            <p:cNvPr id="586" name=""/>
            <p:cNvGrpSpPr/>
            <p:nvPr/>
          </p:nvGrpSpPr>
          <p:grpSpPr>
            <a:xfrm>
              <a:off x="5760" y="3275280"/>
              <a:ext cx="8976600" cy="3043080"/>
              <a:chOff x="5760" y="3275280"/>
              <a:chExt cx="8976600" cy="3043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5760" y="3275280"/>
                <a:ext cx="860040" cy="800280"/>
                <a:chOff x="5760" y="3275280"/>
                <a:chExt cx="860040" cy="80028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5760" y="3275280"/>
                  <a:ext cx="860040" cy="800280"/>
                </a:xfrm>
                <a:prstGeom prst="rect">
                  <a:avLst/>
                </a:prstGeom>
                <a:solidFill>
                  <a:srgbClr val="4c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5760" y="3275280"/>
                  <a:ext cx="859680" cy="799920"/>
                  <a:chOff x="5760" y="3275280"/>
                  <a:chExt cx="859680" cy="7999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75960" y="3275280"/>
                    <a:ext cx="718560" cy="799920"/>
                  </a:xfrm>
                  <a:prstGeom prst="rect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Kro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760" y="3275280"/>
                    <a:ext cx="859680" cy="79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2" name=""/>
              <p:cNvGrpSpPr/>
              <p:nvPr/>
            </p:nvGrpSpPr>
            <p:grpSpPr>
              <a:xfrm>
                <a:off x="866160" y="3275280"/>
                <a:ext cx="4057920" cy="800280"/>
                <a:chOff x="866160" y="3275280"/>
                <a:chExt cx="4057920" cy="800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866160" y="3275280"/>
                  <a:ext cx="4057920" cy="800280"/>
                </a:xfrm>
                <a:prstGeom prst="rect">
                  <a:avLst/>
                </a:prstGeom>
                <a:solidFill>
                  <a:srgbClr val="4c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866160" y="3275280"/>
                  <a:ext cx="4057560" cy="799920"/>
                  <a:chOff x="866160" y="3275280"/>
                  <a:chExt cx="4057560" cy="79992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37080" y="3275280"/>
                    <a:ext cx="3915720" cy="799920"/>
                  </a:xfrm>
                  <a:prstGeom prst="rect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Akcja aktora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866160" y="3275280"/>
                    <a:ext cx="4057560" cy="79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24440" y="3275280"/>
                <a:ext cx="4057920" cy="800280"/>
                <a:chOff x="4924440" y="3275280"/>
                <a:chExt cx="4057920" cy="8002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24440" y="3275280"/>
                  <a:ext cx="4057920" cy="800280"/>
                </a:xfrm>
                <a:prstGeom prst="rect">
                  <a:avLst/>
                </a:prstGeom>
                <a:solidFill>
                  <a:srgbClr val="4c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4924440" y="3275280"/>
                  <a:ext cx="4057560" cy="799920"/>
                  <a:chOff x="4924440" y="3275280"/>
                  <a:chExt cx="4057560" cy="79992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4995360" y="3275280"/>
                    <a:ext cx="3915000" cy="799920"/>
                  </a:xfrm>
                  <a:prstGeom prst="rect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Spodziewany rezulta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4924440" y="3275280"/>
                    <a:ext cx="4057560" cy="79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2" name=""/>
              <p:cNvGrpSpPr/>
              <p:nvPr/>
            </p:nvGrpSpPr>
            <p:grpSpPr>
              <a:xfrm>
                <a:off x="5760" y="4075920"/>
                <a:ext cx="860040" cy="640440"/>
                <a:chOff x="5760" y="4075920"/>
                <a:chExt cx="860040" cy="64044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76320" y="4075920"/>
                  <a:ext cx="71892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ro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760" y="4075920"/>
                  <a:ext cx="860040" cy="64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66160" y="4075920"/>
                <a:ext cx="4057920" cy="640440"/>
                <a:chOff x="866160" y="4075920"/>
                <a:chExt cx="4057920" cy="64044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37080" y="4075920"/>
                  <a:ext cx="39160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Otwórz stronę SDS-u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66160" y="4075920"/>
                  <a:ext cx="4057920" cy="64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4924440" y="4075920"/>
                <a:ext cx="4057920" cy="640440"/>
                <a:chOff x="4924440" y="4075920"/>
                <a:chExt cx="4057920" cy="6404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4995360" y="4075920"/>
                  <a:ext cx="39153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trona SDS jest otwarta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24440" y="4075920"/>
                  <a:ext cx="4057920" cy="64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60" y="4717080"/>
                <a:ext cx="860040" cy="640080"/>
                <a:chOff x="5760" y="4717080"/>
                <a:chExt cx="860040" cy="6400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76320" y="4717080"/>
                  <a:ext cx="718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60" y="4717080"/>
                  <a:ext cx="8600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866160" y="4717080"/>
                <a:ext cx="4057920" cy="640080"/>
                <a:chOff x="866160" y="4717080"/>
                <a:chExt cx="4057920" cy="640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37080" y="4717080"/>
                  <a:ext cx="39160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Otwórz formularz rejestracji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66160" y="4717080"/>
                  <a:ext cx="4057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924440" y="4717080"/>
                <a:ext cx="4057920" cy="640080"/>
                <a:chOff x="4924440" y="4717080"/>
                <a:chExt cx="4057920" cy="6400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995360" y="4717080"/>
                  <a:ext cx="39153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ormularz otwarty [</a:t>
                  </a:r>
                  <a:r>
                    <a:rPr b="0" lang="en-US" sz="2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ReqCust-Form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]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924440" y="4717080"/>
                  <a:ext cx="4057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5760" y="5357520"/>
                <a:ext cx="860040" cy="960840"/>
                <a:chOff x="5760" y="5357520"/>
                <a:chExt cx="860040" cy="9608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76320" y="5357520"/>
                  <a:ext cx="71892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60" y="5357520"/>
                  <a:ext cx="86004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66160" y="5357520"/>
                <a:ext cx="4057920" cy="960840"/>
                <a:chOff x="866160" y="5357520"/>
                <a:chExt cx="4057920" cy="9608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37080" y="5357520"/>
                  <a:ext cx="391608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prowadź dane Firmy X [</a:t>
                  </a:r>
                  <a:r>
                    <a:rPr b="0" lang="en-US" sz="2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CustInfo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] i wyślij je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6160" y="5357520"/>
                  <a:ext cx="405792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24440" y="5357520"/>
                <a:ext cx="4057920" cy="960840"/>
                <a:chOff x="4924440" y="5357520"/>
                <a:chExt cx="4057920" cy="96084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95360" y="5357520"/>
                  <a:ext cx="391536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Zostaje wyświetlony komunikat “Registration confirmed” [</a:t>
                  </a:r>
                  <a:r>
                    <a:rPr b="0" lang="en-US" sz="2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ReqCust-Confirm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]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924440" y="5357520"/>
                  <a:ext cx="405792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9" name=""/>
            <p:cNvSpPr/>
            <p:nvPr/>
          </p:nvSpPr>
          <p:spPr>
            <a:xfrm>
              <a:off x="-1440" y="3270240"/>
              <a:ext cx="8992800" cy="3053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scenario – Screen sho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req-cust-form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4343400" cy="36003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1384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reg-cust-confirm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390920" cy="36608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1430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egCust-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67280" y="5105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egCust-Confi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Introduction – What is Rational Robot?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pic>
        <p:nvPicPr>
          <p:cNvPr id="138" name="tablica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209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17440" y="2209680"/>
            <a:ext cx="1154160" cy="1782720"/>
            <a:chOff x="217440" y="2209680"/>
            <a:chExt cx="1154160" cy="1782720"/>
          </a:xfrm>
        </p:grpSpPr>
        <p:grpSp>
          <p:nvGrpSpPr>
            <p:cNvPr id="140" name=""/>
            <p:cNvGrpSpPr/>
            <p:nvPr/>
          </p:nvGrpSpPr>
          <p:grpSpPr>
            <a:xfrm>
              <a:off x="363600" y="2544480"/>
              <a:ext cx="1008000" cy="1447920"/>
              <a:chOff x="363600" y="2544480"/>
              <a:chExt cx="1008000" cy="1447920"/>
            </a:xfrm>
          </p:grpSpPr>
          <p:sp>
            <p:nvSpPr>
              <p:cNvPr id="141" name=""/>
              <p:cNvSpPr/>
              <p:nvPr/>
            </p:nvSpPr>
            <p:spPr>
              <a:xfrm>
                <a:off x="469800" y="2544480"/>
                <a:ext cx="380880" cy="373320"/>
              </a:xfrm>
              <a:custGeom>
                <a:avLst/>
                <a:gdLst/>
                <a:ahLst/>
                <a:rect l="l" t="t" r="r" b="b"/>
                <a:pathLst>
                  <a:path w="240" h="235">
                    <a:moveTo>
                      <a:pt x="159" y="61"/>
                    </a:moveTo>
                    <a:lnTo>
                      <a:pt x="146" y="36"/>
                    </a:lnTo>
                    <a:lnTo>
                      <a:pt x="129" y="18"/>
                    </a:lnTo>
                    <a:lnTo>
                      <a:pt x="109" y="6"/>
                    </a:lnTo>
                    <a:lnTo>
                      <a:pt x="88" y="0"/>
                    </a:lnTo>
                    <a:lnTo>
                      <a:pt x="67" y="0"/>
                    </a:lnTo>
                    <a:lnTo>
                      <a:pt x="49" y="6"/>
                    </a:lnTo>
                    <a:lnTo>
                      <a:pt x="35" y="13"/>
                    </a:lnTo>
                    <a:lnTo>
                      <a:pt x="21" y="25"/>
                    </a:lnTo>
                    <a:lnTo>
                      <a:pt x="11" y="43"/>
                    </a:lnTo>
                    <a:lnTo>
                      <a:pt x="4" y="66"/>
                    </a:lnTo>
                    <a:lnTo>
                      <a:pt x="0" y="86"/>
                    </a:lnTo>
                    <a:lnTo>
                      <a:pt x="2" y="116"/>
                    </a:lnTo>
                    <a:lnTo>
                      <a:pt x="9" y="145"/>
                    </a:lnTo>
                    <a:lnTo>
                      <a:pt x="21" y="171"/>
                    </a:lnTo>
                    <a:lnTo>
                      <a:pt x="34" y="193"/>
                    </a:lnTo>
                    <a:lnTo>
                      <a:pt x="56" y="218"/>
                    </a:lnTo>
                    <a:lnTo>
                      <a:pt x="79" y="230"/>
                    </a:lnTo>
                    <a:lnTo>
                      <a:pt x="102" y="235"/>
                    </a:lnTo>
                    <a:lnTo>
                      <a:pt x="122" y="234"/>
                    </a:lnTo>
                    <a:lnTo>
                      <a:pt x="138" y="230"/>
                    </a:lnTo>
                    <a:lnTo>
                      <a:pt x="154" y="219"/>
                    </a:lnTo>
                    <a:lnTo>
                      <a:pt x="166" y="209"/>
                    </a:lnTo>
                    <a:lnTo>
                      <a:pt x="175" y="193"/>
                    </a:lnTo>
                    <a:lnTo>
                      <a:pt x="180" y="179"/>
                    </a:lnTo>
                    <a:lnTo>
                      <a:pt x="182" y="154"/>
                    </a:lnTo>
                    <a:lnTo>
                      <a:pt x="178" y="134"/>
                    </a:lnTo>
                    <a:lnTo>
                      <a:pt x="176" y="114"/>
                    </a:lnTo>
                    <a:lnTo>
                      <a:pt x="171" y="97"/>
                    </a:lnTo>
                    <a:lnTo>
                      <a:pt x="169" y="82"/>
                    </a:lnTo>
                    <a:lnTo>
                      <a:pt x="217" y="63"/>
                    </a:lnTo>
                    <a:lnTo>
                      <a:pt x="238" y="45"/>
                    </a:lnTo>
                    <a:lnTo>
                      <a:pt x="240" y="33"/>
                    </a:lnTo>
                    <a:lnTo>
                      <a:pt x="238" y="22"/>
                    </a:lnTo>
                    <a:lnTo>
                      <a:pt x="226" y="17"/>
                    </a:lnTo>
                    <a:lnTo>
                      <a:pt x="212" y="20"/>
                    </a:lnTo>
                    <a:lnTo>
                      <a:pt x="198" y="33"/>
                    </a:lnTo>
                    <a:lnTo>
                      <a:pt x="184" y="47"/>
                    </a:lnTo>
                    <a:lnTo>
                      <a:pt x="159" y="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3600" y="2954160"/>
                <a:ext cx="471240" cy="487440"/>
              </a:xfrm>
              <a:custGeom>
                <a:avLst/>
                <a:gdLst/>
                <a:ahLst/>
                <a:rect l="l" t="t" r="r" b="b"/>
                <a:pathLst>
                  <a:path w="297" h="307">
                    <a:moveTo>
                      <a:pt x="158" y="21"/>
                    </a:moveTo>
                    <a:lnTo>
                      <a:pt x="191" y="5"/>
                    </a:lnTo>
                    <a:lnTo>
                      <a:pt x="216" y="0"/>
                    </a:lnTo>
                    <a:lnTo>
                      <a:pt x="243" y="0"/>
                    </a:lnTo>
                    <a:lnTo>
                      <a:pt x="266" y="9"/>
                    </a:lnTo>
                    <a:lnTo>
                      <a:pt x="283" y="21"/>
                    </a:lnTo>
                    <a:lnTo>
                      <a:pt x="292" y="41"/>
                    </a:lnTo>
                    <a:lnTo>
                      <a:pt x="297" y="55"/>
                    </a:lnTo>
                    <a:lnTo>
                      <a:pt x="297" y="76"/>
                    </a:lnTo>
                    <a:lnTo>
                      <a:pt x="289" y="99"/>
                    </a:lnTo>
                    <a:lnTo>
                      <a:pt x="273" y="115"/>
                    </a:lnTo>
                    <a:lnTo>
                      <a:pt x="246" y="133"/>
                    </a:lnTo>
                    <a:lnTo>
                      <a:pt x="220" y="145"/>
                    </a:lnTo>
                    <a:lnTo>
                      <a:pt x="197" y="154"/>
                    </a:lnTo>
                    <a:lnTo>
                      <a:pt x="172" y="168"/>
                    </a:lnTo>
                    <a:lnTo>
                      <a:pt x="158" y="184"/>
                    </a:lnTo>
                    <a:lnTo>
                      <a:pt x="156" y="204"/>
                    </a:lnTo>
                    <a:lnTo>
                      <a:pt x="158" y="229"/>
                    </a:lnTo>
                    <a:lnTo>
                      <a:pt x="158" y="255"/>
                    </a:lnTo>
                    <a:lnTo>
                      <a:pt x="145" y="277"/>
                    </a:lnTo>
                    <a:lnTo>
                      <a:pt x="130" y="293"/>
                    </a:lnTo>
                    <a:lnTo>
                      <a:pt x="110" y="303"/>
                    </a:lnTo>
                    <a:lnTo>
                      <a:pt x="87" y="307"/>
                    </a:lnTo>
                    <a:lnTo>
                      <a:pt x="57" y="307"/>
                    </a:lnTo>
                    <a:lnTo>
                      <a:pt x="52" y="307"/>
                    </a:lnTo>
                    <a:lnTo>
                      <a:pt x="32" y="298"/>
                    </a:lnTo>
                    <a:lnTo>
                      <a:pt x="15" y="280"/>
                    </a:lnTo>
                    <a:lnTo>
                      <a:pt x="2" y="255"/>
                    </a:lnTo>
                    <a:lnTo>
                      <a:pt x="0" y="234"/>
                    </a:lnTo>
                    <a:lnTo>
                      <a:pt x="0" y="199"/>
                    </a:lnTo>
                    <a:lnTo>
                      <a:pt x="8" y="167"/>
                    </a:lnTo>
                    <a:lnTo>
                      <a:pt x="2" y="168"/>
                    </a:lnTo>
                    <a:lnTo>
                      <a:pt x="18" y="144"/>
                    </a:lnTo>
                    <a:lnTo>
                      <a:pt x="36" y="122"/>
                    </a:lnTo>
                    <a:lnTo>
                      <a:pt x="31" y="124"/>
                    </a:lnTo>
                    <a:lnTo>
                      <a:pt x="59" y="99"/>
                    </a:lnTo>
                    <a:lnTo>
                      <a:pt x="85" y="76"/>
                    </a:lnTo>
                    <a:lnTo>
                      <a:pt x="114" y="57"/>
                    </a:lnTo>
                    <a:lnTo>
                      <a:pt x="137" y="41"/>
                    </a:lnTo>
                    <a:lnTo>
                      <a:pt x="158" y="2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7720" y="3348000"/>
                <a:ext cx="457200" cy="635040"/>
              </a:xfrm>
              <a:custGeom>
                <a:avLst/>
                <a:gdLst/>
                <a:ahLst/>
                <a:rect l="l" t="t" r="r" b="b"/>
                <a:pathLst>
                  <a:path w="288" h="400">
                    <a:moveTo>
                      <a:pt x="4" y="19"/>
                    </a:moveTo>
                    <a:lnTo>
                      <a:pt x="20" y="2"/>
                    </a:lnTo>
                    <a:lnTo>
                      <a:pt x="48" y="0"/>
                    </a:lnTo>
                    <a:lnTo>
                      <a:pt x="75" y="11"/>
                    </a:lnTo>
                    <a:lnTo>
                      <a:pt x="93" y="32"/>
                    </a:lnTo>
                    <a:lnTo>
                      <a:pt x="119" y="65"/>
                    </a:lnTo>
                    <a:lnTo>
                      <a:pt x="149" y="110"/>
                    </a:lnTo>
                    <a:lnTo>
                      <a:pt x="176" y="147"/>
                    </a:lnTo>
                    <a:lnTo>
                      <a:pt x="183" y="158"/>
                    </a:lnTo>
                    <a:lnTo>
                      <a:pt x="183" y="175"/>
                    </a:lnTo>
                    <a:lnTo>
                      <a:pt x="183" y="193"/>
                    </a:lnTo>
                    <a:lnTo>
                      <a:pt x="167" y="234"/>
                    </a:lnTo>
                    <a:lnTo>
                      <a:pt x="160" y="273"/>
                    </a:lnTo>
                    <a:lnTo>
                      <a:pt x="158" y="278"/>
                    </a:lnTo>
                    <a:lnTo>
                      <a:pt x="156" y="306"/>
                    </a:lnTo>
                    <a:lnTo>
                      <a:pt x="158" y="333"/>
                    </a:lnTo>
                    <a:lnTo>
                      <a:pt x="167" y="347"/>
                    </a:lnTo>
                    <a:lnTo>
                      <a:pt x="183" y="356"/>
                    </a:lnTo>
                    <a:lnTo>
                      <a:pt x="215" y="342"/>
                    </a:lnTo>
                    <a:lnTo>
                      <a:pt x="240" y="319"/>
                    </a:lnTo>
                    <a:lnTo>
                      <a:pt x="254" y="306"/>
                    </a:lnTo>
                    <a:lnTo>
                      <a:pt x="273" y="310"/>
                    </a:lnTo>
                    <a:lnTo>
                      <a:pt x="280" y="327"/>
                    </a:lnTo>
                    <a:lnTo>
                      <a:pt x="288" y="356"/>
                    </a:lnTo>
                    <a:lnTo>
                      <a:pt x="275" y="366"/>
                    </a:lnTo>
                    <a:lnTo>
                      <a:pt x="238" y="381"/>
                    </a:lnTo>
                    <a:lnTo>
                      <a:pt x="188" y="386"/>
                    </a:lnTo>
                    <a:lnTo>
                      <a:pt x="165" y="393"/>
                    </a:lnTo>
                    <a:lnTo>
                      <a:pt x="148" y="400"/>
                    </a:lnTo>
                    <a:lnTo>
                      <a:pt x="135" y="395"/>
                    </a:lnTo>
                    <a:lnTo>
                      <a:pt x="123" y="386"/>
                    </a:lnTo>
                    <a:lnTo>
                      <a:pt x="119" y="366"/>
                    </a:lnTo>
                    <a:lnTo>
                      <a:pt x="121" y="345"/>
                    </a:lnTo>
                    <a:lnTo>
                      <a:pt x="126" y="320"/>
                    </a:lnTo>
                    <a:lnTo>
                      <a:pt x="125" y="288"/>
                    </a:lnTo>
                    <a:lnTo>
                      <a:pt x="126" y="255"/>
                    </a:lnTo>
                    <a:lnTo>
                      <a:pt x="132" y="212"/>
                    </a:lnTo>
                    <a:lnTo>
                      <a:pt x="135" y="184"/>
                    </a:lnTo>
                    <a:lnTo>
                      <a:pt x="130" y="166"/>
                    </a:lnTo>
                    <a:lnTo>
                      <a:pt x="112" y="143"/>
                    </a:lnTo>
                    <a:lnTo>
                      <a:pt x="86" y="120"/>
                    </a:lnTo>
                    <a:lnTo>
                      <a:pt x="55" y="101"/>
                    </a:lnTo>
                    <a:lnTo>
                      <a:pt x="31" y="80"/>
                    </a:lnTo>
                    <a:lnTo>
                      <a:pt x="8" y="55"/>
                    </a:lnTo>
                    <a:lnTo>
                      <a:pt x="0" y="3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5280" y="3357360"/>
                <a:ext cx="365040" cy="635040"/>
              </a:xfrm>
              <a:custGeom>
                <a:avLst/>
                <a:gdLst/>
                <a:ahLst/>
                <a:rect l="l" t="t" r="r" b="b"/>
                <a:pathLst>
                  <a:path w="230" h="400">
                    <a:moveTo>
                      <a:pt x="0" y="16"/>
                    </a:moveTo>
                    <a:lnTo>
                      <a:pt x="12" y="4"/>
                    </a:lnTo>
                    <a:lnTo>
                      <a:pt x="39" y="0"/>
                    </a:lnTo>
                    <a:lnTo>
                      <a:pt x="64" y="12"/>
                    </a:lnTo>
                    <a:lnTo>
                      <a:pt x="80" y="41"/>
                    </a:lnTo>
                    <a:lnTo>
                      <a:pt x="104" y="85"/>
                    </a:lnTo>
                    <a:lnTo>
                      <a:pt x="126" y="124"/>
                    </a:lnTo>
                    <a:lnTo>
                      <a:pt x="142" y="154"/>
                    </a:lnTo>
                    <a:lnTo>
                      <a:pt x="143" y="173"/>
                    </a:lnTo>
                    <a:lnTo>
                      <a:pt x="138" y="193"/>
                    </a:lnTo>
                    <a:lnTo>
                      <a:pt x="122" y="241"/>
                    </a:lnTo>
                    <a:lnTo>
                      <a:pt x="108" y="281"/>
                    </a:lnTo>
                    <a:lnTo>
                      <a:pt x="99" y="304"/>
                    </a:lnTo>
                    <a:lnTo>
                      <a:pt x="96" y="333"/>
                    </a:lnTo>
                    <a:lnTo>
                      <a:pt x="99" y="349"/>
                    </a:lnTo>
                    <a:lnTo>
                      <a:pt x="110" y="356"/>
                    </a:lnTo>
                    <a:lnTo>
                      <a:pt x="129" y="349"/>
                    </a:lnTo>
                    <a:lnTo>
                      <a:pt x="150" y="333"/>
                    </a:lnTo>
                    <a:lnTo>
                      <a:pt x="172" y="313"/>
                    </a:lnTo>
                    <a:lnTo>
                      <a:pt x="184" y="304"/>
                    </a:lnTo>
                    <a:lnTo>
                      <a:pt x="207" y="303"/>
                    </a:lnTo>
                    <a:lnTo>
                      <a:pt x="228" y="315"/>
                    </a:lnTo>
                    <a:lnTo>
                      <a:pt x="230" y="327"/>
                    </a:lnTo>
                    <a:lnTo>
                      <a:pt x="226" y="333"/>
                    </a:lnTo>
                    <a:lnTo>
                      <a:pt x="218" y="343"/>
                    </a:lnTo>
                    <a:lnTo>
                      <a:pt x="186" y="354"/>
                    </a:lnTo>
                    <a:lnTo>
                      <a:pt x="159" y="365"/>
                    </a:lnTo>
                    <a:lnTo>
                      <a:pt x="126" y="381"/>
                    </a:lnTo>
                    <a:lnTo>
                      <a:pt x="104" y="396"/>
                    </a:lnTo>
                    <a:lnTo>
                      <a:pt x="92" y="400"/>
                    </a:lnTo>
                    <a:lnTo>
                      <a:pt x="78" y="395"/>
                    </a:lnTo>
                    <a:lnTo>
                      <a:pt x="69" y="382"/>
                    </a:lnTo>
                    <a:lnTo>
                      <a:pt x="64" y="365"/>
                    </a:lnTo>
                    <a:lnTo>
                      <a:pt x="64" y="342"/>
                    </a:lnTo>
                    <a:lnTo>
                      <a:pt x="71" y="320"/>
                    </a:lnTo>
                    <a:lnTo>
                      <a:pt x="74" y="294"/>
                    </a:lnTo>
                    <a:lnTo>
                      <a:pt x="78" y="264"/>
                    </a:lnTo>
                    <a:lnTo>
                      <a:pt x="87" y="234"/>
                    </a:lnTo>
                    <a:lnTo>
                      <a:pt x="90" y="204"/>
                    </a:lnTo>
                    <a:lnTo>
                      <a:pt x="99" y="179"/>
                    </a:lnTo>
                    <a:lnTo>
                      <a:pt x="104" y="166"/>
                    </a:lnTo>
                    <a:lnTo>
                      <a:pt x="87" y="150"/>
                    </a:lnTo>
                    <a:lnTo>
                      <a:pt x="62" y="126"/>
                    </a:lnTo>
                    <a:lnTo>
                      <a:pt x="41" y="97"/>
                    </a:lnTo>
                    <a:lnTo>
                      <a:pt x="19" y="69"/>
                    </a:lnTo>
                    <a:lnTo>
                      <a:pt x="5" y="39"/>
                    </a:lnTo>
                    <a:lnTo>
                      <a:pt x="0" y="2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8120" y="2712960"/>
                <a:ext cx="663480" cy="431640"/>
              </a:xfrm>
              <a:custGeom>
                <a:avLst/>
                <a:gdLst/>
                <a:ahLst/>
                <a:rect l="l" t="t" r="r" b="b"/>
                <a:pathLst>
                  <a:path w="418" h="272">
                    <a:moveTo>
                      <a:pt x="51" y="196"/>
                    </a:moveTo>
                    <a:lnTo>
                      <a:pt x="25" y="196"/>
                    </a:lnTo>
                    <a:lnTo>
                      <a:pt x="7" y="212"/>
                    </a:lnTo>
                    <a:lnTo>
                      <a:pt x="2" y="235"/>
                    </a:lnTo>
                    <a:lnTo>
                      <a:pt x="0" y="240"/>
                    </a:lnTo>
                    <a:lnTo>
                      <a:pt x="19" y="258"/>
                    </a:lnTo>
                    <a:lnTo>
                      <a:pt x="48" y="263"/>
                    </a:lnTo>
                    <a:lnTo>
                      <a:pt x="115" y="268"/>
                    </a:lnTo>
                    <a:lnTo>
                      <a:pt x="188" y="272"/>
                    </a:lnTo>
                    <a:lnTo>
                      <a:pt x="252" y="263"/>
                    </a:lnTo>
                    <a:lnTo>
                      <a:pt x="287" y="256"/>
                    </a:lnTo>
                    <a:lnTo>
                      <a:pt x="305" y="246"/>
                    </a:lnTo>
                    <a:lnTo>
                      <a:pt x="317" y="233"/>
                    </a:lnTo>
                    <a:lnTo>
                      <a:pt x="322" y="198"/>
                    </a:lnTo>
                    <a:lnTo>
                      <a:pt x="329" y="159"/>
                    </a:lnTo>
                    <a:lnTo>
                      <a:pt x="342" y="125"/>
                    </a:lnTo>
                    <a:lnTo>
                      <a:pt x="354" y="99"/>
                    </a:lnTo>
                    <a:lnTo>
                      <a:pt x="365" y="79"/>
                    </a:lnTo>
                    <a:lnTo>
                      <a:pt x="388" y="74"/>
                    </a:lnTo>
                    <a:lnTo>
                      <a:pt x="411" y="78"/>
                    </a:lnTo>
                    <a:lnTo>
                      <a:pt x="418" y="69"/>
                    </a:lnTo>
                    <a:lnTo>
                      <a:pt x="414" y="57"/>
                    </a:lnTo>
                    <a:lnTo>
                      <a:pt x="402" y="49"/>
                    </a:lnTo>
                    <a:lnTo>
                      <a:pt x="383" y="53"/>
                    </a:lnTo>
                    <a:lnTo>
                      <a:pt x="356" y="62"/>
                    </a:lnTo>
                    <a:lnTo>
                      <a:pt x="349" y="55"/>
                    </a:lnTo>
                    <a:lnTo>
                      <a:pt x="365" y="30"/>
                    </a:lnTo>
                    <a:lnTo>
                      <a:pt x="386" y="16"/>
                    </a:lnTo>
                    <a:lnTo>
                      <a:pt x="381" y="0"/>
                    </a:lnTo>
                    <a:lnTo>
                      <a:pt x="358" y="4"/>
                    </a:lnTo>
                    <a:lnTo>
                      <a:pt x="345" y="18"/>
                    </a:lnTo>
                    <a:lnTo>
                      <a:pt x="338" y="32"/>
                    </a:lnTo>
                    <a:lnTo>
                      <a:pt x="328" y="51"/>
                    </a:lnTo>
                    <a:lnTo>
                      <a:pt x="319" y="60"/>
                    </a:lnTo>
                    <a:lnTo>
                      <a:pt x="303" y="53"/>
                    </a:lnTo>
                    <a:lnTo>
                      <a:pt x="296" y="35"/>
                    </a:lnTo>
                    <a:lnTo>
                      <a:pt x="285" y="25"/>
                    </a:lnTo>
                    <a:lnTo>
                      <a:pt x="273" y="28"/>
                    </a:lnTo>
                    <a:lnTo>
                      <a:pt x="267" y="44"/>
                    </a:lnTo>
                    <a:lnTo>
                      <a:pt x="280" y="55"/>
                    </a:lnTo>
                    <a:lnTo>
                      <a:pt x="296" y="71"/>
                    </a:lnTo>
                    <a:lnTo>
                      <a:pt x="319" y="87"/>
                    </a:lnTo>
                    <a:lnTo>
                      <a:pt x="321" y="102"/>
                    </a:lnTo>
                    <a:lnTo>
                      <a:pt x="303" y="140"/>
                    </a:lnTo>
                    <a:lnTo>
                      <a:pt x="282" y="178"/>
                    </a:lnTo>
                    <a:lnTo>
                      <a:pt x="273" y="210"/>
                    </a:lnTo>
                    <a:lnTo>
                      <a:pt x="259" y="221"/>
                    </a:lnTo>
                    <a:lnTo>
                      <a:pt x="207" y="221"/>
                    </a:lnTo>
                    <a:lnTo>
                      <a:pt x="151" y="214"/>
                    </a:lnTo>
                    <a:lnTo>
                      <a:pt x="103" y="207"/>
                    </a:lnTo>
                    <a:lnTo>
                      <a:pt x="67" y="201"/>
                    </a:lnTo>
                    <a:lnTo>
                      <a:pt x="51" y="19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3720" y="2589120"/>
                <a:ext cx="425520" cy="511200"/>
              </a:xfrm>
              <a:custGeom>
                <a:avLst/>
                <a:gdLst/>
                <a:ahLst/>
                <a:rect l="l" t="t" r="r" b="b"/>
                <a:pathLst>
                  <a:path w="268" h="322">
                    <a:moveTo>
                      <a:pt x="0" y="249"/>
                    </a:moveTo>
                    <a:lnTo>
                      <a:pt x="27" y="237"/>
                    </a:lnTo>
                    <a:lnTo>
                      <a:pt x="54" y="235"/>
                    </a:lnTo>
                    <a:lnTo>
                      <a:pt x="84" y="244"/>
                    </a:lnTo>
                    <a:lnTo>
                      <a:pt x="119" y="260"/>
                    </a:lnTo>
                    <a:lnTo>
                      <a:pt x="151" y="269"/>
                    </a:lnTo>
                    <a:lnTo>
                      <a:pt x="171" y="267"/>
                    </a:lnTo>
                    <a:lnTo>
                      <a:pt x="174" y="255"/>
                    </a:lnTo>
                    <a:lnTo>
                      <a:pt x="185" y="225"/>
                    </a:lnTo>
                    <a:lnTo>
                      <a:pt x="188" y="179"/>
                    </a:lnTo>
                    <a:lnTo>
                      <a:pt x="197" y="120"/>
                    </a:lnTo>
                    <a:lnTo>
                      <a:pt x="199" y="92"/>
                    </a:lnTo>
                    <a:lnTo>
                      <a:pt x="197" y="62"/>
                    </a:lnTo>
                    <a:lnTo>
                      <a:pt x="201" y="42"/>
                    </a:lnTo>
                    <a:lnTo>
                      <a:pt x="208" y="21"/>
                    </a:lnTo>
                    <a:lnTo>
                      <a:pt x="217" y="4"/>
                    </a:lnTo>
                    <a:lnTo>
                      <a:pt x="233" y="0"/>
                    </a:lnTo>
                    <a:lnTo>
                      <a:pt x="240" y="11"/>
                    </a:lnTo>
                    <a:lnTo>
                      <a:pt x="229" y="27"/>
                    </a:lnTo>
                    <a:lnTo>
                      <a:pt x="219" y="39"/>
                    </a:lnTo>
                    <a:lnTo>
                      <a:pt x="219" y="48"/>
                    </a:lnTo>
                    <a:lnTo>
                      <a:pt x="229" y="46"/>
                    </a:lnTo>
                    <a:lnTo>
                      <a:pt x="242" y="34"/>
                    </a:lnTo>
                    <a:lnTo>
                      <a:pt x="252" y="21"/>
                    </a:lnTo>
                    <a:lnTo>
                      <a:pt x="265" y="25"/>
                    </a:lnTo>
                    <a:lnTo>
                      <a:pt x="268" y="37"/>
                    </a:lnTo>
                    <a:lnTo>
                      <a:pt x="254" y="50"/>
                    </a:lnTo>
                    <a:lnTo>
                      <a:pt x="238" y="58"/>
                    </a:lnTo>
                    <a:lnTo>
                      <a:pt x="226" y="71"/>
                    </a:lnTo>
                    <a:lnTo>
                      <a:pt x="226" y="88"/>
                    </a:lnTo>
                    <a:lnTo>
                      <a:pt x="238" y="106"/>
                    </a:lnTo>
                    <a:lnTo>
                      <a:pt x="247" y="117"/>
                    </a:lnTo>
                    <a:lnTo>
                      <a:pt x="243" y="129"/>
                    </a:lnTo>
                    <a:lnTo>
                      <a:pt x="227" y="133"/>
                    </a:lnTo>
                    <a:lnTo>
                      <a:pt x="215" y="117"/>
                    </a:lnTo>
                    <a:lnTo>
                      <a:pt x="217" y="168"/>
                    </a:lnTo>
                    <a:lnTo>
                      <a:pt x="215" y="218"/>
                    </a:lnTo>
                    <a:lnTo>
                      <a:pt x="210" y="262"/>
                    </a:lnTo>
                    <a:lnTo>
                      <a:pt x="204" y="294"/>
                    </a:lnTo>
                    <a:lnTo>
                      <a:pt x="192" y="318"/>
                    </a:lnTo>
                    <a:lnTo>
                      <a:pt x="174" y="322"/>
                    </a:lnTo>
                    <a:lnTo>
                      <a:pt x="130" y="315"/>
                    </a:lnTo>
                    <a:lnTo>
                      <a:pt x="89" y="308"/>
                    </a:lnTo>
                    <a:lnTo>
                      <a:pt x="48" y="301"/>
                    </a:lnTo>
                    <a:lnTo>
                      <a:pt x="20" y="290"/>
                    </a:lnTo>
                    <a:lnTo>
                      <a:pt x="7" y="272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17440" y="2209680"/>
              <a:ext cx="511200" cy="334800"/>
              <a:chOff x="217440" y="2209680"/>
              <a:chExt cx="511200" cy="334800"/>
            </a:xfrm>
          </p:grpSpPr>
          <p:sp>
            <p:nvSpPr>
              <p:cNvPr id="148" name=""/>
              <p:cNvSpPr/>
              <p:nvPr/>
            </p:nvSpPr>
            <p:spPr>
              <a:xfrm>
                <a:off x="644400" y="2209680"/>
                <a:ext cx="84240" cy="193680"/>
              </a:xfrm>
              <a:custGeom>
                <a:avLst/>
                <a:gdLst/>
                <a:ahLst/>
                <a:rect l="l" t="t" r="r" b="b"/>
                <a:pathLst>
                  <a:path w="53" h="122">
                    <a:moveTo>
                      <a:pt x="0" y="122"/>
                    </a:moveTo>
                    <a:lnTo>
                      <a:pt x="19" y="16"/>
                    </a:lnTo>
                    <a:lnTo>
                      <a:pt x="36" y="0"/>
                    </a:lnTo>
                    <a:lnTo>
                      <a:pt x="48" y="2"/>
                    </a:lnTo>
                    <a:lnTo>
                      <a:pt x="53" y="11"/>
                    </a:lnTo>
                    <a:lnTo>
                      <a:pt x="52" y="26"/>
                    </a:lnTo>
                    <a:lnTo>
                      <a:pt x="46" y="4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480" y="2214360"/>
                <a:ext cx="87480" cy="1936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5" y="122"/>
                    </a:moveTo>
                    <a:lnTo>
                      <a:pt x="0" y="30"/>
                    </a:lnTo>
                    <a:lnTo>
                      <a:pt x="2" y="7"/>
                    </a:lnTo>
                    <a:lnTo>
                      <a:pt x="13" y="0"/>
                    </a:lnTo>
                    <a:lnTo>
                      <a:pt x="23" y="4"/>
                    </a:lnTo>
                    <a:lnTo>
                      <a:pt x="31" y="16"/>
                    </a:lnTo>
                    <a:lnTo>
                      <a:pt x="37" y="31"/>
                    </a:lnTo>
                    <a:lnTo>
                      <a:pt x="55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440" y="2444760"/>
                <a:ext cx="187200" cy="99720"/>
              </a:xfrm>
              <a:custGeom>
                <a:avLst/>
                <a:gdLst/>
                <a:ahLst/>
                <a:rect l="l" t="t" r="r" b="b"/>
                <a:pathLst>
                  <a:path w="118" h="63">
                    <a:moveTo>
                      <a:pt x="118" y="63"/>
                    </a:moveTo>
                    <a:lnTo>
                      <a:pt x="14" y="35"/>
                    </a:lnTo>
                    <a:lnTo>
                      <a:pt x="0" y="17"/>
                    </a:lnTo>
                    <a:lnTo>
                      <a:pt x="2" y="5"/>
                    </a:lnTo>
                    <a:lnTo>
                      <a:pt x="12" y="0"/>
                    </a:lnTo>
                    <a:lnTo>
                      <a:pt x="27" y="3"/>
                    </a:lnTo>
                    <a:lnTo>
                      <a:pt x="41" y="10"/>
                    </a:lnTo>
                    <a:lnTo>
                      <a:pt x="118" y="6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1600200" y="2743200"/>
            <a:ext cx="1752480" cy="1752480"/>
            <a:chOff x="1600200" y="2743200"/>
            <a:chExt cx="1752480" cy="1752480"/>
          </a:xfrm>
        </p:grpSpPr>
        <p:sp>
          <p:nvSpPr>
            <p:cNvPr id="152" name=""/>
            <p:cNvSpPr/>
            <p:nvPr/>
          </p:nvSpPr>
          <p:spPr>
            <a:xfrm>
              <a:off x="1600200" y="3429000"/>
              <a:ext cx="175248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ccffff"/>
                </a:gs>
                <a:gs pos="100000">
                  <a:srgbClr val="99ccff"/>
                </a:gs>
              </a:gsLst>
              <a:lin ang="10800000"/>
            </a:gra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3733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Baseli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600" y="2743200"/>
              <a:ext cx="0" cy="6858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62520" y="762120"/>
            <a:ext cx="0" cy="5715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553080" y="1143000"/>
            <a:ext cx="2210040" cy="3352680"/>
            <a:chOff x="6553080" y="1143000"/>
            <a:chExt cx="2210040" cy="3352680"/>
          </a:xfrm>
        </p:grpSpPr>
        <p:pic>
          <p:nvPicPr>
            <p:cNvPr id="157" name="tablica" descr=""/>
            <p:cNvPicPr/>
            <p:nvPr/>
          </p:nvPicPr>
          <p:blipFill>
            <a:blip r:embed="rId2"/>
            <a:stretch/>
          </p:blipFill>
          <p:spPr>
            <a:xfrm>
              <a:off x="6553080" y="1143000"/>
              <a:ext cx="22100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010280" y="3429000"/>
              <a:ext cx="175284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ccffff"/>
                </a:gs>
                <a:gs pos="100000">
                  <a:srgbClr val="99ccff"/>
                </a:gs>
              </a:gsLst>
              <a:lin ang="10800000"/>
            </a:gra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3733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Baseli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00800" y="3048120"/>
            <a:ext cx="838080" cy="45720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57800" y="1676520"/>
            <a:ext cx="1295280" cy="1752480"/>
            <a:chOff x="5257800" y="1676520"/>
            <a:chExt cx="1295280" cy="1752480"/>
          </a:xfrm>
        </p:grpSpPr>
        <p:grpSp>
          <p:nvGrpSpPr>
            <p:cNvPr id="162" name=""/>
            <p:cNvGrpSpPr/>
            <p:nvPr/>
          </p:nvGrpSpPr>
          <p:grpSpPr>
            <a:xfrm>
              <a:off x="5257800" y="1676520"/>
              <a:ext cx="1066680" cy="1752480"/>
              <a:chOff x="5257800" y="1676520"/>
              <a:chExt cx="1066680" cy="1752480"/>
            </a:xfrm>
          </p:grpSpPr>
          <p:sp>
            <p:nvSpPr>
              <p:cNvPr id="163" name=""/>
              <p:cNvSpPr/>
              <p:nvPr/>
            </p:nvSpPr>
            <p:spPr>
              <a:xfrm>
                <a:off x="6095880" y="3048120"/>
                <a:ext cx="228600" cy="2286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57800" y="2286000"/>
                <a:ext cx="914400" cy="91440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10080" y="1676520"/>
                <a:ext cx="609840" cy="53316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4120" y="3200400"/>
                <a:ext cx="228600" cy="2286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91320" y="3200400"/>
                <a:ext cx="228600" cy="2286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57800" y="2362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cc"/>
                    </a:solidFill>
                    <a:latin typeface="Arial Narrow"/>
                  </a:rPr>
                  <a:t>Robo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95880" y="1752480"/>
                <a:ext cx="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6248520" y="2285640"/>
              <a:ext cx="152280" cy="3049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286000"/>
              <a:ext cx="152280" cy="763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14800" y="3687840"/>
            <a:ext cx="2117520" cy="1417680"/>
            <a:chOff x="4114800" y="3687840"/>
            <a:chExt cx="2117520" cy="1417680"/>
          </a:xfrm>
        </p:grpSpPr>
        <p:grpSp>
          <p:nvGrpSpPr>
            <p:cNvPr id="173" name=""/>
            <p:cNvGrpSpPr/>
            <p:nvPr/>
          </p:nvGrpSpPr>
          <p:grpSpPr>
            <a:xfrm>
              <a:off x="4114800" y="3687840"/>
              <a:ext cx="2117520" cy="1417680"/>
              <a:chOff x="4114800" y="3687840"/>
              <a:chExt cx="2117520" cy="1417680"/>
            </a:xfrm>
          </p:grpSpPr>
          <p:sp>
            <p:nvSpPr>
              <p:cNvPr id="174" name=""/>
              <p:cNvSpPr/>
              <p:nvPr/>
            </p:nvSpPr>
            <p:spPr>
              <a:xfrm>
                <a:off x="4419360" y="4530600"/>
                <a:ext cx="474840" cy="292320"/>
              </a:xfrm>
              <a:custGeom>
                <a:avLst/>
                <a:gdLst/>
                <a:ahLst/>
                <a:rect l="l" t="t" r="r" b="b"/>
                <a:pathLst>
                  <a:path w="299" h="184">
                    <a:moveTo>
                      <a:pt x="118" y="0"/>
                    </a:moveTo>
                    <a:lnTo>
                      <a:pt x="137" y="16"/>
                    </a:lnTo>
                    <a:lnTo>
                      <a:pt x="49" y="138"/>
                    </a:lnTo>
                    <a:lnTo>
                      <a:pt x="57" y="146"/>
                    </a:lnTo>
                    <a:lnTo>
                      <a:pt x="126" y="119"/>
                    </a:lnTo>
                    <a:lnTo>
                      <a:pt x="211" y="105"/>
                    </a:lnTo>
                    <a:lnTo>
                      <a:pt x="251" y="103"/>
                    </a:lnTo>
                    <a:lnTo>
                      <a:pt x="280" y="63"/>
                    </a:lnTo>
                    <a:lnTo>
                      <a:pt x="299" y="65"/>
                    </a:lnTo>
                    <a:lnTo>
                      <a:pt x="267" y="121"/>
                    </a:lnTo>
                    <a:lnTo>
                      <a:pt x="251" y="130"/>
                    </a:lnTo>
                    <a:lnTo>
                      <a:pt x="224" y="127"/>
                    </a:lnTo>
                    <a:lnTo>
                      <a:pt x="175" y="130"/>
                    </a:lnTo>
                    <a:lnTo>
                      <a:pt x="121" y="138"/>
                    </a:lnTo>
                    <a:lnTo>
                      <a:pt x="62" y="171"/>
                    </a:lnTo>
                    <a:lnTo>
                      <a:pt x="22" y="184"/>
                    </a:lnTo>
                    <a:lnTo>
                      <a:pt x="5" y="176"/>
                    </a:lnTo>
                    <a:lnTo>
                      <a:pt x="0" y="154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21120" y="4541760"/>
                <a:ext cx="511200" cy="563760"/>
              </a:xfrm>
              <a:custGeom>
                <a:avLst/>
                <a:gdLst/>
                <a:ahLst/>
                <a:rect l="l" t="t" r="r" b="b"/>
                <a:pathLst>
                  <a:path w="322" h="355">
                    <a:moveTo>
                      <a:pt x="0" y="191"/>
                    </a:moveTo>
                    <a:lnTo>
                      <a:pt x="14" y="234"/>
                    </a:lnTo>
                    <a:lnTo>
                      <a:pt x="25" y="275"/>
                    </a:lnTo>
                    <a:lnTo>
                      <a:pt x="63" y="329"/>
                    </a:lnTo>
                    <a:lnTo>
                      <a:pt x="112" y="355"/>
                    </a:lnTo>
                    <a:lnTo>
                      <a:pt x="136" y="353"/>
                    </a:lnTo>
                    <a:lnTo>
                      <a:pt x="179" y="315"/>
                    </a:lnTo>
                    <a:lnTo>
                      <a:pt x="265" y="232"/>
                    </a:lnTo>
                    <a:lnTo>
                      <a:pt x="316" y="167"/>
                    </a:lnTo>
                    <a:lnTo>
                      <a:pt x="322" y="134"/>
                    </a:lnTo>
                    <a:lnTo>
                      <a:pt x="306" y="113"/>
                    </a:lnTo>
                    <a:lnTo>
                      <a:pt x="276" y="86"/>
                    </a:lnTo>
                    <a:lnTo>
                      <a:pt x="252" y="54"/>
                    </a:lnTo>
                    <a:lnTo>
                      <a:pt x="235" y="0"/>
                    </a:lnTo>
                    <a:lnTo>
                      <a:pt x="212" y="24"/>
                    </a:lnTo>
                    <a:lnTo>
                      <a:pt x="233" y="70"/>
                    </a:lnTo>
                    <a:lnTo>
                      <a:pt x="257" y="102"/>
                    </a:lnTo>
                    <a:lnTo>
                      <a:pt x="282" y="129"/>
                    </a:lnTo>
                    <a:lnTo>
                      <a:pt x="298" y="138"/>
                    </a:lnTo>
                    <a:lnTo>
                      <a:pt x="298" y="154"/>
                    </a:lnTo>
                    <a:lnTo>
                      <a:pt x="292" y="170"/>
                    </a:lnTo>
                    <a:lnTo>
                      <a:pt x="136" y="323"/>
                    </a:lnTo>
                    <a:lnTo>
                      <a:pt x="114" y="329"/>
                    </a:lnTo>
                    <a:lnTo>
                      <a:pt x="79" y="313"/>
                    </a:lnTo>
                    <a:lnTo>
                      <a:pt x="58" y="275"/>
                    </a:lnTo>
                    <a:lnTo>
                      <a:pt x="34" y="218"/>
                    </a:lnTo>
                    <a:lnTo>
                      <a:pt x="34" y="186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44680" y="3741840"/>
                <a:ext cx="2003400" cy="1109520"/>
              </a:xfrm>
              <a:custGeom>
                <a:avLst/>
                <a:gdLst/>
                <a:ahLst/>
                <a:rect l="l" t="t" r="r" b="b"/>
                <a:pathLst>
                  <a:path w="1262" h="699">
                    <a:moveTo>
                      <a:pt x="534" y="289"/>
                    </a:moveTo>
                    <a:lnTo>
                      <a:pt x="424" y="168"/>
                    </a:lnTo>
                    <a:lnTo>
                      <a:pt x="344" y="78"/>
                    </a:lnTo>
                    <a:lnTo>
                      <a:pt x="309" y="16"/>
                    </a:lnTo>
                    <a:lnTo>
                      <a:pt x="285" y="0"/>
                    </a:lnTo>
                    <a:lnTo>
                      <a:pt x="253" y="0"/>
                    </a:lnTo>
                    <a:lnTo>
                      <a:pt x="173" y="38"/>
                    </a:lnTo>
                    <a:lnTo>
                      <a:pt x="80" y="86"/>
                    </a:lnTo>
                    <a:lnTo>
                      <a:pt x="21" y="109"/>
                    </a:lnTo>
                    <a:lnTo>
                      <a:pt x="5" y="126"/>
                    </a:lnTo>
                    <a:lnTo>
                      <a:pt x="0" y="150"/>
                    </a:lnTo>
                    <a:lnTo>
                      <a:pt x="32" y="221"/>
                    </a:lnTo>
                    <a:lnTo>
                      <a:pt x="120" y="334"/>
                    </a:lnTo>
                    <a:lnTo>
                      <a:pt x="248" y="462"/>
                    </a:lnTo>
                    <a:lnTo>
                      <a:pt x="296" y="508"/>
                    </a:lnTo>
                    <a:lnTo>
                      <a:pt x="320" y="524"/>
                    </a:lnTo>
                    <a:lnTo>
                      <a:pt x="414" y="550"/>
                    </a:lnTo>
                    <a:lnTo>
                      <a:pt x="536" y="588"/>
                    </a:lnTo>
                    <a:lnTo>
                      <a:pt x="651" y="638"/>
                    </a:lnTo>
                    <a:lnTo>
                      <a:pt x="675" y="651"/>
                    </a:lnTo>
                    <a:lnTo>
                      <a:pt x="699" y="654"/>
                    </a:lnTo>
                    <a:lnTo>
                      <a:pt x="821" y="675"/>
                    </a:lnTo>
                    <a:lnTo>
                      <a:pt x="970" y="694"/>
                    </a:lnTo>
                    <a:lnTo>
                      <a:pt x="1043" y="699"/>
                    </a:lnTo>
                    <a:lnTo>
                      <a:pt x="1062" y="694"/>
                    </a:lnTo>
                    <a:lnTo>
                      <a:pt x="1102" y="659"/>
                    </a:lnTo>
                    <a:lnTo>
                      <a:pt x="1155" y="588"/>
                    </a:lnTo>
                    <a:lnTo>
                      <a:pt x="1251" y="502"/>
                    </a:lnTo>
                    <a:lnTo>
                      <a:pt x="1262" y="484"/>
                    </a:lnTo>
                    <a:lnTo>
                      <a:pt x="1259" y="462"/>
                    </a:lnTo>
                    <a:lnTo>
                      <a:pt x="1221" y="451"/>
                    </a:lnTo>
                    <a:lnTo>
                      <a:pt x="1051" y="436"/>
                    </a:lnTo>
                    <a:lnTo>
                      <a:pt x="850" y="412"/>
                    </a:lnTo>
                    <a:lnTo>
                      <a:pt x="734" y="387"/>
                    </a:lnTo>
                    <a:lnTo>
                      <a:pt x="651" y="358"/>
                    </a:lnTo>
                    <a:lnTo>
                      <a:pt x="576" y="327"/>
                    </a:lnTo>
                    <a:lnTo>
                      <a:pt x="534" y="289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14800" y="3687840"/>
                <a:ext cx="2043000" cy="1189080"/>
              </a:xfrm>
              <a:custGeom>
                <a:avLst/>
                <a:gdLst/>
                <a:ahLst/>
                <a:rect l="l" t="t" r="r" b="b"/>
                <a:pathLst>
                  <a:path w="1287" h="749">
                    <a:moveTo>
                      <a:pt x="574" y="366"/>
                    </a:moveTo>
                    <a:lnTo>
                      <a:pt x="635" y="392"/>
                    </a:lnTo>
                    <a:lnTo>
                      <a:pt x="718" y="419"/>
                    </a:lnTo>
                    <a:lnTo>
                      <a:pt x="835" y="446"/>
                    </a:lnTo>
                    <a:lnTo>
                      <a:pt x="958" y="462"/>
                    </a:lnTo>
                    <a:lnTo>
                      <a:pt x="1116" y="483"/>
                    </a:lnTo>
                    <a:lnTo>
                      <a:pt x="1222" y="491"/>
                    </a:lnTo>
                    <a:lnTo>
                      <a:pt x="1251" y="509"/>
                    </a:lnTo>
                    <a:lnTo>
                      <a:pt x="1255" y="523"/>
                    </a:lnTo>
                    <a:lnTo>
                      <a:pt x="1172" y="611"/>
                    </a:lnTo>
                    <a:lnTo>
                      <a:pt x="1179" y="619"/>
                    </a:lnTo>
                    <a:lnTo>
                      <a:pt x="1279" y="533"/>
                    </a:lnTo>
                    <a:lnTo>
                      <a:pt x="1287" y="517"/>
                    </a:lnTo>
                    <a:lnTo>
                      <a:pt x="1270" y="483"/>
                    </a:lnTo>
                    <a:lnTo>
                      <a:pt x="1222" y="467"/>
                    </a:lnTo>
                    <a:lnTo>
                      <a:pt x="1116" y="467"/>
                    </a:lnTo>
                    <a:lnTo>
                      <a:pt x="955" y="443"/>
                    </a:lnTo>
                    <a:lnTo>
                      <a:pt x="819" y="422"/>
                    </a:lnTo>
                    <a:lnTo>
                      <a:pt x="710" y="392"/>
                    </a:lnTo>
                    <a:lnTo>
                      <a:pt x="611" y="360"/>
                    </a:lnTo>
                    <a:lnTo>
                      <a:pt x="552" y="318"/>
                    </a:lnTo>
                    <a:lnTo>
                      <a:pt x="502" y="245"/>
                    </a:lnTo>
                    <a:lnTo>
                      <a:pt x="417" y="157"/>
                    </a:lnTo>
                    <a:lnTo>
                      <a:pt x="352" y="77"/>
                    </a:lnTo>
                    <a:lnTo>
                      <a:pt x="312" y="16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00" y="53"/>
                    </a:lnTo>
                    <a:lnTo>
                      <a:pt x="117" y="93"/>
                    </a:lnTo>
                    <a:lnTo>
                      <a:pt x="16" y="136"/>
                    </a:lnTo>
                    <a:lnTo>
                      <a:pt x="0" y="157"/>
                    </a:lnTo>
                    <a:lnTo>
                      <a:pt x="0" y="189"/>
                    </a:lnTo>
                    <a:lnTo>
                      <a:pt x="32" y="253"/>
                    </a:lnTo>
                    <a:lnTo>
                      <a:pt x="109" y="352"/>
                    </a:lnTo>
                    <a:lnTo>
                      <a:pt x="192" y="446"/>
                    </a:lnTo>
                    <a:lnTo>
                      <a:pt x="280" y="531"/>
                    </a:lnTo>
                    <a:lnTo>
                      <a:pt x="320" y="555"/>
                    </a:lnTo>
                    <a:lnTo>
                      <a:pt x="384" y="579"/>
                    </a:lnTo>
                    <a:lnTo>
                      <a:pt x="494" y="613"/>
                    </a:lnTo>
                    <a:lnTo>
                      <a:pt x="630" y="666"/>
                    </a:lnTo>
                    <a:lnTo>
                      <a:pt x="691" y="698"/>
                    </a:lnTo>
                    <a:lnTo>
                      <a:pt x="782" y="709"/>
                    </a:lnTo>
                    <a:lnTo>
                      <a:pt x="942" y="725"/>
                    </a:lnTo>
                    <a:lnTo>
                      <a:pt x="1039" y="742"/>
                    </a:lnTo>
                    <a:lnTo>
                      <a:pt x="1071" y="749"/>
                    </a:lnTo>
                    <a:lnTo>
                      <a:pt x="1087" y="738"/>
                    </a:lnTo>
                    <a:lnTo>
                      <a:pt x="1140" y="666"/>
                    </a:lnTo>
                    <a:lnTo>
                      <a:pt x="1164" y="637"/>
                    </a:lnTo>
                    <a:lnTo>
                      <a:pt x="1150" y="635"/>
                    </a:lnTo>
                    <a:lnTo>
                      <a:pt x="1079" y="714"/>
                    </a:lnTo>
                    <a:lnTo>
                      <a:pt x="1055" y="718"/>
                    </a:lnTo>
                    <a:lnTo>
                      <a:pt x="942" y="714"/>
                    </a:lnTo>
                    <a:lnTo>
                      <a:pt x="795" y="693"/>
                    </a:lnTo>
                    <a:lnTo>
                      <a:pt x="710" y="683"/>
                    </a:lnTo>
                    <a:lnTo>
                      <a:pt x="606" y="635"/>
                    </a:lnTo>
                    <a:lnTo>
                      <a:pt x="518" y="603"/>
                    </a:lnTo>
                    <a:lnTo>
                      <a:pt x="446" y="573"/>
                    </a:lnTo>
                    <a:lnTo>
                      <a:pt x="352" y="547"/>
                    </a:lnTo>
                    <a:lnTo>
                      <a:pt x="312" y="525"/>
                    </a:lnTo>
                    <a:lnTo>
                      <a:pt x="296" y="509"/>
                    </a:lnTo>
                    <a:lnTo>
                      <a:pt x="216" y="438"/>
                    </a:lnTo>
                    <a:lnTo>
                      <a:pt x="149" y="366"/>
                    </a:lnTo>
                    <a:lnTo>
                      <a:pt x="72" y="273"/>
                    </a:lnTo>
                    <a:lnTo>
                      <a:pt x="29" y="200"/>
                    </a:lnTo>
                    <a:lnTo>
                      <a:pt x="22" y="181"/>
                    </a:lnTo>
                    <a:lnTo>
                      <a:pt x="24" y="165"/>
                    </a:lnTo>
                    <a:lnTo>
                      <a:pt x="29" y="157"/>
                    </a:lnTo>
                    <a:lnTo>
                      <a:pt x="133" y="104"/>
                    </a:lnTo>
                    <a:lnTo>
                      <a:pt x="200" y="69"/>
                    </a:lnTo>
                    <a:lnTo>
                      <a:pt x="269" y="40"/>
                    </a:lnTo>
                    <a:lnTo>
                      <a:pt x="309" y="45"/>
                    </a:lnTo>
                    <a:lnTo>
                      <a:pt x="360" y="101"/>
                    </a:lnTo>
                    <a:lnTo>
                      <a:pt x="424" y="192"/>
                    </a:lnTo>
                    <a:lnTo>
                      <a:pt x="505" y="278"/>
                    </a:lnTo>
                    <a:lnTo>
                      <a:pt x="574" y="3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408200" y="3848040"/>
              <a:ext cx="1074960" cy="799920"/>
              <a:chOff x="4408200" y="3848040"/>
              <a:chExt cx="1074960" cy="799920"/>
            </a:xfrm>
          </p:grpSpPr>
          <p:sp>
            <p:nvSpPr>
              <p:cNvPr id="179" name=""/>
              <p:cNvSpPr/>
              <p:nvPr/>
            </p:nvSpPr>
            <p:spPr>
              <a:xfrm>
                <a:off x="4509720" y="3848040"/>
                <a:ext cx="260640" cy="276120"/>
              </a:xfrm>
              <a:custGeom>
                <a:avLst/>
                <a:gdLst/>
                <a:ahLst/>
                <a:rect l="l" t="t" r="r" b="b"/>
                <a:pathLst>
                  <a:path w="164" h="174">
                    <a:moveTo>
                      <a:pt x="98" y="44"/>
                    </a:moveTo>
                    <a:lnTo>
                      <a:pt x="112" y="0"/>
                    </a:lnTo>
                    <a:lnTo>
                      <a:pt x="124" y="8"/>
                    </a:lnTo>
                    <a:lnTo>
                      <a:pt x="124" y="11"/>
                    </a:lnTo>
                    <a:lnTo>
                      <a:pt x="124" y="54"/>
                    </a:lnTo>
                    <a:lnTo>
                      <a:pt x="140" y="71"/>
                    </a:lnTo>
                    <a:lnTo>
                      <a:pt x="156" y="100"/>
                    </a:lnTo>
                    <a:lnTo>
                      <a:pt x="164" y="122"/>
                    </a:lnTo>
                    <a:lnTo>
                      <a:pt x="161" y="149"/>
                    </a:lnTo>
                    <a:lnTo>
                      <a:pt x="154" y="164"/>
                    </a:lnTo>
                    <a:lnTo>
                      <a:pt x="134" y="174"/>
                    </a:lnTo>
                    <a:lnTo>
                      <a:pt x="109" y="174"/>
                    </a:lnTo>
                    <a:lnTo>
                      <a:pt x="77" y="166"/>
                    </a:lnTo>
                    <a:lnTo>
                      <a:pt x="49" y="138"/>
                    </a:lnTo>
                    <a:lnTo>
                      <a:pt x="22" y="119"/>
                    </a:lnTo>
                    <a:lnTo>
                      <a:pt x="6" y="84"/>
                    </a:lnTo>
                    <a:lnTo>
                      <a:pt x="0" y="57"/>
                    </a:lnTo>
                    <a:lnTo>
                      <a:pt x="6" y="32"/>
                    </a:lnTo>
                    <a:lnTo>
                      <a:pt x="28" y="20"/>
                    </a:lnTo>
                    <a:lnTo>
                      <a:pt x="49" y="16"/>
                    </a:lnTo>
                    <a:lnTo>
                      <a:pt x="74" y="25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98720" y="4149720"/>
                <a:ext cx="506520" cy="368280"/>
              </a:xfrm>
              <a:custGeom>
                <a:avLst/>
                <a:gdLst/>
                <a:ahLst/>
                <a:rect l="l" t="t" r="r" b="b"/>
                <a:pathLst>
                  <a:path w="319" h="232">
                    <a:moveTo>
                      <a:pt x="119" y="197"/>
                    </a:moveTo>
                    <a:lnTo>
                      <a:pt x="68" y="167"/>
                    </a:lnTo>
                    <a:lnTo>
                      <a:pt x="43" y="141"/>
                    </a:lnTo>
                    <a:lnTo>
                      <a:pt x="22" y="105"/>
                    </a:lnTo>
                    <a:lnTo>
                      <a:pt x="6" y="73"/>
                    </a:lnTo>
                    <a:lnTo>
                      <a:pt x="0" y="33"/>
                    </a:lnTo>
                    <a:lnTo>
                      <a:pt x="11" y="14"/>
                    </a:lnTo>
                    <a:lnTo>
                      <a:pt x="30" y="0"/>
                    </a:lnTo>
                    <a:lnTo>
                      <a:pt x="57" y="4"/>
                    </a:lnTo>
                    <a:lnTo>
                      <a:pt x="82" y="22"/>
                    </a:lnTo>
                    <a:lnTo>
                      <a:pt x="101" y="46"/>
                    </a:lnTo>
                    <a:lnTo>
                      <a:pt x="122" y="71"/>
                    </a:lnTo>
                    <a:lnTo>
                      <a:pt x="143" y="111"/>
                    </a:lnTo>
                    <a:lnTo>
                      <a:pt x="171" y="122"/>
                    </a:lnTo>
                    <a:lnTo>
                      <a:pt x="211" y="130"/>
                    </a:lnTo>
                    <a:lnTo>
                      <a:pt x="259" y="141"/>
                    </a:lnTo>
                    <a:lnTo>
                      <a:pt x="295" y="135"/>
                    </a:lnTo>
                    <a:lnTo>
                      <a:pt x="313" y="160"/>
                    </a:lnTo>
                    <a:lnTo>
                      <a:pt x="319" y="184"/>
                    </a:lnTo>
                    <a:lnTo>
                      <a:pt x="295" y="211"/>
                    </a:lnTo>
                    <a:lnTo>
                      <a:pt x="270" y="224"/>
                    </a:lnTo>
                    <a:lnTo>
                      <a:pt x="235" y="232"/>
                    </a:lnTo>
                    <a:lnTo>
                      <a:pt x="184" y="229"/>
                    </a:lnTo>
                    <a:lnTo>
                      <a:pt x="147" y="216"/>
                    </a:lnTo>
                    <a:lnTo>
                      <a:pt x="119" y="19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41480" y="3925800"/>
                <a:ext cx="403200" cy="287280"/>
              </a:xfrm>
              <a:custGeom>
                <a:avLst/>
                <a:gdLst/>
                <a:ahLst/>
                <a:rect l="l" t="t" r="r" b="b"/>
                <a:pathLst>
                  <a:path w="254" h="181">
                    <a:moveTo>
                      <a:pt x="78" y="165"/>
                    </a:moveTo>
                    <a:lnTo>
                      <a:pt x="81" y="149"/>
                    </a:lnTo>
                    <a:lnTo>
                      <a:pt x="117" y="133"/>
                    </a:lnTo>
                    <a:lnTo>
                      <a:pt x="154" y="114"/>
                    </a:lnTo>
                    <a:lnTo>
                      <a:pt x="194" y="83"/>
                    </a:lnTo>
                    <a:lnTo>
                      <a:pt x="219" y="54"/>
                    </a:lnTo>
                    <a:lnTo>
                      <a:pt x="230" y="19"/>
                    </a:lnTo>
                    <a:lnTo>
                      <a:pt x="219" y="16"/>
                    </a:lnTo>
                    <a:lnTo>
                      <a:pt x="160" y="19"/>
                    </a:lnTo>
                    <a:lnTo>
                      <a:pt x="95" y="38"/>
                    </a:lnTo>
                    <a:lnTo>
                      <a:pt x="41" y="54"/>
                    </a:lnTo>
                    <a:lnTo>
                      <a:pt x="13" y="54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2" y="16"/>
                    </a:lnTo>
                    <a:lnTo>
                      <a:pt x="136" y="11"/>
                    </a:lnTo>
                    <a:lnTo>
                      <a:pt x="200" y="0"/>
                    </a:lnTo>
                    <a:lnTo>
                      <a:pt x="252" y="5"/>
                    </a:lnTo>
                    <a:lnTo>
                      <a:pt x="254" y="21"/>
                    </a:lnTo>
                    <a:lnTo>
                      <a:pt x="248" y="51"/>
                    </a:lnTo>
                    <a:lnTo>
                      <a:pt x="222" y="83"/>
                    </a:lnTo>
                    <a:lnTo>
                      <a:pt x="176" y="130"/>
                    </a:lnTo>
                    <a:lnTo>
                      <a:pt x="138" y="165"/>
                    </a:lnTo>
                    <a:lnTo>
                      <a:pt x="108" y="181"/>
                    </a:lnTo>
                    <a:lnTo>
                      <a:pt x="78" y="1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08200" y="3971880"/>
                <a:ext cx="352440" cy="293400"/>
              </a:xfrm>
              <a:custGeom>
                <a:avLst/>
                <a:gdLst/>
                <a:ahLst/>
                <a:rect l="l" t="t" r="r" b="b"/>
                <a:pathLst>
                  <a:path w="222" h="185">
                    <a:moveTo>
                      <a:pt x="208" y="141"/>
                    </a:moveTo>
                    <a:lnTo>
                      <a:pt x="222" y="161"/>
                    </a:lnTo>
                    <a:lnTo>
                      <a:pt x="217" y="182"/>
                    </a:lnTo>
                    <a:lnTo>
                      <a:pt x="130" y="185"/>
                    </a:lnTo>
                    <a:lnTo>
                      <a:pt x="44" y="185"/>
                    </a:lnTo>
                    <a:lnTo>
                      <a:pt x="6" y="169"/>
                    </a:lnTo>
                    <a:lnTo>
                      <a:pt x="0" y="150"/>
                    </a:lnTo>
                    <a:lnTo>
                      <a:pt x="14" y="110"/>
                    </a:lnTo>
                    <a:lnTo>
                      <a:pt x="41" y="46"/>
                    </a:lnTo>
                    <a:lnTo>
                      <a:pt x="63" y="25"/>
                    </a:lnTo>
                    <a:lnTo>
                      <a:pt x="95" y="9"/>
                    </a:lnTo>
                    <a:lnTo>
                      <a:pt x="141" y="0"/>
                    </a:lnTo>
                    <a:lnTo>
                      <a:pt x="150" y="44"/>
                    </a:lnTo>
                    <a:lnTo>
                      <a:pt x="120" y="38"/>
                    </a:lnTo>
                    <a:lnTo>
                      <a:pt x="100" y="36"/>
                    </a:lnTo>
                    <a:lnTo>
                      <a:pt x="68" y="46"/>
                    </a:lnTo>
                    <a:lnTo>
                      <a:pt x="46" y="71"/>
                    </a:lnTo>
                    <a:lnTo>
                      <a:pt x="30" y="118"/>
                    </a:lnTo>
                    <a:lnTo>
                      <a:pt x="28" y="139"/>
                    </a:lnTo>
                    <a:lnTo>
                      <a:pt x="33" y="150"/>
                    </a:lnTo>
                    <a:lnTo>
                      <a:pt x="68" y="155"/>
                    </a:lnTo>
                    <a:lnTo>
                      <a:pt x="122" y="150"/>
                    </a:lnTo>
                    <a:lnTo>
                      <a:pt x="208" y="1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35400" y="4140000"/>
                <a:ext cx="347760" cy="507960"/>
              </a:xfrm>
              <a:custGeom>
                <a:avLst/>
                <a:gdLst/>
                <a:ahLst/>
                <a:rect l="l" t="t" r="r" b="b"/>
                <a:pathLst>
                  <a:path w="219" h="320">
                    <a:moveTo>
                      <a:pt x="12" y="205"/>
                    </a:moveTo>
                    <a:lnTo>
                      <a:pt x="0" y="194"/>
                    </a:lnTo>
                    <a:lnTo>
                      <a:pt x="2" y="159"/>
                    </a:lnTo>
                    <a:lnTo>
                      <a:pt x="34" y="99"/>
                    </a:lnTo>
                    <a:lnTo>
                      <a:pt x="67" y="29"/>
                    </a:lnTo>
                    <a:lnTo>
                      <a:pt x="97" y="0"/>
                    </a:lnTo>
                    <a:lnTo>
                      <a:pt x="114" y="0"/>
                    </a:lnTo>
                    <a:lnTo>
                      <a:pt x="130" y="0"/>
                    </a:lnTo>
                    <a:lnTo>
                      <a:pt x="144" y="19"/>
                    </a:lnTo>
                    <a:lnTo>
                      <a:pt x="156" y="94"/>
                    </a:lnTo>
                    <a:lnTo>
                      <a:pt x="164" y="194"/>
                    </a:lnTo>
                    <a:lnTo>
                      <a:pt x="158" y="229"/>
                    </a:lnTo>
                    <a:lnTo>
                      <a:pt x="166" y="248"/>
                    </a:lnTo>
                    <a:lnTo>
                      <a:pt x="192" y="248"/>
                    </a:lnTo>
                    <a:lnTo>
                      <a:pt x="215" y="285"/>
                    </a:lnTo>
                    <a:lnTo>
                      <a:pt x="219" y="312"/>
                    </a:lnTo>
                    <a:lnTo>
                      <a:pt x="210" y="320"/>
                    </a:lnTo>
                    <a:lnTo>
                      <a:pt x="186" y="309"/>
                    </a:lnTo>
                    <a:lnTo>
                      <a:pt x="186" y="291"/>
                    </a:lnTo>
                    <a:lnTo>
                      <a:pt x="182" y="271"/>
                    </a:lnTo>
                    <a:lnTo>
                      <a:pt x="170" y="259"/>
                    </a:lnTo>
                    <a:lnTo>
                      <a:pt x="156" y="259"/>
                    </a:lnTo>
                    <a:lnTo>
                      <a:pt x="140" y="269"/>
                    </a:lnTo>
                    <a:lnTo>
                      <a:pt x="130" y="269"/>
                    </a:lnTo>
                    <a:lnTo>
                      <a:pt x="128" y="248"/>
                    </a:lnTo>
                    <a:lnTo>
                      <a:pt x="138" y="231"/>
                    </a:lnTo>
                    <a:lnTo>
                      <a:pt x="142" y="191"/>
                    </a:lnTo>
                    <a:lnTo>
                      <a:pt x="144" y="135"/>
                    </a:lnTo>
                    <a:lnTo>
                      <a:pt x="134" y="65"/>
                    </a:lnTo>
                    <a:lnTo>
                      <a:pt x="121" y="29"/>
                    </a:lnTo>
                    <a:lnTo>
                      <a:pt x="105" y="33"/>
                    </a:lnTo>
                    <a:lnTo>
                      <a:pt x="83" y="57"/>
                    </a:lnTo>
                    <a:lnTo>
                      <a:pt x="58" y="119"/>
                    </a:lnTo>
                    <a:lnTo>
                      <a:pt x="46" y="151"/>
                    </a:lnTo>
                    <a:lnTo>
                      <a:pt x="30" y="183"/>
                    </a:lnTo>
                    <a:lnTo>
                      <a:pt x="12" y="2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60800" y="3890880"/>
                <a:ext cx="517320" cy="627120"/>
              </a:xfrm>
              <a:custGeom>
                <a:avLst/>
                <a:gdLst/>
                <a:ahLst/>
                <a:rect l="l" t="t" r="r" b="b"/>
                <a:pathLst>
                  <a:path w="326" h="395">
                    <a:moveTo>
                      <a:pt x="73" y="392"/>
                    </a:moveTo>
                    <a:lnTo>
                      <a:pt x="98" y="395"/>
                    </a:lnTo>
                    <a:lnTo>
                      <a:pt x="132" y="384"/>
                    </a:lnTo>
                    <a:lnTo>
                      <a:pt x="140" y="351"/>
                    </a:lnTo>
                    <a:lnTo>
                      <a:pt x="127" y="301"/>
                    </a:lnTo>
                    <a:lnTo>
                      <a:pt x="98" y="255"/>
                    </a:lnTo>
                    <a:lnTo>
                      <a:pt x="57" y="219"/>
                    </a:lnTo>
                    <a:lnTo>
                      <a:pt x="46" y="203"/>
                    </a:lnTo>
                    <a:lnTo>
                      <a:pt x="46" y="189"/>
                    </a:lnTo>
                    <a:lnTo>
                      <a:pt x="57" y="189"/>
                    </a:lnTo>
                    <a:lnTo>
                      <a:pt x="132" y="197"/>
                    </a:lnTo>
                    <a:lnTo>
                      <a:pt x="204" y="203"/>
                    </a:lnTo>
                    <a:lnTo>
                      <a:pt x="253" y="203"/>
                    </a:lnTo>
                    <a:lnTo>
                      <a:pt x="310" y="172"/>
                    </a:lnTo>
                    <a:lnTo>
                      <a:pt x="320" y="169"/>
                    </a:lnTo>
                    <a:lnTo>
                      <a:pt x="320" y="152"/>
                    </a:lnTo>
                    <a:lnTo>
                      <a:pt x="304" y="118"/>
                    </a:lnTo>
                    <a:lnTo>
                      <a:pt x="310" y="50"/>
                    </a:lnTo>
                    <a:lnTo>
                      <a:pt x="326" y="34"/>
                    </a:lnTo>
                    <a:lnTo>
                      <a:pt x="302" y="0"/>
                    </a:lnTo>
                    <a:lnTo>
                      <a:pt x="293" y="0"/>
                    </a:lnTo>
                    <a:lnTo>
                      <a:pt x="286" y="25"/>
                    </a:lnTo>
                    <a:lnTo>
                      <a:pt x="277" y="86"/>
                    </a:lnTo>
                    <a:lnTo>
                      <a:pt x="280" y="135"/>
                    </a:lnTo>
                    <a:lnTo>
                      <a:pt x="302" y="161"/>
                    </a:lnTo>
                    <a:lnTo>
                      <a:pt x="272" y="177"/>
                    </a:lnTo>
                    <a:lnTo>
                      <a:pt x="223" y="180"/>
                    </a:lnTo>
                    <a:lnTo>
                      <a:pt x="140" y="163"/>
                    </a:lnTo>
                    <a:lnTo>
                      <a:pt x="46" y="161"/>
                    </a:lnTo>
                    <a:lnTo>
                      <a:pt x="0" y="180"/>
                    </a:lnTo>
                    <a:lnTo>
                      <a:pt x="0" y="211"/>
                    </a:lnTo>
                    <a:lnTo>
                      <a:pt x="30" y="239"/>
                    </a:lnTo>
                    <a:lnTo>
                      <a:pt x="70" y="291"/>
                    </a:lnTo>
                    <a:lnTo>
                      <a:pt x="70" y="328"/>
                    </a:lnTo>
                    <a:lnTo>
                      <a:pt x="70" y="353"/>
                    </a:lnTo>
                    <a:lnTo>
                      <a:pt x="73" y="39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 txBox="1"/>
          <p:nvPr/>
        </p:nvSpPr>
        <p:spPr>
          <a:xfrm>
            <a:off x="914400" y="5743440"/>
            <a:ext cx="1935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Recor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470560" y="5791320"/>
            <a:ext cx="2378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Playing back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Manual or Automatic Testing?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160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he amount of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ffor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to automate a test ca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2 – 10 time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the effort required to run the test manually (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ata-driven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762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11240" indent="-1911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ata-driven scripting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Test inputs stored in a separate (data) f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3581280"/>
            <a:ext cx="62485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Sweden, USA, countrie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France, Germany, tes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Austria, Italy, test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Keyword-driven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7621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28920" indent="-3328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Keyword-driven script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A data-driven scripts augmented with keywords representing user a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3641760"/>
            <a:ext cx="35812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cribbleOpen cou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AddToList Sweden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aveAs countrie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Shared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11240" indent="-1911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hared script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A script used (shared) by more than one test c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35193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QABa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022640"/>
            <a:ext cx="6248520" cy="225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Call ScribbleOpen (‘countries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FocusOn ‘Scribble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electOption ‘List/Add Item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Call ScribbleSaveAs (‘countries2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6-12-06T12:35:29Z</dcterms:modified>
  <cp:revision>66</cp:revision>
  <dc:subject/>
  <dc:title>Prezentacja programu PowerPoint</dc:title>
</cp:coreProperties>
</file>