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110B-E266-4540-9AEE-F7F7BDCE9F8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B816-AC6A-4443-AD63-A84F3AF97F7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03E2-6F39-452D-B165-92AE9DF2FB6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70F4-6C39-44A8-A178-569358BD070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A42-6582-4F13-9751-B64580F488B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222D-843A-4B41-BFA2-4455C0B8F7E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F51-EC0D-47F9-81CE-6038AA58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AA7-5FA0-4094-AF91-6CC3F7B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E85-7E91-4A68-B811-7DA8ED48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973-4C2D-4845-936A-E59CD0A4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68B-1CE8-439C-8E08-E079FD66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2FF-BDA0-4E72-8A4E-D0147E7A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E15-E5F5-4DCA-B50A-2211A62F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B08-6F19-46A3-8C44-DD8C8760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AB1-8FF3-430B-A39C-6E3484D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6BB-149A-4006-9BA9-25B1D46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5E2-AF2F-4322-BD16-82F59D2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D5E-BC79-401F-ABDF-66BB1BC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72D2-BB36-4805-A86B-48A2F0837D09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nawrocki@put.poznan.pl" TargetMode="External"/><Relationship Id="rId2" Type="http://schemas.openxmlformats.org/officeDocument/2006/relationships/hyperlink" Target="mailto:nawrocki@put.poznan.pl" TargetMode="External"/><Relationship Id="rId3" Type="http://schemas.openxmlformats.org/officeDocument/2006/relationships/hyperlink" Target="mailto:nawrocki@put.poznan.pl" TargetMode="External"/><Relationship Id="rId4" Type="http://schemas.openxmlformats.org/officeDocument/2006/relationships/hyperlink" Target="mailto:nawrocki@put.poznan.pl" TargetMode="External"/><Relationship Id="rId5" Type="http://schemas.openxmlformats.org/officeDocument/2006/relationships/hyperlink" Target="mailto:nawrocki@put.poznan.pl" TargetMode="External"/><Relationship Id="rId6" Type="http://schemas.openxmlformats.org/officeDocument/2006/relationships/hyperlink" Target="mailto:nawrocki@put.poznan.pl" TargetMode="External"/><Relationship Id="rId7" Type="http://schemas.openxmlformats.org/officeDocument/2006/relationships/hyperlink" Target="mailto:nawrocki@put.poznan.pl" TargetMode="External"/><Relationship Id="rId8" Type="http://schemas.openxmlformats.org/officeDocument/2006/relationships/hyperlink" Target="mailto:bartosz.walter@cs.put.poznan.pl" TargetMode="External"/><Relationship Id="rId9" Type="http://schemas.openxmlformats.org/officeDocument/2006/relationships/hyperlink" Target="mailto:bartosz.walter@cs.put.poznan.pl" TargetMode="External"/><Relationship Id="rId10" Type="http://schemas.openxmlformats.org/officeDocument/2006/relationships/hyperlink" Target="mailto:bartosz.walter@cs.put.poznan.pl" TargetMode="External"/><Relationship Id="rId11" Type="http://schemas.openxmlformats.org/officeDocument/2006/relationships/hyperlink" Target="mailto:bartosz.walter@cs.put.poznan.pl" TargetMode="External"/><Relationship Id="rId12" Type="http://schemas.openxmlformats.org/officeDocument/2006/relationships/hyperlink" Target="mailto:bartosz.walter@cs.put.poznan.pl" TargetMode="External"/><Relationship Id="rId13" Type="http://schemas.openxmlformats.org/officeDocument/2006/relationships/hyperlink" Target="mailto:bartosz.walter@cs.put.poznan.pl" TargetMode="External"/><Relationship Id="rId14" Type="http://schemas.openxmlformats.org/officeDocument/2006/relationships/hyperlink" Target="mailto:bartosz.walter@cs.put.poznan.pl" TargetMode="External"/><Relationship Id="rId15" Type="http://schemas.openxmlformats.org/officeDocument/2006/relationships/hyperlink" Target="mailto:bartosz.walter@cs.put.poznan.pl" TargetMode="External"/><Relationship Id="rId16" Type="http://schemas.openxmlformats.org/officeDocument/2006/relationships/hyperlink" Target="mailto:bartosz.walter@cs.put.poznan.pl" TargetMode="External"/><Relationship Id="rId17" Type="http://schemas.openxmlformats.org/officeDocument/2006/relationships/hyperlink" Target="mailto:bartosz.walter@cs.put.poznan.pl" TargetMode="External"/><Relationship Id="rId18" Type="http://schemas.openxmlformats.org/officeDocument/2006/relationships/hyperlink" Target="mailto:bartosz.walter@cs.put.poznan.pl" TargetMode="External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62160" y="1981080"/>
            <a:ext cx="51814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Project Management </a:t>
            </a:r>
            <a:br>
              <a:rPr sz="3600"/>
            </a:b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with XPrince (2)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24000" y="6095520"/>
            <a:ext cx="5143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www.cs.put.poznan.pl/jnawrocki/require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763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ff"/>
                </a:solidFill>
                <a:latin typeface="Arial Narrow"/>
              </a:rPr>
              <a:t>Requirements Eng. &amp; Project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ff"/>
                </a:solidFill>
                <a:latin typeface="Arial Narrow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4355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Jerzy Nawroc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52280" y="54864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Mandat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103560"/>
          </a:xfrm>
          <a:prstGeom prst="rect">
            <a:avLst/>
          </a:prstGeom>
          <a:noFill/>
          <a:ln w="28440">
            <a:solidFill>
              <a:srgbClr val="66cc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Customer name: …………………………………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Customer representative: …………………………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e-mail: ……………………………………………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hone: ……………………………………………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Project title: …………………………………………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rting-up a Project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ct Exec and Project Manag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1752480"/>
            <a:ext cx="1828800" cy="14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Design of a Project Management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17524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signation of the Project Manag.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438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137160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cc"/>
                </a:solidFill>
                <a:latin typeface="Arial Narrow"/>
              </a:rPr>
              <a:t>Cust + 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roject Brie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290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335268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cc"/>
                </a:solidFill>
                <a:latin typeface="Arial Narrow"/>
              </a:rPr>
              <a:t>Cust + 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ct Approa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116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 for Project Initia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05720" y="4525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352680"/>
            <a:ext cx="1295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cc"/>
                </a:solidFill>
                <a:latin typeface="Arial Narrow"/>
              </a:rPr>
              <a:t>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3962520"/>
            <a:ext cx="792504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Black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685800"/>
            <a:ext cx="7925040" cy="32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 Black"/>
              </a:rPr>
              <a:t>Princ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35400" y="4186080"/>
            <a:ext cx="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48000" y="2421000"/>
            <a:ext cx="0" cy="1251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2520" y="3235320"/>
            <a:ext cx="64152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424320" y="2460240"/>
            <a:ext cx="75240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11520" y="5291280"/>
            <a:ext cx="350496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58880" y="5354640"/>
            <a:ext cx="358164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Tea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1065240" y="909720"/>
            <a:ext cx="624996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60640" y="1442880"/>
            <a:ext cx="23126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  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73280" y="144288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49800" y="1442880"/>
            <a:ext cx="20718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Supp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65292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852640"/>
            <a:ext cx="2863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Project As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82920" y="5405400"/>
            <a:ext cx="3581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11720" y="4186080"/>
            <a:ext cx="533160" cy="41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299120" y="4834080"/>
            <a:ext cx="545760" cy="515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68920" y="4448160"/>
            <a:ext cx="32590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Archit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85800" y="4186080"/>
            <a:ext cx="3396600" cy="1105200"/>
            <a:chOff x="685800" y="4186080"/>
            <a:chExt cx="3396600" cy="1105200"/>
          </a:xfrm>
        </p:grpSpPr>
        <p:sp>
          <p:nvSpPr>
            <p:cNvPr id="299" name=""/>
            <p:cNvSpPr/>
            <p:nvPr/>
          </p:nvSpPr>
          <p:spPr>
            <a:xfrm>
              <a:off x="685800" y="4452840"/>
              <a:ext cx="261288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Analy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298320" y="4186080"/>
              <a:ext cx="783720" cy="419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98680" y="4834080"/>
              <a:ext cx="78372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rting-up a Project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543800" y="243828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ct Exec and Project Manag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1752480"/>
            <a:ext cx="1828800" cy="14331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Design of a Project Management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5403960"/>
            <a:ext cx="1676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Management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24680" y="2438280"/>
            <a:ext cx="457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2438280"/>
            <a:ext cx="0" cy="289584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signation of the Project Manag.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438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1371600"/>
            <a:ext cx="1523880" cy="42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Cust + 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roject Brie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290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ct Approa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116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 for Project Initia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525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Management Tea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Executive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: Jerzy Nawrock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                 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"/>
              </a:rPr>
              <a:t>nawrocki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2"/>
              </a:rPr>
              <a:t>@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3"/>
              </a:rPr>
              <a:t>put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4"/>
              </a:rPr>
              <a:t>.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5"/>
              </a:rPr>
              <a:t>poznan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6"/>
              </a:rPr>
              <a:t>.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7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(61) 665 29 8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enior supplier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: Bartosz Wal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                 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8"/>
              </a:rPr>
              <a:t>bartosz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9"/>
              </a:rPr>
              <a:t>.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0"/>
              </a:rPr>
              <a:t>walter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1"/>
              </a:rPr>
              <a:t>@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2"/>
              </a:rPr>
              <a:t>cs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3"/>
              </a:rPr>
              <a:t>.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4"/>
              </a:rPr>
              <a:t>put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5"/>
              </a:rPr>
              <a:t>.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6"/>
              </a:rPr>
              <a:t>poznan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7"/>
              </a:rPr>
              <a:t>.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 Narrow"/>
                <a:hlinkClick r:id="rId18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 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(61) 665 29 8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enior User</a:t>
            </a: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: Executiv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rting-up a Project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ct Exec and Project Manag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752480"/>
            <a:ext cx="1828800" cy="14331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Design of a Project Management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15000" y="17524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signation of the Project Manag.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438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1371600"/>
            <a:ext cx="1523880" cy="42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Cust + 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73392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roject Brie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290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5479920"/>
            <a:ext cx="12189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roject Brie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5181480"/>
            <a:ext cx="0" cy="30492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3352680"/>
            <a:ext cx="1600200" cy="42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Cust + 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57600" y="3733920"/>
            <a:ext cx="18288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ct Approa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116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 for Project Initia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525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352680"/>
            <a:ext cx="1295280" cy="42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etoda FAST / JAD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14280" y="2409840"/>
            <a:ext cx="1676520" cy="2379600"/>
            <a:chOff x="314280" y="2409840"/>
            <a:chExt cx="1676520" cy="2379600"/>
          </a:xfrm>
        </p:grpSpPr>
        <p:grpSp>
          <p:nvGrpSpPr>
            <p:cNvPr id="347" name=""/>
            <p:cNvGrpSpPr/>
            <p:nvPr/>
          </p:nvGrpSpPr>
          <p:grpSpPr>
            <a:xfrm>
              <a:off x="1373040" y="3344760"/>
              <a:ext cx="617760" cy="1135080"/>
              <a:chOff x="1373040" y="3344760"/>
              <a:chExt cx="617760" cy="113508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373040" y="3697200"/>
                <a:ext cx="617760" cy="782640"/>
                <a:chOff x="1373040" y="3697200"/>
                <a:chExt cx="617760" cy="782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479600" y="3697200"/>
                  <a:ext cx="412560" cy="168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73040" y="3806640"/>
                  <a:ext cx="617760" cy="673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373040" y="3699000"/>
                  <a:ext cx="22860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47"/>
                      </a:moveTo>
                      <a:arcTo wR="10800" hR="10800" stAng="-10719599" swAng="52721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47"/>
                      </a:moveTo>
                      <a:arcTo wR="10800" hR="10800" stAng="-10719599" swAng="5272134"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63640" y="3699000"/>
                  <a:ext cx="22500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91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9171"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1514520" y="3344760"/>
                <a:ext cx="334800" cy="32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23960" y="3652920"/>
              <a:ext cx="614160" cy="1136520"/>
              <a:chOff x="723960" y="3652920"/>
              <a:chExt cx="614160" cy="1136520"/>
            </a:xfrm>
          </p:grpSpPr>
          <p:sp>
            <p:nvSpPr>
              <p:cNvPr id="355" name=""/>
              <p:cNvSpPr/>
              <p:nvPr/>
            </p:nvSpPr>
            <p:spPr>
              <a:xfrm>
                <a:off x="863640" y="3652920"/>
                <a:ext cx="333360" cy="3268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723960" y="4006800"/>
                <a:ext cx="614160" cy="782640"/>
                <a:chOff x="723960" y="4006800"/>
                <a:chExt cx="614160" cy="7826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828720" y="4006800"/>
                  <a:ext cx="412560" cy="165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23960" y="4114800"/>
                  <a:ext cx="614160" cy="674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25400" y="4008240"/>
                  <a:ext cx="225000" cy="26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" y="10424"/>
                      </a:moveTo>
                      <a:arcTo wR="10800" hR="10800" stAng="-10680264" swAng="51846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" y="10424"/>
                      </a:moveTo>
                      <a:arcTo wR="10800" hR="10800" stAng="-10680264" swAng="5184686"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109880" y="4008240"/>
                  <a:ext cx="227880" cy="27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89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8941"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 rot="18900000">
              <a:off x="260280" y="290772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99ccff"/>
                  </a:solidFill>
                  <a:latin typeface="Arial"/>
                </a:rPr>
                <a:t>„</a:t>
              </a:r>
              <a:r>
                <a:rPr b="1" lang="pl-PL" sz="2800" spc="-1" strike="noStrike">
                  <a:solidFill>
                    <a:srgbClr val="99ccff"/>
                  </a:solidFill>
                  <a:latin typeface="Arial"/>
                </a:rPr>
                <a:t>Klient”</a:t>
              </a:r>
              <a:r>
                <a:rPr b="1" lang="en-GB" sz="28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803240" y="2209680"/>
            <a:ext cx="1573200" cy="13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7880" y="3670200"/>
            <a:ext cx="3809880" cy="1117800"/>
          </a:xfrm>
          <a:custGeom>
            <a:avLst/>
            <a:gdLst/>
            <a:ahLst/>
            <a:rect l="l" t="t" r="r" b="b"/>
            <a:pathLst>
              <a:path w="4800" h="1408">
                <a:moveTo>
                  <a:pt x="0" y="1408"/>
                </a:moveTo>
                <a:lnTo>
                  <a:pt x="1712" y="0"/>
                </a:lnTo>
                <a:lnTo>
                  <a:pt x="3018" y="0"/>
                </a:lnTo>
                <a:lnTo>
                  <a:pt x="4800" y="1408"/>
                </a:lnTo>
                <a:lnTo>
                  <a:pt x="0" y="14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02160" y="1905120"/>
            <a:ext cx="2979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FAST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F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acilit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ec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T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JAD 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J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oint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plication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D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66920" y="3751200"/>
            <a:ext cx="2041200" cy="2736000"/>
            <a:chOff x="466920" y="3751200"/>
            <a:chExt cx="2041200" cy="2736000"/>
          </a:xfrm>
        </p:grpSpPr>
        <p:grpSp>
          <p:nvGrpSpPr>
            <p:cNvPr id="366" name=""/>
            <p:cNvGrpSpPr/>
            <p:nvPr/>
          </p:nvGrpSpPr>
          <p:grpSpPr>
            <a:xfrm>
              <a:off x="1744560" y="3751200"/>
              <a:ext cx="763560" cy="1158840"/>
              <a:chOff x="1744560" y="3751200"/>
              <a:chExt cx="763560" cy="1158840"/>
            </a:xfrm>
          </p:grpSpPr>
          <p:sp>
            <p:nvSpPr>
              <p:cNvPr id="367" name=""/>
              <p:cNvSpPr/>
              <p:nvPr/>
            </p:nvSpPr>
            <p:spPr>
              <a:xfrm>
                <a:off x="1920600" y="3751200"/>
                <a:ext cx="406440" cy="393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1744560" y="4179960"/>
                <a:ext cx="763560" cy="730080"/>
                <a:chOff x="1744560" y="4179960"/>
                <a:chExt cx="763560" cy="7300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873080" y="4179960"/>
                  <a:ext cx="503280" cy="2016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46000" y="4316400"/>
                  <a:ext cx="762120" cy="593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44560" y="4179960"/>
                  <a:ext cx="279000" cy="32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905"/>
                      </a:moveTo>
                      <a:arcTo wR="10800" hR="10800" stAng="10766489" swAng="53942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905"/>
                      </a:moveTo>
                      <a:arcTo wR="10800" hR="10800" stAng="10766489" swAng="5394224"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228400" y="4179960"/>
                  <a:ext cx="279360" cy="32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78" y="1"/>
                      </a:moveTo>
                      <a:arcTo wR="10800" hR="10800" stAng="-5438843" swAng="54735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78" y="1"/>
                      </a:moveTo>
                      <a:arcTo wR="10800" hR="10800" stAng="-5438843" swAng="5473525"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" name=""/>
            <p:cNvSpPr/>
            <p:nvPr/>
          </p:nvSpPr>
          <p:spPr>
            <a:xfrm rot="18900000">
              <a:off x="323280" y="5252760"/>
              <a:ext cx="22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99ccff"/>
                  </a:solidFill>
                  <a:latin typeface="Arial"/>
                </a:rPr>
                <a:t>Prowadząc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538360" y="3762360"/>
            <a:ext cx="1741320" cy="2579760"/>
            <a:chOff x="2538360" y="3762360"/>
            <a:chExt cx="1741320" cy="2579760"/>
          </a:xfrm>
        </p:grpSpPr>
        <p:grpSp>
          <p:nvGrpSpPr>
            <p:cNvPr id="375" name=""/>
            <p:cNvGrpSpPr/>
            <p:nvPr/>
          </p:nvGrpSpPr>
          <p:grpSpPr>
            <a:xfrm>
              <a:off x="2538360" y="3762360"/>
              <a:ext cx="761760" cy="1158840"/>
              <a:chOff x="2538360" y="3762360"/>
              <a:chExt cx="761760" cy="1158840"/>
            </a:xfrm>
          </p:grpSpPr>
          <p:sp>
            <p:nvSpPr>
              <p:cNvPr id="376" name=""/>
              <p:cNvSpPr/>
              <p:nvPr/>
            </p:nvSpPr>
            <p:spPr>
              <a:xfrm>
                <a:off x="2712960" y="3762360"/>
                <a:ext cx="407880" cy="3938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538360" y="4191120"/>
                <a:ext cx="761760" cy="730080"/>
                <a:chOff x="2538360" y="4191120"/>
                <a:chExt cx="761760" cy="7300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666880" y="4191120"/>
                  <a:ext cx="503280" cy="2016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539800" y="4325760"/>
                  <a:ext cx="760320" cy="5954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538360" y="4191120"/>
                  <a:ext cx="279000" cy="32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1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1883"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016080" y="4195800"/>
                  <a:ext cx="2790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922" y="1"/>
                      </a:moveTo>
                      <a:arcTo wR="10800" hR="10800" stAng="-5361126" swAng="53611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922" y="1"/>
                      </a:moveTo>
                      <a:arcTo wR="10800" hR="10800" stAng="-5361126" swAng="5361126"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2" name=""/>
            <p:cNvSpPr/>
            <p:nvPr/>
          </p:nvSpPr>
          <p:spPr>
            <a:xfrm rot="2700000">
              <a:off x="2760120" y="5344200"/>
              <a:ext cx="156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 u="sng">
                  <a:solidFill>
                    <a:srgbClr val="ffff00"/>
                  </a:solidFill>
                  <a:uFillTx/>
                  <a:latin typeface="Arial"/>
                </a:rPr>
                <a:t>Anality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 – Project Brief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152280" y="258912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pi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1905120"/>
            <a:ext cx="632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0 Participants and the agenda  5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Customer characteristics       5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 What’s the problem?             15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 Who suffers?                            5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 Impact of the problem            10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 Proposed solution                  10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 Things to do                            10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838080"/>
            <a:ext cx="883944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0099"/>
                </a:solidFill>
                <a:uFillTx/>
                <a:latin typeface="Arial Narrow"/>
              </a:rPr>
              <a:t>Info for customer</a:t>
            </a: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: Aim of the meeting (scope) + draft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0099"/>
                </a:solidFill>
                <a:uFillTx/>
                <a:latin typeface="Arial Narrow"/>
              </a:rPr>
              <a:t>Questions</a:t>
            </a: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: Participants? How long? (&lt;90’) Time &amp; pla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320" y="5029200"/>
            <a:ext cx="8991360" cy="180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Narrow"/>
              </a:rPr>
              <a:t>Report</a:t>
            </a: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: Project title. Time &amp; place of the meeting. Participants. Decisions made (next meeting?). 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Narrow"/>
              </a:rPr>
              <a:t>Ask for</a:t>
            </a: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: Scope confirmation + opinion on feasability of the pro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2362320"/>
            <a:ext cx="5257800" cy="2209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esentation Pla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1600200"/>
            <a:ext cx="45720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Starting-up a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roject lo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Architecture elab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6320" y="82224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92" name=""/>
          <p:cNvSpPr/>
          <p:nvPr/>
        </p:nvSpPr>
        <p:spPr>
          <a:xfrm>
            <a:off x="152280" y="58514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logs in PRINCE2 and XPrin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2052720"/>
            <a:ext cx="37335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isk 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sue 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Lessons-learned 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ile software development – 90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46200" y="820800"/>
            <a:ext cx="601560" cy="1236600"/>
            <a:chOff x="2446200" y="820800"/>
            <a:chExt cx="601560" cy="1236600"/>
          </a:xfrm>
        </p:grpSpPr>
        <p:sp>
          <p:nvSpPr>
            <p:cNvPr id="96" name=""/>
            <p:cNvSpPr/>
            <p:nvPr/>
          </p:nvSpPr>
          <p:spPr>
            <a:xfrm>
              <a:off x="2624040" y="820800"/>
              <a:ext cx="387360" cy="267120"/>
            </a:xfrm>
            <a:custGeom>
              <a:avLst/>
              <a:gdLst/>
              <a:ahLst/>
              <a:rect l="l" t="t" r="r" b="b"/>
              <a:pathLst>
                <a:path w="431" h="811">
                  <a:moveTo>
                    <a:pt x="0" y="342"/>
                  </a:moveTo>
                  <a:lnTo>
                    <a:pt x="31" y="175"/>
                  </a:lnTo>
                  <a:lnTo>
                    <a:pt x="72" y="91"/>
                  </a:lnTo>
                  <a:lnTo>
                    <a:pt x="124" y="30"/>
                  </a:lnTo>
                  <a:lnTo>
                    <a:pt x="176" y="0"/>
                  </a:lnTo>
                  <a:lnTo>
                    <a:pt x="244" y="9"/>
                  </a:lnTo>
                  <a:lnTo>
                    <a:pt x="288" y="76"/>
                  </a:lnTo>
                  <a:lnTo>
                    <a:pt x="329" y="196"/>
                  </a:lnTo>
                  <a:lnTo>
                    <a:pt x="346" y="357"/>
                  </a:lnTo>
                  <a:lnTo>
                    <a:pt x="346" y="539"/>
                  </a:lnTo>
                  <a:lnTo>
                    <a:pt x="428" y="664"/>
                  </a:lnTo>
                  <a:lnTo>
                    <a:pt x="431" y="721"/>
                  </a:lnTo>
                  <a:lnTo>
                    <a:pt x="418" y="725"/>
                  </a:lnTo>
                  <a:lnTo>
                    <a:pt x="339" y="614"/>
                  </a:lnTo>
                  <a:lnTo>
                    <a:pt x="316" y="695"/>
                  </a:lnTo>
                  <a:lnTo>
                    <a:pt x="268" y="765"/>
                  </a:lnTo>
                  <a:lnTo>
                    <a:pt x="223" y="801"/>
                  </a:lnTo>
                  <a:lnTo>
                    <a:pt x="151" y="811"/>
                  </a:lnTo>
                  <a:lnTo>
                    <a:pt x="59" y="755"/>
                  </a:lnTo>
                  <a:lnTo>
                    <a:pt x="17" y="634"/>
                  </a:lnTo>
                  <a:lnTo>
                    <a:pt x="0" y="51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84440" y="1108440"/>
              <a:ext cx="346320" cy="430560"/>
            </a:xfrm>
            <a:custGeom>
              <a:avLst/>
              <a:gdLst/>
              <a:ahLst/>
              <a:rect l="l" t="t" r="r" b="b"/>
              <a:pathLst>
                <a:path w="385" h="1306">
                  <a:moveTo>
                    <a:pt x="56" y="85"/>
                  </a:moveTo>
                  <a:lnTo>
                    <a:pt x="104" y="30"/>
                  </a:lnTo>
                  <a:lnTo>
                    <a:pt x="159" y="9"/>
                  </a:lnTo>
                  <a:lnTo>
                    <a:pt x="210" y="0"/>
                  </a:lnTo>
                  <a:lnTo>
                    <a:pt x="279" y="15"/>
                  </a:lnTo>
                  <a:lnTo>
                    <a:pt x="355" y="85"/>
                  </a:lnTo>
                  <a:lnTo>
                    <a:pt x="385" y="210"/>
                  </a:lnTo>
                  <a:lnTo>
                    <a:pt x="385" y="401"/>
                  </a:lnTo>
                  <a:lnTo>
                    <a:pt x="382" y="583"/>
                  </a:lnTo>
                  <a:lnTo>
                    <a:pt x="344" y="859"/>
                  </a:lnTo>
                  <a:lnTo>
                    <a:pt x="313" y="1085"/>
                  </a:lnTo>
                  <a:lnTo>
                    <a:pt x="279" y="1230"/>
                  </a:lnTo>
                  <a:lnTo>
                    <a:pt x="207" y="1306"/>
                  </a:lnTo>
                  <a:lnTo>
                    <a:pt x="104" y="1290"/>
                  </a:lnTo>
                  <a:lnTo>
                    <a:pt x="52" y="1175"/>
                  </a:lnTo>
                  <a:lnTo>
                    <a:pt x="22" y="1004"/>
                  </a:lnTo>
                  <a:lnTo>
                    <a:pt x="4" y="813"/>
                  </a:lnTo>
                  <a:lnTo>
                    <a:pt x="0" y="526"/>
                  </a:lnTo>
                  <a:lnTo>
                    <a:pt x="15" y="325"/>
                  </a:lnTo>
                  <a:lnTo>
                    <a:pt x="35" y="146"/>
                  </a:lnTo>
                  <a:lnTo>
                    <a:pt x="56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46200" y="1107720"/>
              <a:ext cx="204480" cy="530280"/>
            </a:xfrm>
            <a:custGeom>
              <a:avLst/>
              <a:gdLst/>
              <a:ahLst/>
              <a:rect l="l" t="t" r="r" b="b"/>
              <a:pathLst>
                <a:path w="226" h="1607">
                  <a:moveTo>
                    <a:pt x="154" y="10"/>
                  </a:moveTo>
                  <a:lnTo>
                    <a:pt x="209" y="0"/>
                  </a:lnTo>
                  <a:lnTo>
                    <a:pt x="226" y="71"/>
                  </a:lnTo>
                  <a:lnTo>
                    <a:pt x="198" y="162"/>
                  </a:lnTo>
                  <a:lnTo>
                    <a:pt x="157" y="211"/>
                  </a:lnTo>
                  <a:lnTo>
                    <a:pt x="123" y="331"/>
                  </a:lnTo>
                  <a:lnTo>
                    <a:pt x="82" y="493"/>
                  </a:lnTo>
                  <a:lnTo>
                    <a:pt x="65" y="643"/>
                  </a:lnTo>
                  <a:lnTo>
                    <a:pt x="55" y="898"/>
                  </a:lnTo>
                  <a:lnTo>
                    <a:pt x="65" y="1139"/>
                  </a:lnTo>
                  <a:lnTo>
                    <a:pt x="85" y="1251"/>
                  </a:lnTo>
                  <a:lnTo>
                    <a:pt x="71" y="1371"/>
                  </a:lnTo>
                  <a:lnTo>
                    <a:pt x="55" y="1462"/>
                  </a:lnTo>
                  <a:lnTo>
                    <a:pt x="61" y="1607"/>
                  </a:lnTo>
                  <a:lnTo>
                    <a:pt x="33" y="1597"/>
                  </a:lnTo>
                  <a:lnTo>
                    <a:pt x="10" y="1476"/>
                  </a:lnTo>
                  <a:lnTo>
                    <a:pt x="0" y="1371"/>
                  </a:lnTo>
                  <a:lnTo>
                    <a:pt x="30" y="1230"/>
                  </a:lnTo>
                  <a:lnTo>
                    <a:pt x="20" y="1099"/>
                  </a:lnTo>
                  <a:lnTo>
                    <a:pt x="10" y="888"/>
                  </a:lnTo>
                  <a:lnTo>
                    <a:pt x="10" y="633"/>
                  </a:lnTo>
                  <a:lnTo>
                    <a:pt x="30" y="362"/>
                  </a:lnTo>
                  <a:lnTo>
                    <a:pt x="65" y="162"/>
                  </a:lnTo>
                  <a:lnTo>
                    <a:pt x="103" y="56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89720" y="1121400"/>
              <a:ext cx="128880" cy="503280"/>
            </a:xfrm>
            <a:custGeom>
              <a:avLst/>
              <a:gdLst/>
              <a:ahLst/>
              <a:rect l="l" t="t" r="r" b="b"/>
              <a:pathLst>
                <a:path w="145" h="1528">
                  <a:moveTo>
                    <a:pt x="3" y="5"/>
                  </a:moveTo>
                  <a:lnTo>
                    <a:pt x="62" y="0"/>
                  </a:lnTo>
                  <a:lnTo>
                    <a:pt x="103" y="121"/>
                  </a:lnTo>
                  <a:lnTo>
                    <a:pt x="145" y="452"/>
                  </a:lnTo>
                  <a:lnTo>
                    <a:pt x="145" y="834"/>
                  </a:lnTo>
                  <a:lnTo>
                    <a:pt x="124" y="1161"/>
                  </a:lnTo>
                  <a:lnTo>
                    <a:pt x="145" y="1272"/>
                  </a:lnTo>
                  <a:lnTo>
                    <a:pt x="145" y="1422"/>
                  </a:lnTo>
                  <a:lnTo>
                    <a:pt x="124" y="1528"/>
                  </a:lnTo>
                  <a:lnTo>
                    <a:pt x="97" y="1432"/>
                  </a:lnTo>
                  <a:lnTo>
                    <a:pt x="83" y="1287"/>
                  </a:lnTo>
                  <a:lnTo>
                    <a:pt x="52" y="1175"/>
                  </a:lnTo>
                  <a:lnTo>
                    <a:pt x="87" y="1076"/>
                  </a:lnTo>
                  <a:lnTo>
                    <a:pt x="107" y="834"/>
                  </a:lnTo>
                  <a:lnTo>
                    <a:pt x="107" y="608"/>
                  </a:lnTo>
                  <a:lnTo>
                    <a:pt x="87" y="382"/>
                  </a:lnTo>
                  <a:lnTo>
                    <a:pt x="45" y="216"/>
                  </a:lnTo>
                  <a:lnTo>
                    <a:pt x="0" y="13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86240" y="1452960"/>
              <a:ext cx="290880" cy="604440"/>
            </a:xfrm>
            <a:custGeom>
              <a:avLst/>
              <a:gdLst/>
              <a:ahLst/>
              <a:rect l="l" t="t" r="r" b="b"/>
              <a:pathLst>
                <a:path w="324" h="1831">
                  <a:moveTo>
                    <a:pt x="32" y="0"/>
                  </a:moveTo>
                  <a:lnTo>
                    <a:pt x="69" y="76"/>
                  </a:lnTo>
                  <a:lnTo>
                    <a:pt x="85" y="153"/>
                  </a:lnTo>
                  <a:lnTo>
                    <a:pt x="100" y="419"/>
                  </a:lnTo>
                  <a:lnTo>
                    <a:pt x="107" y="597"/>
                  </a:lnTo>
                  <a:lnTo>
                    <a:pt x="107" y="902"/>
                  </a:lnTo>
                  <a:lnTo>
                    <a:pt x="105" y="1189"/>
                  </a:lnTo>
                  <a:lnTo>
                    <a:pt x="90" y="1417"/>
                  </a:lnTo>
                  <a:lnTo>
                    <a:pt x="77" y="1487"/>
                  </a:lnTo>
                  <a:lnTo>
                    <a:pt x="157" y="1526"/>
                  </a:lnTo>
                  <a:lnTo>
                    <a:pt x="224" y="1571"/>
                  </a:lnTo>
                  <a:lnTo>
                    <a:pt x="314" y="1666"/>
                  </a:lnTo>
                  <a:lnTo>
                    <a:pt x="324" y="1703"/>
                  </a:lnTo>
                  <a:lnTo>
                    <a:pt x="316" y="1774"/>
                  </a:lnTo>
                  <a:lnTo>
                    <a:pt x="271" y="1831"/>
                  </a:lnTo>
                  <a:lnTo>
                    <a:pt x="254" y="1799"/>
                  </a:lnTo>
                  <a:lnTo>
                    <a:pt x="239" y="1722"/>
                  </a:lnTo>
                  <a:lnTo>
                    <a:pt x="196" y="1660"/>
                  </a:lnTo>
                  <a:lnTo>
                    <a:pt x="122" y="1588"/>
                  </a:lnTo>
                  <a:lnTo>
                    <a:pt x="74" y="1571"/>
                  </a:lnTo>
                  <a:lnTo>
                    <a:pt x="18" y="1571"/>
                  </a:lnTo>
                  <a:lnTo>
                    <a:pt x="18" y="1513"/>
                  </a:lnTo>
                  <a:lnTo>
                    <a:pt x="45" y="1449"/>
                  </a:lnTo>
                  <a:lnTo>
                    <a:pt x="69" y="1245"/>
                  </a:lnTo>
                  <a:lnTo>
                    <a:pt x="77" y="1030"/>
                  </a:lnTo>
                  <a:lnTo>
                    <a:pt x="74" y="840"/>
                  </a:lnTo>
                  <a:lnTo>
                    <a:pt x="69" y="597"/>
                  </a:lnTo>
                  <a:lnTo>
                    <a:pt x="54" y="388"/>
                  </a:lnTo>
                  <a:lnTo>
                    <a:pt x="23" y="235"/>
                  </a:lnTo>
                  <a:lnTo>
                    <a:pt x="0" y="95"/>
                  </a:lnTo>
                  <a:lnTo>
                    <a:pt x="7" y="4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78480" y="1453680"/>
              <a:ext cx="269280" cy="544320"/>
            </a:xfrm>
            <a:custGeom>
              <a:avLst/>
              <a:gdLst/>
              <a:ahLst/>
              <a:rect l="l" t="t" r="r" b="b"/>
              <a:pathLst>
                <a:path w="298" h="1650">
                  <a:moveTo>
                    <a:pt x="0" y="130"/>
                  </a:moveTo>
                  <a:lnTo>
                    <a:pt x="0" y="25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112" y="60"/>
                  </a:lnTo>
                  <a:lnTo>
                    <a:pt x="119" y="115"/>
                  </a:lnTo>
                  <a:lnTo>
                    <a:pt x="112" y="236"/>
                  </a:lnTo>
                  <a:lnTo>
                    <a:pt x="89" y="386"/>
                  </a:lnTo>
                  <a:lnTo>
                    <a:pt x="78" y="618"/>
                  </a:lnTo>
                  <a:lnTo>
                    <a:pt x="72" y="768"/>
                  </a:lnTo>
                  <a:lnTo>
                    <a:pt x="72" y="793"/>
                  </a:lnTo>
                  <a:lnTo>
                    <a:pt x="82" y="1004"/>
                  </a:lnTo>
                  <a:lnTo>
                    <a:pt x="99" y="1124"/>
                  </a:lnTo>
                  <a:lnTo>
                    <a:pt x="112" y="1219"/>
                  </a:lnTo>
                  <a:lnTo>
                    <a:pt x="109" y="1259"/>
                  </a:lnTo>
                  <a:lnTo>
                    <a:pt x="154" y="1369"/>
                  </a:lnTo>
                  <a:lnTo>
                    <a:pt x="202" y="1439"/>
                  </a:lnTo>
                  <a:lnTo>
                    <a:pt x="253" y="1505"/>
                  </a:lnTo>
                  <a:lnTo>
                    <a:pt x="298" y="1536"/>
                  </a:lnTo>
                  <a:lnTo>
                    <a:pt x="298" y="1591"/>
                  </a:lnTo>
                  <a:lnTo>
                    <a:pt x="274" y="1635"/>
                  </a:lnTo>
                  <a:lnTo>
                    <a:pt x="216" y="1650"/>
                  </a:lnTo>
                  <a:lnTo>
                    <a:pt x="174" y="1621"/>
                  </a:lnTo>
                  <a:lnTo>
                    <a:pt x="174" y="1580"/>
                  </a:lnTo>
                  <a:lnTo>
                    <a:pt x="140" y="1439"/>
                  </a:lnTo>
                  <a:lnTo>
                    <a:pt x="82" y="1365"/>
                  </a:lnTo>
                  <a:lnTo>
                    <a:pt x="40" y="1289"/>
                  </a:lnTo>
                  <a:lnTo>
                    <a:pt x="10" y="1249"/>
                  </a:lnTo>
                  <a:lnTo>
                    <a:pt x="20" y="1199"/>
                  </a:lnTo>
                  <a:lnTo>
                    <a:pt x="37" y="1063"/>
                  </a:lnTo>
                  <a:lnTo>
                    <a:pt x="37" y="808"/>
                  </a:lnTo>
                  <a:lnTo>
                    <a:pt x="30" y="627"/>
                  </a:lnTo>
                  <a:lnTo>
                    <a:pt x="30" y="447"/>
                  </a:lnTo>
                  <a:lnTo>
                    <a:pt x="27" y="251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01600" y="1828800"/>
            <a:ext cx="498240" cy="1143000"/>
            <a:chOff x="1101600" y="1828800"/>
            <a:chExt cx="498240" cy="1143000"/>
          </a:xfrm>
        </p:grpSpPr>
        <p:sp>
          <p:nvSpPr>
            <p:cNvPr id="103" name=""/>
            <p:cNvSpPr/>
            <p:nvPr/>
          </p:nvSpPr>
          <p:spPr>
            <a:xfrm>
              <a:off x="1247760" y="1828800"/>
              <a:ext cx="326160" cy="244800"/>
            </a:xfrm>
            <a:custGeom>
              <a:avLst/>
              <a:gdLst/>
              <a:ahLst/>
              <a:rect l="l" t="t" r="r" b="b"/>
              <a:pathLst>
                <a:path w="326" h="662">
                  <a:moveTo>
                    <a:pt x="0" y="280"/>
                  </a:moveTo>
                  <a:lnTo>
                    <a:pt x="23" y="145"/>
                  </a:lnTo>
                  <a:lnTo>
                    <a:pt x="55" y="75"/>
                  </a:lnTo>
                  <a:lnTo>
                    <a:pt x="93" y="24"/>
                  </a:lnTo>
                  <a:lnTo>
                    <a:pt x="132" y="0"/>
                  </a:lnTo>
                  <a:lnTo>
                    <a:pt x="184" y="8"/>
                  </a:lnTo>
                  <a:lnTo>
                    <a:pt x="217" y="61"/>
                  </a:lnTo>
                  <a:lnTo>
                    <a:pt x="249" y="161"/>
                  </a:lnTo>
                  <a:lnTo>
                    <a:pt x="262" y="292"/>
                  </a:lnTo>
                  <a:lnTo>
                    <a:pt x="262" y="440"/>
                  </a:lnTo>
                  <a:lnTo>
                    <a:pt x="324" y="543"/>
                  </a:lnTo>
                  <a:lnTo>
                    <a:pt x="326" y="587"/>
                  </a:lnTo>
                  <a:lnTo>
                    <a:pt x="316" y="592"/>
                  </a:lnTo>
                  <a:lnTo>
                    <a:pt x="257" y="501"/>
                  </a:lnTo>
                  <a:lnTo>
                    <a:pt x="238" y="567"/>
                  </a:lnTo>
                  <a:lnTo>
                    <a:pt x="202" y="624"/>
                  </a:lnTo>
                  <a:lnTo>
                    <a:pt x="168" y="653"/>
                  </a:lnTo>
                  <a:lnTo>
                    <a:pt x="114" y="662"/>
                  </a:lnTo>
                  <a:lnTo>
                    <a:pt x="44" y="616"/>
                  </a:lnTo>
                  <a:lnTo>
                    <a:pt x="13" y="517"/>
                  </a:lnTo>
                  <a:lnTo>
                    <a:pt x="0" y="419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5720" y="2094480"/>
              <a:ext cx="285840" cy="398520"/>
            </a:xfrm>
            <a:custGeom>
              <a:avLst/>
              <a:gdLst/>
              <a:ahLst/>
              <a:rect l="l" t="t" r="r" b="b"/>
              <a:pathLst>
                <a:path w="286" h="1074">
                  <a:moveTo>
                    <a:pt x="42" y="69"/>
                  </a:moveTo>
                  <a:lnTo>
                    <a:pt x="77" y="23"/>
                  </a:lnTo>
                  <a:lnTo>
                    <a:pt x="118" y="7"/>
                  </a:lnTo>
                  <a:lnTo>
                    <a:pt x="157" y="0"/>
                  </a:lnTo>
                  <a:lnTo>
                    <a:pt x="207" y="11"/>
                  </a:lnTo>
                  <a:lnTo>
                    <a:pt x="263" y="69"/>
                  </a:lnTo>
                  <a:lnTo>
                    <a:pt x="286" y="172"/>
                  </a:lnTo>
                  <a:lnTo>
                    <a:pt x="286" y="329"/>
                  </a:lnTo>
                  <a:lnTo>
                    <a:pt x="284" y="478"/>
                  </a:lnTo>
                  <a:lnTo>
                    <a:pt x="255" y="705"/>
                  </a:lnTo>
                  <a:lnTo>
                    <a:pt x="233" y="891"/>
                  </a:lnTo>
                  <a:lnTo>
                    <a:pt x="207" y="1011"/>
                  </a:lnTo>
                  <a:lnTo>
                    <a:pt x="154" y="1074"/>
                  </a:lnTo>
                  <a:lnTo>
                    <a:pt x="77" y="1060"/>
                  </a:lnTo>
                  <a:lnTo>
                    <a:pt x="39" y="965"/>
                  </a:lnTo>
                  <a:lnTo>
                    <a:pt x="17" y="826"/>
                  </a:lnTo>
                  <a:lnTo>
                    <a:pt x="3" y="668"/>
                  </a:lnTo>
                  <a:lnTo>
                    <a:pt x="0" y="432"/>
                  </a:lnTo>
                  <a:lnTo>
                    <a:pt x="11" y="267"/>
                  </a:lnTo>
                  <a:lnTo>
                    <a:pt x="27" y="118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1600" y="2094480"/>
              <a:ext cx="168120" cy="488520"/>
            </a:xfrm>
            <a:custGeom>
              <a:avLst/>
              <a:gdLst/>
              <a:ahLst/>
              <a:rect l="l" t="t" r="r" b="b"/>
              <a:pathLst>
                <a:path w="168" h="1319">
                  <a:moveTo>
                    <a:pt x="114" y="8"/>
                  </a:moveTo>
                  <a:lnTo>
                    <a:pt x="155" y="0"/>
                  </a:lnTo>
                  <a:lnTo>
                    <a:pt x="168" y="58"/>
                  </a:lnTo>
                  <a:lnTo>
                    <a:pt x="148" y="132"/>
                  </a:lnTo>
                  <a:lnTo>
                    <a:pt x="117" y="173"/>
                  </a:lnTo>
                  <a:lnTo>
                    <a:pt x="92" y="271"/>
                  </a:lnTo>
                  <a:lnTo>
                    <a:pt x="60" y="404"/>
                  </a:lnTo>
                  <a:lnTo>
                    <a:pt x="48" y="527"/>
                  </a:lnTo>
                  <a:lnTo>
                    <a:pt x="40" y="738"/>
                  </a:lnTo>
                  <a:lnTo>
                    <a:pt x="48" y="936"/>
                  </a:lnTo>
                  <a:lnTo>
                    <a:pt x="64" y="1026"/>
                  </a:lnTo>
                  <a:lnTo>
                    <a:pt x="53" y="1126"/>
                  </a:lnTo>
                  <a:lnTo>
                    <a:pt x="40" y="1200"/>
                  </a:lnTo>
                  <a:lnTo>
                    <a:pt x="45" y="1319"/>
                  </a:lnTo>
                  <a:lnTo>
                    <a:pt x="25" y="1310"/>
                  </a:lnTo>
                  <a:lnTo>
                    <a:pt x="8" y="1212"/>
                  </a:lnTo>
                  <a:lnTo>
                    <a:pt x="0" y="1126"/>
                  </a:lnTo>
                  <a:lnTo>
                    <a:pt x="23" y="1010"/>
                  </a:lnTo>
                  <a:lnTo>
                    <a:pt x="15" y="903"/>
                  </a:lnTo>
                  <a:lnTo>
                    <a:pt x="8" y="729"/>
                  </a:lnTo>
                  <a:lnTo>
                    <a:pt x="8" y="520"/>
                  </a:lnTo>
                  <a:lnTo>
                    <a:pt x="23" y="297"/>
                  </a:lnTo>
                  <a:lnTo>
                    <a:pt x="48" y="132"/>
                  </a:lnTo>
                  <a:lnTo>
                    <a:pt x="76" y="46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2040" y="2105640"/>
              <a:ext cx="106200" cy="465120"/>
            </a:xfrm>
            <a:custGeom>
              <a:avLst/>
              <a:gdLst/>
              <a:ahLst/>
              <a:rect l="l" t="t" r="r" b="b"/>
              <a:pathLst>
                <a:path w="106" h="1253">
                  <a:moveTo>
                    <a:pt x="2" y="3"/>
                  </a:moveTo>
                  <a:lnTo>
                    <a:pt x="46" y="0"/>
                  </a:lnTo>
                  <a:lnTo>
                    <a:pt x="75" y="98"/>
                  </a:lnTo>
                  <a:lnTo>
                    <a:pt x="106" y="370"/>
                  </a:lnTo>
                  <a:lnTo>
                    <a:pt x="106" y="684"/>
                  </a:lnTo>
                  <a:lnTo>
                    <a:pt x="90" y="951"/>
                  </a:lnTo>
                  <a:lnTo>
                    <a:pt x="106" y="1042"/>
                  </a:lnTo>
                  <a:lnTo>
                    <a:pt x="106" y="1165"/>
                  </a:lnTo>
                  <a:lnTo>
                    <a:pt x="90" y="1253"/>
                  </a:lnTo>
                  <a:lnTo>
                    <a:pt x="70" y="1174"/>
                  </a:lnTo>
                  <a:lnTo>
                    <a:pt x="60" y="1054"/>
                  </a:lnTo>
                  <a:lnTo>
                    <a:pt x="38" y="963"/>
                  </a:lnTo>
                  <a:lnTo>
                    <a:pt x="63" y="881"/>
                  </a:lnTo>
                  <a:lnTo>
                    <a:pt x="78" y="684"/>
                  </a:lnTo>
                  <a:lnTo>
                    <a:pt x="78" y="498"/>
                  </a:lnTo>
                  <a:lnTo>
                    <a:pt x="63" y="312"/>
                  </a:lnTo>
                  <a:lnTo>
                    <a:pt x="33" y="177"/>
                  </a:lnTo>
                  <a:lnTo>
                    <a:pt x="0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7520" y="2413080"/>
              <a:ext cx="240120" cy="558720"/>
            </a:xfrm>
            <a:custGeom>
              <a:avLst/>
              <a:gdLst/>
              <a:ahLst/>
              <a:rect l="l" t="t" r="r" b="b"/>
              <a:pathLst>
                <a:path w="241" h="1507">
                  <a:moveTo>
                    <a:pt x="24" y="0"/>
                  </a:moveTo>
                  <a:lnTo>
                    <a:pt x="52" y="63"/>
                  </a:lnTo>
                  <a:lnTo>
                    <a:pt x="62" y="127"/>
                  </a:lnTo>
                  <a:lnTo>
                    <a:pt x="73" y="345"/>
                  </a:lnTo>
                  <a:lnTo>
                    <a:pt x="79" y="492"/>
                  </a:lnTo>
                  <a:lnTo>
                    <a:pt x="79" y="743"/>
                  </a:lnTo>
                  <a:lnTo>
                    <a:pt x="77" y="978"/>
                  </a:lnTo>
                  <a:lnTo>
                    <a:pt x="66" y="1167"/>
                  </a:lnTo>
                  <a:lnTo>
                    <a:pt x="57" y="1225"/>
                  </a:lnTo>
                  <a:lnTo>
                    <a:pt x="116" y="1256"/>
                  </a:lnTo>
                  <a:lnTo>
                    <a:pt x="167" y="1293"/>
                  </a:lnTo>
                  <a:lnTo>
                    <a:pt x="233" y="1370"/>
                  </a:lnTo>
                  <a:lnTo>
                    <a:pt x="241" y="1403"/>
                  </a:lnTo>
                  <a:lnTo>
                    <a:pt x="235" y="1459"/>
                  </a:lnTo>
                  <a:lnTo>
                    <a:pt x="201" y="1507"/>
                  </a:lnTo>
                  <a:lnTo>
                    <a:pt x="188" y="1480"/>
                  </a:lnTo>
                  <a:lnTo>
                    <a:pt x="178" y="1418"/>
                  </a:lnTo>
                  <a:lnTo>
                    <a:pt x="147" y="1366"/>
                  </a:lnTo>
                  <a:lnTo>
                    <a:pt x="91" y="1308"/>
                  </a:lnTo>
                  <a:lnTo>
                    <a:pt x="55" y="1293"/>
                  </a:lnTo>
                  <a:lnTo>
                    <a:pt x="12" y="1293"/>
                  </a:lnTo>
                  <a:lnTo>
                    <a:pt x="12" y="1245"/>
                  </a:lnTo>
                  <a:lnTo>
                    <a:pt x="33" y="1193"/>
                  </a:lnTo>
                  <a:lnTo>
                    <a:pt x="52" y="1025"/>
                  </a:lnTo>
                  <a:lnTo>
                    <a:pt x="57" y="847"/>
                  </a:lnTo>
                  <a:lnTo>
                    <a:pt x="55" y="691"/>
                  </a:lnTo>
                  <a:lnTo>
                    <a:pt x="52" y="492"/>
                  </a:lnTo>
                  <a:lnTo>
                    <a:pt x="41" y="320"/>
                  </a:lnTo>
                  <a:lnTo>
                    <a:pt x="17" y="193"/>
                  </a:lnTo>
                  <a:lnTo>
                    <a:pt x="0" y="79"/>
                  </a:lnTo>
                  <a:lnTo>
                    <a:pt x="5" y="3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5560" y="2413080"/>
              <a:ext cx="224280" cy="503280"/>
            </a:xfrm>
            <a:custGeom>
              <a:avLst/>
              <a:gdLst/>
              <a:ahLst/>
              <a:rect l="l" t="t" r="r" b="b"/>
              <a:pathLst>
                <a:path w="223" h="1355">
                  <a:moveTo>
                    <a:pt x="0" y="107"/>
                  </a:moveTo>
                  <a:lnTo>
                    <a:pt x="0" y="21"/>
                  </a:lnTo>
                  <a:lnTo>
                    <a:pt x="23" y="0"/>
                  </a:lnTo>
                  <a:lnTo>
                    <a:pt x="59" y="0"/>
                  </a:lnTo>
                  <a:lnTo>
                    <a:pt x="85" y="50"/>
                  </a:lnTo>
                  <a:lnTo>
                    <a:pt x="90" y="95"/>
                  </a:lnTo>
                  <a:lnTo>
                    <a:pt x="85" y="194"/>
                  </a:lnTo>
                  <a:lnTo>
                    <a:pt x="67" y="318"/>
                  </a:lnTo>
                  <a:lnTo>
                    <a:pt x="59" y="506"/>
                  </a:lnTo>
                  <a:lnTo>
                    <a:pt x="54" y="631"/>
                  </a:lnTo>
                  <a:lnTo>
                    <a:pt x="54" y="651"/>
                  </a:lnTo>
                  <a:lnTo>
                    <a:pt x="62" y="824"/>
                  </a:lnTo>
                  <a:lnTo>
                    <a:pt x="75" y="922"/>
                  </a:lnTo>
                  <a:lnTo>
                    <a:pt x="85" y="1001"/>
                  </a:lnTo>
                  <a:lnTo>
                    <a:pt x="82" y="1034"/>
                  </a:lnTo>
                  <a:lnTo>
                    <a:pt x="115" y="1125"/>
                  </a:lnTo>
                  <a:lnTo>
                    <a:pt x="151" y="1182"/>
                  </a:lnTo>
                  <a:lnTo>
                    <a:pt x="190" y="1236"/>
                  </a:lnTo>
                  <a:lnTo>
                    <a:pt x="223" y="1261"/>
                  </a:lnTo>
                  <a:lnTo>
                    <a:pt x="223" y="1306"/>
                  </a:lnTo>
                  <a:lnTo>
                    <a:pt x="206" y="1343"/>
                  </a:lnTo>
                  <a:lnTo>
                    <a:pt x="162" y="1355"/>
                  </a:lnTo>
                  <a:lnTo>
                    <a:pt x="131" y="1331"/>
                  </a:lnTo>
                  <a:lnTo>
                    <a:pt x="131" y="1298"/>
                  </a:lnTo>
                  <a:lnTo>
                    <a:pt x="105" y="1182"/>
                  </a:lnTo>
                  <a:lnTo>
                    <a:pt x="62" y="1120"/>
                  </a:lnTo>
                  <a:lnTo>
                    <a:pt x="31" y="1059"/>
                  </a:lnTo>
                  <a:lnTo>
                    <a:pt x="8" y="1026"/>
                  </a:lnTo>
                  <a:lnTo>
                    <a:pt x="15" y="985"/>
                  </a:lnTo>
                  <a:lnTo>
                    <a:pt x="28" y="873"/>
                  </a:lnTo>
                  <a:lnTo>
                    <a:pt x="28" y="664"/>
                  </a:lnTo>
                  <a:lnTo>
                    <a:pt x="23" y="515"/>
                  </a:lnTo>
                  <a:lnTo>
                    <a:pt x="23" y="367"/>
                  </a:lnTo>
                  <a:lnTo>
                    <a:pt x="20" y="206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8600" y="795240"/>
            <a:ext cx="329760" cy="1566720"/>
            <a:chOff x="228600" y="795240"/>
            <a:chExt cx="329760" cy="1566720"/>
          </a:xfrm>
        </p:grpSpPr>
        <p:sp>
          <p:nvSpPr>
            <p:cNvPr id="110" name=""/>
            <p:cNvSpPr/>
            <p:nvPr/>
          </p:nvSpPr>
          <p:spPr>
            <a:xfrm>
              <a:off x="324720" y="795240"/>
              <a:ext cx="215640" cy="3391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6360" y="1162080"/>
              <a:ext cx="190080" cy="54180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" y="1159920"/>
              <a:ext cx="112320" cy="67068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5200" y="1178640"/>
              <a:ext cx="70560" cy="63360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360" y="1596240"/>
              <a:ext cx="159480" cy="765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9680" y="1598040"/>
              <a:ext cx="148680" cy="68724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327480" y="1828800"/>
            <a:ext cx="329760" cy="1143000"/>
            <a:chOff x="3327480" y="1828800"/>
            <a:chExt cx="329760" cy="1143000"/>
          </a:xfrm>
        </p:grpSpPr>
        <p:sp>
          <p:nvSpPr>
            <p:cNvPr id="117" name=""/>
            <p:cNvSpPr/>
            <p:nvPr/>
          </p:nvSpPr>
          <p:spPr>
            <a:xfrm>
              <a:off x="3423600" y="1828800"/>
              <a:ext cx="215640" cy="2473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05240" y="2096280"/>
              <a:ext cx="190080" cy="39528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27480" y="2094840"/>
              <a:ext cx="112320" cy="48924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4080" y="2108520"/>
              <a:ext cx="70560" cy="46224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05240" y="2413080"/>
              <a:ext cx="159480" cy="558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8560" y="2414520"/>
              <a:ext cx="148680" cy="50112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57200" y="2895480"/>
            <a:ext cx="3733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eople &amp;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9120" y="1143000"/>
            <a:ext cx="2796840" cy="1256760"/>
            <a:chOff x="519120" y="1143000"/>
            <a:chExt cx="2796840" cy="1256760"/>
          </a:xfrm>
        </p:grpSpPr>
        <p:sp>
          <p:nvSpPr>
            <p:cNvPr id="125" name=""/>
            <p:cNvSpPr/>
            <p:nvPr/>
          </p:nvSpPr>
          <p:spPr>
            <a:xfrm>
              <a:off x="685800" y="1143000"/>
              <a:ext cx="1676520" cy="228600"/>
            </a:xfrm>
            <a:prstGeom prst="leftRightArrow">
              <a:avLst>
                <a:gd name="adj1" fmla="val 27778"/>
                <a:gd name="adj2" fmla="val 1470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1200">
              <a:off x="604440" y="1752480"/>
              <a:ext cx="2743200" cy="228600"/>
            </a:xfrm>
            <a:prstGeom prst="leftRightArrow">
              <a:avLst>
                <a:gd name="adj1" fmla="val 27444"/>
                <a:gd name="adj2" fmla="val 13672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598600">
              <a:off x="475920" y="1706400"/>
              <a:ext cx="831960" cy="204840"/>
            </a:xfrm>
            <a:prstGeom prst="leftRightArrow">
              <a:avLst>
                <a:gd name="adj1" fmla="val 27778"/>
                <a:gd name="adj2" fmla="val 814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534680" y="1568880"/>
            <a:ext cx="1940400" cy="1022040"/>
            <a:chOff x="1534680" y="1568880"/>
            <a:chExt cx="1940400" cy="1022040"/>
          </a:xfrm>
        </p:grpSpPr>
        <p:sp>
          <p:nvSpPr>
            <p:cNvPr id="129" name=""/>
            <p:cNvSpPr/>
            <p:nvPr/>
          </p:nvSpPr>
          <p:spPr>
            <a:xfrm>
              <a:off x="1676520" y="2362320"/>
              <a:ext cx="1523880" cy="228600"/>
            </a:xfrm>
            <a:prstGeom prst="leftRightArrow">
              <a:avLst>
                <a:gd name="adj1" fmla="val 27778"/>
                <a:gd name="adj2" fmla="val 13366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9963200">
              <a:off x="1531800" y="1785960"/>
              <a:ext cx="990720" cy="228600"/>
            </a:xfrm>
            <a:prstGeom prst="leftRightArrow">
              <a:avLst>
                <a:gd name="adj1" fmla="val 27778"/>
                <a:gd name="adj2" fmla="val 868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598600">
              <a:off x="2844360" y="1771560"/>
              <a:ext cx="660600" cy="174600"/>
            </a:xfrm>
            <a:prstGeom prst="leftRightArrow">
              <a:avLst>
                <a:gd name="adj1" fmla="val 27778"/>
                <a:gd name="adj2" fmla="val 758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2280" y="685800"/>
            <a:ext cx="4343400" cy="2743200"/>
          </a:xfrm>
          <a:prstGeom prst="rect">
            <a:avLst/>
          </a:prstGeom>
          <a:noFill/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52280" y="3505320"/>
            <a:ext cx="4343400" cy="3003840"/>
            <a:chOff x="152280" y="3505320"/>
            <a:chExt cx="4343400" cy="3003840"/>
          </a:xfrm>
        </p:grpSpPr>
        <p:grpSp>
          <p:nvGrpSpPr>
            <p:cNvPr id="134" name=""/>
            <p:cNvGrpSpPr/>
            <p:nvPr/>
          </p:nvGrpSpPr>
          <p:grpSpPr>
            <a:xfrm>
              <a:off x="1401840" y="4114800"/>
              <a:ext cx="1950120" cy="1686960"/>
              <a:chOff x="1401840" y="4114800"/>
              <a:chExt cx="1950120" cy="168696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401840" y="4282920"/>
                <a:ext cx="1091880" cy="1518840"/>
                <a:chOff x="1401840" y="4282920"/>
                <a:chExt cx="1091880" cy="15188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782000" y="4282920"/>
                  <a:ext cx="244080" cy="381600"/>
                </a:xfrm>
                <a:custGeom>
                  <a:avLst/>
                  <a:gdLst/>
                  <a:ahLst/>
                  <a:rect l="l" t="t" r="r" b="b"/>
                  <a:pathLst>
                    <a:path w="537" h="654">
                      <a:moveTo>
                        <a:pt x="138" y="302"/>
                      </a:moveTo>
                      <a:lnTo>
                        <a:pt x="179" y="171"/>
                      </a:lnTo>
                      <a:lnTo>
                        <a:pt x="248" y="66"/>
                      </a:lnTo>
                      <a:lnTo>
                        <a:pt x="317" y="13"/>
                      </a:lnTo>
                      <a:lnTo>
                        <a:pt x="399" y="0"/>
                      </a:lnTo>
                      <a:lnTo>
                        <a:pt x="455" y="13"/>
                      </a:lnTo>
                      <a:lnTo>
                        <a:pt x="524" y="53"/>
                      </a:lnTo>
                      <a:lnTo>
                        <a:pt x="537" y="144"/>
                      </a:lnTo>
                      <a:lnTo>
                        <a:pt x="537" y="275"/>
                      </a:lnTo>
                      <a:lnTo>
                        <a:pt x="482" y="418"/>
                      </a:lnTo>
                      <a:lnTo>
                        <a:pt x="399" y="511"/>
                      </a:lnTo>
                      <a:lnTo>
                        <a:pt x="359" y="563"/>
                      </a:lnTo>
                      <a:lnTo>
                        <a:pt x="290" y="602"/>
                      </a:lnTo>
                      <a:lnTo>
                        <a:pt x="234" y="589"/>
                      </a:lnTo>
                      <a:lnTo>
                        <a:pt x="193" y="576"/>
                      </a:lnTo>
                      <a:lnTo>
                        <a:pt x="151" y="536"/>
                      </a:lnTo>
                      <a:lnTo>
                        <a:pt x="27" y="654"/>
                      </a:lnTo>
                      <a:lnTo>
                        <a:pt x="0" y="576"/>
                      </a:lnTo>
                      <a:lnTo>
                        <a:pt x="124" y="458"/>
                      </a:lnTo>
                      <a:lnTo>
                        <a:pt x="138" y="30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45360" y="4671720"/>
                  <a:ext cx="155880" cy="511560"/>
                </a:xfrm>
                <a:custGeom>
                  <a:avLst/>
                  <a:gdLst/>
                  <a:ahLst/>
                  <a:rect l="l" t="t" r="r" b="b"/>
                  <a:pathLst>
                    <a:path w="345" h="876">
                      <a:moveTo>
                        <a:pt x="111" y="26"/>
                      </a:moveTo>
                      <a:lnTo>
                        <a:pt x="180" y="0"/>
                      </a:lnTo>
                      <a:lnTo>
                        <a:pt x="262" y="26"/>
                      </a:lnTo>
                      <a:lnTo>
                        <a:pt x="318" y="118"/>
                      </a:lnTo>
                      <a:lnTo>
                        <a:pt x="345" y="262"/>
                      </a:lnTo>
                      <a:lnTo>
                        <a:pt x="345" y="483"/>
                      </a:lnTo>
                      <a:lnTo>
                        <a:pt x="303" y="654"/>
                      </a:lnTo>
                      <a:lnTo>
                        <a:pt x="262" y="785"/>
                      </a:lnTo>
                      <a:lnTo>
                        <a:pt x="151" y="876"/>
                      </a:lnTo>
                      <a:lnTo>
                        <a:pt x="55" y="863"/>
                      </a:lnTo>
                      <a:lnTo>
                        <a:pt x="0" y="745"/>
                      </a:lnTo>
                      <a:lnTo>
                        <a:pt x="42" y="614"/>
                      </a:lnTo>
                      <a:lnTo>
                        <a:pt x="82" y="496"/>
                      </a:lnTo>
                      <a:lnTo>
                        <a:pt x="96" y="380"/>
                      </a:lnTo>
                      <a:lnTo>
                        <a:pt x="82" y="222"/>
                      </a:lnTo>
                      <a:lnTo>
                        <a:pt x="82" y="78"/>
                      </a:lnTo>
                      <a:lnTo>
                        <a:pt x="111" y="2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401840" y="4678920"/>
                  <a:ext cx="505080" cy="390600"/>
                </a:xfrm>
                <a:custGeom>
                  <a:avLst/>
                  <a:gdLst/>
                  <a:ahLst/>
                  <a:rect l="l" t="t" r="r" b="b"/>
                  <a:pathLst>
                    <a:path w="1117" h="667">
                      <a:moveTo>
                        <a:pt x="910" y="104"/>
                      </a:moveTo>
                      <a:lnTo>
                        <a:pt x="992" y="26"/>
                      </a:lnTo>
                      <a:lnTo>
                        <a:pt x="1061" y="0"/>
                      </a:lnTo>
                      <a:lnTo>
                        <a:pt x="1103" y="13"/>
                      </a:lnTo>
                      <a:lnTo>
                        <a:pt x="1117" y="64"/>
                      </a:lnTo>
                      <a:lnTo>
                        <a:pt x="1103" y="117"/>
                      </a:lnTo>
                      <a:lnTo>
                        <a:pt x="1075" y="130"/>
                      </a:lnTo>
                      <a:lnTo>
                        <a:pt x="938" y="209"/>
                      </a:lnTo>
                      <a:lnTo>
                        <a:pt x="800" y="300"/>
                      </a:lnTo>
                      <a:lnTo>
                        <a:pt x="689" y="365"/>
                      </a:lnTo>
                      <a:lnTo>
                        <a:pt x="551" y="418"/>
                      </a:lnTo>
                      <a:lnTo>
                        <a:pt x="386" y="470"/>
                      </a:lnTo>
                      <a:lnTo>
                        <a:pt x="359" y="496"/>
                      </a:lnTo>
                      <a:lnTo>
                        <a:pt x="399" y="640"/>
                      </a:lnTo>
                      <a:lnTo>
                        <a:pt x="372" y="640"/>
                      </a:lnTo>
                      <a:lnTo>
                        <a:pt x="317" y="536"/>
                      </a:lnTo>
                      <a:lnTo>
                        <a:pt x="290" y="536"/>
                      </a:lnTo>
                      <a:lnTo>
                        <a:pt x="221" y="667"/>
                      </a:lnTo>
                      <a:lnTo>
                        <a:pt x="179" y="667"/>
                      </a:lnTo>
                      <a:lnTo>
                        <a:pt x="234" y="536"/>
                      </a:lnTo>
                      <a:lnTo>
                        <a:pt x="221" y="496"/>
                      </a:lnTo>
                      <a:lnTo>
                        <a:pt x="0" y="509"/>
                      </a:lnTo>
                      <a:lnTo>
                        <a:pt x="0" y="470"/>
                      </a:lnTo>
                      <a:lnTo>
                        <a:pt x="207" y="444"/>
                      </a:lnTo>
                      <a:lnTo>
                        <a:pt x="221" y="418"/>
                      </a:lnTo>
                      <a:lnTo>
                        <a:pt x="110" y="340"/>
                      </a:lnTo>
                      <a:lnTo>
                        <a:pt x="152" y="326"/>
                      </a:lnTo>
                      <a:lnTo>
                        <a:pt x="290" y="391"/>
                      </a:lnTo>
                      <a:lnTo>
                        <a:pt x="372" y="391"/>
                      </a:lnTo>
                      <a:lnTo>
                        <a:pt x="510" y="378"/>
                      </a:lnTo>
                      <a:lnTo>
                        <a:pt x="593" y="340"/>
                      </a:lnTo>
                      <a:lnTo>
                        <a:pt x="731" y="274"/>
                      </a:lnTo>
                      <a:lnTo>
                        <a:pt x="841" y="169"/>
                      </a:lnTo>
                      <a:lnTo>
                        <a:pt x="910" y="10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32480" y="4526280"/>
                  <a:ext cx="561240" cy="213480"/>
                </a:xfrm>
                <a:custGeom>
                  <a:avLst/>
                  <a:gdLst/>
                  <a:ahLst/>
                  <a:rect l="l" t="t" r="r" b="b"/>
                  <a:pathLst>
                    <a:path w="1241" h="367">
                      <a:moveTo>
                        <a:pt x="0" y="289"/>
                      </a:moveTo>
                      <a:lnTo>
                        <a:pt x="15" y="236"/>
                      </a:lnTo>
                      <a:lnTo>
                        <a:pt x="194" y="171"/>
                      </a:lnTo>
                      <a:lnTo>
                        <a:pt x="387" y="105"/>
                      </a:lnTo>
                      <a:lnTo>
                        <a:pt x="690" y="66"/>
                      </a:lnTo>
                      <a:lnTo>
                        <a:pt x="966" y="79"/>
                      </a:lnTo>
                      <a:lnTo>
                        <a:pt x="1063" y="79"/>
                      </a:lnTo>
                      <a:lnTo>
                        <a:pt x="1214" y="0"/>
                      </a:lnTo>
                      <a:lnTo>
                        <a:pt x="1241" y="26"/>
                      </a:lnTo>
                      <a:lnTo>
                        <a:pt x="1104" y="131"/>
                      </a:lnTo>
                      <a:lnTo>
                        <a:pt x="993" y="236"/>
                      </a:lnTo>
                      <a:lnTo>
                        <a:pt x="924" y="341"/>
                      </a:lnTo>
                      <a:lnTo>
                        <a:pt x="884" y="302"/>
                      </a:lnTo>
                      <a:lnTo>
                        <a:pt x="897" y="236"/>
                      </a:lnTo>
                      <a:lnTo>
                        <a:pt x="911" y="158"/>
                      </a:lnTo>
                      <a:lnTo>
                        <a:pt x="842" y="144"/>
                      </a:lnTo>
                      <a:lnTo>
                        <a:pt x="690" y="131"/>
                      </a:lnTo>
                      <a:lnTo>
                        <a:pt x="566" y="131"/>
                      </a:lnTo>
                      <a:lnTo>
                        <a:pt x="373" y="184"/>
                      </a:lnTo>
                      <a:lnTo>
                        <a:pt x="180" y="289"/>
                      </a:lnTo>
                      <a:lnTo>
                        <a:pt x="0" y="367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75960" y="5045040"/>
                  <a:ext cx="168480" cy="686880"/>
                </a:xfrm>
                <a:custGeom>
                  <a:avLst/>
                  <a:gdLst/>
                  <a:ahLst/>
                  <a:rect l="l" t="t" r="r" b="b"/>
                  <a:pathLst>
                    <a:path w="374" h="1176">
                      <a:moveTo>
                        <a:pt x="111" y="0"/>
                      </a:moveTo>
                      <a:lnTo>
                        <a:pt x="180" y="26"/>
                      </a:lnTo>
                      <a:lnTo>
                        <a:pt x="236" y="156"/>
                      </a:lnTo>
                      <a:lnTo>
                        <a:pt x="264" y="300"/>
                      </a:lnTo>
                      <a:lnTo>
                        <a:pt x="278" y="496"/>
                      </a:lnTo>
                      <a:lnTo>
                        <a:pt x="222" y="705"/>
                      </a:lnTo>
                      <a:lnTo>
                        <a:pt x="140" y="887"/>
                      </a:lnTo>
                      <a:lnTo>
                        <a:pt x="153" y="953"/>
                      </a:lnTo>
                      <a:lnTo>
                        <a:pt x="347" y="1045"/>
                      </a:lnTo>
                      <a:lnTo>
                        <a:pt x="374" y="1096"/>
                      </a:lnTo>
                      <a:lnTo>
                        <a:pt x="264" y="1176"/>
                      </a:lnTo>
                      <a:lnTo>
                        <a:pt x="209" y="1136"/>
                      </a:lnTo>
                      <a:lnTo>
                        <a:pt x="98" y="1018"/>
                      </a:lnTo>
                      <a:lnTo>
                        <a:pt x="0" y="953"/>
                      </a:lnTo>
                      <a:lnTo>
                        <a:pt x="0" y="914"/>
                      </a:lnTo>
                      <a:lnTo>
                        <a:pt x="56" y="836"/>
                      </a:lnTo>
                      <a:lnTo>
                        <a:pt x="140" y="718"/>
                      </a:lnTo>
                      <a:lnTo>
                        <a:pt x="195" y="535"/>
                      </a:lnTo>
                      <a:lnTo>
                        <a:pt x="195" y="300"/>
                      </a:lnTo>
                      <a:lnTo>
                        <a:pt x="153" y="169"/>
                      </a:lnTo>
                      <a:lnTo>
                        <a:pt x="98" y="10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675080" y="5053680"/>
                  <a:ext cx="226080" cy="748080"/>
                </a:xfrm>
                <a:custGeom>
                  <a:avLst/>
                  <a:gdLst/>
                  <a:ahLst/>
                  <a:rect l="l" t="t" r="r" b="b"/>
                  <a:pathLst>
                    <a:path w="498" h="1281">
                      <a:moveTo>
                        <a:pt x="263" y="156"/>
                      </a:moveTo>
                      <a:lnTo>
                        <a:pt x="318" y="38"/>
                      </a:lnTo>
                      <a:lnTo>
                        <a:pt x="456" y="0"/>
                      </a:lnTo>
                      <a:lnTo>
                        <a:pt x="498" y="64"/>
                      </a:lnTo>
                      <a:lnTo>
                        <a:pt x="401" y="169"/>
                      </a:lnTo>
                      <a:lnTo>
                        <a:pt x="345" y="235"/>
                      </a:lnTo>
                      <a:lnTo>
                        <a:pt x="332" y="365"/>
                      </a:lnTo>
                      <a:lnTo>
                        <a:pt x="305" y="587"/>
                      </a:lnTo>
                      <a:lnTo>
                        <a:pt x="318" y="874"/>
                      </a:lnTo>
                      <a:lnTo>
                        <a:pt x="332" y="1005"/>
                      </a:lnTo>
                      <a:lnTo>
                        <a:pt x="360" y="1058"/>
                      </a:lnTo>
                      <a:lnTo>
                        <a:pt x="345" y="1110"/>
                      </a:lnTo>
                      <a:lnTo>
                        <a:pt x="249" y="1150"/>
                      </a:lnTo>
                      <a:lnTo>
                        <a:pt x="98" y="1281"/>
                      </a:lnTo>
                      <a:lnTo>
                        <a:pt x="42" y="1281"/>
                      </a:lnTo>
                      <a:lnTo>
                        <a:pt x="0" y="1176"/>
                      </a:lnTo>
                      <a:lnTo>
                        <a:pt x="98" y="1110"/>
                      </a:lnTo>
                      <a:lnTo>
                        <a:pt x="222" y="1071"/>
                      </a:lnTo>
                      <a:lnTo>
                        <a:pt x="276" y="1045"/>
                      </a:lnTo>
                      <a:lnTo>
                        <a:pt x="263" y="927"/>
                      </a:lnTo>
                      <a:lnTo>
                        <a:pt x="236" y="665"/>
                      </a:lnTo>
                      <a:lnTo>
                        <a:pt x="222" y="444"/>
                      </a:lnTo>
                      <a:lnTo>
                        <a:pt x="236" y="260"/>
                      </a:lnTo>
                      <a:lnTo>
                        <a:pt x="263" y="1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189520" y="4114800"/>
                <a:ext cx="1162440" cy="1609920"/>
                <a:chOff x="2189520" y="4114800"/>
                <a:chExt cx="1162440" cy="1609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89520" y="4114800"/>
                  <a:ext cx="1162440" cy="1609920"/>
                </a:xfrm>
                <a:custGeom>
                  <a:avLst/>
                  <a:gdLst/>
                  <a:ahLst/>
                  <a:rect l="l" t="t" r="r" b="b"/>
                  <a:pathLst>
                    <a:path w="2567" h="2757">
                      <a:moveTo>
                        <a:pt x="898" y="510"/>
                      </a:moveTo>
                      <a:lnTo>
                        <a:pt x="746" y="641"/>
                      </a:lnTo>
                      <a:lnTo>
                        <a:pt x="566" y="772"/>
                      </a:lnTo>
                      <a:lnTo>
                        <a:pt x="374" y="981"/>
                      </a:lnTo>
                      <a:lnTo>
                        <a:pt x="167" y="1255"/>
                      </a:lnTo>
                      <a:lnTo>
                        <a:pt x="56" y="1490"/>
                      </a:lnTo>
                      <a:lnTo>
                        <a:pt x="0" y="1673"/>
                      </a:lnTo>
                      <a:lnTo>
                        <a:pt x="0" y="1790"/>
                      </a:lnTo>
                      <a:lnTo>
                        <a:pt x="15" y="2039"/>
                      </a:lnTo>
                      <a:lnTo>
                        <a:pt x="56" y="2222"/>
                      </a:lnTo>
                      <a:lnTo>
                        <a:pt x="167" y="2339"/>
                      </a:lnTo>
                      <a:lnTo>
                        <a:pt x="387" y="2484"/>
                      </a:lnTo>
                      <a:lnTo>
                        <a:pt x="595" y="2575"/>
                      </a:lnTo>
                      <a:lnTo>
                        <a:pt x="856" y="2666"/>
                      </a:lnTo>
                      <a:lnTo>
                        <a:pt x="1008" y="2718"/>
                      </a:lnTo>
                      <a:lnTo>
                        <a:pt x="1270" y="2757"/>
                      </a:lnTo>
                      <a:lnTo>
                        <a:pt x="1669" y="2718"/>
                      </a:lnTo>
                      <a:lnTo>
                        <a:pt x="2015" y="2627"/>
                      </a:lnTo>
                      <a:lnTo>
                        <a:pt x="2235" y="2496"/>
                      </a:lnTo>
                      <a:lnTo>
                        <a:pt x="2373" y="2353"/>
                      </a:lnTo>
                      <a:lnTo>
                        <a:pt x="2456" y="2209"/>
                      </a:lnTo>
                      <a:lnTo>
                        <a:pt x="2538" y="2026"/>
                      </a:lnTo>
                      <a:lnTo>
                        <a:pt x="2567" y="1817"/>
                      </a:lnTo>
                      <a:lnTo>
                        <a:pt x="2567" y="1530"/>
                      </a:lnTo>
                      <a:lnTo>
                        <a:pt x="2511" y="1346"/>
                      </a:lnTo>
                      <a:lnTo>
                        <a:pt x="2400" y="1150"/>
                      </a:lnTo>
                      <a:lnTo>
                        <a:pt x="2249" y="968"/>
                      </a:lnTo>
                      <a:lnTo>
                        <a:pt x="2084" y="823"/>
                      </a:lnTo>
                      <a:lnTo>
                        <a:pt x="1918" y="706"/>
                      </a:lnTo>
                      <a:lnTo>
                        <a:pt x="1683" y="601"/>
                      </a:lnTo>
                      <a:lnTo>
                        <a:pt x="1669" y="536"/>
                      </a:lnTo>
                      <a:lnTo>
                        <a:pt x="1877" y="327"/>
                      </a:lnTo>
                      <a:lnTo>
                        <a:pt x="1890" y="196"/>
                      </a:lnTo>
                      <a:lnTo>
                        <a:pt x="1656" y="327"/>
                      </a:lnTo>
                      <a:lnTo>
                        <a:pt x="1738" y="92"/>
                      </a:lnTo>
                      <a:lnTo>
                        <a:pt x="1711" y="79"/>
                      </a:lnTo>
                      <a:lnTo>
                        <a:pt x="1629" y="79"/>
                      </a:lnTo>
                      <a:lnTo>
                        <a:pt x="1491" y="236"/>
                      </a:lnTo>
                      <a:lnTo>
                        <a:pt x="1408" y="327"/>
                      </a:lnTo>
                      <a:lnTo>
                        <a:pt x="1435" y="157"/>
                      </a:lnTo>
                      <a:lnTo>
                        <a:pt x="1491" y="27"/>
                      </a:lnTo>
                      <a:lnTo>
                        <a:pt x="1449" y="0"/>
                      </a:lnTo>
                      <a:lnTo>
                        <a:pt x="1353" y="79"/>
                      </a:lnTo>
                      <a:lnTo>
                        <a:pt x="1256" y="274"/>
                      </a:lnTo>
                      <a:lnTo>
                        <a:pt x="1215" y="170"/>
                      </a:lnTo>
                      <a:lnTo>
                        <a:pt x="1132" y="131"/>
                      </a:lnTo>
                      <a:lnTo>
                        <a:pt x="1077" y="261"/>
                      </a:lnTo>
                      <a:lnTo>
                        <a:pt x="1063" y="340"/>
                      </a:lnTo>
                      <a:lnTo>
                        <a:pt x="911" y="157"/>
                      </a:lnTo>
                      <a:lnTo>
                        <a:pt x="718" y="14"/>
                      </a:lnTo>
                      <a:lnTo>
                        <a:pt x="664" y="40"/>
                      </a:lnTo>
                      <a:lnTo>
                        <a:pt x="649" y="118"/>
                      </a:lnTo>
                      <a:lnTo>
                        <a:pt x="718" y="236"/>
                      </a:lnTo>
                      <a:lnTo>
                        <a:pt x="800" y="379"/>
                      </a:lnTo>
                      <a:lnTo>
                        <a:pt x="1008" y="628"/>
                      </a:lnTo>
                      <a:lnTo>
                        <a:pt x="980" y="679"/>
                      </a:lnTo>
                      <a:lnTo>
                        <a:pt x="938" y="706"/>
                      </a:lnTo>
                      <a:lnTo>
                        <a:pt x="967" y="758"/>
                      </a:lnTo>
                      <a:lnTo>
                        <a:pt x="1146" y="823"/>
                      </a:lnTo>
                      <a:lnTo>
                        <a:pt x="1435" y="823"/>
                      </a:lnTo>
                      <a:lnTo>
                        <a:pt x="1683" y="797"/>
                      </a:lnTo>
                      <a:lnTo>
                        <a:pt x="1767" y="719"/>
                      </a:lnTo>
                      <a:lnTo>
                        <a:pt x="1711" y="693"/>
                      </a:lnTo>
                      <a:lnTo>
                        <a:pt x="1656" y="732"/>
                      </a:lnTo>
                      <a:lnTo>
                        <a:pt x="1504" y="745"/>
                      </a:lnTo>
                      <a:lnTo>
                        <a:pt x="1353" y="772"/>
                      </a:lnTo>
                      <a:lnTo>
                        <a:pt x="1187" y="745"/>
                      </a:lnTo>
                      <a:lnTo>
                        <a:pt x="1435" y="719"/>
                      </a:lnTo>
                      <a:lnTo>
                        <a:pt x="1600" y="667"/>
                      </a:lnTo>
                      <a:lnTo>
                        <a:pt x="1629" y="641"/>
                      </a:lnTo>
                      <a:lnTo>
                        <a:pt x="1560" y="614"/>
                      </a:lnTo>
                      <a:lnTo>
                        <a:pt x="1477" y="654"/>
                      </a:lnTo>
                      <a:lnTo>
                        <a:pt x="1284" y="679"/>
                      </a:lnTo>
                      <a:lnTo>
                        <a:pt x="1146" y="667"/>
                      </a:lnTo>
                      <a:lnTo>
                        <a:pt x="1077" y="641"/>
                      </a:lnTo>
                      <a:lnTo>
                        <a:pt x="1105" y="576"/>
                      </a:lnTo>
                      <a:lnTo>
                        <a:pt x="980" y="484"/>
                      </a:lnTo>
                      <a:lnTo>
                        <a:pt x="856" y="367"/>
                      </a:lnTo>
                      <a:lnTo>
                        <a:pt x="787" y="249"/>
                      </a:lnTo>
                      <a:lnTo>
                        <a:pt x="760" y="170"/>
                      </a:lnTo>
                      <a:lnTo>
                        <a:pt x="760" y="145"/>
                      </a:lnTo>
                      <a:lnTo>
                        <a:pt x="787" y="145"/>
                      </a:lnTo>
                      <a:lnTo>
                        <a:pt x="856" y="196"/>
                      </a:lnTo>
                      <a:lnTo>
                        <a:pt x="952" y="314"/>
                      </a:lnTo>
                      <a:lnTo>
                        <a:pt x="1077" y="458"/>
                      </a:lnTo>
                      <a:lnTo>
                        <a:pt x="1105" y="497"/>
                      </a:lnTo>
                      <a:lnTo>
                        <a:pt x="1159" y="470"/>
                      </a:lnTo>
                      <a:lnTo>
                        <a:pt x="1132" y="392"/>
                      </a:lnTo>
                      <a:lnTo>
                        <a:pt x="1146" y="340"/>
                      </a:lnTo>
                      <a:lnTo>
                        <a:pt x="1159" y="274"/>
                      </a:lnTo>
                      <a:lnTo>
                        <a:pt x="1187" y="274"/>
                      </a:lnTo>
                      <a:lnTo>
                        <a:pt x="1215" y="354"/>
                      </a:lnTo>
                      <a:lnTo>
                        <a:pt x="1228" y="405"/>
                      </a:lnTo>
                      <a:lnTo>
                        <a:pt x="1270" y="419"/>
                      </a:lnTo>
                      <a:lnTo>
                        <a:pt x="1326" y="301"/>
                      </a:lnTo>
                      <a:lnTo>
                        <a:pt x="1353" y="261"/>
                      </a:lnTo>
                      <a:lnTo>
                        <a:pt x="1366" y="327"/>
                      </a:lnTo>
                      <a:lnTo>
                        <a:pt x="1366" y="432"/>
                      </a:lnTo>
                      <a:lnTo>
                        <a:pt x="1408" y="458"/>
                      </a:lnTo>
                      <a:lnTo>
                        <a:pt x="1477" y="367"/>
                      </a:lnTo>
                      <a:lnTo>
                        <a:pt x="1546" y="249"/>
                      </a:lnTo>
                      <a:lnTo>
                        <a:pt x="1615" y="223"/>
                      </a:lnTo>
                      <a:lnTo>
                        <a:pt x="1615" y="236"/>
                      </a:lnTo>
                      <a:lnTo>
                        <a:pt x="1573" y="314"/>
                      </a:lnTo>
                      <a:lnTo>
                        <a:pt x="1531" y="432"/>
                      </a:lnTo>
                      <a:lnTo>
                        <a:pt x="1573" y="445"/>
                      </a:lnTo>
                      <a:lnTo>
                        <a:pt x="1794" y="301"/>
                      </a:lnTo>
                      <a:lnTo>
                        <a:pt x="1821" y="301"/>
                      </a:lnTo>
                      <a:lnTo>
                        <a:pt x="1615" y="497"/>
                      </a:lnTo>
                      <a:lnTo>
                        <a:pt x="1573" y="536"/>
                      </a:lnTo>
                      <a:lnTo>
                        <a:pt x="1560" y="601"/>
                      </a:lnTo>
                      <a:lnTo>
                        <a:pt x="1600" y="628"/>
                      </a:lnTo>
                      <a:lnTo>
                        <a:pt x="1725" y="679"/>
                      </a:lnTo>
                      <a:lnTo>
                        <a:pt x="1932" y="785"/>
                      </a:lnTo>
                      <a:lnTo>
                        <a:pt x="2070" y="888"/>
                      </a:lnTo>
                      <a:lnTo>
                        <a:pt x="2235" y="1046"/>
                      </a:lnTo>
                      <a:lnTo>
                        <a:pt x="2360" y="1215"/>
                      </a:lnTo>
                      <a:lnTo>
                        <a:pt x="2442" y="1399"/>
                      </a:lnTo>
                      <a:lnTo>
                        <a:pt x="2498" y="1634"/>
                      </a:lnTo>
                      <a:lnTo>
                        <a:pt x="2483" y="1804"/>
                      </a:lnTo>
                      <a:lnTo>
                        <a:pt x="2469" y="1986"/>
                      </a:lnTo>
                      <a:lnTo>
                        <a:pt x="2387" y="2182"/>
                      </a:lnTo>
                      <a:lnTo>
                        <a:pt x="2304" y="2326"/>
                      </a:lnTo>
                      <a:lnTo>
                        <a:pt x="2208" y="2404"/>
                      </a:lnTo>
                      <a:lnTo>
                        <a:pt x="2097" y="2509"/>
                      </a:lnTo>
                      <a:lnTo>
                        <a:pt x="1890" y="2588"/>
                      </a:lnTo>
                      <a:lnTo>
                        <a:pt x="1642" y="2653"/>
                      </a:lnTo>
                      <a:lnTo>
                        <a:pt x="1518" y="2666"/>
                      </a:lnTo>
                      <a:lnTo>
                        <a:pt x="1284" y="2666"/>
                      </a:lnTo>
                      <a:lnTo>
                        <a:pt x="1063" y="2640"/>
                      </a:lnTo>
                      <a:lnTo>
                        <a:pt x="800" y="2575"/>
                      </a:lnTo>
                      <a:lnTo>
                        <a:pt x="553" y="2470"/>
                      </a:lnTo>
                      <a:lnTo>
                        <a:pt x="359" y="2366"/>
                      </a:lnTo>
                      <a:lnTo>
                        <a:pt x="194" y="2248"/>
                      </a:lnTo>
                      <a:lnTo>
                        <a:pt x="125" y="2157"/>
                      </a:lnTo>
                      <a:lnTo>
                        <a:pt x="111" y="2064"/>
                      </a:lnTo>
                      <a:lnTo>
                        <a:pt x="84" y="1790"/>
                      </a:lnTo>
                      <a:lnTo>
                        <a:pt x="98" y="1608"/>
                      </a:lnTo>
                      <a:lnTo>
                        <a:pt x="180" y="1412"/>
                      </a:lnTo>
                      <a:lnTo>
                        <a:pt x="290" y="1190"/>
                      </a:lnTo>
                      <a:lnTo>
                        <a:pt x="484" y="994"/>
                      </a:lnTo>
                      <a:lnTo>
                        <a:pt x="664" y="772"/>
                      </a:lnTo>
                      <a:lnTo>
                        <a:pt x="829" y="654"/>
                      </a:lnTo>
                      <a:lnTo>
                        <a:pt x="925" y="576"/>
                      </a:lnTo>
                      <a:lnTo>
                        <a:pt x="898" y="5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646000" y="4748760"/>
                  <a:ext cx="236880" cy="495720"/>
                </a:xfrm>
                <a:custGeom>
                  <a:avLst/>
                  <a:gdLst/>
                  <a:ahLst/>
                  <a:rect l="l" t="t" r="r" b="b"/>
                  <a:pathLst>
                    <a:path w="524" h="849">
                      <a:moveTo>
                        <a:pt x="317" y="156"/>
                      </a:moveTo>
                      <a:lnTo>
                        <a:pt x="413" y="169"/>
                      </a:lnTo>
                      <a:lnTo>
                        <a:pt x="495" y="235"/>
                      </a:lnTo>
                      <a:lnTo>
                        <a:pt x="524" y="300"/>
                      </a:lnTo>
                      <a:lnTo>
                        <a:pt x="426" y="326"/>
                      </a:lnTo>
                      <a:lnTo>
                        <a:pt x="371" y="273"/>
                      </a:lnTo>
                      <a:lnTo>
                        <a:pt x="303" y="247"/>
                      </a:lnTo>
                      <a:lnTo>
                        <a:pt x="234" y="235"/>
                      </a:lnTo>
                      <a:lnTo>
                        <a:pt x="123" y="260"/>
                      </a:lnTo>
                      <a:lnTo>
                        <a:pt x="96" y="326"/>
                      </a:lnTo>
                      <a:lnTo>
                        <a:pt x="151" y="378"/>
                      </a:lnTo>
                      <a:lnTo>
                        <a:pt x="288" y="417"/>
                      </a:lnTo>
                      <a:lnTo>
                        <a:pt x="426" y="417"/>
                      </a:lnTo>
                      <a:lnTo>
                        <a:pt x="468" y="456"/>
                      </a:lnTo>
                      <a:lnTo>
                        <a:pt x="495" y="522"/>
                      </a:lnTo>
                      <a:lnTo>
                        <a:pt x="482" y="600"/>
                      </a:lnTo>
                      <a:lnTo>
                        <a:pt x="399" y="653"/>
                      </a:lnTo>
                      <a:lnTo>
                        <a:pt x="303" y="653"/>
                      </a:lnTo>
                      <a:lnTo>
                        <a:pt x="234" y="653"/>
                      </a:lnTo>
                      <a:lnTo>
                        <a:pt x="206" y="718"/>
                      </a:lnTo>
                      <a:lnTo>
                        <a:pt x="219" y="835"/>
                      </a:lnTo>
                      <a:lnTo>
                        <a:pt x="123" y="849"/>
                      </a:lnTo>
                      <a:lnTo>
                        <a:pt x="109" y="757"/>
                      </a:lnTo>
                      <a:lnTo>
                        <a:pt x="137" y="653"/>
                      </a:lnTo>
                      <a:lnTo>
                        <a:pt x="54" y="613"/>
                      </a:lnTo>
                      <a:lnTo>
                        <a:pt x="0" y="574"/>
                      </a:lnTo>
                      <a:lnTo>
                        <a:pt x="82" y="496"/>
                      </a:lnTo>
                      <a:lnTo>
                        <a:pt x="123" y="548"/>
                      </a:lnTo>
                      <a:lnTo>
                        <a:pt x="192" y="560"/>
                      </a:lnTo>
                      <a:lnTo>
                        <a:pt x="288" y="574"/>
                      </a:lnTo>
                      <a:lnTo>
                        <a:pt x="371" y="574"/>
                      </a:lnTo>
                      <a:lnTo>
                        <a:pt x="413" y="560"/>
                      </a:lnTo>
                      <a:lnTo>
                        <a:pt x="386" y="509"/>
                      </a:lnTo>
                      <a:lnTo>
                        <a:pt x="317" y="496"/>
                      </a:lnTo>
                      <a:lnTo>
                        <a:pt x="192" y="469"/>
                      </a:lnTo>
                      <a:lnTo>
                        <a:pt x="68" y="431"/>
                      </a:lnTo>
                      <a:lnTo>
                        <a:pt x="27" y="365"/>
                      </a:lnTo>
                      <a:lnTo>
                        <a:pt x="13" y="287"/>
                      </a:lnTo>
                      <a:lnTo>
                        <a:pt x="82" y="208"/>
                      </a:lnTo>
                      <a:lnTo>
                        <a:pt x="178" y="143"/>
                      </a:lnTo>
                      <a:lnTo>
                        <a:pt x="247" y="143"/>
                      </a:lnTo>
                      <a:lnTo>
                        <a:pt x="275" y="0"/>
                      </a:lnTo>
                      <a:lnTo>
                        <a:pt x="357" y="13"/>
                      </a:lnTo>
                      <a:lnTo>
                        <a:pt x="317" y="15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426760" y="4724280"/>
                  <a:ext cx="101160" cy="177120"/>
                </a:xfrm>
                <a:custGeom>
                  <a:avLst/>
                  <a:gdLst/>
                  <a:ahLst/>
                  <a:rect l="l" t="t" r="r" b="b"/>
                  <a:pathLst>
                    <a:path w="220" h="301">
                      <a:moveTo>
                        <a:pt x="0" y="236"/>
                      </a:moveTo>
                      <a:lnTo>
                        <a:pt x="96" y="78"/>
                      </a:lnTo>
                      <a:lnTo>
                        <a:pt x="220" y="0"/>
                      </a:lnTo>
                      <a:lnTo>
                        <a:pt x="220" y="40"/>
                      </a:lnTo>
                      <a:lnTo>
                        <a:pt x="136" y="131"/>
                      </a:lnTo>
                      <a:lnTo>
                        <a:pt x="40" y="301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94920" y="5167800"/>
                  <a:ext cx="63360" cy="122760"/>
                </a:xfrm>
                <a:custGeom>
                  <a:avLst/>
                  <a:gdLst/>
                  <a:ahLst/>
                  <a:rect l="l" t="t" r="r" b="b"/>
                  <a:pathLst>
                    <a:path w="138" h="209">
                      <a:moveTo>
                        <a:pt x="138" y="0"/>
                      </a:moveTo>
                      <a:lnTo>
                        <a:pt x="42" y="130"/>
                      </a:lnTo>
                      <a:lnTo>
                        <a:pt x="0" y="182"/>
                      </a:lnTo>
                      <a:lnTo>
                        <a:pt x="55" y="209"/>
                      </a:lnTo>
                      <a:lnTo>
                        <a:pt x="96" y="182"/>
                      </a:lnTo>
                      <a:lnTo>
                        <a:pt x="138" y="91"/>
                      </a:lnTo>
                      <a:lnTo>
                        <a:pt x="138" y="5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628560" y="5942160"/>
              <a:ext cx="36385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Customer collabor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280" y="3505320"/>
              <a:ext cx="4343400" cy="297180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572000" y="3505320"/>
            <a:ext cx="4495680" cy="3033720"/>
            <a:chOff x="4572000" y="3505320"/>
            <a:chExt cx="4495680" cy="303372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876920" y="4038480"/>
              <a:ext cx="18478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952880" y="5972040"/>
              <a:ext cx="34099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Responding to chan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3581280"/>
              <a:ext cx="2743200" cy="914400"/>
            </a:xfrm>
            <a:prstGeom prst="cloudCallout">
              <a:avLst>
                <a:gd name="adj1" fmla="val -61518"/>
                <a:gd name="adj2" fmla="val 46875"/>
              </a:avLst>
            </a:pr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292929"/>
                  </a:solidFill>
                  <a:latin typeface="Arial Narrow"/>
                </a:rPr>
                <a:t>   </a:t>
              </a:r>
              <a:r>
                <a:rPr b="1" lang="pl-PL" sz="2400" spc="-1" strike="noStrike">
                  <a:solidFill>
                    <a:srgbClr val="292929"/>
                  </a:solidFill>
                  <a:latin typeface="Arial Narrow"/>
                </a:rPr>
                <a:t>Tommorow or never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3505320"/>
              <a:ext cx="4495680" cy="297180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572000" y="685800"/>
            <a:ext cx="4495680" cy="2743200"/>
            <a:chOff x="4572000" y="685800"/>
            <a:chExt cx="4495680" cy="2743200"/>
          </a:xfrm>
        </p:grpSpPr>
        <p:grpSp>
          <p:nvGrpSpPr>
            <p:cNvPr id="155" name=""/>
            <p:cNvGrpSpPr/>
            <p:nvPr/>
          </p:nvGrpSpPr>
          <p:grpSpPr>
            <a:xfrm>
              <a:off x="5950080" y="685800"/>
              <a:ext cx="2050200" cy="2208960"/>
              <a:chOff x="5950080" y="685800"/>
              <a:chExt cx="2050200" cy="2208960"/>
            </a:xfrm>
          </p:grpSpPr>
          <p:sp>
            <p:nvSpPr>
              <p:cNvPr id="156" name=""/>
              <p:cNvSpPr/>
              <p:nvPr/>
            </p:nvSpPr>
            <p:spPr>
              <a:xfrm>
                <a:off x="5970240" y="713160"/>
                <a:ext cx="2021040" cy="2156400"/>
              </a:xfrm>
              <a:custGeom>
                <a:avLst/>
                <a:gdLst/>
                <a:ahLst/>
                <a:rect l="l" t="t" r="r" b="b"/>
                <a:pathLst>
                  <a:path w="1765" h="1891">
                    <a:moveTo>
                      <a:pt x="332" y="1263"/>
                    </a:moveTo>
                    <a:lnTo>
                      <a:pt x="196" y="1385"/>
                    </a:lnTo>
                    <a:lnTo>
                      <a:pt x="26" y="1533"/>
                    </a:lnTo>
                    <a:lnTo>
                      <a:pt x="26" y="1659"/>
                    </a:lnTo>
                    <a:lnTo>
                      <a:pt x="54" y="1891"/>
                    </a:lnTo>
                    <a:lnTo>
                      <a:pt x="340" y="1881"/>
                    </a:lnTo>
                    <a:lnTo>
                      <a:pt x="660" y="1847"/>
                    </a:lnTo>
                    <a:lnTo>
                      <a:pt x="1135" y="1837"/>
                    </a:lnTo>
                    <a:lnTo>
                      <a:pt x="1493" y="1847"/>
                    </a:lnTo>
                    <a:lnTo>
                      <a:pt x="1617" y="1617"/>
                    </a:lnTo>
                    <a:lnTo>
                      <a:pt x="1765" y="1169"/>
                    </a:lnTo>
                    <a:lnTo>
                      <a:pt x="1737" y="1034"/>
                    </a:lnTo>
                    <a:lnTo>
                      <a:pt x="1683" y="980"/>
                    </a:lnTo>
                    <a:lnTo>
                      <a:pt x="1523" y="990"/>
                    </a:lnTo>
                    <a:lnTo>
                      <a:pt x="1597" y="650"/>
                    </a:lnTo>
                    <a:lnTo>
                      <a:pt x="1607" y="544"/>
                    </a:lnTo>
                    <a:lnTo>
                      <a:pt x="1569" y="280"/>
                    </a:lnTo>
                    <a:lnTo>
                      <a:pt x="1531" y="84"/>
                    </a:lnTo>
                    <a:lnTo>
                      <a:pt x="1465" y="0"/>
                    </a:lnTo>
                    <a:lnTo>
                      <a:pt x="1415" y="0"/>
                    </a:lnTo>
                    <a:lnTo>
                      <a:pt x="1285" y="22"/>
                    </a:lnTo>
                    <a:lnTo>
                      <a:pt x="1077" y="32"/>
                    </a:lnTo>
                    <a:lnTo>
                      <a:pt x="941" y="12"/>
                    </a:lnTo>
                    <a:lnTo>
                      <a:pt x="794" y="4"/>
                    </a:lnTo>
                    <a:lnTo>
                      <a:pt x="738" y="18"/>
                    </a:lnTo>
                    <a:lnTo>
                      <a:pt x="612" y="76"/>
                    </a:lnTo>
                    <a:lnTo>
                      <a:pt x="426" y="126"/>
                    </a:lnTo>
                    <a:lnTo>
                      <a:pt x="190" y="208"/>
                    </a:lnTo>
                    <a:lnTo>
                      <a:pt x="100" y="260"/>
                    </a:lnTo>
                    <a:lnTo>
                      <a:pt x="18" y="348"/>
                    </a:lnTo>
                    <a:lnTo>
                      <a:pt x="0" y="478"/>
                    </a:lnTo>
                    <a:lnTo>
                      <a:pt x="0" y="694"/>
                    </a:lnTo>
                    <a:lnTo>
                      <a:pt x="10" y="950"/>
                    </a:lnTo>
                    <a:lnTo>
                      <a:pt x="28" y="1100"/>
                    </a:lnTo>
                    <a:lnTo>
                      <a:pt x="64" y="1187"/>
                    </a:lnTo>
                    <a:lnTo>
                      <a:pt x="120" y="1231"/>
                    </a:lnTo>
                    <a:lnTo>
                      <a:pt x="186" y="1249"/>
                    </a:lnTo>
                    <a:lnTo>
                      <a:pt x="332" y="1263"/>
                    </a:lnTo>
                    <a:close/>
                  </a:path>
                </a:pathLst>
              </a:custGeom>
              <a:solidFill>
                <a:srgbClr val="c3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64640" y="1103400"/>
                <a:ext cx="1183320" cy="892080"/>
              </a:xfrm>
              <a:custGeom>
                <a:avLst/>
                <a:gdLst/>
                <a:ahLst/>
                <a:rect l="l" t="t" r="r" b="b"/>
                <a:pathLst>
                  <a:path w="1033" h="784">
                    <a:moveTo>
                      <a:pt x="6" y="214"/>
                    </a:moveTo>
                    <a:lnTo>
                      <a:pt x="16" y="70"/>
                    </a:lnTo>
                    <a:lnTo>
                      <a:pt x="38" y="28"/>
                    </a:lnTo>
                    <a:lnTo>
                      <a:pt x="102" y="12"/>
                    </a:lnTo>
                    <a:lnTo>
                      <a:pt x="358" y="4"/>
                    </a:lnTo>
                    <a:lnTo>
                      <a:pt x="672" y="0"/>
                    </a:lnTo>
                    <a:lnTo>
                      <a:pt x="855" y="4"/>
                    </a:lnTo>
                    <a:lnTo>
                      <a:pt x="899" y="32"/>
                    </a:lnTo>
                    <a:lnTo>
                      <a:pt x="931" y="86"/>
                    </a:lnTo>
                    <a:lnTo>
                      <a:pt x="979" y="318"/>
                    </a:lnTo>
                    <a:lnTo>
                      <a:pt x="1023" y="574"/>
                    </a:lnTo>
                    <a:lnTo>
                      <a:pt x="1033" y="736"/>
                    </a:lnTo>
                    <a:lnTo>
                      <a:pt x="1017" y="764"/>
                    </a:lnTo>
                    <a:lnTo>
                      <a:pt x="961" y="784"/>
                    </a:lnTo>
                    <a:lnTo>
                      <a:pt x="692" y="778"/>
                    </a:lnTo>
                    <a:lnTo>
                      <a:pt x="276" y="758"/>
                    </a:lnTo>
                    <a:lnTo>
                      <a:pt x="72" y="740"/>
                    </a:lnTo>
                    <a:lnTo>
                      <a:pt x="38" y="698"/>
                    </a:lnTo>
                    <a:lnTo>
                      <a:pt x="20" y="616"/>
                    </a:lnTo>
                    <a:lnTo>
                      <a:pt x="0" y="414"/>
                    </a:lnTo>
                    <a:lnTo>
                      <a:pt x="6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950080" y="685800"/>
                <a:ext cx="2050200" cy="2208960"/>
                <a:chOff x="5950080" y="685800"/>
                <a:chExt cx="2050200" cy="2208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968080" y="1799280"/>
                  <a:ext cx="2032200" cy="1095480"/>
                </a:xfrm>
                <a:custGeom>
                  <a:avLst/>
                  <a:gdLst/>
                  <a:ahLst/>
                  <a:rect l="l" t="t" r="r" b="b"/>
                  <a:pathLst>
                    <a:path w="1775" h="959">
                      <a:moveTo>
                        <a:pt x="0" y="579"/>
                      </a:moveTo>
                      <a:lnTo>
                        <a:pt x="220" y="389"/>
                      </a:lnTo>
                      <a:lnTo>
                        <a:pt x="226" y="433"/>
                      </a:lnTo>
                      <a:lnTo>
                        <a:pt x="76" y="569"/>
                      </a:lnTo>
                      <a:lnTo>
                        <a:pt x="340" y="557"/>
                      </a:lnTo>
                      <a:lnTo>
                        <a:pt x="898" y="559"/>
                      </a:lnTo>
                      <a:lnTo>
                        <a:pt x="1193" y="537"/>
                      </a:lnTo>
                      <a:lnTo>
                        <a:pt x="1379" y="503"/>
                      </a:lnTo>
                      <a:lnTo>
                        <a:pt x="1425" y="491"/>
                      </a:lnTo>
                      <a:lnTo>
                        <a:pt x="1643" y="54"/>
                      </a:lnTo>
                      <a:lnTo>
                        <a:pt x="1541" y="26"/>
                      </a:lnTo>
                      <a:lnTo>
                        <a:pt x="1693" y="0"/>
                      </a:lnTo>
                      <a:lnTo>
                        <a:pt x="1749" y="48"/>
                      </a:lnTo>
                      <a:lnTo>
                        <a:pt x="1775" y="209"/>
                      </a:lnTo>
                      <a:lnTo>
                        <a:pt x="1731" y="341"/>
                      </a:lnTo>
                      <a:lnTo>
                        <a:pt x="1589" y="769"/>
                      </a:lnTo>
                      <a:lnTo>
                        <a:pt x="1523" y="901"/>
                      </a:lnTo>
                      <a:lnTo>
                        <a:pt x="1463" y="917"/>
                      </a:lnTo>
                      <a:lnTo>
                        <a:pt x="1013" y="909"/>
                      </a:lnTo>
                      <a:lnTo>
                        <a:pt x="542" y="921"/>
                      </a:lnTo>
                      <a:lnTo>
                        <a:pt x="94" y="955"/>
                      </a:lnTo>
                      <a:lnTo>
                        <a:pt x="28" y="959"/>
                      </a:lnTo>
                      <a:lnTo>
                        <a:pt x="22" y="833"/>
                      </a:lnTo>
                      <a:lnTo>
                        <a:pt x="12" y="709"/>
                      </a:lnTo>
                      <a:lnTo>
                        <a:pt x="10" y="643"/>
                      </a:lnTo>
                      <a:lnTo>
                        <a:pt x="48" y="683"/>
                      </a:lnTo>
                      <a:lnTo>
                        <a:pt x="56" y="785"/>
                      </a:lnTo>
                      <a:lnTo>
                        <a:pt x="70" y="893"/>
                      </a:lnTo>
                      <a:lnTo>
                        <a:pt x="198" y="911"/>
                      </a:lnTo>
                      <a:lnTo>
                        <a:pt x="492" y="883"/>
                      </a:lnTo>
                      <a:lnTo>
                        <a:pt x="740" y="863"/>
                      </a:lnTo>
                      <a:lnTo>
                        <a:pt x="947" y="863"/>
                      </a:lnTo>
                      <a:lnTo>
                        <a:pt x="1259" y="863"/>
                      </a:lnTo>
                      <a:lnTo>
                        <a:pt x="1457" y="861"/>
                      </a:lnTo>
                      <a:lnTo>
                        <a:pt x="1463" y="803"/>
                      </a:lnTo>
                      <a:lnTo>
                        <a:pt x="1445" y="681"/>
                      </a:lnTo>
                      <a:lnTo>
                        <a:pt x="1429" y="547"/>
                      </a:lnTo>
                      <a:lnTo>
                        <a:pt x="1457" y="579"/>
                      </a:lnTo>
                      <a:lnTo>
                        <a:pt x="1485" y="727"/>
                      </a:lnTo>
                      <a:lnTo>
                        <a:pt x="1511" y="803"/>
                      </a:lnTo>
                      <a:lnTo>
                        <a:pt x="1541" y="765"/>
                      </a:lnTo>
                      <a:lnTo>
                        <a:pt x="1595" y="617"/>
                      </a:lnTo>
                      <a:lnTo>
                        <a:pt x="1675" y="407"/>
                      </a:lnTo>
                      <a:lnTo>
                        <a:pt x="1731" y="237"/>
                      </a:lnTo>
                      <a:lnTo>
                        <a:pt x="1741" y="186"/>
                      </a:lnTo>
                      <a:lnTo>
                        <a:pt x="1713" y="66"/>
                      </a:lnTo>
                      <a:lnTo>
                        <a:pt x="1683" y="58"/>
                      </a:lnTo>
                      <a:lnTo>
                        <a:pt x="1623" y="199"/>
                      </a:lnTo>
                      <a:lnTo>
                        <a:pt x="1519" y="385"/>
                      </a:lnTo>
                      <a:lnTo>
                        <a:pt x="1445" y="529"/>
                      </a:lnTo>
                      <a:lnTo>
                        <a:pt x="1369" y="551"/>
                      </a:lnTo>
                      <a:lnTo>
                        <a:pt x="1097" y="585"/>
                      </a:lnTo>
                      <a:lnTo>
                        <a:pt x="778" y="605"/>
                      </a:lnTo>
                      <a:lnTo>
                        <a:pt x="462" y="605"/>
                      </a:lnTo>
                      <a:lnTo>
                        <a:pt x="104" y="607"/>
                      </a:lnTo>
                      <a:lnTo>
                        <a:pt x="0" y="5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343200" y="2171160"/>
                  <a:ext cx="1050840" cy="239400"/>
                </a:xfrm>
                <a:custGeom>
                  <a:avLst/>
                  <a:gdLst/>
                  <a:ahLst/>
                  <a:rect l="l" t="t" r="r" b="b"/>
                  <a:pathLst>
                    <a:path w="917" h="210">
                      <a:moveTo>
                        <a:pt x="22" y="38"/>
                      </a:moveTo>
                      <a:lnTo>
                        <a:pt x="86" y="0"/>
                      </a:lnTo>
                      <a:lnTo>
                        <a:pt x="118" y="10"/>
                      </a:lnTo>
                      <a:lnTo>
                        <a:pt x="98" y="58"/>
                      </a:lnTo>
                      <a:lnTo>
                        <a:pt x="50" y="88"/>
                      </a:lnTo>
                      <a:lnTo>
                        <a:pt x="142" y="132"/>
                      </a:lnTo>
                      <a:lnTo>
                        <a:pt x="280" y="138"/>
                      </a:lnTo>
                      <a:lnTo>
                        <a:pt x="400" y="128"/>
                      </a:lnTo>
                      <a:lnTo>
                        <a:pt x="486" y="118"/>
                      </a:lnTo>
                      <a:lnTo>
                        <a:pt x="647" y="102"/>
                      </a:lnTo>
                      <a:lnTo>
                        <a:pt x="751" y="92"/>
                      </a:lnTo>
                      <a:lnTo>
                        <a:pt x="819" y="72"/>
                      </a:lnTo>
                      <a:lnTo>
                        <a:pt x="885" y="30"/>
                      </a:lnTo>
                      <a:lnTo>
                        <a:pt x="879" y="0"/>
                      </a:lnTo>
                      <a:lnTo>
                        <a:pt x="917" y="10"/>
                      </a:lnTo>
                      <a:lnTo>
                        <a:pt x="907" y="112"/>
                      </a:lnTo>
                      <a:lnTo>
                        <a:pt x="809" y="160"/>
                      </a:lnTo>
                      <a:lnTo>
                        <a:pt x="594" y="172"/>
                      </a:lnTo>
                      <a:lnTo>
                        <a:pt x="374" y="194"/>
                      </a:lnTo>
                      <a:lnTo>
                        <a:pt x="248" y="210"/>
                      </a:lnTo>
                      <a:lnTo>
                        <a:pt x="96" y="172"/>
                      </a:lnTo>
                      <a:lnTo>
                        <a:pt x="22" y="150"/>
                      </a:lnTo>
                      <a:lnTo>
                        <a:pt x="0" y="92"/>
                      </a:lnTo>
                      <a:lnTo>
                        <a:pt x="2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80840" y="2575440"/>
                  <a:ext cx="109800" cy="95400"/>
                </a:xfrm>
                <a:custGeom>
                  <a:avLst/>
                  <a:gdLst/>
                  <a:ahLst/>
                  <a:rect l="l" t="t" r="r" b="b"/>
                  <a:pathLst>
                    <a:path w="96" h="84">
                      <a:moveTo>
                        <a:pt x="4" y="4"/>
                      </a:moveTo>
                      <a:lnTo>
                        <a:pt x="92" y="0"/>
                      </a:lnTo>
                      <a:lnTo>
                        <a:pt x="96" y="84"/>
                      </a:lnTo>
                      <a:lnTo>
                        <a:pt x="0" y="8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384960" y="2564280"/>
                  <a:ext cx="109800" cy="95400"/>
                </a:xfrm>
                <a:custGeom>
                  <a:avLst/>
                  <a:gdLst/>
                  <a:ahLst/>
                  <a:rect l="l" t="t" r="r" b="b"/>
                  <a:pathLst>
                    <a:path w="96" h="84">
                      <a:moveTo>
                        <a:pt x="4" y="4"/>
                      </a:moveTo>
                      <a:lnTo>
                        <a:pt x="92" y="0"/>
                      </a:lnTo>
                      <a:lnTo>
                        <a:pt x="96" y="84"/>
                      </a:lnTo>
                      <a:lnTo>
                        <a:pt x="0" y="8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050600" y="2534040"/>
                  <a:ext cx="446040" cy="111600"/>
                </a:xfrm>
                <a:custGeom>
                  <a:avLst/>
                  <a:gdLst/>
                  <a:ahLst/>
                  <a:rect l="l" t="t" r="r" b="b"/>
                  <a:pathLst>
                    <a:path w="390" h="98">
                      <a:moveTo>
                        <a:pt x="0" y="30"/>
                      </a:moveTo>
                      <a:lnTo>
                        <a:pt x="380" y="0"/>
                      </a:lnTo>
                      <a:lnTo>
                        <a:pt x="390" y="64"/>
                      </a:lnTo>
                      <a:lnTo>
                        <a:pt x="0" y="98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950080" y="685800"/>
                  <a:ext cx="1878480" cy="1472040"/>
                </a:xfrm>
                <a:custGeom>
                  <a:avLst/>
                  <a:gdLst/>
                  <a:ahLst/>
                  <a:rect l="l" t="t" r="r" b="b"/>
                  <a:pathLst>
                    <a:path w="1641" h="1291">
                      <a:moveTo>
                        <a:pt x="138" y="1231"/>
                      </a:moveTo>
                      <a:lnTo>
                        <a:pt x="92" y="1183"/>
                      </a:lnTo>
                      <a:lnTo>
                        <a:pt x="64" y="1102"/>
                      </a:lnTo>
                      <a:lnTo>
                        <a:pt x="54" y="920"/>
                      </a:lnTo>
                      <a:lnTo>
                        <a:pt x="54" y="618"/>
                      </a:lnTo>
                      <a:lnTo>
                        <a:pt x="64" y="390"/>
                      </a:lnTo>
                      <a:lnTo>
                        <a:pt x="92" y="338"/>
                      </a:lnTo>
                      <a:lnTo>
                        <a:pt x="142" y="272"/>
                      </a:lnTo>
                      <a:lnTo>
                        <a:pt x="264" y="224"/>
                      </a:lnTo>
                      <a:lnTo>
                        <a:pt x="480" y="160"/>
                      </a:lnTo>
                      <a:lnTo>
                        <a:pt x="658" y="114"/>
                      </a:lnTo>
                      <a:lnTo>
                        <a:pt x="738" y="66"/>
                      </a:lnTo>
                      <a:lnTo>
                        <a:pt x="880" y="54"/>
                      </a:lnTo>
                      <a:lnTo>
                        <a:pt x="1131" y="76"/>
                      </a:lnTo>
                      <a:lnTo>
                        <a:pt x="1339" y="64"/>
                      </a:lnTo>
                      <a:lnTo>
                        <a:pt x="1427" y="44"/>
                      </a:lnTo>
                      <a:lnTo>
                        <a:pt x="1499" y="64"/>
                      </a:lnTo>
                      <a:lnTo>
                        <a:pt x="1547" y="190"/>
                      </a:lnTo>
                      <a:lnTo>
                        <a:pt x="1577" y="420"/>
                      </a:lnTo>
                      <a:lnTo>
                        <a:pt x="1607" y="602"/>
                      </a:lnTo>
                      <a:lnTo>
                        <a:pt x="1593" y="686"/>
                      </a:lnTo>
                      <a:lnTo>
                        <a:pt x="1537" y="892"/>
                      </a:lnTo>
                      <a:lnTo>
                        <a:pt x="1465" y="1100"/>
                      </a:lnTo>
                      <a:lnTo>
                        <a:pt x="1417" y="1177"/>
                      </a:lnTo>
                      <a:lnTo>
                        <a:pt x="1385" y="1215"/>
                      </a:lnTo>
                      <a:lnTo>
                        <a:pt x="1433" y="1243"/>
                      </a:lnTo>
                      <a:lnTo>
                        <a:pt x="1483" y="1156"/>
                      </a:lnTo>
                      <a:lnTo>
                        <a:pt x="1559" y="970"/>
                      </a:lnTo>
                      <a:lnTo>
                        <a:pt x="1615" y="772"/>
                      </a:lnTo>
                      <a:lnTo>
                        <a:pt x="1635" y="674"/>
                      </a:lnTo>
                      <a:lnTo>
                        <a:pt x="1641" y="582"/>
                      </a:lnTo>
                      <a:lnTo>
                        <a:pt x="1623" y="428"/>
                      </a:lnTo>
                      <a:lnTo>
                        <a:pt x="1593" y="198"/>
                      </a:lnTo>
                      <a:lnTo>
                        <a:pt x="1549" y="72"/>
                      </a:lnTo>
                      <a:lnTo>
                        <a:pt x="1509" y="16"/>
                      </a:lnTo>
                      <a:lnTo>
                        <a:pt x="1443" y="0"/>
                      </a:lnTo>
                      <a:lnTo>
                        <a:pt x="1357" y="26"/>
                      </a:lnTo>
                      <a:lnTo>
                        <a:pt x="1229" y="34"/>
                      </a:lnTo>
                      <a:lnTo>
                        <a:pt x="1065" y="34"/>
                      </a:lnTo>
                      <a:lnTo>
                        <a:pt x="896" y="10"/>
                      </a:lnTo>
                      <a:lnTo>
                        <a:pt x="782" y="16"/>
                      </a:lnTo>
                      <a:lnTo>
                        <a:pt x="724" y="38"/>
                      </a:lnTo>
                      <a:lnTo>
                        <a:pt x="596" y="100"/>
                      </a:lnTo>
                      <a:lnTo>
                        <a:pt x="350" y="168"/>
                      </a:lnTo>
                      <a:lnTo>
                        <a:pt x="114" y="246"/>
                      </a:lnTo>
                      <a:lnTo>
                        <a:pt x="48" y="328"/>
                      </a:lnTo>
                      <a:lnTo>
                        <a:pt x="6" y="438"/>
                      </a:lnTo>
                      <a:lnTo>
                        <a:pt x="0" y="658"/>
                      </a:lnTo>
                      <a:lnTo>
                        <a:pt x="10" y="866"/>
                      </a:lnTo>
                      <a:lnTo>
                        <a:pt x="18" y="1080"/>
                      </a:lnTo>
                      <a:lnTo>
                        <a:pt x="56" y="1203"/>
                      </a:lnTo>
                      <a:lnTo>
                        <a:pt x="94" y="1269"/>
                      </a:lnTo>
                      <a:lnTo>
                        <a:pt x="160" y="1291"/>
                      </a:lnTo>
                      <a:lnTo>
                        <a:pt x="198" y="1279"/>
                      </a:lnTo>
                      <a:lnTo>
                        <a:pt x="138" y="1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076080" y="713160"/>
                  <a:ext cx="1617480" cy="1467360"/>
                </a:xfrm>
                <a:custGeom>
                  <a:avLst/>
                  <a:gdLst/>
                  <a:ahLst/>
                  <a:rect l="l" t="t" r="r" b="b"/>
                  <a:pathLst>
                    <a:path w="1413" h="1287">
                      <a:moveTo>
                        <a:pt x="22" y="1221"/>
                      </a:moveTo>
                      <a:lnTo>
                        <a:pt x="258" y="1237"/>
                      </a:lnTo>
                      <a:lnTo>
                        <a:pt x="588" y="1245"/>
                      </a:lnTo>
                      <a:lnTo>
                        <a:pt x="851" y="1245"/>
                      </a:lnTo>
                      <a:lnTo>
                        <a:pt x="1087" y="1217"/>
                      </a:lnTo>
                      <a:lnTo>
                        <a:pt x="1243" y="1193"/>
                      </a:lnTo>
                      <a:lnTo>
                        <a:pt x="1287" y="1171"/>
                      </a:lnTo>
                      <a:lnTo>
                        <a:pt x="1287" y="1058"/>
                      </a:lnTo>
                      <a:lnTo>
                        <a:pt x="1229" y="754"/>
                      </a:lnTo>
                      <a:lnTo>
                        <a:pt x="1163" y="386"/>
                      </a:lnTo>
                      <a:lnTo>
                        <a:pt x="1129" y="252"/>
                      </a:lnTo>
                      <a:lnTo>
                        <a:pt x="1097" y="202"/>
                      </a:lnTo>
                      <a:lnTo>
                        <a:pt x="692" y="246"/>
                      </a:lnTo>
                      <a:lnTo>
                        <a:pt x="294" y="256"/>
                      </a:lnTo>
                      <a:lnTo>
                        <a:pt x="76" y="262"/>
                      </a:lnTo>
                      <a:lnTo>
                        <a:pt x="0" y="272"/>
                      </a:lnTo>
                      <a:lnTo>
                        <a:pt x="42" y="218"/>
                      </a:lnTo>
                      <a:lnTo>
                        <a:pt x="136" y="228"/>
                      </a:lnTo>
                      <a:lnTo>
                        <a:pt x="408" y="218"/>
                      </a:lnTo>
                      <a:lnTo>
                        <a:pt x="666" y="202"/>
                      </a:lnTo>
                      <a:lnTo>
                        <a:pt x="893" y="184"/>
                      </a:lnTo>
                      <a:lnTo>
                        <a:pt x="1111" y="164"/>
                      </a:lnTo>
                      <a:lnTo>
                        <a:pt x="1281" y="86"/>
                      </a:lnTo>
                      <a:lnTo>
                        <a:pt x="1375" y="0"/>
                      </a:lnTo>
                      <a:lnTo>
                        <a:pt x="1413" y="42"/>
                      </a:lnTo>
                      <a:lnTo>
                        <a:pt x="1325" y="94"/>
                      </a:lnTo>
                      <a:lnTo>
                        <a:pt x="1195" y="180"/>
                      </a:lnTo>
                      <a:lnTo>
                        <a:pt x="1155" y="208"/>
                      </a:lnTo>
                      <a:lnTo>
                        <a:pt x="1201" y="404"/>
                      </a:lnTo>
                      <a:lnTo>
                        <a:pt x="1239" y="594"/>
                      </a:lnTo>
                      <a:lnTo>
                        <a:pt x="1271" y="768"/>
                      </a:lnTo>
                      <a:lnTo>
                        <a:pt x="1299" y="934"/>
                      </a:lnTo>
                      <a:lnTo>
                        <a:pt x="1325" y="1058"/>
                      </a:lnTo>
                      <a:lnTo>
                        <a:pt x="1337" y="1163"/>
                      </a:lnTo>
                      <a:lnTo>
                        <a:pt x="1319" y="1221"/>
                      </a:lnTo>
                      <a:lnTo>
                        <a:pt x="1139" y="1265"/>
                      </a:lnTo>
                      <a:lnTo>
                        <a:pt x="824" y="1287"/>
                      </a:lnTo>
                      <a:lnTo>
                        <a:pt x="492" y="1275"/>
                      </a:lnTo>
                      <a:lnTo>
                        <a:pt x="250" y="1275"/>
                      </a:lnTo>
                      <a:lnTo>
                        <a:pt x="50" y="1269"/>
                      </a:lnTo>
                      <a:lnTo>
                        <a:pt x="22" y="12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256440" y="1082880"/>
                  <a:ext cx="1116720" cy="937440"/>
                </a:xfrm>
                <a:custGeom>
                  <a:avLst/>
                  <a:gdLst/>
                  <a:ahLst/>
                  <a:rect l="l" t="t" r="r" b="b"/>
                  <a:pathLst>
                    <a:path w="975" h="824">
                      <a:moveTo>
                        <a:pt x="0" y="22"/>
                      </a:moveTo>
                      <a:lnTo>
                        <a:pt x="324" y="10"/>
                      </a:lnTo>
                      <a:lnTo>
                        <a:pt x="546" y="0"/>
                      </a:lnTo>
                      <a:lnTo>
                        <a:pt x="793" y="4"/>
                      </a:lnTo>
                      <a:lnTo>
                        <a:pt x="831" y="32"/>
                      </a:lnTo>
                      <a:lnTo>
                        <a:pt x="861" y="76"/>
                      </a:lnTo>
                      <a:lnTo>
                        <a:pt x="915" y="308"/>
                      </a:lnTo>
                      <a:lnTo>
                        <a:pt x="955" y="572"/>
                      </a:lnTo>
                      <a:lnTo>
                        <a:pt x="975" y="754"/>
                      </a:lnTo>
                      <a:lnTo>
                        <a:pt x="955" y="812"/>
                      </a:lnTo>
                      <a:lnTo>
                        <a:pt x="905" y="824"/>
                      </a:lnTo>
                      <a:lnTo>
                        <a:pt x="620" y="792"/>
                      </a:lnTo>
                      <a:lnTo>
                        <a:pt x="917" y="766"/>
                      </a:lnTo>
                      <a:lnTo>
                        <a:pt x="933" y="758"/>
                      </a:lnTo>
                      <a:lnTo>
                        <a:pt x="927" y="634"/>
                      </a:lnTo>
                      <a:lnTo>
                        <a:pt x="905" y="458"/>
                      </a:lnTo>
                      <a:lnTo>
                        <a:pt x="857" y="220"/>
                      </a:lnTo>
                      <a:lnTo>
                        <a:pt x="819" y="70"/>
                      </a:lnTo>
                      <a:lnTo>
                        <a:pt x="781" y="48"/>
                      </a:lnTo>
                      <a:lnTo>
                        <a:pt x="604" y="38"/>
                      </a:lnTo>
                      <a:lnTo>
                        <a:pt x="362" y="48"/>
                      </a:lnTo>
                      <a:lnTo>
                        <a:pt x="162" y="4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41960" y="1096560"/>
                  <a:ext cx="1109880" cy="912600"/>
                </a:xfrm>
                <a:custGeom>
                  <a:avLst/>
                  <a:gdLst/>
                  <a:ahLst/>
                  <a:rect l="l" t="t" r="r" b="b"/>
                  <a:pathLst>
                    <a:path w="969" h="802">
                      <a:moveTo>
                        <a:pt x="448" y="0"/>
                      </a:moveTo>
                      <a:lnTo>
                        <a:pt x="134" y="0"/>
                      </a:lnTo>
                      <a:lnTo>
                        <a:pt x="44" y="10"/>
                      </a:lnTo>
                      <a:lnTo>
                        <a:pt x="28" y="44"/>
                      </a:lnTo>
                      <a:lnTo>
                        <a:pt x="10" y="114"/>
                      </a:lnTo>
                      <a:lnTo>
                        <a:pt x="0" y="302"/>
                      </a:lnTo>
                      <a:lnTo>
                        <a:pt x="10" y="486"/>
                      </a:lnTo>
                      <a:lnTo>
                        <a:pt x="34" y="668"/>
                      </a:lnTo>
                      <a:lnTo>
                        <a:pt x="74" y="742"/>
                      </a:lnTo>
                      <a:lnTo>
                        <a:pt x="92" y="760"/>
                      </a:lnTo>
                      <a:lnTo>
                        <a:pt x="292" y="780"/>
                      </a:lnTo>
                      <a:lnTo>
                        <a:pt x="550" y="790"/>
                      </a:lnTo>
                      <a:lnTo>
                        <a:pt x="742" y="792"/>
                      </a:lnTo>
                      <a:lnTo>
                        <a:pt x="969" y="802"/>
                      </a:lnTo>
                      <a:lnTo>
                        <a:pt x="959" y="774"/>
                      </a:lnTo>
                      <a:lnTo>
                        <a:pt x="782" y="760"/>
                      </a:lnTo>
                      <a:lnTo>
                        <a:pt x="550" y="744"/>
                      </a:lnTo>
                      <a:lnTo>
                        <a:pt x="228" y="742"/>
                      </a:lnTo>
                      <a:lnTo>
                        <a:pt x="112" y="706"/>
                      </a:lnTo>
                      <a:lnTo>
                        <a:pt x="76" y="678"/>
                      </a:lnTo>
                      <a:lnTo>
                        <a:pt x="64" y="626"/>
                      </a:lnTo>
                      <a:lnTo>
                        <a:pt x="48" y="474"/>
                      </a:lnTo>
                      <a:lnTo>
                        <a:pt x="44" y="284"/>
                      </a:lnTo>
                      <a:lnTo>
                        <a:pt x="58" y="92"/>
                      </a:lnTo>
                      <a:lnTo>
                        <a:pt x="76" y="48"/>
                      </a:lnTo>
                      <a:lnTo>
                        <a:pt x="286" y="20"/>
                      </a:lnTo>
                      <a:lnTo>
                        <a:pt x="4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6248520" y="1219320"/>
              <a:ext cx="9903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ffff"/>
                  </a:solidFill>
                  <a:latin typeface="Arial"/>
                </a:rPr>
                <a:t>O K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8680" y="2819520"/>
              <a:ext cx="27432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Working softw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685800"/>
              <a:ext cx="4495680" cy="274320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2306400">
              <a:off x="6188760" y="1041480"/>
              <a:ext cx="91368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isk log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1455840"/>
            <a:ext cx="3581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hort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cri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mpact &amp; prob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isk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isk avoid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ingency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isk manag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2160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mporta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isk selection (impact &amp; prior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isk owners (manager, architect, 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ssue log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128680"/>
            <a:ext cx="358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hange re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ff-spec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1981080"/>
            <a:ext cx="3124080" cy="1447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 log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3" name=""/>
          <p:cNvSpPr/>
          <p:nvPr/>
        </p:nvSpPr>
        <p:spPr>
          <a:xfrm>
            <a:off x="2666880" y="1752480"/>
            <a:ext cx="5715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tef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uth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checking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eople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ates (ready-to-check, accepted, 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ecision (accepted, rejected, 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esentation Pla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1600200"/>
            <a:ext cx="45720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Starting-up a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Project lo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Architecture elab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6320" y="82224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7" name=""/>
          <p:cNvSpPr/>
          <p:nvPr/>
        </p:nvSpPr>
        <p:spPr>
          <a:xfrm>
            <a:off x="152280" y="58514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80880" y="1876320"/>
          <a:ext cx="8534520" cy="376236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82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r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iti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ge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ge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ge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ge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os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822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e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7.10-6.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Elabor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8.11-18.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nst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5 - 18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nst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6-29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nst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8.5-10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e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7 - 27.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Elabor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5 - 23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nst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9.03-1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nst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7 – 20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1 - 17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 - 8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1-27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2590920" y="2286000"/>
            <a:ext cx="1523880" cy="27432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743200"/>
              <a:gd name="textAreaBottom" fmla="*/ 2669040 h 2743200"/>
            </a:gdLst>
            <a:ahLst/>
            <a:rect l="textAreaLeft" t="textAreaTop" r="textAreaRight" b="textAreaBottom"/>
            <a:pathLst>
              <a:path w="21600" h="38879">
                <a:moveTo>
                  <a:pt x="3600" y="0"/>
                </a:moveTo>
                <a:arcTo wR="3600" hR="3600" stAng="16200000" swAng="-5400000"/>
                <a:lnTo>
                  <a:pt x="0" y="35279"/>
                </a:lnTo>
                <a:arcTo wR="3600" hR="3600" stAng="10800000" swAng="-5400000"/>
                <a:lnTo>
                  <a:pt x="18000" y="38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laboration Objectiv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1676520"/>
            <a:ext cx="86868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Get a more detailed understanding of th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 Design, implement, validate, and baseline the arch-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 Mitigate essential risks, and improve schedule/cost est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 Refine the development case and make the tools re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labora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676520"/>
            <a:ext cx="868680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Get a more detailed understanding of th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Steps’ desc. of ~50% of Elabor. Ucs; decreasing pri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 Design, implement, validate, and baseline the arch’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DI&amp;T a few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critical scenarios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to identify architecture type and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architecture mechanisms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I&amp;T an initial set of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architecture mechanisms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Do a preliminary logical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database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desig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 Mitigate essential risks, and improve schedule/cost est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Identify possible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performance problems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and test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9000" y="990720"/>
            <a:ext cx="342900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irst It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labora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304920" y="1676520"/>
            <a:ext cx="868680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Get a more detailed understanding of th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Steps’ desc. of remaining Elaboration’s U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 Design, implement, validate, and baseline the arch’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Fix first-iteration’s issu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DI&amp;T the remaining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architecturally significant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scenar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D&amp;I a preliminary version of the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database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I&amp;T remaining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architectural mechanisms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 Mitigate essential risks, and improve schedule/cost est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Address technically </a:t>
            </a:r>
            <a:r>
              <a:rPr b="1" lang="pl-PL" sz="2800" spc="-1" strike="noStrike" u="sng">
                <a:solidFill>
                  <a:srgbClr val="99ccff"/>
                </a:solidFill>
                <a:uFillTx/>
                <a:latin typeface="Arial Narrow"/>
              </a:rPr>
              <a:t>high-risk issues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: concurrency, distribution, performance, (external) interfa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990720"/>
            <a:ext cx="342900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econd It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deal Architec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2128680"/>
            <a:ext cx="533412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Goal-oriented and pro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3962520"/>
            <a:ext cx="792504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Black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685800"/>
            <a:ext cx="7925040" cy="32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 Black"/>
              </a:rPr>
              <a:t>Princ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35400" y="4186080"/>
            <a:ext cx="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8000" y="2421000"/>
            <a:ext cx="0" cy="1251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2520" y="3235320"/>
            <a:ext cx="64152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424320" y="2460240"/>
            <a:ext cx="75240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11520" y="5291280"/>
            <a:ext cx="350496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58880" y="5354640"/>
            <a:ext cx="358164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Tea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065240" y="909720"/>
            <a:ext cx="624996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60640" y="1442880"/>
            <a:ext cx="23126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  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73280" y="144288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9800" y="1442880"/>
            <a:ext cx="20718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Supp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65292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Manager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= </a:t>
            </a:r>
            <a:r>
              <a:rPr b="1" lang="pl-PL" sz="2800" spc="-1" strike="noStrike">
                <a:solidFill>
                  <a:srgbClr val="0000cc"/>
                </a:solidFill>
                <a:latin typeface="Arial Black"/>
              </a:rPr>
              <a:t>C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852640"/>
            <a:ext cx="2863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Project As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2920" y="5405400"/>
            <a:ext cx="3581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1720" y="4186080"/>
            <a:ext cx="533160" cy="41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299120" y="4834080"/>
            <a:ext cx="545760" cy="515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68920" y="4448160"/>
            <a:ext cx="32590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Architect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 Black"/>
              </a:rPr>
              <a:t>= C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85800" y="4186080"/>
            <a:ext cx="3396600" cy="1105200"/>
            <a:chOff x="685800" y="4186080"/>
            <a:chExt cx="3396600" cy="1105200"/>
          </a:xfrm>
        </p:grpSpPr>
        <p:sp>
          <p:nvSpPr>
            <p:cNvPr id="192" name=""/>
            <p:cNvSpPr/>
            <p:nvPr/>
          </p:nvSpPr>
          <p:spPr>
            <a:xfrm>
              <a:off x="685800" y="4452840"/>
              <a:ext cx="261288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Analyst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=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 Black"/>
                </a:rPr>
                <a:t>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298320" y="4186080"/>
              <a:ext cx="783720" cy="419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98680" y="4834080"/>
              <a:ext cx="78372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umm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424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431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t last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05320" y="167616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ombin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tion of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agile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methodology (XP) with 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disciplined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ones (PRINCE 2 and RUP)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is possi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ool support (UC Workbench) is importa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Flexible approach to pair programm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Questions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143000"/>
          <a:ext cx="8534520" cy="423396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21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r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p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m and Sco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osing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978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Business Mod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2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Scope Elabo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581040" y="5486400"/>
            <a:ext cx="8029440" cy="761760"/>
            <a:chOff x="581040" y="5486400"/>
            <a:chExt cx="8029440" cy="761760"/>
          </a:xfrm>
        </p:grpSpPr>
        <p:sp>
          <p:nvSpPr>
            <p:cNvPr id="198" name=""/>
            <p:cNvSpPr txBox="1"/>
            <p:nvPr/>
          </p:nvSpPr>
          <p:spPr>
            <a:xfrm>
              <a:off x="581040" y="5514840"/>
              <a:ext cx="48564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U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1952640" y="5514840"/>
              <a:ext cx="40968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IP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971800" y="5514840"/>
              <a:ext cx="83808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tag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8124840" y="5486400"/>
              <a:ext cx="48564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CL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4267080" y="5514840"/>
              <a:ext cx="8384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tag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5486400" y="5514840"/>
              <a:ext cx="83808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tag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6705720" y="5514840"/>
              <a:ext cx="83808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tag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Team Growt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143000"/>
          <a:ext cx="8534520" cy="157176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21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r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p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m and Sco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chitec-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osing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80880" y="5943600"/>
            <a:ext cx="8763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54864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0292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952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naly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5720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4495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rchitect + 1 De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41148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4038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ll the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4100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54864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49528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0292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44956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45720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41148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486400"/>
            <a:ext cx="838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02920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57200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4114800"/>
            <a:ext cx="4724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esentation Pla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1600200"/>
            <a:ext cx="45720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tarting-up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lo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chitecture elab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320" y="82224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152280" y="58514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esentation Pla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45720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Starting-up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Project lo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Architecture elab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320" y="82224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152280" y="58514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143000"/>
          <a:ext cx="8534520" cy="423396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21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r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p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Aim and Sco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Releas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Releas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Releas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Closing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978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Business Mod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2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Scope Elabo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1219320"/>
            <a:ext cx="6705360" cy="396216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rting-up a Project (SU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3419640"/>
            <a:ext cx="3808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ct Exec and Project Manag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290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1295280"/>
            <a:ext cx="685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114720"/>
            <a:ext cx="12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 Narrow"/>
              </a:rPr>
              <a:t>Project Mand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57600" y="1752480"/>
            <a:ext cx="1828800" cy="14331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Design of a Project Management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864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1752480"/>
            <a:ext cx="1828800" cy="1447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Designation of the Project Manag.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43880" y="28447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37160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cc"/>
                </a:solidFill>
                <a:latin typeface="Arial Narrow"/>
              </a:rPr>
              <a:t>Cust + 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roject Brie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90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35268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cc"/>
                </a:solidFill>
                <a:latin typeface="Arial Narrow"/>
              </a:rPr>
              <a:t>Cust + 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Narrow"/>
              </a:rPr>
              <a:t>Project Approa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1680" y="452124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ff"/>
                </a:solidFill>
                <a:latin typeface="Arial Black"/>
              </a:rPr>
              <a:t>SU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3733920"/>
            <a:ext cx="1828800" cy="1143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Narrow"/>
              </a:rPr>
              <a:t>Plan for Project Initia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4525920"/>
            <a:ext cx="914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cc"/>
                </a:solidFill>
                <a:latin typeface="Arial Black"/>
              </a:rPr>
              <a:t>SU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3352680"/>
            <a:ext cx="1295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cc"/>
                </a:solidFill>
                <a:latin typeface="Arial Narrow"/>
              </a:rPr>
              <a:t>P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836640"/>
            <a:ext cx="2232000" cy="576360"/>
          </a:xfrm>
          <a:prstGeom prst="wedgeRoundRectCallout">
            <a:avLst>
              <a:gd name="adj1" fmla="val -39685"/>
              <a:gd name="adj2" fmla="val 127412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Arial Narrow"/>
              </a:rPr>
              <a:t>Super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2)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7-01-13T17:00:46Z</dcterms:modified>
  <cp:revision>244</cp:revision>
  <dc:subject/>
  <dc:title>Prezentacja programu PowerPoint</dc:title>
</cp:coreProperties>
</file>