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6DA-7949-481B-91D4-40330EA4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EEB-1E3B-4A1D-B5BF-19AD0450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58F-8A22-4218-99E1-85638459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43F-CE8F-43D0-899C-D2FE0EC9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4C7-D81E-4AA5-BBCE-0B09975D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0CF-D6B6-4A89-BA63-EA81BA5A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270-B806-45B2-98AF-2F0D784A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6E6-067D-4302-8FE9-E98697CD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23D-938F-4556-BA35-64C711C6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BD3-5D96-4EFF-AB2B-861062A8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E0C-A9F5-4070-AA91-CB518F59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443-65C4-485E-9000-4D3AE1CE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F68D-2083-43BC-8810-D205858BF39F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415200"/>
            <a:ext cx="38862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 Narrow"/>
              </a:rPr>
              <a:t>Copyright © Jerzy R. Nawroc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ISO 9126 </a:t>
            </a:r>
            <a:br>
              <a:rPr sz="3600"/>
            </a:b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and Non-functional Requirements  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48769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require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90360"/>
            <a:ext cx="81532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Requirements Engineering &amp; Project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Lectur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981080"/>
            <a:ext cx="5486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Quality i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rnal and Extern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-in-us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160020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ffec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36232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312408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88764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atisf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838080"/>
            <a:ext cx="64008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-in-use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-in-use Metric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687680"/>
            <a:ext cx="85345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ask effectivenes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What proportion of the goals of the tasks is achieved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ask completion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What proportion of the tasks is completed (number of tasks completed / total number of tasks attempted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rror frequency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What is the frequency of erro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838080"/>
            <a:ext cx="64771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ffec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-in-use Metric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687680"/>
            <a:ext cx="85345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ask tim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How long does it take to complete a tas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ask efficiency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How efficient are the users (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ask effectivenes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/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ask tim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conomic productivity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How cost-effective is the user (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ask effectivenes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/ total cost of the task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838080"/>
            <a:ext cx="64771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-in-use Metric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8768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User health and safety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What is the incidence of health problems among users of the produ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Economic damag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What is the incidence of economic da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64771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-in-use Metric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8768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atisfation scal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How satisfied is the us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Satisfation questionnair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– How satisfied is the user with specific software fea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838080"/>
            <a:ext cx="64771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atisf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1981080"/>
            <a:ext cx="5486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i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rnal and Extern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xternal and Internal Qualit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64832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aintain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160020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36232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12408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388764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41188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r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838080"/>
            <a:ext cx="64008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xternal and Internal Quality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Functionalit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1335240"/>
            <a:ext cx="4191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ui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Functionality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Reliabilit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1335240"/>
            <a:ext cx="4191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ault tole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cover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trodu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295280"/>
            <a:ext cx="861048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1982880"/>
            <a:ext cx="769608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usiness Process Descr. / Operational 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2666880"/>
            <a:ext cx="678168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unctional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352680"/>
            <a:ext cx="59436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Non-functional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038480"/>
            <a:ext cx="51055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evelopment, Implem. &amp;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4802040"/>
            <a:ext cx="426708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ran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09480" y="1828800"/>
            <a:ext cx="609480" cy="380880"/>
            <a:chOff x="609480" y="1828800"/>
            <a:chExt cx="609480" cy="380880"/>
          </a:xfrm>
        </p:grpSpPr>
        <p:sp>
          <p:nvSpPr>
            <p:cNvPr id="93" name=""/>
            <p:cNvSpPr/>
            <p:nvPr/>
          </p:nvSpPr>
          <p:spPr>
            <a:xfrm>
              <a:off x="609480" y="18288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480" y="22096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3880" y="2514600"/>
            <a:ext cx="609480" cy="380880"/>
            <a:chOff x="1523880" y="2514600"/>
            <a:chExt cx="609480" cy="380880"/>
          </a:xfrm>
        </p:grpSpPr>
        <p:sp>
          <p:nvSpPr>
            <p:cNvPr id="96" name=""/>
            <p:cNvSpPr/>
            <p:nvPr/>
          </p:nvSpPr>
          <p:spPr>
            <a:xfrm>
              <a:off x="1523880" y="25146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3880" y="28954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62320" y="3200400"/>
            <a:ext cx="609480" cy="380880"/>
            <a:chOff x="2362320" y="3200400"/>
            <a:chExt cx="609480" cy="380880"/>
          </a:xfrm>
        </p:grpSpPr>
        <p:sp>
          <p:nvSpPr>
            <p:cNvPr id="99" name=""/>
            <p:cNvSpPr/>
            <p:nvPr/>
          </p:nvSpPr>
          <p:spPr>
            <a:xfrm>
              <a:off x="2362320" y="32004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2320" y="35812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200400" y="3886200"/>
            <a:ext cx="609480" cy="380880"/>
            <a:chOff x="3200400" y="3886200"/>
            <a:chExt cx="609480" cy="380880"/>
          </a:xfrm>
        </p:grpSpPr>
        <p:sp>
          <p:nvSpPr>
            <p:cNvPr id="102" name=""/>
            <p:cNvSpPr/>
            <p:nvPr/>
          </p:nvSpPr>
          <p:spPr>
            <a:xfrm>
              <a:off x="3200400" y="38862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0400" y="42670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038480" y="4572000"/>
            <a:ext cx="609480" cy="380880"/>
            <a:chOff x="4038480" y="4572000"/>
            <a:chExt cx="609480" cy="380880"/>
          </a:xfrm>
        </p:grpSpPr>
        <p:sp>
          <p:nvSpPr>
            <p:cNvPr id="105" name=""/>
            <p:cNvSpPr/>
            <p:nvPr/>
          </p:nvSpPr>
          <p:spPr>
            <a:xfrm>
              <a:off x="4038480" y="45720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49528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Usabilit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1335240"/>
            <a:ext cx="4191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derstand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Learn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per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ttrac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fficienc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1335240"/>
            <a:ext cx="4191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ime behavi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source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Maintainabilit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1335240"/>
            <a:ext cx="4191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naly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hange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a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ortabilit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1335240"/>
            <a:ext cx="4191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dap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stal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-ex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place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Homework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205596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epare a spreadsheet that would support collection of non-functional requirements based on ISO 9126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2280" y="1930320"/>
          <a:ext cx="3962520" cy="2184480"/>
        </p:xfrm>
        <a:graphic>
          <a:graphicData uri="http://schemas.openxmlformats.org/drawingml/2006/table">
            <a:tbl>
              <a:tblPr/>
              <a:tblGrid>
                <a:gridCol w="685800"/>
                <a:gridCol w="2743200"/>
                <a:gridCol w="533520"/>
              </a:tblGrid>
              <a:tr h="579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Usabi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nderstandabi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arnabi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perabi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umm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201840"/>
            <a:ext cx="61722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view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-in-use, External &amp; Intern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characteristics: 4 +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xternal &amp; Internal sub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metrics –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2286000"/>
            <a:ext cx="2362320" cy="99072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8640" y="3538440"/>
            <a:ext cx="485640" cy="558720"/>
          </a:xfrm>
          <a:custGeom>
            <a:avLst/>
            <a:gdLst/>
            <a:ahLst/>
            <a:rect l="l" t="t" r="r" b="b"/>
            <a:pathLst>
              <a:path w="613" h="704">
                <a:moveTo>
                  <a:pt x="187" y="255"/>
                </a:moveTo>
                <a:lnTo>
                  <a:pt x="222" y="156"/>
                </a:lnTo>
                <a:lnTo>
                  <a:pt x="267" y="58"/>
                </a:lnTo>
                <a:lnTo>
                  <a:pt x="333" y="9"/>
                </a:lnTo>
                <a:lnTo>
                  <a:pt x="427" y="0"/>
                </a:lnTo>
                <a:lnTo>
                  <a:pt x="501" y="33"/>
                </a:lnTo>
                <a:lnTo>
                  <a:pt x="555" y="87"/>
                </a:lnTo>
                <a:lnTo>
                  <a:pt x="595" y="185"/>
                </a:lnTo>
                <a:lnTo>
                  <a:pt x="613" y="304"/>
                </a:lnTo>
                <a:lnTo>
                  <a:pt x="613" y="427"/>
                </a:lnTo>
                <a:lnTo>
                  <a:pt x="582" y="563"/>
                </a:lnTo>
                <a:lnTo>
                  <a:pt x="501" y="649"/>
                </a:lnTo>
                <a:lnTo>
                  <a:pt x="422" y="704"/>
                </a:lnTo>
                <a:lnTo>
                  <a:pt x="346" y="698"/>
                </a:lnTo>
                <a:lnTo>
                  <a:pt x="280" y="641"/>
                </a:lnTo>
                <a:lnTo>
                  <a:pt x="222" y="542"/>
                </a:lnTo>
                <a:lnTo>
                  <a:pt x="182" y="456"/>
                </a:lnTo>
                <a:lnTo>
                  <a:pt x="182" y="345"/>
                </a:lnTo>
                <a:lnTo>
                  <a:pt x="0" y="320"/>
                </a:lnTo>
                <a:lnTo>
                  <a:pt x="23" y="259"/>
                </a:lnTo>
                <a:lnTo>
                  <a:pt x="187" y="25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19040" y="3092400"/>
            <a:ext cx="633600" cy="1251000"/>
          </a:xfrm>
          <a:custGeom>
            <a:avLst/>
            <a:gdLst/>
            <a:ahLst/>
            <a:rect l="l" t="t" r="r" b="b"/>
            <a:pathLst>
              <a:path w="798" h="1576">
                <a:moveTo>
                  <a:pt x="19" y="1564"/>
                </a:moveTo>
                <a:lnTo>
                  <a:pt x="0" y="1486"/>
                </a:lnTo>
                <a:lnTo>
                  <a:pt x="44" y="1423"/>
                </a:lnTo>
                <a:lnTo>
                  <a:pt x="190" y="1349"/>
                </a:lnTo>
                <a:lnTo>
                  <a:pt x="318" y="1267"/>
                </a:lnTo>
                <a:lnTo>
                  <a:pt x="441" y="1130"/>
                </a:lnTo>
                <a:lnTo>
                  <a:pt x="609" y="941"/>
                </a:lnTo>
                <a:lnTo>
                  <a:pt x="652" y="866"/>
                </a:lnTo>
                <a:lnTo>
                  <a:pt x="675" y="792"/>
                </a:lnTo>
                <a:lnTo>
                  <a:pt x="665" y="718"/>
                </a:lnTo>
                <a:lnTo>
                  <a:pt x="626" y="581"/>
                </a:lnTo>
                <a:lnTo>
                  <a:pt x="530" y="409"/>
                </a:lnTo>
                <a:lnTo>
                  <a:pt x="424" y="313"/>
                </a:lnTo>
                <a:lnTo>
                  <a:pt x="331" y="260"/>
                </a:lnTo>
                <a:lnTo>
                  <a:pt x="256" y="252"/>
                </a:lnTo>
                <a:lnTo>
                  <a:pt x="216" y="260"/>
                </a:lnTo>
                <a:lnTo>
                  <a:pt x="212" y="223"/>
                </a:lnTo>
                <a:lnTo>
                  <a:pt x="304" y="211"/>
                </a:lnTo>
                <a:lnTo>
                  <a:pt x="410" y="211"/>
                </a:lnTo>
                <a:lnTo>
                  <a:pt x="335" y="127"/>
                </a:lnTo>
                <a:lnTo>
                  <a:pt x="291" y="62"/>
                </a:lnTo>
                <a:lnTo>
                  <a:pt x="322" y="37"/>
                </a:lnTo>
                <a:lnTo>
                  <a:pt x="441" y="149"/>
                </a:lnTo>
                <a:lnTo>
                  <a:pt x="463" y="166"/>
                </a:lnTo>
                <a:lnTo>
                  <a:pt x="441" y="78"/>
                </a:lnTo>
                <a:lnTo>
                  <a:pt x="424" y="12"/>
                </a:lnTo>
                <a:lnTo>
                  <a:pt x="441" y="0"/>
                </a:lnTo>
                <a:lnTo>
                  <a:pt x="480" y="12"/>
                </a:lnTo>
                <a:lnTo>
                  <a:pt x="516" y="166"/>
                </a:lnTo>
                <a:lnTo>
                  <a:pt x="534" y="161"/>
                </a:lnTo>
                <a:lnTo>
                  <a:pt x="534" y="41"/>
                </a:lnTo>
                <a:lnTo>
                  <a:pt x="569" y="29"/>
                </a:lnTo>
                <a:lnTo>
                  <a:pt x="595" y="49"/>
                </a:lnTo>
                <a:lnTo>
                  <a:pt x="582" y="211"/>
                </a:lnTo>
                <a:lnTo>
                  <a:pt x="573" y="276"/>
                </a:lnTo>
                <a:lnTo>
                  <a:pt x="595" y="409"/>
                </a:lnTo>
                <a:lnTo>
                  <a:pt x="665" y="549"/>
                </a:lnTo>
                <a:lnTo>
                  <a:pt x="740" y="710"/>
                </a:lnTo>
                <a:lnTo>
                  <a:pt x="798" y="829"/>
                </a:lnTo>
                <a:lnTo>
                  <a:pt x="794" y="891"/>
                </a:lnTo>
                <a:lnTo>
                  <a:pt x="688" y="1003"/>
                </a:lnTo>
                <a:lnTo>
                  <a:pt x="542" y="1142"/>
                </a:lnTo>
                <a:lnTo>
                  <a:pt x="424" y="1279"/>
                </a:lnTo>
                <a:lnTo>
                  <a:pt x="278" y="1461"/>
                </a:lnTo>
                <a:lnTo>
                  <a:pt x="159" y="1552"/>
                </a:lnTo>
                <a:lnTo>
                  <a:pt x="67" y="1576"/>
                </a:lnTo>
                <a:lnTo>
                  <a:pt x="19" y="15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60" y="4259160"/>
            <a:ext cx="1158840" cy="630360"/>
          </a:xfrm>
          <a:custGeom>
            <a:avLst/>
            <a:gdLst/>
            <a:ahLst/>
            <a:rect l="l" t="t" r="r" b="b"/>
            <a:pathLst>
              <a:path w="1461" h="794">
                <a:moveTo>
                  <a:pt x="297" y="641"/>
                </a:moveTo>
                <a:lnTo>
                  <a:pt x="508" y="633"/>
                </a:lnTo>
                <a:lnTo>
                  <a:pt x="702" y="608"/>
                </a:lnTo>
                <a:lnTo>
                  <a:pt x="822" y="579"/>
                </a:lnTo>
                <a:lnTo>
                  <a:pt x="994" y="485"/>
                </a:lnTo>
                <a:lnTo>
                  <a:pt x="1117" y="395"/>
                </a:lnTo>
                <a:lnTo>
                  <a:pt x="1276" y="284"/>
                </a:lnTo>
                <a:lnTo>
                  <a:pt x="1351" y="214"/>
                </a:lnTo>
                <a:lnTo>
                  <a:pt x="1409" y="165"/>
                </a:lnTo>
                <a:lnTo>
                  <a:pt x="1461" y="111"/>
                </a:lnTo>
                <a:lnTo>
                  <a:pt x="1461" y="54"/>
                </a:lnTo>
                <a:lnTo>
                  <a:pt x="1403" y="0"/>
                </a:lnTo>
                <a:lnTo>
                  <a:pt x="1368" y="13"/>
                </a:lnTo>
                <a:lnTo>
                  <a:pt x="1272" y="124"/>
                </a:lnTo>
                <a:lnTo>
                  <a:pt x="1166" y="251"/>
                </a:lnTo>
                <a:lnTo>
                  <a:pt x="1060" y="370"/>
                </a:lnTo>
                <a:lnTo>
                  <a:pt x="905" y="468"/>
                </a:lnTo>
                <a:lnTo>
                  <a:pt x="772" y="534"/>
                </a:lnTo>
                <a:lnTo>
                  <a:pt x="627" y="567"/>
                </a:lnTo>
                <a:lnTo>
                  <a:pt x="424" y="571"/>
                </a:lnTo>
                <a:lnTo>
                  <a:pt x="305" y="571"/>
                </a:lnTo>
                <a:lnTo>
                  <a:pt x="204" y="497"/>
                </a:lnTo>
                <a:lnTo>
                  <a:pt x="177" y="448"/>
                </a:lnTo>
                <a:lnTo>
                  <a:pt x="133" y="448"/>
                </a:lnTo>
                <a:lnTo>
                  <a:pt x="164" y="509"/>
                </a:lnTo>
                <a:lnTo>
                  <a:pt x="212" y="567"/>
                </a:lnTo>
                <a:lnTo>
                  <a:pt x="94" y="542"/>
                </a:lnTo>
                <a:lnTo>
                  <a:pt x="5" y="530"/>
                </a:lnTo>
                <a:lnTo>
                  <a:pt x="5" y="555"/>
                </a:lnTo>
                <a:lnTo>
                  <a:pt x="84" y="571"/>
                </a:lnTo>
                <a:lnTo>
                  <a:pt x="137" y="604"/>
                </a:lnTo>
                <a:lnTo>
                  <a:pt x="185" y="608"/>
                </a:lnTo>
                <a:lnTo>
                  <a:pt x="110" y="633"/>
                </a:lnTo>
                <a:lnTo>
                  <a:pt x="0" y="657"/>
                </a:lnTo>
                <a:lnTo>
                  <a:pt x="5" y="682"/>
                </a:lnTo>
                <a:lnTo>
                  <a:pt x="40" y="690"/>
                </a:lnTo>
                <a:lnTo>
                  <a:pt x="146" y="657"/>
                </a:lnTo>
                <a:lnTo>
                  <a:pt x="212" y="653"/>
                </a:lnTo>
                <a:lnTo>
                  <a:pt x="173" y="690"/>
                </a:lnTo>
                <a:lnTo>
                  <a:pt x="110" y="752"/>
                </a:lnTo>
                <a:lnTo>
                  <a:pt x="84" y="768"/>
                </a:lnTo>
                <a:lnTo>
                  <a:pt x="106" y="794"/>
                </a:lnTo>
                <a:lnTo>
                  <a:pt x="160" y="764"/>
                </a:lnTo>
                <a:lnTo>
                  <a:pt x="230" y="702"/>
                </a:lnTo>
                <a:lnTo>
                  <a:pt x="297" y="64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4440" y="4194000"/>
            <a:ext cx="679680" cy="866880"/>
          </a:xfrm>
          <a:custGeom>
            <a:avLst/>
            <a:gdLst/>
            <a:ahLst/>
            <a:rect l="l" t="t" r="r" b="b"/>
            <a:pathLst>
              <a:path w="857" h="1094">
                <a:moveTo>
                  <a:pt x="54" y="124"/>
                </a:moveTo>
                <a:lnTo>
                  <a:pt x="89" y="37"/>
                </a:lnTo>
                <a:lnTo>
                  <a:pt x="147" y="0"/>
                </a:lnTo>
                <a:lnTo>
                  <a:pt x="199" y="0"/>
                </a:lnTo>
                <a:lnTo>
                  <a:pt x="253" y="25"/>
                </a:lnTo>
                <a:lnTo>
                  <a:pt x="305" y="74"/>
                </a:lnTo>
                <a:lnTo>
                  <a:pt x="332" y="160"/>
                </a:lnTo>
                <a:lnTo>
                  <a:pt x="346" y="247"/>
                </a:lnTo>
                <a:lnTo>
                  <a:pt x="371" y="333"/>
                </a:lnTo>
                <a:lnTo>
                  <a:pt x="421" y="427"/>
                </a:lnTo>
                <a:lnTo>
                  <a:pt x="504" y="526"/>
                </a:lnTo>
                <a:lnTo>
                  <a:pt x="585" y="591"/>
                </a:lnTo>
                <a:lnTo>
                  <a:pt x="703" y="641"/>
                </a:lnTo>
                <a:lnTo>
                  <a:pt x="805" y="715"/>
                </a:lnTo>
                <a:lnTo>
                  <a:pt x="857" y="788"/>
                </a:lnTo>
                <a:lnTo>
                  <a:pt x="848" y="850"/>
                </a:lnTo>
                <a:lnTo>
                  <a:pt x="836" y="924"/>
                </a:lnTo>
                <a:lnTo>
                  <a:pt x="796" y="973"/>
                </a:lnTo>
                <a:lnTo>
                  <a:pt x="730" y="1035"/>
                </a:lnTo>
                <a:lnTo>
                  <a:pt x="633" y="1080"/>
                </a:lnTo>
                <a:lnTo>
                  <a:pt x="558" y="1094"/>
                </a:lnTo>
                <a:lnTo>
                  <a:pt x="452" y="1072"/>
                </a:lnTo>
                <a:lnTo>
                  <a:pt x="355" y="1022"/>
                </a:lnTo>
                <a:lnTo>
                  <a:pt x="253" y="949"/>
                </a:lnTo>
                <a:lnTo>
                  <a:pt x="182" y="862"/>
                </a:lnTo>
                <a:lnTo>
                  <a:pt x="116" y="752"/>
                </a:lnTo>
                <a:lnTo>
                  <a:pt x="62" y="624"/>
                </a:lnTo>
                <a:lnTo>
                  <a:pt x="27" y="513"/>
                </a:lnTo>
                <a:lnTo>
                  <a:pt x="10" y="407"/>
                </a:lnTo>
                <a:lnTo>
                  <a:pt x="0" y="259"/>
                </a:lnTo>
                <a:lnTo>
                  <a:pt x="27" y="160"/>
                </a:lnTo>
                <a:lnTo>
                  <a:pt x="54" y="1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01720" y="4565520"/>
            <a:ext cx="1165320" cy="787680"/>
          </a:xfrm>
          <a:custGeom>
            <a:avLst/>
            <a:gdLst/>
            <a:ahLst/>
            <a:rect l="l" t="t" r="r" b="b"/>
            <a:pathLst>
              <a:path w="1469" h="992">
                <a:moveTo>
                  <a:pt x="163" y="314"/>
                </a:moveTo>
                <a:lnTo>
                  <a:pt x="305" y="201"/>
                </a:lnTo>
                <a:lnTo>
                  <a:pt x="477" y="99"/>
                </a:lnTo>
                <a:lnTo>
                  <a:pt x="587" y="37"/>
                </a:lnTo>
                <a:lnTo>
                  <a:pt x="674" y="17"/>
                </a:lnTo>
                <a:lnTo>
                  <a:pt x="745" y="0"/>
                </a:lnTo>
                <a:lnTo>
                  <a:pt x="807" y="25"/>
                </a:lnTo>
                <a:lnTo>
                  <a:pt x="846" y="103"/>
                </a:lnTo>
                <a:lnTo>
                  <a:pt x="873" y="314"/>
                </a:lnTo>
                <a:lnTo>
                  <a:pt x="873" y="568"/>
                </a:lnTo>
                <a:lnTo>
                  <a:pt x="873" y="732"/>
                </a:lnTo>
                <a:lnTo>
                  <a:pt x="904" y="832"/>
                </a:lnTo>
                <a:lnTo>
                  <a:pt x="966" y="816"/>
                </a:lnTo>
                <a:lnTo>
                  <a:pt x="1010" y="754"/>
                </a:lnTo>
                <a:lnTo>
                  <a:pt x="1098" y="683"/>
                </a:lnTo>
                <a:lnTo>
                  <a:pt x="1235" y="642"/>
                </a:lnTo>
                <a:lnTo>
                  <a:pt x="1328" y="642"/>
                </a:lnTo>
                <a:lnTo>
                  <a:pt x="1469" y="667"/>
                </a:lnTo>
                <a:lnTo>
                  <a:pt x="1460" y="716"/>
                </a:lnTo>
                <a:lnTo>
                  <a:pt x="1429" y="758"/>
                </a:lnTo>
                <a:lnTo>
                  <a:pt x="1381" y="766"/>
                </a:lnTo>
                <a:lnTo>
                  <a:pt x="1328" y="740"/>
                </a:lnTo>
                <a:lnTo>
                  <a:pt x="1249" y="708"/>
                </a:lnTo>
                <a:lnTo>
                  <a:pt x="1168" y="708"/>
                </a:lnTo>
                <a:lnTo>
                  <a:pt x="1062" y="771"/>
                </a:lnTo>
                <a:lnTo>
                  <a:pt x="997" y="865"/>
                </a:lnTo>
                <a:lnTo>
                  <a:pt x="983" y="943"/>
                </a:lnTo>
                <a:lnTo>
                  <a:pt x="957" y="992"/>
                </a:lnTo>
                <a:lnTo>
                  <a:pt x="851" y="988"/>
                </a:lnTo>
                <a:lnTo>
                  <a:pt x="846" y="914"/>
                </a:lnTo>
                <a:lnTo>
                  <a:pt x="811" y="808"/>
                </a:lnTo>
                <a:lnTo>
                  <a:pt x="798" y="695"/>
                </a:lnTo>
                <a:lnTo>
                  <a:pt x="807" y="548"/>
                </a:lnTo>
                <a:lnTo>
                  <a:pt x="794" y="338"/>
                </a:lnTo>
                <a:lnTo>
                  <a:pt x="786" y="201"/>
                </a:lnTo>
                <a:lnTo>
                  <a:pt x="759" y="152"/>
                </a:lnTo>
                <a:lnTo>
                  <a:pt x="705" y="103"/>
                </a:lnTo>
                <a:lnTo>
                  <a:pt x="649" y="103"/>
                </a:lnTo>
                <a:lnTo>
                  <a:pt x="568" y="152"/>
                </a:lnTo>
                <a:lnTo>
                  <a:pt x="463" y="248"/>
                </a:lnTo>
                <a:lnTo>
                  <a:pt x="331" y="371"/>
                </a:lnTo>
                <a:lnTo>
                  <a:pt x="199" y="486"/>
                </a:lnTo>
                <a:lnTo>
                  <a:pt x="132" y="523"/>
                </a:lnTo>
                <a:lnTo>
                  <a:pt x="53" y="523"/>
                </a:lnTo>
                <a:lnTo>
                  <a:pt x="0" y="470"/>
                </a:lnTo>
                <a:lnTo>
                  <a:pt x="4" y="383"/>
                </a:lnTo>
                <a:lnTo>
                  <a:pt x="58" y="338"/>
                </a:lnTo>
                <a:lnTo>
                  <a:pt x="118" y="326"/>
                </a:lnTo>
                <a:lnTo>
                  <a:pt x="163" y="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38360" y="4906800"/>
            <a:ext cx="798480" cy="827280"/>
          </a:xfrm>
          <a:custGeom>
            <a:avLst/>
            <a:gdLst/>
            <a:ahLst/>
            <a:rect l="l" t="t" r="r" b="b"/>
            <a:pathLst>
              <a:path w="1004" h="1041">
                <a:moveTo>
                  <a:pt x="0" y="88"/>
                </a:moveTo>
                <a:lnTo>
                  <a:pt x="31" y="22"/>
                </a:lnTo>
                <a:lnTo>
                  <a:pt x="97" y="0"/>
                </a:lnTo>
                <a:lnTo>
                  <a:pt x="189" y="10"/>
                </a:lnTo>
                <a:lnTo>
                  <a:pt x="211" y="71"/>
                </a:lnTo>
                <a:lnTo>
                  <a:pt x="176" y="311"/>
                </a:lnTo>
                <a:lnTo>
                  <a:pt x="172" y="493"/>
                </a:lnTo>
                <a:lnTo>
                  <a:pt x="163" y="595"/>
                </a:lnTo>
                <a:lnTo>
                  <a:pt x="163" y="616"/>
                </a:lnTo>
                <a:lnTo>
                  <a:pt x="185" y="716"/>
                </a:lnTo>
                <a:lnTo>
                  <a:pt x="242" y="732"/>
                </a:lnTo>
                <a:lnTo>
                  <a:pt x="317" y="716"/>
                </a:lnTo>
                <a:lnTo>
                  <a:pt x="427" y="658"/>
                </a:lnTo>
                <a:lnTo>
                  <a:pt x="546" y="630"/>
                </a:lnTo>
                <a:lnTo>
                  <a:pt x="678" y="608"/>
                </a:lnTo>
                <a:lnTo>
                  <a:pt x="824" y="591"/>
                </a:lnTo>
                <a:lnTo>
                  <a:pt x="930" y="591"/>
                </a:lnTo>
                <a:lnTo>
                  <a:pt x="978" y="604"/>
                </a:lnTo>
                <a:lnTo>
                  <a:pt x="1004" y="634"/>
                </a:lnTo>
                <a:lnTo>
                  <a:pt x="992" y="679"/>
                </a:lnTo>
                <a:lnTo>
                  <a:pt x="925" y="716"/>
                </a:lnTo>
                <a:lnTo>
                  <a:pt x="863" y="769"/>
                </a:lnTo>
                <a:lnTo>
                  <a:pt x="805" y="844"/>
                </a:lnTo>
                <a:lnTo>
                  <a:pt x="770" y="906"/>
                </a:lnTo>
                <a:lnTo>
                  <a:pt x="741" y="968"/>
                </a:lnTo>
                <a:lnTo>
                  <a:pt x="718" y="1041"/>
                </a:lnTo>
                <a:lnTo>
                  <a:pt x="687" y="1041"/>
                </a:lnTo>
                <a:lnTo>
                  <a:pt x="660" y="1013"/>
                </a:lnTo>
                <a:lnTo>
                  <a:pt x="652" y="931"/>
                </a:lnTo>
                <a:lnTo>
                  <a:pt x="714" y="857"/>
                </a:lnTo>
                <a:lnTo>
                  <a:pt x="797" y="769"/>
                </a:lnTo>
                <a:lnTo>
                  <a:pt x="876" y="704"/>
                </a:lnTo>
                <a:lnTo>
                  <a:pt x="911" y="683"/>
                </a:lnTo>
                <a:lnTo>
                  <a:pt x="925" y="654"/>
                </a:lnTo>
                <a:lnTo>
                  <a:pt x="890" y="634"/>
                </a:lnTo>
                <a:lnTo>
                  <a:pt x="770" y="634"/>
                </a:lnTo>
                <a:lnTo>
                  <a:pt x="621" y="658"/>
                </a:lnTo>
                <a:lnTo>
                  <a:pt x="502" y="695"/>
                </a:lnTo>
                <a:lnTo>
                  <a:pt x="374" y="765"/>
                </a:lnTo>
                <a:lnTo>
                  <a:pt x="264" y="814"/>
                </a:lnTo>
                <a:lnTo>
                  <a:pt x="145" y="818"/>
                </a:lnTo>
                <a:lnTo>
                  <a:pt x="97" y="802"/>
                </a:lnTo>
                <a:lnTo>
                  <a:pt x="70" y="740"/>
                </a:lnTo>
                <a:lnTo>
                  <a:pt x="52" y="654"/>
                </a:lnTo>
                <a:lnTo>
                  <a:pt x="43" y="493"/>
                </a:lnTo>
                <a:lnTo>
                  <a:pt x="26" y="207"/>
                </a:lnTo>
                <a:lnTo>
                  <a:pt x="0" y="8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62120" y="4838760"/>
            <a:ext cx="484200" cy="950760"/>
            <a:chOff x="2562120" y="4838760"/>
            <a:chExt cx="484200" cy="950760"/>
          </a:xfrm>
        </p:grpSpPr>
        <p:sp>
          <p:nvSpPr>
            <p:cNvPr id="229" name=""/>
            <p:cNvSpPr/>
            <p:nvPr/>
          </p:nvSpPr>
          <p:spPr>
            <a:xfrm>
              <a:off x="2665440" y="5370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5473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19440" y="4838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1467000" y="2666880"/>
            <a:ext cx="17524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t last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trodu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95280"/>
            <a:ext cx="861048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ject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1982880"/>
            <a:ext cx="769608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usiness Process Descr. / Operational 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66880"/>
            <a:ext cx="678168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unctional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352680"/>
            <a:ext cx="594360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Non-functional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4038480"/>
            <a:ext cx="510552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evelopment, Implem. &amp;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802040"/>
            <a:ext cx="426708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ran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09480" y="1828800"/>
            <a:ext cx="609480" cy="380880"/>
            <a:chOff x="609480" y="1828800"/>
            <a:chExt cx="609480" cy="380880"/>
          </a:xfrm>
        </p:grpSpPr>
        <p:sp>
          <p:nvSpPr>
            <p:cNvPr id="115" name=""/>
            <p:cNvSpPr/>
            <p:nvPr/>
          </p:nvSpPr>
          <p:spPr>
            <a:xfrm>
              <a:off x="609480" y="18288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22096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523880" y="2514600"/>
            <a:ext cx="609480" cy="380880"/>
            <a:chOff x="1523880" y="2514600"/>
            <a:chExt cx="609480" cy="380880"/>
          </a:xfrm>
        </p:grpSpPr>
        <p:sp>
          <p:nvSpPr>
            <p:cNvPr id="118" name=""/>
            <p:cNvSpPr/>
            <p:nvPr/>
          </p:nvSpPr>
          <p:spPr>
            <a:xfrm>
              <a:off x="1523880" y="25146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28954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362320" y="3200400"/>
            <a:ext cx="609480" cy="380880"/>
            <a:chOff x="2362320" y="3200400"/>
            <a:chExt cx="609480" cy="380880"/>
          </a:xfrm>
        </p:grpSpPr>
        <p:sp>
          <p:nvSpPr>
            <p:cNvPr id="121" name=""/>
            <p:cNvSpPr/>
            <p:nvPr/>
          </p:nvSpPr>
          <p:spPr>
            <a:xfrm>
              <a:off x="2362320" y="32004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2320" y="35812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200400" y="3886200"/>
            <a:ext cx="609480" cy="380880"/>
            <a:chOff x="3200400" y="3886200"/>
            <a:chExt cx="609480" cy="380880"/>
          </a:xfrm>
        </p:grpSpPr>
        <p:sp>
          <p:nvSpPr>
            <p:cNvPr id="124" name=""/>
            <p:cNvSpPr/>
            <p:nvPr/>
          </p:nvSpPr>
          <p:spPr>
            <a:xfrm>
              <a:off x="3200400" y="38862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0400" y="42670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038480" y="4572000"/>
            <a:ext cx="609480" cy="380880"/>
            <a:chOff x="4038480" y="4572000"/>
            <a:chExt cx="609480" cy="380880"/>
          </a:xfrm>
        </p:grpSpPr>
        <p:sp>
          <p:nvSpPr>
            <p:cNvPr id="127" name=""/>
            <p:cNvSpPr/>
            <p:nvPr/>
          </p:nvSpPr>
          <p:spPr>
            <a:xfrm>
              <a:off x="4038480" y="457200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38480" y="495288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33520" y="4114800"/>
            <a:ext cx="1981080" cy="533520"/>
          </a:xfrm>
          <a:prstGeom prst="wedgeRectCallout">
            <a:avLst>
              <a:gd name="adj1" fmla="val 70194"/>
              <a:gd name="adj2" fmla="val -113689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ISO 91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trodu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990720"/>
            <a:ext cx="8229600" cy="26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SO 9126: Software Engineering – Product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art 1: Quality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art 2: External Metr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art 3: Internal Metr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art 4: Quality-in-use Metr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1981080"/>
            <a:ext cx="5486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Quality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 i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rnal and Extern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 in the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981080"/>
            <a:ext cx="1371600" cy="13716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cess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1981080"/>
            <a:ext cx="1523880" cy="13737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rnal quality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981080"/>
            <a:ext cx="1524240" cy="13737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xternal quality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1981080"/>
            <a:ext cx="1523880" cy="13737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 use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666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Narrow"/>
              </a:rPr>
              <a:t>Imp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666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209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Narrow"/>
              </a:rPr>
              <a:t>Imp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2209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Narrow"/>
              </a:rPr>
              <a:t>Imp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115884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Development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11588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oftware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115884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Effect of using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4381200" y="-266760"/>
            <a:ext cx="228600" cy="3962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 in the lifecycl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1981080"/>
            <a:ext cx="1523880" cy="13860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rn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981080"/>
            <a:ext cx="1524240" cy="13860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xtern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1981080"/>
            <a:ext cx="1523880" cy="13860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2666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33720" y="2209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Narrow"/>
              </a:rPr>
              <a:t>Indic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2666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11588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Software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115884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Effect of using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381200" y="-266760"/>
            <a:ext cx="228600" cy="3962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6400" y="2209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Narrow"/>
              </a:rPr>
              <a:t>Indic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External and Internal Qualit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464832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aintain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160020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36232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312408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88764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541188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r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838080"/>
            <a:ext cx="64008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xternal and Internal Quality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Quality-in-us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160020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ffec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236232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312408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887640"/>
            <a:ext cx="22860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atisf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838080"/>
            <a:ext cx="6400800" cy="5205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Quality-in-use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ISO 91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6-11-13T20:04:58Z</dcterms:modified>
  <cp:revision>111</cp:revision>
  <dc:subject/>
  <dc:title>Prezentacja programu PowerPoint</dc:title>
</cp:coreProperties>
</file>