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11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189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031D-EACD-45B5-BC9E-D8D2AD7E10D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DA15-A94D-4AD0-A4C5-4C2F069FDEE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6240" y="689040"/>
            <a:ext cx="4565520" cy="342432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385560" y="4712760"/>
            <a:ext cx="6043320" cy="363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BB54-984F-4A20-B265-EA6F43287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CC37-1403-4934-ACA7-2BE908A7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7FF8-5E0D-463A-93B1-C150C65AF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00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00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DC2E-F134-4B7A-B6B1-7B263273A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9335-BE46-45FE-85AE-0226FFB6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2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00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4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2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00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CBA6-8498-4F95-AB20-1AB2CCC2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3A42-E7D6-4EFD-8678-1DEF3444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C027-569B-4D5C-8F58-14737EB8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6CFF-8FB9-4AD2-B0E8-374F55EA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24D3-3A6B-4F69-ACB3-48F3928D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9A66-4ECE-40D1-B3D8-5BCEE6C6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5E24-83D4-41BF-8BCE-8F0AF6C8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15120" y="6324120"/>
            <a:ext cx="19051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" y="6476760"/>
            <a:ext cx="5562720" cy="34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800" spc="-1" strike="noStrike">
                <a:solidFill>
                  <a:srgbClr val="66cc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ccff"/>
                </a:solidFill>
                <a:latin typeface="Arial Narrow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9280" y="59436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81C6-8842-4C03-B150-C4679F857979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09480"/>
            <a:ext cx="8610840" cy="367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6477120"/>
            <a:ext cx="3763800" cy="363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819520"/>
            <a:ext cx="8229600" cy="1218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ccec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9.wmf"/><Relationship Id="rId13" Type="http://schemas.openxmlformats.org/officeDocument/2006/relationships/image" Target="../media/image13.wmf"/><Relationship Id="rId14" Type="http://schemas.openxmlformats.org/officeDocument/2006/relationships/image" Target="../media/image10.jpeg"/><Relationship Id="rId1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62160" y="1981080"/>
            <a:ext cx="518148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99ff"/>
                </a:solidFill>
                <a:latin typeface="Arial"/>
              </a:rPr>
              <a:t>Project Management </a:t>
            </a:r>
            <a:br>
              <a:rPr sz="3600"/>
            </a:br>
            <a:r>
              <a:rPr b="1" lang="pl-PL" sz="3600" spc="-1" strike="noStrike">
                <a:solidFill>
                  <a:srgbClr val="3399ff"/>
                </a:solidFill>
                <a:latin typeface="Arial"/>
              </a:rPr>
              <a:t>with XPrince</a:t>
            </a:r>
            <a:endParaRPr b="1" lang="en-US" sz="36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24000" y="6095520"/>
            <a:ext cx="5143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www.cs.put.poznan.pl/jnawrocki/require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763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66ff"/>
                </a:solidFill>
                <a:latin typeface="Arial Narrow"/>
              </a:rPr>
              <a:t>Requirements Eng. &amp; Project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66ff"/>
                </a:solidFill>
                <a:latin typeface="Arial Narrow"/>
              </a:rPr>
              <a:t>Lecture 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443556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 Narrow"/>
              </a:rPr>
              <a:t>Jerzy Nawrock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320" y="457200"/>
            <a:ext cx="3949560" cy="5029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152280" y="548640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6699ff"/>
                </a:solidFill>
                <a:latin typeface="Arial"/>
              </a:rPr>
              <a:t>„</a:t>
            </a:r>
            <a:r>
              <a:rPr b="1" lang="pl-PL" sz="2000" spc="-1" strike="noStrike">
                <a:solidFill>
                  <a:srgbClr val="6699ff"/>
                </a:solidFill>
                <a:latin typeface="Arial"/>
              </a:rPr>
              <a:t>Trabrennen” in Aust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Weaknesses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Discipline (Celebrity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715000" y="8380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Agility (X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4920" y="1976400"/>
            <a:ext cx="36576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xcessive paper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low decision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Low flexi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hange-resistan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267080" y="1981080"/>
            <a:ext cx="48769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Assumption of on-site custo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Lack of written docu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Too short planning perspective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91120" y="838080"/>
            <a:ext cx="0" cy="541044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1)</a:t>
            </a: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The solution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54864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Addison-Wesley, 200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228600" y="990720"/>
            <a:ext cx="3657600" cy="4419360"/>
            <a:chOff x="228600" y="990720"/>
            <a:chExt cx="3657600" cy="4419360"/>
          </a:xfrm>
        </p:grpSpPr>
        <p:sp>
          <p:nvSpPr>
            <p:cNvPr id="277" name=""/>
            <p:cNvSpPr/>
            <p:nvPr/>
          </p:nvSpPr>
          <p:spPr>
            <a:xfrm>
              <a:off x="304920" y="990720"/>
              <a:ext cx="3581280" cy="441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cc3300"/>
                  </a:solidFill>
                  <a:latin typeface="Arial Black"/>
                </a:rPr>
                <a:t>Barry Boeh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cc3300"/>
                  </a:solidFill>
                  <a:latin typeface="Arial Black"/>
                </a:rPr>
                <a:t>Richard Turn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8600" y="2971800"/>
              <a:ext cx="3657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cc3300"/>
                  </a:solidFill>
                  <a:latin typeface="Arial Black"/>
                </a:rPr>
                <a:t>Balancing Agilit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cc3300"/>
                  </a:solidFill>
                  <a:latin typeface="Arial Black"/>
                </a:rPr>
                <a:t>and Disciplin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04920" y="3994200"/>
              <a:ext cx="358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2400" spc="-1" strike="noStrike">
                  <a:solidFill>
                    <a:srgbClr val="000000"/>
                  </a:solidFill>
                  <a:latin typeface="Garamond"/>
                </a:rPr>
                <a:t>A Guide for the Perplex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4572000" y="1523880"/>
            <a:ext cx="426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„</a:t>
            </a:r>
            <a:r>
              <a:rPr b="1" i="1" lang="pl-PL" sz="2800" spc="-1" strike="noStrike">
                <a:solidFill>
                  <a:srgbClr val="ffffff"/>
                </a:solidFill>
                <a:latin typeface="Arial Narrow"/>
              </a:rPr>
              <a:t>every successful venture in a changing world requires both </a:t>
            </a:r>
            <a:r>
              <a:rPr b="1" i="1" lang="pl-PL" sz="2800" spc="-1" strike="noStrike">
                <a:solidFill>
                  <a:srgbClr val="ffff00"/>
                </a:solidFill>
                <a:latin typeface="Arial Narrow"/>
              </a:rPr>
              <a:t>agility and discipline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1)</a:t>
            </a: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133720" y="2259000"/>
            <a:ext cx="4343400" cy="35643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XPri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e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X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treme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Pr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in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c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ontrolled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e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nviro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Arial Narrow"/>
              </a:rPr>
              <a:t>XPrince origins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83" name=""/>
          <p:cNvSpPr/>
          <p:nvPr/>
        </p:nvSpPr>
        <p:spPr>
          <a:xfrm>
            <a:off x="3581280" y="2868480"/>
            <a:ext cx="1828800" cy="1814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 Narrow"/>
              </a:rPr>
              <a:t>X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447920" y="1143000"/>
            <a:ext cx="2286000" cy="1752480"/>
            <a:chOff x="1447920" y="1143000"/>
            <a:chExt cx="2286000" cy="1752480"/>
          </a:xfrm>
        </p:grpSpPr>
        <p:sp>
          <p:nvSpPr>
            <p:cNvPr id="285" name=""/>
            <p:cNvSpPr/>
            <p:nvPr/>
          </p:nvSpPr>
          <p:spPr>
            <a:xfrm>
              <a:off x="1447920" y="11430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PRINCE 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200400" y="1600200"/>
              <a:ext cx="533520" cy="1295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105520" y="1143000"/>
            <a:ext cx="3733560" cy="1752480"/>
            <a:chOff x="5105520" y="1143000"/>
            <a:chExt cx="3733560" cy="1752480"/>
          </a:xfrm>
        </p:grpSpPr>
        <p:sp>
          <p:nvSpPr>
            <p:cNvPr id="288" name=""/>
            <p:cNvSpPr/>
            <p:nvPr/>
          </p:nvSpPr>
          <p:spPr>
            <a:xfrm>
              <a:off x="5410080" y="114300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Rational Unified Proces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5105520" y="1600200"/>
              <a:ext cx="457200" cy="1295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1)</a:t>
            </a: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esentation Plan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91" name=""/>
          <p:cNvSpPr/>
          <p:nvPr/>
        </p:nvSpPr>
        <p:spPr>
          <a:xfrm>
            <a:off x="4495680" y="1600200"/>
            <a:ext cx="4572000" cy="15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Team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Project Lifecy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76320" y="822240"/>
            <a:ext cx="3949560" cy="5029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93" name=""/>
          <p:cNvSpPr/>
          <p:nvPr/>
        </p:nvSpPr>
        <p:spPr>
          <a:xfrm>
            <a:off x="152280" y="585144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6699ff"/>
                </a:solidFill>
                <a:latin typeface="Arial"/>
              </a:rPr>
              <a:t>„</a:t>
            </a:r>
            <a:r>
              <a:rPr b="1" lang="pl-PL" sz="2000" spc="-1" strike="noStrike">
                <a:solidFill>
                  <a:srgbClr val="6699ff"/>
                </a:solidFill>
                <a:latin typeface="Arial"/>
              </a:rPr>
              <a:t>Trabrennen” in Aust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1)</a:t>
            </a: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esentation Plan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600200"/>
            <a:ext cx="4572000" cy="15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Team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349"/>
              </a:spcBef>
              <a:buClr>
                <a:srgbClr val="66cc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ccff"/>
                </a:solidFill>
                <a:latin typeface="Arial Narrow"/>
              </a:rPr>
              <a:t>Project Lifecy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76320" y="822240"/>
            <a:ext cx="3949560" cy="5029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97" name=""/>
          <p:cNvSpPr/>
          <p:nvPr/>
        </p:nvSpPr>
        <p:spPr>
          <a:xfrm>
            <a:off x="152280" y="585144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6699ff"/>
                </a:solidFill>
                <a:latin typeface="Arial"/>
              </a:rPr>
              <a:t>„</a:t>
            </a:r>
            <a:r>
              <a:rPr b="1" lang="pl-PL" sz="2000" spc="-1" strike="noStrike">
                <a:solidFill>
                  <a:srgbClr val="6699ff"/>
                </a:solidFill>
                <a:latin typeface="Arial"/>
              </a:rPr>
              <a:t>Trabrennen” in Aust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1)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XP Team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1)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XP Team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771480" y="1371600"/>
            <a:ext cx="3571920" cy="1686960"/>
            <a:chOff x="771480" y="1371600"/>
            <a:chExt cx="3571920" cy="1686960"/>
          </a:xfrm>
        </p:grpSpPr>
        <p:grpSp>
          <p:nvGrpSpPr>
            <p:cNvPr id="301" name=""/>
            <p:cNvGrpSpPr/>
            <p:nvPr/>
          </p:nvGrpSpPr>
          <p:grpSpPr>
            <a:xfrm>
              <a:off x="771480" y="1371600"/>
              <a:ext cx="1950120" cy="1686960"/>
              <a:chOff x="771480" y="1371600"/>
              <a:chExt cx="1950120" cy="168696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771480" y="1539720"/>
                <a:ext cx="1091880" cy="1518840"/>
                <a:chOff x="771480" y="1539720"/>
                <a:chExt cx="1091880" cy="151884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1151640" y="1539720"/>
                  <a:ext cx="244080" cy="381600"/>
                </a:xfrm>
                <a:custGeom>
                  <a:avLst/>
                  <a:gdLst/>
                  <a:ahLst/>
                  <a:rect l="l" t="t" r="r" b="b"/>
                  <a:pathLst>
                    <a:path w="537" h="654">
                      <a:moveTo>
                        <a:pt x="138" y="302"/>
                      </a:moveTo>
                      <a:lnTo>
                        <a:pt x="179" y="171"/>
                      </a:lnTo>
                      <a:lnTo>
                        <a:pt x="248" y="66"/>
                      </a:lnTo>
                      <a:lnTo>
                        <a:pt x="317" y="13"/>
                      </a:lnTo>
                      <a:lnTo>
                        <a:pt x="399" y="0"/>
                      </a:lnTo>
                      <a:lnTo>
                        <a:pt x="455" y="13"/>
                      </a:lnTo>
                      <a:lnTo>
                        <a:pt x="524" y="53"/>
                      </a:lnTo>
                      <a:lnTo>
                        <a:pt x="537" y="144"/>
                      </a:lnTo>
                      <a:lnTo>
                        <a:pt x="537" y="275"/>
                      </a:lnTo>
                      <a:lnTo>
                        <a:pt x="482" y="418"/>
                      </a:lnTo>
                      <a:lnTo>
                        <a:pt x="399" y="511"/>
                      </a:lnTo>
                      <a:lnTo>
                        <a:pt x="359" y="563"/>
                      </a:lnTo>
                      <a:lnTo>
                        <a:pt x="290" y="602"/>
                      </a:lnTo>
                      <a:lnTo>
                        <a:pt x="234" y="589"/>
                      </a:lnTo>
                      <a:lnTo>
                        <a:pt x="193" y="576"/>
                      </a:lnTo>
                      <a:lnTo>
                        <a:pt x="151" y="536"/>
                      </a:lnTo>
                      <a:lnTo>
                        <a:pt x="27" y="654"/>
                      </a:lnTo>
                      <a:lnTo>
                        <a:pt x="0" y="576"/>
                      </a:lnTo>
                      <a:lnTo>
                        <a:pt x="124" y="458"/>
                      </a:lnTo>
                      <a:lnTo>
                        <a:pt x="138" y="302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1215000" y="1928520"/>
                  <a:ext cx="155880" cy="511560"/>
                </a:xfrm>
                <a:custGeom>
                  <a:avLst/>
                  <a:gdLst/>
                  <a:ahLst/>
                  <a:rect l="l" t="t" r="r" b="b"/>
                  <a:pathLst>
                    <a:path w="345" h="876">
                      <a:moveTo>
                        <a:pt x="111" y="26"/>
                      </a:moveTo>
                      <a:lnTo>
                        <a:pt x="180" y="0"/>
                      </a:lnTo>
                      <a:lnTo>
                        <a:pt x="262" y="26"/>
                      </a:lnTo>
                      <a:lnTo>
                        <a:pt x="318" y="118"/>
                      </a:lnTo>
                      <a:lnTo>
                        <a:pt x="345" y="262"/>
                      </a:lnTo>
                      <a:lnTo>
                        <a:pt x="345" y="483"/>
                      </a:lnTo>
                      <a:lnTo>
                        <a:pt x="303" y="654"/>
                      </a:lnTo>
                      <a:lnTo>
                        <a:pt x="262" y="785"/>
                      </a:lnTo>
                      <a:lnTo>
                        <a:pt x="151" y="876"/>
                      </a:lnTo>
                      <a:lnTo>
                        <a:pt x="55" y="863"/>
                      </a:lnTo>
                      <a:lnTo>
                        <a:pt x="0" y="745"/>
                      </a:lnTo>
                      <a:lnTo>
                        <a:pt x="42" y="614"/>
                      </a:lnTo>
                      <a:lnTo>
                        <a:pt x="82" y="496"/>
                      </a:lnTo>
                      <a:lnTo>
                        <a:pt x="96" y="380"/>
                      </a:lnTo>
                      <a:lnTo>
                        <a:pt x="82" y="222"/>
                      </a:lnTo>
                      <a:lnTo>
                        <a:pt x="82" y="78"/>
                      </a:lnTo>
                      <a:lnTo>
                        <a:pt x="111" y="2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771480" y="1935720"/>
                  <a:ext cx="505080" cy="390600"/>
                </a:xfrm>
                <a:custGeom>
                  <a:avLst/>
                  <a:gdLst/>
                  <a:ahLst/>
                  <a:rect l="l" t="t" r="r" b="b"/>
                  <a:pathLst>
                    <a:path w="1117" h="667">
                      <a:moveTo>
                        <a:pt x="910" y="104"/>
                      </a:moveTo>
                      <a:lnTo>
                        <a:pt x="992" y="26"/>
                      </a:lnTo>
                      <a:lnTo>
                        <a:pt x="1061" y="0"/>
                      </a:lnTo>
                      <a:lnTo>
                        <a:pt x="1103" y="13"/>
                      </a:lnTo>
                      <a:lnTo>
                        <a:pt x="1117" y="64"/>
                      </a:lnTo>
                      <a:lnTo>
                        <a:pt x="1103" y="117"/>
                      </a:lnTo>
                      <a:lnTo>
                        <a:pt x="1075" y="130"/>
                      </a:lnTo>
                      <a:lnTo>
                        <a:pt x="938" y="209"/>
                      </a:lnTo>
                      <a:lnTo>
                        <a:pt x="800" y="300"/>
                      </a:lnTo>
                      <a:lnTo>
                        <a:pt x="689" y="365"/>
                      </a:lnTo>
                      <a:lnTo>
                        <a:pt x="551" y="418"/>
                      </a:lnTo>
                      <a:lnTo>
                        <a:pt x="386" y="470"/>
                      </a:lnTo>
                      <a:lnTo>
                        <a:pt x="359" y="496"/>
                      </a:lnTo>
                      <a:lnTo>
                        <a:pt x="399" y="640"/>
                      </a:lnTo>
                      <a:lnTo>
                        <a:pt x="372" y="640"/>
                      </a:lnTo>
                      <a:lnTo>
                        <a:pt x="317" y="536"/>
                      </a:lnTo>
                      <a:lnTo>
                        <a:pt x="290" y="536"/>
                      </a:lnTo>
                      <a:lnTo>
                        <a:pt x="221" y="667"/>
                      </a:lnTo>
                      <a:lnTo>
                        <a:pt x="179" y="667"/>
                      </a:lnTo>
                      <a:lnTo>
                        <a:pt x="234" y="536"/>
                      </a:lnTo>
                      <a:lnTo>
                        <a:pt x="221" y="496"/>
                      </a:lnTo>
                      <a:lnTo>
                        <a:pt x="0" y="509"/>
                      </a:lnTo>
                      <a:lnTo>
                        <a:pt x="0" y="470"/>
                      </a:lnTo>
                      <a:lnTo>
                        <a:pt x="207" y="444"/>
                      </a:lnTo>
                      <a:lnTo>
                        <a:pt x="221" y="418"/>
                      </a:lnTo>
                      <a:lnTo>
                        <a:pt x="110" y="340"/>
                      </a:lnTo>
                      <a:lnTo>
                        <a:pt x="152" y="326"/>
                      </a:lnTo>
                      <a:lnTo>
                        <a:pt x="290" y="391"/>
                      </a:lnTo>
                      <a:lnTo>
                        <a:pt x="372" y="391"/>
                      </a:lnTo>
                      <a:lnTo>
                        <a:pt x="510" y="378"/>
                      </a:lnTo>
                      <a:lnTo>
                        <a:pt x="593" y="340"/>
                      </a:lnTo>
                      <a:lnTo>
                        <a:pt x="731" y="274"/>
                      </a:lnTo>
                      <a:lnTo>
                        <a:pt x="841" y="169"/>
                      </a:lnTo>
                      <a:lnTo>
                        <a:pt x="910" y="10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302120" y="1783080"/>
                  <a:ext cx="561240" cy="213480"/>
                </a:xfrm>
                <a:custGeom>
                  <a:avLst/>
                  <a:gdLst/>
                  <a:ahLst/>
                  <a:rect l="l" t="t" r="r" b="b"/>
                  <a:pathLst>
                    <a:path w="1241" h="367">
                      <a:moveTo>
                        <a:pt x="0" y="289"/>
                      </a:moveTo>
                      <a:lnTo>
                        <a:pt x="15" y="236"/>
                      </a:lnTo>
                      <a:lnTo>
                        <a:pt x="194" y="171"/>
                      </a:lnTo>
                      <a:lnTo>
                        <a:pt x="387" y="105"/>
                      </a:lnTo>
                      <a:lnTo>
                        <a:pt x="690" y="66"/>
                      </a:lnTo>
                      <a:lnTo>
                        <a:pt x="966" y="79"/>
                      </a:lnTo>
                      <a:lnTo>
                        <a:pt x="1063" y="79"/>
                      </a:lnTo>
                      <a:lnTo>
                        <a:pt x="1214" y="0"/>
                      </a:lnTo>
                      <a:lnTo>
                        <a:pt x="1241" y="26"/>
                      </a:lnTo>
                      <a:lnTo>
                        <a:pt x="1104" y="131"/>
                      </a:lnTo>
                      <a:lnTo>
                        <a:pt x="993" y="236"/>
                      </a:lnTo>
                      <a:lnTo>
                        <a:pt x="924" y="341"/>
                      </a:lnTo>
                      <a:lnTo>
                        <a:pt x="884" y="302"/>
                      </a:lnTo>
                      <a:lnTo>
                        <a:pt x="897" y="236"/>
                      </a:lnTo>
                      <a:lnTo>
                        <a:pt x="911" y="158"/>
                      </a:lnTo>
                      <a:lnTo>
                        <a:pt x="842" y="144"/>
                      </a:lnTo>
                      <a:lnTo>
                        <a:pt x="690" y="131"/>
                      </a:lnTo>
                      <a:lnTo>
                        <a:pt x="566" y="131"/>
                      </a:lnTo>
                      <a:lnTo>
                        <a:pt x="373" y="184"/>
                      </a:lnTo>
                      <a:lnTo>
                        <a:pt x="180" y="289"/>
                      </a:lnTo>
                      <a:lnTo>
                        <a:pt x="0" y="367"/>
                      </a:lnTo>
                      <a:lnTo>
                        <a:pt x="0" y="289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245600" y="2301840"/>
                  <a:ext cx="168480" cy="686880"/>
                </a:xfrm>
                <a:custGeom>
                  <a:avLst/>
                  <a:gdLst/>
                  <a:ahLst/>
                  <a:rect l="l" t="t" r="r" b="b"/>
                  <a:pathLst>
                    <a:path w="374" h="1176">
                      <a:moveTo>
                        <a:pt x="111" y="0"/>
                      </a:moveTo>
                      <a:lnTo>
                        <a:pt x="180" y="26"/>
                      </a:lnTo>
                      <a:lnTo>
                        <a:pt x="236" y="156"/>
                      </a:lnTo>
                      <a:lnTo>
                        <a:pt x="264" y="300"/>
                      </a:lnTo>
                      <a:lnTo>
                        <a:pt x="278" y="496"/>
                      </a:lnTo>
                      <a:lnTo>
                        <a:pt x="222" y="705"/>
                      </a:lnTo>
                      <a:lnTo>
                        <a:pt x="140" y="887"/>
                      </a:lnTo>
                      <a:lnTo>
                        <a:pt x="153" y="953"/>
                      </a:lnTo>
                      <a:lnTo>
                        <a:pt x="347" y="1045"/>
                      </a:lnTo>
                      <a:lnTo>
                        <a:pt x="374" y="1096"/>
                      </a:lnTo>
                      <a:lnTo>
                        <a:pt x="264" y="1176"/>
                      </a:lnTo>
                      <a:lnTo>
                        <a:pt x="209" y="1136"/>
                      </a:lnTo>
                      <a:lnTo>
                        <a:pt x="98" y="1018"/>
                      </a:lnTo>
                      <a:lnTo>
                        <a:pt x="0" y="953"/>
                      </a:lnTo>
                      <a:lnTo>
                        <a:pt x="0" y="914"/>
                      </a:lnTo>
                      <a:lnTo>
                        <a:pt x="56" y="836"/>
                      </a:lnTo>
                      <a:lnTo>
                        <a:pt x="140" y="718"/>
                      </a:lnTo>
                      <a:lnTo>
                        <a:pt x="195" y="535"/>
                      </a:lnTo>
                      <a:lnTo>
                        <a:pt x="195" y="300"/>
                      </a:lnTo>
                      <a:lnTo>
                        <a:pt x="153" y="169"/>
                      </a:lnTo>
                      <a:lnTo>
                        <a:pt x="98" y="104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044720" y="2310480"/>
                  <a:ext cx="226080" cy="748080"/>
                </a:xfrm>
                <a:custGeom>
                  <a:avLst/>
                  <a:gdLst/>
                  <a:ahLst/>
                  <a:rect l="l" t="t" r="r" b="b"/>
                  <a:pathLst>
                    <a:path w="498" h="1281">
                      <a:moveTo>
                        <a:pt x="263" y="156"/>
                      </a:moveTo>
                      <a:lnTo>
                        <a:pt x="318" y="38"/>
                      </a:lnTo>
                      <a:lnTo>
                        <a:pt x="456" y="0"/>
                      </a:lnTo>
                      <a:lnTo>
                        <a:pt x="498" y="64"/>
                      </a:lnTo>
                      <a:lnTo>
                        <a:pt x="401" y="169"/>
                      </a:lnTo>
                      <a:lnTo>
                        <a:pt x="345" y="235"/>
                      </a:lnTo>
                      <a:lnTo>
                        <a:pt x="332" y="365"/>
                      </a:lnTo>
                      <a:lnTo>
                        <a:pt x="305" y="587"/>
                      </a:lnTo>
                      <a:lnTo>
                        <a:pt x="318" y="874"/>
                      </a:lnTo>
                      <a:lnTo>
                        <a:pt x="332" y="1005"/>
                      </a:lnTo>
                      <a:lnTo>
                        <a:pt x="360" y="1058"/>
                      </a:lnTo>
                      <a:lnTo>
                        <a:pt x="345" y="1110"/>
                      </a:lnTo>
                      <a:lnTo>
                        <a:pt x="249" y="1150"/>
                      </a:lnTo>
                      <a:lnTo>
                        <a:pt x="98" y="1281"/>
                      </a:lnTo>
                      <a:lnTo>
                        <a:pt x="42" y="1281"/>
                      </a:lnTo>
                      <a:lnTo>
                        <a:pt x="0" y="1176"/>
                      </a:lnTo>
                      <a:lnTo>
                        <a:pt x="98" y="1110"/>
                      </a:lnTo>
                      <a:lnTo>
                        <a:pt x="222" y="1071"/>
                      </a:lnTo>
                      <a:lnTo>
                        <a:pt x="276" y="1045"/>
                      </a:lnTo>
                      <a:lnTo>
                        <a:pt x="263" y="927"/>
                      </a:lnTo>
                      <a:lnTo>
                        <a:pt x="236" y="665"/>
                      </a:lnTo>
                      <a:lnTo>
                        <a:pt x="222" y="444"/>
                      </a:lnTo>
                      <a:lnTo>
                        <a:pt x="236" y="260"/>
                      </a:lnTo>
                      <a:lnTo>
                        <a:pt x="263" y="1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1559160" y="1371600"/>
                <a:ext cx="1162440" cy="1609920"/>
                <a:chOff x="1559160" y="1371600"/>
                <a:chExt cx="1162440" cy="16099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1559160" y="1371600"/>
                  <a:ext cx="1162440" cy="1609920"/>
                </a:xfrm>
                <a:custGeom>
                  <a:avLst/>
                  <a:gdLst/>
                  <a:ahLst/>
                  <a:rect l="l" t="t" r="r" b="b"/>
                  <a:pathLst>
                    <a:path w="2567" h="2757">
                      <a:moveTo>
                        <a:pt x="898" y="510"/>
                      </a:moveTo>
                      <a:lnTo>
                        <a:pt x="746" y="641"/>
                      </a:lnTo>
                      <a:lnTo>
                        <a:pt x="566" y="772"/>
                      </a:lnTo>
                      <a:lnTo>
                        <a:pt x="374" y="981"/>
                      </a:lnTo>
                      <a:lnTo>
                        <a:pt x="167" y="1255"/>
                      </a:lnTo>
                      <a:lnTo>
                        <a:pt x="56" y="1490"/>
                      </a:lnTo>
                      <a:lnTo>
                        <a:pt x="0" y="1673"/>
                      </a:lnTo>
                      <a:lnTo>
                        <a:pt x="0" y="1790"/>
                      </a:lnTo>
                      <a:lnTo>
                        <a:pt x="15" y="2039"/>
                      </a:lnTo>
                      <a:lnTo>
                        <a:pt x="56" y="2222"/>
                      </a:lnTo>
                      <a:lnTo>
                        <a:pt x="167" y="2339"/>
                      </a:lnTo>
                      <a:lnTo>
                        <a:pt x="387" y="2484"/>
                      </a:lnTo>
                      <a:lnTo>
                        <a:pt x="595" y="2575"/>
                      </a:lnTo>
                      <a:lnTo>
                        <a:pt x="856" y="2666"/>
                      </a:lnTo>
                      <a:lnTo>
                        <a:pt x="1008" y="2718"/>
                      </a:lnTo>
                      <a:lnTo>
                        <a:pt x="1270" y="2757"/>
                      </a:lnTo>
                      <a:lnTo>
                        <a:pt x="1669" y="2718"/>
                      </a:lnTo>
                      <a:lnTo>
                        <a:pt x="2015" y="2627"/>
                      </a:lnTo>
                      <a:lnTo>
                        <a:pt x="2235" y="2496"/>
                      </a:lnTo>
                      <a:lnTo>
                        <a:pt x="2373" y="2353"/>
                      </a:lnTo>
                      <a:lnTo>
                        <a:pt x="2456" y="2209"/>
                      </a:lnTo>
                      <a:lnTo>
                        <a:pt x="2538" y="2026"/>
                      </a:lnTo>
                      <a:lnTo>
                        <a:pt x="2567" y="1817"/>
                      </a:lnTo>
                      <a:lnTo>
                        <a:pt x="2567" y="1530"/>
                      </a:lnTo>
                      <a:lnTo>
                        <a:pt x="2511" y="1346"/>
                      </a:lnTo>
                      <a:lnTo>
                        <a:pt x="2400" y="1150"/>
                      </a:lnTo>
                      <a:lnTo>
                        <a:pt x="2249" y="968"/>
                      </a:lnTo>
                      <a:lnTo>
                        <a:pt x="2084" y="823"/>
                      </a:lnTo>
                      <a:lnTo>
                        <a:pt x="1918" y="706"/>
                      </a:lnTo>
                      <a:lnTo>
                        <a:pt x="1683" y="601"/>
                      </a:lnTo>
                      <a:lnTo>
                        <a:pt x="1669" y="536"/>
                      </a:lnTo>
                      <a:lnTo>
                        <a:pt x="1877" y="327"/>
                      </a:lnTo>
                      <a:lnTo>
                        <a:pt x="1890" y="196"/>
                      </a:lnTo>
                      <a:lnTo>
                        <a:pt x="1656" y="327"/>
                      </a:lnTo>
                      <a:lnTo>
                        <a:pt x="1738" y="92"/>
                      </a:lnTo>
                      <a:lnTo>
                        <a:pt x="1711" y="79"/>
                      </a:lnTo>
                      <a:lnTo>
                        <a:pt x="1629" y="79"/>
                      </a:lnTo>
                      <a:lnTo>
                        <a:pt x="1491" y="236"/>
                      </a:lnTo>
                      <a:lnTo>
                        <a:pt x="1408" y="327"/>
                      </a:lnTo>
                      <a:lnTo>
                        <a:pt x="1435" y="157"/>
                      </a:lnTo>
                      <a:lnTo>
                        <a:pt x="1491" y="27"/>
                      </a:lnTo>
                      <a:lnTo>
                        <a:pt x="1449" y="0"/>
                      </a:lnTo>
                      <a:lnTo>
                        <a:pt x="1353" y="79"/>
                      </a:lnTo>
                      <a:lnTo>
                        <a:pt x="1256" y="274"/>
                      </a:lnTo>
                      <a:lnTo>
                        <a:pt x="1215" y="170"/>
                      </a:lnTo>
                      <a:lnTo>
                        <a:pt x="1132" y="131"/>
                      </a:lnTo>
                      <a:lnTo>
                        <a:pt x="1077" y="261"/>
                      </a:lnTo>
                      <a:lnTo>
                        <a:pt x="1063" y="340"/>
                      </a:lnTo>
                      <a:lnTo>
                        <a:pt x="911" y="157"/>
                      </a:lnTo>
                      <a:lnTo>
                        <a:pt x="718" y="14"/>
                      </a:lnTo>
                      <a:lnTo>
                        <a:pt x="664" y="40"/>
                      </a:lnTo>
                      <a:lnTo>
                        <a:pt x="649" y="118"/>
                      </a:lnTo>
                      <a:lnTo>
                        <a:pt x="718" y="236"/>
                      </a:lnTo>
                      <a:lnTo>
                        <a:pt x="800" y="379"/>
                      </a:lnTo>
                      <a:lnTo>
                        <a:pt x="1008" y="628"/>
                      </a:lnTo>
                      <a:lnTo>
                        <a:pt x="980" y="679"/>
                      </a:lnTo>
                      <a:lnTo>
                        <a:pt x="938" y="706"/>
                      </a:lnTo>
                      <a:lnTo>
                        <a:pt x="967" y="758"/>
                      </a:lnTo>
                      <a:lnTo>
                        <a:pt x="1146" y="823"/>
                      </a:lnTo>
                      <a:lnTo>
                        <a:pt x="1435" y="823"/>
                      </a:lnTo>
                      <a:lnTo>
                        <a:pt x="1683" y="797"/>
                      </a:lnTo>
                      <a:lnTo>
                        <a:pt x="1767" y="719"/>
                      </a:lnTo>
                      <a:lnTo>
                        <a:pt x="1711" y="693"/>
                      </a:lnTo>
                      <a:lnTo>
                        <a:pt x="1656" y="732"/>
                      </a:lnTo>
                      <a:lnTo>
                        <a:pt x="1504" y="745"/>
                      </a:lnTo>
                      <a:lnTo>
                        <a:pt x="1353" y="772"/>
                      </a:lnTo>
                      <a:lnTo>
                        <a:pt x="1187" y="745"/>
                      </a:lnTo>
                      <a:lnTo>
                        <a:pt x="1435" y="719"/>
                      </a:lnTo>
                      <a:lnTo>
                        <a:pt x="1600" y="667"/>
                      </a:lnTo>
                      <a:lnTo>
                        <a:pt x="1629" y="641"/>
                      </a:lnTo>
                      <a:lnTo>
                        <a:pt x="1560" y="614"/>
                      </a:lnTo>
                      <a:lnTo>
                        <a:pt x="1477" y="654"/>
                      </a:lnTo>
                      <a:lnTo>
                        <a:pt x="1284" y="679"/>
                      </a:lnTo>
                      <a:lnTo>
                        <a:pt x="1146" y="667"/>
                      </a:lnTo>
                      <a:lnTo>
                        <a:pt x="1077" y="641"/>
                      </a:lnTo>
                      <a:lnTo>
                        <a:pt x="1105" y="576"/>
                      </a:lnTo>
                      <a:lnTo>
                        <a:pt x="980" y="484"/>
                      </a:lnTo>
                      <a:lnTo>
                        <a:pt x="856" y="367"/>
                      </a:lnTo>
                      <a:lnTo>
                        <a:pt x="787" y="249"/>
                      </a:lnTo>
                      <a:lnTo>
                        <a:pt x="760" y="170"/>
                      </a:lnTo>
                      <a:lnTo>
                        <a:pt x="760" y="145"/>
                      </a:lnTo>
                      <a:lnTo>
                        <a:pt x="787" y="145"/>
                      </a:lnTo>
                      <a:lnTo>
                        <a:pt x="856" y="196"/>
                      </a:lnTo>
                      <a:lnTo>
                        <a:pt x="952" y="314"/>
                      </a:lnTo>
                      <a:lnTo>
                        <a:pt x="1077" y="458"/>
                      </a:lnTo>
                      <a:lnTo>
                        <a:pt x="1105" y="497"/>
                      </a:lnTo>
                      <a:lnTo>
                        <a:pt x="1159" y="470"/>
                      </a:lnTo>
                      <a:lnTo>
                        <a:pt x="1132" y="392"/>
                      </a:lnTo>
                      <a:lnTo>
                        <a:pt x="1146" y="340"/>
                      </a:lnTo>
                      <a:lnTo>
                        <a:pt x="1159" y="274"/>
                      </a:lnTo>
                      <a:lnTo>
                        <a:pt x="1187" y="274"/>
                      </a:lnTo>
                      <a:lnTo>
                        <a:pt x="1215" y="354"/>
                      </a:lnTo>
                      <a:lnTo>
                        <a:pt x="1228" y="405"/>
                      </a:lnTo>
                      <a:lnTo>
                        <a:pt x="1270" y="419"/>
                      </a:lnTo>
                      <a:lnTo>
                        <a:pt x="1326" y="301"/>
                      </a:lnTo>
                      <a:lnTo>
                        <a:pt x="1353" y="261"/>
                      </a:lnTo>
                      <a:lnTo>
                        <a:pt x="1366" y="327"/>
                      </a:lnTo>
                      <a:lnTo>
                        <a:pt x="1366" y="432"/>
                      </a:lnTo>
                      <a:lnTo>
                        <a:pt x="1408" y="458"/>
                      </a:lnTo>
                      <a:lnTo>
                        <a:pt x="1477" y="367"/>
                      </a:lnTo>
                      <a:lnTo>
                        <a:pt x="1546" y="249"/>
                      </a:lnTo>
                      <a:lnTo>
                        <a:pt x="1615" y="223"/>
                      </a:lnTo>
                      <a:lnTo>
                        <a:pt x="1615" y="236"/>
                      </a:lnTo>
                      <a:lnTo>
                        <a:pt x="1573" y="314"/>
                      </a:lnTo>
                      <a:lnTo>
                        <a:pt x="1531" y="432"/>
                      </a:lnTo>
                      <a:lnTo>
                        <a:pt x="1573" y="445"/>
                      </a:lnTo>
                      <a:lnTo>
                        <a:pt x="1794" y="301"/>
                      </a:lnTo>
                      <a:lnTo>
                        <a:pt x="1821" y="301"/>
                      </a:lnTo>
                      <a:lnTo>
                        <a:pt x="1615" y="497"/>
                      </a:lnTo>
                      <a:lnTo>
                        <a:pt x="1573" y="536"/>
                      </a:lnTo>
                      <a:lnTo>
                        <a:pt x="1560" y="601"/>
                      </a:lnTo>
                      <a:lnTo>
                        <a:pt x="1600" y="628"/>
                      </a:lnTo>
                      <a:lnTo>
                        <a:pt x="1725" y="679"/>
                      </a:lnTo>
                      <a:lnTo>
                        <a:pt x="1932" y="785"/>
                      </a:lnTo>
                      <a:lnTo>
                        <a:pt x="2070" y="888"/>
                      </a:lnTo>
                      <a:lnTo>
                        <a:pt x="2235" y="1046"/>
                      </a:lnTo>
                      <a:lnTo>
                        <a:pt x="2360" y="1215"/>
                      </a:lnTo>
                      <a:lnTo>
                        <a:pt x="2442" y="1399"/>
                      </a:lnTo>
                      <a:lnTo>
                        <a:pt x="2498" y="1634"/>
                      </a:lnTo>
                      <a:lnTo>
                        <a:pt x="2483" y="1804"/>
                      </a:lnTo>
                      <a:lnTo>
                        <a:pt x="2469" y="1986"/>
                      </a:lnTo>
                      <a:lnTo>
                        <a:pt x="2387" y="2182"/>
                      </a:lnTo>
                      <a:lnTo>
                        <a:pt x="2304" y="2326"/>
                      </a:lnTo>
                      <a:lnTo>
                        <a:pt x="2208" y="2404"/>
                      </a:lnTo>
                      <a:lnTo>
                        <a:pt x="2097" y="2509"/>
                      </a:lnTo>
                      <a:lnTo>
                        <a:pt x="1890" y="2588"/>
                      </a:lnTo>
                      <a:lnTo>
                        <a:pt x="1642" y="2653"/>
                      </a:lnTo>
                      <a:lnTo>
                        <a:pt x="1518" y="2666"/>
                      </a:lnTo>
                      <a:lnTo>
                        <a:pt x="1284" y="2666"/>
                      </a:lnTo>
                      <a:lnTo>
                        <a:pt x="1063" y="2640"/>
                      </a:lnTo>
                      <a:lnTo>
                        <a:pt x="800" y="2575"/>
                      </a:lnTo>
                      <a:lnTo>
                        <a:pt x="553" y="2470"/>
                      </a:lnTo>
                      <a:lnTo>
                        <a:pt x="359" y="2366"/>
                      </a:lnTo>
                      <a:lnTo>
                        <a:pt x="194" y="2248"/>
                      </a:lnTo>
                      <a:lnTo>
                        <a:pt x="125" y="2157"/>
                      </a:lnTo>
                      <a:lnTo>
                        <a:pt x="111" y="2064"/>
                      </a:lnTo>
                      <a:lnTo>
                        <a:pt x="84" y="1790"/>
                      </a:lnTo>
                      <a:lnTo>
                        <a:pt x="98" y="1608"/>
                      </a:lnTo>
                      <a:lnTo>
                        <a:pt x="180" y="1412"/>
                      </a:lnTo>
                      <a:lnTo>
                        <a:pt x="290" y="1190"/>
                      </a:lnTo>
                      <a:lnTo>
                        <a:pt x="484" y="994"/>
                      </a:lnTo>
                      <a:lnTo>
                        <a:pt x="664" y="772"/>
                      </a:lnTo>
                      <a:lnTo>
                        <a:pt x="829" y="654"/>
                      </a:lnTo>
                      <a:lnTo>
                        <a:pt x="925" y="576"/>
                      </a:lnTo>
                      <a:lnTo>
                        <a:pt x="898" y="51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015640" y="2005560"/>
                  <a:ext cx="236880" cy="495720"/>
                </a:xfrm>
                <a:custGeom>
                  <a:avLst/>
                  <a:gdLst/>
                  <a:ahLst/>
                  <a:rect l="l" t="t" r="r" b="b"/>
                  <a:pathLst>
                    <a:path w="524" h="849">
                      <a:moveTo>
                        <a:pt x="317" y="156"/>
                      </a:moveTo>
                      <a:lnTo>
                        <a:pt x="413" y="169"/>
                      </a:lnTo>
                      <a:lnTo>
                        <a:pt x="495" y="235"/>
                      </a:lnTo>
                      <a:lnTo>
                        <a:pt x="524" y="300"/>
                      </a:lnTo>
                      <a:lnTo>
                        <a:pt x="426" y="326"/>
                      </a:lnTo>
                      <a:lnTo>
                        <a:pt x="371" y="273"/>
                      </a:lnTo>
                      <a:lnTo>
                        <a:pt x="303" y="247"/>
                      </a:lnTo>
                      <a:lnTo>
                        <a:pt x="234" y="235"/>
                      </a:lnTo>
                      <a:lnTo>
                        <a:pt x="123" y="260"/>
                      </a:lnTo>
                      <a:lnTo>
                        <a:pt x="96" y="326"/>
                      </a:lnTo>
                      <a:lnTo>
                        <a:pt x="151" y="378"/>
                      </a:lnTo>
                      <a:lnTo>
                        <a:pt x="288" y="417"/>
                      </a:lnTo>
                      <a:lnTo>
                        <a:pt x="426" y="417"/>
                      </a:lnTo>
                      <a:lnTo>
                        <a:pt x="468" y="456"/>
                      </a:lnTo>
                      <a:lnTo>
                        <a:pt x="495" y="522"/>
                      </a:lnTo>
                      <a:lnTo>
                        <a:pt x="482" y="600"/>
                      </a:lnTo>
                      <a:lnTo>
                        <a:pt x="399" y="653"/>
                      </a:lnTo>
                      <a:lnTo>
                        <a:pt x="303" y="653"/>
                      </a:lnTo>
                      <a:lnTo>
                        <a:pt x="234" y="653"/>
                      </a:lnTo>
                      <a:lnTo>
                        <a:pt x="206" y="718"/>
                      </a:lnTo>
                      <a:lnTo>
                        <a:pt x="219" y="835"/>
                      </a:lnTo>
                      <a:lnTo>
                        <a:pt x="123" y="849"/>
                      </a:lnTo>
                      <a:lnTo>
                        <a:pt x="109" y="757"/>
                      </a:lnTo>
                      <a:lnTo>
                        <a:pt x="137" y="653"/>
                      </a:lnTo>
                      <a:lnTo>
                        <a:pt x="54" y="613"/>
                      </a:lnTo>
                      <a:lnTo>
                        <a:pt x="0" y="574"/>
                      </a:lnTo>
                      <a:lnTo>
                        <a:pt x="82" y="496"/>
                      </a:lnTo>
                      <a:lnTo>
                        <a:pt x="123" y="548"/>
                      </a:lnTo>
                      <a:lnTo>
                        <a:pt x="192" y="560"/>
                      </a:lnTo>
                      <a:lnTo>
                        <a:pt x="288" y="574"/>
                      </a:lnTo>
                      <a:lnTo>
                        <a:pt x="371" y="574"/>
                      </a:lnTo>
                      <a:lnTo>
                        <a:pt x="413" y="560"/>
                      </a:lnTo>
                      <a:lnTo>
                        <a:pt x="386" y="509"/>
                      </a:lnTo>
                      <a:lnTo>
                        <a:pt x="317" y="496"/>
                      </a:lnTo>
                      <a:lnTo>
                        <a:pt x="192" y="469"/>
                      </a:lnTo>
                      <a:lnTo>
                        <a:pt x="68" y="431"/>
                      </a:lnTo>
                      <a:lnTo>
                        <a:pt x="27" y="365"/>
                      </a:lnTo>
                      <a:lnTo>
                        <a:pt x="13" y="287"/>
                      </a:lnTo>
                      <a:lnTo>
                        <a:pt x="82" y="208"/>
                      </a:lnTo>
                      <a:lnTo>
                        <a:pt x="178" y="143"/>
                      </a:lnTo>
                      <a:lnTo>
                        <a:pt x="247" y="143"/>
                      </a:lnTo>
                      <a:lnTo>
                        <a:pt x="275" y="0"/>
                      </a:lnTo>
                      <a:lnTo>
                        <a:pt x="357" y="13"/>
                      </a:lnTo>
                      <a:lnTo>
                        <a:pt x="317" y="15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1796400" y="1981080"/>
                  <a:ext cx="101160" cy="177120"/>
                </a:xfrm>
                <a:custGeom>
                  <a:avLst/>
                  <a:gdLst/>
                  <a:ahLst/>
                  <a:rect l="l" t="t" r="r" b="b"/>
                  <a:pathLst>
                    <a:path w="220" h="301">
                      <a:moveTo>
                        <a:pt x="0" y="236"/>
                      </a:moveTo>
                      <a:lnTo>
                        <a:pt x="96" y="78"/>
                      </a:lnTo>
                      <a:lnTo>
                        <a:pt x="220" y="0"/>
                      </a:lnTo>
                      <a:lnTo>
                        <a:pt x="220" y="40"/>
                      </a:lnTo>
                      <a:lnTo>
                        <a:pt x="136" y="131"/>
                      </a:lnTo>
                      <a:lnTo>
                        <a:pt x="40" y="301"/>
                      </a:lnTo>
                      <a:lnTo>
                        <a:pt x="0" y="23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464560" y="2424600"/>
                  <a:ext cx="63360" cy="122760"/>
                </a:xfrm>
                <a:custGeom>
                  <a:avLst/>
                  <a:gdLst/>
                  <a:ahLst/>
                  <a:rect l="l" t="t" r="r" b="b"/>
                  <a:pathLst>
                    <a:path w="138" h="209">
                      <a:moveTo>
                        <a:pt x="138" y="0"/>
                      </a:moveTo>
                      <a:lnTo>
                        <a:pt x="42" y="130"/>
                      </a:lnTo>
                      <a:lnTo>
                        <a:pt x="0" y="182"/>
                      </a:lnTo>
                      <a:lnTo>
                        <a:pt x="55" y="209"/>
                      </a:lnTo>
                      <a:lnTo>
                        <a:pt x="96" y="182"/>
                      </a:lnTo>
                      <a:lnTo>
                        <a:pt x="138" y="91"/>
                      </a:lnTo>
                      <a:lnTo>
                        <a:pt x="138" y="51"/>
                      </a:lnTo>
                      <a:lnTo>
                        <a:pt x="138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4" name=""/>
            <p:cNvSpPr/>
            <p:nvPr/>
          </p:nvSpPr>
          <p:spPr>
            <a:xfrm>
              <a:off x="2695680" y="1827360"/>
              <a:ext cx="164772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Custom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6400800" y="1295280"/>
            <a:ext cx="2666880" cy="4174920"/>
            <a:chOff x="6400800" y="1295280"/>
            <a:chExt cx="2666880" cy="4174920"/>
          </a:xfrm>
        </p:grpSpPr>
        <p:grpSp>
          <p:nvGrpSpPr>
            <p:cNvPr id="316" name=""/>
            <p:cNvGrpSpPr/>
            <p:nvPr/>
          </p:nvGrpSpPr>
          <p:grpSpPr>
            <a:xfrm>
              <a:off x="6781680" y="2970360"/>
              <a:ext cx="1803600" cy="1163160"/>
              <a:chOff x="6781680" y="2970360"/>
              <a:chExt cx="1803600" cy="116316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6781680" y="2970360"/>
                <a:ext cx="606240" cy="1163160"/>
                <a:chOff x="6781680" y="2970360"/>
                <a:chExt cx="606240" cy="1163160"/>
              </a:xfrm>
            </p:grpSpPr>
            <p:sp>
              <p:nvSpPr>
                <p:cNvPr id="318" name=""/>
                <p:cNvSpPr/>
                <p:nvPr/>
              </p:nvSpPr>
              <p:spPr>
                <a:xfrm flipH="1">
                  <a:off x="6886440" y="3028680"/>
                  <a:ext cx="351360" cy="261720"/>
                </a:xfrm>
                <a:custGeom>
                  <a:avLst/>
                  <a:gdLst/>
                  <a:ahLst/>
                  <a:rect l="l" t="t" r="r" b="b"/>
                  <a:pathLst>
                    <a:path w="853" h="831">
                      <a:moveTo>
                        <a:pt x="260" y="351"/>
                      </a:moveTo>
                      <a:lnTo>
                        <a:pt x="335" y="241"/>
                      </a:lnTo>
                      <a:lnTo>
                        <a:pt x="418" y="157"/>
                      </a:lnTo>
                      <a:lnTo>
                        <a:pt x="502" y="55"/>
                      </a:lnTo>
                      <a:lnTo>
                        <a:pt x="603" y="9"/>
                      </a:lnTo>
                      <a:lnTo>
                        <a:pt x="686" y="0"/>
                      </a:lnTo>
                      <a:lnTo>
                        <a:pt x="770" y="28"/>
                      </a:lnTo>
                      <a:lnTo>
                        <a:pt x="817" y="93"/>
                      </a:lnTo>
                      <a:lnTo>
                        <a:pt x="853" y="212"/>
                      </a:lnTo>
                      <a:lnTo>
                        <a:pt x="844" y="342"/>
                      </a:lnTo>
                      <a:lnTo>
                        <a:pt x="807" y="453"/>
                      </a:lnTo>
                      <a:lnTo>
                        <a:pt x="714" y="581"/>
                      </a:lnTo>
                      <a:lnTo>
                        <a:pt x="613" y="674"/>
                      </a:lnTo>
                      <a:lnTo>
                        <a:pt x="502" y="758"/>
                      </a:lnTo>
                      <a:lnTo>
                        <a:pt x="381" y="813"/>
                      </a:lnTo>
                      <a:lnTo>
                        <a:pt x="278" y="831"/>
                      </a:lnTo>
                      <a:lnTo>
                        <a:pt x="232" y="803"/>
                      </a:lnTo>
                      <a:lnTo>
                        <a:pt x="195" y="692"/>
                      </a:lnTo>
                      <a:lnTo>
                        <a:pt x="205" y="544"/>
                      </a:lnTo>
                      <a:lnTo>
                        <a:pt x="28" y="555"/>
                      </a:lnTo>
                      <a:lnTo>
                        <a:pt x="0" y="526"/>
                      </a:lnTo>
                      <a:lnTo>
                        <a:pt x="28" y="471"/>
                      </a:lnTo>
                      <a:lnTo>
                        <a:pt x="214" y="462"/>
                      </a:lnTo>
                      <a:lnTo>
                        <a:pt x="260" y="351"/>
                      </a:lnTo>
                      <a:close/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H="1">
                  <a:off x="7012080" y="3305520"/>
                  <a:ext cx="242640" cy="386640"/>
                </a:xfrm>
                <a:custGeom>
                  <a:avLst/>
                  <a:gdLst/>
                  <a:ahLst/>
                  <a:rect l="l" t="t" r="r" b="b"/>
                  <a:pathLst>
                    <a:path w="590" h="1226">
                      <a:moveTo>
                        <a:pt x="165" y="102"/>
                      </a:moveTo>
                      <a:lnTo>
                        <a:pt x="249" y="28"/>
                      </a:lnTo>
                      <a:lnTo>
                        <a:pt x="378" y="0"/>
                      </a:lnTo>
                      <a:lnTo>
                        <a:pt x="489" y="18"/>
                      </a:lnTo>
                      <a:lnTo>
                        <a:pt x="572" y="93"/>
                      </a:lnTo>
                      <a:lnTo>
                        <a:pt x="590" y="148"/>
                      </a:lnTo>
                      <a:lnTo>
                        <a:pt x="590" y="223"/>
                      </a:lnTo>
                      <a:lnTo>
                        <a:pt x="553" y="289"/>
                      </a:lnTo>
                      <a:lnTo>
                        <a:pt x="489" y="399"/>
                      </a:lnTo>
                      <a:lnTo>
                        <a:pt x="460" y="529"/>
                      </a:lnTo>
                      <a:lnTo>
                        <a:pt x="451" y="641"/>
                      </a:lnTo>
                      <a:lnTo>
                        <a:pt x="480" y="761"/>
                      </a:lnTo>
                      <a:lnTo>
                        <a:pt x="553" y="873"/>
                      </a:lnTo>
                      <a:lnTo>
                        <a:pt x="581" y="984"/>
                      </a:lnTo>
                      <a:lnTo>
                        <a:pt x="572" y="1087"/>
                      </a:lnTo>
                      <a:lnTo>
                        <a:pt x="517" y="1171"/>
                      </a:lnTo>
                      <a:lnTo>
                        <a:pt x="442" y="1217"/>
                      </a:lnTo>
                      <a:lnTo>
                        <a:pt x="350" y="1226"/>
                      </a:lnTo>
                      <a:lnTo>
                        <a:pt x="240" y="1226"/>
                      </a:lnTo>
                      <a:lnTo>
                        <a:pt x="157" y="1180"/>
                      </a:lnTo>
                      <a:lnTo>
                        <a:pt x="75" y="1041"/>
                      </a:lnTo>
                      <a:lnTo>
                        <a:pt x="18" y="920"/>
                      </a:lnTo>
                      <a:lnTo>
                        <a:pt x="0" y="734"/>
                      </a:lnTo>
                      <a:lnTo>
                        <a:pt x="18" y="567"/>
                      </a:lnTo>
                      <a:lnTo>
                        <a:pt x="55" y="390"/>
                      </a:lnTo>
                      <a:lnTo>
                        <a:pt x="110" y="214"/>
                      </a:lnTo>
                      <a:lnTo>
                        <a:pt x="165" y="102"/>
                      </a:lnTo>
                      <a:close/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H="1">
                  <a:off x="6792840" y="3317760"/>
                  <a:ext cx="270000" cy="347040"/>
                </a:xfrm>
                <a:custGeom>
                  <a:avLst/>
                  <a:gdLst/>
                  <a:ahLst/>
                  <a:rect l="l" t="t" r="r" b="b"/>
                  <a:pathLst>
                    <a:path w="656" h="1100">
                      <a:moveTo>
                        <a:pt x="0" y="55"/>
                      </a:moveTo>
                      <a:lnTo>
                        <a:pt x="10" y="9"/>
                      </a:lnTo>
                      <a:lnTo>
                        <a:pt x="111" y="0"/>
                      </a:lnTo>
                      <a:lnTo>
                        <a:pt x="166" y="46"/>
                      </a:lnTo>
                      <a:lnTo>
                        <a:pt x="250" y="166"/>
                      </a:lnTo>
                      <a:lnTo>
                        <a:pt x="361" y="323"/>
                      </a:lnTo>
                      <a:lnTo>
                        <a:pt x="463" y="435"/>
                      </a:lnTo>
                      <a:lnTo>
                        <a:pt x="647" y="638"/>
                      </a:lnTo>
                      <a:lnTo>
                        <a:pt x="656" y="685"/>
                      </a:lnTo>
                      <a:lnTo>
                        <a:pt x="620" y="712"/>
                      </a:lnTo>
                      <a:lnTo>
                        <a:pt x="528" y="749"/>
                      </a:lnTo>
                      <a:lnTo>
                        <a:pt x="399" y="777"/>
                      </a:lnTo>
                      <a:lnTo>
                        <a:pt x="241" y="786"/>
                      </a:lnTo>
                      <a:lnTo>
                        <a:pt x="186" y="795"/>
                      </a:lnTo>
                      <a:lnTo>
                        <a:pt x="166" y="833"/>
                      </a:lnTo>
                      <a:lnTo>
                        <a:pt x="204" y="897"/>
                      </a:lnTo>
                      <a:lnTo>
                        <a:pt x="333" y="1008"/>
                      </a:lnTo>
                      <a:lnTo>
                        <a:pt x="425" y="1036"/>
                      </a:lnTo>
                      <a:lnTo>
                        <a:pt x="445" y="1072"/>
                      </a:lnTo>
                      <a:lnTo>
                        <a:pt x="408" y="1100"/>
                      </a:lnTo>
                      <a:lnTo>
                        <a:pt x="324" y="1100"/>
                      </a:lnTo>
                      <a:lnTo>
                        <a:pt x="213" y="1036"/>
                      </a:lnTo>
                      <a:lnTo>
                        <a:pt x="120" y="943"/>
                      </a:lnTo>
                      <a:lnTo>
                        <a:pt x="65" y="860"/>
                      </a:lnTo>
                      <a:lnTo>
                        <a:pt x="65" y="795"/>
                      </a:lnTo>
                      <a:lnTo>
                        <a:pt x="102" y="749"/>
                      </a:lnTo>
                      <a:lnTo>
                        <a:pt x="157" y="731"/>
                      </a:lnTo>
                      <a:lnTo>
                        <a:pt x="241" y="721"/>
                      </a:lnTo>
                      <a:lnTo>
                        <a:pt x="333" y="721"/>
                      </a:lnTo>
                      <a:lnTo>
                        <a:pt x="445" y="703"/>
                      </a:lnTo>
                      <a:lnTo>
                        <a:pt x="500" y="685"/>
                      </a:lnTo>
                      <a:lnTo>
                        <a:pt x="528" y="656"/>
                      </a:lnTo>
                      <a:lnTo>
                        <a:pt x="518" y="629"/>
                      </a:lnTo>
                      <a:lnTo>
                        <a:pt x="434" y="555"/>
                      </a:lnTo>
                      <a:lnTo>
                        <a:pt x="305" y="426"/>
                      </a:lnTo>
                      <a:lnTo>
                        <a:pt x="186" y="314"/>
                      </a:lnTo>
                      <a:lnTo>
                        <a:pt x="56" y="194"/>
                      </a:lnTo>
                      <a:lnTo>
                        <a:pt x="10" y="111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>
                  <a:off x="6944040" y="3610080"/>
                  <a:ext cx="291960" cy="523440"/>
                </a:xfrm>
                <a:custGeom>
                  <a:avLst/>
                  <a:gdLst/>
                  <a:ahLst/>
                  <a:rect l="l" t="t" r="r" b="b"/>
                  <a:pathLst>
                    <a:path w="713" h="1660">
                      <a:moveTo>
                        <a:pt x="352" y="0"/>
                      </a:moveTo>
                      <a:lnTo>
                        <a:pt x="453" y="19"/>
                      </a:lnTo>
                      <a:lnTo>
                        <a:pt x="499" y="93"/>
                      </a:lnTo>
                      <a:lnTo>
                        <a:pt x="490" y="269"/>
                      </a:lnTo>
                      <a:lnTo>
                        <a:pt x="472" y="454"/>
                      </a:lnTo>
                      <a:lnTo>
                        <a:pt x="472" y="649"/>
                      </a:lnTo>
                      <a:lnTo>
                        <a:pt x="565" y="881"/>
                      </a:lnTo>
                      <a:lnTo>
                        <a:pt x="639" y="1048"/>
                      </a:lnTo>
                      <a:lnTo>
                        <a:pt x="676" y="1214"/>
                      </a:lnTo>
                      <a:lnTo>
                        <a:pt x="666" y="1362"/>
                      </a:lnTo>
                      <a:lnTo>
                        <a:pt x="666" y="1417"/>
                      </a:lnTo>
                      <a:lnTo>
                        <a:pt x="703" y="1474"/>
                      </a:lnTo>
                      <a:lnTo>
                        <a:pt x="713" y="1529"/>
                      </a:lnTo>
                      <a:lnTo>
                        <a:pt x="685" y="1556"/>
                      </a:lnTo>
                      <a:lnTo>
                        <a:pt x="611" y="1538"/>
                      </a:lnTo>
                      <a:lnTo>
                        <a:pt x="472" y="1520"/>
                      </a:lnTo>
                      <a:lnTo>
                        <a:pt x="306" y="1556"/>
                      </a:lnTo>
                      <a:lnTo>
                        <a:pt x="194" y="1622"/>
                      </a:lnTo>
                      <a:lnTo>
                        <a:pt x="139" y="1660"/>
                      </a:lnTo>
                      <a:lnTo>
                        <a:pt x="82" y="1660"/>
                      </a:lnTo>
                      <a:lnTo>
                        <a:pt x="0" y="1538"/>
                      </a:lnTo>
                      <a:lnTo>
                        <a:pt x="9" y="1520"/>
                      </a:lnTo>
                      <a:lnTo>
                        <a:pt x="176" y="1464"/>
                      </a:lnTo>
                      <a:lnTo>
                        <a:pt x="370" y="1437"/>
                      </a:lnTo>
                      <a:lnTo>
                        <a:pt x="510" y="1428"/>
                      </a:lnTo>
                      <a:lnTo>
                        <a:pt x="593" y="1428"/>
                      </a:lnTo>
                      <a:lnTo>
                        <a:pt x="611" y="1371"/>
                      </a:lnTo>
                      <a:lnTo>
                        <a:pt x="582" y="1214"/>
                      </a:lnTo>
                      <a:lnTo>
                        <a:pt x="518" y="1048"/>
                      </a:lnTo>
                      <a:lnTo>
                        <a:pt x="416" y="834"/>
                      </a:lnTo>
                      <a:lnTo>
                        <a:pt x="332" y="649"/>
                      </a:lnTo>
                      <a:lnTo>
                        <a:pt x="297" y="483"/>
                      </a:lnTo>
                      <a:lnTo>
                        <a:pt x="286" y="297"/>
                      </a:lnTo>
                      <a:lnTo>
                        <a:pt x="286" y="121"/>
                      </a:lnTo>
                      <a:lnTo>
                        <a:pt x="323" y="46"/>
                      </a:lnTo>
                      <a:lnTo>
                        <a:pt x="352" y="0"/>
                      </a:lnTo>
                      <a:close/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>
                  <a:off x="7138080" y="3624120"/>
                  <a:ext cx="242640" cy="436680"/>
                </a:xfrm>
                <a:custGeom>
                  <a:avLst/>
                  <a:gdLst/>
                  <a:ahLst/>
                  <a:rect l="l" t="t" r="r" b="b"/>
                  <a:pathLst>
                    <a:path w="589" h="1386">
                      <a:moveTo>
                        <a:pt x="442" y="0"/>
                      </a:moveTo>
                      <a:lnTo>
                        <a:pt x="525" y="0"/>
                      </a:lnTo>
                      <a:lnTo>
                        <a:pt x="552" y="56"/>
                      </a:lnTo>
                      <a:lnTo>
                        <a:pt x="571" y="177"/>
                      </a:lnTo>
                      <a:lnTo>
                        <a:pt x="552" y="307"/>
                      </a:lnTo>
                      <a:lnTo>
                        <a:pt x="506" y="567"/>
                      </a:lnTo>
                      <a:lnTo>
                        <a:pt x="516" y="679"/>
                      </a:lnTo>
                      <a:lnTo>
                        <a:pt x="571" y="902"/>
                      </a:lnTo>
                      <a:lnTo>
                        <a:pt x="589" y="1060"/>
                      </a:lnTo>
                      <a:lnTo>
                        <a:pt x="589" y="1181"/>
                      </a:lnTo>
                      <a:lnTo>
                        <a:pt x="561" y="1208"/>
                      </a:lnTo>
                      <a:lnTo>
                        <a:pt x="479" y="1228"/>
                      </a:lnTo>
                      <a:lnTo>
                        <a:pt x="369" y="1255"/>
                      </a:lnTo>
                      <a:lnTo>
                        <a:pt x="257" y="1311"/>
                      </a:lnTo>
                      <a:lnTo>
                        <a:pt x="147" y="1386"/>
                      </a:lnTo>
                      <a:lnTo>
                        <a:pt x="101" y="1386"/>
                      </a:lnTo>
                      <a:lnTo>
                        <a:pt x="0" y="1303"/>
                      </a:lnTo>
                      <a:lnTo>
                        <a:pt x="8" y="1265"/>
                      </a:lnTo>
                      <a:lnTo>
                        <a:pt x="138" y="1208"/>
                      </a:lnTo>
                      <a:lnTo>
                        <a:pt x="358" y="1153"/>
                      </a:lnTo>
                      <a:lnTo>
                        <a:pt x="460" y="1116"/>
                      </a:lnTo>
                      <a:lnTo>
                        <a:pt x="479" y="1078"/>
                      </a:lnTo>
                      <a:lnTo>
                        <a:pt x="479" y="920"/>
                      </a:lnTo>
                      <a:lnTo>
                        <a:pt x="442" y="716"/>
                      </a:lnTo>
                      <a:lnTo>
                        <a:pt x="424" y="585"/>
                      </a:lnTo>
                      <a:lnTo>
                        <a:pt x="404" y="382"/>
                      </a:lnTo>
                      <a:lnTo>
                        <a:pt x="396" y="157"/>
                      </a:lnTo>
                      <a:lnTo>
                        <a:pt x="404" y="56"/>
                      </a:lnTo>
                      <a:lnTo>
                        <a:pt x="442" y="0"/>
                      </a:lnTo>
                      <a:close/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H="1">
                  <a:off x="6781320" y="2979720"/>
                  <a:ext cx="279720" cy="255960"/>
                </a:xfrm>
                <a:custGeom>
                  <a:avLst/>
                  <a:gdLst/>
                  <a:ahLst/>
                  <a:rect l="l" t="t" r="r" b="b"/>
                  <a:pathLst>
                    <a:path w="680" h="812">
                      <a:moveTo>
                        <a:pt x="180" y="576"/>
                      </a:moveTo>
                      <a:lnTo>
                        <a:pt x="87" y="413"/>
                      </a:lnTo>
                      <a:lnTo>
                        <a:pt x="32" y="273"/>
                      </a:lnTo>
                      <a:lnTo>
                        <a:pt x="0" y="121"/>
                      </a:lnTo>
                      <a:lnTo>
                        <a:pt x="13" y="60"/>
                      </a:lnTo>
                      <a:lnTo>
                        <a:pt x="59" y="60"/>
                      </a:lnTo>
                      <a:lnTo>
                        <a:pt x="116" y="106"/>
                      </a:lnTo>
                      <a:lnTo>
                        <a:pt x="171" y="172"/>
                      </a:lnTo>
                      <a:lnTo>
                        <a:pt x="338" y="79"/>
                      </a:lnTo>
                      <a:lnTo>
                        <a:pt x="425" y="0"/>
                      </a:lnTo>
                      <a:lnTo>
                        <a:pt x="504" y="51"/>
                      </a:lnTo>
                      <a:lnTo>
                        <a:pt x="592" y="167"/>
                      </a:lnTo>
                      <a:lnTo>
                        <a:pt x="658" y="333"/>
                      </a:lnTo>
                      <a:lnTo>
                        <a:pt x="680" y="441"/>
                      </a:lnTo>
                      <a:lnTo>
                        <a:pt x="680" y="478"/>
                      </a:lnTo>
                      <a:lnTo>
                        <a:pt x="592" y="505"/>
                      </a:lnTo>
                      <a:lnTo>
                        <a:pt x="472" y="580"/>
                      </a:lnTo>
                      <a:lnTo>
                        <a:pt x="416" y="613"/>
                      </a:lnTo>
                      <a:lnTo>
                        <a:pt x="463" y="743"/>
                      </a:lnTo>
                      <a:lnTo>
                        <a:pt x="445" y="803"/>
                      </a:lnTo>
                      <a:lnTo>
                        <a:pt x="408" y="812"/>
                      </a:lnTo>
                      <a:lnTo>
                        <a:pt x="305" y="728"/>
                      </a:lnTo>
                      <a:lnTo>
                        <a:pt x="180" y="576"/>
                      </a:lnTo>
                      <a:close/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H="1">
                  <a:off x="7041600" y="2970360"/>
                  <a:ext cx="346320" cy="400680"/>
                </a:xfrm>
                <a:custGeom>
                  <a:avLst/>
                  <a:gdLst/>
                  <a:ahLst/>
                  <a:rect l="l" t="t" r="r" b="b"/>
                  <a:pathLst>
                    <a:path w="843" h="1270">
                      <a:moveTo>
                        <a:pt x="518" y="1270"/>
                      </a:moveTo>
                      <a:lnTo>
                        <a:pt x="564" y="1215"/>
                      </a:lnTo>
                      <a:lnTo>
                        <a:pt x="547" y="1132"/>
                      </a:lnTo>
                      <a:lnTo>
                        <a:pt x="509" y="1020"/>
                      </a:lnTo>
                      <a:lnTo>
                        <a:pt x="371" y="890"/>
                      </a:lnTo>
                      <a:lnTo>
                        <a:pt x="231" y="770"/>
                      </a:lnTo>
                      <a:lnTo>
                        <a:pt x="167" y="640"/>
                      </a:lnTo>
                      <a:lnTo>
                        <a:pt x="139" y="437"/>
                      </a:lnTo>
                      <a:lnTo>
                        <a:pt x="296" y="382"/>
                      </a:lnTo>
                      <a:lnTo>
                        <a:pt x="547" y="353"/>
                      </a:lnTo>
                      <a:lnTo>
                        <a:pt x="648" y="362"/>
                      </a:lnTo>
                      <a:lnTo>
                        <a:pt x="676" y="391"/>
                      </a:lnTo>
                      <a:lnTo>
                        <a:pt x="722" y="344"/>
                      </a:lnTo>
                      <a:lnTo>
                        <a:pt x="704" y="298"/>
                      </a:lnTo>
                      <a:lnTo>
                        <a:pt x="750" y="177"/>
                      </a:lnTo>
                      <a:lnTo>
                        <a:pt x="768" y="131"/>
                      </a:lnTo>
                      <a:lnTo>
                        <a:pt x="806" y="57"/>
                      </a:lnTo>
                      <a:lnTo>
                        <a:pt x="843" y="57"/>
                      </a:lnTo>
                      <a:lnTo>
                        <a:pt x="843" y="20"/>
                      </a:lnTo>
                      <a:lnTo>
                        <a:pt x="768" y="0"/>
                      </a:lnTo>
                      <a:lnTo>
                        <a:pt x="722" y="84"/>
                      </a:lnTo>
                      <a:lnTo>
                        <a:pt x="658" y="205"/>
                      </a:lnTo>
                      <a:lnTo>
                        <a:pt x="575" y="261"/>
                      </a:lnTo>
                      <a:lnTo>
                        <a:pt x="445" y="279"/>
                      </a:lnTo>
                      <a:lnTo>
                        <a:pt x="213" y="307"/>
                      </a:lnTo>
                      <a:lnTo>
                        <a:pt x="28" y="362"/>
                      </a:lnTo>
                      <a:lnTo>
                        <a:pt x="0" y="409"/>
                      </a:lnTo>
                      <a:lnTo>
                        <a:pt x="18" y="557"/>
                      </a:lnTo>
                      <a:lnTo>
                        <a:pt x="84" y="762"/>
                      </a:lnTo>
                      <a:lnTo>
                        <a:pt x="176" y="927"/>
                      </a:lnTo>
                      <a:lnTo>
                        <a:pt x="268" y="1075"/>
                      </a:lnTo>
                      <a:lnTo>
                        <a:pt x="352" y="1179"/>
                      </a:lnTo>
                      <a:lnTo>
                        <a:pt x="435" y="1252"/>
                      </a:lnTo>
                      <a:lnTo>
                        <a:pt x="518" y="1270"/>
                      </a:lnTo>
                      <a:close/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5" name=""/>
              <p:cNvSpPr/>
              <p:nvPr/>
            </p:nvSpPr>
            <p:spPr>
              <a:xfrm>
                <a:off x="7443720" y="3111480"/>
                <a:ext cx="1141560" cy="56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800" spc="-1" strike="noStrike">
                    <a:solidFill>
                      <a:srgbClr val="ffffff"/>
                    </a:solidFill>
                    <a:latin typeface="Arial Narrow"/>
                  </a:rPr>
                  <a:t>Coa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400800" y="4341960"/>
              <a:ext cx="2604960" cy="1128240"/>
              <a:chOff x="6400800" y="4341960"/>
              <a:chExt cx="2604960" cy="1128240"/>
            </a:xfrm>
          </p:grpSpPr>
          <p:grpSp>
            <p:nvGrpSpPr>
              <p:cNvPr id="327" name=""/>
              <p:cNvGrpSpPr/>
              <p:nvPr/>
            </p:nvGrpSpPr>
            <p:grpSpPr>
              <a:xfrm>
                <a:off x="6400800" y="4341960"/>
                <a:ext cx="1219320" cy="1128240"/>
                <a:chOff x="6400800" y="4341960"/>
                <a:chExt cx="1219320" cy="1128240"/>
              </a:xfrm>
            </p:grpSpPr>
            <p:sp>
              <p:nvSpPr>
                <p:cNvPr id="328" name=""/>
                <p:cNvSpPr/>
                <p:nvPr/>
              </p:nvSpPr>
              <p:spPr>
                <a:xfrm flipH="1">
                  <a:off x="7013880" y="4451040"/>
                  <a:ext cx="535320" cy="873720"/>
                </a:xfrm>
                <a:custGeom>
                  <a:avLst/>
                  <a:gdLst/>
                  <a:ahLst/>
                  <a:rect l="l" t="t" r="r" b="b"/>
                  <a:pathLst>
                    <a:path w="890" h="2854">
                      <a:moveTo>
                        <a:pt x="320" y="1308"/>
                      </a:moveTo>
                      <a:lnTo>
                        <a:pt x="307" y="1199"/>
                      </a:lnTo>
                      <a:lnTo>
                        <a:pt x="277" y="1121"/>
                      </a:lnTo>
                      <a:lnTo>
                        <a:pt x="200" y="993"/>
                      </a:lnTo>
                      <a:lnTo>
                        <a:pt x="149" y="879"/>
                      </a:lnTo>
                      <a:lnTo>
                        <a:pt x="80" y="726"/>
                      </a:lnTo>
                      <a:lnTo>
                        <a:pt x="35" y="576"/>
                      </a:lnTo>
                      <a:lnTo>
                        <a:pt x="0" y="452"/>
                      </a:lnTo>
                      <a:lnTo>
                        <a:pt x="7" y="339"/>
                      </a:lnTo>
                      <a:lnTo>
                        <a:pt x="30" y="218"/>
                      </a:lnTo>
                      <a:lnTo>
                        <a:pt x="67" y="125"/>
                      </a:lnTo>
                      <a:lnTo>
                        <a:pt x="119" y="48"/>
                      </a:lnTo>
                      <a:lnTo>
                        <a:pt x="200" y="0"/>
                      </a:lnTo>
                      <a:lnTo>
                        <a:pt x="515" y="0"/>
                      </a:lnTo>
                      <a:lnTo>
                        <a:pt x="712" y="4"/>
                      </a:lnTo>
                      <a:lnTo>
                        <a:pt x="755" y="85"/>
                      </a:lnTo>
                      <a:lnTo>
                        <a:pt x="795" y="173"/>
                      </a:lnTo>
                      <a:lnTo>
                        <a:pt x="838" y="306"/>
                      </a:lnTo>
                      <a:lnTo>
                        <a:pt x="840" y="412"/>
                      </a:lnTo>
                      <a:lnTo>
                        <a:pt x="823" y="588"/>
                      </a:lnTo>
                      <a:lnTo>
                        <a:pt x="779" y="723"/>
                      </a:lnTo>
                      <a:lnTo>
                        <a:pt x="710" y="867"/>
                      </a:lnTo>
                      <a:lnTo>
                        <a:pt x="650" y="988"/>
                      </a:lnTo>
                      <a:lnTo>
                        <a:pt x="574" y="1114"/>
                      </a:lnTo>
                      <a:lnTo>
                        <a:pt x="537" y="1187"/>
                      </a:lnTo>
                      <a:lnTo>
                        <a:pt x="515" y="1283"/>
                      </a:lnTo>
                      <a:lnTo>
                        <a:pt x="515" y="1377"/>
                      </a:lnTo>
                      <a:lnTo>
                        <a:pt x="525" y="1486"/>
                      </a:lnTo>
                      <a:lnTo>
                        <a:pt x="574" y="1622"/>
                      </a:lnTo>
                      <a:lnTo>
                        <a:pt x="653" y="1768"/>
                      </a:lnTo>
                      <a:lnTo>
                        <a:pt x="725" y="1920"/>
                      </a:lnTo>
                      <a:lnTo>
                        <a:pt x="770" y="2017"/>
                      </a:lnTo>
                      <a:lnTo>
                        <a:pt x="818" y="2126"/>
                      </a:lnTo>
                      <a:lnTo>
                        <a:pt x="868" y="2235"/>
                      </a:lnTo>
                      <a:lnTo>
                        <a:pt x="890" y="2410"/>
                      </a:lnTo>
                      <a:lnTo>
                        <a:pt x="878" y="2519"/>
                      </a:lnTo>
                      <a:lnTo>
                        <a:pt x="860" y="2603"/>
                      </a:lnTo>
                      <a:lnTo>
                        <a:pt x="810" y="2695"/>
                      </a:lnTo>
                      <a:lnTo>
                        <a:pt x="755" y="2768"/>
                      </a:lnTo>
                      <a:lnTo>
                        <a:pt x="717" y="2818"/>
                      </a:lnTo>
                      <a:lnTo>
                        <a:pt x="638" y="2833"/>
                      </a:lnTo>
                      <a:lnTo>
                        <a:pt x="589" y="2854"/>
                      </a:lnTo>
                      <a:lnTo>
                        <a:pt x="285" y="2845"/>
                      </a:lnTo>
                      <a:lnTo>
                        <a:pt x="223" y="2792"/>
                      </a:lnTo>
                      <a:lnTo>
                        <a:pt x="102" y="2683"/>
                      </a:lnTo>
                      <a:lnTo>
                        <a:pt x="52" y="2603"/>
                      </a:lnTo>
                      <a:lnTo>
                        <a:pt x="27" y="2543"/>
                      </a:lnTo>
                      <a:lnTo>
                        <a:pt x="15" y="2453"/>
                      </a:lnTo>
                      <a:lnTo>
                        <a:pt x="12" y="2261"/>
                      </a:lnTo>
                      <a:lnTo>
                        <a:pt x="12" y="2119"/>
                      </a:lnTo>
                      <a:lnTo>
                        <a:pt x="35" y="2029"/>
                      </a:lnTo>
                      <a:lnTo>
                        <a:pt x="65" y="1937"/>
                      </a:lnTo>
                      <a:lnTo>
                        <a:pt x="127" y="1828"/>
                      </a:lnTo>
                      <a:lnTo>
                        <a:pt x="172" y="1768"/>
                      </a:lnTo>
                      <a:lnTo>
                        <a:pt x="245" y="1695"/>
                      </a:lnTo>
                      <a:lnTo>
                        <a:pt x="285" y="1622"/>
                      </a:lnTo>
                      <a:lnTo>
                        <a:pt x="300" y="1526"/>
                      </a:lnTo>
                      <a:lnTo>
                        <a:pt x="315" y="1404"/>
                      </a:lnTo>
                      <a:lnTo>
                        <a:pt x="320" y="1283"/>
                      </a:lnTo>
                      <a:lnTo>
                        <a:pt x="320" y="1308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flipH="1">
                  <a:off x="7079400" y="4623120"/>
                  <a:ext cx="428400" cy="702720"/>
                </a:xfrm>
                <a:custGeom>
                  <a:avLst/>
                  <a:gdLst/>
                  <a:ahLst/>
                  <a:rect l="l" t="t" r="r" b="b"/>
                  <a:pathLst>
                    <a:path w="711" h="2297">
                      <a:moveTo>
                        <a:pt x="0" y="81"/>
                      </a:moveTo>
                      <a:lnTo>
                        <a:pt x="50" y="57"/>
                      </a:lnTo>
                      <a:lnTo>
                        <a:pt x="102" y="25"/>
                      </a:lnTo>
                      <a:lnTo>
                        <a:pt x="155" y="0"/>
                      </a:lnTo>
                      <a:lnTo>
                        <a:pt x="207" y="37"/>
                      </a:lnTo>
                      <a:lnTo>
                        <a:pt x="245" y="94"/>
                      </a:lnTo>
                      <a:lnTo>
                        <a:pt x="330" y="106"/>
                      </a:lnTo>
                      <a:lnTo>
                        <a:pt x="417" y="81"/>
                      </a:lnTo>
                      <a:lnTo>
                        <a:pt x="454" y="73"/>
                      </a:lnTo>
                      <a:lnTo>
                        <a:pt x="522" y="118"/>
                      </a:lnTo>
                      <a:lnTo>
                        <a:pt x="604" y="121"/>
                      </a:lnTo>
                      <a:lnTo>
                        <a:pt x="667" y="97"/>
                      </a:lnTo>
                      <a:lnTo>
                        <a:pt x="711" y="94"/>
                      </a:lnTo>
                      <a:lnTo>
                        <a:pt x="709" y="142"/>
                      </a:lnTo>
                      <a:lnTo>
                        <a:pt x="649" y="266"/>
                      </a:lnTo>
                      <a:lnTo>
                        <a:pt x="582" y="387"/>
                      </a:lnTo>
                      <a:lnTo>
                        <a:pt x="499" y="531"/>
                      </a:lnTo>
                      <a:lnTo>
                        <a:pt x="439" y="673"/>
                      </a:lnTo>
                      <a:lnTo>
                        <a:pt x="397" y="785"/>
                      </a:lnTo>
                      <a:lnTo>
                        <a:pt x="387" y="963"/>
                      </a:lnTo>
                      <a:lnTo>
                        <a:pt x="380" y="1265"/>
                      </a:lnTo>
                      <a:lnTo>
                        <a:pt x="390" y="1531"/>
                      </a:lnTo>
                      <a:lnTo>
                        <a:pt x="420" y="1699"/>
                      </a:lnTo>
                      <a:lnTo>
                        <a:pt x="514" y="1872"/>
                      </a:lnTo>
                      <a:lnTo>
                        <a:pt x="612" y="2043"/>
                      </a:lnTo>
                      <a:lnTo>
                        <a:pt x="642" y="2126"/>
                      </a:lnTo>
                      <a:lnTo>
                        <a:pt x="652" y="2207"/>
                      </a:lnTo>
                      <a:lnTo>
                        <a:pt x="592" y="2256"/>
                      </a:lnTo>
                      <a:lnTo>
                        <a:pt x="447" y="2297"/>
                      </a:lnTo>
                      <a:lnTo>
                        <a:pt x="320" y="2292"/>
                      </a:lnTo>
                      <a:lnTo>
                        <a:pt x="230" y="2268"/>
                      </a:lnTo>
                      <a:lnTo>
                        <a:pt x="143" y="2207"/>
                      </a:lnTo>
                      <a:lnTo>
                        <a:pt x="102" y="2171"/>
                      </a:lnTo>
                      <a:lnTo>
                        <a:pt x="148" y="2026"/>
                      </a:lnTo>
                      <a:lnTo>
                        <a:pt x="202" y="1910"/>
                      </a:lnTo>
                      <a:lnTo>
                        <a:pt x="270" y="1777"/>
                      </a:lnTo>
                      <a:lnTo>
                        <a:pt x="314" y="1628"/>
                      </a:lnTo>
                      <a:lnTo>
                        <a:pt x="335" y="1402"/>
                      </a:lnTo>
                      <a:lnTo>
                        <a:pt x="343" y="1168"/>
                      </a:lnTo>
                      <a:lnTo>
                        <a:pt x="328" y="942"/>
                      </a:lnTo>
                      <a:lnTo>
                        <a:pt x="314" y="782"/>
                      </a:lnTo>
                      <a:lnTo>
                        <a:pt x="267" y="641"/>
                      </a:lnTo>
                      <a:lnTo>
                        <a:pt x="193" y="508"/>
                      </a:lnTo>
                      <a:lnTo>
                        <a:pt x="110" y="372"/>
                      </a:lnTo>
                      <a:lnTo>
                        <a:pt x="50" y="218"/>
                      </a:lnTo>
                      <a:lnTo>
                        <a:pt x="0" y="133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H="1">
                  <a:off x="7001640" y="4440240"/>
                  <a:ext cx="559800" cy="894960"/>
                </a:xfrm>
                <a:custGeom>
                  <a:avLst/>
                  <a:gdLst/>
                  <a:ahLst/>
                  <a:rect l="l" t="t" r="r" b="b"/>
                  <a:pathLst>
                    <a:path w="931" h="2923">
                      <a:moveTo>
                        <a:pt x="225" y="2858"/>
                      </a:moveTo>
                      <a:lnTo>
                        <a:pt x="147" y="2791"/>
                      </a:lnTo>
                      <a:lnTo>
                        <a:pt x="80" y="2713"/>
                      </a:lnTo>
                      <a:lnTo>
                        <a:pt x="46" y="2646"/>
                      </a:lnTo>
                      <a:lnTo>
                        <a:pt x="23" y="2556"/>
                      </a:lnTo>
                      <a:lnTo>
                        <a:pt x="13" y="2464"/>
                      </a:lnTo>
                      <a:lnTo>
                        <a:pt x="8" y="2352"/>
                      </a:lnTo>
                      <a:lnTo>
                        <a:pt x="13" y="2219"/>
                      </a:lnTo>
                      <a:lnTo>
                        <a:pt x="21" y="2122"/>
                      </a:lnTo>
                      <a:lnTo>
                        <a:pt x="38" y="2041"/>
                      </a:lnTo>
                      <a:lnTo>
                        <a:pt x="73" y="1953"/>
                      </a:lnTo>
                      <a:lnTo>
                        <a:pt x="112" y="1880"/>
                      </a:lnTo>
                      <a:lnTo>
                        <a:pt x="142" y="1820"/>
                      </a:lnTo>
                      <a:lnTo>
                        <a:pt x="202" y="1751"/>
                      </a:lnTo>
                      <a:lnTo>
                        <a:pt x="252" y="1703"/>
                      </a:lnTo>
                      <a:lnTo>
                        <a:pt x="277" y="1666"/>
                      </a:lnTo>
                      <a:lnTo>
                        <a:pt x="297" y="1606"/>
                      </a:lnTo>
                      <a:lnTo>
                        <a:pt x="311" y="1530"/>
                      </a:lnTo>
                      <a:lnTo>
                        <a:pt x="319" y="1457"/>
                      </a:lnTo>
                      <a:lnTo>
                        <a:pt x="319" y="1385"/>
                      </a:lnTo>
                      <a:lnTo>
                        <a:pt x="319" y="1317"/>
                      </a:lnTo>
                      <a:lnTo>
                        <a:pt x="311" y="1257"/>
                      </a:lnTo>
                      <a:lnTo>
                        <a:pt x="277" y="1172"/>
                      </a:lnTo>
                      <a:lnTo>
                        <a:pt x="237" y="1108"/>
                      </a:lnTo>
                      <a:lnTo>
                        <a:pt x="199" y="1051"/>
                      </a:lnTo>
                      <a:lnTo>
                        <a:pt x="164" y="966"/>
                      </a:lnTo>
                      <a:lnTo>
                        <a:pt x="125" y="878"/>
                      </a:lnTo>
                      <a:lnTo>
                        <a:pt x="75" y="769"/>
                      </a:lnTo>
                      <a:lnTo>
                        <a:pt x="46" y="661"/>
                      </a:lnTo>
                      <a:lnTo>
                        <a:pt x="16" y="555"/>
                      </a:lnTo>
                      <a:lnTo>
                        <a:pt x="0" y="483"/>
                      </a:lnTo>
                      <a:lnTo>
                        <a:pt x="0" y="424"/>
                      </a:lnTo>
                      <a:lnTo>
                        <a:pt x="13" y="367"/>
                      </a:lnTo>
                      <a:lnTo>
                        <a:pt x="28" y="258"/>
                      </a:lnTo>
                      <a:lnTo>
                        <a:pt x="58" y="182"/>
                      </a:lnTo>
                      <a:lnTo>
                        <a:pt x="90" y="125"/>
                      </a:lnTo>
                      <a:lnTo>
                        <a:pt x="125" y="65"/>
                      </a:lnTo>
                      <a:lnTo>
                        <a:pt x="164" y="25"/>
                      </a:lnTo>
                      <a:lnTo>
                        <a:pt x="208" y="4"/>
                      </a:lnTo>
                      <a:lnTo>
                        <a:pt x="311" y="0"/>
                      </a:lnTo>
                      <a:lnTo>
                        <a:pt x="262" y="53"/>
                      </a:lnTo>
                      <a:lnTo>
                        <a:pt x="202" y="85"/>
                      </a:lnTo>
                      <a:lnTo>
                        <a:pt x="140" y="132"/>
                      </a:lnTo>
                      <a:lnTo>
                        <a:pt x="105" y="194"/>
                      </a:lnTo>
                      <a:lnTo>
                        <a:pt x="80" y="253"/>
                      </a:lnTo>
                      <a:lnTo>
                        <a:pt x="65" y="339"/>
                      </a:lnTo>
                      <a:lnTo>
                        <a:pt x="51" y="415"/>
                      </a:lnTo>
                      <a:lnTo>
                        <a:pt x="51" y="495"/>
                      </a:lnTo>
                      <a:lnTo>
                        <a:pt x="80" y="616"/>
                      </a:lnTo>
                      <a:lnTo>
                        <a:pt x="110" y="697"/>
                      </a:lnTo>
                      <a:lnTo>
                        <a:pt x="147" y="794"/>
                      </a:lnTo>
                      <a:lnTo>
                        <a:pt x="177" y="858"/>
                      </a:lnTo>
                      <a:lnTo>
                        <a:pt x="210" y="954"/>
                      </a:lnTo>
                      <a:lnTo>
                        <a:pt x="252" y="1027"/>
                      </a:lnTo>
                      <a:lnTo>
                        <a:pt x="297" y="1099"/>
                      </a:lnTo>
                      <a:lnTo>
                        <a:pt x="326" y="1143"/>
                      </a:lnTo>
                      <a:lnTo>
                        <a:pt x="359" y="1232"/>
                      </a:lnTo>
                      <a:lnTo>
                        <a:pt x="363" y="1305"/>
                      </a:lnTo>
                      <a:lnTo>
                        <a:pt x="366" y="1376"/>
                      </a:lnTo>
                      <a:lnTo>
                        <a:pt x="363" y="1473"/>
                      </a:lnTo>
                      <a:lnTo>
                        <a:pt x="356" y="1547"/>
                      </a:lnTo>
                      <a:lnTo>
                        <a:pt x="341" y="1630"/>
                      </a:lnTo>
                      <a:lnTo>
                        <a:pt x="326" y="1691"/>
                      </a:lnTo>
                      <a:lnTo>
                        <a:pt x="292" y="1747"/>
                      </a:lnTo>
                      <a:lnTo>
                        <a:pt x="259" y="1784"/>
                      </a:lnTo>
                      <a:lnTo>
                        <a:pt x="210" y="1836"/>
                      </a:lnTo>
                      <a:lnTo>
                        <a:pt x="142" y="1920"/>
                      </a:lnTo>
                      <a:lnTo>
                        <a:pt x="110" y="2001"/>
                      </a:lnTo>
                      <a:lnTo>
                        <a:pt x="83" y="2062"/>
                      </a:lnTo>
                      <a:lnTo>
                        <a:pt x="68" y="2122"/>
                      </a:lnTo>
                      <a:lnTo>
                        <a:pt x="58" y="2183"/>
                      </a:lnTo>
                      <a:lnTo>
                        <a:pt x="58" y="2387"/>
                      </a:lnTo>
                      <a:lnTo>
                        <a:pt x="60" y="2475"/>
                      </a:lnTo>
                      <a:lnTo>
                        <a:pt x="68" y="2532"/>
                      </a:lnTo>
                      <a:lnTo>
                        <a:pt x="90" y="2592"/>
                      </a:lnTo>
                      <a:lnTo>
                        <a:pt x="117" y="2653"/>
                      </a:lnTo>
                      <a:lnTo>
                        <a:pt x="157" y="2701"/>
                      </a:lnTo>
                      <a:lnTo>
                        <a:pt x="208" y="2738"/>
                      </a:lnTo>
                      <a:lnTo>
                        <a:pt x="259" y="2791"/>
                      </a:lnTo>
                      <a:lnTo>
                        <a:pt x="304" y="2822"/>
                      </a:lnTo>
                      <a:lnTo>
                        <a:pt x="349" y="2846"/>
                      </a:lnTo>
                      <a:lnTo>
                        <a:pt x="419" y="2850"/>
                      </a:lnTo>
                      <a:lnTo>
                        <a:pt x="560" y="2850"/>
                      </a:lnTo>
                      <a:lnTo>
                        <a:pt x="658" y="2834"/>
                      </a:lnTo>
                      <a:lnTo>
                        <a:pt x="732" y="2803"/>
                      </a:lnTo>
                      <a:lnTo>
                        <a:pt x="767" y="2753"/>
                      </a:lnTo>
                      <a:lnTo>
                        <a:pt x="822" y="2682"/>
                      </a:lnTo>
                      <a:lnTo>
                        <a:pt x="857" y="2617"/>
                      </a:lnTo>
                      <a:lnTo>
                        <a:pt x="879" y="2532"/>
                      </a:lnTo>
                      <a:lnTo>
                        <a:pt x="881" y="2440"/>
                      </a:lnTo>
                      <a:lnTo>
                        <a:pt x="879" y="2375"/>
                      </a:lnTo>
                      <a:lnTo>
                        <a:pt x="859" y="2302"/>
                      </a:lnTo>
                      <a:lnTo>
                        <a:pt x="837" y="2243"/>
                      </a:lnTo>
                      <a:lnTo>
                        <a:pt x="811" y="2162"/>
                      </a:lnTo>
                      <a:lnTo>
                        <a:pt x="759" y="2053"/>
                      </a:lnTo>
                      <a:lnTo>
                        <a:pt x="710" y="1944"/>
                      </a:lnTo>
                      <a:lnTo>
                        <a:pt x="673" y="1860"/>
                      </a:lnTo>
                      <a:lnTo>
                        <a:pt x="621" y="1763"/>
                      </a:lnTo>
                      <a:lnTo>
                        <a:pt x="568" y="1666"/>
                      </a:lnTo>
                      <a:lnTo>
                        <a:pt x="543" y="1594"/>
                      </a:lnTo>
                      <a:lnTo>
                        <a:pt x="523" y="1506"/>
                      </a:lnTo>
                      <a:lnTo>
                        <a:pt x="513" y="1426"/>
                      </a:lnTo>
                      <a:lnTo>
                        <a:pt x="513" y="1361"/>
                      </a:lnTo>
                      <a:lnTo>
                        <a:pt x="520" y="1264"/>
                      </a:lnTo>
                      <a:lnTo>
                        <a:pt x="538" y="1184"/>
                      </a:lnTo>
                      <a:lnTo>
                        <a:pt x="587" y="1099"/>
                      </a:lnTo>
                      <a:lnTo>
                        <a:pt x="643" y="1011"/>
                      </a:lnTo>
                      <a:lnTo>
                        <a:pt x="707" y="882"/>
                      </a:lnTo>
                      <a:lnTo>
                        <a:pt x="752" y="797"/>
                      </a:lnTo>
                      <a:lnTo>
                        <a:pt x="804" y="676"/>
                      </a:lnTo>
                      <a:lnTo>
                        <a:pt x="822" y="564"/>
                      </a:lnTo>
                      <a:lnTo>
                        <a:pt x="829" y="471"/>
                      </a:lnTo>
                      <a:lnTo>
                        <a:pt x="829" y="374"/>
                      </a:lnTo>
                      <a:lnTo>
                        <a:pt x="811" y="282"/>
                      </a:lnTo>
                      <a:lnTo>
                        <a:pt x="781" y="198"/>
                      </a:lnTo>
                      <a:lnTo>
                        <a:pt x="732" y="113"/>
                      </a:lnTo>
                      <a:lnTo>
                        <a:pt x="695" y="85"/>
                      </a:lnTo>
                      <a:lnTo>
                        <a:pt x="643" y="73"/>
                      </a:lnTo>
                      <a:lnTo>
                        <a:pt x="595" y="61"/>
                      </a:lnTo>
                      <a:lnTo>
                        <a:pt x="262" y="61"/>
                      </a:lnTo>
                      <a:lnTo>
                        <a:pt x="304" y="4"/>
                      </a:lnTo>
                      <a:lnTo>
                        <a:pt x="677" y="13"/>
                      </a:lnTo>
                      <a:lnTo>
                        <a:pt x="732" y="25"/>
                      </a:lnTo>
                      <a:lnTo>
                        <a:pt x="762" y="65"/>
                      </a:lnTo>
                      <a:lnTo>
                        <a:pt x="784" y="101"/>
                      </a:lnTo>
                      <a:lnTo>
                        <a:pt x="827" y="173"/>
                      </a:lnTo>
                      <a:lnTo>
                        <a:pt x="844" y="253"/>
                      </a:lnTo>
                      <a:lnTo>
                        <a:pt x="872" y="339"/>
                      </a:lnTo>
                      <a:lnTo>
                        <a:pt x="874" y="436"/>
                      </a:lnTo>
                      <a:lnTo>
                        <a:pt x="874" y="540"/>
                      </a:lnTo>
                      <a:lnTo>
                        <a:pt x="859" y="636"/>
                      </a:lnTo>
                      <a:lnTo>
                        <a:pt x="829" y="733"/>
                      </a:lnTo>
                      <a:lnTo>
                        <a:pt x="791" y="821"/>
                      </a:lnTo>
                      <a:lnTo>
                        <a:pt x="754" y="902"/>
                      </a:lnTo>
                      <a:lnTo>
                        <a:pt x="692" y="1022"/>
                      </a:lnTo>
                      <a:lnTo>
                        <a:pt x="648" y="1108"/>
                      </a:lnTo>
                      <a:lnTo>
                        <a:pt x="590" y="1208"/>
                      </a:lnTo>
                      <a:lnTo>
                        <a:pt x="565" y="1269"/>
                      </a:lnTo>
                      <a:lnTo>
                        <a:pt x="553" y="1341"/>
                      </a:lnTo>
                      <a:lnTo>
                        <a:pt x="550" y="1414"/>
                      </a:lnTo>
                      <a:lnTo>
                        <a:pt x="568" y="1509"/>
                      </a:lnTo>
                      <a:lnTo>
                        <a:pt x="590" y="1582"/>
                      </a:lnTo>
                      <a:lnTo>
                        <a:pt x="650" y="1715"/>
                      </a:lnTo>
                      <a:lnTo>
                        <a:pt x="710" y="1820"/>
                      </a:lnTo>
                      <a:lnTo>
                        <a:pt x="759" y="1932"/>
                      </a:lnTo>
                      <a:lnTo>
                        <a:pt x="820" y="2062"/>
                      </a:lnTo>
                      <a:lnTo>
                        <a:pt x="872" y="2174"/>
                      </a:lnTo>
                      <a:lnTo>
                        <a:pt x="896" y="2247"/>
                      </a:lnTo>
                      <a:lnTo>
                        <a:pt x="911" y="2340"/>
                      </a:lnTo>
                      <a:lnTo>
                        <a:pt x="931" y="2452"/>
                      </a:lnTo>
                      <a:lnTo>
                        <a:pt x="926" y="2537"/>
                      </a:lnTo>
                      <a:lnTo>
                        <a:pt x="911" y="2617"/>
                      </a:lnTo>
                      <a:lnTo>
                        <a:pt x="874" y="2713"/>
                      </a:lnTo>
                      <a:lnTo>
                        <a:pt x="829" y="2791"/>
                      </a:lnTo>
                      <a:lnTo>
                        <a:pt x="767" y="2862"/>
                      </a:lnTo>
                      <a:lnTo>
                        <a:pt x="710" y="2898"/>
                      </a:lnTo>
                      <a:lnTo>
                        <a:pt x="625" y="2910"/>
                      </a:lnTo>
                      <a:lnTo>
                        <a:pt x="486" y="2919"/>
                      </a:lnTo>
                      <a:lnTo>
                        <a:pt x="349" y="2923"/>
                      </a:lnTo>
                      <a:lnTo>
                        <a:pt x="269" y="2898"/>
                      </a:lnTo>
                      <a:lnTo>
                        <a:pt x="225" y="285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H="1">
                  <a:off x="6963840" y="4341960"/>
                  <a:ext cx="650160" cy="123120"/>
                </a:xfrm>
                <a:custGeom>
                  <a:avLst/>
                  <a:gdLst/>
                  <a:ahLst/>
                  <a:rect l="l" t="t" r="r" b="b"/>
                  <a:pathLst>
                    <a:path w="1080" h="402">
                      <a:moveTo>
                        <a:pt x="132" y="0"/>
                      </a:moveTo>
                      <a:lnTo>
                        <a:pt x="109" y="1"/>
                      </a:lnTo>
                      <a:lnTo>
                        <a:pt x="88" y="10"/>
                      </a:lnTo>
                      <a:lnTo>
                        <a:pt x="67" y="24"/>
                      </a:lnTo>
                      <a:lnTo>
                        <a:pt x="48" y="40"/>
                      </a:lnTo>
                      <a:lnTo>
                        <a:pt x="32" y="64"/>
                      </a:lnTo>
                      <a:lnTo>
                        <a:pt x="18" y="91"/>
                      </a:lnTo>
                      <a:lnTo>
                        <a:pt x="9" y="122"/>
                      </a:lnTo>
                      <a:lnTo>
                        <a:pt x="3" y="152"/>
                      </a:lnTo>
                      <a:lnTo>
                        <a:pt x="0" y="185"/>
                      </a:lnTo>
                      <a:lnTo>
                        <a:pt x="0" y="190"/>
                      </a:lnTo>
                      <a:lnTo>
                        <a:pt x="2" y="224"/>
                      </a:lnTo>
                      <a:lnTo>
                        <a:pt x="7" y="254"/>
                      </a:lnTo>
                      <a:lnTo>
                        <a:pt x="16" y="284"/>
                      </a:lnTo>
                      <a:lnTo>
                        <a:pt x="29" y="312"/>
                      </a:lnTo>
                      <a:lnTo>
                        <a:pt x="44" y="334"/>
                      </a:lnTo>
                      <a:lnTo>
                        <a:pt x="63" y="355"/>
                      </a:lnTo>
                      <a:lnTo>
                        <a:pt x="83" y="369"/>
                      </a:lnTo>
                      <a:lnTo>
                        <a:pt x="105" y="376"/>
                      </a:lnTo>
                      <a:lnTo>
                        <a:pt x="128" y="381"/>
                      </a:lnTo>
                      <a:lnTo>
                        <a:pt x="949" y="402"/>
                      </a:lnTo>
                      <a:lnTo>
                        <a:pt x="972" y="400"/>
                      </a:lnTo>
                      <a:lnTo>
                        <a:pt x="993" y="391"/>
                      </a:lnTo>
                      <a:lnTo>
                        <a:pt x="1013" y="378"/>
                      </a:lnTo>
                      <a:lnTo>
                        <a:pt x="1032" y="361"/>
                      </a:lnTo>
                      <a:lnTo>
                        <a:pt x="1048" y="337"/>
                      </a:lnTo>
                      <a:lnTo>
                        <a:pt x="1062" y="311"/>
                      </a:lnTo>
                      <a:lnTo>
                        <a:pt x="1071" y="279"/>
                      </a:lnTo>
                      <a:lnTo>
                        <a:pt x="1077" y="249"/>
                      </a:lnTo>
                      <a:lnTo>
                        <a:pt x="1080" y="216"/>
                      </a:lnTo>
                      <a:lnTo>
                        <a:pt x="1080" y="212"/>
                      </a:lnTo>
                      <a:lnTo>
                        <a:pt x="1078" y="178"/>
                      </a:lnTo>
                      <a:lnTo>
                        <a:pt x="1073" y="148"/>
                      </a:lnTo>
                      <a:lnTo>
                        <a:pt x="1064" y="118"/>
                      </a:lnTo>
                      <a:lnTo>
                        <a:pt x="1051" y="90"/>
                      </a:lnTo>
                      <a:lnTo>
                        <a:pt x="1036" y="67"/>
                      </a:lnTo>
                      <a:lnTo>
                        <a:pt x="1017" y="46"/>
                      </a:lnTo>
                      <a:lnTo>
                        <a:pt x="997" y="33"/>
                      </a:lnTo>
                      <a:lnTo>
                        <a:pt x="976" y="25"/>
                      </a:lnTo>
                      <a:lnTo>
                        <a:pt x="953" y="21"/>
                      </a:lnTo>
                      <a:lnTo>
                        <a:pt x="132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H="1">
                  <a:off x="6966360" y="5309640"/>
                  <a:ext cx="653760" cy="104760"/>
                </a:xfrm>
                <a:prstGeom prst="roundRect">
                  <a:avLst>
                    <a:gd name="adj" fmla="val 49153"/>
                  </a:avLst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3" name=""/>
                <p:cNvGrpSpPr/>
                <p:nvPr/>
              </p:nvGrpSpPr>
              <p:grpSpPr>
                <a:xfrm>
                  <a:off x="6400800" y="4466160"/>
                  <a:ext cx="767520" cy="1004040"/>
                  <a:chOff x="6400800" y="4466160"/>
                  <a:chExt cx="767520" cy="1004040"/>
                </a:xfrm>
              </p:grpSpPr>
              <p:sp>
                <p:nvSpPr>
                  <p:cNvPr id="334" name=""/>
                  <p:cNvSpPr/>
                  <p:nvPr/>
                </p:nvSpPr>
                <p:spPr>
                  <a:xfrm flipH="1">
                    <a:off x="6758280" y="4690080"/>
                    <a:ext cx="277920" cy="2232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731">
                        <a:moveTo>
                          <a:pt x="108" y="490"/>
                        </a:moveTo>
                        <a:lnTo>
                          <a:pt x="99" y="407"/>
                        </a:lnTo>
                        <a:lnTo>
                          <a:pt x="108" y="289"/>
                        </a:lnTo>
                        <a:lnTo>
                          <a:pt x="148" y="171"/>
                        </a:lnTo>
                        <a:lnTo>
                          <a:pt x="211" y="71"/>
                        </a:lnTo>
                        <a:lnTo>
                          <a:pt x="265" y="30"/>
                        </a:lnTo>
                        <a:lnTo>
                          <a:pt x="331" y="0"/>
                        </a:lnTo>
                        <a:lnTo>
                          <a:pt x="383" y="27"/>
                        </a:lnTo>
                        <a:lnTo>
                          <a:pt x="440" y="88"/>
                        </a:lnTo>
                        <a:lnTo>
                          <a:pt x="458" y="166"/>
                        </a:lnTo>
                        <a:lnTo>
                          <a:pt x="461" y="259"/>
                        </a:lnTo>
                        <a:lnTo>
                          <a:pt x="437" y="390"/>
                        </a:lnTo>
                        <a:lnTo>
                          <a:pt x="380" y="525"/>
                        </a:lnTo>
                        <a:lnTo>
                          <a:pt x="307" y="595"/>
                        </a:lnTo>
                        <a:lnTo>
                          <a:pt x="202" y="590"/>
                        </a:lnTo>
                        <a:lnTo>
                          <a:pt x="145" y="569"/>
                        </a:lnTo>
                        <a:lnTo>
                          <a:pt x="51" y="731"/>
                        </a:lnTo>
                        <a:lnTo>
                          <a:pt x="27" y="722"/>
                        </a:lnTo>
                        <a:lnTo>
                          <a:pt x="0" y="683"/>
                        </a:lnTo>
                        <a:lnTo>
                          <a:pt x="123" y="525"/>
                        </a:lnTo>
                        <a:lnTo>
                          <a:pt x="108" y="49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 flipH="1">
                    <a:off x="6525000" y="4769280"/>
                    <a:ext cx="276480" cy="37836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235">
                        <a:moveTo>
                          <a:pt x="12" y="0"/>
                        </a:moveTo>
                        <a:lnTo>
                          <a:pt x="111" y="17"/>
                        </a:lnTo>
                        <a:lnTo>
                          <a:pt x="181" y="52"/>
                        </a:lnTo>
                        <a:lnTo>
                          <a:pt x="244" y="118"/>
                        </a:lnTo>
                        <a:lnTo>
                          <a:pt x="298" y="209"/>
                        </a:lnTo>
                        <a:lnTo>
                          <a:pt x="346" y="306"/>
                        </a:lnTo>
                        <a:lnTo>
                          <a:pt x="383" y="420"/>
                        </a:lnTo>
                        <a:lnTo>
                          <a:pt x="419" y="569"/>
                        </a:lnTo>
                        <a:lnTo>
                          <a:pt x="446" y="735"/>
                        </a:lnTo>
                        <a:lnTo>
                          <a:pt x="461" y="898"/>
                        </a:lnTo>
                        <a:lnTo>
                          <a:pt x="461" y="998"/>
                        </a:lnTo>
                        <a:lnTo>
                          <a:pt x="455" y="1104"/>
                        </a:lnTo>
                        <a:lnTo>
                          <a:pt x="425" y="1181"/>
                        </a:lnTo>
                        <a:lnTo>
                          <a:pt x="355" y="1226"/>
                        </a:lnTo>
                        <a:lnTo>
                          <a:pt x="289" y="1235"/>
                        </a:lnTo>
                        <a:lnTo>
                          <a:pt x="226" y="1195"/>
                        </a:lnTo>
                        <a:lnTo>
                          <a:pt x="156" y="1095"/>
                        </a:lnTo>
                        <a:lnTo>
                          <a:pt x="129" y="963"/>
                        </a:lnTo>
                        <a:lnTo>
                          <a:pt x="126" y="775"/>
                        </a:lnTo>
                        <a:lnTo>
                          <a:pt x="138" y="660"/>
                        </a:lnTo>
                        <a:lnTo>
                          <a:pt x="166" y="529"/>
                        </a:lnTo>
                        <a:lnTo>
                          <a:pt x="166" y="372"/>
                        </a:lnTo>
                        <a:lnTo>
                          <a:pt x="138" y="275"/>
                        </a:lnTo>
                        <a:lnTo>
                          <a:pt x="90" y="200"/>
                        </a:lnTo>
                        <a:lnTo>
                          <a:pt x="12" y="162"/>
                        </a:lnTo>
                        <a:lnTo>
                          <a:pt x="0" y="91"/>
                        </a:lnTo>
                        <a:lnTo>
                          <a:pt x="9" y="39"/>
                        </a:lnTo>
                        <a:lnTo>
                          <a:pt x="36" y="12"/>
                        </a:lnTo>
                        <a:lnTo>
                          <a:pt x="48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 flipH="1">
                    <a:off x="6736320" y="4466160"/>
                    <a:ext cx="39348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655" h="1037">
                        <a:moveTo>
                          <a:pt x="646" y="1020"/>
                        </a:moveTo>
                        <a:lnTo>
                          <a:pt x="573" y="1037"/>
                        </a:lnTo>
                        <a:lnTo>
                          <a:pt x="491" y="959"/>
                        </a:lnTo>
                        <a:lnTo>
                          <a:pt x="391" y="853"/>
                        </a:lnTo>
                        <a:lnTo>
                          <a:pt x="282" y="666"/>
                        </a:lnTo>
                        <a:lnTo>
                          <a:pt x="212" y="487"/>
                        </a:lnTo>
                        <a:lnTo>
                          <a:pt x="158" y="333"/>
                        </a:lnTo>
                        <a:lnTo>
                          <a:pt x="137" y="215"/>
                        </a:lnTo>
                        <a:lnTo>
                          <a:pt x="91" y="111"/>
                        </a:lnTo>
                        <a:lnTo>
                          <a:pt x="18" y="58"/>
                        </a:lnTo>
                        <a:lnTo>
                          <a:pt x="0" y="18"/>
                        </a:lnTo>
                        <a:lnTo>
                          <a:pt x="27" y="0"/>
                        </a:lnTo>
                        <a:lnTo>
                          <a:pt x="91" y="14"/>
                        </a:lnTo>
                        <a:lnTo>
                          <a:pt x="128" y="58"/>
                        </a:lnTo>
                        <a:lnTo>
                          <a:pt x="173" y="120"/>
                        </a:lnTo>
                        <a:lnTo>
                          <a:pt x="191" y="188"/>
                        </a:lnTo>
                        <a:lnTo>
                          <a:pt x="185" y="254"/>
                        </a:lnTo>
                        <a:lnTo>
                          <a:pt x="185" y="294"/>
                        </a:lnTo>
                        <a:lnTo>
                          <a:pt x="218" y="394"/>
                        </a:lnTo>
                        <a:lnTo>
                          <a:pt x="255" y="494"/>
                        </a:lnTo>
                        <a:lnTo>
                          <a:pt x="301" y="578"/>
                        </a:lnTo>
                        <a:lnTo>
                          <a:pt x="355" y="653"/>
                        </a:lnTo>
                        <a:lnTo>
                          <a:pt x="419" y="744"/>
                        </a:lnTo>
                        <a:lnTo>
                          <a:pt x="510" y="810"/>
                        </a:lnTo>
                        <a:lnTo>
                          <a:pt x="573" y="875"/>
                        </a:lnTo>
                        <a:lnTo>
                          <a:pt x="619" y="928"/>
                        </a:lnTo>
                        <a:lnTo>
                          <a:pt x="655" y="993"/>
                        </a:lnTo>
                        <a:lnTo>
                          <a:pt x="646" y="102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H="1">
                    <a:off x="6724080" y="4807080"/>
                    <a:ext cx="443880" cy="372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7" h="1219">
                        <a:moveTo>
                          <a:pt x="653" y="211"/>
                        </a:moveTo>
                        <a:lnTo>
                          <a:pt x="638" y="145"/>
                        </a:lnTo>
                        <a:lnTo>
                          <a:pt x="635" y="41"/>
                        </a:lnTo>
                        <a:lnTo>
                          <a:pt x="665" y="0"/>
                        </a:lnTo>
                        <a:lnTo>
                          <a:pt x="716" y="18"/>
                        </a:lnTo>
                        <a:lnTo>
                          <a:pt x="737" y="97"/>
                        </a:lnTo>
                        <a:lnTo>
                          <a:pt x="737" y="188"/>
                        </a:lnTo>
                        <a:lnTo>
                          <a:pt x="728" y="372"/>
                        </a:lnTo>
                        <a:lnTo>
                          <a:pt x="707" y="538"/>
                        </a:lnTo>
                        <a:lnTo>
                          <a:pt x="662" y="695"/>
                        </a:lnTo>
                        <a:lnTo>
                          <a:pt x="537" y="826"/>
                        </a:lnTo>
                        <a:lnTo>
                          <a:pt x="390" y="883"/>
                        </a:lnTo>
                        <a:lnTo>
                          <a:pt x="245" y="931"/>
                        </a:lnTo>
                        <a:lnTo>
                          <a:pt x="172" y="975"/>
                        </a:lnTo>
                        <a:lnTo>
                          <a:pt x="163" y="1075"/>
                        </a:lnTo>
                        <a:lnTo>
                          <a:pt x="172" y="1198"/>
                        </a:lnTo>
                        <a:lnTo>
                          <a:pt x="144" y="1219"/>
                        </a:lnTo>
                        <a:lnTo>
                          <a:pt x="135" y="1093"/>
                        </a:lnTo>
                        <a:lnTo>
                          <a:pt x="120" y="1089"/>
                        </a:lnTo>
                        <a:lnTo>
                          <a:pt x="66" y="1207"/>
                        </a:lnTo>
                        <a:lnTo>
                          <a:pt x="54" y="1171"/>
                        </a:lnTo>
                        <a:lnTo>
                          <a:pt x="75" y="1105"/>
                        </a:lnTo>
                        <a:lnTo>
                          <a:pt x="102" y="1041"/>
                        </a:lnTo>
                        <a:lnTo>
                          <a:pt x="99" y="1028"/>
                        </a:lnTo>
                        <a:lnTo>
                          <a:pt x="3" y="1041"/>
                        </a:lnTo>
                        <a:lnTo>
                          <a:pt x="0" y="1014"/>
                        </a:lnTo>
                        <a:lnTo>
                          <a:pt x="3" y="1001"/>
                        </a:lnTo>
                        <a:lnTo>
                          <a:pt x="93" y="984"/>
                        </a:lnTo>
                        <a:lnTo>
                          <a:pt x="102" y="962"/>
                        </a:lnTo>
                        <a:lnTo>
                          <a:pt x="30" y="892"/>
                        </a:lnTo>
                        <a:lnTo>
                          <a:pt x="30" y="878"/>
                        </a:lnTo>
                        <a:lnTo>
                          <a:pt x="54" y="866"/>
                        </a:lnTo>
                        <a:lnTo>
                          <a:pt x="111" y="923"/>
                        </a:lnTo>
                        <a:lnTo>
                          <a:pt x="163" y="923"/>
                        </a:lnTo>
                        <a:lnTo>
                          <a:pt x="239" y="878"/>
                        </a:lnTo>
                        <a:lnTo>
                          <a:pt x="347" y="853"/>
                        </a:lnTo>
                        <a:lnTo>
                          <a:pt x="480" y="801"/>
                        </a:lnTo>
                        <a:lnTo>
                          <a:pt x="562" y="712"/>
                        </a:lnTo>
                        <a:lnTo>
                          <a:pt x="611" y="621"/>
                        </a:lnTo>
                        <a:lnTo>
                          <a:pt x="644" y="463"/>
                        </a:lnTo>
                        <a:lnTo>
                          <a:pt x="653" y="306"/>
                        </a:lnTo>
                        <a:lnTo>
                          <a:pt x="653" y="175"/>
                        </a:lnTo>
                        <a:lnTo>
                          <a:pt x="647" y="163"/>
                        </a:lnTo>
                        <a:lnTo>
                          <a:pt x="653" y="211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flipH="1">
                    <a:off x="6400440" y="5055840"/>
                    <a:ext cx="219960" cy="41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66" h="1353">
                        <a:moveTo>
                          <a:pt x="30" y="193"/>
                        </a:moveTo>
                        <a:lnTo>
                          <a:pt x="0" y="66"/>
                        </a:lnTo>
                        <a:lnTo>
                          <a:pt x="39" y="0"/>
                        </a:lnTo>
                        <a:lnTo>
                          <a:pt x="94" y="13"/>
                        </a:lnTo>
                        <a:lnTo>
                          <a:pt x="181" y="158"/>
                        </a:lnTo>
                        <a:lnTo>
                          <a:pt x="253" y="324"/>
                        </a:lnTo>
                        <a:lnTo>
                          <a:pt x="302" y="469"/>
                        </a:lnTo>
                        <a:lnTo>
                          <a:pt x="320" y="566"/>
                        </a:lnTo>
                        <a:lnTo>
                          <a:pt x="317" y="657"/>
                        </a:lnTo>
                        <a:lnTo>
                          <a:pt x="272" y="836"/>
                        </a:lnTo>
                        <a:lnTo>
                          <a:pt x="217" y="947"/>
                        </a:lnTo>
                        <a:lnTo>
                          <a:pt x="190" y="1033"/>
                        </a:lnTo>
                        <a:lnTo>
                          <a:pt x="181" y="1126"/>
                        </a:lnTo>
                        <a:lnTo>
                          <a:pt x="217" y="1153"/>
                        </a:lnTo>
                        <a:lnTo>
                          <a:pt x="329" y="1210"/>
                        </a:lnTo>
                        <a:lnTo>
                          <a:pt x="366" y="1275"/>
                        </a:lnTo>
                        <a:lnTo>
                          <a:pt x="353" y="1323"/>
                        </a:lnTo>
                        <a:lnTo>
                          <a:pt x="320" y="1353"/>
                        </a:lnTo>
                        <a:lnTo>
                          <a:pt x="290" y="1301"/>
                        </a:lnTo>
                        <a:lnTo>
                          <a:pt x="244" y="1257"/>
                        </a:lnTo>
                        <a:lnTo>
                          <a:pt x="184" y="1196"/>
                        </a:lnTo>
                        <a:lnTo>
                          <a:pt x="127" y="1178"/>
                        </a:lnTo>
                        <a:lnTo>
                          <a:pt x="94" y="1165"/>
                        </a:lnTo>
                        <a:lnTo>
                          <a:pt x="94" y="1113"/>
                        </a:lnTo>
                        <a:lnTo>
                          <a:pt x="136" y="1051"/>
                        </a:lnTo>
                        <a:lnTo>
                          <a:pt x="175" y="906"/>
                        </a:lnTo>
                        <a:lnTo>
                          <a:pt x="217" y="802"/>
                        </a:lnTo>
                        <a:lnTo>
                          <a:pt x="244" y="693"/>
                        </a:lnTo>
                        <a:lnTo>
                          <a:pt x="247" y="605"/>
                        </a:lnTo>
                        <a:lnTo>
                          <a:pt x="238" y="535"/>
                        </a:lnTo>
                        <a:lnTo>
                          <a:pt x="193" y="408"/>
                        </a:lnTo>
                        <a:lnTo>
                          <a:pt x="136" y="317"/>
                        </a:lnTo>
                        <a:lnTo>
                          <a:pt x="100" y="258"/>
                        </a:lnTo>
                        <a:lnTo>
                          <a:pt x="30" y="193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flipH="1">
                    <a:off x="6643080" y="5075280"/>
                    <a:ext cx="217440" cy="351000"/>
                  </a:xfrm>
                  <a:custGeom>
                    <a:avLst/>
                    <a:gdLst/>
                    <a:ahLst/>
                    <a:rect l="l" t="t" r="r" b="b"/>
                    <a:pathLst>
                      <a:path w="362" h="1145">
                        <a:moveTo>
                          <a:pt x="190" y="236"/>
                        </a:moveTo>
                        <a:lnTo>
                          <a:pt x="244" y="91"/>
                        </a:lnTo>
                        <a:lnTo>
                          <a:pt x="299" y="0"/>
                        </a:lnTo>
                        <a:lnTo>
                          <a:pt x="332" y="0"/>
                        </a:lnTo>
                        <a:lnTo>
                          <a:pt x="362" y="25"/>
                        </a:lnTo>
                        <a:lnTo>
                          <a:pt x="359" y="109"/>
                        </a:lnTo>
                        <a:lnTo>
                          <a:pt x="323" y="186"/>
                        </a:lnTo>
                        <a:lnTo>
                          <a:pt x="269" y="261"/>
                        </a:lnTo>
                        <a:lnTo>
                          <a:pt x="235" y="397"/>
                        </a:lnTo>
                        <a:lnTo>
                          <a:pt x="223" y="449"/>
                        </a:lnTo>
                        <a:lnTo>
                          <a:pt x="226" y="554"/>
                        </a:lnTo>
                        <a:lnTo>
                          <a:pt x="281" y="760"/>
                        </a:lnTo>
                        <a:lnTo>
                          <a:pt x="323" y="944"/>
                        </a:lnTo>
                        <a:lnTo>
                          <a:pt x="359" y="1026"/>
                        </a:lnTo>
                        <a:lnTo>
                          <a:pt x="353" y="1087"/>
                        </a:lnTo>
                        <a:lnTo>
                          <a:pt x="317" y="1100"/>
                        </a:lnTo>
                        <a:lnTo>
                          <a:pt x="235" y="1079"/>
                        </a:lnTo>
                        <a:lnTo>
                          <a:pt x="196" y="1079"/>
                        </a:lnTo>
                        <a:lnTo>
                          <a:pt x="133" y="1118"/>
                        </a:lnTo>
                        <a:lnTo>
                          <a:pt x="70" y="1145"/>
                        </a:lnTo>
                        <a:lnTo>
                          <a:pt x="33" y="1132"/>
                        </a:lnTo>
                        <a:lnTo>
                          <a:pt x="0" y="1079"/>
                        </a:lnTo>
                        <a:lnTo>
                          <a:pt x="70" y="1048"/>
                        </a:lnTo>
                        <a:lnTo>
                          <a:pt x="145" y="1026"/>
                        </a:lnTo>
                        <a:lnTo>
                          <a:pt x="223" y="1026"/>
                        </a:lnTo>
                        <a:lnTo>
                          <a:pt x="269" y="1035"/>
                        </a:lnTo>
                        <a:lnTo>
                          <a:pt x="296" y="1035"/>
                        </a:lnTo>
                        <a:lnTo>
                          <a:pt x="290" y="982"/>
                        </a:lnTo>
                        <a:lnTo>
                          <a:pt x="241" y="803"/>
                        </a:lnTo>
                        <a:lnTo>
                          <a:pt x="196" y="619"/>
                        </a:lnTo>
                        <a:lnTo>
                          <a:pt x="178" y="515"/>
                        </a:lnTo>
                        <a:lnTo>
                          <a:pt x="172" y="397"/>
                        </a:lnTo>
                        <a:lnTo>
                          <a:pt x="178" y="313"/>
                        </a:lnTo>
                        <a:lnTo>
                          <a:pt x="190" y="236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40" name=""/>
              <p:cNvSpPr/>
              <p:nvPr/>
            </p:nvSpPr>
            <p:spPr>
              <a:xfrm>
                <a:off x="7581960" y="4565880"/>
                <a:ext cx="1423800" cy="56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800" spc="-1" strike="noStrike">
                    <a:solidFill>
                      <a:srgbClr val="ffffff"/>
                    </a:solidFill>
                    <a:latin typeface="Arial Narrow"/>
                  </a:rPr>
                  <a:t>Tracker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6699240" y="1295280"/>
              <a:ext cx="2368440" cy="1369800"/>
              <a:chOff x="6699240" y="1295280"/>
              <a:chExt cx="2368440" cy="1369800"/>
            </a:xfrm>
          </p:grpSpPr>
          <p:pic>
            <p:nvPicPr>
              <p:cNvPr id="34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699240" y="1295280"/>
                <a:ext cx="1720800" cy="136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3" name=""/>
              <p:cNvSpPr/>
              <p:nvPr/>
            </p:nvSpPr>
            <p:spPr>
              <a:xfrm>
                <a:off x="7912080" y="1968120"/>
                <a:ext cx="1155600" cy="56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800" spc="-1" strike="noStrike">
                    <a:solidFill>
                      <a:srgbClr val="ffffff"/>
                    </a:solidFill>
                    <a:latin typeface="Arial Narrow"/>
                  </a:rPr>
                  <a:t>Tester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4" name=""/>
          <p:cNvGrpSpPr/>
          <p:nvPr/>
        </p:nvGrpSpPr>
        <p:grpSpPr>
          <a:xfrm>
            <a:off x="762120" y="3886200"/>
            <a:ext cx="4571640" cy="1599480"/>
            <a:chOff x="762120" y="3886200"/>
            <a:chExt cx="4571640" cy="1599480"/>
          </a:xfrm>
        </p:grpSpPr>
        <p:grpSp>
          <p:nvGrpSpPr>
            <p:cNvPr id="345" name=""/>
            <p:cNvGrpSpPr/>
            <p:nvPr/>
          </p:nvGrpSpPr>
          <p:grpSpPr>
            <a:xfrm>
              <a:off x="1689120" y="3963600"/>
              <a:ext cx="600480" cy="1464840"/>
              <a:chOff x="1689120" y="3963600"/>
              <a:chExt cx="600480" cy="1464840"/>
            </a:xfrm>
          </p:grpSpPr>
          <p:sp>
            <p:nvSpPr>
              <p:cNvPr id="346" name=""/>
              <p:cNvSpPr/>
              <p:nvPr/>
            </p:nvSpPr>
            <p:spPr>
              <a:xfrm>
                <a:off x="1866600" y="3963600"/>
                <a:ext cx="387000" cy="316440"/>
              </a:xfrm>
              <a:custGeom>
                <a:avLst/>
                <a:gdLst/>
                <a:ahLst/>
                <a:rect l="l" t="t" r="r" b="b"/>
                <a:pathLst>
                  <a:path w="431" h="811">
                    <a:moveTo>
                      <a:pt x="0" y="342"/>
                    </a:moveTo>
                    <a:lnTo>
                      <a:pt x="31" y="175"/>
                    </a:lnTo>
                    <a:lnTo>
                      <a:pt x="72" y="91"/>
                    </a:lnTo>
                    <a:lnTo>
                      <a:pt x="124" y="30"/>
                    </a:lnTo>
                    <a:lnTo>
                      <a:pt x="176" y="0"/>
                    </a:lnTo>
                    <a:lnTo>
                      <a:pt x="244" y="9"/>
                    </a:lnTo>
                    <a:lnTo>
                      <a:pt x="288" y="76"/>
                    </a:lnTo>
                    <a:lnTo>
                      <a:pt x="329" y="196"/>
                    </a:lnTo>
                    <a:lnTo>
                      <a:pt x="346" y="357"/>
                    </a:lnTo>
                    <a:lnTo>
                      <a:pt x="346" y="539"/>
                    </a:lnTo>
                    <a:lnTo>
                      <a:pt x="428" y="664"/>
                    </a:lnTo>
                    <a:lnTo>
                      <a:pt x="431" y="721"/>
                    </a:lnTo>
                    <a:lnTo>
                      <a:pt x="418" y="725"/>
                    </a:lnTo>
                    <a:lnTo>
                      <a:pt x="339" y="614"/>
                    </a:lnTo>
                    <a:lnTo>
                      <a:pt x="316" y="695"/>
                    </a:lnTo>
                    <a:lnTo>
                      <a:pt x="268" y="765"/>
                    </a:lnTo>
                    <a:lnTo>
                      <a:pt x="223" y="801"/>
                    </a:lnTo>
                    <a:lnTo>
                      <a:pt x="151" y="811"/>
                    </a:lnTo>
                    <a:lnTo>
                      <a:pt x="59" y="755"/>
                    </a:lnTo>
                    <a:lnTo>
                      <a:pt x="17" y="634"/>
                    </a:lnTo>
                    <a:lnTo>
                      <a:pt x="0" y="514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827360" y="4304520"/>
                <a:ext cx="345960" cy="510120"/>
              </a:xfrm>
              <a:custGeom>
                <a:avLst/>
                <a:gdLst/>
                <a:ahLst/>
                <a:rect l="l" t="t" r="r" b="b"/>
                <a:pathLst>
                  <a:path w="385" h="1306">
                    <a:moveTo>
                      <a:pt x="56" y="85"/>
                    </a:moveTo>
                    <a:lnTo>
                      <a:pt x="104" y="30"/>
                    </a:lnTo>
                    <a:lnTo>
                      <a:pt x="159" y="9"/>
                    </a:lnTo>
                    <a:lnTo>
                      <a:pt x="210" y="0"/>
                    </a:lnTo>
                    <a:lnTo>
                      <a:pt x="279" y="15"/>
                    </a:lnTo>
                    <a:lnTo>
                      <a:pt x="355" y="85"/>
                    </a:lnTo>
                    <a:lnTo>
                      <a:pt x="385" y="210"/>
                    </a:lnTo>
                    <a:lnTo>
                      <a:pt x="385" y="401"/>
                    </a:lnTo>
                    <a:lnTo>
                      <a:pt x="382" y="583"/>
                    </a:lnTo>
                    <a:lnTo>
                      <a:pt x="344" y="859"/>
                    </a:lnTo>
                    <a:lnTo>
                      <a:pt x="313" y="1085"/>
                    </a:lnTo>
                    <a:lnTo>
                      <a:pt x="279" y="1230"/>
                    </a:lnTo>
                    <a:lnTo>
                      <a:pt x="207" y="1306"/>
                    </a:lnTo>
                    <a:lnTo>
                      <a:pt x="104" y="1290"/>
                    </a:lnTo>
                    <a:lnTo>
                      <a:pt x="52" y="1175"/>
                    </a:lnTo>
                    <a:lnTo>
                      <a:pt x="22" y="1004"/>
                    </a:lnTo>
                    <a:lnTo>
                      <a:pt x="4" y="813"/>
                    </a:lnTo>
                    <a:lnTo>
                      <a:pt x="0" y="526"/>
                    </a:lnTo>
                    <a:lnTo>
                      <a:pt x="15" y="325"/>
                    </a:lnTo>
                    <a:lnTo>
                      <a:pt x="35" y="146"/>
                    </a:lnTo>
                    <a:lnTo>
                      <a:pt x="56" y="8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689120" y="4303440"/>
                <a:ext cx="204480" cy="628200"/>
              </a:xfrm>
              <a:custGeom>
                <a:avLst/>
                <a:gdLst/>
                <a:ahLst/>
                <a:rect l="l" t="t" r="r" b="b"/>
                <a:pathLst>
                  <a:path w="226" h="1607">
                    <a:moveTo>
                      <a:pt x="154" y="10"/>
                    </a:moveTo>
                    <a:lnTo>
                      <a:pt x="209" y="0"/>
                    </a:lnTo>
                    <a:lnTo>
                      <a:pt x="226" y="71"/>
                    </a:lnTo>
                    <a:lnTo>
                      <a:pt x="198" y="162"/>
                    </a:lnTo>
                    <a:lnTo>
                      <a:pt x="157" y="211"/>
                    </a:lnTo>
                    <a:lnTo>
                      <a:pt x="123" y="331"/>
                    </a:lnTo>
                    <a:lnTo>
                      <a:pt x="82" y="493"/>
                    </a:lnTo>
                    <a:lnTo>
                      <a:pt x="65" y="643"/>
                    </a:lnTo>
                    <a:lnTo>
                      <a:pt x="55" y="898"/>
                    </a:lnTo>
                    <a:lnTo>
                      <a:pt x="65" y="1139"/>
                    </a:lnTo>
                    <a:lnTo>
                      <a:pt x="85" y="1251"/>
                    </a:lnTo>
                    <a:lnTo>
                      <a:pt x="71" y="1371"/>
                    </a:lnTo>
                    <a:lnTo>
                      <a:pt x="55" y="1462"/>
                    </a:lnTo>
                    <a:lnTo>
                      <a:pt x="61" y="1607"/>
                    </a:lnTo>
                    <a:lnTo>
                      <a:pt x="33" y="1597"/>
                    </a:lnTo>
                    <a:lnTo>
                      <a:pt x="10" y="1476"/>
                    </a:lnTo>
                    <a:lnTo>
                      <a:pt x="0" y="1371"/>
                    </a:lnTo>
                    <a:lnTo>
                      <a:pt x="30" y="1230"/>
                    </a:lnTo>
                    <a:lnTo>
                      <a:pt x="20" y="1099"/>
                    </a:lnTo>
                    <a:lnTo>
                      <a:pt x="10" y="888"/>
                    </a:lnTo>
                    <a:lnTo>
                      <a:pt x="10" y="633"/>
                    </a:lnTo>
                    <a:lnTo>
                      <a:pt x="30" y="362"/>
                    </a:lnTo>
                    <a:lnTo>
                      <a:pt x="65" y="162"/>
                    </a:lnTo>
                    <a:lnTo>
                      <a:pt x="103" y="56"/>
                    </a:lnTo>
                    <a:lnTo>
                      <a:pt x="154" y="1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132280" y="4320000"/>
                <a:ext cx="128880" cy="596520"/>
              </a:xfrm>
              <a:custGeom>
                <a:avLst/>
                <a:gdLst/>
                <a:ahLst/>
                <a:rect l="l" t="t" r="r" b="b"/>
                <a:pathLst>
                  <a:path w="145" h="1528">
                    <a:moveTo>
                      <a:pt x="3" y="5"/>
                    </a:moveTo>
                    <a:lnTo>
                      <a:pt x="62" y="0"/>
                    </a:lnTo>
                    <a:lnTo>
                      <a:pt x="103" y="121"/>
                    </a:lnTo>
                    <a:lnTo>
                      <a:pt x="145" y="452"/>
                    </a:lnTo>
                    <a:lnTo>
                      <a:pt x="145" y="834"/>
                    </a:lnTo>
                    <a:lnTo>
                      <a:pt x="124" y="1161"/>
                    </a:lnTo>
                    <a:lnTo>
                      <a:pt x="145" y="1272"/>
                    </a:lnTo>
                    <a:lnTo>
                      <a:pt x="145" y="1422"/>
                    </a:lnTo>
                    <a:lnTo>
                      <a:pt x="124" y="1528"/>
                    </a:lnTo>
                    <a:lnTo>
                      <a:pt x="97" y="1432"/>
                    </a:lnTo>
                    <a:lnTo>
                      <a:pt x="83" y="1287"/>
                    </a:lnTo>
                    <a:lnTo>
                      <a:pt x="52" y="1175"/>
                    </a:lnTo>
                    <a:lnTo>
                      <a:pt x="87" y="1076"/>
                    </a:lnTo>
                    <a:lnTo>
                      <a:pt x="107" y="834"/>
                    </a:lnTo>
                    <a:lnTo>
                      <a:pt x="107" y="608"/>
                    </a:lnTo>
                    <a:lnTo>
                      <a:pt x="87" y="382"/>
                    </a:lnTo>
                    <a:lnTo>
                      <a:pt x="45" y="216"/>
                    </a:lnTo>
                    <a:lnTo>
                      <a:pt x="0" y="13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828800" y="4712400"/>
                <a:ext cx="290520" cy="716040"/>
              </a:xfrm>
              <a:custGeom>
                <a:avLst/>
                <a:gdLst/>
                <a:ahLst/>
                <a:rect l="l" t="t" r="r" b="b"/>
                <a:pathLst>
                  <a:path w="324" h="1831">
                    <a:moveTo>
                      <a:pt x="32" y="0"/>
                    </a:moveTo>
                    <a:lnTo>
                      <a:pt x="69" y="76"/>
                    </a:lnTo>
                    <a:lnTo>
                      <a:pt x="85" y="153"/>
                    </a:lnTo>
                    <a:lnTo>
                      <a:pt x="100" y="419"/>
                    </a:lnTo>
                    <a:lnTo>
                      <a:pt x="107" y="597"/>
                    </a:lnTo>
                    <a:lnTo>
                      <a:pt x="107" y="902"/>
                    </a:lnTo>
                    <a:lnTo>
                      <a:pt x="105" y="1189"/>
                    </a:lnTo>
                    <a:lnTo>
                      <a:pt x="90" y="1417"/>
                    </a:lnTo>
                    <a:lnTo>
                      <a:pt x="77" y="1487"/>
                    </a:lnTo>
                    <a:lnTo>
                      <a:pt x="157" y="1526"/>
                    </a:lnTo>
                    <a:lnTo>
                      <a:pt x="224" y="1571"/>
                    </a:lnTo>
                    <a:lnTo>
                      <a:pt x="314" y="1666"/>
                    </a:lnTo>
                    <a:lnTo>
                      <a:pt x="324" y="1703"/>
                    </a:lnTo>
                    <a:lnTo>
                      <a:pt x="316" y="1774"/>
                    </a:lnTo>
                    <a:lnTo>
                      <a:pt x="271" y="1831"/>
                    </a:lnTo>
                    <a:lnTo>
                      <a:pt x="254" y="1799"/>
                    </a:lnTo>
                    <a:lnTo>
                      <a:pt x="239" y="1722"/>
                    </a:lnTo>
                    <a:lnTo>
                      <a:pt x="196" y="1660"/>
                    </a:lnTo>
                    <a:lnTo>
                      <a:pt x="122" y="1588"/>
                    </a:lnTo>
                    <a:lnTo>
                      <a:pt x="74" y="1571"/>
                    </a:lnTo>
                    <a:lnTo>
                      <a:pt x="18" y="1571"/>
                    </a:lnTo>
                    <a:lnTo>
                      <a:pt x="18" y="1513"/>
                    </a:lnTo>
                    <a:lnTo>
                      <a:pt x="45" y="1449"/>
                    </a:lnTo>
                    <a:lnTo>
                      <a:pt x="69" y="1245"/>
                    </a:lnTo>
                    <a:lnTo>
                      <a:pt x="77" y="1030"/>
                    </a:lnTo>
                    <a:lnTo>
                      <a:pt x="74" y="840"/>
                    </a:lnTo>
                    <a:lnTo>
                      <a:pt x="69" y="597"/>
                    </a:lnTo>
                    <a:lnTo>
                      <a:pt x="54" y="388"/>
                    </a:lnTo>
                    <a:lnTo>
                      <a:pt x="23" y="235"/>
                    </a:lnTo>
                    <a:lnTo>
                      <a:pt x="0" y="95"/>
                    </a:lnTo>
                    <a:lnTo>
                      <a:pt x="7" y="45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020680" y="4713480"/>
                <a:ext cx="268920" cy="644760"/>
              </a:xfrm>
              <a:custGeom>
                <a:avLst/>
                <a:gdLst/>
                <a:ahLst/>
                <a:rect l="l" t="t" r="r" b="b"/>
                <a:pathLst>
                  <a:path w="298" h="1650">
                    <a:moveTo>
                      <a:pt x="0" y="130"/>
                    </a:moveTo>
                    <a:lnTo>
                      <a:pt x="0" y="25"/>
                    </a:lnTo>
                    <a:lnTo>
                      <a:pt x="30" y="0"/>
                    </a:lnTo>
                    <a:lnTo>
                      <a:pt x="78" y="0"/>
                    </a:lnTo>
                    <a:lnTo>
                      <a:pt x="112" y="60"/>
                    </a:lnTo>
                    <a:lnTo>
                      <a:pt x="119" y="115"/>
                    </a:lnTo>
                    <a:lnTo>
                      <a:pt x="112" y="236"/>
                    </a:lnTo>
                    <a:lnTo>
                      <a:pt x="89" y="386"/>
                    </a:lnTo>
                    <a:lnTo>
                      <a:pt x="78" y="618"/>
                    </a:lnTo>
                    <a:lnTo>
                      <a:pt x="72" y="768"/>
                    </a:lnTo>
                    <a:lnTo>
                      <a:pt x="72" y="793"/>
                    </a:lnTo>
                    <a:lnTo>
                      <a:pt x="82" y="1004"/>
                    </a:lnTo>
                    <a:lnTo>
                      <a:pt x="99" y="1124"/>
                    </a:lnTo>
                    <a:lnTo>
                      <a:pt x="112" y="1219"/>
                    </a:lnTo>
                    <a:lnTo>
                      <a:pt x="109" y="1259"/>
                    </a:lnTo>
                    <a:lnTo>
                      <a:pt x="154" y="1369"/>
                    </a:lnTo>
                    <a:lnTo>
                      <a:pt x="202" y="1439"/>
                    </a:lnTo>
                    <a:lnTo>
                      <a:pt x="253" y="1505"/>
                    </a:lnTo>
                    <a:lnTo>
                      <a:pt x="298" y="1536"/>
                    </a:lnTo>
                    <a:lnTo>
                      <a:pt x="298" y="1591"/>
                    </a:lnTo>
                    <a:lnTo>
                      <a:pt x="274" y="1635"/>
                    </a:lnTo>
                    <a:lnTo>
                      <a:pt x="216" y="1650"/>
                    </a:lnTo>
                    <a:lnTo>
                      <a:pt x="174" y="1621"/>
                    </a:lnTo>
                    <a:lnTo>
                      <a:pt x="174" y="1580"/>
                    </a:lnTo>
                    <a:lnTo>
                      <a:pt x="140" y="1439"/>
                    </a:lnTo>
                    <a:lnTo>
                      <a:pt x="82" y="1365"/>
                    </a:lnTo>
                    <a:lnTo>
                      <a:pt x="40" y="1289"/>
                    </a:lnTo>
                    <a:lnTo>
                      <a:pt x="10" y="1249"/>
                    </a:lnTo>
                    <a:lnTo>
                      <a:pt x="20" y="1199"/>
                    </a:lnTo>
                    <a:lnTo>
                      <a:pt x="37" y="1063"/>
                    </a:lnTo>
                    <a:lnTo>
                      <a:pt x="37" y="808"/>
                    </a:lnTo>
                    <a:lnTo>
                      <a:pt x="30" y="627"/>
                    </a:lnTo>
                    <a:lnTo>
                      <a:pt x="30" y="447"/>
                    </a:lnTo>
                    <a:lnTo>
                      <a:pt x="27" y="251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1143360" y="3927240"/>
              <a:ext cx="497160" cy="1542960"/>
              <a:chOff x="1143360" y="3927240"/>
              <a:chExt cx="497160" cy="1542960"/>
            </a:xfrm>
          </p:grpSpPr>
          <p:sp>
            <p:nvSpPr>
              <p:cNvPr id="353" name=""/>
              <p:cNvSpPr/>
              <p:nvPr/>
            </p:nvSpPr>
            <p:spPr>
              <a:xfrm>
                <a:off x="1289160" y="3927240"/>
                <a:ext cx="325440" cy="330480"/>
              </a:xfrm>
              <a:custGeom>
                <a:avLst/>
                <a:gdLst/>
                <a:ahLst/>
                <a:rect l="l" t="t" r="r" b="b"/>
                <a:pathLst>
                  <a:path w="326" h="662">
                    <a:moveTo>
                      <a:pt x="0" y="280"/>
                    </a:moveTo>
                    <a:lnTo>
                      <a:pt x="23" y="145"/>
                    </a:lnTo>
                    <a:lnTo>
                      <a:pt x="55" y="75"/>
                    </a:lnTo>
                    <a:lnTo>
                      <a:pt x="93" y="24"/>
                    </a:lnTo>
                    <a:lnTo>
                      <a:pt x="132" y="0"/>
                    </a:lnTo>
                    <a:lnTo>
                      <a:pt x="184" y="8"/>
                    </a:lnTo>
                    <a:lnTo>
                      <a:pt x="217" y="61"/>
                    </a:lnTo>
                    <a:lnTo>
                      <a:pt x="249" y="161"/>
                    </a:lnTo>
                    <a:lnTo>
                      <a:pt x="262" y="292"/>
                    </a:lnTo>
                    <a:lnTo>
                      <a:pt x="262" y="440"/>
                    </a:lnTo>
                    <a:lnTo>
                      <a:pt x="324" y="543"/>
                    </a:lnTo>
                    <a:lnTo>
                      <a:pt x="326" y="587"/>
                    </a:lnTo>
                    <a:lnTo>
                      <a:pt x="316" y="592"/>
                    </a:lnTo>
                    <a:lnTo>
                      <a:pt x="257" y="501"/>
                    </a:lnTo>
                    <a:lnTo>
                      <a:pt x="238" y="567"/>
                    </a:lnTo>
                    <a:lnTo>
                      <a:pt x="202" y="624"/>
                    </a:lnTo>
                    <a:lnTo>
                      <a:pt x="168" y="653"/>
                    </a:lnTo>
                    <a:lnTo>
                      <a:pt x="114" y="662"/>
                    </a:lnTo>
                    <a:lnTo>
                      <a:pt x="44" y="616"/>
                    </a:lnTo>
                    <a:lnTo>
                      <a:pt x="13" y="517"/>
                    </a:lnTo>
                    <a:lnTo>
                      <a:pt x="0" y="419"/>
                    </a:lnTo>
                    <a:lnTo>
                      <a:pt x="0" y="28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257480" y="4286160"/>
                <a:ext cx="285120" cy="537840"/>
              </a:xfrm>
              <a:custGeom>
                <a:avLst/>
                <a:gdLst/>
                <a:ahLst/>
                <a:rect l="l" t="t" r="r" b="b"/>
                <a:pathLst>
                  <a:path w="286" h="1074">
                    <a:moveTo>
                      <a:pt x="42" y="69"/>
                    </a:moveTo>
                    <a:lnTo>
                      <a:pt x="77" y="23"/>
                    </a:lnTo>
                    <a:lnTo>
                      <a:pt x="118" y="7"/>
                    </a:lnTo>
                    <a:lnTo>
                      <a:pt x="157" y="0"/>
                    </a:lnTo>
                    <a:lnTo>
                      <a:pt x="207" y="11"/>
                    </a:lnTo>
                    <a:lnTo>
                      <a:pt x="263" y="69"/>
                    </a:lnTo>
                    <a:lnTo>
                      <a:pt x="286" y="172"/>
                    </a:lnTo>
                    <a:lnTo>
                      <a:pt x="286" y="329"/>
                    </a:lnTo>
                    <a:lnTo>
                      <a:pt x="284" y="478"/>
                    </a:lnTo>
                    <a:lnTo>
                      <a:pt x="255" y="705"/>
                    </a:lnTo>
                    <a:lnTo>
                      <a:pt x="233" y="891"/>
                    </a:lnTo>
                    <a:lnTo>
                      <a:pt x="207" y="1011"/>
                    </a:lnTo>
                    <a:lnTo>
                      <a:pt x="154" y="1074"/>
                    </a:lnTo>
                    <a:lnTo>
                      <a:pt x="77" y="1060"/>
                    </a:lnTo>
                    <a:lnTo>
                      <a:pt x="39" y="965"/>
                    </a:lnTo>
                    <a:lnTo>
                      <a:pt x="17" y="826"/>
                    </a:lnTo>
                    <a:lnTo>
                      <a:pt x="3" y="668"/>
                    </a:lnTo>
                    <a:lnTo>
                      <a:pt x="0" y="432"/>
                    </a:lnTo>
                    <a:lnTo>
                      <a:pt x="11" y="267"/>
                    </a:lnTo>
                    <a:lnTo>
                      <a:pt x="27" y="118"/>
                    </a:lnTo>
                    <a:lnTo>
                      <a:pt x="42" y="6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143360" y="4286160"/>
                <a:ext cx="167760" cy="659520"/>
              </a:xfrm>
              <a:custGeom>
                <a:avLst/>
                <a:gdLst/>
                <a:ahLst/>
                <a:rect l="l" t="t" r="r" b="b"/>
                <a:pathLst>
                  <a:path w="168" h="1319">
                    <a:moveTo>
                      <a:pt x="114" y="8"/>
                    </a:moveTo>
                    <a:lnTo>
                      <a:pt x="155" y="0"/>
                    </a:lnTo>
                    <a:lnTo>
                      <a:pt x="168" y="58"/>
                    </a:lnTo>
                    <a:lnTo>
                      <a:pt x="148" y="132"/>
                    </a:lnTo>
                    <a:lnTo>
                      <a:pt x="117" y="173"/>
                    </a:lnTo>
                    <a:lnTo>
                      <a:pt x="92" y="271"/>
                    </a:lnTo>
                    <a:lnTo>
                      <a:pt x="60" y="404"/>
                    </a:lnTo>
                    <a:lnTo>
                      <a:pt x="48" y="527"/>
                    </a:lnTo>
                    <a:lnTo>
                      <a:pt x="40" y="738"/>
                    </a:lnTo>
                    <a:lnTo>
                      <a:pt x="48" y="936"/>
                    </a:lnTo>
                    <a:lnTo>
                      <a:pt x="64" y="1026"/>
                    </a:lnTo>
                    <a:lnTo>
                      <a:pt x="53" y="1126"/>
                    </a:lnTo>
                    <a:lnTo>
                      <a:pt x="40" y="1200"/>
                    </a:lnTo>
                    <a:lnTo>
                      <a:pt x="45" y="1319"/>
                    </a:lnTo>
                    <a:lnTo>
                      <a:pt x="25" y="1310"/>
                    </a:lnTo>
                    <a:lnTo>
                      <a:pt x="8" y="1212"/>
                    </a:lnTo>
                    <a:lnTo>
                      <a:pt x="0" y="1126"/>
                    </a:lnTo>
                    <a:lnTo>
                      <a:pt x="23" y="1010"/>
                    </a:lnTo>
                    <a:lnTo>
                      <a:pt x="15" y="903"/>
                    </a:lnTo>
                    <a:lnTo>
                      <a:pt x="8" y="729"/>
                    </a:lnTo>
                    <a:lnTo>
                      <a:pt x="8" y="520"/>
                    </a:lnTo>
                    <a:lnTo>
                      <a:pt x="23" y="297"/>
                    </a:lnTo>
                    <a:lnTo>
                      <a:pt x="48" y="132"/>
                    </a:lnTo>
                    <a:lnTo>
                      <a:pt x="76" y="46"/>
                    </a:lnTo>
                    <a:lnTo>
                      <a:pt x="114" y="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512720" y="4301280"/>
                <a:ext cx="105840" cy="628200"/>
              </a:xfrm>
              <a:custGeom>
                <a:avLst/>
                <a:gdLst/>
                <a:ahLst/>
                <a:rect l="l" t="t" r="r" b="b"/>
                <a:pathLst>
                  <a:path w="106" h="1253">
                    <a:moveTo>
                      <a:pt x="2" y="3"/>
                    </a:moveTo>
                    <a:lnTo>
                      <a:pt x="46" y="0"/>
                    </a:lnTo>
                    <a:lnTo>
                      <a:pt x="75" y="98"/>
                    </a:lnTo>
                    <a:lnTo>
                      <a:pt x="106" y="370"/>
                    </a:lnTo>
                    <a:lnTo>
                      <a:pt x="106" y="684"/>
                    </a:lnTo>
                    <a:lnTo>
                      <a:pt x="90" y="951"/>
                    </a:lnTo>
                    <a:lnTo>
                      <a:pt x="106" y="1042"/>
                    </a:lnTo>
                    <a:lnTo>
                      <a:pt x="106" y="1165"/>
                    </a:lnTo>
                    <a:lnTo>
                      <a:pt x="90" y="1253"/>
                    </a:lnTo>
                    <a:lnTo>
                      <a:pt x="70" y="1174"/>
                    </a:lnTo>
                    <a:lnTo>
                      <a:pt x="60" y="1054"/>
                    </a:lnTo>
                    <a:lnTo>
                      <a:pt x="38" y="963"/>
                    </a:lnTo>
                    <a:lnTo>
                      <a:pt x="63" y="881"/>
                    </a:lnTo>
                    <a:lnTo>
                      <a:pt x="78" y="684"/>
                    </a:lnTo>
                    <a:lnTo>
                      <a:pt x="78" y="498"/>
                    </a:lnTo>
                    <a:lnTo>
                      <a:pt x="63" y="312"/>
                    </a:lnTo>
                    <a:lnTo>
                      <a:pt x="33" y="177"/>
                    </a:lnTo>
                    <a:lnTo>
                      <a:pt x="0" y="11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259280" y="4716000"/>
                <a:ext cx="239400" cy="754200"/>
              </a:xfrm>
              <a:custGeom>
                <a:avLst/>
                <a:gdLst/>
                <a:ahLst/>
                <a:rect l="l" t="t" r="r" b="b"/>
                <a:pathLst>
                  <a:path w="241" h="1507">
                    <a:moveTo>
                      <a:pt x="24" y="0"/>
                    </a:moveTo>
                    <a:lnTo>
                      <a:pt x="52" y="63"/>
                    </a:lnTo>
                    <a:lnTo>
                      <a:pt x="62" y="127"/>
                    </a:lnTo>
                    <a:lnTo>
                      <a:pt x="73" y="345"/>
                    </a:lnTo>
                    <a:lnTo>
                      <a:pt x="79" y="492"/>
                    </a:lnTo>
                    <a:lnTo>
                      <a:pt x="79" y="743"/>
                    </a:lnTo>
                    <a:lnTo>
                      <a:pt x="77" y="978"/>
                    </a:lnTo>
                    <a:lnTo>
                      <a:pt x="66" y="1167"/>
                    </a:lnTo>
                    <a:lnTo>
                      <a:pt x="57" y="1225"/>
                    </a:lnTo>
                    <a:lnTo>
                      <a:pt x="116" y="1256"/>
                    </a:lnTo>
                    <a:lnTo>
                      <a:pt x="167" y="1293"/>
                    </a:lnTo>
                    <a:lnTo>
                      <a:pt x="233" y="1370"/>
                    </a:lnTo>
                    <a:lnTo>
                      <a:pt x="241" y="1403"/>
                    </a:lnTo>
                    <a:lnTo>
                      <a:pt x="235" y="1459"/>
                    </a:lnTo>
                    <a:lnTo>
                      <a:pt x="201" y="1507"/>
                    </a:lnTo>
                    <a:lnTo>
                      <a:pt x="188" y="1480"/>
                    </a:lnTo>
                    <a:lnTo>
                      <a:pt x="178" y="1418"/>
                    </a:lnTo>
                    <a:lnTo>
                      <a:pt x="147" y="1366"/>
                    </a:lnTo>
                    <a:lnTo>
                      <a:pt x="91" y="1308"/>
                    </a:lnTo>
                    <a:lnTo>
                      <a:pt x="55" y="1293"/>
                    </a:lnTo>
                    <a:lnTo>
                      <a:pt x="12" y="1293"/>
                    </a:lnTo>
                    <a:lnTo>
                      <a:pt x="12" y="1245"/>
                    </a:lnTo>
                    <a:lnTo>
                      <a:pt x="33" y="1193"/>
                    </a:lnTo>
                    <a:lnTo>
                      <a:pt x="52" y="1025"/>
                    </a:lnTo>
                    <a:lnTo>
                      <a:pt x="57" y="847"/>
                    </a:lnTo>
                    <a:lnTo>
                      <a:pt x="55" y="691"/>
                    </a:lnTo>
                    <a:lnTo>
                      <a:pt x="52" y="492"/>
                    </a:lnTo>
                    <a:lnTo>
                      <a:pt x="41" y="320"/>
                    </a:lnTo>
                    <a:lnTo>
                      <a:pt x="17" y="193"/>
                    </a:lnTo>
                    <a:lnTo>
                      <a:pt x="0" y="79"/>
                    </a:lnTo>
                    <a:lnTo>
                      <a:pt x="5" y="3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416960" y="4716000"/>
                <a:ext cx="223560" cy="679320"/>
              </a:xfrm>
              <a:custGeom>
                <a:avLst/>
                <a:gdLst/>
                <a:ahLst/>
                <a:rect l="l" t="t" r="r" b="b"/>
                <a:pathLst>
                  <a:path w="223" h="1355">
                    <a:moveTo>
                      <a:pt x="0" y="107"/>
                    </a:moveTo>
                    <a:lnTo>
                      <a:pt x="0" y="21"/>
                    </a:lnTo>
                    <a:lnTo>
                      <a:pt x="23" y="0"/>
                    </a:lnTo>
                    <a:lnTo>
                      <a:pt x="59" y="0"/>
                    </a:lnTo>
                    <a:lnTo>
                      <a:pt x="85" y="50"/>
                    </a:lnTo>
                    <a:lnTo>
                      <a:pt x="90" y="95"/>
                    </a:lnTo>
                    <a:lnTo>
                      <a:pt x="85" y="194"/>
                    </a:lnTo>
                    <a:lnTo>
                      <a:pt x="67" y="318"/>
                    </a:lnTo>
                    <a:lnTo>
                      <a:pt x="59" y="506"/>
                    </a:lnTo>
                    <a:lnTo>
                      <a:pt x="54" y="631"/>
                    </a:lnTo>
                    <a:lnTo>
                      <a:pt x="54" y="651"/>
                    </a:lnTo>
                    <a:lnTo>
                      <a:pt x="62" y="824"/>
                    </a:lnTo>
                    <a:lnTo>
                      <a:pt x="75" y="922"/>
                    </a:lnTo>
                    <a:lnTo>
                      <a:pt x="85" y="1001"/>
                    </a:lnTo>
                    <a:lnTo>
                      <a:pt x="82" y="1034"/>
                    </a:lnTo>
                    <a:lnTo>
                      <a:pt x="115" y="1125"/>
                    </a:lnTo>
                    <a:lnTo>
                      <a:pt x="151" y="1182"/>
                    </a:lnTo>
                    <a:lnTo>
                      <a:pt x="190" y="1236"/>
                    </a:lnTo>
                    <a:lnTo>
                      <a:pt x="223" y="1261"/>
                    </a:lnTo>
                    <a:lnTo>
                      <a:pt x="223" y="1306"/>
                    </a:lnTo>
                    <a:lnTo>
                      <a:pt x="206" y="1343"/>
                    </a:lnTo>
                    <a:lnTo>
                      <a:pt x="162" y="1355"/>
                    </a:lnTo>
                    <a:lnTo>
                      <a:pt x="131" y="1331"/>
                    </a:lnTo>
                    <a:lnTo>
                      <a:pt x="131" y="1298"/>
                    </a:lnTo>
                    <a:lnTo>
                      <a:pt x="105" y="1182"/>
                    </a:lnTo>
                    <a:lnTo>
                      <a:pt x="62" y="1120"/>
                    </a:lnTo>
                    <a:lnTo>
                      <a:pt x="31" y="1059"/>
                    </a:lnTo>
                    <a:lnTo>
                      <a:pt x="8" y="1026"/>
                    </a:lnTo>
                    <a:lnTo>
                      <a:pt x="15" y="985"/>
                    </a:lnTo>
                    <a:lnTo>
                      <a:pt x="28" y="873"/>
                    </a:lnTo>
                    <a:lnTo>
                      <a:pt x="28" y="664"/>
                    </a:lnTo>
                    <a:lnTo>
                      <a:pt x="23" y="515"/>
                    </a:lnTo>
                    <a:lnTo>
                      <a:pt x="23" y="367"/>
                    </a:lnTo>
                    <a:lnTo>
                      <a:pt x="20" y="206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762120" y="3886200"/>
              <a:ext cx="329040" cy="1566000"/>
              <a:chOff x="762120" y="3886200"/>
              <a:chExt cx="329040" cy="1566000"/>
            </a:xfrm>
          </p:grpSpPr>
          <p:sp>
            <p:nvSpPr>
              <p:cNvPr id="360" name=""/>
              <p:cNvSpPr/>
              <p:nvPr/>
            </p:nvSpPr>
            <p:spPr>
              <a:xfrm>
                <a:off x="857880" y="3886200"/>
                <a:ext cx="215280" cy="338760"/>
              </a:xfrm>
              <a:custGeom>
                <a:avLst/>
                <a:gdLst/>
                <a:ahLst/>
                <a:rect l="l" t="t" r="r" b="b"/>
                <a:pathLst>
                  <a:path w="239" h="547">
                    <a:moveTo>
                      <a:pt x="0" y="232"/>
                    </a:moveTo>
                    <a:lnTo>
                      <a:pt x="18" y="119"/>
                    </a:lnTo>
                    <a:lnTo>
                      <a:pt x="41" y="61"/>
                    </a:lnTo>
                    <a:lnTo>
                      <a:pt x="69" y="21"/>
                    </a:lnTo>
                    <a:lnTo>
                      <a:pt x="98" y="0"/>
                    </a:lnTo>
                    <a:lnTo>
                      <a:pt x="135" y="7"/>
                    </a:lnTo>
                    <a:lnTo>
                      <a:pt x="160" y="50"/>
                    </a:lnTo>
                    <a:lnTo>
                      <a:pt x="183" y="132"/>
                    </a:lnTo>
                    <a:lnTo>
                      <a:pt x="192" y="240"/>
                    </a:lnTo>
                    <a:lnTo>
                      <a:pt x="192" y="364"/>
                    </a:lnTo>
                    <a:lnTo>
                      <a:pt x="238" y="448"/>
                    </a:lnTo>
                    <a:lnTo>
                      <a:pt x="239" y="486"/>
                    </a:lnTo>
                    <a:lnTo>
                      <a:pt x="232" y="489"/>
                    </a:lnTo>
                    <a:lnTo>
                      <a:pt x="188" y="414"/>
                    </a:lnTo>
                    <a:lnTo>
                      <a:pt x="175" y="469"/>
                    </a:lnTo>
                    <a:lnTo>
                      <a:pt x="149" y="517"/>
                    </a:lnTo>
                    <a:lnTo>
                      <a:pt x="124" y="541"/>
                    </a:lnTo>
                    <a:lnTo>
                      <a:pt x="85" y="547"/>
                    </a:lnTo>
                    <a:lnTo>
                      <a:pt x="33" y="509"/>
                    </a:lnTo>
                    <a:lnTo>
                      <a:pt x="10" y="428"/>
                    </a:lnTo>
                    <a:lnTo>
                      <a:pt x="0" y="346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39880" y="4253040"/>
                <a:ext cx="189720" cy="541800"/>
              </a:xfrm>
              <a:custGeom>
                <a:avLst/>
                <a:gdLst/>
                <a:ahLst/>
                <a:rect l="l" t="t" r="r" b="b"/>
                <a:pathLst>
                  <a:path w="209" h="875">
                    <a:moveTo>
                      <a:pt x="29" y="57"/>
                    </a:moveTo>
                    <a:lnTo>
                      <a:pt x="56" y="19"/>
                    </a:lnTo>
                    <a:lnTo>
                      <a:pt x="86" y="6"/>
                    </a:lnTo>
                    <a:lnTo>
                      <a:pt x="114" y="0"/>
                    </a:lnTo>
                    <a:lnTo>
                      <a:pt x="151" y="9"/>
                    </a:lnTo>
                    <a:lnTo>
                      <a:pt x="192" y="57"/>
                    </a:lnTo>
                    <a:lnTo>
                      <a:pt x="209" y="141"/>
                    </a:lnTo>
                    <a:lnTo>
                      <a:pt x="209" y="269"/>
                    </a:lnTo>
                    <a:lnTo>
                      <a:pt x="207" y="389"/>
                    </a:lnTo>
                    <a:lnTo>
                      <a:pt x="187" y="575"/>
                    </a:lnTo>
                    <a:lnTo>
                      <a:pt x="170" y="727"/>
                    </a:lnTo>
                    <a:lnTo>
                      <a:pt x="151" y="825"/>
                    </a:lnTo>
                    <a:lnTo>
                      <a:pt x="112" y="875"/>
                    </a:lnTo>
                    <a:lnTo>
                      <a:pt x="56" y="865"/>
                    </a:lnTo>
                    <a:lnTo>
                      <a:pt x="28" y="788"/>
                    </a:lnTo>
                    <a:lnTo>
                      <a:pt x="11" y="673"/>
                    </a:lnTo>
                    <a:lnTo>
                      <a:pt x="2" y="544"/>
                    </a:lnTo>
                    <a:lnTo>
                      <a:pt x="0" y="352"/>
                    </a:lnTo>
                    <a:lnTo>
                      <a:pt x="7" y="219"/>
                    </a:lnTo>
                    <a:lnTo>
                      <a:pt x="18" y="97"/>
                    </a:lnTo>
                    <a:lnTo>
                      <a:pt x="29" y="5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62120" y="4250880"/>
                <a:ext cx="112320" cy="670320"/>
              </a:xfrm>
              <a:custGeom>
                <a:avLst/>
                <a:gdLst/>
                <a:ahLst/>
                <a:rect l="l" t="t" r="r" b="b"/>
                <a:pathLst>
                  <a:path w="125" h="1080">
                    <a:moveTo>
                      <a:pt x="84" y="7"/>
                    </a:moveTo>
                    <a:lnTo>
                      <a:pt x="114" y="0"/>
                    </a:lnTo>
                    <a:lnTo>
                      <a:pt x="125" y="47"/>
                    </a:lnTo>
                    <a:lnTo>
                      <a:pt x="109" y="108"/>
                    </a:lnTo>
                    <a:lnTo>
                      <a:pt x="86" y="142"/>
                    </a:lnTo>
                    <a:lnTo>
                      <a:pt x="68" y="222"/>
                    </a:lnTo>
                    <a:lnTo>
                      <a:pt x="44" y="331"/>
                    </a:lnTo>
                    <a:lnTo>
                      <a:pt x="35" y="432"/>
                    </a:lnTo>
                    <a:lnTo>
                      <a:pt x="29" y="604"/>
                    </a:lnTo>
                    <a:lnTo>
                      <a:pt x="35" y="766"/>
                    </a:lnTo>
                    <a:lnTo>
                      <a:pt x="46" y="841"/>
                    </a:lnTo>
                    <a:lnTo>
                      <a:pt x="39" y="922"/>
                    </a:lnTo>
                    <a:lnTo>
                      <a:pt x="29" y="983"/>
                    </a:lnTo>
                    <a:lnTo>
                      <a:pt x="33" y="1080"/>
                    </a:lnTo>
                    <a:lnTo>
                      <a:pt x="18" y="1074"/>
                    </a:lnTo>
                    <a:lnTo>
                      <a:pt x="5" y="992"/>
                    </a:lnTo>
                    <a:lnTo>
                      <a:pt x="0" y="922"/>
                    </a:lnTo>
                    <a:lnTo>
                      <a:pt x="16" y="827"/>
                    </a:lnTo>
                    <a:lnTo>
                      <a:pt x="11" y="740"/>
                    </a:lnTo>
                    <a:lnTo>
                      <a:pt x="5" y="598"/>
                    </a:lnTo>
                    <a:lnTo>
                      <a:pt x="5" y="426"/>
                    </a:lnTo>
                    <a:lnTo>
                      <a:pt x="16" y="243"/>
                    </a:lnTo>
                    <a:lnTo>
                      <a:pt x="35" y="108"/>
                    </a:lnTo>
                    <a:lnTo>
                      <a:pt x="56" y="37"/>
                    </a:lnTo>
                    <a:lnTo>
                      <a:pt x="84" y="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008000" y="4269600"/>
                <a:ext cx="70200" cy="633240"/>
              </a:xfrm>
              <a:custGeom>
                <a:avLst/>
                <a:gdLst/>
                <a:ahLst/>
                <a:rect l="l" t="t" r="r" b="b"/>
                <a:pathLst>
                  <a:path w="77" h="1022">
                    <a:moveTo>
                      <a:pt x="2" y="3"/>
                    </a:moveTo>
                    <a:lnTo>
                      <a:pt x="33" y="0"/>
                    </a:lnTo>
                    <a:lnTo>
                      <a:pt x="55" y="80"/>
                    </a:lnTo>
                    <a:lnTo>
                      <a:pt x="77" y="303"/>
                    </a:lnTo>
                    <a:lnTo>
                      <a:pt x="77" y="558"/>
                    </a:lnTo>
                    <a:lnTo>
                      <a:pt x="66" y="777"/>
                    </a:lnTo>
                    <a:lnTo>
                      <a:pt x="77" y="851"/>
                    </a:lnTo>
                    <a:lnTo>
                      <a:pt x="77" y="951"/>
                    </a:lnTo>
                    <a:lnTo>
                      <a:pt x="66" y="1022"/>
                    </a:lnTo>
                    <a:lnTo>
                      <a:pt x="52" y="958"/>
                    </a:lnTo>
                    <a:lnTo>
                      <a:pt x="43" y="860"/>
                    </a:lnTo>
                    <a:lnTo>
                      <a:pt x="27" y="787"/>
                    </a:lnTo>
                    <a:lnTo>
                      <a:pt x="45" y="719"/>
                    </a:lnTo>
                    <a:lnTo>
                      <a:pt x="57" y="558"/>
                    </a:lnTo>
                    <a:lnTo>
                      <a:pt x="57" y="407"/>
                    </a:lnTo>
                    <a:lnTo>
                      <a:pt x="45" y="255"/>
                    </a:lnTo>
                    <a:lnTo>
                      <a:pt x="24" y="144"/>
                    </a:lnTo>
                    <a:lnTo>
                      <a:pt x="0" y="9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39880" y="4686840"/>
                <a:ext cx="159120" cy="765360"/>
              </a:xfrm>
              <a:custGeom>
                <a:avLst/>
                <a:gdLst/>
                <a:ahLst/>
                <a:rect l="l" t="t" r="r" b="b"/>
                <a:pathLst>
                  <a:path w="176" h="1232">
                    <a:moveTo>
                      <a:pt x="17" y="0"/>
                    </a:moveTo>
                    <a:lnTo>
                      <a:pt x="38" y="52"/>
                    </a:lnTo>
                    <a:lnTo>
                      <a:pt x="46" y="104"/>
                    </a:lnTo>
                    <a:lnTo>
                      <a:pt x="54" y="283"/>
                    </a:lnTo>
                    <a:lnTo>
                      <a:pt x="58" y="403"/>
                    </a:lnTo>
                    <a:lnTo>
                      <a:pt x="58" y="608"/>
                    </a:lnTo>
                    <a:lnTo>
                      <a:pt x="56" y="801"/>
                    </a:lnTo>
                    <a:lnTo>
                      <a:pt x="48" y="954"/>
                    </a:lnTo>
                    <a:lnTo>
                      <a:pt x="42" y="1002"/>
                    </a:lnTo>
                    <a:lnTo>
                      <a:pt x="84" y="1027"/>
                    </a:lnTo>
                    <a:lnTo>
                      <a:pt x="121" y="1057"/>
                    </a:lnTo>
                    <a:lnTo>
                      <a:pt x="170" y="1122"/>
                    </a:lnTo>
                    <a:lnTo>
                      <a:pt x="176" y="1147"/>
                    </a:lnTo>
                    <a:lnTo>
                      <a:pt x="172" y="1195"/>
                    </a:lnTo>
                    <a:lnTo>
                      <a:pt x="147" y="1232"/>
                    </a:lnTo>
                    <a:lnTo>
                      <a:pt x="137" y="1211"/>
                    </a:lnTo>
                    <a:lnTo>
                      <a:pt x="129" y="1161"/>
                    </a:lnTo>
                    <a:lnTo>
                      <a:pt x="107" y="1118"/>
                    </a:lnTo>
                    <a:lnTo>
                      <a:pt x="66" y="1070"/>
                    </a:lnTo>
                    <a:lnTo>
                      <a:pt x="40" y="1057"/>
                    </a:lnTo>
                    <a:lnTo>
                      <a:pt x="9" y="1057"/>
                    </a:lnTo>
                    <a:lnTo>
                      <a:pt x="9" y="1020"/>
                    </a:lnTo>
                    <a:lnTo>
                      <a:pt x="23" y="977"/>
                    </a:lnTo>
                    <a:lnTo>
                      <a:pt x="38" y="840"/>
                    </a:lnTo>
                    <a:lnTo>
                      <a:pt x="42" y="694"/>
                    </a:lnTo>
                    <a:lnTo>
                      <a:pt x="40" y="565"/>
                    </a:lnTo>
                    <a:lnTo>
                      <a:pt x="38" y="403"/>
                    </a:lnTo>
                    <a:lnTo>
                      <a:pt x="29" y="262"/>
                    </a:lnTo>
                    <a:lnTo>
                      <a:pt x="11" y="159"/>
                    </a:lnTo>
                    <a:lnTo>
                      <a:pt x="0" y="66"/>
                    </a:lnTo>
                    <a:lnTo>
                      <a:pt x="3" y="3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942840" y="4688640"/>
                <a:ext cx="148320" cy="686880"/>
              </a:xfrm>
              <a:custGeom>
                <a:avLst/>
                <a:gdLst/>
                <a:ahLst/>
                <a:rect l="l" t="t" r="r" b="b"/>
                <a:pathLst>
                  <a:path w="163" h="1106">
                    <a:moveTo>
                      <a:pt x="0" y="88"/>
                    </a:moveTo>
                    <a:lnTo>
                      <a:pt x="0" y="17"/>
                    </a:lnTo>
                    <a:lnTo>
                      <a:pt x="17" y="0"/>
                    </a:lnTo>
                    <a:lnTo>
                      <a:pt x="43" y="0"/>
                    </a:lnTo>
                    <a:lnTo>
                      <a:pt x="62" y="40"/>
                    </a:lnTo>
                    <a:lnTo>
                      <a:pt x="66" y="78"/>
                    </a:lnTo>
                    <a:lnTo>
                      <a:pt x="62" y="158"/>
                    </a:lnTo>
                    <a:lnTo>
                      <a:pt x="49" y="259"/>
                    </a:lnTo>
                    <a:lnTo>
                      <a:pt x="43" y="413"/>
                    </a:lnTo>
                    <a:lnTo>
                      <a:pt x="39" y="514"/>
                    </a:lnTo>
                    <a:lnTo>
                      <a:pt x="39" y="531"/>
                    </a:lnTo>
                    <a:lnTo>
                      <a:pt x="45" y="672"/>
                    </a:lnTo>
                    <a:lnTo>
                      <a:pt x="55" y="754"/>
                    </a:lnTo>
                    <a:lnTo>
                      <a:pt x="62" y="818"/>
                    </a:lnTo>
                    <a:lnTo>
                      <a:pt x="61" y="844"/>
                    </a:lnTo>
                    <a:lnTo>
                      <a:pt x="85" y="917"/>
                    </a:lnTo>
                    <a:lnTo>
                      <a:pt x="111" y="965"/>
                    </a:lnTo>
                    <a:lnTo>
                      <a:pt x="139" y="1009"/>
                    </a:lnTo>
                    <a:lnTo>
                      <a:pt x="163" y="1028"/>
                    </a:lnTo>
                    <a:lnTo>
                      <a:pt x="163" y="1066"/>
                    </a:lnTo>
                    <a:lnTo>
                      <a:pt x="150" y="1095"/>
                    </a:lnTo>
                    <a:lnTo>
                      <a:pt x="118" y="1106"/>
                    </a:lnTo>
                    <a:lnTo>
                      <a:pt x="96" y="1086"/>
                    </a:lnTo>
                    <a:lnTo>
                      <a:pt x="96" y="1058"/>
                    </a:lnTo>
                    <a:lnTo>
                      <a:pt x="77" y="965"/>
                    </a:lnTo>
                    <a:lnTo>
                      <a:pt x="45" y="914"/>
                    </a:lnTo>
                    <a:lnTo>
                      <a:pt x="23" y="864"/>
                    </a:lnTo>
                    <a:lnTo>
                      <a:pt x="6" y="837"/>
                    </a:lnTo>
                    <a:lnTo>
                      <a:pt x="12" y="804"/>
                    </a:lnTo>
                    <a:lnTo>
                      <a:pt x="21" y="714"/>
                    </a:lnTo>
                    <a:lnTo>
                      <a:pt x="21" y="541"/>
                    </a:lnTo>
                    <a:lnTo>
                      <a:pt x="17" y="421"/>
                    </a:lnTo>
                    <a:lnTo>
                      <a:pt x="17" y="299"/>
                    </a:lnTo>
                    <a:lnTo>
                      <a:pt x="15" y="16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2360520" y="3919680"/>
              <a:ext cx="329040" cy="1566000"/>
              <a:chOff x="2360520" y="3919680"/>
              <a:chExt cx="329040" cy="1566000"/>
            </a:xfrm>
          </p:grpSpPr>
          <p:sp>
            <p:nvSpPr>
              <p:cNvPr id="367" name=""/>
              <p:cNvSpPr/>
              <p:nvPr/>
            </p:nvSpPr>
            <p:spPr>
              <a:xfrm>
                <a:off x="2456280" y="3919680"/>
                <a:ext cx="215280" cy="338760"/>
              </a:xfrm>
              <a:custGeom>
                <a:avLst/>
                <a:gdLst/>
                <a:ahLst/>
                <a:rect l="l" t="t" r="r" b="b"/>
                <a:pathLst>
                  <a:path w="239" h="547">
                    <a:moveTo>
                      <a:pt x="0" y="232"/>
                    </a:moveTo>
                    <a:lnTo>
                      <a:pt x="18" y="119"/>
                    </a:lnTo>
                    <a:lnTo>
                      <a:pt x="41" y="61"/>
                    </a:lnTo>
                    <a:lnTo>
                      <a:pt x="69" y="21"/>
                    </a:lnTo>
                    <a:lnTo>
                      <a:pt x="98" y="0"/>
                    </a:lnTo>
                    <a:lnTo>
                      <a:pt x="135" y="7"/>
                    </a:lnTo>
                    <a:lnTo>
                      <a:pt x="160" y="50"/>
                    </a:lnTo>
                    <a:lnTo>
                      <a:pt x="183" y="132"/>
                    </a:lnTo>
                    <a:lnTo>
                      <a:pt x="192" y="240"/>
                    </a:lnTo>
                    <a:lnTo>
                      <a:pt x="192" y="364"/>
                    </a:lnTo>
                    <a:lnTo>
                      <a:pt x="238" y="448"/>
                    </a:lnTo>
                    <a:lnTo>
                      <a:pt x="239" y="486"/>
                    </a:lnTo>
                    <a:lnTo>
                      <a:pt x="232" y="489"/>
                    </a:lnTo>
                    <a:lnTo>
                      <a:pt x="188" y="414"/>
                    </a:lnTo>
                    <a:lnTo>
                      <a:pt x="175" y="469"/>
                    </a:lnTo>
                    <a:lnTo>
                      <a:pt x="149" y="517"/>
                    </a:lnTo>
                    <a:lnTo>
                      <a:pt x="124" y="541"/>
                    </a:lnTo>
                    <a:lnTo>
                      <a:pt x="85" y="547"/>
                    </a:lnTo>
                    <a:lnTo>
                      <a:pt x="33" y="509"/>
                    </a:lnTo>
                    <a:lnTo>
                      <a:pt x="10" y="428"/>
                    </a:lnTo>
                    <a:lnTo>
                      <a:pt x="0" y="346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438280" y="4286520"/>
                <a:ext cx="189720" cy="541800"/>
              </a:xfrm>
              <a:custGeom>
                <a:avLst/>
                <a:gdLst/>
                <a:ahLst/>
                <a:rect l="l" t="t" r="r" b="b"/>
                <a:pathLst>
                  <a:path w="209" h="875">
                    <a:moveTo>
                      <a:pt x="29" y="57"/>
                    </a:moveTo>
                    <a:lnTo>
                      <a:pt x="56" y="19"/>
                    </a:lnTo>
                    <a:lnTo>
                      <a:pt x="86" y="6"/>
                    </a:lnTo>
                    <a:lnTo>
                      <a:pt x="114" y="0"/>
                    </a:lnTo>
                    <a:lnTo>
                      <a:pt x="151" y="9"/>
                    </a:lnTo>
                    <a:lnTo>
                      <a:pt x="192" y="57"/>
                    </a:lnTo>
                    <a:lnTo>
                      <a:pt x="209" y="141"/>
                    </a:lnTo>
                    <a:lnTo>
                      <a:pt x="209" y="269"/>
                    </a:lnTo>
                    <a:lnTo>
                      <a:pt x="207" y="389"/>
                    </a:lnTo>
                    <a:lnTo>
                      <a:pt x="187" y="575"/>
                    </a:lnTo>
                    <a:lnTo>
                      <a:pt x="170" y="727"/>
                    </a:lnTo>
                    <a:lnTo>
                      <a:pt x="151" y="825"/>
                    </a:lnTo>
                    <a:lnTo>
                      <a:pt x="112" y="875"/>
                    </a:lnTo>
                    <a:lnTo>
                      <a:pt x="56" y="865"/>
                    </a:lnTo>
                    <a:lnTo>
                      <a:pt x="28" y="788"/>
                    </a:lnTo>
                    <a:lnTo>
                      <a:pt x="11" y="673"/>
                    </a:lnTo>
                    <a:lnTo>
                      <a:pt x="2" y="544"/>
                    </a:lnTo>
                    <a:lnTo>
                      <a:pt x="0" y="352"/>
                    </a:lnTo>
                    <a:lnTo>
                      <a:pt x="7" y="219"/>
                    </a:lnTo>
                    <a:lnTo>
                      <a:pt x="18" y="97"/>
                    </a:lnTo>
                    <a:lnTo>
                      <a:pt x="29" y="5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360520" y="4284360"/>
                <a:ext cx="112320" cy="670320"/>
              </a:xfrm>
              <a:custGeom>
                <a:avLst/>
                <a:gdLst/>
                <a:ahLst/>
                <a:rect l="l" t="t" r="r" b="b"/>
                <a:pathLst>
                  <a:path w="125" h="1080">
                    <a:moveTo>
                      <a:pt x="84" y="7"/>
                    </a:moveTo>
                    <a:lnTo>
                      <a:pt x="114" y="0"/>
                    </a:lnTo>
                    <a:lnTo>
                      <a:pt x="125" y="47"/>
                    </a:lnTo>
                    <a:lnTo>
                      <a:pt x="109" y="108"/>
                    </a:lnTo>
                    <a:lnTo>
                      <a:pt x="86" y="142"/>
                    </a:lnTo>
                    <a:lnTo>
                      <a:pt x="68" y="222"/>
                    </a:lnTo>
                    <a:lnTo>
                      <a:pt x="44" y="331"/>
                    </a:lnTo>
                    <a:lnTo>
                      <a:pt x="35" y="432"/>
                    </a:lnTo>
                    <a:lnTo>
                      <a:pt x="29" y="604"/>
                    </a:lnTo>
                    <a:lnTo>
                      <a:pt x="35" y="766"/>
                    </a:lnTo>
                    <a:lnTo>
                      <a:pt x="46" y="841"/>
                    </a:lnTo>
                    <a:lnTo>
                      <a:pt x="39" y="922"/>
                    </a:lnTo>
                    <a:lnTo>
                      <a:pt x="29" y="983"/>
                    </a:lnTo>
                    <a:lnTo>
                      <a:pt x="33" y="1080"/>
                    </a:lnTo>
                    <a:lnTo>
                      <a:pt x="18" y="1074"/>
                    </a:lnTo>
                    <a:lnTo>
                      <a:pt x="5" y="992"/>
                    </a:lnTo>
                    <a:lnTo>
                      <a:pt x="0" y="922"/>
                    </a:lnTo>
                    <a:lnTo>
                      <a:pt x="16" y="827"/>
                    </a:lnTo>
                    <a:lnTo>
                      <a:pt x="11" y="740"/>
                    </a:lnTo>
                    <a:lnTo>
                      <a:pt x="5" y="598"/>
                    </a:lnTo>
                    <a:lnTo>
                      <a:pt x="5" y="426"/>
                    </a:lnTo>
                    <a:lnTo>
                      <a:pt x="16" y="243"/>
                    </a:lnTo>
                    <a:lnTo>
                      <a:pt x="35" y="108"/>
                    </a:lnTo>
                    <a:lnTo>
                      <a:pt x="56" y="37"/>
                    </a:lnTo>
                    <a:lnTo>
                      <a:pt x="84" y="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606400" y="4303080"/>
                <a:ext cx="70200" cy="633240"/>
              </a:xfrm>
              <a:custGeom>
                <a:avLst/>
                <a:gdLst/>
                <a:ahLst/>
                <a:rect l="l" t="t" r="r" b="b"/>
                <a:pathLst>
                  <a:path w="77" h="1022">
                    <a:moveTo>
                      <a:pt x="2" y="3"/>
                    </a:moveTo>
                    <a:lnTo>
                      <a:pt x="33" y="0"/>
                    </a:lnTo>
                    <a:lnTo>
                      <a:pt x="55" y="80"/>
                    </a:lnTo>
                    <a:lnTo>
                      <a:pt x="77" y="303"/>
                    </a:lnTo>
                    <a:lnTo>
                      <a:pt x="77" y="558"/>
                    </a:lnTo>
                    <a:lnTo>
                      <a:pt x="66" y="777"/>
                    </a:lnTo>
                    <a:lnTo>
                      <a:pt x="77" y="851"/>
                    </a:lnTo>
                    <a:lnTo>
                      <a:pt x="77" y="951"/>
                    </a:lnTo>
                    <a:lnTo>
                      <a:pt x="66" y="1022"/>
                    </a:lnTo>
                    <a:lnTo>
                      <a:pt x="52" y="958"/>
                    </a:lnTo>
                    <a:lnTo>
                      <a:pt x="43" y="860"/>
                    </a:lnTo>
                    <a:lnTo>
                      <a:pt x="27" y="787"/>
                    </a:lnTo>
                    <a:lnTo>
                      <a:pt x="45" y="719"/>
                    </a:lnTo>
                    <a:lnTo>
                      <a:pt x="57" y="558"/>
                    </a:lnTo>
                    <a:lnTo>
                      <a:pt x="57" y="407"/>
                    </a:lnTo>
                    <a:lnTo>
                      <a:pt x="45" y="255"/>
                    </a:lnTo>
                    <a:lnTo>
                      <a:pt x="24" y="144"/>
                    </a:lnTo>
                    <a:lnTo>
                      <a:pt x="0" y="9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438280" y="4720320"/>
                <a:ext cx="159120" cy="765360"/>
              </a:xfrm>
              <a:custGeom>
                <a:avLst/>
                <a:gdLst/>
                <a:ahLst/>
                <a:rect l="l" t="t" r="r" b="b"/>
                <a:pathLst>
                  <a:path w="176" h="1232">
                    <a:moveTo>
                      <a:pt x="17" y="0"/>
                    </a:moveTo>
                    <a:lnTo>
                      <a:pt x="38" y="52"/>
                    </a:lnTo>
                    <a:lnTo>
                      <a:pt x="46" y="104"/>
                    </a:lnTo>
                    <a:lnTo>
                      <a:pt x="54" y="283"/>
                    </a:lnTo>
                    <a:lnTo>
                      <a:pt x="58" y="403"/>
                    </a:lnTo>
                    <a:lnTo>
                      <a:pt x="58" y="608"/>
                    </a:lnTo>
                    <a:lnTo>
                      <a:pt x="56" y="801"/>
                    </a:lnTo>
                    <a:lnTo>
                      <a:pt x="48" y="954"/>
                    </a:lnTo>
                    <a:lnTo>
                      <a:pt x="42" y="1002"/>
                    </a:lnTo>
                    <a:lnTo>
                      <a:pt x="84" y="1027"/>
                    </a:lnTo>
                    <a:lnTo>
                      <a:pt x="121" y="1057"/>
                    </a:lnTo>
                    <a:lnTo>
                      <a:pt x="170" y="1122"/>
                    </a:lnTo>
                    <a:lnTo>
                      <a:pt x="176" y="1147"/>
                    </a:lnTo>
                    <a:lnTo>
                      <a:pt x="172" y="1195"/>
                    </a:lnTo>
                    <a:lnTo>
                      <a:pt x="147" y="1232"/>
                    </a:lnTo>
                    <a:lnTo>
                      <a:pt x="137" y="1211"/>
                    </a:lnTo>
                    <a:lnTo>
                      <a:pt x="129" y="1161"/>
                    </a:lnTo>
                    <a:lnTo>
                      <a:pt x="107" y="1118"/>
                    </a:lnTo>
                    <a:lnTo>
                      <a:pt x="66" y="1070"/>
                    </a:lnTo>
                    <a:lnTo>
                      <a:pt x="40" y="1057"/>
                    </a:lnTo>
                    <a:lnTo>
                      <a:pt x="9" y="1057"/>
                    </a:lnTo>
                    <a:lnTo>
                      <a:pt x="9" y="1020"/>
                    </a:lnTo>
                    <a:lnTo>
                      <a:pt x="23" y="977"/>
                    </a:lnTo>
                    <a:lnTo>
                      <a:pt x="38" y="840"/>
                    </a:lnTo>
                    <a:lnTo>
                      <a:pt x="42" y="694"/>
                    </a:lnTo>
                    <a:lnTo>
                      <a:pt x="40" y="565"/>
                    </a:lnTo>
                    <a:lnTo>
                      <a:pt x="38" y="403"/>
                    </a:lnTo>
                    <a:lnTo>
                      <a:pt x="29" y="262"/>
                    </a:lnTo>
                    <a:lnTo>
                      <a:pt x="11" y="159"/>
                    </a:lnTo>
                    <a:lnTo>
                      <a:pt x="0" y="66"/>
                    </a:lnTo>
                    <a:lnTo>
                      <a:pt x="3" y="3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541240" y="4722120"/>
                <a:ext cx="148320" cy="686880"/>
              </a:xfrm>
              <a:custGeom>
                <a:avLst/>
                <a:gdLst/>
                <a:ahLst/>
                <a:rect l="l" t="t" r="r" b="b"/>
                <a:pathLst>
                  <a:path w="163" h="1106">
                    <a:moveTo>
                      <a:pt x="0" y="88"/>
                    </a:moveTo>
                    <a:lnTo>
                      <a:pt x="0" y="17"/>
                    </a:lnTo>
                    <a:lnTo>
                      <a:pt x="17" y="0"/>
                    </a:lnTo>
                    <a:lnTo>
                      <a:pt x="43" y="0"/>
                    </a:lnTo>
                    <a:lnTo>
                      <a:pt x="62" y="40"/>
                    </a:lnTo>
                    <a:lnTo>
                      <a:pt x="66" y="78"/>
                    </a:lnTo>
                    <a:lnTo>
                      <a:pt x="62" y="158"/>
                    </a:lnTo>
                    <a:lnTo>
                      <a:pt x="49" y="259"/>
                    </a:lnTo>
                    <a:lnTo>
                      <a:pt x="43" y="413"/>
                    </a:lnTo>
                    <a:lnTo>
                      <a:pt x="39" y="514"/>
                    </a:lnTo>
                    <a:lnTo>
                      <a:pt x="39" y="531"/>
                    </a:lnTo>
                    <a:lnTo>
                      <a:pt x="45" y="672"/>
                    </a:lnTo>
                    <a:lnTo>
                      <a:pt x="55" y="754"/>
                    </a:lnTo>
                    <a:lnTo>
                      <a:pt x="62" y="818"/>
                    </a:lnTo>
                    <a:lnTo>
                      <a:pt x="61" y="844"/>
                    </a:lnTo>
                    <a:lnTo>
                      <a:pt x="85" y="917"/>
                    </a:lnTo>
                    <a:lnTo>
                      <a:pt x="111" y="965"/>
                    </a:lnTo>
                    <a:lnTo>
                      <a:pt x="139" y="1009"/>
                    </a:lnTo>
                    <a:lnTo>
                      <a:pt x="163" y="1028"/>
                    </a:lnTo>
                    <a:lnTo>
                      <a:pt x="163" y="1066"/>
                    </a:lnTo>
                    <a:lnTo>
                      <a:pt x="150" y="1095"/>
                    </a:lnTo>
                    <a:lnTo>
                      <a:pt x="118" y="1106"/>
                    </a:lnTo>
                    <a:lnTo>
                      <a:pt x="96" y="1086"/>
                    </a:lnTo>
                    <a:lnTo>
                      <a:pt x="96" y="1058"/>
                    </a:lnTo>
                    <a:lnTo>
                      <a:pt x="77" y="965"/>
                    </a:lnTo>
                    <a:lnTo>
                      <a:pt x="45" y="914"/>
                    </a:lnTo>
                    <a:lnTo>
                      <a:pt x="23" y="864"/>
                    </a:lnTo>
                    <a:lnTo>
                      <a:pt x="6" y="837"/>
                    </a:lnTo>
                    <a:lnTo>
                      <a:pt x="12" y="804"/>
                    </a:lnTo>
                    <a:lnTo>
                      <a:pt x="21" y="714"/>
                    </a:lnTo>
                    <a:lnTo>
                      <a:pt x="21" y="541"/>
                    </a:lnTo>
                    <a:lnTo>
                      <a:pt x="17" y="421"/>
                    </a:lnTo>
                    <a:lnTo>
                      <a:pt x="17" y="299"/>
                    </a:lnTo>
                    <a:lnTo>
                      <a:pt x="15" y="16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2746440" y="4204800"/>
              <a:ext cx="258732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Programmer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1)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anagement Team in PRINCE 2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1)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anagement Team in PRINCE 2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76" name=""/>
          <p:cNvSpPr/>
          <p:nvPr/>
        </p:nvSpPr>
        <p:spPr>
          <a:xfrm>
            <a:off x="1477800" y="800280"/>
            <a:ext cx="6250320" cy="1573200"/>
          </a:xfrm>
          <a:prstGeom prst="rect">
            <a:avLst/>
          </a:prstGeom>
          <a:solidFill>
            <a:srgbClr val="0066cc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roject 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573200" y="1333440"/>
            <a:ext cx="231300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Senior        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86200" y="1333440"/>
            <a:ext cx="167652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Execu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562720" y="1333440"/>
            <a:ext cx="207144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Senior     Suppl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1)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4660920" y="2311560"/>
            <a:ext cx="0" cy="1250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anagement Team in PRINCE 2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82" name=""/>
          <p:cNvSpPr/>
          <p:nvPr/>
        </p:nvSpPr>
        <p:spPr>
          <a:xfrm>
            <a:off x="1477800" y="800280"/>
            <a:ext cx="6250320" cy="1573200"/>
          </a:xfrm>
          <a:prstGeom prst="rect">
            <a:avLst/>
          </a:prstGeom>
          <a:solidFill>
            <a:srgbClr val="0066cc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roject 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573200" y="1333440"/>
            <a:ext cx="231300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Senior        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86200" y="1333440"/>
            <a:ext cx="167652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Execu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62720" y="1333440"/>
            <a:ext cx="207144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Senior     Suppl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546280" y="3543480"/>
            <a:ext cx="419580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Project Mana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5056200" y="2413080"/>
            <a:ext cx="1130400" cy="512280"/>
            <a:chOff x="5056200" y="2413080"/>
            <a:chExt cx="1130400" cy="512280"/>
          </a:xfrm>
        </p:grpSpPr>
        <p:sp>
          <p:nvSpPr>
            <p:cNvPr id="388" name=""/>
            <p:cNvSpPr/>
            <p:nvPr/>
          </p:nvSpPr>
          <p:spPr>
            <a:xfrm>
              <a:off x="5056200" y="2514600"/>
              <a:ext cx="1130400" cy="390600"/>
            </a:xfrm>
            <a:prstGeom prst="foldedCorner">
              <a:avLst>
                <a:gd name="adj" fmla="val 31462"/>
              </a:avLst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095800" y="2413080"/>
              <a:ext cx="108900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cc"/>
                  </a:solidFill>
                  <a:latin typeface="Arial Narrow"/>
                </a:rPr>
                <a:t>Re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5056200" y="2971800"/>
            <a:ext cx="1130400" cy="390600"/>
          </a:xfrm>
          <a:prstGeom prst="foldedCorner">
            <a:avLst>
              <a:gd name="adj" fmla="val 31462"/>
            </a:avLst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095800" y="2870280"/>
            <a:ext cx="108900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P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930920" y="2476440"/>
            <a:ext cx="0" cy="40320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943520" y="2959200"/>
            <a:ext cx="0" cy="40320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1)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Arial Narrow"/>
              </a:rPr>
              <a:t>Software Crises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210200" y="2781360"/>
            <a:ext cx="3105000" cy="2479680"/>
            <a:chOff x="4210200" y="2781360"/>
            <a:chExt cx="3105000" cy="2479680"/>
          </a:xfrm>
        </p:grpSpPr>
        <p:sp>
          <p:nvSpPr>
            <p:cNvPr id="96" name=""/>
            <p:cNvSpPr/>
            <p:nvPr/>
          </p:nvSpPr>
          <p:spPr>
            <a:xfrm>
              <a:off x="4210200" y="2795760"/>
              <a:ext cx="533160" cy="24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2800" spc="-1" strike="noStrike">
                  <a:solidFill>
                    <a:srgbClr val="ffff00"/>
                  </a:solidFill>
                  <a:latin typeface="Arial"/>
                </a:rPr>
                <a:t>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2800" spc="-1" strike="noStrike">
                  <a:solidFill>
                    <a:srgbClr val="ffff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2800" spc="-1" strike="noStrike">
                  <a:solidFill>
                    <a:srgbClr val="ffff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2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438800" y="2781360"/>
              <a:ext cx="2114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2800" spc="-1" strike="noStrike">
                  <a:solidFill>
                    <a:srgbClr val="ffffff"/>
                  </a:solidFill>
                  <a:latin typeface="Arial"/>
                </a:rPr>
                <a:t>at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57880" y="4738680"/>
              <a:ext cx="2095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2800" spc="-1" strike="noStrike">
                  <a:solidFill>
                    <a:srgbClr val="ffffff"/>
                  </a:solidFill>
                  <a:latin typeface="Arial"/>
                </a:rPr>
                <a:t>oor qualit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3424320"/>
              <a:ext cx="2819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2800" spc="-1" strike="noStrike">
                  <a:solidFill>
                    <a:srgbClr val="ffffff"/>
                  </a:solidFill>
                  <a:latin typeface="Arial"/>
                </a:rPr>
                <a:t>ver budge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14760" y="4071960"/>
              <a:ext cx="18097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2800" spc="-1" strike="noStrike">
                  <a:solidFill>
                    <a:srgbClr val="ffffff"/>
                  </a:solidFill>
                  <a:latin typeface="Arial"/>
                </a:rPr>
                <a:t>vertim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 txBox="1"/>
          <p:nvPr/>
        </p:nvSpPr>
        <p:spPr>
          <a:xfrm>
            <a:off x="3686040" y="1143000"/>
            <a:ext cx="36291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0066ff"/>
                  </a:outerShdw>
                </a:effectLst>
                <a:latin typeface="Impact"/>
              </a:rPr>
              <a:t>The LOOP syndr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7819" dir="18900000" blurRad="0" rotWithShape="0">
                  <a:srgbClr val="0066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6320" y="1301400"/>
            <a:ext cx="3047760" cy="4948560"/>
            <a:chOff x="76320" y="1301400"/>
            <a:chExt cx="3047760" cy="4948560"/>
          </a:xfrm>
        </p:grpSpPr>
        <p:grpSp>
          <p:nvGrpSpPr>
            <p:cNvPr id="103" name=""/>
            <p:cNvGrpSpPr/>
            <p:nvPr/>
          </p:nvGrpSpPr>
          <p:grpSpPr>
            <a:xfrm>
              <a:off x="152280" y="2133720"/>
              <a:ext cx="1981440" cy="3581280"/>
              <a:chOff x="152280" y="2133720"/>
              <a:chExt cx="1981440" cy="3581280"/>
            </a:xfrm>
          </p:grpSpPr>
          <p:sp>
            <p:nvSpPr>
              <p:cNvPr id="104" name=""/>
              <p:cNvSpPr/>
              <p:nvPr/>
            </p:nvSpPr>
            <p:spPr>
              <a:xfrm>
                <a:off x="152280" y="2133720"/>
                <a:ext cx="609840" cy="3581280"/>
              </a:xfrm>
              <a:prstGeom prst="cube">
                <a:avLst>
                  <a:gd name="adj" fmla="val 250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52280" y="2133720"/>
                <a:ext cx="1981440" cy="457200"/>
              </a:xfrm>
              <a:prstGeom prst="cube">
                <a:avLst>
                  <a:gd name="adj" fmla="val 250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1295280" y="2590920"/>
              <a:ext cx="1219320" cy="2832120"/>
              <a:chOff x="1295280" y="2590920"/>
              <a:chExt cx="1219320" cy="2832120"/>
            </a:xfrm>
          </p:grpSpPr>
          <p:pic>
            <p:nvPicPr>
              <p:cNvPr id="10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2895480"/>
                <a:ext cx="1219320" cy="252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>
                <a:off x="1879560" y="2590920"/>
                <a:ext cx="203400" cy="546120"/>
              </a:xfrm>
              <a:custGeom>
                <a:avLst/>
                <a:gdLst/>
                <a:ahLst/>
                <a:rect l="l" t="t" r="r" b="b"/>
                <a:pathLst>
                  <a:path w="128" h="344">
                    <a:moveTo>
                      <a:pt x="64" y="8"/>
                    </a:moveTo>
                    <a:cubicBezTo>
                      <a:pt x="48" y="16"/>
                      <a:pt x="24" y="112"/>
                      <a:pt x="16" y="152"/>
                    </a:cubicBezTo>
                    <a:cubicBezTo>
                      <a:pt x="8" y="192"/>
                      <a:pt x="16" y="216"/>
                      <a:pt x="16" y="248"/>
                    </a:cubicBezTo>
                    <a:cubicBezTo>
                      <a:pt x="16" y="280"/>
                      <a:pt x="0" y="344"/>
                      <a:pt x="16" y="344"/>
                    </a:cubicBezTo>
                    <a:cubicBezTo>
                      <a:pt x="32" y="344"/>
                      <a:pt x="96" y="288"/>
                      <a:pt x="112" y="248"/>
                    </a:cubicBezTo>
                    <a:cubicBezTo>
                      <a:pt x="128" y="208"/>
                      <a:pt x="112" y="144"/>
                      <a:pt x="112" y="104"/>
                    </a:cubicBezTo>
                    <a:cubicBezTo>
                      <a:pt x="112" y="64"/>
                      <a:pt x="80" y="0"/>
                      <a:pt x="64" y="8"/>
                    </a:cubicBezTo>
                    <a:close/>
                  </a:path>
                </a:pathLst>
              </a:custGeom>
              <a:noFill/>
              <a:ln w="7632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541080" y="1301400"/>
              <a:ext cx="1051200" cy="519480"/>
            </a:xfrm>
            <a:prstGeom prst="wedgeRectCallout">
              <a:avLst>
                <a:gd name="adj1" fmla="val 86046"/>
                <a:gd name="adj2" fmla="val 198611"/>
              </a:avLst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"/>
                </a:rPr>
                <a:t>Loo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320" y="5729400"/>
              <a:ext cx="304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2800" spc="-1" strike="noStrike">
                  <a:solidFill>
                    <a:srgbClr val="66ccff"/>
                  </a:solidFill>
                  <a:latin typeface="Arial Narrow"/>
                </a:rPr>
                <a:t>Loop is dangerous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1)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4660920" y="2311560"/>
            <a:ext cx="0" cy="1250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35440" y="3125880"/>
            <a:ext cx="641160" cy="449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3836880" y="2350800"/>
            <a:ext cx="752760" cy="5065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anagement Team in PRINCE 2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98" name=""/>
          <p:cNvSpPr/>
          <p:nvPr/>
        </p:nvSpPr>
        <p:spPr>
          <a:xfrm>
            <a:off x="1477800" y="800280"/>
            <a:ext cx="6250320" cy="1573200"/>
          </a:xfrm>
          <a:prstGeom prst="rect">
            <a:avLst/>
          </a:prstGeom>
          <a:solidFill>
            <a:srgbClr val="0066cc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roject 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573200" y="1333440"/>
            <a:ext cx="231300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Senior        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1333440"/>
            <a:ext cx="167652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Execu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562720" y="1333440"/>
            <a:ext cx="207144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Senior     Suppl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46280" y="3543480"/>
            <a:ext cx="419580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Project Mana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98280" y="2743200"/>
            <a:ext cx="377028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Project Assur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056200" y="2413080"/>
            <a:ext cx="1130400" cy="512280"/>
            <a:chOff x="5056200" y="2413080"/>
            <a:chExt cx="1130400" cy="512280"/>
          </a:xfrm>
        </p:grpSpPr>
        <p:sp>
          <p:nvSpPr>
            <p:cNvPr id="405" name=""/>
            <p:cNvSpPr/>
            <p:nvPr/>
          </p:nvSpPr>
          <p:spPr>
            <a:xfrm>
              <a:off x="5056200" y="2514600"/>
              <a:ext cx="1130400" cy="390600"/>
            </a:xfrm>
            <a:prstGeom prst="foldedCorner">
              <a:avLst>
                <a:gd name="adj" fmla="val 31462"/>
              </a:avLst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095800" y="2413080"/>
              <a:ext cx="108900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cc"/>
                  </a:solidFill>
                  <a:latin typeface="Arial Narrow"/>
                </a:rPr>
                <a:t>Re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5056200" y="2971800"/>
            <a:ext cx="1130400" cy="390600"/>
          </a:xfrm>
          <a:prstGeom prst="foldedCorner">
            <a:avLst>
              <a:gd name="adj" fmla="val 31462"/>
            </a:avLst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095800" y="2870280"/>
            <a:ext cx="108900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P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0920" y="2476440"/>
            <a:ext cx="0" cy="40320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943520" y="2959200"/>
            <a:ext cx="0" cy="40320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1)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4724280" y="4076640"/>
            <a:ext cx="938160" cy="4539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4711680" y="4759200"/>
            <a:ext cx="936720" cy="4809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648320" y="4076640"/>
            <a:ext cx="0" cy="1214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660920" y="2311560"/>
            <a:ext cx="0" cy="1250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35440" y="3125880"/>
            <a:ext cx="641160" cy="449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3836880" y="2350800"/>
            <a:ext cx="752760" cy="5065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332160" y="5181480"/>
            <a:ext cx="289080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Kierownik Zespoł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68800" y="5245200"/>
            <a:ext cx="289080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Kierownik Zespoł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anagement Team in PRINCE 2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20" name=""/>
          <p:cNvSpPr/>
          <p:nvPr/>
        </p:nvSpPr>
        <p:spPr>
          <a:xfrm>
            <a:off x="1477800" y="800280"/>
            <a:ext cx="6250320" cy="1573200"/>
          </a:xfrm>
          <a:prstGeom prst="rect">
            <a:avLst/>
          </a:prstGeom>
          <a:solidFill>
            <a:srgbClr val="0066cc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roject 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573200" y="1333440"/>
            <a:ext cx="231300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Senior        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1333440"/>
            <a:ext cx="167652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Execu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562720" y="1333440"/>
            <a:ext cx="207144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Senior     Suppl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546280" y="3543480"/>
            <a:ext cx="419580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Project Mana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98280" y="2743200"/>
            <a:ext cx="377028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Project Assur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205080" y="5295960"/>
            <a:ext cx="289080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Team Mana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622840" y="4338720"/>
            <a:ext cx="328140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Project Sup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5056200" y="2413080"/>
            <a:ext cx="1130400" cy="512280"/>
            <a:chOff x="5056200" y="2413080"/>
            <a:chExt cx="1130400" cy="512280"/>
          </a:xfrm>
        </p:grpSpPr>
        <p:sp>
          <p:nvSpPr>
            <p:cNvPr id="429" name=""/>
            <p:cNvSpPr/>
            <p:nvPr/>
          </p:nvSpPr>
          <p:spPr>
            <a:xfrm>
              <a:off x="5056200" y="2514600"/>
              <a:ext cx="1130400" cy="390600"/>
            </a:xfrm>
            <a:prstGeom prst="foldedCorner">
              <a:avLst>
                <a:gd name="adj" fmla="val 31462"/>
              </a:avLst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095800" y="2413080"/>
              <a:ext cx="108900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cc"/>
                  </a:solidFill>
                  <a:latin typeface="Arial Narrow"/>
                </a:rPr>
                <a:t>Re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5056200" y="2971800"/>
            <a:ext cx="1130400" cy="390600"/>
          </a:xfrm>
          <a:prstGeom prst="foldedCorner">
            <a:avLst>
              <a:gd name="adj" fmla="val 31462"/>
            </a:avLst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095800" y="2870280"/>
            <a:ext cx="108900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P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30920" y="2476440"/>
            <a:ext cx="0" cy="40320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943520" y="2959200"/>
            <a:ext cx="0" cy="40320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2819520" y="4541760"/>
            <a:ext cx="1772280" cy="512280"/>
            <a:chOff x="2819520" y="4541760"/>
            <a:chExt cx="1772280" cy="512280"/>
          </a:xfrm>
        </p:grpSpPr>
        <p:grpSp>
          <p:nvGrpSpPr>
            <p:cNvPr id="436" name=""/>
            <p:cNvGrpSpPr/>
            <p:nvPr/>
          </p:nvGrpSpPr>
          <p:grpSpPr>
            <a:xfrm>
              <a:off x="2984040" y="4541760"/>
              <a:ext cx="1607760" cy="512280"/>
              <a:chOff x="2984040" y="4541760"/>
              <a:chExt cx="1607760" cy="512280"/>
            </a:xfrm>
          </p:grpSpPr>
          <p:sp>
            <p:nvSpPr>
              <p:cNvPr id="437" name=""/>
              <p:cNvSpPr/>
              <p:nvPr/>
            </p:nvSpPr>
            <p:spPr>
              <a:xfrm>
                <a:off x="2984040" y="4643280"/>
                <a:ext cx="1607760" cy="390600"/>
              </a:xfrm>
              <a:prstGeom prst="foldedCorner">
                <a:avLst>
                  <a:gd name="adj" fmla="val 31462"/>
                </a:avLst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040200" y="4541760"/>
                <a:ext cx="1548720" cy="51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0000cc"/>
                    </a:solidFill>
                    <a:latin typeface="Arial Narrow"/>
                  </a:rPr>
                  <a:t>Repor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2819520" y="4605120"/>
              <a:ext cx="0" cy="40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2819520" y="4038480"/>
            <a:ext cx="1833120" cy="512280"/>
            <a:chOff x="2819520" y="4038480"/>
            <a:chExt cx="1833120" cy="512280"/>
          </a:xfrm>
        </p:grpSpPr>
        <p:sp>
          <p:nvSpPr>
            <p:cNvPr id="441" name=""/>
            <p:cNvSpPr/>
            <p:nvPr/>
          </p:nvSpPr>
          <p:spPr>
            <a:xfrm>
              <a:off x="2969280" y="4140000"/>
              <a:ext cx="1647000" cy="390600"/>
            </a:xfrm>
            <a:prstGeom prst="foldedCorner">
              <a:avLst>
                <a:gd name="adj" fmla="val 31462"/>
              </a:avLst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022200" y="4038480"/>
              <a:ext cx="163044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cc"/>
                  </a:solidFill>
                  <a:latin typeface="Arial Narrow"/>
                </a:rPr>
                <a:t>Work pack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819520" y="4127400"/>
              <a:ext cx="0" cy="40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1144440" y="4243320"/>
            <a:ext cx="459000" cy="1182600"/>
            <a:chOff x="1144440" y="4243320"/>
            <a:chExt cx="459000" cy="1182600"/>
          </a:xfrm>
        </p:grpSpPr>
        <p:sp>
          <p:nvSpPr>
            <p:cNvPr id="445" name=""/>
            <p:cNvSpPr/>
            <p:nvPr/>
          </p:nvSpPr>
          <p:spPr>
            <a:xfrm>
              <a:off x="1359000" y="4886280"/>
              <a:ext cx="244440" cy="476280"/>
            </a:xfrm>
            <a:custGeom>
              <a:avLst/>
              <a:gdLst/>
              <a:ahLst/>
              <a:rect l="l" t="t" r="r" b="b"/>
              <a:pathLst>
                <a:path w="308" h="600">
                  <a:moveTo>
                    <a:pt x="103" y="24"/>
                  </a:moveTo>
                  <a:lnTo>
                    <a:pt x="66" y="0"/>
                  </a:lnTo>
                  <a:lnTo>
                    <a:pt x="17" y="0"/>
                  </a:lnTo>
                  <a:lnTo>
                    <a:pt x="0" y="32"/>
                  </a:lnTo>
                  <a:lnTo>
                    <a:pt x="7" y="81"/>
                  </a:lnTo>
                  <a:lnTo>
                    <a:pt x="50" y="129"/>
                  </a:lnTo>
                  <a:lnTo>
                    <a:pt x="136" y="173"/>
                  </a:lnTo>
                  <a:lnTo>
                    <a:pt x="236" y="266"/>
                  </a:lnTo>
                  <a:lnTo>
                    <a:pt x="252" y="306"/>
                  </a:lnTo>
                  <a:lnTo>
                    <a:pt x="245" y="326"/>
                  </a:lnTo>
                  <a:lnTo>
                    <a:pt x="169" y="387"/>
                  </a:lnTo>
                  <a:lnTo>
                    <a:pt x="79" y="460"/>
                  </a:lnTo>
                  <a:lnTo>
                    <a:pt x="57" y="492"/>
                  </a:lnTo>
                  <a:lnTo>
                    <a:pt x="57" y="525"/>
                  </a:lnTo>
                  <a:lnTo>
                    <a:pt x="126" y="559"/>
                  </a:lnTo>
                  <a:lnTo>
                    <a:pt x="232" y="600"/>
                  </a:lnTo>
                  <a:lnTo>
                    <a:pt x="269" y="600"/>
                  </a:lnTo>
                  <a:lnTo>
                    <a:pt x="308" y="573"/>
                  </a:lnTo>
                  <a:lnTo>
                    <a:pt x="308" y="552"/>
                  </a:lnTo>
                  <a:lnTo>
                    <a:pt x="279" y="540"/>
                  </a:lnTo>
                  <a:lnTo>
                    <a:pt x="145" y="525"/>
                  </a:lnTo>
                  <a:lnTo>
                    <a:pt x="95" y="511"/>
                  </a:lnTo>
                  <a:lnTo>
                    <a:pt x="89" y="487"/>
                  </a:lnTo>
                  <a:lnTo>
                    <a:pt x="176" y="420"/>
                  </a:lnTo>
                  <a:lnTo>
                    <a:pt x="272" y="356"/>
                  </a:lnTo>
                  <a:lnTo>
                    <a:pt x="292" y="332"/>
                  </a:lnTo>
                  <a:lnTo>
                    <a:pt x="301" y="299"/>
                  </a:lnTo>
                  <a:lnTo>
                    <a:pt x="292" y="254"/>
                  </a:lnTo>
                  <a:lnTo>
                    <a:pt x="263" y="218"/>
                  </a:lnTo>
                  <a:lnTo>
                    <a:pt x="169" y="99"/>
                  </a:lnTo>
                  <a:lnTo>
                    <a:pt x="103" y="2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274760" y="4243320"/>
              <a:ext cx="254160" cy="368280"/>
            </a:xfrm>
            <a:custGeom>
              <a:avLst/>
              <a:gdLst/>
              <a:ahLst/>
              <a:rect l="l" t="t" r="r" b="b"/>
              <a:pathLst>
                <a:path w="320" h="464">
                  <a:moveTo>
                    <a:pt x="97" y="61"/>
                  </a:moveTo>
                  <a:lnTo>
                    <a:pt x="137" y="30"/>
                  </a:lnTo>
                  <a:lnTo>
                    <a:pt x="197" y="0"/>
                  </a:lnTo>
                  <a:lnTo>
                    <a:pt x="244" y="3"/>
                  </a:lnTo>
                  <a:lnTo>
                    <a:pt x="281" y="16"/>
                  </a:lnTo>
                  <a:lnTo>
                    <a:pt x="314" y="57"/>
                  </a:lnTo>
                  <a:lnTo>
                    <a:pt x="320" y="121"/>
                  </a:lnTo>
                  <a:lnTo>
                    <a:pt x="317" y="169"/>
                  </a:lnTo>
                  <a:lnTo>
                    <a:pt x="297" y="211"/>
                  </a:lnTo>
                  <a:lnTo>
                    <a:pt x="264" y="263"/>
                  </a:lnTo>
                  <a:lnTo>
                    <a:pt x="234" y="305"/>
                  </a:lnTo>
                  <a:lnTo>
                    <a:pt x="228" y="316"/>
                  </a:lnTo>
                  <a:lnTo>
                    <a:pt x="228" y="376"/>
                  </a:lnTo>
                  <a:lnTo>
                    <a:pt x="250" y="434"/>
                  </a:lnTo>
                  <a:lnTo>
                    <a:pt x="253" y="454"/>
                  </a:lnTo>
                  <a:lnTo>
                    <a:pt x="237" y="464"/>
                  </a:lnTo>
                  <a:lnTo>
                    <a:pt x="216" y="458"/>
                  </a:lnTo>
                  <a:lnTo>
                    <a:pt x="204" y="383"/>
                  </a:lnTo>
                  <a:lnTo>
                    <a:pt x="203" y="335"/>
                  </a:lnTo>
                  <a:lnTo>
                    <a:pt x="167" y="359"/>
                  </a:lnTo>
                  <a:lnTo>
                    <a:pt x="140" y="380"/>
                  </a:lnTo>
                  <a:lnTo>
                    <a:pt x="87" y="389"/>
                  </a:lnTo>
                  <a:lnTo>
                    <a:pt x="53" y="383"/>
                  </a:lnTo>
                  <a:lnTo>
                    <a:pt x="3" y="346"/>
                  </a:lnTo>
                  <a:lnTo>
                    <a:pt x="0" y="268"/>
                  </a:lnTo>
                  <a:lnTo>
                    <a:pt x="29" y="172"/>
                  </a:lnTo>
                  <a:lnTo>
                    <a:pt x="68" y="82"/>
                  </a:lnTo>
                  <a:lnTo>
                    <a:pt x="97" y="6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228680" y="4951440"/>
              <a:ext cx="246240" cy="474480"/>
            </a:xfrm>
            <a:custGeom>
              <a:avLst/>
              <a:gdLst/>
              <a:ahLst/>
              <a:rect l="l" t="t" r="r" b="b"/>
              <a:pathLst>
                <a:path w="308" h="600">
                  <a:moveTo>
                    <a:pt x="103" y="24"/>
                  </a:moveTo>
                  <a:lnTo>
                    <a:pt x="66" y="0"/>
                  </a:lnTo>
                  <a:lnTo>
                    <a:pt x="17" y="0"/>
                  </a:lnTo>
                  <a:lnTo>
                    <a:pt x="0" y="32"/>
                  </a:lnTo>
                  <a:lnTo>
                    <a:pt x="7" y="81"/>
                  </a:lnTo>
                  <a:lnTo>
                    <a:pt x="50" y="129"/>
                  </a:lnTo>
                  <a:lnTo>
                    <a:pt x="136" y="173"/>
                  </a:lnTo>
                  <a:lnTo>
                    <a:pt x="236" y="266"/>
                  </a:lnTo>
                  <a:lnTo>
                    <a:pt x="252" y="306"/>
                  </a:lnTo>
                  <a:lnTo>
                    <a:pt x="245" y="325"/>
                  </a:lnTo>
                  <a:lnTo>
                    <a:pt x="169" y="387"/>
                  </a:lnTo>
                  <a:lnTo>
                    <a:pt x="79" y="460"/>
                  </a:lnTo>
                  <a:lnTo>
                    <a:pt x="57" y="492"/>
                  </a:lnTo>
                  <a:lnTo>
                    <a:pt x="57" y="525"/>
                  </a:lnTo>
                  <a:lnTo>
                    <a:pt x="126" y="559"/>
                  </a:lnTo>
                  <a:lnTo>
                    <a:pt x="232" y="600"/>
                  </a:lnTo>
                  <a:lnTo>
                    <a:pt x="269" y="600"/>
                  </a:lnTo>
                  <a:lnTo>
                    <a:pt x="308" y="573"/>
                  </a:lnTo>
                  <a:lnTo>
                    <a:pt x="308" y="552"/>
                  </a:lnTo>
                  <a:lnTo>
                    <a:pt x="279" y="540"/>
                  </a:lnTo>
                  <a:lnTo>
                    <a:pt x="145" y="525"/>
                  </a:lnTo>
                  <a:lnTo>
                    <a:pt x="95" y="511"/>
                  </a:lnTo>
                  <a:lnTo>
                    <a:pt x="89" y="487"/>
                  </a:lnTo>
                  <a:lnTo>
                    <a:pt x="176" y="420"/>
                  </a:lnTo>
                  <a:lnTo>
                    <a:pt x="272" y="355"/>
                  </a:lnTo>
                  <a:lnTo>
                    <a:pt x="292" y="331"/>
                  </a:lnTo>
                  <a:lnTo>
                    <a:pt x="301" y="298"/>
                  </a:lnTo>
                  <a:lnTo>
                    <a:pt x="292" y="254"/>
                  </a:lnTo>
                  <a:lnTo>
                    <a:pt x="263" y="218"/>
                  </a:lnTo>
                  <a:lnTo>
                    <a:pt x="169" y="99"/>
                  </a:lnTo>
                  <a:lnTo>
                    <a:pt x="103" y="2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144440" y="4568760"/>
              <a:ext cx="282600" cy="453960"/>
            </a:xfrm>
            <a:custGeom>
              <a:avLst/>
              <a:gdLst/>
              <a:ahLst/>
              <a:rect l="l" t="t" r="r" b="b"/>
              <a:pathLst>
                <a:path w="356" h="573">
                  <a:moveTo>
                    <a:pt x="53" y="177"/>
                  </a:moveTo>
                  <a:lnTo>
                    <a:pt x="77" y="72"/>
                  </a:lnTo>
                  <a:lnTo>
                    <a:pt x="156" y="8"/>
                  </a:lnTo>
                  <a:lnTo>
                    <a:pt x="196" y="0"/>
                  </a:lnTo>
                  <a:lnTo>
                    <a:pt x="246" y="17"/>
                  </a:lnTo>
                  <a:lnTo>
                    <a:pt x="283" y="57"/>
                  </a:lnTo>
                  <a:lnTo>
                    <a:pt x="297" y="105"/>
                  </a:lnTo>
                  <a:lnTo>
                    <a:pt x="306" y="146"/>
                  </a:lnTo>
                  <a:lnTo>
                    <a:pt x="293" y="197"/>
                  </a:lnTo>
                  <a:lnTo>
                    <a:pt x="290" y="241"/>
                  </a:lnTo>
                  <a:lnTo>
                    <a:pt x="259" y="282"/>
                  </a:lnTo>
                  <a:lnTo>
                    <a:pt x="253" y="330"/>
                  </a:lnTo>
                  <a:lnTo>
                    <a:pt x="266" y="366"/>
                  </a:lnTo>
                  <a:lnTo>
                    <a:pt x="322" y="382"/>
                  </a:lnTo>
                  <a:lnTo>
                    <a:pt x="353" y="421"/>
                  </a:lnTo>
                  <a:lnTo>
                    <a:pt x="356" y="502"/>
                  </a:lnTo>
                  <a:lnTo>
                    <a:pt x="330" y="552"/>
                  </a:lnTo>
                  <a:lnTo>
                    <a:pt x="243" y="573"/>
                  </a:lnTo>
                  <a:lnTo>
                    <a:pt x="158" y="573"/>
                  </a:lnTo>
                  <a:lnTo>
                    <a:pt x="93" y="543"/>
                  </a:lnTo>
                  <a:lnTo>
                    <a:pt x="30" y="475"/>
                  </a:lnTo>
                  <a:lnTo>
                    <a:pt x="8" y="411"/>
                  </a:lnTo>
                  <a:lnTo>
                    <a:pt x="0" y="333"/>
                  </a:lnTo>
                  <a:lnTo>
                    <a:pt x="14" y="252"/>
                  </a:lnTo>
                  <a:lnTo>
                    <a:pt x="37" y="204"/>
                  </a:lnTo>
                  <a:lnTo>
                    <a:pt x="53" y="17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181080" y="4452840"/>
            <a:ext cx="2357280" cy="1984320"/>
          </a:xfrm>
          <a:custGeom>
            <a:avLst/>
            <a:gdLst/>
            <a:ahLst/>
            <a:rect l="l" t="t" r="r" b="b"/>
            <a:pathLst>
              <a:path w="2971" h="2498">
                <a:moveTo>
                  <a:pt x="24" y="1765"/>
                </a:moveTo>
                <a:lnTo>
                  <a:pt x="16" y="1588"/>
                </a:lnTo>
                <a:lnTo>
                  <a:pt x="40" y="1436"/>
                </a:lnTo>
                <a:lnTo>
                  <a:pt x="40" y="1290"/>
                </a:lnTo>
                <a:lnTo>
                  <a:pt x="7" y="1113"/>
                </a:lnTo>
                <a:lnTo>
                  <a:pt x="0" y="975"/>
                </a:lnTo>
                <a:lnTo>
                  <a:pt x="7" y="830"/>
                </a:lnTo>
                <a:lnTo>
                  <a:pt x="40" y="742"/>
                </a:lnTo>
                <a:lnTo>
                  <a:pt x="126" y="677"/>
                </a:lnTo>
                <a:lnTo>
                  <a:pt x="237" y="596"/>
                </a:lnTo>
                <a:lnTo>
                  <a:pt x="498" y="508"/>
                </a:lnTo>
                <a:lnTo>
                  <a:pt x="758" y="443"/>
                </a:lnTo>
                <a:lnTo>
                  <a:pt x="987" y="403"/>
                </a:lnTo>
                <a:lnTo>
                  <a:pt x="1177" y="395"/>
                </a:lnTo>
                <a:lnTo>
                  <a:pt x="1359" y="339"/>
                </a:lnTo>
                <a:lnTo>
                  <a:pt x="1518" y="298"/>
                </a:lnTo>
                <a:lnTo>
                  <a:pt x="1595" y="267"/>
                </a:lnTo>
                <a:lnTo>
                  <a:pt x="1722" y="226"/>
                </a:lnTo>
                <a:lnTo>
                  <a:pt x="1833" y="169"/>
                </a:lnTo>
                <a:lnTo>
                  <a:pt x="1936" y="73"/>
                </a:lnTo>
                <a:lnTo>
                  <a:pt x="2054" y="40"/>
                </a:lnTo>
                <a:lnTo>
                  <a:pt x="2204" y="0"/>
                </a:lnTo>
                <a:lnTo>
                  <a:pt x="2276" y="9"/>
                </a:lnTo>
                <a:lnTo>
                  <a:pt x="2339" y="66"/>
                </a:lnTo>
                <a:lnTo>
                  <a:pt x="2528" y="226"/>
                </a:lnTo>
                <a:lnTo>
                  <a:pt x="2749" y="452"/>
                </a:lnTo>
                <a:lnTo>
                  <a:pt x="2900" y="589"/>
                </a:lnTo>
                <a:lnTo>
                  <a:pt x="2971" y="686"/>
                </a:lnTo>
                <a:lnTo>
                  <a:pt x="2971" y="751"/>
                </a:lnTo>
                <a:lnTo>
                  <a:pt x="2938" y="806"/>
                </a:lnTo>
                <a:lnTo>
                  <a:pt x="2907" y="911"/>
                </a:lnTo>
                <a:lnTo>
                  <a:pt x="2907" y="1178"/>
                </a:lnTo>
                <a:lnTo>
                  <a:pt x="2891" y="1386"/>
                </a:lnTo>
                <a:lnTo>
                  <a:pt x="2868" y="1540"/>
                </a:lnTo>
                <a:lnTo>
                  <a:pt x="2828" y="1653"/>
                </a:lnTo>
                <a:lnTo>
                  <a:pt x="2758" y="1677"/>
                </a:lnTo>
                <a:lnTo>
                  <a:pt x="2725" y="1644"/>
                </a:lnTo>
                <a:lnTo>
                  <a:pt x="2741" y="1588"/>
                </a:lnTo>
                <a:lnTo>
                  <a:pt x="2749" y="1450"/>
                </a:lnTo>
                <a:lnTo>
                  <a:pt x="2575" y="1531"/>
                </a:lnTo>
                <a:lnTo>
                  <a:pt x="2473" y="1588"/>
                </a:lnTo>
                <a:lnTo>
                  <a:pt x="2339" y="1620"/>
                </a:lnTo>
                <a:lnTo>
                  <a:pt x="2236" y="1669"/>
                </a:lnTo>
                <a:lnTo>
                  <a:pt x="2110" y="1758"/>
                </a:lnTo>
                <a:lnTo>
                  <a:pt x="1991" y="1822"/>
                </a:lnTo>
                <a:lnTo>
                  <a:pt x="1808" y="1911"/>
                </a:lnTo>
                <a:lnTo>
                  <a:pt x="1691" y="1951"/>
                </a:lnTo>
                <a:lnTo>
                  <a:pt x="1518" y="2032"/>
                </a:lnTo>
                <a:lnTo>
                  <a:pt x="1319" y="2071"/>
                </a:lnTo>
                <a:lnTo>
                  <a:pt x="1177" y="2111"/>
                </a:lnTo>
                <a:lnTo>
                  <a:pt x="1020" y="2152"/>
                </a:lnTo>
                <a:lnTo>
                  <a:pt x="940" y="2192"/>
                </a:lnTo>
                <a:lnTo>
                  <a:pt x="908" y="2273"/>
                </a:lnTo>
                <a:lnTo>
                  <a:pt x="901" y="2395"/>
                </a:lnTo>
                <a:lnTo>
                  <a:pt x="877" y="2459"/>
                </a:lnTo>
                <a:lnTo>
                  <a:pt x="807" y="2498"/>
                </a:lnTo>
                <a:lnTo>
                  <a:pt x="695" y="2434"/>
                </a:lnTo>
                <a:lnTo>
                  <a:pt x="664" y="2338"/>
                </a:lnTo>
                <a:lnTo>
                  <a:pt x="704" y="2257"/>
                </a:lnTo>
                <a:lnTo>
                  <a:pt x="679" y="2209"/>
                </a:lnTo>
                <a:lnTo>
                  <a:pt x="529" y="2039"/>
                </a:lnTo>
                <a:lnTo>
                  <a:pt x="316" y="1839"/>
                </a:lnTo>
                <a:lnTo>
                  <a:pt x="182" y="1710"/>
                </a:lnTo>
                <a:lnTo>
                  <a:pt x="126" y="1677"/>
                </a:lnTo>
                <a:lnTo>
                  <a:pt x="103" y="1734"/>
                </a:lnTo>
                <a:lnTo>
                  <a:pt x="126" y="1839"/>
                </a:lnTo>
                <a:lnTo>
                  <a:pt x="24" y="1765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14200" y="5032440"/>
            <a:ext cx="2313000" cy="1400040"/>
          </a:xfrm>
          <a:custGeom>
            <a:avLst/>
            <a:gdLst/>
            <a:ahLst/>
            <a:rect l="l" t="t" r="r" b="b"/>
            <a:pathLst>
              <a:path w="2915" h="1766">
                <a:moveTo>
                  <a:pt x="742" y="1733"/>
                </a:moveTo>
                <a:lnTo>
                  <a:pt x="751" y="1563"/>
                </a:lnTo>
                <a:lnTo>
                  <a:pt x="742" y="1193"/>
                </a:lnTo>
                <a:lnTo>
                  <a:pt x="742" y="919"/>
                </a:lnTo>
                <a:lnTo>
                  <a:pt x="702" y="847"/>
                </a:lnTo>
                <a:lnTo>
                  <a:pt x="410" y="532"/>
                </a:lnTo>
                <a:lnTo>
                  <a:pt x="221" y="339"/>
                </a:lnTo>
                <a:lnTo>
                  <a:pt x="63" y="201"/>
                </a:lnTo>
                <a:lnTo>
                  <a:pt x="0" y="129"/>
                </a:lnTo>
                <a:lnTo>
                  <a:pt x="16" y="89"/>
                </a:lnTo>
                <a:lnTo>
                  <a:pt x="40" y="89"/>
                </a:lnTo>
                <a:lnTo>
                  <a:pt x="150" y="210"/>
                </a:lnTo>
                <a:lnTo>
                  <a:pt x="300" y="330"/>
                </a:lnTo>
                <a:lnTo>
                  <a:pt x="442" y="525"/>
                </a:lnTo>
                <a:lnTo>
                  <a:pt x="576" y="669"/>
                </a:lnTo>
                <a:lnTo>
                  <a:pt x="702" y="766"/>
                </a:lnTo>
                <a:lnTo>
                  <a:pt x="782" y="838"/>
                </a:lnTo>
                <a:lnTo>
                  <a:pt x="838" y="823"/>
                </a:lnTo>
                <a:lnTo>
                  <a:pt x="892" y="782"/>
                </a:lnTo>
                <a:lnTo>
                  <a:pt x="1067" y="742"/>
                </a:lnTo>
                <a:lnTo>
                  <a:pt x="1383" y="654"/>
                </a:lnTo>
                <a:lnTo>
                  <a:pt x="1572" y="549"/>
                </a:lnTo>
                <a:lnTo>
                  <a:pt x="1792" y="451"/>
                </a:lnTo>
                <a:lnTo>
                  <a:pt x="2022" y="363"/>
                </a:lnTo>
                <a:lnTo>
                  <a:pt x="2260" y="258"/>
                </a:lnTo>
                <a:lnTo>
                  <a:pt x="2426" y="201"/>
                </a:lnTo>
                <a:lnTo>
                  <a:pt x="2622" y="113"/>
                </a:lnTo>
                <a:lnTo>
                  <a:pt x="2780" y="72"/>
                </a:lnTo>
                <a:lnTo>
                  <a:pt x="2915" y="0"/>
                </a:lnTo>
                <a:lnTo>
                  <a:pt x="2868" y="129"/>
                </a:lnTo>
                <a:lnTo>
                  <a:pt x="2788" y="129"/>
                </a:lnTo>
                <a:lnTo>
                  <a:pt x="2686" y="153"/>
                </a:lnTo>
                <a:lnTo>
                  <a:pt x="2503" y="210"/>
                </a:lnTo>
                <a:lnTo>
                  <a:pt x="2370" y="265"/>
                </a:lnTo>
                <a:lnTo>
                  <a:pt x="2204" y="322"/>
                </a:lnTo>
                <a:lnTo>
                  <a:pt x="2094" y="379"/>
                </a:lnTo>
                <a:lnTo>
                  <a:pt x="1911" y="451"/>
                </a:lnTo>
                <a:lnTo>
                  <a:pt x="1792" y="451"/>
                </a:lnTo>
                <a:lnTo>
                  <a:pt x="1619" y="580"/>
                </a:lnTo>
                <a:lnTo>
                  <a:pt x="1500" y="637"/>
                </a:lnTo>
                <a:lnTo>
                  <a:pt x="1350" y="693"/>
                </a:lnTo>
                <a:lnTo>
                  <a:pt x="1161" y="758"/>
                </a:lnTo>
                <a:lnTo>
                  <a:pt x="1011" y="797"/>
                </a:lnTo>
                <a:lnTo>
                  <a:pt x="908" y="847"/>
                </a:lnTo>
                <a:lnTo>
                  <a:pt x="814" y="895"/>
                </a:lnTo>
                <a:lnTo>
                  <a:pt x="791" y="1024"/>
                </a:lnTo>
                <a:lnTo>
                  <a:pt x="791" y="1329"/>
                </a:lnTo>
                <a:lnTo>
                  <a:pt x="791" y="1539"/>
                </a:lnTo>
                <a:lnTo>
                  <a:pt x="805" y="1718"/>
                </a:lnTo>
                <a:lnTo>
                  <a:pt x="758" y="1766"/>
                </a:lnTo>
                <a:lnTo>
                  <a:pt x="742" y="17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158840" y="4773600"/>
            <a:ext cx="558720" cy="396720"/>
          </a:xfrm>
          <a:custGeom>
            <a:avLst/>
            <a:gdLst/>
            <a:ahLst/>
            <a:rect l="l" t="t" r="r" b="b"/>
            <a:pathLst>
              <a:path w="703" h="499">
                <a:moveTo>
                  <a:pt x="8" y="145"/>
                </a:moveTo>
                <a:lnTo>
                  <a:pt x="182" y="105"/>
                </a:lnTo>
                <a:lnTo>
                  <a:pt x="285" y="57"/>
                </a:lnTo>
                <a:lnTo>
                  <a:pt x="357" y="0"/>
                </a:lnTo>
                <a:lnTo>
                  <a:pt x="427" y="73"/>
                </a:lnTo>
                <a:lnTo>
                  <a:pt x="537" y="178"/>
                </a:lnTo>
                <a:lnTo>
                  <a:pt x="633" y="234"/>
                </a:lnTo>
                <a:lnTo>
                  <a:pt x="703" y="307"/>
                </a:lnTo>
                <a:lnTo>
                  <a:pt x="664" y="372"/>
                </a:lnTo>
                <a:lnTo>
                  <a:pt x="523" y="436"/>
                </a:lnTo>
                <a:lnTo>
                  <a:pt x="380" y="499"/>
                </a:lnTo>
                <a:lnTo>
                  <a:pt x="317" y="499"/>
                </a:lnTo>
                <a:lnTo>
                  <a:pt x="229" y="387"/>
                </a:lnTo>
                <a:lnTo>
                  <a:pt x="142" y="315"/>
                </a:lnTo>
                <a:lnTo>
                  <a:pt x="55" y="267"/>
                </a:lnTo>
                <a:lnTo>
                  <a:pt x="0" y="186"/>
                </a:lnTo>
                <a:lnTo>
                  <a:pt x="8" y="145"/>
                </a:lnTo>
                <a:close/>
              </a:path>
            </a:pathLst>
          </a:custGeom>
          <a:solidFill>
            <a:srgbClr val="f8f8f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265400" y="4775040"/>
            <a:ext cx="120600" cy="198720"/>
          </a:xfrm>
          <a:custGeom>
            <a:avLst/>
            <a:gdLst/>
            <a:ahLst/>
            <a:rect l="l" t="t" r="r" b="b"/>
            <a:pathLst>
              <a:path w="152" h="251">
                <a:moveTo>
                  <a:pt x="144" y="210"/>
                </a:moveTo>
                <a:lnTo>
                  <a:pt x="25" y="0"/>
                </a:lnTo>
                <a:lnTo>
                  <a:pt x="0" y="17"/>
                </a:lnTo>
                <a:lnTo>
                  <a:pt x="9" y="41"/>
                </a:lnTo>
                <a:lnTo>
                  <a:pt x="121" y="243"/>
                </a:lnTo>
                <a:lnTo>
                  <a:pt x="152" y="251"/>
                </a:lnTo>
                <a:lnTo>
                  <a:pt x="144" y="21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995400" y="4289400"/>
            <a:ext cx="689040" cy="752400"/>
            <a:chOff x="995400" y="4289400"/>
            <a:chExt cx="689040" cy="752400"/>
          </a:xfrm>
        </p:grpSpPr>
        <p:sp>
          <p:nvSpPr>
            <p:cNvPr id="454" name=""/>
            <p:cNvSpPr/>
            <p:nvPr/>
          </p:nvSpPr>
          <p:spPr>
            <a:xfrm>
              <a:off x="1341360" y="4289400"/>
              <a:ext cx="343080" cy="426960"/>
            </a:xfrm>
            <a:custGeom>
              <a:avLst/>
              <a:gdLst/>
              <a:ahLst/>
              <a:rect l="l" t="t" r="r" b="b"/>
              <a:pathLst>
                <a:path w="432" h="538">
                  <a:moveTo>
                    <a:pt x="0" y="526"/>
                  </a:moveTo>
                  <a:lnTo>
                    <a:pt x="16" y="486"/>
                  </a:lnTo>
                  <a:lnTo>
                    <a:pt x="50" y="463"/>
                  </a:lnTo>
                  <a:lnTo>
                    <a:pt x="158" y="463"/>
                  </a:lnTo>
                  <a:lnTo>
                    <a:pt x="286" y="480"/>
                  </a:lnTo>
                  <a:lnTo>
                    <a:pt x="363" y="490"/>
                  </a:lnTo>
                  <a:lnTo>
                    <a:pt x="376" y="477"/>
                  </a:lnTo>
                  <a:lnTo>
                    <a:pt x="361" y="421"/>
                  </a:lnTo>
                  <a:lnTo>
                    <a:pt x="321" y="331"/>
                  </a:lnTo>
                  <a:lnTo>
                    <a:pt x="276" y="249"/>
                  </a:lnTo>
                  <a:lnTo>
                    <a:pt x="236" y="199"/>
                  </a:lnTo>
                  <a:lnTo>
                    <a:pt x="216" y="157"/>
                  </a:lnTo>
                  <a:lnTo>
                    <a:pt x="223" y="135"/>
                  </a:lnTo>
                  <a:lnTo>
                    <a:pt x="250" y="118"/>
                  </a:lnTo>
                  <a:lnTo>
                    <a:pt x="292" y="124"/>
                  </a:lnTo>
                  <a:lnTo>
                    <a:pt x="361" y="108"/>
                  </a:lnTo>
                  <a:lnTo>
                    <a:pt x="382" y="73"/>
                  </a:lnTo>
                  <a:lnTo>
                    <a:pt x="402" y="23"/>
                  </a:lnTo>
                  <a:lnTo>
                    <a:pt x="402" y="0"/>
                  </a:lnTo>
                  <a:lnTo>
                    <a:pt x="421" y="14"/>
                  </a:lnTo>
                  <a:lnTo>
                    <a:pt x="432" y="67"/>
                  </a:lnTo>
                  <a:lnTo>
                    <a:pt x="424" y="118"/>
                  </a:lnTo>
                  <a:lnTo>
                    <a:pt x="382" y="144"/>
                  </a:lnTo>
                  <a:lnTo>
                    <a:pt x="349" y="141"/>
                  </a:lnTo>
                  <a:lnTo>
                    <a:pt x="286" y="148"/>
                  </a:lnTo>
                  <a:lnTo>
                    <a:pt x="273" y="162"/>
                  </a:lnTo>
                  <a:lnTo>
                    <a:pt x="273" y="178"/>
                  </a:lnTo>
                  <a:lnTo>
                    <a:pt x="305" y="237"/>
                  </a:lnTo>
                  <a:lnTo>
                    <a:pt x="345" y="280"/>
                  </a:lnTo>
                  <a:lnTo>
                    <a:pt x="392" y="364"/>
                  </a:lnTo>
                  <a:lnTo>
                    <a:pt x="411" y="447"/>
                  </a:lnTo>
                  <a:lnTo>
                    <a:pt x="413" y="510"/>
                  </a:lnTo>
                  <a:lnTo>
                    <a:pt x="398" y="526"/>
                  </a:lnTo>
                  <a:lnTo>
                    <a:pt x="379" y="531"/>
                  </a:lnTo>
                  <a:lnTo>
                    <a:pt x="316" y="534"/>
                  </a:lnTo>
                  <a:lnTo>
                    <a:pt x="186" y="526"/>
                  </a:lnTo>
                  <a:lnTo>
                    <a:pt x="103" y="531"/>
                  </a:lnTo>
                  <a:lnTo>
                    <a:pt x="44" y="538"/>
                  </a:lnTo>
                  <a:lnTo>
                    <a:pt x="16" y="534"/>
                  </a:lnTo>
                  <a:lnTo>
                    <a:pt x="0" y="52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995400" y="4564080"/>
              <a:ext cx="473040" cy="477720"/>
            </a:xfrm>
            <a:custGeom>
              <a:avLst/>
              <a:gdLst/>
              <a:ahLst/>
              <a:rect l="l" t="t" r="r" b="b"/>
              <a:pathLst>
                <a:path w="595" h="601">
                  <a:moveTo>
                    <a:pt x="184" y="24"/>
                  </a:moveTo>
                  <a:lnTo>
                    <a:pt x="239" y="5"/>
                  </a:lnTo>
                  <a:lnTo>
                    <a:pt x="278" y="0"/>
                  </a:lnTo>
                  <a:lnTo>
                    <a:pt x="310" y="5"/>
                  </a:lnTo>
                  <a:lnTo>
                    <a:pt x="326" y="21"/>
                  </a:lnTo>
                  <a:lnTo>
                    <a:pt x="317" y="63"/>
                  </a:lnTo>
                  <a:lnTo>
                    <a:pt x="263" y="86"/>
                  </a:lnTo>
                  <a:lnTo>
                    <a:pt x="204" y="86"/>
                  </a:lnTo>
                  <a:lnTo>
                    <a:pt x="141" y="96"/>
                  </a:lnTo>
                  <a:lnTo>
                    <a:pt x="94" y="117"/>
                  </a:lnTo>
                  <a:lnTo>
                    <a:pt x="50" y="150"/>
                  </a:lnTo>
                  <a:lnTo>
                    <a:pt x="47" y="198"/>
                  </a:lnTo>
                  <a:lnTo>
                    <a:pt x="65" y="246"/>
                  </a:lnTo>
                  <a:lnTo>
                    <a:pt x="110" y="286"/>
                  </a:lnTo>
                  <a:lnTo>
                    <a:pt x="181" y="319"/>
                  </a:lnTo>
                  <a:lnTo>
                    <a:pt x="276" y="354"/>
                  </a:lnTo>
                  <a:lnTo>
                    <a:pt x="373" y="382"/>
                  </a:lnTo>
                  <a:lnTo>
                    <a:pt x="436" y="409"/>
                  </a:lnTo>
                  <a:lnTo>
                    <a:pt x="467" y="418"/>
                  </a:lnTo>
                  <a:lnTo>
                    <a:pt x="457" y="456"/>
                  </a:lnTo>
                  <a:lnTo>
                    <a:pt x="467" y="507"/>
                  </a:lnTo>
                  <a:lnTo>
                    <a:pt x="523" y="531"/>
                  </a:lnTo>
                  <a:lnTo>
                    <a:pt x="592" y="562"/>
                  </a:lnTo>
                  <a:lnTo>
                    <a:pt x="595" y="601"/>
                  </a:lnTo>
                  <a:lnTo>
                    <a:pt x="523" y="568"/>
                  </a:lnTo>
                  <a:lnTo>
                    <a:pt x="436" y="531"/>
                  </a:lnTo>
                  <a:lnTo>
                    <a:pt x="417" y="490"/>
                  </a:lnTo>
                  <a:lnTo>
                    <a:pt x="417" y="442"/>
                  </a:lnTo>
                  <a:lnTo>
                    <a:pt x="373" y="418"/>
                  </a:lnTo>
                  <a:lnTo>
                    <a:pt x="260" y="385"/>
                  </a:lnTo>
                  <a:lnTo>
                    <a:pt x="176" y="354"/>
                  </a:lnTo>
                  <a:lnTo>
                    <a:pt x="81" y="310"/>
                  </a:lnTo>
                  <a:lnTo>
                    <a:pt x="15" y="262"/>
                  </a:lnTo>
                  <a:lnTo>
                    <a:pt x="1" y="218"/>
                  </a:lnTo>
                  <a:lnTo>
                    <a:pt x="0" y="182"/>
                  </a:lnTo>
                  <a:lnTo>
                    <a:pt x="1" y="128"/>
                  </a:lnTo>
                  <a:lnTo>
                    <a:pt x="41" y="89"/>
                  </a:lnTo>
                  <a:lnTo>
                    <a:pt x="101" y="62"/>
                  </a:lnTo>
                  <a:lnTo>
                    <a:pt x="151" y="38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1743120" y="3484440"/>
            <a:ext cx="689040" cy="1586160"/>
            <a:chOff x="1743120" y="3484440"/>
            <a:chExt cx="689040" cy="1586160"/>
          </a:xfrm>
        </p:grpSpPr>
        <p:sp>
          <p:nvSpPr>
            <p:cNvPr id="457" name=""/>
            <p:cNvSpPr/>
            <p:nvPr/>
          </p:nvSpPr>
          <p:spPr>
            <a:xfrm>
              <a:off x="1755720" y="3554280"/>
              <a:ext cx="362160" cy="1494000"/>
            </a:xfrm>
            <a:custGeom>
              <a:avLst/>
              <a:gdLst/>
              <a:ahLst/>
              <a:rect l="l" t="t" r="r" b="b"/>
              <a:pathLst>
                <a:path w="455" h="1882">
                  <a:moveTo>
                    <a:pt x="448" y="339"/>
                  </a:moveTo>
                  <a:lnTo>
                    <a:pt x="455" y="408"/>
                  </a:lnTo>
                  <a:lnTo>
                    <a:pt x="455" y="781"/>
                  </a:lnTo>
                  <a:lnTo>
                    <a:pt x="423" y="1281"/>
                  </a:lnTo>
                  <a:lnTo>
                    <a:pt x="426" y="1600"/>
                  </a:lnTo>
                  <a:lnTo>
                    <a:pt x="442" y="1821"/>
                  </a:lnTo>
                  <a:lnTo>
                    <a:pt x="426" y="1882"/>
                  </a:lnTo>
                  <a:lnTo>
                    <a:pt x="399" y="1869"/>
                  </a:lnTo>
                  <a:lnTo>
                    <a:pt x="245" y="1747"/>
                  </a:lnTo>
                  <a:lnTo>
                    <a:pt x="205" y="1723"/>
                  </a:lnTo>
                  <a:lnTo>
                    <a:pt x="182" y="1689"/>
                  </a:lnTo>
                  <a:lnTo>
                    <a:pt x="142" y="1642"/>
                  </a:lnTo>
                  <a:lnTo>
                    <a:pt x="89" y="1594"/>
                  </a:lnTo>
                  <a:lnTo>
                    <a:pt x="63" y="1530"/>
                  </a:lnTo>
                  <a:lnTo>
                    <a:pt x="0" y="1475"/>
                  </a:lnTo>
                  <a:lnTo>
                    <a:pt x="0" y="1442"/>
                  </a:lnTo>
                  <a:lnTo>
                    <a:pt x="34" y="1398"/>
                  </a:lnTo>
                  <a:lnTo>
                    <a:pt x="47" y="1343"/>
                  </a:lnTo>
                  <a:lnTo>
                    <a:pt x="39" y="1313"/>
                  </a:lnTo>
                  <a:lnTo>
                    <a:pt x="23" y="1265"/>
                  </a:lnTo>
                  <a:lnTo>
                    <a:pt x="17" y="1230"/>
                  </a:lnTo>
                  <a:lnTo>
                    <a:pt x="42" y="1176"/>
                  </a:lnTo>
                  <a:lnTo>
                    <a:pt x="42" y="1140"/>
                  </a:lnTo>
                  <a:lnTo>
                    <a:pt x="16" y="1068"/>
                  </a:lnTo>
                  <a:lnTo>
                    <a:pt x="16" y="1028"/>
                  </a:lnTo>
                  <a:lnTo>
                    <a:pt x="31" y="996"/>
                  </a:lnTo>
                  <a:lnTo>
                    <a:pt x="57" y="959"/>
                  </a:lnTo>
                  <a:lnTo>
                    <a:pt x="56" y="895"/>
                  </a:lnTo>
                  <a:lnTo>
                    <a:pt x="39" y="842"/>
                  </a:lnTo>
                  <a:lnTo>
                    <a:pt x="56" y="781"/>
                  </a:lnTo>
                  <a:lnTo>
                    <a:pt x="70" y="766"/>
                  </a:lnTo>
                  <a:lnTo>
                    <a:pt x="57" y="709"/>
                  </a:lnTo>
                  <a:lnTo>
                    <a:pt x="23" y="649"/>
                  </a:lnTo>
                  <a:lnTo>
                    <a:pt x="16" y="610"/>
                  </a:lnTo>
                  <a:lnTo>
                    <a:pt x="23" y="572"/>
                  </a:lnTo>
                  <a:lnTo>
                    <a:pt x="66" y="539"/>
                  </a:lnTo>
                  <a:lnTo>
                    <a:pt x="63" y="512"/>
                  </a:lnTo>
                  <a:lnTo>
                    <a:pt x="17" y="427"/>
                  </a:lnTo>
                  <a:lnTo>
                    <a:pt x="3" y="360"/>
                  </a:lnTo>
                  <a:lnTo>
                    <a:pt x="16" y="322"/>
                  </a:lnTo>
                  <a:lnTo>
                    <a:pt x="57" y="288"/>
                  </a:lnTo>
                  <a:lnTo>
                    <a:pt x="47" y="258"/>
                  </a:lnTo>
                  <a:lnTo>
                    <a:pt x="17" y="223"/>
                  </a:lnTo>
                  <a:lnTo>
                    <a:pt x="17" y="186"/>
                  </a:lnTo>
                  <a:lnTo>
                    <a:pt x="66" y="160"/>
                  </a:lnTo>
                  <a:lnTo>
                    <a:pt x="86" y="133"/>
                  </a:lnTo>
                  <a:lnTo>
                    <a:pt x="47" y="78"/>
                  </a:lnTo>
                  <a:lnTo>
                    <a:pt x="47" y="48"/>
                  </a:lnTo>
                  <a:lnTo>
                    <a:pt x="94" y="30"/>
                  </a:lnTo>
                  <a:lnTo>
                    <a:pt x="97" y="0"/>
                  </a:lnTo>
                  <a:lnTo>
                    <a:pt x="150" y="78"/>
                  </a:lnTo>
                  <a:lnTo>
                    <a:pt x="213" y="159"/>
                  </a:lnTo>
                  <a:lnTo>
                    <a:pt x="292" y="223"/>
                  </a:lnTo>
                  <a:lnTo>
                    <a:pt x="355" y="274"/>
                  </a:lnTo>
                  <a:lnTo>
                    <a:pt x="423" y="315"/>
                  </a:lnTo>
                  <a:lnTo>
                    <a:pt x="448" y="339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743120" y="3576600"/>
              <a:ext cx="104760" cy="1138320"/>
            </a:xfrm>
            <a:custGeom>
              <a:avLst/>
              <a:gdLst/>
              <a:ahLst/>
              <a:rect l="l" t="t" r="r" b="b"/>
              <a:pathLst>
                <a:path w="132" h="1435">
                  <a:moveTo>
                    <a:pt x="66" y="0"/>
                  </a:moveTo>
                  <a:lnTo>
                    <a:pt x="90" y="48"/>
                  </a:lnTo>
                  <a:lnTo>
                    <a:pt x="112" y="80"/>
                  </a:lnTo>
                  <a:lnTo>
                    <a:pt x="132" y="99"/>
                  </a:lnTo>
                  <a:lnTo>
                    <a:pt x="126" y="123"/>
                  </a:lnTo>
                  <a:lnTo>
                    <a:pt x="106" y="140"/>
                  </a:lnTo>
                  <a:lnTo>
                    <a:pt x="74" y="147"/>
                  </a:lnTo>
                  <a:lnTo>
                    <a:pt x="50" y="168"/>
                  </a:lnTo>
                  <a:lnTo>
                    <a:pt x="56" y="194"/>
                  </a:lnTo>
                  <a:lnTo>
                    <a:pt x="72" y="209"/>
                  </a:lnTo>
                  <a:lnTo>
                    <a:pt x="99" y="242"/>
                  </a:lnTo>
                  <a:lnTo>
                    <a:pt x="99" y="260"/>
                  </a:lnTo>
                  <a:lnTo>
                    <a:pt x="90" y="276"/>
                  </a:lnTo>
                  <a:lnTo>
                    <a:pt x="66" y="293"/>
                  </a:lnTo>
                  <a:lnTo>
                    <a:pt x="43" y="309"/>
                  </a:lnTo>
                  <a:lnTo>
                    <a:pt x="40" y="333"/>
                  </a:lnTo>
                  <a:lnTo>
                    <a:pt x="47" y="357"/>
                  </a:lnTo>
                  <a:lnTo>
                    <a:pt x="66" y="405"/>
                  </a:lnTo>
                  <a:lnTo>
                    <a:pt x="82" y="442"/>
                  </a:lnTo>
                  <a:lnTo>
                    <a:pt x="99" y="469"/>
                  </a:lnTo>
                  <a:lnTo>
                    <a:pt x="99" y="499"/>
                  </a:lnTo>
                  <a:lnTo>
                    <a:pt x="90" y="526"/>
                  </a:lnTo>
                  <a:lnTo>
                    <a:pt x="66" y="550"/>
                  </a:lnTo>
                  <a:lnTo>
                    <a:pt x="50" y="574"/>
                  </a:lnTo>
                  <a:lnTo>
                    <a:pt x="56" y="615"/>
                  </a:lnTo>
                  <a:lnTo>
                    <a:pt x="96" y="676"/>
                  </a:lnTo>
                  <a:lnTo>
                    <a:pt x="112" y="709"/>
                  </a:lnTo>
                  <a:lnTo>
                    <a:pt x="113" y="741"/>
                  </a:lnTo>
                  <a:lnTo>
                    <a:pt x="99" y="765"/>
                  </a:lnTo>
                  <a:lnTo>
                    <a:pt x="79" y="789"/>
                  </a:lnTo>
                  <a:lnTo>
                    <a:pt x="74" y="822"/>
                  </a:lnTo>
                  <a:lnTo>
                    <a:pt x="87" y="862"/>
                  </a:lnTo>
                  <a:lnTo>
                    <a:pt x="103" y="904"/>
                  </a:lnTo>
                  <a:lnTo>
                    <a:pt x="112" y="934"/>
                  </a:lnTo>
                  <a:lnTo>
                    <a:pt x="103" y="953"/>
                  </a:lnTo>
                  <a:lnTo>
                    <a:pt x="82" y="974"/>
                  </a:lnTo>
                  <a:lnTo>
                    <a:pt x="56" y="998"/>
                  </a:lnTo>
                  <a:lnTo>
                    <a:pt x="43" y="1022"/>
                  </a:lnTo>
                  <a:lnTo>
                    <a:pt x="56" y="1066"/>
                  </a:lnTo>
                  <a:lnTo>
                    <a:pt x="82" y="1111"/>
                  </a:lnTo>
                  <a:lnTo>
                    <a:pt x="96" y="1144"/>
                  </a:lnTo>
                  <a:lnTo>
                    <a:pt x="99" y="1171"/>
                  </a:lnTo>
                  <a:lnTo>
                    <a:pt x="90" y="1184"/>
                  </a:lnTo>
                  <a:lnTo>
                    <a:pt x="63" y="1184"/>
                  </a:lnTo>
                  <a:lnTo>
                    <a:pt x="56" y="1243"/>
                  </a:lnTo>
                  <a:lnTo>
                    <a:pt x="72" y="1280"/>
                  </a:lnTo>
                  <a:lnTo>
                    <a:pt x="87" y="1307"/>
                  </a:lnTo>
                  <a:lnTo>
                    <a:pt x="90" y="1331"/>
                  </a:lnTo>
                  <a:lnTo>
                    <a:pt x="90" y="1354"/>
                  </a:lnTo>
                  <a:lnTo>
                    <a:pt x="63" y="1388"/>
                  </a:lnTo>
                  <a:lnTo>
                    <a:pt x="27" y="1435"/>
                  </a:lnTo>
                  <a:lnTo>
                    <a:pt x="3" y="1418"/>
                  </a:lnTo>
                  <a:lnTo>
                    <a:pt x="10" y="1381"/>
                  </a:lnTo>
                  <a:lnTo>
                    <a:pt x="47" y="1321"/>
                  </a:lnTo>
                  <a:lnTo>
                    <a:pt x="43" y="1283"/>
                  </a:lnTo>
                  <a:lnTo>
                    <a:pt x="27" y="1240"/>
                  </a:lnTo>
                  <a:lnTo>
                    <a:pt x="16" y="1202"/>
                  </a:lnTo>
                  <a:lnTo>
                    <a:pt x="32" y="1171"/>
                  </a:lnTo>
                  <a:lnTo>
                    <a:pt x="47" y="1160"/>
                  </a:lnTo>
                  <a:lnTo>
                    <a:pt x="50" y="1136"/>
                  </a:lnTo>
                  <a:lnTo>
                    <a:pt x="32" y="1090"/>
                  </a:lnTo>
                  <a:lnTo>
                    <a:pt x="10" y="1049"/>
                  </a:lnTo>
                  <a:lnTo>
                    <a:pt x="0" y="1009"/>
                  </a:lnTo>
                  <a:lnTo>
                    <a:pt x="10" y="961"/>
                  </a:lnTo>
                  <a:lnTo>
                    <a:pt x="47" y="943"/>
                  </a:lnTo>
                  <a:lnTo>
                    <a:pt x="59" y="921"/>
                  </a:lnTo>
                  <a:lnTo>
                    <a:pt x="56" y="889"/>
                  </a:lnTo>
                  <a:lnTo>
                    <a:pt x="47" y="856"/>
                  </a:lnTo>
                  <a:lnTo>
                    <a:pt x="34" y="814"/>
                  </a:lnTo>
                  <a:lnTo>
                    <a:pt x="34" y="781"/>
                  </a:lnTo>
                  <a:lnTo>
                    <a:pt x="50" y="760"/>
                  </a:lnTo>
                  <a:lnTo>
                    <a:pt x="72" y="733"/>
                  </a:lnTo>
                  <a:lnTo>
                    <a:pt x="72" y="717"/>
                  </a:lnTo>
                  <a:lnTo>
                    <a:pt x="56" y="679"/>
                  </a:lnTo>
                  <a:lnTo>
                    <a:pt x="24" y="631"/>
                  </a:lnTo>
                  <a:lnTo>
                    <a:pt x="10" y="595"/>
                  </a:lnTo>
                  <a:lnTo>
                    <a:pt x="10" y="567"/>
                  </a:lnTo>
                  <a:lnTo>
                    <a:pt x="19" y="540"/>
                  </a:lnTo>
                  <a:lnTo>
                    <a:pt x="40" y="517"/>
                  </a:lnTo>
                  <a:lnTo>
                    <a:pt x="59" y="493"/>
                  </a:lnTo>
                  <a:lnTo>
                    <a:pt x="59" y="475"/>
                  </a:lnTo>
                  <a:lnTo>
                    <a:pt x="16" y="387"/>
                  </a:lnTo>
                  <a:lnTo>
                    <a:pt x="7" y="354"/>
                  </a:lnTo>
                  <a:lnTo>
                    <a:pt x="0" y="324"/>
                  </a:lnTo>
                  <a:lnTo>
                    <a:pt x="16" y="297"/>
                  </a:lnTo>
                  <a:lnTo>
                    <a:pt x="34" y="276"/>
                  </a:lnTo>
                  <a:lnTo>
                    <a:pt x="50" y="260"/>
                  </a:lnTo>
                  <a:lnTo>
                    <a:pt x="50" y="245"/>
                  </a:lnTo>
                  <a:lnTo>
                    <a:pt x="34" y="219"/>
                  </a:lnTo>
                  <a:lnTo>
                    <a:pt x="10" y="194"/>
                  </a:lnTo>
                  <a:lnTo>
                    <a:pt x="10" y="168"/>
                  </a:lnTo>
                  <a:lnTo>
                    <a:pt x="27" y="144"/>
                  </a:lnTo>
                  <a:lnTo>
                    <a:pt x="50" y="123"/>
                  </a:lnTo>
                  <a:lnTo>
                    <a:pt x="72" y="113"/>
                  </a:lnTo>
                  <a:lnTo>
                    <a:pt x="82" y="96"/>
                  </a:lnTo>
                  <a:lnTo>
                    <a:pt x="74" y="75"/>
                  </a:lnTo>
                  <a:lnTo>
                    <a:pt x="59" y="51"/>
                  </a:lnTo>
                  <a:lnTo>
                    <a:pt x="50" y="26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025720" y="3854520"/>
              <a:ext cx="98280" cy="920520"/>
            </a:xfrm>
            <a:custGeom>
              <a:avLst/>
              <a:gdLst/>
              <a:ahLst/>
              <a:rect l="l" t="t" r="r" b="b"/>
              <a:pathLst>
                <a:path w="124" h="1159">
                  <a:moveTo>
                    <a:pt x="94" y="0"/>
                  </a:moveTo>
                  <a:lnTo>
                    <a:pt x="110" y="31"/>
                  </a:lnTo>
                  <a:lnTo>
                    <a:pt x="124" y="88"/>
                  </a:lnTo>
                  <a:lnTo>
                    <a:pt x="116" y="112"/>
                  </a:lnTo>
                  <a:lnTo>
                    <a:pt x="84" y="128"/>
                  </a:lnTo>
                  <a:lnTo>
                    <a:pt x="63" y="145"/>
                  </a:lnTo>
                  <a:lnTo>
                    <a:pt x="63" y="190"/>
                  </a:lnTo>
                  <a:lnTo>
                    <a:pt x="79" y="233"/>
                  </a:lnTo>
                  <a:lnTo>
                    <a:pt x="100" y="263"/>
                  </a:lnTo>
                  <a:lnTo>
                    <a:pt x="103" y="319"/>
                  </a:lnTo>
                  <a:lnTo>
                    <a:pt x="91" y="338"/>
                  </a:lnTo>
                  <a:lnTo>
                    <a:pt x="71" y="362"/>
                  </a:lnTo>
                  <a:lnTo>
                    <a:pt x="68" y="400"/>
                  </a:lnTo>
                  <a:lnTo>
                    <a:pt x="79" y="434"/>
                  </a:lnTo>
                  <a:lnTo>
                    <a:pt x="94" y="464"/>
                  </a:lnTo>
                  <a:lnTo>
                    <a:pt x="103" y="512"/>
                  </a:lnTo>
                  <a:lnTo>
                    <a:pt x="103" y="539"/>
                  </a:lnTo>
                  <a:lnTo>
                    <a:pt x="87" y="569"/>
                  </a:lnTo>
                  <a:lnTo>
                    <a:pt x="60" y="596"/>
                  </a:lnTo>
                  <a:lnTo>
                    <a:pt x="60" y="620"/>
                  </a:lnTo>
                  <a:lnTo>
                    <a:pt x="68" y="692"/>
                  </a:lnTo>
                  <a:lnTo>
                    <a:pt x="94" y="722"/>
                  </a:lnTo>
                  <a:lnTo>
                    <a:pt x="110" y="753"/>
                  </a:lnTo>
                  <a:lnTo>
                    <a:pt x="103" y="789"/>
                  </a:lnTo>
                  <a:lnTo>
                    <a:pt x="63" y="813"/>
                  </a:lnTo>
                  <a:lnTo>
                    <a:pt x="44" y="837"/>
                  </a:lnTo>
                  <a:lnTo>
                    <a:pt x="40" y="882"/>
                  </a:lnTo>
                  <a:lnTo>
                    <a:pt x="60" y="939"/>
                  </a:lnTo>
                  <a:lnTo>
                    <a:pt x="77" y="996"/>
                  </a:lnTo>
                  <a:lnTo>
                    <a:pt x="77" y="1028"/>
                  </a:lnTo>
                  <a:lnTo>
                    <a:pt x="68" y="1071"/>
                  </a:lnTo>
                  <a:lnTo>
                    <a:pt x="44" y="1079"/>
                  </a:lnTo>
                  <a:lnTo>
                    <a:pt x="30" y="1112"/>
                  </a:lnTo>
                  <a:lnTo>
                    <a:pt x="30" y="1149"/>
                  </a:lnTo>
                  <a:lnTo>
                    <a:pt x="0" y="1159"/>
                  </a:lnTo>
                  <a:lnTo>
                    <a:pt x="13" y="1119"/>
                  </a:lnTo>
                  <a:lnTo>
                    <a:pt x="37" y="1071"/>
                  </a:lnTo>
                  <a:lnTo>
                    <a:pt x="44" y="1038"/>
                  </a:lnTo>
                  <a:lnTo>
                    <a:pt x="44" y="974"/>
                  </a:lnTo>
                  <a:lnTo>
                    <a:pt x="30" y="918"/>
                  </a:lnTo>
                  <a:lnTo>
                    <a:pt x="24" y="875"/>
                  </a:lnTo>
                  <a:lnTo>
                    <a:pt x="21" y="830"/>
                  </a:lnTo>
                  <a:lnTo>
                    <a:pt x="47" y="794"/>
                  </a:lnTo>
                  <a:lnTo>
                    <a:pt x="63" y="770"/>
                  </a:lnTo>
                  <a:lnTo>
                    <a:pt x="53" y="722"/>
                  </a:lnTo>
                  <a:lnTo>
                    <a:pt x="30" y="684"/>
                  </a:lnTo>
                  <a:lnTo>
                    <a:pt x="24" y="651"/>
                  </a:lnTo>
                  <a:lnTo>
                    <a:pt x="21" y="603"/>
                  </a:lnTo>
                  <a:lnTo>
                    <a:pt x="31" y="572"/>
                  </a:lnTo>
                  <a:lnTo>
                    <a:pt x="53" y="539"/>
                  </a:lnTo>
                  <a:lnTo>
                    <a:pt x="68" y="515"/>
                  </a:lnTo>
                  <a:lnTo>
                    <a:pt x="68" y="491"/>
                  </a:lnTo>
                  <a:lnTo>
                    <a:pt x="53" y="464"/>
                  </a:lnTo>
                  <a:lnTo>
                    <a:pt x="37" y="410"/>
                  </a:lnTo>
                  <a:lnTo>
                    <a:pt x="37" y="376"/>
                  </a:lnTo>
                  <a:lnTo>
                    <a:pt x="44" y="343"/>
                  </a:lnTo>
                  <a:lnTo>
                    <a:pt x="60" y="319"/>
                  </a:lnTo>
                  <a:lnTo>
                    <a:pt x="63" y="295"/>
                  </a:lnTo>
                  <a:lnTo>
                    <a:pt x="60" y="265"/>
                  </a:lnTo>
                  <a:lnTo>
                    <a:pt x="40" y="223"/>
                  </a:lnTo>
                  <a:lnTo>
                    <a:pt x="30" y="193"/>
                  </a:lnTo>
                  <a:lnTo>
                    <a:pt x="31" y="142"/>
                  </a:lnTo>
                  <a:lnTo>
                    <a:pt x="47" y="121"/>
                  </a:lnTo>
                  <a:lnTo>
                    <a:pt x="68" y="88"/>
                  </a:lnTo>
                  <a:lnTo>
                    <a:pt x="79" y="61"/>
                  </a:lnTo>
                  <a:lnTo>
                    <a:pt x="71" y="37"/>
                  </a:lnTo>
                  <a:lnTo>
                    <a:pt x="77" y="13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868400" y="3745080"/>
              <a:ext cx="225360" cy="196560"/>
            </a:xfrm>
            <a:custGeom>
              <a:avLst/>
              <a:gdLst/>
              <a:ahLst/>
              <a:rect l="l" t="t" r="r" b="b"/>
              <a:pathLst>
                <a:path w="283" h="248">
                  <a:moveTo>
                    <a:pt x="283" y="201"/>
                  </a:moveTo>
                  <a:lnTo>
                    <a:pt x="197" y="129"/>
                  </a:lnTo>
                  <a:lnTo>
                    <a:pt x="125" y="64"/>
                  </a:lnTo>
                  <a:lnTo>
                    <a:pt x="60" y="0"/>
                  </a:lnTo>
                  <a:lnTo>
                    <a:pt x="0" y="0"/>
                  </a:lnTo>
                  <a:lnTo>
                    <a:pt x="141" y="105"/>
                  </a:lnTo>
                  <a:lnTo>
                    <a:pt x="208" y="168"/>
                  </a:lnTo>
                  <a:lnTo>
                    <a:pt x="267" y="248"/>
                  </a:lnTo>
                  <a:lnTo>
                    <a:pt x="283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865160" y="3857760"/>
              <a:ext cx="195480" cy="163440"/>
            </a:xfrm>
            <a:custGeom>
              <a:avLst/>
              <a:gdLst/>
              <a:ahLst/>
              <a:rect l="l" t="t" r="r" b="b"/>
              <a:pathLst>
                <a:path w="245" h="205">
                  <a:moveTo>
                    <a:pt x="245" y="129"/>
                  </a:moveTo>
                  <a:lnTo>
                    <a:pt x="182" y="105"/>
                  </a:lnTo>
                  <a:lnTo>
                    <a:pt x="135" y="64"/>
                  </a:lnTo>
                  <a:lnTo>
                    <a:pt x="48" y="0"/>
                  </a:lnTo>
                  <a:lnTo>
                    <a:pt x="0" y="0"/>
                  </a:lnTo>
                  <a:lnTo>
                    <a:pt x="112" y="64"/>
                  </a:lnTo>
                  <a:lnTo>
                    <a:pt x="154" y="108"/>
                  </a:lnTo>
                  <a:lnTo>
                    <a:pt x="245" y="205"/>
                  </a:lnTo>
                  <a:lnTo>
                    <a:pt x="241" y="145"/>
                  </a:lnTo>
                  <a:lnTo>
                    <a:pt x="245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836720" y="3954600"/>
              <a:ext cx="230040" cy="252360"/>
            </a:xfrm>
            <a:custGeom>
              <a:avLst/>
              <a:gdLst/>
              <a:ahLst/>
              <a:rect l="l" t="t" r="r" b="b"/>
              <a:pathLst>
                <a:path w="290" h="318">
                  <a:moveTo>
                    <a:pt x="284" y="237"/>
                  </a:moveTo>
                  <a:lnTo>
                    <a:pt x="204" y="165"/>
                  </a:lnTo>
                  <a:lnTo>
                    <a:pt x="173" y="116"/>
                  </a:lnTo>
                  <a:lnTo>
                    <a:pt x="110" y="68"/>
                  </a:lnTo>
                  <a:lnTo>
                    <a:pt x="54" y="24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47" y="57"/>
                  </a:lnTo>
                  <a:lnTo>
                    <a:pt x="134" y="113"/>
                  </a:lnTo>
                  <a:lnTo>
                    <a:pt x="197" y="179"/>
                  </a:lnTo>
                  <a:lnTo>
                    <a:pt x="241" y="251"/>
                  </a:lnTo>
                  <a:lnTo>
                    <a:pt x="290" y="318"/>
                  </a:lnTo>
                  <a:lnTo>
                    <a:pt x="284" y="2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859040" y="4159080"/>
              <a:ext cx="177840" cy="147960"/>
            </a:xfrm>
            <a:custGeom>
              <a:avLst/>
              <a:gdLst/>
              <a:ahLst/>
              <a:rect l="l" t="t" r="r" b="b"/>
              <a:pathLst>
                <a:path w="225" h="186">
                  <a:moveTo>
                    <a:pt x="225" y="153"/>
                  </a:moveTo>
                  <a:lnTo>
                    <a:pt x="162" y="84"/>
                  </a:lnTo>
                  <a:lnTo>
                    <a:pt x="96" y="40"/>
                  </a:lnTo>
                  <a:lnTo>
                    <a:pt x="40" y="10"/>
                  </a:lnTo>
                  <a:lnTo>
                    <a:pt x="0" y="0"/>
                  </a:lnTo>
                  <a:lnTo>
                    <a:pt x="25" y="40"/>
                  </a:lnTo>
                  <a:lnTo>
                    <a:pt x="96" y="81"/>
                  </a:lnTo>
                  <a:lnTo>
                    <a:pt x="151" y="139"/>
                  </a:lnTo>
                  <a:lnTo>
                    <a:pt x="178" y="178"/>
                  </a:lnTo>
                  <a:lnTo>
                    <a:pt x="201" y="186"/>
                  </a:lnTo>
                  <a:lnTo>
                    <a:pt x="223" y="172"/>
                  </a:lnTo>
                  <a:lnTo>
                    <a:pt x="225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838160" y="4264200"/>
              <a:ext cx="196920" cy="182520"/>
            </a:xfrm>
            <a:custGeom>
              <a:avLst/>
              <a:gdLst/>
              <a:ahLst/>
              <a:rect l="l" t="t" r="r" b="b"/>
              <a:pathLst>
                <a:path w="248" h="231">
                  <a:moveTo>
                    <a:pt x="248" y="214"/>
                  </a:moveTo>
                  <a:lnTo>
                    <a:pt x="183" y="145"/>
                  </a:lnTo>
                  <a:lnTo>
                    <a:pt x="104" y="62"/>
                  </a:lnTo>
                  <a:lnTo>
                    <a:pt x="57" y="21"/>
                  </a:lnTo>
                  <a:lnTo>
                    <a:pt x="20" y="0"/>
                  </a:lnTo>
                  <a:lnTo>
                    <a:pt x="0" y="14"/>
                  </a:lnTo>
                  <a:lnTo>
                    <a:pt x="41" y="48"/>
                  </a:lnTo>
                  <a:lnTo>
                    <a:pt x="113" y="121"/>
                  </a:lnTo>
                  <a:lnTo>
                    <a:pt x="179" y="193"/>
                  </a:lnTo>
                  <a:lnTo>
                    <a:pt x="223" y="231"/>
                  </a:lnTo>
                  <a:lnTo>
                    <a:pt x="235" y="231"/>
                  </a:lnTo>
                  <a:lnTo>
                    <a:pt x="248" y="2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860480" y="4416480"/>
              <a:ext cx="139680" cy="146160"/>
            </a:xfrm>
            <a:custGeom>
              <a:avLst/>
              <a:gdLst/>
              <a:ahLst/>
              <a:rect l="l" t="t" r="r" b="b"/>
              <a:pathLst>
                <a:path w="175" h="183">
                  <a:moveTo>
                    <a:pt x="172" y="153"/>
                  </a:moveTo>
                  <a:lnTo>
                    <a:pt x="100" y="47"/>
                  </a:lnTo>
                  <a:lnTo>
                    <a:pt x="31" y="6"/>
                  </a:lnTo>
                  <a:lnTo>
                    <a:pt x="0" y="0"/>
                  </a:lnTo>
                  <a:lnTo>
                    <a:pt x="7" y="21"/>
                  </a:lnTo>
                  <a:lnTo>
                    <a:pt x="87" y="81"/>
                  </a:lnTo>
                  <a:lnTo>
                    <a:pt x="163" y="176"/>
                  </a:lnTo>
                  <a:lnTo>
                    <a:pt x="175" y="183"/>
                  </a:lnTo>
                  <a:lnTo>
                    <a:pt x="172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66960" y="4557600"/>
              <a:ext cx="93600" cy="109800"/>
            </a:xfrm>
            <a:custGeom>
              <a:avLst/>
              <a:gdLst/>
              <a:ahLst/>
              <a:rect l="l" t="t" r="r" b="b"/>
              <a:pathLst>
                <a:path w="118" h="138">
                  <a:moveTo>
                    <a:pt x="112" y="105"/>
                  </a:moveTo>
                  <a:lnTo>
                    <a:pt x="55" y="24"/>
                  </a:lnTo>
                  <a:lnTo>
                    <a:pt x="3" y="0"/>
                  </a:lnTo>
                  <a:lnTo>
                    <a:pt x="0" y="24"/>
                  </a:lnTo>
                  <a:lnTo>
                    <a:pt x="24" y="64"/>
                  </a:lnTo>
                  <a:lnTo>
                    <a:pt x="87" y="118"/>
                  </a:lnTo>
                  <a:lnTo>
                    <a:pt x="105" y="138"/>
                  </a:lnTo>
                  <a:lnTo>
                    <a:pt x="118" y="129"/>
                  </a:lnTo>
                  <a:lnTo>
                    <a:pt x="112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873080" y="4702320"/>
              <a:ext cx="119160" cy="123840"/>
            </a:xfrm>
            <a:custGeom>
              <a:avLst/>
              <a:gdLst/>
              <a:ahLst/>
              <a:rect l="l" t="t" r="r" b="b"/>
              <a:pathLst>
                <a:path w="150" h="156">
                  <a:moveTo>
                    <a:pt x="150" y="156"/>
                  </a:moveTo>
                  <a:lnTo>
                    <a:pt x="129" y="132"/>
                  </a:lnTo>
                  <a:lnTo>
                    <a:pt x="86" y="67"/>
                  </a:lnTo>
                  <a:lnTo>
                    <a:pt x="26" y="0"/>
                  </a:lnTo>
                  <a:lnTo>
                    <a:pt x="0" y="0"/>
                  </a:lnTo>
                  <a:lnTo>
                    <a:pt x="10" y="24"/>
                  </a:lnTo>
                  <a:lnTo>
                    <a:pt x="57" y="88"/>
                  </a:lnTo>
                  <a:lnTo>
                    <a:pt x="104" y="153"/>
                  </a:lnTo>
                  <a:lnTo>
                    <a:pt x="15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035080" y="3673440"/>
              <a:ext cx="363600" cy="1376280"/>
            </a:xfrm>
            <a:custGeom>
              <a:avLst/>
              <a:gdLst/>
              <a:ahLst/>
              <a:rect l="l" t="t" r="r" b="b"/>
              <a:pathLst>
                <a:path w="458" h="1734">
                  <a:moveTo>
                    <a:pt x="82" y="163"/>
                  </a:moveTo>
                  <a:lnTo>
                    <a:pt x="66" y="211"/>
                  </a:lnTo>
                  <a:lnTo>
                    <a:pt x="79" y="259"/>
                  </a:lnTo>
                  <a:lnTo>
                    <a:pt x="82" y="307"/>
                  </a:lnTo>
                  <a:lnTo>
                    <a:pt x="66" y="337"/>
                  </a:lnTo>
                  <a:lnTo>
                    <a:pt x="42" y="371"/>
                  </a:lnTo>
                  <a:lnTo>
                    <a:pt x="32" y="425"/>
                  </a:lnTo>
                  <a:lnTo>
                    <a:pt x="47" y="461"/>
                  </a:lnTo>
                  <a:lnTo>
                    <a:pt x="70" y="500"/>
                  </a:lnTo>
                  <a:lnTo>
                    <a:pt x="70" y="533"/>
                  </a:lnTo>
                  <a:lnTo>
                    <a:pt x="56" y="565"/>
                  </a:lnTo>
                  <a:lnTo>
                    <a:pt x="34" y="605"/>
                  </a:lnTo>
                  <a:lnTo>
                    <a:pt x="42" y="646"/>
                  </a:lnTo>
                  <a:lnTo>
                    <a:pt x="73" y="731"/>
                  </a:lnTo>
                  <a:lnTo>
                    <a:pt x="70" y="767"/>
                  </a:lnTo>
                  <a:lnTo>
                    <a:pt x="26" y="836"/>
                  </a:lnTo>
                  <a:lnTo>
                    <a:pt x="26" y="896"/>
                  </a:lnTo>
                  <a:lnTo>
                    <a:pt x="50" y="941"/>
                  </a:lnTo>
                  <a:lnTo>
                    <a:pt x="66" y="981"/>
                  </a:lnTo>
                  <a:lnTo>
                    <a:pt x="63" y="1016"/>
                  </a:lnTo>
                  <a:lnTo>
                    <a:pt x="23" y="1053"/>
                  </a:lnTo>
                  <a:lnTo>
                    <a:pt x="16" y="1080"/>
                  </a:lnTo>
                  <a:lnTo>
                    <a:pt x="23" y="1145"/>
                  </a:lnTo>
                  <a:lnTo>
                    <a:pt x="42" y="1215"/>
                  </a:lnTo>
                  <a:lnTo>
                    <a:pt x="42" y="1256"/>
                  </a:lnTo>
                  <a:lnTo>
                    <a:pt x="40" y="1287"/>
                  </a:lnTo>
                  <a:lnTo>
                    <a:pt x="10" y="1335"/>
                  </a:lnTo>
                  <a:lnTo>
                    <a:pt x="0" y="1375"/>
                  </a:lnTo>
                  <a:lnTo>
                    <a:pt x="3" y="1419"/>
                  </a:lnTo>
                  <a:lnTo>
                    <a:pt x="23" y="1450"/>
                  </a:lnTo>
                  <a:lnTo>
                    <a:pt x="47" y="1480"/>
                  </a:lnTo>
                  <a:lnTo>
                    <a:pt x="26" y="1521"/>
                  </a:lnTo>
                  <a:lnTo>
                    <a:pt x="16" y="1561"/>
                  </a:lnTo>
                  <a:lnTo>
                    <a:pt x="34" y="1593"/>
                  </a:lnTo>
                  <a:lnTo>
                    <a:pt x="63" y="1617"/>
                  </a:lnTo>
                  <a:lnTo>
                    <a:pt x="66" y="1657"/>
                  </a:lnTo>
                  <a:lnTo>
                    <a:pt x="66" y="1690"/>
                  </a:lnTo>
                  <a:lnTo>
                    <a:pt x="70" y="1734"/>
                  </a:lnTo>
                  <a:lnTo>
                    <a:pt x="120" y="1698"/>
                  </a:lnTo>
                  <a:lnTo>
                    <a:pt x="173" y="1669"/>
                  </a:lnTo>
                  <a:lnTo>
                    <a:pt x="222" y="1653"/>
                  </a:lnTo>
                  <a:lnTo>
                    <a:pt x="295" y="1653"/>
                  </a:lnTo>
                  <a:lnTo>
                    <a:pt x="348" y="1644"/>
                  </a:lnTo>
                  <a:lnTo>
                    <a:pt x="379" y="1617"/>
                  </a:lnTo>
                  <a:lnTo>
                    <a:pt x="435" y="1602"/>
                  </a:lnTo>
                  <a:lnTo>
                    <a:pt x="405" y="1569"/>
                  </a:lnTo>
                  <a:lnTo>
                    <a:pt x="395" y="1524"/>
                  </a:lnTo>
                  <a:lnTo>
                    <a:pt x="414" y="1473"/>
                  </a:lnTo>
                  <a:lnTo>
                    <a:pt x="411" y="1399"/>
                  </a:lnTo>
                  <a:lnTo>
                    <a:pt x="395" y="1347"/>
                  </a:lnTo>
                  <a:lnTo>
                    <a:pt x="379" y="1320"/>
                  </a:lnTo>
                  <a:lnTo>
                    <a:pt x="374" y="1280"/>
                  </a:lnTo>
                  <a:lnTo>
                    <a:pt x="395" y="1232"/>
                  </a:lnTo>
                  <a:lnTo>
                    <a:pt x="388" y="1199"/>
                  </a:lnTo>
                  <a:lnTo>
                    <a:pt x="348" y="1142"/>
                  </a:lnTo>
                  <a:lnTo>
                    <a:pt x="350" y="1110"/>
                  </a:lnTo>
                  <a:lnTo>
                    <a:pt x="366" y="1080"/>
                  </a:lnTo>
                  <a:lnTo>
                    <a:pt x="402" y="1040"/>
                  </a:lnTo>
                  <a:lnTo>
                    <a:pt x="389" y="1008"/>
                  </a:lnTo>
                  <a:lnTo>
                    <a:pt x="363" y="941"/>
                  </a:lnTo>
                  <a:lnTo>
                    <a:pt x="342" y="896"/>
                  </a:lnTo>
                  <a:lnTo>
                    <a:pt x="342" y="846"/>
                  </a:lnTo>
                  <a:lnTo>
                    <a:pt x="414" y="821"/>
                  </a:lnTo>
                  <a:lnTo>
                    <a:pt x="422" y="775"/>
                  </a:lnTo>
                  <a:lnTo>
                    <a:pt x="414" y="748"/>
                  </a:lnTo>
                  <a:lnTo>
                    <a:pt x="395" y="724"/>
                  </a:lnTo>
                  <a:lnTo>
                    <a:pt x="398" y="683"/>
                  </a:lnTo>
                  <a:lnTo>
                    <a:pt x="395" y="635"/>
                  </a:lnTo>
                  <a:lnTo>
                    <a:pt x="374" y="611"/>
                  </a:lnTo>
                  <a:lnTo>
                    <a:pt x="358" y="578"/>
                  </a:lnTo>
                  <a:lnTo>
                    <a:pt x="372" y="547"/>
                  </a:lnTo>
                  <a:lnTo>
                    <a:pt x="388" y="509"/>
                  </a:lnTo>
                  <a:lnTo>
                    <a:pt x="388" y="485"/>
                  </a:lnTo>
                  <a:lnTo>
                    <a:pt x="363" y="452"/>
                  </a:lnTo>
                  <a:lnTo>
                    <a:pt x="355" y="425"/>
                  </a:lnTo>
                  <a:lnTo>
                    <a:pt x="363" y="404"/>
                  </a:lnTo>
                  <a:lnTo>
                    <a:pt x="388" y="388"/>
                  </a:lnTo>
                  <a:lnTo>
                    <a:pt x="389" y="361"/>
                  </a:lnTo>
                  <a:lnTo>
                    <a:pt x="382" y="346"/>
                  </a:lnTo>
                  <a:lnTo>
                    <a:pt x="355" y="305"/>
                  </a:lnTo>
                  <a:lnTo>
                    <a:pt x="348" y="259"/>
                  </a:lnTo>
                  <a:lnTo>
                    <a:pt x="350" y="225"/>
                  </a:lnTo>
                  <a:lnTo>
                    <a:pt x="374" y="192"/>
                  </a:lnTo>
                  <a:lnTo>
                    <a:pt x="438" y="123"/>
                  </a:lnTo>
                  <a:lnTo>
                    <a:pt x="458" y="63"/>
                  </a:lnTo>
                  <a:lnTo>
                    <a:pt x="458" y="15"/>
                  </a:lnTo>
                  <a:lnTo>
                    <a:pt x="438" y="0"/>
                  </a:lnTo>
                  <a:lnTo>
                    <a:pt x="405" y="15"/>
                  </a:lnTo>
                  <a:lnTo>
                    <a:pt x="326" y="66"/>
                  </a:lnTo>
                  <a:lnTo>
                    <a:pt x="253" y="99"/>
                  </a:lnTo>
                  <a:lnTo>
                    <a:pt x="176" y="130"/>
                  </a:lnTo>
                  <a:lnTo>
                    <a:pt x="126" y="147"/>
                  </a:lnTo>
                  <a:lnTo>
                    <a:pt x="82" y="16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781280" y="3660840"/>
              <a:ext cx="650880" cy="1409760"/>
            </a:xfrm>
            <a:custGeom>
              <a:avLst/>
              <a:gdLst/>
              <a:ahLst/>
              <a:rect l="l" t="t" r="r" b="b"/>
              <a:pathLst>
                <a:path w="819" h="1774">
                  <a:moveTo>
                    <a:pt x="696" y="1605"/>
                  </a:moveTo>
                  <a:lnTo>
                    <a:pt x="661" y="1645"/>
                  </a:lnTo>
                  <a:lnTo>
                    <a:pt x="606" y="1659"/>
                  </a:lnTo>
                  <a:lnTo>
                    <a:pt x="534" y="1666"/>
                  </a:lnTo>
                  <a:lnTo>
                    <a:pt x="458" y="1683"/>
                  </a:lnTo>
                  <a:lnTo>
                    <a:pt x="408" y="1714"/>
                  </a:lnTo>
                  <a:lnTo>
                    <a:pt x="392" y="1731"/>
                  </a:lnTo>
                  <a:lnTo>
                    <a:pt x="376" y="1723"/>
                  </a:lnTo>
                  <a:lnTo>
                    <a:pt x="285" y="1653"/>
                  </a:lnTo>
                  <a:lnTo>
                    <a:pt x="166" y="1557"/>
                  </a:lnTo>
                  <a:lnTo>
                    <a:pt x="126" y="1497"/>
                  </a:lnTo>
                  <a:lnTo>
                    <a:pt x="66" y="1435"/>
                  </a:lnTo>
                  <a:lnTo>
                    <a:pt x="47" y="1387"/>
                  </a:lnTo>
                  <a:lnTo>
                    <a:pt x="0" y="1380"/>
                  </a:lnTo>
                  <a:lnTo>
                    <a:pt x="23" y="1432"/>
                  </a:lnTo>
                  <a:lnTo>
                    <a:pt x="50" y="1483"/>
                  </a:lnTo>
                  <a:lnTo>
                    <a:pt x="126" y="1540"/>
                  </a:lnTo>
                  <a:lnTo>
                    <a:pt x="179" y="1611"/>
                  </a:lnTo>
                  <a:lnTo>
                    <a:pt x="308" y="1693"/>
                  </a:lnTo>
                  <a:lnTo>
                    <a:pt x="387" y="1774"/>
                  </a:lnTo>
                  <a:lnTo>
                    <a:pt x="418" y="1767"/>
                  </a:lnTo>
                  <a:lnTo>
                    <a:pt x="451" y="1726"/>
                  </a:lnTo>
                  <a:lnTo>
                    <a:pt x="495" y="1702"/>
                  </a:lnTo>
                  <a:lnTo>
                    <a:pt x="551" y="1686"/>
                  </a:lnTo>
                  <a:lnTo>
                    <a:pt x="670" y="1675"/>
                  </a:lnTo>
                  <a:lnTo>
                    <a:pt x="703" y="1653"/>
                  </a:lnTo>
                  <a:lnTo>
                    <a:pt x="764" y="1638"/>
                  </a:lnTo>
                  <a:lnTo>
                    <a:pt x="774" y="1611"/>
                  </a:lnTo>
                  <a:lnTo>
                    <a:pt x="756" y="1578"/>
                  </a:lnTo>
                  <a:lnTo>
                    <a:pt x="734" y="1546"/>
                  </a:lnTo>
                  <a:lnTo>
                    <a:pt x="747" y="1506"/>
                  </a:lnTo>
                  <a:lnTo>
                    <a:pt x="764" y="1483"/>
                  </a:lnTo>
                  <a:lnTo>
                    <a:pt x="764" y="1449"/>
                  </a:lnTo>
                  <a:lnTo>
                    <a:pt x="747" y="1395"/>
                  </a:lnTo>
                  <a:lnTo>
                    <a:pt x="740" y="1368"/>
                  </a:lnTo>
                  <a:lnTo>
                    <a:pt x="719" y="1344"/>
                  </a:lnTo>
                  <a:lnTo>
                    <a:pt x="709" y="1316"/>
                  </a:lnTo>
                  <a:lnTo>
                    <a:pt x="719" y="1289"/>
                  </a:lnTo>
                  <a:lnTo>
                    <a:pt x="743" y="1266"/>
                  </a:lnTo>
                  <a:lnTo>
                    <a:pt x="740" y="1232"/>
                  </a:lnTo>
                  <a:lnTo>
                    <a:pt x="727" y="1208"/>
                  </a:lnTo>
                  <a:lnTo>
                    <a:pt x="700" y="1170"/>
                  </a:lnTo>
                  <a:lnTo>
                    <a:pt x="684" y="1151"/>
                  </a:lnTo>
                  <a:lnTo>
                    <a:pt x="693" y="1122"/>
                  </a:lnTo>
                  <a:lnTo>
                    <a:pt x="733" y="1098"/>
                  </a:lnTo>
                  <a:lnTo>
                    <a:pt x="747" y="1065"/>
                  </a:lnTo>
                  <a:lnTo>
                    <a:pt x="743" y="1038"/>
                  </a:lnTo>
                  <a:lnTo>
                    <a:pt x="717" y="993"/>
                  </a:lnTo>
                  <a:lnTo>
                    <a:pt x="687" y="936"/>
                  </a:lnTo>
                  <a:lnTo>
                    <a:pt x="677" y="896"/>
                  </a:lnTo>
                  <a:lnTo>
                    <a:pt x="693" y="879"/>
                  </a:lnTo>
                  <a:lnTo>
                    <a:pt x="734" y="864"/>
                  </a:lnTo>
                  <a:lnTo>
                    <a:pt x="759" y="848"/>
                  </a:lnTo>
                  <a:lnTo>
                    <a:pt x="764" y="797"/>
                  </a:lnTo>
                  <a:lnTo>
                    <a:pt x="734" y="740"/>
                  </a:lnTo>
                  <a:lnTo>
                    <a:pt x="740" y="703"/>
                  </a:lnTo>
                  <a:lnTo>
                    <a:pt x="750" y="668"/>
                  </a:lnTo>
                  <a:lnTo>
                    <a:pt x="724" y="628"/>
                  </a:lnTo>
                  <a:lnTo>
                    <a:pt x="700" y="590"/>
                  </a:lnTo>
                  <a:lnTo>
                    <a:pt x="709" y="566"/>
                  </a:lnTo>
                  <a:lnTo>
                    <a:pt x="724" y="542"/>
                  </a:lnTo>
                  <a:lnTo>
                    <a:pt x="724" y="502"/>
                  </a:lnTo>
                  <a:lnTo>
                    <a:pt x="709" y="478"/>
                  </a:lnTo>
                  <a:lnTo>
                    <a:pt x="693" y="458"/>
                  </a:lnTo>
                  <a:lnTo>
                    <a:pt x="696" y="428"/>
                  </a:lnTo>
                  <a:lnTo>
                    <a:pt x="724" y="413"/>
                  </a:lnTo>
                  <a:lnTo>
                    <a:pt x="740" y="397"/>
                  </a:lnTo>
                  <a:lnTo>
                    <a:pt x="733" y="365"/>
                  </a:lnTo>
                  <a:lnTo>
                    <a:pt x="700" y="325"/>
                  </a:lnTo>
                  <a:lnTo>
                    <a:pt x="687" y="289"/>
                  </a:lnTo>
                  <a:lnTo>
                    <a:pt x="684" y="249"/>
                  </a:lnTo>
                  <a:lnTo>
                    <a:pt x="711" y="210"/>
                  </a:lnTo>
                  <a:lnTo>
                    <a:pt x="766" y="147"/>
                  </a:lnTo>
                  <a:lnTo>
                    <a:pt x="796" y="99"/>
                  </a:lnTo>
                  <a:lnTo>
                    <a:pt x="819" y="58"/>
                  </a:lnTo>
                  <a:lnTo>
                    <a:pt x="812" y="18"/>
                  </a:lnTo>
                  <a:lnTo>
                    <a:pt x="790" y="0"/>
                  </a:lnTo>
                  <a:lnTo>
                    <a:pt x="774" y="3"/>
                  </a:lnTo>
                  <a:lnTo>
                    <a:pt x="747" y="34"/>
                  </a:lnTo>
                  <a:lnTo>
                    <a:pt x="766" y="58"/>
                  </a:lnTo>
                  <a:lnTo>
                    <a:pt x="764" y="99"/>
                  </a:lnTo>
                  <a:lnTo>
                    <a:pt x="727" y="169"/>
                  </a:lnTo>
                  <a:lnTo>
                    <a:pt x="680" y="210"/>
                  </a:lnTo>
                  <a:lnTo>
                    <a:pt x="664" y="234"/>
                  </a:lnTo>
                  <a:lnTo>
                    <a:pt x="653" y="265"/>
                  </a:lnTo>
                  <a:lnTo>
                    <a:pt x="647" y="285"/>
                  </a:lnTo>
                  <a:lnTo>
                    <a:pt x="577" y="340"/>
                  </a:lnTo>
                  <a:lnTo>
                    <a:pt x="514" y="377"/>
                  </a:lnTo>
                  <a:lnTo>
                    <a:pt x="505" y="404"/>
                  </a:lnTo>
                  <a:lnTo>
                    <a:pt x="527" y="410"/>
                  </a:lnTo>
                  <a:lnTo>
                    <a:pt x="621" y="340"/>
                  </a:lnTo>
                  <a:lnTo>
                    <a:pt x="670" y="325"/>
                  </a:lnTo>
                  <a:lnTo>
                    <a:pt x="693" y="370"/>
                  </a:lnTo>
                  <a:lnTo>
                    <a:pt x="700" y="389"/>
                  </a:lnTo>
                  <a:lnTo>
                    <a:pt x="677" y="410"/>
                  </a:lnTo>
                  <a:lnTo>
                    <a:pt x="656" y="427"/>
                  </a:lnTo>
                  <a:lnTo>
                    <a:pt x="653" y="454"/>
                  </a:lnTo>
                  <a:lnTo>
                    <a:pt x="661" y="482"/>
                  </a:lnTo>
                  <a:lnTo>
                    <a:pt x="640" y="506"/>
                  </a:lnTo>
                  <a:lnTo>
                    <a:pt x="581" y="533"/>
                  </a:lnTo>
                  <a:lnTo>
                    <a:pt x="495" y="571"/>
                  </a:lnTo>
                  <a:lnTo>
                    <a:pt x="527" y="583"/>
                  </a:lnTo>
                  <a:lnTo>
                    <a:pt x="617" y="547"/>
                  </a:lnTo>
                  <a:lnTo>
                    <a:pt x="687" y="509"/>
                  </a:lnTo>
                  <a:lnTo>
                    <a:pt x="700" y="518"/>
                  </a:lnTo>
                  <a:lnTo>
                    <a:pt x="693" y="542"/>
                  </a:lnTo>
                  <a:lnTo>
                    <a:pt x="670" y="566"/>
                  </a:lnTo>
                  <a:lnTo>
                    <a:pt x="661" y="590"/>
                  </a:lnTo>
                  <a:lnTo>
                    <a:pt x="671" y="622"/>
                  </a:lnTo>
                  <a:lnTo>
                    <a:pt x="700" y="647"/>
                  </a:lnTo>
                  <a:lnTo>
                    <a:pt x="700" y="668"/>
                  </a:lnTo>
                  <a:lnTo>
                    <a:pt x="653" y="679"/>
                  </a:lnTo>
                  <a:lnTo>
                    <a:pt x="614" y="733"/>
                  </a:lnTo>
                  <a:lnTo>
                    <a:pt x="567" y="764"/>
                  </a:lnTo>
                  <a:lnTo>
                    <a:pt x="504" y="781"/>
                  </a:lnTo>
                  <a:lnTo>
                    <a:pt x="498" y="797"/>
                  </a:lnTo>
                  <a:lnTo>
                    <a:pt x="537" y="791"/>
                  </a:lnTo>
                  <a:lnTo>
                    <a:pt x="621" y="764"/>
                  </a:lnTo>
                  <a:lnTo>
                    <a:pt x="653" y="740"/>
                  </a:lnTo>
                  <a:lnTo>
                    <a:pt x="671" y="716"/>
                  </a:lnTo>
                  <a:lnTo>
                    <a:pt x="700" y="712"/>
                  </a:lnTo>
                  <a:lnTo>
                    <a:pt x="700" y="740"/>
                  </a:lnTo>
                  <a:lnTo>
                    <a:pt x="719" y="767"/>
                  </a:lnTo>
                  <a:lnTo>
                    <a:pt x="734" y="797"/>
                  </a:lnTo>
                  <a:lnTo>
                    <a:pt x="724" y="821"/>
                  </a:lnTo>
                  <a:lnTo>
                    <a:pt x="687" y="838"/>
                  </a:lnTo>
                  <a:lnTo>
                    <a:pt x="653" y="848"/>
                  </a:lnTo>
                  <a:lnTo>
                    <a:pt x="630" y="872"/>
                  </a:lnTo>
                  <a:lnTo>
                    <a:pt x="521" y="905"/>
                  </a:lnTo>
                  <a:lnTo>
                    <a:pt x="442" y="933"/>
                  </a:lnTo>
                  <a:lnTo>
                    <a:pt x="411" y="950"/>
                  </a:lnTo>
                  <a:lnTo>
                    <a:pt x="434" y="969"/>
                  </a:lnTo>
                  <a:lnTo>
                    <a:pt x="481" y="957"/>
                  </a:lnTo>
                  <a:lnTo>
                    <a:pt x="577" y="920"/>
                  </a:lnTo>
                  <a:lnTo>
                    <a:pt x="640" y="902"/>
                  </a:lnTo>
                  <a:lnTo>
                    <a:pt x="656" y="929"/>
                  </a:lnTo>
                  <a:lnTo>
                    <a:pt x="671" y="977"/>
                  </a:lnTo>
                  <a:lnTo>
                    <a:pt x="700" y="1017"/>
                  </a:lnTo>
                  <a:lnTo>
                    <a:pt x="703" y="1049"/>
                  </a:lnTo>
                  <a:lnTo>
                    <a:pt x="700" y="1079"/>
                  </a:lnTo>
                  <a:lnTo>
                    <a:pt x="670" y="1089"/>
                  </a:lnTo>
                  <a:lnTo>
                    <a:pt x="614" y="1103"/>
                  </a:lnTo>
                  <a:lnTo>
                    <a:pt x="543" y="1136"/>
                  </a:lnTo>
                  <a:lnTo>
                    <a:pt x="440" y="1151"/>
                  </a:lnTo>
                  <a:lnTo>
                    <a:pt x="401" y="1170"/>
                  </a:lnTo>
                  <a:lnTo>
                    <a:pt x="427" y="1184"/>
                  </a:lnTo>
                  <a:lnTo>
                    <a:pt x="518" y="1170"/>
                  </a:lnTo>
                  <a:lnTo>
                    <a:pt x="581" y="1146"/>
                  </a:lnTo>
                  <a:lnTo>
                    <a:pt x="624" y="1130"/>
                  </a:lnTo>
                  <a:lnTo>
                    <a:pt x="661" y="1122"/>
                  </a:lnTo>
                  <a:lnTo>
                    <a:pt x="656" y="1151"/>
                  </a:lnTo>
                  <a:lnTo>
                    <a:pt x="671" y="1191"/>
                  </a:lnTo>
                  <a:lnTo>
                    <a:pt x="696" y="1215"/>
                  </a:lnTo>
                  <a:lnTo>
                    <a:pt x="700" y="1242"/>
                  </a:lnTo>
                  <a:lnTo>
                    <a:pt x="700" y="1266"/>
                  </a:lnTo>
                  <a:lnTo>
                    <a:pt x="670" y="1280"/>
                  </a:lnTo>
                  <a:lnTo>
                    <a:pt x="608" y="1283"/>
                  </a:lnTo>
                  <a:lnTo>
                    <a:pt x="567" y="1296"/>
                  </a:lnTo>
                  <a:lnTo>
                    <a:pt x="471" y="1329"/>
                  </a:lnTo>
                  <a:lnTo>
                    <a:pt x="418" y="1331"/>
                  </a:lnTo>
                  <a:lnTo>
                    <a:pt x="401" y="1355"/>
                  </a:lnTo>
                  <a:lnTo>
                    <a:pt x="424" y="1364"/>
                  </a:lnTo>
                  <a:lnTo>
                    <a:pt x="471" y="1353"/>
                  </a:lnTo>
                  <a:lnTo>
                    <a:pt x="543" y="1331"/>
                  </a:lnTo>
                  <a:lnTo>
                    <a:pt x="581" y="1316"/>
                  </a:lnTo>
                  <a:lnTo>
                    <a:pt x="633" y="1304"/>
                  </a:lnTo>
                  <a:lnTo>
                    <a:pt x="671" y="1307"/>
                  </a:lnTo>
                  <a:lnTo>
                    <a:pt x="684" y="1307"/>
                  </a:lnTo>
                  <a:lnTo>
                    <a:pt x="684" y="1344"/>
                  </a:lnTo>
                  <a:lnTo>
                    <a:pt x="696" y="1364"/>
                  </a:lnTo>
                  <a:lnTo>
                    <a:pt x="624" y="1380"/>
                  </a:lnTo>
                  <a:lnTo>
                    <a:pt x="561" y="1428"/>
                  </a:lnTo>
                  <a:lnTo>
                    <a:pt x="490" y="1452"/>
                  </a:lnTo>
                  <a:lnTo>
                    <a:pt x="442" y="1459"/>
                  </a:lnTo>
                  <a:lnTo>
                    <a:pt x="402" y="1482"/>
                  </a:lnTo>
                  <a:lnTo>
                    <a:pt x="418" y="1497"/>
                  </a:lnTo>
                  <a:lnTo>
                    <a:pt x="458" y="1483"/>
                  </a:lnTo>
                  <a:lnTo>
                    <a:pt x="504" y="1468"/>
                  </a:lnTo>
                  <a:lnTo>
                    <a:pt x="553" y="1459"/>
                  </a:lnTo>
                  <a:lnTo>
                    <a:pt x="598" y="1432"/>
                  </a:lnTo>
                  <a:lnTo>
                    <a:pt x="621" y="1408"/>
                  </a:lnTo>
                  <a:lnTo>
                    <a:pt x="653" y="1404"/>
                  </a:lnTo>
                  <a:lnTo>
                    <a:pt x="693" y="1404"/>
                  </a:lnTo>
                  <a:lnTo>
                    <a:pt x="703" y="1408"/>
                  </a:lnTo>
                  <a:lnTo>
                    <a:pt x="717" y="1435"/>
                  </a:lnTo>
                  <a:lnTo>
                    <a:pt x="724" y="1468"/>
                  </a:lnTo>
                  <a:lnTo>
                    <a:pt x="717" y="1497"/>
                  </a:lnTo>
                  <a:lnTo>
                    <a:pt x="700" y="1513"/>
                  </a:lnTo>
                  <a:lnTo>
                    <a:pt x="687" y="1554"/>
                  </a:lnTo>
                  <a:lnTo>
                    <a:pt x="700" y="1570"/>
                  </a:lnTo>
                  <a:lnTo>
                    <a:pt x="717" y="1587"/>
                  </a:lnTo>
                  <a:lnTo>
                    <a:pt x="717" y="1602"/>
                  </a:lnTo>
                  <a:lnTo>
                    <a:pt x="696" y="16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124000" y="4870440"/>
              <a:ext cx="189000" cy="61920"/>
            </a:xfrm>
            <a:custGeom>
              <a:avLst/>
              <a:gdLst/>
              <a:ahLst/>
              <a:rect l="l" t="t" r="r" b="b"/>
              <a:pathLst>
                <a:path w="237" h="80">
                  <a:moveTo>
                    <a:pt x="0" y="65"/>
                  </a:moveTo>
                  <a:lnTo>
                    <a:pt x="94" y="62"/>
                  </a:lnTo>
                  <a:lnTo>
                    <a:pt x="131" y="41"/>
                  </a:lnTo>
                  <a:lnTo>
                    <a:pt x="162" y="17"/>
                  </a:lnTo>
                  <a:lnTo>
                    <a:pt x="220" y="0"/>
                  </a:lnTo>
                  <a:lnTo>
                    <a:pt x="237" y="17"/>
                  </a:lnTo>
                  <a:lnTo>
                    <a:pt x="212" y="24"/>
                  </a:lnTo>
                  <a:lnTo>
                    <a:pt x="170" y="47"/>
                  </a:lnTo>
                  <a:lnTo>
                    <a:pt x="148" y="62"/>
                  </a:lnTo>
                  <a:lnTo>
                    <a:pt x="110" y="72"/>
                  </a:lnTo>
                  <a:lnTo>
                    <a:pt x="51" y="78"/>
                  </a:lnTo>
                  <a:lnTo>
                    <a:pt x="4" y="8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838160" y="3494160"/>
              <a:ext cx="546120" cy="301680"/>
            </a:xfrm>
            <a:custGeom>
              <a:avLst/>
              <a:gdLst/>
              <a:ahLst/>
              <a:rect l="l" t="t" r="r" b="b"/>
              <a:pathLst>
                <a:path w="687" h="381">
                  <a:moveTo>
                    <a:pt x="20" y="44"/>
                  </a:moveTo>
                  <a:lnTo>
                    <a:pt x="102" y="48"/>
                  </a:lnTo>
                  <a:lnTo>
                    <a:pt x="189" y="51"/>
                  </a:lnTo>
                  <a:lnTo>
                    <a:pt x="245" y="51"/>
                  </a:lnTo>
                  <a:lnTo>
                    <a:pt x="289" y="41"/>
                  </a:lnTo>
                  <a:lnTo>
                    <a:pt x="361" y="20"/>
                  </a:lnTo>
                  <a:lnTo>
                    <a:pt x="395" y="0"/>
                  </a:lnTo>
                  <a:lnTo>
                    <a:pt x="442" y="27"/>
                  </a:lnTo>
                  <a:lnTo>
                    <a:pt x="518" y="81"/>
                  </a:lnTo>
                  <a:lnTo>
                    <a:pt x="574" y="120"/>
                  </a:lnTo>
                  <a:lnTo>
                    <a:pt x="645" y="171"/>
                  </a:lnTo>
                  <a:lnTo>
                    <a:pt x="687" y="210"/>
                  </a:lnTo>
                  <a:lnTo>
                    <a:pt x="647" y="245"/>
                  </a:lnTo>
                  <a:lnTo>
                    <a:pt x="608" y="282"/>
                  </a:lnTo>
                  <a:lnTo>
                    <a:pt x="545" y="309"/>
                  </a:lnTo>
                  <a:lnTo>
                    <a:pt x="479" y="338"/>
                  </a:lnTo>
                  <a:lnTo>
                    <a:pt x="418" y="362"/>
                  </a:lnTo>
                  <a:lnTo>
                    <a:pt x="362" y="371"/>
                  </a:lnTo>
                  <a:lnTo>
                    <a:pt x="305" y="381"/>
                  </a:lnTo>
                  <a:lnTo>
                    <a:pt x="233" y="330"/>
                  </a:lnTo>
                  <a:lnTo>
                    <a:pt x="179" y="285"/>
                  </a:lnTo>
                  <a:lnTo>
                    <a:pt x="116" y="228"/>
                  </a:lnTo>
                  <a:lnTo>
                    <a:pt x="63" y="171"/>
                  </a:lnTo>
                  <a:lnTo>
                    <a:pt x="23" y="132"/>
                  </a:lnTo>
                  <a:lnTo>
                    <a:pt x="0" y="75"/>
                  </a:lnTo>
                  <a:lnTo>
                    <a:pt x="20" y="44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824120" y="3484440"/>
              <a:ext cx="588960" cy="352440"/>
            </a:xfrm>
            <a:custGeom>
              <a:avLst/>
              <a:gdLst/>
              <a:ahLst/>
              <a:rect l="l" t="t" r="r" b="b"/>
              <a:pathLst>
                <a:path w="742" h="444">
                  <a:moveTo>
                    <a:pt x="363" y="380"/>
                  </a:moveTo>
                  <a:lnTo>
                    <a:pt x="480" y="347"/>
                  </a:lnTo>
                  <a:lnTo>
                    <a:pt x="576" y="305"/>
                  </a:lnTo>
                  <a:lnTo>
                    <a:pt x="643" y="255"/>
                  </a:lnTo>
                  <a:lnTo>
                    <a:pt x="670" y="227"/>
                  </a:lnTo>
                  <a:lnTo>
                    <a:pt x="573" y="135"/>
                  </a:lnTo>
                  <a:lnTo>
                    <a:pt x="494" y="86"/>
                  </a:lnTo>
                  <a:lnTo>
                    <a:pt x="417" y="38"/>
                  </a:lnTo>
                  <a:lnTo>
                    <a:pt x="401" y="38"/>
                  </a:lnTo>
                  <a:lnTo>
                    <a:pt x="354" y="54"/>
                  </a:lnTo>
                  <a:lnTo>
                    <a:pt x="291" y="72"/>
                  </a:lnTo>
                  <a:lnTo>
                    <a:pt x="178" y="81"/>
                  </a:lnTo>
                  <a:lnTo>
                    <a:pt x="68" y="78"/>
                  </a:lnTo>
                  <a:lnTo>
                    <a:pt x="38" y="81"/>
                  </a:lnTo>
                  <a:lnTo>
                    <a:pt x="38" y="102"/>
                  </a:lnTo>
                  <a:lnTo>
                    <a:pt x="62" y="135"/>
                  </a:lnTo>
                  <a:lnTo>
                    <a:pt x="107" y="194"/>
                  </a:lnTo>
                  <a:lnTo>
                    <a:pt x="165" y="242"/>
                  </a:lnTo>
                  <a:lnTo>
                    <a:pt x="236" y="312"/>
                  </a:lnTo>
                  <a:lnTo>
                    <a:pt x="304" y="363"/>
                  </a:lnTo>
                  <a:lnTo>
                    <a:pt x="347" y="393"/>
                  </a:lnTo>
                  <a:lnTo>
                    <a:pt x="360" y="425"/>
                  </a:lnTo>
                  <a:lnTo>
                    <a:pt x="344" y="444"/>
                  </a:lnTo>
                  <a:lnTo>
                    <a:pt x="320" y="434"/>
                  </a:lnTo>
                  <a:lnTo>
                    <a:pt x="251" y="369"/>
                  </a:lnTo>
                  <a:lnTo>
                    <a:pt x="165" y="296"/>
                  </a:lnTo>
                  <a:lnTo>
                    <a:pt x="101" y="242"/>
                  </a:lnTo>
                  <a:lnTo>
                    <a:pt x="60" y="194"/>
                  </a:lnTo>
                  <a:lnTo>
                    <a:pt x="23" y="143"/>
                  </a:lnTo>
                  <a:lnTo>
                    <a:pt x="7" y="110"/>
                  </a:lnTo>
                  <a:lnTo>
                    <a:pt x="0" y="72"/>
                  </a:lnTo>
                  <a:lnTo>
                    <a:pt x="10" y="48"/>
                  </a:lnTo>
                  <a:lnTo>
                    <a:pt x="37" y="38"/>
                  </a:lnTo>
                  <a:lnTo>
                    <a:pt x="84" y="41"/>
                  </a:lnTo>
                  <a:lnTo>
                    <a:pt x="173" y="54"/>
                  </a:lnTo>
                  <a:lnTo>
                    <a:pt x="250" y="54"/>
                  </a:lnTo>
                  <a:lnTo>
                    <a:pt x="304" y="38"/>
                  </a:lnTo>
                  <a:lnTo>
                    <a:pt x="367" y="24"/>
                  </a:lnTo>
                  <a:lnTo>
                    <a:pt x="394" y="0"/>
                  </a:lnTo>
                  <a:lnTo>
                    <a:pt x="423" y="0"/>
                  </a:lnTo>
                  <a:lnTo>
                    <a:pt x="489" y="41"/>
                  </a:lnTo>
                  <a:lnTo>
                    <a:pt x="560" y="96"/>
                  </a:lnTo>
                  <a:lnTo>
                    <a:pt x="636" y="146"/>
                  </a:lnTo>
                  <a:lnTo>
                    <a:pt x="679" y="177"/>
                  </a:lnTo>
                  <a:lnTo>
                    <a:pt x="723" y="207"/>
                  </a:lnTo>
                  <a:lnTo>
                    <a:pt x="742" y="218"/>
                  </a:lnTo>
                  <a:lnTo>
                    <a:pt x="730" y="240"/>
                  </a:lnTo>
                  <a:lnTo>
                    <a:pt x="699" y="258"/>
                  </a:lnTo>
                  <a:lnTo>
                    <a:pt x="663" y="291"/>
                  </a:lnTo>
                  <a:lnTo>
                    <a:pt x="627" y="305"/>
                  </a:lnTo>
                  <a:lnTo>
                    <a:pt x="566" y="332"/>
                  </a:lnTo>
                  <a:lnTo>
                    <a:pt x="520" y="353"/>
                  </a:lnTo>
                  <a:lnTo>
                    <a:pt x="470" y="384"/>
                  </a:lnTo>
                  <a:lnTo>
                    <a:pt x="417" y="393"/>
                  </a:lnTo>
                  <a:lnTo>
                    <a:pt x="376" y="396"/>
                  </a:lnTo>
                  <a:lnTo>
                    <a:pt x="363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157480" y="3751200"/>
              <a:ext cx="187200" cy="120600"/>
            </a:xfrm>
            <a:custGeom>
              <a:avLst/>
              <a:gdLst/>
              <a:ahLst/>
              <a:rect l="l" t="t" r="r" b="b"/>
              <a:pathLst>
                <a:path w="235" h="153">
                  <a:moveTo>
                    <a:pt x="198" y="18"/>
                  </a:moveTo>
                  <a:lnTo>
                    <a:pt x="149" y="59"/>
                  </a:lnTo>
                  <a:lnTo>
                    <a:pt x="103" y="96"/>
                  </a:lnTo>
                  <a:lnTo>
                    <a:pt x="37" y="120"/>
                  </a:lnTo>
                  <a:lnTo>
                    <a:pt x="0" y="132"/>
                  </a:lnTo>
                  <a:lnTo>
                    <a:pt x="30" y="153"/>
                  </a:lnTo>
                  <a:lnTo>
                    <a:pt x="77" y="146"/>
                  </a:lnTo>
                  <a:lnTo>
                    <a:pt x="150" y="96"/>
                  </a:lnTo>
                  <a:lnTo>
                    <a:pt x="235" y="0"/>
                  </a:lnTo>
                  <a:lnTo>
                    <a:pt x="19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378000" y="3803760"/>
            <a:ext cx="687240" cy="1585800"/>
            <a:chOff x="378000" y="3803760"/>
            <a:chExt cx="687240" cy="1585800"/>
          </a:xfrm>
        </p:grpSpPr>
        <p:sp>
          <p:nvSpPr>
            <p:cNvPr id="475" name=""/>
            <p:cNvSpPr/>
            <p:nvPr/>
          </p:nvSpPr>
          <p:spPr>
            <a:xfrm>
              <a:off x="390600" y="3875040"/>
              <a:ext cx="361800" cy="1494000"/>
            </a:xfrm>
            <a:custGeom>
              <a:avLst/>
              <a:gdLst/>
              <a:ahLst/>
              <a:rect l="l" t="t" r="r" b="b"/>
              <a:pathLst>
                <a:path w="456" h="1882">
                  <a:moveTo>
                    <a:pt x="449" y="339"/>
                  </a:moveTo>
                  <a:lnTo>
                    <a:pt x="456" y="408"/>
                  </a:lnTo>
                  <a:lnTo>
                    <a:pt x="456" y="781"/>
                  </a:lnTo>
                  <a:lnTo>
                    <a:pt x="424" y="1281"/>
                  </a:lnTo>
                  <a:lnTo>
                    <a:pt x="426" y="1601"/>
                  </a:lnTo>
                  <a:lnTo>
                    <a:pt x="443" y="1821"/>
                  </a:lnTo>
                  <a:lnTo>
                    <a:pt x="426" y="1882"/>
                  </a:lnTo>
                  <a:lnTo>
                    <a:pt x="400" y="1869"/>
                  </a:lnTo>
                  <a:lnTo>
                    <a:pt x="246" y="1747"/>
                  </a:lnTo>
                  <a:lnTo>
                    <a:pt x="206" y="1723"/>
                  </a:lnTo>
                  <a:lnTo>
                    <a:pt x="183" y="1689"/>
                  </a:lnTo>
                  <a:lnTo>
                    <a:pt x="143" y="1642"/>
                  </a:lnTo>
                  <a:lnTo>
                    <a:pt x="90" y="1595"/>
                  </a:lnTo>
                  <a:lnTo>
                    <a:pt x="64" y="1530"/>
                  </a:lnTo>
                  <a:lnTo>
                    <a:pt x="0" y="1475"/>
                  </a:lnTo>
                  <a:lnTo>
                    <a:pt x="0" y="1442"/>
                  </a:lnTo>
                  <a:lnTo>
                    <a:pt x="34" y="1398"/>
                  </a:lnTo>
                  <a:lnTo>
                    <a:pt x="47" y="1343"/>
                  </a:lnTo>
                  <a:lnTo>
                    <a:pt x="40" y="1313"/>
                  </a:lnTo>
                  <a:lnTo>
                    <a:pt x="24" y="1265"/>
                  </a:lnTo>
                  <a:lnTo>
                    <a:pt x="18" y="1230"/>
                  </a:lnTo>
                  <a:lnTo>
                    <a:pt x="43" y="1176"/>
                  </a:lnTo>
                  <a:lnTo>
                    <a:pt x="43" y="1140"/>
                  </a:lnTo>
                  <a:lnTo>
                    <a:pt x="17" y="1069"/>
                  </a:lnTo>
                  <a:lnTo>
                    <a:pt x="17" y="1028"/>
                  </a:lnTo>
                  <a:lnTo>
                    <a:pt x="31" y="997"/>
                  </a:lnTo>
                  <a:lnTo>
                    <a:pt x="58" y="959"/>
                  </a:lnTo>
                  <a:lnTo>
                    <a:pt x="56" y="895"/>
                  </a:lnTo>
                  <a:lnTo>
                    <a:pt x="40" y="842"/>
                  </a:lnTo>
                  <a:lnTo>
                    <a:pt x="56" y="781"/>
                  </a:lnTo>
                  <a:lnTo>
                    <a:pt x="71" y="766"/>
                  </a:lnTo>
                  <a:lnTo>
                    <a:pt x="58" y="709"/>
                  </a:lnTo>
                  <a:lnTo>
                    <a:pt x="24" y="649"/>
                  </a:lnTo>
                  <a:lnTo>
                    <a:pt x="17" y="610"/>
                  </a:lnTo>
                  <a:lnTo>
                    <a:pt x="24" y="572"/>
                  </a:lnTo>
                  <a:lnTo>
                    <a:pt x="67" y="540"/>
                  </a:lnTo>
                  <a:lnTo>
                    <a:pt x="64" y="513"/>
                  </a:lnTo>
                  <a:lnTo>
                    <a:pt x="18" y="427"/>
                  </a:lnTo>
                  <a:lnTo>
                    <a:pt x="3" y="360"/>
                  </a:lnTo>
                  <a:lnTo>
                    <a:pt x="17" y="322"/>
                  </a:lnTo>
                  <a:lnTo>
                    <a:pt x="58" y="288"/>
                  </a:lnTo>
                  <a:lnTo>
                    <a:pt x="47" y="258"/>
                  </a:lnTo>
                  <a:lnTo>
                    <a:pt x="18" y="223"/>
                  </a:lnTo>
                  <a:lnTo>
                    <a:pt x="18" y="186"/>
                  </a:lnTo>
                  <a:lnTo>
                    <a:pt x="67" y="160"/>
                  </a:lnTo>
                  <a:lnTo>
                    <a:pt x="87" y="133"/>
                  </a:lnTo>
                  <a:lnTo>
                    <a:pt x="47" y="78"/>
                  </a:lnTo>
                  <a:lnTo>
                    <a:pt x="47" y="48"/>
                  </a:lnTo>
                  <a:lnTo>
                    <a:pt x="94" y="30"/>
                  </a:lnTo>
                  <a:lnTo>
                    <a:pt x="97" y="0"/>
                  </a:lnTo>
                  <a:lnTo>
                    <a:pt x="150" y="78"/>
                  </a:lnTo>
                  <a:lnTo>
                    <a:pt x="213" y="159"/>
                  </a:lnTo>
                  <a:lnTo>
                    <a:pt x="293" y="223"/>
                  </a:lnTo>
                  <a:lnTo>
                    <a:pt x="356" y="274"/>
                  </a:lnTo>
                  <a:lnTo>
                    <a:pt x="424" y="315"/>
                  </a:lnTo>
                  <a:lnTo>
                    <a:pt x="449" y="339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8000" y="3897360"/>
              <a:ext cx="104760" cy="1138320"/>
            </a:xfrm>
            <a:custGeom>
              <a:avLst/>
              <a:gdLst/>
              <a:ahLst/>
              <a:rect l="l" t="t" r="r" b="b"/>
              <a:pathLst>
                <a:path w="131" h="1434">
                  <a:moveTo>
                    <a:pt x="65" y="0"/>
                  </a:moveTo>
                  <a:lnTo>
                    <a:pt x="88" y="47"/>
                  </a:lnTo>
                  <a:lnTo>
                    <a:pt x="109" y="79"/>
                  </a:lnTo>
                  <a:lnTo>
                    <a:pt x="131" y="98"/>
                  </a:lnTo>
                  <a:lnTo>
                    <a:pt x="125" y="122"/>
                  </a:lnTo>
                  <a:lnTo>
                    <a:pt x="105" y="139"/>
                  </a:lnTo>
                  <a:lnTo>
                    <a:pt x="72" y="146"/>
                  </a:lnTo>
                  <a:lnTo>
                    <a:pt x="49" y="167"/>
                  </a:lnTo>
                  <a:lnTo>
                    <a:pt x="55" y="193"/>
                  </a:lnTo>
                  <a:lnTo>
                    <a:pt x="71" y="208"/>
                  </a:lnTo>
                  <a:lnTo>
                    <a:pt x="96" y="241"/>
                  </a:lnTo>
                  <a:lnTo>
                    <a:pt x="96" y="259"/>
                  </a:lnTo>
                  <a:lnTo>
                    <a:pt x="88" y="275"/>
                  </a:lnTo>
                  <a:lnTo>
                    <a:pt x="65" y="292"/>
                  </a:lnTo>
                  <a:lnTo>
                    <a:pt x="41" y="308"/>
                  </a:lnTo>
                  <a:lnTo>
                    <a:pt x="38" y="332"/>
                  </a:lnTo>
                  <a:lnTo>
                    <a:pt x="47" y="356"/>
                  </a:lnTo>
                  <a:lnTo>
                    <a:pt x="65" y="404"/>
                  </a:lnTo>
                  <a:lnTo>
                    <a:pt x="81" y="442"/>
                  </a:lnTo>
                  <a:lnTo>
                    <a:pt x="96" y="469"/>
                  </a:lnTo>
                  <a:lnTo>
                    <a:pt x="96" y="499"/>
                  </a:lnTo>
                  <a:lnTo>
                    <a:pt x="88" y="526"/>
                  </a:lnTo>
                  <a:lnTo>
                    <a:pt x="65" y="549"/>
                  </a:lnTo>
                  <a:lnTo>
                    <a:pt x="49" y="573"/>
                  </a:lnTo>
                  <a:lnTo>
                    <a:pt x="55" y="614"/>
                  </a:lnTo>
                  <a:lnTo>
                    <a:pt x="94" y="675"/>
                  </a:lnTo>
                  <a:lnTo>
                    <a:pt x="109" y="708"/>
                  </a:lnTo>
                  <a:lnTo>
                    <a:pt x="112" y="740"/>
                  </a:lnTo>
                  <a:lnTo>
                    <a:pt x="96" y="764"/>
                  </a:lnTo>
                  <a:lnTo>
                    <a:pt x="78" y="788"/>
                  </a:lnTo>
                  <a:lnTo>
                    <a:pt x="72" y="821"/>
                  </a:lnTo>
                  <a:lnTo>
                    <a:pt x="85" y="861"/>
                  </a:lnTo>
                  <a:lnTo>
                    <a:pt x="102" y="903"/>
                  </a:lnTo>
                  <a:lnTo>
                    <a:pt x="109" y="933"/>
                  </a:lnTo>
                  <a:lnTo>
                    <a:pt x="102" y="953"/>
                  </a:lnTo>
                  <a:lnTo>
                    <a:pt x="81" y="974"/>
                  </a:lnTo>
                  <a:lnTo>
                    <a:pt x="55" y="998"/>
                  </a:lnTo>
                  <a:lnTo>
                    <a:pt x="41" y="1022"/>
                  </a:lnTo>
                  <a:lnTo>
                    <a:pt x="55" y="1065"/>
                  </a:lnTo>
                  <a:lnTo>
                    <a:pt x="81" y="1110"/>
                  </a:lnTo>
                  <a:lnTo>
                    <a:pt x="94" y="1143"/>
                  </a:lnTo>
                  <a:lnTo>
                    <a:pt x="96" y="1170"/>
                  </a:lnTo>
                  <a:lnTo>
                    <a:pt x="88" y="1183"/>
                  </a:lnTo>
                  <a:lnTo>
                    <a:pt x="62" y="1183"/>
                  </a:lnTo>
                  <a:lnTo>
                    <a:pt x="55" y="1242"/>
                  </a:lnTo>
                  <a:lnTo>
                    <a:pt x="71" y="1279"/>
                  </a:lnTo>
                  <a:lnTo>
                    <a:pt x="85" y="1306"/>
                  </a:lnTo>
                  <a:lnTo>
                    <a:pt x="88" y="1330"/>
                  </a:lnTo>
                  <a:lnTo>
                    <a:pt x="88" y="1353"/>
                  </a:lnTo>
                  <a:lnTo>
                    <a:pt x="62" y="1387"/>
                  </a:lnTo>
                  <a:lnTo>
                    <a:pt x="25" y="1434"/>
                  </a:lnTo>
                  <a:lnTo>
                    <a:pt x="2" y="1417"/>
                  </a:lnTo>
                  <a:lnTo>
                    <a:pt x="11" y="1380"/>
                  </a:lnTo>
                  <a:lnTo>
                    <a:pt x="47" y="1320"/>
                  </a:lnTo>
                  <a:lnTo>
                    <a:pt x="41" y="1282"/>
                  </a:lnTo>
                  <a:lnTo>
                    <a:pt x="25" y="1239"/>
                  </a:lnTo>
                  <a:lnTo>
                    <a:pt x="15" y="1201"/>
                  </a:lnTo>
                  <a:lnTo>
                    <a:pt x="31" y="1170"/>
                  </a:lnTo>
                  <a:lnTo>
                    <a:pt x="47" y="1159"/>
                  </a:lnTo>
                  <a:lnTo>
                    <a:pt x="49" y="1135"/>
                  </a:lnTo>
                  <a:lnTo>
                    <a:pt x="31" y="1089"/>
                  </a:lnTo>
                  <a:lnTo>
                    <a:pt x="11" y="1049"/>
                  </a:lnTo>
                  <a:lnTo>
                    <a:pt x="0" y="1008"/>
                  </a:lnTo>
                  <a:lnTo>
                    <a:pt x="11" y="960"/>
                  </a:lnTo>
                  <a:lnTo>
                    <a:pt x="47" y="942"/>
                  </a:lnTo>
                  <a:lnTo>
                    <a:pt x="58" y="920"/>
                  </a:lnTo>
                  <a:lnTo>
                    <a:pt x="55" y="888"/>
                  </a:lnTo>
                  <a:lnTo>
                    <a:pt x="47" y="855"/>
                  </a:lnTo>
                  <a:lnTo>
                    <a:pt x="34" y="813"/>
                  </a:lnTo>
                  <a:lnTo>
                    <a:pt x="34" y="780"/>
                  </a:lnTo>
                  <a:lnTo>
                    <a:pt x="49" y="759"/>
                  </a:lnTo>
                  <a:lnTo>
                    <a:pt x="71" y="732"/>
                  </a:lnTo>
                  <a:lnTo>
                    <a:pt x="71" y="716"/>
                  </a:lnTo>
                  <a:lnTo>
                    <a:pt x="55" y="678"/>
                  </a:lnTo>
                  <a:lnTo>
                    <a:pt x="24" y="630"/>
                  </a:lnTo>
                  <a:lnTo>
                    <a:pt x="11" y="594"/>
                  </a:lnTo>
                  <a:lnTo>
                    <a:pt x="11" y="566"/>
                  </a:lnTo>
                  <a:lnTo>
                    <a:pt x="18" y="539"/>
                  </a:lnTo>
                  <a:lnTo>
                    <a:pt x="38" y="517"/>
                  </a:lnTo>
                  <a:lnTo>
                    <a:pt x="58" y="493"/>
                  </a:lnTo>
                  <a:lnTo>
                    <a:pt x="58" y="475"/>
                  </a:lnTo>
                  <a:lnTo>
                    <a:pt x="15" y="386"/>
                  </a:lnTo>
                  <a:lnTo>
                    <a:pt x="8" y="353"/>
                  </a:lnTo>
                  <a:lnTo>
                    <a:pt x="0" y="323"/>
                  </a:lnTo>
                  <a:lnTo>
                    <a:pt x="15" y="296"/>
                  </a:lnTo>
                  <a:lnTo>
                    <a:pt x="34" y="275"/>
                  </a:lnTo>
                  <a:lnTo>
                    <a:pt x="49" y="259"/>
                  </a:lnTo>
                  <a:lnTo>
                    <a:pt x="49" y="244"/>
                  </a:lnTo>
                  <a:lnTo>
                    <a:pt x="34" y="218"/>
                  </a:lnTo>
                  <a:lnTo>
                    <a:pt x="11" y="193"/>
                  </a:lnTo>
                  <a:lnTo>
                    <a:pt x="11" y="167"/>
                  </a:lnTo>
                  <a:lnTo>
                    <a:pt x="25" y="143"/>
                  </a:lnTo>
                  <a:lnTo>
                    <a:pt x="49" y="122"/>
                  </a:lnTo>
                  <a:lnTo>
                    <a:pt x="71" y="112"/>
                  </a:lnTo>
                  <a:lnTo>
                    <a:pt x="81" y="95"/>
                  </a:lnTo>
                  <a:lnTo>
                    <a:pt x="72" y="74"/>
                  </a:lnTo>
                  <a:lnTo>
                    <a:pt x="58" y="50"/>
                  </a:lnTo>
                  <a:lnTo>
                    <a:pt x="49" y="25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58800" y="4173480"/>
              <a:ext cx="100080" cy="920880"/>
            </a:xfrm>
            <a:custGeom>
              <a:avLst/>
              <a:gdLst/>
              <a:ahLst/>
              <a:rect l="l" t="t" r="r" b="b"/>
              <a:pathLst>
                <a:path w="125" h="1160">
                  <a:moveTo>
                    <a:pt x="97" y="0"/>
                  </a:moveTo>
                  <a:lnTo>
                    <a:pt x="112" y="31"/>
                  </a:lnTo>
                  <a:lnTo>
                    <a:pt x="125" y="88"/>
                  </a:lnTo>
                  <a:lnTo>
                    <a:pt x="118" y="112"/>
                  </a:lnTo>
                  <a:lnTo>
                    <a:pt x="86" y="129"/>
                  </a:lnTo>
                  <a:lnTo>
                    <a:pt x="65" y="145"/>
                  </a:lnTo>
                  <a:lnTo>
                    <a:pt x="65" y="190"/>
                  </a:lnTo>
                  <a:lnTo>
                    <a:pt x="81" y="233"/>
                  </a:lnTo>
                  <a:lnTo>
                    <a:pt x="102" y="263"/>
                  </a:lnTo>
                  <a:lnTo>
                    <a:pt x="105" y="319"/>
                  </a:lnTo>
                  <a:lnTo>
                    <a:pt x="94" y="338"/>
                  </a:lnTo>
                  <a:lnTo>
                    <a:pt x="72" y="362"/>
                  </a:lnTo>
                  <a:lnTo>
                    <a:pt x="69" y="400"/>
                  </a:lnTo>
                  <a:lnTo>
                    <a:pt x="81" y="434"/>
                  </a:lnTo>
                  <a:lnTo>
                    <a:pt x="97" y="464"/>
                  </a:lnTo>
                  <a:lnTo>
                    <a:pt x="105" y="512"/>
                  </a:lnTo>
                  <a:lnTo>
                    <a:pt x="105" y="539"/>
                  </a:lnTo>
                  <a:lnTo>
                    <a:pt x="88" y="569"/>
                  </a:lnTo>
                  <a:lnTo>
                    <a:pt x="62" y="596"/>
                  </a:lnTo>
                  <a:lnTo>
                    <a:pt x="62" y="620"/>
                  </a:lnTo>
                  <a:lnTo>
                    <a:pt x="69" y="692"/>
                  </a:lnTo>
                  <a:lnTo>
                    <a:pt x="97" y="722"/>
                  </a:lnTo>
                  <a:lnTo>
                    <a:pt x="112" y="753"/>
                  </a:lnTo>
                  <a:lnTo>
                    <a:pt x="105" y="789"/>
                  </a:lnTo>
                  <a:lnTo>
                    <a:pt x="65" y="813"/>
                  </a:lnTo>
                  <a:lnTo>
                    <a:pt x="46" y="837"/>
                  </a:lnTo>
                  <a:lnTo>
                    <a:pt x="41" y="882"/>
                  </a:lnTo>
                  <a:lnTo>
                    <a:pt x="62" y="939"/>
                  </a:lnTo>
                  <a:lnTo>
                    <a:pt x="78" y="996"/>
                  </a:lnTo>
                  <a:lnTo>
                    <a:pt x="78" y="1028"/>
                  </a:lnTo>
                  <a:lnTo>
                    <a:pt x="69" y="1071"/>
                  </a:lnTo>
                  <a:lnTo>
                    <a:pt x="46" y="1079"/>
                  </a:lnTo>
                  <a:lnTo>
                    <a:pt x="30" y="1112"/>
                  </a:lnTo>
                  <a:lnTo>
                    <a:pt x="30" y="1149"/>
                  </a:lnTo>
                  <a:lnTo>
                    <a:pt x="0" y="1160"/>
                  </a:lnTo>
                  <a:lnTo>
                    <a:pt x="14" y="1119"/>
                  </a:lnTo>
                  <a:lnTo>
                    <a:pt x="39" y="1071"/>
                  </a:lnTo>
                  <a:lnTo>
                    <a:pt x="46" y="1038"/>
                  </a:lnTo>
                  <a:lnTo>
                    <a:pt x="46" y="974"/>
                  </a:lnTo>
                  <a:lnTo>
                    <a:pt x="30" y="918"/>
                  </a:lnTo>
                  <a:lnTo>
                    <a:pt x="25" y="875"/>
                  </a:lnTo>
                  <a:lnTo>
                    <a:pt x="22" y="830"/>
                  </a:lnTo>
                  <a:lnTo>
                    <a:pt x="49" y="794"/>
                  </a:lnTo>
                  <a:lnTo>
                    <a:pt x="65" y="770"/>
                  </a:lnTo>
                  <a:lnTo>
                    <a:pt x="55" y="722"/>
                  </a:lnTo>
                  <a:lnTo>
                    <a:pt x="30" y="685"/>
                  </a:lnTo>
                  <a:lnTo>
                    <a:pt x="25" y="652"/>
                  </a:lnTo>
                  <a:lnTo>
                    <a:pt x="22" y="604"/>
                  </a:lnTo>
                  <a:lnTo>
                    <a:pt x="33" y="572"/>
                  </a:lnTo>
                  <a:lnTo>
                    <a:pt x="55" y="539"/>
                  </a:lnTo>
                  <a:lnTo>
                    <a:pt x="69" y="515"/>
                  </a:lnTo>
                  <a:lnTo>
                    <a:pt x="69" y="491"/>
                  </a:lnTo>
                  <a:lnTo>
                    <a:pt x="55" y="464"/>
                  </a:lnTo>
                  <a:lnTo>
                    <a:pt x="39" y="410"/>
                  </a:lnTo>
                  <a:lnTo>
                    <a:pt x="39" y="376"/>
                  </a:lnTo>
                  <a:lnTo>
                    <a:pt x="46" y="343"/>
                  </a:lnTo>
                  <a:lnTo>
                    <a:pt x="62" y="319"/>
                  </a:lnTo>
                  <a:lnTo>
                    <a:pt x="65" y="295"/>
                  </a:lnTo>
                  <a:lnTo>
                    <a:pt x="62" y="265"/>
                  </a:lnTo>
                  <a:lnTo>
                    <a:pt x="41" y="223"/>
                  </a:lnTo>
                  <a:lnTo>
                    <a:pt x="30" y="193"/>
                  </a:lnTo>
                  <a:lnTo>
                    <a:pt x="33" y="142"/>
                  </a:lnTo>
                  <a:lnTo>
                    <a:pt x="49" y="121"/>
                  </a:lnTo>
                  <a:lnTo>
                    <a:pt x="69" y="88"/>
                  </a:lnTo>
                  <a:lnTo>
                    <a:pt x="81" y="61"/>
                  </a:lnTo>
                  <a:lnTo>
                    <a:pt x="72" y="37"/>
                  </a:lnTo>
                  <a:lnTo>
                    <a:pt x="78" y="13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03280" y="4062240"/>
              <a:ext cx="225360" cy="198720"/>
            </a:xfrm>
            <a:custGeom>
              <a:avLst/>
              <a:gdLst/>
              <a:ahLst/>
              <a:rect l="l" t="t" r="r" b="b"/>
              <a:pathLst>
                <a:path w="285" h="250">
                  <a:moveTo>
                    <a:pt x="285" y="202"/>
                  </a:moveTo>
                  <a:lnTo>
                    <a:pt x="199" y="130"/>
                  </a:lnTo>
                  <a:lnTo>
                    <a:pt x="127" y="64"/>
                  </a:lnTo>
                  <a:lnTo>
                    <a:pt x="61" y="0"/>
                  </a:lnTo>
                  <a:lnTo>
                    <a:pt x="0" y="0"/>
                  </a:lnTo>
                  <a:lnTo>
                    <a:pt x="143" y="105"/>
                  </a:lnTo>
                  <a:lnTo>
                    <a:pt x="212" y="171"/>
                  </a:lnTo>
                  <a:lnTo>
                    <a:pt x="269" y="250"/>
                  </a:lnTo>
                  <a:lnTo>
                    <a:pt x="285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00040" y="4178160"/>
              <a:ext cx="195120" cy="16056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45" y="129"/>
                  </a:moveTo>
                  <a:lnTo>
                    <a:pt x="182" y="105"/>
                  </a:lnTo>
                  <a:lnTo>
                    <a:pt x="135" y="65"/>
                  </a:lnTo>
                  <a:lnTo>
                    <a:pt x="48" y="0"/>
                  </a:lnTo>
                  <a:lnTo>
                    <a:pt x="0" y="0"/>
                  </a:lnTo>
                  <a:lnTo>
                    <a:pt x="111" y="65"/>
                  </a:lnTo>
                  <a:lnTo>
                    <a:pt x="154" y="108"/>
                  </a:lnTo>
                  <a:lnTo>
                    <a:pt x="245" y="204"/>
                  </a:lnTo>
                  <a:lnTo>
                    <a:pt x="240" y="146"/>
                  </a:lnTo>
                  <a:lnTo>
                    <a:pt x="245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71600" y="4273560"/>
              <a:ext cx="230040" cy="250920"/>
            </a:xfrm>
            <a:custGeom>
              <a:avLst/>
              <a:gdLst/>
              <a:ahLst/>
              <a:rect l="l" t="t" r="r" b="b"/>
              <a:pathLst>
                <a:path w="289" h="316">
                  <a:moveTo>
                    <a:pt x="283" y="237"/>
                  </a:moveTo>
                  <a:lnTo>
                    <a:pt x="204" y="165"/>
                  </a:lnTo>
                  <a:lnTo>
                    <a:pt x="173" y="115"/>
                  </a:lnTo>
                  <a:lnTo>
                    <a:pt x="110" y="68"/>
                  </a:lnTo>
                  <a:lnTo>
                    <a:pt x="54" y="26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47" y="57"/>
                  </a:lnTo>
                  <a:lnTo>
                    <a:pt x="133" y="114"/>
                  </a:lnTo>
                  <a:lnTo>
                    <a:pt x="197" y="178"/>
                  </a:lnTo>
                  <a:lnTo>
                    <a:pt x="241" y="250"/>
                  </a:lnTo>
                  <a:lnTo>
                    <a:pt x="289" y="316"/>
                  </a:lnTo>
                  <a:lnTo>
                    <a:pt x="283" y="2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95360" y="4479840"/>
              <a:ext cx="177840" cy="147600"/>
            </a:xfrm>
            <a:custGeom>
              <a:avLst/>
              <a:gdLst/>
              <a:ahLst/>
              <a:rect l="l" t="t" r="r" b="b"/>
              <a:pathLst>
                <a:path w="223" h="186">
                  <a:moveTo>
                    <a:pt x="223" y="153"/>
                  </a:moveTo>
                  <a:lnTo>
                    <a:pt x="160" y="84"/>
                  </a:lnTo>
                  <a:lnTo>
                    <a:pt x="94" y="40"/>
                  </a:lnTo>
                  <a:lnTo>
                    <a:pt x="39" y="10"/>
                  </a:lnTo>
                  <a:lnTo>
                    <a:pt x="0" y="0"/>
                  </a:lnTo>
                  <a:lnTo>
                    <a:pt x="23" y="40"/>
                  </a:lnTo>
                  <a:lnTo>
                    <a:pt x="94" y="81"/>
                  </a:lnTo>
                  <a:lnTo>
                    <a:pt x="150" y="139"/>
                  </a:lnTo>
                  <a:lnTo>
                    <a:pt x="176" y="178"/>
                  </a:lnTo>
                  <a:lnTo>
                    <a:pt x="199" y="186"/>
                  </a:lnTo>
                  <a:lnTo>
                    <a:pt x="220" y="172"/>
                  </a:lnTo>
                  <a:lnTo>
                    <a:pt x="223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73040" y="4583160"/>
              <a:ext cx="196920" cy="182520"/>
            </a:xfrm>
            <a:custGeom>
              <a:avLst/>
              <a:gdLst/>
              <a:ahLst/>
              <a:rect l="l" t="t" r="r" b="b"/>
              <a:pathLst>
                <a:path w="247" h="231">
                  <a:moveTo>
                    <a:pt x="247" y="214"/>
                  </a:moveTo>
                  <a:lnTo>
                    <a:pt x="183" y="146"/>
                  </a:lnTo>
                  <a:lnTo>
                    <a:pt x="104" y="62"/>
                  </a:lnTo>
                  <a:lnTo>
                    <a:pt x="57" y="21"/>
                  </a:lnTo>
                  <a:lnTo>
                    <a:pt x="20" y="0"/>
                  </a:lnTo>
                  <a:lnTo>
                    <a:pt x="0" y="14"/>
                  </a:lnTo>
                  <a:lnTo>
                    <a:pt x="42" y="48"/>
                  </a:lnTo>
                  <a:lnTo>
                    <a:pt x="113" y="122"/>
                  </a:lnTo>
                  <a:lnTo>
                    <a:pt x="179" y="194"/>
                  </a:lnTo>
                  <a:lnTo>
                    <a:pt x="223" y="231"/>
                  </a:lnTo>
                  <a:lnTo>
                    <a:pt x="233" y="231"/>
                  </a:lnTo>
                  <a:lnTo>
                    <a:pt x="247" y="2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96800" y="4737240"/>
              <a:ext cx="138240" cy="144360"/>
            </a:xfrm>
            <a:custGeom>
              <a:avLst/>
              <a:gdLst/>
              <a:ahLst/>
              <a:rect l="l" t="t" r="r" b="b"/>
              <a:pathLst>
                <a:path w="173" h="182">
                  <a:moveTo>
                    <a:pt x="171" y="152"/>
                  </a:moveTo>
                  <a:lnTo>
                    <a:pt x="100" y="46"/>
                  </a:lnTo>
                  <a:lnTo>
                    <a:pt x="31" y="6"/>
                  </a:lnTo>
                  <a:lnTo>
                    <a:pt x="0" y="0"/>
                  </a:lnTo>
                  <a:lnTo>
                    <a:pt x="7" y="20"/>
                  </a:lnTo>
                  <a:lnTo>
                    <a:pt x="87" y="80"/>
                  </a:lnTo>
                  <a:lnTo>
                    <a:pt x="163" y="175"/>
                  </a:lnTo>
                  <a:lnTo>
                    <a:pt x="173" y="182"/>
                  </a:lnTo>
                  <a:lnTo>
                    <a:pt x="171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00040" y="4878360"/>
              <a:ext cx="95400" cy="109440"/>
            </a:xfrm>
            <a:custGeom>
              <a:avLst/>
              <a:gdLst/>
              <a:ahLst/>
              <a:rect l="l" t="t" r="r" b="b"/>
              <a:pathLst>
                <a:path w="119" h="138">
                  <a:moveTo>
                    <a:pt x="114" y="105"/>
                  </a:moveTo>
                  <a:lnTo>
                    <a:pt x="55" y="24"/>
                  </a:lnTo>
                  <a:lnTo>
                    <a:pt x="2" y="0"/>
                  </a:lnTo>
                  <a:lnTo>
                    <a:pt x="0" y="24"/>
                  </a:lnTo>
                  <a:lnTo>
                    <a:pt x="25" y="64"/>
                  </a:lnTo>
                  <a:lnTo>
                    <a:pt x="88" y="118"/>
                  </a:lnTo>
                  <a:lnTo>
                    <a:pt x="105" y="138"/>
                  </a:lnTo>
                  <a:lnTo>
                    <a:pt x="119" y="129"/>
                  </a:lnTo>
                  <a:lnTo>
                    <a:pt x="114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7960" y="5022720"/>
              <a:ext cx="119160" cy="123840"/>
            </a:xfrm>
            <a:custGeom>
              <a:avLst/>
              <a:gdLst/>
              <a:ahLst/>
              <a:rect l="l" t="t" r="r" b="b"/>
              <a:pathLst>
                <a:path w="150" h="156">
                  <a:moveTo>
                    <a:pt x="150" y="156"/>
                  </a:moveTo>
                  <a:lnTo>
                    <a:pt x="129" y="132"/>
                  </a:lnTo>
                  <a:lnTo>
                    <a:pt x="86" y="68"/>
                  </a:lnTo>
                  <a:lnTo>
                    <a:pt x="26" y="0"/>
                  </a:lnTo>
                  <a:lnTo>
                    <a:pt x="0" y="0"/>
                  </a:lnTo>
                  <a:lnTo>
                    <a:pt x="10" y="24"/>
                  </a:lnTo>
                  <a:lnTo>
                    <a:pt x="57" y="89"/>
                  </a:lnTo>
                  <a:lnTo>
                    <a:pt x="104" y="153"/>
                  </a:lnTo>
                  <a:lnTo>
                    <a:pt x="15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69960" y="3992400"/>
              <a:ext cx="363600" cy="1376640"/>
            </a:xfrm>
            <a:custGeom>
              <a:avLst/>
              <a:gdLst/>
              <a:ahLst/>
              <a:rect l="l" t="t" r="r" b="b"/>
              <a:pathLst>
                <a:path w="458" h="1736">
                  <a:moveTo>
                    <a:pt x="82" y="164"/>
                  </a:moveTo>
                  <a:lnTo>
                    <a:pt x="66" y="213"/>
                  </a:lnTo>
                  <a:lnTo>
                    <a:pt x="79" y="261"/>
                  </a:lnTo>
                  <a:lnTo>
                    <a:pt x="82" y="309"/>
                  </a:lnTo>
                  <a:lnTo>
                    <a:pt x="66" y="339"/>
                  </a:lnTo>
                  <a:lnTo>
                    <a:pt x="42" y="374"/>
                  </a:lnTo>
                  <a:lnTo>
                    <a:pt x="32" y="427"/>
                  </a:lnTo>
                  <a:lnTo>
                    <a:pt x="47" y="462"/>
                  </a:lnTo>
                  <a:lnTo>
                    <a:pt x="70" y="502"/>
                  </a:lnTo>
                  <a:lnTo>
                    <a:pt x="70" y="535"/>
                  </a:lnTo>
                  <a:lnTo>
                    <a:pt x="55" y="567"/>
                  </a:lnTo>
                  <a:lnTo>
                    <a:pt x="33" y="607"/>
                  </a:lnTo>
                  <a:lnTo>
                    <a:pt x="42" y="648"/>
                  </a:lnTo>
                  <a:lnTo>
                    <a:pt x="73" y="733"/>
                  </a:lnTo>
                  <a:lnTo>
                    <a:pt x="70" y="769"/>
                  </a:lnTo>
                  <a:lnTo>
                    <a:pt x="26" y="838"/>
                  </a:lnTo>
                  <a:lnTo>
                    <a:pt x="26" y="898"/>
                  </a:lnTo>
                  <a:lnTo>
                    <a:pt x="50" y="943"/>
                  </a:lnTo>
                  <a:lnTo>
                    <a:pt x="66" y="983"/>
                  </a:lnTo>
                  <a:lnTo>
                    <a:pt x="63" y="1018"/>
                  </a:lnTo>
                  <a:lnTo>
                    <a:pt x="23" y="1055"/>
                  </a:lnTo>
                  <a:lnTo>
                    <a:pt x="16" y="1082"/>
                  </a:lnTo>
                  <a:lnTo>
                    <a:pt x="23" y="1147"/>
                  </a:lnTo>
                  <a:lnTo>
                    <a:pt x="42" y="1217"/>
                  </a:lnTo>
                  <a:lnTo>
                    <a:pt x="42" y="1258"/>
                  </a:lnTo>
                  <a:lnTo>
                    <a:pt x="39" y="1289"/>
                  </a:lnTo>
                  <a:lnTo>
                    <a:pt x="10" y="1339"/>
                  </a:lnTo>
                  <a:lnTo>
                    <a:pt x="0" y="1379"/>
                  </a:lnTo>
                  <a:lnTo>
                    <a:pt x="2" y="1421"/>
                  </a:lnTo>
                  <a:lnTo>
                    <a:pt x="23" y="1454"/>
                  </a:lnTo>
                  <a:lnTo>
                    <a:pt x="47" y="1483"/>
                  </a:lnTo>
                  <a:lnTo>
                    <a:pt x="26" y="1523"/>
                  </a:lnTo>
                  <a:lnTo>
                    <a:pt x="16" y="1563"/>
                  </a:lnTo>
                  <a:lnTo>
                    <a:pt x="33" y="1596"/>
                  </a:lnTo>
                  <a:lnTo>
                    <a:pt x="63" y="1620"/>
                  </a:lnTo>
                  <a:lnTo>
                    <a:pt x="66" y="1661"/>
                  </a:lnTo>
                  <a:lnTo>
                    <a:pt x="66" y="1692"/>
                  </a:lnTo>
                  <a:lnTo>
                    <a:pt x="70" y="1736"/>
                  </a:lnTo>
                  <a:lnTo>
                    <a:pt x="120" y="1701"/>
                  </a:lnTo>
                  <a:lnTo>
                    <a:pt x="173" y="1671"/>
                  </a:lnTo>
                  <a:lnTo>
                    <a:pt x="221" y="1655"/>
                  </a:lnTo>
                  <a:lnTo>
                    <a:pt x="295" y="1655"/>
                  </a:lnTo>
                  <a:lnTo>
                    <a:pt x="348" y="1647"/>
                  </a:lnTo>
                  <a:lnTo>
                    <a:pt x="379" y="1620"/>
                  </a:lnTo>
                  <a:lnTo>
                    <a:pt x="434" y="1604"/>
                  </a:lnTo>
                  <a:lnTo>
                    <a:pt x="405" y="1572"/>
                  </a:lnTo>
                  <a:lnTo>
                    <a:pt x="395" y="1526"/>
                  </a:lnTo>
                  <a:lnTo>
                    <a:pt x="414" y="1475"/>
                  </a:lnTo>
                  <a:lnTo>
                    <a:pt x="411" y="1403"/>
                  </a:lnTo>
                  <a:lnTo>
                    <a:pt x="395" y="1349"/>
                  </a:lnTo>
                  <a:lnTo>
                    <a:pt x="379" y="1322"/>
                  </a:lnTo>
                  <a:lnTo>
                    <a:pt x="374" y="1282"/>
                  </a:lnTo>
                  <a:lnTo>
                    <a:pt x="395" y="1234"/>
                  </a:lnTo>
                  <a:lnTo>
                    <a:pt x="387" y="1201"/>
                  </a:lnTo>
                  <a:lnTo>
                    <a:pt x="348" y="1145"/>
                  </a:lnTo>
                  <a:lnTo>
                    <a:pt x="349" y="1112"/>
                  </a:lnTo>
                  <a:lnTo>
                    <a:pt x="365" y="1082"/>
                  </a:lnTo>
                  <a:lnTo>
                    <a:pt x="402" y="1043"/>
                  </a:lnTo>
                  <a:lnTo>
                    <a:pt x="389" y="1010"/>
                  </a:lnTo>
                  <a:lnTo>
                    <a:pt x="362" y="943"/>
                  </a:lnTo>
                  <a:lnTo>
                    <a:pt x="342" y="898"/>
                  </a:lnTo>
                  <a:lnTo>
                    <a:pt x="342" y="849"/>
                  </a:lnTo>
                  <a:lnTo>
                    <a:pt x="414" y="823"/>
                  </a:lnTo>
                  <a:lnTo>
                    <a:pt x="421" y="777"/>
                  </a:lnTo>
                  <a:lnTo>
                    <a:pt x="414" y="750"/>
                  </a:lnTo>
                  <a:lnTo>
                    <a:pt x="395" y="726"/>
                  </a:lnTo>
                  <a:lnTo>
                    <a:pt x="398" y="685"/>
                  </a:lnTo>
                  <a:lnTo>
                    <a:pt x="395" y="637"/>
                  </a:lnTo>
                  <a:lnTo>
                    <a:pt x="374" y="613"/>
                  </a:lnTo>
                  <a:lnTo>
                    <a:pt x="358" y="580"/>
                  </a:lnTo>
                  <a:lnTo>
                    <a:pt x="371" y="549"/>
                  </a:lnTo>
                  <a:lnTo>
                    <a:pt x="387" y="511"/>
                  </a:lnTo>
                  <a:lnTo>
                    <a:pt x="387" y="486"/>
                  </a:lnTo>
                  <a:lnTo>
                    <a:pt x="362" y="454"/>
                  </a:lnTo>
                  <a:lnTo>
                    <a:pt x="355" y="427"/>
                  </a:lnTo>
                  <a:lnTo>
                    <a:pt x="362" y="407"/>
                  </a:lnTo>
                  <a:lnTo>
                    <a:pt x="387" y="390"/>
                  </a:lnTo>
                  <a:lnTo>
                    <a:pt x="389" y="363"/>
                  </a:lnTo>
                  <a:lnTo>
                    <a:pt x="382" y="347"/>
                  </a:lnTo>
                  <a:lnTo>
                    <a:pt x="355" y="306"/>
                  </a:lnTo>
                  <a:lnTo>
                    <a:pt x="348" y="261"/>
                  </a:lnTo>
                  <a:lnTo>
                    <a:pt x="349" y="227"/>
                  </a:lnTo>
                  <a:lnTo>
                    <a:pt x="374" y="194"/>
                  </a:lnTo>
                  <a:lnTo>
                    <a:pt x="437" y="123"/>
                  </a:lnTo>
                  <a:lnTo>
                    <a:pt x="458" y="65"/>
                  </a:lnTo>
                  <a:lnTo>
                    <a:pt x="458" y="17"/>
                  </a:lnTo>
                  <a:lnTo>
                    <a:pt x="437" y="0"/>
                  </a:lnTo>
                  <a:lnTo>
                    <a:pt x="405" y="17"/>
                  </a:lnTo>
                  <a:lnTo>
                    <a:pt x="326" y="68"/>
                  </a:lnTo>
                  <a:lnTo>
                    <a:pt x="252" y="99"/>
                  </a:lnTo>
                  <a:lnTo>
                    <a:pt x="176" y="132"/>
                  </a:lnTo>
                  <a:lnTo>
                    <a:pt x="126" y="149"/>
                  </a:lnTo>
                  <a:lnTo>
                    <a:pt x="82" y="16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15800" y="3981600"/>
              <a:ext cx="649440" cy="1407960"/>
            </a:xfrm>
            <a:custGeom>
              <a:avLst/>
              <a:gdLst/>
              <a:ahLst/>
              <a:rect l="l" t="t" r="r" b="b"/>
              <a:pathLst>
                <a:path w="819" h="1774">
                  <a:moveTo>
                    <a:pt x="695" y="1605"/>
                  </a:moveTo>
                  <a:lnTo>
                    <a:pt x="661" y="1645"/>
                  </a:lnTo>
                  <a:lnTo>
                    <a:pt x="606" y="1659"/>
                  </a:lnTo>
                  <a:lnTo>
                    <a:pt x="535" y="1666"/>
                  </a:lnTo>
                  <a:lnTo>
                    <a:pt x="459" y="1683"/>
                  </a:lnTo>
                  <a:lnTo>
                    <a:pt x="409" y="1714"/>
                  </a:lnTo>
                  <a:lnTo>
                    <a:pt x="393" y="1731"/>
                  </a:lnTo>
                  <a:lnTo>
                    <a:pt x="378" y="1723"/>
                  </a:lnTo>
                  <a:lnTo>
                    <a:pt x="285" y="1653"/>
                  </a:lnTo>
                  <a:lnTo>
                    <a:pt x="166" y="1557"/>
                  </a:lnTo>
                  <a:lnTo>
                    <a:pt x="127" y="1497"/>
                  </a:lnTo>
                  <a:lnTo>
                    <a:pt x="66" y="1436"/>
                  </a:lnTo>
                  <a:lnTo>
                    <a:pt x="49" y="1388"/>
                  </a:lnTo>
                  <a:lnTo>
                    <a:pt x="0" y="1380"/>
                  </a:lnTo>
                  <a:lnTo>
                    <a:pt x="25" y="1433"/>
                  </a:lnTo>
                  <a:lnTo>
                    <a:pt x="50" y="1484"/>
                  </a:lnTo>
                  <a:lnTo>
                    <a:pt x="127" y="1540"/>
                  </a:lnTo>
                  <a:lnTo>
                    <a:pt x="180" y="1611"/>
                  </a:lnTo>
                  <a:lnTo>
                    <a:pt x="309" y="1693"/>
                  </a:lnTo>
                  <a:lnTo>
                    <a:pt x="388" y="1774"/>
                  </a:lnTo>
                  <a:lnTo>
                    <a:pt x="419" y="1767"/>
                  </a:lnTo>
                  <a:lnTo>
                    <a:pt x="451" y="1726"/>
                  </a:lnTo>
                  <a:lnTo>
                    <a:pt x="495" y="1702"/>
                  </a:lnTo>
                  <a:lnTo>
                    <a:pt x="551" y="1686"/>
                  </a:lnTo>
                  <a:lnTo>
                    <a:pt x="669" y="1675"/>
                  </a:lnTo>
                  <a:lnTo>
                    <a:pt x="704" y="1653"/>
                  </a:lnTo>
                  <a:lnTo>
                    <a:pt x="764" y="1638"/>
                  </a:lnTo>
                  <a:lnTo>
                    <a:pt x="775" y="1611"/>
                  </a:lnTo>
                  <a:lnTo>
                    <a:pt x="755" y="1578"/>
                  </a:lnTo>
                  <a:lnTo>
                    <a:pt x="735" y="1546"/>
                  </a:lnTo>
                  <a:lnTo>
                    <a:pt x="748" y="1506"/>
                  </a:lnTo>
                  <a:lnTo>
                    <a:pt x="764" y="1484"/>
                  </a:lnTo>
                  <a:lnTo>
                    <a:pt x="764" y="1449"/>
                  </a:lnTo>
                  <a:lnTo>
                    <a:pt x="748" y="1395"/>
                  </a:lnTo>
                  <a:lnTo>
                    <a:pt x="741" y="1368"/>
                  </a:lnTo>
                  <a:lnTo>
                    <a:pt x="719" y="1344"/>
                  </a:lnTo>
                  <a:lnTo>
                    <a:pt x="708" y="1316"/>
                  </a:lnTo>
                  <a:lnTo>
                    <a:pt x="719" y="1289"/>
                  </a:lnTo>
                  <a:lnTo>
                    <a:pt x="742" y="1266"/>
                  </a:lnTo>
                  <a:lnTo>
                    <a:pt x="741" y="1232"/>
                  </a:lnTo>
                  <a:lnTo>
                    <a:pt x="727" y="1208"/>
                  </a:lnTo>
                  <a:lnTo>
                    <a:pt x="701" y="1170"/>
                  </a:lnTo>
                  <a:lnTo>
                    <a:pt x="685" y="1151"/>
                  </a:lnTo>
                  <a:lnTo>
                    <a:pt x="692" y="1122"/>
                  </a:lnTo>
                  <a:lnTo>
                    <a:pt x="732" y="1098"/>
                  </a:lnTo>
                  <a:lnTo>
                    <a:pt x="748" y="1065"/>
                  </a:lnTo>
                  <a:lnTo>
                    <a:pt x="742" y="1038"/>
                  </a:lnTo>
                  <a:lnTo>
                    <a:pt x="717" y="993"/>
                  </a:lnTo>
                  <a:lnTo>
                    <a:pt x="688" y="937"/>
                  </a:lnTo>
                  <a:lnTo>
                    <a:pt x="678" y="896"/>
                  </a:lnTo>
                  <a:lnTo>
                    <a:pt x="692" y="880"/>
                  </a:lnTo>
                  <a:lnTo>
                    <a:pt x="735" y="865"/>
                  </a:lnTo>
                  <a:lnTo>
                    <a:pt x="758" y="848"/>
                  </a:lnTo>
                  <a:lnTo>
                    <a:pt x="764" y="797"/>
                  </a:lnTo>
                  <a:lnTo>
                    <a:pt x="735" y="740"/>
                  </a:lnTo>
                  <a:lnTo>
                    <a:pt x="741" y="703"/>
                  </a:lnTo>
                  <a:lnTo>
                    <a:pt x="751" y="668"/>
                  </a:lnTo>
                  <a:lnTo>
                    <a:pt x="725" y="628"/>
                  </a:lnTo>
                  <a:lnTo>
                    <a:pt x="701" y="590"/>
                  </a:lnTo>
                  <a:lnTo>
                    <a:pt x="708" y="566"/>
                  </a:lnTo>
                  <a:lnTo>
                    <a:pt x="725" y="542"/>
                  </a:lnTo>
                  <a:lnTo>
                    <a:pt x="725" y="502"/>
                  </a:lnTo>
                  <a:lnTo>
                    <a:pt x="708" y="478"/>
                  </a:lnTo>
                  <a:lnTo>
                    <a:pt x="692" y="458"/>
                  </a:lnTo>
                  <a:lnTo>
                    <a:pt x="695" y="429"/>
                  </a:lnTo>
                  <a:lnTo>
                    <a:pt x="725" y="414"/>
                  </a:lnTo>
                  <a:lnTo>
                    <a:pt x="741" y="397"/>
                  </a:lnTo>
                  <a:lnTo>
                    <a:pt x="732" y="366"/>
                  </a:lnTo>
                  <a:lnTo>
                    <a:pt x="701" y="325"/>
                  </a:lnTo>
                  <a:lnTo>
                    <a:pt x="688" y="289"/>
                  </a:lnTo>
                  <a:lnTo>
                    <a:pt x="685" y="249"/>
                  </a:lnTo>
                  <a:lnTo>
                    <a:pt x="711" y="210"/>
                  </a:lnTo>
                  <a:lnTo>
                    <a:pt x="767" y="147"/>
                  </a:lnTo>
                  <a:lnTo>
                    <a:pt x="795" y="99"/>
                  </a:lnTo>
                  <a:lnTo>
                    <a:pt x="819" y="58"/>
                  </a:lnTo>
                  <a:lnTo>
                    <a:pt x="811" y="18"/>
                  </a:lnTo>
                  <a:lnTo>
                    <a:pt x="791" y="0"/>
                  </a:lnTo>
                  <a:lnTo>
                    <a:pt x="775" y="3"/>
                  </a:lnTo>
                  <a:lnTo>
                    <a:pt x="748" y="34"/>
                  </a:lnTo>
                  <a:lnTo>
                    <a:pt x="767" y="58"/>
                  </a:lnTo>
                  <a:lnTo>
                    <a:pt x="764" y="99"/>
                  </a:lnTo>
                  <a:lnTo>
                    <a:pt x="727" y="169"/>
                  </a:lnTo>
                  <a:lnTo>
                    <a:pt x="679" y="210"/>
                  </a:lnTo>
                  <a:lnTo>
                    <a:pt x="664" y="234"/>
                  </a:lnTo>
                  <a:lnTo>
                    <a:pt x="654" y="265"/>
                  </a:lnTo>
                  <a:lnTo>
                    <a:pt x="648" y="285"/>
                  </a:lnTo>
                  <a:lnTo>
                    <a:pt x="578" y="340"/>
                  </a:lnTo>
                  <a:lnTo>
                    <a:pt x="514" y="378"/>
                  </a:lnTo>
                  <a:lnTo>
                    <a:pt x="506" y="405"/>
                  </a:lnTo>
                  <a:lnTo>
                    <a:pt x="528" y="411"/>
                  </a:lnTo>
                  <a:lnTo>
                    <a:pt x="622" y="340"/>
                  </a:lnTo>
                  <a:lnTo>
                    <a:pt x="669" y="325"/>
                  </a:lnTo>
                  <a:lnTo>
                    <a:pt x="692" y="370"/>
                  </a:lnTo>
                  <a:lnTo>
                    <a:pt x="701" y="390"/>
                  </a:lnTo>
                  <a:lnTo>
                    <a:pt x="678" y="411"/>
                  </a:lnTo>
                  <a:lnTo>
                    <a:pt x="656" y="427"/>
                  </a:lnTo>
                  <a:lnTo>
                    <a:pt x="654" y="454"/>
                  </a:lnTo>
                  <a:lnTo>
                    <a:pt x="661" y="482"/>
                  </a:lnTo>
                  <a:lnTo>
                    <a:pt x="641" y="506"/>
                  </a:lnTo>
                  <a:lnTo>
                    <a:pt x="582" y="533"/>
                  </a:lnTo>
                  <a:lnTo>
                    <a:pt x="495" y="571"/>
                  </a:lnTo>
                  <a:lnTo>
                    <a:pt x="528" y="583"/>
                  </a:lnTo>
                  <a:lnTo>
                    <a:pt x="616" y="547"/>
                  </a:lnTo>
                  <a:lnTo>
                    <a:pt x="688" y="509"/>
                  </a:lnTo>
                  <a:lnTo>
                    <a:pt x="701" y="518"/>
                  </a:lnTo>
                  <a:lnTo>
                    <a:pt x="692" y="542"/>
                  </a:lnTo>
                  <a:lnTo>
                    <a:pt x="669" y="566"/>
                  </a:lnTo>
                  <a:lnTo>
                    <a:pt x="661" y="590"/>
                  </a:lnTo>
                  <a:lnTo>
                    <a:pt x="672" y="622"/>
                  </a:lnTo>
                  <a:lnTo>
                    <a:pt x="701" y="647"/>
                  </a:lnTo>
                  <a:lnTo>
                    <a:pt x="701" y="668"/>
                  </a:lnTo>
                  <a:lnTo>
                    <a:pt x="654" y="679"/>
                  </a:lnTo>
                  <a:lnTo>
                    <a:pt x="614" y="733"/>
                  </a:lnTo>
                  <a:lnTo>
                    <a:pt x="566" y="764"/>
                  </a:lnTo>
                  <a:lnTo>
                    <a:pt x="503" y="781"/>
                  </a:lnTo>
                  <a:lnTo>
                    <a:pt x="498" y="797"/>
                  </a:lnTo>
                  <a:lnTo>
                    <a:pt x="538" y="791"/>
                  </a:lnTo>
                  <a:lnTo>
                    <a:pt x="622" y="764"/>
                  </a:lnTo>
                  <a:lnTo>
                    <a:pt x="654" y="740"/>
                  </a:lnTo>
                  <a:lnTo>
                    <a:pt x="672" y="716"/>
                  </a:lnTo>
                  <a:lnTo>
                    <a:pt x="701" y="712"/>
                  </a:lnTo>
                  <a:lnTo>
                    <a:pt x="701" y="740"/>
                  </a:lnTo>
                  <a:lnTo>
                    <a:pt x="719" y="767"/>
                  </a:lnTo>
                  <a:lnTo>
                    <a:pt x="735" y="797"/>
                  </a:lnTo>
                  <a:lnTo>
                    <a:pt x="725" y="821"/>
                  </a:lnTo>
                  <a:lnTo>
                    <a:pt x="688" y="838"/>
                  </a:lnTo>
                  <a:lnTo>
                    <a:pt x="654" y="848"/>
                  </a:lnTo>
                  <a:lnTo>
                    <a:pt x="629" y="872"/>
                  </a:lnTo>
                  <a:lnTo>
                    <a:pt x="522" y="905"/>
                  </a:lnTo>
                  <a:lnTo>
                    <a:pt x="442" y="934"/>
                  </a:lnTo>
                  <a:lnTo>
                    <a:pt x="412" y="950"/>
                  </a:lnTo>
                  <a:lnTo>
                    <a:pt x="435" y="969"/>
                  </a:lnTo>
                  <a:lnTo>
                    <a:pt x="482" y="958"/>
                  </a:lnTo>
                  <a:lnTo>
                    <a:pt x="578" y="920"/>
                  </a:lnTo>
                  <a:lnTo>
                    <a:pt x="641" y="902"/>
                  </a:lnTo>
                  <a:lnTo>
                    <a:pt x="656" y="929"/>
                  </a:lnTo>
                  <a:lnTo>
                    <a:pt x="672" y="977"/>
                  </a:lnTo>
                  <a:lnTo>
                    <a:pt x="701" y="1017"/>
                  </a:lnTo>
                  <a:lnTo>
                    <a:pt x="704" y="1049"/>
                  </a:lnTo>
                  <a:lnTo>
                    <a:pt x="701" y="1079"/>
                  </a:lnTo>
                  <a:lnTo>
                    <a:pt x="669" y="1089"/>
                  </a:lnTo>
                  <a:lnTo>
                    <a:pt x="614" y="1103"/>
                  </a:lnTo>
                  <a:lnTo>
                    <a:pt x="542" y="1136"/>
                  </a:lnTo>
                  <a:lnTo>
                    <a:pt x="440" y="1151"/>
                  </a:lnTo>
                  <a:lnTo>
                    <a:pt x="401" y="1170"/>
                  </a:lnTo>
                  <a:lnTo>
                    <a:pt x="428" y="1184"/>
                  </a:lnTo>
                  <a:lnTo>
                    <a:pt x="519" y="1170"/>
                  </a:lnTo>
                  <a:lnTo>
                    <a:pt x="582" y="1146"/>
                  </a:lnTo>
                  <a:lnTo>
                    <a:pt x="625" y="1130"/>
                  </a:lnTo>
                  <a:lnTo>
                    <a:pt x="661" y="1122"/>
                  </a:lnTo>
                  <a:lnTo>
                    <a:pt x="656" y="1151"/>
                  </a:lnTo>
                  <a:lnTo>
                    <a:pt x="672" y="1191"/>
                  </a:lnTo>
                  <a:lnTo>
                    <a:pt x="695" y="1215"/>
                  </a:lnTo>
                  <a:lnTo>
                    <a:pt x="701" y="1242"/>
                  </a:lnTo>
                  <a:lnTo>
                    <a:pt x="701" y="1266"/>
                  </a:lnTo>
                  <a:lnTo>
                    <a:pt x="669" y="1280"/>
                  </a:lnTo>
                  <a:lnTo>
                    <a:pt x="608" y="1283"/>
                  </a:lnTo>
                  <a:lnTo>
                    <a:pt x="566" y="1296"/>
                  </a:lnTo>
                  <a:lnTo>
                    <a:pt x="472" y="1329"/>
                  </a:lnTo>
                  <a:lnTo>
                    <a:pt x="419" y="1331"/>
                  </a:lnTo>
                  <a:lnTo>
                    <a:pt x="401" y="1355"/>
                  </a:lnTo>
                  <a:lnTo>
                    <a:pt x="425" y="1364"/>
                  </a:lnTo>
                  <a:lnTo>
                    <a:pt x="472" y="1353"/>
                  </a:lnTo>
                  <a:lnTo>
                    <a:pt x="542" y="1331"/>
                  </a:lnTo>
                  <a:lnTo>
                    <a:pt x="582" y="1316"/>
                  </a:lnTo>
                  <a:lnTo>
                    <a:pt x="632" y="1304"/>
                  </a:lnTo>
                  <a:lnTo>
                    <a:pt x="672" y="1307"/>
                  </a:lnTo>
                  <a:lnTo>
                    <a:pt x="685" y="1307"/>
                  </a:lnTo>
                  <a:lnTo>
                    <a:pt x="685" y="1344"/>
                  </a:lnTo>
                  <a:lnTo>
                    <a:pt x="695" y="1364"/>
                  </a:lnTo>
                  <a:lnTo>
                    <a:pt x="625" y="1380"/>
                  </a:lnTo>
                  <a:lnTo>
                    <a:pt x="561" y="1428"/>
                  </a:lnTo>
                  <a:lnTo>
                    <a:pt x="491" y="1452"/>
                  </a:lnTo>
                  <a:lnTo>
                    <a:pt x="442" y="1460"/>
                  </a:lnTo>
                  <a:lnTo>
                    <a:pt x="403" y="1482"/>
                  </a:lnTo>
                  <a:lnTo>
                    <a:pt x="419" y="1497"/>
                  </a:lnTo>
                  <a:lnTo>
                    <a:pt x="459" y="1484"/>
                  </a:lnTo>
                  <a:lnTo>
                    <a:pt x="503" y="1469"/>
                  </a:lnTo>
                  <a:lnTo>
                    <a:pt x="554" y="1460"/>
                  </a:lnTo>
                  <a:lnTo>
                    <a:pt x="598" y="1433"/>
                  </a:lnTo>
                  <a:lnTo>
                    <a:pt x="622" y="1409"/>
                  </a:lnTo>
                  <a:lnTo>
                    <a:pt x="654" y="1404"/>
                  </a:lnTo>
                  <a:lnTo>
                    <a:pt x="692" y="1404"/>
                  </a:lnTo>
                  <a:lnTo>
                    <a:pt x="704" y="1409"/>
                  </a:lnTo>
                  <a:lnTo>
                    <a:pt x="717" y="1436"/>
                  </a:lnTo>
                  <a:lnTo>
                    <a:pt x="725" y="1469"/>
                  </a:lnTo>
                  <a:lnTo>
                    <a:pt x="717" y="1497"/>
                  </a:lnTo>
                  <a:lnTo>
                    <a:pt x="701" y="1513"/>
                  </a:lnTo>
                  <a:lnTo>
                    <a:pt x="688" y="1554"/>
                  </a:lnTo>
                  <a:lnTo>
                    <a:pt x="701" y="1570"/>
                  </a:lnTo>
                  <a:lnTo>
                    <a:pt x="717" y="1587"/>
                  </a:lnTo>
                  <a:lnTo>
                    <a:pt x="717" y="1602"/>
                  </a:lnTo>
                  <a:lnTo>
                    <a:pt x="695" y="16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60320" y="5189400"/>
              <a:ext cx="187560" cy="63720"/>
            </a:xfrm>
            <a:custGeom>
              <a:avLst/>
              <a:gdLst/>
              <a:ahLst/>
              <a:rect l="l" t="t" r="r" b="b"/>
              <a:pathLst>
                <a:path w="237" h="80">
                  <a:moveTo>
                    <a:pt x="0" y="65"/>
                  </a:moveTo>
                  <a:lnTo>
                    <a:pt x="94" y="62"/>
                  </a:lnTo>
                  <a:lnTo>
                    <a:pt x="131" y="41"/>
                  </a:lnTo>
                  <a:lnTo>
                    <a:pt x="162" y="17"/>
                  </a:lnTo>
                  <a:lnTo>
                    <a:pt x="221" y="0"/>
                  </a:lnTo>
                  <a:lnTo>
                    <a:pt x="237" y="17"/>
                  </a:lnTo>
                  <a:lnTo>
                    <a:pt x="212" y="24"/>
                  </a:lnTo>
                  <a:lnTo>
                    <a:pt x="171" y="47"/>
                  </a:lnTo>
                  <a:lnTo>
                    <a:pt x="149" y="62"/>
                  </a:lnTo>
                  <a:lnTo>
                    <a:pt x="110" y="72"/>
                  </a:lnTo>
                  <a:lnTo>
                    <a:pt x="52" y="78"/>
                  </a:lnTo>
                  <a:lnTo>
                    <a:pt x="5" y="8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73040" y="3813120"/>
              <a:ext cx="544680" cy="303120"/>
            </a:xfrm>
            <a:custGeom>
              <a:avLst/>
              <a:gdLst/>
              <a:ahLst/>
              <a:rect l="l" t="t" r="r" b="b"/>
              <a:pathLst>
                <a:path w="688" h="380">
                  <a:moveTo>
                    <a:pt x="21" y="43"/>
                  </a:moveTo>
                  <a:lnTo>
                    <a:pt x="103" y="48"/>
                  </a:lnTo>
                  <a:lnTo>
                    <a:pt x="190" y="51"/>
                  </a:lnTo>
                  <a:lnTo>
                    <a:pt x="246" y="51"/>
                  </a:lnTo>
                  <a:lnTo>
                    <a:pt x="290" y="40"/>
                  </a:lnTo>
                  <a:lnTo>
                    <a:pt x="362" y="19"/>
                  </a:lnTo>
                  <a:lnTo>
                    <a:pt x="395" y="0"/>
                  </a:lnTo>
                  <a:lnTo>
                    <a:pt x="442" y="27"/>
                  </a:lnTo>
                  <a:lnTo>
                    <a:pt x="519" y="81"/>
                  </a:lnTo>
                  <a:lnTo>
                    <a:pt x="575" y="119"/>
                  </a:lnTo>
                  <a:lnTo>
                    <a:pt x="645" y="170"/>
                  </a:lnTo>
                  <a:lnTo>
                    <a:pt x="688" y="209"/>
                  </a:lnTo>
                  <a:lnTo>
                    <a:pt x="648" y="244"/>
                  </a:lnTo>
                  <a:lnTo>
                    <a:pt x="608" y="281"/>
                  </a:lnTo>
                  <a:lnTo>
                    <a:pt x="545" y="308"/>
                  </a:lnTo>
                  <a:lnTo>
                    <a:pt x="479" y="337"/>
                  </a:lnTo>
                  <a:lnTo>
                    <a:pt x="419" y="361"/>
                  </a:lnTo>
                  <a:lnTo>
                    <a:pt x="363" y="370"/>
                  </a:lnTo>
                  <a:lnTo>
                    <a:pt x="306" y="380"/>
                  </a:lnTo>
                  <a:lnTo>
                    <a:pt x="234" y="329"/>
                  </a:lnTo>
                  <a:lnTo>
                    <a:pt x="180" y="284"/>
                  </a:lnTo>
                  <a:lnTo>
                    <a:pt x="116" y="227"/>
                  </a:lnTo>
                  <a:lnTo>
                    <a:pt x="63" y="170"/>
                  </a:lnTo>
                  <a:lnTo>
                    <a:pt x="24" y="131"/>
                  </a:lnTo>
                  <a:lnTo>
                    <a:pt x="0" y="75"/>
                  </a:lnTo>
                  <a:lnTo>
                    <a:pt x="21" y="43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8640" y="3803760"/>
              <a:ext cx="590760" cy="352440"/>
            </a:xfrm>
            <a:custGeom>
              <a:avLst/>
              <a:gdLst/>
              <a:ahLst/>
              <a:rect l="l" t="t" r="r" b="b"/>
              <a:pathLst>
                <a:path w="743" h="443">
                  <a:moveTo>
                    <a:pt x="364" y="379"/>
                  </a:moveTo>
                  <a:lnTo>
                    <a:pt x="482" y="346"/>
                  </a:lnTo>
                  <a:lnTo>
                    <a:pt x="577" y="304"/>
                  </a:lnTo>
                  <a:lnTo>
                    <a:pt x="646" y="254"/>
                  </a:lnTo>
                  <a:lnTo>
                    <a:pt x="672" y="226"/>
                  </a:lnTo>
                  <a:lnTo>
                    <a:pt x="574" y="134"/>
                  </a:lnTo>
                  <a:lnTo>
                    <a:pt x="495" y="85"/>
                  </a:lnTo>
                  <a:lnTo>
                    <a:pt x="418" y="37"/>
                  </a:lnTo>
                  <a:lnTo>
                    <a:pt x="404" y="37"/>
                  </a:lnTo>
                  <a:lnTo>
                    <a:pt x="355" y="54"/>
                  </a:lnTo>
                  <a:lnTo>
                    <a:pt x="292" y="72"/>
                  </a:lnTo>
                  <a:lnTo>
                    <a:pt x="179" y="81"/>
                  </a:lnTo>
                  <a:lnTo>
                    <a:pt x="69" y="78"/>
                  </a:lnTo>
                  <a:lnTo>
                    <a:pt x="39" y="81"/>
                  </a:lnTo>
                  <a:lnTo>
                    <a:pt x="39" y="102"/>
                  </a:lnTo>
                  <a:lnTo>
                    <a:pt x="63" y="134"/>
                  </a:lnTo>
                  <a:lnTo>
                    <a:pt x="108" y="193"/>
                  </a:lnTo>
                  <a:lnTo>
                    <a:pt x="166" y="241"/>
                  </a:lnTo>
                  <a:lnTo>
                    <a:pt x="236" y="311"/>
                  </a:lnTo>
                  <a:lnTo>
                    <a:pt x="305" y="362"/>
                  </a:lnTo>
                  <a:lnTo>
                    <a:pt x="348" y="392"/>
                  </a:lnTo>
                  <a:lnTo>
                    <a:pt x="361" y="424"/>
                  </a:lnTo>
                  <a:lnTo>
                    <a:pt x="345" y="443"/>
                  </a:lnTo>
                  <a:lnTo>
                    <a:pt x="321" y="433"/>
                  </a:lnTo>
                  <a:lnTo>
                    <a:pt x="252" y="368"/>
                  </a:lnTo>
                  <a:lnTo>
                    <a:pt x="166" y="295"/>
                  </a:lnTo>
                  <a:lnTo>
                    <a:pt x="102" y="241"/>
                  </a:lnTo>
                  <a:lnTo>
                    <a:pt x="60" y="193"/>
                  </a:lnTo>
                  <a:lnTo>
                    <a:pt x="23" y="142"/>
                  </a:lnTo>
                  <a:lnTo>
                    <a:pt x="7" y="109"/>
                  </a:lnTo>
                  <a:lnTo>
                    <a:pt x="0" y="72"/>
                  </a:lnTo>
                  <a:lnTo>
                    <a:pt x="10" y="48"/>
                  </a:lnTo>
                  <a:lnTo>
                    <a:pt x="36" y="37"/>
                  </a:lnTo>
                  <a:lnTo>
                    <a:pt x="83" y="40"/>
                  </a:lnTo>
                  <a:lnTo>
                    <a:pt x="173" y="54"/>
                  </a:lnTo>
                  <a:lnTo>
                    <a:pt x="249" y="54"/>
                  </a:lnTo>
                  <a:lnTo>
                    <a:pt x="305" y="37"/>
                  </a:lnTo>
                  <a:lnTo>
                    <a:pt x="368" y="24"/>
                  </a:lnTo>
                  <a:lnTo>
                    <a:pt x="395" y="0"/>
                  </a:lnTo>
                  <a:lnTo>
                    <a:pt x="424" y="0"/>
                  </a:lnTo>
                  <a:lnTo>
                    <a:pt x="490" y="40"/>
                  </a:lnTo>
                  <a:lnTo>
                    <a:pt x="561" y="96"/>
                  </a:lnTo>
                  <a:lnTo>
                    <a:pt x="637" y="145"/>
                  </a:lnTo>
                  <a:lnTo>
                    <a:pt x="680" y="176"/>
                  </a:lnTo>
                  <a:lnTo>
                    <a:pt x="724" y="206"/>
                  </a:lnTo>
                  <a:lnTo>
                    <a:pt x="743" y="217"/>
                  </a:lnTo>
                  <a:lnTo>
                    <a:pt x="733" y="239"/>
                  </a:lnTo>
                  <a:lnTo>
                    <a:pt x="700" y="257"/>
                  </a:lnTo>
                  <a:lnTo>
                    <a:pt x="664" y="290"/>
                  </a:lnTo>
                  <a:lnTo>
                    <a:pt x="630" y="304"/>
                  </a:lnTo>
                  <a:lnTo>
                    <a:pt x="567" y="331"/>
                  </a:lnTo>
                  <a:lnTo>
                    <a:pt x="521" y="352"/>
                  </a:lnTo>
                  <a:lnTo>
                    <a:pt x="471" y="383"/>
                  </a:lnTo>
                  <a:lnTo>
                    <a:pt x="418" y="392"/>
                  </a:lnTo>
                  <a:lnTo>
                    <a:pt x="377" y="395"/>
                  </a:lnTo>
                  <a:lnTo>
                    <a:pt x="364" y="3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2000" y="4070520"/>
              <a:ext cx="185760" cy="122040"/>
            </a:xfrm>
            <a:custGeom>
              <a:avLst/>
              <a:gdLst/>
              <a:ahLst/>
              <a:rect l="l" t="t" r="r" b="b"/>
              <a:pathLst>
                <a:path w="235" h="153">
                  <a:moveTo>
                    <a:pt x="198" y="18"/>
                  </a:moveTo>
                  <a:lnTo>
                    <a:pt x="148" y="59"/>
                  </a:lnTo>
                  <a:lnTo>
                    <a:pt x="103" y="96"/>
                  </a:lnTo>
                  <a:lnTo>
                    <a:pt x="37" y="120"/>
                  </a:lnTo>
                  <a:lnTo>
                    <a:pt x="0" y="132"/>
                  </a:lnTo>
                  <a:lnTo>
                    <a:pt x="29" y="153"/>
                  </a:lnTo>
                  <a:lnTo>
                    <a:pt x="76" y="146"/>
                  </a:lnTo>
                  <a:lnTo>
                    <a:pt x="150" y="96"/>
                  </a:lnTo>
                  <a:lnTo>
                    <a:pt x="235" y="0"/>
                  </a:lnTo>
                  <a:lnTo>
                    <a:pt x="19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1)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 Narrow"/>
              </a:rPr>
              <a:t>Roles in RU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76320" y="1301760"/>
            <a:ext cx="2514600" cy="403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1)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 Narrow"/>
              </a:rPr>
              <a:t>Roles in RU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6248520" y="685800"/>
            <a:ext cx="2971800" cy="6097320"/>
            <a:chOff x="6248520" y="685800"/>
            <a:chExt cx="2971800" cy="6097320"/>
          </a:xfrm>
        </p:grpSpPr>
        <p:grpSp>
          <p:nvGrpSpPr>
            <p:cNvPr id="496" name=""/>
            <p:cNvGrpSpPr/>
            <p:nvPr/>
          </p:nvGrpSpPr>
          <p:grpSpPr>
            <a:xfrm>
              <a:off x="6248520" y="685800"/>
              <a:ext cx="2623680" cy="1766160"/>
              <a:chOff x="6248520" y="685800"/>
              <a:chExt cx="2623680" cy="176616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8126280" y="1157760"/>
                <a:ext cx="683640" cy="1234800"/>
                <a:chOff x="8126280" y="1157760"/>
                <a:chExt cx="683640" cy="123480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8137800" y="1280520"/>
                  <a:ext cx="339480" cy="212400"/>
                </a:xfrm>
                <a:custGeom>
                  <a:avLst/>
                  <a:gdLst/>
                  <a:ahLst/>
                  <a:rect l="l" t="t" r="r" b="b"/>
                  <a:pathLst>
                    <a:path w="144" h="112">
                      <a:moveTo>
                        <a:pt x="93" y="48"/>
                      </a:moveTo>
                      <a:lnTo>
                        <a:pt x="86" y="33"/>
                      </a:lnTo>
                      <a:lnTo>
                        <a:pt x="78" y="21"/>
                      </a:lnTo>
                      <a:lnTo>
                        <a:pt x="68" y="11"/>
                      </a:lnTo>
                      <a:lnTo>
                        <a:pt x="59" y="5"/>
                      </a:lnTo>
                      <a:lnTo>
                        <a:pt x="48" y="2"/>
                      </a:lnTo>
                      <a:lnTo>
                        <a:pt x="38" y="0"/>
                      </a:lnTo>
                      <a:lnTo>
                        <a:pt x="28" y="1"/>
                      </a:lnTo>
                      <a:lnTo>
                        <a:pt x="17" y="5"/>
                      </a:lnTo>
                      <a:lnTo>
                        <a:pt x="9" y="12"/>
                      </a:lnTo>
                      <a:lnTo>
                        <a:pt x="4" y="21"/>
                      </a:lnTo>
                      <a:lnTo>
                        <a:pt x="1" y="30"/>
                      </a:lnTo>
                      <a:lnTo>
                        <a:pt x="0" y="43"/>
                      </a:lnTo>
                      <a:lnTo>
                        <a:pt x="1" y="55"/>
                      </a:lnTo>
                      <a:lnTo>
                        <a:pt x="5" y="65"/>
                      </a:lnTo>
                      <a:lnTo>
                        <a:pt x="12" y="79"/>
                      </a:lnTo>
                      <a:lnTo>
                        <a:pt x="20" y="88"/>
                      </a:lnTo>
                      <a:lnTo>
                        <a:pt x="31" y="97"/>
                      </a:lnTo>
                      <a:lnTo>
                        <a:pt x="45" y="105"/>
                      </a:lnTo>
                      <a:lnTo>
                        <a:pt x="59" y="111"/>
                      </a:lnTo>
                      <a:lnTo>
                        <a:pt x="72" y="112"/>
                      </a:lnTo>
                      <a:lnTo>
                        <a:pt x="82" y="110"/>
                      </a:lnTo>
                      <a:lnTo>
                        <a:pt x="90" y="105"/>
                      </a:lnTo>
                      <a:lnTo>
                        <a:pt x="94" y="100"/>
                      </a:lnTo>
                      <a:lnTo>
                        <a:pt x="96" y="92"/>
                      </a:lnTo>
                      <a:lnTo>
                        <a:pt x="98" y="82"/>
                      </a:lnTo>
                      <a:lnTo>
                        <a:pt x="97" y="73"/>
                      </a:lnTo>
                      <a:lnTo>
                        <a:pt x="99" y="65"/>
                      </a:lnTo>
                      <a:lnTo>
                        <a:pt x="103" y="63"/>
                      </a:lnTo>
                      <a:lnTo>
                        <a:pt x="121" y="59"/>
                      </a:lnTo>
                      <a:lnTo>
                        <a:pt x="134" y="58"/>
                      </a:lnTo>
                      <a:lnTo>
                        <a:pt x="140" y="55"/>
                      </a:lnTo>
                      <a:lnTo>
                        <a:pt x="144" y="51"/>
                      </a:lnTo>
                      <a:lnTo>
                        <a:pt x="142" y="44"/>
                      </a:lnTo>
                      <a:lnTo>
                        <a:pt x="137" y="40"/>
                      </a:lnTo>
                      <a:lnTo>
                        <a:pt x="124" y="41"/>
                      </a:lnTo>
                      <a:lnTo>
                        <a:pt x="114" y="45"/>
                      </a:lnTo>
                      <a:lnTo>
                        <a:pt x="103" y="50"/>
                      </a:lnTo>
                      <a:lnTo>
                        <a:pt x="93" y="4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258400" y="1523880"/>
                  <a:ext cx="250200" cy="371520"/>
                </a:xfrm>
                <a:custGeom>
                  <a:avLst/>
                  <a:gdLst/>
                  <a:ahLst/>
                  <a:rect l="l" t="t" r="r" b="b"/>
                  <a:pathLst>
                    <a:path w="106" h="196">
                      <a:moveTo>
                        <a:pt x="18" y="3"/>
                      </a:moveTo>
                      <a:lnTo>
                        <a:pt x="26" y="0"/>
                      </a:lnTo>
                      <a:lnTo>
                        <a:pt x="42" y="1"/>
                      </a:lnTo>
                      <a:lnTo>
                        <a:pt x="55" y="6"/>
                      </a:lnTo>
                      <a:lnTo>
                        <a:pt x="71" y="16"/>
                      </a:lnTo>
                      <a:lnTo>
                        <a:pt x="81" y="30"/>
                      </a:lnTo>
                      <a:lnTo>
                        <a:pt x="90" y="46"/>
                      </a:lnTo>
                      <a:lnTo>
                        <a:pt x="97" y="62"/>
                      </a:lnTo>
                      <a:lnTo>
                        <a:pt x="101" y="78"/>
                      </a:lnTo>
                      <a:lnTo>
                        <a:pt x="104" y="94"/>
                      </a:lnTo>
                      <a:lnTo>
                        <a:pt x="106" y="115"/>
                      </a:lnTo>
                      <a:lnTo>
                        <a:pt x="105" y="137"/>
                      </a:lnTo>
                      <a:lnTo>
                        <a:pt x="102" y="154"/>
                      </a:lnTo>
                      <a:lnTo>
                        <a:pt x="96" y="168"/>
                      </a:lnTo>
                      <a:lnTo>
                        <a:pt x="88" y="177"/>
                      </a:lnTo>
                      <a:lnTo>
                        <a:pt x="77" y="185"/>
                      </a:lnTo>
                      <a:lnTo>
                        <a:pt x="64" y="192"/>
                      </a:lnTo>
                      <a:lnTo>
                        <a:pt x="51" y="196"/>
                      </a:lnTo>
                      <a:lnTo>
                        <a:pt x="35" y="196"/>
                      </a:lnTo>
                      <a:lnTo>
                        <a:pt x="21" y="192"/>
                      </a:lnTo>
                      <a:lnTo>
                        <a:pt x="11" y="183"/>
                      </a:lnTo>
                      <a:lnTo>
                        <a:pt x="6" y="172"/>
                      </a:lnTo>
                      <a:lnTo>
                        <a:pt x="1" y="156"/>
                      </a:lnTo>
                      <a:lnTo>
                        <a:pt x="1" y="142"/>
                      </a:lnTo>
                      <a:lnTo>
                        <a:pt x="4" y="130"/>
                      </a:lnTo>
                      <a:lnTo>
                        <a:pt x="10" y="118"/>
                      </a:lnTo>
                      <a:lnTo>
                        <a:pt x="19" y="109"/>
                      </a:lnTo>
                      <a:lnTo>
                        <a:pt x="23" y="99"/>
                      </a:lnTo>
                      <a:lnTo>
                        <a:pt x="23" y="88"/>
                      </a:lnTo>
                      <a:lnTo>
                        <a:pt x="20" y="77"/>
                      </a:lnTo>
                      <a:lnTo>
                        <a:pt x="13" y="66"/>
                      </a:lnTo>
                      <a:lnTo>
                        <a:pt x="7" y="54"/>
                      </a:lnTo>
                      <a:lnTo>
                        <a:pt x="2" y="44"/>
                      </a:lnTo>
                      <a:lnTo>
                        <a:pt x="0" y="33"/>
                      </a:lnTo>
                      <a:lnTo>
                        <a:pt x="1" y="23"/>
                      </a:lnTo>
                      <a:lnTo>
                        <a:pt x="6" y="13"/>
                      </a:lnTo>
                      <a:lnTo>
                        <a:pt x="10" y="8"/>
                      </a:lnTo>
                      <a:lnTo>
                        <a:pt x="18" y="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8126280" y="1553760"/>
                  <a:ext cx="438840" cy="227520"/>
                </a:xfrm>
                <a:custGeom>
                  <a:avLst/>
                  <a:gdLst/>
                  <a:ahLst/>
                  <a:rect l="l" t="t" r="r" b="b"/>
                  <a:pathLst>
                    <a:path w="186" h="120">
                      <a:moveTo>
                        <a:pt x="43" y="23"/>
                      </a:moveTo>
                      <a:lnTo>
                        <a:pt x="56" y="9"/>
                      </a:lnTo>
                      <a:lnTo>
                        <a:pt x="68" y="0"/>
                      </a:lnTo>
                      <a:lnTo>
                        <a:pt x="81" y="3"/>
                      </a:lnTo>
                      <a:lnTo>
                        <a:pt x="85" y="18"/>
                      </a:lnTo>
                      <a:lnTo>
                        <a:pt x="75" y="32"/>
                      </a:lnTo>
                      <a:lnTo>
                        <a:pt x="61" y="41"/>
                      </a:lnTo>
                      <a:lnTo>
                        <a:pt x="44" y="50"/>
                      </a:lnTo>
                      <a:lnTo>
                        <a:pt x="32" y="64"/>
                      </a:lnTo>
                      <a:lnTo>
                        <a:pt x="25" y="74"/>
                      </a:lnTo>
                      <a:lnTo>
                        <a:pt x="30" y="82"/>
                      </a:lnTo>
                      <a:lnTo>
                        <a:pt x="45" y="93"/>
                      </a:lnTo>
                      <a:lnTo>
                        <a:pt x="59" y="99"/>
                      </a:lnTo>
                      <a:lnTo>
                        <a:pt x="81" y="103"/>
                      </a:lnTo>
                      <a:lnTo>
                        <a:pt x="103" y="102"/>
                      </a:lnTo>
                      <a:lnTo>
                        <a:pt x="127" y="93"/>
                      </a:lnTo>
                      <a:lnTo>
                        <a:pt x="140" y="88"/>
                      </a:lnTo>
                      <a:lnTo>
                        <a:pt x="145" y="80"/>
                      </a:lnTo>
                      <a:lnTo>
                        <a:pt x="151" y="68"/>
                      </a:lnTo>
                      <a:lnTo>
                        <a:pt x="156" y="56"/>
                      </a:lnTo>
                      <a:lnTo>
                        <a:pt x="165" y="50"/>
                      </a:lnTo>
                      <a:lnTo>
                        <a:pt x="175" y="49"/>
                      </a:lnTo>
                      <a:lnTo>
                        <a:pt x="185" y="52"/>
                      </a:lnTo>
                      <a:lnTo>
                        <a:pt x="186" y="61"/>
                      </a:lnTo>
                      <a:lnTo>
                        <a:pt x="181" y="73"/>
                      </a:lnTo>
                      <a:lnTo>
                        <a:pt x="171" y="85"/>
                      </a:lnTo>
                      <a:lnTo>
                        <a:pt x="162" y="89"/>
                      </a:lnTo>
                      <a:lnTo>
                        <a:pt x="150" y="94"/>
                      </a:lnTo>
                      <a:lnTo>
                        <a:pt x="137" y="103"/>
                      </a:lnTo>
                      <a:lnTo>
                        <a:pt x="118" y="111"/>
                      </a:lnTo>
                      <a:lnTo>
                        <a:pt x="97" y="117"/>
                      </a:lnTo>
                      <a:lnTo>
                        <a:pt x="77" y="120"/>
                      </a:lnTo>
                      <a:lnTo>
                        <a:pt x="58" y="120"/>
                      </a:lnTo>
                      <a:lnTo>
                        <a:pt x="42" y="116"/>
                      </a:lnTo>
                      <a:lnTo>
                        <a:pt x="26" y="108"/>
                      </a:lnTo>
                      <a:lnTo>
                        <a:pt x="11" y="97"/>
                      </a:lnTo>
                      <a:lnTo>
                        <a:pt x="3" y="87"/>
                      </a:lnTo>
                      <a:lnTo>
                        <a:pt x="0" y="78"/>
                      </a:lnTo>
                      <a:lnTo>
                        <a:pt x="2" y="71"/>
                      </a:lnTo>
                      <a:lnTo>
                        <a:pt x="8" y="59"/>
                      </a:lnTo>
                      <a:lnTo>
                        <a:pt x="20" y="45"/>
                      </a:lnTo>
                      <a:lnTo>
                        <a:pt x="32" y="33"/>
                      </a:lnTo>
                      <a:lnTo>
                        <a:pt x="43" y="2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8336160" y="1157760"/>
                  <a:ext cx="388800" cy="436320"/>
                </a:xfrm>
                <a:custGeom>
                  <a:avLst/>
                  <a:gdLst/>
                  <a:ahLst/>
                  <a:rect l="l" t="t" r="r" b="b"/>
                  <a:pathLst>
                    <a:path w="165" h="230">
                      <a:moveTo>
                        <a:pt x="48" y="201"/>
                      </a:moveTo>
                      <a:lnTo>
                        <a:pt x="27" y="197"/>
                      </a:lnTo>
                      <a:lnTo>
                        <a:pt x="9" y="195"/>
                      </a:lnTo>
                      <a:lnTo>
                        <a:pt x="0" y="202"/>
                      </a:lnTo>
                      <a:lnTo>
                        <a:pt x="9" y="213"/>
                      </a:lnTo>
                      <a:lnTo>
                        <a:pt x="20" y="225"/>
                      </a:lnTo>
                      <a:lnTo>
                        <a:pt x="37" y="230"/>
                      </a:lnTo>
                      <a:lnTo>
                        <a:pt x="52" y="229"/>
                      </a:lnTo>
                      <a:lnTo>
                        <a:pt x="77" y="224"/>
                      </a:lnTo>
                      <a:lnTo>
                        <a:pt x="106" y="213"/>
                      </a:lnTo>
                      <a:lnTo>
                        <a:pt x="118" y="205"/>
                      </a:lnTo>
                      <a:lnTo>
                        <a:pt x="120" y="193"/>
                      </a:lnTo>
                      <a:lnTo>
                        <a:pt x="122" y="166"/>
                      </a:lnTo>
                      <a:lnTo>
                        <a:pt x="120" y="130"/>
                      </a:lnTo>
                      <a:lnTo>
                        <a:pt x="119" y="104"/>
                      </a:lnTo>
                      <a:lnTo>
                        <a:pt x="122" y="92"/>
                      </a:lnTo>
                      <a:lnTo>
                        <a:pt x="126" y="75"/>
                      </a:lnTo>
                      <a:lnTo>
                        <a:pt x="137" y="62"/>
                      </a:lnTo>
                      <a:lnTo>
                        <a:pt x="147" y="56"/>
                      </a:lnTo>
                      <a:lnTo>
                        <a:pt x="158" y="49"/>
                      </a:lnTo>
                      <a:lnTo>
                        <a:pt x="163" y="41"/>
                      </a:lnTo>
                      <a:lnTo>
                        <a:pt x="165" y="30"/>
                      </a:lnTo>
                      <a:lnTo>
                        <a:pt x="154" y="14"/>
                      </a:lnTo>
                      <a:lnTo>
                        <a:pt x="148" y="5"/>
                      </a:lnTo>
                      <a:lnTo>
                        <a:pt x="139" y="0"/>
                      </a:lnTo>
                      <a:lnTo>
                        <a:pt x="136" y="1"/>
                      </a:lnTo>
                      <a:lnTo>
                        <a:pt x="126" y="6"/>
                      </a:lnTo>
                      <a:lnTo>
                        <a:pt x="118" y="24"/>
                      </a:lnTo>
                      <a:lnTo>
                        <a:pt x="117" y="44"/>
                      </a:lnTo>
                      <a:lnTo>
                        <a:pt x="112" y="66"/>
                      </a:lnTo>
                      <a:lnTo>
                        <a:pt x="108" y="96"/>
                      </a:lnTo>
                      <a:lnTo>
                        <a:pt x="106" y="122"/>
                      </a:lnTo>
                      <a:lnTo>
                        <a:pt x="105" y="150"/>
                      </a:lnTo>
                      <a:lnTo>
                        <a:pt x="103" y="173"/>
                      </a:lnTo>
                      <a:lnTo>
                        <a:pt x="98" y="188"/>
                      </a:lnTo>
                      <a:lnTo>
                        <a:pt x="92" y="195"/>
                      </a:lnTo>
                      <a:lnTo>
                        <a:pt x="80" y="200"/>
                      </a:lnTo>
                      <a:lnTo>
                        <a:pt x="69" y="202"/>
                      </a:lnTo>
                      <a:lnTo>
                        <a:pt x="55" y="203"/>
                      </a:lnTo>
                      <a:lnTo>
                        <a:pt x="48" y="20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8319600" y="1808280"/>
                  <a:ext cx="490320" cy="301320"/>
                </a:xfrm>
                <a:custGeom>
                  <a:avLst/>
                  <a:gdLst/>
                  <a:ahLst/>
                  <a:rect l="l" t="t" r="r" b="b"/>
                  <a:pathLst>
                    <a:path w="208" h="159">
                      <a:moveTo>
                        <a:pt x="49" y="1"/>
                      </a:moveTo>
                      <a:lnTo>
                        <a:pt x="29" y="0"/>
                      </a:lnTo>
                      <a:lnTo>
                        <a:pt x="9" y="2"/>
                      </a:lnTo>
                      <a:lnTo>
                        <a:pt x="0" y="15"/>
                      </a:lnTo>
                      <a:lnTo>
                        <a:pt x="5" y="36"/>
                      </a:lnTo>
                      <a:lnTo>
                        <a:pt x="21" y="42"/>
                      </a:lnTo>
                      <a:lnTo>
                        <a:pt x="38" y="42"/>
                      </a:lnTo>
                      <a:lnTo>
                        <a:pt x="60" y="41"/>
                      </a:lnTo>
                      <a:lnTo>
                        <a:pt x="86" y="37"/>
                      </a:lnTo>
                      <a:lnTo>
                        <a:pt x="110" y="31"/>
                      </a:lnTo>
                      <a:lnTo>
                        <a:pt x="120" y="31"/>
                      </a:lnTo>
                      <a:lnTo>
                        <a:pt x="124" y="32"/>
                      </a:lnTo>
                      <a:lnTo>
                        <a:pt x="128" y="37"/>
                      </a:lnTo>
                      <a:lnTo>
                        <a:pt x="127" y="45"/>
                      </a:lnTo>
                      <a:lnTo>
                        <a:pt x="122" y="64"/>
                      </a:lnTo>
                      <a:lnTo>
                        <a:pt x="113" y="89"/>
                      </a:lnTo>
                      <a:lnTo>
                        <a:pt x="106" y="115"/>
                      </a:lnTo>
                      <a:lnTo>
                        <a:pt x="106" y="139"/>
                      </a:lnTo>
                      <a:lnTo>
                        <a:pt x="110" y="154"/>
                      </a:lnTo>
                      <a:lnTo>
                        <a:pt x="118" y="159"/>
                      </a:lnTo>
                      <a:lnTo>
                        <a:pt x="128" y="157"/>
                      </a:lnTo>
                      <a:lnTo>
                        <a:pt x="140" y="150"/>
                      </a:lnTo>
                      <a:lnTo>
                        <a:pt x="152" y="143"/>
                      </a:lnTo>
                      <a:lnTo>
                        <a:pt x="166" y="141"/>
                      </a:lnTo>
                      <a:lnTo>
                        <a:pt x="180" y="145"/>
                      </a:lnTo>
                      <a:lnTo>
                        <a:pt x="193" y="154"/>
                      </a:lnTo>
                      <a:lnTo>
                        <a:pt x="199" y="155"/>
                      </a:lnTo>
                      <a:lnTo>
                        <a:pt x="205" y="153"/>
                      </a:lnTo>
                      <a:lnTo>
                        <a:pt x="208" y="142"/>
                      </a:lnTo>
                      <a:lnTo>
                        <a:pt x="198" y="130"/>
                      </a:lnTo>
                      <a:lnTo>
                        <a:pt x="182" y="126"/>
                      </a:lnTo>
                      <a:lnTo>
                        <a:pt x="162" y="125"/>
                      </a:lnTo>
                      <a:lnTo>
                        <a:pt x="141" y="130"/>
                      </a:lnTo>
                      <a:lnTo>
                        <a:pt x="130" y="134"/>
                      </a:lnTo>
                      <a:lnTo>
                        <a:pt x="123" y="129"/>
                      </a:lnTo>
                      <a:lnTo>
                        <a:pt x="123" y="119"/>
                      </a:lnTo>
                      <a:lnTo>
                        <a:pt x="128" y="101"/>
                      </a:lnTo>
                      <a:lnTo>
                        <a:pt x="135" y="82"/>
                      </a:lnTo>
                      <a:lnTo>
                        <a:pt x="144" y="58"/>
                      </a:lnTo>
                      <a:lnTo>
                        <a:pt x="148" y="42"/>
                      </a:lnTo>
                      <a:lnTo>
                        <a:pt x="147" y="30"/>
                      </a:lnTo>
                      <a:lnTo>
                        <a:pt x="143" y="18"/>
                      </a:lnTo>
                      <a:lnTo>
                        <a:pt x="134" y="11"/>
                      </a:lnTo>
                      <a:lnTo>
                        <a:pt x="123" y="8"/>
                      </a:lnTo>
                      <a:lnTo>
                        <a:pt x="109" y="7"/>
                      </a:lnTo>
                      <a:lnTo>
                        <a:pt x="86" y="6"/>
                      </a:lnTo>
                      <a:lnTo>
                        <a:pt x="70" y="3"/>
                      </a:lnTo>
                      <a:lnTo>
                        <a:pt x="49" y="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8293680" y="1810440"/>
                  <a:ext cx="292320" cy="582120"/>
                </a:xfrm>
                <a:custGeom>
                  <a:avLst/>
                  <a:gdLst/>
                  <a:ahLst/>
                  <a:rect l="l" t="t" r="r" b="b"/>
                  <a:pathLst>
                    <a:path w="124" h="307">
                      <a:moveTo>
                        <a:pt x="16" y="0"/>
                      </a:moveTo>
                      <a:lnTo>
                        <a:pt x="3" y="5"/>
                      </a:lnTo>
                      <a:lnTo>
                        <a:pt x="0" y="17"/>
                      </a:lnTo>
                      <a:lnTo>
                        <a:pt x="1" y="31"/>
                      </a:lnTo>
                      <a:lnTo>
                        <a:pt x="6" y="47"/>
                      </a:lnTo>
                      <a:lnTo>
                        <a:pt x="18" y="68"/>
                      </a:lnTo>
                      <a:lnTo>
                        <a:pt x="27" y="90"/>
                      </a:lnTo>
                      <a:lnTo>
                        <a:pt x="33" y="109"/>
                      </a:lnTo>
                      <a:lnTo>
                        <a:pt x="40" y="138"/>
                      </a:lnTo>
                      <a:lnTo>
                        <a:pt x="42" y="168"/>
                      </a:lnTo>
                      <a:lnTo>
                        <a:pt x="41" y="202"/>
                      </a:lnTo>
                      <a:lnTo>
                        <a:pt x="39" y="224"/>
                      </a:lnTo>
                      <a:lnTo>
                        <a:pt x="32" y="249"/>
                      </a:lnTo>
                      <a:lnTo>
                        <a:pt x="25" y="272"/>
                      </a:lnTo>
                      <a:lnTo>
                        <a:pt x="21" y="286"/>
                      </a:lnTo>
                      <a:lnTo>
                        <a:pt x="18" y="296"/>
                      </a:lnTo>
                      <a:lnTo>
                        <a:pt x="21" y="303"/>
                      </a:lnTo>
                      <a:lnTo>
                        <a:pt x="27" y="307"/>
                      </a:lnTo>
                      <a:lnTo>
                        <a:pt x="36" y="307"/>
                      </a:lnTo>
                      <a:lnTo>
                        <a:pt x="47" y="302"/>
                      </a:lnTo>
                      <a:lnTo>
                        <a:pt x="62" y="297"/>
                      </a:lnTo>
                      <a:lnTo>
                        <a:pt x="83" y="296"/>
                      </a:lnTo>
                      <a:lnTo>
                        <a:pt x="98" y="301"/>
                      </a:lnTo>
                      <a:lnTo>
                        <a:pt x="107" y="304"/>
                      </a:lnTo>
                      <a:lnTo>
                        <a:pt x="118" y="304"/>
                      </a:lnTo>
                      <a:lnTo>
                        <a:pt x="124" y="297"/>
                      </a:lnTo>
                      <a:lnTo>
                        <a:pt x="121" y="287"/>
                      </a:lnTo>
                      <a:lnTo>
                        <a:pt x="105" y="282"/>
                      </a:lnTo>
                      <a:lnTo>
                        <a:pt x="102" y="282"/>
                      </a:lnTo>
                      <a:lnTo>
                        <a:pt x="82" y="280"/>
                      </a:lnTo>
                      <a:lnTo>
                        <a:pt x="60" y="283"/>
                      </a:lnTo>
                      <a:lnTo>
                        <a:pt x="45" y="283"/>
                      </a:lnTo>
                      <a:lnTo>
                        <a:pt x="40" y="280"/>
                      </a:lnTo>
                      <a:lnTo>
                        <a:pt x="41" y="266"/>
                      </a:lnTo>
                      <a:lnTo>
                        <a:pt x="50" y="244"/>
                      </a:lnTo>
                      <a:lnTo>
                        <a:pt x="57" y="224"/>
                      </a:lnTo>
                      <a:lnTo>
                        <a:pt x="58" y="209"/>
                      </a:lnTo>
                      <a:lnTo>
                        <a:pt x="61" y="184"/>
                      </a:lnTo>
                      <a:lnTo>
                        <a:pt x="62" y="163"/>
                      </a:lnTo>
                      <a:lnTo>
                        <a:pt x="60" y="138"/>
                      </a:lnTo>
                      <a:lnTo>
                        <a:pt x="57" y="108"/>
                      </a:lnTo>
                      <a:lnTo>
                        <a:pt x="51" y="76"/>
                      </a:lnTo>
                      <a:lnTo>
                        <a:pt x="44" y="48"/>
                      </a:lnTo>
                      <a:lnTo>
                        <a:pt x="38" y="32"/>
                      </a:lnTo>
                      <a:lnTo>
                        <a:pt x="30" y="9"/>
                      </a:lnTo>
                      <a:lnTo>
                        <a:pt x="22" y="2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4" name=""/>
              <p:cNvSpPr/>
              <p:nvPr/>
            </p:nvSpPr>
            <p:spPr>
              <a:xfrm>
                <a:off x="7975440" y="999360"/>
                <a:ext cx="316080" cy="388440"/>
              </a:xfrm>
              <a:custGeom>
                <a:avLst/>
                <a:gdLst/>
                <a:ahLst/>
                <a:rect l="l" t="t" r="r" b="b"/>
                <a:pathLst>
                  <a:path w="134" h="205">
                    <a:moveTo>
                      <a:pt x="132" y="170"/>
                    </a:moveTo>
                    <a:lnTo>
                      <a:pt x="134" y="155"/>
                    </a:lnTo>
                    <a:lnTo>
                      <a:pt x="133" y="138"/>
                    </a:lnTo>
                    <a:lnTo>
                      <a:pt x="128" y="118"/>
                    </a:lnTo>
                    <a:lnTo>
                      <a:pt x="115" y="84"/>
                    </a:lnTo>
                    <a:lnTo>
                      <a:pt x="98" y="50"/>
                    </a:lnTo>
                    <a:lnTo>
                      <a:pt x="81" y="18"/>
                    </a:lnTo>
                    <a:lnTo>
                      <a:pt x="68" y="6"/>
                    </a:lnTo>
                    <a:lnTo>
                      <a:pt x="55" y="1"/>
                    </a:lnTo>
                    <a:lnTo>
                      <a:pt x="37" y="0"/>
                    </a:lnTo>
                    <a:lnTo>
                      <a:pt x="16" y="7"/>
                    </a:lnTo>
                    <a:lnTo>
                      <a:pt x="4" y="22"/>
                    </a:lnTo>
                    <a:lnTo>
                      <a:pt x="0" y="39"/>
                    </a:lnTo>
                    <a:lnTo>
                      <a:pt x="0" y="67"/>
                    </a:lnTo>
                    <a:lnTo>
                      <a:pt x="4" y="102"/>
                    </a:lnTo>
                    <a:lnTo>
                      <a:pt x="13" y="134"/>
                    </a:lnTo>
                    <a:lnTo>
                      <a:pt x="27" y="162"/>
                    </a:lnTo>
                    <a:lnTo>
                      <a:pt x="39" y="179"/>
                    </a:lnTo>
                    <a:lnTo>
                      <a:pt x="54" y="193"/>
                    </a:lnTo>
                    <a:lnTo>
                      <a:pt x="73" y="205"/>
                    </a:lnTo>
                    <a:lnTo>
                      <a:pt x="91" y="195"/>
                    </a:lnTo>
                    <a:lnTo>
                      <a:pt x="115" y="181"/>
                    </a:lnTo>
                    <a:lnTo>
                      <a:pt x="127" y="178"/>
                    </a:lnTo>
                    <a:lnTo>
                      <a:pt x="132" y="170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05" name=""/>
              <p:cNvGrpSpPr/>
              <p:nvPr/>
            </p:nvGrpSpPr>
            <p:grpSpPr>
              <a:xfrm>
                <a:off x="8381880" y="685800"/>
                <a:ext cx="490320" cy="924840"/>
                <a:chOff x="8381880" y="685800"/>
                <a:chExt cx="490320" cy="92484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8381880" y="685800"/>
                  <a:ext cx="490320" cy="924840"/>
                </a:xfrm>
                <a:custGeom>
                  <a:avLst/>
                  <a:gdLst/>
                  <a:ahLst/>
                  <a:rect l="l" t="t" r="r" b="b"/>
                  <a:pathLst>
                    <a:path w="208" h="566">
                      <a:moveTo>
                        <a:pt x="130" y="338"/>
                      </a:moveTo>
                      <a:lnTo>
                        <a:pt x="184" y="462"/>
                      </a:lnTo>
                      <a:lnTo>
                        <a:pt x="201" y="516"/>
                      </a:lnTo>
                      <a:lnTo>
                        <a:pt x="208" y="555"/>
                      </a:lnTo>
                      <a:lnTo>
                        <a:pt x="205" y="564"/>
                      </a:lnTo>
                      <a:lnTo>
                        <a:pt x="196" y="566"/>
                      </a:lnTo>
                      <a:lnTo>
                        <a:pt x="190" y="561"/>
                      </a:lnTo>
                      <a:lnTo>
                        <a:pt x="185" y="551"/>
                      </a:lnTo>
                      <a:lnTo>
                        <a:pt x="181" y="515"/>
                      </a:lnTo>
                      <a:lnTo>
                        <a:pt x="172" y="473"/>
                      </a:lnTo>
                      <a:lnTo>
                        <a:pt x="160" y="441"/>
                      </a:lnTo>
                      <a:lnTo>
                        <a:pt x="137" y="391"/>
                      </a:lnTo>
                      <a:lnTo>
                        <a:pt x="114" y="337"/>
                      </a:lnTo>
                      <a:lnTo>
                        <a:pt x="76" y="223"/>
                      </a:lnTo>
                      <a:lnTo>
                        <a:pt x="54" y="153"/>
                      </a:lnTo>
                      <a:lnTo>
                        <a:pt x="38" y="103"/>
                      </a:lnTo>
                      <a:lnTo>
                        <a:pt x="17" y="65"/>
                      </a:lnTo>
                      <a:lnTo>
                        <a:pt x="0" y="31"/>
                      </a:lnTo>
                      <a:lnTo>
                        <a:pt x="0" y="20"/>
                      </a:lnTo>
                      <a:lnTo>
                        <a:pt x="8" y="7"/>
                      </a:lnTo>
                      <a:lnTo>
                        <a:pt x="21" y="0"/>
                      </a:lnTo>
                      <a:lnTo>
                        <a:pt x="37" y="0"/>
                      </a:lnTo>
                      <a:lnTo>
                        <a:pt x="54" y="6"/>
                      </a:lnTo>
                      <a:lnTo>
                        <a:pt x="57" y="18"/>
                      </a:lnTo>
                      <a:lnTo>
                        <a:pt x="59" y="46"/>
                      </a:lnTo>
                      <a:lnTo>
                        <a:pt x="59" y="106"/>
                      </a:lnTo>
                      <a:lnTo>
                        <a:pt x="61" y="128"/>
                      </a:lnTo>
                      <a:lnTo>
                        <a:pt x="78" y="184"/>
                      </a:lnTo>
                      <a:lnTo>
                        <a:pt x="97" y="241"/>
                      </a:lnTo>
                      <a:lnTo>
                        <a:pt x="111" y="284"/>
                      </a:lnTo>
                      <a:lnTo>
                        <a:pt x="130" y="33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8454960" y="693720"/>
                  <a:ext cx="48960" cy="129240"/>
                </a:xfrm>
                <a:custGeom>
                  <a:avLst/>
                  <a:gdLst/>
                  <a:ahLst/>
                  <a:rect l="l" t="t" r="r" b="b"/>
                  <a:pathLst>
                    <a:path w="21" h="79">
                      <a:moveTo>
                        <a:pt x="21" y="51"/>
                      </a:moveTo>
                      <a:lnTo>
                        <a:pt x="18" y="6"/>
                      </a:lnTo>
                      <a:lnTo>
                        <a:pt x="0" y="0"/>
                      </a:lnTo>
                      <a:lnTo>
                        <a:pt x="7" y="7"/>
                      </a:lnTo>
                      <a:lnTo>
                        <a:pt x="11" y="21"/>
                      </a:lnTo>
                      <a:lnTo>
                        <a:pt x="15" y="38"/>
                      </a:lnTo>
                      <a:lnTo>
                        <a:pt x="21" y="79"/>
                      </a:lnTo>
                      <a:lnTo>
                        <a:pt x="21" y="5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7959600" y="978480"/>
                <a:ext cx="345960" cy="415080"/>
                <a:chOff x="7959600" y="978480"/>
                <a:chExt cx="345960" cy="41508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8169120" y="1142640"/>
                  <a:ext cx="110160" cy="196200"/>
                </a:xfrm>
                <a:custGeom>
                  <a:avLst/>
                  <a:gdLst/>
                  <a:ahLst/>
                  <a:rect l="l" t="t" r="r" b="b"/>
                  <a:pathLst>
                    <a:path w="47" h="104">
                      <a:moveTo>
                        <a:pt x="44" y="104"/>
                      </a:moveTo>
                      <a:lnTo>
                        <a:pt x="31" y="97"/>
                      </a:lnTo>
                      <a:lnTo>
                        <a:pt x="19" y="86"/>
                      </a:lnTo>
                      <a:lnTo>
                        <a:pt x="11" y="75"/>
                      </a:lnTo>
                      <a:lnTo>
                        <a:pt x="5" y="60"/>
                      </a:lnTo>
                      <a:lnTo>
                        <a:pt x="0" y="41"/>
                      </a:lnTo>
                      <a:lnTo>
                        <a:pt x="3" y="18"/>
                      </a:lnTo>
                      <a:lnTo>
                        <a:pt x="6" y="5"/>
                      </a:lnTo>
                      <a:lnTo>
                        <a:pt x="17" y="0"/>
                      </a:lnTo>
                      <a:lnTo>
                        <a:pt x="28" y="6"/>
                      </a:lnTo>
                      <a:lnTo>
                        <a:pt x="30" y="19"/>
                      </a:lnTo>
                      <a:lnTo>
                        <a:pt x="27" y="33"/>
                      </a:lnTo>
                      <a:lnTo>
                        <a:pt x="19" y="38"/>
                      </a:lnTo>
                      <a:lnTo>
                        <a:pt x="16" y="48"/>
                      </a:lnTo>
                      <a:lnTo>
                        <a:pt x="20" y="63"/>
                      </a:lnTo>
                      <a:lnTo>
                        <a:pt x="28" y="80"/>
                      </a:lnTo>
                      <a:lnTo>
                        <a:pt x="40" y="88"/>
                      </a:lnTo>
                      <a:lnTo>
                        <a:pt x="47" y="94"/>
                      </a:lnTo>
                      <a:lnTo>
                        <a:pt x="44" y="104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7959600" y="978480"/>
                  <a:ext cx="345960" cy="415080"/>
                </a:xfrm>
                <a:custGeom>
                  <a:avLst/>
                  <a:gdLst/>
                  <a:ahLst/>
                  <a:rect l="l" t="t" r="r" b="b"/>
                  <a:pathLst>
                    <a:path w="147" h="220">
                      <a:moveTo>
                        <a:pt x="130" y="179"/>
                      </a:moveTo>
                      <a:lnTo>
                        <a:pt x="136" y="174"/>
                      </a:lnTo>
                      <a:lnTo>
                        <a:pt x="137" y="164"/>
                      </a:lnTo>
                      <a:lnTo>
                        <a:pt x="134" y="145"/>
                      </a:lnTo>
                      <a:lnTo>
                        <a:pt x="128" y="123"/>
                      </a:lnTo>
                      <a:lnTo>
                        <a:pt x="119" y="98"/>
                      </a:lnTo>
                      <a:lnTo>
                        <a:pt x="105" y="71"/>
                      </a:lnTo>
                      <a:lnTo>
                        <a:pt x="94" y="46"/>
                      </a:lnTo>
                      <a:lnTo>
                        <a:pt x="83" y="27"/>
                      </a:lnTo>
                      <a:lnTo>
                        <a:pt x="75" y="18"/>
                      </a:lnTo>
                      <a:lnTo>
                        <a:pt x="65" y="14"/>
                      </a:lnTo>
                      <a:lnTo>
                        <a:pt x="55" y="13"/>
                      </a:lnTo>
                      <a:lnTo>
                        <a:pt x="41" y="16"/>
                      </a:lnTo>
                      <a:lnTo>
                        <a:pt x="26" y="24"/>
                      </a:lnTo>
                      <a:lnTo>
                        <a:pt x="16" y="33"/>
                      </a:lnTo>
                      <a:lnTo>
                        <a:pt x="13" y="45"/>
                      </a:lnTo>
                      <a:lnTo>
                        <a:pt x="12" y="61"/>
                      </a:lnTo>
                      <a:lnTo>
                        <a:pt x="14" y="83"/>
                      </a:lnTo>
                      <a:lnTo>
                        <a:pt x="18" y="108"/>
                      </a:lnTo>
                      <a:lnTo>
                        <a:pt x="25" y="129"/>
                      </a:lnTo>
                      <a:lnTo>
                        <a:pt x="33" y="149"/>
                      </a:lnTo>
                      <a:lnTo>
                        <a:pt x="43" y="172"/>
                      </a:lnTo>
                      <a:lnTo>
                        <a:pt x="54" y="187"/>
                      </a:lnTo>
                      <a:lnTo>
                        <a:pt x="68" y="197"/>
                      </a:lnTo>
                      <a:lnTo>
                        <a:pt x="78" y="203"/>
                      </a:lnTo>
                      <a:lnTo>
                        <a:pt x="88" y="208"/>
                      </a:lnTo>
                      <a:lnTo>
                        <a:pt x="89" y="214"/>
                      </a:lnTo>
                      <a:lnTo>
                        <a:pt x="81" y="220"/>
                      </a:lnTo>
                      <a:lnTo>
                        <a:pt x="78" y="220"/>
                      </a:lnTo>
                      <a:lnTo>
                        <a:pt x="71" y="215"/>
                      </a:lnTo>
                      <a:lnTo>
                        <a:pt x="55" y="205"/>
                      </a:lnTo>
                      <a:lnTo>
                        <a:pt x="41" y="191"/>
                      </a:lnTo>
                      <a:lnTo>
                        <a:pt x="31" y="177"/>
                      </a:lnTo>
                      <a:lnTo>
                        <a:pt x="22" y="160"/>
                      </a:lnTo>
                      <a:lnTo>
                        <a:pt x="12" y="133"/>
                      </a:lnTo>
                      <a:lnTo>
                        <a:pt x="7" y="112"/>
                      </a:lnTo>
                      <a:lnTo>
                        <a:pt x="2" y="87"/>
                      </a:lnTo>
                      <a:lnTo>
                        <a:pt x="0" y="63"/>
                      </a:lnTo>
                      <a:lnTo>
                        <a:pt x="1" y="41"/>
                      </a:lnTo>
                      <a:lnTo>
                        <a:pt x="4" y="27"/>
                      </a:lnTo>
                      <a:lnTo>
                        <a:pt x="9" y="17"/>
                      </a:lnTo>
                      <a:lnTo>
                        <a:pt x="19" y="10"/>
                      </a:lnTo>
                      <a:lnTo>
                        <a:pt x="35" y="2"/>
                      </a:lnTo>
                      <a:lnTo>
                        <a:pt x="54" y="0"/>
                      </a:lnTo>
                      <a:lnTo>
                        <a:pt x="70" y="3"/>
                      </a:lnTo>
                      <a:lnTo>
                        <a:pt x="79" y="6"/>
                      </a:lnTo>
                      <a:lnTo>
                        <a:pt x="87" y="12"/>
                      </a:lnTo>
                      <a:lnTo>
                        <a:pt x="95" y="22"/>
                      </a:lnTo>
                      <a:lnTo>
                        <a:pt x="103" y="40"/>
                      </a:lnTo>
                      <a:lnTo>
                        <a:pt x="118" y="69"/>
                      </a:lnTo>
                      <a:lnTo>
                        <a:pt x="129" y="92"/>
                      </a:lnTo>
                      <a:lnTo>
                        <a:pt x="139" y="117"/>
                      </a:lnTo>
                      <a:lnTo>
                        <a:pt x="146" y="141"/>
                      </a:lnTo>
                      <a:lnTo>
                        <a:pt x="147" y="159"/>
                      </a:lnTo>
                      <a:lnTo>
                        <a:pt x="147" y="175"/>
                      </a:lnTo>
                      <a:lnTo>
                        <a:pt x="143" y="185"/>
                      </a:lnTo>
                      <a:lnTo>
                        <a:pt x="137" y="186"/>
                      </a:lnTo>
                      <a:lnTo>
                        <a:pt x="129" y="183"/>
                      </a:lnTo>
                      <a:lnTo>
                        <a:pt x="130" y="179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8117280" y="1308600"/>
                  <a:ext cx="173520" cy="78840"/>
                </a:xfrm>
                <a:custGeom>
                  <a:avLst/>
                  <a:gdLst/>
                  <a:ahLst/>
                  <a:rect l="l" t="t" r="r" b="b"/>
                  <a:pathLst>
                    <a:path w="74" h="42">
                      <a:moveTo>
                        <a:pt x="72" y="0"/>
                      </a:moveTo>
                      <a:lnTo>
                        <a:pt x="58" y="9"/>
                      </a:lnTo>
                      <a:lnTo>
                        <a:pt x="36" y="16"/>
                      </a:lnTo>
                      <a:lnTo>
                        <a:pt x="16" y="26"/>
                      </a:lnTo>
                      <a:lnTo>
                        <a:pt x="0" y="34"/>
                      </a:lnTo>
                      <a:lnTo>
                        <a:pt x="9" y="42"/>
                      </a:lnTo>
                      <a:lnTo>
                        <a:pt x="18" y="42"/>
                      </a:lnTo>
                      <a:lnTo>
                        <a:pt x="34" y="31"/>
                      </a:lnTo>
                      <a:lnTo>
                        <a:pt x="57" y="21"/>
                      </a:lnTo>
                      <a:lnTo>
                        <a:pt x="67" y="16"/>
                      </a:lnTo>
                      <a:lnTo>
                        <a:pt x="74" y="10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2" name=""/>
              <p:cNvSpPr/>
              <p:nvPr/>
            </p:nvSpPr>
            <p:spPr>
              <a:xfrm>
                <a:off x="6364440" y="1910160"/>
                <a:ext cx="239400" cy="282600"/>
              </a:xfrm>
              <a:custGeom>
                <a:avLst/>
                <a:gdLst/>
                <a:ahLst/>
                <a:rect l="l" t="t" r="r" b="b"/>
                <a:pathLst>
                  <a:path w="151" h="217">
                    <a:moveTo>
                      <a:pt x="16" y="10"/>
                    </a:moveTo>
                    <a:lnTo>
                      <a:pt x="36" y="2"/>
                    </a:lnTo>
                    <a:lnTo>
                      <a:pt x="52" y="0"/>
                    </a:lnTo>
                    <a:lnTo>
                      <a:pt x="66" y="3"/>
                    </a:lnTo>
                    <a:lnTo>
                      <a:pt x="84" y="16"/>
                    </a:lnTo>
                    <a:lnTo>
                      <a:pt x="101" y="35"/>
                    </a:lnTo>
                    <a:lnTo>
                      <a:pt x="117" y="60"/>
                    </a:lnTo>
                    <a:lnTo>
                      <a:pt x="130" y="82"/>
                    </a:lnTo>
                    <a:lnTo>
                      <a:pt x="141" y="115"/>
                    </a:lnTo>
                    <a:lnTo>
                      <a:pt x="148" y="143"/>
                    </a:lnTo>
                    <a:lnTo>
                      <a:pt x="151" y="166"/>
                    </a:lnTo>
                    <a:lnTo>
                      <a:pt x="150" y="186"/>
                    </a:lnTo>
                    <a:lnTo>
                      <a:pt x="144" y="198"/>
                    </a:lnTo>
                    <a:lnTo>
                      <a:pt x="127" y="208"/>
                    </a:lnTo>
                    <a:lnTo>
                      <a:pt x="110" y="214"/>
                    </a:lnTo>
                    <a:lnTo>
                      <a:pt x="107" y="215"/>
                    </a:lnTo>
                    <a:lnTo>
                      <a:pt x="88" y="217"/>
                    </a:lnTo>
                    <a:lnTo>
                      <a:pt x="68" y="217"/>
                    </a:lnTo>
                    <a:lnTo>
                      <a:pt x="54" y="210"/>
                    </a:lnTo>
                    <a:lnTo>
                      <a:pt x="45" y="199"/>
                    </a:lnTo>
                    <a:lnTo>
                      <a:pt x="37" y="182"/>
                    </a:lnTo>
                    <a:lnTo>
                      <a:pt x="34" y="164"/>
                    </a:lnTo>
                    <a:lnTo>
                      <a:pt x="34" y="147"/>
                    </a:lnTo>
                    <a:lnTo>
                      <a:pt x="39" y="131"/>
                    </a:lnTo>
                    <a:lnTo>
                      <a:pt x="43" y="121"/>
                    </a:lnTo>
                    <a:lnTo>
                      <a:pt x="43" y="108"/>
                    </a:lnTo>
                    <a:lnTo>
                      <a:pt x="34" y="97"/>
                    </a:lnTo>
                    <a:lnTo>
                      <a:pt x="20" y="82"/>
                    </a:lnTo>
                    <a:lnTo>
                      <a:pt x="9" y="62"/>
                    </a:lnTo>
                    <a:lnTo>
                      <a:pt x="0" y="41"/>
                    </a:lnTo>
                    <a:lnTo>
                      <a:pt x="2" y="24"/>
                    </a:lnTo>
                    <a:lnTo>
                      <a:pt x="9" y="16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429240" y="1790640"/>
                <a:ext cx="309600" cy="354600"/>
              </a:xfrm>
              <a:custGeom>
                <a:avLst/>
                <a:gdLst/>
                <a:ahLst/>
                <a:rect l="l" t="t" r="r" b="b"/>
                <a:pathLst>
                  <a:path w="195" h="272">
                    <a:moveTo>
                      <a:pt x="16" y="39"/>
                    </a:moveTo>
                    <a:lnTo>
                      <a:pt x="31" y="19"/>
                    </a:lnTo>
                    <a:lnTo>
                      <a:pt x="52" y="6"/>
                    </a:lnTo>
                    <a:lnTo>
                      <a:pt x="76" y="0"/>
                    </a:lnTo>
                    <a:lnTo>
                      <a:pt x="101" y="3"/>
                    </a:lnTo>
                    <a:lnTo>
                      <a:pt x="120" y="12"/>
                    </a:lnTo>
                    <a:lnTo>
                      <a:pt x="147" y="36"/>
                    </a:lnTo>
                    <a:lnTo>
                      <a:pt x="170" y="66"/>
                    </a:lnTo>
                    <a:lnTo>
                      <a:pt x="187" y="109"/>
                    </a:lnTo>
                    <a:lnTo>
                      <a:pt x="193" y="147"/>
                    </a:lnTo>
                    <a:lnTo>
                      <a:pt x="195" y="181"/>
                    </a:lnTo>
                    <a:lnTo>
                      <a:pt x="189" y="209"/>
                    </a:lnTo>
                    <a:lnTo>
                      <a:pt x="177" y="237"/>
                    </a:lnTo>
                    <a:lnTo>
                      <a:pt x="160" y="259"/>
                    </a:lnTo>
                    <a:lnTo>
                      <a:pt x="141" y="272"/>
                    </a:lnTo>
                    <a:lnTo>
                      <a:pt x="118" y="272"/>
                    </a:lnTo>
                    <a:lnTo>
                      <a:pt x="115" y="271"/>
                    </a:lnTo>
                    <a:lnTo>
                      <a:pt x="90" y="260"/>
                    </a:lnTo>
                    <a:lnTo>
                      <a:pt x="64" y="245"/>
                    </a:lnTo>
                    <a:lnTo>
                      <a:pt x="42" y="225"/>
                    </a:lnTo>
                    <a:lnTo>
                      <a:pt x="26" y="196"/>
                    </a:lnTo>
                    <a:lnTo>
                      <a:pt x="13" y="168"/>
                    </a:lnTo>
                    <a:lnTo>
                      <a:pt x="6" y="139"/>
                    </a:lnTo>
                    <a:lnTo>
                      <a:pt x="2" y="112"/>
                    </a:lnTo>
                    <a:lnTo>
                      <a:pt x="0" y="87"/>
                    </a:lnTo>
                    <a:lnTo>
                      <a:pt x="5" y="60"/>
                    </a:lnTo>
                    <a:lnTo>
                      <a:pt x="12" y="46"/>
                    </a:lnTo>
                    <a:lnTo>
                      <a:pt x="16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515280" y="1890360"/>
                <a:ext cx="98280" cy="215640"/>
              </a:xfrm>
              <a:custGeom>
                <a:avLst/>
                <a:gdLst/>
                <a:ahLst/>
                <a:rect l="l" t="t" r="r" b="b"/>
                <a:pathLst>
                  <a:path w="62" h="166">
                    <a:moveTo>
                      <a:pt x="2" y="147"/>
                    </a:moveTo>
                    <a:lnTo>
                      <a:pt x="28" y="98"/>
                    </a:lnTo>
                    <a:lnTo>
                      <a:pt x="39" y="69"/>
                    </a:lnTo>
                    <a:lnTo>
                      <a:pt x="46" y="34"/>
                    </a:lnTo>
                    <a:lnTo>
                      <a:pt x="49" y="24"/>
                    </a:lnTo>
                    <a:lnTo>
                      <a:pt x="62" y="0"/>
                    </a:lnTo>
                    <a:lnTo>
                      <a:pt x="61" y="32"/>
                    </a:lnTo>
                    <a:lnTo>
                      <a:pt x="52" y="64"/>
                    </a:lnTo>
                    <a:lnTo>
                      <a:pt x="45" y="92"/>
                    </a:lnTo>
                    <a:lnTo>
                      <a:pt x="33" y="120"/>
                    </a:lnTo>
                    <a:lnTo>
                      <a:pt x="22" y="146"/>
                    </a:lnTo>
                    <a:lnTo>
                      <a:pt x="11" y="166"/>
                    </a:lnTo>
                    <a:lnTo>
                      <a:pt x="0" y="163"/>
                    </a:lnTo>
                    <a:lnTo>
                      <a:pt x="2" y="147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572160" y="1856520"/>
                <a:ext cx="82800" cy="77760"/>
              </a:xfrm>
              <a:custGeom>
                <a:avLst/>
                <a:gdLst/>
                <a:ahLst/>
                <a:rect l="l" t="t" r="r" b="b"/>
                <a:pathLst>
                  <a:path w="52" h="60">
                    <a:moveTo>
                      <a:pt x="37" y="60"/>
                    </a:moveTo>
                    <a:lnTo>
                      <a:pt x="29" y="60"/>
                    </a:lnTo>
                    <a:lnTo>
                      <a:pt x="16" y="52"/>
                    </a:lnTo>
                    <a:lnTo>
                      <a:pt x="13" y="51"/>
                    </a:lnTo>
                    <a:lnTo>
                      <a:pt x="1" y="37"/>
                    </a:lnTo>
                    <a:lnTo>
                      <a:pt x="0" y="29"/>
                    </a:lnTo>
                    <a:lnTo>
                      <a:pt x="5" y="11"/>
                    </a:lnTo>
                    <a:lnTo>
                      <a:pt x="16" y="0"/>
                    </a:lnTo>
                    <a:lnTo>
                      <a:pt x="32" y="1"/>
                    </a:lnTo>
                    <a:lnTo>
                      <a:pt x="47" y="8"/>
                    </a:lnTo>
                    <a:lnTo>
                      <a:pt x="52" y="23"/>
                    </a:lnTo>
                    <a:lnTo>
                      <a:pt x="52" y="34"/>
                    </a:lnTo>
                    <a:lnTo>
                      <a:pt x="48" y="49"/>
                    </a:lnTo>
                    <a:lnTo>
                      <a:pt x="37" y="60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554880" y="1747800"/>
                <a:ext cx="317520" cy="393840"/>
              </a:xfrm>
              <a:custGeom>
                <a:avLst/>
                <a:gdLst/>
                <a:ahLst/>
                <a:rect l="l" t="t" r="r" b="b"/>
                <a:pathLst>
                  <a:path w="200" h="302">
                    <a:moveTo>
                      <a:pt x="0" y="32"/>
                    </a:moveTo>
                    <a:lnTo>
                      <a:pt x="87" y="0"/>
                    </a:lnTo>
                    <a:lnTo>
                      <a:pt x="103" y="1"/>
                    </a:lnTo>
                    <a:lnTo>
                      <a:pt x="139" y="23"/>
                    </a:lnTo>
                    <a:lnTo>
                      <a:pt x="167" y="57"/>
                    </a:lnTo>
                    <a:lnTo>
                      <a:pt x="190" y="105"/>
                    </a:lnTo>
                    <a:lnTo>
                      <a:pt x="198" y="169"/>
                    </a:lnTo>
                    <a:lnTo>
                      <a:pt x="200" y="212"/>
                    </a:lnTo>
                    <a:lnTo>
                      <a:pt x="195" y="240"/>
                    </a:lnTo>
                    <a:lnTo>
                      <a:pt x="186" y="261"/>
                    </a:lnTo>
                    <a:lnTo>
                      <a:pt x="173" y="274"/>
                    </a:lnTo>
                    <a:lnTo>
                      <a:pt x="167" y="280"/>
                    </a:lnTo>
                    <a:lnTo>
                      <a:pt x="110" y="296"/>
                    </a:lnTo>
                    <a:lnTo>
                      <a:pt x="63" y="302"/>
                    </a:lnTo>
                    <a:lnTo>
                      <a:pt x="96" y="277"/>
                    </a:lnTo>
                    <a:lnTo>
                      <a:pt x="110" y="246"/>
                    </a:lnTo>
                    <a:lnTo>
                      <a:pt x="118" y="215"/>
                    </a:lnTo>
                    <a:lnTo>
                      <a:pt x="116" y="182"/>
                    </a:lnTo>
                    <a:lnTo>
                      <a:pt x="107" y="142"/>
                    </a:lnTo>
                    <a:lnTo>
                      <a:pt x="97" y="109"/>
                    </a:lnTo>
                    <a:lnTo>
                      <a:pt x="77" y="78"/>
                    </a:lnTo>
                    <a:lnTo>
                      <a:pt x="57" y="55"/>
                    </a:lnTo>
                    <a:lnTo>
                      <a:pt x="29" y="4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17" name=""/>
              <p:cNvGrpSpPr/>
              <p:nvPr/>
            </p:nvGrpSpPr>
            <p:grpSpPr>
              <a:xfrm>
                <a:off x="6426360" y="1740600"/>
                <a:ext cx="455400" cy="411480"/>
                <a:chOff x="6426360" y="1740600"/>
                <a:chExt cx="455400" cy="411480"/>
              </a:xfrm>
            </p:grpSpPr>
            <p:grpSp>
              <p:nvGrpSpPr>
                <p:cNvPr id="518" name=""/>
                <p:cNvGrpSpPr/>
                <p:nvPr/>
              </p:nvGrpSpPr>
              <p:grpSpPr>
                <a:xfrm>
                  <a:off x="6426360" y="1784520"/>
                  <a:ext cx="325440" cy="367560"/>
                  <a:chOff x="6426360" y="1784520"/>
                  <a:chExt cx="325440" cy="36756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6431040" y="1784520"/>
                    <a:ext cx="320760" cy="36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282">
                        <a:moveTo>
                          <a:pt x="12" y="63"/>
                        </a:moveTo>
                        <a:lnTo>
                          <a:pt x="24" y="42"/>
                        </a:lnTo>
                        <a:lnTo>
                          <a:pt x="40" y="25"/>
                        </a:lnTo>
                        <a:lnTo>
                          <a:pt x="61" y="14"/>
                        </a:lnTo>
                        <a:lnTo>
                          <a:pt x="81" y="12"/>
                        </a:lnTo>
                        <a:lnTo>
                          <a:pt x="98" y="13"/>
                        </a:lnTo>
                        <a:lnTo>
                          <a:pt x="116" y="19"/>
                        </a:lnTo>
                        <a:lnTo>
                          <a:pt x="136" y="34"/>
                        </a:lnTo>
                        <a:lnTo>
                          <a:pt x="156" y="58"/>
                        </a:lnTo>
                        <a:lnTo>
                          <a:pt x="170" y="83"/>
                        </a:lnTo>
                        <a:lnTo>
                          <a:pt x="181" y="112"/>
                        </a:lnTo>
                        <a:lnTo>
                          <a:pt x="188" y="145"/>
                        </a:lnTo>
                        <a:lnTo>
                          <a:pt x="191" y="180"/>
                        </a:lnTo>
                        <a:lnTo>
                          <a:pt x="188" y="208"/>
                        </a:lnTo>
                        <a:lnTo>
                          <a:pt x="180" y="227"/>
                        </a:lnTo>
                        <a:lnTo>
                          <a:pt x="170" y="246"/>
                        </a:lnTo>
                        <a:lnTo>
                          <a:pt x="153" y="261"/>
                        </a:lnTo>
                        <a:lnTo>
                          <a:pt x="140" y="268"/>
                        </a:lnTo>
                        <a:lnTo>
                          <a:pt x="120" y="271"/>
                        </a:lnTo>
                        <a:lnTo>
                          <a:pt x="102" y="266"/>
                        </a:lnTo>
                        <a:lnTo>
                          <a:pt x="81" y="254"/>
                        </a:lnTo>
                        <a:lnTo>
                          <a:pt x="60" y="238"/>
                        </a:lnTo>
                        <a:lnTo>
                          <a:pt x="41" y="217"/>
                        </a:lnTo>
                        <a:lnTo>
                          <a:pt x="28" y="195"/>
                        </a:lnTo>
                        <a:lnTo>
                          <a:pt x="17" y="169"/>
                        </a:lnTo>
                        <a:lnTo>
                          <a:pt x="12" y="153"/>
                        </a:lnTo>
                        <a:lnTo>
                          <a:pt x="23" y="193"/>
                        </a:lnTo>
                        <a:lnTo>
                          <a:pt x="35" y="224"/>
                        </a:lnTo>
                        <a:lnTo>
                          <a:pt x="53" y="245"/>
                        </a:lnTo>
                        <a:lnTo>
                          <a:pt x="72" y="261"/>
                        </a:lnTo>
                        <a:lnTo>
                          <a:pt x="93" y="273"/>
                        </a:lnTo>
                        <a:lnTo>
                          <a:pt x="116" y="280"/>
                        </a:lnTo>
                        <a:lnTo>
                          <a:pt x="134" y="282"/>
                        </a:lnTo>
                        <a:lnTo>
                          <a:pt x="151" y="278"/>
                        </a:lnTo>
                        <a:lnTo>
                          <a:pt x="166" y="268"/>
                        </a:lnTo>
                        <a:lnTo>
                          <a:pt x="179" y="254"/>
                        </a:lnTo>
                        <a:lnTo>
                          <a:pt x="190" y="237"/>
                        </a:lnTo>
                        <a:lnTo>
                          <a:pt x="196" y="219"/>
                        </a:lnTo>
                        <a:lnTo>
                          <a:pt x="202" y="196"/>
                        </a:lnTo>
                        <a:lnTo>
                          <a:pt x="202" y="173"/>
                        </a:lnTo>
                        <a:lnTo>
                          <a:pt x="199" y="147"/>
                        </a:lnTo>
                        <a:lnTo>
                          <a:pt x="194" y="122"/>
                        </a:lnTo>
                        <a:lnTo>
                          <a:pt x="185" y="92"/>
                        </a:lnTo>
                        <a:lnTo>
                          <a:pt x="176" y="69"/>
                        </a:lnTo>
                        <a:lnTo>
                          <a:pt x="162" y="47"/>
                        </a:lnTo>
                        <a:lnTo>
                          <a:pt x="148" y="31"/>
                        </a:lnTo>
                        <a:lnTo>
                          <a:pt x="130" y="14"/>
                        </a:lnTo>
                        <a:lnTo>
                          <a:pt x="110" y="5"/>
                        </a:lnTo>
                        <a:lnTo>
                          <a:pt x="88" y="0"/>
                        </a:lnTo>
                        <a:lnTo>
                          <a:pt x="67" y="1"/>
                        </a:lnTo>
                        <a:lnTo>
                          <a:pt x="48" y="7"/>
                        </a:lnTo>
                        <a:lnTo>
                          <a:pt x="33" y="18"/>
                        </a:lnTo>
                        <a:lnTo>
                          <a:pt x="17" y="34"/>
                        </a:lnTo>
                        <a:lnTo>
                          <a:pt x="8" y="47"/>
                        </a:lnTo>
                        <a:lnTo>
                          <a:pt x="5" y="59"/>
                        </a:lnTo>
                        <a:lnTo>
                          <a:pt x="0" y="102"/>
                        </a:lnTo>
                        <a:lnTo>
                          <a:pt x="12" y="63"/>
                        </a:lnTo>
                        <a:close/>
                      </a:path>
                    </a:pathLst>
                  </a:custGeom>
                  <a:solidFill>
                    <a:srgbClr val="99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6426360" y="1818360"/>
                    <a:ext cx="109440" cy="2944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226">
                        <a:moveTo>
                          <a:pt x="37" y="0"/>
                        </a:moveTo>
                        <a:lnTo>
                          <a:pt x="13" y="18"/>
                        </a:lnTo>
                        <a:lnTo>
                          <a:pt x="5" y="35"/>
                        </a:lnTo>
                        <a:lnTo>
                          <a:pt x="0" y="60"/>
                        </a:lnTo>
                        <a:lnTo>
                          <a:pt x="1" y="93"/>
                        </a:lnTo>
                        <a:lnTo>
                          <a:pt x="4" y="118"/>
                        </a:lnTo>
                        <a:lnTo>
                          <a:pt x="12" y="146"/>
                        </a:lnTo>
                        <a:lnTo>
                          <a:pt x="21" y="170"/>
                        </a:lnTo>
                        <a:lnTo>
                          <a:pt x="33" y="190"/>
                        </a:lnTo>
                        <a:lnTo>
                          <a:pt x="42" y="202"/>
                        </a:lnTo>
                        <a:lnTo>
                          <a:pt x="69" y="226"/>
                        </a:lnTo>
                        <a:lnTo>
                          <a:pt x="42" y="189"/>
                        </a:lnTo>
                        <a:lnTo>
                          <a:pt x="27" y="159"/>
                        </a:lnTo>
                        <a:lnTo>
                          <a:pt x="20" y="140"/>
                        </a:lnTo>
                        <a:lnTo>
                          <a:pt x="14" y="120"/>
                        </a:lnTo>
                        <a:lnTo>
                          <a:pt x="11" y="96"/>
                        </a:lnTo>
                        <a:lnTo>
                          <a:pt x="9" y="72"/>
                        </a:lnTo>
                        <a:lnTo>
                          <a:pt x="11" y="51"/>
                        </a:lnTo>
                        <a:lnTo>
                          <a:pt x="15" y="32"/>
                        </a:lnTo>
                        <a:lnTo>
                          <a:pt x="33" y="2"/>
                        </a:lnTo>
                        <a:lnTo>
                          <a:pt x="37" y="0"/>
                        </a:lnTo>
                        <a:close/>
                      </a:path>
                    </a:pathLst>
                  </a:custGeom>
                  <a:solidFill>
                    <a:srgbClr val="99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1" name=""/>
                <p:cNvSpPr/>
                <p:nvPr/>
              </p:nvSpPr>
              <p:spPr>
                <a:xfrm>
                  <a:off x="6526080" y="1740600"/>
                  <a:ext cx="355680" cy="410400"/>
                </a:xfrm>
                <a:custGeom>
                  <a:avLst/>
                  <a:gdLst/>
                  <a:ahLst/>
                  <a:rect l="l" t="t" r="r" b="b"/>
                  <a:pathLst>
                    <a:path w="224" h="315">
                      <a:moveTo>
                        <a:pt x="0" y="39"/>
                      </a:moveTo>
                      <a:lnTo>
                        <a:pt x="52" y="21"/>
                      </a:lnTo>
                      <a:lnTo>
                        <a:pt x="83" y="7"/>
                      </a:lnTo>
                      <a:lnTo>
                        <a:pt x="104" y="0"/>
                      </a:lnTo>
                      <a:lnTo>
                        <a:pt x="122" y="1"/>
                      </a:lnTo>
                      <a:lnTo>
                        <a:pt x="148" y="13"/>
                      </a:lnTo>
                      <a:lnTo>
                        <a:pt x="172" y="33"/>
                      </a:lnTo>
                      <a:lnTo>
                        <a:pt x="194" y="66"/>
                      </a:lnTo>
                      <a:lnTo>
                        <a:pt x="209" y="98"/>
                      </a:lnTo>
                      <a:lnTo>
                        <a:pt x="217" y="136"/>
                      </a:lnTo>
                      <a:lnTo>
                        <a:pt x="222" y="169"/>
                      </a:lnTo>
                      <a:lnTo>
                        <a:pt x="224" y="204"/>
                      </a:lnTo>
                      <a:lnTo>
                        <a:pt x="223" y="236"/>
                      </a:lnTo>
                      <a:lnTo>
                        <a:pt x="216" y="258"/>
                      </a:lnTo>
                      <a:lnTo>
                        <a:pt x="207" y="277"/>
                      </a:lnTo>
                      <a:lnTo>
                        <a:pt x="190" y="290"/>
                      </a:lnTo>
                      <a:lnTo>
                        <a:pt x="166" y="297"/>
                      </a:lnTo>
                      <a:lnTo>
                        <a:pt x="119" y="308"/>
                      </a:lnTo>
                      <a:lnTo>
                        <a:pt x="74" y="315"/>
                      </a:lnTo>
                      <a:lnTo>
                        <a:pt x="89" y="302"/>
                      </a:lnTo>
                      <a:lnTo>
                        <a:pt x="101" y="299"/>
                      </a:lnTo>
                      <a:lnTo>
                        <a:pt x="129" y="295"/>
                      </a:lnTo>
                      <a:lnTo>
                        <a:pt x="162" y="286"/>
                      </a:lnTo>
                      <a:lnTo>
                        <a:pt x="185" y="280"/>
                      </a:lnTo>
                      <a:lnTo>
                        <a:pt x="196" y="270"/>
                      </a:lnTo>
                      <a:lnTo>
                        <a:pt x="205" y="253"/>
                      </a:lnTo>
                      <a:lnTo>
                        <a:pt x="212" y="230"/>
                      </a:lnTo>
                      <a:lnTo>
                        <a:pt x="213" y="205"/>
                      </a:lnTo>
                      <a:lnTo>
                        <a:pt x="212" y="176"/>
                      </a:lnTo>
                      <a:lnTo>
                        <a:pt x="207" y="143"/>
                      </a:lnTo>
                      <a:lnTo>
                        <a:pt x="200" y="109"/>
                      </a:lnTo>
                      <a:lnTo>
                        <a:pt x="190" y="85"/>
                      </a:lnTo>
                      <a:lnTo>
                        <a:pt x="173" y="55"/>
                      </a:lnTo>
                      <a:lnTo>
                        <a:pt x="158" y="36"/>
                      </a:lnTo>
                      <a:lnTo>
                        <a:pt x="142" y="23"/>
                      </a:lnTo>
                      <a:lnTo>
                        <a:pt x="122" y="13"/>
                      </a:lnTo>
                      <a:lnTo>
                        <a:pt x="107" y="10"/>
                      </a:lnTo>
                      <a:lnTo>
                        <a:pt x="95" y="14"/>
                      </a:lnTo>
                      <a:lnTo>
                        <a:pt x="28" y="39"/>
                      </a:lnTo>
                      <a:lnTo>
                        <a:pt x="4" y="39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99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603840" y="1774080"/>
                  <a:ext cx="266760" cy="332640"/>
                </a:xfrm>
                <a:custGeom>
                  <a:avLst/>
                  <a:gdLst/>
                  <a:ahLst/>
                  <a:rect l="l" t="t" r="r" b="b"/>
                  <a:pathLst>
                    <a:path w="168" h="255">
                      <a:moveTo>
                        <a:pt x="0" y="16"/>
                      </a:moveTo>
                      <a:lnTo>
                        <a:pt x="103" y="0"/>
                      </a:lnTo>
                      <a:lnTo>
                        <a:pt x="114" y="9"/>
                      </a:lnTo>
                      <a:lnTo>
                        <a:pt x="116" y="15"/>
                      </a:lnTo>
                      <a:lnTo>
                        <a:pt x="89" y="103"/>
                      </a:lnTo>
                      <a:lnTo>
                        <a:pt x="161" y="113"/>
                      </a:lnTo>
                      <a:lnTo>
                        <a:pt x="167" y="140"/>
                      </a:lnTo>
                      <a:lnTo>
                        <a:pt x="168" y="148"/>
                      </a:lnTo>
                      <a:lnTo>
                        <a:pt x="100" y="211"/>
                      </a:lnTo>
                      <a:lnTo>
                        <a:pt x="105" y="220"/>
                      </a:lnTo>
                      <a:lnTo>
                        <a:pt x="152" y="245"/>
                      </a:lnTo>
                      <a:lnTo>
                        <a:pt x="141" y="255"/>
                      </a:lnTo>
                      <a:lnTo>
                        <a:pt x="138" y="253"/>
                      </a:lnTo>
                      <a:lnTo>
                        <a:pt x="85" y="219"/>
                      </a:lnTo>
                      <a:lnTo>
                        <a:pt x="90" y="200"/>
                      </a:lnTo>
                      <a:lnTo>
                        <a:pt x="155" y="143"/>
                      </a:lnTo>
                      <a:lnTo>
                        <a:pt x="154" y="133"/>
                      </a:lnTo>
                      <a:lnTo>
                        <a:pt x="148" y="128"/>
                      </a:lnTo>
                      <a:lnTo>
                        <a:pt x="79" y="118"/>
                      </a:lnTo>
                      <a:lnTo>
                        <a:pt x="71" y="98"/>
                      </a:lnTo>
                      <a:lnTo>
                        <a:pt x="100" y="33"/>
                      </a:lnTo>
                      <a:lnTo>
                        <a:pt x="103" y="17"/>
                      </a:lnTo>
                      <a:lnTo>
                        <a:pt x="100" y="12"/>
                      </a:lnTo>
                      <a:lnTo>
                        <a:pt x="15" y="24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99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3" name=""/>
              <p:cNvSpPr/>
              <p:nvPr/>
            </p:nvSpPr>
            <p:spPr>
              <a:xfrm>
                <a:off x="6248520" y="1766160"/>
                <a:ext cx="272880" cy="140040"/>
              </a:xfrm>
              <a:custGeom>
                <a:avLst/>
                <a:gdLst/>
                <a:ahLst/>
                <a:rect l="l" t="t" r="r" b="b"/>
                <a:pathLst>
                  <a:path w="172" h="107">
                    <a:moveTo>
                      <a:pt x="114" y="68"/>
                    </a:moveTo>
                    <a:lnTo>
                      <a:pt x="113" y="52"/>
                    </a:lnTo>
                    <a:lnTo>
                      <a:pt x="106" y="37"/>
                    </a:lnTo>
                    <a:lnTo>
                      <a:pt x="98" y="24"/>
                    </a:lnTo>
                    <a:lnTo>
                      <a:pt x="82" y="11"/>
                    </a:lnTo>
                    <a:lnTo>
                      <a:pt x="66" y="4"/>
                    </a:lnTo>
                    <a:lnTo>
                      <a:pt x="49" y="0"/>
                    </a:lnTo>
                    <a:lnTo>
                      <a:pt x="46" y="1"/>
                    </a:lnTo>
                    <a:lnTo>
                      <a:pt x="31" y="1"/>
                    </a:lnTo>
                    <a:lnTo>
                      <a:pt x="20" y="6"/>
                    </a:lnTo>
                    <a:lnTo>
                      <a:pt x="10" y="13"/>
                    </a:lnTo>
                    <a:lnTo>
                      <a:pt x="3" y="24"/>
                    </a:lnTo>
                    <a:lnTo>
                      <a:pt x="0" y="36"/>
                    </a:lnTo>
                    <a:lnTo>
                      <a:pt x="1" y="52"/>
                    </a:lnTo>
                    <a:lnTo>
                      <a:pt x="6" y="71"/>
                    </a:lnTo>
                    <a:lnTo>
                      <a:pt x="16" y="87"/>
                    </a:lnTo>
                    <a:lnTo>
                      <a:pt x="30" y="96"/>
                    </a:lnTo>
                    <a:lnTo>
                      <a:pt x="48" y="103"/>
                    </a:lnTo>
                    <a:lnTo>
                      <a:pt x="63" y="106"/>
                    </a:lnTo>
                    <a:lnTo>
                      <a:pt x="80" y="107"/>
                    </a:lnTo>
                    <a:lnTo>
                      <a:pt x="97" y="105"/>
                    </a:lnTo>
                    <a:lnTo>
                      <a:pt x="111" y="97"/>
                    </a:lnTo>
                    <a:lnTo>
                      <a:pt x="116" y="91"/>
                    </a:lnTo>
                    <a:lnTo>
                      <a:pt x="129" y="95"/>
                    </a:lnTo>
                    <a:lnTo>
                      <a:pt x="148" y="98"/>
                    </a:lnTo>
                    <a:lnTo>
                      <a:pt x="164" y="98"/>
                    </a:lnTo>
                    <a:lnTo>
                      <a:pt x="172" y="90"/>
                    </a:lnTo>
                    <a:lnTo>
                      <a:pt x="169" y="79"/>
                    </a:lnTo>
                    <a:lnTo>
                      <a:pt x="155" y="73"/>
                    </a:lnTo>
                    <a:lnTo>
                      <a:pt x="152" y="74"/>
                    </a:lnTo>
                    <a:lnTo>
                      <a:pt x="135" y="73"/>
                    </a:lnTo>
                    <a:lnTo>
                      <a:pt x="114" y="68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253200" y="1927080"/>
                <a:ext cx="315720" cy="192600"/>
              </a:xfrm>
              <a:custGeom>
                <a:avLst/>
                <a:gdLst/>
                <a:ahLst/>
                <a:rect l="l" t="t" r="r" b="b"/>
                <a:pathLst>
                  <a:path w="199" h="148">
                    <a:moveTo>
                      <a:pt x="59" y="4"/>
                    </a:moveTo>
                    <a:lnTo>
                      <a:pt x="92" y="0"/>
                    </a:lnTo>
                    <a:lnTo>
                      <a:pt x="103" y="6"/>
                    </a:lnTo>
                    <a:lnTo>
                      <a:pt x="106" y="22"/>
                    </a:lnTo>
                    <a:lnTo>
                      <a:pt x="99" y="33"/>
                    </a:lnTo>
                    <a:lnTo>
                      <a:pt x="84" y="38"/>
                    </a:lnTo>
                    <a:lnTo>
                      <a:pt x="63" y="36"/>
                    </a:lnTo>
                    <a:lnTo>
                      <a:pt x="46" y="39"/>
                    </a:lnTo>
                    <a:lnTo>
                      <a:pt x="35" y="50"/>
                    </a:lnTo>
                    <a:lnTo>
                      <a:pt x="26" y="64"/>
                    </a:lnTo>
                    <a:lnTo>
                      <a:pt x="24" y="76"/>
                    </a:lnTo>
                    <a:lnTo>
                      <a:pt x="25" y="85"/>
                    </a:lnTo>
                    <a:lnTo>
                      <a:pt x="28" y="96"/>
                    </a:lnTo>
                    <a:lnTo>
                      <a:pt x="39" y="107"/>
                    </a:lnTo>
                    <a:lnTo>
                      <a:pt x="55" y="116"/>
                    </a:lnTo>
                    <a:lnTo>
                      <a:pt x="70" y="121"/>
                    </a:lnTo>
                    <a:lnTo>
                      <a:pt x="73" y="123"/>
                    </a:lnTo>
                    <a:lnTo>
                      <a:pt x="90" y="126"/>
                    </a:lnTo>
                    <a:lnTo>
                      <a:pt x="93" y="127"/>
                    </a:lnTo>
                    <a:lnTo>
                      <a:pt x="106" y="127"/>
                    </a:lnTo>
                    <a:lnTo>
                      <a:pt x="124" y="125"/>
                    </a:lnTo>
                    <a:lnTo>
                      <a:pt x="138" y="121"/>
                    </a:lnTo>
                    <a:lnTo>
                      <a:pt x="151" y="116"/>
                    </a:lnTo>
                    <a:lnTo>
                      <a:pt x="160" y="112"/>
                    </a:lnTo>
                    <a:lnTo>
                      <a:pt x="164" y="102"/>
                    </a:lnTo>
                    <a:lnTo>
                      <a:pt x="171" y="92"/>
                    </a:lnTo>
                    <a:lnTo>
                      <a:pt x="182" y="90"/>
                    </a:lnTo>
                    <a:lnTo>
                      <a:pt x="190" y="93"/>
                    </a:lnTo>
                    <a:lnTo>
                      <a:pt x="188" y="102"/>
                    </a:lnTo>
                    <a:lnTo>
                      <a:pt x="185" y="103"/>
                    </a:lnTo>
                    <a:lnTo>
                      <a:pt x="171" y="111"/>
                    </a:lnTo>
                    <a:lnTo>
                      <a:pt x="175" y="117"/>
                    </a:lnTo>
                    <a:lnTo>
                      <a:pt x="193" y="117"/>
                    </a:lnTo>
                    <a:lnTo>
                      <a:pt x="199" y="123"/>
                    </a:lnTo>
                    <a:lnTo>
                      <a:pt x="196" y="133"/>
                    </a:lnTo>
                    <a:lnTo>
                      <a:pt x="184" y="146"/>
                    </a:lnTo>
                    <a:lnTo>
                      <a:pt x="181" y="148"/>
                    </a:lnTo>
                    <a:lnTo>
                      <a:pt x="165" y="148"/>
                    </a:lnTo>
                    <a:lnTo>
                      <a:pt x="162" y="148"/>
                    </a:lnTo>
                    <a:lnTo>
                      <a:pt x="153" y="131"/>
                    </a:lnTo>
                    <a:lnTo>
                      <a:pt x="133" y="137"/>
                    </a:lnTo>
                    <a:lnTo>
                      <a:pt x="111" y="144"/>
                    </a:lnTo>
                    <a:lnTo>
                      <a:pt x="88" y="146"/>
                    </a:lnTo>
                    <a:lnTo>
                      <a:pt x="64" y="144"/>
                    </a:lnTo>
                    <a:lnTo>
                      <a:pt x="42" y="137"/>
                    </a:lnTo>
                    <a:lnTo>
                      <a:pt x="26" y="125"/>
                    </a:lnTo>
                    <a:lnTo>
                      <a:pt x="12" y="112"/>
                    </a:lnTo>
                    <a:lnTo>
                      <a:pt x="3" y="97"/>
                    </a:lnTo>
                    <a:lnTo>
                      <a:pt x="0" y="87"/>
                    </a:lnTo>
                    <a:lnTo>
                      <a:pt x="1" y="75"/>
                    </a:lnTo>
                    <a:lnTo>
                      <a:pt x="5" y="56"/>
                    </a:lnTo>
                    <a:lnTo>
                      <a:pt x="16" y="38"/>
                    </a:lnTo>
                    <a:lnTo>
                      <a:pt x="31" y="23"/>
                    </a:lnTo>
                    <a:lnTo>
                      <a:pt x="45" y="13"/>
                    </a:lnTo>
                    <a:lnTo>
                      <a:pt x="59" y="4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394320" y="2156040"/>
                <a:ext cx="147600" cy="279000"/>
              </a:xfrm>
              <a:custGeom>
                <a:avLst/>
                <a:gdLst/>
                <a:ahLst/>
                <a:rect l="l" t="t" r="r" b="b"/>
                <a:pathLst>
                  <a:path w="93" h="214">
                    <a:moveTo>
                      <a:pt x="74" y="52"/>
                    </a:moveTo>
                    <a:lnTo>
                      <a:pt x="57" y="13"/>
                    </a:lnTo>
                    <a:lnTo>
                      <a:pt x="48" y="2"/>
                    </a:lnTo>
                    <a:lnTo>
                      <a:pt x="37" y="0"/>
                    </a:lnTo>
                    <a:lnTo>
                      <a:pt x="25" y="4"/>
                    </a:lnTo>
                    <a:lnTo>
                      <a:pt x="20" y="16"/>
                    </a:lnTo>
                    <a:lnTo>
                      <a:pt x="21" y="30"/>
                    </a:lnTo>
                    <a:lnTo>
                      <a:pt x="30" y="44"/>
                    </a:lnTo>
                    <a:lnTo>
                      <a:pt x="44" y="60"/>
                    </a:lnTo>
                    <a:lnTo>
                      <a:pt x="58" y="78"/>
                    </a:lnTo>
                    <a:lnTo>
                      <a:pt x="64" y="89"/>
                    </a:lnTo>
                    <a:lnTo>
                      <a:pt x="64" y="98"/>
                    </a:lnTo>
                    <a:lnTo>
                      <a:pt x="60" y="104"/>
                    </a:lnTo>
                    <a:lnTo>
                      <a:pt x="49" y="113"/>
                    </a:lnTo>
                    <a:lnTo>
                      <a:pt x="32" y="123"/>
                    </a:lnTo>
                    <a:lnTo>
                      <a:pt x="15" y="140"/>
                    </a:lnTo>
                    <a:lnTo>
                      <a:pt x="2" y="157"/>
                    </a:lnTo>
                    <a:lnTo>
                      <a:pt x="0" y="169"/>
                    </a:lnTo>
                    <a:lnTo>
                      <a:pt x="4" y="175"/>
                    </a:lnTo>
                    <a:lnTo>
                      <a:pt x="14" y="179"/>
                    </a:lnTo>
                    <a:lnTo>
                      <a:pt x="28" y="183"/>
                    </a:lnTo>
                    <a:lnTo>
                      <a:pt x="43" y="192"/>
                    </a:lnTo>
                    <a:lnTo>
                      <a:pt x="60" y="208"/>
                    </a:lnTo>
                    <a:lnTo>
                      <a:pt x="76" y="214"/>
                    </a:lnTo>
                    <a:lnTo>
                      <a:pt x="87" y="213"/>
                    </a:lnTo>
                    <a:lnTo>
                      <a:pt x="93" y="203"/>
                    </a:lnTo>
                    <a:lnTo>
                      <a:pt x="85" y="197"/>
                    </a:lnTo>
                    <a:lnTo>
                      <a:pt x="82" y="197"/>
                    </a:lnTo>
                    <a:lnTo>
                      <a:pt x="69" y="194"/>
                    </a:lnTo>
                    <a:lnTo>
                      <a:pt x="56" y="180"/>
                    </a:lnTo>
                    <a:lnTo>
                      <a:pt x="42" y="163"/>
                    </a:lnTo>
                    <a:lnTo>
                      <a:pt x="36" y="153"/>
                    </a:lnTo>
                    <a:lnTo>
                      <a:pt x="35" y="142"/>
                    </a:lnTo>
                    <a:lnTo>
                      <a:pt x="46" y="131"/>
                    </a:lnTo>
                    <a:lnTo>
                      <a:pt x="67" y="122"/>
                    </a:lnTo>
                    <a:lnTo>
                      <a:pt x="86" y="114"/>
                    </a:lnTo>
                    <a:lnTo>
                      <a:pt x="89" y="105"/>
                    </a:lnTo>
                    <a:lnTo>
                      <a:pt x="89" y="96"/>
                    </a:lnTo>
                    <a:lnTo>
                      <a:pt x="85" y="80"/>
                    </a:lnTo>
                    <a:lnTo>
                      <a:pt x="81" y="65"/>
                    </a:lnTo>
                    <a:lnTo>
                      <a:pt x="74" y="52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492960" y="2141640"/>
                <a:ext cx="230040" cy="207000"/>
              </a:xfrm>
              <a:custGeom>
                <a:avLst/>
                <a:gdLst/>
                <a:ahLst/>
                <a:rect l="l" t="t" r="r" b="b"/>
                <a:pathLst>
                  <a:path w="145" h="159">
                    <a:moveTo>
                      <a:pt x="17" y="6"/>
                    </a:moveTo>
                    <a:lnTo>
                      <a:pt x="48" y="0"/>
                    </a:lnTo>
                    <a:lnTo>
                      <a:pt x="75" y="4"/>
                    </a:lnTo>
                    <a:lnTo>
                      <a:pt x="96" y="10"/>
                    </a:lnTo>
                    <a:lnTo>
                      <a:pt x="113" y="24"/>
                    </a:lnTo>
                    <a:lnTo>
                      <a:pt x="116" y="36"/>
                    </a:lnTo>
                    <a:lnTo>
                      <a:pt x="114" y="49"/>
                    </a:lnTo>
                    <a:lnTo>
                      <a:pt x="105" y="68"/>
                    </a:lnTo>
                    <a:lnTo>
                      <a:pt x="93" y="88"/>
                    </a:lnTo>
                    <a:lnTo>
                      <a:pt x="86" y="110"/>
                    </a:lnTo>
                    <a:lnTo>
                      <a:pt x="84" y="124"/>
                    </a:lnTo>
                    <a:lnTo>
                      <a:pt x="87" y="134"/>
                    </a:lnTo>
                    <a:lnTo>
                      <a:pt x="98" y="138"/>
                    </a:lnTo>
                    <a:lnTo>
                      <a:pt x="120" y="137"/>
                    </a:lnTo>
                    <a:lnTo>
                      <a:pt x="137" y="139"/>
                    </a:lnTo>
                    <a:lnTo>
                      <a:pt x="145" y="145"/>
                    </a:lnTo>
                    <a:lnTo>
                      <a:pt x="143" y="157"/>
                    </a:lnTo>
                    <a:lnTo>
                      <a:pt x="134" y="159"/>
                    </a:lnTo>
                    <a:lnTo>
                      <a:pt x="122" y="155"/>
                    </a:lnTo>
                    <a:lnTo>
                      <a:pt x="108" y="151"/>
                    </a:lnTo>
                    <a:lnTo>
                      <a:pt x="91" y="152"/>
                    </a:lnTo>
                    <a:lnTo>
                      <a:pt x="79" y="155"/>
                    </a:lnTo>
                    <a:lnTo>
                      <a:pt x="69" y="151"/>
                    </a:lnTo>
                    <a:lnTo>
                      <a:pt x="64" y="144"/>
                    </a:lnTo>
                    <a:lnTo>
                      <a:pt x="64" y="128"/>
                    </a:lnTo>
                    <a:lnTo>
                      <a:pt x="68" y="110"/>
                    </a:lnTo>
                    <a:lnTo>
                      <a:pt x="72" y="94"/>
                    </a:lnTo>
                    <a:lnTo>
                      <a:pt x="81" y="74"/>
                    </a:lnTo>
                    <a:lnTo>
                      <a:pt x="89" y="54"/>
                    </a:lnTo>
                    <a:lnTo>
                      <a:pt x="92" y="43"/>
                    </a:lnTo>
                    <a:lnTo>
                      <a:pt x="91" y="37"/>
                    </a:lnTo>
                    <a:lnTo>
                      <a:pt x="85" y="32"/>
                    </a:lnTo>
                    <a:lnTo>
                      <a:pt x="70" y="33"/>
                    </a:lnTo>
                    <a:lnTo>
                      <a:pt x="48" y="36"/>
                    </a:lnTo>
                    <a:lnTo>
                      <a:pt x="31" y="38"/>
                    </a:lnTo>
                    <a:lnTo>
                      <a:pt x="15" y="37"/>
                    </a:lnTo>
                    <a:lnTo>
                      <a:pt x="3" y="31"/>
                    </a:lnTo>
                    <a:lnTo>
                      <a:pt x="0" y="21"/>
                    </a:lnTo>
                    <a:lnTo>
                      <a:pt x="0" y="11"/>
                    </a:lnTo>
                    <a:lnTo>
                      <a:pt x="9" y="4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27" name=""/>
              <p:cNvGrpSpPr/>
              <p:nvPr/>
            </p:nvGrpSpPr>
            <p:grpSpPr>
              <a:xfrm>
                <a:off x="6353280" y="1507320"/>
                <a:ext cx="471240" cy="194760"/>
                <a:chOff x="6353280" y="1507320"/>
                <a:chExt cx="471240" cy="1947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6353280" y="1597320"/>
                  <a:ext cx="129960" cy="104760"/>
                </a:xfrm>
                <a:custGeom>
                  <a:avLst/>
                  <a:gdLst/>
                  <a:ahLst/>
                  <a:rect l="l" t="t" r="r" b="b"/>
                  <a:pathLst>
                    <a:path w="82" h="80">
                      <a:moveTo>
                        <a:pt x="0" y="4"/>
                      </a:moveTo>
                      <a:lnTo>
                        <a:pt x="26" y="28"/>
                      </a:lnTo>
                      <a:lnTo>
                        <a:pt x="55" y="65"/>
                      </a:lnTo>
                      <a:lnTo>
                        <a:pt x="68" y="80"/>
                      </a:lnTo>
                      <a:lnTo>
                        <a:pt x="78" y="80"/>
                      </a:lnTo>
                      <a:lnTo>
                        <a:pt x="82" y="69"/>
                      </a:lnTo>
                      <a:lnTo>
                        <a:pt x="71" y="53"/>
                      </a:lnTo>
                      <a:lnTo>
                        <a:pt x="44" y="32"/>
                      </a:lnTo>
                      <a:lnTo>
                        <a:pt x="15" y="6"/>
                      </a:lnTo>
                      <a:lnTo>
                        <a:pt x="6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6738840" y="1559520"/>
                  <a:ext cx="85680" cy="91440"/>
                </a:xfrm>
                <a:custGeom>
                  <a:avLst/>
                  <a:gdLst/>
                  <a:ahLst/>
                  <a:rect l="l" t="t" r="r" b="b"/>
                  <a:pathLst>
                    <a:path w="54" h="70">
                      <a:moveTo>
                        <a:pt x="48" y="0"/>
                      </a:moveTo>
                      <a:lnTo>
                        <a:pt x="24" y="24"/>
                      </a:lnTo>
                      <a:lnTo>
                        <a:pt x="3" y="48"/>
                      </a:lnTo>
                      <a:lnTo>
                        <a:pt x="0" y="62"/>
                      </a:lnTo>
                      <a:lnTo>
                        <a:pt x="5" y="70"/>
                      </a:lnTo>
                      <a:lnTo>
                        <a:pt x="14" y="70"/>
                      </a:lnTo>
                      <a:lnTo>
                        <a:pt x="23" y="63"/>
                      </a:lnTo>
                      <a:lnTo>
                        <a:pt x="33" y="47"/>
                      </a:lnTo>
                      <a:lnTo>
                        <a:pt x="51" y="14"/>
                      </a:lnTo>
                      <a:lnTo>
                        <a:pt x="54" y="5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580080" y="1507320"/>
                  <a:ext cx="31680" cy="132120"/>
                </a:xfrm>
                <a:custGeom>
                  <a:avLst/>
                  <a:gdLst/>
                  <a:ahLst/>
                  <a:rect l="l" t="t" r="r" b="b"/>
                  <a:pathLst>
                    <a:path w="20" h="101">
                      <a:moveTo>
                        <a:pt x="2" y="0"/>
                      </a:moveTo>
                      <a:lnTo>
                        <a:pt x="0" y="44"/>
                      </a:lnTo>
                      <a:lnTo>
                        <a:pt x="1" y="86"/>
                      </a:lnTo>
                      <a:lnTo>
                        <a:pt x="5" y="99"/>
                      </a:lnTo>
                      <a:lnTo>
                        <a:pt x="12" y="101"/>
                      </a:lnTo>
                      <a:lnTo>
                        <a:pt x="19" y="98"/>
                      </a:lnTo>
                      <a:lnTo>
                        <a:pt x="20" y="87"/>
                      </a:lnTo>
                      <a:lnTo>
                        <a:pt x="15" y="60"/>
                      </a:lnTo>
                      <a:lnTo>
                        <a:pt x="12" y="25"/>
                      </a:lnTo>
                      <a:lnTo>
                        <a:pt x="9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6950160" y="1680840"/>
                <a:ext cx="439560" cy="771120"/>
                <a:chOff x="6950160" y="1680840"/>
                <a:chExt cx="439560" cy="77112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7010280" y="1680840"/>
                  <a:ext cx="187560" cy="161640"/>
                </a:xfrm>
                <a:custGeom>
                  <a:avLst/>
                  <a:gdLst/>
                  <a:ahLst/>
                  <a:rect l="l" t="t" r="r" b="b"/>
                  <a:pathLst>
                    <a:path w="118" h="124">
                      <a:moveTo>
                        <a:pt x="91" y="80"/>
                      </a:moveTo>
                      <a:lnTo>
                        <a:pt x="96" y="62"/>
                      </a:lnTo>
                      <a:lnTo>
                        <a:pt x="99" y="48"/>
                      </a:lnTo>
                      <a:lnTo>
                        <a:pt x="99" y="36"/>
                      </a:lnTo>
                      <a:lnTo>
                        <a:pt x="95" y="22"/>
                      </a:lnTo>
                      <a:lnTo>
                        <a:pt x="88" y="10"/>
                      </a:lnTo>
                      <a:lnTo>
                        <a:pt x="78" y="3"/>
                      </a:lnTo>
                      <a:lnTo>
                        <a:pt x="64" y="0"/>
                      </a:lnTo>
                      <a:lnTo>
                        <a:pt x="50" y="1"/>
                      </a:lnTo>
                      <a:lnTo>
                        <a:pt x="34" y="6"/>
                      </a:lnTo>
                      <a:lnTo>
                        <a:pt x="19" y="17"/>
                      </a:lnTo>
                      <a:lnTo>
                        <a:pt x="10" y="33"/>
                      </a:lnTo>
                      <a:lnTo>
                        <a:pt x="4" y="50"/>
                      </a:lnTo>
                      <a:lnTo>
                        <a:pt x="0" y="68"/>
                      </a:lnTo>
                      <a:lnTo>
                        <a:pt x="0" y="85"/>
                      </a:lnTo>
                      <a:lnTo>
                        <a:pt x="4" y="101"/>
                      </a:lnTo>
                      <a:lnTo>
                        <a:pt x="10" y="112"/>
                      </a:lnTo>
                      <a:lnTo>
                        <a:pt x="18" y="119"/>
                      </a:lnTo>
                      <a:lnTo>
                        <a:pt x="28" y="124"/>
                      </a:lnTo>
                      <a:lnTo>
                        <a:pt x="44" y="122"/>
                      </a:lnTo>
                      <a:lnTo>
                        <a:pt x="54" y="119"/>
                      </a:lnTo>
                      <a:lnTo>
                        <a:pt x="68" y="112"/>
                      </a:lnTo>
                      <a:lnTo>
                        <a:pt x="78" y="102"/>
                      </a:lnTo>
                      <a:lnTo>
                        <a:pt x="84" y="97"/>
                      </a:lnTo>
                      <a:lnTo>
                        <a:pt x="97" y="109"/>
                      </a:lnTo>
                      <a:lnTo>
                        <a:pt x="108" y="116"/>
                      </a:lnTo>
                      <a:lnTo>
                        <a:pt x="114" y="113"/>
                      </a:lnTo>
                      <a:lnTo>
                        <a:pt x="118" y="107"/>
                      </a:lnTo>
                      <a:lnTo>
                        <a:pt x="118" y="98"/>
                      </a:lnTo>
                      <a:lnTo>
                        <a:pt x="110" y="91"/>
                      </a:lnTo>
                      <a:lnTo>
                        <a:pt x="100" y="84"/>
                      </a:lnTo>
                      <a:lnTo>
                        <a:pt x="91" y="80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950160" y="1870200"/>
                  <a:ext cx="212760" cy="291960"/>
                </a:xfrm>
                <a:custGeom>
                  <a:avLst/>
                  <a:gdLst/>
                  <a:ahLst/>
                  <a:rect l="l" t="t" r="r" b="b"/>
                  <a:pathLst>
                    <a:path w="134" h="224">
                      <a:moveTo>
                        <a:pt x="15" y="40"/>
                      </a:moveTo>
                      <a:lnTo>
                        <a:pt x="29" y="20"/>
                      </a:lnTo>
                      <a:lnTo>
                        <a:pt x="43" y="6"/>
                      </a:lnTo>
                      <a:lnTo>
                        <a:pt x="56" y="1"/>
                      </a:lnTo>
                      <a:lnTo>
                        <a:pt x="70" y="0"/>
                      </a:lnTo>
                      <a:lnTo>
                        <a:pt x="81" y="5"/>
                      </a:lnTo>
                      <a:lnTo>
                        <a:pt x="89" y="17"/>
                      </a:lnTo>
                      <a:lnTo>
                        <a:pt x="90" y="33"/>
                      </a:lnTo>
                      <a:lnTo>
                        <a:pt x="85" y="52"/>
                      </a:lnTo>
                      <a:lnTo>
                        <a:pt x="82" y="75"/>
                      </a:lnTo>
                      <a:lnTo>
                        <a:pt x="79" y="97"/>
                      </a:lnTo>
                      <a:lnTo>
                        <a:pt x="82" y="116"/>
                      </a:lnTo>
                      <a:lnTo>
                        <a:pt x="91" y="132"/>
                      </a:lnTo>
                      <a:lnTo>
                        <a:pt x="106" y="145"/>
                      </a:lnTo>
                      <a:lnTo>
                        <a:pt x="121" y="156"/>
                      </a:lnTo>
                      <a:lnTo>
                        <a:pt x="131" y="171"/>
                      </a:lnTo>
                      <a:lnTo>
                        <a:pt x="134" y="185"/>
                      </a:lnTo>
                      <a:lnTo>
                        <a:pt x="133" y="188"/>
                      </a:lnTo>
                      <a:lnTo>
                        <a:pt x="131" y="199"/>
                      </a:lnTo>
                      <a:lnTo>
                        <a:pt x="124" y="210"/>
                      </a:lnTo>
                      <a:lnTo>
                        <a:pt x="107" y="219"/>
                      </a:lnTo>
                      <a:lnTo>
                        <a:pt x="88" y="224"/>
                      </a:lnTo>
                      <a:lnTo>
                        <a:pt x="64" y="224"/>
                      </a:lnTo>
                      <a:lnTo>
                        <a:pt x="45" y="219"/>
                      </a:lnTo>
                      <a:lnTo>
                        <a:pt x="30" y="208"/>
                      </a:lnTo>
                      <a:lnTo>
                        <a:pt x="16" y="190"/>
                      </a:lnTo>
                      <a:lnTo>
                        <a:pt x="9" y="169"/>
                      </a:lnTo>
                      <a:lnTo>
                        <a:pt x="3" y="144"/>
                      </a:lnTo>
                      <a:lnTo>
                        <a:pt x="0" y="118"/>
                      </a:lnTo>
                      <a:lnTo>
                        <a:pt x="0" y="93"/>
                      </a:lnTo>
                      <a:lnTo>
                        <a:pt x="4" y="70"/>
                      </a:lnTo>
                      <a:lnTo>
                        <a:pt x="10" y="50"/>
                      </a:lnTo>
                      <a:lnTo>
                        <a:pt x="15" y="40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7021440" y="1847880"/>
                  <a:ext cx="331920" cy="148320"/>
                </a:xfrm>
                <a:custGeom>
                  <a:avLst/>
                  <a:gdLst/>
                  <a:ahLst/>
                  <a:rect l="l" t="t" r="r" b="b"/>
                  <a:pathLst>
                    <a:path w="209" h="114">
                      <a:moveTo>
                        <a:pt x="23" y="19"/>
                      </a:moveTo>
                      <a:lnTo>
                        <a:pt x="52" y="12"/>
                      </a:lnTo>
                      <a:lnTo>
                        <a:pt x="80" y="5"/>
                      </a:lnTo>
                      <a:lnTo>
                        <a:pt x="108" y="0"/>
                      </a:lnTo>
                      <a:lnTo>
                        <a:pt x="132" y="1"/>
                      </a:lnTo>
                      <a:lnTo>
                        <a:pt x="152" y="3"/>
                      </a:lnTo>
                      <a:lnTo>
                        <a:pt x="174" y="10"/>
                      </a:lnTo>
                      <a:lnTo>
                        <a:pt x="191" y="19"/>
                      </a:lnTo>
                      <a:lnTo>
                        <a:pt x="203" y="29"/>
                      </a:lnTo>
                      <a:lnTo>
                        <a:pt x="209" y="39"/>
                      </a:lnTo>
                      <a:lnTo>
                        <a:pt x="208" y="47"/>
                      </a:lnTo>
                      <a:lnTo>
                        <a:pt x="201" y="57"/>
                      </a:lnTo>
                      <a:lnTo>
                        <a:pt x="186" y="69"/>
                      </a:lnTo>
                      <a:lnTo>
                        <a:pt x="167" y="79"/>
                      </a:lnTo>
                      <a:lnTo>
                        <a:pt x="159" y="86"/>
                      </a:lnTo>
                      <a:lnTo>
                        <a:pt x="158" y="95"/>
                      </a:lnTo>
                      <a:lnTo>
                        <a:pt x="161" y="103"/>
                      </a:lnTo>
                      <a:lnTo>
                        <a:pt x="157" y="113"/>
                      </a:lnTo>
                      <a:lnTo>
                        <a:pt x="145" y="114"/>
                      </a:lnTo>
                      <a:lnTo>
                        <a:pt x="136" y="109"/>
                      </a:lnTo>
                      <a:lnTo>
                        <a:pt x="145" y="94"/>
                      </a:lnTo>
                      <a:lnTo>
                        <a:pt x="135" y="108"/>
                      </a:lnTo>
                      <a:lnTo>
                        <a:pt x="127" y="111"/>
                      </a:lnTo>
                      <a:lnTo>
                        <a:pt x="120" y="107"/>
                      </a:lnTo>
                      <a:lnTo>
                        <a:pt x="121" y="95"/>
                      </a:lnTo>
                      <a:lnTo>
                        <a:pt x="116" y="102"/>
                      </a:lnTo>
                      <a:lnTo>
                        <a:pt x="108" y="89"/>
                      </a:lnTo>
                      <a:lnTo>
                        <a:pt x="109" y="80"/>
                      </a:lnTo>
                      <a:lnTo>
                        <a:pt x="119" y="73"/>
                      </a:lnTo>
                      <a:lnTo>
                        <a:pt x="133" y="68"/>
                      </a:lnTo>
                      <a:lnTo>
                        <a:pt x="148" y="67"/>
                      </a:lnTo>
                      <a:lnTo>
                        <a:pt x="164" y="62"/>
                      </a:lnTo>
                      <a:lnTo>
                        <a:pt x="182" y="52"/>
                      </a:lnTo>
                      <a:lnTo>
                        <a:pt x="188" y="44"/>
                      </a:lnTo>
                      <a:lnTo>
                        <a:pt x="184" y="37"/>
                      </a:lnTo>
                      <a:lnTo>
                        <a:pt x="171" y="29"/>
                      </a:lnTo>
                      <a:lnTo>
                        <a:pt x="150" y="21"/>
                      </a:lnTo>
                      <a:lnTo>
                        <a:pt x="124" y="18"/>
                      </a:lnTo>
                      <a:lnTo>
                        <a:pt x="103" y="21"/>
                      </a:lnTo>
                      <a:lnTo>
                        <a:pt x="77" y="27"/>
                      </a:lnTo>
                      <a:lnTo>
                        <a:pt x="52" y="38"/>
                      </a:lnTo>
                      <a:lnTo>
                        <a:pt x="37" y="50"/>
                      </a:lnTo>
                      <a:lnTo>
                        <a:pt x="19" y="58"/>
                      </a:lnTo>
                      <a:lnTo>
                        <a:pt x="16" y="59"/>
                      </a:lnTo>
                      <a:lnTo>
                        <a:pt x="6" y="53"/>
                      </a:lnTo>
                      <a:lnTo>
                        <a:pt x="3" y="53"/>
                      </a:lnTo>
                      <a:lnTo>
                        <a:pt x="0" y="41"/>
                      </a:lnTo>
                      <a:lnTo>
                        <a:pt x="5" y="28"/>
                      </a:lnTo>
                      <a:lnTo>
                        <a:pt x="12" y="24"/>
                      </a:lnTo>
                      <a:lnTo>
                        <a:pt x="23" y="19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051680" y="2099880"/>
                  <a:ext cx="338040" cy="246600"/>
                </a:xfrm>
                <a:custGeom>
                  <a:avLst/>
                  <a:gdLst/>
                  <a:ahLst/>
                  <a:rect l="l" t="t" r="r" b="b"/>
                  <a:pathLst>
                    <a:path w="213" h="189">
                      <a:moveTo>
                        <a:pt x="47" y="7"/>
                      </a:moveTo>
                      <a:lnTo>
                        <a:pt x="19" y="0"/>
                      </a:lnTo>
                      <a:lnTo>
                        <a:pt x="10" y="4"/>
                      </a:lnTo>
                      <a:lnTo>
                        <a:pt x="1" y="16"/>
                      </a:lnTo>
                      <a:lnTo>
                        <a:pt x="0" y="30"/>
                      </a:lnTo>
                      <a:lnTo>
                        <a:pt x="7" y="41"/>
                      </a:lnTo>
                      <a:lnTo>
                        <a:pt x="22" y="48"/>
                      </a:lnTo>
                      <a:lnTo>
                        <a:pt x="41" y="50"/>
                      </a:lnTo>
                      <a:lnTo>
                        <a:pt x="70" y="52"/>
                      </a:lnTo>
                      <a:lnTo>
                        <a:pt x="93" y="54"/>
                      </a:lnTo>
                      <a:lnTo>
                        <a:pt x="108" y="59"/>
                      </a:lnTo>
                      <a:lnTo>
                        <a:pt x="114" y="64"/>
                      </a:lnTo>
                      <a:lnTo>
                        <a:pt x="117" y="72"/>
                      </a:lnTo>
                      <a:lnTo>
                        <a:pt x="113" y="81"/>
                      </a:lnTo>
                      <a:lnTo>
                        <a:pt x="106" y="100"/>
                      </a:lnTo>
                      <a:lnTo>
                        <a:pt x="102" y="121"/>
                      </a:lnTo>
                      <a:lnTo>
                        <a:pt x="102" y="142"/>
                      </a:lnTo>
                      <a:lnTo>
                        <a:pt x="105" y="164"/>
                      </a:lnTo>
                      <a:lnTo>
                        <a:pt x="109" y="176"/>
                      </a:lnTo>
                      <a:lnTo>
                        <a:pt x="114" y="186"/>
                      </a:lnTo>
                      <a:lnTo>
                        <a:pt x="122" y="189"/>
                      </a:lnTo>
                      <a:lnTo>
                        <a:pt x="131" y="187"/>
                      </a:lnTo>
                      <a:lnTo>
                        <a:pt x="134" y="181"/>
                      </a:lnTo>
                      <a:lnTo>
                        <a:pt x="137" y="178"/>
                      </a:lnTo>
                      <a:lnTo>
                        <a:pt x="143" y="171"/>
                      </a:lnTo>
                      <a:lnTo>
                        <a:pt x="157" y="164"/>
                      </a:lnTo>
                      <a:lnTo>
                        <a:pt x="180" y="161"/>
                      </a:lnTo>
                      <a:lnTo>
                        <a:pt x="198" y="161"/>
                      </a:lnTo>
                      <a:lnTo>
                        <a:pt x="208" y="160"/>
                      </a:lnTo>
                      <a:lnTo>
                        <a:pt x="213" y="151"/>
                      </a:lnTo>
                      <a:lnTo>
                        <a:pt x="209" y="142"/>
                      </a:lnTo>
                      <a:lnTo>
                        <a:pt x="195" y="138"/>
                      </a:lnTo>
                      <a:lnTo>
                        <a:pt x="172" y="140"/>
                      </a:lnTo>
                      <a:lnTo>
                        <a:pt x="150" y="147"/>
                      </a:lnTo>
                      <a:lnTo>
                        <a:pt x="132" y="159"/>
                      </a:lnTo>
                      <a:lnTo>
                        <a:pt x="124" y="160"/>
                      </a:lnTo>
                      <a:lnTo>
                        <a:pt x="119" y="152"/>
                      </a:lnTo>
                      <a:lnTo>
                        <a:pt x="116" y="132"/>
                      </a:lnTo>
                      <a:lnTo>
                        <a:pt x="119" y="102"/>
                      </a:lnTo>
                      <a:lnTo>
                        <a:pt x="132" y="78"/>
                      </a:lnTo>
                      <a:lnTo>
                        <a:pt x="137" y="61"/>
                      </a:lnTo>
                      <a:lnTo>
                        <a:pt x="132" y="53"/>
                      </a:lnTo>
                      <a:lnTo>
                        <a:pt x="123" y="44"/>
                      </a:lnTo>
                      <a:lnTo>
                        <a:pt x="102" y="34"/>
                      </a:lnTo>
                      <a:lnTo>
                        <a:pt x="71" y="20"/>
                      </a:lnTo>
                      <a:lnTo>
                        <a:pt x="47" y="7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970680" y="2099880"/>
                  <a:ext cx="181080" cy="352080"/>
                </a:xfrm>
                <a:custGeom>
                  <a:avLst/>
                  <a:gdLst/>
                  <a:ahLst/>
                  <a:rect l="l" t="t" r="r" b="b"/>
                  <a:pathLst>
                    <a:path w="114" h="270">
                      <a:moveTo>
                        <a:pt x="30" y="24"/>
                      </a:moveTo>
                      <a:lnTo>
                        <a:pt x="30" y="6"/>
                      </a:lnTo>
                      <a:lnTo>
                        <a:pt x="46" y="0"/>
                      </a:lnTo>
                      <a:lnTo>
                        <a:pt x="64" y="4"/>
                      </a:lnTo>
                      <a:lnTo>
                        <a:pt x="76" y="23"/>
                      </a:lnTo>
                      <a:lnTo>
                        <a:pt x="90" y="55"/>
                      </a:lnTo>
                      <a:lnTo>
                        <a:pt x="108" y="93"/>
                      </a:lnTo>
                      <a:lnTo>
                        <a:pt x="114" y="109"/>
                      </a:lnTo>
                      <a:lnTo>
                        <a:pt x="113" y="118"/>
                      </a:lnTo>
                      <a:lnTo>
                        <a:pt x="110" y="126"/>
                      </a:lnTo>
                      <a:lnTo>
                        <a:pt x="104" y="136"/>
                      </a:lnTo>
                      <a:lnTo>
                        <a:pt x="86" y="145"/>
                      </a:lnTo>
                      <a:lnTo>
                        <a:pt x="61" y="161"/>
                      </a:lnTo>
                      <a:lnTo>
                        <a:pt x="44" y="178"/>
                      </a:lnTo>
                      <a:lnTo>
                        <a:pt x="31" y="194"/>
                      </a:lnTo>
                      <a:lnTo>
                        <a:pt x="28" y="204"/>
                      </a:lnTo>
                      <a:lnTo>
                        <a:pt x="30" y="213"/>
                      </a:lnTo>
                      <a:lnTo>
                        <a:pt x="35" y="225"/>
                      </a:lnTo>
                      <a:lnTo>
                        <a:pt x="45" y="237"/>
                      </a:lnTo>
                      <a:lnTo>
                        <a:pt x="58" y="246"/>
                      </a:lnTo>
                      <a:lnTo>
                        <a:pt x="75" y="251"/>
                      </a:lnTo>
                      <a:lnTo>
                        <a:pt x="83" y="251"/>
                      </a:lnTo>
                      <a:lnTo>
                        <a:pt x="86" y="259"/>
                      </a:lnTo>
                      <a:lnTo>
                        <a:pt x="80" y="268"/>
                      </a:lnTo>
                      <a:lnTo>
                        <a:pt x="77" y="270"/>
                      </a:lnTo>
                      <a:lnTo>
                        <a:pt x="62" y="270"/>
                      </a:lnTo>
                      <a:lnTo>
                        <a:pt x="44" y="259"/>
                      </a:lnTo>
                      <a:lnTo>
                        <a:pt x="23" y="238"/>
                      </a:lnTo>
                      <a:lnTo>
                        <a:pt x="4" y="219"/>
                      </a:lnTo>
                      <a:lnTo>
                        <a:pt x="0" y="209"/>
                      </a:lnTo>
                      <a:lnTo>
                        <a:pt x="1" y="199"/>
                      </a:lnTo>
                      <a:lnTo>
                        <a:pt x="4" y="190"/>
                      </a:lnTo>
                      <a:lnTo>
                        <a:pt x="12" y="180"/>
                      </a:lnTo>
                      <a:lnTo>
                        <a:pt x="28" y="165"/>
                      </a:lnTo>
                      <a:lnTo>
                        <a:pt x="43" y="149"/>
                      </a:lnTo>
                      <a:lnTo>
                        <a:pt x="60" y="136"/>
                      </a:lnTo>
                      <a:lnTo>
                        <a:pt x="80" y="123"/>
                      </a:lnTo>
                      <a:lnTo>
                        <a:pt x="87" y="112"/>
                      </a:lnTo>
                      <a:lnTo>
                        <a:pt x="86" y="107"/>
                      </a:lnTo>
                      <a:lnTo>
                        <a:pt x="83" y="98"/>
                      </a:lnTo>
                      <a:lnTo>
                        <a:pt x="76" y="82"/>
                      </a:lnTo>
                      <a:lnTo>
                        <a:pt x="62" y="68"/>
                      </a:lnTo>
                      <a:lnTo>
                        <a:pt x="48" y="53"/>
                      </a:lnTo>
                      <a:lnTo>
                        <a:pt x="37" y="41"/>
                      </a:lnTo>
                      <a:lnTo>
                        <a:pt x="30" y="24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7075440" y="1817280"/>
                <a:ext cx="466920" cy="443160"/>
                <a:chOff x="7075440" y="1817280"/>
                <a:chExt cx="466920" cy="443160"/>
              </a:xfrm>
            </p:grpSpPr>
            <p:grpSp>
              <p:nvGrpSpPr>
                <p:cNvPr id="538" name=""/>
                <p:cNvGrpSpPr/>
                <p:nvPr/>
              </p:nvGrpSpPr>
              <p:grpSpPr>
                <a:xfrm>
                  <a:off x="7075440" y="1817280"/>
                  <a:ext cx="466920" cy="443160"/>
                  <a:chOff x="7075440" y="1817280"/>
                  <a:chExt cx="466920" cy="44316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>
                    <a:off x="7075440" y="1817280"/>
                    <a:ext cx="291960" cy="35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84" h="271">
                        <a:moveTo>
                          <a:pt x="30" y="0"/>
                        </a:moveTo>
                        <a:lnTo>
                          <a:pt x="19" y="1"/>
                        </a:lnTo>
                        <a:lnTo>
                          <a:pt x="7" y="9"/>
                        </a:lnTo>
                        <a:lnTo>
                          <a:pt x="2" y="15"/>
                        </a:lnTo>
                        <a:lnTo>
                          <a:pt x="4" y="21"/>
                        </a:lnTo>
                        <a:lnTo>
                          <a:pt x="9" y="26"/>
                        </a:lnTo>
                        <a:lnTo>
                          <a:pt x="28" y="34"/>
                        </a:lnTo>
                        <a:lnTo>
                          <a:pt x="59" y="67"/>
                        </a:lnTo>
                        <a:lnTo>
                          <a:pt x="43" y="56"/>
                        </a:lnTo>
                        <a:lnTo>
                          <a:pt x="40" y="57"/>
                        </a:lnTo>
                        <a:lnTo>
                          <a:pt x="25" y="50"/>
                        </a:lnTo>
                        <a:lnTo>
                          <a:pt x="8" y="50"/>
                        </a:lnTo>
                        <a:lnTo>
                          <a:pt x="1" y="57"/>
                        </a:lnTo>
                        <a:lnTo>
                          <a:pt x="0" y="72"/>
                        </a:lnTo>
                        <a:lnTo>
                          <a:pt x="4" y="93"/>
                        </a:lnTo>
                        <a:lnTo>
                          <a:pt x="16" y="114"/>
                        </a:lnTo>
                        <a:lnTo>
                          <a:pt x="34" y="144"/>
                        </a:lnTo>
                        <a:lnTo>
                          <a:pt x="57" y="174"/>
                        </a:lnTo>
                        <a:lnTo>
                          <a:pt x="81" y="206"/>
                        </a:lnTo>
                        <a:lnTo>
                          <a:pt x="101" y="235"/>
                        </a:lnTo>
                        <a:lnTo>
                          <a:pt x="114" y="252"/>
                        </a:lnTo>
                        <a:lnTo>
                          <a:pt x="133" y="266"/>
                        </a:lnTo>
                        <a:lnTo>
                          <a:pt x="153" y="271"/>
                        </a:lnTo>
                        <a:lnTo>
                          <a:pt x="169" y="268"/>
                        </a:lnTo>
                        <a:lnTo>
                          <a:pt x="179" y="260"/>
                        </a:lnTo>
                        <a:lnTo>
                          <a:pt x="184" y="248"/>
                        </a:lnTo>
                        <a:lnTo>
                          <a:pt x="181" y="217"/>
                        </a:lnTo>
                        <a:lnTo>
                          <a:pt x="175" y="239"/>
                        </a:lnTo>
                        <a:lnTo>
                          <a:pt x="168" y="251"/>
                        </a:lnTo>
                        <a:lnTo>
                          <a:pt x="155" y="257"/>
                        </a:lnTo>
                        <a:lnTo>
                          <a:pt x="142" y="255"/>
                        </a:lnTo>
                        <a:lnTo>
                          <a:pt x="128" y="249"/>
                        </a:lnTo>
                        <a:lnTo>
                          <a:pt x="116" y="235"/>
                        </a:lnTo>
                        <a:lnTo>
                          <a:pt x="164" y="197"/>
                        </a:lnTo>
                        <a:lnTo>
                          <a:pt x="155" y="189"/>
                        </a:lnTo>
                        <a:lnTo>
                          <a:pt x="109" y="225"/>
                        </a:lnTo>
                        <a:lnTo>
                          <a:pt x="81" y="183"/>
                        </a:lnTo>
                        <a:lnTo>
                          <a:pt x="48" y="139"/>
                        </a:lnTo>
                        <a:lnTo>
                          <a:pt x="26" y="108"/>
                        </a:lnTo>
                        <a:lnTo>
                          <a:pt x="14" y="85"/>
                        </a:lnTo>
                        <a:lnTo>
                          <a:pt x="11" y="71"/>
                        </a:lnTo>
                        <a:lnTo>
                          <a:pt x="14" y="63"/>
                        </a:lnTo>
                        <a:lnTo>
                          <a:pt x="28" y="60"/>
                        </a:lnTo>
                        <a:lnTo>
                          <a:pt x="46" y="68"/>
                        </a:lnTo>
                        <a:lnTo>
                          <a:pt x="65" y="84"/>
                        </a:lnTo>
                        <a:lnTo>
                          <a:pt x="84" y="105"/>
                        </a:lnTo>
                        <a:lnTo>
                          <a:pt x="110" y="133"/>
                        </a:lnTo>
                        <a:lnTo>
                          <a:pt x="157" y="179"/>
                        </a:lnTo>
                        <a:lnTo>
                          <a:pt x="107" y="110"/>
                        </a:lnTo>
                        <a:lnTo>
                          <a:pt x="78" y="74"/>
                        </a:lnTo>
                        <a:lnTo>
                          <a:pt x="61" y="52"/>
                        </a:lnTo>
                        <a:lnTo>
                          <a:pt x="35" y="22"/>
                        </a:lnTo>
                        <a:lnTo>
                          <a:pt x="31" y="9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99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7197840" y="1917360"/>
                    <a:ext cx="344520" cy="34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263">
                        <a:moveTo>
                          <a:pt x="0" y="0"/>
                        </a:moveTo>
                        <a:lnTo>
                          <a:pt x="46" y="46"/>
                        </a:lnTo>
                        <a:lnTo>
                          <a:pt x="79" y="82"/>
                        </a:lnTo>
                        <a:lnTo>
                          <a:pt x="113" y="125"/>
                        </a:lnTo>
                        <a:lnTo>
                          <a:pt x="141" y="158"/>
                        </a:lnTo>
                        <a:lnTo>
                          <a:pt x="163" y="179"/>
                        </a:lnTo>
                        <a:lnTo>
                          <a:pt x="178" y="188"/>
                        </a:lnTo>
                        <a:lnTo>
                          <a:pt x="198" y="193"/>
                        </a:lnTo>
                        <a:lnTo>
                          <a:pt x="210" y="195"/>
                        </a:lnTo>
                        <a:lnTo>
                          <a:pt x="217" y="199"/>
                        </a:lnTo>
                        <a:lnTo>
                          <a:pt x="217" y="209"/>
                        </a:lnTo>
                        <a:lnTo>
                          <a:pt x="206" y="229"/>
                        </a:lnTo>
                        <a:lnTo>
                          <a:pt x="195" y="242"/>
                        </a:lnTo>
                        <a:lnTo>
                          <a:pt x="182" y="252"/>
                        </a:lnTo>
                        <a:lnTo>
                          <a:pt x="167" y="261"/>
                        </a:lnTo>
                        <a:lnTo>
                          <a:pt x="150" y="263"/>
                        </a:lnTo>
                        <a:lnTo>
                          <a:pt x="144" y="257"/>
                        </a:lnTo>
                        <a:lnTo>
                          <a:pt x="144" y="246"/>
                        </a:lnTo>
                        <a:lnTo>
                          <a:pt x="141" y="229"/>
                        </a:lnTo>
                        <a:lnTo>
                          <a:pt x="135" y="196"/>
                        </a:lnTo>
                        <a:lnTo>
                          <a:pt x="126" y="172"/>
                        </a:lnTo>
                        <a:lnTo>
                          <a:pt x="112" y="150"/>
                        </a:lnTo>
                        <a:lnTo>
                          <a:pt x="105" y="135"/>
                        </a:lnTo>
                        <a:lnTo>
                          <a:pt x="109" y="155"/>
                        </a:lnTo>
                        <a:lnTo>
                          <a:pt x="107" y="168"/>
                        </a:lnTo>
                        <a:lnTo>
                          <a:pt x="103" y="176"/>
                        </a:lnTo>
                        <a:lnTo>
                          <a:pt x="87" y="182"/>
                        </a:lnTo>
                        <a:lnTo>
                          <a:pt x="97" y="161"/>
                        </a:lnTo>
                        <a:lnTo>
                          <a:pt x="96" y="144"/>
                        </a:lnTo>
                        <a:lnTo>
                          <a:pt x="92" y="134"/>
                        </a:lnTo>
                        <a:lnTo>
                          <a:pt x="78" y="110"/>
                        </a:lnTo>
                        <a:lnTo>
                          <a:pt x="55" y="80"/>
                        </a:lnTo>
                        <a:lnTo>
                          <a:pt x="28" y="46"/>
                        </a:lnTo>
                        <a:lnTo>
                          <a:pt x="3" y="1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9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1" name=""/>
                <p:cNvSpPr/>
                <p:nvPr/>
              </p:nvSpPr>
              <p:spPr>
                <a:xfrm>
                  <a:off x="7415280" y="2135520"/>
                  <a:ext cx="110880" cy="104040"/>
                </a:xfrm>
                <a:custGeom>
                  <a:avLst/>
                  <a:gdLst/>
                  <a:ahLst/>
                  <a:rect l="l" t="t" r="r" b="b"/>
                  <a:pathLst>
                    <a:path w="70" h="80">
                      <a:moveTo>
                        <a:pt x="0" y="0"/>
                      </a:moveTo>
                      <a:lnTo>
                        <a:pt x="23" y="20"/>
                      </a:lnTo>
                      <a:lnTo>
                        <a:pt x="40" y="29"/>
                      </a:lnTo>
                      <a:lnTo>
                        <a:pt x="56" y="34"/>
                      </a:lnTo>
                      <a:lnTo>
                        <a:pt x="68" y="35"/>
                      </a:lnTo>
                      <a:lnTo>
                        <a:pt x="70" y="39"/>
                      </a:lnTo>
                      <a:lnTo>
                        <a:pt x="63" y="55"/>
                      </a:lnTo>
                      <a:lnTo>
                        <a:pt x="51" y="68"/>
                      </a:lnTo>
                      <a:lnTo>
                        <a:pt x="31" y="80"/>
                      </a:lnTo>
                      <a:lnTo>
                        <a:pt x="40" y="66"/>
                      </a:lnTo>
                      <a:lnTo>
                        <a:pt x="39" y="56"/>
                      </a:lnTo>
                      <a:lnTo>
                        <a:pt x="31" y="48"/>
                      </a:lnTo>
                      <a:lnTo>
                        <a:pt x="28" y="36"/>
                      </a:lnTo>
                      <a:lnTo>
                        <a:pt x="20" y="2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2" name=""/>
              <p:cNvSpPr/>
              <p:nvPr/>
            </p:nvSpPr>
            <p:spPr>
              <a:xfrm>
                <a:off x="7018200" y="1887840"/>
                <a:ext cx="309600" cy="231480"/>
              </a:xfrm>
              <a:custGeom>
                <a:avLst/>
                <a:gdLst/>
                <a:ahLst/>
                <a:rect l="l" t="t" r="r" b="b"/>
                <a:pathLst>
                  <a:path w="195" h="178">
                    <a:moveTo>
                      <a:pt x="6" y="49"/>
                    </a:moveTo>
                    <a:lnTo>
                      <a:pt x="0" y="24"/>
                    </a:lnTo>
                    <a:lnTo>
                      <a:pt x="5" y="7"/>
                    </a:lnTo>
                    <a:lnTo>
                      <a:pt x="21" y="0"/>
                    </a:lnTo>
                    <a:lnTo>
                      <a:pt x="35" y="7"/>
                    </a:lnTo>
                    <a:lnTo>
                      <a:pt x="39" y="30"/>
                    </a:lnTo>
                    <a:lnTo>
                      <a:pt x="39" y="64"/>
                    </a:lnTo>
                    <a:lnTo>
                      <a:pt x="45" y="88"/>
                    </a:lnTo>
                    <a:lnTo>
                      <a:pt x="55" y="107"/>
                    </a:lnTo>
                    <a:lnTo>
                      <a:pt x="67" y="121"/>
                    </a:lnTo>
                    <a:lnTo>
                      <a:pt x="85" y="132"/>
                    </a:lnTo>
                    <a:lnTo>
                      <a:pt x="103" y="138"/>
                    </a:lnTo>
                    <a:lnTo>
                      <a:pt x="122" y="142"/>
                    </a:lnTo>
                    <a:lnTo>
                      <a:pt x="140" y="141"/>
                    </a:lnTo>
                    <a:lnTo>
                      <a:pt x="152" y="137"/>
                    </a:lnTo>
                    <a:lnTo>
                      <a:pt x="172" y="132"/>
                    </a:lnTo>
                    <a:lnTo>
                      <a:pt x="183" y="134"/>
                    </a:lnTo>
                    <a:lnTo>
                      <a:pt x="190" y="142"/>
                    </a:lnTo>
                    <a:lnTo>
                      <a:pt x="195" y="150"/>
                    </a:lnTo>
                    <a:lnTo>
                      <a:pt x="193" y="158"/>
                    </a:lnTo>
                    <a:lnTo>
                      <a:pt x="191" y="163"/>
                    </a:lnTo>
                    <a:lnTo>
                      <a:pt x="183" y="162"/>
                    </a:lnTo>
                    <a:lnTo>
                      <a:pt x="182" y="166"/>
                    </a:lnTo>
                    <a:lnTo>
                      <a:pt x="182" y="172"/>
                    </a:lnTo>
                    <a:lnTo>
                      <a:pt x="174" y="174"/>
                    </a:lnTo>
                    <a:lnTo>
                      <a:pt x="167" y="172"/>
                    </a:lnTo>
                    <a:lnTo>
                      <a:pt x="167" y="177"/>
                    </a:lnTo>
                    <a:lnTo>
                      <a:pt x="156" y="178"/>
                    </a:lnTo>
                    <a:lnTo>
                      <a:pt x="152" y="170"/>
                    </a:lnTo>
                    <a:lnTo>
                      <a:pt x="145" y="158"/>
                    </a:lnTo>
                    <a:lnTo>
                      <a:pt x="129" y="157"/>
                    </a:lnTo>
                    <a:lnTo>
                      <a:pt x="101" y="155"/>
                    </a:lnTo>
                    <a:lnTo>
                      <a:pt x="76" y="148"/>
                    </a:lnTo>
                    <a:lnTo>
                      <a:pt x="53" y="136"/>
                    </a:lnTo>
                    <a:lnTo>
                      <a:pt x="35" y="118"/>
                    </a:lnTo>
                    <a:lnTo>
                      <a:pt x="19" y="94"/>
                    </a:lnTo>
                    <a:lnTo>
                      <a:pt x="9" y="66"/>
                    </a:lnTo>
                    <a:lnTo>
                      <a:pt x="2" y="47"/>
                    </a:lnTo>
                    <a:lnTo>
                      <a:pt x="6" y="49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3" name=""/>
              <p:cNvGrpSpPr/>
              <p:nvPr/>
            </p:nvGrpSpPr>
            <p:grpSpPr>
              <a:xfrm>
                <a:off x="7475400" y="2207520"/>
                <a:ext cx="181080" cy="140760"/>
                <a:chOff x="7475400" y="2207520"/>
                <a:chExt cx="181080" cy="140760"/>
              </a:xfrm>
            </p:grpSpPr>
            <p:sp>
              <p:nvSpPr>
                <p:cNvPr id="544" name=""/>
                <p:cNvSpPr/>
                <p:nvPr/>
              </p:nvSpPr>
              <p:spPr>
                <a:xfrm>
                  <a:off x="7559640" y="2207520"/>
                  <a:ext cx="96840" cy="50400"/>
                </a:xfrm>
                <a:custGeom>
                  <a:avLst/>
                  <a:gdLst/>
                  <a:ahLst/>
                  <a:rect l="l" t="t" r="r" b="b"/>
                  <a:pathLst>
                    <a:path w="61" h="39">
                      <a:moveTo>
                        <a:pt x="9" y="3"/>
                      </a:moveTo>
                      <a:lnTo>
                        <a:pt x="50" y="19"/>
                      </a:lnTo>
                      <a:lnTo>
                        <a:pt x="59" y="27"/>
                      </a:lnTo>
                      <a:lnTo>
                        <a:pt x="61" y="33"/>
                      </a:lnTo>
                      <a:lnTo>
                        <a:pt x="57" y="38"/>
                      </a:lnTo>
                      <a:lnTo>
                        <a:pt x="44" y="39"/>
                      </a:lnTo>
                      <a:lnTo>
                        <a:pt x="15" y="19"/>
                      </a:lnTo>
                      <a:lnTo>
                        <a:pt x="3" y="12"/>
                      </a:lnTo>
                      <a:lnTo>
                        <a:pt x="0" y="7"/>
                      </a:lnTo>
                      <a:lnTo>
                        <a:pt x="4" y="0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7521480" y="2251440"/>
                  <a:ext cx="76320" cy="619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7" y="0"/>
                      </a:moveTo>
                      <a:lnTo>
                        <a:pt x="38" y="27"/>
                      </a:lnTo>
                      <a:lnTo>
                        <a:pt x="48" y="39"/>
                      </a:lnTo>
                      <a:lnTo>
                        <a:pt x="47" y="47"/>
                      </a:lnTo>
                      <a:lnTo>
                        <a:pt x="37" y="48"/>
                      </a:lnTo>
                      <a:lnTo>
                        <a:pt x="25" y="37"/>
                      </a:lnTo>
                      <a:lnTo>
                        <a:pt x="3" y="10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7475400" y="2272320"/>
                  <a:ext cx="25560" cy="75960"/>
                </a:xfrm>
                <a:custGeom>
                  <a:avLst/>
                  <a:gdLst/>
                  <a:ahLst/>
                  <a:rect l="l" t="t" r="r" b="b"/>
                  <a:pathLst>
                    <a:path w="16" h="59">
                      <a:moveTo>
                        <a:pt x="1" y="4"/>
                      </a:moveTo>
                      <a:lnTo>
                        <a:pt x="5" y="0"/>
                      </a:lnTo>
                      <a:lnTo>
                        <a:pt x="9" y="3"/>
                      </a:lnTo>
                      <a:lnTo>
                        <a:pt x="16" y="52"/>
                      </a:lnTo>
                      <a:lnTo>
                        <a:pt x="14" y="58"/>
                      </a:lnTo>
                      <a:lnTo>
                        <a:pt x="6" y="59"/>
                      </a:lnTo>
                      <a:lnTo>
                        <a:pt x="0" y="55"/>
                      </a:lnTo>
                      <a:lnTo>
                        <a:pt x="0" y="43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7" name=""/>
              <p:cNvSpPr/>
              <p:nvPr/>
            </p:nvSpPr>
            <p:spPr>
              <a:xfrm>
                <a:off x="7615080" y="1720800"/>
                <a:ext cx="235080" cy="203760"/>
              </a:xfrm>
              <a:custGeom>
                <a:avLst/>
                <a:gdLst/>
                <a:ahLst/>
                <a:rect l="l" t="t" r="r" b="b"/>
                <a:pathLst>
                  <a:path w="148" h="156">
                    <a:moveTo>
                      <a:pt x="25" y="116"/>
                    </a:moveTo>
                    <a:lnTo>
                      <a:pt x="15" y="113"/>
                    </a:lnTo>
                    <a:lnTo>
                      <a:pt x="4" y="117"/>
                    </a:lnTo>
                    <a:lnTo>
                      <a:pt x="0" y="127"/>
                    </a:lnTo>
                    <a:lnTo>
                      <a:pt x="2" y="138"/>
                    </a:lnTo>
                    <a:lnTo>
                      <a:pt x="17" y="147"/>
                    </a:lnTo>
                    <a:lnTo>
                      <a:pt x="34" y="152"/>
                    </a:lnTo>
                    <a:lnTo>
                      <a:pt x="55" y="156"/>
                    </a:lnTo>
                    <a:lnTo>
                      <a:pt x="81" y="154"/>
                    </a:lnTo>
                    <a:lnTo>
                      <a:pt x="100" y="153"/>
                    </a:lnTo>
                    <a:lnTo>
                      <a:pt x="116" y="150"/>
                    </a:lnTo>
                    <a:lnTo>
                      <a:pt x="135" y="145"/>
                    </a:lnTo>
                    <a:lnTo>
                      <a:pt x="144" y="138"/>
                    </a:lnTo>
                    <a:lnTo>
                      <a:pt x="148" y="132"/>
                    </a:lnTo>
                    <a:lnTo>
                      <a:pt x="148" y="126"/>
                    </a:lnTo>
                    <a:lnTo>
                      <a:pt x="144" y="116"/>
                    </a:lnTo>
                    <a:lnTo>
                      <a:pt x="134" y="101"/>
                    </a:lnTo>
                    <a:lnTo>
                      <a:pt x="119" y="76"/>
                    </a:lnTo>
                    <a:lnTo>
                      <a:pt x="111" y="57"/>
                    </a:lnTo>
                    <a:lnTo>
                      <a:pt x="109" y="50"/>
                    </a:lnTo>
                    <a:lnTo>
                      <a:pt x="112" y="43"/>
                    </a:lnTo>
                    <a:lnTo>
                      <a:pt x="117" y="31"/>
                    </a:lnTo>
                    <a:lnTo>
                      <a:pt x="115" y="15"/>
                    </a:lnTo>
                    <a:lnTo>
                      <a:pt x="111" y="5"/>
                    </a:lnTo>
                    <a:lnTo>
                      <a:pt x="106" y="0"/>
                    </a:lnTo>
                    <a:lnTo>
                      <a:pt x="96" y="3"/>
                    </a:lnTo>
                    <a:lnTo>
                      <a:pt x="95" y="13"/>
                    </a:lnTo>
                    <a:lnTo>
                      <a:pt x="88" y="20"/>
                    </a:lnTo>
                    <a:lnTo>
                      <a:pt x="92" y="29"/>
                    </a:lnTo>
                    <a:lnTo>
                      <a:pt x="92" y="38"/>
                    </a:lnTo>
                    <a:lnTo>
                      <a:pt x="95" y="45"/>
                    </a:lnTo>
                    <a:lnTo>
                      <a:pt x="101" y="63"/>
                    </a:lnTo>
                    <a:lnTo>
                      <a:pt x="112" y="88"/>
                    </a:lnTo>
                    <a:lnTo>
                      <a:pt x="123" y="114"/>
                    </a:lnTo>
                    <a:lnTo>
                      <a:pt x="125" y="123"/>
                    </a:lnTo>
                    <a:lnTo>
                      <a:pt x="120" y="127"/>
                    </a:lnTo>
                    <a:lnTo>
                      <a:pt x="104" y="131"/>
                    </a:lnTo>
                    <a:lnTo>
                      <a:pt x="67" y="130"/>
                    </a:lnTo>
                    <a:lnTo>
                      <a:pt x="41" y="123"/>
                    </a:lnTo>
                    <a:lnTo>
                      <a:pt x="38" y="124"/>
                    </a:lnTo>
                    <a:lnTo>
                      <a:pt x="25" y="116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8" name=""/>
              <p:cNvGrpSpPr/>
              <p:nvPr/>
            </p:nvGrpSpPr>
            <p:grpSpPr>
              <a:xfrm>
                <a:off x="7621560" y="1667160"/>
                <a:ext cx="320760" cy="142560"/>
                <a:chOff x="7621560" y="1667160"/>
                <a:chExt cx="320760" cy="1425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7655040" y="1684800"/>
                  <a:ext cx="268200" cy="106200"/>
                </a:xfrm>
                <a:custGeom>
                  <a:avLst/>
                  <a:gdLst/>
                  <a:ahLst/>
                  <a:rect l="l" t="t" r="r" b="b"/>
                  <a:pathLst>
                    <a:path w="169" h="82">
                      <a:moveTo>
                        <a:pt x="0" y="76"/>
                      </a:moveTo>
                      <a:lnTo>
                        <a:pt x="31" y="64"/>
                      </a:lnTo>
                      <a:lnTo>
                        <a:pt x="65" y="52"/>
                      </a:lnTo>
                      <a:lnTo>
                        <a:pt x="87" y="40"/>
                      </a:lnTo>
                      <a:lnTo>
                        <a:pt x="112" y="22"/>
                      </a:lnTo>
                      <a:lnTo>
                        <a:pt x="139" y="0"/>
                      </a:lnTo>
                      <a:lnTo>
                        <a:pt x="131" y="28"/>
                      </a:lnTo>
                      <a:lnTo>
                        <a:pt x="134" y="44"/>
                      </a:lnTo>
                      <a:lnTo>
                        <a:pt x="139" y="61"/>
                      </a:lnTo>
                      <a:lnTo>
                        <a:pt x="151" y="69"/>
                      </a:lnTo>
                      <a:lnTo>
                        <a:pt x="157" y="74"/>
                      </a:lnTo>
                      <a:lnTo>
                        <a:pt x="169" y="75"/>
                      </a:lnTo>
                      <a:lnTo>
                        <a:pt x="161" y="79"/>
                      </a:lnTo>
                      <a:lnTo>
                        <a:pt x="146" y="77"/>
                      </a:lnTo>
                      <a:lnTo>
                        <a:pt x="121" y="68"/>
                      </a:lnTo>
                      <a:lnTo>
                        <a:pt x="95" y="66"/>
                      </a:lnTo>
                      <a:lnTo>
                        <a:pt x="67" y="68"/>
                      </a:lnTo>
                      <a:lnTo>
                        <a:pt x="33" y="73"/>
                      </a:lnTo>
                      <a:lnTo>
                        <a:pt x="3" y="82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7862760" y="1678320"/>
                  <a:ext cx="73080" cy="109080"/>
                </a:xfrm>
                <a:custGeom>
                  <a:avLst/>
                  <a:gdLst/>
                  <a:ahLst/>
                  <a:rect l="l" t="t" r="r" b="b"/>
                  <a:pathLst>
                    <a:path w="46" h="84">
                      <a:moveTo>
                        <a:pt x="5" y="12"/>
                      </a:moveTo>
                      <a:lnTo>
                        <a:pt x="8" y="0"/>
                      </a:lnTo>
                      <a:lnTo>
                        <a:pt x="19" y="0"/>
                      </a:lnTo>
                      <a:lnTo>
                        <a:pt x="30" y="8"/>
                      </a:lnTo>
                      <a:lnTo>
                        <a:pt x="41" y="21"/>
                      </a:lnTo>
                      <a:lnTo>
                        <a:pt x="46" y="48"/>
                      </a:lnTo>
                      <a:lnTo>
                        <a:pt x="44" y="72"/>
                      </a:lnTo>
                      <a:lnTo>
                        <a:pt x="39" y="83"/>
                      </a:lnTo>
                      <a:lnTo>
                        <a:pt x="27" y="84"/>
                      </a:lnTo>
                      <a:lnTo>
                        <a:pt x="18" y="82"/>
                      </a:lnTo>
                      <a:lnTo>
                        <a:pt x="5" y="63"/>
                      </a:lnTo>
                      <a:lnTo>
                        <a:pt x="0" y="42"/>
                      </a:lnTo>
                      <a:lnTo>
                        <a:pt x="2" y="20"/>
                      </a:lnTo>
                      <a:lnTo>
                        <a:pt x="5" y="12"/>
                      </a:lnTo>
                      <a:close/>
                    </a:path>
                  </a:pathLst>
                </a:custGeom>
                <a:blipFill rotWithShape="0">
                  <a:blip r:embed="rId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1" name=""/>
                <p:cNvGrpSpPr/>
                <p:nvPr/>
              </p:nvGrpSpPr>
              <p:grpSpPr>
                <a:xfrm>
                  <a:off x="7621560" y="1667160"/>
                  <a:ext cx="320760" cy="142560"/>
                  <a:chOff x="7621560" y="1667160"/>
                  <a:chExt cx="320760" cy="142560"/>
                </a:xfrm>
              </p:grpSpPr>
              <p:sp>
                <p:nvSpPr>
                  <p:cNvPr id="552" name=""/>
                  <p:cNvSpPr/>
                  <p:nvPr/>
                </p:nvSpPr>
                <p:spPr>
                  <a:xfrm>
                    <a:off x="7621560" y="1667160"/>
                    <a:ext cx="32076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110">
                        <a:moveTo>
                          <a:pt x="11" y="86"/>
                        </a:moveTo>
                        <a:lnTo>
                          <a:pt x="5" y="85"/>
                        </a:lnTo>
                        <a:lnTo>
                          <a:pt x="0" y="90"/>
                        </a:lnTo>
                        <a:lnTo>
                          <a:pt x="3" y="102"/>
                        </a:lnTo>
                        <a:lnTo>
                          <a:pt x="9" y="109"/>
                        </a:lnTo>
                        <a:lnTo>
                          <a:pt x="15" y="110"/>
                        </a:lnTo>
                        <a:lnTo>
                          <a:pt x="19" y="108"/>
                        </a:lnTo>
                        <a:lnTo>
                          <a:pt x="18" y="102"/>
                        </a:lnTo>
                        <a:lnTo>
                          <a:pt x="35" y="95"/>
                        </a:lnTo>
                        <a:lnTo>
                          <a:pt x="63" y="89"/>
                        </a:lnTo>
                        <a:lnTo>
                          <a:pt x="92" y="86"/>
                        </a:lnTo>
                        <a:lnTo>
                          <a:pt x="130" y="84"/>
                        </a:lnTo>
                        <a:lnTo>
                          <a:pt x="159" y="91"/>
                        </a:lnTo>
                        <a:lnTo>
                          <a:pt x="179" y="99"/>
                        </a:lnTo>
                        <a:lnTo>
                          <a:pt x="189" y="99"/>
                        </a:lnTo>
                        <a:lnTo>
                          <a:pt x="199" y="92"/>
                        </a:lnTo>
                        <a:lnTo>
                          <a:pt x="202" y="76"/>
                        </a:lnTo>
                        <a:lnTo>
                          <a:pt x="202" y="55"/>
                        </a:lnTo>
                        <a:lnTo>
                          <a:pt x="198" y="31"/>
                        </a:lnTo>
                        <a:lnTo>
                          <a:pt x="189" y="16"/>
                        </a:lnTo>
                        <a:lnTo>
                          <a:pt x="175" y="2"/>
                        </a:lnTo>
                        <a:lnTo>
                          <a:pt x="168" y="0"/>
                        </a:lnTo>
                        <a:lnTo>
                          <a:pt x="158" y="3"/>
                        </a:lnTo>
                        <a:lnTo>
                          <a:pt x="153" y="12"/>
                        </a:lnTo>
                        <a:lnTo>
                          <a:pt x="141" y="26"/>
                        </a:lnTo>
                        <a:lnTo>
                          <a:pt x="116" y="46"/>
                        </a:lnTo>
                        <a:lnTo>
                          <a:pt x="100" y="59"/>
                        </a:lnTo>
                        <a:lnTo>
                          <a:pt x="127" y="44"/>
                        </a:lnTo>
                        <a:lnTo>
                          <a:pt x="146" y="32"/>
                        </a:lnTo>
                        <a:lnTo>
                          <a:pt x="157" y="23"/>
                        </a:lnTo>
                        <a:lnTo>
                          <a:pt x="164" y="15"/>
                        </a:lnTo>
                        <a:lnTo>
                          <a:pt x="169" y="14"/>
                        </a:lnTo>
                        <a:lnTo>
                          <a:pt x="178" y="18"/>
                        </a:lnTo>
                        <a:lnTo>
                          <a:pt x="188" y="32"/>
                        </a:lnTo>
                        <a:lnTo>
                          <a:pt x="191" y="47"/>
                        </a:lnTo>
                        <a:lnTo>
                          <a:pt x="194" y="69"/>
                        </a:lnTo>
                        <a:lnTo>
                          <a:pt x="191" y="85"/>
                        </a:lnTo>
                        <a:lnTo>
                          <a:pt x="185" y="89"/>
                        </a:lnTo>
                        <a:lnTo>
                          <a:pt x="175" y="89"/>
                        </a:lnTo>
                        <a:lnTo>
                          <a:pt x="147" y="80"/>
                        </a:lnTo>
                        <a:lnTo>
                          <a:pt x="121" y="76"/>
                        </a:lnTo>
                        <a:lnTo>
                          <a:pt x="87" y="77"/>
                        </a:lnTo>
                        <a:lnTo>
                          <a:pt x="51" y="84"/>
                        </a:lnTo>
                        <a:lnTo>
                          <a:pt x="16" y="92"/>
                        </a:lnTo>
                        <a:lnTo>
                          <a:pt x="11" y="86"/>
                        </a:lnTo>
                        <a:close/>
                      </a:path>
                    </a:pathLst>
                  </a:custGeom>
                  <a:solidFill>
                    <a:srgbClr val="99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7639200" y="1675800"/>
                    <a:ext cx="258480" cy="11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90">
                        <a:moveTo>
                          <a:pt x="1" y="83"/>
                        </a:moveTo>
                        <a:lnTo>
                          <a:pt x="20" y="74"/>
                        </a:lnTo>
                        <a:lnTo>
                          <a:pt x="52" y="65"/>
                        </a:lnTo>
                        <a:lnTo>
                          <a:pt x="79" y="54"/>
                        </a:lnTo>
                        <a:lnTo>
                          <a:pt x="104" y="40"/>
                        </a:lnTo>
                        <a:lnTo>
                          <a:pt x="118" y="30"/>
                        </a:lnTo>
                        <a:lnTo>
                          <a:pt x="139" y="14"/>
                        </a:lnTo>
                        <a:lnTo>
                          <a:pt x="154" y="0"/>
                        </a:lnTo>
                        <a:lnTo>
                          <a:pt x="153" y="11"/>
                        </a:lnTo>
                        <a:lnTo>
                          <a:pt x="148" y="26"/>
                        </a:lnTo>
                        <a:lnTo>
                          <a:pt x="146" y="42"/>
                        </a:lnTo>
                        <a:lnTo>
                          <a:pt x="148" y="57"/>
                        </a:lnTo>
                        <a:lnTo>
                          <a:pt x="153" y="68"/>
                        </a:lnTo>
                        <a:lnTo>
                          <a:pt x="163" y="77"/>
                        </a:lnTo>
                        <a:lnTo>
                          <a:pt x="148" y="68"/>
                        </a:lnTo>
                        <a:lnTo>
                          <a:pt x="142" y="51"/>
                        </a:lnTo>
                        <a:lnTo>
                          <a:pt x="139" y="36"/>
                        </a:lnTo>
                        <a:lnTo>
                          <a:pt x="142" y="18"/>
                        </a:lnTo>
                        <a:lnTo>
                          <a:pt x="123" y="34"/>
                        </a:lnTo>
                        <a:lnTo>
                          <a:pt x="103" y="48"/>
                        </a:lnTo>
                        <a:lnTo>
                          <a:pt x="84" y="58"/>
                        </a:lnTo>
                        <a:lnTo>
                          <a:pt x="62" y="66"/>
                        </a:lnTo>
                        <a:lnTo>
                          <a:pt x="38" y="75"/>
                        </a:lnTo>
                        <a:lnTo>
                          <a:pt x="9" y="87"/>
                        </a:lnTo>
                        <a:lnTo>
                          <a:pt x="0" y="90"/>
                        </a:lnTo>
                        <a:lnTo>
                          <a:pt x="1" y="83"/>
                        </a:lnTo>
                        <a:close/>
                      </a:path>
                    </a:pathLst>
                  </a:custGeom>
                  <a:solidFill>
                    <a:srgbClr val="99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4" name=""/>
              <p:cNvGrpSpPr/>
              <p:nvPr/>
            </p:nvGrpSpPr>
            <p:grpSpPr>
              <a:xfrm>
                <a:off x="7473960" y="1707480"/>
                <a:ext cx="465120" cy="694440"/>
                <a:chOff x="7473960" y="1707480"/>
                <a:chExt cx="465120" cy="69444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7473960" y="1707480"/>
                  <a:ext cx="183960" cy="153720"/>
                </a:xfrm>
                <a:custGeom>
                  <a:avLst/>
                  <a:gdLst/>
                  <a:ahLst/>
                  <a:rect l="l" t="t" r="r" b="b"/>
                  <a:pathLst>
                    <a:path w="116" h="118">
                      <a:moveTo>
                        <a:pt x="79" y="29"/>
                      </a:moveTo>
                      <a:lnTo>
                        <a:pt x="66" y="13"/>
                      </a:lnTo>
                      <a:lnTo>
                        <a:pt x="56" y="6"/>
                      </a:lnTo>
                      <a:lnTo>
                        <a:pt x="42" y="2"/>
                      </a:lnTo>
                      <a:lnTo>
                        <a:pt x="27" y="3"/>
                      </a:lnTo>
                      <a:lnTo>
                        <a:pt x="15" y="7"/>
                      </a:lnTo>
                      <a:lnTo>
                        <a:pt x="8" y="15"/>
                      </a:lnTo>
                      <a:lnTo>
                        <a:pt x="3" y="26"/>
                      </a:lnTo>
                      <a:lnTo>
                        <a:pt x="0" y="43"/>
                      </a:lnTo>
                      <a:lnTo>
                        <a:pt x="1" y="58"/>
                      </a:lnTo>
                      <a:lnTo>
                        <a:pt x="4" y="73"/>
                      </a:lnTo>
                      <a:lnTo>
                        <a:pt x="13" y="90"/>
                      </a:lnTo>
                      <a:lnTo>
                        <a:pt x="27" y="104"/>
                      </a:lnTo>
                      <a:lnTo>
                        <a:pt x="40" y="112"/>
                      </a:lnTo>
                      <a:lnTo>
                        <a:pt x="58" y="118"/>
                      </a:lnTo>
                      <a:lnTo>
                        <a:pt x="69" y="118"/>
                      </a:lnTo>
                      <a:lnTo>
                        <a:pt x="82" y="115"/>
                      </a:lnTo>
                      <a:lnTo>
                        <a:pt x="91" y="108"/>
                      </a:lnTo>
                      <a:lnTo>
                        <a:pt x="98" y="94"/>
                      </a:lnTo>
                      <a:lnTo>
                        <a:pt x="99" y="83"/>
                      </a:lnTo>
                      <a:lnTo>
                        <a:pt x="97" y="72"/>
                      </a:lnTo>
                      <a:lnTo>
                        <a:pt x="93" y="58"/>
                      </a:lnTo>
                      <a:lnTo>
                        <a:pt x="88" y="44"/>
                      </a:lnTo>
                      <a:lnTo>
                        <a:pt x="94" y="36"/>
                      </a:lnTo>
                      <a:lnTo>
                        <a:pt x="111" y="23"/>
                      </a:lnTo>
                      <a:lnTo>
                        <a:pt x="116" y="15"/>
                      </a:lnTo>
                      <a:lnTo>
                        <a:pt x="114" y="6"/>
                      </a:lnTo>
                      <a:lnTo>
                        <a:pt x="107" y="0"/>
                      </a:lnTo>
                      <a:lnTo>
                        <a:pt x="99" y="4"/>
                      </a:lnTo>
                      <a:lnTo>
                        <a:pt x="90" y="14"/>
                      </a:lnTo>
                      <a:lnTo>
                        <a:pt x="79" y="29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7564320" y="1865160"/>
                  <a:ext cx="187560" cy="252360"/>
                </a:xfrm>
                <a:custGeom>
                  <a:avLst/>
                  <a:gdLst/>
                  <a:ahLst/>
                  <a:rect l="l" t="t" r="r" b="b"/>
                  <a:pathLst>
                    <a:path w="118" h="194">
                      <a:moveTo>
                        <a:pt x="14" y="8"/>
                      </a:moveTo>
                      <a:lnTo>
                        <a:pt x="25" y="3"/>
                      </a:lnTo>
                      <a:lnTo>
                        <a:pt x="41" y="0"/>
                      </a:lnTo>
                      <a:lnTo>
                        <a:pt x="58" y="4"/>
                      </a:lnTo>
                      <a:lnTo>
                        <a:pt x="72" y="12"/>
                      </a:lnTo>
                      <a:lnTo>
                        <a:pt x="86" y="27"/>
                      </a:lnTo>
                      <a:lnTo>
                        <a:pt x="100" y="50"/>
                      </a:lnTo>
                      <a:lnTo>
                        <a:pt x="109" y="75"/>
                      </a:lnTo>
                      <a:lnTo>
                        <a:pt x="115" y="105"/>
                      </a:lnTo>
                      <a:lnTo>
                        <a:pt x="118" y="130"/>
                      </a:lnTo>
                      <a:lnTo>
                        <a:pt x="117" y="150"/>
                      </a:lnTo>
                      <a:lnTo>
                        <a:pt x="110" y="165"/>
                      </a:lnTo>
                      <a:lnTo>
                        <a:pt x="98" y="179"/>
                      </a:lnTo>
                      <a:lnTo>
                        <a:pt x="84" y="189"/>
                      </a:lnTo>
                      <a:lnTo>
                        <a:pt x="64" y="194"/>
                      </a:lnTo>
                      <a:lnTo>
                        <a:pt x="48" y="188"/>
                      </a:lnTo>
                      <a:lnTo>
                        <a:pt x="34" y="179"/>
                      </a:lnTo>
                      <a:lnTo>
                        <a:pt x="23" y="163"/>
                      </a:lnTo>
                      <a:lnTo>
                        <a:pt x="21" y="146"/>
                      </a:lnTo>
                      <a:lnTo>
                        <a:pt x="25" y="132"/>
                      </a:lnTo>
                      <a:lnTo>
                        <a:pt x="34" y="116"/>
                      </a:lnTo>
                      <a:lnTo>
                        <a:pt x="36" y="104"/>
                      </a:lnTo>
                      <a:lnTo>
                        <a:pt x="33" y="91"/>
                      </a:lnTo>
                      <a:lnTo>
                        <a:pt x="25" y="76"/>
                      </a:lnTo>
                      <a:lnTo>
                        <a:pt x="15" y="64"/>
                      </a:lnTo>
                      <a:lnTo>
                        <a:pt x="4" y="49"/>
                      </a:lnTo>
                      <a:lnTo>
                        <a:pt x="0" y="33"/>
                      </a:lnTo>
                      <a:lnTo>
                        <a:pt x="5" y="17"/>
                      </a:lnTo>
                      <a:lnTo>
                        <a:pt x="10" y="10"/>
                      </a:lnTo>
                      <a:lnTo>
                        <a:pt x="14" y="8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7607160" y="1721880"/>
                  <a:ext cx="190800" cy="192600"/>
                </a:xfrm>
                <a:custGeom>
                  <a:avLst/>
                  <a:gdLst/>
                  <a:ahLst/>
                  <a:rect l="l" t="t" r="r" b="b"/>
                  <a:pathLst>
                    <a:path w="120" h="148">
                      <a:moveTo>
                        <a:pt x="20" y="115"/>
                      </a:moveTo>
                      <a:lnTo>
                        <a:pt x="7" y="114"/>
                      </a:lnTo>
                      <a:lnTo>
                        <a:pt x="0" y="122"/>
                      </a:lnTo>
                      <a:lnTo>
                        <a:pt x="1" y="134"/>
                      </a:lnTo>
                      <a:lnTo>
                        <a:pt x="14" y="142"/>
                      </a:lnTo>
                      <a:lnTo>
                        <a:pt x="31" y="148"/>
                      </a:lnTo>
                      <a:lnTo>
                        <a:pt x="53" y="148"/>
                      </a:lnTo>
                      <a:lnTo>
                        <a:pt x="80" y="145"/>
                      </a:lnTo>
                      <a:lnTo>
                        <a:pt x="107" y="138"/>
                      </a:lnTo>
                      <a:lnTo>
                        <a:pt x="118" y="130"/>
                      </a:lnTo>
                      <a:lnTo>
                        <a:pt x="120" y="120"/>
                      </a:lnTo>
                      <a:lnTo>
                        <a:pt x="111" y="105"/>
                      </a:lnTo>
                      <a:lnTo>
                        <a:pt x="99" y="85"/>
                      </a:lnTo>
                      <a:lnTo>
                        <a:pt x="87" y="63"/>
                      </a:lnTo>
                      <a:lnTo>
                        <a:pt x="86" y="49"/>
                      </a:lnTo>
                      <a:lnTo>
                        <a:pt x="89" y="40"/>
                      </a:lnTo>
                      <a:lnTo>
                        <a:pt x="88" y="29"/>
                      </a:lnTo>
                      <a:lnTo>
                        <a:pt x="89" y="18"/>
                      </a:lnTo>
                      <a:lnTo>
                        <a:pt x="77" y="13"/>
                      </a:lnTo>
                      <a:lnTo>
                        <a:pt x="70" y="11"/>
                      </a:lnTo>
                      <a:lnTo>
                        <a:pt x="68" y="3"/>
                      </a:lnTo>
                      <a:lnTo>
                        <a:pt x="64" y="0"/>
                      </a:lnTo>
                      <a:lnTo>
                        <a:pt x="60" y="2"/>
                      </a:lnTo>
                      <a:lnTo>
                        <a:pt x="56" y="5"/>
                      </a:lnTo>
                      <a:lnTo>
                        <a:pt x="57" y="18"/>
                      </a:lnTo>
                      <a:lnTo>
                        <a:pt x="66" y="28"/>
                      </a:lnTo>
                      <a:lnTo>
                        <a:pt x="65" y="40"/>
                      </a:lnTo>
                      <a:lnTo>
                        <a:pt x="52" y="45"/>
                      </a:lnTo>
                      <a:lnTo>
                        <a:pt x="41" y="48"/>
                      </a:lnTo>
                      <a:lnTo>
                        <a:pt x="40" y="55"/>
                      </a:lnTo>
                      <a:lnTo>
                        <a:pt x="51" y="59"/>
                      </a:lnTo>
                      <a:lnTo>
                        <a:pt x="63" y="59"/>
                      </a:lnTo>
                      <a:lnTo>
                        <a:pt x="73" y="62"/>
                      </a:lnTo>
                      <a:lnTo>
                        <a:pt x="80" y="80"/>
                      </a:lnTo>
                      <a:lnTo>
                        <a:pt x="87" y="98"/>
                      </a:lnTo>
                      <a:lnTo>
                        <a:pt x="92" y="120"/>
                      </a:lnTo>
                      <a:lnTo>
                        <a:pt x="62" y="121"/>
                      </a:lnTo>
                      <a:lnTo>
                        <a:pt x="40" y="117"/>
                      </a:lnTo>
                      <a:lnTo>
                        <a:pt x="20" y="115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7642080" y="2038320"/>
                  <a:ext cx="297000" cy="171720"/>
                </a:xfrm>
                <a:custGeom>
                  <a:avLst/>
                  <a:gdLst/>
                  <a:ahLst/>
                  <a:rect l="l" t="t" r="r" b="b"/>
                  <a:pathLst>
                    <a:path w="187" h="132">
                      <a:moveTo>
                        <a:pt x="38" y="6"/>
                      </a:moveTo>
                      <a:lnTo>
                        <a:pt x="14" y="8"/>
                      </a:lnTo>
                      <a:lnTo>
                        <a:pt x="11" y="9"/>
                      </a:lnTo>
                      <a:lnTo>
                        <a:pt x="2" y="15"/>
                      </a:lnTo>
                      <a:lnTo>
                        <a:pt x="1" y="18"/>
                      </a:lnTo>
                      <a:lnTo>
                        <a:pt x="1" y="29"/>
                      </a:lnTo>
                      <a:lnTo>
                        <a:pt x="0" y="32"/>
                      </a:lnTo>
                      <a:lnTo>
                        <a:pt x="12" y="45"/>
                      </a:lnTo>
                      <a:lnTo>
                        <a:pt x="24" y="53"/>
                      </a:lnTo>
                      <a:lnTo>
                        <a:pt x="35" y="51"/>
                      </a:lnTo>
                      <a:lnTo>
                        <a:pt x="62" y="46"/>
                      </a:lnTo>
                      <a:lnTo>
                        <a:pt x="94" y="32"/>
                      </a:lnTo>
                      <a:lnTo>
                        <a:pt x="114" y="24"/>
                      </a:lnTo>
                      <a:lnTo>
                        <a:pt x="119" y="24"/>
                      </a:lnTo>
                      <a:lnTo>
                        <a:pt x="121" y="31"/>
                      </a:lnTo>
                      <a:lnTo>
                        <a:pt x="110" y="48"/>
                      </a:lnTo>
                      <a:lnTo>
                        <a:pt x="98" y="73"/>
                      </a:lnTo>
                      <a:lnTo>
                        <a:pt x="96" y="102"/>
                      </a:lnTo>
                      <a:lnTo>
                        <a:pt x="99" y="124"/>
                      </a:lnTo>
                      <a:lnTo>
                        <a:pt x="107" y="131"/>
                      </a:lnTo>
                      <a:lnTo>
                        <a:pt x="119" y="132"/>
                      </a:lnTo>
                      <a:lnTo>
                        <a:pt x="132" y="123"/>
                      </a:lnTo>
                      <a:lnTo>
                        <a:pt x="150" y="111"/>
                      </a:lnTo>
                      <a:lnTo>
                        <a:pt x="176" y="101"/>
                      </a:lnTo>
                      <a:lnTo>
                        <a:pt x="187" y="96"/>
                      </a:lnTo>
                      <a:lnTo>
                        <a:pt x="184" y="86"/>
                      </a:lnTo>
                      <a:lnTo>
                        <a:pt x="167" y="76"/>
                      </a:lnTo>
                      <a:lnTo>
                        <a:pt x="148" y="85"/>
                      </a:lnTo>
                      <a:lnTo>
                        <a:pt x="130" y="101"/>
                      </a:lnTo>
                      <a:lnTo>
                        <a:pt x="117" y="110"/>
                      </a:lnTo>
                      <a:lnTo>
                        <a:pt x="112" y="102"/>
                      </a:lnTo>
                      <a:lnTo>
                        <a:pt x="112" y="91"/>
                      </a:lnTo>
                      <a:lnTo>
                        <a:pt x="116" y="75"/>
                      </a:lnTo>
                      <a:lnTo>
                        <a:pt x="125" y="55"/>
                      </a:lnTo>
                      <a:lnTo>
                        <a:pt x="140" y="37"/>
                      </a:lnTo>
                      <a:lnTo>
                        <a:pt x="142" y="27"/>
                      </a:lnTo>
                      <a:lnTo>
                        <a:pt x="139" y="16"/>
                      </a:lnTo>
                      <a:lnTo>
                        <a:pt x="134" y="6"/>
                      </a:lnTo>
                      <a:lnTo>
                        <a:pt x="125" y="0"/>
                      </a:lnTo>
                      <a:lnTo>
                        <a:pt x="115" y="0"/>
                      </a:lnTo>
                      <a:lnTo>
                        <a:pt x="94" y="4"/>
                      </a:lnTo>
                      <a:lnTo>
                        <a:pt x="72" y="7"/>
                      </a:lnTo>
                      <a:lnTo>
                        <a:pt x="55" y="8"/>
                      </a:lnTo>
                      <a:lnTo>
                        <a:pt x="38" y="6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7621560" y="2072160"/>
                  <a:ext cx="166680" cy="329760"/>
                </a:xfrm>
                <a:custGeom>
                  <a:avLst/>
                  <a:gdLst/>
                  <a:ahLst/>
                  <a:rect l="l" t="t" r="r" b="b"/>
                  <a:pathLst>
                    <a:path w="105" h="253">
                      <a:moveTo>
                        <a:pt x="13" y="0"/>
                      </a:moveTo>
                      <a:lnTo>
                        <a:pt x="30" y="4"/>
                      </a:lnTo>
                      <a:lnTo>
                        <a:pt x="41" y="14"/>
                      </a:lnTo>
                      <a:lnTo>
                        <a:pt x="55" y="39"/>
                      </a:lnTo>
                      <a:lnTo>
                        <a:pt x="69" y="70"/>
                      </a:lnTo>
                      <a:lnTo>
                        <a:pt x="75" y="91"/>
                      </a:lnTo>
                      <a:lnTo>
                        <a:pt x="77" y="106"/>
                      </a:lnTo>
                      <a:lnTo>
                        <a:pt x="75" y="124"/>
                      </a:lnTo>
                      <a:lnTo>
                        <a:pt x="71" y="141"/>
                      </a:lnTo>
                      <a:lnTo>
                        <a:pt x="65" y="156"/>
                      </a:lnTo>
                      <a:lnTo>
                        <a:pt x="54" y="176"/>
                      </a:lnTo>
                      <a:lnTo>
                        <a:pt x="41" y="195"/>
                      </a:lnTo>
                      <a:lnTo>
                        <a:pt x="36" y="206"/>
                      </a:lnTo>
                      <a:lnTo>
                        <a:pt x="39" y="216"/>
                      </a:lnTo>
                      <a:lnTo>
                        <a:pt x="50" y="221"/>
                      </a:lnTo>
                      <a:lnTo>
                        <a:pt x="68" y="228"/>
                      </a:lnTo>
                      <a:lnTo>
                        <a:pt x="88" y="230"/>
                      </a:lnTo>
                      <a:lnTo>
                        <a:pt x="100" y="232"/>
                      </a:lnTo>
                      <a:lnTo>
                        <a:pt x="105" y="237"/>
                      </a:lnTo>
                      <a:lnTo>
                        <a:pt x="104" y="244"/>
                      </a:lnTo>
                      <a:lnTo>
                        <a:pt x="93" y="249"/>
                      </a:lnTo>
                      <a:lnTo>
                        <a:pt x="79" y="253"/>
                      </a:lnTo>
                      <a:lnTo>
                        <a:pt x="67" y="253"/>
                      </a:lnTo>
                      <a:lnTo>
                        <a:pt x="56" y="246"/>
                      </a:lnTo>
                      <a:lnTo>
                        <a:pt x="41" y="237"/>
                      </a:lnTo>
                      <a:lnTo>
                        <a:pt x="28" y="232"/>
                      </a:lnTo>
                      <a:lnTo>
                        <a:pt x="18" y="233"/>
                      </a:lnTo>
                      <a:lnTo>
                        <a:pt x="11" y="226"/>
                      </a:lnTo>
                      <a:lnTo>
                        <a:pt x="6" y="214"/>
                      </a:lnTo>
                      <a:lnTo>
                        <a:pt x="9" y="202"/>
                      </a:lnTo>
                      <a:lnTo>
                        <a:pt x="17" y="193"/>
                      </a:lnTo>
                      <a:lnTo>
                        <a:pt x="25" y="184"/>
                      </a:lnTo>
                      <a:lnTo>
                        <a:pt x="36" y="168"/>
                      </a:lnTo>
                      <a:lnTo>
                        <a:pt x="45" y="145"/>
                      </a:lnTo>
                      <a:lnTo>
                        <a:pt x="48" y="121"/>
                      </a:lnTo>
                      <a:lnTo>
                        <a:pt x="50" y="101"/>
                      </a:lnTo>
                      <a:lnTo>
                        <a:pt x="48" y="88"/>
                      </a:lnTo>
                      <a:lnTo>
                        <a:pt x="33" y="69"/>
                      </a:lnTo>
                      <a:lnTo>
                        <a:pt x="15" y="46"/>
                      </a:lnTo>
                      <a:lnTo>
                        <a:pt x="6" y="31"/>
                      </a:lnTo>
                      <a:lnTo>
                        <a:pt x="0" y="15"/>
                      </a:lnTo>
                      <a:lnTo>
                        <a:pt x="3" y="1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7927920" y="1591920"/>
                <a:ext cx="114480" cy="210600"/>
                <a:chOff x="7927920" y="1591920"/>
                <a:chExt cx="114480" cy="21060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7927920" y="1591920"/>
                  <a:ext cx="66600" cy="63360"/>
                </a:xfrm>
                <a:custGeom>
                  <a:avLst/>
                  <a:gdLst/>
                  <a:ahLst/>
                  <a:rect l="l" t="t" r="r" b="b"/>
                  <a:pathLst>
                    <a:path w="42" h="42">
                      <a:moveTo>
                        <a:pt x="1" y="33"/>
                      </a:moveTo>
                      <a:lnTo>
                        <a:pt x="15" y="15"/>
                      </a:lnTo>
                      <a:lnTo>
                        <a:pt x="28" y="3"/>
                      </a:lnTo>
                      <a:lnTo>
                        <a:pt x="36" y="0"/>
                      </a:lnTo>
                      <a:lnTo>
                        <a:pt x="42" y="5"/>
                      </a:lnTo>
                      <a:lnTo>
                        <a:pt x="39" y="14"/>
                      </a:lnTo>
                      <a:lnTo>
                        <a:pt x="30" y="22"/>
                      </a:lnTo>
                      <a:lnTo>
                        <a:pt x="3" y="42"/>
                      </a:lnTo>
                      <a:lnTo>
                        <a:pt x="0" y="38"/>
                      </a:lnTo>
                      <a:lnTo>
                        <a:pt x="1" y="33"/>
                      </a:lnTo>
                      <a:close/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947000" y="1676880"/>
                  <a:ext cx="90360" cy="30240"/>
                </a:xfrm>
                <a:custGeom>
                  <a:avLst/>
                  <a:gdLst/>
                  <a:ahLst/>
                  <a:rect l="l" t="t" r="r" b="b"/>
                  <a:pathLst>
                    <a:path w="57" h="20">
                      <a:moveTo>
                        <a:pt x="0" y="12"/>
                      </a:moveTo>
                      <a:lnTo>
                        <a:pt x="24" y="4"/>
                      </a:lnTo>
                      <a:lnTo>
                        <a:pt x="47" y="0"/>
                      </a:lnTo>
                      <a:lnTo>
                        <a:pt x="57" y="5"/>
                      </a:lnTo>
                      <a:lnTo>
                        <a:pt x="54" y="16"/>
                      </a:lnTo>
                      <a:lnTo>
                        <a:pt x="41" y="17"/>
                      </a:lnTo>
                      <a:lnTo>
                        <a:pt x="12" y="20"/>
                      </a:lnTo>
                      <a:lnTo>
                        <a:pt x="3" y="2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blipFill rotWithShape="0">
                  <a:blip r:embed="rId1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7953480" y="1752840"/>
                  <a:ext cx="88920" cy="49680"/>
                </a:xfrm>
                <a:custGeom>
                  <a:avLst/>
                  <a:gdLst/>
                  <a:ahLst/>
                  <a:rect l="l" t="t" r="r" b="b"/>
                  <a:pathLst>
                    <a:path w="56" h="33">
                      <a:moveTo>
                        <a:pt x="3" y="0"/>
                      </a:moveTo>
                      <a:lnTo>
                        <a:pt x="26" y="4"/>
                      </a:lnTo>
                      <a:lnTo>
                        <a:pt x="29" y="5"/>
                      </a:lnTo>
                      <a:lnTo>
                        <a:pt x="42" y="11"/>
                      </a:lnTo>
                      <a:lnTo>
                        <a:pt x="53" y="18"/>
                      </a:lnTo>
                      <a:lnTo>
                        <a:pt x="56" y="25"/>
                      </a:lnTo>
                      <a:lnTo>
                        <a:pt x="53" y="30"/>
                      </a:lnTo>
                      <a:lnTo>
                        <a:pt x="44" y="33"/>
                      </a:lnTo>
                      <a:lnTo>
                        <a:pt x="36" y="29"/>
                      </a:lnTo>
                      <a:lnTo>
                        <a:pt x="33" y="21"/>
                      </a:lnTo>
                      <a:lnTo>
                        <a:pt x="21" y="13"/>
                      </a:lnTo>
                      <a:lnTo>
                        <a:pt x="10" y="10"/>
                      </a:lnTo>
                      <a:lnTo>
                        <a:pt x="0" y="7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blipFill rotWithShape="0">
                  <a:blip r:embed="rId1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4" name=""/>
            <p:cNvSpPr/>
            <p:nvPr/>
          </p:nvSpPr>
          <p:spPr>
            <a:xfrm>
              <a:off x="6248520" y="2362320"/>
              <a:ext cx="29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Project Manag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5" name=""/>
            <p:cNvGrpSpPr/>
            <p:nvPr/>
          </p:nvGrpSpPr>
          <p:grpSpPr>
            <a:xfrm>
              <a:off x="6553080" y="2971800"/>
              <a:ext cx="2590560" cy="2098800"/>
              <a:chOff x="6553080" y="2971800"/>
              <a:chExt cx="2590560" cy="2098800"/>
            </a:xfrm>
          </p:grpSpPr>
          <p:pic>
            <p:nvPicPr>
              <p:cNvPr id="56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53080" y="2971800"/>
                <a:ext cx="2590560" cy="158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7" name=""/>
              <p:cNvSpPr/>
              <p:nvPr/>
            </p:nvSpPr>
            <p:spPr>
              <a:xfrm>
                <a:off x="7086240" y="4550040"/>
                <a:ext cx="121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800" spc="-1" strike="noStrike">
                    <a:solidFill>
                      <a:srgbClr val="ffffff"/>
                    </a:solidFill>
                    <a:latin typeface="Arial Narrow"/>
                  </a:rPr>
                  <a:t>Tester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6934320" y="5181480"/>
              <a:ext cx="1981080" cy="1601640"/>
              <a:chOff x="6934320" y="5181480"/>
              <a:chExt cx="1981080" cy="1601640"/>
            </a:xfrm>
          </p:grpSpPr>
          <p:pic>
            <p:nvPicPr>
              <p:cNvPr id="56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62920" y="5181480"/>
                <a:ext cx="685800" cy="114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0" name=""/>
              <p:cNvSpPr/>
              <p:nvPr/>
            </p:nvSpPr>
            <p:spPr>
              <a:xfrm>
                <a:off x="6934320" y="6262560"/>
                <a:ext cx="198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800" spc="-1" strike="noStrike">
                    <a:solidFill>
                      <a:srgbClr val="ffffff"/>
                    </a:solidFill>
                    <a:latin typeface="Arial Narrow"/>
                  </a:rPr>
                  <a:t>Developer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1" name=""/>
          <p:cNvGrpSpPr/>
          <p:nvPr/>
        </p:nvGrpSpPr>
        <p:grpSpPr>
          <a:xfrm>
            <a:off x="2743200" y="-500760"/>
            <a:ext cx="3429000" cy="3932280"/>
            <a:chOff x="2743200" y="-500760"/>
            <a:chExt cx="3429000" cy="3932280"/>
          </a:xfrm>
        </p:grpSpPr>
        <p:grpSp>
          <p:nvGrpSpPr>
            <p:cNvPr id="572" name=""/>
            <p:cNvGrpSpPr/>
            <p:nvPr/>
          </p:nvGrpSpPr>
          <p:grpSpPr>
            <a:xfrm>
              <a:off x="3419280" y="-500760"/>
              <a:ext cx="2387880" cy="3474360"/>
              <a:chOff x="3419280" y="-500760"/>
              <a:chExt cx="2387880" cy="3474360"/>
            </a:xfrm>
          </p:grpSpPr>
          <p:grpSp>
            <p:nvGrpSpPr>
              <p:cNvPr id="573" name=""/>
              <p:cNvGrpSpPr/>
              <p:nvPr/>
            </p:nvGrpSpPr>
            <p:grpSpPr>
              <a:xfrm>
                <a:off x="3419280" y="1144800"/>
                <a:ext cx="619560" cy="1321200"/>
                <a:chOff x="3419280" y="1144800"/>
                <a:chExt cx="619560" cy="132120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3528720" y="1439280"/>
                  <a:ext cx="203400" cy="549000"/>
                </a:xfrm>
                <a:custGeom>
                  <a:avLst/>
                  <a:gdLst/>
                  <a:ahLst/>
                  <a:rect l="l" t="t" r="r" b="b"/>
                  <a:pathLst>
                    <a:path w="455" h="1105">
                      <a:moveTo>
                        <a:pt x="155" y="107"/>
                      </a:moveTo>
                      <a:lnTo>
                        <a:pt x="238" y="29"/>
                      </a:lnTo>
                      <a:lnTo>
                        <a:pt x="338" y="0"/>
                      </a:lnTo>
                      <a:lnTo>
                        <a:pt x="409" y="4"/>
                      </a:lnTo>
                      <a:lnTo>
                        <a:pt x="421" y="72"/>
                      </a:lnTo>
                      <a:lnTo>
                        <a:pt x="416" y="158"/>
                      </a:lnTo>
                      <a:lnTo>
                        <a:pt x="338" y="261"/>
                      </a:lnTo>
                      <a:lnTo>
                        <a:pt x="290" y="414"/>
                      </a:lnTo>
                      <a:lnTo>
                        <a:pt x="285" y="568"/>
                      </a:lnTo>
                      <a:lnTo>
                        <a:pt x="321" y="711"/>
                      </a:lnTo>
                      <a:lnTo>
                        <a:pt x="369" y="841"/>
                      </a:lnTo>
                      <a:lnTo>
                        <a:pt x="455" y="951"/>
                      </a:lnTo>
                      <a:lnTo>
                        <a:pt x="455" y="987"/>
                      </a:lnTo>
                      <a:lnTo>
                        <a:pt x="443" y="1066"/>
                      </a:lnTo>
                      <a:lnTo>
                        <a:pt x="380" y="1102"/>
                      </a:lnTo>
                      <a:lnTo>
                        <a:pt x="309" y="1105"/>
                      </a:lnTo>
                      <a:lnTo>
                        <a:pt x="190" y="1078"/>
                      </a:lnTo>
                      <a:lnTo>
                        <a:pt x="100" y="987"/>
                      </a:lnTo>
                      <a:lnTo>
                        <a:pt x="51" y="829"/>
                      </a:lnTo>
                      <a:lnTo>
                        <a:pt x="17" y="726"/>
                      </a:lnTo>
                      <a:lnTo>
                        <a:pt x="0" y="592"/>
                      </a:lnTo>
                      <a:lnTo>
                        <a:pt x="12" y="414"/>
                      </a:lnTo>
                      <a:lnTo>
                        <a:pt x="51" y="265"/>
                      </a:lnTo>
                      <a:lnTo>
                        <a:pt x="100" y="166"/>
                      </a:lnTo>
                      <a:lnTo>
                        <a:pt x="155" y="107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3670560" y="1436400"/>
                  <a:ext cx="323640" cy="376920"/>
                </a:xfrm>
                <a:custGeom>
                  <a:avLst/>
                  <a:gdLst/>
                  <a:ahLst/>
                  <a:rect l="l" t="t" r="r" b="b"/>
                  <a:pathLst>
                    <a:path w="722" h="758">
                      <a:moveTo>
                        <a:pt x="0" y="54"/>
                      </a:moveTo>
                      <a:lnTo>
                        <a:pt x="24" y="0"/>
                      </a:lnTo>
                      <a:lnTo>
                        <a:pt x="71" y="0"/>
                      </a:lnTo>
                      <a:lnTo>
                        <a:pt x="129" y="59"/>
                      </a:lnTo>
                      <a:lnTo>
                        <a:pt x="168" y="200"/>
                      </a:lnTo>
                      <a:lnTo>
                        <a:pt x="200" y="366"/>
                      </a:lnTo>
                      <a:lnTo>
                        <a:pt x="224" y="539"/>
                      </a:lnTo>
                      <a:lnTo>
                        <a:pt x="300" y="671"/>
                      </a:lnTo>
                      <a:lnTo>
                        <a:pt x="300" y="674"/>
                      </a:lnTo>
                      <a:lnTo>
                        <a:pt x="300" y="698"/>
                      </a:lnTo>
                      <a:lnTo>
                        <a:pt x="402" y="683"/>
                      </a:lnTo>
                      <a:lnTo>
                        <a:pt x="508" y="615"/>
                      </a:lnTo>
                      <a:lnTo>
                        <a:pt x="556" y="552"/>
                      </a:lnTo>
                      <a:lnTo>
                        <a:pt x="639" y="378"/>
                      </a:lnTo>
                      <a:lnTo>
                        <a:pt x="639" y="315"/>
                      </a:lnTo>
                      <a:lnTo>
                        <a:pt x="607" y="256"/>
                      </a:lnTo>
                      <a:lnTo>
                        <a:pt x="571" y="173"/>
                      </a:lnTo>
                      <a:lnTo>
                        <a:pt x="559" y="142"/>
                      </a:lnTo>
                      <a:lnTo>
                        <a:pt x="603" y="125"/>
                      </a:lnTo>
                      <a:lnTo>
                        <a:pt x="654" y="129"/>
                      </a:lnTo>
                      <a:lnTo>
                        <a:pt x="685" y="161"/>
                      </a:lnTo>
                      <a:lnTo>
                        <a:pt x="722" y="232"/>
                      </a:lnTo>
                      <a:lnTo>
                        <a:pt x="702" y="363"/>
                      </a:lnTo>
                      <a:lnTo>
                        <a:pt x="685" y="434"/>
                      </a:lnTo>
                      <a:lnTo>
                        <a:pt x="607" y="580"/>
                      </a:lnTo>
                      <a:lnTo>
                        <a:pt x="536" y="686"/>
                      </a:lnTo>
                      <a:lnTo>
                        <a:pt x="405" y="734"/>
                      </a:lnTo>
                      <a:lnTo>
                        <a:pt x="300" y="758"/>
                      </a:lnTo>
                      <a:lnTo>
                        <a:pt x="217" y="717"/>
                      </a:lnTo>
                      <a:lnTo>
                        <a:pt x="178" y="580"/>
                      </a:lnTo>
                      <a:lnTo>
                        <a:pt x="134" y="410"/>
                      </a:lnTo>
                      <a:lnTo>
                        <a:pt x="98" y="283"/>
                      </a:lnTo>
                      <a:lnTo>
                        <a:pt x="51" y="212"/>
                      </a:lnTo>
                      <a:lnTo>
                        <a:pt x="3" y="142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6" name=""/>
                <p:cNvGrpSpPr/>
                <p:nvPr/>
              </p:nvGrpSpPr>
              <p:grpSpPr>
                <a:xfrm>
                  <a:off x="3742200" y="1437120"/>
                  <a:ext cx="296640" cy="327240"/>
                  <a:chOff x="3742200" y="1437120"/>
                  <a:chExt cx="296640" cy="32724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>
                    <a:off x="3742200" y="1437120"/>
                    <a:ext cx="296640" cy="32724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659">
                        <a:moveTo>
                          <a:pt x="8" y="233"/>
                        </a:moveTo>
                        <a:lnTo>
                          <a:pt x="8" y="162"/>
                        </a:lnTo>
                        <a:lnTo>
                          <a:pt x="37" y="103"/>
                        </a:lnTo>
                        <a:lnTo>
                          <a:pt x="83" y="55"/>
                        </a:lnTo>
                        <a:lnTo>
                          <a:pt x="154" y="20"/>
                        </a:lnTo>
                        <a:lnTo>
                          <a:pt x="202" y="0"/>
                        </a:lnTo>
                        <a:lnTo>
                          <a:pt x="281" y="8"/>
                        </a:lnTo>
                        <a:lnTo>
                          <a:pt x="652" y="367"/>
                        </a:lnTo>
                        <a:lnTo>
                          <a:pt x="664" y="437"/>
                        </a:lnTo>
                        <a:lnTo>
                          <a:pt x="652" y="498"/>
                        </a:lnTo>
                        <a:lnTo>
                          <a:pt x="605" y="576"/>
                        </a:lnTo>
                        <a:lnTo>
                          <a:pt x="522" y="635"/>
                        </a:lnTo>
                        <a:lnTo>
                          <a:pt x="435" y="659"/>
                        </a:lnTo>
                        <a:lnTo>
                          <a:pt x="376" y="659"/>
                        </a:lnTo>
                        <a:lnTo>
                          <a:pt x="8" y="269"/>
                        </a:lnTo>
                        <a:lnTo>
                          <a:pt x="0" y="198"/>
                        </a:lnTo>
                        <a:lnTo>
                          <a:pt x="0" y="208"/>
                        </a:lnTo>
                        <a:lnTo>
                          <a:pt x="8" y="233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3742200" y="1437120"/>
                    <a:ext cx="296640" cy="32724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659">
                        <a:moveTo>
                          <a:pt x="8" y="233"/>
                        </a:moveTo>
                        <a:lnTo>
                          <a:pt x="8" y="162"/>
                        </a:lnTo>
                        <a:lnTo>
                          <a:pt x="37" y="103"/>
                        </a:lnTo>
                        <a:lnTo>
                          <a:pt x="83" y="55"/>
                        </a:lnTo>
                        <a:lnTo>
                          <a:pt x="154" y="20"/>
                        </a:lnTo>
                        <a:lnTo>
                          <a:pt x="202" y="0"/>
                        </a:lnTo>
                        <a:lnTo>
                          <a:pt x="281" y="8"/>
                        </a:lnTo>
                        <a:lnTo>
                          <a:pt x="652" y="367"/>
                        </a:lnTo>
                        <a:lnTo>
                          <a:pt x="664" y="437"/>
                        </a:lnTo>
                        <a:lnTo>
                          <a:pt x="652" y="498"/>
                        </a:lnTo>
                        <a:lnTo>
                          <a:pt x="605" y="576"/>
                        </a:lnTo>
                        <a:lnTo>
                          <a:pt x="522" y="635"/>
                        </a:lnTo>
                        <a:lnTo>
                          <a:pt x="435" y="659"/>
                        </a:lnTo>
                        <a:lnTo>
                          <a:pt x="376" y="659"/>
                        </a:lnTo>
                        <a:lnTo>
                          <a:pt x="8" y="269"/>
                        </a:lnTo>
                        <a:lnTo>
                          <a:pt x="0" y="198"/>
                        </a:lnTo>
                        <a:lnTo>
                          <a:pt x="0" y="208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3745440" y="1446120"/>
                    <a:ext cx="11916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237">
                        <a:moveTo>
                          <a:pt x="0" y="225"/>
                        </a:moveTo>
                        <a:lnTo>
                          <a:pt x="73" y="237"/>
                        </a:lnTo>
                        <a:lnTo>
                          <a:pt x="132" y="216"/>
                        </a:lnTo>
                        <a:lnTo>
                          <a:pt x="171" y="193"/>
                        </a:lnTo>
                        <a:lnTo>
                          <a:pt x="219" y="157"/>
                        </a:lnTo>
                        <a:lnTo>
                          <a:pt x="251" y="118"/>
                        </a:lnTo>
                        <a:lnTo>
                          <a:pt x="266" y="52"/>
                        </a:lnTo>
                        <a:lnTo>
                          <a:pt x="266" y="11"/>
                        </a:lnTo>
                        <a:lnTo>
                          <a:pt x="263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80" name=""/>
                <p:cNvSpPr/>
                <p:nvPr/>
              </p:nvSpPr>
              <p:spPr>
                <a:xfrm>
                  <a:off x="3419280" y="1429200"/>
                  <a:ext cx="467640" cy="385920"/>
                </a:xfrm>
                <a:custGeom>
                  <a:avLst/>
                  <a:gdLst/>
                  <a:ahLst/>
                  <a:rect l="l" t="t" r="r" b="b"/>
                  <a:pathLst>
                    <a:path w="1042" h="777">
                      <a:moveTo>
                        <a:pt x="368" y="32"/>
                      </a:moveTo>
                      <a:lnTo>
                        <a:pt x="459" y="0"/>
                      </a:lnTo>
                      <a:lnTo>
                        <a:pt x="507" y="35"/>
                      </a:lnTo>
                      <a:lnTo>
                        <a:pt x="507" y="118"/>
                      </a:lnTo>
                      <a:lnTo>
                        <a:pt x="427" y="208"/>
                      </a:lnTo>
                      <a:lnTo>
                        <a:pt x="293" y="257"/>
                      </a:lnTo>
                      <a:lnTo>
                        <a:pt x="187" y="342"/>
                      </a:lnTo>
                      <a:lnTo>
                        <a:pt x="120" y="445"/>
                      </a:lnTo>
                      <a:lnTo>
                        <a:pt x="83" y="528"/>
                      </a:lnTo>
                      <a:lnTo>
                        <a:pt x="83" y="599"/>
                      </a:lnTo>
                      <a:lnTo>
                        <a:pt x="127" y="674"/>
                      </a:lnTo>
                      <a:lnTo>
                        <a:pt x="234" y="709"/>
                      </a:lnTo>
                      <a:lnTo>
                        <a:pt x="322" y="718"/>
                      </a:lnTo>
                      <a:lnTo>
                        <a:pt x="451" y="709"/>
                      </a:lnTo>
                      <a:lnTo>
                        <a:pt x="617" y="662"/>
                      </a:lnTo>
                      <a:lnTo>
                        <a:pt x="722" y="564"/>
                      </a:lnTo>
                      <a:lnTo>
                        <a:pt x="790" y="484"/>
                      </a:lnTo>
                      <a:lnTo>
                        <a:pt x="771" y="410"/>
                      </a:lnTo>
                      <a:lnTo>
                        <a:pt x="778" y="362"/>
                      </a:lnTo>
                      <a:lnTo>
                        <a:pt x="849" y="391"/>
                      </a:lnTo>
                      <a:lnTo>
                        <a:pt x="924" y="391"/>
                      </a:lnTo>
                      <a:lnTo>
                        <a:pt x="980" y="342"/>
                      </a:lnTo>
                      <a:lnTo>
                        <a:pt x="1015" y="308"/>
                      </a:lnTo>
                      <a:lnTo>
                        <a:pt x="1039" y="315"/>
                      </a:lnTo>
                      <a:lnTo>
                        <a:pt x="1042" y="339"/>
                      </a:lnTo>
                      <a:lnTo>
                        <a:pt x="1019" y="410"/>
                      </a:lnTo>
                      <a:lnTo>
                        <a:pt x="1019" y="474"/>
                      </a:lnTo>
                      <a:lnTo>
                        <a:pt x="991" y="520"/>
                      </a:lnTo>
                      <a:lnTo>
                        <a:pt x="924" y="555"/>
                      </a:lnTo>
                      <a:lnTo>
                        <a:pt x="866" y="555"/>
                      </a:lnTo>
                      <a:lnTo>
                        <a:pt x="802" y="564"/>
                      </a:lnTo>
                      <a:lnTo>
                        <a:pt x="676" y="670"/>
                      </a:lnTo>
                      <a:lnTo>
                        <a:pt x="581" y="728"/>
                      </a:lnTo>
                      <a:lnTo>
                        <a:pt x="435" y="769"/>
                      </a:lnTo>
                      <a:lnTo>
                        <a:pt x="281" y="777"/>
                      </a:lnTo>
                      <a:lnTo>
                        <a:pt x="166" y="752"/>
                      </a:lnTo>
                      <a:lnTo>
                        <a:pt x="80" y="721"/>
                      </a:lnTo>
                      <a:lnTo>
                        <a:pt x="22" y="657"/>
                      </a:lnTo>
                      <a:lnTo>
                        <a:pt x="0" y="587"/>
                      </a:lnTo>
                      <a:lnTo>
                        <a:pt x="0" y="481"/>
                      </a:lnTo>
                      <a:lnTo>
                        <a:pt x="37" y="410"/>
                      </a:lnTo>
                      <a:lnTo>
                        <a:pt x="80" y="339"/>
                      </a:lnTo>
                      <a:lnTo>
                        <a:pt x="139" y="260"/>
                      </a:lnTo>
                      <a:lnTo>
                        <a:pt x="227" y="198"/>
                      </a:lnTo>
                      <a:lnTo>
                        <a:pt x="281" y="130"/>
                      </a:lnTo>
                      <a:lnTo>
                        <a:pt x="322" y="71"/>
                      </a:lnTo>
                      <a:lnTo>
                        <a:pt x="368" y="32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674160" y="1913760"/>
                  <a:ext cx="210600" cy="552240"/>
                </a:xfrm>
                <a:custGeom>
                  <a:avLst/>
                  <a:gdLst/>
                  <a:ahLst/>
                  <a:rect l="l" t="t" r="r" b="b"/>
                  <a:pathLst>
                    <a:path w="470" h="1109">
                      <a:moveTo>
                        <a:pt x="36" y="0"/>
                      </a:moveTo>
                      <a:lnTo>
                        <a:pt x="119" y="48"/>
                      </a:lnTo>
                      <a:lnTo>
                        <a:pt x="202" y="185"/>
                      </a:lnTo>
                      <a:lnTo>
                        <a:pt x="258" y="280"/>
                      </a:lnTo>
                      <a:lnTo>
                        <a:pt x="297" y="392"/>
                      </a:lnTo>
                      <a:lnTo>
                        <a:pt x="341" y="497"/>
                      </a:lnTo>
                      <a:lnTo>
                        <a:pt x="375" y="624"/>
                      </a:lnTo>
                      <a:lnTo>
                        <a:pt x="375" y="712"/>
                      </a:lnTo>
                      <a:lnTo>
                        <a:pt x="321" y="782"/>
                      </a:lnTo>
                      <a:lnTo>
                        <a:pt x="285" y="853"/>
                      </a:lnTo>
                      <a:lnTo>
                        <a:pt x="222" y="909"/>
                      </a:lnTo>
                      <a:lnTo>
                        <a:pt x="198" y="960"/>
                      </a:lnTo>
                      <a:lnTo>
                        <a:pt x="226" y="992"/>
                      </a:lnTo>
                      <a:lnTo>
                        <a:pt x="270" y="995"/>
                      </a:lnTo>
                      <a:lnTo>
                        <a:pt x="368" y="1007"/>
                      </a:lnTo>
                      <a:lnTo>
                        <a:pt x="436" y="1039"/>
                      </a:lnTo>
                      <a:lnTo>
                        <a:pt x="470" y="1066"/>
                      </a:lnTo>
                      <a:lnTo>
                        <a:pt x="448" y="1102"/>
                      </a:lnTo>
                      <a:lnTo>
                        <a:pt x="388" y="1109"/>
                      </a:lnTo>
                      <a:lnTo>
                        <a:pt x="309" y="1078"/>
                      </a:lnTo>
                      <a:lnTo>
                        <a:pt x="261" y="1051"/>
                      </a:lnTo>
                      <a:lnTo>
                        <a:pt x="163" y="1027"/>
                      </a:lnTo>
                      <a:lnTo>
                        <a:pt x="139" y="1019"/>
                      </a:lnTo>
                      <a:lnTo>
                        <a:pt x="127" y="983"/>
                      </a:lnTo>
                      <a:lnTo>
                        <a:pt x="143" y="932"/>
                      </a:lnTo>
                      <a:lnTo>
                        <a:pt x="222" y="841"/>
                      </a:lnTo>
                      <a:lnTo>
                        <a:pt x="261" y="782"/>
                      </a:lnTo>
                      <a:lnTo>
                        <a:pt x="309" y="672"/>
                      </a:lnTo>
                      <a:lnTo>
                        <a:pt x="321" y="617"/>
                      </a:lnTo>
                      <a:lnTo>
                        <a:pt x="273" y="475"/>
                      </a:lnTo>
                      <a:lnTo>
                        <a:pt x="187" y="329"/>
                      </a:lnTo>
                      <a:lnTo>
                        <a:pt x="103" y="234"/>
                      </a:lnTo>
                      <a:lnTo>
                        <a:pt x="60" y="163"/>
                      </a:lnTo>
                      <a:lnTo>
                        <a:pt x="12" y="119"/>
                      </a:lnTo>
                      <a:lnTo>
                        <a:pt x="0" y="56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454200" y="1911600"/>
                  <a:ext cx="190080" cy="514440"/>
                </a:xfrm>
                <a:custGeom>
                  <a:avLst/>
                  <a:gdLst/>
                  <a:ahLst/>
                  <a:rect l="l" t="t" r="r" b="b"/>
                  <a:pathLst>
                    <a:path w="425" h="1034">
                      <a:moveTo>
                        <a:pt x="237" y="97"/>
                      </a:moveTo>
                      <a:lnTo>
                        <a:pt x="323" y="12"/>
                      </a:lnTo>
                      <a:lnTo>
                        <a:pt x="418" y="0"/>
                      </a:lnTo>
                      <a:lnTo>
                        <a:pt x="425" y="75"/>
                      </a:lnTo>
                      <a:lnTo>
                        <a:pt x="370" y="129"/>
                      </a:lnTo>
                      <a:lnTo>
                        <a:pt x="288" y="170"/>
                      </a:lnTo>
                      <a:lnTo>
                        <a:pt x="225" y="241"/>
                      </a:lnTo>
                      <a:lnTo>
                        <a:pt x="213" y="336"/>
                      </a:lnTo>
                      <a:lnTo>
                        <a:pt x="225" y="473"/>
                      </a:lnTo>
                      <a:lnTo>
                        <a:pt x="260" y="714"/>
                      </a:lnTo>
                      <a:lnTo>
                        <a:pt x="299" y="863"/>
                      </a:lnTo>
                      <a:lnTo>
                        <a:pt x="342" y="970"/>
                      </a:lnTo>
                      <a:lnTo>
                        <a:pt x="335" y="1021"/>
                      </a:lnTo>
                      <a:lnTo>
                        <a:pt x="288" y="1029"/>
                      </a:lnTo>
                      <a:lnTo>
                        <a:pt x="205" y="1006"/>
                      </a:lnTo>
                      <a:lnTo>
                        <a:pt x="110" y="1006"/>
                      </a:lnTo>
                      <a:lnTo>
                        <a:pt x="59" y="1034"/>
                      </a:lnTo>
                      <a:lnTo>
                        <a:pt x="12" y="1021"/>
                      </a:lnTo>
                      <a:lnTo>
                        <a:pt x="0" y="963"/>
                      </a:lnTo>
                      <a:lnTo>
                        <a:pt x="47" y="951"/>
                      </a:lnTo>
                      <a:lnTo>
                        <a:pt x="142" y="951"/>
                      </a:lnTo>
                      <a:lnTo>
                        <a:pt x="284" y="982"/>
                      </a:lnTo>
                      <a:lnTo>
                        <a:pt x="288" y="970"/>
                      </a:lnTo>
                      <a:lnTo>
                        <a:pt x="276" y="924"/>
                      </a:lnTo>
                      <a:lnTo>
                        <a:pt x="225" y="746"/>
                      </a:lnTo>
                      <a:lnTo>
                        <a:pt x="201" y="604"/>
                      </a:lnTo>
                      <a:lnTo>
                        <a:pt x="166" y="429"/>
                      </a:lnTo>
                      <a:lnTo>
                        <a:pt x="166" y="307"/>
                      </a:lnTo>
                      <a:lnTo>
                        <a:pt x="169" y="212"/>
                      </a:lnTo>
                      <a:lnTo>
                        <a:pt x="189" y="146"/>
                      </a:lnTo>
                      <a:lnTo>
                        <a:pt x="237" y="97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641760" y="1144800"/>
                  <a:ext cx="223920" cy="276480"/>
                </a:xfrm>
                <a:custGeom>
                  <a:avLst/>
                  <a:gdLst/>
                  <a:ahLst/>
                  <a:rect l="l" t="t" r="r" b="b"/>
                  <a:pathLst>
                    <a:path w="501" h="556">
                      <a:moveTo>
                        <a:pt x="0" y="497"/>
                      </a:moveTo>
                      <a:lnTo>
                        <a:pt x="0" y="373"/>
                      </a:lnTo>
                      <a:lnTo>
                        <a:pt x="24" y="236"/>
                      </a:lnTo>
                      <a:lnTo>
                        <a:pt x="83" y="126"/>
                      </a:lnTo>
                      <a:lnTo>
                        <a:pt x="159" y="58"/>
                      </a:lnTo>
                      <a:lnTo>
                        <a:pt x="242" y="7"/>
                      </a:lnTo>
                      <a:lnTo>
                        <a:pt x="312" y="0"/>
                      </a:lnTo>
                      <a:lnTo>
                        <a:pt x="391" y="19"/>
                      </a:lnTo>
                      <a:lnTo>
                        <a:pt x="427" y="66"/>
                      </a:lnTo>
                      <a:lnTo>
                        <a:pt x="450" y="126"/>
                      </a:lnTo>
                      <a:lnTo>
                        <a:pt x="442" y="188"/>
                      </a:lnTo>
                      <a:lnTo>
                        <a:pt x="430" y="260"/>
                      </a:lnTo>
                      <a:lnTo>
                        <a:pt x="391" y="319"/>
                      </a:lnTo>
                      <a:lnTo>
                        <a:pt x="501" y="456"/>
                      </a:lnTo>
                      <a:lnTo>
                        <a:pt x="486" y="492"/>
                      </a:lnTo>
                      <a:lnTo>
                        <a:pt x="359" y="385"/>
                      </a:lnTo>
                      <a:lnTo>
                        <a:pt x="288" y="468"/>
                      </a:lnTo>
                      <a:lnTo>
                        <a:pt x="213" y="527"/>
                      </a:lnTo>
                      <a:lnTo>
                        <a:pt x="135" y="556"/>
                      </a:lnTo>
                      <a:lnTo>
                        <a:pt x="71" y="556"/>
                      </a:lnTo>
                      <a:lnTo>
                        <a:pt x="24" y="532"/>
                      </a:lnTo>
                      <a:lnTo>
                        <a:pt x="0" y="497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4" name=""/>
              <p:cNvSpPr/>
              <p:nvPr/>
            </p:nvSpPr>
            <p:spPr>
              <a:xfrm>
                <a:off x="5311440" y="1317240"/>
                <a:ext cx="323280" cy="888120"/>
              </a:xfrm>
              <a:custGeom>
                <a:avLst/>
                <a:gdLst/>
                <a:ahLst/>
                <a:rect l="l" t="t" r="r" b="b"/>
                <a:pathLst>
                  <a:path w="454" h="1152">
                    <a:moveTo>
                      <a:pt x="300" y="112"/>
                    </a:moveTo>
                    <a:lnTo>
                      <a:pt x="217" y="29"/>
                    </a:lnTo>
                    <a:lnTo>
                      <a:pt x="118" y="0"/>
                    </a:lnTo>
                    <a:lnTo>
                      <a:pt x="47" y="5"/>
                    </a:lnTo>
                    <a:lnTo>
                      <a:pt x="35" y="74"/>
                    </a:lnTo>
                    <a:lnTo>
                      <a:pt x="39" y="164"/>
                    </a:lnTo>
                    <a:lnTo>
                      <a:pt x="118" y="271"/>
                    </a:lnTo>
                    <a:lnTo>
                      <a:pt x="166" y="433"/>
                    </a:lnTo>
                    <a:lnTo>
                      <a:pt x="169" y="592"/>
                    </a:lnTo>
                    <a:lnTo>
                      <a:pt x="134" y="740"/>
                    </a:lnTo>
                    <a:lnTo>
                      <a:pt x="86" y="876"/>
                    </a:lnTo>
                    <a:lnTo>
                      <a:pt x="0" y="992"/>
                    </a:lnTo>
                    <a:lnTo>
                      <a:pt x="0" y="1028"/>
                    </a:lnTo>
                    <a:lnTo>
                      <a:pt x="12" y="1111"/>
                    </a:lnTo>
                    <a:lnTo>
                      <a:pt x="76" y="1147"/>
                    </a:lnTo>
                    <a:lnTo>
                      <a:pt x="146" y="1152"/>
                    </a:lnTo>
                    <a:lnTo>
                      <a:pt x="264" y="1123"/>
                    </a:lnTo>
                    <a:lnTo>
                      <a:pt x="354" y="1028"/>
                    </a:lnTo>
                    <a:lnTo>
                      <a:pt x="403" y="864"/>
                    </a:lnTo>
                    <a:lnTo>
                      <a:pt x="437" y="757"/>
                    </a:lnTo>
                    <a:lnTo>
                      <a:pt x="454" y="617"/>
                    </a:lnTo>
                    <a:lnTo>
                      <a:pt x="442" y="433"/>
                    </a:lnTo>
                    <a:lnTo>
                      <a:pt x="403" y="276"/>
                    </a:lnTo>
                    <a:lnTo>
                      <a:pt x="354" y="173"/>
                    </a:lnTo>
                    <a:lnTo>
                      <a:pt x="300" y="11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892760" y="1308240"/>
                <a:ext cx="516960" cy="610560"/>
              </a:xfrm>
              <a:custGeom>
                <a:avLst/>
                <a:gdLst/>
                <a:ahLst/>
                <a:rect l="l" t="t" r="r" b="b"/>
                <a:pathLst>
                  <a:path w="722" h="793">
                    <a:moveTo>
                      <a:pt x="722" y="57"/>
                    </a:moveTo>
                    <a:lnTo>
                      <a:pt x="698" y="0"/>
                    </a:lnTo>
                    <a:lnTo>
                      <a:pt x="651" y="0"/>
                    </a:lnTo>
                    <a:lnTo>
                      <a:pt x="591" y="62"/>
                    </a:lnTo>
                    <a:lnTo>
                      <a:pt x="552" y="211"/>
                    </a:lnTo>
                    <a:lnTo>
                      <a:pt x="520" y="384"/>
                    </a:lnTo>
                    <a:lnTo>
                      <a:pt x="497" y="565"/>
                    </a:lnTo>
                    <a:lnTo>
                      <a:pt x="422" y="702"/>
                    </a:lnTo>
                    <a:lnTo>
                      <a:pt x="422" y="705"/>
                    </a:lnTo>
                    <a:lnTo>
                      <a:pt x="422" y="731"/>
                    </a:lnTo>
                    <a:lnTo>
                      <a:pt x="319" y="714"/>
                    </a:lnTo>
                    <a:lnTo>
                      <a:pt x="212" y="644"/>
                    </a:lnTo>
                    <a:lnTo>
                      <a:pt x="166" y="579"/>
                    </a:lnTo>
                    <a:lnTo>
                      <a:pt x="83" y="396"/>
                    </a:lnTo>
                    <a:lnTo>
                      <a:pt x="83" y="330"/>
                    </a:lnTo>
                    <a:lnTo>
                      <a:pt x="114" y="268"/>
                    </a:lnTo>
                    <a:lnTo>
                      <a:pt x="149" y="182"/>
                    </a:lnTo>
                    <a:lnTo>
                      <a:pt x="161" y="149"/>
                    </a:lnTo>
                    <a:lnTo>
                      <a:pt x="117" y="133"/>
                    </a:lnTo>
                    <a:lnTo>
                      <a:pt x="66" y="136"/>
                    </a:lnTo>
                    <a:lnTo>
                      <a:pt x="35" y="169"/>
                    </a:lnTo>
                    <a:lnTo>
                      <a:pt x="0" y="244"/>
                    </a:lnTo>
                    <a:lnTo>
                      <a:pt x="19" y="380"/>
                    </a:lnTo>
                    <a:lnTo>
                      <a:pt x="35" y="454"/>
                    </a:lnTo>
                    <a:lnTo>
                      <a:pt x="114" y="607"/>
                    </a:lnTo>
                    <a:lnTo>
                      <a:pt x="185" y="719"/>
                    </a:lnTo>
                    <a:lnTo>
                      <a:pt x="315" y="769"/>
                    </a:lnTo>
                    <a:lnTo>
                      <a:pt x="422" y="793"/>
                    </a:lnTo>
                    <a:lnTo>
                      <a:pt x="505" y="752"/>
                    </a:lnTo>
                    <a:lnTo>
                      <a:pt x="544" y="607"/>
                    </a:lnTo>
                    <a:lnTo>
                      <a:pt x="588" y="430"/>
                    </a:lnTo>
                    <a:lnTo>
                      <a:pt x="622" y="297"/>
                    </a:lnTo>
                    <a:lnTo>
                      <a:pt x="671" y="223"/>
                    </a:lnTo>
                    <a:lnTo>
                      <a:pt x="717" y="149"/>
                    </a:lnTo>
                    <a:lnTo>
                      <a:pt x="722" y="5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6" name=""/>
              <p:cNvGrpSpPr/>
              <p:nvPr/>
            </p:nvGrpSpPr>
            <p:grpSpPr>
              <a:xfrm>
                <a:off x="4818600" y="1309680"/>
                <a:ext cx="474120" cy="532080"/>
                <a:chOff x="4818600" y="1309680"/>
                <a:chExt cx="474120" cy="53208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4818600" y="1309680"/>
                  <a:ext cx="474120" cy="532080"/>
                </a:xfrm>
                <a:custGeom>
                  <a:avLst/>
                  <a:gdLst/>
                  <a:ahLst/>
                  <a:rect l="l" t="t" r="r" b="b"/>
                  <a:pathLst>
                    <a:path w="662" h="691">
                      <a:moveTo>
                        <a:pt x="653" y="245"/>
                      </a:moveTo>
                      <a:lnTo>
                        <a:pt x="653" y="171"/>
                      </a:lnTo>
                      <a:lnTo>
                        <a:pt x="625" y="109"/>
                      </a:lnTo>
                      <a:lnTo>
                        <a:pt x="579" y="59"/>
                      </a:lnTo>
                      <a:lnTo>
                        <a:pt x="508" y="22"/>
                      </a:lnTo>
                      <a:lnTo>
                        <a:pt x="460" y="0"/>
                      </a:lnTo>
                      <a:lnTo>
                        <a:pt x="381" y="10"/>
                      </a:lnTo>
                      <a:lnTo>
                        <a:pt x="10" y="385"/>
                      </a:lnTo>
                      <a:lnTo>
                        <a:pt x="0" y="460"/>
                      </a:lnTo>
                      <a:lnTo>
                        <a:pt x="10" y="522"/>
                      </a:lnTo>
                      <a:lnTo>
                        <a:pt x="59" y="605"/>
                      </a:lnTo>
                      <a:lnTo>
                        <a:pt x="142" y="667"/>
                      </a:lnTo>
                      <a:lnTo>
                        <a:pt x="227" y="691"/>
                      </a:lnTo>
                      <a:lnTo>
                        <a:pt x="286" y="691"/>
                      </a:lnTo>
                      <a:lnTo>
                        <a:pt x="653" y="282"/>
                      </a:lnTo>
                      <a:lnTo>
                        <a:pt x="662" y="207"/>
                      </a:lnTo>
                      <a:lnTo>
                        <a:pt x="662" y="221"/>
                      </a:lnTo>
                      <a:lnTo>
                        <a:pt x="653" y="245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4818600" y="1309680"/>
                  <a:ext cx="474120" cy="532080"/>
                </a:xfrm>
                <a:custGeom>
                  <a:avLst/>
                  <a:gdLst/>
                  <a:ahLst/>
                  <a:rect l="l" t="t" r="r" b="b"/>
                  <a:pathLst>
                    <a:path w="662" h="691">
                      <a:moveTo>
                        <a:pt x="653" y="245"/>
                      </a:moveTo>
                      <a:lnTo>
                        <a:pt x="653" y="171"/>
                      </a:lnTo>
                      <a:lnTo>
                        <a:pt x="625" y="109"/>
                      </a:lnTo>
                      <a:lnTo>
                        <a:pt x="579" y="59"/>
                      </a:lnTo>
                      <a:lnTo>
                        <a:pt x="508" y="22"/>
                      </a:lnTo>
                      <a:lnTo>
                        <a:pt x="460" y="0"/>
                      </a:lnTo>
                      <a:lnTo>
                        <a:pt x="381" y="10"/>
                      </a:lnTo>
                      <a:lnTo>
                        <a:pt x="10" y="385"/>
                      </a:lnTo>
                      <a:lnTo>
                        <a:pt x="0" y="460"/>
                      </a:lnTo>
                      <a:lnTo>
                        <a:pt x="10" y="522"/>
                      </a:lnTo>
                      <a:lnTo>
                        <a:pt x="59" y="605"/>
                      </a:lnTo>
                      <a:lnTo>
                        <a:pt x="142" y="667"/>
                      </a:lnTo>
                      <a:lnTo>
                        <a:pt x="227" y="691"/>
                      </a:lnTo>
                      <a:lnTo>
                        <a:pt x="286" y="691"/>
                      </a:lnTo>
                      <a:lnTo>
                        <a:pt x="653" y="282"/>
                      </a:lnTo>
                      <a:lnTo>
                        <a:pt x="662" y="207"/>
                      </a:lnTo>
                      <a:lnTo>
                        <a:pt x="662" y="221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5099400" y="1326240"/>
                  <a:ext cx="189000" cy="187920"/>
                </a:xfrm>
                <a:custGeom>
                  <a:avLst/>
                  <a:gdLst/>
                  <a:ahLst/>
                  <a:rect l="l" t="t" r="r" b="b"/>
                  <a:pathLst>
                    <a:path w="264" h="244">
                      <a:moveTo>
                        <a:pt x="264" y="232"/>
                      </a:moveTo>
                      <a:lnTo>
                        <a:pt x="193" y="244"/>
                      </a:lnTo>
                      <a:lnTo>
                        <a:pt x="134" y="223"/>
                      </a:lnTo>
                      <a:lnTo>
                        <a:pt x="93" y="199"/>
                      </a:lnTo>
                      <a:lnTo>
                        <a:pt x="46" y="163"/>
                      </a:lnTo>
                      <a:lnTo>
                        <a:pt x="15" y="122"/>
                      </a:lnTo>
                      <a:lnTo>
                        <a:pt x="0" y="53"/>
                      </a:lnTo>
                      <a:lnTo>
                        <a:pt x="0" y="12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0" name=""/>
              <p:cNvSpPr/>
              <p:nvPr/>
            </p:nvSpPr>
            <p:spPr>
              <a:xfrm>
                <a:off x="5062320" y="1296000"/>
                <a:ext cx="744840" cy="627120"/>
              </a:xfrm>
              <a:custGeom>
                <a:avLst/>
                <a:gdLst/>
                <a:ahLst/>
                <a:rect l="l" t="t" r="r" b="b"/>
                <a:pathLst>
                  <a:path w="1041" h="814">
                    <a:moveTo>
                      <a:pt x="674" y="33"/>
                    </a:moveTo>
                    <a:lnTo>
                      <a:pt x="583" y="0"/>
                    </a:lnTo>
                    <a:lnTo>
                      <a:pt x="535" y="38"/>
                    </a:lnTo>
                    <a:lnTo>
                      <a:pt x="535" y="125"/>
                    </a:lnTo>
                    <a:lnTo>
                      <a:pt x="615" y="220"/>
                    </a:lnTo>
                    <a:lnTo>
                      <a:pt x="749" y="270"/>
                    </a:lnTo>
                    <a:lnTo>
                      <a:pt x="855" y="360"/>
                    </a:lnTo>
                    <a:lnTo>
                      <a:pt x="922" y="467"/>
                    </a:lnTo>
                    <a:lnTo>
                      <a:pt x="959" y="555"/>
                    </a:lnTo>
                    <a:lnTo>
                      <a:pt x="959" y="628"/>
                    </a:lnTo>
                    <a:lnTo>
                      <a:pt x="915" y="707"/>
                    </a:lnTo>
                    <a:lnTo>
                      <a:pt x="808" y="745"/>
                    </a:lnTo>
                    <a:lnTo>
                      <a:pt x="720" y="752"/>
                    </a:lnTo>
                    <a:lnTo>
                      <a:pt x="591" y="745"/>
                    </a:lnTo>
                    <a:lnTo>
                      <a:pt x="425" y="695"/>
                    </a:lnTo>
                    <a:lnTo>
                      <a:pt x="320" y="591"/>
                    </a:lnTo>
                    <a:lnTo>
                      <a:pt x="252" y="509"/>
                    </a:lnTo>
                    <a:lnTo>
                      <a:pt x="271" y="429"/>
                    </a:lnTo>
                    <a:lnTo>
                      <a:pt x="264" y="381"/>
                    </a:lnTo>
                    <a:lnTo>
                      <a:pt x="193" y="410"/>
                    </a:lnTo>
                    <a:lnTo>
                      <a:pt x="118" y="410"/>
                    </a:lnTo>
                    <a:lnTo>
                      <a:pt x="62" y="360"/>
                    </a:lnTo>
                    <a:lnTo>
                      <a:pt x="27" y="322"/>
                    </a:lnTo>
                    <a:lnTo>
                      <a:pt x="3" y="332"/>
                    </a:lnTo>
                    <a:lnTo>
                      <a:pt x="0" y="356"/>
                    </a:lnTo>
                    <a:lnTo>
                      <a:pt x="23" y="429"/>
                    </a:lnTo>
                    <a:lnTo>
                      <a:pt x="23" y="496"/>
                    </a:lnTo>
                    <a:lnTo>
                      <a:pt x="51" y="546"/>
                    </a:lnTo>
                    <a:lnTo>
                      <a:pt x="118" y="583"/>
                    </a:lnTo>
                    <a:lnTo>
                      <a:pt x="176" y="583"/>
                    </a:lnTo>
                    <a:lnTo>
                      <a:pt x="240" y="591"/>
                    </a:lnTo>
                    <a:lnTo>
                      <a:pt x="366" y="702"/>
                    </a:lnTo>
                    <a:lnTo>
                      <a:pt x="461" y="764"/>
                    </a:lnTo>
                    <a:lnTo>
                      <a:pt x="607" y="806"/>
                    </a:lnTo>
                    <a:lnTo>
                      <a:pt x="761" y="814"/>
                    </a:lnTo>
                    <a:lnTo>
                      <a:pt x="876" y="790"/>
                    </a:lnTo>
                    <a:lnTo>
                      <a:pt x="962" y="757"/>
                    </a:lnTo>
                    <a:lnTo>
                      <a:pt x="1020" y="690"/>
                    </a:lnTo>
                    <a:lnTo>
                      <a:pt x="1041" y="616"/>
                    </a:lnTo>
                    <a:lnTo>
                      <a:pt x="1041" y="505"/>
                    </a:lnTo>
                    <a:lnTo>
                      <a:pt x="1005" y="429"/>
                    </a:lnTo>
                    <a:lnTo>
                      <a:pt x="962" y="356"/>
                    </a:lnTo>
                    <a:lnTo>
                      <a:pt x="903" y="273"/>
                    </a:lnTo>
                    <a:lnTo>
                      <a:pt x="815" y="206"/>
                    </a:lnTo>
                    <a:lnTo>
                      <a:pt x="761" y="137"/>
                    </a:lnTo>
                    <a:lnTo>
                      <a:pt x="720" y="75"/>
                    </a:lnTo>
                    <a:lnTo>
                      <a:pt x="674" y="3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067720" y="2082600"/>
                <a:ext cx="335160" cy="891000"/>
              </a:xfrm>
              <a:custGeom>
                <a:avLst/>
                <a:gdLst/>
                <a:ahLst/>
                <a:rect l="l" t="t" r="r" b="b"/>
                <a:pathLst>
                  <a:path w="469" h="1156">
                    <a:moveTo>
                      <a:pt x="433" y="0"/>
                    </a:moveTo>
                    <a:lnTo>
                      <a:pt x="350" y="50"/>
                    </a:lnTo>
                    <a:lnTo>
                      <a:pt x="268" y="193"/>
                    </a:lnTo>
                    <a:lnTo>
                      <a:pt x="213" y="292"/>
                    </a:lnTo>
                    <a:lnTo>
                      <a:pt x="173" y="407"/>
                    </a:lnTo>
                    <a:lnTo>
                      <a:pt x="130" y="518"/>
                    </a:lnTo>
                    <a:lnTo>
                      <a:pt x="95" y="650"/>
                    </a:lnTo>
                    <a:lnTo>
                      <a:pt x="95" y="740"/>
                    </a:lnTo>
                    <a:lnTo>
                      <a:pt x="149" y="814"/>
                    </a:lnTo>
                    <a:lnTo>
                      <a:pt x="185" y="888"/>
                    </a:lnTo>
                    <a:lnTo>
                      <a:pt x="247" y="946"/>
                    </a:lnTo>
                    <a:lnTo>
                      <a:pt x="271" y="999"/>
                    </a:lnTo>
                    <a:lnTo>
                      <a:pt x="244" y="1032"/>
                    </a:lnTo>
                    <a:lnTo>
                      <a:pt x="201" y="1037"/>
                    </a:lnTo>
                    <a:lnTo>
                      <a:pt x="103" y="1049"/>
                    </a:lnTo>
                    <a:lnTo>
                      <a:pt x="35" y="1082"/>
                    </a:lnTo>
                    <a:lnTo>
                      <a:pt x="0" y="1111"/>
                    </a:lnTo>
                    <a:lnTo>
                      <a:pt x="23" y="1147"/>
                    </a:lnTo>
                    <a:lnTo>
                      <a:pt x="83" y="1156"/>
                    </a:lnTo>
                    <a:lnTo>
                      <a:pt x="161" y="1123"/>
                    </a:lnTo>
                    <a:lnTo>
                      <a:pt x="208" y="1094"/>
                    </a:lnTo>
                    <a:lnTo>
                      <a:pt x="308" y="1070"/>
                    </a:lnTo>
                    <a:lnTo>
                      <a:pt x="330" y="1061"/>
                    </a:lnTo>
                    <a:lnTo>
                      <a:pt x="342" y="1025"/>
                    </a:lnTo>
                    <a:lnTo>
                      <a:pt x="327" y="971"/>
                    </a:lnTo>
                    <a:lnTo>
                      <a:pt x="247" y="876"/>
                    </a:lnTo>
                    <a:lnTo>
                      <a:pt x="208" y="814"/>
                    </a:lnTo>
                    <a:lnTo>
                      <a:pt x="161" y="699"/>
                    </a:lnTo>
                    <a:lnTo>
                      <a:pt x="149" y="642"/>
                    </a:lnTo>
                    <a:lnTo>
                      <a:pt x="196" y="493"/>
                    </a:lnTo>
                    <a:lnTo>
                      <a:pt x="283" y="341"/>
                    </a:lnTo>
                    <a:lnTo>
                      <a:pt x="366" y="243"/>
                    </a:lnTo>
                    <a:lnTo>
                      <a:pt x="410" y="169"/>
                    </a:lnTo>
                    <a:lnTo>
                      <a:pt x="457" y="123"/>
                    </a:lnTo>
                    <a:lnTo>
                      <a:pt x="469" y="57"/>
                    </a:lnTo>
                    <a:lnTo>
                      <a:pt x="43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447520" y="2076480"/>
                <a:ext cx="306000" cy="832680"/>
              </a:xfrm>
              <a:custGeom>
                <a:avLst/>
                <a:gdLst/>
                <a:ahLst/>
                <a:rect l="l" t="t" r="r" b="b"/>
                <a:pathLst>
                  <a:path w="426" h="1080">
                    <a:moveTo>
                      <a:pt x="188" y="104"/>
                    </a:moveTo>
                    <a:lnTo>
                      <a:pt x="102" y="14"/>
                    </a:lnTo>
                    <a:lnTo>
                      <a:pt x="7" y="0"/>
                    </a:lnTo>
                    <a:lnTo>
                      <a:pt x="0" y="79"/>
                    </a:lnTo>
                    <a:lnTo>
                      <a:pt x="54" y="138"/>
                    </a:lnTo>
                    <a:lnTo>
                      <a:pt x="137" y="178"/>
                    </a:lnTo>
                    <a:lnTo>
                      <a:pt x="200" y="252"/>
                    </a:lnTo>
                    <a:lnTo>
                      <a:pt x="212" y="350"/>
                    </a:lnTo>
                    <a:lnTo>
                      <a:pt x="200" y="495"/>
                    </a:lnTo>
                    <a:lnTo>
                      <a:pt x="165" y="745"/>
                    </a:lnTo>
                    <a:lnTo>
                      <a:pt x="125" y="902"/>
                    </a:lnTo>
                    <a:lnTo>
                      <a:pt x="82" y="1013"/>
                    </a:lnTo>
                    <a:lnTo>
                      <a:pt x="90" y="1066"/>
                    </a:lnTo>
                    <a:lnTo>
                      <a:pt x="137" y="1075"/>
                    </a:lnTo>
                    <a:lnTo>
                      <a:pt x="220" y="1049"/>
                    </a:lnTo>
                    <a:lnTo>
                      <a:pt x="315" y="1049"/>
                    </a:lnTo>
                    <a:lnTo>
                      <a:pt x="366" y="1080"/>
                    </a:lnTo>
                    <a:lnTo>
                      <a:pt x="414" y="1066"/>
                    </a:lnTo>
                    <a:lnTo>
                      <a:pt x="426" y="1004"/>
                    </a:lnTo>
                    <a:lnTo>
                      <a:pt x="378" y="992"/>
                    </a:lnTo>
                    <a:lnTo>
                      <a:pt x="283" y="992"/>
                    </a:lnTo>
                    <a:lnTo>
                      <a:pt x="141" y="1025"/>
                    </a:lnTo>
                    <a:lnTo>
                      <a:pt x="137" y="1013"/>
                    </a:lnTo>
                    <a:lnTo>
                      <a:pt x="149" y="964"/>
                    </a:lnTo>
                    <a:lnTo>
                      <a:pt x="200" y="778"/>
                    </a:lnTo>
                    <a:lnTo>
                      <a:pt x="224" y="630"/>
                    </a:lnTo>
                    <a:lnTo>
                      <a:pt x="259" y="450"/>
                    </a:lnTo>
                    <a:lnTo>
                      <a:pt x="259" y="321"/>
                    </a:lnTo>
                    <a:lnTo>
                      <a:pt x="256" y="223"/>
                    </a:lnTo>
                    <a:lnTo>
                      <a:pt x="236" y="153"/>
                    </a:lnTo>
                    <a:lnTo>
                      <a:pt x="188" y="10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096160" y="838080"/>
                <a:ext cx="359280" cy="447120"/>
              </a:xfrm>
              <a:custGeom>
                <a:avLst/>
                <a:gdLst/>
                <a:ahLst/>
                <a:rect l="l" t="t" r="r" b="b"/>
                <a:pathLst>
                  <a:path w="502" h="580">
                    <a:moveTo>
                      <a:pt x="502" y="518"/>
                    </a:moveTo>
                    <a:lnTo>
                      <a:pt x="502" y="390"/>
                    </a:lnTo>
                    <a:lnTo>
                      <a:pt x="478" y="247"/>
                    </a:lnTo>
                    <a:lnTo>
                      <a:pt x="419" y="131"/>
                    </a:lnTo>
                    <a:lnTo>
                      <a:pt x="344" y="61"/>
                    </a:lnTo>
                    <a:lnTo>
                      <a:pt x="261" y="7"/>
                    </a:lnTo>
                    <a:lnTo>
                      <a:pt x="190" y="0"/>
                    </a:lnTo>
                    <a:lnTo>
                      <a:pt x="110" y="21"/>
                    </a:lnTo>
                    <a:lnTo>
                      <a:pt x="76" y="69"/>
                    </a:lnTo>
                    <a:lnTo>
                      <a:pt x="51" y="131"/>
                    </a:lnTo>
                    <a:lnTo>
                      <a:pt x="59" y="197"/>
                    </a:lnTo>
                    <a:lnTo>
                      <a:pt x="71" y="271"/>
                    </a:lnTo>
                    <a:lnTo>
                      <a:pt x="110" y="333"/>
                    </a:lnTo>
                    <a:lnTo>
                      <a:pt x="0" y="477"/>
                    </a:lnTo>
                    <a:lnTo>
                      <a:pt x="15" y="514"/>
                    </a:lnTo>
                    <a:lnTo>
                      <a:pt x="142" y="402"/>
                    </a:lnTo>
                    <a:lnTo>
                      <a:pt x="213" y="489"/>
                    </a:lnTo>
                    <a:lnTo>
                      <a:pt x="288" y="551"/>
                    </a:lnTo>
                    <a:lnTo>
                      <a:pt x="368" y="580"/>
                    </a:lnTo>
                    <a:lnTo>
                      <a:pt x="431" y="580"/>
                    </a:lnTo>
                    <a:lnTo>
                      <a:pt x="478" y="554"/>
                    </a:lnTo>
                    <a:lnTo>
                      <a:pt x="502" y="51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855600" y="-500760"/>
                <a:ext cx="1188720" cy="278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204" y="17583"/>
                    </a:moveTo>
                    <a:arcTo wR="10800" hR="10800" stAng="2334522" swAng="629175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204" y="17583"/>
                    </a:moveTo>
                    <a:arcTo wR="10800" hR="10800" stAng="2334522" swAng="6291755"/>
                  </a:path>
                </a:pathLst>
              </a:cu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2743200" y="1356120"/>
              <a:ext cx="729360" cy="1036080"/>
              <a:chOff x="2743200" y="1356120"/>
              <a:chExt cx="729360" cy="1036080"/>
            </a:xfrm>
          </p:grpSpPr>
          <p:sp>
            <p:nvSpPr>
              <p:cNvPr id="596" name=""/>
              <p:cNvSpPr/>
              <p:nvPr/>
            </p:nvSpPr>
            <p:spPr>
              <a:xfrm>
                <a:off x="2743200" y="1356120"/>
                <a:ext cx="729360" cy="1036080"/>
              </a:xfrm>
              <a:custGeom>
                <a:avLst/>
                <a:gdLst/>
                <a:ahLst/>
                <a:rect l="l" t="t" r="r" b="b"/>
                <a:pathLst>
                  <a:path w="2086" h="2365">
                    <a:moveTo>
                      <a:pt x="729" y="438"/>
                    </a:moveTo>
                    <a:lnTo>
                      <a:pt x="606" y="550"/>
                    </a:lnTo>
                    <a:lnTo>
                      <a:pt x="460" y="662"/>
                    </a:lnTo>
                    <a:lnTo>
                      <a:pt x="303" y="841"/>
                    </a:lnTo>
                    <a:lnTo>
                      <a:pt x="135" y="1077"/>
                    </a:lnTo>
                    <a:lnTo>
                      <a:pt x="45" y="1278"/>
                    </a:lnTo>
                    <a:lnTo>
                      <a:pt x="0" y="1435"/>
                    </a:lnTo>
                    <a:lnTo>
                      <a:pt x="0" y="1535"/>
                    </a:lnTo>
                    <a:lnTo>
                      <a:pt x="12" y="1749"/>
                    </a:lnTo>
                    <a:lnTo>
                      <a:pt x="45" y="1906"/>
                    </a:lnTo>
                    <a:lnTo>
                      <a:pt x="135" y="2006"/>
                    </a:lnTo>
                    <a:lnTo>
                      <a:pt x="314" y="2130"/>
                    </a:lnTo>
                    <a:lnTo>
                      <a:pt x="483" y="2209"/>
                    </a:lnTo>
                    <a:lnTo>
                      <a:pt x="695" y="2287"/>
                    </a:lnTo>
                    <a:lnTo>
                      <a:pt x="818" y="2332"/>
                    </a:lnTo>
                    <a:lnTo>
                      <a:pt x="1032" y="2365"/>
                    </a:lnTo>
                    <a:lnTo>
                      <a:pt x="1357" y="2332"/>
                    </a:lnTo>
                    <a:lnTo>
                      <a:pt x="1637" y="2254"/>
                    </a:lnTo>
                    <a:lnTo>
                      <a:pt x="1816" y="2141"/>
                    </a:lnTo>
                    <a:lnTo>
                      <a:pt x="1929" y="2018"/>
                    </a:lnTo>
                    <a:lnTo>
                      <a:pt x="1996" y="1895"/>
                    </a:lnTo>
                    <a:lnTo>
                      <a:pt x="2063" y="1738"/>
                    </a:lnTo>
                    <a:lnTo>
                      <a:pt x="2086" y="1559"/>
                    </a:lnTo>
                    <a:lnTo>
                      <a:pt x="2086" y="1312"/>
                    </a:lnTo>
                    <a:lnTo>
                      <a:pt x="2041" y="1155"/>
                    </a:lnTo>
                    <a:lnTo>
                      <a:pt x="1951" y="987"/>
                    </a:lnTo>
                    <a:lnTo>
                      <a:pt x="1827" y="830"/>
                    </a:lnTo>
                    <a:lnTo>
                      <a:pt x="1693" y="706"/>
                    </a:lnTo>
                    <a:lnTo>
                      <a:pt x="1559" y="606"/>
                    </a:lnTo>
                    <a:lnTo>
                      <a:pt x="1368" y="516"/>
                    </a:lnTo>
                    <a:lnTo>
                      <a:pt x="1357" y="460"/>
                    </a:lnTo>
                    <a:lnTo>
                      <a:pt x="1525" y="280"/>
                    </a:lnTo>
                    <a:lnTo>
                      <a:pt x="1536" y="168"/>
                    </a:lnTo>
                    <a:lnTo>
                      <a:pt x="1346" y="280"/>
                    </a:lnTo>
                    <a:lnTo>
                      <a:pt x="1413" y="79"/>
                    </a:lnTo>
                    <a:lnTo>
                      <a:pt x="1391" y="68"/>
                    </a:lnTo>
                    <a:lnTo>
                      <a:pt x="1323" y="68"/>
                    </a:lnTo>
                    <a:lnTo>
                      <a:pt x="1211" y="202"/>
                    </a:lnTo>
                    <a:lnTo>
                      <a:pt x="1144" y="280"/>
                    </a:lnTo>
                    <a:lnTo>
                      <a:pt x="1166" y="135"/>
                    </a:lnTo>
                    <a:lnTo>
                      <a:pt x="1211" y="23"/>
                    </a:lnTo>
                    <a:lnTo>
                      <a:pt x="1177" y="0"/>
                    </a:lnTo>
                    <a:lnTo>
                      <a:pt x="1099" y="68"/>
                    </a:lnTo>
                    <a:lnTo>
                      <a:pt x="1021" y="235"/>
                    </a:lnTo>
                    <a:lnTo>
                      <a:pt x="987" y="146"/>
                    </a:lnTo>
                    <a:lnTo>
                      <a:pt x="920" y="112"/>
                    </a:lnTo>
                    <a:lnTo>
                      <a:pt x="875" y="224"/>
                    </a:lnTo>
                    <a:lnTo>
                      <a:pt x="864" y="291"/>
                    </a:lnTo>
                    <a:lnTo>
                      <a:pt x="740" y="135"/>
                    </a:lnTo>
                    <a:lnTo>
                      <a:pt x="583" y="12"/>
                    </a:lnTo>
                    <a:lnTo>
                      <a:pt x="539" y="34"/>
                    </a:lnTo>
                    <a:lnTo>
                      <a:pt x="527" y="101"/>
                    </a:lnTo>
                    <a:lnTo>
                      <a:pt x="583" y="202"/>
                    </a:lnTo>
                    <a:lnTo>
                      <a:pt x="650" y="326"/>
                    </a:lnTo>
                    <a:lnTo>
                      <a:pt x="818" y="539"/>
                    </a:lnTo>
                    <a:lnTo>
                      <a:pt x="796" y="583"/>
                    </a:lnTo>
                    <a:lnTo>
                      <a:pt x="762" y="606"/>
                    </a:lnTo>
                    <a:lnTo>
                      <a:pt x="785" y="650"/>
                    </a:lnTo>
                    <a:lnTo>
                      <a:pt x="931" y="706"/>
                    </a:lnTo>
                    <a:lnTo>
                      <a:pt x="1166" y="706"/>
                    </a:lnTo>
                    <a:lnTo>
                      <a:pt x="1368" y="684"/>
                    </a:lnTo>
                    <a:lnTo>
                      <a:pt x="1436" y="617"/>
                    </a:lnTo>
                    <a:lnTo>
                      <a:pt x="1391" y="595"/>
                    </a:lnTo>
                    <a:lnTo>
                      <a:pt x="1346" y="628"/>
                    </a:lnTo>
                    <a:lnTo>
                      <a:pt x="1222" y="639"/>
                    </a:lnTo>
                    <a:lnTo>
                      <a:pt x="1099" y="662"/>
                    </a:lnTo>
                    <a:lnTo>
                      <a:pt x="965" y="639"/>
                    </a:lnTo>
                    <a:lnTo>
                      <a:pt x="1166" y="617"/>
                    </a:lnTo>
                    <a:lnTo>
                      <a:pt x="1300" y="572"/>
                    </a:lnTo>
                    <a:lnTo>
                      <a:pt x="1323" y="550"/>
                    </a:lnTo>
                    <a:lnTo>
                      <a:pt x="1267" y="527"/>
                    </a:lnTo>
                    <a:lnTo>
                      <a:pt x="1200" y="561"/>
                    </a:lnTo>
                    <a:lnTo>
                      <a:pt x="1043" y="583"/>
                    </a:lnTo>
                    <a:lnTo>
                      <a:pt x="931" y="572"/>
                    </a:lnTo>
                    <a:lnTo>
                      <a:pt x="875" y="550"/>
                    </a:lnTo>
                    <a:lnTo>
                      <a:pt x="898" y="494"/>
                    </a:lnTo>
                    <a:lnTo>
                      <a:pt x="796" y="416"/>
                    </a:lnTo>
                    <a:lnTo>
                      <a:pt x="695" y="315"/>
                    </a:lnTo>
                    <a:lnTo>
                      <a:pt x="639" y="213"/>
                    </a:lnTo>
                    <a:lnTo>
                      <a:pt x="617" y="146"/>
                    </a:lnTo>
                    <a:lnTo>
                      <a:pt x="617" y="124"/>
                    </a:lnTo>
                    <a:lnTo>
                      <a:pt x="639" y="124"/>
                    </a:lnTo>
                    <a:lnTo>
                      <a:pt x="695" y="168"/>
                    </a:lnTo>
                    <a:lnTo>
                      <a:pt x="773" y="269"/>
                    </a:lnTo>
                    <a:lnTo>
                      <a:pt x="875" y="393"/>
                    </a:lnTo>
                    <a:lnTo>
                      <a:pt x="898" y="427"/>
                    </a:lnTo>
                    <a:lnTo>
                      <a:pt x="942" y="404"/>
                    </a:lnTo>
                    <a:lnTo>
                      <a:pt x="920" y="337"/>
                    </a:lnTo>
                    <a:lnTo>
                      <a:pt x="931" y="291"/>
                    </a:lnTo>
                    <a:lnTo>
                      <a:pt x="942" y="235"/>
                    </a:lnTo>
                    <a:lnTo>
                      <a:pt x="965" y="235"/>
                    </a:lnTo>
                    <a:lnTo>
                      <a:pt x="987" y="303"/>
                    </a:lnTo>
                    <a:lnTo>
                      <a:pt x="998" y="348"/>
                    </a:lnTo>
                    <a:lnTo>
                      <a:pt x="1032" y="360"/>
                    </a:lnTo>
                    <a:lnTo>
                      <a:pt x="1077" y="258"/>
                    </a:lnTo>
                    <a:lnTo>
                      <a:pt x="1099" y="224"/>
                    </a:lnTo>
                    <a:lnTo>
                      <a:pt x="1110" y="280"/>
                    </a:lnTo>
                    <a:lnTo>
                      <a:pt x="1110" y="371"/>
                    </a:lnTo>
                    <a:lnTo>
                      <a:pt x="1144" y="393"/>
                    </a:lnTo>
                    <a:lnTo>
                      <a:pt x="1200" y="315"/>
                    </a:lnTo>
                    <a:lnTo>
                      <a:pt x="1256" y="213"/>
                    </a:lnTo>
                    <a:lnTo>
                      <a:pt x="1312" y="191"/>
                    </a:lnTo>
                    <a:lnTo>
                      <a:pt x="1312" y="202"/>
                    </a:lnTo>
                    <a:lnTo>
                      <a:pt x="1278" y="269"/>
                    </a:lnTo>
                    <a:lnTo>
                      <a:pt x="1244" y="371"/>
                    </a:lnTo>
                    <a:lnTo>
                      <a:pt x="1278" y="382"/>
                    </a:lnTo>
                    <a:lnTo>
                      <a:pt x="1458" y="258"/>
                    </a:lnTo>
                    <a:lnTo>
                      <a:pt x="1480" y="258"/>
                    </a:lnTo>
                    <a:lnTo>
                      <a:pt x="1312" y="427"/>
                    </a:lnTo>
                    <a:lnTo>
                      <a:pt x="1278" y="460"/>
                    </a:lnTo>
                    <a:lnTo>
                      <a:pt x="1267" y="516"/>
                    </a:lnTo>
                    <a:lnTo>
                      <a:pt x="1300" y="539"/>
                    </a:lnTo>
                    <a:lnTo>
                      <a:pt x="1402" y="583"/>
                    </a:lnTo>
                    <a:lnTo>
                      <a:pt x="1570" y="673"/>
                    </a:lnTo>
                    <a:lnTo>
                      <a:pt x="1682" y="762"/>
                    </a:lnTo>
                    <a:lnTo>
                      <a:pt x="1816" y="897"/>
                    </a:lnTo>
                    <a:lnTo>
                      <a:pt x="1918" y="1043"/>
                    </a:lnTo>
                    <a:lnTo>
                      <a:pt x="1985" y="1200"/>
                    </a:lnTo>
                    <a:lnTo>
                      <a:pt x="2030" y="1401"/>
                    </a:lnTo>
                    <a:lnTo>
                      <a:pt x="2018" y="1547"/>
                    </a:lnTo>
                    <a:lnTo>
                      <a:pt x="2007" y="1704"/>
                    </a:lnTo>
                    <a:lnTo>
                      <a:pt x="1940" y="1872"/>
                    </a:lnTo>
                    <a:lnTo>
                      <a:pt x="1873" y="1995"/>
                    </a:lnTo>
                    <a:lnTo>
                      <a:pt x="1794" y="2062"/>
                    </a:lnTo>
                    <a:lnTo>
                      <a:pt x="1704" y="2152"/>
                    </a:lnTo>
                    <a:lnTo>
                      <a:pt x="1536" y="2220"/>
                    </a:lnTo>
                    <a:lnTo>
                      <a:pt x="1334" y="2276"/>
                    </a:lnTo>
                    <a:lnTo>
                      <a:pt x="1233" y="2287"/>
                    </a:lnTo>
                    <a:lnTo>
                      <a:pt x="1043" y="2287"/>
                    </a:lnTo>
                    <a:lnTo>
                      <a:pt x="864" y="2265"/>
                    </a:lnTo>
                    <a:lnTo>
                      <a:pt x="650" y="2209"/>
                    </a:lnTo>
                    <a:lnTo>
                      <a:pt x="449" y="2118"/>
                    </a:lnTo>
                    <a:lnTo>
                      <a:pt x="291" y="2029"/>
                    </a:lnTo>
                    <a:lnTo>
                      <a:pt x="157" y="1928"/>
                    </a:lnTo>
                    <a:lnTo>
                      <a:pt x="101" y="1850"/>
                    </a:lnTo>
                    <a:lnTo>
                      <a:pt x="90" y="1771"/>
                    </a:lnTo>
                    <a:lnTo>
                      <a:pt x="68" y="1535"/>
                    </a:lnTo>
                    <a:lnTo>
                      <a:pt x="79" y="1379"/>
                    </a:lnTo>
                    <a:lnTo>
                      <a:pt x="146" y="1211"/>
                    </a:lnTo>
                    <a:lnTo>
                      <a:pt x="235" y="1021"/>
                    </a:lnTo>
                    <a:lnTo>
                      <a:pt x="393" y="852"/>
                    </a:lnTo>
                    <a:lnTo>
                      <a:pt x="539" y="662"/>
                    </a:lnTo>
                    <a:lnTo>
                      <a:pt x="673" y="561"/>
                    </a:lnTo>
                    <a:lnTo>
                      <a:pt x="751" y="494"/>
                    </a:lnTo>
                    <a:lnTo>
                      <a:pt x="729" y="438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029760" y="1764000"/>
                <a:ext cx="148680" cy="318600"/>
              </a:xfrm>
              <a:custGeom>
                <a:avLst/>
                <a:gdLst/>
                <a:ahLst/>
                <a:rect l="l" t="t" r="r" b="b"/>
                <a:pathLst>
                  <a:path w="426" h="728">
                    <a:moveTo>
                      <a:pt x="258" y="134"/>
                    </a:moveTo>
                    <a:lnTo>
                      <a:pt x="336" y="145"/>
                    </a:lnTo>
                    <a:lnTo>
                      <a:pt x="403" y="201"/>
                    </a:lnTo>
                    <a:lnTo>
                      <a:pt x="426" y="257"/>
                    </a:lnTo>
                    <a:lnTo>
                      <a:pt x="347" y="279"/>
                    </a:lnTo>
                    <a:lnTo>
                      <a:pt x="302" y="234"/>
                    </a:lnTo>
                    <a:lnTo>
                      <a:pt x="247" y="212"/>
                    </a:lnTo>
                    <a:lnTo>
                      <a:pt x="191" y="201"/>
                    </a:lnTo>
                    <a:lnTo>
                      <a:pt x="101" y="223"/>
                    </a:lnTo>
                    <a:lnTo>
                      <a:pt x="79" y="279"/>
                    </a:lnTo>
                    <a:lnTo>
                      <a:pt x="124" y="324"/>
                    </a:lnTo>
                    <a:lnTo>
                      <a:pt x="235" y="357"/>
                    </a:lnTo>
                    <a:lnTo>
                      <a:pt x="347" y="357"/>
                    </a:lnTo>
                    <a:lnTo>
                      <a:pt x="381" y="391"/>
                    </a:lnTo>
                    <a:lnTo>
                      <a:pt x="403" y="447"/>
                    </a:lnTo>
                    <a:lnTo>
                      <a:pt x="392" y="514"/>
                    </a:lnTo>
                    <a:lnTo>
                      <a:pt x="325" y="559"/>
                    </a:lnTo>
                    <a:lnTo>
                      <a:pt x="247" y="559"/>
                    </a:lnTo>
                    <a:lnTo>
                      <a:pt x="191" y="559"/>
                    </a:lnTo>
                    <a:lnTo>
                      <a:pt x="168" y="615"/>
                    </a:lnTo>
                    <a:lnTo>
                      <a:pt x="179" y="716"/>
                    </a:lnTo>
                    <a:lnTo>
                      <a:pt x="101" y="728"/>
                    </a:lnTo>
                    <a:lnTo>
                      <a:pt x="90" y="649"/>
                    </a:lnTo>
                    <a:lnTo>
                      <a:pt x="112" y="559"/>
                    </a:lnTo>
                    <a:lnTo>
                      <a:pt x="45" y="525"/>
                    </a:lnTo>
                    <a:lnTo>
                      <a:pt x="0" y="492"/>
                    </a:lnTo>
                    <a:lnTo>
                      <a:pt x="68" y="425"/>
                    </a:lnTo>
                    <a:lnTo>
                      <a:pt x="101" y="469"/>
                    </a:lnTo>
                    <a:lnTo>
                      <a:pt x="157" y="480"/>
                    </a:lnTo>
                    <a:lnTo>
                      <a:pt x="235" y="492"/>
                    </a:lnTo>
                    <a:lnTo>
                      <a:pt x="302" y="492"/>
                    </a:lnTo>
                    <a:lnTo>
                      <a:pt x="336" y="480"/>
                    </a:lnTo>
                    <a:lnTo>
                      <a:pt x="314" y="436"/>
                    </a:lnTo>
                    <a:lnTo>
                      <a:pt x="258" y="425"/>
                    </a:lnTo>
                    <a:lnTo>
                      <a:pt x="157" y="402"/>
                    </a:lnTo>
                    <a:lnTo>
                      <a:pt x="56" y="369"/>
                    </a:lnTo>
                    <a:lnTo>
                      <a:pt x="23" y="313"/>
                    </a:lnTo>
                    <a:lnTo>
                      <a:pt x="11" y="246"/>
                    </a:lnTo>
                    <a:lnTo>
                      <a:pt x="68" y="178"/>
                    </a:lnTo>
                    <a:lnTo>
                      <a:pt x="146" y="123"/>
                    </a:lnTo>
                    <a:lnTo>
                      <a:pt x="202" y="123"/>
                    </a:lnTo>
                    <a:lnTo>
                      <a:pt x="224" y="0"/>
                    </a:lnTo>
                    <a:lnTo>
                      <a:pt x="291" y="11"/>
                    </a:lnTo>
                    <a:lnTo>
                      <a:pt x="258" y="134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892600" y="1749240"/>
                <a:ext cx="62640" cy="112680"/>
              </a:xfrm>
              <a:custGeom>
                <a:avLst/>
                <a:gdLst/>
                <a:ahLst/>
                <a:rect l="l" t="t" r="r" b="b"/>
                <a:pathLst>
                  <a:path w="179" h="259">
                    <a:moveTo>
                      <a:pt x="0" y="203"/>
                    </a:moveTo>
                    <a:lnTo>
                      <a:pt x="78" y="68"/>
                    </a:lnTo>
                    <a:lnTo>
                      <a:pt x="179" y="0"/>
                    </a:lnTo>
                    <a:lnTo>
                      <a:pt x="179" y="35"/>
                    </a:lnTo>
                    <a:lnTo>
                      <a:pt x="111" y="113"/>
                    </a:lnTo>
                    <a:lnTo>
                      <a:pt x="33" y="259"/>
                    </a:lnTo>
                    <a:lnTo>
                      <a:pt x="0" y="203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312360" y="2034000"/>
                <a:ext cx="38880" cy="78840"/>
              </a:xfrm>
              <a:custGeom>
                <a:avLst/>
                <a:gdLst/>
                <a:ahLst/>
                <a:rect l="l" t="t" r="r" b="b"/>
                <a:pathLst>
                  <a:path w="112" h="180">
                    <a:moveTo>
                      <a:pt x="112" y="0"/>
                    </a:moveTo>
                    <a:lnTo>
                      <a:pt x="34" y="112"/>
                    </a:lnTo>
                    <a:lnTo>
                      <a:pt x="0" y="157"/>
                    </a:lnTo>
                    <a:lnTo>
                      <a:pt x="45" y="180"/>
                    </a:lnTo>
                    <a:lnTo>
                      <a:pt x="78" y="157"/>
                    </a:lnTo>
                    <a:lnTo>
                      <a:pt x="112" y="79"/>
                    </a:lnTo>
                    <a:lnTo>
                      <a:pt x="112" y="45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4858920" y="2910960"/>
              <a:ext cx="131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Analys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3276720" y="3747960"/>
            <a:ext cx="2514240" cy="2806560"/>
            <a:chOff x="3276720" y="3747960"/>
            <a:chExt cx="2514240" cy="2806560"/>
          </a:xfrm>
        </p:grpSpPr>
        <p:grpSp>
          <p:nvGrpSpPr>
            <p:cNvPr id="602" name=""/>
            <p:cNvGrpSpPr/>
            <p:nvPr/>
          </p:nvGrpSpPr>
          <p:grpSpPr>
            <a:xfrm>
              <a:off x="3353040" y="4205160"/>
              <a:ext cx="1447560" cy="1979280"/>
              <a:chOff x="3353040" y="4205160"/>
              <a:chExt cx="1447560" cy="1979280"/>
            </a:xfrm>
          </p:grpSpPr>
          <p:grpSp>
            <p:nvGrpSpPr>
              <p:cNvPr id="603" name=""/>
              <p:cNvGrpSpPr/>
              <p:nvPr/>
            </p:nvGrpSpPr>
            <p:grpSpPr>
              <a:xfrm>
                <a:off x="4015800" y="4205160"/>
                <a:ext cx="784800" cy="969480"/>
                <a:chOff x="4015800" y="4205160"/>
                <a:chExt cx="784800" cy="96948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4015800" y="4205160"/>
                  <a:ext cx="784800" cy="969480"/>
                </a:xfrm>
                <a:custGeom>
                  <a:avLst/>
                  <a:gdLst/>
                  <a:ahLst/>
                  <a:rect l="l" t="t" r="r" b="b"/>
                  <a:pathLst>
                    <a:path w="1250" h="1297">
                      <a:moveTo>
                        <a:pt x="16" y="272"/>
                      </a:moveTo>
                      <a:lnTo>
                        <a:pt x="8" y="170"/>
                      </a:lnTo>
                      <a:lnTo>
                        <a:pt x="71" y="76"/>
                      </a:lnTo>
                      <a:lnTo>
                        <a:pt x="190" y="0"/>
                      </a:lnTo>
                      <a:lnTo>
                        <a:pt x="369" y="32"/>
                      </a:lnTo>
                      <a:lnTo>
                        <a:pt x="527" y="120"/>
                      </a:lnTo>
                      <a:lnTo>
                        <a:pt x="724" y="190"/>
                      </a:lnTo>
                      <a:lnTo>
                        <a:pt x="935" y="259"/>
                      </a:lnTo>
                      <a:lnTo>
                        <a:pt x="1132" y="355"/>
                      </a:lnTo>
                      <a:lnTo>
                        <a:pt x="1250" y="443"/>
                      </a:lnTo>
                      <a:lnTo>
                        <a:pt x="1226" y="468"/>
                      </a:lnTo>
                      <a:lnTo>
                        <a:pt x="1006" y="632"/>
                      </a:lnTo>
                      <a:lnTo>
                        <a:pt x="927" y="721"/>
                      </a:lnTo>
                      <a:lnTo>
                        <a:pt x="911" y="804"/>
                      </a:lnTo>
                      <a:lnTo>
                        <a:pt x="903" y="911"/>
                      </a:lnTo>
                      <a:lnTo>
                        <a:pt x="889" y="1051"/>
                      </a:lnTo>
                      <a:lnTo>
                        <a:pt x="849" y="1196"/>
                      </a:lnTo>
                      <a:lnTo>
                        <a:pt x="786" y="1278"/>
                      </a:lnTo>
                      <a:lnTo>
                        <a:pt x="724" y="1297"/>
                      </a:lnTo>
                      <a:lnTo>
                        <a:pt x="653" y="1253"/>
                      </a:lnTo>
                      <a:lnTo>
                        <a:pt x="534" y="1196"/>
                      </a:lnTo>
                      <a:lnTo>
                        <a:pt x="409" y="1133"/>
                      </a:lnTo>
                      <a:lnTo>
                        <a:pt x="268" y="1088"/>
                      </a:lnTo>
                      <a:lnTo>
                        <a:pt x="142" y="1075"/>
                      </a:lnTo>
                      <a:lnTo>
                        <a:pt x="79" y="994"/>
                      </a:lnTo>
                      <a:lnTo>
                        <a:pt x="32" y="874"/>
                      </a:lnTo>
                      <a:lnTo>
                        <a:pt x="0" y="677"/>
                      </a:lnTo>
                      <a:lnTo>
                        <a:pt x="8" y="506"/>
                      </a:lnTo>
                      <a:lnTo>
                        <a:pt x="24" y="405"/>
                      </a:lnTo>
                      <a:lnTo>
                        <a:pt x="79" y="405"/>
                      </a:lnTo>
                      <a:lnTo>
                        <a:pt x="71" y="576"/>
                      </a:lnTo>
                      <a:lnTo>
                        <a:pt x="71" y="759"/>
                      </a:lnTo>
                      <a:lnTo>
                        <a:pt x="103" y="867"/>
                      </a:lnTo>
                      <a:lnTo>
                        <a:pt x="158" y="994"/>
                      </a:lnTo>
                      <a:lnTo>
                        <a:pt x="283" y="1044"/>
                      </a:lnTo>
                      <a:lnTo>
                        <a:pt x="456" y="1082"/>
                      </a:lnTo>
                      <a:lnTo>
                        <a:pt x="597" y="1145"/>
                      </a:lnTo>
                      <a:lnTo>
                        <a:pt x="732" y="1221"/>
                      </a:lnTo>
                      <a:lnTo>
                        <a:pt x="786" y="1171"/>
                      </a:lnTo>
                      <a:lnTo>
                        <a:pt x="818" y="1063"/>
                      </a:lnTo>
                      <a:lnTo>
                        <a:pt x="833" y="924"/>
                      </a:lnTo>
                      <a:lnTo>
                        <a:pt x="849" y="778"/>
                      </a:lnTo>
                      <a:lnTo>
                        <a:pt x="903" y="652"/>
                      </a:lnTo>
                      <a:lnTo>
                        <a:pt x="1061" y="519"/>
                      </a:lnTo>
                      <a:lnTo>
                        <a:pt x="1132" y="449"/>
                      </a:lnTo>
                      <a:lnTo>
                        <a:pt x="1124" y="423"/>
                      </a:lnTo>
                      <a:lnTo>
                        <a:pt x="927" y="316"/>
                      </a:lnTo>
                      <a:lnTo>
                        <a:pt x="732" y="247"/>
                      </a:lnTo>
                      <a:lnTo>
                        <a:pt x="566" y="183"/>
                      </a:lnTo>
                      <a:lnTo>
                        <a:pt x="464" y="146"/>
                      </a:lnTo>
                      <a:lnTo>
                        <a:pt x="361" y="95"/>
                      </a:lnTo>
                      <a:lnTo>
                        <a:pt x="299" y="70"/>
                      </a:lnTo>
                      <a:lnTo>
                        <a:pt x="196" y="63"/>
                      </a:lnTo>
                      <a:lnTo>
                        <a:pt x="134" y="107"/>
                      </a:lnTo>
                      <a:lnTo>
                        <a:pt x="87" y="177"/>
                      </a:lnTo>
                      <a:lnTo>
                        <a:pt x="87" y="240"/>
                      </a:lnTo>
                      <a:lnTo>
                        <a:pt x="79" y="303"/>
                      </a:lnTo>
                      <a:lnTo>
                        <a:pt x="16" y="272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4182840" y="4502160"/>
                  <a:ext cx="246240" cy="344880"/>
                </a:xfrm>
                <a:custGeom>
                  <a:avLst/>
                  <a:gdLst/>
                  <a:ahLst/>
                  <a:rect l="l" t="t" r="r" b="b"/>
                  <a:pathLst>
                    <a:path w="393" h="463">
                      <a:moveTo>
                        <a:pt x="46" y="127"/>
                      </a:moveTo>
                      <a:lnTo>
                        <a:pt x="133" y="51"/>
                      </a:lnTo>
                      <a:lnTo>
                        <a:pt x="274" y="0"/>
                      </a:lnTo>
                      <a:lnTo>
                        <a:pt x="345" y="102"/>
                      </a:lnTo>
                      <a:lnTo>
                        <a:pt x="393" y="234"/>
                      </a:lnTo>
                      <a:lnTo>
                        <a:pt x="282" y="463"/>
                      </a:lnTo>
                      <a:lnTo>
                        <a:pt x="141" y="456"/>
                      </a:lnTo>
                      <a:lnTo>
                        <a:pt x="0" y="380"/>
                      </a:lnTo>
                      <a:lnTo>
                        <a:pt x="0" y="184"/>
                      </a:lnTo>
                      <a:lnTo>
                        <a:pt x="38" y="178"/>
                      </a:lnTo>
                      <a:lnTo>
                        <a:pt x="70" y="209"/>
                      </a:lnTo>
                      <a:lnTo>
                        <a:pt x="62" y="361"/>
                      </a:lnTo>
                      <a:lnTo>
                        <a:pt x="157" y="418"/>
                      </a:lnTo>
                      <a:lnTo>
                        <a:pt x="266" y="405"/>
                      </a:lnTo>
                      <a:lnTo>
                        <a:pt x="329" y="241"/>
                      </a:lnTo>
                      <a:lnTo>
                        <a:pt x="242" y="241"/>
                      </a:lnTo>
                      <a:lnTo>
                        <a:pt x="133" y="197"/>
                      </a:lnTo>
                      <a:lnTo>
                        <a:pt x="141" y="184"/>
                      </a:lnTo>
                      <a:lnTo>
                        <a:pt x="274" y="209"/>
                      </a:lnTo>
                      <a:lnTo>
                        <a:pt x="345" y="202"/>
                      </a:lnTo>
                      <a:lnTo>
                        <a:pt x="258" y="45"/>
                      </a:lnTo>
                      <a:lnTo>
                        <a:pt x="164" y="95"/>
                      </a:lnTo>
                      <a:lnTo>
                        <a:pt x="78" y="171"/>
                      </a:lnTo>
                      <a:lnTo>
                        <a:pt x="46" y="127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3353040" y="4314240"/>
                <a:ext cx="1324080" cy="1870200"/>
                <a:chOff x="3353040" y="4314240"/>
                <a:chExt cx="1324080" cy="187020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3609360" y="4635360"/>
                  <a:ext cx="1067760" cy="344880"/>
                </a:xfrm>
                <a:custGeom>
                  <a:avLst/>
                  <a:gdLst/>
                  <a:ahLst/>
                  <a:rect l="l" t="t" r="r" b="b"/>
                  <a:pathLst>
                    <a:path w="1697" h="462">
                      <a:moveTo>
                        <a:pt x="0" y="360"/>
                      </a:moveTo>
                      <a:lnTo>
                        <a:pt x="38" y="322"/>
                      </a:lnTo>
                      <a:lnTo>
                        <a:pt x="125" y="309"/>
                      </a:lnTo>
                      <a:lnTo>
                        <a:pt x="401" y="353"/>
                      </a:lnTo>
                      <a:lnTo>
                        <a:pt x="667" y="392"/>
                      </a:lnTo>
                      <a:lnTo>
                        <a:pt x="997" y="386"/>
                      </a:lnTo>
                      <a:lnTo>
                        <a:pt x="1304" y="334"/>
                      </a:lnTo>
                      <a:lnTo>
                        <a:pt x="1493" y="246"/>
                      </a:lnTo>
                      <a:lnTo>
                        <a:pt x="1469" y="177"/>
                      </a:lnTo>
                      <a:lnTo>
                        <a:pt x="1501" y="81"/>
                      </a:lnTo>
                      <a:lnTo>
                        <a:pt x="1571" y="31"/>
                      </a:lnTo>
                      <a:lnTo>
                        <a:pt x="1650" y="0"/>
                      </a:lnTo>
                      <a:lnTo>
                        <a:pt x="1681" y="68"/>
                      </a:lnTo>
                      <a:lnTo>
                        <a:pt x="1697" y="138"/>
                      </a:lnTo>
                      <a:lnTo>
                        <a:pt x="1665" y="271"/>
                      </a:lnTo>
                      <a:lnTo>
                        <a:pt x="1586" y="309"/>
                      </a:lnTo>
                      <a:lnTo>
                        <a:pt x="1398" y="360"/>
                      </a:lnTo>
                      <a:lnTo>
                        <a:pt x="1194" y="404"/>
                      </a:lnTo>
                      <a:lnTo>
                        <a:pt x="856" y="455"/>
                      </a:lnTo>
                      <a:lnTo>
                        <a:pt x="542" y="462"/>
                      </a:lnTo>
                      <a:lnTo>
                        <a:pt x="117" y="429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3526200" y="4388760"/>
                  <a:ext cx="577080" cy="491400"/>
                </a:xfrm>
                <a:custGeom>
                  <a:avLst/>
                  <a:gdLst/>
                  <a:ahLst/>
                  <a:rect l="l" t="t" r="r" b="b"/>
                  <a:pathLst>
                    <a:path w="919" h="658">
                      <a:moveTo>
                        <a:pt x="24" y="658"/>
                      </a:moveTo>
                      <a:lnTo>
                        <a:pt x="0" y="594"/>
                      </a:lnTo>
                      <a:lnTo>
                        <a:pt x="46" y="538"/>
                      </a:lnTo>
                      <a:lnTo>
                        <a:pt x="203" y="487"/>
                      </a:lnTo>
                      <a:lnTo>
                        <a:pt x="385" y="474"/>
                      </a:lnTo>
                      <a:lnTo>
                        <a:pt x="510" y="442"/>
                      </a:lnTo>
                      <a:lnTo>
                        <a:pt x="588" y="385"/>
                      </a:lnTo>
                      <a:lnTo>
                        <a:pt x="675" y="259"/>
                      </a:lnTo>
                      <a:lnTo>
                        <a:pt x="745" y="120"/>
                      </a:lnTo>
                      <a:lnTo>
                        <a:pt x="745" y="50"/>
                      </a:lnTo>
                      <a:lnTo>
                        <a:pt x="785" y="12"/>
                      </a:lnTo>
                      <a:lnTo>
                        <a:pt x="840" y="0"/>
                      </a:lnTo>
                      <a:lnTo>
                        <a:pt x="895" y="32"/>
                      </a:lnTo>
                      <a:lnTo>
                        <a:pt x="919" y="100"/>
                      </a:lnTo>
                      <a:lnTo>
                        <a:pt x="911" y="189"/>
                      </a:lnTo>
                      <a:lnTo>
                        <a:pt x="880" y="253"/>
                      </a:lnTo>
                      <a:lnTo>
                        <a:pt x="848" y="253"/>
                      </a:lnTo>
                      <a:lnTo>
                        <a:pt x="832" y="228"/>
                      </a:lnTo>
                      <a:lnTo>
                        <a:pt x="785" y="221"/>
                      </a:lnTo>
                      <a:lnTo>
                        <a:pt x="699" y="316"/>
                      </a:lnTo>
                      <a:lnTo>
                        <a:pt x="596" y="462"/>
                      </a:lnTo>
                      <a:lnTo>
                        <a:pt x="526" y="525"/>
                      </a:lnTo>
                      <a:lnTo>
                        <a:pt x="385" y="562"/>
                      </a:lnTo>
                      <a:lnTo>
                        <a:pt x="219" y="601"/>
                      </a:lnTo>
                      <a:lnTo>
                        <a:pt x="110" y="632"/>
                      </a:lnTo>
                      <a:lnTo>
                        <a:pt x="24" y="65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3452040" y="4808520"/>
                  <a:ext cx="438840" cy="727560"/>
                </a:xfrm>
                <a:custGeom>
                  <a:avLst/>
                  <a:gdLst/>
                  <a:ahLst/>
                  <a:rect l="l" t="t" r="r" b="b"/>
                  <a:pathLst>
                    <a:path w="699" h="975">
                      <a:moveTo>
                        <a:pt x="0" y="128"/>
                      </a:moveTo>
                      <a:lnTo>
                        <a:pt x="39" y="52"/>
                      </a:lnTo>
                      <a:lnTo>
                        <a:pt x="93" y="0"/>
                      </a:lnTo>
                      <a:lnTo>
                        <a:pt x="235" y="0"/>
                      </a:lnTo>
                      <a:lnTo>
                        <a:pt x="377" y="52"/>
                      </a:lnTo>
                      <a:lnTo>
                        <a:pt x="542" y="196"/>
                      </a:lnTo>
                      <a:lnTo>
                        <a:pt x="627" y="311"/>
                      </a:lnTo>
                      <a:lnTo>
                        <a:pt x="683" y="469"/>
                      </a:lnTo>
                      <a:lnTo>
                        <a:pt x="699" y="652"/>
                      </a:lnTo>
                      <a:lnTo>
                        <a:pt x="667" y="848"/>
                      </a:lnTo>
                      <a:lnTo>
                        <a:pt x="589" y="944"/>
                      </a:lnTo>
                      <a:lnTo>
                        <a:pt x="448" y="975"/>
                      </a:lnTo>
                      <a:lnTo>
                        <a:pt x="361" y="969"/>
                      </a:lnTo>
                      <a:lnTo>
                        <a:pt x="290" y="937"/>
                      </a:lnTo>
                      <a:lnTo>
                        <a:pt x="228" y="893"/>
                      </a:lnTo>
                      <a:lnTo>
                        <a:pt x="204" y="817"/>
                      </a:lnTo>
                      <a:lnTo>
                        <a:pt x="220" y="741"/>
                      </a:lnTo>
                      <a:lnTo>
                        <a:pt x="275" y="697"/>
                      </a:lnTo>
                      <a:lnTo>
                        <a:pt x="313" y="647"/>
                      </a:lnTo>
                      <a:lnTo>
                        <a:pt x="329" y="583"/>
                      </a:lnTo>
                      <a:lnTo>
                        <a:pt x="329" y="526"/>
                      </a:lnTo>
                      <a:lnTo>
                        <a:pt x="298" y="475"/>
                      </a:lnTo>
                      <a:lnTo>
                        <a:pt x="188" y="387"/>
                      </a:lnTo>
                      <a:lnTo>
                        <a:pt x="55" y="285"/>
                      </a:lnTo>
                      <a:lnTo>
                        <a:pt x="7" y="203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3353040" y="4314240"/>
                  <a:ext cx="450000" cy="382320"/>
                </a:xfrm>
                <a:custGeom>
                  <a:avLst/>
                  <a:gdLst/>
                  <a:ahLst/>
                  <a:rect l="l" t="t" r="r" b="b"/>
                  <a:pathLst>
                    <a:path w="715" h="512">
                      <a:moveTo>
                        <a:pt x="526" y="278"/>
                      </a:moveTo>
                      <a:lnTo>
                        <a:pt x="471" y="190"/>
                      </a:lnTo>
                      <a:lnTo>
                        <a:pt x="369" y="82"/>
                      </a:lnTo>
                      <a:lnTo>
                        <a:pt x="274" y="13"/>
                      </a:lnTo>
                      <a:lnTo>
                        <a:pt x="164" y="0"/>
                      </a:lnTo>
                      <a:lnTo>
                        <a:pt x="71" y="26"/>
                      </a:lnTo>
                      <a:lnTo>
                        <a:pt x="7" y="89"/>
                      </a:lnTo>
                      <a:lnTo>
                        <a:pt x="0" y="177"/>
                      </a:lnTo>
                      <a:lnTo>
                        <a:pt x="47" y="303"/>
                      </a:lnTo>
                      <a:lnTo>
                        <a:pt x="164" y="423"/>
                      </a:lnTo>
                      <a:lnTo>
                        <a:pt x="298" y="506"/>
                      </a:lnTo>
                      <a:lnTo>
                        <a:pt x="424" y="512"/>
                      </a:lnTo>
                      <a:lnTo>
                        <a:pt x="502" y="486"/>
                      </a:lnTo>
                      <a:lnTo>
                        <a:pt x="518" y="449"/>
                      </a:lnTo>
                      <a:lnTo>
                        <a:pt x="526" y="392"/>
                      </a:lnTo>
                      <a:lnTo>
                        <a:pt x="621" y="405"/>
                      </a:lnTo>
                      <a:lnTo>
                        <a:pt x="683" y="430"/>
                      </a:lnTo>
                      <a:lnTo>
                        <a:pt x="715" y="392"/>
                      </a:lnTo>
                      <a:lnTo>
                        <a:pt x="683" y="366"/>
                      </a:lnTo>
                      <a:lnTo>
                        <a:pt x="581" y="335"/>
                      </a:lnTo>
                      <a:lnTo>
                        <a:pt x="518" y="316"/>
                      </a:lnTo>
                      <a:lnTo>
                        <a:pt x="526" y="27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3555360" y="5413680"/>
                  <a:ext cx="276480" cy="718560"/>
                </a:xfrm>
                <a:custGeom>
                  <a:avLst/>
                  <a:gdLst/>
                  <a:ahLst/>
                  <a:rect l="l" t="t" r="r" b="b"/>
                  <a:pathLst>
                    <a:path w="440" h="961">
                      <a:moveTo>
                        <a:pt x="110" y="0"/>
                      </a:moveTo>
                      <a:lnTo>
                        <a:pt x="188" y="6"/>
                      </a:lnTo>
                      <a:lnTo>
                        <a:pt x="244" y="89"/>
                      </a:lnTo>
                      <a:lnTo>
                        <a:pt x="228" y="171"/>
                      </a:lnTo>
                      <a:lnTo>
                        <a:pt x="204" y="342"/>
                      </a:lnTo>
                      <a:lnTo>
                        <a:pt x="212" y="449"/>
                      </a:lnTo>
                      <a:lnTo>
                        <a:pt x="204" y="557"/>
                      </a:lnTo>
                      <a:lnTo>
                        <a:pt x="141" y="778"/>
                      </a:lnTo>
                      <a:lnTo>
                        <a:pt x="125" y="835"/>
                      </a:lnTo>
                      <a:lnTo>
                        <a:pt x="141" y="848"/>
                      </a:lnTo>
                      <a:lnTo>
                        <a:pt x="228" y="810"/>
                      </a:lnTo>
                      <a:lnTo>
                        <a:pt x="369" y="791"/>
                      </a:lnTo>
                      <a:lnTo>
                        <a:pt x="440" y="816"/>
                      </a:lnTo>
                      <a:lnTo>
                        <a:pt x="432" y="860"/>
                      </a:lnTo>
                      <a:lnTo>
                        <a:pt x="337" y="880"/>
                      </a:lnTo>
                      <a:lnTo>
                        <a:pt x="228" y="886"/>
                      </a:lnTo>
                      <a:lnTo>
                        <a:pt x="117" y="924"/>
                      </a:lnTo>
                      <a:lnTo>
                        <a:pt x="32" y="961"/>
                      </a:lnTo>
                      <a:lnTo>
                        <a:pt x="0" y="943"/>
                      </a:lnTo>
                      <a:lnTo>
                        <a:pt x="0" y="880"/>
                      </a:lnTo>
                      <a:lnTo>
                        <a:pt x="63" y="760"/>
                      </a:lnTo>
                      <a:lnTo>
                        <a:pt x="95" y="620"/>
                      </a:lnTo>
                      <a:lnTo>
                        <a:pt x="110" y="424"/>
                      </a:lnTo>
                      <a:lnTo>
                        <a:pt x="79" y="247"/>
                      </a:lnTo>
                      <a:lnTo>
                        <a:pt x="47" y="108"/>
                      </a:lnTo>
                      <a:lnTo>
                        <a:pt x="79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3707280" y="5347800"/>
                  <a:ext cx="444960" cy="836640"/>
                </a:xfrm>
                <a:custGeom>
                  <a:avLst/>
                  <a:gdLst/>
                  <a:ahLst/>
                  <a:rect l="l" t="t" r="r" b="b"/>
                  <a:pathLst>
                    <a:path w="707" h="1120">
                      <a:moveTo>
                        <a:pt x="150" y="12"/>
                      </a:moveTo>
                      <a:lnTo>
                        <a:pt x="40" y="0"/>
                      </a:lnTo>
                      <a:lnTo>
                        <a:pt x="0" y="63"/>
                      </a:lnTo>
                      <a:lnTo>
                        <a:pt x="40" y="138"/>
                      </a:lnTo>
                      <a:lnTo>
                        <a:pt x="150" y="265"/>
                      </a:lnTo>
                      <a:lnTo>
                        <a:pt x="235" y="449"/>
                      </a:lnTo>
                      <a:lnTo>
                        <a:pt x="267" y="600"/>
                      </a:lnTo>
                      <a:lnTo>
                        <a:pt x="251" y="759"/>
                      </a:lnTo>
                      <a:lnTo>
                        <a:pt x="221" y="961"/>
                      </a:lnTo>
                      <a:lnTo>
                        <a:pt x="189" y="1075"/>
                      </a:lnTo>
                      <a:lnTo>
                        <a:pt x="205" y="1120"/>
                      </a:lnTo>
                      <a:lnTo>
                        <a:pt x="259" y="1120"/>
                      </a:lnTo>
                      <a:lnTo>
                        <a:pt x="362" y="1081"/>
                      </a:lnTo>
                      <a:lnTo>
                        <a:pt x="519" y="1056"/>
                      </a:lnTo>
                      <a:lnTo>
                        <a:pt x="684" y="1056"/>
                      </a:lnTo>
                      <a:lnTo>
                        <a:pt x="707" y="1018"/>
                      </a:lnTo>
                      <a:lnTo>
                        <a:pt x="614" y="968"/>
                      </a:lnTo>
                      <a:lnTo>
                        <a:pt x="566" y="968"/>
                      </a:lnTo>
                      <a:lnTo>
                        <a:pt x="362" y="1018"/>
                      </a:lnTo>
                      <a:lnTo>
                        <a:pt x="299" y="1037"/>
                      </a:lnTo>
                      <a:lnTo>
                        <a:pt x="283" y="1012"/>
                      </a:lnTo>
                      <a:lnTo>
                        <a:pt x="314" y="848"/>
                      </a:lnTo>
                      <a:lnTo>
                        <a:pt x="354" y="670"/>
                      </a:lnTo>
                      <a:lnTo>
                        <a:pt x="362" y="512"/>
                      </a:lnTo>
                      <a:lnTo>
                        <a:pt x="330" y="353"/>
                      </a:lnTo>
                      <a:lnTo>
                        <a:pt x="275" y="170"/>
                      </a:lnTo>
                      <a:lnTo>
                        <a:pt x="213" y="31"/>
                      </a:lnTo>
                      <a:lnTo>
                        <a:pt x="150" y="1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13" name=""/>
            <p:cNvSpPr/>
            <p:nvPr/>
          </p:nvSpPr>
          <p:spPr>
            <a:xfrm>
              <a:off x="3276720" y="603396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Architec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4800960" y="3747960"/>
              <a:ext cx="990000" cy="2057040"/>
              <a:chOff x="4800960" y="3747960"/>
              <a:chExt cx="990000" cy="2057040"/>
            </a:xfrm>
          </p:grpSpPr>
          <p:grpSp>
            <p:nvGrpSpPr>
              <p:cNvPr id="615" name=""/>
              <p:cNvGrpSpPr/>
              <p:nvPr/>
            </p:nvGrpSpPr>
            <p:grpSpPr>
              <a:xfrm>
                <a:off x="4800960" y="3747960"/>
                <a:ext cx="990000" cy="2057040"/>
                <a:chOff x="4800960" y="3747960"/>
                <a:chExt cx="990000" cy="205704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4806720" y="4336560"/>
                  <a:ext cx="984240" cy="395640"/>
                </a:xfrm>
                <a:custGeom>
                  <a:avLst/>
                  <a:gdLst/>
                  <a:ahLst/>
                  <a:rect l="l" t="t" r="r" b="b"/>
                  <a:pathLst>
                    <a:path w="686" h="265">
                      <a:moveTo>
                        <a:pt x="0" y="194"/>
                      </a:moveTo>
                      <a:lnTo>
                        <a:pt x="388" y="265"/>
                      </a:lnTo>
                      <a:lnTo>
                        <a:pt x="686" y="51"/>
                      </a:lnTo>
                      <a:lnTo>
                        <a:pt x="313" y="0"/>
                      </a:lnTo>
                      <a:lnTo>
                        <a:pt x="0" y="194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4943160" y="4001760"/>
                  <a:ext cx="408600" cy="670680"/>
                </a:xfrm>
                <a:custGeom>
                  <a:avLst/>
                  <a:gdLst/>
                  <a:ahLst/>
                  <a:rect l="l" t="t" r="r" b="b"/>
                  <a:pathLst>
                    <a:path w="285" h="449">
                      <a:moveTo>
                        <a:pt x="0" y="0"/>
                      </a:moveTo>
                      <a:lnTo>
                        <a:pt x="285" y="22"/>
                      </a:lnTo>
                      <a:lnTo>
                        <a:pt x="285" y="449"/>
                      </a:lnTo>
                      <a:lnTo>
                        <a:pt x="0" y="38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5346360" y="3891600"/>
                  <a:ext cx="352800" cy="776520"/>
                </a:xfrm>
                <a:custGeom>
                  <a:avLst/>
                  <a:gdLst/>
                  <a:ahLst/>
                  <a:rect l="l" t="t" r="r" b="b"/>
                  <a:pathLst>
                    <a:path w="246" h="520">
                      <a:moveTo>
                        <a:pt x="0" y="96"/>
                      </a:moveTo>
                      <a:lnTo>
                        <a:pt x="0" y="520"/>
                      </a:lnTo>
                      <a:lnTo>
                        <a:pt x="246" y="349"/>
                      </a:lnTo>
                      <a:lnTo>
                        <a:pt x="246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4943160" y="3861720"/>
                  <a:ext cx="756000" cy="172800"/>
                </a:xfrm>
                <a:custGeom>
                  <a:avLst/>
                  <a:gdLst/>
                  <a:ahLst/>
                  <a:rect l="l" t="t" r="r" b="b"/>
                  <a:pathLst>
                    <a:path w="527" h="116">
                      <a:moveTo>
                        <a:pt x="0" y="94"/>
                      </a:moveTo>
                      <a:lnTo>
                        <a:pt x="281" y="116"/>
                      </a:lnTo>
                      <a:lnTo>
                        <a:pt x="527" y="20"/>
                      </a:lnTo>
                      <a:lnTo>
                        <a:pt x="281" y="0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5040360" y="3747960"/>
                  <a:ext cx="552600" cy="104400"/>
                </a:xfrm>
                <a:custGeom>
                  <a:avLst/>
                  <a:gdLst/>
                  <a:ahLst/>
                  <a:rect l="l" t="t" r="r" b="b"/>
                  <a:pathLst>
                    <a:path w="385" h="70">
                      <a:moveTo>
                        <a:pt x="0" y="56"/>
                      </a:moveTo>
                      <a:lnTo>
                        <a:pt x="204" y="70"/>
                      </a:lnTo>
                      <a:lnTo>
                        <a:pt x="385" y="17"/>
                      </a:lnTo>
                      <a:lnTo>
                        <a:pt x="192" y="0"/>
                      </a:lnTo>
                      <a:lnTo>
                        <a:pt x="0" y="56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040360" y="3831480"/>
                  <a:ext cx="288360" cy="161280"/>
                </a:xfrm>
                <a:custGeom>
                  <a:avLst/>
                  <a:gdLst/>
                  <a:ahLst/>
                  <a:rect l="l" t="t" r="r" b="b"/>
                  <a:pathLst>
                    <a:path w="201" h="108">
                      <a:moveTo>
                        <a:pt x="0" y="0"/>
                      </a:moveTo>
                      <a:lnTo>
                        <a:pt x="201" y="13"/>
                      </a:lnTo>
                      <a:lnTo>
                        <a:pt x="201" y="108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329080" y="3773160"/>
                  <a:ext cx="263880" cy="219600"/>
                </a:xfrm>
                <a:custGeom>
                  <a:avLst/>
                  <a:gdLst/>
                  <a:ahLst/>
                  <a:rect l="l" t="t" r="r" b="b"/>
                  <a:pathLst>
                    <a:path w="184" h="147">
                      <a:moveTo>
                        <a:pt x="0" y="53"/>
                      </a:moveTo>
                      <a:lnTo>
                        <a:pt x="0" y="147"/>
                      </a:lnTo>
                      <a:lnTo>
                        <a:pt x="184" y="76"/>
                      </a:lnTo>
                      <a:lnTo>
                        <a:pt x="184" y="0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358960" y="4409640"/>
                  <a:ext cx="432000" cy="1395360"/>
                </a:xfrm>
                <a:custGeom>
                  <a:avLst/>
                  <a:gdLst/>
                  <a:ahLst/>
                  <a:rect l="l" t="t" r="r" b="b"/>
                  <a:pathLst>
                    <a:path w="301" h="934">
                      <a:moveTo>
                        <a:pt x="301" y="0"/>
                      </a:moveTo>
                      <a:lnTo>
                        <a:pt x="2" y="216"/>
                      </a:lnTo>
                      <a:lnTo>
                        <a:pt x="0" y="934"/>
                      </a:lnTo>
                      <a:lnTo>
                        <a:pt x="301" y="653"/>
                      </a:lnTo>
                      <a:lnTo>
                        <a:pt x="301" y="0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4800960" y="4626360"/>
                  <a:ext cx="560880" cy="1178640"/>
                </a:xfrm>
                <a:custGeom>
                  <a:avLst/>
                  <a:gdLst/>
                  <a:ahLst/>
                  <a:rect l="l" t="t" r="r" b="b"/>
                  <a:pathLst>
                    <a:path w="391" h="789">
                      <a:moveTo>
                        <a:pt x="4" y="0"/>
                      </a:moveTo>
                      <a:lnTo>
                        <a:pt x="391" y="71"/>
                      </a:lnTo>
                      <a:lnTo>
                        <a:pt x="391" y="789"/>
                      </a:lnTo>
                      <a:lnTo>
                        <a:pt x="0" y="66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5" name=""/>
              <p:cNvGrpSpPr/>
              <p:nvPr/>
            </p:nvGrpSpPr>
            <p:grpSpPr>
              <a:xfrm>
                <a:off x="4867560" y="4019400"/>
                <a:ext cx="438840" cy="875160"/>
                <a:chOff x="4867560" y="4019400"/>
                <a:chExt cx="438840" cy="875160"/>
              </a:xfrm>
            </p:grpSpPr>
            <p:grpSp>
              <p:nvGrpSpPr>
                <p:cNvPr id="626" name=""/>
                <p:cNvGrpSpPr/>
                <p:nvPr/>
              </p:nvGrpSpPr>
              <p:grpSpPr>
                <a:xfrm>
                  <a:off x="4970160" y="4019400"/>
                  <a:ext cx="336240" cy="198360"/>
                  <a:chOff x="4970160" y="4019400"/>
                  <a:chExt cx="336240" cy="198360"/>
                </a:xfrm>
              </p:grpSpPr>
              <p:sp>
                <p:nvSpPr>
                  <p:cNvPr id="627" name=""/>
                  <p:cNvSpPr/>
                  <p:nvPr/>
                </p:nvSpPr>
                <p:spPr>
                  <a:xfrm>
                    <a:off x="4970160" y="4019400"/>
                    <a:ext cx="6876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6">
                        <a:moveTo>
                          <a:pt x="0" y="0"/>
                        </a:moveTo>
                        <a:lnTo>
                          <a:pt x="48" y="5"/>
                        </a:lnTo>
                        <a:lnTo>
                          <a:pt x="48" y="106"/>
                        </a:lnTo>
                        <a:lnTo>
                          <a:pt x="1" y="9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5059080" y="4030920"/>
                    <a:ext cx="669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07">
                        <a:moveTo>
                          <a:pt x="0" y="0"/>
                        </a:moveTo>
                        <a:lnTo>
                          <a:pt x="47" y="4"/>
                        </a:lnTo>
                        <a:lnTo>
                          <a:pt x="47" y="107"/>
                        </a:lnTo>
                        <a:lnTo>
                          <a:pt x="0" y="1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5147640" y="4040280"/>
                    <a:ext cx="71640" cy="1641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10">
                        <a:moveTo>
                          <a:pt x="0" y="0"/>
                        </a:moveTo>
                        <a:lnTo>
                          <a:pt x="50" y="5"/>
                        </a:lnTo>
                        <a:lnTo>
                          <a:pt x="48" y="110"/>
                        </a:lnTo>
                        <a:lnTo>
                          <a:pt x="0" y="10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5239080" y="4048920"/>
                    <a:ext cx="67320" cy="1688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13">
                        <a:moveTo>
                          <a:pt x="0" y="0"/>
                        </a:moveTo>
                        <a:lnTo>
                          <a:pt x="47" y="5"/>
                        </a:lnTo>
                        <a:lnTo>
                          <a:pt x="47" y="113"/>
                        </a:lnTo>
                        <a:lnTo>
                          <a:pt x="0" y="10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1" name=""/>
                <p:cNvGrpSpPr/>
                <p:nvPr/>
              </p:nvGrpSpPr>
              <p:grpSpPr>
                <a:xfrm>
                  <a:off x="4969080" y="4207680"/>
                  <a:ext cx="335880" cy="204120"/>
                  <a:chOff x="4969080" y="4207680"/>
                  <a:chExt cx="335880" cy="204120"/>
                </a:xfrm>
              </p:grpSpPr>
              <p:sp>
                <p:nvSpPr>
                  <p:cNvPr id="632" name=""/>
                  <p:cNvSpPr/>
                  <p:nvPr/>
                </p:nvSpPr>
                <p:spPr>
                  <a:xfrm>
                    <a:off x="4969080" y="4207680"/>
                    <a:ext cx="68760" cy="1623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9">
                        <a:moveTo>
                          <a:pt x="0" y="0"/>
                        </a:moveTo>
                        <a:lnTo>
                          <a:pt x="48" y="7"/>
                        </a:lnTo>
                        <a:lnTo>
                          <a:pt x="48" y="109"/>
                        </a:lnTo>
                        <a:lnTo>
                          <a:pt x="1" y="10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5057640" y="4220640"/>
                    <a:ext cx="68760" cy="1641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10">
                        <a:moveTo>
                          <a:pt x="1" y="0"/>
                        </a:moveTo>
                        <a:lnTo>
                          <a:pt x="48" y="9"/>
                        </a:lnTo>
                        <a:lnTo>
                          <a:pt x="47" y="110"/>
                        </a:lnTo>
                        <a:lnTo>
                          <a:pt x="0" y="102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5146560" y="4235760"/>
                    <a:ext cx="71280" cy="16128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08">
                        <a:moveTo>
                          <a:pt x="0" y="0"/>
                        </a:moveTo>
                        <a:lnTo>
                          <a:pt x="50" y="6"/>
                        </a:lnTo>
                        <a:lnTo>
                          <a:pt x="48" y="108"/>
                        </a:lnTo>
                        <a:lnTo>
                          <a:pt x="0" y="10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5238000" y="4249080"/>
                    <a:ext cx="66960" cy="1627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09">
                        <a:moveTo>
                          <a:pt x="0" y="0"/>
                        </a:moveTo>
                        <a:lnTo>
                          <a:pt x="47" y="8"/>
                        </a:lnTo>
                        <a:lnTo>
                          <a:pt x="47" y="109"/>
                        </a:lnTo>
                        <a:lnTo>
                          <a:pt x="0" y="10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6" name=""/>
                <p:cNvGrpSpPr/>
                <p:nvPr/>
              </p:nvGrpSpPr>
              <p:grpSpPr>
                <a:xfrm>
                  <a:off x="4867560" y="4666680"/>
                  <a:ext cx="420120" cy="227880"/>
                  <a:chOff x="4867560" y="4666680"/>
                  <a:chExt cx="420120" cy="227880"/>
                </a:xfrm>
              </p:grpSpPr>
              <p:grpSp>
                <p:nvGrpSpPr>
                  <p:cNvPr id="637" name=""/>
                  <p:cNvGrpSpPr/>
                  <p:nvPr/>
                </p:nvGrpSpPr>
                <p:grpSpPr>
                  <a:xfrm>
                    <a:off x="4867560" y="4666680"/>
                    <a:ext cx="420120" cy="146160"/>
                    <a:chOff x="4867560" y="4666680"/>
                    <a:chExt cx="420120" cy="146160"/>
                  </a:xfrm>
                </p:grpSpPr>
                <p:sp>
                  <p:nvSpPr>
                    <p:cNvPr id="638" name=""/>
                    <p:cNvSpPr/>
                    <p:nvPr/>
                  </p:nvSpPr>
                  <p:spPr>
                    <a:xfrm>
                      <a:off x="4973040" y="4689000"/>
                      <a:ext cx="91440" cy="74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50">
                          <a:moveTo>
                            <a:pt x="1" y="0"/>
                          </a:moveTo>
                          <a:lnTo>
                            <a:pt x="64" y="12"/>
                          </a:lnTo>
                          <a:lnTo>
                            <a:pt x="64" y="50"/>
                          </a:lnTo>
                          <a:lnTo>
                            <a:pt x="0" y="37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9" name=""/>
                    <p:cNvSpPr/>
                    <p:nvPr/>
                  </p:nvSpPr>
                  <p:spPr>
                    <a:xfrm>
                      <a:off x="5086080" y="4709880"/>
                      <a:ext cx="90000" cy="7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53">
                          <a:moveTo>
                            <a:pt x="0" y="0"/>
                          </a:moveTo>
                          <a:lnTo>
                            <a:pt x="63" y="13"/>
                          </a:lnTo>
                          <a:lnTo>
                            <a:pt x="63" y="53"/>
                          </a:lnTo>
                          <a:lnTo>
                            <a:pt x="0" y="4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040" bIns="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0" name=""/>
                    <p:cNvSpPr/>
                    <p:nvPr/>
                  </p:nvSpPr>
                  <p:spPr>
                    <a:xfrm>
                      <a:off x="5197680" y="4734000"/>
                      <a:ext cx="90000" cy="7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53">
                          <a:moveTo>
                            <a:pt x="0" y="0"/>
                          </a:moveTo>
                          <a:lnTo>
                            <a:pt x="63" y="13"/>
                          </a:lnTo>
                          <a:lnTo>
                            <a:pt x="63" y="53"/>
                          </a:lnTo>
                          <a:lnTo>
                            <a:pt x="0" y="4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040" bIns="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1" name=""/>
                    <p:cNvSpPr/>
                    <p:nvPr/>
                  </p:nvSpPr>
                  <p:spPr>
                    <a:xfrm>
                      <a:off x="4867560" y="4666680"/>
                      <a:ext cx="9000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50">
                          <a:moveTo>
                            <a:pt x="0" y="0"/>
                          </a:moveTo>
                          <a:lnTo>
                            <a:pt x="63" y="12"/>
                          </a:lnTo>
                          <a:lnTo>
                            <a:pt x="63" y="50"/>
                          </a:lnTo>
                          <a:lnTo>
                            <a:pt x="0" y="3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42" name=""/>
                  <p:cNvGrpSpPr/>
                  <p:nvPr/>
                </p:nvGrpSpPr>
                <p:grpSpPr>
                  <a:xfrm>
                    <a:off x="4867560" y="4748760"/>
                    <a:ext cx="420120" cy="145800"/>
                    <a:chOff x="4867560" y="4748760"/>
                    <a:chExt cx="420120" cy="145800"/>
                  </a:xfrm>
                </p:grpSpPr>
                <p:sp>
                  <p:nvSpPr>
                    <p:cNvPr id="643" name=""/>
                    <p:cNvSpPr/>
                    <p:nvPr/>
                  </p:nvSpPr>
                  <p:spPr>
                    <a:xfrm>
                      <a:off x="4973040" y="4771080"/>
                      <a:ext cx="91440" cy="7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51">
                          <a:moveTo>
                            <a:pt x="2" y="0"/>
                          </a:moveTo>
                          <a:lnTo>
                            <a:pt x="64" y="12"/>
                          </a:lnTo>
                          <a:lnTo>
                            <a:pt x="64" y="51"/>
                          </a:lnTo>
                          <a:lnTo>
                            <a:pt x="0" y="39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4" name=""/>
                    <p:cNvSpPr/>
                    <p:nvPr/>
                  </p:nvSpPr>
                  <p:spPr>
                    <a:xfrm>
                      <a:off x="5084640" y="4793400"/>
                      <a:ext cx="90000" cy="7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51">
                          <a:moveTo>
                            <a:pt x="0" y="0"/>
                          </a:moveTo>
                          <a:lnTo>
                            <a:pt x="63" y="13"/>
                          </a:lnTo>
                          <a:lnTo>
                            <a:pt x="63" y="51"/>
                          </a:lnTo>
                          <a:lnTo>
                            <a:pt x="0" y="4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5" name=""/>
                    <p:cNvSpPr/>
                    <p:nvPr/>
                  </p:nvSpPr>
                  <p:spPr>
                    <a:xfrm>
                      <a:off x="5197680" y="4818600"/>
                      <a:ext cx="90000" cy="7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51">
                          <a:moveTo>
                            <a:pt x="0" y="0"/>
                          </a:moveTo>
                          <a:lnTo>
                            <a:pt x="63" y="14"/>
                          </a:lnTo>
                          <a:lnTo>
                            <a:pt x="63" y="51"/>
                          </a:lnTo>
                          <a:lnTo>
                            <a:pt x="0" y="3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6" name=""/>
                    <p:cNvSpPr/>
                    <p:nvPr/>
                  </p:nvSpPr>
                  <p:spPr>
                    <a:xfrm>
                      <a:off x="4867560" y="4748760"/>
                      <a:ext cx="90000" cy="7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51">
                          <a:moveTo>
                            <a:pt x="0" y="0"/>
                          </a:moveTo>
                          <a:lnTo>
                            <a:pt x="63" y="12"/>
                          </a:lnTo>
                          <a:lnTo>
                            <a:pt x="63" y="51"/>
                          </a:lnTo>
                          <a:lnTo>
                            <a:pt x="0" y="4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647" name=""/>
              <p:cNvGrpSpPr/>
              <p:nvPr/>
            </p:nvGrpSpPr>
            <p:grpSpPr>
              <a:xfrm>
                <a:off x="4970880" y="4400280"/>
                <a:ext cx="337680" cy="204480"/>
                <a:chOff x="4970880" y="4400280"/>
                <a:chExt cx="337680" cy="20448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4970880" y="4400280"/>
                  <a:ext cx="69120" cy="162720"/>
                </a:xfrm>
                <a:custGeom>
                  <a:avLst/>
                  <a:gdLst/>
                  <a:ahLst/>
                  <a:rect l="l" t="t" r="r" b="b"/>
                  <a:pathLst>
                    <a:path w="48" h="109">
                      <a:moveTo>
                        <a:pt x="0" y="0"/>
                      </a:moveTo>
                      <a:lnTo>
                        <a:pt x="48" y="7"/>
                      </a:lnTo>
                      <a:lnTo>
                        <a:pt x="48" y="109"/>
                      </a:lnTo>
                      <a:lnTo>
                        <a:pt x="1" y="10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059800" y="4413240"/>
                  <a:ext cx="69120" cy="164160"/>
                </a:xfrm>
                <a:custGeom>
                  <a:avLst/>
                  <a:gdLst/>
                  <a:ahLst/>
                  <a:rect l="l" t="t" r="r" b="b"/>
                  <a:pathLst>
                    <a:path w="48" h="110">
                      <a:moveTo>
                        <a:pt x="1" y="0"/>
                      </a:moveTo>
                      <a:lnTo>
                        <a:pt x="48" y="9"/>
                      </a:lnTo>
                      <a:lnTo>
                        <a:pt x="47" y="110"/>
                      </a:lnTo>
                      <a:lnTo>
                        <a:pt x="0" y="10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5149080" y="4428360"/>
                  <a:ext cx="71640" cy="161640"/>
                </a:xfrm>
                <a:custGeom>
                  <a:avLst/>
                  <a:gdLst/>
                  <a:ahLst/>
                  <a:rect l="l" t="t" r="r" b="b"/>
                  <a:pathLst>
                    <a:path w="50" h="108">
                      <a:moveTo>
                        <a:pt x="0" y="0"/>
                      </a:moveTo>
                      <a:lnTo>
                        <a:pt x="50" y="6"/>
                      </a:lnTo>
                      <a:lnTo>
                        <a:pt x="48" y="108"/>
                      </a:lnTo>
                      <a:lnTo>
                        <a:pt x="0" y="10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5241240" y="4441680"/>
                  <a:ext cx="67320" cy="163080"/>
                </a:xfrm>
                <a:custGeom>
                  <a:avLst/>
                  <a:gdLst/>
                  <a:ahLst/>
                  <a:rect l="l" t="t" r="r" b="b"/>
                  <a:pathLst>
                    <a:path w="47" h="109">
                      <a:moveTo>
                        <a:pt x="0" y="0"/>
                      </a:moveTo>
                      <a:lnTo>
                        <a:pt x="47" y="8"/>
                      </a:lnTo>
                      <a:lnTo>
                        <a:pt x="47" y="109"/>
                      </a:lnTo>
                      <a:lnTo>
                        <a:pt x="0" y="10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4861080" y="4856040"/>
                <a:ext cx="421920" cy="227880"/>
                <a:chOff x="4861080" y="4856040"/>
                <a:chExt cx="421920" cy="227880"/>
              </a:xfrm>
            </p:grpSpPr>
            <p:grpSp>
              <p:nvGrpSpPr>
                <p:cNvPr id="653" name=""/>
                <p:cNvGrpSpPr/>
                <p:nvPr/>
              </p:nvGrpSpPr>
              <p:grpSpPr>
                <a:xfrm>
                  <a:off x="4861080" y="4856040"/>
                  <a:ext cx="421920" cy="146160"/>
                  <a:chOff x="4861080" y="4856040"/>
                  <a:chExt cx="421920" cy="146160"/>
                </a:xfrm>
              </p:grpSpPr>
              <p:sp>
                <p:nvSpPr>
                  <p:cNvPr id="654" name=""/>
                  <p:cNvSpPr/>
                  <p:nvPr/>
                </p:nvSpPr>
                <p:spPr>
                  <a:xfrm>
                    <a:off x="4967280" y="4878360"/>
                    <a:ext cx="9180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0">
                        <a:moveTo>
                          <a:pt x="1" y="0"/>
                        </a:moveTo>
                        <a:lnTo>
                          <a:pt x="64" y="12"/>
                        </a:lnTo>
                        <a:lnTo>
                          <a:pt x="64" y="50"/>
                        </a:lnTo>
                        <a:lnTo>
                          <a:pt x="0" y="37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5080680" y="4899240"/>
                    <a:ext cx="9036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5192640" y="4923360"/>
                    <a:ext cx="9036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4861080" y="4856040"/>
                    <a:ext cx="9036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0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0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8" name=""/>
                <p:cNvGrpSpPr/>
                <p:nvPr/>
              </p:nvGrpSpPr>
              <p:grpSpPr>
                <a:xfrm>
                  <a:off x="4861080" y="4938120"/>
                  <a:ext cx="421920" cy="145800"/>
                  <a:chOff x="4861080" y="4938120"/>
                  <a:chExt cx="421920" cy="145800"/>
                </a:xfrm>
              </p:grpSpPr>
              <p:sp>
                <p:nvSpPr>
                  <p:cNvPr id="659" name=""/>
                  <p:cNvSpPr/>
                  <p:nvPr/>
                </p:nvSpPr>
                <p:spPr>
                  <a:xfrm>
                    <a:off x="4967280" y="4960440"/>
                    <a:ext cx="9180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1">
                        <a:moveTo>
                          <a:pt x="2" y="0"/>
                        </a:moveTo>
                        <a:lnTo>
                          <a:pt x="64" y="12"/>
                        </a:lnTo>
                        <a:lnTo>
                          <a:pt x="64" y="51"/>
                        </a:lnTo>
                        <a:lnTo>
                          <a:pt x="0" y="39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5079240" y="4982760"/>
                    <a:ext cx="903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5192640" y="5007960"/>
                    <a:ext cx="903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4"/>
                        </a:lnTo>
                        <a:lnTo>
                          <a:pt x="63" y="51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4861080" y="4938120"/>
                    <a:ext cx="903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63" name=""/>
              <p:cNvGrpSpPr/>
              <p:nvPr/>
            </p:nvGrpSpPr>
            <p:grpSpPr>
              <a:xfrm>
                <a:off x="4869000" y="5051160"/>
                <a:ext cx="421920" cy="227880"/>
                <a:chOff x="4869000" y="5051160"/>
                <a:chExt cx="421920" cy="227880"/>
              </a:xfrm>
            </p:grpSpPr>
            <p:grpSp>
              <p:nvGrpSpPr>
                <p:cNvPr id="664" name=""/>
                <p:cNvGrpSpPr/>
                <p:nvPr/>
              </p:nvGrpSpPr>
              <p:grpSpPr>
                <a:xfrm>
                  <a:off x="4869000" y="5051160"/>
                  <a:ext cx="421920" cy="146160"/>
                  <a:chOff x="4869000" y="5051160"/>
                  <a:chExt cx="421920" cy="146160"/>
                </a:xfrm>
              </p:grpSpPr>
              <p:sp>
                <p:nvSpPr>
                  <p:cNvPr id="665" name=""/>
                  <p:cNvSpPr/>
                  <p:nvPr/>
                </p:nvSpPr>
                <p:spPr>
                  <a:xfrm>
                    <a:off x="4975200" y="5073480"/>
                    <a:ext cx="9180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0">
                        <a:moveTo>
                          <a:pt x="1" y="0"/>
                        </a:moveTo>
                        <a:lnTo>
                          <a:pt x="64" y="12"/>
                        </a:lnTo>
                        <a:lnTo>
                          <a:pt x="64" y="50"/>
                        </a:lnTo>
                        <a:lnTo>
                          <a:pt x="0" y="37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5088600" y="5094360"/>
                    <a:ext cx="9036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5200560" y="5118480"/>
                    <a:ext cx="9036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4869000" y="5051160"/>
                    <a:ext cx="9036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0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0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9" name=""/>
                <p:cNvGrpSpPr/>
                <p:nvPr/>
              </p:nvGrpSpPr>
              <p:grpSpPr>
                <a:xfrm>
                  <a:off x="4869000" y="5133240"/>
                  <a:ext cx="421920" cy="145800"/>
                  <a:chOff x="4869000" y="5133240"/>
                  <a:chExt cx="421920" cy="145800"/>
                </a:xfrm>
              </p:grpSpPr>
              <p:sp>
                <p:nvSpPr>
                  <p:cNvPr id="670" name=""/>
                  <p:cNvSpPr/>
                  <p:nvPr/>
                </p:nvSpPr>
                <p:spPr>
                  <a:xfrm>
                    <a:off x="4975200" y="5155560"/>
                    <a:ext cx="9180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1">
                        <a:moveTo>
                          <a:pt x="2" y="0"/>
                        </a:moveTo>
                        <a:lnTo>
                          <a:pt x="64" y="12"/>
                        </a:lnTo>
                        <a:lnTo>
                          <a:pt x="64" y="51"/>
                        </a:lnTo>
                        <a:lnTo>
                          <a:pt x="0" y="39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5087160" y="5177880"/>
                    <a:ext cx="903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5200560" y="5203080"/>
                    <a:ext cx="903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4"/>
                        </a:lnTo>
                        <a:lnTo>
                          <a:pt x="63" y="51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4869000" y="5133240"/>
                    <a:ext cx="903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74" name=""/>
              <p:cNvGrpSpPr/>
              <p:nvPr/>
            </p:nvGrpSpPr>
            <p:grpSpPr>
              <a:xfrm>
                <a:off x="4869000" y="5256000"/>
                <a:ext cx="421920" cy="227880"/>
                <a:chOff x="4869000" y="5256000"/>
                <a:chExt cx="421920" cy="227880"/>
              </a:xfrm>
            </p:grpSpPr>
            <p:grpSp>
              <p:nvGrpSpPr>
                <p:cNvPr id="675" name=""/>
                <p:cNvGrpSpPr/>
                <p:nvPr/>
              </p:nvGrpSpPr>
              <p:grpSpPr>
                <a:xfrm>
                  <a:off x="4869000" y="5256000"/>
                  <a:ext cx="421920" cy="146160"/>
                  <a:chOff x="4869000" y="5256000"/>
                  <a:chExt cx="421920" cy="146160"/>
                </a:xfrm>
              </p:grpSpPr>
              <p:sp>
                <p:nvSpPr>
                  <p:cNvPr id="676" name=""/>
                  <p:cNvSpPr/>
                  <p:nvPr/>
                </p:nvSpPr>
                <p:spPr>
                  <a:xfrm>
                    <a:off x="4975200" y="5278320"/>
                    <a:ext cx="9180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0">
                        <a:moveTo>
                          <a:pt x="1" y="0"/>
                        </a:moveTo>
                        <a:lnTo>
                          <a:pt x="64" y="12"/>
                        </a:lnTo>
                        <a:lnTo>
                          <a:pt x="64" y="50"/>
                        </a:lnTo>
                        <a:lnTo>
                          <a:pt x="0" y="37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5088600" y="5299200"/>
                    <a:ext cx="9036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5200560" y="5323320"/>
                    <a:ext cx="9036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4869000" y="5256000"/>
                    <a:ext cx="9036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0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0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0" name=""/>
                <p:cNvGrpSpPr/>
                <p:nvPr/>
              </p:nvGrpSpPr>
              <p:grpSpPr>
                <a:xfrm>
                  <a:off x="4869000" y="5338080"/>
                  <a:ext cx="421920" cy="145800"/>
                  <a:chOff x="4869000" y="5338080"/>
                  <a:chExt cx="421920" cy="145800"/>
                </a:xfrm>
              </p:grpSpPr>
              <p:sp>
                <p:nvSpPr>
                  <p:cNvPr id="681" name=""/>
                  <p:cNvSpPr/>
                  <p:nvPr/>
                </p:nvSpPr>
                <p:spPr>
                  <a:xfrm>
                    <a:off x="4975200" y="5360400"/>
                    <a:ext cx="9180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1">
                        <a:moveTo>
                          <a:pt x="2" y="0"/>
                        </a:moveTo>
                        <a:lnTo>
                          <a:pt x="64" y="12"/>
                        </a:lnTo>
                        <a:lnTo>
                          <a:pt x="64" y="51"/>
                        </a:lnTo>
                        <a:lnTo>
                          <a:pt x="0" y="39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5087160" y="5382720"/>
                    <a:ext cx="903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5200560" y="5407920"/>
                    <a:ext cx="903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4"/>
                        </a:lnTo>
                        <a:lnTo>
                          <a:pt x="63" y="51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4869000" y="5338080"/>
                    <a:ext cx="903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85" name=""/>
              <p:cNvGrpSpPr/>
              <p:nvPr/>
            </p:nvGrpSpPr>
            <p:grpSpPr>
              <a:xfrm>
                <a:off x="4869000" y="5462280"/>
                <a:ext cx="421920" cy="227880"/>
                <a:chOff x="4869000" y="5462280"/>
                <a:chExt cx="421920" cy="227880"/>
              </a:xfrm>
            </p:grpSpPr>
            <p:grpSp>
              <p:nvGrpSpPr>
                <p:cNvPr id="686" name=""/>
                <p:cNvGrpSpPr/>
                <p:nvPr/>
              </p:nvGrpSpPr>
              <p:grpSpPr>
                <a:xfrm>
                  <a:off x="4869000" y="5462280"/>
                  <a:ext cx="421920" cy="146160"/>
                  <a:chOff x="4869000" y="5462280"/>
                  <a:chExt cx="421920" cy="146160"/>
                </a:xfrm>
              </p:grpSpPr>
              <p:sp>
                <p:nvSpPr>
                  <p:cNvPr id="687" name=""/>
                  <p:cNvSpPr/>
                  <p:nvPr/>
                </p:nvSpPr>
                <p:spPr>
                  <a:xfrm>
                    <a:off x="4975200" y="5484600"/>
                    <a:ext cx="9180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0">
                        <a:moveTo>
                          <a:pt x="1" y="0"/>
                        </a:moveTo>
                        <a:lnTo>
                          <a:pt x="64" y="12"/>
                        </a:lnTo>
                        <a:lnTo>
                          <a:pt x="64" y="50"/>
                        </a:lnTo>
                        <a:lnTo>
                          <a:pt x="0" y="37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5088600" y="5505480"/>
                    <a:ext cx="9036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5200560" y="5529600"/>
                    <a:ext cx="9036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3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3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>
                    <a:off x="4869000" y="5462280"/>
                    <a:ext cx="9036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0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0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1" name=""/>
                <p:cNvGrpSpPr/>
                <p:nvPr/>
              </p:nvGrpSpPr>
              <p:grpSpPr>
                <a:xfrm>
                  <a:off x="4869000" y="5544360"/>
                  <a:ext cx="421920" cy="145800"/>
                  <a:chOff x="4869000" y="5544360"/>
                  <a:chExt cx="421920" cy="145800"/>
                </a:xfrm>
              </p:grpSpPr>
              <p:sp>
                <p:nvSpPr>
                  <p:cNvPr id="692" name=""/>
                  <p:cNvSpPr/>
                  <p:nvPr/>
                </p:nvSpPr>
                <p:spPr>
                  <a:xfrm>
                    <a:off x="4975200" y="5566680"/>
                    <a:ext cx="9180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1">
                        <a:moveTo>
                          <a:pt x="2" y="0"/>
                        </a:moveTo>
                        <a:lnTo>
                          <a:pt x="64" y="12"/>
                        </a:lnTo>
                        <a:lnTo>
                          <a:pt x="64" y="51"/>
                        </a:lnTo>
                        <a:lnTo>
                          <a:pt x="0" y="39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5087160" y="5589000"/>
                    <a:ext cx="903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3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5200560" y="5614200"/>
                    <a:ext cx="903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4"/>
                        </a:lnTo>
                        <a:lnTo>
                          <a:pt x="63" y="51"/>
                        </a:lnTo>
                        <a:lnTo>
                          <a:pt x="0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4869000" y="5544360"/>
                    <a:ext cx="903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0" y="0"/>
                        </a:moveTo>
                        <a:lnTo>
                          <a:pt x="63" y="12"/>
                        </a:lnTo>
                        <a:lnTo>
                          <a:pt x="63" y="51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696" name="" descr=""/>
          <p:cNvPicPr/>
          <p:nvPr/>
        </p:nvPicPr>
        <p:blipFill>
          <a:blip r:embed="rId14"/>
          <a:stretch/>
        </p:blipFill>
        <p:spPr>
          <a:xfrm>
            <a:off x="76320" y="1301760"/>
            <a:ext cx="2514600" cy="403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1)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XPrince Team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1)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609480" y="3962520"/>
            <a:ext cx="792504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Black"/>
              </a:rPr>
              <a:t>X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09480" y="685800"/>
            <a:ext cx="7925040" cy="327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Arial Black"/>
              </a:rPr>
              <a:t>Prince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XPrince Team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1)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609480" y="3962520"/>
            <a:ext cx="792504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Black"/>
              </a:rPr>
              <a:t>X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09480" y="685800"/>
            <a:ext cx="7925040" cy="327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Arial Black"/>
              </a:rPr>
              <a:t>Prince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235400" y="4186080"/>
            <a:ext cx="0" cy="1214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248000" y="2421000"/>
            <a:ext cx="0" cy="1251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422520" y="3235320"/>
            <a:ext cx="641520" cy="449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3424320" y="2460240"/>
            <a:ext cx="752400" cy="5065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711520" y="5291280"/>
            <a:ext cx="350496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Kierownik Zespoł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558880" y="5354640"/>
            <a:ext cx="358164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Kierownik Zespoł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XPrince Team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10" name=""/>
          <p:cNvSpPr/>
          <p:nvPr/>
        </p:nvSpPr>
        <p:spPr>
          <a:xfrm>
            <a:off x="1065240" y="909720"/>
            <a:ext cx="6249960" cy="1573200"/>
          </a:xfrm>
          <a:prstGeom prst="rect">
            <a:avLst/>
          </a:prstGeom>
          <a:solidFill>
            <a:srgbClr val="0066cc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roject 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160640" y="1442880"/>
            <a:ext cx="231264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Senior        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473280" y="1442880"/>
            <a:ext cx="167652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Execu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149800" y="1442880"/>
            <a:ext cx="2071800" cy="945720"/>
          </a:xfrm>
          <a:prstGeom prst="rect">
            <a:avLst/>
          </a:prstGeom>
          <a:solidFill>
            <a:srgbClr val="99ccff"/>
          </a:solidFill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Senior     Suppl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133720" y="3652920"/>
            <a:ext cx="419580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 Narrow"/>
              </a:rPr>
              <a:t>Manager</a:t>
            </a: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 = </a:t>
            </a:r>
            <a:r>
              <a:rPr b="1" lang="pl-PL" sz="2800" spc="-1" strike="noStrike">
                <a:solidFill>
                  <a:srgbClr val="0000cc"/>
                </a:solidFill>
                <a:latin typeface="Arial Black"/>
              </a:rPr>
              <a:t>C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85800" y="2852640"/>
            <a:ext cx="286380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 Narrow"/>
              </a:rPr>
              <a:t>Project Assur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482920" y="5405400"/>
            <a:ext cx="358128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 Narrow"/>
              </a:rPr>
              <a:t>Develop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311720" y="4186080"/>
            <a:ext cx="533160" cy="419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4299120" y="4834080"/>
            <a:ext cx="545760" cy="515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768920" y="4448160"/>
            <a:ext cx="3259080" cy="51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 Narrow"/>
              </a:rPr>
              <a:t>Architect</a:t>
            </a: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0000cc"/>
                </a:solidFill>
                <a:latin typeface="Arial Black"/>
              </a:rPr>
              <a:t>= C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685800" y="4186080"/>
            <a:ext cx="3396600" cy="1105200"/>
            <a:chOff x="685800" y="4186080"/>
            <a:chExt cx="3396600" cy="1105200"/>
          </a:xfrm>
        </p:grpSpPr>
        <p:sp>
          <p:nvSpPr>
            <p:cNvPr id="721" name=""/>
            <p:cNvSpPr/>
            <p:nvPr/>
          </p:nvSpPr>
          <p:spPr>
            <a:xfrm>
              <a:off x="685800" y="4452840"/>
              <a:ext cx="2612880" cy="519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Analyst</a:t>
              </a:r>
              <a:r>
                <a:rPr b="1" lang="pl-PL" sz="2800" spc="-1" strike="noStrike">
                  <a:solidFill>
                    <a:srgbClr val="0000cc"/>
                  </a:solidFill>
                  <a:latin typeface="Arial Narrow"/>
                </a:rPr>
                <a:t>=</a:t>
              </a:r>
              <a:r>
                <a:rPr b="1" lang="pl-PL" sz="2800" spc="-1" strike="noStrike">
                  <a:solidFill>
                    <a:srgbClr val="0000cc"/>
                  </a:solidFill>
                  <a:latin typeface="Arial Black"/>
                </a:rPr>
                <a:t>Clie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3298320" y="4186080"/>
              <a:ext cx="783720" cy="4194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298680" y="4834080"/>
              <a:ext cx="783720" cy="457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1)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esentation Plan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25" name=""/>
          <p:cNvSpPr/>
          <p:nvPr/>
        </p:nvSpPr>
        <p:spPr>
          <a:xfrm>
            <a:off x="4495680" y="1600200"/>
            <a:ext cx="4572000" cy="15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Team Stru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Project Lifecy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1"/>
          <a:stretch/>
        </p:blipFill>
        <p:spPr>
          <a:xfrm>
            <a:off x="76320" y="822240"/>
            <a:ext cx="3949560" cy="5029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27" name=""/>
          <p:cNvSpPr/>
          <p:nvPr/>
        </p:nvSpPr>
        <p:spPr>
          <a:xfrm>
            <a:off x="152280" y="585144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6699ff"/>
                </a:solidFill>
                <a:latin typeface="Arial"/>
              </a:rPr>
              <a:t>„</a:t>
            </a:r>
            <a:r>
              <a:rPr b="1" lang="pl-PL" sz="2000" spc="-1" strike="noStrike">
                <a:solidFill>
                  <a:srgbClr val="6699ff"/>
                </a:solidFill>
                <a:latin typeface="Arial"/>
              </a:rPr>
              <a:t>Trabrennen” in Aust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1)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 Narrow"/>
              </a:rPr>
              <a:t>PRINCE 2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 Lifecycl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1)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 Narrow"/>
              </a:rPr>
              <a:t>PRINCE 2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 Lifecycl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380880" y="1876320"/>
          <a:ext cx="8534520" cy="421956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304920"/>
                <a:gridCol w="1218960"/>
                <a:gridCol w="1143000"/>
                <a:gridCol w="1143000"/>
                <a:gridCol w="1141560"/>
                <a:gridCol w="1220760"/>
              </a:tblGrid>
              <a:tr h="4827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6.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7.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3.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.0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7.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7.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.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852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tarting Up a Proje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 gridSpan="2"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nitiating a Proje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tage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tage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tage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tage 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osing a Proje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812880">
                <a:tc gridSpan="8"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2880">
                <a:tc gridSpan="8"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25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1)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Disciplined approach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76320" y="2819520"/>
            <a:ext cx="1904400" cy="3001320"/>
            <a:chOff x="76320" y="2819520"/>
            <a:chExt cx="1904400" cy="3001320"/>
          </a:xfrm>
        </p:grpSpPr>
        <p:grpSp>
          <p:nvGrpSpPr>
            <p:cNvPr id="113" name=""/>
            <p:cNvGrpSpPr/>
            <p:nvPr/>
          </p:nvGrpSpPr>
          <p:grpSpPr>
            <a:xfrm>
              <a:off x="76320" y="2819520"/>
              <a:ext cx="1904400" cy="3001320"/>
              <a:chOff x="76320" y="2819520"/>
              <a:chExt cx="1904400" cy="3001320"/>
            </a:xfrm>
          </p:grpSpPr>
          <p:sp>
            <p:nvSpPr>
              <p:cNvPr id="114" name=""/>
              <p:cNvSpPr/>
              <p:nvPr/>
            </p:nvSpPr>
            <p:spPr>
              <a:xfrm>
                <a:off x="394200" y="3468240"/>
                <a:ext cx="799200" cy="1218960"/>
              </a:xfrm>
              <a:custGeom>
                <a:avLst/>
                <a:gdLst/>
                <a:ahLst/>
                <a:rect l="l" t="t" r="r" b="b"/>
                <a:pathLst>
                  <a:path w="601" h="924">
                    <a:moveTo>
                      <a:pt x="47" y="132"/>
                    </a:moveTo>
                    <a:lnTo>
                      <a:pt x="73" y="60"/>
                    </a:lnTo>
                    <a:lnTo>
                      <a:pt x="139" y="0"/>
                    </a:lnTo>
                    <a:lnTo>
                      <a:pt x="212" y="0"/>
                    </a:lnTo>
                    <a:lnTo>
                      <a:pt x="298" y="60"/>
                    </a:lnTo>
                    <a:lnTo>
                      <a:pt x="384" y="132"/>
                    </a:lnTo>
                    <a:lnTo>
                      <a:pt x="502" y="271"/>
                    </a:lnTo>
                    <a:lnTo>
                      <a:pt x="568" y="422"/>
                    </a:lnTo>
                    <a:lnTo>
                      <a:pt x="601" y="600"/>
                    </a:lnTo>
                    <a:lnTo>
                      <a:pt x="601" y="713"/>
                    </a:lnTo>
                    <a:lnTo>
                      <a:pt x="568" y="798"/>
                    </a:lnTo>
                    <a:lnTo>
                      <a:pt x="516" y="884"/>
                    </a:lnTo>
                    <a:lnTo>
                      <a:pt x="410" y="917"/>
                    </a:lnTo>
                    <a:lnTo>
                      <a:pt x="331" y="924"/>
                    </a:lnTo>
                    <a:lnTo>
                      <a:pt x="179" y="917"/>
                    </a:lnTo>
                    <a:lnTo>
                      <a:pt x="100" y="844"/>
                    </a:lnTo>
                    <a:lnTo>
                      <a:pt x="20" y="759"/>
                    </a:lnTo>
                    <a:lnTo>
                      <a:pt x="0" y="647"/>
                    </a:lnTo>
                    <a:lnTo>
                      <a:pt x="0" y="528"/>
                    </a:lnTo>
                    <a:lnTo>
                      <a:pt x="27" y="291"/>
                    </a:lnTo>
                    <a:lnTo>
                      <a:pt x="47" y="132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95960" y="3469680"/>
                <a:ext cx="1184760" cy="714960"/>
              </a:xfrm>
              <a:custGeom>
                <a:avLst/>
                <a:gdLst/>
                <a:ahLst/>
                <a:rect l="l" t="t" r="r" b="b"/>
                <a:pathLst>
                  <a:path w="891" h="542">
                    <a:moveTo>
                      <a:pt x="39" y="0"/>
                    </a:moveTo>
                    <a:lnTo>
                      <a:pt x="99" y="20"/>
                    </a:lnTo>
                    <a:lnTo>
                      <a:pt x="330" y="172"/>
                    </a:lnTo>
                    <a:lnTo>
                      <a:pt x="468" y="245"/>
                    </a:lnTo>
                    <a:lnTo>
                      <a:pt x="679" y="377"/>
                    </a:lnTo>
                    <a:lnTo>
                      <a:pt x="891" y="502"/>
                    </a:lnTo>
                    <a:lnTo>
                      <a:pt x="891" y="535"/>
                    </a:lnTo>
                    <a:lnTo>
                      <a:pt x="858" y="542"/>
                    </a:lnTo>
                    <a:lnTo>
                      <a:pt x="726" y="456"/>
                    </a:lnTo>
                    <a:lnTo>
                      <a:pt x="693" y="456"/>
                    </a:lnTo>
                    <a:lnTo>
                      <a:pt x="673" y="482"/>
                    </a:lnTo>
                    <a:lnTo>
                      <a:pt x="633" y="502"/>
                    </a:lnTo>
                    <a:lnTo>
                      <a:pt x="587" y="502"/>
                    </a:lnTo>
                    <a:lnTo>
                      <a:pt x="534" y="449"/>
                    </a:lnTo>
                    <a:lnTo>
                      <a:pt x="514" y="383"/>
                    </a:lnTo>
                    <a:lnTo>
                      <a:pt x="528" y="330"/>
                    </a:lnTo>
                    <a:lnTo>
                      <a:pt x="435" y="278"/>
                    </a:lnTo>
                    <a:lnTo>
                      <a:pt x="316" y="231"/>
                    </a:lnTo>
                    <a:lnTo>
                      <a:pt x="191" y="179"/>
                    </a:lnTo>
                    <a:lnTo>
                      <a:pt x="99" y="146"/>
                    </a:lnTo>
                    <a:lnTo>
                      <a:pt x="26" y="93"/>
                    </a:lnTo>
                    <a:lnTo>
                      <a:pt x="0" y="4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6320" y="3461760"/>
                <a:ext cx="491760" cy="1184760"/>
              </a:xfrm>
              <a:custGeom>
                <a:avLst/>
                <a:gdLst/>
                <a:ahLst/>
                <a:rect l="l" t="t" r="r" b="b"/>
                <a:pathLst>
                  <a:path w="370" h="898">
                    <a:moveTo>
                      <a:pt x="205" y="86"/>
                    </a:moveTo>
                    <a:lnTo>
                      <a:pt x="284" y="0"/>
                    </a:lnTo>
                    <a:lnTo>
                      <a:pt x="344" y="7"/>
                    </a:lnTo>
                    <a:lnTo>
                      <a:pt x="370" y="53"/>
                    </a:lnTo>
                    <a:lnTo>
                      <a:pt x="337" y="113"/>
                    </a:lnTo>
                    <a:lnTo>
                      <a:pt x="238" y="198"/>
                    </a:lnTo>
                    <a:lnTo>
                      <a:pt x="159" y="278"/>
                    </a:lnTo>
                    <a:lnTo>
                      <a:pt x="59" y="357"/>
                    </a:lnTo>
                    <a:lnTo>
                      <a:pt x="59" y="396"/>
                    </a:lnTo>
                    <a:lnTo>
                      <a:pt x="79" y="456"/>
                    </a:lnTo>
                    <a:lnTo>
                      <a:pt x="205" y="555"/>
                    </a:lnTo>
                    <a:lnTo>
                      <a:pt x="258" y="614"/>
                    </a:lnTo>
                    <a:lnTo>
                      <a:pt x="264" y="647"/>
                    </a:lnTo>
                    <a:lnTo>
                      <a:pt x="244" y="686"/>
                    </a:lnTo>
                    <a:lnTo>
                      <a:pt x="205" y="726"/>
                    </a:lnTo>
                    <a:lnTo>
                      <a:pt x="192" y="805"/>
                    </a:lnTo>
                    <a:lnTo>
                      <a:pt x="218" y="878"/>
                    </a:lnTo>
                    <a:lnTo>
                      <a:pt x="211" y="898"/>
                    </a:lnTo>
                    <a:lnTo>
                      <a:pt x="178" y="884"/>
                    </a:lnTo>
                    <a:lnTo>
                      <a:pt x="159" y="825"/>
                    </a:lnTo>
                    <a:lnTo>
                      <a:pt x="159" y="746"/>
                    </a:lnTo>
                    <a:lnTo>
                      <a:pt x="185" y="693"/>
                    </a:lnTo>
                    <a:lnTo>
                      <a:pt x="218" y="634"/>
                    </a:lnTo>
                    <a:lnTo>
                      <a:pt x="198" y="614"/>
                    </a:lnTo>
                    <a:lnTo>
                      <a:pt x="132" y="548"/>
                    </a:lnTo>
                    <a:lnTo>
                      <a:pt x="53" y="495"/>
                    </a:lnTo>
                    <a:lnTo>
                      <a:pt x="0" y="429"/>
                    </a:lnTo>
                    <a:lnTo>
                      <a:pt x="0" y="330"/>
                    </a:lnTo>
                    <a:lnTo>
                      <a:pt x="33" y="284"/>
                    </a:lnTo>
                    <a:lnTo>
                      <a:pt x="106" y="238"/>
                    </a:lnTo>
                    <a:lnTo>
                      <a:pt x="178" y="152"/>
                    </a:lnTo>
                    <a:lnTo>
                      <a:pt x="205" y="86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48280" y="2819520"/>
                <a:ext cx="546840" cy="609480"/>
              </a:xfrm>
              <a:custGeom>
                <a:avLst/>
                <a:gdLst/>
                <a:ahLst/>
                <a:rect l="l" t="t" r="r" b="b"/>
                <a:pathLst>
                  <a:path w="411" h="462">
                    <a:moveTo>
                      <a:pt x="139" y="462"/>
                    </a:moveTo>
                    <a:lnTo>
                      <a:pt x="86" y="462"/>
                    </a:lnTo>
                    <a:lnTo>
                      <a:pt x="33" y="436"/>
                    </a:lnTo>
                    <a:lnTo>
                      <a:pt x="0" y="363"/>
                    </a:lnTo>
                    <a:lnTo>
                      <a:pt x="0" y="238"/>
                    </a:lnTo>
                    <a:lnTo>
                      <a:pt x="46" y="99"/>
                    </a:lnTo>
                    <a:lnTo>
                      <a:pt x="119" y="7"/>
                    </a:lnTo>
                    <a:lnTo>
                      <a:pt x="185" y="0"/>
                    </a:lnTo>
                    <a:lnTo>
                      <a:pt x="265" y="13"/>
                    </a:lnTo>
                    <a:lnTo>
                      <a:pt x="304" y="73"/>
                    </a:lnTo>
                    <a:lnTo>
                      <a:pt x="318" y="132"/>
                    </a:lnTo>
                    <a:lnTo>
                      <a:pt x="304" y="211"/>
                    </a:lnTo>
                    <a:lnTo>
                      <a:pt x="291" y="284"/>
                    </a:lnTo>
                    <a:lnTo>
                      <a:pt x="371" y="350"/>
                    </a:lnTo>
                    <a:lnTo>
                      <a:pt x="411" y="389"/>
                    </a:lnTo>
                    <a:lnTo>
                      <a:pt x="411" y="416"/>
                    </a:lnTo>
                    <a:lnTo>
                      <a:pt x="391" y="416"/>
                    </a:lnTo>
                    <a:lnTo>
                      <a:pt x="278" y="330"/>
                    </a:lnTo>
                    <a:lnTo>
                      <a:pt x="238" y="389"/>
                    </a:lnTo>
                    <a:lnTo>
                      <a:pt x="172" y="442"/>
                    </a:lnTo>
                    <a:lnTo>
                      <a:pt x="139" y="462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31560" y="4438080"/>
                <a:ext cx="445320" cy="1382760"/>
              </a:xfrm>
              <a:custGeom>
                <a:avLst/>
                <a:gdLst/>
                <a:ahLst/>
                <a:rect l="l" t="t" r="r" b="b"/>
                <a:pathLst>
                  <a:path w="335" h="1048">
                    <a:moveTo>
                      <a:pt x="111" y="323"/>
                    </a:moveTo>
                    <a:lnTo>
                      <a:pt x="105" y="211"/>
                    </a:lnTo>
                    <a:lnTo>
                      <a:pt x="91" y="73"/>
                    </a:lnTo>
                    <a:lnTo>
                      <a:pt x="151" y="0"/>
                    </a:lnTo>
                    <a:lnTo>
                      <a:pt x="229" y="33"/>
                    </a:lnTo>
                    <a:lnTo>
                      <a:pt x="249" y="198"/>
                    </a:lnTo>
                    <a:lnTo>
                      <a:pt x="249" y="349"/>
                    </a:lnTo>
                    <a:lnTo>
                      <a:pt x="229" y="540"/>
                    </a:lnTo>
                    <a:lnTo>
                      <a:pt x="177" y="659"/>
                    </a:lnTo>
                    <a:lnTo>
                      <a:pt x="137" y="778"/>
                    </a:lnTo>
                    <a:lnTo>
                      <a:pt x="85" y="857"/>
                    </a:lnTo>
                    <a:lnTo>
                      <a:pt x="85" y="889"/>
                    </a:lnTo>
                    <a:lnTo>
                      <a:pt x="177" y="909"/>
                    </a:lnTo>
                    <a:lnTo>
                      <a:pt x="256" y="942"/>
                    </a:lnTo>
                    <a:lnTo>
                      <a:pt x="335" y="1015"/>
                    </a:lnTo>
                    <a:lnTo>
                      <a:pt x="315" y="1034"/>
                    </a:lnTo>
                    <a:lnTo>
                      <a:pt x="249" y="1048"/>
                    </a:lnTo>
                    <a:lnTo>
                      <a:pt x="203" y="1021"/>
                    </a:lnTo>
                    <a:lnTo>
                      <a:pt x="118" y="955"/>
                    </a:lnTo>
                    <a:lnTo>
                      <a:pt x="45" y="916"/>
                    </a:lnTo>
                    <a:lnTo>
                      <a:pt x="6" y="909"/>
                    </a:lnTo>
                    <a:lnTo>
                      <a:pt x="0" y="863"/>
                    </a:lnTo>
                    <a:lnTo>
                      <a:pt x="52" y="791"/>
                    </a:lnTo>
                    <a:lnTo>
                      <a:pt x="105" y="731"/>
                    </a:lnTo>
                    <a:lnTo>
                      <a:pt x="144" y="639"/>
                    </a:lnTo>
                    <a:lnTo>
                      <a:pt x="164" y="527"/>
                    </a:lnTo>
                    <a:lnTo>
                      <a:pt x="151" y="422"/>
                    </a:lnTo>
                    <a:lnTo>
                      <a:pt x="118" y="290"/>
                    </a:lnTo>
                    <a:lnTo>
                      <a:pt x="111" y="323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07760" y="4489560"/>
                <a:ext cx="421560" cy="1295640"/>
              </a:xfrm>
              <a:custGeom>
                <a:avLst/>
                <a:gdLst/>
                <a:ahLst/>
                <a:rect l="l" t="t" r="r" b="b"/>
                <a:pathLst>
                  <a:path w="317" h="982">
                    <a:moveTo>
                      <a:pt x="93" y="0"/>
                    </a:moveTo>
                    <a:lnTo>
                      <a:pt x="152" y="33"/>
                    </a:lnTo>
                    <a:lnTo>
                      <a:pt x="172" y="79"/>
                    </a:lnTo>
                    <a:lnTo>
                      <a:pt x="199" y="198"/>
                    </a:lnTo>
                    <a:lnTo>
                      <a:pt x="205" y="356"/>
                    </a:lnTo>
                    <a:lnTo>
                      <a:pt x="185" y="573"/>
                    </a:lnTo>
                    <a:lnTo>
                      <a:pt x="126" y="725"/>
                    </a:lnTo>
                    <a:lnTo>
                      <a:pt x="93" y="791"/>
                    </a:lnTo>
                    <a:lnTo>
                      <a:pt x="93" y="850"/>
                    </a:lnTo>
                    <a:lnTo>
                      <a:pt x="225" y="890"/>
                    </a:lnTo>
                    <a:lnTo>
                      <a:pt x="311" y="929"/>
                    </a:lnTo>
                    <a:lnTo>
                      <a:pt x="317" y="949"/>
                    </a:lnTo>
                    <a:lnTo>
                      <a:pt x="284" y="982"/>
                    </a:lnTo>
                    <a:lnTo>
                      <a:pt x="199" y="982"/>
                    </a:lnTo>
                    <a:lnTo>
                      <a:pt x="152" y="942"/>
                    </a:lnTo>
                    <a:lnTo>
                      <a:pt x="100" y="910"/>
                    </a:lnTo>
                    <a:lnTo>
                      <a:pt x="53" y="870"/>
                    </a:lnTo>
                    <a:lnTo>
                      <a:pt x="0" y="850"/>
                    </a:lnTo>
                    <a:lnTo>
                      <a:pt x="7" y="824"/>
                    </a:lnTo>
                    <a:lnTo>
                      <a:pt x="53" y="771"/>
                    </a:lnTo>
                    <a:lnTo>
                      <a:pt x="100" y="699"/>
                    </a:lnTo>
                    <a:lnTo>
                      <a:pt x="139" y="600"/>
                    </a:lnTo>
                    <a:lnTo>
                      <a:pt x="152" y="475"/>
                    </a:lnTo>
                    <a:lnTo>
                      <a:pt x="139" y="336"/>
                    </a:lnTo>
                    <a:lnTo>
                      <a:pt x="100" y="224"/>
                    </a:lnTo>
                    <a:lnTo>
                      <a:pt x="60" y="171"/>
                    </a:lnTo>
                    <a:lnTo>
                      <a:pt x="34" y="86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54840" y="3555720"/>
              <a:ext cx="369360" cy="778320"/>
            </a:xfrm>
            <a:custGeom>
              <a:avLst/>
              <a:gdLst/>
              <a:ahLst/>
              <a:rect l="l" t="t" r="r" b="b"/>
              <a:pathLst>
                <a:path w="278" h="590">
                  <a:moveTo>
                    <a:pt x="0" y="20"/>
                  </a:moveTo>
                  <a:lnTo>
                    <a:pt x="53" y="0"/>
                  </a:lnTo>
                  <a:lnTo>
                    <a:pt x="93" y="7"/>
                  </a:lnTo>
                  <a:lnTo>
                    <a:pt x="79" y="100"/>
                  </a:lnTo>
                  <a:lnTo>
                    <a:pt x="252" y="391"/>
                  </a:lnTo>
                  <a:lnTo>
                    <a:pt x="278" y="477"/>
                  </a:lnTo>
                  <a:lnTo>
                    <a:pt x="252" y="590"/>
                  </a:lnTo>
                  <a:lnTo>
                    <a:pt x="172" y="517"/>
                  </a:lnTo>
                  <a:lnTo>
                    <a:pt x="159" y="417"/>
                  </a:lnTo>
                  <a:lnTo>
                    <a:pt x="60" y="93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0" y="685800"/>
            <a:ext cx="2590920" cy="1143000"/>
          </a:xfrm>
          <a:prstGeom prst="cloudCallout">
            <a:avLst>
              <a:gd name="adj1" fmla="val -18504"/>
              <a:gd name="adj2" fmla="val 121805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 Narrow"/>
              </a:rPr>
              <a:t>  </a:t>
            </a:r>
            <a:r>
              <a:rPr b="0" lang="en-US" sz="2800" spc="-1" strike="noStrike">
                <a:solidFill>
                  <a:srgbClr val="0000cc"/>
                </a:solidFill>
                <a:latin typeface="Arial Narrow"/>
              </a:rPr>
              <a:t>More disciplin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905120" y="2362320"/>
            <a:ext cx="2133000" cy="2775960"/>
            <a:chOff x="1905120" y="2362320"/>
            <a:chExt cx="2133000" cy="2775960"/>
          </a:xfrm>
        </p:grpSpPr>
        <p:sp>
          <p:nvSpPr>
            <p:cNvPr id="123" name=""/>
            <p:cNvSpPr/>
            <p:nvPr/>
          </p:nvSpPr>
          <p:spPr>
            <a:xfrm>
              <a:off x="1905120" y="2362320"/>
              <a:ext cx="1614240" cy="48996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600" spc="-1" strike="noStrike">
                  <a:solidFill>
                    <a:srgbClr val="ffffff"/>
                  </a:solidFill>
                  <a:latin typeface="Arial Narrow"/>
                </a:rPr>
                <a:t>Requirem.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77920" y="3124080"/>
              <a:ext cx="1614240" cy="48996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600" spc="-1" strike="noStrike">
                  <a:solidFill>
                    <a:srgbClr val="ffffff"/>
                  </a:solidFill>
                  <a:latin typeface="Arial Narrow"/>
                </a:rPr>
                <a:t>Design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51080" y="3886200"/>
              <a:ext cx="1614240" cy="48996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600" spc="-1" strike="noStrike">
                  <a:solidFill>
                    <a:srgbClr val="ffffff"/>
                  </a:solidFill>
                  <a:latin typeface="Arial Narrow"/>
                </a:rPr>
                <a:t>Coding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23880" y="4648320"/>
              <a:ext cx="1614240" cy="48996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600" spc="-1" strike="noStrike">
                  <a:solidFill>
                    <a:srgbClr val="ffffff"/>
                  </a:solidFill>
                  <a:latin typeface="Arial Narrow"/>
                </a:rPr>
                <a:t>Testing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97040" y="2895480"/>
              <a:ext cx="172800" cy="228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27440" y="3657600"/>
              <a:ext cx="172800" cy="228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00240" y="4419720"/>
              <a:ext cx="172800" cy="228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4267080" y="2819520"/>
            <a:ext cx="129564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 Narrow"/>
              </a:rPr>
              <a:t>ISO 90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867280" y="2514600"/>
            <a:ext cx="1447920" cy="2286000"/>
            <a:chOff x="5867280" y="2514600"/>
            <a:chExt cx="1447920" cy="2286000"/>
          </a:xfrm>
        </p:grpSpPr>
        <p:sp>
          <p:nvSpPr>
            <p:cNvPr id="132" name=""/>
            <p:cNvSpPr/>
            <p:nvPr/>
          </p:nvSpPr>
          <p:spPr>
            <a:xfrm>
              <a:off x="5867280" y="2514600"/>
              <a:ext cx="1143000" cy="1371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Arial Narrow"/>
                </a:rPr>
                <a:t>IEEE St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19920" y="2971800"/>
              <a:ext cx="1143000" cy="1371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Arial Narrow"/>
                </a:rPr>
                <a:t>IEEE St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72200" y="3429000"/>
              <a:ext cx="1143000" cy="1371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Arial Narrow"/>
                </a:rPr>
                <a:t>IEEE St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7696080" y="2440080"/>
            <a:ext cx="1295640" cy="3427200"/>
            <a:chOff x="7696080" y="2440080"/>
            <a:chExt cx="1295640" cy="3427200"/>
          </a:xfrm>
        </p:grpSpPr>
        <p:sp>
          <p:nvSpPr>
            <p:cNvPr id="136" name=""/>
            <p:cNvSpPr/>
            <p:nvPr/>
          </p:nvSpPr>
          <p:spPr>
            <a:xfrm>
              <a:off x="7696080" y="4572000"/>
              <a:ext cx="1295640" cy="5205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48720" y="4040280"/>
              <a:ext cx="1143000" cy="5205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001000" y="3506760"/>
              <a:ext cx="990720" cy="5205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153280" y="2973240"/>
              <a:ext cx="838440" cy="5205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05920" y="2440080"/>
              <a:ext cx="685800" cy="5205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7858080" y="5210280"/>
              <a:ext cx="905040" cy="657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28496" dir="17774481" blurRad="0" rotWithShape="0">
                      <a:srgbClr val="0066ff"/>
                    </a:outerShdw>
                  </a:effectLst>
                  <a:latin typeface="Impact"/>
                </a:rPr>
                <a:t>CMM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28496" dir="17774481" blurRad="0" rotWithShape="0">
                    <a:srgbClr val="0066ff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1)</a:t>
            </a: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XP Lifecycl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1)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4495680" y="2209680"/>
            <a:ext cx="3505320" cy="11430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Release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914400" y="2209680"/>
            <a:ext cx="3581280" cy="1143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Release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XP Lifecycl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35" name=""/>
          <p:cNvSpPr/>
          <p:nvPr/>
        </p:nvSpPr>
        <p:spPr>
          <a:xfrm>
            <a:off x="914400" y="2744640"/>
            <a:ext cx="1828800" cy="520560"/>
          </a:xfrm>
          <a:prstGeom prst="rect">
            <a:avLst/>
          </a:prstGeom>
          <a:solidFill>
            <a:srgbClr val="66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ncrement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743200" y="2744640"/>
            <a:ext cx="1752480" cy="520560"/>
          </a:xfrm>
          <a:prstGeom prst="rect">
            <a:avLst/>
          </a:prstGeom>
          <a:solidFill>
            <a:srgbClr val="66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ncrement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495680" y="2744640"/>
            <a:ext cx="1752840" cy="520560"/>
          </a:xfrm>
          <a:prstGeom prst="rect">
            <a:avLst/>
          </a:prstGeom>
          <a:solidFill>
            <a:srgbClr val="66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ncrement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248520" y="2744640"/>
            <a:ext cx="1752480" cy="520560"/>
          </a:xfrm>
          <a:prstGeom prst="rect">
            <a:avLst/>
          </a:prstGeom>
          <a:solidFill>
            <a:srgbClr val="66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ncrement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1)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RUP Phases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1)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RUP Phases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41" name=""/>
          <p:cNvSpPr/>
          <p:nvPr/>
        </p:nvSpPr>
        <p:spPr>
          <a:xfrm>
            <a:off x="380880" y="2676600"/>
            <a:ext cx="198144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Ince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362320" y="2681280"/>
            <a:ext cx="2209680" cy="5205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Elabo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572000" y="2681280"/>
            <a:ext cx="2133720" cy="520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 Narrow"/>
              </a:rPr>
              <a:t>Constr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705720" y="2681280"/>
            <a:ext cx="1981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Tran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1)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XPrince Lifecycl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1)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XPrince Lifecycl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380880" y="1143000"/>
          <a:ext cx="8534520" cy="423396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297080"/>
                <a:gridCol w="1216080"/>
                <a:gridCol w="1220760"/>
                <a:gridCol w="1217520"/>
                <a:gridCol w="1220760"/>
              </a:tblGrid>
              <a:tr h="4215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6.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7.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3.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.0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7.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7.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.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tart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Up a Proje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im and Sco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rchitect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lease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lease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lease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osing a Proje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9788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Business Modell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Increment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Increment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2808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Increment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Increment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229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 w="5760">
                      <a:solidFill>
                        <a:srgbClr val="0000c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Scope Elabor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Increment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Increment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2808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Increment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Increment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46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 w="2808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Transi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2808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Transi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Transi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cc"/>
                      </a:solidFill>
                    </a:lnL>
                    <a:lnR>
                      <a:noFill/>
                    </a:lnR>
                    <a:lnT w="5760">
                      <a:solidFill>
                        <a:srgbClr val="0000cc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48" name=""/>
          <p:cNvGrpSpPr/>
          <p:nvPr/>
        </p:nvGrpSpPr>
        <p:grpSpPr>
          <a:xfrm>
            <a:off x="581040" y="5486400"/>
            <a:ext cx="8029440" cy="761760"/>
            <a:chOff x="581040" y="5486400"/>
            <a:chExt cx="8029440" cy="761760"/>
          </a:xfrm>
        </p:grpSpPr>
        <p:sp>
          <p:nvSpPr>
            <p:cNvPr id="749" name=""/>
            <p:cNvSpPr txBox="1"/>
            <p:nvPr/>
          </p:nvSpPr>
          <p:spPr>
            <a:xfrm>
              <a:off x="581040" y="5514840"/>
              <a:ext cx="48564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45929" dir="19571123" blurRad="0" rotWithShape="0">
                      <a:srgbClr val="000099"/>
                    </a:outerShdw>
                  </a:effectLst>
                  <a:latin typeface="Impact"/>
                </a:rPr>
                <a:t>SU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45929" dir="19571123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50" name=""/>
            <p:cNvSpPr txBox="1"/>
            <p:nvPr/>
          </p:nvSpPr>
          <p:spPr>
            <a:xfrm>
              <a:off x="1952640" y="5514840"/>
              <a:ext cx="40968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45929" dir="19571123" blurRad="0" rotWithShape="0">
                      <a:srgbClr val="000099"/>
                    </a:outerShdw>
                  </a:effectLst>
                  <a:latin typeface="Impact"/>
                </a:rPr>
                <a:t>IP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45929" dir="19571123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51" name=""/>
            <p:cNvSpPr txBox="1"/>
            <p:nvPr/>
          </p:nvSpPr>
          <p:spPr>
            <a:xfrm>
              <a:off x="2971800" y="5514840"/>
              <a:ext cx="838080" cy="733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45929" dir="19571123" blurRad="0" rotWithShape="0">
                      <a:srgbClr val="000099"/>
                    </a:outerShdw>
                  </a:effectLst>
                  <a:latin typeface="Impact"/>
                </a:rPr>
                <a:t>Stage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45929" dir="19571123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52" name=""/>
            <p:cNvSpPr txBox="1"/>
            <p:nvPr/>
          </p:nvSpPr>
          <p:spPr>
            <a:xfrm>
              <a:off x="8124840" y="5486400"/>
              <a:ext cx="485640" cy="657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45929" dir="19571123" blurRad="0" rotWithShape="0">
                      <a:srgbClr val="000099"/>
                    </a:outerShdw>
                  </a:effectLst>
                  <a:latin typeface="Impact"/>
                </a:rPr>
                <a:t>CL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45929" dir="19571123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53" name=""/>
            <p:cNvSpPr txBox="1"/>
            <p:nvPr/>
          </p:nvSpPr>
          <p:spPr>
            <a:xfrm>
              <a:off x="4267080" y="5514840"/>
              <a:ext cx="838440" cy="733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45929" dir="19571123" blurRad="0" rotWithShape="0">
                      <a:srgbClr val="000099"/>
                    </a:outerShdw>
                  </a:effectLst>
                  <a:latin typeface="Impact"/>
                </a:rPr>
                <a:t>Stage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45929" dir="19571123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54" name=""/>
            <p:cNvSpPr txBox="1"/>
            <p:nvPr/>
          </p:nvSpPr>
          <p:spPr>
            <a:xfrm>
              <a:off x="5486400" y="5514840"/>
              <a:ext cx="838080" cy="733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45929" dir="19571123" blurRad="0" rotWithShape="0">
                      <a:srgbClr val="000099"/>
                    </a:outerShdw>
                  </a:effectLst>
                  <a:latin typeface="Impact"/>
                </a:rPr>
                <a:t>Stage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45929" dir="19571123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55" name=""/>
            <p:cNvSpPr txBox="1"/>
            <p:nvPr/>
          </p:nvSpPr>
          <p:spPr>
            <a:xfrm>
              <a:off x="6705720" y="5514840"/>
              <a:ext cx="838080" cy="733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45929" dir="19571123" blurRad="0" rotWithShape="0">
                      <a:srgbClr val="000099"/>
                    </a:outerShdw>
                  </a:effectLst>
                  <a:latin typeface="Impact"/>
                </a:rPr>
                <a:t>Stage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45929" dir="19571123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1)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ummar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57" name=""/>
          <p:cNvSpPr/>
          <p:nvPr/>
        </p:nvSpPr>
        <p:spPr>
          <a:xfrm>
            <a:off x="279360" y="1486080"/>
            <a:ext cx="2971800" cy="1091880"/>
          </a:xfrm>
          <a:prstGeom prst="cloudCallout">
            <a:avLst>
              <a:gd name="adj1" fmla="val -15972"/>
              <a:gd name="adj2" fmla="val 86773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cap="sq" w="158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141120" y="2660760"/>
            <a:ext cx="2789280" cy="2640960"/>
            <a:chOff x="141120" y="2660760"/>
            <a:chExt cx="2789280" cy="2640960"/>
          </a:xfrm>
        </p:grpSpPr>
        <p:sp>
          <p:nvSpPr>
            <p:cNvPr id="759" name=""/>
            <p:cNvSpPr/>
            <p:nvPr/>
          </p:nvSpPr>
          <p:spPr>
            <a:xfrm>
              <a:off x="1062000" y="3106440"/>
              <a:ext cx="485640" cy="558360"/>
            </a:xfrm>
            <a:custGeom>
              <a:avLst/>
              <a:gdLst/>
              <a:ahLst/>
              <a:rect l="l" t="t" r="r" b="b"/>
              <a:pathLst>
                <a:path w="613" h="704">
                  <a:moveTo>
                    <a:pt x="187" y="255"/>
                  </a:moveTo>
                  <a:lnTo>
                    <a:pt x="222" y="156"/>
                  </a:lnTo>
                  <a:lnTo>
                    <a:pt x="267" y="58"/>
                  </a:lnTo>
                  <a:lnTo>
                    <a:pt x="333" y="9"/>
                  </a:lnTo>
                  <a:lnTo>
                    <a:pt x="427" y="0"/>
                  </a:lnTo>
                  <a:lnTo>
                    <a:pt x="501" y="33"/>
                  </a:lnTo>
                  <a:lnTo>
                    <a:pt x="555" y="87"/>
                  </a:lnTo>
                  <a:lnTo>
                    <a:pt x="595" y="185"/>
                  </a:lnTo>
                  <a:lnTo>
                    <a:pt x="613" y="304"/>
                  </a:lnTo>
                  <a:lnTo>
                    <a:pt x="613" y="427"/>
                  </a:lnTo>
                  <a:lnTo>
                    <a:pt x="582" y="563"/>
                  </a:lnTo>
                  <a:lnTo>
                    <a:pt x="501" y="649"/>
                  </a:lnTo>
                  <a:lnTo>
                    <a:pt x="422" y="704"/>
                  </a:lnTo>
                  <a:lnTo>
                    <a:pt x="346" y="698"/>
                  </a:lnTo>
                  <a:lnTo>
                    <a:pt x="280" y="641"/>
                  </a:lnTo>
                  <a:lnTo>
                    <a:pt x="222" y="542"/>
                  </a:lnTo>
                  <a:lnTo>
                    <a:pt x="182" y="456"/>
                  </a:lnTo>
                  <a:lnTo>
                    <a:pt x="182" y="345"/>
                  </a:lnTo>
                  <a:lnTo>
                    <a:pt x="0" y="320"/>
                  </a:lnTo>
                  <a:lnTo>
                    <a:pt x="23" y="259"/>
                  </a:lnTo>
                  <a:lnTo>
                    <a:pt x="187" y="255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382400" y="2660760"/>
              <a:ext cx="633600" cy="1250640"/>
            </a:xfrm>
            <a:custGeom>
              <a:avLst/>
              <a:gdLst/>
              <a:ahLst/>
              <a:rect l="l" t="t" r="r" b="b"/>
              <a:pathLst>
                <a:path w="798" h="1576">
                  <a:moveTo>
                    <a:pt x="19" y="1564"/>
                  </a:moveTo>
                  <a:lnTo>
                    <a:pt x="0" y="1486"/>
                  </a:lnTo>
                  <a:lnTo>
                    <a:pt x="44" y="1423"/>
                  </a:lnTo>
                  <a:lnTo>
                    <a:pt x="190" y="1349"/>
                  </a:lnTo>
                  <a:lnTo>
                    <a:pt x="318" y="1267"/>
                  </a:lnTo>
                  <a:lnTo>
                    <a:pt x="441" y="1130"/>
                  </a:lnTo>
                  <a:lnTo>
                    <a:pt x="609" y="941"/>
                  </a:lnTo>
                  <a:lnTo>
                    <a:pt x="652" y="866"/>
                  </a:lnTo>
                  <a:lnTo>
                    <a:pt x="675" y="792"/>
                  </a:lnTo>
                  <a:lnTo>
                    <a:pt x="665" y="718"/>
                  </a:lnTo>
                  <a:lnTo>
                    <a:pt x="626" y="581"/>
                  </a:lnTo>
                  <a:lnTo>
                    <a:pt x="530" y="409"/>
                  </a:lnTo>
                  <a:lnTo>
                    <a:pt x="424" y="313"/>
                  </a:lnTo>
                  <a:lnTo>
                    <a:pt x="331" y="260"/>
                  </a:lnTo>
                  <a:lnTo>
                    <a:pt x="256" y="252"/>
                  </a:lnTo>
                  <a:lnTo>
                    <a:pt x="216" y="260"/>
                  </a:lnTo>
                  <a:lnTo>
                    <a:pt x="212" y="223"/>
                  </a:lnTo>
                  <a:lnTo>
                    <a:pt x="304" y="211"/>
                  </a:lnTo>
                  <a:lnTo>
                    <a:pt x="410" y="211"/>
                  </a:lnTo>
                  <a:lnTo>
                    <a:pt x="335" y="127"/>
                  </a:lnTo>
                  <a:lnTo>
                    <a:pt x="291" y="62"/>
                  </a:lnTo>
                  <a:lnTo>
                    <a:pt x="322" y="37"/>
                  </a:lnTo>
                  <a:lnTo>
                    <a:pt x="441" y="149"/>
                  </a:lnTo>
                  <a:lnTo>
                    <a:pt x="463" y="166"/>
                  </a:lnTo>
                  <a:lnTo>
                    <a:pt x="441" y="78"/>
                  </a:lnTo>
                  <a:lnTo>
                    <a:pt x="424" y="12"/>
                  </a:lnTo>
                  <a:lnTo>
                    <a:pt x="441" y="0"/>
                  </a:lnTo>
                  <a:lnTo>
                    <a:pt x="480" y="12"/>
                  </a:lnTo>
                  <a:lnTo>
                    <a:pt x="516" y="166"/>
                  </a:lnTo>
                  <a:lnTo>
                    <a:pt x="534" y="161"/>
                  </a:lnTo>
                  <a:lnTo>
                    <a:pt x="534" y="41"/>
                  </a:lnTo>
                  <a:lnTo>
                    <a:pt x="569" y="29"/>
                  </a:lnTo>
                  <a:lnTo>
                    <a:pt x="595" y="49"/>
                  </a:lnTo>
                  <a:lnTo>
                    <a:pt x="582" y="211"/>
                  </a:lnTo>
                  <a:lnTo>
                    <a:pt x="573" y="276"/>
                  </a:lnTo>
                  <a:lnTo>
                    <a:pt x="595" y="409"/>
                  </a:lnTo>
                  <a:lnTo>
                    <a:pt x="665" y="549"/>
                  </a:lnTo>
                  <a:lnTo>
                    <a:pt x="740" y="710"/>
                  </a:lnTo>
                  <a:lnTo>
                    <a:pt x="798" y="829"/>
                  </a:lnTo>
                  <a:lnTo>
                    <a:pt x="794" y="891"/>
                  </a:lnTo>
                  <a:lnTo>
                    <a:pt x="688" y="1003"/>
                  </a:lnTo>
                  <a:lnTo>
                    <a:pt x="542" y="1142"/>
                  </a:lnTo>
                  <a:lnTo>
                    <a:pt x="424" y="1279"/>
                  </a:lnTo>
                  <a:lnTo>
                    <a:pt x="278" y="1461"/>
                  </a:lnTo>
                  <a:lnTo>
                    <a:pt x="159" y="1552"/>
                  </a:lnTo>
                  <a:lnTo>
                    <a:pt x="67" y="1576"/>
                  </a:lnTo>
                  <a:lnTo>
                    <a:pt x="19" y="1564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41120" y="3827160"/>
              <a:ext cx="1158840" cy="630000"/>
            </a:xfrm>
            <a:custGeom>
              <a:avLst/>
              <a:gdLst/>
              <a:ahLst/>
              <a:rect l="l" t="t" r="r" b="b"/>
              <a:pathLst>
                <a:path w="1461" h="794">
                  <a:moveTo>
                    <a:pt x="297" y="641"/>
                  </a:moveTo>
                  <a:lnTo>
                    <a:pt x="508" y="633"/>
                  </a:lnTo>
                  <a:lnTo>
                    <a:pt x="702" y="608"/>
                  </a:lnTo>
                  <a:lnTo>
                    <a:pt x="822" y="579"/>
                  </a:lnTo>
                  <a:lnTo>
                    <a:pt x="994" y="485"/>
                  </a:lnTo>
                  <a:lnTo>
                    <a:pt x="1117" y="395"/>
                  </a:lnTo>
                  <a:lnTo>
                    <a:pt x="1276" y="284"/>
                  </a:lnTo>
                  <a:lnTo>
                    <a:pt x="1351" y="214"/>
                  </a:lnTo>
                  <a:lnTo>
                    <a:pt x="1409" y="165"/>
                  </a:lnTo>
                  <a:lnTo>
                    <a:pt x="1461" y="111"/>
                  </a:lnTo>
                  <a:lnTo>
                    <a:pt x="1461" y="54"/>
                  </a:lnTo>
                  <a:lnTo>
                    <a:pt x="1403" y="0"/>
                  </a:lnTo>
                  <a:lnTo>
                    <a:pt x="1368" y="13"/>
                  </a:lnTo>
                  <a:lnTo>
                    <a:pt x="1272" y="124"/>
                  </a:lnTo>
                  <a:lnTo>
                    <a:pt x="1166" y="251"/>
                  </a:lnTo>
                  <a:lnTo>
                    <a:pt x="1060" y="370"/>
                  </a:lnTo>
                  <a:lnTo>
                    <a:pt x="905" y="468"/>
                  </a:lnTo>
                  <a:lnTo>
                    <a:pt x="772" y="534"/>
                  </a:lnTo>
                  <a:lnTo>
                    <a:pt x="627" y="567"/>
                  </a:lnTo>
                  <a:lnTo>
                    <a:pt x="424" y="571"/>
                  </a:lnTo>
                  <a:lnTo>
                    <a:pt x="305" y="571"/>
                  </a:lnTo>
                  <a:lnTo>
                    <a:pt x="204" y="497"/>
                  </a:lnTo>
                  <a:lnTo>
                    <a:pt x="177" y="448"/>
                  </a:lnTo>
                  <a:lnTo>
                    <a:pt x="133" y="448"/>
                  </a:lnTo>
                  <a:lnTo>
                    <a:pt x="164" y="509"/>
                  </a:lnTo>
                  <a:lnTo>
                    <a:pt x="212" y="567"/>
                  </a:lnTo>
                  <a:lnTo>
                    <a:pt x="94" y="542"/>
                  </a:lnTo>
                  <a:lnTo>
                    <a:pt x="5" y="530"/>
                  </a:lnTo>
                  <a:lnTo>
                    <a:pt x="5" y="555"/>
                  </a:lnTo>
                  <a:lnTo>
                    <a:pt x="84" y="571"/>
                  </a:lnTo>
                  <a:lnTo>
                    <a:pt x="137" y="604"/>
                  </a:lnTo>
                  <a:lnTo>
                    <a:pt x="185" y="608"/>
                  </a:lnTo>
                  <a:lnTo>
                    <a:pt x="110" y="633"/>
                  </a:lnTo>
                  <a:lnTo>
                    <a:pt x="0" y="657"/>
                  </a:lnTo>
                  <a:lnTo>
                    <a:pt x="5" y="682"/>
                  </a:lnTo>
                  <a:lnTo>
                    <a:pt x="40" y="690"/>
                  </a:lnTo>
                  <a:lnTo>
                    <a:pt x="146" y="657"/>
                  </a:lnTo>
                  <a:lnTo>
                    <a:pt x="212" y="653"/>
                  </a:lnTo>
                  <a:lnTo>
                    <a:pt x="173" y="690"/>
                  </a:lnTo>
                  <a:lnTo>
                    <a:pt x="110" y="752"/>
                  </a:lnTo>
                  <a:lnTo>
                    <a:pt x="84" y="768"/>
                  </a:lnTo>
                  <a:lnTo>
                    <a:pt x="106" y="794"/>
                  </a:lnTo>
                  <a:lnTo>
                    <a:pt x="160" y="764"/>
                  </a:lnTo>
                  <a:lnTo>
                    <a:pt x="230" y="702"/>
                  </a:lnTo>
                  <a:lnTo>
                    <a:pt x="297" y="641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207800" y="3762000"/>
              <a:ext cx="679680" cy="866520"/>
            </a:xfrm>
            <a:custGeom>
              <a:avLst/>
              <a:gdLst/>
              <a:ahLst/>
              <a:rect l="l" t="t" r="r" b="b"/>
              <a:pathLst>
                <a:path w="857" h="1094">
                  <a:moveTo>
                    <a:pt x="54" y="124"/>
                  </a:moveTo>
                  <a:lnTo>
                    <a:pt x="89" y="37"/>
                  </a:lnTo>
                  <a:lnTo>
                    <a:pt x="147" y="0"/>
                  </a:lnTo>
                  <a:lnTo>
                    <a:pt x="199" y="0"/>
                  </a:lnTo>
                  <a:lnTo>
                    <a:pt x="253" y="25"/>
                  </a:lnTo>
                  <a:lnTo>
                    <a:pt x="305" y="74"/>
                  </a:lnTo>
                  <a:lnTo>
                    <a:pt x="332" y="160"/>
                  </a:lnTo>
                  <a:lnTo>
                    <a:pt x="346" y="247"/>
                  </a:lnTo>
                  <a:lnTo>
                    <a:pt x="371" y="333"/>
                  </a:lnTo>
                  <a:lnTo>
                    <a:pt x="421" y="427"/>
                  </a:lnTo>
                  <a:lnTo>
                    <a:pt x="504" y="526"/>
                  </a:lnTo>
                  <a:lnTo>
                    <a:pt x="585" y="591"/>
                  </a:lnTo>
                  <a:lnTo>
                    <a:pt x="703" y="641"/>
                  </a:lnTo>
                  <a:lnTo>
                    <a:pt x="805" y="715"/>
                  </a:lnTo>
                  <a:lnTo>
                    <a:pt x="857" y="788"/>
                  </a:lnTo>
                  <a:lnTo>
                    <a:pt x="848" y="850"/>
                  </a:lnTo>
                  <a:lnTo>
                    <a:pt x="836" y="924"/>
                  </a:lnTo>
                  <a:lnTo>
                    <a:pt x="796" y="973"/>
                  </a:lnTo>
                  <a:lnTo>
                    <a:pt x="730" y="1035"/>
                  </a:lnTo>
                  <a:lnTo>
                    <a:pt x="633" y="1080"/>
                  </a:lnTo>
                  <a:lnTo>
                    <a:pt x="558" y="1094"/>
                  </a:lnTo>
                  <a:lnTo>
                    <a:pt x="452" y="1072"/>
                  </a:lnTo>
                  <a:lnTo>
                    <a:pt x="355" y="1022"/>
                  </a:lnTo>
                  <a:lnTo>
                    <a:pt x="253" y="949"/>
                  </a:lnTo>
                  <a:lnTo>
                    <a:pt x="182" y="862"/>
                  </a:lnTo>
                  <a:lnTo>
                    <a:pt x="116" y="752"/>
                  </a:lnTo>
                  <a:lnTo>
                    <a:pt x="62" y="624"/>
                  </a:lnTo>
                  <a:lnTo>
                    <a:pt x="27" y="513"/>
                  </a:lnTo>
                  <a:lnTo>
                    <a:pt x="10" y="407"/>
                  </a:lnTo>
                  <a:lnTo>
                    <a:pt x="0" y="259"/>
                  </a:lnTo>
                  <a:lnTo>
                    <a:pt x="27" y="160"/>
                  </a:lnTo>
                  <a:lnTo>
                    <a:pt x="54" y="124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765080" y="4133520"/>
              <a:ext cx="1165320" cy="787320"/>
            </a:xfrm>
            <a:custGeom>
              <a:avLst/>
              <a:gdLst/>
              <a:ahLst/>
              <a:rect l="l" t="t" r="r" b="b"/>
              <a:pathLst>
                <a:path w="1469" h="992">
                  <a:moveTo>
                    <a:pt x="163" y="314"/>
                  </a:moveTo>
                  <a:lnTo>
                    <a:pt x="305" y="201"/>
                  </a:lnTo>
                  <a:lnTo>
                    <a:pt x="477" y="99"/>
                  </a:lnTo>
                  <a:lnTo>
                    <a:pt x="587" y="37"/>
                  </a:lnTo>
                  <a:lnTo>
                    <a:pt x="674" y="17"/>
                  </a:lnTo>
                  <a:lnTo>
                    <a:pt x="745" y="0"/>
                  </a:lnTo>
                  <a:lnTo>
                    <a:pt x="807" y="25"/>
                  </a:lnTo>
                  <a:lnTo>
                    <a:pt x="846" y="103"/>
                  </a:lnTo>
                  <a:lnTo>
                    <a:pt x="873" y="314"/>
                  </a:lnTo>
                  <a:lnTo>
                    <a:pt x="873" y="568"/>
                  </a:lnTo>
                  <a:lnTo>
                    <a:pt x="873" y="732"/>
                  </a:lnTo>
                  <a:lnTo>
                    <a:pt x="904" y="832"/>
                  </a:lnTo>
                  <a:lnTo>
                    <a:pt x="966" y="816"/>
                  </a:lnTo>
                  <a:lnTo>
                    <a:pt x="1010" y="754"/>
                  </a:lnTo>
                  <a:lnTo>
                    <a:pt x="1098" y="683"/>
                  </a:lnTo>
                  <a:lnTo>
                    <a:pt x="1235" y="642"/>
                  </a:lnTo>
                  <a:lnTo>
                    <a:pt x="1328" y="642"/>
                  </a:lnTo>
                  <a:lnTo>
                    <a:pt x="1469" y="667"/>
                  </a:lnTo>
                  <a:lnTo>
                    <a:pt x="1460" y="716"/>
                  </a:lnTo>
                  <a:lnTo>
                    <a:pt x="1429" y="758"/>
                  </a:lnTo>
                  <a:lnTo>
                    <a:pt x="1381" y="766"/>
                  </a:lnTo>
                  <a:lnTo>
                    <a:pt x="1328" y="740"/>
                  </a:lnTo>
                  <a:lnTo>
                    <a:pt x="1249" y="708"/>
                  </a:lnTo>
                  <a:lnTo>
                    <a:pt x="1168" y="708"/>
                  </a:lnTo>
                  <a:lnTo>
                    <a:pt x="1062" y="771"/>
                  </a:lnTo>
                  <a:lnTo>
                    <a:pt x="997" y="865"/>
                  </a:lnTo>
                  <a:lnTo>
                    <a:pt x="983" y="943"/>
                  </a:lnTo>
                  <a:lnTo>
                    <a:pt x="957" y="992"/>
                  </a:lnTo>
                  <a:lnTo>
                    <a:pt x="851" y="988"/>
                  </a:lnTo>
                  <a:lnTo>
                    <a:pt x="846" y="914"/>
                  </a:lnTo>
                  <a:lnTo>
                    <a:pt x="811" y="808"/>
                  </a:lnTo>
                  <a:lnTo>
                    <a:pt x="798" y="695"/>
                  </a:lnTo>
                  <a:lnTo>
                    <a:pt x="807" y="548"/>
                  </a:lnTo>
                  <a:lnTo>
                    <a:pt x="794" y="338"/>
                  </a:lnTo>
                  <a:lnTo>
                    <a:pt x="786" y="201"/>
                  </a:lnTo>
                  <a:lnTo>
                    <a:pt x="759" y="152"/>
                  </a:lnTo>
                  <a:lnTo>
                    <a:pt x="705" y="103"/>
                  </a:lnTo>
                  <a:lnTo>
                    <a:pt x="649" y="103"/>
                  </a:lnTo>
                  <a:lnTo>
                    <a:pt x="568" y="152"/>
                  </a:lnTo>
                  <a:lnTo>
                    <a:pt x="463" y="248"/>
                  </a:lnTo>
                  <a:lnTo>
                    <a:pt x="331" y="371"/>
                  </a:lnTo>
                  <a:lnTo>
                    <a:pt x="199" y="486"/>
                  </a:lnTo>
                  <a:lnTo>
                    <a:pt x="132" y="523"/>
                  </a:lnTo>
                  <a:lnTo>
                    <a:pt x="53" y="523"/>
                  </a:lnTo>
                  <a:lnTo>
                    <a:pt x="0" y="470"/>
                  </a:lnTo>
                  <a:lnTo>
                    <a:pt x="4" y="383"/>
                  </a:lnTo>
                  <a:lnTo>
                    <a:pt x="58" y="338"/>
                  </a:lnTo>
                  <a:lnTo>
                    <a:pt x="118" y="326"/>
                  </a:lnTo>
                  <a:lnTo>
                    <a:pt x="163" y="314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701720" y="4474800"/>
              <a:ext cx="798480" cy="826920"/>
            </a:xfrm>
            <a:custGeom>
              <a:avLst/>
              <a:gdLst/>
              <a:ahLst/>
              <a:rect l="l" t="t" r="r" b="b"/>
              <a:pathLst>
                <a:path w="1004" h="1041">
                  <a:moveTo>
                    <a:pt x="0" y="88"/>
                  </a:moveTo>
                  <a:lnTo>
                    <a:pt x="31" y="22"/>
                  </a:lnTo>
                  <a:lnTo>
                    <a:pt x="97" y="0"/>
                  </a:lnTo>
                  <a:lnTo>
                    <a:pt x="189" y="10"/>
                  </a:lnTo>
                  <a:lnTo>
                    <a:pt x="211" y="71"/>
                  </a:lnTo>
                  <a:lnTo>
                    <a:pt x="176" y="311"/>
                  </a:lnTo>
                  <a:lnTo>
                    <a:pt x="172" y="493"/>
                  </a:lnTo>
                  <a:lnTo>
                    <a:pt x="163" y="595"/>
                  </a:lnTo>
                  <a:lnTo>
                    <a:pt x="163" y="616"/>
                  </a:lnTo>
                  <a:lnTo>
                    <a:pt x="185" y="716"/>
                  </a:lnTo>
                  <a:lnTo>
                    <a:pt x="242" y="732"/>
                  </a:lnTo>
                  <a:lnTo>
                    <a:pt x="317" y="716"/>
                  </a:lnTo>
                  <a:lnTo>
                    <a:pt x="427" y="658"/>
                  </a:lnTo>
                  <a:lnTo>
                    <a:pt x="546" y="630"/>
                  </a:lnTo>
                  <a:lnTo>
                    <a:pt x="678" y="608"/>
                  </a:lnTo>
                  <a:lnTo>
                    <a:pt x="824" y="591"/>
                  </a:lnTo>
                  <a:lnTo>
                    <a:pt x="930" y="591"/>
                  </a:lnTo>
                  <a:lnTo>
                    <a:pt x="978" y="604"/>
                  </a:lnTo>
                  <a:lnTo>
                    <a:pt x="1004" y="634"/>
                  </a:lnTo>
                  <a:lnTo>
                    <a:pt x="992" y="679"/>
                  </a:lnTo>
                  <a:lnTo>
                    <a:pt x="925" y="716"/>
                  </a:lnTo>
                  <a:lnTo>
                    <a:pt x="863" y="769"/>
                  </a:lnTo>
                  <a:lnTo>
                    <a:pt x="805" y="844"/>
                  </a:lnTo>
                  <a:lnTo>
                    <a:pt x="770" y="906"/>
                  </a:lnTo>
                  <a:lnTo>
                    <a:pt x="741" y="968"/>
                  </a:lnTo>
                  <a:lnTo>
                    <a:pt x="718" y="1041"/>
                  </a:lnTo>
                  <a:lnTo>
                    <a:pt x="687" y="1041"/>
                  </a:lnTo>
                  <a:lnTo>
                    <a:pt x="660" y="1013"/>
                  </a:lnTo>
                  <a:lnTo>
                    <a:pt x="652" y="931"/>
                  </a:lnTo>
                  <a:lnTo>
                    <a:pt x="714" y="857"/>
                  </a:lnTo>
                  <a:lnTo>
                    <a:pt x="797" y="769"/>
                  </a:lnTo>
                  <a:lnTo>
                    <a:pt x="876" y="704"/>
                  </a:lnTo>
                  <a:lnTo>
                    <a:pt x="911" y="683"/>
                  </a:lnTo>
                  <a:lnTo>
                    <a:pt x="925" y="654"/>
                  </a:lnTo>
                  <a:lnTo>
                    <a:pt x="890" y="634"/>
                  </a:lnTo>
                  <a:lnTo>
                    <a:pt x="770" y="634"/>
                  </a:lnTo>
                  <a:lnTo>
                    <a:pt x="621" y="658"/>
                  </a:lnTo>
                  <a:lnTo>
                    <a:pt x="502" y="695"/>
                  </a:lnTo>
                  <a:lnTo>
                    <a:pt x="374" y="765"/>
                  </a:lnTo>
                  <a:lnTo>
                    <a:pt x="264" y="814"/>
                  </a:lnTo>
                  <a:lnTo>
                    <a:pt x="145" y="818"/>
                  </a:lnTo>
                  <a:lnTo>
                    <a:pt x="97" y="802"/>
                  </a:lnTo>
                  <a:lnTo>
                    <a:pt x="70" y="740"/>
                  </a:lnTo>
                  <a:lnTo>
                    <a:pt x="52" y="654"/>
                  </a:lnTo>
                  <a:lnTo>
                    <a:pt x="43" y="493"/>
                  </a:lnTo>
                  <a:lnTo>
                    <a:pt x="26" y="207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2625840" y="4406760"/>
            <a:ext cx="484200" cy="950760"/>
            <a:chOff x="2625840" y="4406760"/>
            <a:chExt cx="484200" cy="950760"/>
          </a:xfrm>
        </p:grpSpPr>
        <p:sp>
          <p:nvSpPr>
            <p:cNvPr id="766" name=""/>
            <p:cNvSpPr/>
            <p:nvPr/>
          </p:nvSpPr>
          <p:spPr>
            <a:xfrm>
              <a:off x="2729160" y="4938480"/>
              <a:ext cx="380880" cy="115920"/>
            </a:xfrm>
            <a:custGeom>
              <a:avLst/>
              <a:gdLst/>
              <a:ahLst/>
              <a:rect l="l" t="t" r="r" b="b"/>
              <a:pathLst>
                <a:path w="478" h="148">
                  <a:moveTo>
                    <a:pt x="478" y="148"/>
                  </a:moveTo>
                  <a:lnTo>
                    <a:pt x="231" y="41"/>
                  </a:lnTo>
                  <a:lnTo>
                    <a:pt x="68" y="0"/>
                  </a:lnTo>
                  <a:lnTo>
                    <a:pt x="14" y="0"/>
                  </a:lnTo>
                  <a:lnTo>
                    <a:pt x="0" y="37"/>
                  </a:lnTo>
                  <a:lnTo>
                    <a:pt x="31" y="66"/>
                  </a:lnTo>
                  <a:lnTo>
                    <a:pt x="99" y="74"/>
                  </a:lnTo>
                  <a:lnTo>
                    <a:pt x="258" y="103"/>
                  </a:lnTo>
                  <a:lnTo>
                    <a:pt x="478" y="148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625840" y="5041800"/>
              <a:ext cx="109800" cy="315720"/>
            </a:xfrm>
            <a:custGeom>
              <a:avLst/>
              <a:gdLst/>
              <a:ahLst/>
              <a:rect l="l" t="t" r="r" b="b"/>
              <a:pathLst>
                <a:path w="137" h="399">
                  <a:moveTo>
                    <a:pt x="137" y="399"/>
                  </a:moveTo>
                  <a:lnTo>
                    <a:pt x="133" y="203"/>
                  </a:lnTo>
                  <a:lnTo>
                    <a:pt x="97" y="54"/>
                  </a:lnTo>
                  <a:lnTo>
                    <a:pt x="58" y="0"/>
                  </a:lnTo>
                  <a:lnTo>
                    <a:pt x="27" y="0"/>
                  </a:lnTo>
                  <a:lnTo>
                    <a:pt x="0" y="17"/>
                  </a:lnTo>
                  <a:lnTo>
                    <a:pt x="0" y="74"/>
                  </a:lnTo>
                  <a:lnTo>
                    <a:pt x="66" y="252"/>
                  </a:lnTo>
                  <a:lnTo>
                    <a:pt x="137" y="399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783160" y="4406760"/>
              <a:ext cx="239760" cy="120600"/>
            </a:xfrm>
            <a:custGeom>
              <a:avLst/>
              <a:gdLst/>
              <a:ahLst/>
              <a:rect l="l" t="t" r="r" b="b"/>
              <a:pathLst>
                <a:path w="300" h="152">
                  <a:moveTo>
                    <a:pt x="0" y="99"/>
                  </a:moveTo>
                  <a:lnTo>
                    <a:pt x="57" y="41"/>
                  </a:lnTo>
                  <a:lnTo>
                    <a:pt x="139" y="4"/>
                  </a:lnTo>
                  <a:lnTo>
                    <a:pt x="232" y="0"/>
                  </a:lnTo>
                  <a:lnTo>
                    <a:pt x="300" y="12"/>
                  </a:lnTo>
                  <a:lnTo>
                    <a:pt x="193" y="25"/>
                  </a:lnTo>
                  <a:lnTo>
                    <a:pt x="152" y="49"/>
                  </a:lnTo>
                  <a:lnTo>
                    <a:pt x="112" y="86"/>
                  </a:lnTo>
                  <a:lnTo>
                    <a:pt x="94" y="127"/>
                  </a:lnTo>
                  <a:lnTo>
                    <a:pt x="57" y="152"/>
                  </a:lnTo>
                  <a:lnTo>
                    <a:pt x="14" y="148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9" name=""/>
          <p:cNvSpPr txBox="1"/>
          <p:nvPr/>
        </p:nvSpPr>
        <p:spPr>
          <a:xfrm>
            <a:off x="749160" y="1917720"/>
            <a:ext cx="193068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7088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333399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At last!</a:t>
            </a:r>
            <a:endParaRPr b="0" lang="en-US" sz="2400" spc="1" strike="noStrike">
              <a:ln cap="sq" w="9360">
                <a:solidFill>
                  <a:srgbClr val="333399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505320" y="2362320"/>
            <a:ext cx="5486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Agile Allience’s Manifest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Agility vs. disciplin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Team structure in XPrin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roject life cycle in XPrin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1)</a:t>
            </a: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3479760" y="1486080"/>
            <a:ext cx="2286000" cy="3213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3399ff"/>
              </a:gs>
              <a:gs pos="100000">
                <a:srgbClr val="0000ff"/>
              </a:gs>
            </a:gsLst>
            <a:lin ang="5400000"/>
          </a:gradFill>
          <a:ln w="38160">
            <a:solidFill>
              <a:srgbClr val="0066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 Narrow"/>
              </a:rPr>
              <a:t>Questions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?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3602160" y="1589040"/>
            <a:ext cx="2014560" cy="2981520"/>
          </a:xfrm>
          <a:prstGeom prst="rect">
            <a:avLst/>
          </a:prstGeom>
        </p:spPr>
        <p:txBody>
          <a:bodyPr wrap="none" lIns="90000" rIns="90000" tIns="91440" bIns="9144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8c3d91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3399ff"/>
                  </a:outerShdw>
                </a:effectLst>
                <a:latin typeface="Arial Black"/>
              </a:rPr>
              <a:t>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8c3d91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4303641" blurRad="0" rotWithShape="0">
                  <a:srgbClr val="33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1)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Disciplined approach to project management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914400"/>
            <a:ext cx="5562360" cy="14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861840" indent="-861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1975: PROMPT, Simpact Systems Lt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61840" indent="-861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1979: PROMPT becomes a standard of CC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6320" y="838080"/>
            <a:ext cx="3087720" cy="4575240"/>
            <a:chOff x="76320" y="838080"/>
            <a:chExt cx="3087720" cy="457524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76320" y="838080"/>
              <a:ext cx="3087720" cy="457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76320" y="977760"/>
              <a:ext cx="2895480" cy="6858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 Narrow"/>
                </a:rPr>
                <a:t>Managing Successful Projects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 Narrow"/>
                </a:rPr>
                <a:t>with PRINCE 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276720" y="3429000"/>
            <a:ext cx="556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marL="949320" indent="-9493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1989: CCTA introduces PRI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69880" y="2502000"/>
            <a:ext cx="6706440" cy="824040"/>
          </a:xfrm>
          <a:prstGeom prst="rect">
            <a:avLst/>
          </a:prstGeom>
          <a:noFill/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861840" indent="-861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66ccff"/>
                </a:solidFill>
                <a:latin typeface="Arial Narrow"/>
              </a:rPr>
              <a:t>CCTA</a:t>
            </a: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 = the </a:t>
            </a:r>
            <a:r>
              <a:rPr b="1" lang="pl-PL" sz="2400" spc="-1" strike="noStrike">
                <a:solidFill>
                  <a:srgbClr val="99ccff"/>
                </a:solidFill>
                <a:latin typeface="Arial Narrow"/>
              </a:rPr>
              <a:t>C</a:t>
            </a: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entral </a:t>
            </a:r>
            <a:r>
              <a:rPr b="1" lang="pl-PL" sz="2400" spc="-1" strike="noStrike">
                <a:solidFill>
                  <a:srgbClr val="99ccff"/>
                </a:solidFill>
                <a:latin typeface="Arial Narrow"/>
              </a:rPr>
              <a:t>C</a:t>
            </a: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omputer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61840" indent="-86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            </a:t>
            </a:r>
            <a:r>
              <a:rPr b="1" lang="pl-PL" sz="2400" spc="-1" strike="noStrike">
                <a:solidFill>
                  <a:srgbClr val="99ccff"/>
                </a:solidFill>
                <a:latin typeface="Arial Narrow"/>
              </a:rPr>
              <a:t>T</a:t>
            </a: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elecommunications </a:t>
            </a:r>
            <a:r>
              <a:rPr b="1" lang="pl-PL" sz="2400" spc="-1" strike="noStrike">
                <a:solidFill>
                  <a:srgbClr val="99ccff"/>
                </a:solidFill>
                <a:latin typeface="Arial Narrow"/>
              </a:rPr>
              <a:t>A</a:t>
            </a: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gency, U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4967280"/>
            <a:ext cx="556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marL="949320" indent="-9493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1996: CCTA publishes PRINCE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14800" y="4025880"/>
            <a:ext cx="5029200" cy="824040"/>
          </a:xfrm>
          <a:prstGeom prst="rect">
            <a:avLst/>
          </a:prstGeom>
          <a:noFill/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66ccff"/>
                </a:solidFill>
                <a:latin typeface="Arial Narrow"/>
              </a:rPr>
              <a:t>PRINCE</a:t>
            </a: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 =</a:t>
            </a:r>
            <a:r>
              <a:rPr b="1" lang="pl-PL" sz="2400" spc="-1" strike="noStrike">
                <a:solidFill>
                  <a:srgbClr val="99cc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9ccff"/>
                </a:solidFill>
                <a:latin typeface="Arial Narrow"/>
              </a:rPr>
              <a:t>     </a:t>
            </a:r>
            <a:r>
              <a:rPr b="1" lang="pl-PL" sz="2400" spc="-1" strike="noStrike">
                <a:solidFill>
                  <a:srgbClr val="99ccff"/>
                </a:solidFill>
                <a:latin typeface="Arial Narrow"/>
              </a:rPr>
              <a:t>PR</a:t>
            </a: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ojects </a:t>
            </a:r>
            <a:r>
              <a:rPr b="1" lang="pl-PL" sz="2400" spc="-1" strike="noStrike">
                <a:solidFill>
                  <a:srgbClr val="99ccff"/>
                </a:solidFill>
                <a:latin typeface="Arial Narrow"/>
              </a:rPr>
              <a:t>IN</a:t>
            </a: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400" spc="-1" strike="noStrike">
                <a:solidFill>
                  <a:srgbClr val="99ccff"/>
                </a:solidFill>
                <a:latin typeface="Arial Narrow"/>
              </a:rPr>
              <a:t>C</a:t>
            </a: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ontrolled </a:t>
            </a:r>
            <a:r>
              <a:rPr b="1" lang="pl-PL" sz="2400" spc="-1" strike="noStrike">
                <a:solidFill>
                  <a:srgbClr val="99ccff"/>
                </a:solidFill>
                <a:latin typeface="Arial Narrow"/>
              </a:rPr>
              <a:t>E</a:t>
            </a: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nviro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1)</a:t>
            </a: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Too much discipline kills initiative and flexibilit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52" name=""/>
          <p:cNvSpPr/>
          <p:nvPr/>
        </p:nvSpPr>
        <p:spPr>
          <a:xfrm rot="10800000">
            <a:off x="3124080" y="1371240"/>
            <a:ext cx="2438640" cy="4800600"/>
          </a:xfrm>
          <a:custGeom>
            <a:avLst/>
            <a:gdLst>
              <a:gd name="textAreaLeft" fmla="*/ 843840 w 2438640"/>
              <a:gd name="textAreaRight" fmla="*/ 1594800 w 2438640"/>
              <a:gd name="textAreaTop" fmla="*/ 1661400 h 4800600"/>
              <a:gd name="textAreaBottom" fmla="*/ 313920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1293" y="21600"/>
                </a:lnTo>
                <a:lnTo>
                  <a:pt x="10307" y="21600"/>
                </a:lnTo>
                <a:close/>
              </a:path>
            </a:pathLst>
          </a:custGeom>
          <a:solidFill>
            <a:srgbClr val="66ccff"/>
          </a:solidFill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0800000">
            <a:off x="1599840" y="2133360"/>
            <a:ext cx="5334120" cy="304560"/>
          </a:xfrm>
          <a:custGeom>
            <a:avLst/>
            <a:gdLst>
              <a:gd name="textAreaLeft" fmla="*/ 600480 w 5334120"/>
              <a:gd name="textAreaRight" fmla="*/ 4733640 w 5334120"/>
              <a:gd name="textAreaTop" fmla="*/ 34200 h 304560"/>
              <a:gd name="textAreaBottom" fmla="*/ 27036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373" y="21600"/>
                </a:lnTo>
                <a:lnTo>
                  <a:pt x="1227" y="21600"/>
                </a:lnTo>
                <a:close/>
              </a:path>
            </a:pathLst>
          </a:custGeom>
          <a:solidFill>
            <a:srgbClr val="66ccff"/>
          </a:solidFill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257800" y="4876920"/>
            <a:ext cx="762120" cy="1218960"/>
            <a:chOff x="5257800" y="4876920"/>
            <a:chExt cx="762120" cy="1218960"/>
          </a:xfrm>
        </p:grpSpPr>
        <p:sp>
          <p:nvSpPr>
            <p:cNvPr id="155" name=""/>
            <p:cNvSpPr/>
            <p:nvPr/>
          </p:nvSpPr>
          <p:spPr>
            <a:xfrm>
              <a:off x="5257800" y="4876920"/>
              <a:ext cx="762120" cy="8380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38680" y="5715000"/>
              <a:ext cx="0" cy="380880"/>
            </a:xfrm>
            <a:prstGeom prst="line">
              <a:avLst/>
            </a:prstGeom>
            <a:ln w="7632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48240" y="5003640"/>
              <a:ext cx="381240" cy="609840"/>
            </a:xfrm>
            <a:prstGeom prst="upArrow">
              <a:avLst>
                <a:gd name="adj1" fmla="val 33333"/>
                <a:gd name="adj2" fmla="val 6720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4648320" y="2451240"/>
            <a:ext cx="685800" cy="990000"/>
            <a:chOff x="4648320" y="2451240"/>
            <a:chExt cx="685800" cy="990000"/>
          </a:xfrm>
        </p:grpSpPr>
        <p:sp>
          <p:nvSpPr>
            <p:cNvPr id="159" name=""/>
            <p:cNvSpPr/>
            <p:nvPr/>
          </p:nvSpPr>
          <p:spPr>
            <a:xfrm>
              <a:off x="4991400" y="3060360"/>
              <a:ext cx="0" cy="380880"/>
            </a:xfrm>
            <a:prstGeom prst="line">
              <a:avLst/>
            </a:prstGeom>
            <a:ln w="5724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48320" y="2451240"/>
              <a:ext cx="685800" cy="685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24640" y="2527200"/>
              <a:ext cx="533520" cy="532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00960" y="2565360"/>
              <a:ext cx="380880" cy="41868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418680"/>
                <a:gd name="textAreaBottom" fmla="*/ 419040 h 41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447" stAng="10800000" swAng="5400000"/>
                  <a:lnTo>
                    <a:pt x="15075" y="3713"/>
                  </a:lnTo>
                  <a:lnTo>
                    <a:pt x="15075" y="0"/>
                  </a:lnTo>
                  <a:lnTo>
                    <a:pt x="21600" y="6079"/>
                  </a:lnTo>
                  <a:lnTo>
                    <a:pt x="15075" y="12158"/>
                  </a:lnTo>
                  <a:lnTo>
                    <a:pt x="15075" y="8445"/>
                  </a:lnTo>
                  <a:lnTo>
                    <a:pt x="12427" y="8445"/>
                  </a:lnTo>
                  <a:arcTo wR="7695" hR="3715" stAng="16200000" swAng="-5400000"/>
                  <a:lnTo>
                    <a:pt x="4732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00960" y="2451240"/>
              <a:ext cx="38088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365640" y="2463840"/>
            <a:ext cx="685800" cy="990720"/>
            <a:chOff x="3365640" y="2463840"/>
            <a:chExt cx="685800" cy="990720"/>
          </a:xfrm>
        </p:grpSpPr>
        <p:sp>
          <p:nvSpPr>
            <p:cNvPr id="165" name=""/>
            <p:cNvSpPr/>
            <p:nvPr/>
          </p:nvSpPr>
          <p:spPr>
            <a:xfrm>
              <a:off x="3708360" y="3073320"/>
              <a:ext cx="0" cy="381240"/>
            </a:xfrm>
            <a:prstGeom prst="line">
              <a:avLst/>
            </a:prstGeom>
            <a:ln w="5724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65640" y="2463840"/>
              <a:ext cx="685800" cy="685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41600" y="2540160"/>
              <a:ext cx="533520" cy="53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3479040" y="2616120"/>
              <a:ext cx="381240" cy="381240"/>
            </a:xfrm>
            <a:custGeom>
              <a:avLst/>
              <a:gdLst>
                <a:gd name="textAreaLeft" fmla="*/ -360 w 381240"/>
                <a:gd name="textAreaRight" fmla="*/ 381240 w 38124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447" stAng="10800000" swAng="5400000"/>
                  <a:lnTo>
                    <a:pt x="15075" y="3713"/>
                  </a:lnTo>
                  <a:lnTo>
                    <a:pt x="15075" y="0"/>
                  </a:lnTo>
                  <a:lnTo>
                    <a:pt x="21600" y="6079"/>
                  </a:lnTo>
                  <a:lnTo>
                    <a:pt x="15075" y="12158"/>
                  </a:lnTo>
                  <a:lnTo>
                    <a:pt x="15075" y="8445"/>
                  </a:lnTo>
                  <a:lnTo>
                    <a:pt x="12427" y="8445"/>
                  </a:lnTo>
                  <a:arcTo wR="7695" hR="3715" stAng="16200000" swAng="-5400000"/>
                  <a:lnTo>
                    <a:pt x="4732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3517920" y="2463840"/>
              <a:ext cx="3808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457880" y="1371600"/>
            <a:ext cx="533160" cy="762120"/>
            <a:chOff x="4457880" y="1371600"/>
            <a:chExt cx="533160" cy="762120"/>
          </a:xfrm>
        </p:grpSpPr>
        <p:sp>
          <p:nvSpPr>
            <p:cNvPr id="171" name=""/>
            <p:cNvSpPr/>
            <p:nvPr/>
          </p:nvSpPr>
          <p:spPr>
            <a:xfrm>
              <a:off x="4724280" y="1828800"/>
              <a:ext cx="0" cy="304920"/>
            </a:xfrm>
            <a:prstGeom prst="line">
              <a:avLst/>
            </a:prstGeom>
            <a:ln w="5724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57880" y="1371600"/>
              <a:ext cx="533160" cy="533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0" y="1600200"/>
              <a:ext cx="30492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1)</a:t>
            </a: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Agile software development – 90s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446200" y="820800"/>
            <a:ext cx="601560" cy="1236600"/>
            <a:chOff x="2446200" y="820800"/>
            <a:chExt cx="601560" cy="1236600"/>
          </a:xfrm>
        </p:grpSpPr>
        <p:sp>
          <p:nvSpPr>
            <p:cNvPr id="176" name=""/>
            <p:cNvSpPr/>
            <p:nvPr/>
          </p:nvSpPr>
          <p:spPr>
            <a:xfrm>
              <a:off x="2624040" y="820800"/>
              <a:ext cx="387360" cy="267120"/>
            </a:xfrm>
            <a:custGeom>
              <a:avLst/>
              <a:gdLst/>
              <a:ahLst/>
              <a:rect l="l" t="t" r="r" b="b"/>
              <a:pathLst>
                <a:path w="431" h="811">
                  <a:moveTo>
                    <a:pt x="0" y="342"/>
                  </a:moveTo>
                  <a:lnTo>
                    <a:pt x="31" y="175"/>
                  </a:lnTo>
                  <a:lnTo>
                    <a:pt x="72" y="91"/>
                  </a:lnTo>
                  <a:lnTo>
                    <a:pt x="124" y="30"/>
                  </a:lnTo>
                  <a:lnTo>
                    <a:pt x="176" y="0"/>
                  </a:lnTo>
                  <a:lnTo>
                    <a:pt x="244" y="9"/>
                  </a:lnTo>
                  <a:lnTo>
                    <a:pt x="288" y="76"/>
                  </a:lnTo>
                  <a:lnTo>
                    <a:pt x="329" y="196"/>
                  </a:lnTo>
                  <a:lnTo>
                    <a:pt x="346" y="357"/>
                  </a:lnTo>
                  <a:lnTo>
                    <a:pt x="346" y="539"/>
                  </a:lnTo>
                  <a:lnTo>
                    <a:pt x="428" y="664"/>
                  </a:lnTo>
                  <a:lnTo>
                    <a:pt x="431" y="721"/>
                  </a:lnTo>
                  <a:lnTo>
                    <a:pt x="418" y="725"/>
                  </a:lnTo>
                  <a:lnTo>
                    <a:pt x="339" y="614"/>
                  </a:lnTo>
                  <a:lnTo>
                    <a:pt x="316" y="695"/>
                  </a:lnTo>
                  <a:lnTo>
                    <a:pt x="268" y="765"/>
                  </a:lnTo>
                  <a:lnTo>
                    <a:pt x="223" y="801"/>
                  </a:lnTo>
                  <a:lnTo>
                    <a:pt x="151" y="811"/>
                  </a:lnTo>
                  <a:lnTo>
                    <a:pt x="59" y="755"/>
                  </a:lnTo>
                  <a:lnTo>
                    <a:pt x="17" y="634"/>
                  </a:lnTo>
                  <a:lnTo>
                    <a:pt x="0" y="514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84440" y="1108440"/>
              <a:ext cx="346320" cy="430560"/>
            </a:xfrm>
            <a:custGeom>
              <a:avLst/>
              <a:gdLst/>
              <a:ahLst/>
              <a:rect l="l" t="t" r="r" b="b"/>
              <a:pathLst>
                <a:path w="385" h="1306">
                  <a:moveTo>
                    <a:pt x="56" y="85"/>
                  </a:moveTo>
                  <a:lnTo>
                    <a:pt x="104" y="30"/>
                  </a:lnTo>
                  <a:lnTo>
                    <a:pt x="159" y="9"/>
                  </a:lnTo>
                  <a:lnTo>
                    <a:pt x="210" y="0"/>
                  </a:lnTo>
                  <a:lnTo>
                    <a:pt x="279" y="15"/>
                  </a:lnTo>
                  <a:lnTo>
                    <a:pt x="355" y="85"/>
                  </a:lnTo>
                  <a:lnTo>
                    <a:pt x="385" y="210"/>
                  </a:lnTo>
                  <a:lnTo>
                    <a:pt x="385" y="401"/>
                  </a:lnTo>
                  <a:lnTo>
                    <a:pt x="382" y="583"/>
                  </a:lnTo>
                  <a:lnTo>
                    <a:pt x="344" y="859"/>
                  </a:lnTo>
                  <a:lnTo>
                    <a:pt x="313" y="1085"/>
                  </a:lnTo>
                  <a:lnTo>
                    <a:pt x="279" y="1230"/>
                  </a:lnTo>
                  <a:lnTo>
                    <a:pt x="207" y="1306"/>
                  </a:lnTo>
                  <a:lnTo>
                    <a:pt x="104" y="1290"/>
                  </a:lnTo>
                  <a:lnTo>
                    <a:pt x="52" y="1175"/>
                  </a:lnTo>
                  <a:lnTo>
                    <a:pt x="22" y="1004"/>
                  </a:lnTo>
                  <a:lnTo>
                    <a:pt x="4" y="813"/>
                  </a:lnTo>
                  <a:lnTo>
                    <a:pt x="0" y="526"/>
                  </a:lnTo>
                  <a:lnTo>
                    <a:pt x="15" y="325"/>
                  </a:lnTo>
                  <a:lnTo>
                    <a:pt x="35" y="146"/>
                  </a:lnTo>
                  <a:lnTo>
                    <a:pt x="56" y="8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46200" y="1107720"/>
              <a:ext cx="204480" cy="530280"/>
            </a:xfrm>
            <a:custGeom>
              <a:avLst/>
              <a:gdLst/>
              <a:ahLst/>
              <a:rect l="l" t="t" r="r" b="b"/>
              <a:pathLst>
                <a:path w="226" h="1607">
                  <a:moveTo>
                    <a:pt x="154" y="10"/>
                  </a:moveTo>
                  <a:lnTo>
                    <a:pt x="209" y="0"/>
                  </a:lnTo>
                  <a:lnTo>
                    <a:pt x="226" y="71"/>
                  </a:lnTo>
                  <a:lnTo>
                    <a:pt x="198" y="162"/>
                  </a:lnTo>
                  <a:lnTo>
                    <a:pt x="157" y="211"/>
                  </a:lnTo>
                  <a:lnTo>
                    <a:pt x="123" y="331"/>
                  </a:lnTo>
                  <a:lnTo>
                    <a:pt x="82" y="493"/>
                  </a:lnTo>
                  <a:lnTo>
                    <a:pt x="65" y="643"/>
                  </a:lnTo>
                  <a:lnTo>
                    <a:pt x="55" y="898"/>
                  </a:lnTo>
                  <a:lnTo>
                    <a:pt x="65" y="1139"/>
                  </a:lnTo>
                  <a:lnTo>
                    <a:pt x="85" y="1251"/>
                  </a:lnTo>
                  <a:lnTo>
                    <a:pt x="71" y="1371"/>
                  </a:lnTo>
                  <a:lnTo>
                    <a:pt x="55" y="1462"/>
                  </a:lnTo>
                  <a:lnTo>
                    <a:pt x="61" y="1607"/>
                  </a:lnTo>
                  <a:lnTo>
                    <a:pt x="33" y="1597"/>
                  </a:lnTo>
                  <a:lnTo>
                    <a:pt x="10" y="1476"/>
                  </a:lnTo>
                  <a:lnTo>
                    <a:pt x="0" y="1371"/>
                  </a:lnTo>
                  <a:lnTo>
                    <a:pt x="30" y="1230"/>
                  </a:lnTo>
                  <a:lnTo>
                    <a:pt x="20" y="1099"/>
                  </a:lnTo>
                  <a:lnTo>
                    <a:pt x="10" y="888"/>
                  </a:lnTo>
                  <a:lnTo>
                    <a:pt x="10" y="633"/>
                  </a:lnTo>
                  <a:lnTo>
                    <a:pt x="30" y="362"/>
                  </a:lnTo>
                  <a:lnTo>
                    <a:pt x="65" y="162"/>
                  </a:lnTo>
                  <a:lnTo>
                    <a:pt x="103" y="56"/>
                  </a:lnTo>
                  <a:lnTo>
                    <a:pt x="154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89720" y="1121400"/>
              <a:ext cx="128880" cy="503280"/>
            </a:xfrm>
            <a:custGeom>
              <a:avLst/>
              <a:gdLst/>
              <a:ahLst/>
              <a:rect l="l" t="t" r="r" b="b"/>
              <a:pathLst>
                <a:path w="145" h="1528">
                  <a:moveTo>
                    <a:pt x="3" y="5"/>
                  </a:moveTo>
                  <a:lnTo>
                    <a:pt x="62" y="0"/>
                  </a:lnTo>
                  <a:lnTo>
                    <a:pt x="103" y="121"/>
                  </a:lnTo>
                  <a:lnTo>
                    <a:pt x="145" y="452"/>
                  </a:lnTo>
                  <a:lnTo>
                    <a:pt x="145" y="834"/>
                  </a:lnTo>
                  <a:lnTo>
                    <a:pt x="124" y="1161"/>
                  </a:lnTo>
                  <a:lnTo>
                    <a:pt x="145" y="1272"/>
                  </a:lnTo>
                  <a:lnTo>
                    <a:pt x="145" y="1422"/>
                  </a:lnTo>
                  <a:lnTo>
                    <a:pt x="124" y="1528"/>
                  </a:lnTo>
                  <a:lnTo>
                    <a:pt x="97" y="1432"/>
                  </a:lnTo>
                  <a:lnTo>
                    <a:pt x="83" y="1287"/>
                  </a:lnTo>
                  <a:lnTo>
                    <a:pt x="52" y="1175"/>
                  </a:lnTo>
                  <a:lnTo>
                    <a:pt x="87" y="1076"/>
                  </a:lnTo>
                  <a:lnTo>
                    <a:pt x="107" y="834"/>
                  </a:lnTo>
                  <a:lnTo>
                    <a:pt x="107" y="608"/>
                  </a:lnTo>
                  <a:lnTo>
                    <a:pt x="87" y="382"/>
                  </a:lnTo>
                  <a:lnTo>
                    <a:pt x="45" y="216"/>
                  </a:lnTo>
                  <a:lnTo>
                    <a:pt x="0" y="13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86240" y="1452960"/>
              <a:ext cx="290880" cy="604440"/>
            </a:xfrm>
            <a:custGeom>
              <a:avLst/>
              <a:gdLst/>
              <a:ahLst/>
              <a:rect l="l" t="t" r="r" b="b"/>
              <a:pathLst>
                <a:path w="324" h="1831">
                  <a:moveTo>
                    <a:pt x="32" y="0"/>
                  </a:moveTo>
                  <a:lnTo>
                    <a:pt x="69" y="76"/>
                  </a:lnTo>
                  <a:lnTo>
                    <a:pt x="85" y="153"/>
                  </a:lnTo>
                  <a:lnTo>
                    <a:pt x="100" y="419"/>
                  </a:lnTo>
                  <a:lnTo>
                    <a:pt x="107" y="597"/>
                  </a:lnTo>
                  <a:lnTo>
                    <a:pt x="107" y="902"/>
                  </a:lnTo>
                  <a:lnTo>
                    <a:pt x="105" y="1189"/>
                  </a:lnTo>
                  <a:lnTo>
                    <a:pt x="90" y="1417"/>
                  </a:lnTo>
                  <a:lnTo>
                    <a:pt x="77" y="1487"/>
                  </a:lnTo>
                  <a:lnTo>
                    <a:pt x="157" y="1526"/>
                  </a:lnTo>
                  <a:lnTo>
                    <a:pt x="224" y="1571"/>
                  </a:lnTo>
                  <a:lnTo>
                    <a:pt x="314" y="1666"/>
                  </a:lnTo>
                  <a:lnTo>
                    <a:pt x="324" y="1703"/>
                  </a:lnTo>
                  <a:lnTo>
                    <a:pt x="316" y="1774"/>
                  </a:lnTo>
                  <a:lnTo>
                    <a:pt x="271" y="1831"/>
                  </a:lnTo>
                  <a:lnTo>
                    <a:pt x="254" y="1799"/>
                  </a:lnTo>
                  <a:lnTo>
                    <a:pt x="239" y="1722"/>
                  </a:lnTo>
                  <a:lnTo>
                    <a:pt x="196" y="1660"/>
                  </a:lnTo>
                  <a:lnTo>
                    <a:pt x="122" y="1588"/>
                  </a:lnTo>
                  <a:lnTo>
                    <a:pt x="74" y="1571"/>
                  </a:lnTo>
                  <a:lnTo>
                    <a:pt x="18" y="1571"/>
                  </a:lnTo>
                  <a:lnTo>
                    <a:pt x="18" y="1513"/>
                  </a:lnTo>
                  <a:lnTo>
                    <a:pt x="45" y="1449"/>
                  </a:lnTo>
                  <a:lnTo>
                    <a:pt x="69" y="1245"/>
                  </a:lnTo>
                  <a:lnTo>
                    <a:pt x="77" y="1030"/>
                  </a:lnTo>
                  <a:lnTo>
                    <a:pt x="74" y="840"/>
                  </a:lnTo>
                  <a:lnTo>
                    <a:pt x="69" y="597"/>
                  </a:lnTo>
                  <a:lnTo>
                    <a:pt x="54" y="388"/>
                  </a:lnTo>
                  <a:lnTo>
                    <a:pt x="23" y="235"/>
                  </a:lnTo>
                  <a:lnTo>
                    <a:pt x="0" y="95"/>
                  </a:lnTo>
                  <a:lnTo>
                    <a:pt x="7" y="45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78480" y="1453680"/>
              <a:ext cx="269280" cy="544320"/>
            </a:xfrm>
            <a:custGeom>
              <a:avLst/>
              <a:gdLst/>
              <a:ahLst/>
              <a:rect l="l" t="t" r="r" b="b"/>
              <a:pathLst>
                <a:path w="298" h="1650">
                  <a:moveTo>
                    <a:pt x="0" y="130"/>
                  </a:moveTo>
                  <a:lnTo>
                    <a:pt x="0" y="25"/>
                  </a:lnTo>
                  <a:lnTo>
                    <a:pt x="30" y="0"/>
                  </a:lnTo>
                  <a:lnTo>
                    <a:pt x="78" y="0"/>
                  </a:lnTo>
                  <a:lnTo>
                    <a:pt x="112" y="60"/>
                  </a:lnTo>
                  <a:lnTo>
                    <a:pt x="119" y="115"/>
                  </a:lnTo>
                  <a:lnTo>
                    <a:pt x="112" y="236"/>
                  </a:lnTo>
                  <a:lnTo>
                    <a:pt x="89" y="386"/>
                  </a:lnTo>
                  <a:lnTo>
                    <a:pt x="78" y="618"/>
                  </a:lnTo>
                  <a:lnTo>
                    <a:pt x="72" y="768"/>
                  </a:lnTo>
                  <a:lnTo>
                    <a:pt x="72" y="793"/>
                  </a:lnTo>
                  <a:lnTo>
                    <a:pt x="82" y="1004"/>
                  </a:lnTo>
                  <a:lnTo>
                    <a:pt x="99" y="1124"/>
                  </a:lnTo>
                  <a:lnTo>
                    <a:pt x="112" y="1219"/>
                  </a:lnTo>
                  <a:lnTo>
                    <a:pt x="109" y="1259"/>
                  </a:lnTo>
                  <a:lnTo>
                    <a:pt x="154" y="1369"/>
                  </a:lnTo>
                  <a:lnTo>
                    <a:pt x="202" y="1439"/>
                  </a:lnTo>
                  <a:lnTo>
                    <a:pt x="253" y="1505"/>
                  </a:lnTo>
                  <a:lnTo>
                    <a:pt x="298" y="1536"/>
                  </a:lnTo>
                  <a:lnTo>
                    <a:pt x="298" y="1591"/>
                  </a:lnTo>
                  <a:lnTo>
                    <a:pt x="274" y="1635"/>
                  </a:lnTo>
                  <a:lnTo>
                    <a:pt x="216" y="1650"/>
                  </a:lnTo>
                  <a:lnTo>
                    <a:pt x="174" y="1621"/>
                  </a:lnTo>
                  <a:lnTo>
                    <a:pt x="174" y="1580"/>
                  </a:lnTo>
                  <a:lnTo>
                    <a:pt x="140" y="1439"/>
                  </a:lnTo>
                  <a:lnTo>
                    <a:pt x="82" y="1365"/>
                  </a:lnTo>
                  <a:lnTo>
                    <a:pt x="40" y="1289"/>
                  </a:lnTo>
                  <a:lnTo>
                    <a:pt x="10" y="1249"/>
                  </a:lnTo>
                  <a:lnTo>
                    <a:pt x="20" y="1199"/>
                  </a:lnTo>
                  <a:lnTo>
                    <a:pt x="37" y="1063"/>
                  </a:lnTo>
                  <a:lnTo>
                    <a:pt x="37" y="808"/>
                  </a:lnTo>
                  <a:lnTo>
                    <a:pt x="30" y="627"/>
                  </a:lnTo>
                  <a:lnTo>
                    <a:pt x="30" y="447"/>
                  </a:lnTo>
                  <a:lnTo>
                    <a:pt x="27" y="251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101600" y="1828800"/>
            <a:ext cx="498240" cy="1143000"/>
            <a:chOff x="1101600" y="1828800"/>
            <a:chExt cx="498240" cy="1143000"/>
          </a:xfrm>
        </p:grpSpPr>
        <p:sp>
          <p:nvSpPr>
            <p:cNvPr id="183" name=""/>
            <p:cNvSpPr/>
            <p:nvPr/>
          </p:nvSpPr>
          <p:spPr>
            <a:xfrm>
              <a:off x="1247760" y="1828800"/>
              <a:ext cx="326160" cy="244800"/>
            </a:xfrm>
            <a:custGeom>
              <a:avLst/>
              <a:gdLst/>
              <a:ahLst/>
              <a:rect l="l" t="t" r="r" b="b"/>
              <a:pathLst>
                <a:path w="326" h="662">
                  <a:moveTo>
                    <a:pt x="0" y="280"/>
                  </a:moveTo>
                  <a:lnTo>
                    <a:pt x="23" y="145"/>
                  </a:lnTo>
                  <a:lnTo>
                    <a:pt x="55" y="75"/>
                  </a:lnTo>
                  <a:lnTo>
                    <a:pt x="93" y="24"/>
                  </a:lnTo>
                  <a:lnTo>
                    <a:pt x="132" y="0"/>
                  </a:lnTo>
                  <a:lnTo>
                    <a:pt x="184" y="8"/>
                  </a:lnTo>
                  <a:lnTo>
                    <a:pt x="217" y="61"/>
                  </a:lnTo>
                  <a:lnTo>
                    <a:pt x="249" y="161"/>
                  </a:lnTo>
                  <a:lnTo>
                    <a:pt x="262" y="292"/>
                  </a:lnTo>
                  <a:lnTo>
                    <a:pt x="262" y="440"/>
                  </a:lnTo>
                  <a:lnTo>
                    <a:pt x="324" y="543"/>
                  </a:lnTo>
                  <a:lnTo>
                    <a:pt x="326" y="587"/>
                  </a:lnTo>
                  <a:lnTo>
                    <a:pt x="316" y="592"/>
                  </a:lnTo>
                  <a:lnTo>
                    <a:pt x="257" y="501"/>
                  </a:lnTo>
                  <a:lnTo>
                    <a:pt x="238" y="567"/>
                  </a:lnTo>
                  <a:lnTo>
                    <a:pt x="202" y="624"/>
                  </a:lnTo>
                  <a:lnTo>
                    <a:pt x="168" y="653"/>
                  </a:lnTo>
                  <a:lnTo>
                    <a:pt x="114" y="662"/>
                  </a:lnTo>
                  <a:lnTo>
                    <a:pt x="44" y="616"/>
                  </a:lnTo>
                  <a:lnTo>
                    <a:pt x="13" y="517"/>
                  </a:lnTo>
                  <a:lnTo>
                    <a:pt x="0" y="419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15720" y="2094480"/>
              <a:ext cx="285840" cy="398520"/>
            </a:xfrm>
            <a:custGeom>
              <a:avLst/>
              <a:gdLst/>
              <a:ahLst/>
              <a:rect l="l" t="t" r="r" b="b"/>
              <a:pathLst>
                <a:path w="286" h="1074">
                  <a:moveTo>
                    <a:pt x="42" y="69"/>
                  </a:moveTo>
                  <a:lnTo>
                    <a:pt x="77" y="23"/>
                  </a:lnTo>
                  <a:lnTo>
                    <a:pt x="118" y="7"/>
                  </a:lnTo>
                  <a:lnTo>
                    <a:pt x="157" y="0"/>
                  </a:lnTo>
                  <a:lnTo>
                    <a:pt x="207" y="11"/>
                  </a:lnTo>
                  <a:lnTo>
                    <a:pt x="263" y="69"/>
                  </a:lnTo>
                  <a:lnTo>
                    <a:pt x="286" y="172"/>
                  </a:lnTo>
                  <a:lnTo>
                    <a:pt x="286" y="329"/>
                  </a:lnTo>
                  <a:lnTo>
                    <a:pt x="284" y="478"/>
                  </a:lnTo>
                  <a:lnTo>
                    <a:pt x="255" y="705"/>
                  </a:lnTo>
                  <a:lnTo>
                    <a:pt x="233" y="891"/>
                  </a:lnTo>
                  <a:lnTo>
                    <a:pt x="207" y="1011"/>
                  </a:lnTo>
                  <a:lnTo>
                    <a:pt x="154" y="1074"/>
                  </a:lnTo>
                  <a:lnTo>
                    <a:pt x="77" y="1060"/>
                  </a:lnTo>
                  <a:lnTo>
                    <a:pt x="39" y="965"/>
                  </a:lnTo>
                  <a:lnTo>
                    <a:pt x="17" y="826"/>
                  </a:lnTo>
                  <a:lnTo>
                    <a:pt x="3" y="668"/>
                  </a:lnTo>
                  <a:lnTo>
                    <a:pt x="0" y="432"/>
                  </a:lnTo>
                  <a:lnTo>
                    <a:pt x="11" y="267"/>
                  </a:lnTo>
                  <a:lnTo>
                    <a:pt x="27" y="118"/>
                  </a:lnTo>
                  <a:lnTo>
                    <a:pt x="42" y="6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01600" y="2094480"/>
              <a:ext cx="168120" cy="488520"/>
            </a:xfrm>
            <a:custGeom>
              <a:avLst/>
              <a:gdLst/>
              <a:ahLst/>
              <a:rect l="l" t="t" r="r" b="b"/>
              <a:pathLst>
                <a:path w="168" h="1319">
                  <a:moveTo>
                    <a:pt x="114" y="8"/>
                  </a:moveTo>
                  <a:lnTo>
                    <a:pt x="155" y="0"/>
                  </a:lnTo>
                  <a:lnTo>
                    <a:pt x="168" y="58"/>
                  </a:lnTo>
                  <a:lnTo>
                    <a:pt x="148" y="132"/>
                  </a:lnTo>
                  <a:lnTo>
                    <a:pt x="117" y="173"/>
                  </a:lnTo>
                  <a:lnTo>
                    <a:pt x="92" y="271"/>
                  </a:lnTo>
                  <a:lnTo>
                    <a:pt x="60" y="404"/>
                  </a:lnTo>
                  <a:lnTo>
                    <a:pt x="48" y="527"/>
                  </a:lnTo>
                  <a:lnTo>
                    <a:pt x="40" y="738"/>
                  </a:lnTo>
                  <a:lnTo>
                    <a:pt x="48" y="936"/>
                  </a:lnTo>
                  <a:lnTo>
                    <a:pt x="64" y="1026"/>
                  </a:lnTo>
                  <a:lnTo>
                    <a:pt x="53" y="1126"/>
                  </a:lnTo>
                  <a:lnTo>
                    <a:pt x="40" y="1200"/>
                  </a:lnTo>
                  <a:lnTo>
                    <a:pt x="45" y="1319"/>
                  </a:lnTo>
                  <a:lnTo>
                    <a:pt x="25" y="1310"/>
                  </a:lnTo>
                  <a:lnTo>
                    <a:pt x="8" y="1212"/>
                  </a:lnTo>
                  <a:lnTo>
                    <a:pt x="0" y="1126"/>
                  </a:lnTo>
                  <a:lnTo>
                    <a:pt x="23" y="1010"/>
                  </a:lnTo>
                  <a:lnTo>
                    <a:pt x="15" y="903"/>
                  </a:lnTo>
                  <a:lnTo>
                    <a:pt x="8" y="729"/>
                  </a:lnTo>
                  <a:lnTo>
                    <a:pt x="8" y="520"/>
                  </a:lnTo>
                  <a:lnTo>
                    <a:pt x="23" y="297"/>
                  </a:lnTo>
                  <a:lnTo>
                    <a:pt x="48" y="132"/>
                  </a:lnTo>
                  <a:lnTo>
                    <a:pt x="76" y="46"/>
                  </a:lnTo>
                  <a:lnTo>
                    <a:pt x="114" y="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72040" y="2105640"/>
              <a:ext cx="106200" cy="465120"/>
            </a:xfrm>
            <a:custGeom>
              <a:avLst/>
              <a:gdLst/>
              <a:ahLst/>
              <a:rect l="l" t="t" r="r" b="b"/>
              <a:pathLst>
                <a:path w="106" h="1253">
                  <a:moveTo>
                    <a:pt x="2" y="3"/>
                  </a:moveTo>
                  <a:lnTo>
                    <a:pt x="46" y="0"/>
                  </a:lnTo>
                  <a:lnTo>
                    <a:pt x="75" y="98"/>
                  </a:lnTo>
                  <a:lnTo>
                    <a:pt x="106" y="370"/>
                  </a:lnTo>
                  <a:lnTo>
                    <a:pt x="106" y="684"/>
                  </a:lnTo>
                  <a:lnTo>
                    <a:pt x="90" y="951"/>
                  </a:lnTo>
                  <a:lnTo>
                    <a:pt x="106" y="1042"/>
                  </a:lnTo>
                  <a:lnTo>
                    <a:pt x="106" y="1165"/>
                  </a:lnTo>
                  <a:lnTo>
                    <a:pt x="90" y="1253"/>
                  </a:lnTo>
                  <a:lnTo>
                    <a:pt x="70" y="1174"/>
                  </a:lnTo>
                  <a:lnTo>
                    <a:pt x="60" y="1054"/>
                  </a:lnTo>
                  <a:lnTo>
                    <a:pt x="38" y="963"/>
                  </a:lnTo>
                  <a:lnTo>
                    <a:pt x="63" y="881"/>
                  </a:lnTo>
                  <a:lnTo>
                    <a:pt x="78" y="684"/>
                  </a:lnTo>
                  <a:lnTo>
                    <a:pt x="78" y="498"/>
                  </a:lnTo>
                  <a:lnTo>
                    <a:pt x="63" y="312"/>
                  </a:lnTo>
                  <a:lnTo>
                    <a:pt x="33" y="177"/>
                  </a:lnTo>
                  <a:lnTo>
                    <a:pt x="0" y="11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17520" y="2413080"/>
              <a:ext cx="240120" cy="558720"/>
            </a:xfrm>
            <a:custGeom>
              <a:avLst/>
              <a:gdLst/>
              <a:ahLst/>
              <a:rect l="l" t="t" r="r" b="b"/>
              <a:pathLst>
                <a:path w="241" h="1507">
                  <a:moveTo>
                    <a:pt x="24" y="0"/>
                  </a:moveTo>
                  <a:lnTo>
                    <a:pt x="52" y="63"/>
                  </a:lnTo>
                  <a:lnTo>
                    <a:pt x="62" y="127"/>
                  </a:lnTo>
                  <a:lnTo>
                    <a:pt x="73" y="345"/>
                  </a:lnTo>
                  <a:lnTo>
                    <a:pt x="79" y="492"/>
                  </a:lnTo>
                  <a:lnTo>
                    <a:pt x="79" y="743"/>
                  </a:lnTo>
                  <a:lnTo>
                    <a:pt x="77" y="978"/>
                  </a:lnTo>
                  <a:lnTo>
                    <a:pt x="66" y="1167"/>
                  </a:lnTo>
                  <a:lnTo>
                    <a:pt x="57" y="1225"/>
                  </a:lnTo>
                  <a:lnTo>
                    <a:pt x="116" y="1256"/>
                  </a:lnTo>
                  <a:lnTo>
                    <a:pt x="167" y="1293"/>
                  </a:lnTo>
                  <a:lnTo>
                    <a:pt x="233" y="1370"/>
                  </a:lnTo>
                  <a:lnTo>
                    <a:pt x="241" y="1403"/>
                  </a:lnTo>
                  <a:lnTo>
                    <a:pt x="235" y="1459"/>
                  </a:lnTo>
                  <a:lnTo>
                    <a:pt x="201" y="1507"/>
                  </a:lnTo>
                  <a:lnTo>
                    <a:pt x="188" y="1480"/>
                  </a:lnTo>
                  <a:lnTo>
                    <a:pt x="178" y="1418"/>
                  </a:lnTo>
                  <a:lnTo>
                    <a:pt x="147" y="1366"/>
                  </a:lnTo>
                  <a:lnTo>
                    <a:pt x="91" y="1308"/>
                  </a:lnTo>
                  <a:lnTo>
                    <a:pt x="55" y="1293"/>
                  </a:lnTo>
                  <a:lnTo>
                    <a:pt x="12" y="1293"/>
                  </a:lnTo>
                  <a:lnTo>
                    <a:pt x="12" y="1245"/>
                  </a:lnTo>
                  <a:lnTo>
                    <a:pt x="33" y="1193"/>
                  </a:lnTo>
                  <a:lnTo>
                    <a:pt x="52" y="1025"/>
                  </a:lnTo>
                  <a:lnTo>
                    <a:pt x="57" y="847"/>
                  </a:lnTo>
                  <a:lnTo>
                    <a:pt x="55" y="691"/>
                  </a:lnTo>
                  <a:lnTo>
                    <a:pt x="52" y="492"/>
                  </a:lnTo>
                  <a:lnTo>
                    <a:pt x="41" y="320"/>
                  </a:lnTo>
                  <a:lnTo>
                    <a:pt x="17" y="193"/>
                  </a:lnTo>
                  <a:lnTo>
                    <a:pt x="0" y="79"/>
                  </a:lnTo>
                  <a:lnTo>
                    <a:pt x="5" y="3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75560" y="2413080"/>
              <a:ext cx="224280" cy="503280"/>
            </a:xfrm>
            <a:custGeom>
              <a:avLst/>
              <a:gdLst/>
              <a:ahLst/>
              <a:rect l="l" t="t" r="r" b="b"/>
              <a:pathLst>
                <a:path w="223" h="1355">
                  <a:moveTo>
                    <a:pt x="0" y="107"/>
                  </a:moveTo>
                  <a:lnTo>
                    <a:pt x="0" y="21"/>
                  </a:lnTo>
                  <a:lnTo>
                    <a:pt x="23" y="0"/>
                  </a:lnTo>
                  <a:lnTo>
                    <a:pt x="59" y="0"/>
                  </a:lnTo>
                  <a:lnTo>
                    <a:pt x="85" y="50"/>
                  </a:lnTo>
                  <a:lnTo>
                    <a:pt x="90" y="95"/>
                  </a:lnTo>
                  <a:lnTo>
                    <a:pt x="85" y="194"/>
                  </a:lnTo>
                  <a:lnTo>
                    <a:pt x="67" y="318"/>
                  </a:lnTo>
                  <a:lnTo>
                    <a:pt x="59" y="506"/>
                  </a:lnTo>
                  <a:lnTo>
                    <a:pt x="54" y="631"/>
                  </a:lnTo>
                  <a:lnTo>
                    <a:pt x="54" y="651"/>
                  </a:lnTo>
                  <a:lnTo>
                    <a:pt x="62" y="824"/>
                  </a:lnTo>
                  <a:lnTo>
                    <a:pt x="75" y="922"/>
                  </a:lnTo>
                  <a:lnTo>
                    <a:pt x="85" y="1001"/>
                  </a:lnTo>
                  <a:lnTo>
                    <a:pt x="82" y="1034"/>
                  </a:lnTo>
                  <a:lnTo>
                    <a:pt x="115" y="1125"/>
                  </a:lnTo>
                  <a:lnTo>
                    <a:pt x="151" y="1182"/>
                  </a:lnTo>
                  <a:lnTo>
                    <a:pt x="190" y="1236"/>
                  </a:lnTo>
                  <a:lnTo>
                    <a:pt x="223" y="1261"/>
                  </a:lnTo>
                  <a:lnTo>
                    <a:pt x="223" y="1306"/>
                  </a:lnTo>
                  <a:lnTo>
                    <a:pt x="206" y="1343"/>
                  </a:lnTo>
                  <a:lnTo>
                    <a:pt x="162" y="1355"/>
                  </a:lnTo>
                  <a:lnTo>
                    <a:pt x="131" y="1331"/>
                  </a:lnTo>
                  <a:lnTo>
                    <a:pt x="131" y="1298"/>
                  </a:lnTo>
                  <a:lnTo>
                    <a:pt x="105" y="1182"/>
                  </a:lnTo>
                  <a:lnTo>
                    <a:pt x="62" y="1120"/>
                  </a:lnTo>
                  <a:lnTo>
                    <a:pt x="31" y="1059"/>
                  </a:lnTo>
                  <a:lnTo>
                    <a:pt x="8" y="1026"/>
                  </a:lnTo>
                  <a:lnTo>
                    <a:pt x="15" y="985"/>
                  </a:lnTo>
                  <a:lnTo>
                    <a:pt x="28" y="873"/>
                  </a:lnTo>
                  <a:lnTo>
                    <a:pt x="28" y="664"/>
                  </a:lnTo>
                  <a:lnTo>
                    <a:pt x="23" y="515"/>
                  </a:lnTo>
                  <a:lnTo>
                    <a:pt x="23" y="367"/>
                  </a:lnTo>
                  <a:lnTo>
                    <a:pt x="20" y="206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28600" y="795240"/>
            <a:ext cx="329760" cy="1566720"/>
            <a:chOff x="228600" y="795240"/>
            <a:chExt cx="329760" cy="1566720"/>
          </a:xfrm>
        </p:grpSpPr>
        <p:sp>
          <p:nvSpPr>
            <p:cNvPr id="190" name=""/>
            <p:cNvSpPr/>
            <p:nvPr/>
          </p:nvSpPr>
          <p:spPr>
            <a:xfrm>
              <a:off x="324720" y="795240"/>
              <a:ext cx="215640" cy="339120"/>
            </a:xfrm>
            <a:custGeom>
              <a:avLst/>
              <a:gdLst/>
              <a:ahLst/>
              <a:rect l="l" t="t" r="r" b="b"/>
              <a:pathLst>
                <a:path w="239" h="547">
                  <a:moveTo>
                    <a:pt x="0" y="232"/>
                  </a:moveTo>
                  <a:lnTo>
                    <a:pt x="18" y="119"/>
                  </a:lnTo>
                  <a:lnTo>
                    <a:pt x="41" y="61"/>
                  </a:lnTo>
                  <a:lnTo>
                    <a:pt x="69" y="21"/>
                  </a:lnTo>
                  <a:lnTo>
                    <a:pt x="98" y="0"/>
                  </a:lnTo>
                  <a:lnTo>
                    <a:pt x="135" y="7"/>
                  </a:lnTo>
                  <a:lnTo>
                    <a:pt x="160" y="50"/>
                  </a:lnTo>
                  <a:lnTo>
                    <a:pt x="183" y="132"/>
                  </a:lnTo>
                  <a:lnTo>
                    <a:pt x="192" y="240"/>
                  </a:lnTo>
                  <a:lnTo>
                    <a:pt x="192" y="364"/>
                  </a:lnTo>
                  <a:lnTo>
                    <a:pt x="238" y="448"/>
                  </a:lnTo>
                  <a:lnTo>
                    <a:pt x="239" y="486"/>
                  </a:lnTo>
                  <a:lnTo>
                    <a:pt x="232" y="489"/>
                  </a:lnTo>
                  <a:lnTo>
                    <a:pt x="188" y="414"/>
                  </a:lnTo>
                  <a:lnTo>
                    <a:pt x="175" y="469"/>
                  </a:lnTo>
                  <a:lnTo>
                    <a:pt x="149" y="517"/>
                  </a:lnTo>
                  <a:lnTo>
                    <a:pt x="124" y="541"/>
                  </a:lnTo>
                  <a:lnTo>
                    <a:pt x="85" y="547"/>
                  </a:lnTo>
                  <a:lnTo>
                    <a:pt x="33" y="509"/>
                  </a:lnTo>
                  <a:lnTo>
                    <a:pt x="10" y="428"/>
                  </a:lnTo>
                  <a:lnTo>
                    <a:pt x="0" y="346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6360" y="1162080"/>
              <a:ext cx="190080" cy="541800"/>
            </a:xfrm>
            <a:custGeom>
              <a:avLst/>
              <a:gdLst/>
              <a:ahLst/>
              <a:rect l="l" t="t" r="r" b="b"/>
              <a:pathLst>
                <a:path w="209" h="875">
                  <a:moveTo>
                    <a:pt x="29" y="57"/>
                  </a:moveTo>
                  <a:lnTo>
                    <a:pt x="56" y="19"/>
                  </a:lnTo>
                  <a:lnTo>
                    <a:pt x="86" y="6"/>
                  </a:lnTo>
                  <a:lnTo>
                    <a:pt x="114" y="0"/>
                  </a:lnTo>
                  <a:lnTo>
                    <a:pt x="151" y="9"/>
                  </a:lnTo>
                  <a:lnTo>
                    <a:pt x="192" y="57"/>
                  </a:lnTo>
                  <a:lnTo>
                    <a:pt x="209" y="141"/>
                  </a:lnTo>
                  <a:lnTo>
                    <a:pt x="209" y="269"/>
                  </a:lnTo>
                  <a:lnTo>
                    <a:pt x="207" y="389"/>
                  </a:lnTo>
                  <a:lnTo>
                    <a:pt x="187" y="575"/>
                  </a:lnTo>
                  <a:lnTo>
                    <a:pt x="170" y="727"/>
                  </a:lnTo>
                  <a:lnTo>
                    <a:pt x="151" y="825"/>
                  </a:lnTo>
                  <a:lnTo>
                    <a:pt x="112" y="875"/>
                  </a:lnTo>
                  <a:lnTo>
                    <a:pt x="56" y="865"/>
                  </a:lnTo>
                  <a:lnTo>
                    <a:pt x="28" y="788"/>
                  </a:lnTo>
                  <a:lnTo>
                    <a:pt x="11" y="673"/>
                  </a:lnTo>
                  <a:lnTo>
                    <a:pt x="2" y="544"/>
                  </a:lnTo>
                  <a:lnTo>
                    <a:pt x="0" y="352"/>
                  </a:lnTo>
                  <a:lnTo>
                    <a:pt x="7" y="219"/>
                  </a:lnTo>
                  <a:lnTo>
                    <a:pt x="18" y="97"/>
                  </a:lnTo>
                  <a:lnTo>
                    <a:pt x="29" y="5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8600" y="1159920"/>
              <a:ext cx="112320" cy="670680"/>
            </a:xfrm>
            <a:custGeom>
              <a:avLst/>
              <a:gdLst/>
              <a:ahLst/>
              <a:rect l="l" t="t" r="r" b="b"/>
              <a:pathLst>
                <a:path w="125" h="1080">
                  <a:moveTo>
                    <a:pt x="84" y="7"/>
                  </a:moveTo>
                  <a:lnTo>
                    <a:pt x="114" y="0"/>
                  </a:lnTo>
                  <a:lnTo>
                    <a:pt x="125" y="47"/>
                  </a:lnTo>
                  <a:lnTo>
                    <a:pt x="109" y="108"/>
                  </a:lnTo>
                  <a:lnTo>
                    <a:pt x="86" y="142"/>
                  </a:lnTo>
                  <a:lnTo>
                    <a:pt x="68" y="222"/>
                  </a:lnTo>
                  <a:lnTo>
                    <a:pt x="44" y="331"/>
                  </a:lnTo>
                  <a:lnTo>
                    <a:pt x="35" y="432"/>
                  </a:lnTo>
                  <a:lnTo>
                    <a:pt x="29" y="604"/>
                  </a:lnTo>
                  <a:lnTo>
                    <a:pt x="35" y="766"/>
                  </a:lnTo>
                  <a:lnTo>
                    <a:pt x="46" y="841"/>
                  </a:lnTo>
                  <a:lnTo>
                    <a:pt x="39" y="922"/>
                  </a:lnTo>
                  <a:lnTo>
                    <a:pt x="29" y="983"/>
                  </a:lnTo>
                  <a:lnTo>
                    <a:pt x="33" y="1080"/>
                  </a:lnTo>
                  <a:lnTo>
                    <a:pt x="18" y="1074"/>
                  </a:lnTo>
                  <a:lnTo>
                    <a:pt x="5" y="992"/>
                  </a:lnTo>
                  <a:lnTo>
                    <a:pt x="0" y="922"/>
                  </a:lnTo>
                  <a:lnTo>
                    <a:pt x="16" y="827"/>
                  </a:lnTo>
                  <a:lnTo>
                    <a:pt x="11" y="740"/>
                  </a:lnTo>
                  <a:lnTo>
                    <a:pt x="5" y="598"/>
                  </a:lnTo>
                  <a:lnTo>
                    <a:pt x="5" y="426"/>
                  </a:lnTo>
                  <a:lnTo>
                    <a:pt x="16" y="243"/>
                  </a:lnTo>
                  <a:lnTo>
                    <a:pt x="35" y="108"/>
                  </a:lnTo>
                  <a:lnTo>
                    <a:pt x="56" y="37"/>
                  </a:lnTo>
                  <a:lnTo>
                    <a:pt x="84" y="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5200" y="1178640"/>
              <a:ext cx="70560" cy="633600"/>
            </a:xfrm>
            <a:custGeom>
              <a:avLst/>
              <a:gdLst/>
              <a:ahLst/>
              <a:rect l="l" t="t" r="r" b="b"/>
              <a:pathLst>
                <a:path w="77" h="1022">
                  <a:moveTo>
                    <a:pt x="2" y="3"/>
                  </a:moveTo>
                  <a:lnTo>
                    <a:pt x="33" y="0"/>
                  </a:lnTo>
                  <a:lnTo>
                    <a:pt x="55" y="80"/>
                  </a:lnTo>
                  <a:lnTo>
                    <a:pt x="77" y="303"/>
                  </a:lnTo>
                  <a:lnTo>
                    <a:pt x="77" y="558"/>
                  </a:lnTo>
                  <a:lnTo>
                    <a:pt x="66" y="777"/>
                  </a:lnTo>
                  <a:lnTo>
                    <a:pt x="77" y="851"/>
                  </a:lnTo>
                  <a:lnTo>
                    <a:pt x="77" y="951"/>
                  </a:lnTo>
                  <a:lnTo>
                    <a:pt x="66" y="1022"/>
                  </a:lnTo>
                  <a:lnTo>
                    <a:pt x="52" y="958"/>
                  </a:lnTo>
                  <a:lnTo>
                    <a:pt x="43" y="860"/>
                  </a:lnTo>
                  <a:lnTo>
                    <a:pt x="27" y="787"/>
                  </a:lnTo>
                  <a:lnTo>
                    <a:pt x="45" y="719"/>
                  </a:lnTo>
                  <a:lnTo>
                    <a:pt x="57" y="558"/>
                  </a:lnTo>
                  <a:lnTo>
                    <a:pt x="57" y="407"/>
                  </a:lnTo>
                  <a:lnTo>
                    <a:pt x="45" y="255"/>
                  </a:lnTo>
                  <a:lnTo>
                    <a:pt x="24" y="144"/>
                  </a:lnTo>
                  <a:lnTo>
                    <a:pt x="0" y="9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360" y="1596240"/>
              <a:ext cx="159480" cy="765720"/>
            </a:xfrm>
            <a:custGeom>
              <a:avLst/>
              <a:gdLst/>
              <a:ahLst/>
              <a:rect l="l" t="t" r="r" b="b"/>
              <a:pathLst>
                <a:path w="176" h="1232">
                  <a:moveTo>
                    <a:pt x="17" y="0"/>
                  </a:moveTo>
                  <a:lnTo>
                    <a:pt x="38" y="52"/>
                  </a:lnTo>
                  <a:lnTo>
                    <a:pt x="46" y="104"/>
                  </a:lnTo>
                  <a:lnTo>
                    <a:pt x="54" y="283"/>
                  </a:lnTo>
                  <a:lnTo>
                    <a:pt x="58" y="403"/>
                  </a:lnTo>
                  <a:lnTo>
                    <a:pt x="58" y="608"/>
                  </a:lnTo>
                  <a:lnTo>
                    <a:pt x="56" y="801"/>
                  </a:lnTo>
                  <a:lnTo>
                    <a:pt x="48" y="954"/>
                  </a:lnTo>
                  <a:lnTo>
                    <a:pt x="42" y="1002"/>
                  </a:lnTo>
                  <a:lnTo>
                    <a:pt x="84" y="1027"/>
                  </a:lnTo>
                  <a:lnTo>
                    <a:pt x="121" y="1057"/>
                  </a:lnTo>
                  <a:lnTo>
                    <a:pt x="170" y="1122"/>
                  </a:lnTo>
                  <a:lnTo>
                    <a:pt x="176" y="1147"/>
                  </a:lnTo>
                  <a:lnTo>
                    <a:pt x="172" y="1195"/>
                  </a:lnTo>
                  <a:lnTo>
                    <a:pt x="147" y="1232"/>
                  </a:lnTo>
                  <a:lnTo>
                    <a:pt x="137" y="1211"/>
                  </a:lnTo>
                  <a:lnTo>
                    <a:pt x="129" y="1161"/>
                  </a:lnTo>
                  <a:lnTo>
                    <a:pt x="107" y="1118"/>
                  </a:lnTo>
                  <a:lnTo>
                    <a:pt x="66" y="1070"/>
                  </a:lnTo>
                  <a:lnTo>
                    <a:pt x="40" y="1057"/>
                  </a:lnTo>
                  <a:lnTo>
                    <a:pt x="9" y="1057"/>
                  </a:lnTo>
                  <a:lnTo>
                    <a:pt x="9" y="1020"/>
                  </a:lnTo>
                  <a:lnTo>
                    <a:pt x="23" y="977"/>
                  </a:lnTo>
                  <a:lnTo>
                    <a:pt x="38" y="840"/>
                  </a:lnTo>
                  <a:lnTo>
                    <a:pt x="42" y="694"/>
                  </a:lnTo>
                  <a:lnTo>
                    <a:pt x="40" y="565"/>
                  </a:lnTo>
                  <a:lnTo>
                    <a:pt x="38" y="403"/>
                  </a:lnTo>
                  <a:lnTo>
                    <a:pt x="29" y="262"/>
                  </a:lnTo>
                  <a:lnTo>
                    <a:pt x="11" y="159"/>
                  </a:lnTo>
                  <a:lnTo>
                    <a:pt x="0" y="66"/>
                  </a:lnTo>
                  <a:lnTo>
                    <a:pt x="3" y="3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09680" y="1598040"/>
              <a:ext cx="148680" cy="687240"/>
            </a:xfrm>
            <a:custGeom>
              <a:avLst/>
              <a:gdLst/>
              <a:ahLst/>
              <a:rect l="l" t="t" r="r" b="b"/>
              <a:pathLst>
                <a:path w="163" h="1106">
                  <a:moveTo>
                    <a:pt x="0" y="88"/>
                  </a:moveTo>
                  <a:lnTo>
                    <a:pt x="0" y="17"/>
                  </a:lnTo>
                  <a:lnTo>
                    <a:pt x="17" y="0"/>
                  </a:lnTo>
                  <a:lnTo>
                    <a:pt x="43" y="0"/>
                  </a:lnTo>
                  <a:lnTo>
                    <a:pt x="62" y="40"/>
                  </a:lnTo>
                  <a:lnTo>
                    <a:pt x="66" y="78"/>
                  </a:lnTo>
                  <a:lnTo>
                    <a:pt x="62" y="158"/>
                  </a:lnTo>
                  <a:lnTo>
                    <a:pt x="49" y="259"/>
                  </a:lnTo>
                  <a:lnTo>
                    <a:pt x="43" y="413"/>
                  </a:lnTo>
                  <a:lnTo>
                    <a:pt x="39" y="514"/>
                  </a:lnTo>
                  <a:lnTo>
                    <a:pt x="39" y="531"/>
                  </a:lnTo>
                  <a:lnTo>
                    <a:pt x="45" y="672"/>
                  </a:lnTo>
                  <a:lnTo>
                    <a:pt x="55" y="754"/>
                  </a:lnTo>
                  <a:lnTo>
                    <a:pt x="62" y="818"/>
                  </a:lnTo>
                  <a:lnTo>
                    <a:pt x="61" y="844"/>
                  </a:lnTo>
                  <a:lnTo>
                    <a:pt x="85" y="917"/>
                  </a:lnTo>
                  <a:lnTo>
                    <a:pt x="111" y="965"/>
                  </a:lnTo>
                  <a:lnTo>
                    <a:pt x="139" y="1009"/>
                  </a:lnTo>
                  <a:lnTo>
                    <a:pt x="163" y="1028"/>
                  </a:lnTo>
                  <a:lnTo>
                    <a:pt x="163" y="1066"/>
                  </a:lnTo>
                  <a:lnTo>
                    <a:pt x="150" y="1095"/>
                  </a:lnTo>
                  <a:lnTo>
                    <a:pt x="118" y="1106"/>
                  </a:lnTo>
                  <a:lnTo>
                    <a:pt x="96" y="1086"/>
                  </a:lnTo>
                  <a:lnTo>
                    <a:pt x="96" y="1058"/>
                  </a:lnTo>
                  <a:lnTo>
                    <a:pt x="77" y="965"/>
                  </a:lnTo>
                  <a:lnTo>
                    <a:pt x="45" y="914"/>
                  </a:lnTo>
                  <a:lnTo>
                    <a:pt x="23" y="864"/>
                  </a:lnTo>
                  <a:lnTo>
                    <a:pt x="6" y="837"/>
                  </a:lnTo>
                  <a:lnTo>
                    <a:pt x="12" y="804"/>
                  </a:lnTo>
                  <a:lnTo>
                    <a:pt x="21" y="714"/>
                  </a:lnTo>
                  <a:lnTo>
                    <a:pt x="21" y="541"/>
                  </a:lnTo>
                  <a:lnTo>
                    <a:pt x="17" y="421"/>
                  </a:lnTo>
                  <a:lnTo>
                    <a:pt x="17" y="299"/>
                  </a:lnTo>
                  <a:lnTo>
                    <a:pt x="15" y="16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327480" y="1828800"/>
            <a:ext cx="329760" cy="1143000"/>
            <a:chOff x="3327480" y="1828800"/>
            <a:chExt cx="329760" cy="1143000"/>
          </a:xfrm>
        </p:grpSpPr>
        <p:sp>
          <p:nvSpPr>
            <p:cNvPr id="197" name=""/>
            <p:cNvSpPr/>
            <p:nvPr/>
          </p:nvSpPr>
          <p:spPr>
            <a:xfrm>
              <a:off x="3423600" y="1828800"/>
              <a:ext cx="215640" cy="247320"/>
            </a:xfrm>
            <a:custGeom>
              <a:avLst/>
              <a:gdLst/>
              <a:ahLst/>
              <a:rect l="l" t="t" r="r" b="b"/>
              <a:pathLst>
                <a:path w="239" h="547">
                  <a:moveTo>
                    <a:pt x="0" y="232"/>
                  </a:moveTo>
                  <a:lnTo>
                    <a:pt x="18" y="119"/>
                  </a:lnTo>
                  <a:lnTo>
                    <a:pt x="41" y="61"/>
                  </a:lnTo>
                  <a:lnTo>
                    <a:pt x="69" y="21"/>
                  </a:lnTo>
                  <a:lnTo>
                    <a:pt x="98" y="0"/>
                  </a:lnTo>
                  <a:lnTo>
                    <a:pt x="135" y="7"/>
                  </a:lnTo>
                  <a:lnTo>
                    <a:pt x="160" y="50"/>
                  </a:lnTo>
                  <a:lnTo>
                    <a:pt x="183" y="132"/>
                  </a:lnTo>
                  <a:lnTo>
                    <a:pt x="192" y="240"/>
                  </a:lnTo>
                  <a:lnTo>
                    <a:pt x="192" y="364"/>
                  </a:lnTo>
                  <a:lnTo>
                    <a:pt x="238" y="448"/>
                  </a:lnTo>
                  <a:lnTo>
                    <a:pt x="239" y="486"/>
                  </a:lnTo>
                  <a:lnTo>
                    <a:pt x="232" y="489"/>
                  </a:lnTo>
                  <a:lnTo>
                    <a:pt x="188" y="414"/>
                  </a:lnTo>
                  <a:lnTo>
                    <a:pt x="175" y="469"/>
                  </a:lnTo>
                  <a:lnTo>
                    <a:pt x="149" y="517"/>
                  </a:lnTo>
                  <a:lnTo>
                    <a:pt x="124" y="541"/>
                  </a:lnTo>
                  <a:lnTo>
                    <a:pt x="85" y="547"/>
                  </a:lnTo>
                  <a:lnTo>
                    <a:pt x="33" y="509"/>
                  </a:lnTo>
                  <a:lnTo>
                    <a:pt x="10" y="428"/>
                  </a:lnTo>
                  <a:lnTo>
                    <a:pt x="0" y="346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405240" y="2096280"/>
              <a:ext cx="190080" cy="395280"/>
            </a:xfrm>
            <a:custGeom>
              <a:avLst/>
              <a:gdLst/>
              <a:ahLst/>
              <a:rect l="l" t="t" r="r" b="b"/>
              <a:pathLst>
                <a:path w="209" h="875">
                  <a:moveTo>
                    <a:pt x="29" y="57"/>
                  </a:moveTo>
                  <a:lnTo>
                    <a:pt x="56" y="19"/>
                  </a:lnTo>
                  <a:lnTo>
                    <a:pt x="86" y="6"/>
                  </a:lnTo>
                  <a:lnTo>
                    <a:pt x="114" y="0"/>
                  </a:lnTo>
                  <a:lnTo>
                    <a:pt x="151" y="9"/>
                  </a:lnTo>
                  <a:lnTo>
                    <a:pt x="192" y="57"/>
                  </a:lnTo>
                  <a:lnTo>
                    <a:pt x="209" y="141"/>
                  </a:lnTo>
                  <a:lnTo>
                    <a:pt x="209" y="269"/>
                  </a:lnTo>
                  <a:lnTo>
                    <a:pt x="207" y="389"/>
                  </a:lnTo>
                  <a:lnTo>
                    <a:pt x="187" y="575"/>
                  </a:lnTo>
                  <a:lnTo>
                    <a:pt x="170" y="727"/>
                  </a:lnTo>
                  <a:lnTo>
                    <a:pt x="151" y="825"/>
                  </a:lnTo>
                  <a:lnTo>
                    <a:pt x="112" y="875"/>
                  </a:lnTo>
                  <a:lnTo>
                    <a:pt x="56" y="865"/>
                  </a:lnTo>
                  <a:lnTo>
                    <a:pt x="28" y="788"/>
                  </a:lnTo>
                  <a:lnTo>
                    <a:pt x="11" y="673"/>
                  </a:lnTo>
                  <a:lnTo>
                    <a:pt x="2" y="544"/>
                  </a:lnTo>
                  <a:lnTo>
                    <a:pt x="0" y="352"/>
                  </a:lnTo>
                  <a:lnTo>
                    <a:pt x="7" y="219"/>
                  </a:lnTo>
                  <a:lnTo>
                    <a:pt x="18" y="97"/>
                  </a:lnTo>
                  <a:lnTo>
                    <a:pt x="29" y="5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327480" y="2094840"/>
              <a:ext cx="112320" cy="489240"/>
            </a:xfrm>
            <a:custGeom>
              <a:avLst/>
              <a:gdLst/>
              <a:ahLst/>
              <a:rect l="l" t="t" r="r" b="b"/>
              <a:pathLst>
                <a:path w="125" h="1080">
                  <a:moveTo>
                    <a:pt x="84" y="7"/>
                  </a:moveTo>
                  <a:lnTo>
                    <a:pt x="114" y="0"/>
                  </a:lnTo>
                  <a:lnTo>
                    <a:pt x="125" y="47"/>
                  </a:lnTo>
                  <a:lnTo>
                    <a:pt x="109" y="108"/>
                  </a:lnTo>
                  <a:lnTo>
                    <a:pt x="86" y="142"/>
                  </a:lnTo>
                  <a:lnTo>
                    <a:pt x="68" y="222"/>
                  </a:lnTo>
                  <a:lnTo>
                    <a:pt x="44" y="331"/>
                  </a:lnTo>
                  <a:lnTo>
                    <a:pt x="35" y="432"/>
                  </a:lnTo>
                  <a:lnTo>
                    <a:pt x="29" y="604"/>
                  </a:lnTo>
                  <a:lnTo>
                    <a:pt x="35" y="766"/>
                  </a:lnTo>
                  <a:lnTo>
                    <a:pt x="46" y="841"/>
                  </a:lnTo>
                  <a:lnTo>
                    <a:pt x="39" y="922"/>
                  </a:lnTo>
                  <a:lnTo>
                    <a:pt x="29" y="983"/>
                  </a:lnTo>
                  <a:lnTo>
                    <a:pt x="33" y="1080"/>
                  </a:lnTo>
                  <a:lnTo>
                    <a:pt x="18" y="1074"/>
                  </a:lnTo>
                  <a:lnTo>
                    <a:pt x="5" y="992"/>
                  </a:lnTo>
                  <a:lnTo>
                    <a:pt x="0" y="922"/>
                  </a:lnTo>
                  <a:lnTo>
                    <a:pt x="16" y="827"/>
                  </a:lnTo>
                  <a:lnTo>
                    <a:pt x="11" y="740"/>
                  </a:lnTo>
                  <a:lnTo>
                    <a:pt x="5" y="598"/>
                  </a:lnTo>
                  <a:lnTo>
                    <a:pt x="5" y="426"/>
                  </a:lnTo>
                  <a:lnTo>
                    <a:pt x="16" y="243"/>
                  </a:lnTo>
                  <a:lnTo>
                    <a:pt x="35" y="108"/>
                  </a:lnTo>
                  <a:lnTo>
                    <a:pt x="56" y="37"/>
                  </a:lnTo>
                  <a:lnTo>
                    <a:pt x="84" y="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574080" y="2108520"/>
              <a:ext cx="70560" cy="462240"/>
            </a:xfrm>
            <a:custGeom>
              <a:avLst/>
              <a:gdLst/>
              <a:ahLst/>
              <a:rect l="l" t="t" r="r" b="b"/>
              <a:pathLst>
                <a:path w="77" h="1022">
                  <a:moveTo>
                    <a:pt x="2" y="3"/>
                  </a:moveTo>
                  <a:lnTo>
                    <a:pt x="33" y="0"/>
                  </a:lnTo>
                  <a:lnTo>
                    <a:pt x="55" y="80"/>
                  </a:lnTo>
                  <a:lnTo>
                    <a:pt x="77" y="303"/>
                  </a:lnTo>
                  <a:lnTo>
                    <a:pt x="77" y="558"/>
                  </a:lnTo>
                  <a:lnTo>
                    <a:pt x="66" y="777"/>
                  </a:lnTo>
                  <a:lnTo>
                    <a:pt x="77" y="851"/>
                  </a:lnTo>
                  <a:lnTo>
                    <a:pt x="77" y="951"/>
                  </a:lnTo>
                  <a:lnTo>
                    <a:pt x="66" y="1022"/>
                  </a:lnTo>
                  <a:lnTo>
                    <a:pt x="52" y="958"/>
                  </a:lnTo>
                  <a:lnTo>
                    <a:pt x="43" y="860"/>
                  </a:lnTo>
                  <a:lnTo>
                    <a:pt x="27" y="787"/>
                  </a:lnTo>
                  <a:lnTo>
                    <a:pt x="45" y="719"/>
                  </a:lnTo>
                  <a:lnTo>
                    <a:pt x="57" y="558"/>
                  </a:lnTo>
                  <a:lnTo>
                    <a:pt x="57" y="407"/>
                  </a:lnTo>
                  <a:lnTo>
                    <a:pt x="45" y="255"/>
                  </a:lnTo>
                  <a:lnTo>
                    <a:pt x="24" y="144"/>
                  </a:lnTo>
                  <a:lnTo>
                    <a:pt x="0" y="9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05240" y="2413080"/>
              <a:ext cx="159480" cy="558720"/>
            </a:xfrm>
            <a:custGeom>
              <a:avLst/>
              <a:gdLst/>
              <a:ahLst/>
              <a:rect l="l" t="t" r="r" b="b"/>
              <a:pathLst>
                <a:path w="176" h="1232">
                  <a:moveTo>
                    <a:pt x="17" y="0"/>
                  </a:moveTo>
                  <a:lnTo>
                    <a:pt x="38" y="52"/>
                  </a:lnTo>
                  <a:lnTo>
                    <a:pt x="46" y="104"/>
                  </a:lnTo>
                  <a:lnTo>
                    <a:pt x="54" y="283"/>
                  </a:lnTo>
                  <a:lnTo>
                    <a:pt x="58" y="403"/>
                  </a:lnTo>
                  <a:lnTo>
                    <a:pt x="58" y="608"/>
                  </a:lnTo>
                  <a:lnTo>
                    <a:pt x="56" y="801"/>
                  </a:lnTo>
                  <a:lnTo>
                    <a:pt x="48" y="954"/>
                  </a:lnTo>
                  <a:lnTo>
                    <a:pt x="42" y="1002"/>
                  </a:lnTo>
                  <a:lnTo>
                    <a:pt x="84" y="1027"/>
                  </a:lnTo>
                  <a:lnTo>
                    <a:pt x="121" y="1057"/>
                  </a:lnTo>
                  <a:lnTo>
                    <a:pt x="170" y="1122"/>
                  </a:lnTo>
                  <a:lnTo>
                    <a:pt x="176" y="1147"/>
                  </a:lnTo>
                  <a:lnTo>
                    <a:pt x="172" y="1195"/>
                  </a:lnTo>
                  <a:lnTo>
                    <a:pt x="147" y="1232"/>
                  </a:lnTo>
                  <a:lnTo>
                    <a:pt x="137" y="1211"/>
                  </a:lnTo>
                  <a:lnTo>
                    <a:pt x="129" y="1161"/>
                  </a:lnTo>
                  <a:lnTo>
                    <a:pt x="107" y="1118"/>
                  </a:lnTo>
                  <a:lnTo>
                    <a:pt x="66" y="1070"/>
                  </a:lnTo>
                  <a:lnTo>
                    <a:pt x="40" y="1057"/>
                  </a:lnTo>
                  <a:lnTo>
                    <a:pt x="9" y="1057"/>
                  </a:lnTo>
                  <a:lnTo>
                    <a:pt x="9" y="1020"/>
                  </a:lnTo>
                  <a:lnTo>
                    <a:pt x="23" y="977"/>
                  </a:lnTo>
                  <a:lnTo>
                    <a:pt x="38" y="840"/>
                  </a:lnTo>
                  <a:lnTo>
                    <a:pt x="42" y="694"/>
                  </a:lnTo>
                  <a:lnTo>
                    <a:pt x="40" y="565"/>
                  </a:lnTo>
                  <a:lnTo>
                    <a:pt x="38" y="403"/>
                  </a:lnTo>
                  <a:lnTo>
                    <a:pt x="29" y="262"/>
                  </a:lnTo>
                  <a:lnTo>
                    <a:pt x="11" y="159"/>
                  </a:lnTo>
                  <a:lnTo>
                    <a:pt x="0" y="66"/>
                  </a:lnTo>
                  <a:lnTo>
                    <a:pt x="3" y="3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08560" y="2414520"/>
              <a:ext cx="148680" cy="501120"/>
            </a:xfrm>
            <a:custGeom>
              <a:avLst/>
              <a:gdLst/>
              <a:ahLst/>
              <a:rect l="l" t="t" r="r" b="b"/>
              <a:pathLst>
                <a:path w="163" h="1106">
                  <a:moveTo>
                    <a:pt x="0" y="88"/>
                  </a:moveTo>
                  <a:lnTo>
                    <a:pt x="0" y="17"/>
                  </a:lnTo>
                  <a:lnTo>
                    <a:pt x="17" y="0"/>
                  </a:lnTo>
                  <a:lnTo>
                    <a:pt x="43" y="0"/>
                  </a:lnTo>
                  <a:lnTo>
                    <a:pt x="62" y="40"/>
                  </a:lnTo>
                  <a:lnTo>
                    <a:pt x="66" y="78"/>
                  </a:lnTo>
                  <a:lnTo>
                    <a:pt x="62" y="158"/>
                  </a:lnTo>
                  <a:lnTo>
                    <a:pt x="49" y="259"/>
                  </a:lnTo>
                  <a:lnTo>
                    <a:pt x="43" y="413"/>
                  </a:lnTo>
                  <a:lnTo>
                    <a:pt x="39" y="514"/>
                  </a:lnTo>
                  <a:lnTo>
                    <a:pt x="39" y="531"/>
                  </a:lnTo>
                  <a:lnTo>
                    <a:pt x="45" y="672"/>
                  </a:lnTo>
                  <a:lnTo>
                    <a:pt x="55" y="754"/>
                  </a:lnTo>
                  <a:lnTo>
                    <a:pt x="62" y="818"/>
                  </a:lnTo>
                  <a:lnTo>
                    <a:pt x="61" y="844"/>
                  </a:lnTo>
                  <a:lnTo>
                    <a:pt x="85" y="917"/>
                  </a:lnTo>
                  <a:lnTo>
                    <a:pt x="111" y="965"/>
                  </a:lnTo>
                  <a:lnTo>
                    <a:pt x="139" y="1009"/>
                  </a:lnTo>
                  <a:lnTo>
                    <a:pt x="163" y="1028"/>
                  </a:lnTo>
                  <a:lnTo>
                    <a:pt x="163" y="1066"/>
                  </a:lnTo>
                  <a:lnTo>
                    <a:pt x="150" y="1095"/>
                  </a:lnTo>
                  <a:lnTo>
                    <a:pt x="118" y="1106"/>
                  </a:lnTo>
                  <a:lnTo>
                    <a:pt x="96" y="1086"/>
                  </a:lnTo>
                  <a:lnTo>
                    <a:pt x="96" y="1058"/>
                  </a:lnTo>
                  <a:lnTo>
                    <a:pt x="77" y="965"/>
                  </a:lnTo>
                  <a:lnTo>
                    <a:pt x="45" y="914"/>
                  </a:lnTo>
                  <a:lnTo>
                    <a:pt x="23" y="864"/>
                  </a:lnTo>
                  <a:lnTo>
                    <a:pt x="6" y="837"/>
                  </a:lnTo>
                  <a:lnTo>
                    <a:pt x="12" y="804"/>
                  </a:lnTo>
                  <a:lnTo>
                    <a:pt x="21" y="714"/>
                  </a:lnTo>
                  <a:lnTo>
                    <a:pt x="21" y="541"/>
                  </a:lnTo>
                  <a:lnTo>
                    <a:pt x="17" y="421"/>
                  </a:lnTo>
                  <a:lnTo>
                    <a:pt x="17" y="299"/>
                  </a:lnTo>
                  <a:lnTo>
                    <a:pt x="15" y="16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57200" y="2895480"/>
            <a:ext cx="37339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eople &amp; commun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519120" y="1143000"/>
            <a:ext cx="2796840" cy="1256760"/>
            <a:chOff x="519120" y="1143000"/>
            <a:chExt cx="2796840" cy="1256760"/>
          </a:xfrm>
        </p:grpSpPr>
        <p:sp>
          <p:nvSpPr>
            <p:cNvPr id="205" name=""/>
            <p:cNvSpPr/>
            <p:nvPr/>
          </p:nvSpPr>
          <p:spPr>
            <a:xfrm>
              <a:off x="685800" y="1143000"/>
              <a:ext cx="1676520" cy="228600"/>
            </a:xfrm>
            <a:prstGeom prst="leftRightArrow">
              <a:avLst>
                <a:gd name="adj1" fmla="val 27778"/>
                <a:gd name="adj2" fmla="val 1470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081200">
              <a:off x="604440" y="1752480"/>
              <a:ext cx="2743200" cy="228600"/>
            </a:xfrm>
            <a:prstGeom prst="leftRightArrow">
              <a:avLst>
                <a:gd name="adj1" fmla="val 27444"/>
                <a:gd name="adj2" fmla="val 13672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2598600">
              <a:off x="475920" y="1706400"/>
              <a:ext cx="831960" cy="204840"/>
            </a:xfrm>
            <a:prstGeom prst="leftRightArrow">
              <a:avLst>
                <a:gd name="adj1" fmla="val 27778"/>
                <a:gd name="adj2" fmla="val 8143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1534680" y="1568880"/>
            <a:ext cx="1940400" cy="1022040"/>
            <a:chOff x="1534680" y="1568880"/>
            <a:chExt cx="1940400" cy="1022040"/>
          </a:xfrm>
        </p:grpSpPr>
        <p:sp>
          <p:nvSpPr>
            <p:cNvPr id="209" name=""/>
            <p:cNvSpPr/>
            <p:nvPr/>
          </p:nvSpPr>
          <p:spPr>
            <a:xfrm>
              <a:off x="1676520" y="2362320"/>
              <a:ext cx="1523880" cy="228600"/>
            </a:xfrm>
            <a:prstGeom prst="leftRightArrow">
              <a:avLst>
                <a:gd name="adj1" fmla="val 27778"/>
                <a:gd name="adj2" fmla="val 13366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9963200">
              <a:off x="1531800" y="1785960"/>
              <a:ext cx="990720" cy="228600"/>
            </a:xfrm>
            <a:prstGeom prst="leftRightArrow">
              <a:avLst>
                <a:gd name="adj1" fmla="val 27778"/>
                <a:gd name="adj2" fmla="val 8689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2598600">
              <a:off x="2844360" y="1771560"/>
              <a:ext cx="660600" cy="174600"/>
            </a:xfrm>
            <a:prstGeom prst="leftRightArrow">
              <a:avLst>
                <a:gd name="adj1" fmla="val 27778"/>
                <a:gd name="adj2" fmla="val 758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152280" y="685800"/>
            <a:ext cx="4343400" cy="2743200"/>
          </a:xfrm>
          <a:prstGeom prst="rect">
            <a:avLst/>
          </a:prstGeom>
          <a:noFill/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52280" y="3505320"/>
            <a:ext cx="4343400" cy="3003840"/>
            <a:chOff x="152280" y="3505320"/>
            <a:chExt cx="4343400" cy="3003840"/>
          </a:xfrm>
        </p:grpSpPr>
        <p:grpSp>
          <p:nvGrpSpPr>
            <p:cNvPr id="214" name=""/>
            <p:cNvGrpSpPr/>
            <p:nvPr/>
          </p:nvGrpSpPr>
          <p:grpSpPr>
            <a:xfrm>
              <a:off x="1401840" y="4114800"/>
              <a:ext cx="1950120" cy="1686960"/>
              <a:chOff x="1401840" y="4114800"/>
              <a:chExt cx="1950120" cy="168696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1401840" y="4282920"/>
                <a:ext cx="1091880" cy="1518840"/>
                <a:chOff x="1401840" y="4282920"/>
                <a:chExt cx="1091880" cy="151884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1782000" y="4282920"/>
                  <a:ext cx="244080" cy="381600"/>
                </a:xfrm>
                <a:custGeom>
                  <a:avLst/>
                  <a:gdLst/>
                  <a:ahLst/>
                  <a:rect l="l" t="t" r="r" b="b"/>
                  <a:pathLst>
                    <a:path w="537" h="654">
                      <a:moveTo>
                        <a:pt x="138" y="302"/>
                      </a:moveTo>
                      <a:lnTo>
                        <a:pt x="179" y="171"/>
                      </a:lnTo>
                      <a:lnTo>
                        <a:pt x="248" y="66"/>
                      </a:lnTo>
                      <a:lnTo>
                        <a:pt x="317" y="13"/>
                      </a:lnTo>
                      <a:lnTo>
                        <a:pt x="399" y="0"/>
                      </a:lnTo>
                      <a:lnTo>
                        <a:pt x="455" y="13"/>
                      </a:lnTo>
                      <a:lnTo>
                        <a:pt x="524" y="53"/>
                      </a:lnTo>
                      <a:lnTo>
                        <a:pt x="537" y="144"/>
                      </a:lnTo>
                      <a:lnTo>
                        <a:pt x="537" y="275"/>
                      </a:lnTo>
                      <a:lnTo>
                        <a:pt x="482" y="418"/>
                      </a:lnTo>
                      <a:lnTo>
                        <a:pt x="399" y="511"/>
                      </a:lnTo>
                      <a:lnTo>
                        <a:pt x="359" y="563"/>
                      </a:lnTo>
                      <a:lnTo>
                        <a:pt x="290" y="602"/>
                      </a:lnTo>
                      <a:lnTo>
                        <a:pt x="234" y="589"/>
                      </a:lnTo>
                      <a:lnTo>
                        <a:pt x="193" y="576"/>
                      </a:lnTo>
                      <a:lnTo>
                        <a:pt x="151" y="536"/>
                      </a:lnTo>
                      <a:lnTo>
                        <a:pt x="27" y="654"/>
                      </a:lnTo>
                      <a:lnTo>
                        <a:pt x="0" y="576"/>
                      </a:lnTo>
                      <a:lnTo>
                        <a:pt x="124" y="458"/>
                      </a:lnTo>
                      <a:lnTo>
                        <a:pt x="138" y="302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845360" y="4671720"/>
                  <a:ext cx="155880" cy="511560"/>
                </a:xfrm>
                <a:custGeom>
                  <a:avLst/>
                  <a:gdLst/>
                  <a:ahLst/>
                  <a:rect l="l" t="t" r="r" b="b"/>
                  <a:pathLst>
                    <a:path w="345" h="876">
                      <a:moveTo>
                        <a:pt x="111" y="26"/>
                      </a:moveTo>
                      <a:lnTo>
                        <a:pt x="180" y="0"/>
                      </a:lnTo>
                      <a:lnTo>
                        <a:pt x="262" y="26"/>
                      </a:lnTo>
                      <a:lnTo>
                        <a:pt x="318" y="118"/>
                      </a:lnTo>
                      <a:lnTo>
                        <a:pt x="345" y="262"/>
                      </a:lnTo>
                      <a:lnTo>
                        <a:pt x="345" y="483"/>
                      </a:lnTo>
                      <a:lnTo>
                        <a:pt x="303" y="654"/>
                      </a:lnTo>
                      <a:lnTo>
                        <a:pt x="262" y="785"/>
                      </a:lnTo>
                      <a:lnTo>
                        <a:pt x="151" y="876"/>
                      </a:lnTo>
                      <a:lnTo>
                        <a:pt x="55" y="863"/>
                      </a:lnTo>
                      <a:lnTo>
                        <a:pt x="0" y="745"/>
                      </a:lnTo>
                      <a:lnTo>
                        <a:pt x="42" y="614"/>
                      </a:lnTo>
                      <a:lnTo>
                        <a:pt x="82" y="496"/>
                      </a:lnTo>
                      <a:lnTo>
                        <a:pt x="96" y="380"/>
                      </a:lnTo>
                      <a:lnTo>
                        <a:pt x="82" y="222"/>
                      </a:lnTo>
                      <a:lnTo>
                        <a:pt x="82" y="78"/>
                      </a:lnTo>
                      <a:lnTo>
                        <a:pt x="111" y="2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401840" y="4678920"/>
                  <a:ext cx="505080" cy="390600"/>
                </a:xfrm>
                <a:custGeom>
                  <a:avLst/>
                  <a:gdLst/>
                  <a:ahLst/>
                  <a:rect l="l" t="t" r="r" b="b"/>
                  <a:pathLst>
                    <a:path w="1117" h="667">
                      <a:moveTo>
                        <a:pt x="910" y="104"/>
                      </a:moveTo>
                      <a:lnTo>
                        <a:pt x="992" y="26"/>
                      </a:lnTo>
                      <a:lnTo>
                        <a:pt x="1061" y="0"/>
                      </a:lnTo>
                      <a:lnTo>
                        <a:pt x="1103" y="13"/>
                      </a:lnTo>
                      <a:lnTo>
                        <a:pt x="1117" y="64"/>
                      </a:lnTo>
                      <a:lnTo>
                        <a:pt x="1103" y="117"/>
                      </a:lnTo>
                      <a:lnTo>
                        <a:pt x="1075" y="130"/>
                      </a:lnTo>
                      <a:lnTo>
                        <a:pt x="938" y="209"/>
                      </a:lnTo>
                      <a:lnTo>
                        <a:pt x="800" y="300"/>
                      </a:lnTo>
                      <a:lnTo>
                        <a:pt x="689" y="365"/>
                      </a:lnTo>
                      <a:lnTo>
                        <a:pt x="551" y="418"/>
                      </a:lnTo>
                      <a:lnTo>
                        <a:pt x="386" y="470"/>
                      </a:lnTo>
                      <a:lnTo>
                        <a:pt x="359" y="496"/>
                      </a:lnTo>
                      <a:lnTo>
                        <a:pt x="399" y="640"/>
                      </a:lnTo>
                      <a:lnTo>
                        <a:pt x="372" y="640"/>
                      </a:lnTo>
                      <a:lnTo>
                        <a:pt x="317" y="536"/>
                      </a:lnTo>
                      <a:lnTo>
                        <a:pt x="290" y="536"/>
                      </a:lnTo>
                      <a:lnTo>
                        <a:pt x="221" y="667"/>
                      </a:lnTo>
                      <a:lnTo>
                        <a:pt x="179" y="667"/>
                      </a:lnTo>
                      <a:lnTo>
                        <a:pt x="234" y="536"/>
                      </a:lnTo>
                      <a:lnTo>
                        <a:pt x="221" y="496"/>
                      </a:lnTo>
                      <a:lnTo>
                        <a:pt x="0" y="509"/>
                      </a:lnTo>
                      <a:lnTo>
                        <a:pt x="0" y="470"/>
                      </a:lnTo>
                      <a:lnTo>
                        <a:pt x="207" y="444"/>
                      </a:lnTo>
                      <a:lnTo>
                        <a:pt x="221" y="418"/>
                      </a:lnTo>
                      <a:lnTo>
                        <a:pt x="110" y="340"/>
                      </a:lnTo>
                      <a:lnTo>
                        <a:pt x="152" y="326"/>
                      </a:lnTo>
                      <a:lnTo>
                        <a:pt x="290" y="391"/>
                      </a:lnTo>
                      <a:lnTo>
                        <a:pt x="372" y="391"/>
                      </a:lnTo>
                      <a:lnTo>
                        <a:pt x="510" y="378"/>
                      </a:lnTo>
                      <a:lnTo>
                        <a:pt x="593" y="340"/>
                      </a:lnTo>
                      <a:lnTo>
                        <a:pt x="731" y="274"/>
                      </a:lnTo>
                      <a:lnTo>
                        <a:pt x="841" y="169"/>
                      </a:lnTo>
                      <a:lnTo>
                        <a:pt x="910" y="10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1932480" y="4526280"/>
                  <a:ext cx="561240" cy="213480"/>
                </a:xfrm>
                <a:custGeom>
                  <a:avLst/>
                  <a:gdLst/>
                  <a:ahLst/>
                  <a:rect l="l" t="t" r="r" b="b"/>
                  <a:pathLst>
                    <a:path w="1241" h="367">
                      <a:moveTo>
                        <a:pt x="0" y="289"/>
                      </a:moveTo>
                      <a:lnTo>
                        <a:pt x="15" y="236"/>
                      </a:lnTo>
                      <a:lnTo>
                        <a:pt x="194" y="171"/>
                      </a:lnTo>
                      <a:lnTo>
                        <a:pt x="387" y="105"/>
                      </a:lnTo>
                      <a:lnTo>
                        <a:pt x="690" y="66"/>
                      </a:lnTo>
                      <a:lnTo>
                        <a:pt x="966" y="79"/>
                      </a:lnTo>
                      <a:lnTo>
                        <a:pt x="1063" y="79"/>
                      </a:lnTo>
                      <a:lnTo>
                        <a:pt x="1214" y="0"/>
                      </a:lnTo>
                      <a:lnTo>
                        <a:pt x="1241" y="26"/>
                      </a:lnTo>
                      <a:lnTo>
                        <a:pt x="1104" y="131"/>
                      </a:lnTo>
                      <a:lnTo>
                        <a:pt x="993" y="236"/>
                      </a:lnTo>
                      <a:lnTo>
                        <a:pt x="924" y="341"/>
                      </a:lnTo>
                      <a:lnTo>
                        <a:pt x="884" y="302"/>
                      </a:lnTo>
                      <a:lnTo>
                        <a:pt x="897" y="236"/>
                      </a:lnTo>
                      <a:lnTo>
                        <a:pt x="911" y="158"/>
                      </a:lnTo>
                      <a:lnTo>
                        <a:pt x="842" y="144"/>
                      </a:lnTo>
                      <a:lnTo>
                        <a:pt x="690" y="131"/>
                      </a:lnTo>
                      <a:lnTo>
                        <a:pt x="566" y="131"/>
                      </a:lnTo>
                      <a:lnTo>
                        <a:pt x="373" y="184"/>
                      </a:lnTo>
                      <a:lnTo>
                        <a:pt x="180" y="289"/>
                      </a:lnTo>
                      <a:lnTo>
                        <a:pt x="0" y="367"/>
                      </a:lnTo>
                      <a:lnTo>
                        <a:pt x="0" y="289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875960" y="5045040"/>
                  <a:ext cx="168480" cy="686880"/>
                </a:xfrm>
                <a:custGeom>
                  <a:avLst/>
                  <a:gdLst/>
                  <a:ahLst/>
                  <a:rect l="l" t="t" r="r" b="b"/>
                  <a:pathLst>
                    <a:path w="374" h="1176">
                      <a:moveTo>
                        <a:pt x="111" y="0"/>
                      </a:moveTo>
                      <a:lnTo>
                        <a:pt x="180" y="26"/>
                      </a:lnTo>
                      <a:lnTo>
                        <a:pt x="236" y="156"/>
                      </a:lnTo>
                      <a:lnTo>
                        <a:pt x="264" y="300"/>
                      </a:lnTo>
                      <a:lnTo>
                        <a:pt x="278" y="496"/>
                      </a:lnTo>
                      <a:lnTo>
                        <a:pt x="222" y="705"/>
                      </a:lnTo>
                      <a:lnTo>
                        <a:pt x="140" y="887"/>
                      </a:lnTo>
                      <a:lnTo>
                        <a:pt x="153" y="953"/>
                      </a:lnTo>
                      <a:lnTo>
                        <a:pt x="347" y="1045"/>
                      </a:lnTo>
                      <a:lnTo>
                        <a:pt x="374" y="1096"/>
                      </a:lnTo>
                      <a:lnTo>
                        <a:pt x="264" y="1176"/>
                      </a:lnTo>
                      <a:lnTo>
                        <a:pt x="209" y="1136"/>
                      </a:lnTo>
                      <a:lnTo>
                        <a:pt x="98" y="1018"/>
                      </a:lnTo>
                      <a:lnTo>
                        <a:pt x="0" y="953"/>
                      </a:lnTo>
                      <a:lnTo>
                        <a:pt x="0" y="914"/>
                      </a:lnTo>
                      <a:lnTo>
                        <a:pt x="56" y="836"/>
                      </a:lnTo>
                      <a:lnTo>
                        <a:pt x="140" y="718"/>
                      </a:lnTo>
                      <a:lnTo>
                        <a:pt x="195" y="535"/>
                      </a:lnTo>
                      <a:lnTo>
                        <a:pt x="195" y="300"/>
                      </a:lnTo>
                      <a:lnTo>
                        <a:pt x="153" y="169"/>
                      </a:lnTo>
                      <a:lnTo>
                        <a:pt x="98" y="104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675080" y="5053680"/>
                  <a:ext cx="226080" cy="748080"/>
                </a:xfrm>
                <a:custGeom>
                  <a:avLst/>
                  <a:gdLst/>
                  <a:ahLst/>
                  <a:rect l="l" t="t" r="r" b="b"/>
                  <a:pathLst>
                    <a:path w="498" h="1281">
                      <a:moveTo>
                        <a:pt x="263" y="156"/>
                      </a:moveTo>
                      <a:lnTo>
                        <a:pt x="318" y="38"/>
                      </a:lnTo>
                      <a:lnTo>
                        <a:pt x="456" y="0"/>
                      </a:lnTo>
                      <a:lnTo>
                        <a:pt x="498" y="64"/>
                      </a:lnTo>
                      <a:lnTo>
                        <a:pt x="401" y="169"/>
                      </a:lnTo>
                      <a:lnTo>
                        <a:pt x="345" y="235"/>
                      </a:lnTo>
                      <a:lnTo>
                        <a:pt x="332" y="365"/>
                      </a:lnTo>
                      <a:lnTo>
                        <a:pt x="305" y="587"/>
                      </a:lnTo>
                      <a:lnTo>
                        <a:pt x="318" y="874"/>
                      </a:lnTo>
                      <a:lnTo>
                        <a:pt x="332" y="1005"/>
                      </a:lnTo>
                      <a:lnTo>
                        <a:pt x="360" y="1058"/>
                      </a:lnTo>
                      <a:lnTo>
                        <a:pt x="345" y="1110"/>
                      </a:lnTo>
                      <a:lnTo>
                        <a:pt x="249" y="1150"/>
                      </a:lnTo>
                      <a:lnTo>
                        <a:pt x="98" y="1281"/>
                      </a:lnTo>
                      <a:lnTo>
                        <a:pt x="42" y="1281"/>
                      </a:lnTo>
                      <a:lnTo>
                        <a:pt x="0" y="1176"/>
                      </a:lnTo>
                      <a:lnTo>
                        <a:pt x="98" y="1110"/>
                      </a:lnTo>
                      <a:lnTo>
                        <a:pt x="222" y="1071"/>
                      </a:lnTo>
                      <a:lnTo>
                        <a:pt x="276" y="1045"/>
                      </a:lnTo>
                      <a:lnTo>
                        <a:pt x="263" y="927"/>
                      </a:lnTo>
                      <a:lnTo>
                        <a:pt x="236" y="665"/>
                      </a:lnTo>
                      <a:lnTo>
                        <a:pt x="222" y="444"/>
                      </a:lnTo>
                      <a:lnTo>
                        <a:pt x="236" y="260"/>
                      </a:lnTo>
                      <a:lnTo>
                        <a:pt x="263" y="1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2189520" y="4114800"/>
                <a:ext cx="1162440" cy="1609920"/>
                <a:chOff x="2189520" y="4114800"/>
                <a:chExt cx="1162440" cy="16099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2189520" y="4114800"/>
                  <a:ext cx="1162440" cy="1609920"/>
                </a:xfrm>
                <a:custGeom>
                  <a:avLst/>
                  <a:gdLst/>
                  <a:ahLst/>
                  <a:rect l="l" t="t" r="r" b="b"/>
                  <a:pathLst>
                    <a:path w="2567" h="2757">
                      <a:moveTo>
                        <a:pt x="898" y="510"/>
                      </a:moveTo>
                      <a:lnTo>
                        <a:pt x="746" y="641"/>
                      </a:lnTo>
                      <a:lnTo>
                        <a:pt x="566" y="772"/>
                      </a:lnTo>
                      <a:lnTo>
                        <a:pt x="374" y="981"/>
                      </a:lnTo>
                      <a:lnTo>
                        <a:pt x="167" y="1255"/>
                      </a:lnTo>
                      <a:lnTo>
                        <a:pt x="56" y="1490"/>
                      </a:lnTo>
                      <a:lnTo>
                        <a:pt x="0" y="1673"/>
                      </a:lnTo>
                      <a:lnTo>
                        <a:pt x="0" y="1790"/>
                      </a:lnTo>
                      <a:lnTo>
                        <a:pt x="15" y="2039"/>
                      </a:lnTo>
                      <a:lnTo>
                        <a:pt x="56" y="2222"/>
                      </a:lnTo>
                      <a:lnTo>
                        <a:pt x="167" y="2339"/>
                      </a:lnTo>
                      <a:lnTo>
                        <a:pt x="387" y="2484"/>
                      </a:lnTo>
                      <a:lnTo>
                        <a:pt x="595" y="2575"/>
                      </a:lnTo>
                      <a:lnTo>
                        <a:pt x="856" y="2666"/>
                      </a:lnTo>
                      <a:lnTo>
                        <a:pt x="1008" y="2718"/>
                      </a:lnTo>
                      <a:lnTo>
                        <a:pt x="1270" y="2757"/>
                      </a:lnTo>
                      <a:lnTo>
                        <a:pt x="1669" y="2718"/>
                      </a:lnTo>
                      <a:lnTo>
                        <a:pt x="2015" y="2627"/>
                      </a:lnTo>
                      <a:lnTo>
                        <a:pt x="2235" y="2496"/>
                      </a:lnTo>
                      <a:lnTo>
                        <a:pt x="2373" y="2353"/>
                      </a:lnTo>
                      <a:lnTo>
                        <a:pt x="2456" y="2209"/>
                      </a:lnTo>
                      <a:lnTo>
                        <a:pt x="2538" y="2026"/>
                      </a:lnTo>
                      <a:lnTo>
                        <a:pt x="2567" y="1817"/>
                      </a:lnTo>
                      <a:lnTo>
                        <a:pt x="2567" y="1530"/>
                      </a:lnTo>
                      <a:lnTo>
                        <a:pt x="2511" y="1346"/>
                      </a:lnTo>
                      <a:lnTo>
                        <a:pt x="2400" y="1150"/>
                      </a:lnTo>
                      <a:lnTo>
                        <a:pt x="2249" y="968"/>
                      </a:lnTo>
                      <a:lnTo>
                        <a:pt x="2084" y="823"/>
                      </a:lnTo>
                      <a:lnTo>
                        <a:pt x="1918" y="706"/>
                      </a:lnTo>
                      <a:lnTo>
                        <a:pt x="1683" y="601"/>
                      </a:lnTo>
                      <a:lnTo>
                        <a:pt x="1669" y="536"/>
                      </a:lnTo>
                      <a:lnTo>
                        <a:pt x="1877" y="327"/>
                      </a:lnTo>
                      <a:lnTo>
                        <a:pt x="1890" y="196"/>
                      </a:lnTo>
                      <a:lnTo>
                        <a:pt x="1656" y="327"/>
                      </a:lnTo>
                      <a:lnTo>
                        <a:pt x="1738" y="92"/>
                      </a:lnTo>
                      <a:lnTo>
                        <a:pt x="1711" y="79"/>
                      </a:lnTo>
                      <a:lnTo>
                        <a:pt x="1629" y="79"/>
                      </a:lnTo>
                      <a:lnTo>
                        <a:pt x="1491" y="236"/>
                      </a:lnTo>
                      <a:lnTo>
                        <a:pt x="1408" y="327"/>
                      </a:lnTo>
                      <a:lnTo>
                        <a:pt x="1435" y="157"/>
                      </a:lnTo>
                      <a:lnTo>
                        <a:pt x="1491" y="27"/>
                      </a:lnTo>
                      <a:lnTo>
                        <a:pt x="1449" y="0"/>
                      </a:lnTo>
                      <a:lnTo>
                        <a:pt x="1353" y="79"/>
                      </a:lnTo>
                      <a:lnTo>
                        <a:pt x="1256" y="274"/>
                      </a:lnTo>
                      <a:lnTo>
                        <a:pt x="1215" y="170"/>
                      </a:lnTo>
                      <a:lnTo>
                        <a:pt x="1132" y="131"/>
                      </a:lnTo>
                      <a:lnTo>
                        <a:pt x="1077" y="261"/>
                      </a:lnTo>
                      <a:lnTo>
                        <a:pt x="1063" y="340"/>
                      </a:lnTo>
                      <a:lnTo>
                        <a:pt x="911" y="157"/>
                      </a:lnTo>
                      <a:lnTo>
                        <a:pt x="718" y="14"/>
                      </a:lnTo>
                      <a:lnTo>
                        <a:pt x="664" y="40"/>
                      </a:lnTo>
                      <a:lnTo>
                        <a:pt x="649" y="118"/>
                      </a:lnTo>
                      <a:lnTo>
                        <a:pt x="718" y="236"/>
                      </a:lnTo>
                      <a:lnTo>
                        <a:pt x="800" y="379"/>
                      </a:lnTo>
                      <a:lnTo>
                        <a:pt x="1008" y="628"/>
                      </a:lnTo>
                      <a:lnTo>
                        <a:pt x="980" y="679"/>
                      </a:lnTo>
                      <a:lnTo>
                        <a:pt x="938" y="706"/>
                      </a:lnTo>
                      <a:lnTo>
                        <a:pt x="967" y="758"/>
                      </a:lnTo>
                      <a:lnTo>
                        <a:pt x="1146" y="823"/>
                      </a:lnTo>
                      <a:lnTo>
                        <a:pt x="1435" y="823"/>
                      </a:lnTo>
                      <a:lnTo>
                        <a:pt x="1683" y="797"/>
                      </a:lnTo>
                      <a:lnTo>
                        <a:pt x="1767" y="719"/>
                      </a:lnTo>
                      <a:lnTo>
                        <a:pt x="1711" y="693"/>
                      </a:lnTo>
                      <a:lnTo>
                        <a:pt x="1656" y="732"/>
                      </a:lnTo>
                      <a:lnTo>
                        <a:pt x="1504" y="745"/>
                      </a:lnTo>
                      <a:lnTo>
                        <a:pt x="1353" y="772"/>
                      </a:lnTo>
                      <a:lnTo>
                        <a:pt x="1187" y="745"/>
                      </a:lnTo>
                      <a:lnTo>
                        <a:pt x="1435" y="719"/>
                      </a:lnTo>
                      <a:lnTo>
                        <a:pt x="1600" y="667"/>
                      </a:lnTo>
                      <a:lnTo>
                        <a:pt x="1629" y="641"/>
                      </a:lnTo>
                      <a:lnTo>
                        <a:pt x="1560" y="614"/>
                      </a:lnTo>
                      <a:lnTo>
                        <a:pt x="1477" y="654"/>
                      </a:lnTo>
                      <a:lnTo>
                        <a:pt x="1284" y="679"/>
                      </a:lnTo>
                      <a:lnTo>
                        <a:pt x="1146" y="667"/>
                      </a:lnTo>
                      <a:lnTo>
                        <a:pt x="1077" y="641"/>
                      </a:lnTo>
                      <a:lnTo>
                        <a:pt x="1105" y="576"/>
                      </a:lnTo>
                      <a:lnTo>
                        <a:pt x="980" y="484"/>
                      </a:lnTo>
                      <a:lnTo>
                        <a:pt x="856" y="367"/>
                      </a:lnTo>
                      <a:lnTo>
                        <a:pt x="787" y="249"/>
                      </a:lnTo>
                      <a:lnTo>
                        <a:pt x="760" y="170"/>
                      </a:lnTo>
                      <a:lnTo>
                        <a:pt x="760" y="145"/>
                      </a:lnTo>
                      <a:lnTo>
                        <a:pt x="787" y="145"/>
                      </a:lnTo>
                      <a:lnTo>
                        <a:pt x="856" y="196"/>
                      </a:lnTo>
                      <a:lnTo>
                        <a:pt x="952" y="314"/>
                      </a:lnTo>
                      <a:lnTo>
                        <a:pt x="1077" y="458"/>
                      </a:lnTo>
                      <a:lnTo>
                        <a:pt x="1105" y="497"/>
                      </a:lnTo>
                      <a:lnTo>
                        <a:pt x="1159" y="470"/>
                      </a:lnTo>
                      <a:lnTo>
                        <a:pt x="1132" y="392"/>
                      </a:lnTo>
                      <a:lnTo>
                        <a:pt x="1146" y="340"/>
                      </a:lnTo>
                      <a:lnTo>
                        <a:pt x="1159" y="274"/>
                      </a:lnTo>
                      <a:lnTo>
                        <a:pt x="1187" y="274"/>
                      </a:lnTo>
                      <a:lnTo>
                        <a:pt x="1215" y="354"/>
                      </a:lnTo>
                      <a:lnTo>
                        <a:pt x="1228" y="405"/>
                      </a:lnTo>
                      <a:lnTo>
                        <a:pt x="1270" y="419"/>
                      </a:lnTo>
                      <a:lnTo>
                        <a:pt x="1326" y="301"/>
                      </a:lnTo>
                      <a:lnTo>
                        <a:pt x="1353" y="261"/>
                      </a:lnTo>
                      <a:lnTo>
                        <a:pt x="1366" y="327"/>
                      </a:lnTo>
                      <a:lnTo>
                        <a:pt x="1366" y="432"/>
                      </a:lnTo>
                      <a:lnTo>
                        <a:pt x="1408" y="458"/>
                      </a:lnTo>
                      <a:lnTo>
                        <a:pt x="1477" y="367"/>
                      </a:lnTo>
                      <a:lnTo>
                        <a:pt x="1546" y="249"/>
                      </a:lnTo>
                      <a:lnTo>
                        <a:pt x="1615" y="223"/>
                      </a:lnTo>
                      <a:lnTo>
                        <a:pt x="1615" y="236"/>
                      </a:lnTo>
                      <a:lnTo>
                        <a:pt x="1573" y="314"/>
                      </a:lnTo>
                      <a:lnTo>
                        <a:pt x="1531" y="432"/>
                      </a:lnTo>
                      <a:lnTo>
                        <a:pt x="1573" y="445"/>
                      </a:lnTo>
                      <a:lnTo>
                        <a:pt x="1794" y="301"/>
                      </a:lnTo>
                      <a:lnTo>
                        <a:pt x="1821" y="301"/>
                      </a:lnTo>
                      <a:lnTo>
                        <a:pt x="1615" y="497"/>
                      </a:lnTo>
                      <a:lnTo>
                        <a:pt x="1573" y="536"/>
                      </a:lnTo>
                      <a:lnTo>
                        <a:pt x="1560" y="601"/>
                      </a:lnTo>
                      <a:lnTo>
                        <a:pt x="1600" y="628"/>
                      </a:lnTo>
                      <a:lnTo>
                        <a:pt x="1725" y="679"/>
                      </a:lnTo>
                      <a:lnTo>
                        <a:pt x="1932" y="785"/>
                      </a:lnTo>
                      <a:lnTo>
                        <a:pt x="2070" y="888"/>
                      </a:lnTo>
                      <a:lnTo>
                        <a:pt x="2235" y="1046"/>
                      </a:lnTo>
                      <a:lnTo>
                        <a:pt x="2360" y="1215"/>
                      </a:lnTo>
                      <a:lnTo>
                        <a:pt x="2442" y="1399"/>
                      </a:lnTo>
                      <a:lnTo>
                        <a:pt x="2498" y="1634"/>
                      </a:lnTo>
                      <a:lnTo>
                        <a:pt x="2483" y="1804"/>
                      </a:lnTo>
                      <a:lnTo>
                        <a:pt x="2469" y="1986"/>
                      </a:lnTo>
                      <a:lnTo>
                        <a:pt x="2387" y="2182"/>
                      </a:lnTo>
                      <a:lnTo>
                        <a:pt x="2304" y="2326"/>
                      </a:lnTo>
                      <a:lnTo>
                        <a:pt x="2208" y="2404"/>
                      </a:lnTo>
                      <a:lnTo>
                        <a:pt x="2097" y="2509"/>
                      </a:lnTo>
                      <a:lnTo>
                        <a:pt x="1890" y="2588"/>
                      </a:lnTo>
                      <a:lnTo>
                        <a:pt x="1642" y="2653"/>
                      </a:lnTo>
                      <a:lnTo>
                        <a:pt x="1518" y="2666"/>
                      </a:lnTo>
                      <a:lnTo>
                        <a:pt x="1284" y="2666"/>
                      </a:lnTo>
                      <a:lnTo>
                        <a:pt x="1063" y="2640"/>
                      </a:lnTo>
                      <a:lnTo>
                        <a:pt x="800" y="2575"/>
                      </a:lnTo>
                      <a:lnTo>
                        <a:pt x="553" y="2470"/>
                      </a:lnTo>
                      <a:lnTo>
                        <a:pt x="359" y="2366"/>
                      </a:lnTo>
                      <a:lnTo>
                        <a:pt x="194" y="2248"/>
                      </a:lnTo>
                      <a:lnTo>
                        <a:pt x="125" y="2157"/>
                      </a:lnTo>
                      <a:lnTo>
                        <a:pt x="111" y="2064"/>
                      </a:lnTo>
                      <a:lnTo>
                        <a:pt x="84" y="1790"/>
                      </a:lnTo>
                      <a:lnTo>
                        <a:pt x="98" y="1608"/>
                      </a:lnTo>
                      <a:lnTo>
                        <a:pt x="180" y="1412"/>
                      </a:lnTo>
                      <a:lnTo>
                        <a:pt x="290" y="1190"/>
                      </a:lnTo>
                      <a:lnTo>
                        <a:pt x="484" y="994"/>
                      </a:lnTo>
                      <a:lnTo>
                        <a:pt x="664" y="772"/>
                      </a:lnTo>
                      <a:lnTo>
                        <a:pt x="829" y="654"/>
                      </a:lnTo>
                      <a:lnTo>
                        <a:pt x="925" y="576"/>
                      </a:lnTo>
                      <a:lnTo>
                        <a:pt x="898" y="51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646000" y="4748760"/>
                  <a:ext cx="236880" cy="495720"/>
                </a:xfrm>
                <a:custGeom>
                  <a:avLst/>
                  <a:gdLst/>
                  <a:ahLst/>
                  <a:rect l="l" t="t" r="r" b="b"/>
                  <a:pathLst>
                    <a:path w="524" h="849">
                      <a:moveTo>
                        <a:pt x="317" y="156"/>
                      </a:moveTo>
                      <a:lnTo>
                        <a:pt x="413" y="169"/>
                      </a:lnTo>
                      <a:lnTo>
                        <a:pt x="495" y="235"/>
                      </a:lnTo>
                      <a:lnTo>
                        <a:pt x="524" y="300"/>
                      </a:lnTo>
                      <a:lnTo>
                        <a:pt x="426" y="326"/>
                      </a:lnTo>
                      <a:lnTo>
                        <a:pt x="371" y="273"/>
                      </a:lnTo>
                      <a:lnTo>
                        <a:pt x="303" y="247"/>
                      </a:lnTo>
                      <a:lnTo>
                        <a:pt x="234" y="235"/>
                      </a:lnTo>
                      <a:lnTo>
                        <a:pt x="123" y="260"/>
                      </a:lnTo>
                      <a:lnTo>
                        <a:pt x="96" y="326"/>
                      </a:lnTo>
                      <a:lnTo>
                        <a:pt x="151" y="378"/>
                      </a:lnTo>
                      <a:lnTo>
                        <a:pt x="288" y="417"/>
                      </a:lnTo>
                      <a:lnTo>
                        <a:pt x="426" y="417"/>
                      </a:lnTo>
                      <a:lnTo>
                        <a:pt x="468" y="456"/>
                      </a:lnTo>
                      <a:lnTo>
                        <a:pt x="495" y="522"/>
                      </a:lnTo>
                      <a:lnTo>
                        <a:pt x="482" y="600"/>
                      </a:lnTo>
                      <a:lnTo>
                        <a:pt x="399" y="653"/>
                      </a:lnTo>
                      <a:lnTo>
                        <a:pt x="303" y="653"/>
                      </a:lnTo>
                      <a:lnTo>
                        <a:pt x="234" y="653"/>
                      </a:lnTo>
                      <a:lnTo>
                        <a:pt x="206" y="718"/>
                      </a:lnTo>
                      <a:lnTo>
                        <a:pt x="219" y="835"/>
                      </a:lnTo>
                      <a:lnTo>
                        <a:pt x="123" y="849"/>
                      </a:lnTo>
                      <a:lnTo>
                        <a:pt x="109" y="757"/>
                      </a:lnTo>
                      <a:lnTo>
                        <a:pt x="137" y="653"/>
                      </a:lnTo>
                      <a:lnTo>
                        <a:pt x="54" y="613"/>
                      </a:lnTo>
                      <a:lnTo>
                        <a:pt x="0" y="574"/>
                      </a:lnTo>
                      <a:lnTo>
                        <a:pt x="82" y="496"/>
                      </a:lnTo>
                      <a:lnTo>
                        <a:pt x="123" y="548"/>
                      </a:lnTo>
                      <a:lnTo>
                        <a:pt x="192" y="560"/>
                      </a:lnTo>
                      <a:lnTo>
                        <a:pt x="288" y="574"/>
                      </a:lnTo>
                      <a:lnTo>
                        <a:pt x="371" y="574"/>
                      </a:lnTo>
                      <a:lnTo>
                        <a:pt x="413" y="560"/>
                      </a:lnTo>
                      <a:lnTo>
                        <a:pt x="386" y="509"/>
                      </a:lnTo>
                      <a:lnTo>
                        <a:pt x="317" y="496"/>
                      </a:lnTo>
                      <a:lnTo>
                        <a:pt x="192" y="469"/>
                      </a:lnTo>
                      <a:lnTo>
                        <a:pt x="68" y="431"/>
                      </a:lnTo>
                      <a:lnTo>
                        <a:pt x="27" y="365"/>
                      </a:lnTo>
                      <a:lnTo>
                        <a:pt x="13" y="287"/>
                      </a:lnTo>
                      <a:lnTo>
                        <a:pt x="82" y="208"/>
                      </a:lnTo>
                      <a:lnTo>
                        <a:pt x="178" y="143"/>
                      </a:lnTo>
                      <a:lnTo>
                        <a:pt x="247" y="143"/>
                      </a:lnTo>
                      <a:lnTo>
                        <a:pt x="275" y="0"/>
                      </a:lnTo>
                      <a:lnTo>
                        <a:pt x="357" y="13"/>
                      </a:lnTo>
                      <a:lnTo>
                        <a:pt x="317" y="15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426760" y="4724280"/>
                  <a:ext cx="101160" cy="177120"/>
                </a:xfrm>
                <a:custGeom>
                  <a:avLst/>
                  <a:gdLst/>
                  <a:ahLst/>
                  <a:rect l="l" t="t" r="r" b="b"/>
                  <a:pathLst>
                    <a:path w="220" h="301">
                      <a:moveTo>
                        <a:pt x="0" y="236"/>
                      </a:moveTo>
                      <a:lnTo>
                        <a:pt x="96" y="78"/>
                      </a:lnTo>
                      <a:lnTo>
                        <a:pt x="220" y="0"/>
                      </a:lnTo>
                      <a:lnTo>
                        <a:pt x="220" y="40"/>
                      </a:lnTo>
                      <a:lnTo>
                        <a:pt x="136" y="131"/>
                      </a:lnTo>
                      <a:lnTo>
                        <a:pt x="40" y="301"/>
                      </a:lnTo>
                      <a:lnTo>
                        <a:pt x="0" y="23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094920" y="5167800"/>
                  <a:ext cx="63360" cy="122760"/>
                </a:xfrm>
                <a:custGeom>
                  <a:avLst/>
                  <a:gdLst/>
                  <a:ahLst/>
                  <a:rect l="l" t="t" r="r" b="b"/>
                  <a:pathLst>
                    <a:path w="138" h="209">
                      <a:moveTo>
                        <a:pt x="138" y="0"/>
                      </a:moveTo>
                      <a:lnTo>
                        <a:pt x="42" y="130"/>
                      </a:lnTo>
                      <a:lnTo>
                        <a:pt x="0" y="182"/>
                      </a:lnTo>
                      <a:lnTo>
                        <a:pt x="55" y="209"/>
                      </a:lnTo>
                      <a:lnTo>
                        <a:pt x="96" y="182"/>
                      </a:lnTo>
                      <a:lnTo>
                        <a:pt x="138" y="91"/>
                      </a:lnTo>
                      <a:lnTo>
                        <a:pt x="138" y="51"/>
                      </a:lnTo>
                      <a:lnTo>
                        <a:pt x="138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7" name=""/>
            <p:cNvSpPr/>
            <p:nvPr/>
          </p:nvSpPr>
          <p:spPr>
            <a:xfrm>
              <a:off x="628560" y="5942160"/>
              <a:ext cx="363852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Customer collabora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2280" y="3505320"/>
              <a:ext cx="4343400" cy="2971800"/>
            </a:xfrm>
            <a:prstGeom prst="rect">
              <a:avLst/>
            </a:prstGeom>
            <a:noFill/>
            <a:ln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572000" y="3505320"/>
            <a:ext cx="4495680" cy="3033720"/>
            <a:chOff x="4572000" y="3505320"/>
            <a:chExt cx="4495680" cy="3033720"/>
          </a:xfrm>
        </p:grpSpPr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4876920" y="4038480"/>
              <a:ext cx="184788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4952880" y="5972040"/>
              <a:ext cx="340992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Responding to chang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48520" y="3581280"/>
              <a:ext cx="2743200" cy="914400"/>
            </a:xfrm>
            <a:prstGeom prst="cloudCallout">
              <a:avLst>
                <a:gd name="adj1" fmla="val -61518"/>
                <a:gd name="adj2" fmla="val 46875"/>
              </a:avLst>
            </a:pr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5400000"/>
            </a:gra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292929"/>
                  </a:solidFill>
                  <a:latin typeface="Arial Narrow"/>
                </a:rPr>
                <a:t>   </a:t>
              </a:r>
              <a:r>
                <a:rPr b="1" lang="pl-PL" sz="2400" spc="-1" strike="noStrike">
                  <a:solidFill>
                    <a:srgbClr val="292929"/>
                  </a:solidFill>
                  <a:latin typeface="Arial Narrow"/>
                </a:rPr>
                <a:t>Tommorow or never!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0" y="3505320"/>
              <a:ext cx="4495680" cy="2971800"/>
            </a:xfrm>
            <a:prstGeom prst="rect">
              <a:avLst/>
            </a:prstGeom>
            <a:noFill/>
            <a:ln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4572000" y="685800"/>
            <a:ext cx="4495680" cy="2743200"/>
            <a:chOff x="4572000" y="685800"/>
            <a:chExt cx="4495680" cy="2743200"/>
          </a:xfrm>
        </p:grpSpPr>
        <p:grpSp>
          <p:nvGrpSpPr>
            <p:cNvPr id="235" name=""/>
            <p:cNvGrpSpPr/>
            <p:nvPr/>
          </p:nvGrpSpPr>
          <p:grpSpPr>
            <a:xfrm>
              <a:off x="5950080" y="685800"/>
              <a:ext cx="2050200" cy="2208960"/>
              <a:chOff x="5950080" y="685800"/>
              <a:chExt cx="2050200" cy="2208960"/>
            </a:xfrm>
          </p:grpSpPr>
          <p:sp>
            <p:nvSpPr>
              <p:cNvPr id="236" name=""/>
              <p:cNvSpPr/>
              <p:nvPr/>
            </p:nvSpPr>
            <p:spPr>
              <a:xfrm>
                <a:off x="5970240" y="713160"/>
                <a:ext cx="2021040" cy="2156400"/>
              </a:xfrm>
              <a:custGeom>
                <a:avLst/>
                <a:gdLst/>
                <a:ahLst/>
                <a:rect l="l" t="t" r="r" b="b"/>
                <a:pathLst>
                  <a:path w="1765" h="1891">
                    <a:moveTo>
                      <a:pt x="332" y="1263"/>
                    </a:moveTo>
                    <a:lnTo>
                      <a:pt x="196" y="1385"/>
                    </a:lnTo>
                    <a:lnTo>
                      <a:pt x="26" y="1533"/>
                    </a:lnTo>
                    <a:lnTo>
                      <a:pt x="26" y="1659"/>
                    </a:lnTo>
                    <a:lnTo>
                      <a:pt x="54" y="1891"/>
                    </a:lnTo>
                    <a:lnTo>
                      <a:pt x="340" y="1881"/>
                    </a:lnTo>
                    <a:lnTo>
                      <a:pt x="660" y="1847"/>
                    </a:lnTo>
                    <a:lnTo>
                      <a:pt x="1135" y="1837"/>
                    </a:lnTo>
                    <a:lnTo>
                      <a:pt x="1493" y="1847"/>
                    </a:lnTo>
                    <a:lnTo>
                      <a:pt x="1617" y="1617"/>
                    </a:lnTo>
                    <a:lnTo>
                      <a:pt x="1765" y="1169"/>
                    </a:lnTo>
                    <a:lnTo>
                      <a:pt x="1737" y="1034"/>
                    </a:lnTo>
                    <a:lnTo>
                      <a:pt x="1683" y="980"/>
                    </a:lnTo>
                    <a:lnTo>
                      <a:pt x="1523" y="990"/>
                    </a:lnTo>
                    <a:lnTo>
                      <a:pt x="1597" y="650"/>
                    </a:lnTo>
                    <a:lnTo>
                      <a:pt x="1607" y="544"/>
                    </a:lnTo>
                    <a:lnTo>
                      <a:pt x="1569" y="280"/>
                    </a:lnTo>
                    <a:lnTo>
                      <a:pt x="1531" y="84"/>
                    </a:lnTo>
                    <a:lnTo>
                      <a:pt x="1465" y="0"/>
                    </a:lnTo>
                    <a:lnTo>
                      <a:pt x="1415" y="0"/>
                    </a:lnTo>
                    <a:lnTo>
                      <a:pt x="1285" y="22"/>
                    </a:lnTo>
                    <a:lnTo>
                      <a:pt x="1077" y="32"/>
                    </a:lnTo>
                    <a:lnTo>
                      <a:pt x="941" y="12"/>
                    </a:lnTo>
                    <a:lnTo>
                      <a:pt x="794" y="4"/>
                    </a:lnTo>
                    <a:lnTo>
                      <a:pt x="738" y="18"/>
                    </a:lnTo>
                    <a:lnTo>
                      <a:pt x="612" y="76"/>
                    </a:lnTo>
                    <a:lnTo>
                      <a:pt x="426" y="126"/>
                    </a:lnTo>
                    <a:lnTo>
                      <a:pt x="190" y="208"/>
                    </a:lnTo>
                    <a:lnTo>
                      <a:pt x="100" y="260"/>
                    </a:lnTo>
                    <a:lnTo>
                      <a:pt x="18" y="348"/>
                    </a:lnTo>
                    <a:lnTo>
                      <a:pt x="0" y="478"/>
                    </a:lnTo>
                    <a:lnTo>
                      <a:pt x="0" y="694"/>
                    </a:lnTo>
                    <a:lnTo>
                      <a:pt x="10" y="950"/>
                    </a:lnTo>
                    <a:lnTo>
                      <a:pt x="28" y="1100"/>
                    </a:lnTo>
                    <a:lnTo>
                      <a:pt x="64" y="1187"/>
                    </a:lnTo>
                    <a:lnTo>
                      <a:pt x="120" y="1231"/>
                    </a:lnTo>
                    <a:lnTo>
                      <a:pt x="186" y="1249"/>
                    </a:lnTo>
                    <a:lnTo>
                      <a:pt x="332" y="1263"/>
                    </a:lnTo>
                    <a:close/>
                  </a:path>
                </a:pathLst>
              </a:custGeom>
              <a:solidFill>
                <a:srgbClr val="c3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164640" y="1103400"/>
                <a:ext cx="1183320" cy="892080"/>
              </a:xfrm>
              <a:custGeom>
                <a:avLst/>
                <a:gdLst/>
                <a:ahLst/>
                <a:rect l="l" t="t" r="r" b="b"/>
                <a:pathLst>
                  <a:path w="1033" h="784">
                    <a:moveTo>
                      <a:pt x="6" y="214"/>
                    </a:moveTo>
                    <a:lnTo>
                      <a:pt x="16" y="70"/>
                    </a:lnTo>
                    <a:lnTo>
                      <a:pt x="38" y="28"/>
                    </a:lnTo>
                    <a:lnTo>
                      <a:pt x="102" y="12"/>
                    </a:lnTo>
                    <a:lnTo>
                      <a:pt x="358" y="4"/>
                    </a:lnTo>
                    <a:lnTo>
                      <a:pt x="672" y="0"/>
                    </a:lnTo>
                    <a:lnTo>
                      <a:pt x="855" y="4"/>
                    </a:lnTo>
                    <a:lnTo>
                      <a:pt x="899" y="32"/>
                    </a:lnTo>
                    <a:lnTo>
                      <a:pt x="931" y="86"/>
                    </a:lnTo>
                    <a:lnTo>
                      <a:pt x="979" y="318"/>
                    </a:lnTo>
                    <a:lnTo>
                      <a:pt x="1023" y="574"/>
                    </a:lnTo>
                    <a:lnTo>
                      <a:pt x="1033" y="736"/>
                    </a:lnTo>
                    <a:lnTo>
                      <a:pt x="1017" y="764"/>
                    </a:lnTo>
                    <a:lnTo>
                      <a:pt x="961" y="784"/>
                    </a:lnTo>
                    <a:lnTo>
                      <a:pt x="692" y="778"/>
                    </a:lnTo>
                    <a:lnTo>
                      <a:pt x="276" y="758"/>
                    </a:lnTo>
                    <a:lnTo>
                      <a:pt x="72" y="740"/>
                    </a:lnTo>
                    <a:lnTo>
                      <a:pt x="38" y="698"/>
                    </a:lnTo>
                    <a:lnTo>
                      <a:pt x="20" y="616"/>
                    </a:lnTo>
                    <a:lnTo>
                      <a:pt x="0" y="414"/>
                    </a:lnTo>
                    <a:lnTo>
                      <a:pt x="6" y="21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5950080" y="685800"/>
                <a:ext cx="2050200" cy="2208960"/>
                <a:chOff x="5950080" y="685800"/>
                <a:chExt cx="2050200" cy="220896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5968080" y="1799280"/>
                  <a:ext cx="2032200" cy="1095480"/>
                </a:xfrm>
                <a:custGeom>
                  <a:avLst/>
                  <a:gdLst/>
                  <a:ahLst/>
                  <a:rect l="l" t="t" r="r" b="b"/>
                  <a:pathLst>
                    <a:path w="1775" h="959">
                      <a:moveTo>
                        <a:pt x="0" y="579"/>
                      </a:moveTo>
                      <a:lnTo>
                        <a:pt x="220" y="389"/>
                      </a:lnTo>
                      <a:lnTo>
                        <a:pt x="226" y="433"/>
                      </a:lnTo>
                      <a:lnTo>
                        <a:pt x="76" y="569"/>
                      </a:lnTo>
                      <a:lnTo>
                        <a:pt x="340" y="557"/>
                      </a:lnTo>
                      <a:lnTo>
                        <a:pt x="898" y="559"/>
                      </a:lnTo>
                      <a:lnTo>
                        <a:pt x="1193" y="537"/>
                      </a:lnTo>
                      <a:lnTo>
                        <a:pt x="1379" y="503"/>
                      </a:lnTo>
                      <a:lnTo>
                        <a:pt x="1425" y="491"/>
                      </a:lnTo>
                      <a:lnTo>
                        <a:pt x="1643" y="54"/>
                      </a:lnTo>
                      <a:lnTo>
                        <a:pt x="1541" y="26"/>
                      </a:lnTo>
                      <a:lnTo>
                        <a:pt x="1693" y="0"/>
                      </a:lnTo>
                      <a:lnTo>
                        <a:pt x="1749" y="48"/>
                      </a:lnTo>
                      <a:lnTo>
                        <a:pt x="1775" y="209"/>
                      </a:lnTo>
                      <a:lnTo>
                        <a:pt x="1731" y="341"/>
                      </a:lnTo>
                      <a:lnTo>
                        <a:pt x="1589" y="769"/>
                      </a:lnTo>
                      <a:lnTo>
                        <a:pt x="1523" y="901"/>
                      </a:lnTo>
                      <a:lnTo>
                        <a:pt x="1463" y="917"/>
                      </a:lnTo>
                      <a:lnTo>
                        <a:pt x="1013" y="909"/>
                      </a:lnTo>
                      <a:lnTo>
                        <a:pt x="542" y="921"/>
                      </a:lnTo>
                      <a:lnTo>
                        <a:pt x="94" y="955"/>
                      </a:lnTo>
                      <a:lnTo>
                        <a:pt x="28" y="959"/>
                      </a:lnTo>
                      <a:lnTo>
                        <a:pt x="22" y="833"/>
                      </a:lnTo>
                      <a:lnTo>
                        <a:pt x="12" y="709"/>
                      </a:lnTo>
                      <a:lnTo>
                        <a:pt x="10" y="643"/>
                      </a:lnTo>
                      <a:lnTo>
                        <a:pt x="48" y="683"/>
                      </a:lnTo>
                      <a:lnTo>
                        <a:pt x="56" y="785"/>
                      </a:lnTo>
                      <a:lnTo>
                        <a:pt x="70" y="893"/>
                      </a:lnTo>
                      <a:lnTo>
                        <a:pt x="198" y="911"/>
                      </a:lnTo>
                      <a:lnTo>
                        <a:pt x="492" y="883"/>
                      </a:lnTo>
                      <a:lnTo>
                        <a:pt x="740" y="863"/>
                      </a:lnTo>
                      <a:lnTo>
                        <a:pt x="947" y="863"/>
                      </a:lnTo>
                      <a:lnTo>
                        <a:pt x="1259" y="863"/>
                      </a:lnTo>
                      <a:lnTo>
                        <a:pt x="1457" y="861"/>
                      </a:lnTo>
                      <a:lnTo>
                        <a:pt x="1463" y="803"/>
                      </a:lnTo>
                      <a:lnTo>
                        <a:pt x="1445" y="681"/>
                      </a:lnTo>
                      <a:lnTo>
                        <a:pt x="1429" y="547"/>
                      </a:lnTo>
                      <a:lnTo>
                        <a:pt x="1457" y="579"/>
                      </a:lnTo>
                      <a:lnTo>
                        <a:pt x="1485" y="727"/>
                      </a:lnTo>
                      <a:lnTo>
                        <a:pt x="1511" y="803"/>
                      </a:lnTo>
                      <a:lnTo>
                        <a:pt x="1541" y="765"/>
                      </a:lnTo>
                      <a:lnTo>
                        <a:pt x="1595" y="617"/>
                      </a:lnTo>
                      <a:lnTo>
                        <a:pt x="1675" y="407"/>
                      </a:lnTo>
                      <a:lnTo>
                        <a:pt x="1731" y="237"/>
                      </a:lnTo>
                      <a:lnTo>
                        <a:pt x="1741" y="186"/>
                      </a:lnTo>
                      <a:lnTo>
                        <a:pt x="1713" y="66"/>
                      </a:lnTo>
                      <a:lnTo>
                        <a:pt x="1683" y="58"/>
                      </a:lnTo>
                      <a:lnTo>
                        <a:pt x="1623" y="199"/>
                      </a:lnTo>
                      <a:lnTo>
                        <a:pt x="1519" y="385"/>
                      </a:lnTo>
                      <a:lnTo>
                        <a:pt x="1445" y="529"/>
                      </a:lnTo>
                      <a:lnTo>
                        <a:pt x="1369" y="551"/>
                      </a:lnTo>
                      <a:lnTo>
                        <a:pt x="1097" y="585"/>
                      </a:lnTo>
                      <a:lnTo>
                        <a:pt x="778" y="605"/>
                      </a:lnTo>
                      <a:lnTo>
                        <a:pt x="462" y="605"/>
                      </a:lnTo>
                      <a:lnTo>
                        <a:pt x="104" y="607"/>
                      </a:lnTo>
                      <a:lnTo>
                        <a:pt x="0" y="57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6343200" y="2171160"/>
                  <a:ext cx="1050840" cy="239400"/>
                </a:xfrm>
                <a:custGeom>
                  <a:avLst/>
                  <a:gdLst/>
                  <a:ahLst/>
                  <a:rect l="l" t="t" r="r" b="b"/>
                  <a:pathLst>
                    <a:path w="917" h="210">
                      <a:moveTo>
                        <a:pt x="22" y="38"/>
                      </a:moveTo>
                      <a:lnTo>
                        <a:pt x="86" y="0"/>
                      </a:lnTo>
                      <a:lnTo>
                        <a:pt x="118" y="10"/>
                      </a:lnTo>
                      <a:lnTo>
                        <a:pt x="98" y="58"/>
                      </a:lnTo>
                      <a:lnTo>
                        <a:pt x="50" y="88"/>
                      </a:lnTo>
                      <a:lnTo>
                        <a:pt x="142" y="132"/>
                      </a:lnTo>
                      <a:lnTo>
                        <a:pt x="280" y="138"/>
                      </a:lnTo>
                      <a:lnTo>
                        <a:pt x="400" y="128"/>
                      </a:lnTo>
                      <a:lnTo>
                        <a:pt x="486" y="118"/>
                      </a:lnTo>
                      <a:lnTo>
                        <a:pt x="647" y="102"/>
                      </a:lnTo>
                      <a:lnTo>
                        <a:pt x="751" y="92"/>
                      </a:lnTo>
                      <a:lnTo>
                        <a:pt x="819" y="72"/>
                      </a:lnTo>
                      <a:lnTo>
                        <a:pt x="885" y="30"/>
                      </a:lnTo>
                      <a:lnTo>
                        <a:pt x="879" y="0"/>
                      </a:lnTo>
                      <a:lnTo>
                        <a:pt x="917" y="10"/>
                      </a:lnTo>
                      <a:lnTo>
                        <a:pt x="907" y="112"/>
                      </a:lnTo>
                      <a:lnTo>
                        <a:pt x="809" y="160"/>
                      </a:lnTo>
                      <a:lnTo>
                        <a:pt x="594" y="172"/>
                      </a:lnTo>
                      <a:lnTo>
                        <a:pt x="374" y="194"/>
                      </a:lnTo>
                      <a:lnTo>
                        <a:pt x="248" y="210"/>
                      </a:lnTo>
                      <a:lnTo>
                        <a:pt x="96" y="172"/>
                      </a:lnTo>
                      <a:lnTo>
                        <a:pt x="22" y="150"/>
                      </a:lnTo>
                      <a:lnTo>
                        <a:pt x="0" y="92"/>
                      </a:lnTo>
                      <a:lnTo>
                        <a:pt x="22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180840" y="2575440"/>
                  <a:ext cx="109800" cy="95400"/>
                </a:xfrm>
                <a:custGeom>
                  <a:avLst/>
                  <a:gdLst/>
                  <a:ahLst/>
                  <a:rect l="l" t="t" r="r" b="b"/>
                  <a:pathLst>
                    <a:path w="96" h="84">
                      <a:moveTo>
                        <a:pt x="4" y="4"/>
                      </a:moveTo>
                      <a:lnTo>
                        <a:pt x="92" y="0"/>
                      </a:lnTo>
                      <a:lnTo>
                        <a:pt x="96" y="84"/>
                      </a:lnTo>
                      <a:lnTo>
                        <a:pt x="0" y="84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384960" y="2564280"/>
                  <a:ext cx="109800" cy="95400"/>
                </a:xfrm>
                <a:custGeom>
                  <a:avLst/>
                  <a:gdLst/>
                  <a:ahLst/>
                  <a:rect l="l" t="t" r="r" b="b"/>
                  <a:pathLst>
                    <a:path w="96" h="84">
                      <a:moveTo>
                        <a:pt x="4" y="4"/>
                      </a:moveTo>
                      <a:lnTo>
                        <a:pt x="92" y="0"/>
                      </a:lnTo>
                      <a:lnTo>
                        <a:pt x="96" y="84"/>
                      </a:lnTo>
                      <a:lnTo>
                        <a:pt x="0" y="84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050600" y="2534040"/>
                  <a:ext cx="446040" cy="111600"/>
                </a:xfrm>
                <a:custGeom>
                  <a:avLst/>
                  <a:gdLst/>
                  <a:ahLst/>
                  <a:rect l="l" t="t" r="r" b="b"/>
                  <a:pathLst>
                    <a:path w="390" h="98">
                      <a:moveTo>
                        <a:pt x="0" y="30"/>
                      </a:moveTo>
                      <a:lnTo>
                        <a:pt x="380" y="0"/>
                      </a:lnTo>
                      <a:lnTo>
                        <a:pt x="390" y="64"/>
                      </a:lnTo>
                      <a:lnTo>
                        <a:pt x="0" y="98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950080" y="685800"/>
                  <a:ext cx="1878480" cy="1472040"/>
                </a:xfrm>
                <a:custGeom>
                  <a:avLst/>
                  <a:gdLst/>
                  <a:ahLst/>
                  <a:rect l="l" t="t" r="r" b="b"/>
                  <a:pathLst>
                    <a:path w="1641" h="1291">
                      <a:moveTo>
                        <a:pt x="138" y="1231"/>
                      </a:moveTo>
                      <a:lnTo>
                        <a:pt x="92" y="1183"/>
                      </a:lnTo>
                      <a:lnTo>
                        <a:pt x="64" y="1102"/>
                      </a:lnTo>
                      <a:lnTo>
                        <a:pt x="54" y="920"/>
                      </a:lnTo>
                      <a:lnTo>
                        <a:pt x="54" y="618"/>
                      </a:lnTo>
                      <a:lnTo>
                        <a:pt x="64" y="390"/>
                      </a:lnTo>
                      <a:lnTo>
                        <a:pt x="92" y="338"/>
                      </a:lnTo>
                      <a:lnTo>
                        <a:pt x="142" y="272"/>
                      </a:lnTo>
                      <a:lnTo>
                        <a:pt x="264" y="224"/>
                      </a:lnTo>
                      <a:lnTo>
                        <a:pt x="480" y="160"/>
                      </a:lnTo>
                      <a:lnTo>
                        <a:pt x="658" y="114"/>
                      </a:lnTo>
                      <a:lnTo>
                        <a:pt x="738" y="66"/>
                      </a:lnTo>
                      <a:lnTo>
                        <a:pt x="880" y="54"/>
                      </a:lnTo>
                      <a:lnTo>
                        <a:pt x="1131" y="76"/>
                      </a:lnTo>
                      <a:lnTo>
                        <a:pt x="1339" y="64"/>
                      </a:lnTo>
                      <a:lnTo>
                        <a:pt x="1427" y="44"/>
                      </a:lnTo>
                      <a:lnTo>
                        <a:pt x="1499" y="64"/>
                      </a:lnTo>
                      <a:lnTo>
                        <a:pt x="1547" y="190"/>
                      </a:lnTo>
                      <a:lnTo>
                        <a:pt x="1577" y="420"/>
                      </a:lnTo>
                      <a:lnTo>
                        <a:pt x="1607" y="602"/>
                      </a:lnTo>
                      <a:lnTo>
                        <a:pt x="1593" y="686"/>
                      </a:lnTo>
                      <a:lnTo>
                        <a:pt x="1537" y="892"/>
                      </a:lnTo>
                      <a:lnTo>
                        <a:pt x="1465" y="1100"/>
                      </a:lnTo>
                      <a:lnTo>
                        <a:pt x="1417" y="1177"/>
                      </a:lnTo>
                      <a:lnTo>
                        <a:pt x="1385" y="1215"/>
                      </a:lnTo>
                      <a:lnTo>
                        <a:pt x="1433" y="1243"/>
                      </a:lnTo>
                      <a:lnTo>
                        <a:pt x="1483" y="1156"/>
                      </a:lnTo>
                      <a:lnTo>
                        <a:pt x="1559" y="970"/>
                      </a:lnTo>
                      <a:lnTo>
                        <a:pt x="1615" y="772"/>
                      </a:lnTo>
                      <a:lnTo>
                        <a:pt x="1635" y="674"/>
                      </a:lnTo>
                      <a:lnTo>
                        <a:pt x="1641" y="582"/>
                      </a:lnTo>
                      <a:lnTo>
                        <a:pt x="1623" y="428"/>
                      </a:lnTo>
                      <a:lnTo>
                        <a:pt x="1593" y="198"/>
                      </a:lnTo>
                      <a:lnTo>
                        <a:pt x="1549" y="72"/>
                      </a:lnTo>
                      <a:lnTo>
                        <a:pt x="1509" y="16"/>
                      </a:lnTo>
                      <a:lnTo>
                        <a:pt x="1443" y="0"/>
                      </a:lnTo>
                      <a:lnTo>
                        <a:pt x="1357" y="26"/>
                      </a:lnTo>
                      <a:lnTo>
                        <a:pt x="1229" y="34"/>
                      </a:lnTo>
                      <a:lnTo>
                        <a:pt x="1065" y="34"/>
                      </a:lnTo>
                      <a:lnTo>
                        <a:pt x="896" y="10"/>
                      </a:lnTo>
                      <a:lnTo>
                        <a:pt x="782" y="16"/>
                      </a:lnTo>
                      <a:lnTo>
                        <a:pt x="724" y="38"/>
                      </a:lnTo>
                      <a:lnTo>
                        <a:pt x="596" y="100"/>
                      </a:lnTo>
                      <a:lnTo>
                        <a:pt x="350" y="168"/>
                      </a:lnTo>
                      <a:lnTo>
                        <a:pt x="114" y="246"/>
                      </a:lnTo>
                      <a:lnTo>
                        <a:pt x="48" y="328"/>
                      </a:lnTo>
                      <a:lnTo>
                        <a:pt x="6" y="438"/>
                      </a:lnTo>
                      <a:lnTo>
                        <a:pt x="0" y="658"/>
                      </a:lnTo>
                      <a:lnTo>
                        <a:pt x="10" y="866"/>
                      </a:lnTo>
                      <a:lnTo>
                        <a:pt x="18" y="1080"/>
                      </a:lnTo>
                      <a:lnTo>
                        <a:pt x="56" y="1203"/>
                      </a:lnTo>
                      <a:lnTo>
                        <a:pt x="94" y="1269"/>
                      </a:lnTo>
                      <a:lnTo>
                        <a:pt x="160" y="1291"/>
                      </a:lnTo>
                      <a:lnTo>
                        <a:pt x="198" y="1279"/>
                      </a:lnTo>
                      <a:lnTo>
                        <a:pt x="138" y="12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076080" y="713160"/>
                  <a:ext cx="1617480" cy="1467360"/>
                </a:xfrm>
                <a:custGeom>
                  <a:avLst/>
                  <a:gdLst/>
                  <a:ahLst/>
                  <a:rect l="l" t="t" r="r" b="b"/>
                  <a:pathLst>
                    <a:path w="1413" h="1287">
                      <a:moveTo>
                        <a:pt x="22" y="1221"/>
                      </a:moveTo>
                      <a:lnTo>
                        <a:pt x="258" y="1237"/>
                      </a:lnTo>
                      <a:lnTo>
                        <a:pt x="588" y="1245"/>
                      </a:lnTo>
                      <a:lnTo>
                        <a:pt x="851" y="1245"/>
                      </a:lnTo>
                      <a:lnTo>
                        <a:pt x="1087" y="1217"/>
                      </a:lnTo>
                      <a:lnTo>
                        <a:pt x="1243" y="1193"/>
                      </a:lnTo>
                      <a:lnTo>
                        <a:pt x="1287" y="1171"/>
                      </a:lnTo>
                      <a:lnTo>
                        <a:pt x="1287" y="1058"/>
                      </a:lnTo>
                      <a:lnTo>
                        <a:pt x="1229" y="754"/>
                      </a:lnTo>
                      <a:lnTo>
                        <a:pt x="1163" y="386"/>
                      </a:lnTo>
                      <a:lnTo>
                        <a:pt x="1129" y="252"/>
                      </a:lnTo>
                      <a:lnTo>
                        <a:pt x="1097" y="202"/>
                      </a:lnTo>
                      <a:lnTo>
                        <a:pt x="692" y="246"/>
                      </a:lnTo>
                      <a:lnTo>
                        <a:pt x="294" y="256"/>
                      </a:lnTo>
                      <a:lnTo>
                        <a:pt x="76" y="262"/>
                      </a:lnTo>
                      <a:lnTo>
                        <a:pt x="0" y="272"/>
                      </a:lnTo>
                      <a:lnTo>
                        <a:pt x="42" y="218"/>
                      </a:lnTo>
                      <a:lnTo>
                        <a:pt x="136" y="228"/>
                      </a:lnTo>
                      <a:lnTo>
                        <a:pt x="408" y="218"/>
                      </a:lnTo>
                      <a:lnTo>
                        <a:pt x="666" y="202"/>
                      </a:lnTo>
                      <a:lnTo>
                        <a:pt x="893" y="184"/>
                      </a:lnTo>
                      <a:lnTo>
                        <a:pt x="1111" y="164"/>
                      </a:lnTo>
                      <a:lnTo>
                        <a:pt x="1281" y="86"/>
                      </a:lnTo>
                      <a:lnTo>
                        <a:pt x="1375" y="0"/>
                      </a:lnTo>
                      <a:lnTo>
                        <a:pt x="1413" y="42"/>
                      </a:lnTo>
                      <a:lnTo>
                        <a:pt x="1325" y="94"/>
                      </a:lnTo>
                      <a:lnTo>
                        <a:pt x="1195" y="180"/>
                      </a:lnTo>
                      <a:lnTo>
                        <a:pt x="1155" y="208"/>
                      </a:lnTo>
                      <a:lnTo>
                        <a:pt x="1201" y="404"/>
                      </a:lnTo>
                      <a:lnTo>
                        <a:pt x="1239" y="594"/>
                      </a:lnTo>
                      <a:lnTo>
                        <a:pt x="1271" y="768"/>
                      </a:lnTo>
                      <a:lnTo>
                        <a:pt x="1299" y="934"/>
                      </a:lnTo>
                      <a:lnTo>
                        <a:pt x="1325" y="1058"/>
                      </a:lnTo>
                      <a:lnTo>
                        <a:pt x="1337" y="1163"/>
                      </a:lnTo>
                      <a:lnTo>
                        <a:pt x="1319" y="1221"/>
                      </a:lnTo>
                      <a:lnTo>
                        <a:pt x="1139" y="1265"/>
                      </a:lnTo>
                      <a:lnTo>
                        <a:pt x="824" y="1287"/>
                      </a:lnTo>
                      <a:lnTo>
                        <a:pt x="492" y="1275"/>
                      </a:lnTo>
                      <a:lnTo>
                        <a:pt x="250" y="1275"/>
                      </a:lnTo>
                      <a:lnTo>
                        <a:pt x="50" y="1269"/>
                      </a:lnTo>
                      <a:lnTo>
                        <a:pt x="22" y="12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256440" y="1082880"/>
                  <a:ext cx="1116720" cy="937440"/>
                </a:xfrm>
                <a:custGeom>
                  <a:avLst/>
                  <a:gdLst/>
                  <a:ahLst/>
                  <a:rect l="l" t="t" r="r" b="b"/>
                  <a:pathLst>
                    <a:path w="975" h="824">
                      <a:moveTo>
                        <a:pt x="0" y="22"/>
                      </a:moveTo>
                      <a:lnTo>
                        <a:pt x="324" y="10"/>
                      </a:lnTo>
                      <a:lnTo>
                        <a:pt x="546" y="0"/>
                      </a:lnTo>
                      <a:lnTo>
                        <a:pt x="793" y="4"/>
                      </a:lnTo>
                      <a:lnTo>
                        <a:pt x="831" y="32"/>
                      </a:lnTo>
                      <a:lnTo>
                        <a:pt x="861" y="76"/>
                      </a:lnTo>
                      <a:lnTo>
                        <a:pt x="915" y="308"/>
                      </a:lnTo>
                      <a:lnTo>
                        <a:pt x="955" y="572"/>
                      </a:lnTo>
                      <a:lnTo>
                        <a:pt x="975" y="754"/>
                      </a:lnTo>
                      <a:lnTo>
                        <a:pt x="955" y="812"/>
                      </a:lnTo>
                      <a:lnTo>
                        <a:pt x="905" y="824"/>
                      </a:lnTo>
                      <a:lnTo>
                        <a:pt x="620" y="792"/>
                      </a:lnTo>
                      <a:lnTo>
                        <a:pt x="917" y="766"/>
                      </a:lnTo>
                      <a:lnTo>
                        <a:pt x="933" y="758"/>
                      </a:lnTo>
                      <a:lnTo>
                        <a:pt x="927" y="634"/>
                      </a:lnTo>
                      <a:lnTo>
                        <a:pt x="905" y="458"/>
                      </a:lnTo>
                      <a:lnTo>
                        <a:pt x="857" y="220"/>
                      </a:lnTo>
                      <a:lnTo>
                        <a:pt x="819" y="70"/>
                      </a:lnTo>
                      <a:lnTo>
                        <a:pt x="781" y="48"/>
                      </a:lnTo>
                      <a:lnTo>
                        <a:pt x="604" y="38"/>
                      </a:lnTo>
                      <a:lnTo>
                        <a:pt x="362" y="48"/>
                      </a:lnTo>
                      <a:lnTo>
                        <a:pt x="162" y="4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141960" y="1096560"/>
                  <a:ext cx="1109880" cy="912600"/>
                </a:xfrm>
                <a:custGeom>
                  <a:avLst/>
                  <a:gdLst/>
                  <a:ahLst/>
                  <a:rect l="l" t="t" r="r" b="b"/>
                  <a:pathLst>
                    <a:path w="969" h="802">
                      <a:moveTo>
                        <a:pt x="448" y="0"/>
                      </a:moveTo>
                      <a:lnTo>
                        <a:pt x="134" y="0"/>
                      </a:lnTo>
                      <a:lnTo>
                        <a:pt x="44" y="10"/>
                      </a:lnTo>
                      <a:lnTo>
                        <a:pt x="28" y="44"/>
                      </a:lnTo>
                      <a:lnTo>
                        <a:pt x="10" y="114"/>
                      </a:lnTo>
                      <a:lnTo>
                        <a:pt x="0" y="302"/>
                      </a:lnTo>
                      <a:lnTo>
                        <a:pt x="10" y="486"/>
                      </a:lnTo>
                      <a:lnTo>
                        <a:pt x="34" y="668"/>
                      </a:lnTo>
                      <a:lnTo>
                        <a:pt x="74" y="742"/>
                      </a:lnTo>
                      <a:lnTo>
                        <a:pt x="92" y="760"/>
                      </a:lnTo>
                      <a:lnTo>
                        <a:pt x="292" y="780"/>
                      </a:lnTo>
                      <a:lnTo>
                        <a:pt x="550" y="790"/>
                      </a:lnTo>
                      <a:lnTo>
                        <a:pt x="742" y="792"/>
                      </a:lnTo>
                      <a:lnTo>
                        <a:pt x="969" y="802"/>
                      </a:lnTo>
                      <a:lnTo>
                        <a:pt x="959" y="774"/>
                      </a:lnTo>
                      <a:lnTo>
                        <a:pt x="782" y="760"/>
                      </a:lnTo>
                      <a:lnTo>
                        <a:pt x="550" y="744"/>
                      </a:lnTo>
                      <a:lnTo>
                        <a:pt x="228" y="742"/>
                      </a:lnTo>
                      <a:lnTo>
                        <a:pt x="112" y="706"/>
                      </a:lnTo>
                      <a:lnTo>
                        <a:pt x="76" y="678"/>
                      </a:lnTo>
                      <a:lnTo>
                        <a:pt x="64" y="626"/>
                      </a:lnTo>
                      <a:lnTo>
                        <a:pt x="48" y="474"/>
                      </a:lnTo>
                      <a:lnTo>
                        <a:pt x="44" y="284"/>
                      </a:lnTo>
                      <a:lnTo>
                        <a:pt x="58" y="92"/>
                      </a:lnTo>
                      <a:lnTo>
                        <a:pt x="76" y="48"/>
                      </a:lnTo>
                      <a:lnTo>
                        <a:pt x="286" y="20"/>
                      </a:lnTo>
                      <a:lnTo>
                        <a:pt x="44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8" name=""/>
            <p:cNvSpPr/>
            <p:nvPr/>
          </p:nvSpPr>
          <p:spPr>
            <a:xfrm>
              <a:off x="6248520" y="1219320"/>
              <a:ext cx="9903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ffffff"/>
                  </a:solidFill>
                  <a:latin typeface="Arial"/>
                </a:rPr>
                <a:t>O K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638680" y="2819520"/>
              <a:ext cx="274320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Working softwar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72000" y="685800"/>
              <a:ext cx="4495680" cy="2743200"/>
            </a:xfrm>
            <a:prstGeom prst="rect">
              <a:avLst/>
            </a:prstGeom>
            <a:noFill/>
            <a:ln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 rot="2306400">
              <a:off x="6188760" y="1041480"/>
              <a:ext cx="91368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1)</a:t>
            </a: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X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30200" y="4038480"/>
            <a:ext cx="2206800" cy="2600640"/>
            <a:chOff x="430200" y="4038480"/>
            <a:chExt cx="2206800" cy="2600640"/>
          </a:xfrm>
        </p:grpSpPr>
        <p:pic>
          <p:nvPicPr>
            <p:cNvPr id="254" name="" descr=""/>
            <p:cNvPicPr/>
            <p:nvPr/>
          </p:nvPicPr>
          <p:blipFill>
            <a:blip r:embed="rId1"/>
            <a:stretch/>
          </p:blipFill>
          <p:spPr>
            <a:xfrm>
              <a:off x="642960" y="4038480"/>
              <a:ext cx="1828800" cy="21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430200" y="6072120"/>
              <a:ext cx="220680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Tom DeMarc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2792520" y="3962520"/>
            <a:ext cx="3456000" cy="1438200"/>
          </a:xfrm>
          <a:prstGeom prst="wedgeRoundRectCallout">
            <a:avLst>
              <a:gd name="adj1" fmla="val -71129"/>
              <a:gd name="adj2" fmla="val 37087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99"/>
                </a:solidFill>
                <a:latin typeface="Arial Narrow"/>
              </a:rPr>
              <a:t>"</a:t>
            </a:r>
            <a:r>
              <a:rPr b="1" lang="en-GB" sz="2800" spc="-1" strike="noStrike">
                <a:solidFill>
                  <a:srgbClr val="000099"/>
                </a:solidFill>
                <a:latin typeface="Arial Narrow"/>
              </a:rPr>
              <a:t>XP is the most important movement in our field today.</a:t>
            </a:r>
            <a:r>
              <a:rPr b="1" lang="pl-PL" sz="2800" spc="-1" strike="noStrike">
                <a:solidFill>
                  <a:srgbClr val="000099"/>
                </a:solidFill>
                <a:latin typeface="Arial Narrow"/>
              </a:rPr>
              <a:t>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82600" y="682560"/>
            <a:ext cx="8861400" cy="3355920"/>
            <a:chOff x="282600" y="682560"/>
            <a:chExt cx="8861400" cy="3355920"/>
          </a:xfrm>
        </p:grpSpPr>
        <p:sp>
          <p:nvSpPr>
            <p:cNvPr id="258" name=""/>
            <p:cNvSpPr/>
            <p:nvPr/>
          </p:nvSpPr>
          <p:spPr>
            <a:xfrm>
              <a:off x="3067200" y="974520"/>
              <a:ext cx="6076800" cy="177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marL="762120" indent="-762120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00"/>
                  </a:solidFill>
                  <a:latin typeface="Arial"/>
                </a:rPr>
                <a:t>Extreme Programming</a:t>
              </a:r>
              <a:r>
                <a:rPr b="1" lang="pl-PL" sz="2800" spc="-1" strike="noStrike">
                  <a:solidFill>
                    <a:srgbClr val="ffff00"/>
                  </a:solidFill>
                  <a:latin typeface="Arial"/>
                </a:rPr>
                <a:t> (XP)</a:t>
              </a: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762120" indent="-762120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a lightweight (agile)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762120" indent="-762120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software development methodolog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9" name="" descr=""/>
            <p:cNvPicPr/>
            <p:nvPr/>
          </p:nvPicPr>
          <p:blipFill>
            <a:blip r:embed="rId2"/>
            <a:stretch/>
          </p:blipFill>
          <p:spPr>
            <a:xfrm>
              <a:off x="282600" y="682560"/>
              <a:ext cx="2651040" cy="335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1)</a:t>
            </a: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X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61" name=""/>
          <p:cNvSpPr/>
          <p:nvPr/>
        </p:nvSpPr>
        <p:spPr>
          <a:xfrm>
            <a:off x="3162240" y="685800"/>
            <a:ext cx="576900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marL="281160" indent="-28116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Interesting practices of XP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176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strong customer ori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176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increments &amp; short rele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176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test-first co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176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refacto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176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planning game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82600" y="685800"/>
            <a:ext cx="2651040" cy="335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1)</a:t>
            </a: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XP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282600" y="685800"/>
            <a:ext cx="2651040" cy="33559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4114800" y="2349360"/>
            <a:ext cx="3289320" cy="3060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66" name=""/>
          <p:cNvSpPr/>
          <p:nvPr/>
        </p:nvSpPr>
        <p:spPr>
          <a:xfrm>
            <a:off x="3505320" y="5454720"/>
            <a:ext cx="441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Frederick P. Broo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BM OS/360 Manager (1964-6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00800" y="1066680"/>
            <a:ext cx="2438280" cy="1600200"/>
          </a:xfrm>
          <a:prstGeom prst="cloudCallout">
            <a:avLst>
              <a:gd name="adj1" fmla="val -64777"/>
              <a:gd name="adj2" fmla="val 105953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No silver bulle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XPrince (1)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rzy Nawrocki</cp:lastModifiedBy>
  <dcterms:modified xsi:type="dcterms:W3CDTF">2007-01-13T16:34:00Z</dcterms:modified>
  <cp:revision>243</cp:revision>
  <dc:subject/>
  <dc:title>Prezentacja programu PowerPoint</dc:title>
</cp:coreProperties>
</file>