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  <p:custShowLst>
    <p:custShow name="M.Szychowiak" id="0">
      <p:sldLst>
        <p:sld r:id="rId7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</p:sldLst>
    </p:custShow>
    <p:custShow name="wydruk" id="1">
      <p:sldLst>
        <p:sld r:id="rId4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</p:sldLst>
    </p:custShow>
    <p:custShow name="J.Brzeziński" id="2">
      <p:sldLst>
        <p:sld r:id="rId5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FDEC-2B2B-44BF-8E68-B4D7917C2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64C3-8457-4C93-A391-6F5CCAB71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624E-D7C8-4443-94D8-CD51E03CA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F795-BF37-4614-9736-B98D9F096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C76F-8B6D-4C04-B2D4-1D9702841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4416-B26F-41C0-8F7E-9A4E12EE3E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97FEC-CC4C-4229-980D-2303EBD02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B7D97-028D-440F-886C-CD6A9CD73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0D258-08B0-4AC8-9AF0-030C11396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0D948-D11F-480F-A516-DAAACC643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4FA6F-7F5F-4A7A-B691-7D84C2CEF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317E-0D0C-4BC3-832C-D21A019F0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6EFF0-5565-4D35-B4D1-CD8C837FD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A402A-17A8-493A-AAD9-6DDE5A65E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0BAEB-0023-4D3F-B409-61C17D8FD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B4AA-B0A0-4BEE-85DB-232D1773E0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E704-384C-4792-A3BE-5FF85BD50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989F-CB00-4B8F-BDFD-2FF2A193E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C2F3-6421-4331-9689-0DE32687C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4456-5832-425F-A699-A1C9B238F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5B9F-5D6B-4F49-9697-EF2D6A984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2FEE-64AD-42C4-9FA4-B05E4EE85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F797-8177-44F1-83EB-08609F6B7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24F6-56FF-4E9B-8DB6-534CDB116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520" y="6463800"/>
            <a:ext cx="533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6200" y="64638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00"/>
                </a:solidFill>
                <a:latin typeface="Arial"/>
              </a:rPr>
              <a:t>Slajd </a:t>
            </a:r>
            <a:fld id="{16E13033-0F0D-4D43-844C-3EC623EF8728}" type="slidenum">
              <a:rPr b="1" lang="pl-PL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Slajd </a:t>
            </a:r>
            <a:fld id="{51CA24DA-CC3A-419D-B844-EA54CD93DFB3}" type="slidenum"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1303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24768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34308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3.xml"/><Relationship Id="rId3" Type="http://schemas.openxmlformats.org/officeDocument/2006/relationships/slide" Target="slide50.xml"/><Relationship Id="rId4" Type="http://schemas.openxmlformats.org/officeDocument/2006/relationships/slide" Target="slide57.xml"/><Relationship Id="rId5" Type="http://schemas.openxmlformats.org/officeDocument/2006/relationships/slide" Target="slide61.xml"/><Relationship Id="rId6" Type="http://schemas.openxmlformats.org/officeDocument/2006/relationships/slide" Target="slide72.xml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j0288976" descr=""/>
          <p:cNvPicPr/>
          <p:nvPr/>
        </p:nvPicPr>
        <p:blipFill>
          <a:blip r:embed="rId1"/>
          <a:stretch/>
        </p:blipFill>
        <p:spPr>
          <a:xfrm>
            <a:off x="198360" y="230040"/>
            <a:ext cx="3657600" cy="2414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67080" y="152280"/>
            <a:ext cx="46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dstawy przetwarzania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ozproszon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prowadzen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201924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68440"/>
                <a:tab algn="l" pos="209232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formalnie problem detekcji zakończenia przetwarzania rozproszonego polega na sprawdzeniu, czy wszystkie procesy przetwarzania są w stanie pasywnym oraz czy żadna wiadomość będąca w kanale (transmitowana lub dostępna) nie uaktywni któregokolwiek z tych proces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720" y="1292400"/>
            <a:ext cx="83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cja nieformaln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66C3-6D6B-40C7-B604-5924AB90B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zna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757080"/>
            <a:ext cx="8402760" cy="65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formal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efinicj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go problem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e s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stępujące oznaczen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mienna logiczna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predykat) przyjmująca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wtedy  tylko wtedy], gdy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jest pasyw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 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tablica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zmiennych logicznych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br>
              <a:rPr sz="2000"/>
            </a:b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kojarzona z wiadomościami dostęp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ty element tablic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yjmujący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gdy dl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dostępna wiadomość wysł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tablica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zmiennych logicznych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br>
              <a:rPr sz="2000"/>
            </a:b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kojarzona z wiadomościami transmitowa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ty element tablic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przyjmujący wartość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gdy wiadomość wysł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ależy do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,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a więc jest transmitowana i nie jest jeszcze dostęp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{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{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1BC1-176A-4E60-AD96-4711B81A5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dynami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800" y="1185840"/>
            <a:ext cx="822348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e rozproszone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w danej chwili w stanie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zakończenia dynami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spełniony jest predy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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 proces składowy przetwarzania rozproszonego nie będzie już nigdy uaktywniony. Stan ten będzie utrzymywany pomimo, że pewne wiadomości są wciąż transmitowa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 pewne wiadomości są już dostęp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ja zakończenia dynamicznego uwzględnia rzeczywistą aktywność procesów wyrażoną przez zmienn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z potencjalną aktywność wyrażoną przez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predykatem stabiln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41BD-90F8-4DF6-9EDB-2DF14DEA9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staty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120" y="1084320"/>
            <a:ext cx="828684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e rozproszone jest w danej chwili w stanie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zakończenia staty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spełniony jest predyk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6dc5c"/>
                </a:solidFill>
                <a:latin typeface="Times New Roman"/>
              </a:rPr>
              <a:t>S</a:t>
            </a:r>
            <a:r>
              <a:rPr b="1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ykat zakończenia statycznego przy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uj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gd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ywne, wszystkie wiadomości znajdujące się w kanałach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ęp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 dla żadnego procesu ni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łniony warunek uaktywnienia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Definicja ta uwzględnia zatem zarówno stany procesów jak i stany kanał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ównując z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dpowiada detekcji nieco późniejszej, gdyż dodatkowo wymaga się, by wiadomości nie były już transmitowa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5409-E1E1-4431-BC81-9BC7A3694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9480" y="16164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dynamiczn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taty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760" y="2151000"/>
            <a:ext cx="86202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hwil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szystkie proces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 pasywne, zachodzi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 część wiadomości może znajdować się w kanałach. Jednakże, wszystkie wiadomości transmitowane są brane pod uwagę, a ich dotarcie do węzłów docelowych i w konsekwencji ich dostępność, jest uwzględniona w wartości predykat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Wobec niezawodności kanałów, wiadomości transmitowane osiągną węzły docelowe po skończonym choć nieprzewidywa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m czasie, w pewnym momencie 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bec stałej pasywności wszystkich procesów od 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 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ażdej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oraz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ąd otrzymujemy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yka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przyjmuje zatem wartość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860400"/>
            <a:ext cx="84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ch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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zajście predykatu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i w skończonym choć nieprzewidzianym czasie do zajścia predykatu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1679400"/>
            <a:ext cx="3953160" cy="39888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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A8D7-A266-41BC-93D1-93AF47BCBC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asyczna definicja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480" y="1989000"/>
            <a:ext cx="82137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lasycznej definicji zakończenia przyjmowano, że przetwarzanie rozproszone jest w stanie zakończenia, jeżeli w danej chwili wszystkie procesy są pasywne i wszystkie kanały są puste, a więc gdy zachodzi następujący predykat: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C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5D17-6CCC-48C9-8AD6-B3391811C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asyczna definicja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0000" y="3152880"/>
            <a:ext cx="85788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odnie z założeniem, procesy stają się aktywne natychmiast w chwili zajścia predykat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W konsekwen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równ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lko wówczas, gdy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ąd, w wypadku procesów uaktywnianych każd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sekwencji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200" y="1022400"/>
            <a:ext cx="85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teraz relację międz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 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00" y="1647720"/>
            <a:ext cx="8605800" cy="13680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procesy są uaktywnione w sposób natychmiastowy w chwili zajścia predyka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przez każdą dostępną wiadomość, to przetwarzanie rozproszone obejmujące zbiór procesów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statycznie zakończone wtedy i tylko wtedy, gdy zachodzi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B917-30E9-4D87-9AA0-7C8971BFE2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8040" y="2082960"/>
            <a:ext cx="8020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detekcji zakończenia przetwarzania rozproszonego obejmującego zbiór procesów, sprowadza się do sprawdzenia czy przetwarzanie osiągnęło określony stan zakończenia, a więc – czy zachodzi odpowiedni predykat: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ub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A535-986D-436A-A033-13F64C03B9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30120" y="782640"/>
            <a:ext cx="8461440" cy="5965920"/>
            <a:chOff x="330120" y="782640"/>
            <a:chExt cx="8461440" cy="5965920"/>
          </a:xfrm>
        </p:grpSpPr>
        <p:sp>
          <p:nvSpPr>
            <p:cNvPr id="138" name=""/>
            <p:cNvSpPr/>
            <p:nvPr/>
          </p:nvSpPr>
          <p:spPr>
            <a:xfrm>
              <a:off x="330120" y="782640"/>
              <a:ext cx="8461440" cy="59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ważmy problem sortowania rozproszonego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ładającego się z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óżnych liczb naturalnych, w środowisku rozproszonym o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ęzłach (procesorach)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spcAft>
                  <a:spcPts val="2001"/>
                </a:spcAft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jmijmy, że zbiór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ostaje wstępnie podzielony na podzbiory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w taki sposób, że: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= 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ora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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,j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:: (1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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:: (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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j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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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:: 1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::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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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Niec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l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czb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lementów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minimalny element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x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ksymalny element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y tworzące przetwarzanie rozproszone o topologii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łańcucha skojarz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 zbiorami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y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ów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ładowych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łączo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ą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anałami dwukierunkowymi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2771640" y="2432160"/>
            <a:ext cx="43524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1640" y="2432160"/>
                      <a:ext cx="43524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70C2-ACB6-43AB-8F48-15C2B5C88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520" y="164880"/>
            <a:ext cx="8083800" cy="890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720" y="1357200"/>
            <a:ext cx="8016840" cy="46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u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rzetwarzania synchroni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yjmuje się, że transmisje są natychmiastowe. Stąd kanały mogą być uznane za puste przez cały czas i problem zakończenia sprowadza się do sprawdzenia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zy wszystkie procesy są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ednocześnie pasyw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 zakończenia opisuje następujący predy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pl-PL" sz="2000" spc="-1" strike="noStrike">
                <a:solidFill>
                  <a:srgbClr val="f6dc5c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gorytm detekcji zakończenia dla model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a synchronicznego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uje koncepcję ciągu cykl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kcyjn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zakłada, że wszystkie monitory procesów aplikacyjnych połączone s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logiczny pierścień i obserwują stany procesów aplikacyjnych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9C72-EA50-4655-A53D-BF95C14620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85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82320" y="170352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Jerzy Brzezińsk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164880"/>
            <a:ext cx="8748720" cy="890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4200" y="1089000"/>
            <a:ext cx="85536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om (procesom) przypisany jest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przesyłają wzdłuż pierścienia wiadomość kontrolną – znacznik typu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TOKE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tó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ównież może mieć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zątkowo monitory mają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zmieniają kolor n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odpowiadający im proces aplikacyjny wyśle wiadomości do procesu o indeksie większy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nicjujący detekcję zakończeni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l-P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syła znacznik kolor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swego następnika w pierścieniu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żeli obserwowany przez niego proces aplikacyjny  jest pasywny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kolejny 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dbierający znacznik czeka aż obserwowany przez niego proces stanie się pasywny i wówczas wysyła znacznik o kolorze zgodnym z kolorem monito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o wysłaniu znacznika 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owi przypisywany jest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 kończy się, gdy znacznik kolor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rze do inicjatora. Dla uproszczenia prezentacji, w algorytmie wykorzystano funkcje: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1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AE162-B0CD-450B-AA6D-BD57D9A674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984320" y="1238400"/>
            <a:ext cx="4565880" cy="4689360"/>
            <a:chOff x="1984320" y="1238400"/>
            <a:chExt cx="4565880" cy="4689360"/>
          </a:xfrm>
        </p:grpSpPr>
        <p:sp>
          <p:nvSpPr>
            <p:cNvPr id="146" name=""/>
            <p:cNvSpPr/>
            <p:nvPr/>
          </p:nvSpPr>
          <p:spPr>
            <a:xfrm>
              <a:off x="1984320" y="426420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6680" y="5340240"/>
              <a:ext cx="62676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3080" y="215748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8680" y="437040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4320" y="210168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38440" y="165744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46520" y="488808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598840" y="4846680"/>
              <a:ext cx="125712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633920" y="1701360"/>
              <a:ext cx="1257120" cy="57492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276640" y="275904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235920" y="282888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30160" y="4843440"/>
              <a:ext cx="15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1 </a:t>
              </a:r>
              <a:r>
                <a:rPr b="1" i="1" lang="en-US" sz="1600" spc="-1" strike="noStrike">
                  <a:solidFill>
                    <a:srgbClr val="f6dc5c"/>
                  </a:solidFill>
                  <a:latin typeface="Arial"/>
                </a:rPr>
                <a:t>( inicjator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7280" y="4205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4520" y="2351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29840" y="17780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4160" y="2409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8400" y="41590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5440" y="173160"/>
            <a:ext cx="8437680" cy="955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detekcji zakończenia w środowisku synchronicznym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runda zakończona niepowodzeniem –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2320" y="4357800"/>
            <a:ext cx="3967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92320" y="220032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760" y="2255760"/>
            <a:ext cx="396720" cy="382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2800" y="4467240"/>
            <a:ext cx="397080" cy="382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92320" y="1855800"/>
            <a:ext cx="1980720" cy="2398680"/>
            <a:chOff x="2092320" y="1855800"/>
            <a:chExt cx="1980720" cy="2398680"/>
          </a:xfrm>
        </p:grpSpPr>
        <p:sp>
          <p:nvSpPr>
            <p:cNvPr id="170" name=""/>
            <p:cNvSpPr/>
            <p:nvPr/>
          </p:nvSpPr>
          <p:spPr>
            <a:xfrm flipH="1">
              <a:off x="2495160" y="1855800"/>
              <a:ext cx="1577880" cy="2398680"/>
            </a:xfrm>
            <a:prstGeom prst="line">
              <a:avLst/>
            </a:prstGeom>
            <a:ln cap="sq" w="3816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2320" y="220176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059360" y="543708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68720" y="5251320"/>
            <a:ext cx="4035600" cy="998640"/>
            <a:chOff x="4068720" y="5251320"/>
            <a:chExt cx="4035600" cy="998640"/>
          </a:xfrm>
        </p:grpSpPr>
        <p:sp>
          <p:nvSpPr>
            <p:cNvPr id="174" name=""/>
            <p:cNvSpPr/>
            <p:nvPr/>
          </p:nvSpPr>
          <p:spPr>
            <a:xfrm>
              <a:off x="5459400" y="5251320"/>
              <a:ext cx="2644920" cy="998640"/>
            </a:xfrm>
            <a:prstGeom prst="wedgeRoundRectCallout">
              <a:avLst>
                <a:gd name="adj1" fmla="val -80370"/>
                <a:gd name="adj2" fmla="val -10888"/>
                <a:gd name="adj3" fmla="val 16667"/>
              </a:avLst>
            </a:prstGeom>
            <a:noFill/>
            <a:ln cap="sq" w="6480">
              <a:solidFill>
                <a:srgbClr val="f1c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Runda zakończona, konieczna kolejna iterac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8720" y="5432400"/>
              <a:ext cx="397080" cy="382680"/>
            </a:xfrm>
            <a:prstGeom prst="ellipse">
              <a:avLst/>
            </a:prstGeom>
            <a:solidFill>
              <a:srgbClr val="800000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46680" y="1238400"/>
            <a:ext cx="626760" cy="587160"/>
            <a:chOff x="3946680" y="1238400"/>
            <a:chExt cx="626760" cy="587160"/>
          </a:xfrm>
        </p:grpSpPr>
        <p:sp>
          <p:nvSpPr>
            <p:cNvPr id="177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7560" y="1341360"/>
              <a:ext cx="39708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92320" y="1238400"/>
            <a:ext cx="2481120" cy="1353960"/>
            <a:chOff x="2092320" y="1238400"/>
            <a:chExt cx="2481120" cy="1353960"/>
          </a:xfrm>
        </p:grpSpPr>
        <p:sp>
          <p:nvSpPr>
            <p:cNvPr id="180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2320" y="220968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492C-0BEB-47FB-983D-E4D44BA044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9840" y="174600"/>
            <a:ext cx="8423280" cy="954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detekcji zakończenia w środowisku synchronicznym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runda zakończona sukcesem –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84320" y="1238400"/>
            <a:ext cx="4565880" cy="4689360"/>
            <a:chOff x="1984320" y="1238400"/>
            <a:chExt cx="4565880" cy="4689360"/>
          </a:xfrm>
        </p:grpSpPr>
        <p:sp>
          <p:nvSpPr>
            <p:cNvPr id="184" name=""/>
            <p:cNvSpPr/>
            <p:nvPr/>
          </p:nvSpPr>
          <p:spPr>
            <a:xfrm>
              <a:off x="1984320" y="426420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46680" y="5340240"/>
              <a:ext cx="62676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23080" y="215748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08680" y="437040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4320" y="210168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38440" y="165744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646520" y="488808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598840" y="4846680"/>
              <a:ext cx="125712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633920" y="1701360"/>
              <a:ext cx="1257120" cy="57492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276640" y="275904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235920" y="282888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30160" y="4843440"/>
              <a:ext cx="15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1 </a:t>
              </a:r>
              <a:r>
                <a:rPr b="1" i="1" lang="en-US" sz="1600" spc="-1" strike="noStrike">
                  <a:solidFill>
                    <a:srgbClr val="f6dc5c"/>
                  </a:solidFill>
                  <a:latin typeface="Arial"/>
                </a:rPr>
                <a:t>( inicjator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7280" y="4205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4520" y="2351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29840" y="17780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04160" y="2409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88400" y="41590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2320" y="4357800"/>
            <a:ext cx="3967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92320" y="220032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57560" y="1341360"/>
            <a:ext cx="39708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5760" y="225576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22800" y="4467240"/>
            <a:ext cx="39708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79720" y="1870200"/>
            <a:ext cx="3878280" cy="2423880"/>
            <a:chOff x="2079720" y="1870200"/>
            <a:chExt cx="3878280" cy="2423880"/>
          </a:xfrm>
        </p:grpSpPr>
        <p:sp>
          <p:nvSpPr>
            <p:cNvPr id="208" name=""/>
            <p:cNvSpPr/>
            <p:nvPr/>
          </p:nvSpPr>
          <p:spPr>
            <a:xfrm>
              <a:off x="4433760" y="1870200"/>
              <a:ext cx="1524240" cy="2423880"/>
            </a:xfrm>
            <a:prstGeom prst="line">
              <a:avLst/>
            </a:prstGeom>
            <a:ln cap="sq" w="3816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9720" y="2187720"/>
              <a:ext cx="39672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56120" y="5433840"/>
            <a:ext cx="3355920" cy="816120"/>
            <a:chOff x="4056120" y="5433840"/>
            <a:chExt cx="3355920" cy="816120"/>
          </a:xfrm>
        </p:grpSpPr>
        <p:sp>
          <p:nvSpPr>
            <p:cNvPr id="211" name=""/>
            <p:cNvSpPr/>
            <p:nvPr/>
          </p:nvSpPr>
          <p:spPr>
            <a:xfrm>
              <a:off x="4056120" y="543384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9400" y="5556240"/>
              <a:ext cx="1952640" cy="693720"/>
            </a:xfrm>
            <a:prstGeom prst="wedgeRoundRectCallout">
              <a:avLst>
                <a:gd name="adj1" fmla="val -91138"/>
                <a:gd name="adj2" fmla="val -37643"/>
                <a:gd name="adj3" fmla="val 16667"/>
              </a:avLst>
            </a:prstGeom>
            <a:noFill/>
            <a:ln cap="sq" w="6480">
              <a:solidFill>
                <a:srgbClr val="f1c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Wykryto zakończ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059360" y="543708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421D-FCBC-49C5-B127-BAF10494C8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07440" cy="102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– algory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794640" y="1511280"/>
            <a:ext cx="1993680" cy="1079640"/>
            <a:chOff x="6794640" y="1511280"/>
            <a:chExt cx="1993680" cy="1079640"/>
          </a:xfrm>
        </p:grpSpPr>
        <p:sp>
          <p:nvSpPr>
            <p:cNvPr id="216" name=""/>
            <p:cNvSpPr/>
            <p:nvPr/>
          </p:nvSpPr>
          <p:spPr>
            <a:xfrm>
              <a:off x="6794640" y="231444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94640" y="211464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4640" y="151128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94640" y="171288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94640" y="19130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42E4-D474-41C2-A323-11AC268846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1041480"/>
            <a:ext cx="59436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um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{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, Black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2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9BD1-CBDD-4C44-8D53-A58032D6B7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Present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rocColou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um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{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, Black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}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3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3ECD-602C-4307-A770-378ACC1E47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PROCED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procedur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itProc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.colou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n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pred</a:t>
            </a: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Present</a:t>
            </a:r>
            <a:r>
              <a:rPr b="0" i="1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rocColour</a:t>
            </a:r>
            <a:r>
              <a:rPr b="0" i="1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procedury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4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9769-3B00-4D2C-9845-1B0F8B5215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360" y="728640"/>
            <a:ext cx="9080640" cy="6545880"/>
            <a:chOff x="63360" y="728640"/>
            <a:chExt cx="9080640" cy="6545880"/>
          </a:xfrm>
        </p:grpSpPr>
        <p:sp>
          <p:nvSpPr>
            <p:cNvPr id="247" name=""/>
            <p:cNvSpPr/>
            <p:nvPr/>
          </p:nvSpPr>
          <p:spPr>
            <a:xfrm>
              <a:off x="63360" y="728640"/>
              <a:ext cx="4299120" cy="51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just">
                <a:tabLst>
                  <a:tab algn="l" pos="0"/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InitProc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38720" y="1084320"/>
              <a:ext cx="4805280" cy="61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ucc(i)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TOK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Present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</a:t>
              </a:r>
              <a:r>
                <a:rPr b="1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InitProc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pred(i)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Present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5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5CEB-6771-4F72-9789-63A93EAEF3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7520" y="75960"/>
            <a:ext cx="8450280" cy="1135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177920"/>
            <a:ext cx="841068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rzetwarzanie dyfuzyj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g.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ng computati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pecyficznym przetwarzaniem rozproszonym, w którym wyróżnia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5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środowisko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może w dowolnej chwili rozpocząć przetwarzanie dyfuzyjne wysyłając wiadomość aplikacyjną do jednego lub wielu procesów kooperując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(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łada się, że inicjacja taka zachodzi tylko ra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520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ę kooperującymi proc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żdy proces po uzyskaniu pierwszej wiadomości aplikacyjnej, nadawcę tej wiadomości traktuje jako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ażując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g.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 realizuje dalsze przetwarzanie wysyłając wiadomości do innych procesów, w tym ewentualnie do inicj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 aplikacyjny może w dowolnej chwili stać się pasywny i oczekiwać na uaktywniającą go wiadomość aplikacyjną od dowolnego innego procesu. Warunek uaktywnienia procesu definiuje zatem model żądań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zbiór warunkujący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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8C35-48D3-497D-9B79-926F79BF44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96920" y="1428840"/>
            <a:ext cx="4700880" cy="1814400"/>
            <a:chOff x="1996920" y="1428840"/>
            <a:chExt cx="4700880" cy="1814400"/>
          </a:xfrm>
        </p:grpSpPr>
        <p:sp>
          <p:nvSpPr>
            <p:cNvPr id="259" name=""/>
            <p:cNvSpPr/>
            <p:nvPr/>
          </p:nvSpPr>
          <p:spPr>
            <a:xfrm flipH="1">
              <a:off x="3722400" y="1506600"/>
              <a:ext cx="849240" cy="16732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7920" y="1519200"/>
              <a:ext cx="2009880" cy="16858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96920" y="1428840"/>
              <a:ext cx="2549520" cy="181440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42880" y="3438360"/>
            <a:ext cx="1441440" cy="1543320"/>
            <a:chOff x="1442880" y="3438360"/>
            <a:chExt cx="1441440" cy="1543320"/>
          </a:xfrm>
        </p:grpSpPr>
        <p:sp>
          <p:nvSpPr>
            <p:cNvPr id="263" name=""/>
            <p:cNvSpPr/>
            <p:nvPr/>
          </p:nvSpPr>
          <p:spPr>
            <a:xfrm flipH="1">
              <a:off x="1442880" y="3489480"/>
              <a:ext cx="501840" cy="149220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2880" y="3438360"/>
              <a:ext cx="901440" cy="153036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99880" y="3348000"/>
            <a:ext cx="1392840" cy="1660680"/>
            <a:chOff x="2999880" y="3348000"/>
            <a:chExt cx="1392840" cy="1660680"/>
          </a:xfrm>
        </p:grpSpPr>
        <p:sp>
          <p:nvSpPr>
            <p:cNvPr id="266" name=""/>
            <p:cNvSpPr/>
            <p:nvPr/>
          </p:nvSpPr>
          <p:spPr>
            <a:xfrm flipH="1">
              <a:off x="2999880" y="3348000"/>
              <a:ext cx="706680" cy="16606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06920" y="3375000"/>
              <a:ext cx="685800" cy="1608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07080" y="3348000"/>
            <a:ext cx="2278080" cy="1619280"/>
            <a:chOff x="5707080" y="3348000"/>
            <a:chExt cx="2278080" cy="1619280"/>
          </a:xfrm>
        </p:grpSpPr>
        <p:sp>
          <p:nvSpPr>
            <p:cNvPr id="269" name=""/>
            <p:cNvSpPr/>
            <p:nvPr/>
          </p:nvSpPr>
          <p:spPr>
            <a:xfrm>
              <a:off x="6877080" y="3348000"/>
              <a:ext cx="1108080" cy="16066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707080" y="3386160"/>
              <a:ext cx="1092240" cy="1581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3720" y="3349800"/>
              <a:ext cx="1440" cy="1581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056120" y="1071720"/>
            <a:ext cx="677880" cy="467640"/>
            <a:chOff x="4056120" y="1071720"/>
            <a:chExt cx="677880" cy="467640"/>
          </a:xfrm>
        </p:grpSpPr>
        <p:sp>
          <p:nvSpPr>
            <p:cNvPr id="273" name=""/>
            <p:cNvSpPr/>
            <p:nvPr/>
          </p:nvSpPr>
          <p:spPr>
            <a:xfrm>
              <a:off x="4479840" y="1320840"/>
              <a:ext cx="254160" cy="21852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6120" y="1071720"/>
              <a:ext cx="55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ff33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99ff33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419120" y="2941560"/>
            <a:ext cx="5992920" cy="531360"/>
            <a:chOff x="1419120" y="2941560"/>
            <a:chExt cx="5992920" cy="531360"/>
          </a:xfrm>
        </p:grpSpPr>
        <p:grpSp>
          <p:nvGrpSpPr>
            <p:cNvPr id="276" name=""/>
            <p:cNvGrpSpPr/>
            <p:nvPr/>
          </p:nvGrpSpPr>
          <p:grpSpPr>
            <a:xfrm>
              <a:off x="3170160" y="2979720"/>
              <a:ext cx="677880" cy="468360"/>
              <a:chOff x="3170160" y="2979720"/>
              <a:chExt cx="677880" cy="468360"/>
            </a:xfrm>
          </p:grpSpPr>
          <p:sp>
            <p:nvSpPr>
              <p:cNvPr id="277" name=""/>
              <p:cNvSpPr/>
              <p:nvPr/>
            </p:nvSpPr>
            <p:spPr>
              <a:xfrm>
                <a:off x="3593880" y="322920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70160" y="2979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683400" y="2941560"/>
              <a:ext cx="728640" cy="468360"/>
              <a:chOff x="6683400" y="2941560"/>
              <a:chExt cx="728640" cy="468360"/>
            </a:xfrm>
          </p:grpSpPr>
          <p:sp>
            <p:nvSpPr>
              <p:cNvPr id="280" name=""/>
              <p:cNvSpPr/>
              <p:nvPr/>
            </p:nvSpPr>
            <p:spPr>
              <a:xfrm>
                <a:off x="6683400" y="319104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56560" y="294156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19120" y="3005280"/>
              <a:ext cx="677880" cy="467640"/>
              <a:chOff x="1419120" y="3005280"/>
              <a:chExt cx="677880" cy="467640"/>
            </a:xfrm>
          </p:grpSpPr>
          <p:sp>
            <p:nvSpPr>
              <p:cNvPr id="283" name=""/>
              <p:cNvSpPr/>
              <p:nvPr/>
            </p:nvSpPr>
            <p:spPr>
              <a:xfrm>
                <a:off x="1842840" y="325440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19120" y="300528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890640" y="4681440"/>
            <a:ext cx="7807320" cy="534960"/>
            <a:chOff x="890640" y="4681440"/>
            <a:chExt cx="7807320" cy="534960"/>
          </a:xfrm>
        </p:grpSpPr>
        <p:grpSp>
          <p:nvGrpSpPr>
            <p:cNvPr id="286" name=""/>
            <p:cNvGrpSpPr/>
            <p:nvPr/>
          </p:nvGrpSpPr>
          <p:grpSpPr>
            <a:xfrm>
              <a:off x="890640" y="4748040"/>
              <a:ext cx="677880" cy="468360"/>
              <a:chOff x="890640" y="4748040"/>
              <a:chExt cx="677880" cy="468360"/>
            </a:xfrm>
          </p:grpSpPr>
          <p:sp>
            <p:nvSpPr>
              <p:cNvPr id="287" name=""/>
              <p:cNvSpPr/>
              <p:nvPr/>
            </p:nvSpPr>
            <p:spPr>
              <a:xfrm>
                <a:off x="1314360" y="49975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90640" y="47480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408400" y="4735440"/>
              <a:ext cx="677880" cy="468360"/>
              <a:chOff x="2408400" y="4735440"/>
              <a:chExt cx="677880" cy="468360"/>
            </a:xfrm>
          </p:grpSpPr>
          <p:sp>
            <p:nvSpPr>
              <p:cNvPr id="290" name=""/>
              <p:cNvSpPr/>
              <p:nvPr/>
            </p:nvSpPr>
            <p:spPr>
              <a:xfrm>
                <a:off x="283212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0840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59520" y="4722840"/>
              <a:ext cx="677880" cy="468360"/>
              <a:chOff x="5159520" y="4722840"/>
              <a:chExt cx="677880" cy="468360"/>
            </a:xfrm>
          </p:grpSpPr>
          <p:sp>
            <p:nvSpPr>
              <p:cNvPr id="293" name=""/>
              <p:cNvSpPr/>
              <p:nvPr/>
            </p:nvSpPr>
            <p:spPr>
              <a:xfrm>
                <a:off x="5583240" y="4972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59520" y="4722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969320" y="4695840"/>
              <a:ext cx="728640" cy="468360"/>
              <a:chOff x="7969320" y="4695840"/>
              <a:chExt cx="728640" cy="468360"/>
            </a:xfrm>
          </p:grpSpPr>
          <p:sp>
            <p:nvSpPr>
              <p:cNvPr id="296" name=""/>
              <p:cNvSpPr/>
              <p:nvPr/>
            </p:nvSpPr>
            <p:spPr>
              <a:xfrm>
                <a:off x="7969320" y="4945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142480" y="4695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340160" y="4735440"/>
              <a:ext cx="728640" cy="468360"/>
              <a:chOff x="4340160" y="4735440"/>
              <a:chExt cx="728640" cy="468360"/>
            </a:xfrm>
          </p:grpSpPr>
          <p:sp>
            <p:nvSpPr>
              <p:cNvPr id="299" name=""/>
              <p:cNvSpPr/>
              <p:nvPr/>
            </p:nvSpPr>
            <p:spPr>
              <a:xfrm>
                <a:off x="434016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1332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713640" y="4681440"/>
              <a:ext cx="728640" cy="468360"/>
              <a:chOff x="6713640" y="4681440"/>
              <a:chExt cx="728640" cy="468360"/>
            </a:xfrm>
          </p:grpSpPr>
          <p:sp>
            <p:nvSpPr>
              <p:cNvPr id="302" name=""/>
              <p:cNvSpPr/>
              <p:nvPr/>
            </p:nvSpPr>
            <p:spPr>
              <a:xfrm>
                <a:off x="6713640" y="4930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6800" y="4681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7650-C00C-4451-AAA3-8C114427FE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90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23960" y="17035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riusz Wawrzynia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1109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9800" y="1814400"/>
            <a:ext cx="8061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cepc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gorytmu detekcji zakończenia przetwarzania dyfuzyjneg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77720" algn="just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procesów aplikacyjnych przesyłają wiadomości kontrolne typu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pewnego rodzaju odpowiedzi na wiadomości aplikacyj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777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pasywnego inicjatora może stwierdzić zakończenie całego przetwarzania aplikacyjnego, gdy odbierze wiadomości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wszystkich monitorów związanych z procesami uaktywnionymi przez inicjator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187A-7DE7-41D5-9569-63A93A3516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42880" y="1428840"/>
            <a:ext cx="6542280" cy="3579840"/>
            <a:chOff x="1442880" y="1428840"/>
            <a:chExt cx="6542280" cy="3579840"/>
          </a:xfrm>
        </p:grpSpPr>
        <p:grpSp>
          <p:nvGrpSpPr>
            <p:cNvPr id="308" name=""/>
            <p:cNvGrpSpPr/>
            <p:nvPr/>
          </p:nvGrpSpPr>
          <p:grpSpPr>
            <a:xfrm>
              <a:off x="1996920" y="1428840"/>
              <a:ext cx="4700880" cy="1814400"/>
              <a:chOff x="1996920" y="1428840"/>
              <a:chExt cx="4700880" cy="181440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3722400" y="1506600"/>
                <a:ext cx="849240" cy="16732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87920" y="1519200"/>
                <a:ext cx="2009880" cy="16858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996920" y="1428840"/>
                <a:ext cx="2549520" cy="181440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442880" y="3438360"/>
              <a:ext cx="1441440" cy="1543320"/>
              <a:chOff x="1442880" y="3438360"/>
              <a:chExt cx="1441440" cy="154332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1442880" y="3489480"/>
                <a:ext cx="501840" cy="149220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82880" y="3438360"/>
                <a:ext cx="901440" cy="153036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999880" y="3348000"/>
              <a:ext cx="1392840" cy="1660680"/>
              <a:chOff x="2999880" y="3348000"/>
              <a:chExt cx="1392840" cy="1660680"/>
            </a:xfrm>
          </p:grpSpPr>
          <p:sp>
            <p:nvSpPr>
              <p:cNvPr id="316" name=""/>
              <p:cNvSpPr/>
              <p:nvPr/>
            </p:nvSpPr>
            <p:spPr>
              <a:xfrm flipH="1">
                <a:off x="2999880" y="3348000"/>
                <a:ext cx="706680" cy="16606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06920" y="3375000"/>
                <a:ext cx="685800" cy="1608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707080" y="3348000"/>
              <a:ext cx="2278080" cy="1619280"/>
              <a:chOff x="5707080" y="3348000"/>
              <a:chExt cx="2278080" cy="1619280"/>
            </a:xfrm>
          </p:grpSpPr>
          <p:sp>
            <p:nvSpPr>
              <p:cNvPr id="319" name=""/>
              <p:cNvSpPr/>
              <p:nvPr/>
            </p:nvSpPr>
            <p:spPr>
              <a:xfrm>
                <a:off x="6877080" y="3348000"/>
                <a:ext cx="1108080" cy="16066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707080" y="3386160"/>
                <a:ext cx="1092240" cy="1581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13720" y="3349800"/>
                <a:ext cx="1440" cy="1581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890640" y="1071720"/>
            <a:ext cx="7807320" cy="4144680"/>
            <a:chOff x="890640" y="1071720"/>
            <a:chExt cx="7807320" cy="4144680"/>
          </a:xfrm>
        </p:grpSpPr>
        <p:grpSp>
          <p:nvGrpSpPr>
            <p:cNvPr id="323" name=""/>
            <p:cNvGrpSpPr/>
            <p:nvPr/>
          </p:nvGrpSpPr>
          <p:grpSpPr>
            <a:xfrm>
              <a:off x="4056120" y="1071720"/>
              <a:ext cx="677880" cy="467640"/>
              <a:chOff x="4056120" y="1071720"/>
              <a:chExt cx="677880" cy="467640"/>
            </a:xfrm>
          </p:grpSpPr>
          <p:sp>
            <p:nvSpPr>
              <p:cNvPr id="324" name=""/>
              <p:cNvSpPr/>
              <p:nvPr/>
            </p:nvSpPr>
            <p:spPr>
              <a:xfrm>
                <a:off x="4479840" y="132084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56120" y="1071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419120" y="2941560"/>
              <a:ext cx="5992920" cy="531360"/>
              <a:chOff x="1419120" y="2941560"/>
              <a:chExt cx="5992920" cy="5313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170160" y="2979720"/>
                <a:ext cx="677880" cy="468360"/>
                <a:chOff x="3170160" y="2979720"/>
                <a:chExt cx="677880" cy="468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593880" y="322920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70160" y="297972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683400" y="2941560"/>
                <a:ext cx="728640" cy="468360"/>
                <a:chOff x="6683400" y="2941560"/>
                <a:chExt cx="728640" cy="4683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683400" y="319104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56560" y="294156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419120" y="3005280"/>
                <a:ext cx="677880" cy="467640"/>
                <a:chOff x="1419120" y="3005280"/>
                <a:chExt cx="677880" cy="467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842840" y="3254400"/>
                  <a:ext cx="254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419120" y="300528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890640" y="4681440"/>
              <a:ext cx="7807320" cy="534960"/>
              <a:chOff x="890640" y="4681440"/>
              <a:chExt cx="7807320" cy="53496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890640" y="4748040"/>
                <a:ext cx="677880" cy="468360"/>
                <a:chOff x="890640" y="4748040"/>
                <a:chExt cx="677880" cy="468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314360" y="49975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90640" y="47480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408400" y="4735440"/>
                <a:ext cx="677880" cy="468360"/>
                <a:chOff x="2408400" y="4735440"/>
                <a:chExt cx="677880" cy="4683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832120" y="4984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08400" y="4735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159520" y="4722840"/>
                <a:ext cx="677880" cy="468360"/>
                <a:chOff x="5159520" y="4722840"/>
                <a:chExt cx="677880" cy="468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583240" y="49723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159520" y="47228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7969320" y="4695840"/>
                <a:ext cx="728640" cy="468360"/>
                <a:chOff x="7969320" y="4695840"/>
                <a:chExt cx="728640" cy="4683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969320" y="49453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142480" y="46958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340160" y="4735440"/>
                <a:ext cx="728640" cy="468360"/>
                <a:chOff x="4340160" y="4735440"/>
                <a:chExt cx="728640" cy="468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340160" y="4984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13320" y="4735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713640" y="4681440"/>
                <a:ext cx="728640" cy="468360"/>
                <a:chOff x="6713640" y="4681440"/>
                <a:chExt cx="728640" cy="468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713640" y="4930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86800" y="4681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AE82-B376-47FC-8027-7FB624F10A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726080" y="1544400"/>
            <a:ext cx="2009520" cy="16858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42880" y="3502080"/>
            <a:ext cx="476280" cy="15429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906560" y="1530360"/>
            <a:ext cx="6141960" cy="3487320"/>
            <a:chOff x="1906560" y="1530360"/>
            <a:chExt cx="6141960" cy="3487320"/>
          </a:xfrm>
        </p:grpSpPr>
        <p:sp>
          <p:nvSpPr>
            <p:cNvPr id="359" name=""/>
            <p:cNvSpPr/>
            <p:nvPr/>
          </p:nvSpPr>
          <p:spPr>
            <a:xfrm flipV="1">
              <a:off x="3749760" y="1608120"/>
              <a:ext cx="823680" cy="16732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906560" y="1530360"/>
              <a:ext cx="2549520" cy="181440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6877080" y="3411000"/>
              <a:ext cx="1171440" cy="16066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771720" y="3436920"/>
            <a:ext cx="2949840" cy="1658880"/>
            <a:chOff x="3771720" y="3436920"/>
            <a:chExt cx="2949840" cy="1658880"/>
          </a:xfrm>
        </p:grpSpPr>
        <p:sp>
          <p:nvSpPr>
            <p:cNvPr id="363" name=""/>
            <p:cNvSpPr/>
            <p:nvPr/>
          </p:nvSpPr>
          <p:spPr>
            <a:xfrm flipH="1" flipV="1">
              <a:off x="3771720" y="3463560"/>
              <a:ext cx="685800" cy="16081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667480" y="3436920"/>
              <a:ext cx="1054080" cy="16588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035080" y="3449160"/>
            <a:ext cx="4794120" cy="1660680"/>
            <a:chOff x="2035080" y="3449160"/>
            <a:chExt cx="4794120" cy="1660680"/>
          </a:xfrm>
        </p:grpSpPr>
        <p:sp>
          <p:nvSpPr>
            <p:cNvPr id="366" name=""/>
            <p:cNvSpPr/>
            <p:nvPr/>
          </p:nvSpPr>
          <p:spPr>
            <a:xfrm flipH="1" flipV="1">
              <a:off x="2035080" y="3526920"/>
              <a:ext cx="889200" cy="153036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75040" y="3449160"/>
              <a:ext cx="706320" cy="16606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6827400" y="3490920"/>
              <a:ext cx="1800" cy="15811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056120" y="1071720"/>
            <a:ext cx="677880" cy="467640"/>
            <a:chOff x="4056120" y="1071720"/>
            <a:chExt cx="677880" cy="467640"/>
          </a:xfrm>
        </p:grpSpPr>
        <p:sp>
          <p:nvSpPr>
            <p:cNvPr id="370" name=""/>
            <p:cNvSpPr/>
            <p:nvPr/>
          </p:nvSpPr>
          <p:spPr>
            <a:xfrm>
              <a:off x="4479840" y="1320840"/>
              <a:ext cx="254160" cy="21852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6120" y="1071720"/>
              <a:ext cx="55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ff33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99ff33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419120" y="2941560"/>
            <a:ext cx="5992920" cy="531360"/>
            <a:chOff x="1419120" y="2941560"/>
            <a:chExt cx="5992920" cy="531360"/>
          </a:xfrm>
        </p:grpSpPr>
        <p:grpSp>
          <p:nvGrpSpPr>
            <p:cNvPr id="373" name=""/>
            <p:cNvGrpSpPr/>
            <p:nvPr/>
          </p:nvGrpSpPr>
          <p:grpSpPr>
            <a:xfrm>
              <a:off x="3170160" y="2979720"/>
              <a:ext cx="677880" cy="468360"/>
              <a:chOff x="3170160" y="2979720"/>
              <a:chExt cx="677880" cy="468360"/>
            </a:xfrm>
          </p:grpSpPr>
          <p:sp>
            <p:nvSpPr>
              <p:cNvPr id="374" name=""/>
              <p:cNvSpPr/>
              <p:nvPr/>
            </p:nvSpPr>
            <p:spPr>
              <a:xfrm>
                <a:off x="3593880" y="322920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0160" y="2979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683400" y="2941560"/>
              <a:ext cx="728640" cy="468360"/>
              <a:chOff x="6683400" y="2941560"/>
              <a:chExt cx="728640" cy="468360"/>
            </a:xfrm>
          </p:grpSpPr>
          <p:sp>
            <p:nvSpPr>
              <p:cNvPr id="377" name=""/>
              <p:cNvSpPr/>
              <p:nvPr/>
            </p:nvSpPr>
            <p:spPr>
              <a:xfrm>
                <a:off x="6683400" y="319104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6560" y="294156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419120" y="3005280"/>
              <a:ext cx="677880" cy="467640"/>
              <a:chOff x="1419120" y="3005280"/>
              <a:chExt cx="677880" cy="467640"/>
            </a:xfrm>
          </p:grpSpPr>
          <p:sp>
            <p:nvSpPr>
              <p:cNvPr id="380" name=""/>
              <p:cNvSpPr/>
              <p:nvPr/>
            </p:nvSpPr>
            <p:spPr>
              <a:xfrm>
                <a:off x="1842840" y="325440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19120" y="300528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890640" y="4681440"/>
            <a:ext cx="7807320" cy="534960"/>
            <a:chOff x="890640" y="4681440"/>
            <a:chExt cx="7807320" cy="534960"/>
          </a:xfrm>
        </p:grpSpPr>
        <p:grpSp>
          <p:nvGrpSpPr>
            <p:cNvPr id="383" name=""/>
            <p:cNvGrpSpPr/>
            <p:nvPr/>
          </p:nvGrpSpPr>
          <p:grpSpPr>
            <a:xfrm>
              <a:off x="890640" y="4748040"/>
              <a:ext cx="677880" cy="468360"/>
              <a:chOff x="890640" y="4748040"/>
              <a:chExt cx="677880" cy="468360"/>
            </a:xfrm>
          </p:grpSpPr>
          <p:sp>
            <p:nvSpPr>
              <p:cNvPr id="384" name=""/>
              <p:cNvSpPr/>
              <p:nvPr/>
            </p:nvSpPr>
            <p:spPr>
              <a:xfrm>
                <a:off x="1314360" y="49975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90640" y="47480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408400" y="4735440"/>
              <a:ext cx="677880" cy="468360"/>
              <a:chOff x="2408400" y="4735440"/>
              <a:chExt cx="677880" cy="468360"/>
            </a:xfrm>
          </p:grpSpPr>
          <p:sp>
            <p:nvSpPr>
              <p:cNvPr id="387" name=""/>
              <p:cNvSpPr/>
              <p:nvPr/>
            </p:nvSpPr>
            <p:spPr>
              <a:xfrm>
                <a:off x="283212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0840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159520" y="4722840"/>
              <a:ext cx="677880" cy="468360"/>
              <a:chOff x="5159520" y="4722840"/>
              <a:chExt cx="677880" cy="468360"/>
            </a:xfrm>
          </p:grpSpPr>
          <p:sp>
            <p:nvSpPr>
              <p:cNvPr id="390" name=""/>
              <p:cNvSpPr/>
              <p:nvPr/>
            </p:nvSpPr>
            <p:spPr>
              <a:xfrm>
                <a:off x="5583240" y="4972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59520" y="4722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969320" y="4695840"/>
              <a:ext cx="728640" cy="468360"/>
              <a:chOff x="7969320" y="4695840"/>
              <a:chExt cx="728640" cy="468360"/>
            </a:xfrm>
          </p:grpSpPr>
          <p:sp>
            <p:nvSpPr>
              <p:cNvPr id="393" name=""/>
              <p:cNvSpPr/>
              <p:nvPr/>
            </p:nvSpPr>
            <p:spPr>
              <a:xfrm>
                <a:off x="7969320" y="4945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42480" y="4695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340160" y="4735440"/>
              <a:ext cx="728640" cy="468360"/>
              <a:chOff x="4340160" y="4735440"/>
              <a:chExt cx="728640" cy="468360"/>
            </a:xfrm>
          </p:grpSpPr>
          <p:sp>
            <p:nvSpPr>
              <p:cNvPr id="396" name=""/>
              <p:cNvSpPr/>
              <p:nvPr/>
            </p:nvSpPr>
            <p:spPr>
              <a:xfrm>
                <a:off x="434016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1332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713640" y="4681440"/>
              <a:ext cx="728640" cy="468360"/>
              <a:chOff x="6713640" y="4681440"/>
              <a:chExt cx="728640" cy="468360"/>
            </a:xfrm>
          </p:grpSpPr>
          <p:sp>
            <p:nvSpPr>
              <p:cNvPr id="399" name=""/>
              <p:cNvSpPr/>
              <p:nvPr/>
            </p:nvSpPr>
            <p:spPr>
              <a:xfrm>
                <a:off x="6713640" y="4930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6800" y="4681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B7AE-4905-4975-8DA0-1A441BD909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5680" y="244080"/>
            <a:ext cx="8407440" cy="94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– algory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403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8483-6126-499A-83F9-E19832B1C0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1041480"/>
            <a:ext cx="5943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11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73D8-8B3E-4E9A-9D33-59914A3276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1041480"/>
            <a:ext cx="8258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ignal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engage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otEngage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cv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1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0652-D84B-436E-9968-042792F4C4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0" y="649440"/>
            <a:ext cx="8934480" cy="6612480"/>
            <a:chOff x="0" y="649440"/>
            <a:chExt cx="8934480" cy="6612480"/>
          </a:xfrm>
        </p:grpSpPr>
        <p:sp>
          <p:nvSpPr>
            <p:cNvPr id="426" name=""/>
            <p:cNvSpPr/>
            <p:nvPr/>
          </p:nvSpPr>
          <p:spPr>
            <a:xfrm>
              <a:off x="0" y="649440"/>
              <a:ext cx="4295880" cy="56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tabLst>
                  <a:tab algn="l" pos="0"/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P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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ffusingComputation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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msg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|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</a:rPr>
                <a:t>SIGNA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0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\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4800" y="992160"/>
              <a:ext cx="4549680" cy="62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</a:rPr>
                <a:t>SIGNA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Tr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msg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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{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cktIn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2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5182-2B5C-497D-9F81-4363BFECD1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1135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7760" y="1733400"/>
            <a:ext cx="8458200" cy="34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</a:t>
            </a:r>
            <a:r>
              <a:rPr b="0" i="1" lang="en-US" sz="2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tomowym modelu przetwarzania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zasy przetwarzania lokalnego są zaniedbywane (zerowe), a opóźnienia są związane tylko z transmisją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na przyjąć, że procesy (uaktywniane natychmiastowo) są przez cały czas pasywne i sprowadzić problem detekcji zakończenia do 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yznaczania stanów kanałów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rzyjmijmy dla uproszczenia, model żądań typu OR. Oznacza to, że dowolna wiadomość w kanale uaktywni pro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1000" y="4719600"/>
            <a:ext cx="84582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zakończenie przetwarzania opisuje następujący predykat: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A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: (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f6dc5c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E54D-2AB7-4501-B6A2-104B974A7B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952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200" y="1251000"/>
            <a:ext cx="859644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dla modelu atomowego rozwiązanie problemu detekcji zakończenia przetwarzania rozproszonego z zastosowaniem liczników wiadomości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jący liczbę wiadomości wysłanych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jący liczbę wiadomośc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debran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sumaryczna liczba wiadomości wysłanych przez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etwarzania rozproszonego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sumaryczna liczba wiadomości wysłanych przez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etwarzania rozproszonego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modelu atomowego, równ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każda wiadomość wysłana została odebrana. Tym samym wszystkie kanały są w chwili 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ste, a więc osiągnięty został stan zakoń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br>
              <a:rPr sz="1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polega na tym, że wyznaczeni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e jest w systemie rozproszonym pros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F009-F7E2-49FF-80C9-8AA4F48509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44520" y="1162080"/>
            <a:ext cx="8505720" cy="5513760"/>
            <a:chOff x="344520" y="1162080"/>
            <a:chExt cx="8505720" cy="5513760"/>
          </a:xfrm>
        </p:grpSpPr>
        <p:sp>
          <p:nvSpPr>
            <p:cNvPr id="440" name=""/>
            <p:cNvSpPr/>
            <p:nvPr/>
          </p:nvSpPr>
          <p:spPr>
            <a:xfrm>
              <a:off x="344520" y="1162080"/>
              <a:ext cx="8505720" cy="55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m wysłania wiadomości kontrolnej (znacznika) do wszystkich monitorów jest wyznaczenie sumarycznej liczby wiadomości wysłanych i odebranych przez wszystkie procesy aplikacyjne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omość kontrolna wysłana przez inicjatora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rzesyłana jest między monitorami, a po dotarciu do wszystkich monitorów wraca d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ażdy z monitorów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dodaje do znacznika stany liczników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odpowiadające bieżącej chwili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kanały wprowadzają opóźnienia, zebrane liczniki odpowiadają więc różnym momento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czmy przez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odpowiednio sumy zebranych przez znacznik liczników, a więc: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pamiętając, ż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)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1" name=""/>
            <p:cNvGraphicFramePr/>
            <p:nvPr/>
          </p:nvGraphicFramePr>
          <p:xfrm>
            <a:off x="3016080" y="5149800"/>
            <a:ext cx="40032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16080" y="5149800"/>
                      <a:ext cx="40032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5342040" y="5811840"/>
            <a:ext cx="39996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42040" y="581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3305160" y="5811840"/>
            <a:ext cx="399960" cy="592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5160" y="581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789440" y="5149800"/>
            <a:ext cx="399960" cy="592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9440" y="514980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952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F860-0CD8-4506-AC72-837BDC7AA9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95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76240" y="1703520"/>
              <a:ext cx="26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ichał Szychowia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208080" y="1995480"/>
            <a:ext cx="4408200" cy="2539080"/>
            <a:chOff x="208080" y="1995480"/>
            <a:chExt cx="4408200" cy="2539080"/>
          </a:xfrm>
        </p:grpSpPr>
        <p:grpSp>
          <p:nvGrpSpPr>
            <p:cNvPr id="451" name=""/>
            <p:cNvGrpSpPr/>
            <p:nvPr/>
          </p:nvGrpSpPr>
          <p:grpSpPr>
            <a:xfrm>
              <a:off x="696960" y="2224080"/>
              <a:ext cx="3919320" cy="2028960"/>
              <a:chOff x="696960" y="2224080"/>
              <a:chExt cx="3919320" cy="2028960"/>
            </a:xfrm>
          </p:grpSpPr>
          <p:sp>
            <p:nvSpPr>
              <p:cNvPr id="452" name=""/>
              <p:cNvSpPr/>
              <p:nvPr/>
            </p:nvSpPr>
            <p:spPr>
              <a:xfrm>
                <a:off x="696960" y="22240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6960" y="360036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6960" y="29098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960" y="425304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208080" y="1995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8080" y="26812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8080" y="33717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080" y="40244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6480" y="1728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y wyznaczania liczników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 i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86520" y="1798560"/>
            <a:ext cx="3740040" cy="2823480"/>
            <a:chOff x="686520" y="1798560"/>
            <a:chExt cx="3740040" cy="2823480"/>
          </a:xfrm>
        </p:grpSpPr>
        <p:sp>
          <p:nvSpPr>
            <p:cNvPr id="462" name=""/>
            <p:cNvSpPr/>
            <p:nvPr/>
          </p:nvSpPr>
          <p:spPr>
            <a:xfrm>
              <a:off x="2103480" y="2133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4120" y="27846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60840" y="4170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3920" y="34988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49800" y="28274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70320" y="28195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035000" y="2963880"/>
              <a:ext cx="498600" cy="5335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40680" y="1798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6288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0400" y="42512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1856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7908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6520" y="31449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00280" y="2284200"/>
              <a:ext cx="401400" cy="4777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833640" y="2963520"/>
              <a:ext cx="471600" cy="11574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5720" y="2928960"/>
              <a:ext cx="1925640" cy="12398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09760" y="2251080"/>
              <a:ext cx="1040040" cy="58896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96760" y="1830240"/>
            <a:ext cx="2302560" cy="3279240"/>
            <a:chOff x="896760" y="1830240"/>
            <a:chExt cx="2302560" cy="3279240"/>
          </a:xfrm>
        </p:grpSpPr>
        <p:sp>
          <p:nvSpPr>
            <p:cNvPr id="480" name=""/>
            <p:cNvSpPr/>
            <p:nvPr/>
          </p:nvSpPr>
          <p:spPr>
            <a:xfrm>
              <a:off x="112716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7668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51840" y="2198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96760" y="1940040"/>
              <a:ext cx="2133720" cy="254952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58800" y="3521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57480" y="2814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98920" y="2147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35000" y="41720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69360" y="28908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9720" y="3584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04120" y="4235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79920" y="4703760"/>
              <a:ext cx="34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42400" y="4703760"/>
              <a:ext cx="33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97440" y="2224080"/>
            <a:ext cx="3919680" cy="2028960"/>
            <a:chOff x="4897440" y="2224080"/>
            <a:chExt cx="3919680" cy="2028960"/>
          </a:xfrm>
        </p:grpSpPr>
        <p:sp>
          <p:nvSpPr>
            <p:cNvPr id="494" name=""/>
            <p:cNvSpPr/>
            <p:nvPr/>
          </p:nvSpPr>
          <p:spPr>
            <a:xfrm>
              <a:off x="4897440" y="222408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97440" y="360036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97440" y="290988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97440" y="425304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097600" y="1830240"/>
            <a:ext cx="2302200" cy="3279240"/>
            <a:chOff x="5097600" y="1830240"/>
            <a:chExt cx="2302200" cy="3279240"/>
          </a:xfrm>
        </p:grpSpPr>
        <p:sp>
          <p:nvSpPr>
            <p:cNvPr id="499" name=""/>
            <p:cNvSpPr/>
            <p:nvPr/>
          </p:nvSpPr>
          <p:spPr>
            <a:xfrm>
              <a:off x="532764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7716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2320" y="2198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097600" y="1940040"/>
              <a:ext cx="2133360" cy="254952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59280" y="3521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57960" y="2814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99400" y="2147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35480" y="41720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69840" y="28908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9840" y="3211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04600" y="4235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80400" y="4703760"/>
              <a:ext cx="34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42880" y="4703760"/>
              <a:ext cx="33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887000" y="1798560"/>
            <a:ext cx="3541680" cy="2939400"/>
            <a:chOff x="4887000" y="1798560"/>
            <a:chExt cx="3541680" cy="2939400"/>
          </a:xfrm>
        </p:grpSpPr>
        <p:sp>
          <p:nvSpPr>
            <p:cNvPr id="513" name=""/>
            <p:cNvSpPr/>
            <p:nvPr/>
          </p:nvSpPr>
          <p:spPr>
            <a:xfrm>
              <a:off x="6303960" y="2133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92760" y="42004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66240" y="4170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498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50280" y="28274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97320" y="3625920"/>
              <a:ext cx="576360" cy="57456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41160" y="1798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6600" y="25192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65040" y="43671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7000" y="31449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925960" y="2309760"/>
              <a:ext cx="425520" cy="18432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47120" y="3000240"/>
              <a:ext cx="600120" cy="11350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981760" y="2968560"/>
              <a:ext cx="1568520" cy="12146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81200" y="4316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875120" y="5338800"/>
            <a:ext cx="40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 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D2E5-9933-4E62-82C8-B56DE4C2FE0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wierdzen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0600" y="5135400"/>
            <a:ext cx="85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udowodnienia powyższego twierdzenia wykażemy, że jeżeli 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zetwarzanie jest w stanie zakoń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2040" y="1114560"/>
            <a:ext cx="84200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tekc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ończeni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ane są dwie fazy detekcji. Pierwsza rozpoczyna się o chwili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kończy w chwili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druga odpowiednio w chwilach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ęto ponadto, że: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znac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teraz przez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zniki wyznaczone w pierwszej fazie, a przez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 liczniki oznaczone w drugiej fa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3348000"/>
            <a:ext cx="8448840" cy="1472400"/>
          </a:xfrm>
          <a:prstGeom prst="rect">
            <a:avLst/>
          </a:prstGeom>
          <a:noFill/>
          <a:ln cap="sq" w="3168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onitorowane przetwarzanie aplikacyjne osiągnęło stan zakończenia przed zakończeniem proces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B21D-0095-46EE-94CB-150554CB0DE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378000"/>
            <a:ext cx="8477280" cy="884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1600" y="3084480"/>
            <a:ext cx="7910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ód tego lematu wynika wprost z definicji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3800" y="1839960"/>
            <a:ext cx="7985160" cy="87588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 liczniki wiadomości są monotoniczne.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 więc,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 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EF98-6918-4EB6-9C42-E0C70EBA09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1600" y="3392640"/>
            <a:ext cx="8142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ód wynika wprost z definic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1720" y="1590840"/>
            <a:ext cx="8186760" cy="119124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aryczna liczba wiadomości wysłanych lub odebranych jest monotonicz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zate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ED05-272D-47ED-95B5-BED1533C1C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35280" y="1157400"/>
            <a:ext cx="3645000" cy="11808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2360" y="2309760"/>
            <a:ext cx="8672400" cy="3592080"/>
            <a:chOff x="252360" y="2309760"/>
            <a:chExt cx="8672400" cy="3592080"/>
          </a:xfrm>
        </p:grpSpPr>
        <p:sp>
          <p:nvSpPr>
            <p:cNvPr id="541" name=""/>
            <p:cNvSpPr/>
            <p:nvPr/>
          </p:nvSpPr>
          <p:spPr>
            <a:xfrm>
              <a:off x="252360" y="2309760"/>
              <a:ext cx="8672400" cy="35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Dowód </a:t>
              </a:r>
              <a:br>
                <a:rPr sz="2000"/>
              </a:b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definicj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, przy czym dla każdego 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kole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liczniki są monotonicz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więc tym samy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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a w konsekwencj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2" name=""/>
            <p:cNvGraphicFramePr/>
            <p:nvPr/>
          </p:nvGraphicFramePr>
          <p:xfrm>
            <a:off x="2324160" y="3971880"/>
            <a:ext cx="39996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24160" y="397188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"/>
            <p:cNvGraphicFramePr/>
            <p:nvPr/>
          </p:nvGraphicFramePr>
          <p:xfrm>
            <a:off x="2004840" y="3224160"/>
            <a:ext cx="40032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4840" y="3224160"/>
                      <a:ext cx="40032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6" name=""/>
          <p:cNvSpPr/>
          <p:nvPr/>
        </p:nvSpPr>
        <p:spPr>
          <a:xfrm>
            <a:off x="3103560" y="3786120"/>
            <a:ext cx="5383080" cy="365040"/>
          </a:xfrm>
          <a:custGeom>
            <a:avLst/>
            <a:gdLst/>
            <a:ahLst/>
            <a:rect l="l" t="t" r="r" b="b"/>
            <a:pathLst>
              <a:path w="4227" h="230">
                <a:moveTo>
                  <a:pt x="4227" y="0"/>
                </a:moveTo>
                <a:cubicBezTo>
                  <a:pt x="4181" y="104"/>
                  <a:pt x="4136" y="208"/>
                  <a:pt x="3610" y="219"/>
                </a:cubicBezTo>
                <a:cubicBezTo>
                  <a:pt x="3084" y="230"/>
                  <a:pt x="1636" y="95"/>
                  <a:pt x="1071" y="65"/>
                </a:cubicBezTo>
                <a:cubicBezTo>
                  <a:pt x="506" y="35"/>
                  <a:pt x="397" y="17"/>
                  <a:pt x="219" y="41"/>
                </a:cubicBezTo>
                <a:cubicBezTo>
                  <a:pt x="41" y="65"/>
                  <a:pt x="46" y="176"/>
                  <a:pt x="0" y="211"/>
                </a:cubicBezTo>
              </a:path>
            </a:pathLst>
          </a:custGeom>
          <a:noFill/>
          <a:ln cap="sq" w="57240">
            <a:solidFill>
              <a:srgbClr val="cc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C95E-8FFC-417F-BC51-7858B8F594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39880" y="1141560"/>
            <a:ext cx="3353040" cy="11808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2360" y="2309760"/>
            <a:ext cx="8672400" cy="4093200"/>
            <a:chOff x="252360" y="2309760"/>
            <a:chExt cx="8672400" cy="4093200"/>
          </a:xfrm>
        </p:grpSpPr>
        <p:sp>
          <p:nvSpPr>
            <p:cNvPr id="550" name=""/>
            <p:cNvSpPr/>
            <p:nvPr/>
          </p:nvSpPr>
          <p:spPr>
            <a:xfrm>
              <a:off x="252360" y="2309760"/>
              <a:ext cx="8672400" cy="40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Dowód </a:t>
              </a:r>
              <a:br>
                <a:rPr sz="2000"/>
              </a:b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definicj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*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, przy czym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kole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liczniki są monotonicz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więc tym samy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 w konsekwencj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*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2300400" y="4071960"/>
            <a:ext cx="39996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00400" y="407196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3" name=""/>
            <p:cNvGraphicFramePr/>
            <p:nvPr/>
          </p:nvGraphicFramePr>
          <p:xfrm>
            <a:off x="2014560" y="3201840"/>
            <a:ext cx="39996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4560" y="320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5" name=""/>
          <p:cNvSpPr/>
          <p:nvPr/>
        </p:nvSpPr>
        <p:spPr>
          <a:xfrm>
            <a:off x="3052800" y="3786120"/>
            <a:ext cx="4236840" cy="453960"/>
          </a:xfrm>
          <a:custGeom>
            <a:avLst/>
            <a:gdLst/>
            <a:ahLst/>
            <a:rect l="l" t="t" r="r" b="b"/>
            <a:pathLst>
              <a:path w="2669" h="286">
                <a:moveTo>
                  <a:pt x="2669" y="0"/>
                </a:moveTo>
                <a:cubicBezTo>
                  <a:pt x="2644" y="154"/>
                  <a:pt x="2550" y="189"/>
                  <a:pt x="2239" y="203"/>
                </a:cubicBezTo>
                <a:cubicBezTo>
                  <a:pt x="1928" y="217"/>
                  <a:pt x="1140" y="105"/>
                  <a:pt x="803" y="81"/>
                </a:cubicBezTo>
                <a:cubicBezTo>
                  <a:pt x="466" y="57"/>
                  <a:pt x="353" y="23"/>
                  <a:pt x="219" y="57"/>
                </a:cubicBezTo>
                <a:cubicBezTo>
                  <a:pt x="85" y="91"/>
                  <a:pt x="46" y="238"/>
                  <a:pt x="0" y="286"/>
                </a:cubicBezTo>
              </a:path>
            </a:pathLst>
          </a:custGeom>
          <a:noFill/>
          <a:ln cap="sq" w="57240">
            <a:solidFill>
              <a:srgbClr val="cc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21E7-3CC4-4ECE-BA90-8D45FA0E47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8480" y="2523960"/>
            <a:ext cx="777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cja jest prawdziwa, gdyż kanały są z założenia niezawod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06480" y="1141560"/>
            <a:ext cx="5114880" cy="11304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a wszystkich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4404-FE76-4B7D-963D-30EDDDBED3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wód twierdzen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7960" y="1279440"/>
            <a:ext cx="823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łożenia wynika, ż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lei z przedstawionych lematów otrzymujemy, ż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9760" y="3176640"/>
            <a:ext cx="290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86560" y="3176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60720" y="3184560"/>
            <a:ext cx="179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62480" y="3176640"/>
            <a:ext cx="19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068480" y="3643200"/>
            <a:ext cx="2125440" cy="939960"/>
            <a:chOff x="1068480" y="3643200"/>
            <a:chExt cx="2125440" cy="939960"/>
          </a:xfrm>
        </p:grpSpPr>
        <p:sp>
          <p:nvSpPr>
            <p:cNvPr id="566" name=""/>
            <p:cNvSpPr/>
            <p:nvPr/>
          </p:nvSpPr>
          <p:spPr>
            <a:xfrm>
              <a:off x="106848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808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408400" y="3643200"/>
            <a:ext cx="2125440" cy="939960"/>
            <a:chOff x="2408400" y="3643200"/>
            <a:chExt cx="2125440" cy="939960"/>
          </a:xfrm>
        </p:grpSpPr>
        <p:sp>
          <p:nvSpPr>
            <p:cNvPr id="569" name=""/>
            <p:cNvSpPr/>
            <p:nvPr/>
          </p:nvSpPr>
          <p:spPr>
            <a:xfrm>
              <a:off x="240840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4800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710160" y="3643200"/>
            <a:ext cx="2125440" cy="939960"/>
            <a:chOff x="3710160" y="3643200"/>
            <a:chExt cx="2125440" cy="939960"/>
          </a:xfrm>
        </p:grpSpPr>
        <p:sp>
          <p:nvSpPr>
            <p:cNvPr id="572" name=""/>
            <p:cNvSpPr/>
            <p:nvPr/>
          </p:nvSpPr>
          <p:spPr>
            <a:xfrm>
              <a:off x="371016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4976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997520" y="3643200"/>
            <a:ext cx="2125440" cy="939960"/>
            <a:chOff x="4997520" y="3643200"/>
            <a:chExt cx="2125440" cy="939960"/>
          </a:xfrm>
        </p:grpSpPr>
        <p:sp>
          <p:nvSpPr>
            <p:cNvPr id="575" name=""/>
            <p:cNvSpPr/>
            <p:nvPr/>
          </p:nvSpPr>
          <p:spPr>
            <a:xfrm>
              <a:off x="499752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712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22360" y="3754440"/>
            <a:ext cx="79786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cje (1) i (2) zachodzą jednocześnie tylko wówczas, gdy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m samym w chwili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 to oznacza, że wszystkie kanały są puste, a więc wystąpiło zakończenie przetwarzani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EC5A-8C20-4CEA-81FB-4F072D1ACE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dnofaz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8680" y="1062000"/>
            <a:ext cx="854064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nieją propozycje realizacji detekcji zakończenia w jednym przebiegu, czyl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y jednofazow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łóżmy, że monito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2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połączone są w logiczny pierścień, i posiadaj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 liczniki (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ng. send-receive balanc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 początkowej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c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artość licznik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 każdej chwil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równ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 sekwencyjny cyklu detekcji zakończenia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inicjowanego przez monitor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jącą numer sekwencyjny cyklu detekcj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ojarzony z wiadomością wysłaną najpóźniej, spośród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zystkich wiadomości odebranych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E429-33D9-4927-902F-4C645B15FA2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dnofaz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680" y="1062000"/>
            <a:ext cx="854064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tekcji zakończenia przetwarzania rozproszonego przesyła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znacznik)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ędzy kolejnymi monitorami. Wiadomość ta zawier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yfikator inicjator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– init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 sekwencyj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yklu detekcji zainicjowanego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Accu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my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wiedzonych już przez znacz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e flagi niepoprawności procesu detek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valid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a ta przyjmuje ostateczni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eżeli którykolwiek proces aplikacyjny otrzymał między kolejnymi cyklami detekcji wiadomość, która narusza warunek konieczny poprawności detekcji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okenIn.detect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72D5-66E8-4286-B21B-F7E11AD5101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s treśc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00" y="1319040"/>
            <a:ext cx="792288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cje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synchroniczn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dyfuzyjn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atomow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dnofazowy algoryt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ktorowy algoryt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gorytm detekcji zakończenia dynamiczn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3D22-3C53-4C30-A0B3-03B3E6F1E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ednofazowy algorytm detekcji zakończenia dla modelu atomow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584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84ED-82DF-4D4C-AEC2-F15D7A9A99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0880" y="1041480"/>
            <a:ext cx="59436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initI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RAccu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invali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59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2FD4-ED17-44C1-B3CC-EDFCBA79EE6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0880" y="1041480"/>
            <a:ext cx="82584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i="1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0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C0A4-03DF-4B16-9860-7A33739F57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2600" y="425520"/>
            <a:ext cx="426564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tabLst>
                <a:tab algn="l" pos="0"/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AK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tart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io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e_send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16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+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.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.data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e_receive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16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max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.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1600"/>
            </a:b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eliv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r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78160" y="977760"/>
            <a:ext cx="4930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pred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TOKEN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0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E71B-053D-4A9F-8909-80836B3A79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8680" y="938160"/>
            <a:ext cx="854064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ktorow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ywany jest wektor licznikó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ędący tablicą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y nie komunikują się same ze sob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tworzą strukturę o topologii pierści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rkulujący w pierścieniu znacznik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nos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ementowy wek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y sumę wektor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ów odwiedzonych już w danym cyklu detekcji przez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ażdego proces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ją liczbę wiadomości wysłanych przez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czasu ostatniej wizyty znaczn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ość bezwzględna elemen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 liczbę wiadomości odebranych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czasu ostatniej wizyty znaczn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owolnej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ch elementów wszystkich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..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, oraz wartości pozy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ktora cyrkulującego znacznik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okenIn.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est równa liczbie wiadomości będących w drodze 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A073-306A-471B-976A-3F5E9B509B0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8680" y="1062000"/>
            <a:ext cx="854064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oczyna detekcj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yłając znacznik typu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z wektorem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 =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icza indywidualnie wiadomości aplikacyjne wysłane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większając licznik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pozycji odpowiadającej procesowi przeznaczeni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drugiej strony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niejsza licznik własn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odebrana zostanie wiadomość aplikacyj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znacznika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uje własny wektor wiadom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 wektorem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artym w znaczniku. Warune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gt; 0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istnieje wiadomość aplikacyjna uwzględniona już w znacznik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wysłana d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która nie została jeszcze odebr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 tym wypadku znacznik jes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rzymywan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 monitorz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ie jest dalej wysyłany), a jego dalsze przesłanie jest uwarunkowane otrzymaniem odpowiedniej liczby wiadomości aplikacyjnych przez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ałym przetwarzaniu, co najwyżej jeden z monitorów (procesów) ma licznik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&gt; 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9664-64AE-497E-BEEA-93291CBE7B6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7120" y="1312920"/>
            <a:ext cx="854064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żnymi charakterystykam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ktoroweg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u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kcji zakończeni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eliminowanie konieczności dołączania etykiet do wiadomości aplikacyjnych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rzymywanie znacznika do momentu spełnienia koniecznych warunków zakończenia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nywanie algorytmu w sposób ciągły aż do momentu stwierdzenia zakończenia przetwarzania aplikacyj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A6B7-21E1-4FD1-A43E-E61A89865C1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5680" y="258480"/>
            <a:ext cx="8407440" cy="934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modelu atomow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622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1502-FF91-4BBB-AF05-F1B81485267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0880" y="1041480"/>
            <a:ext cx="59436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ata 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vSRAccu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3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A54-182E-4B26-8782-F85B8F0725C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irstWa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38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1ED5-279F-4BEC-9142-32EA827E1EF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s algorytmó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79440" y="101592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la modelu synchron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79440" y="166356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379440" y="2313000"/>
            <a:ext cx="84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379440" y="2960640"/>
            <a:ext cx="83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379440" y="3610080"/>
            <a:ext cx="83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staty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379440" y="425916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ynam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B35E-3649-4FAD-9A45-67BE7F519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252360"/>
            <a:ext cx="486108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tabLst>
                <a:tab algn="l" pos="0"/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AK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tart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io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OK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=0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90000"/>
              </a:lnSpc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70000"/>
              </a:lnSpc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30680" y="923760"/>
            <a:ext cx="4187880" cy="63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end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MESSAG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+ 1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O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Qj, Qi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In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ACKE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I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In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In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500"/>
            </a:b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=0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3E52-A9AF-49E2-8D8F-AE241150A92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2227320" y="1995480"/>
            <a:ext cx="4408200" cy="2539080"/>
            <a:chOff x="2227320" y="1995480"/>
            <a:chExt cx="4408200" cy="2539080"/>
          </a:xfrm>
        </p:grpSpPr>
        <p:grpSp>
          <p:nvGrpSpPr>
            <p:cNvPr id="653" name=""/>
            <p:cNvGrpSpPr/>
            <p:nvPr/>
          </p:nvGrpSpPr>
          <p:grpSpPr>
            <a:xfrm>
              <a:off x="2716200" y="2224080"/>
              <a:ext cx="3919320" cy="2028960"/>
              <a:chOff x="2716200" y="2224080"/>
              <a:chExt cx="3919320" cy="2028960"/>
            </a:xfrm>
          </p:grpSpPr>
          <p:sp>
            <p:nvSpPr>
              <p:cNvPr id="654" name=""/>
              <p:cNvSpPr/>
              <p:nvPr/>
            </p:nvSpPr>
            <p:spPr>
              <a:xfrm>
                <a:off x="2716200" y="22240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6200" y="360036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16200" y="29098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200" y="425304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227320" y="1995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27320" y="26812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27320" y="33717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27320" y="40244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6480" y="1728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996280" y="1798560"/>
            <a:ext cx="1038240" cy="1138320"/>
            <a:chOff x="2996280" y="1798560"/>
            <a:chExt cx="1038240" cy="1138320"/>
          </a:xfrm>
        </p:grpSpPr>
        <p:grpSp>
          <p:nvGrpSpPr>
            <p:cNvPr id="664" name=""/>
            <p:cNvGrpSpPr/>
            <p:nvPr/>
          </p:nvGrpSpPr>
          <p:grpSpPr>
            <a:xfrm>
              <a:off x="2996280" y="1798560"/>
              <a:ext cx="447480" cy="487440"/>
              <a:chOff x="2996280" y="1798560"/>
              <a:chExt cx="447480" cy="487440"/>
            </a:xfrm>
          </p:grpSpPr>
          <p:sp>
            <p:nvSpPr>
              <p:cNvPr id="665" name=""/>
              <p:cNvSpPr/>
              <p:nvPr/>
            </p:nvSpPr>
            <p:spPr>
              <a:xfrm>
                <a:off x="3259080" y="21337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996280" y="1798560"/>
                <a:ext cx="447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9900"/>
                    </a:solidFill>
                    <a:latin typeface="Arial"/>
                  </a:rPr>
                  <a:t>E</a:t>
                </a:r>
                <a:r>
                  <a:rPr b="1" lang="en-US" sz="1600" spc="-1" strike="noStrike" baseline="-25000">
                    <a:solidFill>
                      <a:srgbClr val="ff99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30000">
                    <a:solidFill>
                      <a:srgbClr val="ff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573360" y="2479680"/>
              <a:ext cx="461160" cy="457200"/>
              <a:chOff x="3573360" y="2479680"/>
              <a:chExt cx="461160" cy="457200"/>
            </a:xfrm>
          </p:grpSpPr>
          <p:sp>
            <p:nvSpPr>
              <p:cNvPr id="668" name=""/>
              <p:cNvSpPr/>
              <p:nvPr/>
            </p:nvSpPr>
            <p:spPr>
              <a:xfrm>
                <a:off x="3573360" y="27846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87040" y="2479680"/>
                <a:ext cx="447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9900"/>
                    </a:solidFill>
                    <a:latin typeface="Arial"/>
                  </a:rPr>
                  <a:t>E</a:t>
                </a:r>
                <a:r>
                  <a:rPr b="1" lang="en-US" sz="1600" spc="-1" strike="noStrike" baseline="-25000">
                    <a:solidFill>
                      <a:srgbClr val="ff9900"/>
                    </a:solidFill>
                    <a:latin typeface="Arial"/>
                  </a:rPr>
                  <a:t>2</a:t>
                </a:r>
                <a:r>
                  <a:rPr b="1" lang="en-US" sz="1600" spc="-1" strike="noStrike" baseline="30000">
                    <a:solidFill>
                      <a:srgbClr val="ff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3376440" y="2284560"/>
              <a:ext cx="235080" cy="5029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31800" y="965160"/>
            <a:ext cx="2741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2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705760" y="2479320"/>
            <a:ext cx="3171240" cy="2142720"/>
            <a:chOff x="2705760" y="2479320"/>
            <a:chExt cx="3171240" cy="2142720"/>
          </a:xfrm>
        </p:grpSpPr>
        <p:grpSp>
          <p:nvGrpSpPr>
            <p:cNvPr id="673" name=""/>
            <p:cNvGrpSpPr/>
            <p:nvPr/>
          </p:nvGrpSpPr>
          <p:grpSpPr>
            <a:xfrm>
              <a:off x="4996800" y="2479320"/>
              <a:ext cx="880200" cy="1209960"/>
              <a:chOff x="4996800" y="2479320"/>
              <a:chExt cx="880200" cy="120996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996800" y="3201840"/>
                <a:ext cx="447480" cy="487440"/>
                <a:chOff x="4996800" y="3201840"/>
                <a:chExt cx="447480" cy="4874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275440" y="35370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96800" y="32018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 flipV="1">
                <a:off x="5419800" y="2479320"/>
                <a:ext cx="457200" cy="102060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705760" y="3144960"/>
              <a:ext cx="789840" cy="1477080"/>
              <a:chOff x="2705760" y="3144960"/>
              <a:chExt cx="789840" cy="147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3002040" y="3651120"/>
                <a:ext cx="407880" cy="54936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2705760" y="3144960"/>
                <a:ext cx="447480" cy="506160"/>
                <a:chOff x="2705760" y="3144960"/>
                <a:chExt cx="447480" cy="5061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73160" y="34988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705760" y="314496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002760" y="4170240"/>
                <a:ext cx="492840" cy="451800"/>
                <a:chOff x="3002760" y="4170240"/>
                <a:chExt cx="492840" cy="4518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343320" y="41702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002760" y="4251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4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3828240" y="3189240"/>
              <a:ext cx="858240" cy="1432800"/>
              <a:chOff x="3828240" y="3189240"/>
              <a:chExt cx="858240" cy="143280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828240" y="4170240"/>
                <a:ext cx="447480" cy="451800"/>
                <a:chOff x="3828240" y="4170240"/>
                <a:chExt cx="447480" cy="451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838680" y="41702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828240" y="4251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4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 flipV="1">
                <a:off x="3960720" y="3669840"/>
                <a:ext cx="265320" cy="47628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170240" y="3189240"/>
                <a:ext cx="516240" cy="500040"/>
                <a:chOff x="4170240" y="3189240"/>
                <a:chExt cx="516240" cy="5000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170240" y="35370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239000" y="3189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266000" y="1795320"/>
            <a:ext cx="889560" cy="1224000"/>
            <a:chOff x="4266000" y="1795320"/>
            <a:chExt cx="889560" cy="1224000"/>
          </a:xfrm>
        </p:grpSpPr>
        <p:sp>
          <p:nvSpPr>
            <p:cNvPr id="695" name=""/>
            <p:cNvSpPr/>
            <p:nvPr/>
          </p:nvSpPr>
          <p:spPr>
            <a:xfrm>
              <a:off x="4545000" y="2251080"/>
              <a:ext cx="306360" cy="58896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66000" y="179532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25840" y="2119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86200" y="28670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946760" y="2370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B382-4356-40FA-A5D0-AAB6BD2C51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53880" y="7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920" y="1009800"/>
            <a:ext cx="877716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ie wykorzystano koncepcję ciągu cykli detekcyjnych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gdzi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y są logicznie połączone w strukturę topologiczną gwi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stwierdzenia zakończenia statycznego przetwarzania aplikacyjnego określonego przez predykat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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detekcję przez wysłanie do wszystkich monitorów, w tym do siebie, wiadomości kontrolnej typ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odpowiedzi monitory przesyłają 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e zmienną logiczną w pol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wszystkich odpowiedzi, inicjator wyznacza iloczyn logiczny otrzymanych zmiennych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wartość 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360" indent="-29052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yjmuj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wierdza zakończ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360" indent="-290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przeciwnym przypadku inicjator wysyła ponownie zapytanie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F2CD-387A-4059-86FA-3B5CB32FD8B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53880" y="7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212840"/>
            <a:ext cx="85071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y uniknąć pominięcia wiadomości aplikacyjnej, która została wysłana przed otrzymaniem zapytania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pewien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odebrana po otrzymaniu zapytania przez inny monitor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wprowadzona jest zmienna logiczn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która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inicjowana wartości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ażdym razem, gd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uaktywniany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uj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 kolei wysyłając wiadomość kontroln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y nadają 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owni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anej chwili oznacza, że proce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ł pasywny przez cały czas od chwili wysłania ostatniej wiadomości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0BFC-9D55-4496-B0EA-1B03FEE4130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706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35BB-33F7-43F6-AD91-E6478A4B445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80880" y="1041480"/>
            <a:ext cx="59436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ACK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14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A245-3312-43D0-A0A0-391F047607F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80880" y="1041480"/>
            <a:ext cx="82584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uery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plyOut, reply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ack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ACK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t of 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2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33A1-CC1E-4A3E-98EA-34F99821293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0" y="817560"/>
            <a:ext cx="9144000" cy="5854680"/>
            <a:chOff x="0" y="817560"/>
            <a:chExt cx="9144000" cy="5854680"/>
          </a:xfrm>
        </p:grpSpPr>
        <p:sp>
          <p:nvSpPr>
            <p:cNvPr id="729" name=""/>
            <p:cNvSpPr/>
            <p:nvPr/>
          </p:nvSpPr>
          <p:spPr>
            <a:xfrm>
              <a:off x="0" y="817560"/>
              <a:ext cx="4951440" cy="58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tabLst>
                  <a:tab algn="l" pos="0"/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e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e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QUERY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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at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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92760" y="1212840"/>
              <a:ext cx="4251240" cy="50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: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k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AC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k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_activat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32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B214-4FDA-4AD1-9E40-6C7E627D0B7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0520" y="873000"/>
            <a:ext cx="8507520" cy="43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ie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wysłania odpowiedzi przez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ym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klu dete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rozpoczęcia 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ego cykl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zakończenia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ego cykl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wartością zmiennej (predykatu)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jest dodatkowym procesem, nie związanym z procesami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kacyj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achodz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2600" y="4379760"/>
            <a:ext cx="8589960" cy="13554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etekcji zakończenia statycznego 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nywany w chwili, gdy przetwarzanie aplikacyjne osiągnęło stan zakończenia statycznego, to algorytm ten zakończy się w skończonym czasie, stwierdzając wystąpienie zakończenia statycznego przetwarzania aplikacyjnego (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2EB8-8B9B-4832-929E-493314F4674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5680" y="941400"/>
            <a:ext cx="845640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przetwarzanie aplikacyjne osiągnęło stan zakończenia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zgodnie z definicją, od tego momentu wszystkie procesy będą zawsze pasywne 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ich warunki uaktywnienia nie będą spełnion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 ponadto w kanałach nie będzie znajdowała się żadna wiadomość aplikacyjna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ąd, w skończonym czasie zostaną w systemie odebrane potwierdzenia od monitorów, i licznik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ą wartość 0. Oznaczmy tę chwilę przez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czywiście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d momentu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ieżący cykl detekcyjny nie będzie z pewnością wstrzymywany przez monit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uważmy jednak, że pewne monitory w tym cyklu mogły wysłać odpowiedz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d momentem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tąd, dopiero następny cykl detekcyjny z pewnością przypisze już na stałe wszystkim zmiennym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onsekwencji, przez cały kolejny cykl detekcyjn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, wszystkie zmienne logicz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 miały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. Po odebraniu zatem wiadomośc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przyjęciu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c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gorytm zakończy si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F75C-83F2-47A2-B441-38D4BA632CB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280" y="1847880"/>
            <a:ext cx="83469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z proces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+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 za zadanie uporządkować (posortować) przypisany mu na wstępie zbiór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wyznaczyć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astępnie procesy wysyłają element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swoich lewych sąsiadów i oczekują na odpowiedź zawierając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 otrzymaniu wiadomości z  wartości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zed wysłaniem odpowiedzi,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znacza nowy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ogólności, nowo wyznaczon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 być równy otrzymanemu ostatni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astępnie każdy z procesów wysyła odpowiedź ze swoim elementem maksymalnym do prawego sąsiada. Po otrzymaniu odpowiedzi, procesy znów sortują zbiory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jeśli w wyniku tego sortowania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óżnić się będzie od poprzednio wysłanego elementu minimalnego, to proces wysyła ten nowy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lewego sąsi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2680" y="10638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1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zproszone sor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01FB-4DB2-4575-A1B1-DEA823CCA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7128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4520" y="1811160"/>
            <a:ext cx="850752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dwa kolejne cykle detekcyjne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a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łóżmy, że algorytm stwierdza zakończenie przetwarzania aplikacyjnego kończąc cykl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więc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cykle są inicjowane sekwencyjnie, istnieje taki moment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owodnimy, że jeżel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twarzanie aplikacyjne jest statycznie zakończone, a wię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ymi słowy wykażemy, że dla wszystkich procesów spełnione będą następujące warunk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1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.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3.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0360" y="792000"/>
            <a:ext cx="8478720" cy="100872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stwierdza wystąpienie zakończenia statycznego przetwarzania aplikacyjnego, to przetwarzanie aplikacyjne jest w istocie w stanie zakończenia statycz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177A-F1BF-4C90-8D29-067D7EC1B7A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7360" y="1093680"/>
            <a:ext cx="8271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nstrukcji  algorytmu wynika,  że zakończy się on  w chwili 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ylko wówczas, gdy każdy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ł pasywny w czasie między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koro jednak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możemy zatem wnosić, że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7360" y="3075120"/>
            <a:ext cx="832644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odnie z konstrukcją algorytmu, w każdym cyklu detekcyjnym odpowied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wstrzymywana aż do momentu nadejścia potwierdzeń od monitorów procesów przeznaczenia, dla wszystkich wysłanych wcześniej wiadomości aplikacyjn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wcza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zyjmie wartość 0. Z drugiej strony można jednak zauważyć, że od chwili 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ciągle pasywny, a więc nie wysyła wiadomości. Stąd więc wnosimy, że dla każdego procesu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44B0-5DEE-47EA-9F9D-DFF0BD0B75A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1920" y="1039680"/>
            <a:ext cx="850716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3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konstrukcji algorytmu wynika, że w każdym cyklu detekcyjnym odpowiedź jest opóźnian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momentu uzyskania przez predykat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art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koro algorytm kończy się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predykat </a:t>
            </a:r>
            <a:br>
              <a:rPr sz="2000"/>
            </a:b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miał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w przedziale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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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ł przez cały czas pasywny, żadna wiadomość nie została w tym czasie odebrana. Stąd też, w przedziale tym do zbioru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ły być co najwyżej dołączone dodatkowe wiadomości. W efekcie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1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własności monotoniczności predyka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przy tym wnioskować, że skoro zachodz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to również zachodz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azaliśmy zatem, że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łnione są warunki C1, C2 i C3, a więc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predykat ten jest stabilny, więc również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w tym również dla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4715-D609-4D11-A6D1-E457A9C087B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1920" y="905040"/>
            <a:ext cx="850716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ywność, a także złożoność czasowa i komunikacyjna, algorytmu zależy od implementacji cykli detekcyjnych i topologii przetwarzania monitorując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wyznaczenia złożoności czasowej zauważmy, że po wystąpieniu zakończenia statycznego, dla jego stwierdzenia potrzebne są w najgorszym przypadku dwa pełne cykle detekcyj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ora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 być dokończony cykl bieżą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ażdym cyklu przesyłanych jes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noszących jednobitową zmienną. Tak więc zaniedbując wiadomości potwierdzeń (których liczba jest równa liczbie wiadomości aplikacyjnych), otrzymujemy liczbę wiadomości kontrolnych wystarczających do stwierdzenia zakończenia, równą: 3 × 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ijmy teraz, że struktura topologiczna przetwarzania detekcyjnego jest grafem w pełni połączonym. Pomijając ponownie wiadomości potwierdzeń, łatwo już zauważyć, że złożoność czasowa algorytmu wynosi 3. Oczywiście przy innych topologiach złożoność ta zmienia się odpowiednio. Przykładowo, w przypadku pierścienia złożoność czasowa wyniesie 3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3336-3D20-41DA-9ACF-7DD38E7FF02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824040"/>
            <a:ext cx="8254800" cy="61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wyznaczenia wartości predykat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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roponowano algorytm, który stosuje mechanizm cykli detekcyjnych oraz wiadomości kontrolne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Monitor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twarzania detekcyjnego posiadają następujące zmienne lokalne, wykorzystywane w procesie detekcj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a logiczna, której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proces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zostawał pasywny od momentu wysłania ostatniej wiadomości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ica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liczników, w której elemen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liczbę wiadomości wysłanych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ica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liczników, w której elemen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znacza liczbę wiadomości odebranych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proces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adto, inicjator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chowuje zmienną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cą tablicą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ers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j tablicy zawiera 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słany ostatnio do inicjator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 wiadomości kontrolnej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cie, każdy element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rezentuje wiedzę inicjatora, o liczbie wiadomości aplikacyjnych wysłanych z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uważmy, że wiedza ta nie jest precyzyjna, gdyż nadesłane wektor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,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noszą się w ogólności do różnych momentów czas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5209-2778-443E-A03E-34EEE0BE132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847800"/>
            <a:ext cx="888048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detekcj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cykl detekcyjny wysyłając do wszystkich monitoró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ć kontrolną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awierającą w pol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wiednią kolumnę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ktor ten informuje odbiorcę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 znanej inicjatorow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zbie wiadomości wysłanych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 inne proce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zapytania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 wyznaczyć zbiór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cy aproksymacją zbioru tych procesów, których wiadomości wysłane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 potencjalnie jeszcze w kanałach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ów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ywan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jest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ueryIn.vSentN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brany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żel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ueryIn.vSentN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w kanal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,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najdą się wiadomości wysłane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nie odebrane jeszcze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żd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monitorów wyznacza wartość zmienne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edy i tylko wtedy, gd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edyka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wyznaczeniu wartośc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 wysyła odpowiedź typ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ą pol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az aktualny 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będzie użyty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uaktualnienia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gorytm stwierdza wykrycie zakończenia dynamicznego przetwarzania aplikacyjnego, gdy wszystkie odebrane w danym cyklu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In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ją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 przeciwnym wypadk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następny cykl detekcyj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2B21-2626-4B6D-B720-979C3C88D04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dynami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758" name=""/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8CB5-688E-4A0F-A6DD-A2DDC60542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0880" y="1041480"/>
            <a:ext cx="69994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n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66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212D-4F11-4539-A3E4-002F3D7EFD0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80880" y="1041480"/>
            <a:ext cx="82584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uery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plyOut, reply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</a:t>
            </a:r>
            <a:r>
              <a:rPr b="1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sz="2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sz="2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Term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7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675D-95B5-4FC4-9DD0-02862A13226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0" y="666720"/>
            <a:ext cx="9105840" cy="6604560"/>
            <a:chOff x="0" y="666720"/>
            <a:chExt cx="9105840" cy="6604560"/>
          </a:xfrm>
        </p:grpSpPr>
        <p:sp>
          <p:nvSpPr>
            <p:cNvPr id="781" name=""/>
            <p:cNvSpPr/>
            <p:nvPr/>
          </p:nvSpPr>
          <p:spPr>
            <a:xfrm>
              <a:off x="0" y="666720"/>
              <a:ext cx="432576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tabLst>
                  <a:tab algn="l" pos="0"/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e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, 2,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, 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e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k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, 2,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,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repea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67240" y="1036800"/>
              <a:ext cx="4638600" cy="62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QUERY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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=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: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&gt;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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at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</a:t>
              </a:r>
              <a:r>
                <a:rPr b="0" i="1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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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activat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8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F909-D205-4CFA-96D9-68E4AE3FE41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680" y="1743120"/>
            <a:ext cx="8346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sortowania rozproszonego zostaje osiągnięty, gdy uporządkowany zostanie każdy zbiór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onadto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0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roblem jednak w tym, że każdy proces ma tylko wiedzę lokalną, dotyczącą jego lokalnego zbioru i częściowo zbiorów bezpośrednich sąsiadów. Na tej podstawie procesy nie mogą jednak wnioskować o zakończeniu całego przetwarzania. Potrzebny jest zatem dodatkowy mechanizm pozwalający stwierdzić, że globalne warunki zakończenia sortowania rozproszonego zostały spełn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7DB3-FEFC-447B-A916-A24C13F5F5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2640" y="2178000"/>
            <a:ext cx="8110800" cy="13554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jest wykonywany w chwili, gdy przetwarzanie aplikacyjne osiągnęło stan zakończenia dynamicznego, to algorytm ten zakończy si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skończonym czasie, stwierdzając wystąpienie dynamicznego zakończenia przetwarzania aplikacyjnego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Termination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A1A5-D00C-4357-AF60-CD686677B8D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3880" y="822240"/>
            <a:ext cx="8394840" cy="55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kl detekcyjny nie jest wstrzymywany przez monitory, a więc inicjator otrzyma odpowiedź od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skończonym cza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akładamy, ż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twarzanie aplikacyjne osiągnęło stan zakończenia dynamicznego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. Od tego momentu zatem, wszystkie procesy pozostają ciągle pasywn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 więc każdy cykl zainicjowany po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wiedzmy cykl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ada wszystkim zmiennym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 odbierze od monitoró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ktor końcowych wartości licznikó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Dlatego,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ęcia kolejnego cyklu detekcyjnego, wysłane zostaną ostateczne wartości liczników wiadomości wysłanych, a stąd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efekcie otrzymujemy, ż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ten ostatni predykat ma wartość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d 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w cykl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zystkie zmien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In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 miały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 w efekcie algorytm detekcji dynamicznego zakończenia przetwarzania aplikacyjnego, zakończy się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D77A-0532-4E62-BAAD-8193351217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66480" y="3060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200" y="1120680"/>
            <a:ext cx="8483760" cy="100872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stwierdza wystąpienie dynamicznego zakończenia przetwarzania rozproszonego, to przetwarzanie aplikacyjne jest w istocie w stanie zakończenia dynami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9880" y="2416320"/>
            <a:ext cx="855684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aczymy dwa ostatnie cykle detekcyjne odpowiednio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zez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ki moment, ż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alszej części dowodu pokażemy, że jeżeli algorytm zakończy się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 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znacza to dalej, że są spełnione następujące dwa warunki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br>
              <a:rPr sz="9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4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5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91B3-6B9C-4B73-B549-D150E119123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0200" y="1104840"/>
            <a:ext cx="8155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nstrukcji algorytmu wynika, że algorytm ten zakończy się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 warunkiem, że predyka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ał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każdy proces był pasywny w przedzial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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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la każdego zachodz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algn="just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29052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6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algn="just"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29052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raz  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znaczając zbiór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ów, od których wiadomości są aktualnie transmitowane do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gorytm uwzględnia w istocie następujące zależnoś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yż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gueryIn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uważmy, że liczniki są monotonicz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669C-6177-40A6-BC84-B529316852B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328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7960" y="1319040"/>
            <a:ext cx="815652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5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(c.d.)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dla każdeg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różnica między rzeczywisty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iorem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 jego aproksymacją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że wynikać tylko z dotarcia pewnych wiadomości do procesów docelowych. Wówczas jednak odpowiedni nadawcy zostaną uwzględnieni w zbiorze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ak więc, biorąc pod uwagę C6 możemy wnosi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]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ej, z monotoniczności predykat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nika, że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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warunek C5 jest spełnio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8C7C-3EA8-4707-9F30-15B91305FC4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36180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4200" y="133668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b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ryć wystąpienie zakończenia dynamicznego, niezbędne są w najgorszym wypadku dwa cykle detekcyjne po zakończeniu cyklu bieżąc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nieważ nie 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syłane potwierdz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i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złożoność komunikacyjna algorytmu wy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s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kontroln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ty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ą bardziej złożone, gdyż zawierają wektory licznik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późnienie detekcji jest mniejsze, ze względu na brak konieczności oczekiwania na potwierdzenia. Ponadto, 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stąpienie zakończenia dynamicznego wyprzedza w czasie wystąpienie zakończenia statycznego. Uzyskane w sumie przyspieszenie momentu wykrycia zakończenia obliczeń rozproszonych może zatem mieć istotne znaczenie praktyczne, zwłaszcza w zastosowaniach czasu rzeczywist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5185-A9B8-4939-9790-FC6E74FC98E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85840" y="5447880"/>
            <a:ext cx="5257800" cy="96516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00"/>
                </a:solidFill>
                <a:latin typeface="Times New Roman"/>
              </a:rPr>
              <a:t>Konie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50680" y="1726920"/>
            <a:ext cx="30985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żyli dłu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zczęśliw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j0078843" descr=""/>
          <p:cNvPicPr/>
          <p:nvPr/>
        </p:nvPicPr>
        <p:blipFill>
          <a:blip r:embed="rId1"/>
          <a:stretch/>
        </p:blipFill>
        <p:spPr>
          <a:xfrm>
            <a:off x="4338720" y="2135160"/>
            <a:ext cx="23716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280" y="241632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względu na możliwe zmiany uporządkowania wiadomości w kanałach otrzymanie wiadomości kolor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ed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e przesądzało o tym, że w kanałach nie ma już wcześniej wysłanych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jednak zbiór otrzymanych przez proces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ed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 stan kanału w wyznaczanym obrazie stanu globalnego, niezbędne jest niezależne od procesu konstrukcji obrazu stanu globalnego sprawdzenie, czy w kanałach nie ma jeszcze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Dopiero bowiem wówczas, gdy stwierdzimy, że wszystkie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stały odebrane, wyznaczone stany kanałów odpowiadają spójnemu obrazowi stanu global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1292400"/>
            <a:ext cx="829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00"/>
                </a:solidFill>
                <a:latin typeface="Times New Roman"/>
              </a:rPr>
              <a:t>Przykład 2: A</a:t>
            </a:r>
            <a:r>
              <a:rPr b="0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gorytm Matterna konstrukcji spójnego obrazu stanu globalnego w środowisku z kanałami </a:t>
            </a:r>
            <a:r>
              <a:rPr b="0" i="1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nFIFO</a:t>
            </a:r>
            <a:r>
              <a:rPr b="0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BAA4-E20D-4998-84FA-3F785AB76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9:47:03Z</dcterms:created>
  <dc:creator>J.A. Kobusińscy</dc:creator>
  <dc:description/>
  <dc:language>en-US</dc:language>
  <cp:lastModifiedBy>Jerzy Brzeziński</cp:lastModifiedBy>
  <dcterms:modified xsi:type="dcterms:W3CDTF">2005-05-19T07:33:01Z</dcterms:modified>
  <cp:revision>494</cp:revision>
  <dc:subject>Detekcja zakończenia</dc:subject>
  <dc:title>Podstawy Przetwarzania Rozproszonego</dc:title>
</cp:coreProperties>
</file>