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0DB-0AB3-4E44-9C18-EEC5B961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DDE-4778-4F26-847D-6E8B6290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591-3458-4B33-A274-0546730A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C18-D788-4CFA-8DF6-AB2EEFFE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9B4-CFCA-4FC8-9CAB-E254ED42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725-8BED-4FCB-A126-A710EAF2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3A8-26C1-4BCF-8F6D-B142A8EC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62C-910D-45AA-B7A3-1AF6ED49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2FC-474D-4860-9FB1-13F9999C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399-FD86-415A-B4D1-0D4344DD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AC9-2B13-488C-8595-58687290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CBB-10CB-4683-8747-E3BFCF06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647A-8BC6-488D-9A8C-97C29BBA6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cc"/>
                </a:solidFill>
                <a:latin typeface="Times New Roman"/>
              </a:rPr>
              <a:t>Indek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rzadkie i indeksy gę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2876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328760" y="1376280"/>
          <a:ext cx="64864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76280"/>
                    <a:ext cx="64864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podstawowe i indeksy wtór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zdefiniowany na zbiorze atrybutów zawierającym klucz podstawowy relacji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indeksem podstaw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, który nie jest indeksem podstawowym,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indeksem wtór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Duplikatam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zywamy rekordy indeksu o tej samej wartości klu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podstawowy nie zawiera dupl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wtórny może zawierać duplik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o kluczach złożo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ucz indeksu może zawierać kilka atrybutów – taki klucz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kluczem złożo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blemy z realizacją zapyta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pytania punktow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ge=20; sal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pytania z przedziałem wartośc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g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o kluczach złożo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5264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52640" y="1523880"/>
          <a:ext cx="703872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523880"/>
                    <a:ext cx="703872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Specyfikacja indeksów w SQL-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ATE 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IndAgeR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T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(age,gp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prowadze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zdefiniowany na pliku jest dodatkową strukturą fizyczną, której celem jest przyśpieszenie wykonywania operacji, które niesą dostatecznie wspierane przez podstawowe struktury logiczne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ksy są zakładane na pojedynczych atrybutach lub zbiorach atrybutów rel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ybuty te noszą nazwę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ybutów indeksowyc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ks jes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rządkowanym plikiem rekordów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u (ang. data entry)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łej długości. Rekordy indeksu zawierają dwa pola: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uc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zentujący jedną z wartości występujących w atrybutach indeksowych relacji oraz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kaźni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o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nych zawierający krotk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tórej atrybut indeksowy równy jest kluczow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prowadze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żdy rekord indeks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znacz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*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wiera dostateczną informacj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możliwiającą wyszukan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dnego lub więce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kordów danych o wartości kluc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yt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jaki sposób rekordy indeksu powinny być zorganizowane, aby efektywnie wspierać wyszukiwanie rekordów o danej wartości kluc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 powinien zawierać rekord indek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kordy indeks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kord indek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*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możliwia wyszukanie rekordów danych o wartości kluc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tery typy rekordów indek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 indeksu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rekordem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 wartości kluc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 indeksu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ą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k, rid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d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dentyfikat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u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 wartości kluc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 indeksu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ą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k, rid-list&gt;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d-lis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stą identyfikatorów rekordów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 wartości kluc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 indeksu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ą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k,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bitmap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gdz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itma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ektorem 0 i 1 reprezentującym zbiór rekordów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zgrupowane i nie zgrupow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plik danych jest zorganizowany w ten sposób, że porządek rekordów danych jest taki sam lub zbliżony do uporządkowania rekordów indeksu, to taki indeks nazywamy indeksem zgrupowanym (ang.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d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i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indeksem zgrupowanym z defini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ia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i (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gą być indeksami zgrupowany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edy i tylko wtedy, gdy rekordy danych są uporządkowane wg. wartości atrybutu indeks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 zgrupow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97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09760" y="1285920"/>
          <a:ext cx="812448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85920"/>
                    <a:ext cx="812448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 nie zgrupow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97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09760" y="1285920"/>
          <a:ext cx="812448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85920"/>
                    <a:ext cx="812448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zgrupowane i nie zgrupow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omentar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y danych są rzadko uporządkowane (wysoki koszt pielęgnacji plików uporządkowanych) – wymaga stron przepełni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y zgrupowane są kosztowne w pielęgn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lik danych może być zgrupowany tylko wg. jednego atrybutu indeks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pytania z przedziałem wartoś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szt zapytania zależy od typu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rzadkie i indeksy gę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gęsty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jeżeli zawier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u per rekord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rzadki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jeżeli zawier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u per strona rekordów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liku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lik danych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odwrócony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zględem atrybu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istnieje indeks wtórny na tym atrybu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lik danych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w pełn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odwrócony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jeżeli istnieje indeks wtórny na każdym atrybuc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6:14:37Z</dcterms:created>
  <dc:creator>Tadeusz Morzy</dc:creator>
  <dc:description/>
  <dc:language>en-US</dc:language>
  <cp:lastModifiedBy>Tadeusz Morzy</cp:lastModifiedBy>
  <dcterms:modified xsi:type="dcterms:W3CDTF">2001-11-27T19:03:50Z</dcterms:modified>
  <cp:revision>19</cp:revision>
  <dc:subject/>
  <dc:title>Indeksy</dc:title>
</cp:coreProperties>
</file>