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B27-3DFF-4B24-9690-B3C48769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1E8-5F10-47D2-BF9D-E338EFD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FBC-7829-48EF-9F4C-DA7F340F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E1E-6393-4E10-8664-951C3D0A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9AF-E137-4E0C-AFC9-8BA5B10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86D-97B4-462D-AA08-4370E42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205-CB42-4D83-94F8-6774F4C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BF2-658A-4D94-B228-E7624E13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AA5-A80C-4E55-BAD7-8538F02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752-DA01-47DB-B9F8-AAC1DF1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326-0347-43BC-BC09-F723948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B55-DA38-42E4-A336-AD2BB0C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698-8169-4B05-AA15-5AC0E3CE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Transformacja modelu EER do modelu relacyj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8600" y="29988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związku M: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59320" y="2743200"/>
            <a:ext cx="3784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wórz schemat relacji związk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związku typ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: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owy schemat relacji zawie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e ob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dpowiadają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om podstawow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iązanych en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graniczenia referencyjne są definiowane dla kluczy obcy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e obce tworzą klucz podstawowy utworzonego schematu relacji związ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480" y="1670040"/>
            <a:ext cx="14652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0240" y="1670040"/>
            <a:ext cx="167868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projec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start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en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960" y="1930320"/>
            <a:ext cx="14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9880" y="193032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8480" y="2125800"/>
            <a:ext cx="23605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94040" y="1994040"/>
            <a:ext cx="2142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87560" y="2127240"/>
            <a:ext cx="20160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27040" y="1974960"/>
            <a:ext cx="2206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33880" y="2120760"/>
            <a:ext cx="22068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98520" y="213516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7080" y="17413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8840" y="2614680"/>
            <a:ext cx="1963800" cy="3682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12920"/>
            <a:ext cx="5257800" cy="33843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_na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rt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nd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ORKS-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employees(emp_i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_nam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IMARY KEY(emp_id, proj_name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5902200" cy="10206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binarnych związków rekursyw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80880"/>
            <a:ext cx="3276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guły transform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dobne do stosowanych dla związków binarny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typ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:1, 1:N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: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5400" y="1262160"/>
            <a:ext cx="407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binarny rekursywny 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800" y="4973760"/>
            <a:ext cx="418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binarny rekursywny M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120" y="3151080"/>
            <a:ext cx="411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binarny rekursywny 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40" y="1657440"/>
            <a:ext cx="1282320" cy="10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600" y="3524400"/>
            <a:ext cx="1282320" cy="10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80" y="5338800"/>
            <a:ext cx="1373760" cy="82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# id_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o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9040" y="195516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3440" y="2665440"/>
            <a:ext cx="82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ar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5040" y="1655640"/>
            <a:ext cx="82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ar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9440" y="187632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120" y="3749760"/>
            <a:ext cx="12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8120" y="382860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5560" y="35672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mon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680" y="4721400"/>
            <a:ext cx="119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sub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7560" y="4551480"/>
            <a:ext cx="26496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90440" y="4544640"/>
            <a:ext cx="6840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04840" y="5466600"/>
            <a:ext cx="1155240" cy="11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3" y="406"/>
                </a:moveTo>
                <a:arcTo wR="10800" hR="10800" stAng="-4454372" swAng="14331185"/>
                <a:lnTo>
                  <a:pt x="10800" y="10800"/>
                </a:lnTo>
                <a:close/>
              </a:path>
              <a:path fill="none" w="21600" h="21600">
                <a:moveTo>
                  <a:pt x="13733" y="406"/>
                </a:moveTo>
                <a:arcTo wR="10800" hR="10800" stAng="-4454372" swAng="143311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5160" y="6180120"/>
            <a:ext cx="2714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19320" y="6180120"/>
            <a:ext cx="5544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7880" y="5373720"/>
            <a:ext cx="15696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34920" y="5570640"/>
            <a:ext cx="15084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5680" y="6141960"/>
            <a:ext cx="109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9720" y="5272200"/>
            <a:ext cx="109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urier New"/>
              </a:rPr>
              <a:t>sub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3440" y="1523880"/>
            <a:ext cx="451152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.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_spouse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173196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3800" y="3429000"/>
            <a:ext cx="429516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.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_boss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5320" y="363528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8000" y="5257800"/>
            <a:ext cx="5345280" cy="11898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QUIVALEN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me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dicines(id_med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eq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dicines(id_med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IMARY KEY (id_med, id_equ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65320" y="5359320"/>
            <a:ext cx="736560" cy="928800"/>
          </a:xfrm>
          <a:prstGeom prst="right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380880"/>
            <a:ext cx="4794120" cy="13161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związków ternar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325600"/>
            <a:ext cx="26370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wór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 relacji związk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związku ternarneg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r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owy schemat relacji zawie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e ob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dpowiadają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om podstawow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iązanych en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e obce tworzą klucz podstawowy utworzonego schematu relacji związ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685800"/>
            <a:ext cx="290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yp: „wiele” dla wszystkich  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0760" y="5075280"/>
            <a:ext cx="5892480" cy="1464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TICIPATION_IN_PRO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oles(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emp_id, project, role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8520" y="4602240"/>
            <a:ext cx="2595600" cy="40464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93880" y="1828800"/>
            <a:ext cx="6221160" cy="2593800"/>
            <a:chOff x="2693880" y="1828800"/>
            <a:chExt cx="6221160" cy="2593800"/>
          </a:xfrm>
        </p:grpSpPr>
        <p:sp>
          <p:nvSpPr>
            <p:cNvPr id="145" name=""/>
            <p:cNvSpPr/>
            <p:nvPr/>
          </p:nvSpPr>
          <p:spPr>
            <a:xfrm>
              <a:off x="2701080" y="2178000"/>
              <a:ext cx="103860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emp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9520" y="2178000"/>
              <a:ext cx="82512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1520" y="3690720"/>
              <a:ext cx="167868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# project_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3880" y="2438280"/>
              <a:ext cx="132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1960" y="2438280"/>
              <a:ext cx="81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1800" y="3943080"/>
              <a:ext cx="164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6520" y="2516040"/>
              <a:ext cx="1499040" cy="25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17360" y="2496600"/>
              <a:ext cx="179280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5560" y="2769840"/>
              <a:ext cx="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88480" y="3506040"/>
              <a:ext cx="12708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7360" y="3519360"/>
              <a:ext cx="10836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23000" y="2382480"/>
              <a:ext cx="1328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022640" y="2541240"/>
              <a:ext cx="1270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091280" y="2331720"/>
              <a:ext cx="21852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03520" y="2528640"/>
              <a:ext cx="21276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1160" y="3349440"/>
              <a:ext cx="1145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worked_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4280" y="201600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works_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6640" y="2187360"/>
              <a:ext cx="398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89240" y="1828800"/>
              <a:ext cx="3025800" cy="1282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36600"/>
            <a:ext cx="4800600" cy="1415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związków ternarny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658800"/>
            <a:ext cx="3252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yp: „jeden” dla jednej z 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55960" y="2276640"/>
            <a:ext cx="13525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48640" y="227664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0640" y="3789360"/>
            <a:ext cx="167868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projec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52720" y="253692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25369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0560" y="4041720"/>
            <a:ext cx="170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4320" y="2614680"/>
            <a:ext cx="15541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80240" y="2595600"/>
            <a:ext cx="1858680" cy="27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8440" y="286848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746680" y="3605040"/>
            <a:ext cx="13176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80240" y="3618000"/>
            <a:ext cx="11268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30800" y="2481120"/>
            <a:ext cx="1378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330800" y="2639880"/>
            <a:ext cx="131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56200" y="34480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ed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6760" y="211464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39680" y="228600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1760" y="5194440"/>
            <a:ext cx="5892480" cy="14641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TICIPATION_IN_PRO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mployees(emp_i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 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ojects(project_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oles(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emp_id, project, 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8520" y="4624560"/>
            <a:ext cx="2168280" cy="47592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289240"/>
            <a:ext cx="2583000" cy="38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wór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 relacji związk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związku ternarneg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er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owy schemat relacji zawie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e ob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dpowiadają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om podstawow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iązanych en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 podstawowy schematu relacji składa się z kluczy obcych do encji po stronie „wie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14360" y="22860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cja hierarchii generalizacj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do trzech schematów rel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70560" y="1498680"/>
            <a:ext cx="36734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wór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 relacji 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typ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wierające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 podstawow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wspól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az jeden atryb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efiniujący typ generaliz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20" y="1484280"/>
            <a:ext cx="4724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7960" y="188424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85320" y="188424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82840"/>
            <a:ext cx="5370480" cy="124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20760" y="236700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76680" y="236700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6480" y="1731960"/>
            <a:ext cx="53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20" y="3289320"/>
            <a:ext cx="3367080" cy="33843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9640" y="2886120"/>
            <a:ext cx="1498680" cy="2728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9640" y="3809880"/>
            <a:ext cx="544572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 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 EMPLOYEES w, CONTRACT_EMPLOYEES 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w.emp_id = cw.emp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 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EMPLOYEES w, HOURLY_EMPLOYEES f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w.emp_id = fw.emp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3016080"/>
            <a:ext cx="455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każdej encji 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typ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” utwórz schemat rel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ubtype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wierające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specyficzne i kluc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dstawow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ziedziczony z rel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typ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2040" y="177840"/>
            <a:ext cx="8420040" cy="12650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cja hierarchii generalizacj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do dwóch schematów rel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2781360"/>
            <a:ext cx="495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każdej encji 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typ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” utwórz schemat rel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„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ubtype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wierające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wspólne, atrybuty specyficzne, oraz klucz podstawow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ziedziczony z en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type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20" y="1603440"/>
            <a:ext cx="4724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796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8532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601640"/>
            <a:ext cx="5370480" cy="12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20760" y="248616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76680" y="2486160"/>
            <a:ext cx="149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6480" y="1851120"/>
            <a:ext cx="53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680" y="3670200"/>
            <a:ext cx="3314880" cy="256140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800" y="3054240"/>
            <a:ext cx="1569960" cy="43992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13320" y="4205160"/>
            <a:ext cx="5019120" cy="201276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job_type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‘CONTRAC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‘HOURL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HOURLY_EMPLOYE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2040" y="27612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formacja hierarchii generalizacj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do jednego schematu rel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1933560"/>
            <a:ext cx="3384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wórz jeden schemat relacji zawierają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wspóln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specyficz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az atryb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efiniujący typ generaliz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20" y="1603440"/>
            <a:ext cx="4724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mmon_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796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85320" y="2003400"/>
            <a:ext cx="157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HOU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pecific_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601640"/>
            <a:ext cx="5370480" cy="12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0760" y="248616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76680" y="248616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6480" y="1851120"/>
            <a:ext cx="53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8960" y="3695760"/>
            <a:ext cx="2914560" cy="17384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ommon_attribu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ecific_att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8320" y="3017880"/>
            <a:ext cx="1963800" cy="51120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2240" y="3695760"/>
            <a:ext cx="476928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TRACT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ob_type = ‘CONTRACT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HOURLY_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emp_id, common_attributes, specific_attr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mp_id, common_attributes, specific_at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here  job_type = ‘HOURLY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15800" y="358920"/>
            <a:ext cx="8420400" cy="676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łuk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606680" y="1109520"/>
            <a:ext cx="5857920" cy="1274400"/>
            <a:chOff x="1606680" y="1109520"/>
            <a:chExt cx="5857920" cy="1274400"/>
          </a:xfrm>
        </p:grpSpPr>
        <p:grpSp>
          <p:nvGrpSpPr>
            <p:cNvPr id="224" name=""/>
            <p:cNvGrpSpPr/>
            <p:nvPr/>
          </p:nvGrpSpPr>
          <p:grpSpPr>
            <a:xfrm>
              <a:off x="1606680" y="1208160"/>
              <a:ext cx="1320840" cy="1073160"/>
              <a:chOff x="1606680" y="1208160"/>
              <a:chExt cx="1320840" cy="1073160"/>
            </a:xfrm>
          </p:grpSpPr>
          <p:sp>
            <p:nvSpPr>
              <p:cNvPr id="225" name=""/>
              <p:cNvSpPr/>
              <p:nvPr/>
            </p:nvSpPr>
            <p:spPr>
              <a:xfrm>
                <a:off x="1649880" y="1260360"/>
                <a:ext cx="931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Courier New"/>
                  </a:rPr>
                  <a:t>ACCOU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06680" y="1208160"/>
                <a:ext cx="1320840" cy="107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990040" y="1195560"/>
              <a:ext cx="147456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1120" y="1852560"/>
              <a:ext cx="1038600" cy="30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COMPAN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7240" y="1413000"/>
              <a:ext cx="15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37240" y="2062080"/>
              <a:ext cx="15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86680" y="20620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6680" y="1413000"/>
              <a:ext cx="1496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30760" y="1285920"/>
              <a:ext cx="214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930400" y="1413000"/>
              <a:ext cx="21420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30760" y="1930320"/>
              <a:ext cx="2142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30400" y="2062080"/>
              <a:ext cx="21420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49880" y="1382760"/>
              <a:ext cx="7632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49880" y="2027160"/>
              <a:ext cx="76320" cy="5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1960" y="1109520"/>
              <a:ext cx="735840" cy="12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4" y="0"/>
                  </a:moveTo>
                  <a:arcTo wR="10800" hR="10800" stAng="-5414799" swAng="10799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4" y="0"/>
                  </a:moveTo>
                  <a:arcTo wR="10800" hR="10800" stAng="-5414799" swAng="107999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86240" y="11350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6240" y="180504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conc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4680" y="2440080"/>
            <a:ext cx="386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oda 1. Wspólny klucz ob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643120"/>
            <a:ext cx="5083200" cy="15526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ccount_numb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NTEGER(6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..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HAR(1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CHECK(concerns IN (’I’,’C’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_balanc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NTEGER(8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37280" y="4724280"/>
            <a:ext cx="5481000" cy="1796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ccount_numb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NTEGER(6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..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d_ind_accoun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HAR(5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EFERENCES individuals(kod_śr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d_comp_accoun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NTEGER(8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REFERENCES companies(id_furn)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5040" y="4259160"/>
            <a:ext cx="441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oda 2. Indywidualny klucz ob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9160" y="3008160"/>
            <a:ext cx="342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tedy, gdy identyfikatory encji posiadają wspólną domen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9160" y="4816440"/>
            <a:ext cx="3157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tedy, gdy identyfikatory encji posiadają różne dome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ojęcia podstaw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emat logiczny bazy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schematów rel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którym operują aplikacje bazy dany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cj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bli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wuwymiarowa tabl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umny tablicy nazywamy atrybuta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ersze tablicy nazywamy krotka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żda krotka reprezentuje wystąpienie en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ry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echa lub własność encji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umna tab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lucz potencj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trybut lub zbiór atrybutów jednoznacznie identyfikujący krotki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lucz podstaw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trybut lub zbiór atrybutów  - wybrany spośród kluczy potencj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lucz ob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trybut lub zbiór atrybutów będący kluczem podstawowym innej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guły transformacji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odstawowe reguły transformacji modelu EER do modelu relacyjnego generują trzy typy schematów relacj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chemat relacji en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relacji encji jest generow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wsze dla en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tępujących w związkach binarnych 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-do-w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-do-wiele (po stro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-do-jeden (po jednej wybranej stroni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encji występujących w związkach binarnych rekursyw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r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encji występujących w związkach ternarnych lub związkach wyższych stop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ship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raz d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ierarchii gener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guły transformacji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chemat relacji encji z kluczem obc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relacji encji z kluczem obcym jest generow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wsze dla en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tępujących w związkach binarnych 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-do-wiele (po stro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-do-jeden (po jednej wybranej stroni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encji występujących w związkach binarnych rekursyw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 lub jeden-do-j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guły transformacji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chemat relacji związ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relacji związku jest generow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wsze dla związ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inarnych 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-do-wie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związków binarnych rekursyw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e, oraz wszystkich związków ternarnych oraz związków wyższych stop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guły transformacji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 C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Następujące reguły odnoszą się 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wartości pustych generowanych regułami transform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tości puste są dozwol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relacjach en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 kluczem obcym dla kluczy obcych odpowiadających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encjom należącym do klasy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ynależności opcjonal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tości puste są zabron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relacjach en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 kluczem obcym dla kluczy obcych odpowiadających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encjom należącym do klasy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ynależności obowiązk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tości puste są zabron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relacjach związków dla atrybutów należących do kluczy podstawowych tych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5840" y="609480"/>
            <a:ext cx="42926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en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1676520"/>
            <a:ext cx="4724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azwa encji jest odwzorowywana w nazwę 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trybuty encji są odwzorowywane w nazwy atrybutów 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nikalny identyfikator encji jest transformowany w klucz podstawowy 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bowiązkowość atrybutów encji jest reprezentowana w schemacie rel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postaci ograniczeni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definiowanego na atrybuc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cjonalność atrybutów encji jest reprezentowana w schemacie relacj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postaci własnośc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definiowanej na atrybuc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zostałe ograniczenia integralnościow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definiowane dla atrybutów encji są reprezentowane w sposób identyczn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la atrybutów 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4720" y="1951200"/>
            <a:ext cx="1996920" cy="137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la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address_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address_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220968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01760" y="3587760"/>
            <a:ext cx="1587600" cy="36828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4480" y="4290840"/>
            <a:ext cx="3364200" cy="19220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_employe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a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dress_stree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dress_cit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5000" y="318960"/>
            <a:ext cx="4286160" cy="12193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związku 1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5057640"/>
            <a:ext cx="493560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 obcy jest dodawany do schematu relacji o mniejszej liczbie kro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graniczenia referencyjne są definiowane dla klucza ob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5960" y="1881360"/>
            <a:ext cx="38322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 obcy jest dodawany do schematu relacji po stronie „obowiązkow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graniczenia referencyjne są definiowane dla klucza ob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35440" y="2179800"/>
            <a:ext cx="3986280" cy="283572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le_i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le_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retur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as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d_s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sales(sale_id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6720" y="304920"/>
            <a:ext cx="5064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1:1 jednostronnie obowiązk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4487760"/>
            <a:ext cx="459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iązek 1:1 dwustronnie opcjon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040" y="519732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7360" y="5197320"/>
            <a:ext cx="82512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5460840"/>
            <a:ext cx="83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03680" y="54547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2400" y="560700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5600" y="762120"/>
            <a:ext cx="17852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ALE OF 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sa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sale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440" y="774720"/>
            <a:ext cx="13586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id_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r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06960" y="1832040"/>
            <a:ext cx="1809720" cy="29664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02440" y="1295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416280" y="1295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24480" y="1028880"/>
            <a:ext cx="19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78480" y="97488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ithd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0280" y="1260360"/>
            <a:ext cx="93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onc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22280" y="325440"/>
            <a:ext cx="8420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ansformacja związku 1: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6240" y="2743200"/>
            <a:ext cx="475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guły transform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lucz obcy jest dodawany do schematu relacji po stronie  „wie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graniczenia referencyjne są definiowane dla klucza ob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bowiązkowość związku po stroni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e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prezentowana przez ograniczeni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efiniowane na kluczu obc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cjonalność związku po stroni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ie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e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prezentowana przez własnoś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efiniowaną na kluczu obc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chematu rel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cjonalność lub obowiązkowość związk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 stron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ed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ie jest definiowana w model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elacyjn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920" y="3289320"/>
            <a:ext cx="4165560" cy="344664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ges_m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ges_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mp_id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rst_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positions(name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5400" y="1679400"/>
            <a:ext cx="146520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emp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firs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53560" y="1676520"/>
            <a:ext cx="13586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#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* wages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wages_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23840" y="176040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orks_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59760" y="2187720"/>
            <a:ext cx="167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is_occupied_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3520" y="1936800"/>
            <a:ext cx="14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41680" y="1936800"/>
            <a:ext cx="13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49600" y="2133720"/>
            <a:ext cx="12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68560" y="21337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5720" y="2135160"/>
            <a:ext cx="3096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762200" y="1957320"/>
            <a:ext cx="3096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6600" y="2637000"/>
            <a:ext cx="1725840" cy="452160"/>
          </a:xfrm>
          <a:prstGeom prst="downArrow">
            <a:avLst>
              <a:gd name="adj1" fmla="val 75009"/>
              <a:gd name="adj2" fmla="val 5001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54:52Z</dcterms:created>
  <dc:creator>Tadeusz Morzy</dc:creator>
  <dc:description/>
  <dc:language>en-US</dc:language>
  <cp:lastModifiedBy>Tadeusz Morzy</cp:lastModifiedBy>
  <dcterms:modified xsi:type="dcterms:W3CDTF">2002-11-06T12:09:42Z</dcterms:modified>
  <cp:revision>27</cp:revision>
  <dc:subject/>
  <dc:title>Transformacja modelu EER do modelu relacyjnego</dc:title>
</cp:coreProperties>
</file>