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19B-1D8B-4090-8A99-A344EA8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E7D-7203-4544-9634-43D83B10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D0C-4D69-4440-AE28-42AEA9EC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7A4-CF9B-4FDA-BEE9-12D7CCCD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C35-C189-4BEB-82A5-8EE7187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8A7-C6DA-42D7-A071-59330F6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376-E4EE-4064-970E-8550C945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48D-6111-41E0-9889-C5AD05C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C01-E5BE-4001-8E61-FC0EEFC4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C48-F289-42C9-8047-515AB88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B8C-CE0C-4104-A193-64906934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C73-F38F-40BC-A96B-FCB63BE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5D09-C71D-4A8D-BD59-E4DD7401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zetwarzanie równoległe cz. 8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ystemy transputer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unikacja (organizacja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unikacja lokal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y procesami na tym samym transputerze jest zrealizowany przy wykorzystaniu jednego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wa 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zawier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go identyfikator procesu realiz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g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tual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e do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unikacja zdal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 na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ch transputerach komunik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a pomo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 zrealizowanych 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ch dwukierunkowych. Jedn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 u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wia reali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dnej pary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 o przeciwnym zwro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czas realizacji prz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a korzysta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 adresu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do stwierdzenia, czy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lo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y (adres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wa w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) czy zew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zny (specyficzny zakres adresów ok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h 8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w zew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zny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BAC-C63E-4033-941A-8BC1DB8599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unikacja (organizacja 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ygoto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ie komunikacji (nadanie/odbiór komunikatu) – proces 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 stos procesor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yfikatorem kanału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r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res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ego bajt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t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cz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ajtów do transmis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ygnalizacja komunikacji -  pobranie przez pro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zka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 nadaj lub odbierz komunik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or po zdekodowaniu rozkazu komunikacyjnego procesor określa jej typ (lokalna lub zdalna) na podstawie identyfikatora kanał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CCA-6B64-4F1F-9465-CA78CD5D28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unikacja loka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wo w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odpowiad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w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adresowane przez identyfikator kanału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chowu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dres przestrzeni roboczej (WS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erwszego z procesów odw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go 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o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lub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jal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or sprawdza wartość wskazywaną przez identyfikator kanału. W przypadku braku procesu oczekującego zapisanie informacji o żądaniu komunikacji przy tym kanale. Realizacja aktualnie przetwarzanego procesu jest wstrzymywana. Do WS zapisywany jest stan rejestrów procesora zawierających parametry komun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ne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pisywane przez procesor, 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drugi proces jest gotowy. Po przepisaniu danych drugi proces jest dopisywany na 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 listy procesów aktywnych. K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inicjowany ponownie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EMP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27C-AA5F-4280-96C7-EDAC42DCA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304920"/>
            <a:ext cx="8402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unikacja zda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r przekazuje operacje prz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a do realizacji u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owi steru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mu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ami komunikacyjn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c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est wstrzymyw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 steru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ami komunikacyj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siada dla każdego kanału zewnętrznego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zy rejest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przechowując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k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k do przestrzeni roboczej proces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re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t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cznik bajtów komunika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 prz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iu komunikatu u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y s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k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gnalizują procesorowi konieczność dołączeni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ó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 listy procesów aktyw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czasie transmisj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munikatu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r m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realiz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ny proces. 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u ka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wi zew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znemu odpowiada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rzy rejestry: ws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k do przestrzeni roboczej procesu, wsk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k do komunikatu, licznik bajtów komunikatu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446-1C94-47D6-BCD5-CD943F74C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cza komunika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jednokierunko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linii sygn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w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do przesy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ia danych w sposób szeregow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ane i informacje sterujące transmisją multipleksowa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t jest przesy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y jako sekwencja bajtów, z których k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y musi by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otwierdzony przed wys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iem kolejneg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twierdzenie (2 bity) oznacza,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 rozpocz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odbieranie paczki danych (11 bitów) i odbiorca dysponuje miejscem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nast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n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cz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an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we jest na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anie s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nadawania danych i odbierania potwierdzenia jak i przeplot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any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zesy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ych w dwóch kierunk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dno łącze - dwa kanały w przeciwnych kierunkach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B66-A484-408F-AAAA-AF1FF8B8D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czn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uter posiada dwa liczniki 32 bitow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tos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ar upływu czas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trzymanie przetwarzania procesu do określonego momen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cznik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ów z wysokim priorytetem T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s, przepełnienie p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295 sekund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icznik procesów z niskim priorytetem T 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64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zep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enie po 76 godzin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na war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cznika jest d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na za pomo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strukcji (asemblera) load tim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F89-C863-474A-8A44-7E02027FDC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trzymywanie przetwarzania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 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struk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put timer z parametrem. 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tość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eśla mom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c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ejszy od wskazywanego przez licznik to instrukcja nie powoduje efektów. W przeciwnym wypadku proces traci procesor. Proces podlega ponownie szeregowaniu po o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u przez licznik podanej jako parametr instrukcji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. Oczek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na u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w czasu procesy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a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ne w 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j ich przestrzenie robocze - w kolej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od najmniejszej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liczni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jestr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ora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dres przestrzeni roboczej procesu, który ma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jwc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ej wznowiony.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jwc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ejsz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o momentu wznowie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zapisana w specjalnym rejestrze i porównywana z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cznika. Po zrównaniu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ściw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 przenoszony jest na lis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ów aktywnych, a wart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cznika oczekiwana przez kolejny proces trafia do rejestr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75A-9823-4981-8FB0-5E5A2DD41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owalny prz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znik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zy komunikacyjnych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– C00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2 we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a i 32 wy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ransmisyj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k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ansmisji danych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0 MBit/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zone kaskadowo bez ograniczenia wysok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  kask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2 multipleksery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boru jednego spośród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2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połączeń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Rejestr zw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any z multiplekserem 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 do wyboru we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a i do otwarcia wyj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a. Zawart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jestr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zapisyw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ć i odczytywać przez ł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z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onfiguracyjne u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35E-BCD9-457D-9C0A-C5CAA93B1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anspu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800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2 bitowy mikrokompute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MO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lementy składow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2 bit proceso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C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bit jednost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twarzania zmiennoprzecinkow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FPU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KB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RAM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nfigurowalny sterownik p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 komunikacyj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zętowe wspomaganie dla realiza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u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 oparteg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 niezależne procesy i komunikację kanał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sadz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niezależ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ych proces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E1A-30D4-45F2-8B3D-82FBF9725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805 para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dajność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 MIP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la 30MHz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dnio p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strukcji na cyk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P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25 Mflop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MH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 pracuje współbieżnie, asynchronicznie z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estrzeni adreso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4 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2 bi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gistrala d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m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ultipleksowane 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e/adres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 MB/s dl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z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nikacyj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połączeni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nkt-punkt bez dodatkowych u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k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ć d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 Mb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35 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1E3-ABD8-4E9B-AEAB-76ABF0B8B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y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kwen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k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czyna się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izuje operacje dostępu do pamięci, nadanie, odbiór komunika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go przetwarzanie może być wst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y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go przetwarzanie może być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znawi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charakteryzowany przez kod i obszar roboczy procesu zawierający niezbędne dla realizacji zmienne i informac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(w makroczasie) realizacj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ów przez transputer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z po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czasu proceso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y 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 szereg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nia w ramach procesora (przydział procesu do proceso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966-3779-4249-A5C1-FB1A3CBDB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y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cesy 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yw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twarzany i oczekujące na przetwarzanie (gotow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cesy 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aktywn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zekujące na pobranie, wysłanie danych przy kanal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oczeku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na u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w cza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wa poziom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oryt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 procesó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ysok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i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ania nieaktywne nie wymaga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zasu procesor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komunikacja zewnętrzna nie zajmuje proces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s procesora przydzielany kolejno procesom aktyw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ktywne oczekujące na proceso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e w postaci dwóch lis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ych dla priorytetów proc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a jest zimplementowana w postaci dwóch rejestró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sor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pierwsz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 wskazuje n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erwszy, a drugi na ostatni proces w kolej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zawierają adresy obszarów roboczych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Kolejne obszary robocze zawiera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tomiast adresy obszarów roboczych kolejnych procesów w kolej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CEF-87C1-42EB-AFC3-87C90D9A75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zeregowanie proces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es jest realizowa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d początku do końca – algorytm FI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i procesor 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czeka na komunik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 innym procesem lub na u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w cza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 tra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r 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 pracuje z niskim priorytetem i u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zas jem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zydzielony - ok 1ms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 z podz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czasu procesor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algorytm karuzel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owi można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ebr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ończeniu cyklu dostępów do zmiennej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pew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eg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omowoś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niskim priorytecie  mo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, gdy nie ma aktywnych procesów z priorytetem wysok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A9B-0C6E-4E76-A138-4B08C666D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805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adania jednostki CP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icjowanie operacj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ennoprzecinkowych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icjowanie prze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yjn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h realizowanych na łącz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alizacja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ze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okalnym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i komunikacyjnym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zeregowanie proces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rz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we prz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zanie konteks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zacja list procesów aktywnych po komunikacji, oczekiwaniu na up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w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C66-193E-460D-81FD-400F21E174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805 F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lizuje arytmety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zmiennoprzecinko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jedynczej lub podwójnej precyzji. FPU pobiera z CPU adresy operandów instruk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P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erow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krokodem jednost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twarzania ze stosem przetwarzania 3 rejestrowym FA, FB ,FC. 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 rejestr 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pom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ne 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miarz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2 lub 64 bitów. Punk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esłań danyc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y CPU i FPU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unktami synchroniz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sp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acy CPU i FP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PU m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oblic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dresy kolejnych operandów w czasie, gdy oblicze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ennoprzecinkow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ne jeszcze dla poprzedn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PU zawier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zetwarzania dla wy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nika i 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ka, ROM gener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 syg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ster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, rejestr przesuw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 normalizu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2ED-EAC7-4676-994E-DA290695D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unikacja (cec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arta o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y komunikacyjne – logiczn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nia  typu punkt - punk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dnokierunkow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nchroniczna na poziomie procesu, asynchroniczna na poziomie sp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ebuforowa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giwana spr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ynchroniczność i rodzaj połączenia (punkt- punkt) implikują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lejki proces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kan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lejki komunikat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ka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ystemy transputerow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A02-8516-4775-9774-4182531E2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20:58:38Z</dcterms:created>
  <dc:creator>Rafał Walkowiak</dc:creator>
  <dc:description/>
  <dc:language>en-US</dc:language>
  <cp:lastModifiedBy>andrzej</cp:lastModifiedBy>
  <dcterms:modified xsi:type="dcterms:W3CDTF">2004-01-19T11:59:54Z</dcterms:modified>
  <cp:revision>36</cp:revision>
  <dc:subject/>
  <dc:title>Systemy transputerowe</dc:title>
</cp:coreProperties>
</file>