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2AD-4F11-45F3-B1E2-CF1EAD03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A90-F229-4615-91E8-3F73E667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23C-3868-45E9-8D18-EBFEC258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0FE-037D-4FCD-8683-E9B5D91F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4A6-FC72-41F1-8850-963F8F82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6D5-B108-49DA-B38B-7EB3AEFD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29F-E6CB-4140-ABD8-B0DC701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3B9-9740-4412-AE95-576F54A9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CF2-857D-4197-97DD-F925484D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4A7-57B1-4EAF-90D5-CA69C1F5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2EA-620B-4550-9E00-BB73D7C6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824-008C-4371-9C54-62B8A774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1494-0ED7-46BA-B16A-A5453B803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rzetwarzanie równoległe cz. 6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181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fał Walkowia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esień 2002,3 rok informatyka, 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14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a Amdahla i Gustaf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Gustafsona (3)</a:t>
            </a:r>
            <a:br>
              <a:rPr sz="32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s przetwarzania badanego szeregu instncji w funkcji liczby procesorów s=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19320" y="18288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7AC-5B20-44E3-9248-C810770D94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Gustafsona (4)</a:t>
            </a:r>
            <a:br>
              <a:rPr sz="32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 w funkcji wielkości części sekwencyjnej s =&lt;0,0.0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17600" y="1389240"/>
          <a:ext cx="8353440" cy="46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389240"/>
                    <a:ext cx="835344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1C0-0653-44C3-A2A9-33FA63331D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Gustafsona (5)</a:t>
            </a:r>
            <a:br>
              <a:rPr sz="32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 w funkcji liczby procesorów s=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4920" y="1828800"/>
          <a:ext cx="85723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5723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F71-2A45-47AC-9526-D74469FC93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Gustafsona (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niosk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y wzroście złożoności przetwarzania ze wzrostem liczby procesorów możliwe jest efektywne przetwarzanie równoległ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 ma ograniczenia na wielkość możliwego do osiągnięcia przyspiesz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niowy wzrost przyspieszenia w funkcji liczby procesor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niejszy wpływ wielkości części niepodlegającej zrównolegleniu na przyspieszenie. Założono niezależność wielkości tej części od wielkości instancji problemu. W wielu przypadkach założenie to nie jest jednak możliwe, gdyż część sekwencyjna jest pochodną czasu trwania operacji wejścia-wyjścia, których czas zazwyczaj rośnie z rozmiarem proble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8FA-F907-4A6F-911B-DFA731534B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Amdahla a prawo Gustafsona</a:t>
            </a:r>
            <a:br>
              <a:rPr sz="32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ecko w miesiąc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dna kobieta może urodzić jedno dziecko w ciągu 9 miesię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datkowe 8 kobiet nie skróci tego czasu do jednego miesiąca –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awo Amdah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ałanie nie poddaje się zrównolegleni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ewięć kobiet jest w stanie w ciągu dziewięciu miesięcy urodzić 9 dzieci -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awo Gustafso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ałanie poddaje się zrównolegleniu – nie w dowolny sposób, ale wystarczając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franio" descr=""/>
          <p:cNvPicPr/>
          <p:nvPr/>
        </p:nvPicPr>
        <p:blipFill>
          <a:blip r:embed="rId1"/>
          <a:srcRect l="18107" t="0" r="29369" b="21921"/>
          <a:stretch/>
        </p:blipFill>
        <p:spPr>
          <a:xfrm>
            <a:off x="5334120" y="1981080"/>
            <a:ext cx="2295360" cy="2667240"/>
          </a:xfrm>
          <a:prstGeom prst="rect">
            <a:avLst/>
          </a:prstGeom>
          <a:ln w="0">
            <a:noFill/>
          </a:ln>
        </p:spPr>
      </p:pic>
      <p:pic>
        <p:nvPicPr>
          <p:cNvPr id="82" name="franio" descr=""/>
          <p:cNvPicPr/>
          <p:nvPr/>
        </p:nvPicPr>
        <p:blipFill>
          <a:blip r:embed="rId2"/>
          <a:srcRect l="18107" t="0" r="29369" b="21921"/>
          <a:stretch/>
        </p:blipFill>
        <p:spPr>
          <a:xfrm>
            <a:off x="5486400" y="2133720"/>
            <a:ext cx="229536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franio" descr=""/>
          <p:cNvPicPr/>
          <p:nvPr/>
        </p:nvPicPr>
        <p:blipFill>
          <a:blip r:embed="rId3"/>
          <a:srcRect l="18107" t="0" r="29369" b="21921"/>
          <a:stretch/>
        </p:blipFill>
        <p:spPr>
          <a:xfrm>
            <a:off x="5638680" y="2286000"/>
            <a:ext cx="229572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franio" descr=""/>
          <p:cNvPicPr/>
          <p:nvPr/>
        </p:nvPicPr>
        <p:blipFill>
          <a:blip r:embed="rId4"/>
          <a:srcRect l="18107" t="0" r="29369" b="21921"/>
          <a:stretch/>
        </p:blipFill>
        <p:spPr>
          <a:xfrm>
            <a:off x="5791320" y="2438280"/>
            <a:ext cx="2295360" cy="2667240"/>
          </a:xfrm>
          <a:prstGeom prst="rect">
            <a:avLst/>
          </a:prstGeom>
          <a:ln w="0">
            <a:noFill/>
          </a:ln>
        </p:spPr>
      </p:pic>
      <p:pic>
        <p:nvPicPr>
          <p:cNvPr id="85" name="franio" descr=""/>
          <p:cNvPicPr/>
          <p:nvPr/>
        </p:nvPicPr>
        <p:blipFill>
          <a:blip r:embed="rId5"/>
          <a:srcRect l="18107" t="0" r="29369" b="21921"/>
          <a:stretch/>
        </p:blipFill>
        <p:spPr>
          <a:xfrm>
            <a:off x="5943600" y="2590920"/>
            <a:ext cx="229536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franio" descr=""/>
          <p:cNvPicPr/>
          <p:nvPr/>
        </p:nvPicPr>
        <p:blipFill>
          <a:blip r:embed="rId6"/>
          <a:srcRect l="18107" t="0" r="29369" b="21921"/>
          <a:stretch/>
        </p:blipFill>
        <p:spPr>
          <a:xfrm>
            <a:off x="6095880" y="2743200"/>
            <a:ext cx="2295720" cy="2666880"/>
          </a:xfrm>
          <a:prstGeom prst="rect">
            <a:avLst/>
          </a:prstGeom>
          <a:ln w="0">
            <a:noFill/>
          </a:ln>
        </p:spPr>
      </p:pic>
      <p:pic>
        <p:nvPicPr>
          <p:cNvPr id="87" name="franio" descr=""/>
          <p:cNvPicPr/>
          <p:nvPr/>
        </p:nvPicPr>
        <p:blipFill>
          <a:blip r:embed="rId7"/>
          <a:srcRect l="18107" t="0" r="29369" b="21921"/>
          <a:stretch/>
        </p:blipFill>
        <p:spPr>
          <a:xfrm>
            <a:off x="6248520" y="2895480"/>
            <a:ext cx="2295360" cy="2667240"/>
          </a:xfrm>
          <a:prstGeom prst="rect">
            <a:avLst/>
          </a:prstGeom>
          <a:ln w="0">
            <a:noFill/>
          </a:ln>
        </p:spPr>
      </p:pic>
      <p:pic>
        <p:nvPicPr>
          <p:cNvPr id="88" name="franio" descr=""/>
          <p:cNvPicPr/>
          <p:nvPr/>
        </p:nvPicPr>
        <p:blipFill>
          <a:blip r:embed="rId8"/>
          <a:srcRect l="18107" t="0" r="29369" b="21921"/>
          <a:stretch/>
        </p:blipFill>
        <p:spPr>
          <a:xfrm>
            <a:off x="6400800" y="3048120"/>
            <a:ext cx="2295360" cy="2666880"/>
          </a:xfrm>
          <a:prstGeom prst="rect">
            <a:avLst/>
          </a:prstGeom>
          <a:ln w="0">
            <a:noFill/>
          </a:ln>
        </p:spPr>
      </p:pic>
      <p:pic>
        <p:nvPicPr>
          <p:cNvPr id="89" name="franio" descr=""/>
          <p:cNvPicPr/>
          <p:nvPr/>
        </p:nvPicPr>
        <p:blipFill>
          <a:blip r:embed="rId9"/>
          <a:srcRect l="18107" t="0" r="29369" b="21921"/>
          <a:stretch/>
        </p:blipFill>
        <p:spPr>
          <a:xfrm>
            <a:off x="6553080" y="3124080"/>
            <a:ext cx="229572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6CB-F233-4363-9681-E702C6780B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Amdahl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łożen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zas wykonan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la rozwiązania instancji problemu w sposób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sekwencyjn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 dwa składnik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y do wykonania w sposób tylk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kwencyjny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możliwy do wykonania w sposó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ównole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Daje się on zrównoleglić w dowolny sposób - czas przetwarzania maleje odwrotnie proporcjonalnie do użytej liczby procesor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+r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zpatrujemy przetwarzanie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szeregu instancj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problemu o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stałym rozmiarz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21C-8CCC-4820-BFD7-8F50D94ABA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Amdahl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08360" y="1295280"/>
                <a:ext cx="351612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835360" y="3200400"/>
                <a:ext cx="3260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819520" y="4514760"/>
                <a:ext cx="3352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r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E07-42E3-4B5E-9AD9-D639066D07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Amdahla (3)</a:t>
            </a:r>
            <a:br>
              <a:rPr sz="32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s przetwarzania w funkcji liczby procesorów s=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152388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B18-C97D-4405-9ADC-C2275960CA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Amdahla (4)</a:t>
            </a:r>
            <a:br>
              <a:rPr sz="32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 w funkcji wielkości części sekwencyjnej s =&lt;0%,5%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17600" y="1389240"/>
          <a:ext cx="8353440" cy="46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389240"/>
                    <a:ext cx="835344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B5D-67EF-4A80-A743-89C636CE1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Amdahla (5)</a:t>
            </a:r>
            <a:br>
              <a:rPr sz="32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 w funkcji liczby procesorów (s=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828800"/>
          <a:ext cx="85723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5723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408-F591-423A-B091-49B82AA46D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Amdahla (6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niosk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graniczenie stosowalności przetwarzania równoległego ze względu na ograniczenie wielkości możliwego do osiągnięcia przyspies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ilny spadek przyspieszenia z niewielkim wzrostem wielkości nie poddającej się zrównolegleniu części przetwarzan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AD0-F1FD-4555-BC64-056A1C9D81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Gustafson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łoże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adamy przetwarzanie dla szeregu instancji problemu dla których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as wykonania program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 sposób sekwencyjn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 dwa s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ni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y do wykonania jedynie w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kwencyj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r*m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dla m = 1,2,3,...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ożliwy do wykonania w sposób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ównole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+r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stancje o sekwencyjnym czasie przetwarzania równym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+r*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ą przetwarzane przy użyciu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rocesorów (dla m= 1,2,3,..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atrujemy przetwarzanie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szeregu instancji problem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 rosnącym rozmiarze i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stałym czasie przetwarzania równoległ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 funkcji użytych procesor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D27-19EB-4909-B4DD-966E920EE6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Gustafson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znaczamy przyspieszenie dla powyższego szeregu instan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838080" y="3003480"/>
                <a:ext cx="720900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81160" y="4572000"/>
                <a:ext cx="2962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wa Amdahla i Gustafs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AB5-6D65-4060-94A8-90C51409E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42:02Z</dcterms:created>
  <dc:creator>Rafał Walkowiak</dc:creator>
  <dc:description/>
  <dc:language>en-US</dc:language>
  <cp:lastModifiedBy>andrzej</cp:lastModifiedBy>
  <dcterms:modified xsi:type="dcterms:W3CDTF">2004-01-19T11:55:37Z</dcterms:modified>
  <cp:revision>19</cp:revision>
  <dc:subject/>
  <dc:title>Przetwarzanie równoległe cz. 6</dc:title>
</cp:coreProperties>
</file>