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E46-C816-48E9-B578-144CAFBB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A16-4C16-4ACF-B89E-8D97B2ED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09C-CB68-412C-B25D-00951409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365-18AA-48E8-8890-59E049F0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5A6-CDF5-4CA6-A8C3-B3325682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358-3380-4F93-9AAD-C365F867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E05-A4EF-48E4-8417-FD942A93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41D-6B72-44A9-9638-359CCF7A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2F7-5D82-403D-AE52-80CB2F3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9D4-E8B5-4347-9489-87A5883B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1C8-57C0-45CB-851F-D2C140D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8D1-B374-4A9A-87F5-2ADBF43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090F-642A-4A5B-BB12-624FC6271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rzetwarzanie równoległe cz. 3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181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,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14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dele programowania równoległ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del pamięci współdzielonej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(ang. shared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ie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zest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dreso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ynchronicz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(niezależna)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al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cj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dczytu i zapis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erowanie dostępem do pamięci współdzielonej -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lokowa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 proces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semafor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ak po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a 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ciela danych i koniecz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 specyfikacji wprost sposobu komunikacji po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y producentami i konsumenta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rudn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anie lokal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dniejsz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nie programów deterministycznych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Shared mem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DDC-CCE4-4A64-9D4B-7A850EEE16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odele programow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adygmaty przetwarzania równoległe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y i kan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ng.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ependent communicating process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kazywanie komunikató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ng.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age pass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ównoległość danych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ng. 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a paralellis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mięć współdzielo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ng .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ed memor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równoległe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C4D-A158-4197-830E-D7A98DB58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ocesy i kanał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dstawowe operacje proces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czyt lub zapis informacji z/do pamięci zewnętrz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słanie komunika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biór komunik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worzenie procesów (synchronicznie lub asynchronicz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kończ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procesy i kanał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8E1-CEDA-4FDA-83EC-B9A2717766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sy i kanał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zetwarzanie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ównoleg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ł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rganizowane w oparciu o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wiele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roces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ne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spó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ł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ie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ż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czba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roces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mienia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dczas realizacji progra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 = 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gram sekwencyjn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okal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+ porty wejściowe i wyjścio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rt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kr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a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 otoczeni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eracje procesu: read, write, send, receive, create, st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procesy i kanał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81C-DC92-4D0E-81D2-92E124AAC4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sy i kanały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Wysła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t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synchronicz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y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ychmiastow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ynchronicz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zak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ni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ymag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bi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db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jest synchronicz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woduj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trzyma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ji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 moment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dy komunikat b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ie do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Kanał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kolejki komunikatów łączące porty wejściowe i wyjściowe. Kanały tworzone i usuwane, przesyłanie identyfikatorów kanałów pozwala na zmianę struktury komunikacyjnej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procesy i kanał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969-9CA6-4DF6-BF66-9043E46BEC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sy i kanały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óżnorodność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rzydziału proces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o procesorów, przydział nie ma wpływu na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składnię język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rogramow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Wiele proces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można przydzielić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do jednego proce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ne zawarte w pa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 lokalnej zadania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anymi lokalny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rzystanie z kanał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skazu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a koniecz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dw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ia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 ramach przetwarzania jedneg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anych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zdaln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danych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neg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procesy i kanał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349-D325-4B70-9C72-095E0E3FCB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ekazywanie komunikatów</a:t>
            </a:r>
            <a:br>
              <a:rPr sz="4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 pass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podobny d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odel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artego n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ka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dentyfikowane za pomo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ikalnych identyfika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zes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ie komunikatów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wykorzystaniem  identyfikatorów procesów (nie kanałów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jczęście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czba identycznych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ó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stalo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 po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ku przetwarzania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ie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ynamicznie tworzone i usuwane w czasie wykonania program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 aplikac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go typ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PM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ang. single pro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at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Message pass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FDC-C708-4D5B-9400-8E10A9357A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ównoległość danych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paralellis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lizac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j samej operacji na wielu elementach struktury danych (np. dodaj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 elemen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struktu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any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s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a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 sekwencji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wyższy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j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ista okr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posób przydz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 danych d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okalnych pamię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r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pilator optymalizuje przydział pracy do poszczególnych procesorów bazując na przydziale danych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ęzyk HPF (ang. High Performance Fortr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Data paralellism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9FC-43BF-430B-BB5E-4D19A72DDC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ównoległość d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dział pracy oparty na zasadzie: właściciel realizuje przetwarzanie na własnych da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ypowy przykła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alizacja poszczególnych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cji 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li przez proce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tó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okal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mi są t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gmen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mien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ablico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do któ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w większości)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dw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ia w danej iteracji ma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iejs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e programowania - Data paralellism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01C-BA58-4605-B410-61491031F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9:03:43Z</dcterms:created>
  <dc:creator>Rafał Walkowiak</dc:creator>
  <dc:description/>
  <dc:language>en-US</dc:language>
  <cp:lastModifiedBy>andrzej</cp:lastModifiedBy>
  <dcterms:modified xsi:type="dcterms:W3CDTF">2004-01-19T11:41:43Z</dcterms:modified>
  <cp:revision>97</cp:revision>
  <dc:subject/>
  <dc:title>Modele programowania  równoległego</dc:title>
</cp:coreProperties>
</file>