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0708-3B50-45C4-943D-328493F98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1E0E-EE4F-4B51-B194-C619E8A4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793C-B244-4179-97C4-6309F5B0A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556E-8EC6-4337-A346-74777F670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4217-2FAB-4FBF-96D3-911083EF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6194-1B24-4A62-B946-807AA45B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2B2A-B039-4386-8790-27689ED2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37E6-C0A8-46D9-8D19-664C4213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76B2-7DC5-466F-ADB7-71F72241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0A68-ED7B-4088-B447-26A52253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9CA2-8C03-4233-A3B3-3F5B46C8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03D0-D51D-4058-ABD2-9EB8E3A8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35A0-CBF9-4D2D-A218-DC2D2498C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Crash Re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Notion of Correc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D469-58A4-47F2-972F-9B2BAEC3EAF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66"/>
                </a:solidFill>
                <a:latin typeface="Times New Roman"/>
              </a:rPr>
              <a:t>A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ransaction a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egin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ommit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ollback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ave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estore (T,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ata a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ead[pageno, T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rite[pageno, T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ull-write[pageno, T] (blind-write, real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exec[op, obj, T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02B0-9710-4B85-A95D-AA291D66BC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66"/>
                </a:solidFill>
                <a:latin typeface="Times New Roman"/>
              </a:rPr>
              <a:t>A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aching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etch [pageno] : copies the previously noncached page identified by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pagen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from the stable database into the database cach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lush [pageno] : copies the cached page identified by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pagen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from the database cache into the stable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og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orce () : forces all log entries in the log buffer to be copied to the stable 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C95C-E5F9-403C-9B5F-F35E85DD08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66"/>
                </a:solidFill>
                <a:latin typeface="Times New Roman"/>
              </a:rPr>
              <a:t>Litera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G. Weikum, G. Vosse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ransactional Information Systems – Theory, Algorithms, and the Practice of Concurrency Control and Recovery, Morgan Kaufmann, 2002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933E-8E5E-4462-9764-AFC0CC7772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66"/>
                </a:solidFill>
                <a:latin typeface="Times New Roman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he main challenge of crash recovery lies in efficiently implementing transactional atomicity and durability (ACID propert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3E48-CB42-45E2-B6DA-713AD53FCF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66"/>
                </a:solidFill>
                <a:latin typeface="Times New Roman"/>
              </a:rPr>
              <a:t>Failur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Soft crash model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a crash does not corrupt data on secondary 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Hard crash model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a crash corrupts data on secondary 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ondeterministic” character of errors that lead to system crashes – errors in the system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Heisenbugs erro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Fail-stop crash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the best way od dealing with Heisenbugs is to bring down the serwer as quickly as possible, recover the serwer’s permanent data to a consistent state based on redo/undo according to ACID paradigm, and restart the ser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98DA-4892-4E4C-AF68-38E194B0E2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66"/>
                </a:solidFill>
                <a:latin typeface="Times New Roman"/>
              </a:rPr>
              <a:t>Recovery Perform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hile performing crash recovery after a system failure, the serwer and its data are unavailable to clients – thus, minimizing the recovery or restart time is important performance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ecovery performance measure – 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availabilit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of the system that is the probability that a randomly probing client finds the serwer ready to serve data reques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TT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TTF + MT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TTF –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mean time to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TTR –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mean time to re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95480" y="4572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F784-95A6-4B4D-B3E4-7B180539CD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66"/>
                </a:solidFill>
                <a:latin typeface="Times New Roman"/>
              </a:rPr>
              <a:t>System avail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xample: serwer fails once a month, it takes 2 h to recover, expected downtime – 26 h per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availabilit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(720/722) = 99,7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erwer fails once 48 h, it takes 30 s to 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availabilit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99,9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onclusion: fast recovery is the key to high system’s 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econd performance measure: the resource consumption that is required during normal operation of the system to make crash recovery work when the system f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01C8-60CA-4BC6-8205-C19AA424CF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66"/>
                </a:solidFill>
                <a:latin typeface="Times New Roman"/>
              </a:rPr>
              <a:t>Correctness of recovery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he recovery code is much more critical than all other components of th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rashes are rare events however even crash during recovery is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implicity and te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62C4-70C1-4061-97CB-7250A060E0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66"/>
                </a:solidFill>
                <a:latin typeface="Times New Roman"/>
              </a:rPr>
              <a:t>System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omponents of the system archite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able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atabase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able 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Log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he contents of these four components entirely determine the system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he stable log is usually implemented as a sequential append-only file, however the model is general enough to allow alternative implementations (e.g. organizing versions of database pages in a random access file – so-called a 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shadow databas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096D-3152-414B-A63E-C44A1F44E8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1219320"/>
            <a:ext cx="7925040" cy="2361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638680" y="4343400"/>
            <a:ext cx="2286000" cy="1828800"/>
          </a:xfrm>
          <a:prstGeom prst="flowChartMagneticDisk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4343400"/>
            <a:ext cx="2286000" cy="1828800"/>
          </a:xfrm>
          <a:prstGeom prst="flowChartMagneticDisk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38680" y="1981080"/>
            <a:ext cx="221004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1981080"/>
            <a:ext cx="221004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362320"/>
            <a:ext cx="12193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2133720"/>
            <a:ext cx="121896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2286000"/>
            <a:ext cx="121932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66"/>
                </a:solidFill>
                <a:latin typeface="Times New Roman"/>
              </a:rPr>
              <a:t>System architecture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2438280"/>
            <a:ext cx="121932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01240" y="2500200"/>
            <a:ext cx="88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67760" y="1585800"/>
            <a:ext cx="151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Database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2438280"/>
            <a:ext cx="12193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2514600"/>
            <a:ext cx="12193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Log 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870160" y="1600200"/>
            <a:ext cx="11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Log 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590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6920" y="218448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7640" y="26668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2133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26080" y="175248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2514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8600" y="213372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7160" y="2514600"/>
            <a:ext cx="8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ro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3352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33920" y="33526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27520" y="30481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39760" y="4890960"/>
            <a:ext cx="121932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87480" y="5043600"/>
            <a:ext cx="121932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35200" y="5195880"/>
            <a:ext cx="121896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7640" y="5257800"/>
            <a:ext cx="88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3429000"/>
            <a:ext cx="152280" cy="914400"/>
          </a:xfrm>
          <a:prstGeom prst="downArrow">
            <a:avLst>
              <a:gd name="adj1" fmla="val 50000"/>
              <a:gd name="adj2" fmla="val 15011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3429000"/>
            <a:ext cx="152640" cy="914400"/>
          </a:xfrm>
          <a:prstGeom prst="upArrow">
            <a:avLst>
              <a:gd name="adj1" fmla="val 50000"/>
              <a:gd name="adj2" fmla="val 14976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6760" y="380988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fe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21680" y="380988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flu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37339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5410080"/>
            <a:ext cx="91440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Stable 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00800" y="5105520"/>
            <a:ext cx="12193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72200" y="5181480"/>
            <a:ext cx="12193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5257800"/>
            <a:ext cx="12193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Log 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629400" y="2819520"/>
            <a:ext cx="152280" cy="2286000"/>
          </a:xfrm>
          <a:prstGeom prst="downArrow">
            <a:avLst>
              <a:gd name="adj1" fmla="val 50000"/>
              <a:gd name="adj2" fmla="val 3752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61240" y="38098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fo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9040" y="4648320"/>
            <a:ext cx="68832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S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8680" y="129528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Database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l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D58C-79EE-4607-91FA-FB4F3ADBFC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8T11:33:16Z</dcterms:created>
  <dc:creator>Tadeusz</dc:creator>
  <dc:description/>
  <dc:language>en-US</dc:language>
  <cp:lastModifiedBy>Tadeusz</cp:lastModifiedBy>
  <dcterms:modified xsi:type="dcterms:W3CDTF">2004-11-28T22:30:23Z</dcterms:modified>
  <cp:revision>39</cp:revision>
  <dc:subject/>
  <dc:title>Crash Recovery</dc:title>
</cp:coreProperties>
</file>