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2413-BAEA-454A-8AD6-FCCF847F7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7109-54D3-4A44-8F3E-9D8C240C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198F-4EAC-40B9-8E87-E4CD2447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8F62-FDBA-4756-8F1D-1E3D7A3D3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A5F1-C17D-4BC7-8BED-EE595C5B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16D2-9DCE-47F2-9E69-BD1F5F6E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8864-6FEC-4782-8CB0-BD906D94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84B5-ED42-4C8A-A394-FF41955D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C746-DB36-4349-AB5E-BBB03994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BA61-4C55-45F0-AEAB-FAC0AB89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8322-F035-4130-8F2F-6CCE15EA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F90F-2388-4871-9717-AFF9CE67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0E55-B4E4-4359-87EB-ADD69A41C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l-PL" sz="4400" spc="-1" strike="noStrike">
                <a:solidFill>
                  <a:srgbClr val="3333cc"/>
                </a:solidFill>
                <a:latin typeface="Times New Roman"/>
              </a:rPr>
              <a:t>Indeksy drzewi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S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iczba operacji I/O jest równa liczbie poziomów drzewa i wyno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og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st liczba stron zajmowanych przez liści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 (fan-ou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st liczbą rekordów indeksu, które znajdują się na pojedynczej stronie indek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prowadzanie i usuwanie rekordów danych dotyczy wyłącznie zawartości stron znajdujących się w liści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gą się rozwijać długie łańcuchy stron przepełnieni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raz ze wzrostem rozmiaru pliku dany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pływa to na czas wyszukiwania rekordó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truktura indeksu jest statycz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 ma potrzeby blokowania stron indek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Struktura drzewias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1460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614600" y="1209600"/>
            <a:ext cx="59148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+ </a:t>
            </a: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drzewo</a:t>
            </a:r>
            <a:r>
              <a:rPr b="1" lang="pl-PL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</a:t>
            </a: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ndeks o strukturze dynamicznej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de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+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rze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st zrównoważoną strukturą drzewiastą, w której wierzchołki wewnętrzne służą do wspomagania wyszukiwania, natomiast wierzchołki liści zawierają rekordy indeksu ze wskaźnikami do rekordów 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celu zapewnienia odpowiedniej efektywności realizacji zapytań przedziałowy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ierzchołki liści stanowią listę dwukierunkową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i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Charakterystyka indeksu B+ drzew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peracje wstawiania i usuwania rekordów indeksu pozostawiają indeks zrównoważ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ażdy wierzchołek jest wypełniony w co najmnie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%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za wyjątkiem korzenia). Jednakż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przypadku operacji usuwania rekordu z indeksu lokalizujemy rekord do usunięcia, usuwamy rekord i pozostawiamy indeks nie zmieniony (nie jest gwarantowan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%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pełnienie wierzchołków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yż najczęściej rozmiar plików się zwiększa (rzadziej male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szukanie rekordu wymaga przejścia od korzenia do liścia. Długość ścieżki od korzenia do dowolnego liścia nazywamy wysokością drzewa indek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Struktura indeksu B+ drzew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58960" y="1770120"/>
            <a:ext cx="3917880" cy="3149640"/>
            <a:chOff x="1758960" y="1770120"/>
            <a:chExt cx="3917880" cy="3149640"/>
          </a:xfrm>
        </p:grpSpPr>
        <p:sp>
          <p:nvSpPr>
            <p:cNvPr id="219" name=""/>
            <p:cNvSpPr/>
            <p:nvPr/>
          </p:nvSpPr>
          <p:spPr>
            <a:xfrm flipV="1">
              <a:off x="2376000" y="2065680"/>
              <a:ext cx="1417680" cy="158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93680" y="2082600"/>
              <a:ext cx="1276920" cy="158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59440" y="3667320"/>
              <a:ext cx="271116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58640" y="1770120"/>
              <a:ext cx="627120" cy="30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58960" y="4497120"/>
              <a:ext cx="804960" cy="422640"/>
            </a:xfrm>
            <a:prstGeom prst="rect">
              <a:avLst/>
            </a:prstGeom>
            <a:solidFill>
              <a:srgbClr val="cc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991240" y="4497120"/>
              <a:ext cx="804960" cy="413280"/>
            </a:xfrm>
            <a:prstGeom prst="rect">
              <a:avLst/>
            </a:prstGeom>
            <a:solidFill>
              <a:srgbClr val="cc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71880" y="4488120"/>
              <a:ext cx="804960" cy="421200"/>
            </a:xfrm>
            <a:prstGeom prst="rect">
              <a:avLst/>
            </a:prstGeom>
            <a:solidFill>
              <a:srgbClr val="cc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2072160" y="3644280"/>
              <a:ext cx="334440" cy="85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408840" y="3663360"/>
              <a:ext cx="720" cy="83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61080" y="3681720"/>
              <a:ext cx="460080" cy="79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52400" y="4694040"/>
              <a:ext cx="4284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95840" y="4694040"/>
              <a:ext cx="32436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37080" y="4694040"/>
              <a:ext cx="32436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486400" y="2362320"/>
            <a:ext cx="10112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dex e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Direct sear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91240" y="4238640"/>
            <a:ext cx="10094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 e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„Sequence set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02480" y="1909800"/>
            <a:ext cx="1440" cy="314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6600960" y="4957920"/>
            <a:ext cx="10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6594120" y="191304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77080" y="3218040"/>
            <a:ext cx="465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34440" y="1447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orze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Format wierzchołków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ruktura wierzchołka wewnętrznego indeksu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+-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rzewo rzędu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p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jest następując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ierzchołek wewnętrzny ma następującą postać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K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..., 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Q-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K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Q-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ażd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</a:t>
            </a:r>
            <a:r>
              <a:rPr b="0" lang="pl-P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st wskaźnikiem do poddrze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każdego wierzchołka wewnętrznego zachod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K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... &lt; K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Q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wszystkich wartośc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szukiwanych w poddrzewie wskazywanym prze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chodzi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or 1 &lt; i &lt;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or i 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X for i =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Format wierzchołków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ażdy wierzchołek wewnętrzny posiada co najwyże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kaźników do poddrz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ażdy wierzchołek wewnętrz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 wyjątkiem korzen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siada co najmnie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/2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kaźników do poddrz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orzeń posiada co najmniej 2 wskaźniki do poddrzew jeżeli jest wierzchołkiem wewnętrz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ażdy wierzchołek wewnętrzny 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kaźnikach posia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-1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tości klucz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Wierzchołek wewnętrz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5744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657440" y="2043000"/>
            <a:ext cx="582912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Format wierzchołków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ruktura wierzchołka liścia indeksu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+-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rzewo rzędu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p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jest następując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ierzchołek liścia ma następującą postać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re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&lt;K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, &lt;K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,..., &lt;K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Q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Q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, P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ażd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st wskaźnikiem do bloku dany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każdego wierzchołka liścia zachodz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K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... &lt; K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Q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ażdy wierzchołek liść posiada co najmnie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/2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tości kluc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Format wierzchołków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st wskaźnikiem do bloku danych zawierającego rekord danych o wartości klucz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ub wskaźnikiem do bloku dany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wierającego rek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ub blok wskaźnikó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kazujących na rekordy danych o wartości klucz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zystkie liście znajdują się na tym samym poziomie (tej samej wysokośc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336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533600" y="4191120"/>
            <a:ext cx="60768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S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S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XED SEQUENTIAL ACCESS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any jest plik uporządkowan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jaki sposób zrealizować efektywnie zapytanie z przedziałem wartośc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dpowied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tworzyć drugi plik, zdefiniowany na określonym atrybucie (klucz) zawierający rekordy odpowiadające wartościom kluczy pierwszych rekordów danych w pliku oryginalnym posta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</a:t>
            </a:r>
            <a:r>
              <a:rPr b="1" i="1" lang="pl-PL" sz="2400" spc="-1" strike="noStrike">
                <a:solidFill>
                  <a:srgbClr val="3333cc"/>
                </a:solidFill>
                <a:latin typeface="Times New Roman"/>
              </a:rPr>
              <a:t>pierwszy klucz na stroni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</a:t>
            </a:r>
            <a:r>
              <a:rPr b="1" i="1" lang="pl-PL" sz="2400" spc="-1" strike="noStrike">
                <a:solidFill>
                  <a:srgbClr val="3333cc"/>
                </a:solidFill>
                <a:latin typeface="Times New Roman"/>
              </a:rPr>
              <a:t>wskaźnik do strony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porządkowany według wartości kluc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Przykładowe B+ drzew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2876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828800" y="2519280"/>
            <a:ext cx="46864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Jak obliczyć rząd indeksu 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an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rozmiar klucza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V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rozmiar wsk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ź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ika do bloku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rozmiar bloku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liczba rekordów w indeksowanym pliku danych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i liczba bloków pliku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 wew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rzne zawiera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maksymalni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wsk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ź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ików i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1 kluczy. K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y z w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łów musi zmi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s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w pojedynczym bloku dyskowym. St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 r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 B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drzewa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jest najw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ks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licz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c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kowit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dla której sp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iona jest nierówn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ść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)+((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-1)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)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na wysokość indeksu rzadkiego: h 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lang="pl-P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na wysokość indeksu gęstego: h 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lang="pl-P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Przykł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miar pliku: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= 30 0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kord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miar bloku: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K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miar rekordu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00 bajt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kordy mają stałą długość i nie są dzielone między blo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ar klucza: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ar wskaźnika: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ks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tór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Przykł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iczen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ząd indeksu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)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p-1)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)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)/(V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)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24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/(9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= 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na wysokość indeksu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lang="pl-P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= log</a:t>
            </a:r>
            <a:r>
              <a:rPr b="0" lang="pl-P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h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Przykł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szt wyszukiwania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kord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z pomocy indeksu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iczba bloków/2 =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150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tęp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szt wyszukiwania danych za pomocą indeksu jednopoziomoweg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gęsteg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9 dostępów do indeksu+ 1 dostęp do danych =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dostęp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szt wyszukiwania danych za pomocą indeksu typu B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rzew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ysokość drzewa + 1 = 3 + 1 =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stę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Wyszukiwanie dany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y indeks o rzędzie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orzeniu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ukaj (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:= wskaźnik na blok zawierający korzeń drzew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czytaj blok 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 (węzeł n nie jest liściem) 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:= liczba wskaźników w węźle 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K </a:t>
            </a:r>
            <a:r>
              <a:rPr b="0" lang="pl-PL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.K</a:t>
            </a:r>
            <a:r>
              <a:rPr b="0" lang="pl-PL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*n.K</a:t>
            </a:r>
            <a:r>
              <a:rPr b="0" lang="pl-PL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st i</a:t>
            </a:r>
            <a:r>
              <a:rPr b="0" i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m kluczem w węźle n*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n := n.P</a:t>
            </a:r>
            <a:r>
              <a:rPr b="0" lang="pl-PL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(*n.P</a:t>
            </a:r>
            <a:r>
              <a:rPr b="0" lang="pl-PL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st i</a:t>
            </a:r>
            <a:r>
              <a:rPr b="0" i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m wskaźnikiem w węźle n*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if K &gt; n.K</a:t>
            </a:r>
            <a:r>
              <a:rPr b="0" lang="pl-PL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q-i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n := n.P</a:t>
            </a:r>
            <a:r>
              <a:rPr b="0" lang="pl-PL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pl-PL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jdź w węźle n element i taki, że n.K</a:t>
            </a:r>
            <a:r>
              <a:rPr b="0" lang="pl-PL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-1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K &lt; n.K</a:t>
            </a:r>
            <a:r>
              <a:rPr b="0" lang="pl-PL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:= n.P</a:t>
            </a:r>
            <a:r>
              <a:rPr b="0" lang="pl-PL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czytaj blok 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jdź w węźle n element (K</a:t>
            </a:r>
            <a:r>
              <a:rPr b="0" lang="pl-PL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</a:t>
            </a:r>
            <a:r>
              <a:rPr b="0" lang="pl-PL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aki, że K</a:t>
            </a:r>
            <a:r>
              <a:rPr b="0" lang="pl-PL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K;  (* przeglądaj liść drzewa *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znalezio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odczytaj blok pliku danych o wskaźniku Pr</a:t>
            </a:r>
            <a:r>
              <a:rPr b="0" lang="pl-PL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pobierz rekord dany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w pliku danych nie ma rekordu o wartości pola równej 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Szuka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Wstawianie danych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y indeks o rzędzie p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orzeniu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ta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, P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:= wskaźnik na blok zawierający korzeń drzew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ytaj blok n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yczyść stos S;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węzeł n nie jest liściem) 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ieść wartość n na stosie 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*stos S przechowuje ścieżkę przeszukiwania drzewa*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:= liczba wskaźników w węźle 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 </a:t>
            </a:r>
            <a:r>
              <a:rPr b="0" lang="pl-PL" sz="1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.K</a:t>
            </a:r>
            <a:r>
              <a:rPr b="0" lang="pl-PL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*n.K</a:t>
            </a:r>
            <a:r>
              <a:rPr b="0" lang="pl-PL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st i-tym kluczem w węźle n*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 := n.P</a:t>
            </a:r>
            <a:r>
              <a:rPr b="0" lang="pl-PL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(*n.P</a:t>
            </a:r>
            <a:r>
              <a:rPr b="0" lang="pl-PL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st i-tym wskaźnikiem w węźle n*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 &gt; n.K</a:t>
            </a:r>
            <a:r>
              <a:rPr b="0" lang="pl-PL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q-i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 := n.P</a:t>
            </a:r>
            <a:r>
              <a:rPr b="0" lang="pl-PL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jdź w węźle n element i taki, że n.K</a:t>
            </a:r>
            <a:r>
              <a:rPr b="0" lang="pl-PL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-1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K &lt; n.K</a:t>
            </a:r>
            <a:r>
              <a:rPr b="0" lang="pl-PL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:= n.P</a:t>
            </a:r>
            <a:r>
              <a:rPr b="0" lang="pl-PL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czytaj blok 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wórz nowy element indeksu (K,Pr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ść n nie jest peł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staw nowy element (K, Pr) w odpowiednią pozycję węzła n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Wstawianie danych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(*węzeł n jest pełny – niezbędny podział liścia*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piuj n do temp; (*temp jest temporalnym blokiem o rozmiarze umożliwiającym przechowanie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datkowego elementu *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taw element (K, Pr) w odpowiednie miejsce te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*temp przechowuje teraz p+1 elementów *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:= nowy pusty liść drzew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: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 + 1)/2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:= pierwszych j elementów temp (do elementu (K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r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P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ex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new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:= pozostałe elementy z te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:= Kj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*teraz musimy wstawić element (K,new) do węzła pośredniego, który jest przodkiem liścia n, jeżeli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odek jest pełny nastąpi propagacja podziału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shed := fals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tos S jest pu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(*nie ma przodka – trzeba utworzyć nowy korzeń drzewa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ot := nowy węzeł wewnętrzny indeksu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ot := &lt;n, K, new&gt;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shed := tru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Wstawianie danych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:= wskaźnik ze stosu 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ęzeł wewnętrzny n nie jest pełn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(*podział węzła niepotrzebny*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taw (K, new) w odpowiednie miejsce węzła 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shed := tru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(*węzeł wewnętrzny jest pełny – niezbędny podział*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episz zawartość n do te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taw (K,new) w odpowiednią pozycję do te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*temp ma teraz p+1 wskaźników*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:= nowy węzeł wewnętrzny indeksu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: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p + 1)/2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:= pierwszych j elementów temp (do wskaźnika P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*n zawiera &lt;P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, P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-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-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gt; *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:= pozostałe elementy te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*new zawiera &lt;P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+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+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, K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-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+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gt; *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:= Kj 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*teraz musimy wstawić element (K,new) do przodka węzła n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il finish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Wstaw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zykład operacji wstawiania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o indeks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kwencja operacji wstawiania: 8, 5, 1, 7, 3, 12, 9, 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746520" y="2251080"/>
          <a:ext cx="2895480" cy="17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6520" y="2251080"/>
                    <a:ext cx="289548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2451240" y="4308480"/>
          <a:ext cx="3838320" cy="12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51240" y="4308480"/>
                    <a:ext cx="383832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S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ormat strony pliku indeksowego ma następującą postać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293840" y="2062080"/>
          <a:ext cx="6021360" cy="37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3840" y="2062080"/>
                    <a:ext cx="602136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896760" y="2860560"/>
            <a:ext cx="699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arę wartości postac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</a:t>
            </a:r>
            <a:r>
              <a:rPr b="1" i="1" lang="pl-PL" sz="2400" spc="-1" strike="noStrike">
                <a:solidFill>
                  <a:srgbClr val="3333cc"/>
                </a:solidFill>
                <a:latin typeface="Times New Roman"/>
              </a:rPr>
              <a:t>klucz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</a:t>
            </a:r>
            <a:r>
              <a:rPr b="1" i="1" lang="pl-PL" sz="2400" spc="-1" strike="noStrike">
                <a:solidFill>
                  <a:srgbClr val="3333cc"/>
                </a:solidFill>
                <a:latin typeface="Times New Roman"/>
              </a:rPr>
              <a:t>wskaźni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nazywa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pl-PL" sz="2400" spc="-1" strike="noStrike">
                <a:solidFill>
                  <a:srgbClr val="3333cc"/>
                </a:solidFill>
                <a:latin typeface="Times New Roman"/>
              </a:rPr>
              <a:t>rekordem indeksu (ang. entry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50480" y="4003560"/>
            <a:ext cx="732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ażda strona indeksu zawier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o jeden wskaźnik więc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aniżeli liczba klucz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ażdy klucz pełni funkcj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eparatora pomiędzy stronami wskazywanymi prze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skaźniki indek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343400" y="304560"/>
            <a:ext cx="4114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Przykład c.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828720" y="838080"/>
          <a:ext cx="3743280" cy="15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838080"/>
                    <a:ext cx="3743280" cy="15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2438280" y="2286000"/>
          <a:ext cx="5572080" cy="18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2286000"/>
                    <a:ext cx="557208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1219320" y="4343400"/>
          <a:ext cx="6153120" cy="194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343400"/>
                    <a:ext cx="615312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Przykład c.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828800" y="1143000"/>
          <a:ext cx="501012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143000"/>
                    <a:ext cx="501012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1905120" y="3657600"/>
          <a:ext cx="5991120" cy="194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3657600"/>
                    <a:ext cx="599112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ndeksy wielowymiarow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de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+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rzew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iera efektywną realizację zapytań przedziałowych dzięki liniowemu uporządkowaniu rekordów indeks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ne sposoby porządkowania rekordów indeksu prowadzą do innych struktur danych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deksy jednowymiarow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liniowy porządek zdefiniowany na zbiorze kluczy (i zbiorze rekordów indeksu).  Przykładem takiego indeksu – indek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+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rze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deksy wielowymiarow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rak liniowego porządk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ekordy indeksu uporządkowane wg. relacji przestrzennej, w której każda wartość klucza jest punktem w przestrzeni k-wymiarowe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dzi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liczbą atrybutów klucza złożo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ndeksy wielowymiarow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zykład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deks jednowymiarowy linearyzu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-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miarow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strzeń wartośc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lucza złożoneg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ge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al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ortując rekordy indeksu najpierw wg. wartości atrybut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ge</a:t>
            </a:r>
            <a:r>
              <a:rPr b="0" i="1" lang="pl-PL" sz="24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 następnie wg. wartości</a:t>
            </a:r>
            <a:r>
              <a:rPr b="0" i="1" lang="pl-PL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trybut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ykłado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lucz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ge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al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ą przechowywane w indeksie typu B+-drzewo w następującym porządku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, 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, 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, 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pytanie przedziałowe na atrybuci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że być zrealizowane efektywnie ze względu na porządek rekordów indeksu. Zapytanie przedziałowe na atrybuci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że być kosztow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ykładowo, wyszukanie rekordów dla który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ge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&lt; 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st łat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le wyszukanie rekordów, dla który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al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&lt; 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maga przeszukania całego indek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ndeksy wielowymiarow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indeksie wielowymiarow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kordy indeksu są przechowywane w porządku wynikającym z odległości pomiędzy wartościami kluczy w przestrzeni k wymiarowej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ą pamiętane kolejno, podobnie klucz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349360" y="3068640"/>
            <a:ext cx="1800" cy="2603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349360" y="5594400"/>
            <a:ext cx="21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82880" y="5611680"/>
            <a:ext cx="7509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  12  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62240" y="4960800"/>
            <a:ext cx="7776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49640" y="5270400"/>
            <a:ext cx="77760" cy="7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908440" y="3218040"/>
            <a:ext cx="77760" cy="7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378240" y="3382920"/>
            <a:ext cx="77760" cy="7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05520" y="3106800"/>
            <a:ext cx="1440" cy="2603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800600" y="2819520"/>
            <a:ext cx="2811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05520" y="5611680"/>
            <a:ext cx="216036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638680" y="5637240"/>
            <a:ext cx="7509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  12  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918040" y="4986360"/>
            <a:ext cx="781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05440" y="5295960"/>
            <a:ext cx="77760" cy="7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64240" y="3243240"/>
            <a:ext cx="77760" cy="7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21440" y="3408480"/>
            <a:ext cx="77760" cy="7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575320" y="3182760"/>
            <a:ext cx="712800" cy="3938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29480" y="4948200"/>
            <a:ext cx="255240" cy="4698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63760" y="3017880"/>
            <a:ext cx="1800" cy="259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009960" y="3022560"/>
            <a:ext cx="1440" cy="259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82880" y="4098960"/>
            <a:ext cx="1440" cy="1493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82880" y="3017880"/>
            <a:ext cx="144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378240" y="4116240"/>
            <a:ext cx="1440" cy="1495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37040" y="4097160"/>
            <a:ext cx="1440" cy="1494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78240" y="3022560"/>
            <a:ext cx="144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37040" y="3019320"/>
            <a:ext cx="1440" cy="1068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95480" y="3005280"/>
            <a:ext cx="115920" cy="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49640" y="3014640"/>
            <a:ext cx="115920" cy="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35160" y="5535720"/>
            <a:ext cx="115920" cy="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76720" y="5543640"/>
            <a:ext cx="115920" cy="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81080" y="2819520"/>
            <a:ext cx="2811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S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676520" y="1604880"/>
            <a:ext cx="5220720" cy="1824120"/>
            <a:chOff x="1676520" y="1604880"/>
            <a:chExt cx="5220720" cy="1824120"/>
          </a:xfrm>
        </p:grpSpPr>
        <p:sp>
          <p:nvSpPr>
            <p:cNvPr id="53" name=""/>
            <p:cNvSpPr/>
            <p:nvPr/>
          </p:nvSpPr>
          <p:spPr>
            <a:xfrm>
              <a:off x="2357280" y="1604880"/>
              <a:ext cx="2966760" cy="44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31440" y="1679040"/>
              <a:ext cx="670320" cy="287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1 k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6720" y="1689120"/>
              <a:ext cx="670320" cy="2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95040" y="1674000"/>
              <a:ext cx="670320" cy="287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N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1697760" y="1774800"/>
              <a:ext cx="797400" cy="112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55000" y="1901880"/>
              <a:ext cx="360" cy="102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77840" y="1891800"/>
              <a:ext cx="372600" cy="101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21360" y="1901880"/>
              <a:ext cx="266760" cy="102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78600" y="1753200"/>
              <a:ext cx="68112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dex fi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76520" y="2960640"/>
              <a:ext cx="4487760" cy="46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00200" y="3053160"/>
              <a:ext cx="670320" cy="287640"/>
            </a:xfrm>
            <a:prstGeom prst="rect">
              <a:avLst/>
            </a:prstGeom>
            <a:solidFill>
              <a:srgbClr val="cc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age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755720" y="3053160"/>
              <a:ext cx="670320" cy="287640"/>
            </a:xfrm>
            <a:prstGeom prst="rect">
              <a:avLst/>
            </a:prstGeom>
            <a:solidFill>
              <a:srgbClr val="cc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age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45040" y="3036600"/>
              <a:ext cx="670320" cy="287640"/>
            </a:xfrm>
            <a:prstGeom prst="rect">
              <a:avLst/>
            </a:prstGeom>
            <a:solidFill>
              <a:srgbClr val="cc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age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413680" y="3042360"/>
              <a:ext cx="670680" cy="287640"/>
            </a:xfrm>
            <a:prstGeom prst="rect">
              <a:avLst/>
            </a:prstGeom>
            <a:solidFill>
              <a:srgbClr val="cc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age 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6040" y="3088800"/>
              <a:ext cx="6912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 fi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345760" y="3546360"/>
            <a:ext cx="31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deks jednopoziom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S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ealizacja zapytań przedziałowych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alizujemy przeszukiwanie binarne pliku indeksowego w celu zidentyfikowania strony zawierającej pierwszy klucz spełniający warunek selekcj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ozpoczynamy przeglądanie pliku danych od strony wskazanej przez wskaźnik indek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eszukiwanie binarne pliku indeksowego może być kosztow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dea ISAM: </a:t>
            </a:r>
            <a:r>
              <a:rPr b="1" lang="pl-PL" sz="2800" spc="-1" strike="noStrike">
                <a:solidFill>
                  <a:srgbClr val="3333cc"/>
                </a:solidFill>
                <a:latin typeface="Times New Roman"/>
              </a:rPr>
              <a:t>buduj kolejne pliki indeksowe rekursywnie (indeks do indeksu, itd.)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S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40120" y="1738440"/>
            <a:ext cx="3650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25720" y="2378160"/>
            <a:ext cx="3650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54520" y="2378160"/>
            <a:ext cx="3650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68520" y="3017880"/>
            <a:ext cx="3650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90760" y="3017880"/>
            <a:ext cx="3668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89480" y="3017880"/>
            <a:ext cx="3650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11720" y="3017880"/>
            <a:ext cx="3650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03480" y="3567240"/>
            <a:ext cx="438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03480" y="3749760"/>
            <a:ext cx="365040" cy="1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51040" y="3749760"/>
            <a:ext cx="366840" cy="1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3749760"/>
            <a:ext cx="365040" cy="1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05160" y="3749760"/>
            <a:ext cx="366840" cy="1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54520" y="3749760"/>
            <a:ext cx="365040" cy="1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68920" y="3749760"/>
            <a:ext cx="365040" cy="1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22640" y="201312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107880" y="2013120"/>
            <a:ext cx="82404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2013120"/>
            <a:ext cx="82224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08240" y="26528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650680" y="2652840"/>
            <a:ext cx="36684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2652840"/>
            <a:ext cx="27468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37040" y="26528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571640" y="2652840"/>
            <a:ext cx="27468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2652840"/>
            <a:ext cx="36504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1828800"/>
            <a:ext cx="109692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n-lea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03480" y="4206960"/>
            <a:ext cx="365040" cy="1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4206960"/>
            <a:ext cx="365040" cy="1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51040" y="329256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285640" y="3292560"/>
            <a:ext cx="274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43200" y="3292560"/>
            <a:ext cx="90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75080" y="329256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290760" y="3292560"/>
            <a:ext cx="921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65440" y="3292560"/>
            <a:ext cx="274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329256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389120" y="3292560"/>
            <a:ext cx="90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2360" y="3292560"/>
            <a:ext cx="274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211720" y="3292560"/>
            <a:ext cx="921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4240" y="329256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292560"/>
            <a:ext cx="3650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3841920"/>
            <a:ext cx="198360" cy="457200"/>
          </a:xfrm>
          <a:custGeom>
            <a:avLst/>
            <a:gdLst/>
            <a:ahLst/>
            <a:rect l="l" t="t" r="r" b="b"/>
            <a:pathLst>
              <a:path w="312" h="720">
                <a:moveTo>
                  <a:pt x="312" y="0"/>
                </a:moveTo>
                <a:cubicBezTo>
                  <a:pt x="264" y="24"/>
                  <a:pt x="216" y="48"/>
                  <a:pt x="168" y="144"/>
                </a:cubicBezTo>
                <a:cubicBezTo>
                  <a:pt x="120" y="240"/>
                  <a:pt x="0" y="480"/>
                  <a:pt x="24" y="576"/>
                </a:cubicBezTo>
                <a:cubicBezTo>
                  <a:pt x="48" y="672"/>
                  <a:pt x="264" y="696"/>
                  <a:pt x="312" y="7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43400" y="3841920"/>
            <a:ext cx="214200" cy="457200"/>
          </a:xfrm>
          <a:custGeom>
            <a:avLst/>
            <a:gdLst/>
            <a:ahLst/>
            <a:rect l="l" t="t" r="r" b="b"/>
            <a:pathLst>
              <a:path w="336" h="720">
                <a:moveTo>
                  <a:pt x="336" y="0"/>
                </a:moveTo>
                <a:cubicBezTo>
                  <a:pt x="216" y="24"/>
                  <a:pt x="96" y="48"/>
                  <a:pt x="48" y="144"/>
                </a:cubicBezTo>
                <a:cubicBezTo>
                  <a:pt x="0" y="240"/>
                  <a:pt x="0" y="480"/>
                  <a:pt x="48" y="576"/>
                </a:cubicBezTo>
                <a:cubicBezTo>
                  <a:pt x="96" y="672"/>
                  <a:pt x="216" y="696"/>
                  <a:pt x="336" y="7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75080" y="4572000"/>
            <a:ext cx="109692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flow p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747960" y="44812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650680" y="4389120"/>
            <a:ext cx="109692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76240" y="4460760"/>
            <a:ext cx="4174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ażdy wierzchołek indeksu j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lokiem dyskow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zystk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kordy danych znajdują się 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iściac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i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)).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żliw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st również wari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)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S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2438280"/>
            <a:ext cx="4572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1798560"/>
            <a:ext cx="100620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54320" y="179856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179856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11520" y="179856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511520" y="1433520"/>
            <a:ext cx="182880" cy="27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55960" y="2438280"/>
            <a:ext cx="100656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      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68720" y="2438280"/>
            <a:ext cx="100512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1      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2438280"/>
            <a:ext cx="0" cy="3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22800" y="2438280"/>
            <a:ext cx="0" cy="3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13160" y="2438280"/>
            <a:ext cx="0" cy="3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70360" y="2438280"/>
            <a:ext cx="0" cy="3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505320" y="19810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59440" y="2438280"/>
            <a:ext cx="0" cy="3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25920" y="2438280"/>
            <a:ext cx="0" cy="3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16640" y="2438280"/>
            <a:ext cx="0" cy="3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83120" y="2438280"/>
            <a:ext cx="0" cy="3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1981080"/>
            <a:ext cx="1006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3352680"/>
            <a:ext cx="9144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*   15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33526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16240" y="3809880"/>
            <a:ext cx="9144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*    27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30640" y="3352680"/>
            <a:ext cx="9144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3*    37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37200" y="3352680"/>
            <a:ext cx="9144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*    46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3809880"/>
            <a:ext cx="9144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1*    55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08800" y="3352680"/>
            <a:ext cx="9144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*    97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73440" y="38098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87840" y="33526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25160" y="2620800"/>
            <a:ext cx="73044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865240" y="2620800"/>
            <a:ext cx="547560" cy="11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779640" y="2620800"/>
            <a:ext cx="18252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94400" y="33526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4120" y="38098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66000" y="33526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694400" y="2620800"/>
            <a:ext cx="27432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333760" y="2620800"/>
            <a:ext cx="91800" cy="11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83120" y="2620800"/>
            <a:ext cx="18288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16240" y="4541760"/>
            <a:ext cx="9144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3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73440" y="45417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03480" y="3992400"/>
            <a:ext cx="212760" cy="731880"/>
          </a:xfrm>
          <a:custGeom>
            <a:avLst/>
            <a:gdLst/>
            <a:ahLst/>
            <a:rect l="l" t="t" r="r" b="b"/>
            <a:pathLst>
              <a:path w="336" h="1152">
                <a:moveTo>
                  <a:pt x="336" y="0"/>
                </a:moveTo>
                <a:cubicBezTo>
                  <a:pt x="216" y="0"/>
                  <a:pt x="96" y="0"/>
                  <a:pt x="48" y="144"/>
                </a:cubicBezTo>
                <a:cubicBezTo>
                  <a:pt x="0" y="288"/>
                  <a:pt x="0" y="696"/>
                  <a:pt x="48" y="864"/>
                </a:cubicBezTo>
                <a:cubicBezTo>
                  <a:pt x="96" y="1032"/>
                  <a:pt x="216" y="1092"/>
                  <a:pt x="336" y="1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4541760"/>
            <a:ext cx="9144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8*    41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181480"/>
            <a:ext cx="9144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2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45417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5181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64160" y="4724280"/>
            <a:ext cx="212760" cy="639720"/>
          </a:xfrm>
          <a:custGeom>
            <a:avLst/>
            <a:gdLst/>
            <a:ahLst/>
            <a:rect l="l" t="t" r="r" b="b"/>
            <a:pathLst>
              <a:path w="336" h="1008">
                <a:moveTo>
                  <a:pt x="336" y="0"/>
                </a:moveTo>
                <a:cubicBezTo>
                  <a:pt x="216" y="12"/>
                  <a:pt x="96" y="24"/>
                  <a:pt x="48" y="144"/>
                </a:cubicBezTo>
                <a:cubicBezTo>
                  <a:pt x="0" y="264"/>
                  <a:pt x="0" y="576"/>
                  <a:pt x="48" y="720"/>
                </a:cubicBezTo>
                <a:cubicBezTo>
                  <a:pt x="96" y="864"/>
                  <a:pt x="216" y="936"/>
                  <a:pt x="336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75280" y="3627360"/>
            <a:ext cx="701640" cy="1006560"/>
          </a:xfrm>
          <a:custGeom>
            <a:avLst/>
            <a:gdLst/>
            <a:ahLst/>
            <a:rect l="l" t="t" r="r" b="b"/>
            <a:pathLst>
              <a:path w="1104" h="1584">
                <a:moveTo>
                  <a:pt x="96" y="0"/>
                </a:moveTo>
                <a:cubicBezTo>
                  <a:pt x="48" y="180"/>
                  <a:pt x="0" y="360"/>
                  <a:pt x="96" y="576"/>
                </a:cubicBezTo>
                <a:cubicBezTo>
                  <a:pt x="192" y="792"/>
                  <a:pt x="504" y="1128"/>
                  <a:pt x="672" y="1296"/>
                </a:cubicBezTo>
                <a:cubicBezTo>
                  <a:pt x="840" y="1464"/>
                  <a:pt x="972" y="1524"/>
                  <a:pt x="1104" y="15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61800" y="11080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orze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S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najdź rekord danych o wartości klucz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prowadź rekordy danych o następujących wartościach klucz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3, 48, 41, 42 (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łóż, że każdy liść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że zawierać co najwyżej 2 rekor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suń rekordy o następujących wartościach klucz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2, 51, 9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S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03680" y="2376360"/>
            <a:ext cx="4572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60880" y="1736640"/>
            <a:ext cx="100656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53040" y="173664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18080" y="173664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10240" y="173664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54320" y="2376360"/>
            <a:ext cx="1006560" cy="36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      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67440" y="2376360"/>
            <a:ext cx="1004760" cy="36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1      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46480" y="2376360"/>
            <a:ext cx="0" cy="3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21160" y="2376360"/>
            <a:ext cx="0" cy="3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11520" y="2376360"/>
            <a:ext cx="0" cy="3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68720" y="2376360"/>
            <a:ext cx="0" cy="3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3703680" y="191916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57800" y="2376360"/>
            <a:ext cx="0" cy="3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24640" y="2376360"/>
            <a:ext cx="0" cy="3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2376360"/>
            <a:ext cx="0" cy="3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81840" y="2376360"/>
            <a:ext cx="0" cy="3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18080" y="1919160"/>
            <a:ext cx="1006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74880" y="3290760"/>
            <a:ext cx="9144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*   15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32080" y="32907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3747960"/>
            <a:ext cx="9144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*    27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29000" y="3290760"/>
            <a:ext cx="9144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3*    37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35560" y="3290760"/>
            <a:ext cx="9144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*    46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75280" y="3747960"/>
            <a:ext cx="9144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5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07160" y="3290760"/>
            <a:ext cx="9144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71800" y="37479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32907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424240" y="2558880"/>
            <a:ext cx="73008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063600" y="2558880"/>
            <a:ext cx="547560" cy="11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978000" y="2558880"/>
            <a:ext cx="18252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92760" y="32907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32480" y="37479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64360" y="32907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4892400" y="2558880"/>
            <a:ext cx="27468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532480" y="2558880"/>
            <a:ext cx="92160" cy="11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81840" y="2558880"/>
            <a:ext cx="18252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14600" y="4479840"/>
            <a:ext cx="91440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3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71800" y="4479840"/>
            <a:ext cx="0" cy="27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01840" y="3930480"/>
            <a:ext cx="212760" cy="731880"/>
          </a:xfrm>
          <a:custGeom>
            <a:avLst/>
            <a:gdLst/>
            <a:ahLst/>
            <a:rect l="l" t="t" r="r" b="b"/>
            <a:pathLst>
              <a:path w="336" h="1152">
                <a:moveTo>
                  <a:pt x="336" y="0"/>
                </a:moveTo>
                <a:cubicBezTo>
                  <a:pt x="216" y="0"/>
                  <a:pt x="96" y="0"/>
                  <a:pt x="48" y="144"/>
                </a:cubicBezTo>
                <a:cubicBezTo>
                  <a:pt x="0" y="288"/>
                  <a:pt x="0" y="696"/>
                  <a:pt x="48" y="864"/>
                </a:cubicBezTo>
                <a:cubicBezTo>
                  <a:pt x="96" y="1032"/>
                  <a:pt x="216" y="1092"/>
                  <a:pt x="336" y="1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65800" y="4452840"/>
            <a:ext cx="9144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8*    41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23000" y="44528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45040" y="3538440"/>
            <a:ext cx="320760" cy="1036800"/>
          </a:xfrm>
          <a:custGeom>
            <a:avLst/>
            <a:gdLst/>
            <a:ahLst/>
            <a:rect l="l" t="t" r="r" b="b"/>
            <a:pathLst>
              <a:path w="504" h="1632">
                <a:moveTo>
                  <a:pt x="504" y="0"/>
                </a:moveTo>
                <a:cubicBezTo>
                  <a:pt x="324" y="96"/>
                  <a:pt x="144" y="192"/>
                  <a:pt x="72" y="432"/>
                </a:cubicBezTo>
                <a:cubicBezTo>
                  <a:pt x="0" y="672"/>
                  <a:pt x="24" y="1248"/>
                  <a:pt x="72" y="1440"/>
                </a:cubicBezTo>
                <a:cubicBezTo>
                  <a:pt x="120" y="1632"/>
                  <a:pt x="240" y="1608"/>
                  <a:pt x="360" y="15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73800" y="5222880"/>
            <a:ext cx="50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truktura ISAM po usunięciu rekord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19:17:15Z</dcterms:created>
  <dc:creator>Tadeusz Morzy</dc:creator>
  <dc:description/>
  <dc:language>en-US</dc:language>
  <cp:lastModifiedBy>Tadeusz Morzy</cp:lastModifiedBy>
  <dcterms:modified xsi:type="dcterms:W3CDTF">2001-11-28T12:32:08Z</dcterms:modified>
  <cp:revision>51</cp:revision>
  <dc:subject/>
  <dc:title> Indeksy drzewiaste</dc:title>
</cp:coreProperties>
</file>