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B9A-341B-42F7-95D8-E470633F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8CC-14B9-40F8-9514-7D40DD2D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EE9-803E-42D9-8003-26FB72BD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2C3-8DC9-4B38-872D-716F98B5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43E-EE80-41A1-AD88-E3DD6508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106-2AE4-4041-9723-60738DEF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012-A2F6-4613-8FB3-AF5BA2CD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D5C-65F7-48E8-B80F-AF63DADE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027-97B7-42D3-861D-62C6D303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4DE-8A18-4290-80BA-55D25999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C9B-1D51-49E2-9BC4-7CA92910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E83-63B9-4F38-8D35-49C6B7F9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255F-3EF5-4192-B5CB-BC72A7B49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ahoma"/>
              </a:rPr>
              <a:t>Relacyjny model da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graniczenia integralnościow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graniczenie domeny atrybu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Zbiór wartośc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omeny atrybutu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może być zawężony przez wyrażenie logiczne do pewnego podzbioru: przedziału lub wyliczeniowej listy wartośc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graniczenie integralnościowe klucza relacji – unikalność krotek re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elacja jest zbiorem krotek, stąd, z definicji zbioru, wszystkie krotki relacji muszą być unika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46E-1F4B-4A11-BC2A-CF83CDB7E8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graniczenia integralnościow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Ograniczenie na unikalność krotek relacj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(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Każdy podzbiór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atrybutów relacj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taki że dla każdych dwóch krotek ze zbioru r(R)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chodz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1[SK]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t2[SK], jest nazywany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nad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klucze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(ang. super key) relacji R. Każda relacja musi mieć co najmniej jeden klucz – cały schemat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SK = {STUDENT.NrIndeksu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848-255D-4075-AFB2-B08126A6E3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graniczenia integralnościow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Ograniczenie na unikalność krotek relacj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(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uperklucz może posiadać nadmiarowe atrybuty.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Klucze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K schematu relacji R nazywamy superklucz schematu R o takiej własności, że usunięcie dowolnego atrybutu A z K powoduje, że K’=K-A nie jest już superklucz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lucz jest minimalnym superkluczem zachowującym własność unikalność krotek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chemat relacji może posiadać więcej niż jeden klu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2C0-2C33-47AC-91BD-A16AE599FC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graniczenia integralnościow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Ograniczenie integralno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ci klucza podstawowego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Jeden z kluczy relacji może b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yr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iony jako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klucz podstawow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jednoznacznie identyfiku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y krotki relacji. W zw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zku z tym klucz podstawowy nie m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e przyjmować wart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i pusty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zostałe klucze schematu relacji nazywamy kluczami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wtórnym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lub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kandydujący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998-3BEE-4864-9E16-69AF981042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graniczenia referencyj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Dane są relacje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. Podzbiór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atrybutów relacj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nazywany jest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kluczem obcy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(ang. foreign key), jeże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trybuty w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F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mają taką samą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men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jak atrybuty klucza podstawoweg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relacj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la każdej krotk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relacj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istnieje krotka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relacj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, taka że: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F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] =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], lub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F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] =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C11-5B2B-4C2A-871C-7DF0FA54CA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Dane dwie relacje z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raniczeniami referencyjny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0720" y="1844640"/>
          <a:ext cx="8693280" cy="25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1844640"/>
                    <a:ext cx="869328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828000" y="13413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own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1440" y="44370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espo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71640" y="5084640"/>
          <a:ext cx="7392960" cy="122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084640"/>
                    <a:ext cx="73929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94D-D1FB-4D03-9E31-7C127907A8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Przykład (c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staw do relacj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racownic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rotkę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 = &lt;120, 'Malinowski', 'Akwizytor', 500, 100, 1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Zmodyfikuj krotkę relacj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Zespoł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[Zespoły.IdZesp] = 30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dl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[Zespoły.IdZesp]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Usuń krotkę relacj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racownic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taką ż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[Nazwisko] = 'Tarzan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2DE-7B33-4C33-BCE3-7FD7986309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Relacyjne j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zyki dost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pu do dany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lgebra relacji, rachunek kro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QL (Structured Query Languag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- IBM, 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Qu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- In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QBE (Query by Examp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- IB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281952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922-B1D8-471E-9FF8-168D67AAFB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Standard SQ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1965 - Początek prac nad standardem języka bazy danych (DBTG – CODASYL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1981 - Początek prac nad standardem języka relacyjnej bazy danych (SQL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86 - NDL (Network-structured Data Languag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86 - SQL86 ANS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87 - SQL86 IS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89 - SQL89 (ISO/ANSI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91 - początek prac nad SQL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92 - SQL92 (ISO/ANSI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1999/2000 – SQL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QL 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85E-D6B6-42F2-943B-E852D23ACD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Podstawowe operacje algebry rel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peracje na zbior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NION, INTERSECTION, SET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ARTESIAN PRODUCT,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peracje ‘relacyjne’ (opracowane dla relacyjnego modelu dany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ELECT, PROJECT,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UTER JOIN,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5FD-BCBB-4525-8A1D-BEE15B75DC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Model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ruktury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148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514520"/>
            <a:ext cx="7488000" cy="279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0120" y="4260960"/>
            <a:ext cx="48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raniczenia integraln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28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43400" y="4800600"/>
            <a:ext cx="4476600" cy="939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18560" y="5556240"/>
            <a:ext cx="17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pe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12F-7EEB-41C4-BE87-9330EC5242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selekcji - SEL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przeznaczen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wyodrębnienie podzbioru krotek relacji, które spełniają warunek sele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notacj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&lt;warunek selekcji&gt;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(&lt;Nazwa relacji&gt;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gdzie warunek selekcji jest zbiorem predykatów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&lt;nazwa atrybutu&gt;&lt;operator relacyjny&gt;&lt;literał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&lt;nazwa atrybutu&gt;&lt;operator relacyjny&gt;&lt;nazwa atrybut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ołączonych operatorami logicznymi: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N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lub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. Zbió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peratorów relacyjnych zawiera następujące elementy: {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&lt;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&gt;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D52-AEA3-43CD-94ED-40C7B3F4BE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selekcji - Przykła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dPrac = 100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(Pracowni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Płaca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100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(Pracowni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(IdZesp=10 AND Płaca&gt;1000) OR (IdZesp=20) AND Płaca&gt;800)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Pracownicy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Etat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‘Analityk’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łaca&gt;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=700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Płaca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&lt;12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0)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Pracownicy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łasnośc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operacja selekcji jest komutatywn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war1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war2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))=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war2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war1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R)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242-C4A8-4901-A47D-7C49DEBFFA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Operacja selekcji w języku SQ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*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studen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HERE rok_studiów =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ND średnia_ocen &gt; 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*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ROM studen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WHERE UPPER(nazwisko) = ‘MORZY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 stypendium &lt; zasił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 *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studen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HERE (rok_studiów, typ_studiów, średnia) = (3, ‘podyplomowe’,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E3D-63C1-4CAC-BDBA-E03400B25C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projekcji -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przeznaczen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wyodrębnienie wybranych atrybutów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notacj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&lt;lista atrybutów&gt;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(&lt;Nazwa relacji&gt;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gdzie lista atrybutów jest podzbiorem atrybutów ze schematu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łasnośc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operacja projekcji nie jest komutatywna. Składanie operacji projekcji jest możliwe przy spełnieniu pewnych dodatkowych warunkó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lista1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lista2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R))=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lista1&gt;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jeżel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lista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zawiera wszystkie atrybuty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list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49F-81FD-4C7E-9231-9EC0469C38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projekcji - Przykła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azwisko, Etat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(Pracownic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tat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(Pracownic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IdPrac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Arial"/>
              </a:rPr>
              <a:t>Nazwisko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(Pracownic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870-1801-4FBD-95DF-273BE03F50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Operacja 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projekcji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w j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zyku SQL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ozszerzenia języka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peracje na dan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+, -, *, /, 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1,22 * cena, cena – rabat, dochód / 12,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imię || nazwis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unkcj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arytmetyczne, znakowe, na datach, konwersji, ogó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UPPER(nazwisko), SIN(kąt), LN(podstaw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OUND(składka, 1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O_CHAR(data, ‘Day DD-MM-YYY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C98-FDA6-4323-8E96-A7EB0A437E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Operacja 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projekcji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w j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zyku SQL</a:t>
            </a: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upper(nazwisko), 12*płaca, nullif(premia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pracown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liasy wyra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ń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yrażenie AS al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O_CHAR(data, ‘Day DD-MM-YYYY) AS data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OUND(składka, 1) AS składka_zaokrąglo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AD9-482A-4204-B24F-5E640C0A65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Usuwanie duplikat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[DISTINCT |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ALL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]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rzyk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adres_mi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ROM studen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DISTINCT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adres_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i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studen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98D-AE01-43CA-A270-81AD2359D6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Porządkowanie relacji wynikow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RDER BY wyrażenie1 [</a:t>
            </a: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ASC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| DESC]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 nazwis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pracown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RDER BY zespół ASC, etat ASC, płaca DE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444-C8A9-4F07-9A71-0882C9A167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Składanie oper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kwencja wielu operacji, w której kolejne operacje są wykonywane na pośrednich wynikach operacji poprzednich, może być zastąpiona pojedynczą operacją złożoną, powstałą przez zagnieżdżenie operacji elementarn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</a:rPr>
              <a:t>Przykł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acownicyZesp10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dZesp = 10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Pracowni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ynik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dPrac, Nazwisko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PracownicyZesp10 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dPrac, Nazwisko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dZesp = 10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Pracownicy)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809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42670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464832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5E6-3AA7-4E82-95B7-14D026576E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Struktury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Baza danych jest zbiorem relacji (tabl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Domena 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jest zbiorem wartości atom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omena jest definiowana przez podanie typu danych, które mogą przyjmować wartości danych danej dom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Schemat relacji 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oznaczony przez 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, składa się z nazwy relacji R oraz listy nazw atrybutów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A4B-32E5-4FF4-B866-899E1A09AC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Operacje na zbiora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Kompatybilno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Dwie relacje: 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są kompatybilne, jeżeli mają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n sam stopień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i jeżeli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= dom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dla 1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peracje na zbior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Dane są dwie kompatybilne relacje: 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Operacje sumy, iloczynu i 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icy relacji R i S są zdefiniowane na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u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o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8B1-B719-400C-8CD3-7C7418BAA1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  <a:ea typeface="Arial"/>
              </a:rPr>
              <a:t>Operacje na zbior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um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Wynikiem tej operacji, oznaczanej przez 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, jest relacja zawierająca wszystkie krotki, k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e wy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u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 R i wszystkie krotki, które występują w S, z wy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zeniem duplikatów krotek. Operacja sumy jest operac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omutatyw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 = S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iloczy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Wynikiem tej operacji, oznaczonej przez 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, jest relacja zawiera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a krotki wy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u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e za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no w R i S. Operacja iloczynu jest operac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 komutatywną: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 = S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óż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ic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Wynikiem tej operacji, oznaczonej przez R-S, jest relacja zawiera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a wszystkie krotki, k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e wy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u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 R i nie wy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u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 S. Operacja 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icy nie jest operac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omutatyw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 - S 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 - 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056-E17E-4948-8354-5EE0BBA3B3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e na zbiorach - Przykła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120680"/>
          <a:ext cx="2800080" cy="210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0680"/>
                    <a:ext cx="280008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756720" y="6922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cznio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02160" y="692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nstrukto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564000" y="1168560"/>
          <a:ext cx="3074760" cy="154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168560"/>
                    <a:ext cx="30747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0" y="3933720"/>
          <a:ext cx="2903400" cy="2924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933720"/>
                    <a:ext cx="29034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895680" y="3311640"/>
            <a:ext cx="35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czniowie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Instrukto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69120" y="2820960"/>
            <a:ext cx="35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czniowie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Instrukto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932360" y="3284640"/>
          <a:ext cx="3600360" cy="920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284640"/>
                    <a:ext cx="36003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132000" y="422100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czniowie - Instrukto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59280" y="4869000"/>
          <a:ext cx="2708280" cy="17190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4869000"/>
                    <a:ext cx="27082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708880" y="46530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nstruktorzy - Ucznio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867280" y="5157720"/>
          <a:ext cx="2952720" cy="11192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5157720"/>
                    <a:ext cx="295272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B3D-B449-4197-9FD4-0FB7E26750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e na zbiorach - SQ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9960" y="1182600"/>
            <a:ext cx="8078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nr_konta, sald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ROM filia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WHERE saldo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konto_nr, SUM(operacje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ROM filia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OUP BY konto_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imię, nazwisko, data_urodzeni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ROM filia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NTERS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imię, nazwisko, data_urodzeni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filia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imię, nazwisko, data_urodzeni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ROM filia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imię, nazwisko, data_urodzeni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filia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CD9-C6C2-4B5C-A989-B7FF148B7B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Iloczyn Kartezjań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Dane są dwie relacje: 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. Wynikiem iloczynu kartezjańskiego relacji R i S, oznaczon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przez 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S, jest relacja Q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opni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n+m i schemacie: Q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Krotkom w relacji Q odpowiadają wszystkie kombinacje krotek z relacji R i S. Jeżeli relacja R ma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rotek, a relacja S ma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rotek, to relacja Q będzie miała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*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rote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D2C-2AF5-41FA-B6BE-E9A5E65B74F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Iloczyn Kartezjański - 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1700280"/>
          <a:ext cx="2928960" cy="14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29289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991440" y="12985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own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924360" y="1749600"/>
          <a:ext cx="4968720" cy="1319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749600"/>
                    <a:ext cx="496872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481280" y="13366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espo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51560" y="331776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ownicy x Zespo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3716280"/>
          <a:ext cx="7488360" cy="2557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716280"/>
                    <a:ext cx="748836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C94-5C1D-45A3-A8EA-FCA7D3D6E5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połączenia -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0920" y="907920"/>
            <a:ext cx="79182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przeznaczen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zenie na podstawie warunku po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zeniowego wybranych krotek z d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h relacji w pojedyncz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krot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notacj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: operacja po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zenia relacji 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,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jest oznaczona jako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&lt;warunek połączeniowy&gt;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gdzie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arunek poł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</a:rPr>
              <a:t>ą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czeniow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jest zbiorem predyka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 po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zonych operatorami logicznymi AND. Predykaty 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postaci: A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θ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Bj, gdzie Ai i Bj są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atrybutami</a:t>
            </a:r>
            <a:r>
              <a:rPr b="1" i="1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poł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</a:rPr>
              <a:t>ą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czeniowymi,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i Ai jest atrybutem R, a Bj jest atrybutem S, dom(Ai) = dom(Bj), 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θ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jest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peratore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relacyjn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 ze zbior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{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}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3429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057400" y="34286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EBD-2D99-47C1-A7F4-5A252ABCC9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połączenia -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496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gólna post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operacji połączenia, gdzie jest dowolnym operatorem relacyjnym jest nazywana </a:t>
            </a: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połączeniem typu THET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(ang. THETA JOI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peracja połączenia, dla której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θ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jest operatorem =, nazywana jest </a:t>
            </a: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połączeniem równościowy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(ang. EQU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peracja połączenia, dla której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θ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jest operatorem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óżnym od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=, nazywana jest </a:t>
            </a: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połączeniem </a:t>
            </a: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Tahoma"/>
              </a:rPr>
              <a:t>nierównościowy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(ang.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ON-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EQU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peracja połączenia równościowego, w której jeden z atrybutów połączeniowych jest usunięty ze schematu relacji wynikowej, jest nazywana </a:t>
            </a: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połączeniem naturalny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(ang. NATURAL JOIN). Połączenie naturalne jest oznaczane jako: R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, przy czym wymagane jest, by atrybuty połączeniowe w obu relacjach miały ta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samą naz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319-34C1-4B4A-A2A6-EF92F0FF43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połączenia - Przykła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052640"/>
          <a:ext cx="5003640" cy="158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50036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11280" y="620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own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549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espo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19640" y="1052640"/>
          <a:ext cx="2900520" cy="1468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052640"/>
                    <a:ext cx="290052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0" y="3362400"/>
          <a:ext cx="9144000" cy="107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62400"/>
                    <a:ext cx="9144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0" y="2852640"/>
            <a:ext cx="831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ownicy                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Szef=IdPra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Pracown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380800">
            <a:off x="2095200" y="2857320"/>
            <a:ext cx="228600" cy="4572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365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ownicy *  Zespo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26920" y="4941720"/>
          <a:ext cx="7345440" cy="14320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941720"/>
                    <a:ext cx="734544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C64-B73B-4D8F-B6CD-F71488C6B8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połączenia zewnętrznego – OUTER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zeznaczen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zenie na podstawie warunku po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zeniowego wybranych krotek z d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 relacji w pojedyncz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krot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; w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zypadk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gdy danej krotce relacji nie odpowiad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na krotka drugiej relacji, krotka ta jest 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zona z krot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u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cja po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łą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zenia zewn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rznego lewostronn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relacj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,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est oznaczona jak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&lt;warunek poł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</a:rPr>
              <a:t>ą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zeniowy&gt;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znacza, że w relacji wynikowej znaj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krotki odpowiada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e wszystkim krotkom relacji R (lewostronnej)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162240" y="4457520"/>
            <a:ext cx="228600" cy="4572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4572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4800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66C-FED2-4398-9311-868316B0A30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Struktury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trybut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schematu relacji R opisuje rolę jaką pełni domena D w schemacie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 nazywamy domeną atrybutu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w schemacie R i oznaczamy przez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dom(A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Liczba atrybutów składających się na schemat relacji R nazywamy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stopniem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UDENT(Pesel, Nazwisko, Adres, Tel, Wiek, GP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1BA-11D8-457B-B493-C4C9A30FAD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połączenia zewnętrznego – OUTER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905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cja po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łą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zenia zewn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rznego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prawostronn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relacj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,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est oznaczona jak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&lt;warunek poł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</a:rPr>
              <a:t>ą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zeniowy&gt;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znacza, że w relacji wynikowej znaj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krotki odpowiada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e wszystkim krotkom relacj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awostronne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857320" y="2933640"/>
            <a:ext cx="228600" cy="4572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66E-970B-491B-9D68-3412E6252E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połączenia zewnętrznego – OUTER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905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cja po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łą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zenia zewn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rznego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dwustronn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relacj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 i S(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...,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),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est oznaczona jak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&lt;warunek poł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</a:rPr>
              <a:t>ą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zeniowy&gt;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znacza, że w relacji wynikowej znaj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krotki odpowiada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e wszystkim krotkom relacj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 i wszystkim krotkom relacji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3009600" y="2933640"/>
            <a:ext cx="228600" cy="4572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8A2-5054-4C6B-ACEA-59DB61270CD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połączenia zewnętrznego – 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5280" y="1916280"/>
          <a:ext cx="5249880" cy="125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524988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69080" y="14842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own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3429000"/>
            <a:ext cx="64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acownicy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Szef=IdPrac&gt;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acownicy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2933640" y="3466800"/>
            <a:ext cx="228600" cy="4572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6688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666880" y="3581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7000" y="4292640"/>
          <a:ext cx="9117000" cy="158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0" y="4292640"/>
                    <a:ext cx="91170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128-5395-41A9-98D1-F2D13C786E0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połączenia - SQ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9960" y="1182600"/>
            <a:ext cx="6950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tary sty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a.*, b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konta AS a, operacje A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HERE a.id_konta = b.id_konta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.data_założenia &gt; ‘1-01-199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a.*, b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konta AS a, operacje A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HERE a.id_konta = b.id_kont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079-123A-4B80-8A55-646BB423BEB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Operacja połączenia - SQ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8800" y="1557360"/>
            <a:ext cx="71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Nowy sty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konta NATURAL JOIN ope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a.*, b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ROM konta AS a LEFT OUTER JOIN operacje A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N a.id_konta = b.id_ko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A91-7DF0-42BE-898C-683CE53C4F8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Wartości pu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Zbiory wartości wszystkich typów danych zawierają dodatkowo wy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ioną wartość pu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– NUL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p. INTEGER(3) - &lt;-999, 999&g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Możliwość występowania wartości pustych wymaga specyficznej obsługi wartości pust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10 + NULL =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1024*118 + NULL*119 =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UM(płaca) = NULL, gdy choć jedna z sumowanych wartości jest wa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ośc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pus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unkcja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NULLIF(wyrażenie, wartość jeśli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LECT SUM(NULLIF(dochód, 15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ROM ..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3F3-30F7-45A8-B8D4-9039637BADE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Wartości pu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ówn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yr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enia logiczne op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cz wartośc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prawd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i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fałsz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mog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przyjmow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wartośc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ieokr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l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195640" y="2276640"/>
          <a:ext cx="4464000" cy="31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276640"/>
                    <a:ext cx="4464000" cy="31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971640" y="5661000"/>
            <a:ext cx="70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Arial"/>
              </a:rPr>
              <a:t>WHERE płaca &gt;= 2000 OR płaca &lt; 2000 OR płaca IS 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437-D414-447A-8180-0F69B2BE9F6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Wartości pu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160" y="155736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Logika trójwarto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2421000"/>
          <a:ext cx="3726000" cy="158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21000"/>
                    <a:ext cx="37260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859280" y="2349360"/>
          <a:ext cx="3889440" cy="165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349360"/>
                    <a:ext cx="388944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971640" y="4581360"/>
          <a:ext cx="3671640" cy="790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581360"/>
                    <a:ext cx="3671640" cy="7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197-A13C-4F1E-8EEC-538C9F6E59D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Definiowanie struktur danychSQL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- Typy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573120"/>
          <a:ext cx="9144000" cy="627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3120"/>
                    <a:ext cx="914400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D10-AB16-47F6-94A2-957D9D34362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Struktury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Relacj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r o schemacie R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...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, oznaczoną r(R), nazywamy zbiór n-tek (krotek) postaci r={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...,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jedyncza krotka t jest uporządkowaną listą n wartości t=&lt;v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v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..., v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&gt;, gdzie v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1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, jest elementem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lub specjalną wartością pustą (null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I-ta wartość krotki t, odpowiadająca wartości atrybutu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i,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będzie oznaczana przez t[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871-3411-437D-8692-C7C64243FD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Struktury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Relacja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 jest zbiorem </a:t>
            </a:r>
            <a:r>
              <a:rPr b="1" i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krotek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 (k-wartości), które są listami wartoś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608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8496000" cy="338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599-2596-4EFC-8E18-4F7E126D5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lternatywna definicja rel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yświetlana relacja ma postać tablicy: krotki są wierszami tej tablicy. Nagłówki kolumn są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trybut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Relacj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r(R) jest relacją matematyczną stopnia n zdefiniowaną na zbiorze domen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,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, ...,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będącą podzbiorem iloczynu kartezjańskiego domen definiujących 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(R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x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x ... x dom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D44-01CE-4A14-A512-DD53DFCB43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Baza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Baza dan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biór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relacj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chemat bazy dan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biór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chemat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ów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Relacj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biór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krote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Schemat relacj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biór {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atrybu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typ danej, [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ograniczenia integralnościowe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]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Krotk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lista atomowych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  <a:ea typeface="Arial"/>
              </a:rPr>
              <a:t>wartoś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FAB-9036-478C-ACAB-8C6EBA8497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Charakterystyka rel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orządkowanie krotek w relacji – nie jest elementem defini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orządkowanie wartości w ramach krotki – nie jest ist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artości atrybutów w ramach krot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NFNF, puste, atom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Interpretacja relacji – rodzaj predykatu lub aser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2AA-8E4A-44B7-B771-779371431B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21:17:17Z</dcterms:created>
  <dc:creator>Tadeusz Morzy</dc:creator>
  <dc:description/>
  <dc:language>en-US</dc:language>
  <cp:lastModifiedBy>MikeKick</cp:lastModifiedBy>
  <dcterms:modified xsi:type="dcterms:W3CDTF">2003-04-25T12:55:08Z</dcterms:modified>
  <cp:revision>105</cp:revision>
  <dc:subject/>
  <dc:title>Relacyjny model danych</dc:title>
</cp:coreProperties>
</file>