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6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722EAA-4259-46AD-B047-7024C02D1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3918E9-9A46-4B64-82DA-E2498DAC5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304AE8-F6D3-40BC-A3A9-0396ADB52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BB47BC-C568-44A6-B12E-1A4CA4D49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3B399E-0FA7-425A-A678-37BA2CC67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4F674B-AF2F-4C98-94C5-06C1E64D8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0556AE-4BF1-46EB-B853-E71E35BE0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1A901E-3EE5-4657-AAF8-2EC4EA00D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76FD89-CD0D-4A14-8B6C-11F2372D3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A6B36F-B06F-4014-A366-2BB775286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AF9-0EAB-4EB8-89F9-23FC6C76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D12-E5C4-4B84-9ADC-151443EF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A49-609F-4276-A2A8-FAB3357C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99F-9E13-4AC6-BE36-113C3B46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F94-871F-4BB5-B1A1-A854E5D2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230-1689-4624-A2E8-071B5B11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03BA-6D03-4B12-95BF-E6C2A366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D5A-ABF4-4B20-8C78-C0C0AF27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005-DD32-401D-8846-726C4BF0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E21-C23F-45B4-A3CA-ED575BE2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8C9-9D2A-4F5A-A670-B299C7FA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03A-B4ED-4E55-9653-32EC9FF6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EFC7-CA11-48CD-9A50-8A9EAD5CD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Simpl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p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p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fals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fals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p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q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p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q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Building B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ic transformations (many and wack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model: estimating costs and siz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the best join tre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tom-up (dynamic programming): System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chitec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burst: rewrite and then tree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cano: all at once, top-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Lessons in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re are many approaches and many details to consider in query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c search/optimization proble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Not completely solved ye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in points to take awa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ic rules and their use in transformations of qu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ding on join ordering: System-R style (Selinger style) optim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ing cost of plans and sizes of intermediate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(revisit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([index], table, predicate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index scan or table sc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push dow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rg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edic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(fil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(always need to go to the data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s: nested loop (indexed), sort-merge, hash, outer jo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 (usually the las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ative and Associa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U S = S U R,  R U (S U T) = (R U S) U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 = S ∩ R,  R ∩ (S ∩ T) = (R ∩ S) ∩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    S = S    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    (S      T) = (R     S)    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rrect both for sets as well as for multi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 (S U T)  =  (R    S)  U  (R    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97180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19112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95288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55308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31520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52480" y="480060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172040" y="481968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867280" y="480060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AND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OR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(??? – m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    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 involves only attributes of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–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–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U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1460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2428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R(A, B, C, 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 S) =            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5 AND G=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 S) =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668320" y="2743200"/>
            <a:ext cx="517680" cy="459360"/>
            <a:chOff x="2668320" y="2743200"/>
            <a:chExt cx="517680" cy="459360"/>
          </a:xfrm>
        </p:grpSpPr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2743200" y="2743200"/>
                  <a:ext cx="441360" cy="2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&gt;&lt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4" name=""/>
            <p:cNvSpPr/>
            <p:nvPr/>
          </p:nvSpPr>
          <p:spPr>
            <a:xfrm>
              <a:off x="2668320" y="28954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=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811320" y="3276720"/>
            <a:ext cx="517680" cy="459360"/>
            <a:chOff x="3811320" y="3276720"/>
            <a:chExt cx="517680" cy="459360"/>
          </a:xfrm>
        </p:grpSpPr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3886200" y="3276720"/>
                  <a:ext cx="441360" cy="2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&gt;&lt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"/>
            <p:cNvSpPr/>
            <p:nvPr/>
          </p:nvSpPr>
          <p:spPr>
            <a:xfrm>
              <a:off x="3811320" y="34290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=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, P, Q are appropriate subsets of attributes of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R(A,B,C,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438280" y="274320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29200" y="274320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895480" y="51055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638680" y="518148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2820960" y="525780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=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4160" y="541008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=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s: Sub-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Emp.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E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Emp.Age &lt;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 Emp.Dept#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Dept.Dept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 D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  Dept.Loc = “Seatt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D       Emp.Emp#=Dept.Mg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Un-Nes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Emp.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mp, D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     Emp.Age &lt; 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mp.Dept#=Dept.Dept#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ND   Dept.Loc = 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ND    Emp.Emp#=Dept.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Phases of query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5320" y="17683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Roman"/>
              </a:rPr>
              <a:t>Qu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Roman"/>
              </a:rPr>
              <a:t>decom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1752480"/>
            <a:ext cx="1600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2971800"/>
            <a:ext cx="1600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26360" y="3024360"/>
            <a:ext cx="123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Roman"/>
              </a:rPr>
              <a:t>Qu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Roman"/>
              </a:rPr>
              <a:t>opti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4114800"/>
            <a:ext cx="1600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4120"/>
            <a:ext cx="1600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07000" y="4167360"/>
            <a:ext cx="110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Roman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Roman"/>
              </a:rPr>
              <a:t>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440" y="5386320"/>
            <a:ext cx="141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Roman"/>
              </a:rPr>
              <a:t>Runtime 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Roman"/>
              </a:rPr>
              <a:t>exe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12193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30240" y="128124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55360" y="242424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Relational algebra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1676520"/>
            <a:ext cx="762120" cy="6858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12480" y="1611360"/>
            <a:ext cx="7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cata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15000" y="2895480"/>
            <a:ext cx="762120" cy="6858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3276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13560" y="2906640"/>
            <a:ext cx="88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55720" y="3643200"/>
            <a:ext cx="20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Query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71200" y="4800600"/>
            <a:ext cx="15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Generated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59436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83600" y="592920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Query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5334120"/>
            <a:ext cx="762120" cy="6858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5715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15360" y="524340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70720" cy="30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color= “blu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x.price &gt;= ALL 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roduct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maker = y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y.color=“blu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2590920"/>
            <a:ext cx="6430680" cy="26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color= “bl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x.price &lt; SOME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maker = y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.color=“blu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676520"/>
            <a:ext cx="53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compute the complement fir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069040" cy="25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 x, product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.color= “blue” AND x.maker = y.m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y.color=“blue”  AND x.price &lt; y.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0560" y="1828800"/>
            <a:ext cx="48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one becomes a SFW qu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5257800"/>
            <a:ext cx="8076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returns exactly the products we DON’T want, s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164360" cy="43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color = “blu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CEPT</a:t>
            </a: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 (MIN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x, product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color= “blue” AND x.maker = y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y.color=“blue”  AND x.price &lt; y.pr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Joins, Magic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’t always un-nest sub-queries (it’s trick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you can often use a semi-join to reduce the computation cost of the inner 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agic set is a superset of the possible bindings in the result of the sub-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called “sideways information passing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writes: Magic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reate 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AvgSal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.did, Avg(E.sal) as avg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Emp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.d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.eid, E.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 E, Dept D, DepAvgSal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.did=D.did AND D.did=V.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E.age &lt; 30 and D.budget &gt; 100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E.sal &gt; V.avg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writes: S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.eid, E.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 E, Dept D, DepAvgSal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.did=D.did AND D.did=V.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E.age &lt; 30 and D.budget &gt; 100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E.sal &gt; V.avg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Avgsal needs to be evaluated only for departments where V.di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.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Emp E, Dept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.did=D.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 E.age &lt; 30  and D.budget &gt; 100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or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View PartialResult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lect E.eid, E.sal, E.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  Emp E, Dept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E.did=D.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 E.age &lt; 30  and D.budget &gt; 100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reate View Filter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lect DISTINCT P.d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PartialResult 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reate View LimitedAvgSal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Select F.did Avg(E.Sal) as avg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om Emp E, Filter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here E.did=F.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Group By F.d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Fin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ansformed que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.eid, P.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rom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Result P,  LimitedAvgSal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.did=V.d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 P.sal &gt; V.avg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writes: Group By an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ch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unitprice,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es(tid, date, store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un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93440" y="4572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59560" y="3200400"/>
            <a:ext cx="18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(p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(un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2160" y="5680080"/>
            <a:ext cx="300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(S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(date in Q2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2640" y="518148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(in N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701640" y="495288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25520" y="495288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9692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9600" y="2438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7800" y="3581280"/>
            <a:ext cx="18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(p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(un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73120" y="5451480"/>
            <a:ext cx="300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(S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(date in Q2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93360" y="476568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(in N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4419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029200" y="289548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2895480"/>
            <a:ext cx="13716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27432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Dynamic versus static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ynamic query optim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tic query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ingle query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ultiple query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 for Som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2895480"/>
            <a:ext cx="90676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uple is 40 bytes long,  100 tuples per page, 1000 pages (4000 tup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il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uple is 50 bytes long,  80 tuples per page, 500 pages (4000 tuple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8880" y="1814400"/>
            <a:ext cx="875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ailors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si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: intege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snam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string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atin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integer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re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serves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si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: integ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bi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: integ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da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: date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nam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writes:Operation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chem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id determines c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d, detai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es(tid, date, store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mou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93440" y="4572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52000" y="3200400"/>
            <a:ext cx="186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(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(am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60" y="5680080"/>
            <a:ext cx="21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(S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(stor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A,WA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3000" y="5181480"/>
            <a:ext cx="14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01640" y="495288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5520" y="495288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9692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27432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82760" y="31240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47800" y="1752480"/>
            <a:ext cx="186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(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(am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59880" y="5451480"/>
            <a:ext cx="21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(S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(stor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A,WA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5880" y="5181480"/>
            <a:ext cx="14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32440" y="4038480"/>
            <a:ext cx="197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roupBy(p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m(am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552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105520" y="3504960"/>
            <a:ext cx="19047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3505320"/>
            <a:ext cx="838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ing: Predicate Push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85800" y="1828800"/>
            <a:ext cx="2700360" cy="3388680"/>
            <a:chOff x="685800" y="1828800"/>
            <a:chExt cx="2700360" cy="3388680"/>
          </a:xfrm>
        </p:grpSpPr>
        <p:sp>
          <p:nvSpPr>
            <p:cNvPr id="214" name=""/>
            <p:cNvSpPr/>
            <p:nvPr/>
          </p:nvSpPr>
          <p:spPr>
            <a:xfrm>
              <a:off x="1082520" y="2830320"/>
              <a:ext cx="115920" cy="158760"/>
            </a:xfrm>
            <a:custGeom>
              <a:avLst/>
              <a:gdLst/>
              <a:ahLst/>
              <a:rect l="l" t="t" r="r" b="b"/>
              <a:pathLst>
                <a:path w="73" h="100">
                  <a:moveTo>
                    <a:pt x="72" y="50"/>
                  </a:moveTo>
                  <a:lnTo>
                    <a:pt x="62" y="15"/>
                  </a:lnTo>
                  <a:lnTo>
                    <a:pt x="36" y="0"/>
                  </a:lnTo>
                  <a:lnTo>
                    <a:pt x="11" y="15"/>
                  </a:lnTo>
                  <a:lnTo>
                    <a:pt x="0" y="50"/>
                  </a:lnTo>
                  <a:lnTo>
                    <a:pt x="11" y="84"/>
                  </a:lnTo>
                  <a:lnTo>
                    <a:pt x="36" y="99"/>
                  </a:lnTo>
                  <a:lnTo>
                    <a:pt x="62" y="84"/>
                  </a:lnTo>
                  <a:lnTo>
                    <a:pt x="72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41560" y="2847960"/>
              <a:ext cx="102960" cy="1440"/>
            </a:xfrm>
            <a:custGeom>
              <a:avLst/>
              <a:gdLst/>
              <a:ahLst/>
              <a:rect l="l" t="t" r="r" b="b"/>
              <a:pathLst>
                <a:path w="65" h="1">
                  <a:moveTo>
                    <a:pt x="0" y="0"/>
                  </a:moveTo>
                  <a:lnTo>
                    <a:pt x="6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20800" y="1917720"/>
              <a:ext cx="180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08280" y="1917720"/>
              <a:ext cx="144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9400" y="1901880"/>
              <a:ext cx="174960" cy="144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38160" y="3914640"/>
              <a:ext cx="180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85920" y="3914640"/>
              <a:ext cx="180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38160" y="3914640"/>
              <a:ext cx="34956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38160" y="3914640"/>
              <a:ext cx="34956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43080" y="442584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58920" y="4425840"/>
              <a:ext cx="68436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14560" y="3201840"/>
              <a:ext cx="1440" cy="56052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14560" y="227484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69920" y="291456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55960" y="2927160"/>
              <a:ext cx="7596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800" y="486576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72120" y="484992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56360" y="412416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76480" y="2900160"/>
              <a:ext cx="902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4800" y="2867040"/>
              <a:ext cx="98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73720" y="198576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00120" y="3809880"/>
              <a:ext cx="184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1840" y="2835360"/>
              <a:ext cx="184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70160" y="1828800"/>
              <a:ext cx="184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571280" y="2362320"/>
            <a:ext cx="4394160" cy="2820240"/>
            <a:chOff x="4571280" y="2362320"/>
            <a:chExt cx="4394160" cy="2820240"/>
          </a:xfrm>
        </p:grpSpPr>
        <p:sp>
          <p:nvSpPr>
            <p:cNvPr id="239" name=""/>
            <p:cNvSpPr/>
            <p:nvPr/>
          </p:nvSpPr>
          <p:spPr>
            <a:xfrm>
              <a:off x="5567400" y="4200480"/>
              <a:ext cx="10008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62" y="37"/>
                  </a:moveTo>
                  <a:lnTo>
                    <a:pt x="53" y="11"/>
                  </a:lnTo>
                  <a:lnTo>
                    <a:pt x="31" y="0"/>
                  </a:lnTo>
                  <a:lnTo>
                    <a:pt x="9" y="11"/>
                  </a:lnTo>
                  <a:lnTo>
                    <a:pt x="0" y="37"/>
                  </a:lnTo>
                  <a:lnTo>
                    <a:pt x="9" y="64"/>
                  </a:lnTo>
                  <a:lnTo>
                    <a:pt x="31" y="74"/>
                  </a:lnTo>
                  <a:lnTo>
                    <a:pt x="53" y="64"/>
                  </a:lnTo>
                  <a:lnTo>
                    <a:pt x="62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16720" y="421020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45360" y="2482920"/>
              <a:ext cx="1440" cy="133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19880" y="2482920"/>
              <a:ext cx="1440" cy="133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08640" y="2470320"/>
              <a:ext cx="149400" cy="1440"/>
            </a:xfrm>
            <a:custGeom>
              <a:avLst/>
              <a:gdLst/>
              <a:ahLst/>
              <a:rect l="l" t="t" r="r" b="b"/>
              <a:pathLst>
                <a:path w="94" h="1">
                  <a:moveTo>
                    <a:pt x="0" y="0"/>
                  </a:moveTo>
                  <a:lnTo>
                    <a:pt x="9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69200" y="3400560"/>
              <a:ext cx="1440" cy="98280"/>
            </a:xfrm>
            <a:custGeom>
              <a:avLst/>
              <a:gdLst/>
              <a:ahLst/>
              <a:rect l="l" t="t" r="r" b="b"/>
              <a:pathLst>
                <a:path w="1" h="62">
                  <a:moveTo>
                    <a:pt x="0" y="0"/>
                  </a:moveTo>
                  <a:lnTo>
                    <a:pt x="0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64400" y="3400560"/>
              <a:ext cx="1440" cy="98280"/>
            </a:xfrm>
            <a:custGeom>
              <a:avLst/>
              <a:gdLst/>
              <a:ahLst/>
              <a:rect l="l" t="t" r="r" b="b"/>
              <a:pathLst>
                <a:path w="1" h="62">
                  <a:moveTo>
                    <a:pt x="0" y="0"/>
                  </a:moveTo>
                  <a:lnTo>
                    <a:pt x="0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69200" y="3400560"/>
              <a:ext cx="296640" cy="98280"/>
            </a:xfrm>
            <a:custGeom>
              <a:avLst/>
              <a:gdLst/>
              <a:ahLst/>
              <a:rect l="l" t="t" r="r" b="b"/>
              <a:pathLst>
                <a:path w="187" h="62">
                  <a:moveTo>
                    <a:pt x="0" y="0"/>
                  </a:moveTo>
                  <a:lnTo>
                    <a:pt x="186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69200" y="3400560"/>
              <a:ext cx="296640" cy="98280"/>
            </a:xfrm>
            <a:custGeom>
              <a:avLst/>
              <a:gdLst/>
              <a:ahLst/>
              <a:rect l="l" t="t" r="r" b="b"/>
              <a:pathLst>
                <a:path w="187" h="62">
                  <a:moveTo>
                    <a:pt x="0" y="61"/>
                  </a:moveTo>
                  <a:lnTo>
                    <a:pt x="186" y="0"/>
                  </a:lnTo>
                  <a:lnTo>
                    <a:pt x="0" y="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61240" y="3794040"/>
              <a:ext cx="569880" cy="274680"/>
            </a:xfrm>
            <a:custGeom>
              <a:avLst/>
              <a:gdLst/>
              <a:ahLst/>
              <a:rect l="l" t="t" r="r" b="b"/>
              <a:pathLst>
                <a:path w="359" h="173">
                  <a:moveTo>
                    <a:pt x="0" y="172"/>
                  </a:moveTo>
                  <a:lnTo>
                    <a:pt x="358" y="0"/>
                  </a:lnTo>
                  <a:lnTo>
                    <a:pt x="0" y="17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38840" y="3794040"/>
              <a:ext cx="581040" cy="274680"/>
            </a:xfrm>
            <a:custGeom>
              <a:avLst/>
              <a:gdLst/>
              <a:ahLst/>
              <a:rect l="l" t="t" r="r" b="b"/>
              <a:pathLst>
                <a:path w="366" h="173">
                  <a:moveTo>
                    <a:pt x="0" y="0"/>
                  </a:moveTo>
                  <a:lnTo>
                    <a:pt x="365" y="17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67760" y="4425840"/>
              <a:ext cx="1440" cy="432000"/>
            </a:xfrm>
            <a:custGeom>
              <a:avLst/>
              <a:gdLst/>
              <a:ahLst/>
              <a:rect l="l" t="t" r="r" b="b"/>
              <a:pathLst>
                <a:path w="1" h="272">
                  <a:moveTo>
                    <a:pt x="0" y="0"/>
                  </a:moveTo>
                  <a:lnTo>
                    <a:pt x="0" y="27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04200" y="2854440"/>
              <a:ext cx="1440" cy="392040"/>
            </a:xfrm>
            <a:custGeom>
              <a:avLst/>
              <a:gdLst/>
              <a:ahLst/>
              <a:rect l="l" t="t" r="r" b="b"/>
              <a:pathLst>
                <a:path w="1" h="247">
                  <a:moveTo>
                    <a:pt x="0" y="0"/>
                  </a:moveTo>
                  <a:lnTo>
                    <a:pt x="0" y="24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86520" y="4175280"/>
              <a:ext cx="100080" cy="122040"/>
            </a:xfrm>
            <a:custGeom>
              <a:avLst/>
              <a:gdLst/>
              <a:ahLst/>
              <a:rect l="l" t="t" r="r" b="b"/>
              <a:pathLst>
                <a:path w="63" h="77">
                  <a:moveTo>
                    <a:pt x="62" y="38"/>
                  </a:moveTo>
                  <a:lnTo>
                    <a:pt x="53" y="11"/>
                  </a:lnTo>
                  <a:lnTo>
                    <a:pt x="31" y="0"/>
                  </a:lnTo>
                  <a:lnTo>
                    <a:pt x="9" y="11"/>
                  </a:lnTo>
                  <a:lnTo>
                    <a:pt x="0" y="38"/>
                  </a:lnTo>
                  <a:lnTo>
                    <a:pt x="9" y="65"/>
                  </a:lnTo>
                  <a:lnTo>
                    <a:pt x="31" y="76"/>
                  </a:lnTo>
                  <a:lnTo>
                    <a:pt x="53" y="65"/>
                  </a:lnTo>
                  <a:lnTo>
                    <a:pt x="62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35840" y="418644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24520" y="4437000"/>
              <a:ext cx="1800" cy="430200"/>
            </a:xfrm>
            <a:custGeom>
              <a:avLst/>
              <a:gdLst/>
              <a:ahLst/>
              <a:rect l="l" t="t" r="r" b="b"/>
              <a:pathLst>
                <a:path w="1" h="271">
                  <a:moveTo>
                    <a:pt x="0" y="0"/>
                  </a:moveTo>
                  <a:lnTo>
                    <a:pt x="0" y="27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84960" y="481824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42680" y="483084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96760" y="354636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29680" y="4224240"/>
              <a:ext cx="902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74160" y="251928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16680" y="2362320"/>
              <a:ext cx="184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4320" y="4200480"/>
              <a:ext cx="98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1280" y="4029120"/>
              <a:ext cx="8463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can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3080" y="4200480"/>
              <a:ext cx="10108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rite t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1280" y="4365720"/>
              <a:ext cx="108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mp T1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79680" y="4019760"/>
              <a:ext cx="8463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can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80760" y="4186440"/>
              <a:ext cx="9514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rite 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79680" y="4351320"/>
              <a:ext cx="108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mp T2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42240" y="3305160"/>
              <a:ext cx="183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01240" y="5222880"/>
            <a:ext cx="846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earlier we process selections, less tuples we need to manip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igher up in the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sadvanta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s: Predicate Pushdown (through group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240" y="2133720"/>
            <a:ext cx="377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bid, Max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Reserves R,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sid=S.si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b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ing Max(age) &gt;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520" y="2286000"/>
            <a:ext cx="377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bid, Max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Reserves R,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sid=S.sid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.age &gt;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b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0520" y="4765680"/>
            <a:ext cx="849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or each boat, find the maximal age of sailors who’ve reserve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: the size of the join will be smal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ransformation rules specific to the grouping/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ll it work work if we replace Max by M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ate Movea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7280" y="4572000"/>
            <a:ext cx="315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rating, Min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S.ag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 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00240" y="4572000"/>
            <a:ext cx="377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rating, age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, Reserve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sid=S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40680" y="1981080"/>
            <a:ext cx="446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V1.rating = V2.rating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age = V2.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676520" y="365760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2428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600" y="1413000"/>
            <a:ext cx="89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iling wiz dates: when did the youngest of each sailor level rent bo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5720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4572000"/>
            <a:ext cx="38862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66880" y="2057400"/>
            <a:ext cx="4572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 Predicate Movea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7280" y="4572000"/>
            <a:ext cx="315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rating, Min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.ag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 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00240" y="4572000"/>
            <a:ext cx="377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rating, age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, Reserve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sid=S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1981080"/>
            <a:ext cx="45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V1.rating = V2.rating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age = V2.age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g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676520" y="365760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2428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600" y="1413000"/>
            <a:ext cx="89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iling wiz dates: when did the youngest of each sailor level rent bo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45720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24280" y="4572000"/>
            <a:ext cx="38862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6880" y="2057400"/>
            <a:ext cx="4572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6440" y="2251080"/>
            <a:ext cx="26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irst, m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predicates up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 Predicate Movea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7280" y="4572000"/>
            <a:ext cx="315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rating, Min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.ag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 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00240" y="4572000"/>
            <a:ext cx="377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rating, age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, Reserve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sid=S.sid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.age &lt;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43200" y="1981080"/>
            <a:ext cx="503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V1.rating = V2.rating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age = V2.age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g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828440" y="358128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48320" y="35812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600" y="1413000"/>
            <a:ext cx="89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iling wiz dates: when did the youngest of each sailor level rent bo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45720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4572000"/>
            <a:ext cx="38862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43200" y="2057400"/>
            <a:ext cx="4952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6440" y="2251080"/>
            <a:ext cx="260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irst, m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predicates up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hen, mov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timizer can use an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mantically corr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le to transform one query to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try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constraints between blocks (because each will be optimized separate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nest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ally important in decision support applications where queries are very compl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few minutes of thought, you’ll come up with your own rewrite. Some query, somewhere, will benefit from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or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plan considered, must estimate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stimat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each operation in plan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input cardina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stimat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ize of resul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operation in tre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formation about the input re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elections and joins, assume independence of predic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’ll discuss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ystem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stimation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inexact, but works ok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sophisticated techniques known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s and Catalo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information about the relations and indexes involved.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atalog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contain at le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# tuples (NTuple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# pages (NPage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# distinct key values (NKey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Pages for each ind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dex height, low/high key values (Low/High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ree ind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alogs updated period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whenever data changes is too expensive; lots of approximation anyway, so slight inconsistency 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ed information (e.g., histograms of the values in some field) are sometimes st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Query Optimization Proces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the SQL query into a logical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distinct blocks (corresponding to nested sub-queries or view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rewrite ph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gebraic transform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yield a cheaper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blocks and move predicates between bloc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e each block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oin orde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the optimization: select scheduling (pipelining strateg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4582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 and Reduction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 query b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 # tuples in result is the product of the cardinalities of relations in the FROM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eduction factor (RF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each</a:t>
            </a:r>
            <a:r>
              <a:rPr b="0" lang="en-US" sz="2800" spc="-1" strike="noStrike">
                <a:solidFill>
                  <a:srgbClr val="3365fb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term</a:t>
            </a:r>
            <a:r>
              <a:rPr b="0" lang="en-US" sz="2800" spc="-1" strike="noStrike">
                <a:solidFill>
                  <a:srgbClr val="3365f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s the impact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reducing result size. 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ardinalit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= Max # tuples  *  product of all RF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plicit assum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erm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re independ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=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R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/NKeys(I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index I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1=col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R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/MAX(NKeys(I1), NKeys(I2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l&gt;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R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High(I)-value)/(High(I)-Low(I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14800" y="1447920"/>
            <a:ext cx="4862520" cy="124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attribut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relation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3365fb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Book Antiqua"/>
              </a:rPr>
              <a:t>term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3365fb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...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Book Antiqua"/>
              </a:rPr>
              <a:t>term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Book Antiqu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to obtaining good cost and size estim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 in several flav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-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-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is be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ssed histograms: special treatment of frequent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on data maintained by the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size estimation much more accurate (hence, cost estimations are more accu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mploye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salary, 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histogram on sa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Employee) = 25000, but now we know th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838080" y="3429000"/>
          <a:ext cx="7848720" cy="1270080"/>
        </p:xfrm>
        <a:graphic>
          <a:graphicData uri="http://schemas.openxmlformats.org/drawingml/2006/table">
            <a:tbl>
              <a:tblPr/>
              <a:tblGrid>
                <a:gridCol w="1120680"/>
                <a:gridCol w="1121040"/>
                <a:gridCol w="1122120"/>
                <a:gridCol w="1122480"/>
                <a:gridCol w="1120680"/>
                <a:gridCol w="1120680"/>
                <a:gridCol w="112104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anks(rankName, sal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the size of Employee          R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838080" y="3276720"/>
          <a:ext cx="7162920" cy="76176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838080" y="4343400"/>
          <a:ext cx="7162920" cy="76212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2" name=""/>
          <p:cNvGrpSpPr/>
          <p:nvPr/>
        </p:nvGrpSpPr>
        <p:grpSpPr>
          <a:xfrm>
            <a:off x="6205320" y="2835360"/>
            <a:ext cx="893520" cy="401040"/>
            <a:chOff x="6205320" y="2835360"/>
            <a:chExt cx="893520" cy="401040"/>
          </a:xfrm>
        </p:grpSpPr>
        <p:grpSp>
          <p:nvGrpSpPr>
            <p:cNvPr id="333" name=""/>
            <p:cNvGrpSpPr/>
            <p:nvPr/>
          </p:nvGrpSpPr>
          <p:grpSpPr>
            <a:xfrm>
              <a:off x="6205320" y="2835360"/>
              <a:ext cx="255600" cy="169920"/>
              <a:chOff x="6205320" y="2835360"/>
              <a:chExt cx="255600" cy="169920"/>
            </a:xfrm>
          </p:grpSpPr>
          <p:sp>
            <p:nvSpPr>
              <p:cNvPr id="334" name=""/>
              <p:cNvSpPr/>
              <p:nvPr/>
            </p:nvSpPr>
            <p:spPr>
              <a:xfrm>
                <a:off x="6205680" y="283536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205680" y="283536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6460920" y="283536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6205320" y="283536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6400080" y="28990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Employee, Salary) =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anks, Salary) =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T(Employee            Ranks)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=1,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/ 25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200x8 + 800x20 + 5000x40 +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12000x80 + 6500x100 + 500x2)/25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244760" y="3652920"/>
            <a:ext cx="893520" cy="401040"/>
            <a:chOff x="4244760" y="3652920"/>
            <a:chExt cx="893520" cy="401040"/>
          </a:xfrm>
        </p:grpSpPr>
        <p:grpSp>
          <p:nvGrpSpPr>
            <p:cNvPr id="342" name=""/>
            <p:cNvGrpSpPr/>
            <p:nvPr/>
          </p:nvGrpSpPr>
          <p:grpSpPr>
            <a:xfrm>
              <a:off x="4244760" y="3652920"/>
              <a:ext cx="255600" cy="169920"/>
              <a:chOff x="4244760" y="3652920"/>
              <a:chExt cx="255600" cy="169920"/>
            </a:xfrm>
          </p:grpSpPr>
          <p:sp>
            <p:nvSpPr>
              <p:cNvPr id="343" name=""/>
              <p:cNvSpPr/>
              <p:nvPr/>
            </p:nvSpPr>
            <p:spPr>
              <a:xfrm>
                <a:off x="4245120" y="365292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45120" y="365292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4500360" y="365292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4244760" y="365292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4439520" y="371664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s for Single-Relation Quer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p for Join order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eate a query execution plan for a single Select-project-group-by b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y ide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der each possible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access 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relevant tuples of the relation. Choose the cheapest on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fferent operations are essentially carried out together (e.g., if an index is used for a selection, projection is done for each retrieved tuple, and the resulting tuples ar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ipelin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the aggregate computation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9067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have a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dex o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/NKeys(I)) * NTuples(R) = (1/10) * 40000 tuples retrie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ustered index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/NKeys(I)) * (NPages(I)+NPages(R)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1/10) * (50+500) pages are retriev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= 55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clustered index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/NKeys(I)) * (NPages(I)+NTuples(R)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1/10) * (50+40000) pages are retriev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have a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dex o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have to retrieve all tuples/pages.  With 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ust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dex,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st is 50+5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ing a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le sc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e retrieve all file pag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50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23520" y="304920"/>
            <a:ext cx="2670840" cy="118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S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rating=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Join Or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       R2        ….       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oin tree represents a plan. An optimizer needs to inspect many (all ?) join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9600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4356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914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630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971440" y="3733920"/>
            <a:ext cx="305280" cy="203040"/>
            <a:chOff x="2971440" y="3733920"/>
            <a:chExt cx="305280" cy="203040"/>
          </a:xfrm>
        </p:grpSpPr>
        <p:sp>
          <p:nvSpPr>
            <p:cNvPr id="364" name=""/>
            <p:cNvSpPr/>
            <p:nvPr/>
          </p:nvSpPr>
          <p:spPr>
            <a:xfrm>
              <a:off x="297180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7180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27672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297144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866920" y="3809520"/>
            <a:ext cx="305280" cy="203760"/>
            <a:chOff x="5866920" y="3809520"/>
            <a:chExt cx="305280" cy="203760"/>
          </a:xfrm>
        </p:grpSpPr>
        <p:sp>
          <p:nvSpPr>
            <p:cNvPr id="369" name=""/>
            <p:cNvSpPr/>
            <p:nvPr/>
          </p:nvSpPr>
          <p:spPr>
            <a:xfrm>
              <a:off x="586728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67280" y="3809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172200" y="3809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86692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571640" y="3048120"/>
            <a:ext cx="305280" cy="203040"/>
            <a:chOff x="4571640" y="3048120"/>
            <a:chExt cx="305280" cy="203040"/>
          </a:xfrm>
        </p:grpSpPr>
        <p:sp>
          <p:nvSpPr>
            <p:cNvPr id="374" name=""/>
            <p:cNvSpPr/>
            <p:nvPr/>
          </p:nvSpPr>
          <p:spPr>
            <a:xfrm>
              <a:off x="457200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7200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457164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H="1">
            <a:off x="251460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76720" y="4038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409720" y="40384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4852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352680" y="32004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3276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676520" y="2133720"/>
            <a:ext cx="304560" cy="203040"/>
            <a:chOff x="1676520" y="2133720"/>
            <a:chExt cx="304560" cy="203040"/>
          </a:xfrm>
        </p:grpSpPr>
        <p:sp>
          <p:nvSpPr>
            <p:cNvPr id="385" name=""/>
            <p:cNvSpPr/>
            <p:nvPr/>
          </p:nvSpPr>
          <p:spPr>
            <a:xfrm>
              <a:off x="1676520" y="21337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7652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198108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676520" y="21337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666520" y="2133720"/>
            <a:ext cx="305280" cy="203040"/>
            <a:chOff x="2666520" y="2133720"/>
            <a:chExt cx="305280" cy="203040"/>
          </a:xfrm>
        </p:grpSpPr>
        <p:sp>
          <p:nvSpPr>
            <p:cNvPr id="390" name=""/>
            <p:cNvSpPr/>
            <p:nvPr/>
          </p:nvSpPr>
          <p:spPr>
            <a:xfrm>
              <a:off x="266688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6688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97180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266652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885840" y="2133720"/>
            <a:ext cx="305280" cy="203040"/>
            <a:chOff x="3885840" y="2133720"/>
            <a:chExt cx="305280" cy="203040"/>
          </a:xfrm>
        </p:grpSpPr>
        <p:sp>
          <p:nvSpPr>
            <p:cNvPr id="395" name=""/>
            <p:cNvSpPr/>
            <p:nvPr/>
          </p:nvSpPr>
          <p:spPr>
            <a:xfrm>
              <a:off x="388620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8620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19112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388584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4876920" y="3048120"/>
            <a:ext cx="304560" cy="203040"/>
            <a:chOff x="4876920" y="3048120"/>
            <a:chExt cx="304560" cy="203040"/>
          </a:xfrm>
        </p:grpSpPr>
        <p:sp>
          <p:nvSpPr>
            <p:cNvPr id="402" name=""/>
            <p:cNvSpPr/>
            <p:nvPr/>
          </p:nvSpPr>
          <p:spPr>
            <a:xfrm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518148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191120" y="3657600"/>
            <a:ext cx="304560" cy="203040"/>
            <a:chOff x="4191120" y="3657600"/>
            <a:chExt cx="304560" cy="203040"/>
          </a:xfrm>
        </p:grpSpPr>
        <p:sp>
          <p:nvSpPr>
            <p:cNvPr id="407" name=""/>
            <p:cNvSpPr/>
            <p:nvPr/>
          </p:nvSpPr>
          <p:spPr>
            <a:xfrm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9112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49568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352320" y="4191120"/>
            <a:ext cx="305280" cy="203040"/>
            <a:chOff x="3352320" y="4191120"/>
            <a:chExt cx="305280" cy="203040"/>
          </a:xfrm>
        </p:grpSpPr>
        <p:sp>
          <p:nvSpPr>
            <p:cNvPr id="412" name=""/>
            <p:cNvSpPr/>
            <p:nvPr/>
          </p:nvSpPr>
          <p:spPr>
            <a:xfrm>
              <a:off x="335268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5268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5760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35232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2514240" y="4723920"/>
            <a:ext cx="305280" cy="203760"/>
            <a:chOff x="2514240" y="4723920"/>
            <a:chExt cx="305280" cy="203760"/>
          </a:xfrm>
        </p:grpSpPr>
        <p:sp>
          <p:nvSpPr>
            <p:cNvPr id="417" name=""/>
            <p:cNvSpPr/>
            <p:nvPr/>
          </p:nvSpPr>
          <p:spPr>
            <a:xfrm>
              <a:off x="2514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14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2819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514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175464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3600" y="548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48480" y="4689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10600" y="407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00960" y="339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2133720" y="5029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95480" y="5029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297144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7339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373392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1640" y="3276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5780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Query decom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ry decom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aims of query decomposition are to transform a high-level query into a relational algebra query and to check that the query is syntactically and semantically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ges of query decomposition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restru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h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3552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73600" y="5562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310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026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910960" y="3692520"/>
            <a:ext cx="305280" cy="203040"/>
            <a:chOff x="2910960" y="3692520"/>
            <a:chExt cx="305280" cy="203040"/>
          </a:xfrm>
        </p:grpSpPr>
        <p:sp>
          <p:nvSpPr>
            <p:cNvPr id="441" name=""/>
            <p:cNvSpPr/>
            <p:nvPr/>
          </p:nvSpPr>
          <p:spPr>
            <a:xfrm>
              <a:off x="291132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1132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321624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91096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807160" y="3768840"/>
            <a:ext cx="304560" cy="203040"/>
            <a:chOff x="5807160" y="3768840"/>
            <a:chExt cx="304560" cy="203040"/>
          </a:xfrm>
        </p:grpSpPr>
        <p:sp>
          <p:nvSpPr>
            <p:cNvPr id="446" name=""/>
            <p:cNvSpPr/>
            <p:nvPr/>
          </p:nvSpPr>
          <p:spPr>
            <a:xfrm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0716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11172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511160" y="3006720"/>
            <a:ext cx="305280" cy="203040"/>
            <a:chOff x="4511160" y="3006720"/>
            <a:chExt cx="305280" cy="203040"/>
          </a:xfrm>
        </p:grpSpPr>
        <p:sp>
          <p:nvSpPr>
            <p:cNvPr id="451" name=""/>
            <p:cNvSpPr/>
            <p:nvPr/>
          </p:nvSpPr>
          <p:spPr>
            <a:xfrm>
              <a:off x="45115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115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8164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45111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 flipH="1">
            <a:off x="245412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16240" y="3997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5349960" y="3997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8804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292200" y="3159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68720" y="3235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657240" y="4723920"/>
            <a:ext cx="305280" cy="203760"/>
            <a:chOff x="3657240" y="4723920"/>
            <a:chExt cx="305280" cy="203760"/>
          </a:xfrm>
        </p:grpSpPr>
        <p:sp>
          <p:nvSpPr>
            <p:cNvPr id="462" name=""/>
            <p:cNvSpPr/>
            <p:nvPr/>
          </p:nvSpPr>
          <p:spPr>
            <a:xfrm>
              <a:off x="3657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657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3962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3657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417708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2767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625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352320" y="2666520"/>
            <a:ext cx="305280" cy="203760"/>
            <a:chOff x="3352320" y="2666520"/>
            <a:chExt cx="305280" cy="203760"/>
          </a:xfrm>
        </p:grpSpPr>
        <p:sp>
          <p:nvSpPr>
            <p:cNvPr id="472" name=""/>
            <p:cNvSpPr/>
            <p:nvPr/>
          </p:nvSpPr>
          <p:spPr>
            <a:xfrm>
              <a:off x="335268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35268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5760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335232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282560" y="3006720"/>
            <a:ext cx="305280" cy="203040"/>
            <a:chOff x="4282560" y="3006720"/>
            <a:chExt cx="305280" cy="203040"/>
          </a:xfrm>
        </p:grpSpPr>
        <p:sp>
          <p:nvSpPr>
            <p:cNvPr id="477" name=""/>
            <p:cNvSpPr/>
            <p:nvPr/>
          </p:nvSpPr>
          <p:spPr>
            <a:xfrm>
              <a:off x="42829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829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45878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42825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105520" y="3580920"/>
            <a:ext cx="304560" cy="203760"/>
            <a:chOff x="5105520" y="3580920"/>
            <a:chExt cx="304560" cy="203760"/>
          </a:xfrm>
        </p:grpSpPr>
        <p:sp>
          <p:nvSpPr>
            <p:cNvPr id="482" name=""/>
            <p:cNvSpPr/>
            <p:nvPr/>
          </p:nvSpPr>
          <p:spPr>
            <a:xfrm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055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54100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866920" y="4266720"/>
            <a:ext cx="305280" cy="203760"/>
            <a:chOff x="5866920" y="4266720"/>
            <a:chExt cx="305280" cy="203760"/>
          </a:xfrm>
        </p:grpSpPr>
        <p:sp>
          <p:nvSpPr>
            <p:cNvPr id="487" name=""/>
            <p:cNvSpPr/>
            <p:nvPr/>
          </p:nvSpPr>
          <p:spPr>
            <a:xfrm>
              <a:off x="586728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67280" y="42670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6172200" y="42667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86692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2440440" y="3429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54840" y="403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2920" y="4419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5960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32664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895120" y="2971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988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80988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72428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4723920" y="3886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8640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56236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4852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 a query  R1     R2      …     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e have a function cost() that gives us the cost of every jo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best join tree for th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266720" y="2209320"/>
            <a:ext cx="305280" cy="203760"/>
            <a:chOff x="4266720" y="2209320"/>
            <a:chExt cx="305280" cy="203760"/>
          </a:xfrm>
        </p:grpSpPr>
        <p:sp>
          <p:nvSpPr>
            <p:cNvPr id="507" name=""/>
            <p:cNvSpPr/>
            <p:nvPr/>
          </p:nvSpPr>
          <p:spPr>
            <a:xfrm>
              <a:off x="426708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267080" y="2209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4572000" y="22093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426672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257440" y="2209320"/>
            <a:ext cx="305280" cy="203760"/>
            <a:chOff x="5257440" y="2209320"/>
            <a:chExt cx="305280" cy="203760"/>
          </a:xfrm>
        </p:grpSpPr>
        <p:sp>
          <p:nvSpPr>
            <p:cNvPr id="512" name=""/>
            <p:cNvSpPr/>
            <p:nvPr/>
          </p:nvSpPr>
          <p:spPr>
            <a:xfrm>
              <a:off x="525780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7800" y="2209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5562720" y="22093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25744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400440" y="2209320"/>
            <a:ext cx="305280" cy="203760"/>
            <a:chOff x="6400440" y="2209320"/>
            <a:chExt cx="305280" cy="203760"/>
          </a:xfrm>
        </p:grpSpPr>
        <p:sp>
          <p:nvSpPr>
            <p:cNvPr id="517" name=""/>
            <p:cNvSpPr/>
            <p:nvPr/>
          </p:nvSpPr>
          <p:spPr>
            <a:xfrm>
              <a:off x="640080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00800" y="2209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6705720" y="22093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40044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for each subset of {R1, …, Rn}, compute the best plan for that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creasing order of set cardina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for {R1}, {R2}, …, {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for {R1,R2}, {R1,R3}, …, {Rn-1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n: for {R1, …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et of {R1, …, Rn} is 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subquery 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R1, …, Rn} comput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st plan for Q: Plan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that plan: Cost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{Ri}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{Ri}) = B(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{Ri}) = 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{Ri}) = (cost of scanning 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R1, …, Rn} of cardinality i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Size(Q)    (later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pair of subqueries Q’, Q’’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t. Q = Q’ U Q’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cost(Plan(Q’)       Plan(Q’’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Q) = the smallest suc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Q) = the correspond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952520" y="4572000"/>
            <a:ext cx="305280" cy="203040"/>
            <a:chOff x="4952520" y="4572000"/>
            <a:chExt cx="305280" cy="203040"/>
          </a:xfrm>
        </p:grpSpPr>
        <p:sp>
          <p:nvSpPr>
            <p:cNvPr id="530" name=""/>
            <p:cNvSpPr/>
            <p:nvPr/>
          </p:nvSpPr>
          <p:spPr>
            <a:xfrm>
              <a:off x="4952880" y="45720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952880" y="45720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5257800" y="45720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4952520" y="45720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Plan({R1, …, Rn}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: computes optimal plans for sub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{R1},  {R2}, …, {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 {R1, R2}, {R1, R3}, …, {Rn-1, 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n: {R1, …, 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d naïve size/cost esti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realistic size/cost estimations (n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uristics for Reducing the Search 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rict to left linear 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rict to trees “without cartesian produc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more than just one plan for each sub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nteresting orde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-914400" y="1522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5105520" cy="36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st:  500+500*1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no means the worst plan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s several opportunities: selections could have been `pushed’ earlier, no use is made of any available index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oal of optimization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d more efficient plans that compute the same answ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48480" y="1200240"/>
            <a:ext cx="4083840" cy="155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Reserves R,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R.sid=S.sid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.bid=100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S.rating&gt;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6468840" y="130320"/>
            <a:ext cx="2597760" cy="3018600"/>
            <a:chOff x="6468840" y="130320"/>
            <a:chExt cx="2597760" cy="3018600"/>
          </a:xfrm>
        </p:grpSpPr>
        <p:sp>
          <p:nvSpPr>
            <p:cNvPr id="544" name=""/>
            <p:cNvSpPr/>
            <p:nvPr/>
          </p:nvSpPr>
          <p:spPr>
            <a:xfrm>
              <a:off x="6853320" y="950760"/>
              <a:ext cx="108000" cy="139680"/>
            </a:xfrm>
            <a:custGeom>
              <a:avLst/>
              <a:gdLst/>
              <a:ahLst/>
              <a:rect l="l" t="t" r="r" b="b"/>
              <a:pathLst>
                <a:path w="68" h="88">
                  <a:moveTo>
                    <a:pt x="67" y="43"/>
                  </a:moveTo>
                  <a:lnTo>
                    <a:pt x="58" y="13"/>
                  </a:lnTo>
                  <a:lnTo>
                    <a:pt x="34" y="0"/>
                  </a:lnTo>
                  <a:lnTo>
                    <a:pt x="10" y="13"/>
                  </a:lnTo>
                  <a:lnTo>
                    <a:pt x="0" y="43"/>
                  </a:lnTo>
                  <a:lnTo>
                    <a:pt x="10" y="74"/>
                  </a:lnTo>
                  <a:lnTo>
                    <a:pt x="34" y="87"/>
                  </a:lnTo>
                  <a:lnTo>
                    <a:pt x="58" y="74"/>
                  </a:lnTo>
                  <a:lnTo>
                    <a:pt x="67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907320" y="965160"/>
              <a:ext cx="98280" cy="180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0" y="0"/>
                  </a:moveTo>
                  <a:lnTo>
                    <a:pt x="6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58120" y="142920"/>
              <a:ext cx="1440" cy="1540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40560" y="142920"/>
              <a:ext cx="1800" cy="1540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18520" y="13032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0" y="0"/>
                  </a:moveTo>
                  <a:lnTo>
                    <a:pt x="10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67560" y="1909800"/>
              <a:ext cx="1800" cy="11124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0"/>
                  </a:moveTo>
                  <a:lnTo>
                    <a:pt x="0" y="6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896240" y="1909800"/>
              <a:ext cx="1440" cy="11124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0"/>
                  </a:moveTo>
                  <a:lnTo>
                    <a:pt x="0" y="6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67560" y="1909800"/>
              <a:ext cx="330120" cy="111240"/>
            </a:xfrm>
            <a:custGeom>
              <a:avLst/>
              <a:gdLst/>
              <a:ahLst/>
              <a:rect l="l" t="t" r="r" b="b"/>
              <a:pathLst>
                <a:path w="208" h="70">
                  <a:moveTo>
                    <a:pt x="0" y="0"/>
                  </a:moveTo>
                  <a:lnTo>
                    <a:pt x="207" y="6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67560" y="1909800"/>
              <a:ext cx="330120" cy="111240"/>
            </a:xfrm>
            <a:custGeom>
              <a:avLst/>
              <a:gdLst/>
              <a:ahLst/>
              <a:rect l="l" t="t" r="r" b="b"/>
              <a:pathLst>
                <a:path w="208" h="70">
                  <a:moveTo>
                    <a:pt x="0" y="69"/>
                  </a:moveTo>
                  <a:lnTo>
                    <a:pt x="207" y="0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04160" y="2360520"/>
              <a:ext cx="633240" cy="317520"/>
            </a:xfrm>
            <a:custGeom>
              <a:avLst/>
              <a:gdLst/>
              <a:ahLst/>
              <a:rect l="l" t="t" r="r" b="b"/>
              <a:pathLst>
                <a:path w="399" h="200">
                  <a:moveTo>
                    <a:pt x="0" y="199"/>
                  </a:moveTo>
                  <a:lnTo>
                    <a:pt x="398" y="0"/>
                  </a:lnTo>
                  <a:lnTo>
                    <a:pt x="0" y="1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69240" y="2360520"/>
              <a:ext cx="647640" cy="317520"/>
            </a:xfrm>
            <a:custGeom>
              <a:avLst/>
              <a:gdLst/>
              <a:ahLst/>
              <a:rect l="l" t="t" r="r" b="b"/>
              <a:pathLst>
                <a:path w="408" h="200">
                  <a:moveTo>
                    <a:pt x="0" y="0"/>
                  </a:moveTo>
                  <a:lnTo>
                    <a:pt x="407" y="1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734240" y="1279440"/>
              <a:ext cx="1800" cy="49536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734240" y="458640"/>
              <a:ext cx="1800" cy="454320"/>
            </a:xfrm>
            <a:custGeom>
              <a:avLst/>
              <a:gdLst/>
              <a:ahLst/>
              <a:rect l="l" t="t" r="r" b="b"/>
              <a:pathLst>
                <a:path w="1" h="286">
                  <a:moveTo>
                    <a:pt x="0" y="0"/>
                  </a:move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04000" y="1003320"/>
              <a:ext cx="71640" cy="147600"/>
            </a:xfrm>
            <a:custGeom>
              <a:avLst/>
              <a:gdLst/>
              <a:ahLst/>
              <a:rect l="l" t="t" r="r" b="b"/>
              <a:pathLst>
                <a:path w="45" h="93">
                  <a:moveTo>
                    <a:pt x="0" y="92"/>
                  </a:moveTo>
                  <a:lnTo>
                    <a:pt x="44" y="0"/>
                  </a:lnTo>
                  <a:lnTo>
                    <a:pt x="0" y="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773840" y="1014480"/>
              <a:ext cx="68400" cy="136440"/>
            </a:xfrm>
            <a:custGeom>
              <a:avLst/>
              <a:gdLst/>
              <a:ahLst/>
              <a:rect l="l" t="t" r="r" b="b"/>
              <a:pathLst>
                <a:path w="43" h="86">
                  <a:moveTo>
                    <a:pt x="0" y="0"/>
                  </a:moveTo>
                  <a:lnTo>
                    <a:pt x="42" y="8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68840" y="279720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60840" y="278280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88640" y="213192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937560" y="1047600"/>
              <a:ext cx="902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843680" y="1020600"/>
              <a:ext cx="98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02040" y="23976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4790880" y="3265560"/>
            <a:ext cx="4242240" cy="3388680"/>
            <a:chOff x="4790880" y="3265560"/>
            <a:chExt cx="4242240" cy="3388680"/>
          </a:xfrm>
        </p:grpSpPr>
        <p:sp>
          <p:nvSpPr>
            <p:cNvPr id="566" name=""/>
            <p:cNvSpPr/>
            <p:nvPr/>
          </p:nvSpPr>
          <p:spPr>
            <a:xfrm>
              <a:off x="5189400" y="4267080"/>
              <a:ext cx="115920" cy="158760"/>
            </a:xfrm>
            <a:custGeom>
              <a:avLst/>
              <a:gdLst/>
              <a:ahLst/>
              <a:rect l="l" t="t" r="r" b="b"/>
              <a:pathLst>
                <a:path w="73" h="100">
                  <a:moveTo>
                    <a:pt x="72" y="50"/>
                  </a:moveTo>
                  <a:lnTo>
                    <a:pt x="62" y="15"/>
                  </a:lnTo>
                  <a:lnTo>
                    <a:pt x="36" y="0"/>
                  </a:lnTo>
                  <a:lnTo>
                    <a:pt x="11" y="15"/>
                  </a:lnTo>
                  <a:lnTo>
                    <a:pt x="0" y="50"/>
                  </a:lnTo>
                  <a:lnTo>
                    <a:pt x="11" y="84"/>
                  </a:lnTo>
                  <a:lnTo>
                    <a:pt x="36" y="99"/>
                  </a:lnTo>
                  <a:lnTo>
                    <a:pt x="62" y="84"/>
                  </a:lnTo>
                  <a:lnTo>
                    <a:pt x="72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248440" y="4284720"/>
              <a:ext cx="102960" cy="1440"/>
            </a:xfrm>
            <a:custGeom>
              <a:avLst/>
              <a:gdLst/>
              <a:ahLst/>
              <a:rect l="l" t="t" r="r" b="b"/>
              <a:pathLst>
                <a:path w="65" h="1">
                  <a:moveTo>
                    <a:pt x="0" y="0"/>
                  </a:moveTo>
                  <a:lnTo>
                    <a:pt x="6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27680" y="3354480"/>
              <a:ext cx="180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915160" y="3354480"/>
              <a:ext cx="144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786280" y="3338640"/>
              <a:ext cx="174960" cy="144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945040" y="5351400"/>
              <a:ext cx="180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92800" y="5351400"/>
              <a:ext cx="180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945040" y="5351400"/>
              <a:ext cx="34956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945040" y="5351400"/>
              <a:ext cx="34956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49960" y="586260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65800" y="5862600"/>
              <a:ext cx="68436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21440" y="4638600"/>
              <a:ext cx="1440" cy="56052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121440" y="371160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076800" y="435132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62840" y="4363920"/>
              <a:ext cx="7596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90880" y="630252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78280" y="628668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64680" y="556092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85160" y="4336920"/>
              <a:ext cx="902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43480" y="4303800"/>
              <a:ext cx="98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881320" y="342252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04120" y="5246640"/>
              <a:ext cx="2529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imple Nested Loop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308720" y="4272120"/>
              <a:ext cx="13478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On-the-fly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77040" y="3265560"/>
              <a:ext cx="13478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On-the-fly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5776200" y="136440"/>
            <a:ext cx="137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ook Antiqua"/>
              </a:rPr>
              <a:t>RA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771440" y="3352680"/>
            <a:ext cx="890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ook Antiqua"/>
              </a:rPr>
              <a:t>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867280" y="3200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Query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he query is lexically and syntactically analyzed using the techniques of 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Verification of attributes and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he query is transformed into some internal representation more suitable for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7880" y="36734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41560" y="35352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43828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2892960" y="380988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E.deptId = D.dept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8960" y="44830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75120" y="4583160"/>
            <a:ext cx="18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E.position = ‘manager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3880" y="40384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9400" y="4495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1880" y="457200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D.location =‘London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4191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02760" y="5497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44792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17720" y="549756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038480" y="4876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6560" y="4944960"/>
            <a:ext cx="178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r>
              <a:rPr b="1" lang="pl-PL" sz="1600" spc="-1" strike="noStrike">
                <a:solidFill>
                  <a:srgbClr val="000000"/>
                </a:solidFill>
                <a:latin typeface="Roman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-45720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Plans 1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6320" y="2133360"/>
            <a:ext cx="9067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ain difference:  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ush sel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5 buffers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st of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Reserves (1000) + write temp T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 pages, if we have 100 boats, uniform distribu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Sailors (500) + write temp T2 (250 pages, if we have 10 rating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T1 (2*2*10), sort T2 (2*3*250), merge (10+250)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tal=18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tal:  3560 page I/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we used BNL join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oin cost = 10+4*250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tal cost = 27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we `push’ proj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1 has on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2 on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 fits in 3 pages, cost of BNL drops to under 250 pages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tal &lt;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4718880" y="162000"/>
            <a:ext cx="4394160" cy="2820240"/>
            <a:chOff x="4718880" y="162000"/>
            <a:chExt cx="4394160" cy="2820240"/>
          </a:xfrm>
        </p:grpSpPr>
        <p:sp>
          <p:nvSpPr>
            <p:cNvPr id="598" name=""/>
            <p:cNvSpPr/>
            <p:nvPr/>
          </p:nvSpPr>
          <p:spPr>
            <a:xfrm>
              <a:off x="5715000" y="2000160"/>
              <a:ext cx="10008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62" y="37"/>
                  </a:moveTo>
                  <a:lnTo>
                    <a:pt x="53" y="11"/>
                  </a:lnTo>
                  <a:lnTo>
                    <a:pt x="31" y="0"/>
                  </a:lnTo>
                  <a:lnTo>
                    <a:pt x="9" y="11"/>
                  </a:lnTo>
                  <a:lnTo>
                    <a:pt x="0" y="37"/>
                  </a:lnTo>
                  <a:lnTo>
                    <a:pt x="9" y="64"/>
                  </a:lnTo>
                  <a:lnTo>
                    <a:pt x="31" y="74"/>
                  </a:lnTo>
                  <a:lnTo>
                    <a:pt x="53" y="64"/>
                  </a:lnTo>
                  <a:lnTo>
                    <a:pt x="62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764320" y="200988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92960" y="282600"/>
              <a:ext cx="1440" cy="133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67480" y="282600"/>
              <a:ext cx="1440" cy="133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56240" y="270000"/>
              <a:ext cx="149400" cy="1440"/>
            </a:xfrm>
            <a:custGeom>
              <a:avLst/>
              <a:gdLst/>
              <a:ahLst/>
              <a:rect l="l" t="t" r="r" b="b"/>
              <a:pathLst>
                <a:path w="94" h="1">
                  <a:moveTo>
                    <a:pt x="0" y="0"/>
                  </a:moveTo>
                  <a:lnTo>
                    <a:pt x="9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16800" y="1200240"/>
              <a:ext cx="1440" cy="98280"/>
            </a:xfrm>
            <a:custGeom>
              <a:avLst/>
              <a:gdLst/>
              <a:ahLst/>
              <a:rect l="l" t="t" r="r" b="b"/>
              <a:pathLst>
                <a:path w="1" h="62">
                  <a:moveTo>
                    <a:pt x="0" y="0"/>
                  </a:moveTo>
                  <a:lnTo>
                    <a:pt x="0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12000" y="1200240"/>
              <a:ext cx="1440" cy="98280"/>
            </a:xfrm>
            <a:custGeom>
              <a:avLst/>
              <a:gdLst/>
              <a:ahLst/>
              <a:rect l="l" t="t" r="r" b="b"/>
              <a:pathLst>
                <a:path w="1" h="62">
                  <a:moveTo>
                    <a:pt x="0" y="0"/>
                  </a:moveTo>
                  <a:lnTo>
                    <a:pt x="0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16800" y="1200240"/>
              <a:ext cx="296640" cy="98280"/>
            </a:xfrm>
            <a:custGeom>
              <a:avLst/>
              <a:gdLst/>
              <a:ahLst/>
              <a:rect l="l" t="t" r="r" b="b"/>
              <a:pathLst>
                <a:path w="187" h="62">
                  <a:moveTo>
                    <a:pt x="0" y="0"/>
                  </a:moveTo>
                  <a:lnTo>
                    <a:pt x="186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16800" y="1200240"/>
              <a:ext cx="296640" cy="98280"/>
            </a:xfrm>
            <a:custGeom>
              <a:avLst/>
              <a:gdLst/>
              <a:ahLst/>
              <a:rect l="l" t="t" r="r" b="b"/>
              <a:pathLst>
                <a:path w="187" h="62">
                  <a:moveTo>
                    <a:pt x="0" y="61"/>
                  </a:moveTo>
                  <a:lnTo>
                    <a:pt x="186" y="0"/>
                  </a:lnTo>
                  <a:lnTo>
                    <a:pt x="0" y="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108840" y="1593720"/>
              <a:ext cx="569880" cy="274680"/>
            </a:xfrm>
            <a:custGeom>
              <a:avLst/>
              <a:gdLst/>
              <a:ahLst/>
              <a:rect l="l" t="t" r="r" b="b"/>
              <a:pathLst>
                <a:path w="359" h="173">
                  <a:moveTo>
                    <a:pt x="0" y="172"/>
                  </a:moveTo>
                  <a:lnTo>
                    <a:pt x="358" y="0"/>
                  </a:lnTo>
                  <a:lnTo>
                    <a:pt x="0" y="17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86440" y="1593720"/>
              <a:ext cx="581040" cy="274680"/>
            </a:xfrm>
            <a:custGeom>
              <a:avLst/>
              <a:gdLst/>
              <a:ahLst/>
              <a:rect l="l" t="t" r="r" b="b"/>
              <a:pathLst>
                <a:path w="366" h="173">
                  <a:moveTo>
                    <a:pt x="0" y="0"/>
                  </a:moveTo>
                  <a:lnTo>
                    <a:pt x="365" y="17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15360" y="2225520"/>
              <a:ext cx="1440" cy="432000"/>
            </a:xfrm>
            <a:custGeom>
              <a:avLst/>
              <a:gdLst/>
              <a:ahLst/>
              <a:rect l="l" t="t" r="r" b="b"/>
              <a:pathLst>
                <a:path w="1" h="272">
                  <a:moveTo>
                    <a:pt x="0" y="0"/>
                  </a:moveTo>
                  <a:lnTo>
                    <a:pt x="0" y="27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51800" y="654120"/>
              <a:ext cx="1440" cy="392040"/>
            </a:xfrm>
            <a:custGeom>
              <a:avLst/>
              <a:gdLst/>
              <a:ahLst/>
              <a:rect l="l" t="t" r="r" b="b"/>
              <a:pathLst>
                <a:path w="1" h="247">
                  <a:moveTo>
                    <a:pt x="0" y="0"/>
                  </a:moveTo>
                  <a:lnTo>
                    <a:pt x="0" y="24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34120" y="1974960"/>
              <a:ext cx="100080" cy="122040"/>
            </a:xfrm>
            <a:custGeom>
              <a:avLst/>
              <a:gdLst/>
              <a:ahLst/>
              <a:rect l="l" t="t" r="r" b="b"/>
              <a:pathLst>
                <a:path w="63" h="77">
                  <a:moveTo>
                    <a:pt x="62" y="38"/>
                  </a:moveTo>
                  <a:lnTo>
                    <a:pt x="53" y="11"/>
                  </a:lnTo>
                  <a:lnTo>
                    <a:pt x="31" y="0"/>
                  </a:lnTo>
                  <a:lnTo>
                    <a:pt x="9" y="11"/>
                  </a:lnTo>
                  <a:lnTo>
                    <a:pt x="0" y="38"/>
                  </a:lnTo>
                  <a:lnTo>
                    <a:pt x="9" y="65"/>
                  </a:lnTo>
                  <a:lnTo>
                    <a:pt x="31" y="76"/>
                  </a:lnTo>
                  <a:lnTo>
                    <a:pt x="53" y="65"/>
                  </a:lnTo>
                  <a:lnTo>
                    <a:pt x="62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183440" y="198612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72120" y="2236680"/>
              <a:ext cx="1800" cy="430200"/>
            </a:xfrm>
            <a:custGeom>
              <a:avLst/>
              <a:gdLst/>
              <a:ahLst/>
              <a:rect l="l" t="t" r="r" b="b"/>
              <a:pathLst>
                <a:path w="1" h="271">
                  <a:moveTo>
                    <a:pt x="0" y="0"/>
                  </a:moveTo>
                  <a:lnTo>
                    <a:pt x="0" y="27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30760" y="261792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189560" y="263052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45800" y="134604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78720" y="2023920"/>
              <a:ext cx="902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22840" y="31896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064280" y="162000"/>
              <a:ext cx="13478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On-the-fly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173720" y="2000160"/>
              <a:ext cx="98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18880" y="1828800"/>
              <a:ext cx="8463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can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719600" y="2000160"/>
              <a:ext cx="10108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rite t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718880" y="2165400"/>
              <a:ext cx="108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mp T1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027280" y="1819440"/>
              <a:ext cx="8463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can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28360" y="1986120"/>
              <a:ext cx="9514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rite 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027280" y="2151000"/>
              <a:ext cx="108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mp T2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088760" y="1104840"/>
              <a:ext cx="19742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ort-Merge Joi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Plans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486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clustered index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Reserves, we get 100,000/100 =  1000 tuples on 1000/100 = 10 p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L with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ipelinin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outer is not materialize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-218160" y="4633920"/>
            <a:ext cx="905184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cision not to push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ating&gt;5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efore the join is based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vailability of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ndex on Sai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Book Antiqua"/>
              </a:rPr>
              <a:t>Cost: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lection of Reserves tuples (10 I/Os); for eac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ust get matching Sailors tuple (1000*1.2); total </a:t>
            </a:r>
            <a:r>
              <a:rPr b="0" lang="en-US" sz="2400" spc="-1" strike="noStrike">
                <a:solidFill>
                  <a:srgbClr val="3333cc"/>
                </a:solidFill>
                <a:latin typeface="Book Antiqua"/>
              </a:rPr>
              <a:t>1210 I/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5440" y="3733920"/>
            <a:ext cx="7621920" cy="8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oin column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s a key for Sai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t most one matching tuple, unclustered index on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si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O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981840" y="1789200"/>
            <a:ext cx="1440" cy="88920"/>
          </a:xfrm>
          <a:custGeom>
            <a:avLst/>
            <a:gdLst/>
            <a:ahLst/>
            <a:rect l="l" t="t" r="r" b="b"/>
            <a:pathLst>
              <a:path w="1" h="56">
                <a:moveTo>
                  <a:pt x="0" y="0"/>
                </a:moveTo>
                <a:lnTo>
                  <a:pt x="0" y="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164360" y="1789200"/>
            <a:ext cx="1440" cy="88920"/>
          </a:xfrm>
          <a:custGeom>
            <a:avLst/>
            <a:gdLst/>
            <a:ahLst/>
            <a:rect l="l" t="t" r="r" b="b"/>
            <a:pathLst>
              <a:path w="1" h="56">
                <a:moveTo>
                  <a:pt x="0" y="0"/>
                </a:moveTo>
                <a:lnTo>
                  <a:pt x="0" y="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81840" y="1789200"/>
            <a:ext cx="183960" cy="88920"/>
          </a:xfrm>
          <a:custGeom>
            <a:avLst/>
            <a:gdLst/>
            <a:ahLst/>
            <a:rect l="l" t="t" r="r" b="b"/>
            <a:pathLst>
              <a:path w="116" h="56">
                <a:moveTo>
                  <a:pt x="0" y="0"/>
                </a:moveTo>
                <a:lnTo>
                  <a:pt x="115" y="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981840" y="1789200"/>
            <a:ext cx="183960" cy="88920"/>
          </a:xfrm>
          <a:custGeom>
            <a:avLst/>
            <a:gdLst/>
            <a:ahLst/>
            <a:rect l="l" t="t" r="r" b="b"/>
            <a:pathLst>
              <a:path w="116" h="56">
                <a:moveTo>
                  <a:pt x="0" y="55"/>
                </a:moveTo>
                <a:lnTo>
                  <a:pt x="115" y="0"/>
                </a:lnTo>
                <a:lnTo>
                  <a:pt x="0" y="5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669000" y="2146320"/>
            <a:ext cx="351000" cy="250920"/>
          </a:xfrm>
          <a:custGeom>
            <a:avLst/>
            <a:gdLst/>
            <a:ahLst/>
            <a:rect l="l" t="t" r="r" b="b"/>
            <a:pathLst>
              <a:path w="221" h="158">
                <a:moveTo>
                  <a:pt x="0" y="157"/>
                </a:moveTo>
                <a:lnTo>
                  <a:pt x="220" y="0"/>
                </a:lnTo>
                <a:lnTo>
                  <a:pt x="0" y="15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149960" y="2146320"/>
            <a:ext cx="360360" cy="250920"/>
          </a:xfrm>
          <a:custGeom>
            <a:avLst/>
            <a:gdLst/>
            <a:ahLst/>
            <a:rect l="l" t="t" r="r" b="b"/>
            <a:pathLst>
              <a:path w="227" h="158">
                <a:moveTo>
                  <a:pt x="0" y="0"/>
                </a:moveTo>
                <a:lnTo>
                  <a:pt x="226" y="15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72200" y="501480"/>
            <a:ext cx="180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0" y="2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066080" y="1290600"/>
            <a:ext cx="1440" cy="358920"/>
          </a:xfrm>
          <a:custGeom>
            <a:avLst/>
            <a:gdLst/>
            <a:ahLst/>
            <a:rect l="l" t="t" r="r" b="b"/>
            <a:pathLst>
              <a:path w="1" h="226">
                <a:moveTo>
                  <a:pt x="0" y="0"/>
                </a:moveTo>
                <a:lnTo>
                  <a:pt x="0" y="22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43600" y="206280"/>
            <a:ext cx="1800" cy="120600"/>
          </a:xfrm>
          <a:custGeom>
            <a:avLst/>
            <a:gdLst/>
            <a:ahLst/>
            <a:rect l="l" t="t" r="r" b="b"/>
            <a:pathLst>
              <a:path w="1" h="76">
                <a:moveTo>
                  <a:pt x="0" y="0"/>
                </a:moveTo>
                <a:lnTo>
                  <a:pt x="0" y="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89680" y="206280"/>
            <a:ext cx="1800" cy="120600"/>
          </a:xfrm>
          <a:custGeom>
            <a:avLst/>
            <a:gdLst/>
            <a:ahLst/>
            <a:rect l="l" t="t" r="r" b="b"/>
            <a:pathLst>
              <a:path w="1" h="76">
                <a:moveTo>
                  <a:pt x="0" y="0"/>
                </a:moveTo>
                <a:lnTo>
                  <a:pt x="0" y="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21640" y="196920"/>
            <a:ext cx="91800" cy="1440"/>
          </a:xfrm>
          <a:custGeom>
            <a:avLst/>
            <a:gdLst/>
            <a:ahLst/>
            <a:rect l="l" t="t" r="r" b="b"/>
            <a:pathLst>
              <a:path w="58" h="1">
                <a:moveTo>
                  <a:pt x="0" y="0"/>
                </a:moveTo>
                <a:lnTo>
                  <a:pt x="57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37480" y="957240"/>
            <a:ext cx="61920" cy="109440"/>
          </a:xfrm>
          <a:custGeom>
            <a:avLst/>
            <a:gdLst/>
            <a:ahLst/>
            <a:rect l="l" t="t" r="r" b="b"/>
            <a:pathLst>
              <a:path w="39" h="69">
                <a:moveTo>
                  <a:pt x="38" y="34"/>
                </a:moveTo>
                <a:lnTo>
                  <a:pt x="33" y="10"/>
                </a:lnTo>
                <a:lnTo>
                  <a:pt x="19" y="0"/>
                </a:lnTo>
                <a:lnTo>
                  <a:pt x="5" y="10"/>
                </a:lnTo>
                <a:lnTo>
                  <a:pt x="0" y="34"/>
                </a:lnTo>
                <a:lnTo>
                  <a:pt x="5" y="58"/>
                </a:lnTo>
                <a:lnTo>
                  <a:pt x="19" y="68"/>
                </a:lnTo>
                <a:lnTo>
                  <a:pt x="33" y="58"/>
                </a:lnTo>
                <a:lnTo>
                  <a:pt x="38" y="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65920" y="966960"/>
            <a:ext cx="57240" cy="1440"/>
          </a:xfrm>
          <a:custGeom>
            <a:avLst/>
            <a:gdLst/>
            <a:ahLst/>
            <a:rect l="l" t="t" r="r" b="b"/>
            <a:pathLst>
              <a:path w="36" h="1">
                <a:moveTo>
                  <a:pt x="0" y="0"/>
                </a:moveTo>
                <a:lnTo>
                  <a:pt x="3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53160" y="2774880"/>
            <a:ext cx="1800" cy="389160"/>
          </a:xfrm>
          <a:custGeom>
            <a:avLst/>
            <a:gdLst/>
            <a:ahLst/>
            <a:rect l="l" t="t" r="r" b="b"/>
            <a:pathLst>
              <a:path w="1" h="245">
                <a:moveTo>
                  <a:pt x="0" y="0"/>
                </a:moveTo>
                <a:lnTo>
                  <a:pt x="0" y="2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338520" y="3201840"/>
            <a:ext cx="86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67680" y="2529000"/>
            <a:ext cx="695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i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88800" y="1852560"/>
            <a:ext cx="715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d=s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29960" y="2543040"/>
            <a:ext cx="800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d=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26320" y="249120"/>
            <a:ext cx="669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419960" y="136440"/>
            <a:ext cx="1005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n-the-f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26680" y="984240"/>
            <a:ext cx="867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ing &gt;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69480" y="2400480"/>
            <a:ext cx="915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Use h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546160" y="2550960"/>
            <a:ext cx="863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;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418440" y="2514600"/>
            <a:ext cx="64800" cy="111240"/>
          </a:xfrm>
          <a:custGeom>
            <a:avLst/>
            <a:gdLst/>
            <a:ahLst/>
            <a:rect l="l" t="t" r="r" b="b"/>
            <a:pathLst>
              <a:path w="41" h="70">
                <a:moveTo>
                  <a:pt x="40" y="34"/>
                </a:moveTo>
                <a:lnTo>
                  <a:pt x="34" y="10"/>
                </a:lnTo>
                <a:lnTo>
                  <a:pt x="20" y="0"/>
                </a:lnTo>
                <a:lnTo>
                  <a:pt x="6" y="10"/>
                </a:lnTo>
                <a:lnTo>
                  <a:pt x="0" y="34"/>
                </a:lnTo>
                <a:lnTo>
                  <a:pt x="6" y="59"/>
                </a:lnTo>
                <a:lnTo>
                  <a:pt x="20" y="69"/>
                </a:lnTo>
                <a:lnTo>
                  <a:pt x="34" y="59"/>
                </a:lnTo>
                <a:lnTo>
                  <a:pt x="40" y="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450120" y="2525760"/>
            <a:ext cx="58680" cy="1440"/>
          </a:xfrm>
          <a:custGeom>
            <a:avLst/>
            <a:gdLst/>
            <a:ahLst/>
            <a:rect l="l" t="t" r="r" b="b"/>
            <a:pathLst>
              <a:path w="37" h="1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66680" y="2705040"/>
            <a:ext cx="820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565960" y="2854440"/>
            <a:ext cx="829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ult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67040" y="3005280"/>
            <a:ext cx="599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74240" y="1684440"/>
            <a:ext cx="1728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Index Nested Loop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374960" y="1838160"/>
            <a:ext cx="1346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pipelining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655040" y="912960"/>
            <a:ext cx="1005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n-the-f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Query normal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his stage converts the query into a normalized form that can be easily manip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he predicate (in SQL) can be converted into one of two fo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njunctive norm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position=„manager” or salary &gt; 1000) and deptId =1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isjunctive norm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position=„manager” and salary &gt; 1000) or deptId =1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Query semantic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he objective of semantic analysis is to reject a normalized query that is incorrectly formulated or contradi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he query is incorrectly formulated if components do not contribute to the generation of the result (join specification is miss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he query is contradictory if its predicate cannot be satisfied by any tuple (e.g. position=‘manager’ and position=‘assistant’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66"/>
                </a:solidFill>
                <a:latin typeface="Times New Roman"/>
              </a:rPr>
              <a:t>Simpl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he objectives of this stage are to detect redundant qualifications, eliminate common subexpressions, and transform the query to a semantically equivalent but more easily compute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ically, access restrictions, view definitions, and integrity constraints are onsidered at this st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itial optimization is performed – idempotency rules of boolean algebra are appl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8T17:26:12Z</dcterms:created>
  <dc:creator>alon</dc:creator>
  <dc:description/>
  <dc:language>en-US</dc:language>
  <cp:lastModifiedBy>Tadeusz</cp:lastModifiedBy>
  <cp:lastPrinted>1999-11-10T18:13:58Z</cp:lastPrinted>
  <dcterms:modified xsi:type="dcterms:W3CDTF">2005-12-21T15:58:02Z</dcterms:modified>
  <cp:revision>79</cp:revision>
  <dc:subject/>
  <dc:title>Architecture of a DBM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