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8D4-B0D2-4779-AC98-85A10123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314-126B-44DC-819D-B09BE83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A76-4861-4CCF-B08F-84EAC819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029-B5B5-4A70-AB20-842E8208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678-F037-408E-BBA3-9ED484EF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7F7-E503-49BC-AA2B-86B9369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C20-80F8-416B-B5F4-08F177A6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08F-B290-415E-94EE-A3B493B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C03-9CC9-4F21-9B8C-DDE1650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A3B-9B33-4FFE-88E1-05A84C7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63F-3A9B-4F40-9EF7-10444B6C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44E-97AF-4A9D-9E51-403092E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0DF-F66E-4C86-A188-2A70D6798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etwarzanie równoległ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181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fał Walkowi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sień 2002,3 rok informatyka, 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14600"/>
            <a:ext cx="7925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odowisko przetwarzania równoległ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ystemy transputer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– system uruchomieni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ak systemu operacyjneg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d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ces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kod 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tkownika + procedury bibliotecz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iserver 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owanie kodu aplikacji i ob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 we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-wy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owanie kod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lik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inicjowanie systemu, pobiera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ez transpute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d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syłająceg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 komunikacyjnego, rozs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odu procesów użytkownik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kończenie programu iserver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żytkowe zakończenie pracy aplikacj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D4D-7F86-4B25-B913-1523656B65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– biblioteki równoległ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y tworze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struktury proc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ecyfikacja kodu i parametrów, tworze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zestrz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obo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rocAllo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ruchamian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ów (synchroniczne i asynchroniczn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y komunikacji za pomo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anał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y wyboru ka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z oczekuj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ym komunika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y szeregowania i pomiaru czasu realizacji proces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6A6-719E-4FF5-A47A-2516A8389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ynchroniczne 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uchamian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2860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8600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267080"/>
            <a:ext cx="160020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733920"/>
            <a:ext cx="762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733920"/>
            <a:ext cx="7617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733920"/>
            <a:ext cx="762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2" idx="2"/>
            <a:endCxn id="84" idx="0"/>
          </p:cNvCxnSpPr>
          <p:nvPr/>
        </p:nvCxnSpPr>
        <p:spPr>
          <a:xfrm flipH="1" rot="16200000">
            <a:off x="2647800" y="2647440"/>
            <a:ext cx="30564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2"/>
            <a:endCxn id="85" idx="0"/>
          </p:cNvCxnSpPr>
          <p:nvPr/>
        </p:nvCxnSpPr>
        <p:spPr>
          <a:xfrm flipH="1" rot="16200000">
            <a:off x="3180240" y="2114280"/>
            <a:ext cx="305640" cy="293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6" idx="0"/>
          </p:cNvCxnSpPr>
          <p:nvPr/>
        </p:nvCxnSpPr>
        <p:spPr>
          <a:xfrm flipH="1" rot="16200000">
            <a:off x="3675600" y="1618920"/>
            <a:ext cx="305640" cy="392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4" idx="4"/>
            <a:endCxn id="83" idx="0"/>
          </p:cNvCxnSpPr>
          <p:nvPr/>
        </p:nvCxnSpPr>
        <p:spPr>
          <a:xfrm rot="5400000">
            <a:off x="2685600" y="3219120"/>
            <a:ext cx="2293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5" idx="4"/>
            <a:endCxn id="83" idx="0"/>
          </p:cNvCxnSpPr>
          <p:nvPr/>
        </p:nvCxnSpPr>
        <p:spPr>
          <a:xfrm rot="5400000">
            <a:off x="3218760" y="2685600"/>
            <a:ext cx="229320" cy="293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4"/>
            <a:endCxn id="83" idx="0"/>
          </p:cNvCxnSpPr>
          <p:nvPr/>
        </p:nvCxnSpPr>
        <p:spPr>
          <a:xfrm rot="5400000">
            <a:off x="3714120" y="2190240"/>
            <a:ext cx="229320" cy="392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054080" y="17161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d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23640" y="2678040"/>
            <a:ext cx="54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ruchomienie procesów potomn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trzymanie przetwarzania procesu główn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06840" y="3516480"/>
            <a:ext cx="25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izacja proces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tom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5440" y="4278240"/>
            <a:ext cx="529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ończenie realizacji procesów potomn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nowienie przetwarzania procesu głów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1"/>
            <a:endCxn id="82" idx="2"/>
          </p:cNvCxnSpPr>
          <p:nvPr/>
        </p:nvCxnSpPr>
        <p:spPr>
          <a:xfrm flipH="1">
            <a:off x="1866240" y="3058920"/>
            <a:ext cx="1166040" cy="37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6" idx="1"/>
            <a:endCxn id="83" idx="0"/>
          </p:cNvCxnSpPr>
          <p:nvPr/>
        </p:nvCxnSpPr>
        <p:spPr>
          <a:xfrm flipH="1" flipV="1">
            <a:off x="1866240" y="4267080"/>
            <a:ext cx="11660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llel C - synchroniczne uruchamianie procesó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5C1-F906-428E-9DCC-F423CF6EC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cedury komunikacji za pomoc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a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ów</a:t>
            </a:r>
            <a:br>
              <a:rPr sz="3200"/>
            </a:b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komunikacja synchronicz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In( Channel* kanał, void*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dres_przeznacze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int lic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branie danych i modyfikacja pamięci od wskazanego adres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 ChanInInt( Channel* ka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branie wartości typu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podstawienie odebranej wartości pod zmienn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ChanOut( Channel* kanał, void*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dres_źródł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 li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n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ysłanie kolejnych bajtów od wskazanego adres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ChanOutInt( Channel* kanał, int liczba )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ysłanie podanej wartości lub wartości aktualnie przechowywanej w zmiennej typu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llel C - funkcje komunikacj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B94-5F33-4990-810B-058986F39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ocedury wyboru kana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 z oczekuj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ym komunikate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Alt( Channel* kanał, ... );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wraca numer (wg listy parametrów) kanału z oczekującym komunikatem, funkcja blokują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t ProcSkipAlt( Channel* kanał, ... 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wraca numer kanału z oczekującym komunikatem lub -1, funkcja nieblokują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preferowanie jednego kanału wejściowego prowadzi do zagłodzenia pozostałych procesów przy dużym strumieniu komunika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danie egzaminacyjne (2002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cepcja serwera jednakowo traktującego nadawców zleceń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llel C - funkcje wyboru wejś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74E-93AE-492B-80D1-ACDE747C1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ocedury szeregowania i pomiaru czasu realizacji proces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ProcReschedule();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owoduje umieszczenie procesu na końcu kolejki procesów aktywnych danego priorytet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void ProcWait( int okres ); zawiesza wykonywanie procesu na podany okres; po jego upływie proces jest dołączany do kolejki zadań aktywnych właściwego priorytet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t ProcTime(); zwraca wartość zegara transputera aktualnego prioryt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llel C - funkcje szeregowania procesó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1D5-DE50-47A7-9EF7-C5B60984B3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nfiguracja aplik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owanie sprz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u: procesory 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ch połącze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owanie proces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owanie ka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ów i paramet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zydz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ów do proces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zydz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odu do proces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5C3-BB46-41F0-9616-CA5145E56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twarzanie równoległe – optymaliz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24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wnoleglenie przetwarzania i komunika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acja zewnętrzna nie obciąża procesora lecz pamięć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wielki spadek prędkości przetwar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nchroniczność komunik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e procesów na jednym procesor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24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orytet procesów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cyj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ZE 200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24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jednorodne procesory i połą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24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graniczenia na architekturę połącze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24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dzielona pamię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9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rodna adresacja z procesem potomn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6D2-2F97-44B9-B34B-5D9BFF65D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erwer www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da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słanie kodu i da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utomatyczne rozpakowanie plików aplik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pilacja aplik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lejkowanie żądań uruchomienia aplik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uchamianie aplik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stowanie sprzętu równoległ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użytkownika – he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ostępnianie materiałów i oprogramowania wspomagającego: TS, SSR, materiały pomocnicze, wykł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1E7-44E2-4C5B-A3D7-DC4A808265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ruchamianie ko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stalenie przyczyny niepowodzenia – sprzęt, konfiguracja, aplikac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stowanie sprzętu w ramach serwera ww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kończenie, a przerwanie przetwar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rwanie przetwarzania – exit_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unikaty „wej-wyj”, a exit_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formacje o przyczynach błędów – materiały w ramach serwera ww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ymulator systemów równoległych – warunki konieczne poprawności kodu, nie uwzględnia architektury sprzę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749-886D-4CAE-A7E3-BB7E909840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odowisko równoległ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zęt T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ndemnode 65 * (T800 + 4MB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chitektura rekonfigurowal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astation 12 * (T805 +4MB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chitektura stał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rogra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all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rwer www – dostęp do sprzę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asnputer Studio (TS) – graficzny edytor struktury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cjalizowany edytor tekstu dla kodu równoległ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ulator Systemów Równoległych (S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2A4-FF57-4AD7-939F-9FADDE1F6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miary czasu pracy aplik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eracje we/wy – 99% czasu przetwar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żne zegary różnych priorytetów procesó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porównaj wykład o transputera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czątek pomia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rt procesu „we-wy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iągnięcie gotowości wszystkich proces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niec pomia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iec odbioru wyników w procesie „we-w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2C9-D6D0-4FC0-862B-49827BE11C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ransputer 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raficzny interfejs konfiguracji aplika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enerator standardowych architekt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dycja architektur sprzętu i proces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enerator szkieletu kodu w oparciu o parametry proce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dytor wspomagający kodowanie w Parallel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stowanie poprawności odwołań do kanałów w kodz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eneracja pliku konfiguracyjnego i plików pomocnicz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utomatyzacja pakowania aplik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BFB-3150-45BC-BB27-2736A4271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inwnd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141880" cy="632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91320" y="1447920"/>
            <a:ext cx="3200400" cy="335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Pasek narzęd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. Pasek statu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Obszar roboc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Panel informacyj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Okno edytora sprzę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Okno edytora procesów i struktury komunikacyj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ansputer 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676-C88B-4AD2-9274-0E2E4281E6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ransputer studio – edycja sprzę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46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297080"/>
            <a:ext cx="4800600" cy="472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27432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DA6-665E-4A63-BF6B-BFB2CC90AA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ransputer studio – edycja proces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449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685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zetwarzanie równoleg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484-650B-469D-BEDA-37382D4F83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ymulator Systemów Równoległ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ulacja pracy aplikacji dla transputerów w systemie Windows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konfiguracji aplikacji – tworzenie struktury komunikacyj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pilacja kodów procesów z biblioteką komunikacyjną symula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uchomienie aplikacji – symulacja pracy sytemu równoległ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gnalizacja błędów uruchomi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ostępnienie systemu „wej-wyj” wszystkim proces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zentacja komunikatów „wej-wyj” od wybranych proc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ormacja o operacjach komunikacji: oczekiwanie, odbiór, nadanie komunika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dycja kodu źródł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496-0A59-48BA-93E9-E1BDD27B4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ulator Systemów Równoległ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81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816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426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0" y="518148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sek nar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z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kno w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etl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 informacje o zdarzeni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nel proces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nel komunika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23520" y="1219320"/>
            <a:ext cx="11430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1981080"/>
            <a:ext cx="167652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514240" y="2514240"/>
            <a:ext cx="2286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05120" y="4571640"/>
            <a:ext cx="7617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2EE-A02A-49D7-97D8-02DA4FF6C2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andem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13716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OST – komputer dostęp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OT – pierwszy procesor systemu równoległ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olne połączenia 64 węzłów przetwarzając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ień wierzchołka węzła przetwarzającego - 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cze z procesorem ROOT powol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ostałe łącza jednorod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ory jednorod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n-sch1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54960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le - sprzę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58C-6617-4236-BC66-88115F133E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aras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3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572000" cy="423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1905120"/>
            <a:ext cx="380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pełna krata toroidal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dno aktywne łącze z komputerem host do węzła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sory 25 MHz w lewej kolumnie, pozostałe 20 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ącza pionowe - skonfigurowane C004 –wolniej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Łącza poziome - zwarcia – szyb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le - sprzę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0B3-D05C-49E2-B974-74C237E210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aralle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SII C standa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wołania umożliwiające przetwarzanie równoległe w modelu opartym o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procesy i kanał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iblioteka czasu uruchomienia – umożliwia odwołania kodu użytkownika do sprzę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język konfiguracj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aplika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A51-93EF-4CC3-BC08-D0F5E4811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- narzędz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pilator, konsolidator, konfigura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alizator architektury połączeń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ator architektury połączeń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 inicjalizacji system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SERVER - program ładowania kodu i obsługi operacji wejścia-wyjśc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9F3-6BFE-4025-A96D-7D460F651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- charakterys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ik konfiguracyjny pozwala określi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żądaną strukturę sprzętu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oną strukturę proces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dzielenie kodu i konfigurac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ane o środowisku przekazywane jako parametry przy uruchomieniu proce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rodność odwołań komunikacyj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anały lokalne i zdal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zdalnego wywoływania proced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y i kanały statyczne – definiowane w pliku konfiguracyjny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y i kanały dynamiczne – tworzone dynamicznie przez działające proce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C7F-B6D5-4413-AA2C-131099CF4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– struktura aplik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den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oces wejścia-wyjśc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komunikacja aplikacji z otoczeniem, procesor ro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200400"/>
            <a:ext cx="266688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200400"/>
            <a:ext cx="266724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3434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809880"/>
            <a:ext cx="213336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335268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c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4648320"/>
            <a:ext cx="60984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46483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7"/>
            <a:endCxn id="65" idx="1"/>
          </p:cNvCxnSpPr>
          <p:nvPr/>
        </p:nvCxnSpPr>
        <p:spPr>
          <a:xfrm flipH="1" flipV="1" rot="5400000">
            <a:off x="4087080" y="2221200"/>
            <a:ext cx="501840" cy="3053520"/>
          </a:xfrm>
          <a:prstGeom prst="curvedConnector5">
            <a:avLst>
              <a:gd name="adj1" fmla="val 174443"/>
              <a:gd name="adj2" fmla="val 49994"/>
              <a:gd name="adj3" fmla="val 1744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5" idx="3"/>
            <a:endCxn id="64" idx="5"/>
          </p:cNvCxnSpPr>
          <p:nvPr/>
        </p:nvCxnSpPr>
        <p:spPr>
          <a:xfrm rot="5400000">
            <a:off x="3978720" y="3030840"/>
            <a:ext cx="717840" cy="3053520"/>
          </a:xfrm>
          <a:prstGeom prst="curvedConnector5">
            <a:avLst>
              <a:gd name="adj1" fmla="val 158253"/>
              <a:gd name="adj2" fmla="val 49994"/>
              <a:gd name="adj3" fmla="val 15825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4"/>
            <a:endCxn id="66" idx="7"/>
          </p:cNvCxnSpPr>
          <p:nvPr/>
        </p:nvCxnSpPr>
        <p:spPr>
          <a:xfrm rot="5400000">
            <a:off x="6183360" y="4318560"/>
            <a:ext cx="383400" cy="432360"/>
          </a:xfrm>
          <a:prstGeom prst="curvedConnector5">
            <a:avLst>
              <a:gd name="adj1" fmla="val 39755"/>
              <a:gd name="adj2" fmla="val 50000"/>
              <a:gd name="adj3" fmla="val 397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6" idx="6"/>
            <a:endCxn id="65" idx="5"/>
          </p:cNvCxnSpPr>
          <p:nvPr/>
        </p:nvCxnSpPr>
        <p:spPr>
          <a:xfrm flipV="1">
            <a:off x="6248520" y="4198320"/>
            <a:ext cx="1070640" cy="71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H="1">
            <a:off x="7238160" y="3809520"/>
            <a:ext cx="381960" cy="801000"/>
          </a:xfrm>
          <a:prstGeom prst="curvedConnector5">
            <a:avLst>
              <a:gd name="adj1" fmla="val -79150"/>
              <a:gd name="adj2" fmla="val 40467"/>
              <a:gd name="adj3" fmla="val -79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65" idx="7"/>
          </p:cNvCxnSpPr>
          <p:nvPr/>
        </p:nvCxnSpPr>
        <p:spPr>
          <a:xfrm flipV="1" rot="16200000">
            <a:off x="6771600" y="4042800"/>
            <a:ext cx="1229400" cy="137160"/>
          </a:xfrm>
          <a:prstGeom prst="curvedConnector5">
            <a:avLst>
              <a:gd name="adj1" fmla="val 18717"/>
              <a:gd name="adj2" fmla="val -235263"/>
              <a:gd name="adj3" fmla="val 187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D23-86C5-4EE9-AED3-C77C8FFF49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allel C – struktura aplik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kazywanie parametrów z pliku konfiguracyjnego do kodów proces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arametry: dane liczbowe, identyfikatory kanałów statycznyc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yp procesu – określony poprzez kod, różne procesy = ten sam kod + różne parametry (np. id kanał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graniczenia sprzętu dla aplikacj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nały zewnętrzne na łą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 kanały o przeciwnym zwrocie na jednym łąc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acja typu „store and forwa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ość pamięci węz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łe połąc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Środowisko równoległe - oprogram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FC3-BE2A-4EC5-95ED-B3832C40D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9:03:43Z</dcterms:created>
  <dc:creator>Rafał Walkowiak</dc:creator>
  <dc:description/>
  <dc:language>en-US</dc:language>
  <cp:lastModifiedBy>andrzej</cp:lastModifiedBy>
  <dcterms:modified xsi:type="dcterms:W3CDTF">2004-01-19T12:01:13Z</dcterms:modified>
  <cp:revision>90</cp:revision>
  <dc:subject/>
  <dc:title>Przetwarzanie równoległe_cz.9</dc:title>
</cp:coreProperties>
</file>