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34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_rels/notesSlide65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2.xml.rels" ContentType="application/vnd.openxmlformats-package.relationships+xml"/>
  <Override PartName="/ppt/notesSlides/notesSlide6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408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672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33720" y="-360"/>
            <a:ext cx="300672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00240" y="680760"/>
            <a:ext cx="4540320" cy="340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626320"/>
            <a:ext cx="3006720" cy="45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33720" y="8626320"/>
            <a:ext cx="3006720" cy="45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6399FBD-D6AA-4463-B97D-076DB04FE0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"/>
          <p:cNvSpPr txBox="1"/>
          <p:nvPr/>
        </p:nvSpPr>
        <p:spPr>
          <a:xfrm>
            <a:off x="3933720" y="8626320"/>
            <a:ext cx="3006720" cy="45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80C8E56-8B8E-4D0A-BE8E-193A1305CF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 txBox="1"/>
          <p:nvPr/>
        </p:nvSpPr>
        <p:spPr>
          <a:xfrm>
            <a:off x="0" y="8626320"/>
            <a:ext cx="3006720" cy="45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 txBox="1"/>
          <p:nvPr/>
        </p:nvSpPr>
        <p:spPr>
          <a:xfrm>
            <a:off x="0" y="-360"/>
            <a:ext cx="300672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 txBox="1"/>
          <p:nvPr/>
        </p:nvSpPr>
        <p:spPr>
          <a:xfrm>
            <a:off x="3933720" y="-360"/>
            <a:ext cx="300672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3932280" y="0"/>
            <a:ext cx="30081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0" y="0"/>
            <a:ext cx="30081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2002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"/>
          <p:cNvSpPr txBox="1"/>
          <p:nvPr/>
        </p:nvSpPr>
        <p:spPr>
          <a:xfrm>
            <a:off x="3933720" y="8626320"/>
            <a:ext cx="3006720" cy="45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E288A98-2196-47E6-941C-D6A3A2E495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 txBox="1"/>
          <p:nvPr/>
        </p:nvSpPr>
        <p:spPr>
          <a:xfrm>
            <a:off x="0" y="8626320"/>
            <a:ext cx="3006720" cy="45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 txBox="1"/>
          <p:nvPr/>
        </p:nvSpPr>
        <p:spPr>
          <a:xfrm>
            <a:off x="0" y="-360"/>
            <a:ext cx="300672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 txBox="1"/>
          <p:nvPr/>
        </p:nvSpPr>
        <p:spPr>
          <a:xfrm>
            <a:off x="3933720" y="-360"/>
            <a:ext cx="300672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3932280" y="0"/>
            <a:ext cx="30081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0" y="0"/>
            <a:ext cx="30081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12002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"/>
          <p:cNvSpPr txBox="1"/>
          <p:nvPr/>
        </p:nvSpPr>
        <p:spPr>
          <a:xfrm>
            <a:off x="3933720" y="8626320"/>
            <a:ext cx="3006720" cy="45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515E9A3-7D79-48FE-986D-C7DC8B17E3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 txBox="1"/>
          <p:nvPr/>
        </p:nvSpPr>
        <p:spPr>
          <a:xfrm>
            <a:off x="0" y="8626320"/>
            <a:ext cx="3006720" cy="45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 txBox="1"/>
          <p:nvPr/>
        </p:nvSpPr>
        <p:spPr>
          <a:xfrm>
            <a:off x="0" y="-360"/>
            <a:ext cx="300672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 txBox="1"/>
          <p:nvPr/>
        </p:nvSpPr>
        <p:spPr>
          <a:xfrm>
            <a:off x="3933720" y="-360"/>
            <a:ext cx="300672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3932280" y="0"/>
            <a:ext cx="30081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0" y="0"/>
            <a:ext cx="30081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sldImg"/>
          </p:nvPr>
        </p:nvSpPr>
        <p:spPr>
          <a:xfrm>
            <a:off x="12002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"/>
          <p:cNvSpPr txBox="1"/>
          <p:nvPr/>
        </p:nvSpPr>
        <p:spPr>
          <a:xfrm>
            <a:off x="3933720" y="8626320"/>
            <a:ext cx="3006720" cy="45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30FEAC1-8DF6-4BF9-B7A0-38AB0E711A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 txBox="1"/>
          <p:nvPr/>
        </p:nvSpPr>
        <p:spPr>
          <a:xfrm>
            <a:off x="0" y="8626320"/>
            <a:ext cx="3006720" cy="45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 txBox="1"/>
          <p:nvPr/>
        </p:nvSpPr>
        <p:spPr>
          <a:xfrm>
            <a:off x="0" y="-360"/>
            <a:ext cx="300672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 txBox="1"/>
          <p:nvPr/>
        </p:nvSpPr>
        <p:spPr>
          <a:xfrm>
            <a:off x="3933720" y="-360"/>
            <a:ext cx="300672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3932280" y="0"/>
            <a:ext cx="30081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0" y="0"/>
            <a:ext cx="30081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12002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"/>
          <p:cNvSpPr txBox="1"/>
          <p:nvPr/>
        </p:nvSpPr>
        <p:spPr>
          <a:xfrm>
            <a:off x="3933720" y="8626320"/>
            <a:ext cx="3006720" cy="45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4BA8870-117B-420D-A4C1-EACF9EF945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 txBox="1"/>
          <p:nvPr/>
        </p:nvSpPr>
        <p:spPr>
          <a:xfrm>
            <a:off x="0" y="8626320"/>
            <a:ext cx="3006720" cy="45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 txBox="1"/>
          <p:nvPr/>
        </p:nvSpPr>
        <p:spPr>
          <a:xfrm>
            <a:off x="0" y="-360"/>
            <a:ext cx="300672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 txBox="1"/>
          <p:nvPr/>
        </p:nvSpPr>
        <p:spPr>
          <a:xfrm>
            <a:off x="3933720" y="-360"/>
            <a:ext cx="300672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3932280" y="0"/>
            <a:ext cx="30081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0" y="0"/>
            <a:ext cx="30081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12002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"/>
          <p:cNvSpPr txBox="1"/>
          <p:nvPr/>
        </p:nvSpPr>
        <p:spPr>
          <a:xfrm>
            <a:off x="3933720" y="8626320"/>
            <a:ext cx="3006720" cy="45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0E94967-11C9-4135-B74B-9718F77043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 txBox="1"/>
          <p:nvPr/>
        </p:nvSpPr>
        <p:spPr>
          <a:xfrm>
            <a:off x="0" y="8626320"/>
            <a:ext cx="3006720" cy="45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 txBox="1"/>
          <p:nvPr/>
        </p:nvSpPr>
        <p:spPr>
          <a:xfrm>
            <a:off x="0" y="-360"/>
            <a:ext cx="300672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 txBox="1"/>
          <p:nvPr/>
        </p:nvSpPr>
        <p:spPr>
          <a:xfrm>
            <a:off x="3933720" y="-360"/>
            <a:ext cx="300672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3932280" y="0"/>
            <a:ext cx="30081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0" y="0"/>
            <a:ext cx="30081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12002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"/>
          <p:cNvSpPr txBox="1"/>
          <p:nvPr/>
        </p:nvSpPr>
        <p:spPr>
          <a:xfrm>
            <a:off x="3933720" y="8626320"/>
            <a:ext cx="3006720" cy="45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2AD956B-BDD5-4543-83CF-F2135479CD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 txBox="1"/>
          <p:nvPr/>
        </p:nvSpPr>
        <p:spPr>
          <a:xfrm>
            <a:off x="0" y="8626320"/>
            <a:ext cx="3006720" cy="45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 txBox="1"/>
          <p:nvPr/>
        </p:nvSpPr>
        <p:spPr>
          <a:xfrm>
            <a:off x="0" y="-360"/>
            <a:ext cx="300672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 txBox="1"/>
          <p:nvPr/>
        </p:nvSpPr>
        <p:spPr>
          <a:xfrm>
            <a:off x="3933720" y="-360"/>
            <a:ext cx="300672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3932280" y="0"/>
            <a:ext cx="30081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0" y="0"/>
            <a:ext cx="30081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2002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"/>
          <p:cNvSpPr txBox="1"/>
          <p:nvPr/>
        </p:nvSpPr>
        <p:spPr>
          <a:xfrm>
            <a:off x="3933720" y="8626320"/>
            <a:ext cx="3006720" cy="45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795F2C0-380B-4C9D-BAFB-5BC8C7DD36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 txBox="1"/>
          <p:nvPr/>
        </p:nvSpPr>
        <p:spPr>
          <a:xfrm>
            <a:off x="0" y="8626320"/>
            <a:ext cx="3006720" cy="45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 txBox="1"/>
          <p:nvPr/>
        </p:nvSpPr>
        <p:spPr>
          <a:xfrm>
            <a:off x="0" y="-360"/>
            <a:ext cx="300672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 txBox="1"/>
          <p:nvPr/>
        </p:nvSpPr>
        <p:spPr>
          <a:xfrm>
            <a:off x="3933720" y="-360"/>
            <a:ext cx="300672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3932280" y="0"/>
            <a:ext cx="30081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0" y="0"/>
            <a:ext cx="30081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2002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"/>
          <p:cNvSpPr txBox="1"/>
          <p:nvPr/>
        </p:nvSpPr>
        <p:spPr>
          <a:xfrm>
            <a:off x="3933720" y="8626320"/>
            <a:ext cx="3006720" cy="45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50AA287-3EE0-4FA9-A943-13EC323833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 txBox="1"/>
          <p:nvPr/>
        </p:nvSpPr>
        <p:spPr>
          <a:xfrm>
            <a:off x="0" y="8626320"/>
            <a:ext cx="3006720" cy="45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 txBox="1"/>
          <p:nvPr/>
        </p:nvSpPr>
        <p:spPr>
          <a:xfrm>
            <a:off x="0" y="-360"/>
            <a:ext cx="300672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 txBox="1"/>
          <p:nvPr/>
        </p:nvSpPr>
        <p:spPr>
          <a:xfrm>
            <a:off x="3933720" y="-360"/>
            <a:ext cx="300672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3932280" y="0"/>
            <a:ext cx="30081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0" y="0"/>
            <a:ext cx="30081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12002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5643-6DB6-43E9-B855-3D8FBBFE2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23D5-0DB7-47E4-B259-674E9B3DD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94A9-046A-4692-8D78-C120B9B14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0409-D259-4083-8621-171FE2FFB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BD4A-E002-44FB-8A41-C059CAB86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6308-1CA9-4575-AAE2-9FCD531CF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8536-997F-40A2-9452-D4486AF6A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7864-5053-4430-976C-CE285DC05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BAE4-0010-41A9-89B9-510B52325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9930-8FDD-406B-A7E4-43973788E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C267-358E-4AEC-91CB-C1613BE6E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7432-76F2-472D-A59C-5B475FA0A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E7A0D-4D13-449B-B69A-579594C278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66"/>
                </a:solidFill>
                <a:latin typeface="Times New Roman"/>
              </a:rPr>
              <a:t>Query Optim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cc0066"/>
                </a:solidFill>
                <a:latin typeface="Times New Roman"/>
              </a:rPr>
              <a:t>Query semantic analy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Solution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Construct a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normalized attribute connection graph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– create a node for each reference to an attribute or constant 0. Then, create a directed edge between nodes that represent a join, and a directed edge between an attribute node and a constant 0 node that represents a selection operation. Next, we weight the edges a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b with the value c, if it represents the inequality conditions (a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b+c), and weight the edges 0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a with the value –c, if it represents the inequality condition (a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c). Joins are weighted with 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If the graph has a cycle for which the valuation id negative, the query is contradic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cc0066"/>
                </a:solidFill>
                <a:latin typeface="Times New Roman"/>
              </a:rPr>
              <a:t>Query semantic analy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Select p.proprertyID, p.stre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from client c, viewing v, PropertyForRent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here c.clientNo = v.clientNo and c.maxrent &gt;=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and c.prefType = ‘Flat’ and p.ownerNo = „CO93’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752480" y="4191120"/>
            <a:ext cx="381240" cy="30456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743200" y="4191120"/>
            <a:ext cx="380880" cy="30456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6200" y="4191120"/>
            <a:ext cx="380880" cy="30456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4191120"/>
            <a:ext cx="380880" cy="30456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133720" y="4343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267080" y="4343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735920" y="3726000"/>
            <a:ext cx="27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720880" y="3726000"/>
            <a:ext cx="28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Roman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860640" y="3726000"/>
            <a:ext cx="30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Roman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016600" y="3643200"/>
            <a:ext cx="67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59520" y="4765680"/>
            <a:ext cx="760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The query is not correctly formulated – we have omitted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join condition v.propertyNo = p.property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cc0066"/>
                </a:solidFill>
                <a:latin typeface="Times New Roman"/>
              </a:rPr>
              <a:t>Query semantic analy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Select p.proprertyID, p.stre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from client c, viewing v, PropertyForRent 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here c.clientNo = v.clientN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and v.propertNo = p.propertN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and c.maxrent &gt;= 500 and c.prefType = ‘Flat’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and c.maxrent &lt; 20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43000" y="4038480"/>
            <a:ext cx="380880" cy="30492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876920"/>
            <a:ext cx="380880" cy="30456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743200" y="4343400"/>
            <a:ext cx="380880" cy="30492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523880" y="4191120"/>
            <a:ext cx="12956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737000" y="3897360"/>
            <a:ext cx="45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 flipV="1">
            <a:off x="1447920" y="4266720"/>
            <a:ext cx="12952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676520" y="4343400"/>
            <a:ext cx="50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-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447920" y="4571640"/>
            <a:ext cx="12952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1523880" y="4648320"/>
            <a:ext cx="14479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812960" y="4888080"/>
            <a:ext cx="47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-fl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371960" y="4495680"/>
            <a:ext cx="42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fl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50240" y="3567240"/>
            <a:ext cx="98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c.max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72840" y="5319720"/>
            <a:ext cx="99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c.pef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652480" y="38718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648320" y="4038480"/>
            <a:ext cx="380880" cy="30492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038480"/>
            <a:ext cx="381240" cy="30492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648320" y="4876920"/>
            <a:ext cx="380880" cy="30456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324480" y="4876920"/>
            <a:ext cx="381240" cy="30456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30800" y="3643200"/>
            <a:ext cx="102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c.client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098760" y="3581280"/>
            <a:ext cx="103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v.client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329720" y="5319720"/>
            <a:ext cx="127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v.property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174360" y="5334120"/>
            <a:ext cx="127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p.property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952880" y="41148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5029200" y="42670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952880" y="48769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5029200" y="51055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95680" y="425304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563800" y="36576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563800" y="44956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640120" y="51055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cc0066"/>
                </a:solidFill>
                <a:latin typeface="Times New Roman"/>
              </a:rPr>
              <a:t>Query simplific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The aim is to detect redundant qualifications, eliminate common subexpressions, and transform the query to a semantically equivalent but more easily and efficiently computed fo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The initial optimization consists in applying well-known idempotency ru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^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(p) = p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 v (p) = 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^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(false) = false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 v false = 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^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(true) = p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 v true = tr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^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(-p) = false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 v (-p) = tr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^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(p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q) = p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 v (p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^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q) = 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66"/>
                </a:solidFill>
                <a:latin typeface="Times New Roman"/>
              </a:rPr>
              <a:t>Building Bloc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ebraic transformations (many and wacky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istical model: estimating costs and siz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ing the best join tre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tom-up (dynamic programming): System-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ew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chitectur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burst: rewrite and then tree fi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lcano: all at once, top-dow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66"/>
                </a:solidFill>
                <a:latin typeface="Times New Roman"/>
              </a:rPr>
              <a:t>Key Lessons in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There are many approaches and many details to consider in query optim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ic search/optimization problem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Not completely solved ye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Main points to take away a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ebraic rules and their use in transformations of quer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iding on join ordering: System-R style (Selinger style) optimiz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imating cost of plans and sizes of intermediate resul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66"/>
                </a:solidFill>
                <a:latin typeface="Times New Roman"/>
              </a:rPr>
              <a:t>Operations (revisited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an ([index], table, predicate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ither index scan or table sc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y to push down </a:t>
            </a:r>
            <a:r>
              <a:rPr b="1" lang="pl-PL" sz="2800" spc="-1" strike="noStrike">
                <a:solidFill>
                  <a:srgbClr val="ff0000"/>
                </a:solidFill>
                <a:latin typeface="Times New Roman"/>
              </a:rPr>
              <a:t>unar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redica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ection (fil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jection (always need to go to the data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ins: nested loop (indexed), sort-merge, hash, outer jo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uping and aggregation (usually the last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66"/>
                </a:solidFill>
                <a:latin typeface="Times New Roman"/>
              </a:rPr>
              <a:t>Algebraic Law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tative and Associative La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 U S = S U R,  R U (S U T) = (R U S) U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∩ S = S ∩ R,  R ∩ (S ∩ T) = (R ∩ S) ∩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     S = S     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     (S      T) = (R     S)    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ributive La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     (S U T)  =  (R    S)  U  (R     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1752480" y="3733920"/>
                <a:ext cx="441360" cy="23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&gt;&l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2971800" y="3733920"/>
                <a:ext cx="441360" cy="23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&gt;&l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4191120" y="3733920"/>
                <a:ext cx="441360" cy="23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&gt;&l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4952880" y="3733920"/>
                <a:ext cx="441360" cy="23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&gt;&l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6553080" y="3733920"/>
                <a:ext cx="441360" cy="23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&gt;&l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7315200" y="3733920"/>
                <a:ext cx="441360" cy="23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&gt;&l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1752480" y="4800600"/>
                <a:ext cx="441360" cy="2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&gt;&l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4172040" y="4819680"/>
                <a:ext cx="441360" cy="2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&gt;&l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5867280" y="4800600"/>
                <a:ext cx="441360" cy="2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&gt;&l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66"/>
                </a:solidFill>
                <a:latin typeface="Times New Roman"/>
              </a:rPr>
              <a:t>Algebraic Law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ws involving sele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Cascade of sele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 AND C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)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))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∩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 OR C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)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      S)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)      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n C involves only attributes of 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 – S)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) –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 U S)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) U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) 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∩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2362320" y="3809880"/>
                <a:ext cx="441360" cy="2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&gt;&l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4267080" y="3809880"/>
                <a:ext cx="441360" cy="2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&gt;&l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66"/>
                </a:solidFill>
                <a:latin typeface="Times New Roman"/>
              </a:rPr>
              <a:t>Algebraic Law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Commutativity of selection and proj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(R)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(R)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cc0066"/>
                </a:solidFill>
                <a:latin typeface="Times New Roman"/>
              </a:rPr>
              <a:t>Phases of query process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5320" y="1768320"/>
            <a:ext cx="1427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Roman"/>
              </a:rPr>
              <a:t>Quer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Roman"/>
              </a:rPr>
              <a:t>decompos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752480" y="1752480"/>
            <a:ext cx="16002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752480" y="2971800"/>
            <a:ext cx="16002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926360" y="3024360"/>
            <a:ext cx="1232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Roman"/>
              </a:rPr>
              <a:t>Quer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Roman"/>
              </a:rPr>
              <a:t>optimiz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752480" y="4114800"/>
            <a:ext cx="16002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5334120"/>
            <a:ext cx="16002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007000" y="4167360"/>
            <a:ext cx="110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Roman"/>
              </a:rPr>
              <a:t>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Roman"/>
              </a:rPr>
              <a:t>gene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828440" y="5386320"/>
            <a:ext cx="1418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Roman"/>
              </a:rPr>
              <a:t>Runtime que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Roman"/>
              </a:rPr>
              <a:t>execu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8280" y="1219320"/>
            <a:ext cx="0" cy="5331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30240" y="1281240"/>
            <a:ext cx="114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SQL que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8280" y="23623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438280" y="35812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438280" y="4724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655360" y="2424240"/>
            <a:ext cx="274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Relational algebra expre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715000" y="1676520"/>
            <a:ext cx="762120" cy="685800"/>
          </a:xfrm>
          <a:prstGeom prst="can">
            <a:avLst>
              <a:gd name="adj" fmla="val 25000"/>
            </a:avLst>
          </a:prstGeom>
          <a:solidFill>
            <a:srgbClr val="ff99cc"/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2057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12480" y="1611360"/>
            <a:ext cx="729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Syst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catalo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715000" y="2895480"/>
            <a:ext cx="762120" cy="685800"/>
          </a:xfrm>
          <a:prstGeom prst="can">
            <a:avLst>
              <a:gd name="adj" fmla="val 25000"/>
            </a:avLst>
          </a:prstGeom>
          <a:solidFill>
            <a:srgbClr val="ff99cc"/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352680" y="32767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613560" y="2906640"/>
            <a:ext cx="886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statist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655720" y="3643200"/>
            <a:ext cx="204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Query execution pl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671200" y="4800600"/>
            <a:ext cx="153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Generated 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514600" y="5943600"/>
            <a:ext cx="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883600" y="5929200"/>
            <a:ext cx="13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Query out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715000" y="5334120"/>
            <a:ext cx="762120" cy="685800"/>
          </a:xfrm>
          <a:prstGeom prst="can">
            <a:avLst>
              <a:gd name="adj" fmla="val 25000"/>
            </a:avLst>
          </a:prstGeom>
          <a:solidFill>
            <a:srgbClr val="ff99cc"/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352680" y="57150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615360" y="5243400"/>
            <a:ext cx="94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66"/>
                </a:solidFill>
                <a:latin typeface="Times New Roman"/>
              </a:rPr>
              <a:t>Algebraic Law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  R(A, B, C, D), S(E, F, 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F=3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      S) =                                    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=5 AND G=9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      S) =                        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2668320" y="2743200"/>
            <a:ext cx="517680" cy="459360"/>
            <a:chOff x="2668320" y="2743200"/>
            <a:chExt cx="517680" cy="459360"/>
          </a:xfrm>
        </p:grpSpPr>
        <mc:AlternateContent>
          <mc:Choice xmlns:a14="http://schemas.microsoft.com/office/drawing/2010/main" Requires="a14">
            <p:sp>
              <p:nvSpPr>
                <p:cNvPr id="182" name=""/>
                <p:cNvSpPr txBox="1"/>
                <p:nvPr/>
              </p:nvSpPr>
              <p:spPr>
                <a:xfrm>
                  <a:off x="2743200" y="2743200"/>
                  <a:ext cx="441360" cy="231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&gt;&lt;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83" name=""/>
            <p:cNvSpPr/>
            <p:nvPr/>
          </p:nvSpPr>
          <p:spPr>
            <a:xfrm>
              <a:off x="2668320" y="2895480"/>
              <a:ext cx="51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=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3811320" y="3276720"/>
            <a:ext cx="517680" cy="459360"/>
            <a:chOff x="3811320" y="3276720"/>
            <a:chExt cx="517680" cy="459360"/>
          </a:xfrm>
        </p:grpSpPr>
        <mc:AlternateContent>
          <mc:Choice xmlns:a14="http://schemas.microsoft.com/office/drawing/2010/main" Requires="a14">
            <p:sp>
              <p:nvSpPr>
                <p:cNvPr id="185" name=""/>
                <p:cNvSpPr txBox="1"/>
                <p:nvPr/>
              </p:nvSpPr>
              <p:spPr>
                <a:xfrm>
                  <a:off x="3886200" y="3276720"/>
                  <a:ext cx="441360" cy="231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&gt;&lt;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86" name=""/>
            <p:cNvSpPr/>
            <p:nvPr/>
          </p:nvSpPr>
          <p:spPr>
            <a:xfrm>
              <a:off x="3811320" y="3429000"/>
              <a:ext cx="51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=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66"/>
                </a:solidFill>
                <a:latin typeface="Times New Roman"/>
              </a:rPr>
              <a:t>Algebraic Law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ws involving proj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     S)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   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S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N, P, Q are appropriate subsets of attributes of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)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M,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 R(A,B,C,D), S(E, F, 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,B,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      S)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?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?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    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?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S)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438280" y="2743200"/>
                <a:ext cx="441360" cy="2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&gt;&l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5029200" y="2743200"/>
                <a:ext cx="441360" cy="2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&gt;&l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2895480" y="5105520"/>
                <a:ext cx="441360" cy="23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&gt;&l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5638680" y="5181480"/>
                <a:ext cx="441360" cy="2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&gt;&lt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3" name=""/>
          <p:cNvSpPr/>
          <p:nvPr/>
        </p:nvSpPr>
        <p:spPr>
          <a:xfrm>
            <a:off x="2820960" y="5257800"/>
            <a:ext cx="51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=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564160" y="5410080"/>
            <a:ext cx="51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=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66"/>
                </a:solidFill>
                <a:latin typeface="Times New Roman"/>
              </a:rPr>
              <a:t>Query Rewrites: Sub-que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 Emp.N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E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Emp.Age &lt; 3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  Emp.Dept#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ELECT Dept.Dept#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                  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FROM Dep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                  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HERE  Dept.Loc = “Seattl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                   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ND       Emp.Emp#=Dept.Mg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66"/>
                </a:solidFill>
                <a:latin typeface="Times New Roman"/>
              </a:rPr>
              <a:t>The Un-Nested Que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ECT Emp.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Emp, De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     Emp.Age &lt; 3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 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mp.Dept#=Dept.Dept#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AND   Dept.Loc = “Seattl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       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AND    Emp.Emp#=Dept.Mg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66"/>
                </a:solidFill>
                <a:latin typeface="Times New Roman"/>
              </a:rPr>
              <a:t>Converting Nested Que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470720" cy="3090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istin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x.name, x.mak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roduct 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x.color= “blu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x.price &gt;= ALL (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y.pr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product 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x.maker = y.mak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y.color=“blue”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66"/>
                </a:solidFill>
                <a:latin typeface="Times New Roman"/>
              </a:rPr>
              <a:t>Converting Nested Que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90360" y="2590920"/>
            <a:ext cx="6430680" cy="2657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.name, x.ma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.color= “blu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x.price &lt; SOME 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.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roduct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.maker = y.ma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y.color=“blue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33520" y="1676520"/>
            <a:ext cx="535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’s compute the complement fir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66"/>
                </a:solidFill>
                <a:latin typeface="Times New Roman"/>
              </a:rPr>
              <a:t>Converting Nested Que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33520" y="2666880"/>
            <a:ext cx="8069040" cy="25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elect distin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x.name, x.mak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roduct x, product 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x.color= “blue” AND x.maker = y.mak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y.color=“blue”  AND x.price &lt; y.pr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10560" y="1828800"/>
            <a:ext cx="480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one becomes a SFW quer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04920" y="5257800"/>
            <a:ext cx="80769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returns exactly the products we DON’T want, so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66"/>
                </a:solidFill>
                <a:latin typeface="Times New Roman"/>
              </a:rPr>
              <a:t>Converting Nested Que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33160" y="1905120"/>
            <a:ext cx="7164360" cy="43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x.name, x.mak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roduct 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x.color = “blue”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EXCEPT</a:t>
            </a:r>
            <a:r>
              <a:rPr b="0" lang="pl-PL" sz="2800" spc="-1" strike="noStrike">
                <a:solidFill>
                  <a:srgbClr val="3333cc"/>
                </a:solidFill>
                <a:latin typeface="Times New Roman"/>
              </a:rPr>
              <a:t> (MINU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x.name, x.mak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roduct x, product 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x.color= “blue” AND x.maker = y.mak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y.color=“blue”  AND x.price &lt; y.pri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66"/>
                </a:solidFill>
                <a:latin typeface="Times New Roman"/>
              </a:rPr>
              <a:t>Semi-Joi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can’t always un-nest sub-queries (it’s tricky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you can often use a semi-join to reduce the computation cost of the inner que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53352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66"/>
                </a:solidFill>
                <a:latin typeface="Times New Roman"/>
              </a:rPr>
              <a:t>Rewrites: Magic Se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088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Create Vie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epAvgSal 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Sele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E.did, Avg(E.sal) as avgs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Emp 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Group B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.d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Sele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.eid, E.s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mp E, Dept D, DepAvgSal 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Wh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.did=D.did AND D.did=V.d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 E.age &lt; 30 and D.budget &gt; 100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 E.sal &gt; V.avgs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cc0066"/>
                </a:solidFill>
                <a:latin typeface="Times New Roman"/>
              </a:rPr>
              <a:t>Dynamic versus static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Dynamic query optim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Static query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Single query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Multiple query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53352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66"/>
                </a:solidFill>
                <a:latin typeface="Times New Roman"/>
              </a:rPr>
              <a:t>Rewri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8088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Sele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.eid, E.s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mp E, Dept D, DepAvgSal 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Wh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.did=D.did AND D.did=V.d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 E.age &lt; 30 and D.budget &gt; 100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 E.sal &gt; V.avgs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epAvgsal needs to be evaluated only for departments where V.did 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Sele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.d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Emp E, Dept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Wh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E.did=D.d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  E.age &lt; 30  and D.budget &gt; 100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pporting Vie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536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.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 View PartialResult 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6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Select E.eid, E.sal, E.d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6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  Emp E, Dept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6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 E.did=D.d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6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  E.age &lt; 30  and D.budget &gt; 100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6040" indent="-5360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Create View Filter 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6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elect DISTINCT P.di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PartialResult 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6040" indent="-5360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Create View LimitedAvgSal 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6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(Select F.did Avg(E.Sal) as avgS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6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From Emp E, Filter 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6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Where E.did=F.d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6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Group By F.d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Finall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Transformed que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ele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P.eid, P.s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From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ialResult P,  LimitedAvgSal 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Whe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.did=V.d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 P.sal &gt; V.avgs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66"/>
                </a:solidFill>
                <a:latin typeface="Times New Roman"/>
              </a:rPr>
              <a:t>Rewrites: Group By and Jo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chem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duct 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i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unitprice,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les(tid, date, store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i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uni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re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693440" y="457200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159560" y="3200400"/>
            <a:ext cx="1841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By(pi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m(uni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-2160" y="5680080"/>
            <a:ext cx="3004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an(Sa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ter(date in Q2,20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32640" y="5181480"/>
            <a:ext cx="194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ter (in N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701640" y="4952880"/>
            <a:ext cx="99072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225520" y="4952880"/>
            <a:ext cx="6098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996920" y="40384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249600" y="243828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267800" y="3581280"/>
            <a:ext cx="1841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By(pi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m(uni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173120" y="5451480"/>
            <a:ext cx="3004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an(Sa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ter(date in Q2,20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993360" y="4765680"/>
            <a:ext cx="194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ter (in N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105520" y="4419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5029200" y="2895480"/>
            <a:ext cx="144792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477120" y="2895480"/>
            <a:ext cx="137160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038480" y="2743200"/>
            <a:ext cx="0" cy="39625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66"/>
                </a:solidFill>
                <a:latin typeface="Times New Roman"/>
              </a:rPr>
              <a:t>Schema for Some Examp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0" y="2895480"/>
            <a:ext cx="906768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erv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tuple is 40 bytes long,  100 tuples per page, 1000 pages (4000 tupl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ilor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tuple is 50 bytes long,  80 tuples per page, 500 pages (4000 tuples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98880" y="1814400"/>
            <a:ext cx="8758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Sailors (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Book Antiqua"/>
              </a:rPr>
              <a:t>sid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Book Antiqua"/>
              </a:rPr>
              <a:t>: integer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sname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: string, 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rating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: integer, 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age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: re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Reserves (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Book Antiqua"/>
              </a:rPr>
              <a:t>sid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Book Antiqua"/>
              </a:rPr>
              <a:t>: integer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Book Antiqua"/>
              </a:rPr>
              <a:t>bid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Book Antiqua"/>
              </a:rPr>
              <a:t>: integer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Book Antiqua"/>
              </a:rPr>
              <a:t>day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Book Antiqua"/>
              </a:rPr>
              <a:t>: dates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rname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: str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writes:Operation 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chema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pid determines c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tegory 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i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cid, detail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les(tid, date, store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i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moun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re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93440" y="457200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152000" y="3200400"/>
            <a:ext cx="186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By(ci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m(amou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160" y="5680080"/>
            <a:ext cx="2114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an(Sa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ter(store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CA,WA}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133000" y="5181480"/>
            <a:ext cx="1428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teg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ter (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701640" y="4952880"/>
            <a:ext cx="99072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225520" y="4952880"/>
            <a:ext cx="6098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996920" y="40384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038480" y="2743200"/>
            <a:ext cx="0" cy="39625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782760" y="312408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247800" y="1752480"/>
            <a:ext cx="186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By(ci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m(amou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259880" y="5451480"/>
            <a:ext cx="2114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an(Sa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ter(store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CA,WA}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085880" y="5181480"/>
            <a:ext cx="1428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teg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ter (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086600" y="25909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132440" y="4038480"/>
            <a:ext cx="197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groupBy(pi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um(amou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105520" y="48769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5105520" y="3504960"/>
            <a:ext cx="190476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010280" y="3505320"/>
            <a:ext cx="838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ry Rewriting: Predicate Pushdow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685800" y="1828800"/>
            <a:ext cx="2700360" cy="3388680"/>
            <a:chOff x="685800" y="1828800"/>
            <a:chExt cx="2700360" cy="3388680"/>
          </a:xfrm>
        </p:grpSpPr>
        <p:sp>
          <p:nvSpPr>
            <p:cNvPr id="263" name=""/>
            <p:cNvSpPr/>
            <p:nvPr/>
          </p:nvSpPr>
          <p:spPr>
            <a:xfrm>
              <a:off x="1082520" y="2830320"/>
              <a:ext cx="115920" cy="158760"/>
            </a:xfrm>
            <a:custGeom>
              <a:avLst/>
              <a:gdLst/>
              <a:ahLst/>
              <a:rect l="l" t="t" r="r" b="b"/>
              <a:pathLst>
                <a:path w="73" h="100">
                  <a:moveTo>
                    <a:pt x="72" y="50"/>
                  </a:moveTo>
                  <a:lnTo>
                    <a:pt x="62" y="15"/>
                  </a:lnTo>
                  <a:lnTo>
                    <a:pt x="36" y="0"/>
                  </a:lnTo>
                  <a:lnTo>
                    <a:pt x="11" y="15"/>
                  </a:lnTo>
                  <a:lnTo>
                    <a:pt x="0" y="50"/>
                  </a:lnTo>
                  <a:lnTo>
                    <a:pt x="11" y="84"/>
                  </a:lnTo>
                  <a:lnTo>
                    <a:pt x="36" y="99"/>
                  </a:lnTo>
                  <a:lnTo>
                    <a:pt x="62" y="84"/>
                  </a:lnTo>
                  <a:lnTo>
                    <a:pt x="72" y="5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141560" y="2847960"/>
              <a:ext cx="102960" cy="1440"/>
            </a:xfrm>
            <a:custGeom>
              <a:avLst/>
              <a:gdLst/>
              <a:ahLst/>
              <a:rect l="l" t="t" r="r" b="b"/>
              <a:pathLst>
                <a:path w="65" h="1">
                  <a:moveTo>
                    <a:pt x="0" y="0"/>
                  </a:moveTo>
                  <a:lnTo>
                    <a:pt x="64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720800" y="1917720"/>
              <a:ext cx="1800" cy="172800"/>
            </a:xfrm>
            <a:custGeom>
              <a:avLst/>
              <a:gdLst/>
              <a:ahLst/>
              <a:rect l="l" t="t" r="r" b="b"/>
              <a:pathLst>
                <a:path w="1" h="109">
                  <a:moveTo>
                    <a:pt x="0" y="0"/>
                  </a:moveTo>
                  <a:lnTo>
                    <a:pt x="0" y="108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808280" y="1917720"/>
              <a:ext cx="1440" cy="172800"/>
            </a:xfrm>
            <a:custGeom>
              <a:avLst/>
              <a:gdLst/>
              <a:ahLst/>
              <a:rect l="l" t="t" r="r" b="b"/>
              <a:pathLst>
                <a:path w="1" h="109">
                  <a:moveTo>
                    <a:pt x="0" y="0"/>
                  </a:moveTo>
                  <a:lnTo>
                    <a:pt x="0" y="108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679400" y="1901880"/>
              <a:ext cx="174960" cy="1440"/>
            </a:xfrm>
            <a:custGeom>
              <a:avLst/>
              <a:gdLst/>
              <a:ahLst/>
              <a:rect l="l" t="t" r="r" b="b"/>
              <a:pathLst>
                <a:path w="110" h="1">
                  <a:moveTo>
                    <a:pt x="0" y="0"/>
                  </a:moveTo>
                  <a:lnTo>
                    <a:pt x="109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838160" y="3914640"/>
              <a:ext cx="1800" cy="123840"/>
            </a:xfrm>
            <a:custGeom>
              <a:avLst/>
              <a:gdLst/>
              <a:ahLst/>
              <a:rect l="l" t="t" r="r" b="b"/>
              <a:pathLst>
                <a:path w="1" h="78">
                  <a:moveTo>
                    <a:pt x="0" y="0"/>
                  </a:moveTo>
                  <a:lnTo>
                    <a:pt x="0" y="77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185920" y="3914640"/>
              <a:ext cx="1800" cy="123840"/>
            </a:xfrm>
            <a:custGeom>
              <a:avLst/>
              <a:gdLst/>
              <a:ahLst/>
              <a:rect l="l" t="t" r="r" b="b"/>
              <a:pathLst>
                <a:path w="1" h="78">
                  <a:moveTo>
                    <a:pt x="0" y="0"/>
                  </a:moveTo>
                  <a:lnTo>
                    <a:pt x="0" y="77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838160" y="3914640"/>
              <a:ext cx="349560" cy="123840"/>
            </a:xfrm>
            <a:custGeom>
              <a:avLst/>
              <a:gdLst/>
              <a:ahLst/>
              <a:rect l="l" t="t" r="r" b="b"/>
              <a:pathLst>
                <a:path w="220" h="78">
                  <a:moveTo>
                    <a:pt x="0" y="0"/>
                  </a:moveTo>
                  <a:lnTo>
                    <a:pt x="219" y="77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838160" y="3914640"/>
              <a:ext cx="349560" cy="123840"/>
            </a:xfrm>
            <a:custGeom>
              <a:avLst/>
              <a:gdLst/>
              <a:ahLst/>
              <a:rect l="l" t="t" r="r" b="b"/>
              <a:pathLst>
                <a:path w="220" h="78">
                  <a:moveTo>
                    <a:pt x="0" y="77"/>
                  </a:moveTo>
                  <a:lnTo>
                    <a:pt x="219" y="0"/>
                  </a:lnTo>
                  <a:lnTo>
                    <a:pt x="0" y="7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243080" y="4425840"/>
              <a:ext cx="669960" cy="357120"/>
            </a:xfrm>
            <a:custGeom>
              <a:avLst/>
              <a:gdLst/>
              <a:ahLst/>
              <a:rect l="l" t="t" r="r" b="b"/>
              <a:pathLst>
                <a:path w="422" h="225">
                  <a:moveTo>
                    <a:pt x="0" y="224"/>
                  </a:moveTo>
                  <a:lnTo>
                    <a:pt x="421" y="0"/>
                  </a:lnTo>
                  <a:lnTo>
                    <a:pt x="0" y="22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158920" y="4425840"/>
              <a:ext cx="684360" cy="357120"/>
            </a:xfrm>
            <a:custGeom>
              <a:avLst/>
              <a:gdLst/>
              <a:ahLst/>
              <a:rect l="l" t="t" r="r" b="b"/>
              <a:pathLst>
                <a:path w="431" h="225">
                  <a:moveTo>
                    <a:pt x="0" y="0"/>
                  </a:moveTo>
                  <a:lnTo>
                    <a:pt x="430" y="22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014560" y="3201840"/>
              <a:ext cx="1440" cy="560520"/>
            </a:xfrm>
            <a:custGeom>
              <a:avLst/>
              <a:gdLst/>
              <a:ahLst/>
              <a:rect l="l" t="t" r="r" b="b"/>
              <a:pathLst>
                <a:path w="1" h="353">
                  <a:moveTo>
                    <a:pt x="0" y="0"/>
                  </a:moveTo>
                  <a:lnTo>
                    <a:pt x="0" y="352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014560" y="2274840"/>
              <a:ext cx="1440" cy="512640"/>
            </a:xfrm>
            <a:custGeom>
              <a:avLst/>
              <a:gdLst/>
              <a:ahLst/>
              <a:rect l="l" t="t" r="r" b="b"/>
              <a:pathLst>
                <a:path w="1" h="323">
                  <a:moveTo>
                    <a:pt x="0" y="0"/>
                  </a:moveTo>
                  <a:lnTo>
                    <a:pt x="0" y="322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969920" y="2914560"/>
              <a:ext cx="87480" cy="158760"/>
            </a:xfrm>
            <a:custGeom>
              <a:avLst/>
              <a:gdLst/>
              <a:ahLst/>
              <a:rect l="l" t="t" r="r" b="b"/>
              <a:pathLst>
                <a:path w="55" h="100">
                  <a:moveTo>
                    <a:pt x="0" y="99"/>
                  </a:moveTo>
                  <a:lnTo>
                    <a:pt x="54" y="0"/>
                  </a:lnTo>
                  <a:lnTo>
                    <a:pt x="0" y="9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055960" y="2927160"/>
              <a:ext cx="75960" cy="146160"/>
            </a:xfrm>
            <a:custGeom>
              <a:avLst/>
              <a:gdLst/>
              <a:ahLst/>
              <a:rect l="l" t="t" r="r" b="b"/>
              <a:pathLst>
                <a:path w="48" h="92">
                  <a:moveTo>
                    <a:pt x="0" y="0"/>
                  </a:moveTo>
                  <a:lnTo>
                    <a:pt x="47" y="9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85800" y="4865760"/>
              <a:ext cx="114804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Reserve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472120" y="4849920"/>
              <a:ext cx="90576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Sailor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656360" y="4124160"/>
              <a:ext cx="8038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id=s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176480" y="2900160"/>
              <a:ext cx="9028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id=100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134800" y="2867040"/>
              <a:ext cx="9835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ating &gt; 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773720" y="1985760"/>
              <a:ext cx="748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na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400120" y="3809880"/>
              <a:ext cx="184320" cy="35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201840" y="2835360"/>
              <a:ext cx="1843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170160" y="1828800"/>
              <a:ext cx="1843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4571280" y="2362320"/>
            <a:ext cx="4394160" cy="2820240"/>
            <a:chOff x="4571280" y="2362320"/>
            <a:chExt cx="4394160" cy="2820240"/>
          </a:xfrm>
        </p:grpSpPr>
        <p:sp>
          <p:nvSpPr>
            <p:cNvPr id="288" name=""/>
            <p:cNvSpPr/>
            <p:nvPr/>
          </p:nvSpPr>
          <p:spPr>
            <a:xfrm>
              <a:off x="5567400" y="4200480"/>
              <a:ext cx="100080" cy="119160"/>
            </a:xfrm>
            <a:custGeom>
              <a:avLst/>
              <a:gdLst/>
              <a:ahLst/>
              <a:rect l="l" t="t" r="r" b="b"/>
              <a:pathLst>
                <a:path w="63" h="75">
                  <a:moveTo>
                    <a:pt x="62" y="37"/>
                  </a:moveTo>
                  <a:lnTo>
                    <a:pt x="53" y="11"/>
                  </a:lnTo>
                  <a:lnTo>
                    <a:pt x="31" y="0"/>
                  </a:lnTo>
                  <a:lnTo>
                    <a:pt x="9" y="11"/>
                  </a:lnTo>
                  <a:lnTo>
                    <a:pt x="0" y="37"/>
                  </a:lnTo>
                  <a:lnTo>
                    <a:pt x="9" y="64"/>
                  </a:lnTo>
                  <a:lnTo>
                    <a:pt x="31" y="74"/>
                  </a:lnTo>
                  <a:lnTo>
                    <a:pt x="53" y="64"/>
                  </a:lnTo>
                  <a:lnTo>
                    <a:pt x="62" y="3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616720" y="4210200"/>
              <a:ext cx="87120" cy="1440"/>
            </a:xfrm>
            <a:custGeom>
              <a:avLst/>
              <a:gdLst/>
              <a:ahLst/>
              <a:rect l="l" t="t" r="r" b="b"/>
              <a:pathLst>
                <a:path w="55" h="1">
                  <a:moveTo>
                    <a:pt x="0" y="0"/>
                  </a:moveTo>
                  <a:lnTo>
                    <a:pt x="54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345360" y="2482920"/>
              <a:ext cx="1440" cy="133200"/>
            </a:xfrm>
            <a:custGeom>
              <a:avLst/>
              <a:gdLst/>
              <a:ahLst/>
              <a:rect l="l" t="t" r="r" b="b"/>
              <a:pathLst>
                <a:path w="1" h="84">
                  <a:moveTo>
                    <a:pt x="0" y="0"/>
                  </a:moveTo>
                  <a:lnTo>
                    <a:pt x="0" y="8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419880" y="2482920"/>
              <a:ext cx="1440" cy="133200"/>
            </a:xfrm>
            <a:custGeom>
              <a:avLst/>
              <a:gdLst/>
              <a:ahLst/>
              <a:rect l="l" t="t" r="r" b="b"/>
              <a:pathLst>
                <a:path w="1" h="84">
                  <a:moveTo>
                    <a:pt x="0" y="0"/>
                  </a:moveTo>
                  <a:lnTo>
                    <a:pt x="0" y="8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308640" y="2470320"/>
              <a:ext cx="149400" cy="1440"/>
            </a:xfrm>
            <a:custGeom>
              <a:avLst/>
              <a:gdLst/>
              <a:ahLst/>
              <a:rect l="l" t="t" r="r" b="b"/>
              <a:pathLst>
                <a:path w="94" h="1">
                  <a:moveTo>
                    <a:pt x="0" y="0"/>
                  </a:moveTo>
                  <a:lnTo>
                    <a:pt x="93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469200" y="3400560"/>
              <a:ext cx="1440" cy="98280"/>
            </a:xfrm>
            <a:custGeom>
              <a:avLst/>
              <a:gdLst/>
              <a:ahLst/>
              <a:rect l="l" t="t" r="r" b="b"/>
              <a:pathLst>
                <a:path w="1" h="62">
                  <a:moveTo>
                    <a:pt x="0" y="0"/>
                  </a:moveTo>
                  <a:lnTo>
                    <a:pt x="0" y="6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764400" y="3400560"/>
              <a:ext cx="1440" cy="98280"/>
            </a:xfrm>
            <a:custGeom>
              <a:avLst/>
              <a:gdLst/>
              <a:ahLst/>
              <a:rect l="l" t="t" r="r" b="b"/>
              <a:pathLst>
                <a:path w="1" h="62">
                  <a:moveTo>
                    <a:pt x="0" y="0"/>
                  </a:moveTo>
                  <a:lnTo>
                    <a:pt x="0" y="6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469200" y="3400560"/>
              <a:ext cx="296640" cy="98280"/>
            </a:xfrm>
            <a:custGeom>
              <a:avLst/>
              <a:gdLst/>
              <a:ahLst/>
              <a:rect l="l" t="t" r="r" b="b"/>
              <a:pathLst>
                <a:path w="187" h="62">
                  <a:moveTo>
                    <a:pt x="0" y="0"/>
                  </a:moveTo>
                  <a:lnTo>
                    <a:pt x="186" y="6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469200" y="3400560"/>
              <a:ext cx="296640" cy="98280"/>
            </a:xfrm>
            <a:custGeom>
              <a:avLst/>
              <a:gdLst/>
              <a:ahLst/>
              <a:rect l="l" t="t" r="r" b="b"/>
              <a:pathLst>
                <a:path w="187" h="62">
                  <a:moveTo>
                    <a:pt x="0" y="61"/>
                  </a:moveTo>
                  <a:lnTo>
                    <a:pt x="186" y="0"/>
                  </a:lnTo>
                  <a:lnTo>
                    <a:pt x="0" y="6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961240" y="3794040"/>
              <a:ext cx="569880" cy="274680"/>
            </a:xfrm>
            <a:custGeom>
              <a:avLst/>
              <a:gdLst/>
              <a:ahLst/>
              <a:rect l="l" t="t" r="r" b="b"/>
              <a:pathLst>
                <a:path w="359" h="173">
                  <a:moveTo>
                    <a:pt x="0" y="172"/>
                  </a:moveTo>
                  <a:lnTo>
                    <a:pt x="358" y="0"/>
                  </a:lnTo>
                  <a:lnTo>
                    <a:pt x="0" y="17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738840" y="3794040"/>
              <a:ext cx="581040" cy="274680"/>
            </a:xfrm>
            <a:custGeom>
              <a:avLst/>
              <a:gdLst/>
              <a:ahLst/>
              <a:rect l="l" t="t" r="r" b="b"/>
              <a:pathLst>
                <a:path w="366" h="173">
                  <a:moveTo>
                    <a:pt x="0" y="0"/>
                  </a:moveTo>
                  <a:lnTo>
                    <a:pt x="365" y="172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367760" y="4425840"/>
              <a:ext cx="1440" cy="432000"/>
            </a:xfrm>
            <a:custGeom>
              <a:avLst/>
              <a:gdLst/>
              <a:ahLst/>
              <a:rect l="l" t="t" r="r" b="b"/>
              <a:pathLst>
                <a:path w="1" h="272">
                  <a:moveTo>
                    <a:pt x="0" y="0"/>
                  </a:moveTo>
                  <a:lnTo>
                    <a:pt x="0" y="27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604200" y="2854440"/>
              <a:ext cx="1440" cy="392040"/>
            </a:xfrm>
            <a:custGeom>
              <a:avLst/>
              <a:gdLst/>
              <a:ahLst/>
              <a:rect l="l" t="t" r="r" b="b"/>
              <a:pathLst>
                <a:path w="1" h="247">
                  <a:moveTo>
                    <a:pt x="0" y="0"/>
                  </a:moveTo>
                  <a:lnTo>
                    <a:pt x="0" y="246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986520" y="4175280"/>
              <a:ext cx="100080" cy="122040"/>
            </a:xfrm>
            <a:custGeom>
              <a:avLst/>
              <a:gdLst/>
              <a:ahLst/>
              <a:rect l="l" t="t" r="r" b="b"/>
              <a:pathLst>
                <a:path w="63" h="77">
                  <a:moveTo>
                    <a:pt x="62" y="38"/>
                  </a:moveTo>
                  <a:lnTo>
                    <a:pt x="53" y="11"/>
                  </a:lnTo>
                  <a:lnTo>
                    <a:pt x="31" y="0"/>
                  </a:lnTo>
                  <a:lnTo>
                    <a:pt x="9" y="11"/>
                  </a:lnTo>
                  <a:lnTo>
                    <a:pt x="0" y="38"/>
                  </a:lnTo>
                  <a:lnTo>
                    <a:pt x="9" y="65"/>
                  </a:lnTo>
                  <a:lnTo>
                    <a:pt x="31" y="76"/>
                  </a:lnTo>
                  <a:lnTo>
                    <a:pt x="53" y="65"/>
                  </a:lnTo>
                  <a:lnTo>
                    <a:pt x="62" y="3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035840" y="4186440"/>
              <a:ext cx="87480" cy="1440"/>
            </a:xfrm>
            <a:custGeom>
              <a:avLst/>
              <a:gdLst/>
              <a:ahLst/>
              <a:rect l="l" t="t" r="r" b="b"/>
              <a:pathLst>
                <a:path w="55" h="1">
                  <a:moveTo>
                    <a:pt x="0" y="0"/>
                  </a:moveTo>
                  <a:lnTo>
                    <a:pt x="54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924520" y="4437000"/>
              <a:ext cx="1800" cy="430200"/>
            </a:xfrm>
            <a:custGeom>
              <a:avLst/>
              <a:gdLst/>
              <a:ahLst/>
              <a:rect l="l" t="t" r="r" b="b"/>
              <a:pathLst>
                <a:path w="1" h="271">
                  <a:moveTo>
                    <a:pt x="0" y="0"/>
                  </a:moveTo>
                  <a:lnTo>
                    <a:pt x="0" y="27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484960" y="4818240"/>
              <a:ext cx="114804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Reserve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042680" y="4830840"/>
              <a:ext cx="90576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Sailor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296760" y="3546360"/>
              <a:ext cx="8038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id=s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629680" y="4224240"/>
              <a:ext cx="9028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id=100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374160" y="2519280"/>
              <a:ext cx="748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na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916680" y="2362320"/>
              <a:ext cx="1843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024320" y="4200480"/>
              <a:ext cx="9835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ating &gt; 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571280" y="4029120"/>
              <a:ext cx="84636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(Scan;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573080" y="4200480"/>
              <a:ext cx="101088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write to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571280" y="4365720"/>
              <a:ext cx="108576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temp T1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879680" y="4019760"/>
              <a:ext cx="84636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(Scan;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880760" y="4186440"/>
              <a:ext cx="95148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write to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879680" y="4351320"/>
              <a:ext cx="108576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temp T2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942240" y="3305160"/>
              <a:ext cx="183960" cy="35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201240" y="5222880"/>
            <a:ext cx="8466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he earlier we process selections, less tuples we need to manipul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igher up in the tre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isadvantag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ry Rewrites: Predicate Pushdown (through groupin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240" y="2133720"/>
            <a:ext cx="3774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  bid, Max(a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   Reserves R, Sailors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 R.sid=S.sid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By  b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ving Max(age) &gt; 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952520" y="2286000"/>
            <a:ext cx="3774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  bid, Max(a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   Reserves R, Sailors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 R.sid=S.sid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.age &gt; 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By  b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00520" y="4765680"/>
            <a:ext cx="8490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8000"/>
                </a:solidFill>
                <a:latin typeface="Times New Roman"/>
              </a:rPr>
              <a:t>For each boat, find the maximal age of sailors who’ve reserved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vantage: the size of the join will be small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transformation rules specific to the grouping/aggreg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rato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ill it work work if we replace Max by Mi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ry Rewrite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dicate Movearou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77280" y="4572000"/>
            <a:ext cx="3158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 View V1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  rating, Min(a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   Sailors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 S.age &lt;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 By  ra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800240" y="4572000"/>
            <a:ext cx="3774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 View V2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  sid, rating, age, 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   Sailors S, Reserves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 R.sid=S.s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0680" y="1981080"/>
            <a:ext cx="4463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  sid, 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   V1,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  V1.rating = V2.rating 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1.age = V2.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H="1">
            <a:off x="1676520" y="3657600"/>
            <a:ext cx="16761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724280" y="3657600"/>
            <a:ext cx="16002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8600" y="1413000"/>
            <a:ext cx="89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ailing wiz dates: when did the youngest of each sailor level rent boat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04920" y="4572000"/>
            <a:ext cx="3200400" cy="198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724280" y="4572000"/>
            <a:ext cx="388620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666880" y="2057400"/>
            <a:ext cx="457200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ry Rewrite: Predicate Movearou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77280" y="4572000"/>
            <a:ext cx="3158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 View V1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  rating, Min(a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   Sailors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.age &lt;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 By  ra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800240" y="4572000"/>
            <a:ext cx="3774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 View V2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  sid, rating, age, 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   Sailors S, Reserves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 R.sid=S.s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743200" y="1981080"/>
            <a:ext cx="4520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  sid, 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   V1,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  V1.rating = V2.rating 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1.age = V2.age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ge &lt;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1676520" y="3657600"/>
            <a:ext cx="16761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724280" y="3657600"/>
            <a:ext cx="16002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8600" y="1413000"/>
            <a:ext cx="89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ailing wiz dates: when did the youngest of each sailor level rent boat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04920" y="4572000"/>
            <a:ext cx="3200400" cy="198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724280" y="4572000"/>
            <a:ext cx="388620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666880" y="2057400"/>
            <a:ext cx="457200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36440" y="2251080"/>
            <a:ext cx="2606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8000"/>
                </a:solidFill>
                <a:latin typeface="Times New Roman"/>
              </a:rPr>
              <a:t>First, mo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8000"/>
                </a:solidFill>
                <a:latin typeface="Times New Roman"/>
              </a:rPr>
              <a:t>predicates up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8000"/>
                </a:solidFill>
                <a:latin typeface="Times New Roman"/>
              </a:rPr>
              <a:t>tre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66"/>
                </a:solidFill>
                <a:latin typeface="Times New Roman"/>
              </a:rPr>
              <a:t>Query Optimization Proces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the SQL query into a logical tre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ntify distinct blocks (corresponding to nested sub-queries or views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ry rewrite phas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lgebraic transforma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yield a cheaper pl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rge blocks and move predicates between block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ize each block: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join order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lete the optimization: select scheduling (pipelining strategy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ry Rewrite: Predicate Movearou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77280" y="4572000"/>
            <a:ext cx="3158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 View V1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  rating, Min(a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   Sailors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.age &lt;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 By  ra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800240" y="4572000"/>
            <a:ext cx="3774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 View V2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  sid, rating, age, 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   Sailors S, Reserves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 R.sid=S.sid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.age &lt; 2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743200" y="1981080"/>
            <a:ext cx="5037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  sid, 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   V1,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  V1.rating = V2.rating 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1.age = V2.age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ge &lt;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1828440" y="3581280"/>
            <a:ext cx="16765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648320" y="3581280"/>
            <a:ext cx="16002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8600" y="1413000"/>
            <a:ext cx="89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ailing wiz dates: when did the youngest of each sailor level rent boat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04920" y="4572000"/>
            <a:ext cx="3200400" cy="198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724280" y="4572000"/>
            <a:ext cx="38862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743200" y="2057400"/>
            <a:ext cx="495288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36440" y="2251080"/>
            <a:ext cx="2606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8000"/>
                </a:solidFill>
                <a:latin typeface="Times New Roman"/>
              </a:rPr>
              <a:t>First, mo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8000"/>
                </a:solidFill>
                <a:latin typeface="Times New Roman"/>
              </a:rPr>
              <a:t>predicates up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8000"/>
                </a:solidFill>
                <a:latin typeface="Times New Roman"/>
              </a:rPr>
              <a:t>tre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8000"/>
                </a:solidFill>
                <a:latin typeface="Times New Roman"/>
              </a:rPr>
              <a:t>Then, move th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8000"/>
                </a:solidFill>
                <a:latin typeface="Times New Roman"/>
              </a:rPr>
              <a:t>dow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ry Rewrite 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optimizer can use an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mantically corre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ule to transform one query to anoth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les try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 constraints between blocks (because each will be optimized separatel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nest bloc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pecially important in decision support applications where queries are very complex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a few minutes of thought, you’ll come up with your own rewrite. Some query, somewhere, will benefit from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Theorem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st Esti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228240" y="152352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ach plan considered, must estimate co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st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estimate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cost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 each operation in plan tre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ends on input cardinalit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st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estimate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size of resul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each operation in tre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information about the input rel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selections and joins, assume independence of predica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’ll discuss the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ystem 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 estimation approac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ry inexact, but works ok in pract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 sophisticated techniques known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istics and Catalo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-360" y="11426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 information about the relations and indexes involved. 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Catalog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ically contain at lea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# tuples (NTuples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# pages (NPages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rel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# distinct key values (NKeys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NPages for each inde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dex height, low/high key values (Low/High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tree inde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talogs updated periodical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ing whenever data changes is too expensive; lots of approximation anyway, so slight inconsistency o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detailed information (e.g., histograms of the values in some field) are sometimes stor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8458200" cy="110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ze Estimation and Reduction Fac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-360" y="2057040"/>
            <a:ext cx="89917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 a query block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um # tuples in result is the product of the cardinalities of relations in the FROM clau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Reduction factor (RF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ociated with each</a:t>
            </a:r>
            <a:r>
              <a:rPr b="0" lang="en-US" sz="2800" spc="-1" strike="noStrike">
                <a:solidFill>
                  <a:srgbClr val="3365fb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term</a:t>
            </a:r>
            <a:r>
              <a:rPr b="0" lang="en-US" sz="2800" spc="-1" strike="noStrike">
                <a:solidFill>
                  <a:srgbClr val="3365f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lects the impact of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er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reducing result size. 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Resul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cardinality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= Max # tuples  *  product of all RF’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mplicit assum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at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terms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are independe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r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l=valu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s R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1/NKeys(I)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index I 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r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l1=col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s R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1/MAX(NKeys(I1), NKeys(I2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r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l&gt;valu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s R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High(I)-value)/(High(I)-Low(I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114800" y="1447920"/>
            <a:ext cx="4862520" cy="1240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 attribute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 relation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WHERE</a:t>
            </a:r>
            <a:r>
              <a:rPr b="0" lang="en-US" sz="2400" spc="-1" strike="noStrike">
                <a:solidFill>
                  <a:srgbClr val="3365fb"/>
                </a:solidFill>
                <a:latin typeface="Book Antiqu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Book Antiqua"/>
              </a:rPr>
              <a:t>term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Book Antiqua"/>
              </a:rPr>
              <a:t>1</a:t>
            </a:r>
            <a:r>
              <a:rPr b="0" lang="en-US" sz="2400" spc="-1" strike="noStrike">
                <a:solidFill>
                  <a:srgbClr val="3365fb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...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Book Antiqua"/>
              </a:rPr>
              <a:t>term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Book Antiqu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gram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y to obtaining good cost and size estim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e in several flavor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-dep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-wid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ich is bett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ressed histograms: special treatment of frequent valu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istics on data maintained by the RDB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kes size estimation much more accurate (hence, cost estimations are more accurat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Employee(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ssn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, name, salary, phon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 histogram on salar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(Employee) = 25000, but now we know the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6" name=""/>
          <p:cNvGraphicFramePr/>
          <p:nvPr/>
        </p:nvGraphicFramePr>
        <p:xfrm>
          <a:off x="838080" y="3429000"/>
          <a:ext cx="7848720" cy="1270080"/>
        </p:xfrm>
        <a:graphic>
          <a:graphicData uri="http://schemas.openxmlformats.org/drawingml/2006/table">
            <a:tbl>
              <a:tblPr/>
              <a:tblGrid>
                <a:gridCol w="1120680"/>
                <a:gridCol w="1121040"/>
                <a:gridCol w="1122120"/>
                <a:gridCol w="1122480"/>
                <a:gridCol w="1120680"/>
                <a:gridCol w="1120680"/>
                <a:gridCol w="1121040"/>
              </a:tblGrid>
              <a:tr h="635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lary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.20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k..40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k..60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k..80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k..100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gt; 100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5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up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Ranks(rankName, salar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te the size of Employee          Ran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9" name=""/>
          <p:cNvGraphicFramePr/>
          <p:nvPr/>
        </p:nvGraphicFramePr>
        <p:xfrm>
          <a:off x="838080" y="3276720"/>
          <a:ext cx="7162920" cy="761760"/>
        </p:xfrm>
        <a:graphic>
          <a:graphicData uri="http://schemas.openxmlformats.org/drawingml/2006/table">
            <a:tbl>
              <a:tblPr/>
              <a:tblGrid>
                <a:gridCol w="1024200"/>
                <a:gridCol w="1020600"/>
                <a:gridCol w="1025640"/>
                <a:gridCol w="1023840"/>
                <a:gridCol w="1023840"/>
                <a:gridCol w="1020960"/>
                <a:gridCol w="1023840"/>
              </a:tblGrid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mploy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.20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k..40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k..60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k..80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k..100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gt; 100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80" name=""/>
          <p:cNvGraphicFramePr/>
          <p:nvPr/>
        </p:nvGraphicFramePr>
        <p:xfrm>
          <a:off x="838080" y="4343400"/>
          <a:ext cx="7162920" cy="762120"/>
        </p:xfrm>
        <a:graphic>
          <a:graphicData uri="http://schemas.openxmlformats.org/drawingml/2006/table">
            <a:tbl>
              <a:tblPr/>
              <a:tblGrid>
                <a:gridCol w="1024200"/>
                <a:gridCol w="1020600"/>
                <a:gridCol w="1025640"/>
                <a:gridCol w="1023840"/>
                <a:gridCol w="1023840"/>
                <a:gridCol w="1020960"/>
                <a:gridCol w="1023840"/>
              </a:tblGrid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nk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.20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k..40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k..60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k..80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k..100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gt; 100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381" name=""/>
          <p:cNvGrpSpPr/>
          <p:nvPr/>
        </p:nvGrpSpPr>
        <p:grpSpPr>
          <a:xfrm>
            <a:off x="6205320" y="2835360"/>
            <a:ext cx="893520" cy="401040"/>
            <a:chOff x="6205320" y="2835360"/>
            <a:chExt cx="893520" cy="401040"/>
          </a:xfrm>
        </p:grpSpPr>
        <p:grpSp>
          <p:nvGrpSpPr>
            <p:cNvPr id="382" name=""/>
            <p:cNvGrpSpPr/>
            <p:nvPr/>
          </p:nvGrpSpPr>
          <p:grpSpPr>
            <a:xfrm>
              <a:off x="6205320" y="2835360"/>
              <a:ext cx="255600" cy="169920"/>
              <a:chOff x="6205320" y="2835360"/>
              <a:chExt cx="255600" cy="169920"/>
            </a:xfrm>
          </p:grpSpPr>
          <p:sp>
            <p:nvSpPr>
              <p:cNvPr id="383" name=""/>
              <p:cNvSpPr/>
              <p:nvPr/>
            </p:nvSpPr>
            <p:spPr>
              <a:xfrm>
                <a:off x="6205680" y="2835360"/>
                <a:ext cx="25524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6205680" y="283536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flipV="1">
                <a:off x="6460920" y="283536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 flipH="1">
                <a:off x="6205320" y="2835360"/>
                <a:ext cx="25524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7" name=""/>
            <p:cNvSpPr/>
            <p:nvPr/>
          </p:nvSpPr>
          <p:spPr>
            <a:xfrm>
              <a:off x="6400080" y="2899080"/>
              <a:ext cx="698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ala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(Employee, Salary) = 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(Ranks, Salary) = 2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 T(Employee            Ranks) =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=1,6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 / 250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(200x8 + 800x20 + 5000x40 +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12000x80 + 6500x100 + 500x2)/250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0" name=""/>
          <p:cNvGrpSpPr/>
          <p:nvPr/>
        </p:nvGrpSpPr>
        <p:grpSpPr>
          <a:xfrm>
            <a:off x="4244760" y="3652920"/>
            <a:ext cx="893520" cy="401040"/>
            <a:chOff x="4244760" y="3652920"/>
            <a:chExt cx="893520" cy="401040"/>
          </a:xfrm>
        </p:grpSpPr>
        <p:grpSp>
          <p:nvGrpSpPr>
            <p:cNvPr id="391" name=""/>
            <p:cNvGrpSpPr/>
            <p:nvPr/>
          </p:nvGrpSpPr>
          <p:grpSpPr>
            <a:xfrm>
              <a:off x="4244760" y="3652920"/>
              <a:ext cx="255600" cy="169920"/>
              <a:chOff x="4244760" y="3652920"/>
              <a:chExt cx="255600" cy="169920"/>
            </a:xfrm>
          </p:grpSpPr>
          <p:sp>
            <p:nvSpPr>
              <p:cNvPr id="392" name=""/>
              <p:cNvSpPr/>
              <p:nvPr/>
            </p:nvSpPr>
            <p:spPr>
              <a:xfrm>
                <a:off x="4245120" y="3652920"/>
                <a:ext cx="25524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4245120" y="365292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flipV="1">
                <a:off x="4500360" y="365292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flipH="1">
                <a:off x="4244760" y="3652920"/>
                <a:ext cx="25524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6" name=""/>
            <p:cNvSpPr/>
            <p:nvPr/>
          </p:nvSpPr>
          <p:spPr>
            <a:xfrm>
              <a:off x="4439520" y="3716640"/>
              <a:ext cx="698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ala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cc0066"/>
                </a:solidFill>
                <a:latin typeface="Times New Roman"/>
              </a:rPr>
              <a:t>Query decomposi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ry decom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the aims of query decomposition are to transform a high-level query into a relational algebra query and to check that the query is syntactically and semantically corr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tages of query decomposition a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mantic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ifi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ry restructu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s for Single-Relation Queri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Prep for Join orderin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-360" y="144756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Task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reate a query execution plan for a single Select-project-group-by bloc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Key idea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nsider each possible </a:t>
            </a:r>
            <a:r>
              <a:rPr b="1" i="1" lang="en-US" sz="3200" spc="-1" strike="noStrike">
                <a:solidFill>
                  <a:srgbClr val="008000"/>
                </a:solidFill>
                <a:latin typeface="Times New Roman"/>
              </a:rPr>
              <a:t>access pa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the relevant tuples of the relation. Choose the cheapest one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different operations are essentially carried out together (e.g., if an index is used for a selection, projection is done for each retrieved tuple, and the resulting tuples are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ipelin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to the aggregate computation)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-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76320" y="1295280"/>
            <a:ext cx="906768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we have an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ndex on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rat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/NKeys(I)) * NTuples(R) = (1/10) * 40000 tuples retriev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lustered index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/NKeys(I)) * (NPages(I)+NPages(R)) =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(1/10) * (50+500) pages are retrieved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= 55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Unclustered index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/NKeys(I)) * (NPages(I)+NTuples(R)) =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(1/10) * (50+40000) pages are retrieved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we have an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ndex on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si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uld have to retrieve all tuples/pages.  With a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luster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dex, the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st is 50+50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ing a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file sca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we retrieve all file pages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(500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023520" y="304920"/>
            <a:ext cx="2670840" cy="1189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SELECT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S.s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FROM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Sailors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 S.rating=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termining Join Orde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1       R2        ….       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 tre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join tree represents a plan. An optimizer needs to inspect many (all ?) join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196000" y="46134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643560" y="46134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091480" y="46134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463080" y="46134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2" name=""/>
          <p:cNvGrpSpPr/>
          <p:nvPr/>
        </p:nvGrpSpPr>
        <p:grpSpPr>
          <a:xfrm>
            <a:off x="2971440" y="3733920"/>
            <a:ext cx="305280" cy="203040"/>
            <a:chOff x="2971440" y="3733920"/>
            <a:chExt cx="305280" cy="203040"/>
          </a:xfrm>
        </p:grpSpPr>
        <p:sp>
          <p:nvSpPr>
            <p:cNvPr id="413" name=""/>
            <p:cNvSpPr/>
            <p:nvPr/>
          </p:nvSpPr>
          <p:spPr>
            <a:xfrm>
              <a:off x="2971800" y="3733920"/>
              <a:ext cx="30492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971800" y="373392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V="1">
              <a:off x="3276720" y="373392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H="1">
              <a:off x="2971440" y="3733920"/>
              <a:ext cx="30492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7" name=""/>
          <p:cNvGrpSpPr/>
          <p:nvPr/>
        </p:nvGrpSpPr>
        <p:grpSpPr>
          <a:xfrm>
            <a:off x="5866920" y="3809520"/>
            <a:ext cx="305280" cy="203760"/>
            <a:chOff x="5866920" y="3809520"/>
            <a:chExt cx="305280" cy="203760"/>
          </a:xfrm>
        </p:grpSpPr>
        <p:sp>
          <p:nvSpPr>
            <p:cNvPr id="418" name=""/>
            <p:cNvSpPr/>
            <p:nvPr/>
          </p:nvSpPr>
          <p:spPr>
            <a:xfrm>
              <a:off x="5867280" y="3809880"/>
              <a:ext cx="30492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867280" y="380988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flipV="1">
              <a:off x="6172200" y="380952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 flipH="1">
              <a:off x="5866920" y="3809880"/>
              <a:ext cx="30492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2" name=""/>
          <p:cNvGrpSpPr/>
          <p:nvPr/>
        </p:nvGrpSpPr>
        <p:grpSpPr>
          <a:xfrm>
            <a:off x="4571640" y="3048120"/>
            <a:ext cx="305280" cy="203040"/>
            <a:chOff x="4571640" y="3048120"/>
            <a:chExt cx="305280" cy="203040"/>
          </a:xfrm>
        </p:grpSpPr>
        <p:sp>
          <p:nvSpPr>
            <p:cNvPr id="423" name=""/>
            <p:cNvSpPr/>
            <p:nvPr/>
          </p:nvSpPr>
          <p:spPr>
            <a:xfrm>
              <a:off x="4572000" y="3048120"/>
              <a:ext cx="30492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572000" y="304812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>
              <a:off x="4876920" y="304812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flipH="1">
              <a:off x="4571640" y="3048120"/>
              <a:ext cx="30492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7" name=""/>
          <p:cNvSpPr/>
          <p:nvPr/>
        </p:nvSpPr>
        <p:spPr>
          <a:xfrm flipH="1">
            <a:off x="2514600" y="4038480"/>
            <a:ext cx="4572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276720" y="4038480"/>
            <a:ext cx="53316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flipH="1">
            <a:off x="5409720" y="4038480"/>
            <a:ext cx="38124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248520" y="4038480"/>
            <a:ext cx="4572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H="1">
            <a:off x="3352680" y="3200400"/>
            <a:ext cx="10670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029200" y="3276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1676520" y="2133720"/>
            <a:ext cx="304560" cy="203040"/>
            <a:chOff x="1676520" y="2133720"/>
            <a:chExt cx="304560" cy="203040"/>
          </a:xfrm>
        </p:grpSpPr>
        <p:sp>
          <p:nvSpPr>
            <p:cNvPr id="434" name=""/>
            <p:cNvSpPr/>
            <p:nvPr/>
          </p:nvSpPr>
          <p:spPr>
            <a:xfrm>
              <a:off x="1676520" y="2133720"/>
              <a:ext cx="30456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676520" y="213372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V="1">
              <a:off x="1981080" y="213372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1676520" y="2133720"/>
              <a:ext cx="30456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8" name=""/>
          <p:cNvGrpSpPr/>
          <p:nvPr/>
        </p:nvGrpSpPr>
        <p:grpSpPr>
          <a:xfrm>
            <a:off x="2666520" y="2133720"/>
            <a:ext cx="305280" cy="203040"/>
            <a:chOff x="2666520" y="2133720"/>
            <a:chExt cx="305280" cy="203040"/>
          </a:xfrm>
        </p:grpSpPr>
        <p:sp>
          <p:nvSpPr>
            <p:cNvPr id="439" name=""/>
            <p:cNvSpPr/>
            <p:nvPr/>
          </p:nvSpPr>
          <p:spPr>
            <a:xfrm>
              <a:off x="2666880" y="2133720"/>
              <a:ext cx="30492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666880" y="213372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V="1">
              <a:off x="2971800" y="213372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>
              <a:off x="2666520" y="2133720"/>
              <a:ext cx="30492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3885840" y="2133720"/>
            <a:ext cx="305280" cy="203040"/>
            <a:chOff x="3885840" y="2133720"/>
            <a:chExt cx="305280" cy="203040"/>
          </a:xfrm>
        </p:grpSpPr>
        <p:sp>
          <p:nvSpPr>
            <p:cNvPr id="444" name=""/>
            <p:cNvSpPr/>
            <p:nvPr/>
          </p:nvSpPr>
          <p:spPr>
            <a:xfrm>
              <a:off x="3886200" y="2133720"/>
              <a:ext cx="30492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886200" y="213372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V="1">
              <a:off x="4191120" y="213372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flipH="1">
              <a:off x="3885840" y="2133720"/>
              <a:ext cx="30492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es of Join 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ft deep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0" name=""/>
          <p:cNvGrpSpPr/>
          <p:nvPr/>
        </p:nvGrpSpPr>
        <p:grpSpPr>
          <a:xfrm>
            <a:off x="4876920" y="3048120"/>
            <a:ext cx="304560" cy="203040"/>
            <a:chOff x="4876920" y="3048120"/>
            <a:chExt cx="304560" cy="203040"/>
          </a:xfrm>
        </p:grpSpPr>
        <p:sp>
          <p:nvSpPr>
            <p:cNvPr id="451" name=""/>
            <p:cNvSpPr/>
            <p:nvPr/>
          </p:nvSpPr>
          <p:spPr>
            <a:xfrm>
              <a:off x="4876920" y="3048120"/>
              <a:ext cx="30456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876920" y="304812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V="1">
              <a:off x="5181480" y="304812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flipH="1">
              <a:off x="4876920" y="3048120"/>
              <a:ext cx="30456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5" name=""/>
          <p:cNvGrpSpPr/>
          <p:nvPr/>
        </p:nvGrpSpPr>
        <p:grpSpPr>
          <a:xfrm>
            <a:off x="4191120" y="3657600"/>
            <a:ext cx="304560" cy="203040"/>
            <a:chOff x="4191120" y="3657600"/>
            <a:chExt cx="304560" cy="203040"/>
          </a:xfrm>
        </p:grpSpPr>
        <p:sp>
          <p:nvSpPr>
            <p:cNvPr id="456" name=""/>
            <p:cNvSpPr/>
            <p:nvPr/>
          </p:nvSpPr>
          <p:spPr>
            <a:xfrm>
              <a:off x="4191120" y="3657600"/>
              <a:ext cx="30456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191120" y="365760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flipV="1">
              <a:off x="4495680" y="365760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flipH="1">
              <a:off x="4191120" y="3657600"/>
              <a:ext cx="30456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0" name=""/>
          <p:cNvGrpSpPr/>
          <p:nvPr/>
        </p:nvGrpSpPr>
        <p:grpSpPr>
          <a:xfrm>
            <a:off x="3352320" y="4191120"/>
            <a:ext cx="305280" cy="203040"/>
            <a:chOff x="3352320" y="4191120"/>
            <a:chExt cx="305280" cy="203040"/>
          </a:xfrm>
        </p:grpSpPr>
        <p:sp>
          <p:nvSpPr>
            <p:cNvPr id="461" name=""/>
            <p:cNvSpPr/>
            <p:nvPr/>
          </p:nvSpPr>
          <p:spPr>
            <a:xfrm>
              <a:off x="3352680" y="4191120"/>
              <a:ext cx="30492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352680" y="419112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flipV="1">
              <a:off x="3657600" y="419112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 flipH="1">
              <a:off x="3352320" y="4191120"/>
              <a:ext cx="30492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5" name=""/>
          <p:cNvGrpSpPr/>
          <p:nvPr/>
        </p:nvGrpSpPr>
        <p:grpSpPr>
          <a:xfrm>
            <a:off x="2514240" y="4723920"/>
            <a:ext cx="305280" cy="203760"/>
            <a:chOff x="2514240" y="4723920"/>
            <a:chExt cx="305280" cy="203760"/>
          </a:xfrm>
        </p:grpSpPr>
        <p:sp>
          <p:nvSpPr>
            <p:cNvPr id="466" name=""/>
            <p:cNvSpPr/>
            <p:nvPr/>
          </p:nvSpPr>
          <p:spPr>
            <a:xfrm>
              <a:off x="2514600" y="4724280"/>
              <a:ext cx="30492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514600" y="472428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 flipV="1">
              <a:off x="2819520" y="472392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flipH="1">
              <a:off x="2514240" y="4724280"/>
              <a:ext cx="30492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0" name=""/>
          <p:cNvSpPr/>
          <p:nvPr/>
        </p:nvSpPr>
        <p:spPr>
          <a:xfrm>
            <a:off x="1754640" y="541008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973600" y="54864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948480" y="468936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4710600" y="407988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700960" y="339408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H="1">
            <a:off x="2133720" y="5029200"/>
            <a:ext cx="3045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895480" y="502920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flipH="1">
            <a:off x="2971440" y="441972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733920" y="4419720"/>
            <a:ext cx="30456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H="1">
            <a:off x="3733920" y="388620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572000" y="388620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 flipH="1">
            <a:off x="4571640" y="32767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257800" y="3276720"/>
            <a:ext cx="45720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es of Join 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sh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135520" y="45720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2973600" y="556272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031000" y="45720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6402600" y="45720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9" name=""/>
          <p:cNvGrpSpPr/>
          <p:nvPr/>
        </p:nvGrpSpPr>
        <p:grpSpPr>
          <a:xfrm>
            <a:off x="2910960" y="3692520"/>
            <a:ext cx="305280" cy="203040"/>
            <a:chOff x="2910960" y="3692520"/>
            <a:chExt cx="305280" cy="203040"/>
          </a:xfrm>
        </p:grpSpPr>
        <p:sp>
          <p:nvSpPr>
            <p:cNvPr id="490" name=""/>
            <p:cNvSpPr/>
            <p:nvPr/>
          </p:nvSpPr>
          <p:spPr>
            <a:xfrm>
              <a:off x="2911320" y="3692520"/>
              <a:ext cx="30492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2911320" y="369252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V="1">
              <a:off x="3216240" y="369252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 flipH="1">
              <a:off x="2910960" y="3692520"/>
              <a:ext cx="30492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4" name=""/>
          <p:cNvGrpSpPr/>
          <p:nvPr/>
        </p:nvGrpSpPr>
        <p:grpSpPr>
          <a:xfrm>
            <a:off x="5807160" y="3768840"/>
            <a:ext cx="304560" cy="203040"/>
            <a:chOff x="5807160" y="3768840"/>
            <a:chExt cx="304560" cy="203040"/>
          </a:xfrm>
        </p:grpSpPr>
        <p:sp>
          <p:nvSpPr>
            <p:cNvPr id="495" name=""/>
            <p:cNvSpPr/>
            <p:nvPr/>
          </p:nvSpPr>
          <p:spPr>
            <a:xfrm>
              <a:off x="5807160" y="3768840"/>
              <a:ext cx="30456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807160" y="376884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flipV="1">
              <a:off x="6111720" y="376884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 flipH="1">
              <a:off x="5807160" y="3768840"/>
              <a:ext cx="30456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9" name=""/>
          <p:cNvGrpSpPr/>
          <p:nvPr/>
        </p:nvGrpSpPr>
        <p:grpSpPr>
          <a:xfrm>
            <a:off x="4511160" y="3006720"/>
            <a:ext cx="305280" cy="203040"/>
            <a:chOff x="4511160" y="3006720"/>
            <a:chExt cx="305280" cy="203040"/>
          </a:xfrm>
        </p:grpSpPr>
        <p:sp>
          <p:nvSpPr>
            <p:cNvPr id="500" name=""/>
            <p:cNvSpPr/>
            <p:nvPr/>
          </p:nvSpPr>
          <p:spPr>
            <a:xfrm>
              <a:off x="4511520" y="3006720"/>
              <a:ext cx="30492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4511520" y="300672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flipV="1">
              <a:off x="4816440" y="300672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 flipH="1">
              <a:off x="4511160" y="3006720"/>
              <a:ext cx="30492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4" name=""/>
          <p:cNvSpPr/>
          <p:nvPr/>
        </p:nvSpPr>
        <p:spPr>
          <a:xfrm flipH="1">
            <a:off x="2454120" y="3997440"/>
            <a:ext cx="4572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216240" y="3997440"/>
            <a:ext cx="53352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 flipH="1">
            <a:off x="5349960" y="3997440"/>
            <a:ext cx="38088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188040" y="3997440"/>
            <a:ext cx="4572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3292200" y="3159000"/>
            <a:ext cx="10666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968720" y="32353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0" name=""/>
          <p:cNvGrpSpPr/>
          <p:nvPr/>
        </p:nvGrpSpPr>
        <p:grpSpPr>
          <a:xfrm>
            <a:off x="3657240" y="4723920"/>
            <a:ext cx="305280" cy="203760"/>
            <a:chOff x="3657240" y="4723920"/>
            <a:chExt cx="305280" cy="203760"/>
          </a:xfrm>
        </p:grpSpPr>
        <p:sp>
          <p:nvSpPr>
            <p:cNvPr id="511" name=""/>
            <p:cNvSpPr/>
            <p:nvPr/>
          </p:nvSpPr>
          <p:spPr>
            <a:xfrm>
              <a:off x="3657600" y="4724280"/>
              <a:ext cx="30492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657600" y="472428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 flipV="1">
              <a:off x="3962520" y="472392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 flipH="1">
              <a:off x="3657240" y="4724280"/>
              <a:ext cx="30492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5" name=""/>
          <p:cNvSpPr/>
          <p:nvPr/>
        </p:nvSpPr>
        <p:spPr>
          <a:xfrm>
            <a:off x="4177080" y="55278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 flipH="1">
            <a:off x="3276720" y="5029200"/>
            <a:ext cx="3808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962520" y="5029200"/>
            <a:ext cx="3808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es of Join 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ght deep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0" name=""/>
          <p:cNvGrpSpPr/>
          <p:nvPr/>
        </p:nvGrpSpPr>
        <p:grpSpPr>
          <a:xfrm>
            <a:off x="3352320" y="2666520"/>
            <a:ext cx="305280" cy="203760"/>
            <a:chOff x="3352320" y="2666520"/>
            <a:chExt cx="305280" cy="203760"/>
          </a:xfrm>
        </p:grpSpPr>
        <p:sp>
          <p:nvSpPr>
            <p:cNvPr id="521" name=""/>
            <p:cNvSpPr/>
            <p:nvPr/>
          </p:nvSpPr>
          <p:spPr>
            <a:xfrm>
              <a:off x="3352680" y="2666880"/>
              <a:ext cx="30492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352680" y="266688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 flipV="1">
              <a:off x="3657600" y="266652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 flipH="1">
              <a:off x="3352320" y="2666880"/>
              <a:ext cx="30492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5" name=""/>
          <p:cNvGrpSpPr/>
          <p:nvPr/>
        </p:nvGrpSpPr>
        <p:grpSpPr>
          <a:xfrm>
            <a:off x="4282560" y="3006720"/>
            <a:ext cx="305280" cy="203040"/>
            <a:chOff x="4282560" y="3006720"/>
            <a:chExt cx="305280" cy="203040"/>
          </a:xfrm>
        </p:grpSpPr>
        <p:sp>
          <p:nvSpPr>
            <p:cNvPr id="526" name=""/>
            <p:cNvSpPr/>
            <p:nvPr/>
          </p:nvSpPr>
          <p:spPr>
            <a:xfrm>
              <a:off x="4282920" y="3006720"/>
              <a:ext cx="30492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4282920" y="300672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 flipV="1">
              <a:off x="4587840" y="300672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 flipH="1">
              <a:off x="4282560" y="3006720"/>
              <a:ext cx="30492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5105520" y="3580920"/>
            <a:ext cx="304560" cy="203760"/>
            <a:chOff x="5105520" y="3580920"/>
            <a:chExt cx="304560" cy="203760"/>
          </a:xfrm>
        </p:grpSpPr>
        <p:sp>
          <p:nvSpPr>
            <p:cNvPr id="531" name=""/>
            <p:cNvSpPr/>
            <p:nvPr/>
          </p:nvSpPr>
          <p:spPr>
            <a:xfrm>
              <a:off x="5105520" y="3581280"/>
              <a:ext cx="30456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105520" y="358128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 flipV="1">
              <a:off x="5410080" y="358092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 flipH="1">
              <a:off x="5105520" y="3581280"/>
              <a:ext cx="30456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5" name=""/>
          <p:cNvGrpSpPr/>
          <p:nvPr/>
        </p:nvGrpSpPr>
        <p:grpSpPr>
          <a:xfrm>
            <a:off x="5866920" y="4266720"/>
            <a:ext cx="305280" cy="203760"/>
            <a:chOff x="5866920" y="4266720"/>
            <a:chExt cx="305280" cy="203760"/>
          </a:xfrm>
        </p:grpSpPr>
        <p:sp>
          <p:nvSpPr>
            <p:cNvPr id="536" name=""/>
            <p:cNvSpPr/>
            <p:nvPr/>
          </p:nvSpPr>
          <p:spPr>
            <a:xfrm>
              <a:off x="5867280" y="4267080"/>
              <a:ext cx="30492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867280" y="426708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 flipV="1">
              <a:off x="6172200" y="426672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 flipH="1">
              <a:off x="5866920" y="4267080"/>
              <a:ext cx="30492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0" name=""/>
          <p:cNvSpPr/>
          <p:nvPr/>
        </p:nvSpPr>
        <p:spPr>
          <a:xfrm>
            <a:off x="2440440" y="34290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354840" y="403848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192920" y="441972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5259600" y="495288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326640" y="495288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flipH="1">
            <a:off x="2895120" y="297180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809880" y="2895480"/>
            <a:ext cx="38124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 flipH="1">
            <a:off x="3809880" y="32767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4724280" y="327672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H="1">
            <a:off x="4723920" y="3886200"/>
            <a:ext cx="3812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5486400" y="388620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 flipH="1">
            <a:off x="5562360" y="457200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6248520" y="44956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: a query  R1     R2      …      R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e we have a function cost() that gives us the cost of every join 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the best join tree for the qu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5" name=""/>
          <p:cNvGrpSpPr/>
          <p:nvPr/>
        </p:nvGrpSpPr>
        <p:grpSpPr>
          <a:xfrm>
            <a:off x="4266720" y="2209320"/>
            <a:ext cx="305280" cy="203760"/>
            <a:chOff x="4266720" y="2209320"/>
            <a:chExt cx="305280" cy="203760"/>
          </a:xfrm>
        </p:grpSpPr>
        <p:sp>
          <p:nvSpPr>
            <p:cNvPr id="556" name=""/>
            <p:cNvSpPr/>
            <p:nvPr/>
          </p:nvSpPr>
          <p:spPr>
            <a:xfrm>
              <a:off x="4267080" y="2209680"/>
              <a:ext cx="30492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267080" y="220968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V="1">
              <a:off x="4572000" y="220932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 flipH="1">
              <a:off x="4266720" y="2209680"/>
              <a:ext cx="30492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0" name=""/>
          <p:cNvGrpSpPr/>
          <p:nvPr/>
        </p:nvGrpSpPr>
        <p:grpSpPr>
          <a:xfrm>
            <a:off x="5257440" y="2209320"/>
            <a:ext cx="305280" cy="203760"/>
            <a:chOff x="5257440" y="2209320"/>
            <a:chExt cx="305280" cy="203760"/>
          </a:xfrm>
        </p:grpSpPr>
        <p:sp>
          <p:nvSpPr>
            <p:cNvPr id="561" name=""/>
            <p:cNvSpPr/>
            <p:nvPr/>
          </p:nvSpPr>
          <p:spPr>
            <a:xfrm>
              <a:off x="5257800" y="2209680"/>
              <a:ext cx="30492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257800" y="220968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 flipV="1">
              <a:off x="5562720" y="220932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 flipH="1">
              <a:off x="5257440" y="2209680"/>
              <a:ext cx="30492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5" name=""/>
          <p:cNvGrpSpPr/>
          <p:nvPr/>
        </p:nvGrpSpPr>
        <p:grpSpPr>
          <a:xfrm>
            <a:off x="6400440" y="2209320"/>
            <a:ext cx="305280" cy="203760"/>
            <a:chOff x="6400440" y="2209320"/>
            <a:chExt cx="305280" cy="203760"/>
          </a:xfrm>
        </p:grpSpPr>
        <p:sp>
          <p:nvSpPr>
            <p:cNvPr id="566" name=""/>
            <p:cNvSpPr/>
            <p:nvPr/>
          </p:nvSpPr>
          <p:spPr>
            <a:xfrm>
              <a:off x="6400800" y="2209680"/>
              <a:ext cx="30492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400800" y="220968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 flipV="1">
              <a:off x="6705720" y="220932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 flipH="1">
              <a:off x="6400440" y="2209680"/>
              <a:ext cx="30492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namic Progra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a: for each subset of {R1, …, Rn}, compute the best plan for that sub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increasing order of set cardina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1: for {R1}, {R2}, …, {Rn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2: for {R1,R2}, {R1,R3}, …, {Rn-1, Rn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n: for {R1, …, Rn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ubset of {R1, …, Rn} is also called 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ubqu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namic Progra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ach subquery Q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바탕"/>
              </a:rPr>
              <a:t>⊆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{R1, …, Rn} compute the follow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ze(Q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best plan for Q: Plan(Q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ost of that plan: Cost(Q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namic Progra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ep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For each {Ri} d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ze({Ri}) = B(R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n({Ri}) = R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({Ri}) = (cost of scanning R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cc0066"/>
                </a:solidFill>
                <a:latin typeface="Times New Roman"/>
              </a:rPr>
              <a:t>Query analy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The query is lexically and syntactically analyzed using the techniques of compil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Verification of attributes and re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The query is transformed into some internal representation more suitable for proce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117880" y="367344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041560" y="353520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2438280" y="3733920"/>
                <a:ext cx="441360" cy="23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&gt;&lt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9" name=""/>
          <p:cNvSpPr/>
          <p:nvPr/>
        </p:nvSpPr>
        <p:spPr>
          <a:xfrm>
            <a:off x="2892960" y="3809880"/>
            <a:ext cx="1611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E.deptId = D.dept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28960" y="448308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275120" y="4583160"/>
            <a:ext cx="183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E.position = ‘manager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3880" y="403848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659400" y="449568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82600" y="4572000"/>
            <a:ext cx="179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D.location =„London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200400" y="4191120"/>
            <a:ext cx="91440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02760" y="549756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Employe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1447920" y="49528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717720" y="5497560"/>
            <a:ext cx="102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Depart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038480" y="487656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866560" y="4944960"/>
            <a:ext cx="1780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Relational</a:t>
            </a:r>
            <a:r>
              <a:rPr b="1" lang="pl-PL" sz="1600" spc="-1" strike="noStrike">
                <a:solidFill>
                  <a:srgbClr val="000000"/>
                </a:solidFill>
                <a:latin typeface="Roman"/>
              </a:rPr>
              <a:t> </a:t>
            </a: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algeb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tre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namic Progra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ep 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For each Q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바탕"/>
              </a:rPr>
              <a:t>⊆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{R1, …, Rn} of cardinality i d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e Size(Q)    (later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every pair of subqueries Q’, Q’’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.t. Q = Q’ U Q’’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e cost(Plan(Q’)       Plan(Q’’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(Q) = the smallest such c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n(Q) = the corresponding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8" name=""/>
          <p:cNvGrpSpPr/>
          <p:nvPr/>
        </p:nvGrpSpPr>
        <p:grpSpPr>
          <a:xfrm>
            <a:off x="4952520" y="4572000"/>
            <a:ext cx="305280" cy="203040"/>
            <a:chOff x="4952520" y="4572000"/>
            <a:chExt cx="305280" cy="203040"/>
          </a:xfrm>
        </p:grpSpPr>
        <p:sp>
          <p:nvSpPr>
            <p:cNvPr id="579" name=""/>
            <p:cNvSpPr/>
            <p:nvPr/>
          </p:nvSpPr>
          <p:spPr>
            <a:xfrm>
              <a:off x="4952880" y="4572000"/>
              <a:ext cx="30492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952880" y="457200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flipV="1">
              <a:off x="5257800" y="457200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 flipH="1">
              <a:off x="4952520" y="4572000"/>
              <a:ext cx="30492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namic Progra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turn Plan({R1, …, Rn}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namic Progra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mmary: computes optimal plans for subqueri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ep 1: {R1},  {R2}, …, {Rn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ep 2:  {R1, R2}, {R1, R3}, …, {Rn-1, Rn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ep n: {R1, …, Rn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used naïve size/cost estim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practi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realistic size/cost estimations (nex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uristics for Reducing the Search Spa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strict to left linear tre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strict to trees “without cartesian produc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more than just one plan for each subquer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interesting orders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-914400" y="152280"/>
            <a:ext cx="7772400" cy="110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ng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0" y="2819520"/>
            <a:ext cx="5105520" cy="361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st:  500+500*1000 I/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no means the worst plan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sses several opportunities: selections could have been `pushed’ earlier, no use is made of any available indexes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oal of optimization: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find more efficient plans that compute the same answer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148480" y="1200240"/>
            <a:ext cx="4083840" cy="1555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 S.s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 Reserves R, Sailors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 R.sid=S.sid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R.bid=100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S.rating&gt;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2" name=""/>
          <p:cNvGrpSpPr/>
          <p:nvPr/>
        </p:nvGrpSpPr>
        <p:grpSpPr>
          <a:xfrm>
            <a:off x="6468840" y="130320"/>
            <a:ext cx="2597760" cy="3018600"/>
            <a:chOff x="6468840" y="130320"/>
            <a:chExt cx="2597760" cy="3018600"/>
          </a:xfrm>
        </p:grpSpPr>
        <p:sp>
          <p:nvSpPr>
            <p:cNvPr id="593" name=""/>
            <p:cNvSpPr/>
            <p:nvPr/>
          </p:nvSpPr>
          <p:spPr>
            <a:xfrm>
              <a:off x="6853320" y="950760"/>
              <a:ext cx="108000" cy="139680"/>
            </a:xfrm>
            <a:custGeom>
              <a:avLst/>
              <a:gdLst/>
              <a:ahLst/>
              <a:rect l="l" t="t" r="r" b="b"/>
              <a:pathLst>
                <a:path w="68" h="88">
                  <a:moveTo>
                    <a:pt x="67" y="43"/>
                  </a:moveTo>
                  <a:lnTo>
                    <a:pt x="58" y="13"/>
                  </a:lnTo>
                  <a:lnTo>
                    <a:pt x="34" y="0"/>
                  </a:lnTo>
                  <a:lnTo>
                    <a:pt x="10" y="13"/>
                  </a:lnTo>
                  <a:lnTo>
                    <a:pt x="0" y="43"/>
                  </a:lnTo>
                  <a:lnTo>
                    <a:pt x="10" y="74"/>
                  </a:lnTo>
                  <a:lnTo>
                    <a:pt x="34" y="87"/>
                  </a:lnTo>
                  <a:lnTo>
                    <a:pt x="58" y="74"/>
                  </a:lnTo>
                  <a:lnTo>
                    <a:pt x="67" y="4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907320" y="965160"/>
              <a:ext cx="98280" cy="1800"/>
            </a:xfrm>
            <a:custGeom>
              <a:avLst/>
              <a:gdLst/>
              <a:ahLst/>
              <a:rect l="l" t="t" r="r" b="b"/>
              <a:pathLst>
                <a:path w="62" h="1">
                  <a:moveTo>
                    <a:pt x="0" y="0"/>
                  </a:moveTo>
                  <a:lnTo>
                    <a:pt x="61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7458120" y="142920"/>
              <a:ext cx="1440" cy="154080"/>
            </a:xfrm>
            <a:custGeom>
              <a:avLst/>
              <a:gdLst/>
              <a:ahLst/>
              <a:rect l="l" t="t" r="r" b="b"/>
              <a:pathLst>
                <a:path w="1" h="97">
                  <a:moveTo>
                    <a:pt x="0" y="0"/>
                  </a:moveTo>
                  <a:lnTo>
                    <a:pt x="0" y="96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540560" y="142920"/>
              <a:ext cx="1800" cy="154080"/>
            </a:xfrm>
            <a:custGeom>
              <a:avLst/>
              <a:gdLst/>
              <a:ahLst/>
              <a:rect l="l" t="t" r="r" b="b"/>
              <a:pathLst>
                <a:path w="1" h="97">
                  <a:moveTo>
                    <a:pt x="0" y="0"/>
                  </a:moveTo>
                  <a:lnTo>
                    <a:pt x="0" y="96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7418520" y="130320"/>
              <a:ext cx="163440" cy="1440"/>
            </a:xfrm>
            <a:custGeom>
              <a:avLst/>
              <a:gdLst/>
              <a:ahLst/>
              <a:rect l="l" t="t" r="r" b="b"/>
              <a:pathLst>
                <a:path w="103" h="1">
                  <a:moveTo>
                    <a:pt x="0" y="0"/>
                  </a:moveTo>
                  <a:lnTo>
                    <a:pt x="102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567560" y="1909800"/>
              <a:ext cx="1800" cy="111240"/>
            </a:xfrm>
            <a:custGeom>
              <a:avLst/>
              <a:gdLst/>
              <a:ahLst/>
              <a:rect l="l" t="t" r="r" b="b"/>
              <a:pathLst>
                <a:path w="1" h="70">
                  <a:moveTo>
                    <a:pt x="0" y="0"/>
                  </a:moveTo>
                  <a:lnTo>
                    <a:pt x="0" y="69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7896240" y="1909800"/>
              <a:ext cx="1440" cy="111240"/>
            </a:xfrm>
            <a:custGeom>
              <a:avLst/>
              <a:gdLst/>
              <a:ahLst/>
              <a:rect l="l" t="t" r="r" b="b"/>
              <a:pathLst>
                <a:path w="1" h="70">
                  <a:moveTo>
                    <a:pt x="0" y="0"/>
                  </a:moveTo>
                  <a:lnTo>
                    <a:pt x="0" y="69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567560" y="1909800"/>
              <a:ext cx="330120" cy="111240"/>
            </a:xfrm>
            <a:custGeom>
              <a:avLst/>
              <a:gdLst/>
              <a:ahLst/>
              <a:rect l="l" t="t" r="r" b="b"/>
              <a:pathLst>
                <a:path w="208" h="70">
                  <a:moveTo>
                    <a:pt x="0" y="0"/>
                  </a:moveTo>
                  <a:lnTo>
                    <a:pt x="207" y="69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567560" y="1909800"/>
              <a:ext cx="330120" cy="111240"/>
            </a:xfrm>
            <a:custGeom>
              <a:avLst/>
              <a:gdLst/>
              <a:ahLst/>
              <a:rect l="l" t="t" r="r" b="b"/>
              <a:pathLst>
                <a:path w="208" h="70">
                  <a:moveTo>
                    <a:pt x="0" y="69"/>
                  </a:moveTo>
                  <a:lnTo>
                    <a:pt x="207" y="0"/>
                  </a:lnTo>
                  <a:lnTo>
                    <a:pt x="0" y="6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04160" y="2360520"/>
              <a:ext cx="633240" cy="317520"/>
            </a:xfrm>
            <a:custGeom>
              <a:avLst/>
              <a:gdLst/>
              <a:ahLst/>
              <a:rect l="l" t="t" r="r" b="b"/>
              <a:pathLst>
                <a:path w="399" h="200">
                  <a:moveTo>
                    <a:pt x="0" y="199"/>
                  </a:moveTo>
                  <a:lnTo>
                    <a:pt x="398" y="0"/>
                  </a:lnTo>
                  <a:lnTo>
                    <a:pt x="0" y="19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869240" y="2360520"/>
              <a:ext cx="647640" cy="317520"/>
            </a:xfrm>
            <a:custGeom>
              <a:avLst/>
              <a:gdLst/>
              <a:ahLst/>
              <a:rect l="l" t="t" r="r" b="b"/>
              <a:pathLst>
                <a:path w="408" h="200">
                  <a:moveTo>
                    <a:pt x="0" y="0"/>
                  </a:moveTo>
                  <a:lnTo>
                    <a:pt x="407" y="199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734240" y="1279440"/>
              <a:ext cx="1800" cy="495360"/>
            </a:xfrm>
            <a:custGeom>
              <a:avLst/>
              <a:gdLst/>
              <a:ahLst/>
              <a:rect l="l" t="t" r="r" b="b"/>
              <a:pathLst>
                <a:path w="1" h="312">
                  <a:moveTo>
                    <a:pt x="0" y="0"/>
                  </a:moveTo>
                  <a:lnTo>
                    <a:pt x="0" y="31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734240" y="458640"/>
              <a:ext cx="1800" cy="454320"/>
            </a:xfrm>
            <a:custGeom>
              <a:avLst/>
              <a:gdLst/>
              <a:ahLst/>
              <a:rect l="l" t="t" r="r" b="b"/>
              <a:pathLst>
                <a:path w="1" h="286">
                  <a:moveTo>
                    <a:pt x="0" y="0"/>
                  </a:moveTo>
                  <a:lnTo>
                    <a:pt x="0" y="285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7704000" y="1003320"/>
              <a:ext cx="71640" cy="147600"/>
            </a:xfrm>
            <a:custGeom>
              <a:avLst/>
              <a:gdLst/>
              <a:ahLst/>
              <a:rect l="l" t="t" r="r" b="b"/>
              <a:pathLst>
                <a:path w="45" h="93">
                  <a:moveTo>
                    <a:pt x="0" y="92"/>
                  </a:moveTo>
                  <a:lnTo>
                    <a:pt x="44" y="0"/>
                  </a:lnTo>
                  <a:lnTo>
                    <a:pt x="0" y="9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773840" y="1014480"/>
              <a:ext cx="68400" cy="136440"/>
            </a:xfrm>
            <a:custGeom>
              <a:avLst/>
              <a:gdLst/>
              <a:ahLst/>
              <a:rect l="l" t="t" r="r" b="b"/>
              <a:pathLst>
                <a:path w="43" h="86">
                  <a:moveTo>
                    <a:pt x="0" y="0"/>
                  </a:moveTo>
                  <a:lnTo>
                    <a:pt x="42" y="85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6468840" y="2797200"/>
              <a:ext cx="114804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Reserve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8160840" y="2782800"/>
              <a:ext cx="90576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Sailor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388640" y="2131920"/>
              <a:ext cx="8038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id=s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6937560" y="1047600"/>
              <a:ext cx="9028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id=100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7843680" y="1020600"/>
              <a:ext cx="9835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ating &gt; 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502040" y="239760"/>
              <a:ext cx="748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na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4" name=""/>
          <p:cNvGrpSpPr/>
          <p:nvPr/>
        </p:nvGrpSpPr>
        <p:grpSpPr>
          <a:xfrm>
            <a:off x="4790880" y="3265560"/>
            <a:ext cx="4242240" cy="3388680"/>
            <a:chOff x="4790880" y="3265560"/>
            <a:chExt cx="4242240" cy="3388680"/>
          </a:xfrm>
        </p:grpSpPr>
        <p:sp>
          <p:nvSpPr>
            <p:cNvPr id="615" name=""/>
            <p:cNvSpPr/>
            <p:nvPr/>
          </p:nvSpPr>
          <p:spPr>
            <a:xfrm>
              <a:off x="5189400" y="4267080"/>
              <a:ext cx="115920" cy="158760"/>
            </a:xfrm>
            <a:custGeom>
              <a:avLst/>
              <a:gdLst/>
              <a:ahLst/>
              <a:rect l="l" t="t" r="r" b="b"/>
              <a:pathLst>
                <a:path w="73" h="100">
                  <a:moveTo>
                    <a:pt x="72" y="50"/>
                  </a:moveTo>
                  <a:lnTo>
                    <a:pt x="62" y="15"/>
                  </a:lnTo>
                  <a:lnTo>
                    <a:pt x="36" y="0"/>
                  </a:lnTo>
                  <a:lnTo>
                    <a:pt x="11" y="15"/>
                  </a:lnTo>
                  <a:lnTo>
                    <a:pt x="0" y="50"/>
                  </a:lnTo>
                  <a:lnTo>
                    <a:pt x="11" y="84"/>
                  </a:lnTo>
                  <a:lnTo>
                    <a:pt x="36" y="99"/>
                  </a:lnTo>
                  <a:lnTo>
                    <a:pt x="62" y="84"/>
                  </a:lnTo>
                  <a:lnTo>
                    <a:pt x="72" y="5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5248440" y="4284720"/>
              <a:ext cx="102960" cy="1440"/>
            </a:xfrm>
            <a:custGeom>
              <a:avLst/>
              <a:gdLst/>
              <a:ahLst/>
              <a:rect l="l" t="t" r="r" b="b"/>
              <a:pathLst>
                <a:path w="65" h="1">
                  <a:moveTo>
                    <a:pt x="0" y="0"/>
                  </a:moveTo>
                  <a:lnTo>
                    <a:pt x="64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827680" y="3354480"/>
              <a:ext cx="1800" cy="172800"/>
            </a:xfrm>
            <a:custGeom>
              <a:avLst/>
              <a:gdLst/>
              <a:ahLst/>
              <a:rect l="l" t="t" r="r" b="b"/>
              <a:pathLst>
                <a:path w="1" h="109">
                  <a:moveTo>
                    <a:pt x="0" y="0"/>
                  </a:moveTo>
                  <a:lnTo>
                    <a:pt x="0" y="108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915160" y="3354480"/>
              <a:ext cx="1440" cy="172800"/>
            </a:xfrm>
            <a:custGeom>
              <a:avLst/>
              <a:gdLst/>
              <a:ahLst/>
              <a:rect l="l" t="t" r="r" b="b"/>
              <a:pathLst>
                <a:path w="1" h="109">
                  <a:moveTo>
                    <a:pt x="0" y="0"/>
                  </a:moveTo>
                  <a:lnTo>
                    <a:pt x="0" y="108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786280" y="3338640"/>
              <a:ext cx="174960" cy="1440"/>
            </a:xfrm>
            <a:custGeom>
              <a:avLst/>
              <a:gdLst/>
              <a:ahLst/>
              <a:rect l="l" t="t" r="r" b="b"/>
              <a:pathLst>
                <a:path w="110" h="1">
                  <a:moveTo>
                    <a:pt x="0" y="0"/>
                  </a:moveTo>
                  <a:lnTo>
                    <a:pt x="109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945040" y="5351400"/>
              <a:ext cx="1800" cy="123840"/>
            </a:xfrm>
            <a:custGeom>
              <a:avLst/>
              <a:gdLst/>
              <a:ahLst/>
              <a:rect l="l" t="t" r="r" b="b"/>
              <a:pathLst>
                <a:path w="1" h="78">
                  <a:moveTo>
                    <a:pt x="0" y="0"/>
                  </a:moveTo>
                  <a:lnTo>
                    <a:pt x="0" y="77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292800" y="5351400"/>
              <a:ext cx="1800" cy="123840"/>
            </a:xfrm>
            <a:custGeom>
              <a:avLst/>
              <a:gdLst/>
              <a:ahLst/>
              <a:rect l="l" t="t" r="r" b="b"/>
              <a:pathLst>
                <a:path w="1" h="78">
                  <a:moveTo>
                    <a:pt x="0" y="0"/>
                  </a:moveTo>
                  <a:lnTo>
                    <a:pt x="0" y="77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5945040" y="5351400"/>
              <a:ext cx="349560" cy="123840"/>
            </a:xfrm>
            <a:custGeom>
              <a:avLst/>
              <a:gdLst/>
              <a:ahLst/>
              <a:rect l="l" t="t" r="r" b="b"/>
              <a:pathLst>
                <a:path w="220" h="78">
                  <a:moveTo>
                    <a:pt x="0" y="0"/>
                  </a:moveTo>
                  <a:lnTo>
                    <a:pt x="219" y="77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945040" y="5351400"/>
              <a:ext cx="349560" cy="123840"/>
            </a:xfrm>
            <a:custGeom>
              <a:avLst/>
              <a:gdLst/>
              <a:ahLst/>
              <a:rect l="l" t="t" r="r" b="b"/>
              <a:pathLst>
                <a:path w="220" h="78">
                  <a:moveTo>
                    <a:pt x="0" y="77"/>
                  </a:moveTo>
                  <a:lnTo>
                    <a:pt x="219" y="0"/>
                  </a:lnTo>
                  <a:lnTo>
                    <a:pt x="0" y="7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349960" y="5862600"/>
              <a:ext cx="669960" cy="357120"/>
            </a:xfrm>
            <a:custGeom>
              <a:avLst/>
              <a:gdLst/>
              <a:ahLst/>
              <a:rect l="l" t="t" r="r" b="b"/>
              <a:pathLst>
                <a:path w="422" h="225">
                  <a:moveTo>
                    <a:pt x="0" y="224"/>
                  </a:moveTo>
                  <a:lnTo>
                    <a:pt x="421" y="0"/>
                  </a:lnTo>
                  <a:lnTo>
                    <a:pt x="0" y="22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6265800" y="5862600"/>
              <a:ext cx="684360" cy="357120"/>
            </a:xfrm>
            <a:custGeom>
              <a:avLst/>
              <a:gdLst/>
              <a:ahLst/>
              <a:rect l="l" t="t" r="r" b="b"/>
              <a:pathLst>
                <a:path w="431" h="225">
                  <a:moveTo>
                    <a:pt x="0" y="0"/>
                  </a:moveTo>
                  <a:lnTo>
                    <a:pt x="430" y="22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6121440" y="4638600"/>
              <a:ext cx="1440" cy="560520"/>
            </a:xfrm>
            <a:custGeom>
              <a:avLst/>
              <a:gdLst/>
              <a:ahLst/>
              <a:rect l="l" t="t" r="r" b="b"/>
              <a:pathLst>
                <a:path w="1" h="353">
                  <a:moveTo>
                    <a:pt x="0" y="0"/>
                  </a:moveTo>
                  <a:lnTo>
                    <a:pt x="0" y="352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6121440" y="3711600"/>
              <a:ext cx="1440" cy="512640"/>
            </a:xfrm>
            <a:custGeom>
              <a:avLst/>
              <a:gdLst/>
              <a:ahLst/>
              <a:rect l="l" t="t" r="r" b="b"/>
              <a:pathLst>
                <a:path w="1" h="323">
                  <a:moveTo>
                    <a:pt x="0" y="0"/>
                  </a:moveTo>
                  <a:lnTo>
                    <a:pt x="0" y="322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076800" y="4351320"/>
              <a:ext cx="87480" cy="158760"/>
            </a:xfrm>
            <a:custGeom>
              <a:avLst/>
              <a:gdLst/>
              <a:ahLst/>
              <a:rect l="l" t="t" r="r" b="b"/>
              <a:pathLst>
                <a:path w="55" h="100">
                  <a:moveTo>
                    <a:pt x="0" y="99"/>
                  </a:moveTo>
                  <a:lnTo>
                    <a:pt x="54" y="0"/>
                  </a:lnTo>
                  <a:lnTo>
                    <a:pt x="0" y="9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6162840" y="4363920"/>
              <a:ext cx="75960" cy="146160"/>
            </a:xfrm>
            <a:custGeom>
              <a:avLst/>
              <a:gdLst/>
              <a:ahLst/>
              <a:rect l="l" t="t" r="r" b="b"/>
              <a:pathLst>
                <a:path w="48" h="92">
                  <a:moveTo>
                    <a:pt x="0" y="0"/>
                  </a:moveTo>
                  <a:lnTo>
                    <a:pt x="47" y="9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4790880" y="6302520"/>
              <a:ext cx="114804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Reserve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6578280" y="6286680"/>
              <a:ext cx="90576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Sailor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764680" y="5560920"/>
              <a:ext cx="8038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id=s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285160" y="4336920"/>
              <a:ext cx="9028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id=100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6243480" y="4303800"/>
              <a:ext cx="9835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ating &gt; 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5881320" y="3422520"/>
              <a:ext cx="748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na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504120" y="5246640"/>
              <a:ext cx="252900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(Simple Nested Loops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308720" y="4272120"/>
              <a:ext cx="134784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(On-the-fly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7277040" y="3265560"/>
              <a:ext cx="134784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(On-the-fly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776200" y="136440"/>
            <a:ext cx="1370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Book Antiqua"/>
              </a:rPr>
              <a:t>RA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4771440" y="3352680"/>
            <a:ext cx="890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Book Antiqua"/>
              </a:rPr>
              <a:t>Pl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5867280" y="3200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-457200" y="380880"/>
            <a:ext cx="7772400" cy="110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ternative Plans 1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76320" y="2133360"/>
            <a:ext cx="906768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Main difference:  </a:t>
            </a:r>
            <a:r>
              <a:rPr b="0" i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push selec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5 buffers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st of pl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an Reserves (1000) + write temp T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0 pages, if we have 100 boats, uniform distribution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an Sailors (500) + write temp T2 (250 pages, if we have 10 rating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rt T1 (2*2*10), sort T2 (2*3*250), merge (10+250)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otal=180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otal:  3560 page I/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f we used BNL join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join cost = 10+4*250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otal cost = 277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f we `push’ projec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1 has onl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2 onl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1 fits in 3 pages, cost of BNL drops to under 250 pages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otal &lt; 200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6" name=""/>
          <p:cNvGrpSpPr/>
          <p:nvPr/>
        </p:nvGrpSpPr>
        <p:grpSpPr>
          <a:xfrm>
            <a:off x="4718880" y="162000"/>
            <a:ext cx="4394160" cy="2820240"/>
            <a:chOff x="4718880" y="162000"/>
            <a:chExt cx="4394160" cy="2820240"/>
          </a:xfrm>
        </p:grpSpPr>
        <p:sp>
          <p:nvSpPr>
            <p:cNvPr id="647" name=""/>
            <p:cNvSpPr/>
            <p:nvPr/>
          </p:nvSpPr>
          <p:spPr>
            <a:xfrm>
              <a:off x="5715000" y="2000160"/>
              <a:ext cx="100080" cy="119160"/>
            </a:xfrm>
            <a:custGeom>
              <a:avLst/>
              <a:gdLst/>
              <a:ahLst/>
              <a:rect l="l" t="t" r="r" b="b"/>
              <a:pathLst>
                <a:path w="63" h="75">
                  <a:moveTo>
                    <a:pt x="62" y="37"/>
                  </a:moveTo>
                  <a:lnTo>
                    <a:pt x="53" y="11"/>
                  </a:lnTo>
                  <a:lnTo>
                    <a:pt x="31" y="0"/>
                  </a:lnTo>
                  <a:lnTo>
                    <a:pt x="9" y="11"/>
                  </a:lnTo>
                  <a:lnTo>
                    <a:pt x="0" y="37"/>
                  </a:lnTo>
                  <a:lnTo>
                    <a:pt x="9" y="64"/>
                  </a:lnTo>
                  <a:lnTo>
                    <a:pt x="31" y="74"/>
                  </a:lnTo>
                  <a:lnTo>
                    <a:pt x="53" y="64"/>
                  </a:lnTo>
                  <a:lnTo>
                    <a:pt x="62" y="3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764320" y="2009880"/>
              <a:ext cx="87120" cy="1440"/>
            </a:xfrm>
            <a:custGeom>
              <a:avLst/>
              <a:gdLst/>
              <a:ahLst/>
              <a:rect l="l" t="t" r="r" b="b"/>
              <a:pathLst>
                <a:path w="55" h="1">
                  <a:moveTo>
                    <a:pt x="0" y="0"/>
                  </a:moveTo>
                  <a:lnTo>
                    <a:pt x="54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6492960" y="282600"/>
              <a:ext cx="1440" cy="133200"/>
            </a:xfrm>
            <a:custGeom>
              <a:avLst/>
              <a:gdLst/>
              <a:ahLst/>
              <a:rect l="l" t="t" r="r" b="b"/>
              <a:pathLst>
                <a:path w="1" h="84">
                  <a:moveTo>
                    <a:pt x="0" y="0"/>
                  </a:moveTo>
                  <a:lnTo>
                    <a:pt x="0" y="8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6567480" y="282600"/>
              <a:ext cx="1440" cy="133200"/>
            </a:xfrm>
            <a:custGeom>
              <a:avLst/>
              <a:gdLst/>
              <a:ahLst/>
              <a:rect l="l" t="t" r="r" b="b"/>
              <a:pathLst>
                <a:path w="1" h="84">
                  <a:moveTo>
                    <a:pt x="0" y="0"/>
                  </a:moveTo>
                  <a:lnTo>
                    <a:pt x="0" y="8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6456240" y="270000"/>
              <a:ext cx="149400" cy="1440"/>
            </a:xfrm>
            <a:custGeom>
              <a:avLst/>
              <a:gdLst/>
              <a:ahLst/>
              <a:rect l="l" t="t" r="r" b="b"/>
              <a:pathLst>
                <a:path w="94" h="1">
                  <a:moveTo>
                    <a:pt x="0" y="0"/>
                  </a:moveTo>
                  <a:lnTo>
                    <a:pt x="93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6616800" y="1200240"/>
              <a:ext cx="1440" cy="98280"/>
            </a:xfrm>
            <a:custGeom>
              <a:avLst/>
              <a:gdLst/>
              <a:ahLst/>
              <a:rect l="l" t="t" r="r" b="b"/>
              <a:pathLst>
                <a:path w="1" h="62">
                  <a:moveTo>
                    <a:pt x="0" y="0"/>
                  </a:moveTo>
                  <a:lnTo>
                    <a:pt x="0" y="6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6912000" y="1200240"/>
              <a:ext cx="1440" cy="98280"/>
            </a:xfrm>
            <a:custGeom>
              <a:avLst/>
              <a:gdLst/>
              <a:ahLst/>
              <a:rect l="l" t="t" r="r" b="b"/>
              <a:pathLst>
                <a:path w="1" h="62">
                  <a:moveTo>
                    <a:pt x="0" y="0"/>
                  </a:moveTo>
                  <a:lnTo>
                    <a:pt x="0" y="6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6616800" y="1200240"/>
              <a:ext cx="296640" cy="98280"/>
            </a:xfrm>
            <a:custGeom>
              <a:avLst/>
              <a:gdLst/>
              <a:ahLst/>
              <a:rect l="l" t="t" r="r" b="b"/>
              <a:pathLst>
                <a:path w="187" h="62">
                  <a:moveTo>
                    <a:pt x="0" y="0"/>
                  </a:moveTo>
                  <a:lnTo>
                    <a:pt x="186" y="6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6616800" y="1200240"/>
              <a:ext cx="296640" cy="98280"/>
            </a:xfrm>
            <a:custGeom>
              <a:avLst/>
              <a:gdLst/>
              <a:ahLst/>
              <a:rect l="l" t="t" r="r" b="b"/>
              <a:pathLst>
                <a:path w="187" h="62">
                  <a:moveTo>
                    <a:pt x="0" y="61"/>
                  </a:moveTo>
                  <a:lnTo>
                    <a:pt x="186" y="0"/>
                  </a:lnTo>
                  <a:lnTo>
                    <a:pt x="0" y="6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6108840" y="1593720"/>
              <a:ext cx="569880" cy="274680"/>
            </a:xfrm>
            <a:custGeom>
              <a:avLst/>
              <a:gdLst/>
              <a:ahLst/>
              <a:rect l="l" t="t" r="r" b="b"/>
              <a:pathLst>
                <a:path w="359" h="173">
                  <a:moveTo>
                    <a:pt x="0" y="172"/>
                  </a:moveTo>
                  <a:lnTo>
                    <a:pt x="358" y="0"/>
                  </a:lnTo>
                  <a:lnTo>
                    <a:pt x="0" y="17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6886440" y="1593720"/>
              <a:ext cx="581040" cy="274680"/>
            </a:xfrm>
            <a:custGeom>
              <a:avLst/>
              <a:gdLst/>
              <a:ahLst/>
              <a:rect l="l" t="t" r="r" b="b"/>
              <a:pathLst>
                <a:path w="366" h="173">
                  <a:moveTo>
                    <a:pt x="0" y="0"/>
                  </a:moveTo>
                  <a:lnTo>
                    <a:pt x="365" y="172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515360" y="2225520"/>
              <a:ext cx="1440" cy="432000"/>
            </a:xfrm>
            <a:custGeom>
              <a:avLst/>
              <a:gdLst/>
              <a:ahLst/>
              <a:rect l="l" t="t" r="r" b="b"/>
              <a:pathLst>
                <a:path w="1" h="272">
                  <a:moveTo>
                    <a:pt x="0" y="0"/>
                  </a:moveTo>
                  <a:lnTo>
                    <a:pt x="0" y="27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751800" y="654120"/>
              <a:ext cx="1440" cy="392040"/>
            </a:xfrm>
            <a:custGeom>
              <a:avLst/>
              <a:gdLst/>
              <a:ahLst/>
              <a:rect l="l" t="t" r="r" b="b"/>
              <a:pathLst>
                <a:path w="1" h="247">
                  <a:moveTo>
                    <a:pt x="0" y="0"/>
                  </a:moveTo>
                  <a:lnTo>
                    <a:pt x="0" y="246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7134120" y="1974960"/>
              <a:ext cx="100080" cy="122040"/>
            </a:xfrm>
            <a:custGeom>
              <a:avLst/>
              <a:gdLst/>
              <a:ahLst/>
              <a:rect l="l" t="t" r="r" b="b"/>
              <a:pathLst>
                <a:path w="63" h="77">
                  <a:moveTo>
                    <a:pt x="62" y="38"/>
                  </a:moveTo>
                  <a:lnTo>
                    <a:pt x="53" y="11"/>
                  </a:lnTo>
                  <a:lnTo>
                    <a:pt x="31" y="0"/>
                  </a:lnTo>
                  <a:lnTo>
                    <a:pt x="9" y="11"/>
                  </a:lnTo>
                  <a:lnTo>
                    <a:pt x="0" y="38"/>
                  </a:lnTo>
                  <a:lnTo>
                    <a:pt x="9" y="65"/>
                  </a:lnTo>
                  <a:lnTo>
                    <a:pt x="31" y="76"/>
                  </a:lnTo>
                  <a:lnTo>
                    <a:pt x="53" y="65"/>
                  </a:lnTo>
                  <a:lnTo>
                    <a:pt x="62" y="3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183440" y="1986120"/>
              <a:ext cx="87480" cy="1440"/>
            </a:xfrm>
            <a:custGeom>
              <a:avLst/>
              <a:gdLst/>
              <a:ahLst/>
              <a:rect l="l" t="t" r="r" b="b"/>
              <a:pathLst>
                <a:path w="55" h="1">
                  <a:moveTo>
                    <a:pt x="0" y="0"/>
                  </a:moveTo>
                  <a:lnTo>
                    <a:pt x="54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6072120" y="2236680"/>
              <a:ext cx="1800" cy="430200"/>
            </a:xfrm>
            <a:custGeom>
              <a:avLst/>
              <a:gdLst/>
              <a:ahLst/>
              <a:rect l="l" t="t" r="r" b="b"/>
              <a:pathLst>
                <a:path w="1" h="271">
                  <a:moveTo>
                    <a:pt x="0" y="0"/>
                  </a:moveTo>
                  <a:lnTo>
                    <a:pt x="0" y="27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630760" y="2617920"/>
              <a:ext cx="114804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Reserve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7189560" y="2630520"/>
              <a:ext cx="90576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Sailor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445800" y="1346040"/>
              <a:ext cx="8038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id=s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778720" y="2023920"/>
              <a:ext cx="9028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id=100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6522840" y="318960"/>
              <a:ext cx="748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na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7064280" y="162000"/>
              <a:ext cx="134784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(On-the-fly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7173720" y="2000160"/>
              <a:ext cx="9835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ating &gt; 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4718880" y="1828800"/>
              <a:ext cx="84636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(Scan;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4719600" y="2000160"/>
              <a:ext cx="101088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write to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4718880" y="2165400"/>
              <a:ext cx="108576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temp T1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8027280" y="1819440"/>
              <a:ext cx="84636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(Scan;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8028360" y="1986120"/>
              <a:ext cx="95148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write to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8027280" y="2151000"/>
              <a:ext cx="108576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temp T2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7088760" y="1104840"/>
              <a:ext cx="197424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(Sort-Merge Join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ternative Plans 2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th Index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548640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clustered index 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i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Reserves, we get 100,000/100 =  1000 tuples on 1000/100 = 10 pa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L with </a:t>
            </a:r>
            <a:r>
              <a:rPr b="1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pipelining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(outer is not materialized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-218160" y="4633920"/>
            <a:ext cx="9051840" cy="17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Decision not to push 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rating&gt;5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before the join is based 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availability of 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sid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index on Sailo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Book Antiqua"/>
              </a:rPr>
              <a:t>Cost: 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Selection of Reserves tuples (10 I/Os); for each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must get matching Sailors tuple (1000*1.2); total </a:t>
            </a:r>
            <a:r>
              <a:rPr b="0" lang="en-US" sz="2400" spc="-1" strike="noStrike">
                <a:solidFill>
                  <a:srgbClr val="3333cc"/>
                </a:solidFill>
                <a:latin typeface="Book Antiqua"/>
              </a:rPr>
              <a:t>1210 I/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5440" y="3733920"/>
            <a:ext cx="7621920" cy="82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Join column 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sid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is a key for Sailo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At most one matching tuple, unclustered index on </a:t>
            </a:r>
            <a:r>
              <a:rPr b="0" i="1" lang="en-US" sz="2000" spc="-1" strike="noStrike">
                <a:solidFill>
                  <a:srgbClr val="000000"/>
                </a:solidFill>
                <a:latin typeface="Book Antiqua"/>
              </a:rPr>
              <a:t>sid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O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6981840" y="1789200"/>
            <a:ext cx="1440" cy="88920"/>
          </a:xfrm>
          <a:custGeom>
            <a:avLst/>
            <a:gdLst/>
            <a:ahLst/>
            <a:rect l="l" t="t" r="r" b="b"/>
            <a:pathLst>
              <a:path w="1" h="56">
                <a:moveTo>
                  <a:pt x="0" y="0"/>
                </a:moveTo>
                <a:lnTo>
                  <a:pt x="0" y="55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7164360" y="1789200"/>
            <a:ext cx="1440" cy="88920"/>
          </a:xfrm>
          <a:custGeom>
            <a:avLst/>
            <a:gdLst/>
            <a:ahLst/>
            <a:rect l="l" t="t" r="r" b="b"/>
            <a:pathLst>
              <a:path w="1" h="56">
                <a:moveTo>
                  <a:pt x="0" y="0"/>
                </a:moveTo>
                <a:lnTo>
                  <a:pt x="0" y="55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6981840" y="1789200"/>
            <a:ext cx="183960" cy="88920"/>
          </a:xfrm>
          <a:custGeom>
            <a:avLst/>
            <a:gdLst/>
            <a:ahLst/>
            <a:rect l="l" t="t" r="r" b="b"/>
            <a:pathLst>
              <a:path w="116" h="56">
                <a:moveTo>
                  <a:pt x="0" y="0"/>
                </a:moveTo>
                <a:lnTo>
                  <a:pt x="115" y="55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6981840" y="1789200"/>
            <a:ext cx="183960" cy="88920"/>
          </a:xfrm>
          <a:custGeom>
            <a:avLst/>
            <a:gdLst/>
            <a:ahLst/>
            <a:rect l="l" t="t" r="r" b="b"/>
            <a:pathLst>
              <a:path w="116" h="56">
                <a:moveTo>
                  <a:pt x="0" y="55"/>
                </a:moveTo>
                <a:lnTo>
                  <a:pt x="115" y="0"/>
                </a:lnTo>
                <a:lnTo>
                  <a:pt x="0" y="55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6669000" y="2146320"/>
            <a:ext cx="351000" cy="250920"/>
          </a:xfrm>
          <a:custGeom>
            <a:avLst/>
            <a:gdLst/>
            <a:ahLst/>
            <a:rect l="l" t="t" r="r" b="b"/>
            <a:pathLst>
              <a:path w="221" h="158">
                <a:moveTo>
                  <a:pt x="0" y="157"/>
                </a:moveTo>
                <a:lnTo>
                  <a:pt x="220" y="0"/>
                </a:lnTo>
                <a:lnTo>
                  <a:pt x="0" y="15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7149960" y="2146320"/>
            <a:ext cx="360360" cy="250920"/>
          </a:xfrm>
          <a:custGeom>
            <a:avLst/>
            <a:gdLst/>
            <a:ahLst/>
            <a:rect l="l" t="t" r="r" b="b"/>
            <a:pathLst>
              <a:path w="227" h="158">
                <a:moveTo>
                  <a:pt x="0" y="0"/>
                </a:moveTo>
                <a:lnTo>
                  <a:pt x="226" y="157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7072200" y="501480"/>
            <a:ext cx="1800" cy="390600"/>
          </a:xfrm>
          <a:custGeom>
            <a:avLst/>
            <a:gdLst/>
            <a:ahLst/>
            <a:rect l="l" t="t" r="r" b="b"/>
            <a:pathLst>
              <a:path w="1" h="246">
                <a:moveTo>
                  <a:pt x="0" y="0"/>
                </a:moveTo>
                <a:lnTo>
                  <a:pt x="0" y="245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7066080" y="1290600"/>
            <a:ext cx="1440" cy="358920"/>
          </a:xfrm>
          <a:custGeom>
            <a:avLst/>
            <a:gdLst/>
            <a:ahLst/>
            <a:rect l="l" t="t" r="r" b="b"/>
            <a:pathLst>
              <a:path w="1" h="226">
                <a:moveTo>
                  <a:pt x="0" y="0"/>
                </a:moveTo>
                <a:lnTo>
                  <a:pt x="0" y="225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6843600" y="206280"/>
            <a:ext cx="1800" cy="120600"/>
          </a:xfrm>
          <a:custGeom>
            <a:avLst/>
            <a:gdLst/>
            <a:ahLst/>
            <a:rect l="l" t="t" r="r" b="b"/>
            <a:pathLst>
              <a:path w="1" h="76">
                <a:moveTo>
                  <a:pt x="0" y="0"/>
                </a:moveTo>
                <a:lnTo>
                  <a:pt x="0" y="75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6889680" y="206280"/>
            <a:ext cx="1800" cy="120600"/>
          </a:xfrm>
          <a:custGeom>
            <a:avLst/>
            <a:gdLst/>
            <a:ahLst/>
            <a:rect l="l" t="t" r="r" b="b"/>
            <a:pathLst>
              <a:path w="1" h="76">
                <a:moveTo>
                  <a:pt x="0" y="0"/>
                </a:moveTo>
                <a:lnTo>
                  <a:pt x="0" y="75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6821640" y="196920"/>
            <a:ext cx="91800" cy="1440"/>
          </a:xfrm>
          <a:custGeom>
            <a:avLst/>
            <a:gdLst/>
            <a:ahLst/>
            <a:rect l="l" t="t" r="r" b="b"/>
            <a:pathLst>
              <a:path w="58" h="1">
                <a:moveTo>
                  <a:pt x="0" y="0"/>
                </a:moveTo>
                <a:lnTo>
                  <a:pt x="57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6837480" y="957240"/>
            <a:ext cx="61920" cy="109440"/>
          </a:xfrm>
          <a:custGeom>
            <a:avLst/>
            <a:gdLst/>
            <a:ahLst/>
            <a:rect l="l" t="t" r="r" b="b"/>
            <a:pathLst>
              <a:path w="39" h="69">
                <a:moveTo>
                  <a:pt x="38" y="34"/>
                </a:moveTo>
                <a:lnTo>
                  <a:pt x="33" y="10"/>
                </a:lnTo>
                <a:lnTo>
                  <a:pt x="19" y="0"/>
                </a:lnTo>
                <a:lnTo>
                  <a:pt x="5" y="10"/>
                </a:lnTo>
                <a:lnTo>
                  <a:pt x="0" y="34"/>
                </a:lnTo>
                <a:lnTo>
                  <a:pt x="5" y="58"/>
                </a:lnTo>
                <a:lnTo>
                  <a:pt x="19" y="68"/>
                </a:lnTo>
                <a:lnTo>
                  <a:pt x="33" y="58"/>
                </a:lnTo>
                <a:lnTo>
                  <a:pt x="38" y="3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6865920" y="966960"/>
            <a:ext cx="57240" cy="1440"/>
          </a:xfrm>
          <a:custGeom>
            <a:avLst/>
            <a:gdLst/>
            <a:ahLst/>
            <a:rect l="l" t="t" r="r" b="b"/>
            <a:pathLst>
              <a:path w="36" h="1">
                <a:moveTo>
                  <a:pt x="0" y="0"/>
                </a:moveTo>
                <a:lnTo>
                  <a:pt x="35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653160" y="2774880"/>
            <a:ext cx="1800" cy="389160"/>
          </a:xfrm>
          <a:custGeom>
            <a:avLst/>
            <a:gdLst/>
            <a:ahLst/>
            <a:rect l="l" t="t" r="r" b="b"/>
            <a:pathLst>
              <a:path w="1" h="245">
                <a:moveTo>
                  <a:pt x="0" y="0"/>
                </a:moveTo>
                <a:lnTo>
                  <a:pt x="0" y="244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6338520" y="3201840"/>
            <a:ext cx="8661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er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7267680" y="2529000"/>
            <a:ext cx="6955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il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6688800" y="1852560"/>
            <a:ext cx="7153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d=s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6429960" y="2543040"/>
            <a:ext cx="8006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id=10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6826320" y="249120"/>
            <a:ext cx="6696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7419960" y="136440"/>
            <a:ext cx="10051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On-the-fl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6826680" y="984240"/>
            <a:ext cx="867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ating &gt;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5469480" y="2400480"/>
            <a:ext cx="9151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Use h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5546160" y="2550960"/>
            <a:ext cx="8632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dex; 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6418440" y="2514600"/>
            <a:ext cx="64800" cy="111240"/>
          </a:xfrm>
          <a:custGeom>
            <a:avLst/>
            <a:gdLst/>
            <a:ahLst/>
            <a:rect l="l" t="t" r="r" b="b"/>
            <a:pathLst>
              <a:path w="41" h="70">
                <a:moveTo>
                  <a:pt x="40" y="34"/>
                </a:moveTo>
                <a:lnTo>
                  <a:pt x="34" y="10"/>
                </a:lnTo>
                <a:lnTo>
                  <a:pt x="20" y="0"/>
                </a:lnTo>
                <a:lnTo>
                  <a:pt x="6" y="10"/>
                </a:lnTo>
                <a:lnTo>
                  <a:pt x="0" y="34"/>
                </a:lnTo>
                <a:lnTo>
                  <a:pt x="6" y="59"/>
                </a:lnTo>
                <a:lnTo>
                  <a:pt x="20" y="69"/>
                </a:lnTo>
                <a:lnTo>
                  <a:pt x="34" y="59"/>
                </a:lnTo>
                <a:lnTo>
                  <a:pt x="40" y="3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6450120" y="2525760"/>
            <a:ext cx="58680" cy="1440"/>
          </a:xfrm>
          <a:custGeom>
            <a:avLst/>
            <a:gdLst/>
            <a:ahLst/>
            <a:rect l="l" t="t" r="r" b="b"/>
            <a:pathLst>
              <a:path w="37" h="1">
                <a:moveTo>
                  <a:pt x="0" y="0"/>
                </a:moveTo>
                <a:lnTo>
                  <a:pt x="36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5566680" y="2705040"/>
            <a:ext cx="8204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 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5565960" y="2854440"/>
            <a:ext cx="8298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ult t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5567040" y="3005280"/>
            <a:ext cx="5994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m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7374240" y="1684440"/>
            <a:ext cx="1728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Index Nested Loop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7374960" y="1838160"/>
            <a:ext cx="13464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th pipelining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7655040" y="912960"/>
            <a:ext cx="10051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On-the-fl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cc0066"/>
                </a:solidFill>
                <a:latin typeface="Times New Roman"/>
              </a:rPr>
              <a:t>Query normal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This stage converts the query into a normalized form that can be easily manipul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The predicate (in SQL) can be converted into one of two for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Conjunctive normal 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(position=„manager” or salary &gt; 1000) and deptId =10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Disjunctive normal 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(position=„manager” and salary &gt; 1000) or deptId =10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cc0066"/>
                </a:solidFill>
                <a:latin typeface="Times New Roman"/>
              </a:rPr>
              <a:t>Query semantic analy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im is to reject normalized queries that are incorrectly formulated or contradicto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query is incorrectly formulated if components do not contribute to the generation of the 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query is contradictory if its predicate cannot be satisfied by any tu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osition = ‘manager’ and position = ‘assistant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(position = ‘manager’ and position = ‘assistant’) or salary &gt; 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may be simplified to salary &gt; 100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the contradictory clause is interpreted as the Boolean value FA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cc0066"/>
                </a:solidFill>
                <a:latin typeface="Times New Roman"/>
              </a:rPr>
              <a:t>Query semantic analy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Algorithms to determine correctness exist only dor the subset of queries that do not contain disjunction and neg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Solu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Construct a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relation connection graph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– query join graph (nodes correspond to relations) – if the graph is not connected than the query is incorrectly formul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18T17:26:12Z</dcterms:created>
  <dc:creator>alon</dc:creator>
  <dc:description/>
  <dc:language>en-US</dc:language>
  <cp:lastModifiedBy>Tadeusz Morzy</cp:lastModifiedBy>
  <cp:lastPrinted>1999-11-10T18:13:58Z</cp:lastPrinted>
  <dcterms:modified xsi:type="dcterms:W3CDTF">2005-01-20T10:18:41Z</dcterms:modified>
  <cp:revision>95</cp:revision>
  <dc:subject/>
  <dc:title>Architecture of a DBMS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2</vt:r8>
  </property>
  <property fmtid="{D5CDD505-2E9C-101B-9397-08002B2CF9AE}" pid="4" name="Compression">
    <vt:r8>95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cs.washington.edu/homes/alon</vt:lpwstr>
  </property>
  <property fmtid="{D5CDD505-2E9C-101B-9397-08002B2CF9AE}" pid="9" name="LinkColor">
    <vt:r8>16711782</vt:r8>
  </property>
  <property fmtid="{D5CDD505-2E9C-101B-9397-08002B2CF9AE}" pid="10" name="MailAddress">
    <vt:lpwstr>alon@cs.washington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G:\taweb\lectures\</vt:lpwstr>
  </property>
  <property fmtid="{D5CDD505-2E9C-101B-9397-08002B2CF9AE}" pid="14" name="ScreenSize">
    <vt:r8>2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