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E802-A163-4DD5-AB3A-A0757A149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2B62-0203-4E15-B9EC-6E6A71763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05B6-354E-499E-A125-81C90928E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90B2-1412-4E42-A0BF-43E947D58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EC8A-2D14-4615-9BD5-AE99C83C6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3B1B-43F7-4DF7-95CB-054E1A897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0415-3E31-4D8E-B919-0261D0AC7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C832-77D0-49D5-85EC-0BD84C654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7595-094E-4A3F-B0A3-84F11C025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EB92-D9DC-4742-A8B2-A991AE512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E0D0-6C35-4492-89F1-712E89D1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B765-F592-4B84-AB14-6CD8FB29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030BE-330D-4D07-8686-5C8056F082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3333cc"/>
                </a:solidFill>
                <a:latin typeface="Times New Roman"/>
              </a:rPr>
              <a:t>Uszeregowalnoś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14400" y="3962520"/>
            <a:ext cx="7238880" cy="1523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cc"/>
                </a:solidFill>
                <a:latin typeface="Times New Roman"/>
              </a:rPr>
              <a:t>Graf uszeregowalności (c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żeli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istnieje operacja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o (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żeli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  istnieje operacja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to (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a realizacja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jest uszeregowalna wtedy i tylko wtedy, gdy można skonstruować dla niej acykliczny skierowany graf uszeregowlaności SG(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0120" y="2057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78168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cc"/>
                </a:solidFill>
                <a:latin typeface="Times New Roman"/>
              </a:rPr>
              <a:t>Uszeregowalność transakcji - klasyfikacj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828800" y="15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828800" y="2057400"/>
          <a:ext cx="5486400" cy="381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057400"/>
                    <a:ext cx="5486400" cy="38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cc"/>
                </a:solidFill>
                <a:latin typeface="Times New Roman"/>
              </a:rPr>
              <a:t>Realizacje</a:t>
            </a:r>
            <a:r>
              <a:rPr b="1" lang="en-GB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odtwarzaln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y własność uszeregowalności gwarantuje wolność od anomalii ?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Przykła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H = r</a:t>
            </a:r>
            <a:r>
              <a:rPr b="0" i="1" lang="pl-PL" sz="2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[x] w</a:t>
            </a:r>
            <a:r>
              <a:rPr b="0" i="1" lang="pl-PL" sz="2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[x] r</a:t>
            </a:r>
            <a:r>
              <a:rPr b="0" i="1" lang="pl-PL" sz="2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[y] r</a:t>
            </a:r>
            <a:r>
              <a:rPr b="0" i="1" lang="pl-PL" sz="2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[x] w</a:t>
            </a:r>
            <a:r>
              <a:rPr b="0" i="1" lang="pl-PL" sz="2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[y] r</a:t>
            </a:r>
            <a:r>
              <a:rPr b="0" i="1" lang="pl-PL" sz="2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[y] c</a:t>
            </a:r>
            <a:r>
              <a:rPr b="0" i="1" lang="pl-PL" sz="2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 r</a:t>
            </a:r>
            <a:r>
              <a:rPr b="0" i="1" lang="pl-PL" sz="2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[z] w</a:t>
            </a:r>
            <a:r>
              <a:rPr b="0" i="1" lang="pl-PL" sz="2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[z] &lt;</a:t>
            </a:r>
            <a:r>
              <a:rPr b="0" i="1" lang="pl-PL" sz="2800" spc="-1" strike="noStrike">
                <a:solidFill>
                  <a:srgbClr val="ff0000"/>
                </a:solidFill>
                <a:latin typeface="Arial"/>
                <a:ea typeface="Arial"/>
              </a:rPr>
              <a:t>crash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&gt; c</a:t>
            </a:r>
            <a:r>
              <a:rPr b="0" i="1" lang="pl-PL" sz="2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Historia H jest uszeregowalna, ale nie jest wolna od anomalii (brudny odczyt). Po restarcie systemu transakcja T</a:t>
            </a:r>
            <a:r>
              <a:rPr b="0" lang="pl-PL" sz="28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nie zostanie poprawnie odtworzo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efinicj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rzebna jest definicja nowych własności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ealizacj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ykluczających anomalie będące wynikiem awarii syste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ówimy,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ż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 transakcja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i="1" lang="pl-PL" sz="2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i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zyta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dan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transakcji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i="1" lang="pl-PL" sz="2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j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w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ealizacj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H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j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ż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l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</a:t>
            </a:r>
            <a:r>
              <a:rPr b="0" lang="de-DE" sz="2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j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[x] &lt; 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de-DE" sz="2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[x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r>
              <a:rPr b="0" i="1" lang="pl-PL" sz="2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j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&lt;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pl-PL" sz="2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[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j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ż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li istnieje operacja w</a:t>
            </a:r>
            <a:r>
              <a:rPr b="0" lang="pl-PL" sz="2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[x] taka,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ż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 w</a:t>
            </a:r>
            <a:r>
              <a:rPr b="0" lang="pl-PL" sz="2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j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[x] &lt; w</a:t>
            </a:r>
            <a:r>
              <a:rPr b="0" lang="pl-PL" sz="2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[x] &lt;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pl-PL" sz="2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[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], wtedy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r>
              <a:rPr b="0" i="1" lang="pl-PL" sz="2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&lt;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pl-PL" sz="2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[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]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ówimy,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ż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 transakcja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i="1" lang="pl-PL" sz="2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i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zyta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transakcji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i="1" lang="pl-PL" sz="2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j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w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ealizacj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H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, j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ż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li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i="1" lang="pl-PL" sz="2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zyta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ja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ąś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dan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z transakcji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i="1" lang="pl-PL" sz="2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j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w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ealizacj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1676160" y="34290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cc"/>
                </a:solidFill>
                <a:latin typeface="Times New Roman"/>
              </a:rPr>
              <a:t>Realizacje odtwarzal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Realizacja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H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jest </a:t>
            </a:r>
            <a:r>
              <a:rPr b="1" i="1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odtwarzalna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(ang. 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recoverable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) (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RC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)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ówczas,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je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ż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eli transakcja 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i="1" lang="pl-PL" sz="28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zyta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transakcji 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i="1" lang="pl-PL" sz="28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j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(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j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) w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realizacji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H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i 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r>
              <a:rPr b="0" i="1" lang="pl-PL" sz="28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H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, to 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r>
              <a:rPr b="0" i="1" lang="pl-PL" sz="28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j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&lt; 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r>
              <a:rPr b="0" i="1" lang="pl-PL" sz="28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Realizacja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H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i="1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unika kaskadowych wycofa</a:t>
            </a:r>
            <a:r>
              <a:rPr b="1" i="1" lang="pl-PL" sz="2800" spc="-1" strike="noStrike">
                <a:solidFill>
                  <a:srgbClr val="000000"/>
                </a:solidFill>
                <a:latin typeface="Times New Roman"/>
              </a:rPr>
              <a:t>ń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(ang. 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voids cascading aborts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) (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CA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)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ówczas,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je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ż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eli transakcja 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i="1" lang="pl-PL" sz="28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zyta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transakcji 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i="1" lang="pl-PL" sz="28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j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(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j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), to 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r>
              <a:rPr b="0" i="1" lang="pl-PL" sz="28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j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&lt; 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pl-PL" sz="28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i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[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Realizacja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H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jest </a:t>
            </a:r>
            <a:r>
              <a:rPr b="1" i="1" lang="pl-PL" sz="2800" spc="-1" strike="noStrike">
                <a:solidFill>
                  <a:srgbClr val="000000"/>
                </a:solidFill>
                <a:latin typeface="Times New Roman"/>
              </a:rPr>
              <a:t>ś</a:t>
            </a:r>
            <a:r>
              <a:rPr b="1" i="1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is</a:t>
            </a:r>
            <a:r>
              <a:rPr b="1" i="1" lang="pl-PL" sz="2800" spc="-1" strike="noStrike">
                <a:solidFill>
                  <a:srgbClr val="000000"/>
                </a:solidFill>
                <a:latin typeface="Times New Roman"/>
              </a:rPr>
              <a:t>ł</a:t>
            </a:r>
            <a:r>
              <a:rPr b="1" i="1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(ang. 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strict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) (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ST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)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ówczas,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je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ż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eli 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w</a:t>
            </a:r>
            <a:r>
              <a:rPr b="0" i="1" lang="pl-PL" sz="28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j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[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] &lt; 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o</a:t>
            </a:r>
            <a:r>
              <a:rPr b="0" i="1" lang="pl-PL" sz="28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i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[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] (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j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), zachodzi 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r>
              <a:rPr b="0" i="1" lang="pl-PL" sz="28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j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&lt; 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o</a:t>
            </a:r>
            <a:r>
              <a:rPr b="0" i="1" lang="pl-PL" sz="28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i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[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] lub 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r>
              <a:rPr b="0" i="1" lang="pl-PL" sz="28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j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 &lt; 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o</a:t>
            </a:r>
            <a:r>
              <a:rPr b="0" i="1" lang="pl-PL" sz="28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i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[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], gdzie 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o</a:t>
            </a:r>
            <a:r>
              <a:rPr b="0" i="1" lang="pl-PL" sz="28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i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[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] jest jedn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ą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z operacji 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pl-PL" sz="28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i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[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] lub 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w</a:t>
            </a:r>
            <a:r>
              <a:rPr b="0" i="1" lang="pl-PL" sz="28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i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[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cc"/>
                </a:solidFill>
                <a:latin typeface="Times New Roman"/>
              </a:rPr>
              <a:t>Realizacje odtwarzal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zykła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i="1" lang="pl-PL" sz="2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w</a:t>
            </a:r>
            <a:r>
              <a:rPr b="0" i="1" lang="pl-PL" sz="2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[x] w</a:t>
            </a:r>
            <a:r>
              <a:rPr b="0" i="1" lang="pl-PL" sz="2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[y] w</a:t>
            </a:r>
            <a:r>
              <a:rPr b="0" i="1" lang="pl-PL" sz="2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[z] c</a:t>
            </a:r>
            <a:r>
              <a:rPr b="0" i="1" lang="pl-PL" sz="2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i="1" lang="pl-PL" sz="2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r</a:t>
            </a:r>
            <a:r>
              <a:rPr b="0" i="1" lang="pl-PL" sz="2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[u] w</a:t>
            </a:r>
            <a:r>
              <a:rPr b="0" i="1" lang="pl-PL" sz="2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[x] r</a:t>
            </a:r>
            <a:r>
              <a:rPr b="0" i="1" lang="pl-PL" sz="2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[y] w</a:t>
            </a:r>
            <a:r>
              <a:rPr b="0" i="1" lang="pl-PL" sz="2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[y] c</a:t>
            </a:r>
            <a:r>
              <a:rPr b="0" i="1" lang="pl-PL" sz="2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H</a:t>
            </a:r>
            <a:r>
              <a:rPr b="0" i="1" lang="pl-PL" sz="2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w</a:t>
            </a:r>
            <a:r>
              <a:rPr b="0" i="1" lang="pl-PL" sz="2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[x] w</a:t>
            </a:r>
            <a:r>
              <a:rPr b="0" i="1" lang="pl-PL" sz="2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[y] r</a:t>
            </a:r>
            <a:r>
              <a:rPr b="0" i="1" lang="pl-PL" sz="2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[u] w</a:t>
            </a:r>
            <a:r>
              <a:rPr b="0" i="1" lang="pl-PL" sz="2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[x] r</a:t>
            </a:r>
            <a:r>
              <a:rPr b="0" i="1" lang="pl-PL" sz="2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[y] w</a:t>
            </a:r>
            <a:r>
              <a:rPr b="0" i="1" lang="pl-PL" sz="2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[y] c</a:t>
            </a:r>
            <a:r>
              <a:rPr b="0" i="1" lang="pl-PL" sz="2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w</a:t>
            </a:r>
            <a:r>
              <a:rPr b="0" i="1" lang="pl-PL" sz="2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[z] c</a:t>
            </a:r>
            <a:r>
              <a:rPr b="0" i="1" lang="pl-PL" sz="2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H</a:t>
            </a:r>
            <a:r>
              <a:rPr b="0" i="1" lang="pl-PL" sz="2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w</a:t>
            </a:r>
            <a:r>
              <a:rPr b="0" i="1" lang="pl-PL" sz="2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[x] w</a:t>
            </a:r>
            <a:r>
              <a:rPr b="0" i="1" lang="pl-PL" sz="2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[y] r</a:t>
            </a:r>
            <a:r>
              <a:rPr b="0" i="1" lang="pl-PL" sz="2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[u] w</a:t>
            </a:r>
            <a:r>
              <a:rPr b="0" i="1" lang="pl-PL" sz="2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[x] r</a:t>
            </a:r>
            <a:r>
              <a:rPr b="0" i="1" lang="pl-PL" sz="2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[y] w</a:t>
            </a:r>
            <a:r>
              <a:rPr b="0" i="1" lang="pl-PL" sz="2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[y] w</a:t>
            </a:r>
            <a:r>
              <a:rPr b="0" i="1" lang="pl-PL" sz="2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[z] c</a:t>
            </a:r>
            <a:r>
              <a:rPr b="0" i="1" lang="pl-PL" sz="2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c</a:t>
            </a:r>
            <a:r>
              <a:rPr b="0" i="1" lang="pl-PL" sz="2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H</a:t>
            </a:r>
            <a:r>
              <a:rPr b="0" i="1" lang="pl-PL" sz="2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3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w</a:t>
            </a:r>
            <a:r>
              <a:rPr b="0" i="1" lang="pl-PL" sz="2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[x] w</a:t>
            </a:r>
            <a:r>
              <a:rPr b="0" i="1" lang="pl-PL" sz="2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[y] r</a:t>
            </a:r>
            <a:r>
              <a:rPr b="0" i="1" lang="pl-PL" sz="2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[u] w</a:t>
            </a:r>
            <a:r>
              <a:rPr b="0" i="1" lang="pl-PL" sz="2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[x] w</a:t>
            </a:r>
            <a:r>
              <a:rPr b="0" i="1" lang="pl-PL" sz="2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[z] c</a:t>
            </a:r>
            <a:r>
              <a:rPr b="0" i="1" lang="pl-PL" sz="2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r</a:t>
            </a:r>
            <a:r>
              <a:rPr b="0" i="1" lang="pl-PL" sz="2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[y] w</a:t>
            </a:r>
            <a:r>
              <a:rPr b="0" i="1" lang="pl-PL" sz="2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[y] c</a:t>
            </a:r>
            <a:r>
              <a:rPr b="0" i="1" lang="pl-PL" sz="2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i="1" lang="pl-P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w</a:t>
            </a:r>
            <a:r>
              <a:rPr b="0" i="1" lang="pl-P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x] w</a:t>
            </a:r>
            <a:r>
              <a:rPr b="0" i="1" lang="pl-P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y] r</a:t>
            </a:r>
            <a:r>
              <a:rPr b="0" i="1" lang="pl-P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u] w</a:t>
            </a:r>
            <a:r>
              <a:rPr b="0" i="1" lang="pl-P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z] c</a:t>
            </a:r>
            <a:r>
              <a:rPr b="0" i="1" lang="pl-P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pl-P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x] r</a:t>
            </a:r>
            <a:r>
              <a:rPr b="0" i="1" lang="pl-P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y] w</a:t>
            </a:r>
            <a:r>
              <a:rPr b="0" i="1" lang="pl-P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y] c</a:t>
            </a:r>
            <a:r>
              <a:rPr b="0" i="1" lang="pl-P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Zależności między zbiorami </a:t>
            </a:r>
            <a:r>
              <a:rPr b="1" lang="pl-PL" sz="3600" spc="-1" strike="noStrike">
                <a:solidFill>
                  <a:srgbClr val="3333cc"/>
                </a:solidFill>
                <a:latin typeface="Times New Roman"/>
              </a:rPr>
              <a:t>realizacji</a:t>
            </a:r>
            <a:r>
              <a:rPr b="1" lang="en-GB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RC,</a:t>
            </a:r>
            <a:r>
              <a:rPr b="1" lang="en-GB" sz="36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en-GB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CA i S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71320" y="1889280"/>
            <a:ext cx="486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ierdzeni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T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A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62200" y="14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762200" y="2438280"/>
            <a:ext cx="5619600" cy="39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cc"/>
                </a:solidFill>
                <a:latin typeface="Times New Roman"/>
              </a:rPr>
              <a:t>Izolacj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447920" y="2057400"/>
            <a:ext cx="666756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zolacja = Uszeregowalność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cc"/>
                </a:solidFill>
                <a:latin typeface="Times New Roman"/>
              </a:rPr>
              <a:t>Realizacje uszeregowal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acja 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bioru transakcji jest </a:t>
            </a:r>
            <a:r>
              <a:rPr b="1" i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prawna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(uszeregowalna)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żeli jest ona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obrazowo i stanowo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ównoważna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jakiejkolwiek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kwencyjnej realizacji tego zbioru transakcji. Realizację taką nazywamy </a:t>
            </a:r>
            <a:r>
              <a:rPr b="1" i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acją uszeregowaln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(S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cc"/>
                </a:solidFill>
                <a:latin typeface="Times New Roman"/>
              </a:rPr>
              <a:t>Graf uszeregowalnośc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fem uszeregowalnośc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lizacji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nazywamy skierowany graf SG(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) = (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taki, w którym zbiór wierzchołków V odpowiada transakcjom ze zbioru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atomiast zbiór krawędzi jest zdefiniowany następująco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żeli istnieje dana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 operacje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takie, że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czyta wartość danej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apisanej przez operację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 algn="just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 algn="just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żeli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 istnieje operacja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o (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ub (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 algn="just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żeli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o (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9528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96080" y="4495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3T09:44:32Z</dcterms:created>
  <dc:creator>Tadeusz Morzy</dc:creator>
  <dc:description/>
  <dc:language>en-US</dc:language>
  <cp:lastModifiedBy>Tadeusz Morzy</cp:lastModifiedBy>
  <dcterms:modified xsi:type="dcterms:W3CDTF">2002-11-13T10:50:46Z</dcterms:modified>
  <cp:revision>19</cp:revision>
  <dc:subject/>
  <dc:title>Serializability</dc:title>
</cp:coreProperties>
</file>