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056-A723-40CA-A97C-0AECD67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0D8-7035-4C96-8F9D-8509CB09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B1F-1992-463C-946E-A73D0F34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95E-148F-4637-B627-DB7BECEB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B57-6A05-4254-8F78-00421DF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CBC-67DA-4A2D-BCF0-B4E2B78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346-DA34-4499-96CD-6EA5347F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C55-70B5-40AA-A5B7-ABFC19CD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3DE-2162-45CD-A35C-295BAC19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1BF-9908-468D-A1EF-7D54BCC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8BD-574F-4BC4-84FF-009BC9E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E69-B3D7-4B6A-A03E-B67C9ED9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F337-2DDF-4605-84EF-A0E0A806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66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Intersection of R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6765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Second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sets of rids of data records using each matching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s of r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the records and apply any remaining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Implementing Proj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 par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remove unwanted attribut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remove duplicates from the resul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finements to duplicate remov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index on a relation contains all wanted attributes, then we can d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-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index contains a subset of the wanted attributes, you can remove duplic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1066680"/>
            <a:ext cx="3000240" cy="19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DI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name,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erso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83059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Equality Joins With One Join Col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36232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      S is a common operation. The cross product is too large. Hence, performing  R    S and then a selection is too ineffici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 M pages in R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per page, N pages in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per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examples, R is Person and S is Purc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st 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# of I/Os.  We will ignore output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5800" y="1066680"/>
            <a:ext cx="410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 R, Purcha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name=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5800" y="2514600"/>
                <a:ext cx="41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2743200"/>
                <a:ext cx="547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724280" y="1143000"/>
            <a:ext cx="40388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imple Nested Loops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0"/>
            <a:ext cx="8991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tuple i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 R, we sca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 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:  M +  (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* M) * 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000 + 100*1000*500  I/Os: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 ho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-oriented Nested Loops join: 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R, get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, and write out matching pairs of tuples &lt;r, s&gt;, where r is in R-page and S is in S-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:  M + M*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00 + 1000*500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40960" y="1143000"/>
            <a:ext cx="6694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 each tuple r in R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 each tuple s in S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if r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 == s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j 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 then add &lt;r, s&gt; to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Index Nested Loops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133720"/>
            <a:ext cx="8915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an index on the join column of one relation (say S), can make it the in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:  M + ( (M*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* cost of finding matching S tupl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R tuple, cost of probing S index is about 1.2 for hash index, 2-4 for B+ tree.  Cost of then finding S tuples depends on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ustered index:  1 I/O (typical), unclustered: up to 1 I/O per matching S tu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2160" y="91440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each tuple r in R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each tuple s in S where r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 == s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j  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add &lt;r, s&gt; to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Examples of Index Nested Lo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066680"/>
            <a:ext cx="8991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sh-index 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Person (as inne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Purchase:  1000 page I/Os, 100*1000 tu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erson tuple:  1.2 I/Os to get data entry in index, plus 1 I/O to get (the exactly one) matching Person tuple.  Total:  220,000 I/Os.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sh-index 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uye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 Purchase (as inne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Person:  500 page I/Os, 80*500 tu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erson tuple:  1.2 I/Os to find index page with data entries, plus cost of retrieving matching Purchase tuples.  Assuming uniform distribution, 2.5 purchases per buyer (100,000 / 40,000).  Cost of retrieving them  is 1 or 2.5 I/Os depending on clus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Block Nested Loops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43000"/>
            <a:ext cx="8915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ne page as an input buffer for scanning the inner S, one page as the output buffer, and use all remaining pages to hold ``block’’ of outer 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or each matching tuple r in R-block, s in S-page, add      &lt;r, s&gt; to result.  Then read next R-block, scan 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2320" y="4197240"/>
            <a:ext cx="844560" cy="2027160"/>
            <a:chOff x="1822320" y="4197240"/>
            <a:chExt cx="844560" cy="2027160"/>
          </a:xfrm>
        </p:grpSpPr>
        <p:sp>
          <p:nvSpPr>
            <p:cNvPr id="163" name=""/>
            <p:cNvSpPr/>
            <p:nvPr/>
          </p:nvSpPr>
          <p:spPr>
            <a:xfrm>
              <a:off x="1835280" y="4197240"/>
              <a:ext cx="8254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8800" y="4267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4267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22320" y="5983560"/>
              <a:ext cx="83808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901960" y="4044960"/>
            <a:ext cx="341640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3880" y="4502160"/>
            <a:ext cx="29196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63880" y="4959360"/>
            <a:ext cx="29196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3880" y="5721480"/>
            <a:ext cx="291960" cy="291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62280" y="515304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11440" y="4578480"/>
            <a:ext cx="21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77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449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53200" y="446580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79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11440" y="5568840"/>
            <a:ext cx="2923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6560" y="55688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4800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57150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715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16560" y="384336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7600" y="4037040"/>
            <a:ext cx="236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440" y="5869080"/>
            <a:ext cx="1731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9560" y="58658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02920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699240" y="4197240"/>
            <a:ext cx="858600" cy="2027160"/>
            <a:chOff x="6699240" y="4197240"/>
            <a:chExt cx="858600" cy="2027160"/>
          </a:xfrm>
        </p:grpSpPr>
        <p:grpSp>
          <p:nvGrpSpPr>
            <p:cNvPr id="188" name=""/>
            <p:cNvGrpSpPr/>
            <p:nvPr/>
          </p:nvGrpSpPr>
          <p:grpSpPr>
            <a:xfrm>
              <a:off x="6699240" y="4197240"/>
              <a:ext cx="844560" cy="2027160"/>
              <a:chOff x="6699240" y="4197240"/>
              <a:chExt cx="844560" cy="202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11840" y="4197240"/>
                <a:ext cx="82548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0572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4380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99240" y="5983560"/>
                <a:ext cx="83772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016760" y="4502160"/>
              <a:ext cx="291960" cy="29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6760" y="4959360"/>
              <a:ext cx="291960" cy="291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6760" y="5721480"/>
              <a:ext cx="291960" cy="291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15160" y="515160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66960" y="384192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ort-Merge Join  (R     </a:t>
            </a: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371600"/>
            <a:ext cx="9067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R and S on the join column, then scan them to do a ``merge’’  on the join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dvance scan of R until current R-tuple &gt;= current S tuple, then advance scan of S until current S-tuple &gt;= current R tuple; do this until current R tuple = current S tu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 this point, all R tuples with same value and all S tuples with same value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tch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;  output &lt;r, s&gt; for all pairs of such tu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n resume scanning R and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095880" y="457200"/>
                <a:ext cx="576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177600" y="60948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=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ost of Sort-Merge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scanned once; each S group is scanned once per matching R tu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:  M log M + N log N + (M+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scanning, M+N, could be M*N (unlikely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35, 100 or 300 buffer pages, both Person and Purchase can be sorted in 2 passes;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otal: 7500.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5 seconds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Hash-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13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 (k &lt; B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36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252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257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33680" y="328680"/>
            <a:ext cx="5663520" cy="2971800"/>
            <a:chOff x="3433680" y="328680"/>
            <a:chExt cx="5663520" cy="2971800"/>
          </a:xfrm>
        </p:grpSpPr>
        <p:sp>
          <p:nvSpPr>
            <p:cNvPr id="266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76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91880" y="2230560"/>
              <a:ext cx="45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69080" y="2448000"/>
              <a:ext cx="52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97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306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Query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1430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1440" y="1219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1676160" cy="14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6120" y="76212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6640" y="24033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9984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ost of Hash-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143000"/>
            <a:ext cx="90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tioning phase, read+write both relations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(M+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n matching phase, read both relations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+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running example, this is a total of 4500 I/Os.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5 sec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rt-Merge Join vs.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minimum amount of memory both have a cost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(M+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s.  Hash Join superior on this count if relation sizes differ greatly.  Also, Hash Join shown to be highly paralleliz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-Merge less sensitive to data skew; result is s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Double Pipelined Join (Tukwil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962520"/>
            <a:ext cx="412884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ipelined: no output until inner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metric (inner vs. outer) — optimization requires source behavior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3962520"/>
            <a:ext cx="44085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Pipelined Hash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9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 data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9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 — requires less source knowledge to 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62120" y="1600200"/>
          <a:ext cx="73152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152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Query Execution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22920" y="15318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10040" y="15318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81520" y="1515960"/>
            <a:ext cx="174600" cy="180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40280" y="35290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8040" y="35290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40280" y="35290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40280" y="35290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4840" y="404028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61040" y="404028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2816280"/>
            <a:ext cx="144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16680" y="188928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2040" y="252900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7720" y="2541600"/>
            <a:ext cx="76320" cy="14616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87200" y="44798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2800" y="44640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59200" y="373860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58840" y="250992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53760" y="250992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5480" y="16002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8480" y="3733920"/>
            <a:ext cx="2529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(Simple Nested Loop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03960" y="24494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2280" y="14428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40" y="1447920"/>
            <a:ext cx="373428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13040" y="2205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80" y="3448080"/>
            <a:ext cx="329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676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Table 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188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 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3760" y="541008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,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The Leaves of the Plan: S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ble s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e through the records of the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ex s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 to the index, from there get the records in the file (when would this be bette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rted s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 the relation in order. Implementation depends on relatio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How do we combine Oper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he iterator mode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ach operation is implemented by 3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: sets up the data structures and performs initia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Next: returns the next tuple of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: ends the operations. Cleans up the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pipelin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st with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ata-driven materializ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t’s the same (e.g., sorted sca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Implementing Relational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consider how to impl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     )    Selects a subset of rows from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roj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     )   Deletes unwanted columns from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Joi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       )  Allows us to combine two re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5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Set-dif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uples in reln. 1, but not in reln.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5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Union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s in reln. 1 and in reln.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5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Aggreg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SUM, MIN, etc.) and GROUP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2286000"/>
                <a:ext cx="215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19520" y="3200400"/>
                <a:ext cx="1981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057400" y="4191120"/>
                <a:ext cx="5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chema for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067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Purch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uple is 40 bytes long,  100 tuples per page, 1000 pag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i.e., 100,000 tuples, 4MB for the entire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Per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uple is 50 bytes long,  80 tuples per page, 500 pag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i.e, 40,000 tuples, 2MB for the entire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0000" y="1828800"/>
            <a:ext cx="887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rchas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uy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:str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ell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string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integer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son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a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:str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string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inte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33520"/>
            <a:ext cx="4114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imple Se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 no index, unsorte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ssentially scan the whole relation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 is 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pages in 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 an index on selection attribut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dex to find qualifying data entries, then retrieve corresponding data records.  (Hash index useful only for equality selection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ult size estim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ze of R)  *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ctivity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2120" y="457200"/>
            <a:ext cx="369648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erso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R.phone &lt; ‘543%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90920" y="1905120"/>
                <a:ext cx="48258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attr</m:t>
                        </m:r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19040"/>
            <a:ext cx="80773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Two Approaches to General Se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00200"/>
            <a:ext cx="8991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First approach:</a:t>
            </a: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ost selective access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trieve tuples using it, and apply any remaining terms that don’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ost selective access path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x or file scan that we estimate will require the fewest page I/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ity=“seattle</a:t>
            </a:r>
            <a:r>
              <a:rPr b="0" i="1" lang="pl-PL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AND phone&lt;“543%”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sh index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; th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“543%” must be checked for each retrieved tu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a b-tree index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ld be used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ty=“seattl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then be checked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1:29:36Z</dcterms:created>
  <dc:creator>Tadeusz</dc:creator>
  <dc:description/>
  <dc:language>en-US</dc:language>
  <cp:lastModifiedBy>Tadeusz Morzy</cp:lastModifiedBy>
  <dcterms:modified xsi:type="dcterms:W3CDTF">2005-01-13T10:29:29Z</dcterms:modified>
  <cp:revision>26</cp:revision>
  <dc:subject/>
  <dc:title>Query Execution</dc:title>
</cp:coreProperties>
</file>