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B6DA-0A7D-4C14-B1DA-51F81E3D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655-E509-4845-9A08-1FA2C9CC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4F5-696E-4DEF-879B-94233148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441-89B2-49F9-BE1C-3822CB7A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F78-649F-41B7-9E73-E4DB5814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E3D-57AF-43EB-AFF8-5D0A10B3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2EE-1246-490D-ACF3-088C9D5D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858-96A5-4D8F-85F9-6BAF05C7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E32-7DD4-466F-A975-450DABCF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59CD-8EB2-47B2-BEC3-D49C3653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F46-F16A-42D5-943F-342FAEFF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A4A-C061-4B74-AF3C-9869A1D2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B6D1-7635-4388-8666-7D9BCCC6F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rzetwarzanie równoległe cz. 2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5181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afał Walkowia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esień 2002,3 rok informatyka, 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514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e systemów równoległ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omputery wektorowe –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mputer wektorowy - komputer zaprojektowany do realizacji operacji arytmetycznych na długich wektorach lub tablicach, wysoka efektywność przetwarzania wynika z wykorzystania przetwarzania potok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ktor - lista elementów w pamięci komputera, zdefiniowany za pomocą adresu początkowego, rozmiaru i przesunięcia (ang. str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jestr wektorowy - pamięć pośrednicząca pomiędzy jednostką przetwarzania a pamięcią kompu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ktoryzacja - zamiana sekwencji identycznych operacji arytmetycznych na jedną instrukcj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toki - jednostki arytmetyczne służące do efektywnego przetwarzania elementów wekto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twarzanie potokowe - nakładanie się realizacji różnych części lub etapów operacji arytmetycznej na różnych elementach wek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modele systemó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0F4-4526-4416-B2A8-702B04395F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omputery wektorowe –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awanie sekwen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łóżmy, że dodawanie zmiennoprzecinkowe jest realizowane w potoku składającym się z 6 fa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równanie wykładników składnik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przesunięcie mantysy składnika o mniejszym wykładniku, do uzyskania zgodności wykładnik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dodanie mantysy składnik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zaokrągl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sprawdzenie czy wystąpił błąd np. przepełni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normalizacja wyni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kładamy, że każda faza zabier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nostek cza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nik dla każdej pary elementów sumowanych uzyskamy po czasie 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żeli dodajem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zb to wynik uzyskujemy po czasi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modele systemó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EF7-4007-4363-A43B-FF9F265A65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omputery wektorowe –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awanie potok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żda faza operacji dodawania jest realizowana równocześnie na parze różnych składni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 zakończeniu fazy  A dla pierwszej pary składników, są one przesuwane do fazy B, a faza A jest realizowana dla kolejnej pary składnikó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żda z faz zabier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nostek cza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nik dla pierwszej pary składników uzyskujemy po czasi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t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nik dla każdej następnej pary wyników po czasi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owani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czb można dokonać w czasi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n+5)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a dużej liczby elementów przetwarzanie potokowe jest k razy szybsze od sekwencyjnego (gdzie k jest liczbą faz potok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modele systemó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2A8-F8C3-471D-9449-DF00105979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omputery wektorowe –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łańcuch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y wektorowe posiadają wiele potoków przetwar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łańcuchowanie to skierowanie wyjścia z jednego potoku na wejście kolejnego, co eliminuje potrzebę zapisu wyników pierwszej operacji do rejest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łańcuchowanie może zwiększyć liczbę operacji realizowanych równocześnie, a po czasie trwania fazy potoku pojawia się wynik dwóch lub więcej operacji (w zależności od liczby łańcuchowanych potokó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modele systemó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DD7-5DBC-49C9-8D40-9E28E5E549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omputery wektorowe –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lejność realizacji operacji wektorowy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twarzanie wektorowe może zmieniać kolejność operacji w ramach pęt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or ( i= 1; i &lt;= 3 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[i]=j[i]+k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[i]=l[i]+m[i]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lejność przetwarzania skalarnego:  wyznaczanie l[1],n[1],l[2],n[2]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lejność przetwarzania wektorowego: wyznaczenie l[1],l[2],l[3],n[1],n[2]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lana przez sprzę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żliwość nadpisania lub braku przypisania wartości w momencie gdy jest wykorzys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ktorowa zależność danych – sytuacja pojawia się, gdy zastosowanie wprost przetwarzania wektorowego prowadzi do błędnych (nieoczekiwanych) wy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modele systemó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F50-64D2-4DDD-9FEE-E2E2964BAD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Komputer równole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iór procesorów, które mo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sp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acow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la rozw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ania problemu obliczeniowe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ównole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superkomputery posiada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 ty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 setk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ub dziesiątk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oró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eci stacji robocz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cje wieloprocesorowe i systemy zag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omputery równole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 pozwala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koncentrow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tenc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bliczeniowy - procesory, pa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ę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 wys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zepusto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ystemu we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a-wy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a - na  w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ych problemach obliczeniowych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modele systemó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264-9914-4AA7-9246-58673DBB90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ielokomputerow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von Neuma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ednostka centralna p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zona z jednost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am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dnostka centralna wykonuje zapisany w pam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program ok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y kolejn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perac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dczytu i zapis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wykorzystywany w ramach bad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d algorytmami i 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ykami programow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ielokompu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kreślo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iczba komputerów modelu von Neumann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ó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rzetwarzającyc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i s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zajemnych p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z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y komputer realizuje swój 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ny progra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s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 do lokalnej pam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danie lub odbiór komunikatu z/do sie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modele systemó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7ED-BBC2-430F-A891-46A1582F52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ielokomputerow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omunika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 komunikowania 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z innymi komputerami lub zapisu, odczytu zdalnych p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z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z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omunikatu z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y od 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komunikat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do lokalnej p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jest mniej kosztowny od d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 do p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zdalnego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- odczyt i zapis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ze 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ie i odbieranie komunikat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ie do c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szego d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 do danych lokalnych 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zdalnych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ę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okal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ści przetwarza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kal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ść, współbieżność, skalowalność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fundamenta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y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taw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programow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u równoległem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modele systemó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03B-16DF-4ED4-A1F9-77A6B3EEE1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lasyfikacja Flynna systemów komputerow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D jeden strumień instrukcji, jeden strumień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D jeden strumień instrukcji, wiele strumieni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D wiele strumieni instrukcji, jeden strumień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MD wiele strumieni instrukcji, wiele strumieni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1066680"/>
            <a:ext cx="1143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2133720"/>
            <a:ext cx="1143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4267080"/>
            <a:ext cx="1143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3200400"/>
            <a:ext cx="1143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1676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1371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9152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2286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2895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3657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3962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4343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4800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572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4495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1066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1143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2362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,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1981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+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3124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3429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4114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66240" y="17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4572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4876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,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-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5334120"/>
            <a:ext cx="8305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twarzanie równoległe pozwala na uzyskanie jednocześnie wielu wyników dla tych samych lub różnych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modele systemó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D71-9A5F-4822-8F59-1DAD933F75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lasyfikacja Schwartza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komputerów równoległ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względnia sposób realizacji komun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arakomput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ólna pamięć operacyj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stęp współbieżny do pamię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munikacja w stałym cza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ltrakomput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munikacja za pomocą sieci połącz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as komunikacji między procesorami zależny od ich poło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modele systemó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338-51E6-494E-8D08-719AE2CBD1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maksymalny stopień wierzchoł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maksymalna  długość ścież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q x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=4 d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=2(q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stk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rzewa bina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ltrakomputery – sieć połacze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286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286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286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286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1" idx="2"/>
          </p:cNvCxnSpPr>
          <p:nvPr/>
        </p:nvCxnSpPr>
        <p:spPr>
          <a:xfrm>
            <a:off x="1218960" y="2361960"/>
            <a:ext cx="1530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101" idx="6"/>
            <a:endCxn id="102" idx="2"/>
          </p:cNvCxnSpPr>
          <p:nvPr/>
        </p:nvCxnSpPr>
        <p:spPr>
          <a:xfrm>
            <a:off x="1523880" y="236196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2" idx="6"/>
            <a:endCxn id="103" idx="2"/>
          </p:cNvCxnSpPr>
          <p:nvPr/>
        </p:nvCxnSpPr>
        <p:spPr>
          <a:xfrm>
            <a:off x="1828440" y="236196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1066680" y="25909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25909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7" idx="6"/>
            <a:endCxn id="108" idx="2"/>
          </p:cNvCxnSpPr>
          <p:nvPr/>
        </p:nvCxnSpPr>
        <p:spPr>
          <a:xfrm>
            <a:off x="1218960" y="2666520"/>
            <a:ext cx="1530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8" idx="6"/>
            <a:endCxn id="109" idx="2"/>
          </p:cNvCxnSpPr>
          <p:nvPr/>
        </p:nvCxnSpPr>
        <p:spPr>
          <a:xfrm>
            <a:off x="1523880" y="266652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9" idx="6"/>
            <a:endCxn id="110" idx="2"/>
          </p:cNvCxnSpPr>
          <p:nvPr/>
        </p:nvCxnSpPr>
        <p:spPr>
          <a:xfrm>
            <a:off x="1828440" y="26665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1066680" y="2895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2895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2895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2895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4" idx="6"/>
            <a:endCxn id="115" idx="2"/>
          </p:cNvCxnSpPr>
          <p:nvPr/>
        </p:nvCxnSpPr>
        <p:spPr>
          <a:xfrm>
            <a:off x="1218960" y="2971440"/>
            <a:ext cx="1530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6"/>
            <a:endCxn id="116" idx="2"/>
          </p:cNvCxnSpPr>
          <p:nvPr/>
        </p:nvCxnSpPr>
        <p:spPr>
          <a:xfrm>
            <a:off x="1523880" y="297144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6" idx="6"/>
            <a:endCxn id="117" idx="2"/>
          </p:cNvCxnSpPr>
          <p:nvPr/>
        </p:nvCxnSpPr>
        <p:spPr>
          <a:xfrm>
            <a:off x="1828440" y="297144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1066680" y="32004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3200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200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32004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6"/>
            <a:endCxn id="122" idx="2"/>
          </p:cNvCxnSpPr>
          <p:nvPr/>
        </p:nvCxnSpPr>
        <p:spPr>
          <a:xfrm>
            <a:off x="1218960" y="3276360"/>
            <a:ext cx="1530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>
            <a:off x="1523880" y="327636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3" idx="6"/>
            <a:endCxn id="124" idx="2"/>
          </p:cNvCxnSpPr>
          <p:nvPr/>
        </p:nvCxnSpPr>
        <p:spPr>
          <a:xfrm>
            <a:off x="1828440" y="327636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00" idx="4"/>
            <a:endCxn id="107" idx="0"/>
          </p:cNvCxnSpPr>
          <p:nvPr/>
        </p:nvCxnSpPr>
        <p:spPr>
          <a:xfrm>
            <a:off x="11426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"/>
          <p:cNvCxnSpPr>
            <a:stCxn id="107" idx="4"/>
            <a:endCxn id="114" idx="0"/>
          </p:cNvCxnSpPr>
          <p:nvPr/>
        </p:nvCxnSpPr>
        <p:spPr>
          <a:xfrm>
            <a:off x="1142640" y="2742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14" idx="4"/>
            <a:endCxn id="121" idx="0"/>
          </p:cNvCxnSpPr>
          <p:nvPr/>
        </p:nvCxnSpPr>
        <p:spPr>
          <a:xfrm>
            <a:off x="114264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01" idx="4"/>
            <a:endCxn id="108" idx="0"/>
          </p:cNvCxnSpPr>
          <p:nvPr/>
        </p:nvCxnSpPr>
        <p:spPr>
          <a:xfrm>
            <a:off x="144756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8" idx="4"/>
            <a:endCxn id="115" idx="0"/>
          </p:cNvCxnSpPr>
          <p:nvPr/>
        </p:nvCxnSpPr>
        <p:spPr>
          <a:xfrm>
            <a:off x="1447560" y="2742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15" idx="4"/>
            <a:endCxn id="122" idx="0"/>
          </p:cNvCxnSpPr>
          <p:nvPr/>
        </p:nvCxnSpPr>
        <p:spPr>
          <a:xfrm>
            <a:off x="144756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02" idx="4"/>
            <a:endCxn id="109" idx="0"/>
          </p:cNvCxnSpPr>
          <p:nvPr/>
        </p:nvCxnSpPr>
        <p:spPr>
          <a:xfrm>
            <a:off x="175212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98" idx="1"/>
            <a:endCxn id="98" idx="1"/>
          </p:cNvCxnSpPr>
          <p:nvPr/>
        </p:nvCxnSpPr>
        <p:spPr>
          <a:xfrm>
            <a:off x="685440" y="25905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09" idx="4"/>
            <a:endCxn id="116" idx="0"/>
          </p:cNvCxnSpPr>
          <p:nvPr/>
        </p:nvCxnSpPr>
        <p:spPr>
          <a:xfrm>
            <a:off x="1752120" y="2742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16" idx="4"/>
            <a:endCxn id="123" idx="0"/>
          </p:cNvCxnSpPr>
          <p:nvPr/>
        </p:nvCxnSpPr>
        <p:spPr>
          <a:xfrm>
            <a:off x="175212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03" idx="4"/>
            <a:endCxn id="110" idx="0"/>
          </p:cNvCxnSpPr>
          <p:nvPr/>
        </p:nvCxnSpPr>
        <p:spPr>
          <a:xfrm>
            <a:off x="2057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10" idx="4"/>
            <a:endCxn id="117" idx="0"/>
          </p:cNvCxnSpPr>
          <p:nvPr/>
        </p:nvCxnSpPr>
        <p:spPr>
          <a:xfrm>
            <a:off x="2057040" y="2742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17" idx="4"/>
            <a:endCxn id="124" idx="0"/>
          </p:cNvCxnSpPr>
          <p:nvPr/>
        </p:nvCxnSpPr>
        <p:spPr>
          <a:xfrm>
            <a:off x="205704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762120" y="5791320"/>
            <a:ext cx="739116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=d</a:t>
            </a:r>
            <a:r>
              <a:rPr b="0" lang="pl-PL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=d – wymiar m = 2</a:t>
            </a:r>
            <a:r>
              <a:rPr b="0" lang="pl-PL" sz="19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= 3 d</a:t>
            </a:r>
            <a:r>
              <a:rPr b="0" lang="pl-PL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= 2 * log (m+1) </a:t>
            </a:r>
            <a:r>
              <a:rPr b="0" lang="pl-PL" sz="19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9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5181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5181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43000" y="4114800"/>
            <a:ext cx="914400" cy="1143360"/>
            <a:chOff x="1143000" y="4114800"/>
            <a:chExt cx="914400" cy="1143360"/>
          </a:xfrm>
        </p:grpSpPr>
        <p:sp>
          <p:nvSpPr>
            <p:cNvPr id="145" name=""/>
            <p:cNvSpPr/>
            <p:nvPr/>
          </p:nvSpPr>
          <p:spPr>
            <a:xfrm>
              <a:off x="1905120" y="4724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95280" y="4114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" name=""/>
            <p:cNvCxnSpPr>
              <a:stCxn id="146" idx="6"/>
              <a:endCxn id="148" idx="2"/>
            </p:cNvCxnSpPr>
            <p:nvPr/>
          </p:nvCxnSpPr>
          <p:spPr>
            <a:xfrm>
              <a:off x="1447920" y="419076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" name=""/>
            <p:cNvCxnSpPr>
              <a:stCxn id="146" idx="4"/>
              <a:endCxn id="150" idx="0"/>
            </p:cNvCxnSpPr>
            <p:nvPr/>
          </p:nvCxnSpPr>
          <p:spPr>
            <a:xfrm flipH="1">
              <a:off x="1218600" y="4266720"/>
              <a:ext cx="1530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" name=""/>
            <p:cNvCxnSpPr>
              <a:stCxn id="150" idx="6"/>
              <a:endCxn id="152" idx="2"/>
            </p:cNvCxnSpPr>
            <p:nvPr/>
          </p:nvCxnSpPr>
          <p:spPr>
            <a:xfrm>
              <a:off x="1295280" y="464796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endCxn id="148" idx="4"/>
            </p:cNvCxnSpPr>
            <p:nvPr/>
          </p:nvCxnSpPr>
          <p:spPr>
            <a:xfrm flipV="1">
              <a:off x="1828440" y="4266360"/>
              <a:ext cx="1530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52480" y="4572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300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47242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endCxn id="145" idx="2"/>
            </p:cNvCxnSpPr>
            <p:nvPr/>
          </p:nvCxnSpPr>
          <p:spPr>
            <a:xfrm>
              <a:off x="1447920" y="48002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>
              <a:stCxn id="154" idx="4"/>
              <a:endCxn id="143" idx="0"/>
            </p:cNvCxnSpPr>
            <p:nvPr/>
          </p:nvCxnSpPr>
          <p:spPr>
            <a:xfrm flipH="1">
              <a:off x="1218600" y="4876920"/>
              <a:ext cx="15300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"/>
            <p:cNvCxnSpPr>
              <a:stCxn id="143" idx="6"/>
              <a:endCxn id="142" idx="2"/>
            </p:cNvCxnSpPr>
            <p:nvPr/>
          </p:nvCxnSpPr>
          <p:spPr>
            <a:xfrm>
              <a:off x="1295280" y="52574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"/>
            <p:cNvCxnSpPr>
              <a:stCxn id="142" idx="0"/>
            </p:cNvCxnSpPr>
            <p:nvPr/>
          </p:nvCxnSpPr>
          <p:spPr>
            <a:xfrm flipV="1">
              <a:off x="1828440" y="4876560"/>
              <a:ext cx="15300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8" name=""/>
            <p:cNvSpPr/>
            <p:nvPr/>
          </p:nvSpPr>
          <p:spPr>
            <a:xfrm>
              <a:off x="1905120" y="4114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46" idx="4"/>
              <a:endCxn id="154" idx="0"/>
            </p:cNvCxnSpPr>
            <p:nvPr/>
          </p:nvCxnSpPr>
          <p:spPr>
            <a:xfrm>
              <a:off x="1371240" y="426708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" name=""/>
            <p:cNvCxnSpPr>
              <a:stCxn id="148" idx="4"/>
              <a:endCxn id="145" idx="0"/>
            </p:cNvCxnSpPr>
            <p:nvPr/>
          </p:nvCxnSpPr>
          <p:spPr>
            <a:xfrm>
              <a:off x="1980720" y="426708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"/>
            <p:cNvCxnSpPr>
              <a:stCxn id="150" idx="4"/>
              <a:endCxn id="143" idx="0"/>
            </p:cNvCxnSpPr>
            <p:nvPr/>
          </p:nvCxnSpPr>
          <p:spPr>
            <a:xfrm>
              <a:off x="1218960" y="472428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" name=""/>
            <p:cNvCxnSpPr>
              <a:stCxn id="152" idx="4"/>
              <a:endCxn id="142" idx="0"/>
            </p:cNvCxnSpPr>
            <p:nvPr/>
          </p:nvCxnSpPr>
          <p:spPr>
            <a:xfrm>
              <a:off x="1828440" y="472428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" name=""/>
          <p:cNvGrpSpPr/>
          <p:nvPr/>
        </p:nvGrpSpPr>
        <p:grpSpPr>
          <a:xfrm>
            <a:off x="4343400" y="4114800"/>
            <a:ext cx="3276720" cy="1143000"/>
            <a:chOff x="4343400" y="4114800"/>
            <a:chExt cx="3276720" cy="1143000"/>
          </a:xfrm>
        </p:grpSpPr>
        <p:sp>
          <p:nvSpPr>
            <p:cNvPr id="164" name=""/>
            <p:cNvSpPr/>
            <p:nvPr/>
          </p:nvSpPr>
          <p:spPr>
            <a:xfrm>
              <a:off x="5791320" y="4114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05520" y="441936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441936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38880" y="47242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510516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67480" y="510516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4480" y="48006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5880" y="510516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53080" y="510516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48006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81480" y="510516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38680" y="510516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0" y="4800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510516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510516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>
              <a:stCxn id="164" idx="3"/>
              <a:endCxn id="165" idx="7"/>
            </p:cNvCxnSpPr>
            <p:nvPr/>
          </p:nvCxnSpPr>
          <p:spPr>
            <a:xfrm flipH="1">
              <a:off x="5234760" y="4244400"/>
              <a:ext cx="578520" cy="19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0" name=""/>
            <p:cNvCxnSpPr>
              <a:stCxn id="164" idx="5"/>
              <a:endCxn id="166" idx="1"/>
            </p:cNvCxnSpPr>
            <p:nvPr/>
          </p:nvCxnSpPr>
          <p:spPr>
            <a:xfrm>
              <a:off x="5920920" y="4244400"/>
              <a:ext cx="654840" cy="19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5" idx="2"/>
            </p:cNvCxnSpPr>
            <p:nvPr/>
          </p:nvCxnSpPr>
          <p:spPr>
            <a:xfrm flipH="1">
              <a:off x="4723560" y="4495680"/>
              <a:ext cx="38196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65" idx="5"/>
              <a:endCxn id="173" idx="0"/>
            </p:cNvCxnSpPr>
            <p:nvPr/>
          </p:nvCxnSpPr>
          <p:spPr>
            <a:xfrm>
              <a:off x="5235120" y="4549320"/>
              <a:ext cx="25164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66" idx="3"/>
              <a:endCxn id="170" idx="0"/>
            </p:cNvCxnSpPr>
            <p:nvPr/>
          </p:nvCxnSpPr>
          <p:spPr>
            <a:xfrm flipH="1">
              <a:off x="6400080" y="4549320"/>
              <a:ext cx="17532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66" idx="6"/>
              <a:endCxn id="167" idx="1"/>
            </p:cNvCxnSpPr>
            <p:nvPr/>
          </p:nvCxnSpPr>
          <p:spPr>
            <a:xfrm>
              <a:off x="6705360" y="4495320"/>
              <a:ext cx="55620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6" idx="3"/>
              <a:endCxn id="177" idx="7"/>
            </p:cNvCxnSpPr>
            <p:nvPr/>
          </p:nvCxnSpPr>
          <p:spPr>
            <a:xfrm flipH="1">
              <a:off x="4473000" y="4930200"/>
              <a:ext cx="121320" cy="19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6" idx="5"/>
              <a:endCxn id="178" idx="1"/>
            </p:cNvCxnSpPr>
            <p:nvPr/>
          </p:nvCxnSpPr>
          <p:spPr>
            <a:xfrm>
              <a:off x="4701960" y="4930200"/>
              <a:ext cx="121320" cy="19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3"/>
              <a:endCxn id="174" idx="7"/>
            </p:cNvCxnSpPr>
            <p:nvPr/>
          </p:nvCxnSpPr>
          <p:spPr>
            <a:xfrm flipH="1">
              <a:off x="5311080" y="4930200"/>
              <a:ext cx="121320" cy="19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8" name=""/>
            <p:cNvCxnSpPr>
              <a:stCxn id="173" idx="5"/>
              <a:endCxn id="175" idx="0"/>
            </p:cNvCxnSpPr>
            <p:nvPr/>
          </p:nvCxnSpPr>
          <p:spPr>
            <a:xfrm>
              <a:off x="5540040" y="4930200"/>
              <a:ext cx="175320" cy="17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9" name=""/>
            <p:cNvCxnSpPr>
              <a:stCxn id="170" idx="3"/>
              <a:endCxn id="171" idx="7"/>
            </p:cNvCxnSpPr>
            <p:nvPr/>
          </p:nvCxnSpPr>
          <p:spPr>
            <a:xfrm flipH="1">
              <a:off x="6225480" y="4930200"/>
              <a:ext cx="121320" cy="19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0" idx="5"/>
              <a:endCxn id="172" idx="1"/>
            </p:cNvCxnSpPr>
            <p:nvPr/>
          </p:nvCxnSpPr>
          <p:spPr>
            <a:xfrm>
              <a:off x="6454440" y="4930200"/>
              <a:ext cx="121320" cy="19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1" name=""/>
            <p:cNvCxnSpPr>
              <a:stCxn id="168" idx="7"/>
              <a:endCxn id="167" idx="3"/>
            </p:cNvCxnSpPr>
            <p:nvPr/>
          </p:nvCxnSpPr>
          <p:spPr>
            <a:xfrm flipV="1">
              <a:off x="7140240" y="4854600"/>
              <a:ext cx="12132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2" name=""/>
            <p:cNvCxnSpPr>
              <a:stCxn id="167" idx="5"/>
              <a:endCxn id="169" idx="0"/>
            </p:cNvCxnSpPr>
            <p:nvPr/>
          </p:nvCxnSpPr>
          <p:spPr>
            <a:xfrm>
              <a:off x="7368840" y="4854600"/>
              <a:ext cx="175320" cy="25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modele systemó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7D8-5544-46DB-A0C1-55F32EB262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Klasyfikacja komputerów - Fen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opień równoległości przetwarz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czba bitów, które dany system może przetworzyć w jednostce czas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laster bitów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iąg bitów każdy z innego słowa, które są przetwarzane równolegle w jednej chwi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eśli procesor posiada 4 potoki arytmetyczne, każdy po 8 stanów to plaster bitów ma wielkość 3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odzaje przetwarzan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wl długość słowa w bita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łowa szeregowo, bity szeregowo bs =1, wl = 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łowa równolegle, bity szeregowo bs &gt;1, wl = 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łowa szeregowo, bity równolegle bs =1, wl &gt; 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łowa równolegle, bity równolegle bs &gt;1, wl &gt;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modele systemó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32B-450A-482E-8DA8-54C9939B65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dstawowe typy architektur równoległ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mputery potok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konują obliczenia, których kolejne fazy nakładają się, co przy powtarzalności wykonywania obliczeń daje efekt zrównoleglenia. Może to zachodzić na poziomie mikroinstrukcji albo na poziomie wyższym – rozkazów i elementów struktur da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cesory macierz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zereg zsynchronizowanych jednostek arytmetyczno-logicznych wykonujących wspólnie obliczenia (tzw. równoległość przestrzen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ystem wieloproceso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biór współdziałających asynchronicznie procesorów dzielących zasoby systemu (pamięc, system wej-wyj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łe - modele systemó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7E4-B733-4C3F-9D68-2ABD7F40C7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1:28:10Z</dcterms:created>
  <dc:creator>Rafał Walkowiak</dc:creator>
  <dc:description/>
  <dc:language>en-US</dc:language>
  <cp:lastModifiedBy>andrzej</cp:lastModifiedBy>
  <dcterms:modified xsi:type="dcterms:W3CDTF">2004-01-19T11:38:44Z</dcterms:modified>
  <cp:revision>52</cp:revision>
  <dc:subject/>
  <dc:title>Przetwarzanie równoległe cz.2</dc:title>
</cp:coreProperties>
</file>