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98B-B4F3-4692-B738-BDBFA882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13E-5B2D-4C2A-B0B4-9D45018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A07-0898-4E85-8506-65EA8A4F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E5D-5987-4720-B6D1-B3FF4BC8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469-EFDB-462F-9B12-CF54DD0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2BD-B8E1-4722-89CF-9259754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444-50E6-46E4-9ED0-889A7BF0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C24-4074-4EA0-AE1F-9D4EF490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4A6-65A8-4EB6-8CBA-D77FE9BA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768-C87E-4803-860D-AB558F2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3F4-DD1E-4538-BB2D-1F702A7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B87-7113-488D-B922-A45E2F9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6469-B980-4DF4-A373-AA8DFCA4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04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ykl życia systemu bazy da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rmalizacja schematów relacji (2.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ysponując informacją o zależnościach funkcyjnych i wielowartościowych (FD i MVD) dokonujemy normalizacji schematów relacji (3NF, BCNF, 4NF, 5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. dana jest zależność funkcyjn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ob_level              vacation_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rmalizacja schematów relacji (2.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30360" y="2060640"/>
          <a:ext cx="6083280" cy="27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060640"/>
                    <a:ext cx="60832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Denormalizacja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ormalizacja może prowadzić do pogorszenia efektywności przetwarzania zapytań. Denormalizacja polega na rozszerzeniu relacji o dodatkowe atrybuty w celu poprawy efektywności. Denormalizacja wymaga uwzględnienia częstości zapytań, ich priorytetów, wolumen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łożenie: 90% zapytań ma następujący charak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o obsługiwał klienta o nazwisku “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oszlajd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Denormalizacja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905120"/>
          <a:ext cx="6172200" cy="40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17220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zproszenie danych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aza rozproszenia danych składa się z dwóch krok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ragmentacji danych (schemat fragment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lokacji danych (schemat alok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tej fazie jest uwzględniane środowisko fizyczne (m. in. konfiguracja sie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chemat fragment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pisuje odwzorowanie typu “jeden-do-wielu” fragmentacji schematu relacji na podrelacje (tzw. fragmenty). Podrelacje stanowią logiczne jednostki fizycznie rozproszone na jednym lub wielu stanowisk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zproszenie danych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chemat alok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pisuje fizyczną alokację podrelacji - tj. przypisanie danej podrelacji do stanowi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:1 - rozproszona niereplikowana baza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:N - rozproszona replikowana baza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roszona w pełni replikowana ba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roszona częściowo replikowana ba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le projektu bazy danych w środowisku rozproszony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paracja fragmentacji i alokacji relacji (pierwsza jest logiczna, druga fizycz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trola re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zależność od lokalnego SZ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438280" y="1219320"/>
          <a:ext cx="53928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53928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73320" y="380880"/>
            <a:ext cx="552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izacja czasu odpowie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izacja kosztów komun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symalizacja dostępn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jekt schematu logicznego lokalnej bazy danych i projekt fizyc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m tej fazy jest projekt schematu logicznego lokalnej bazy danych, zdefiniowanie struktur fizycznych i określenie metod dostę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QL (model relacyj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QL (model relacyjn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600200"/>
            <a:ext cx="5638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 cust_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ust_name char(15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ust_addr char(3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ales_name char(15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od_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imary key (cust_no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eign key (sales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foreign key (prod_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reate [unique] index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ndexnam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columnam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[asc </a:t>
            </a: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desc],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columnam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reate unique index nazw_ind on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cust_name des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lementacja bazy danych, jej strojenie, modyfikacje i monitorow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zaprojektowaniu schematu logicznego, można zaimplementować bazę danych korzystając z języka definicji danych (SQL) dowolnego SZBD. Od momentu utworzenia można realizować dostęp do bazy danych via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momentu uruchomienia SBD system ten powinien być monitorowany w celu sprawdzenia czy spełnia nałożone na niego wymagania efektywn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zypadku, gdy wymagania nie są spełnione należy dokonać modyfikacji schematu logicznego lub fizycznego w celu poprawy efektywności działani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kl życia systemu bazy dany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klem życia systemu bazy danych nazywamy zbiór kroków niezbędnych do zaprojektowania globalnego schematu logicznego bazy danych, alokacji danych w sieci komputerowej oraz zdefiniowania lokalnych schematów baz da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lementacja bazy danych, jej strojenie, modyfikacje i monitorow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obnie, należy dokonać modyfikacji schematu logicznego lub fizycznego w przypadku zmiany wymagań lub ewolucji miniświata. Może to pociągać za sobą konieczność modyfikacji aplikacji użytkow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ykl życia systemu obejmuje więc monitorowania działania systemu bazy danych, modyfikacje schematu logicznego oraz fizycznego, oraz strojenie aplikacji użytk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Analiza wymagań miniświata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magania miniświata definiujemy w oparciu o rozmowy, ankiety, zapytania skierowane do producentów i konsumentów danych. Wynikiem analizy wymagań jest formalna specyfikacja tych wymagań. Specyfikacja ta zawiera opis niezbędnych danych, naturalne związki pomiędzy danymi, oraz opis platformy programowej do implementacji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76520" y="2133720"/>
          <a:ext cx="56386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638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436040" y="606600"/>
            <a:ext cx="72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Analiza wymagań miniświata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jekt logiczn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tym kroku jest realizowany projekt schematu pojęciowego bazy danych opisującego wszystkie dane i ich wzajemne powiązania. Do projektowania wykorzystujemy model encji-związków (ER model). Model ten, następnie, transformujemy do modelu implementacyjnego (np. modelu relacyjne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owanie diagramów 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gracja perspekty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ransformacja modelu ER do modelu relacyj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ormalizacja schematów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delowanie diagramów ER (2.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e przedsiębiorstwa są analizowane i modelowane za pomocą diagramów 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81080" y="2743200"/>
          <a:ext cx="5594400" cy="33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59440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tegracja perspektyw (2.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ragmenty schematu pojęciowego tworzone przez niezależnych projektantów są integrowane w jeden schemat globalny. Rozwiązywane są niespójności nazw encji i związków. Wykonywana jest analiza synonimów, agregacja i generalizacja 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2666880"/>
          <a:ext cx="5761080" cy="37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576108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nsformacja modelu ER do modelu relacyjnego (2.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 ER jest transformowany do modelu relacyjnego - otrzymujemy schemat logiczny relacyjnej bazy danych w postaci schematów rela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nsformacja modelu ER do modelu relacyjnego (2.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82840" y="1957320"/>
          <a:ext cx="5146560" cy="46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957320"/>
                    <a:ext cx="51465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6:17Z</dcterms:created>
  <dc:creator>Tadeusz Morzy</dc:creator>
  <dc:description/>
  <dc:language>en-US</dc:language>
  <cp:lastModifiedBy>Tadeusz Morzy</cp:lastModifiedBy>
  <dcterms:modified xsi:type="dcterms:W3CDTF">2002-10-26T13:34:59Z</dcterms:modified>
  <cp:revision>17</cp:revision>
  <dc:subject/>
  <dc:title>Cykl życia systemu bazy danych</dc:title>
</cp:coreProperties>
</file>