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7A9-79C4-4940-B0F4-4412D916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83D-C48A-442E-AFBA-4437C43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714-E52A-4171-B72E-91DD9337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CA3-C950-4612-9B5C-90E15DCE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2DD-5818-4444-94F7-95F6797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BE4-AFDD-4A38-9D4D-EF7D9F1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9AA-6451-4D65-8586-510FA94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3A7-771C-4149-8950-C7F7E85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839-6E9B-413C-8166-D085AB88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8D6-ADE5-4265-BED2-781EF6F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96B-CD56-44EB-8725-B735010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CF9-1ACB-4F76-BA8D-3BA17644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D4F-7DBA-4D96-9943-762DC7E21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unix.mcs.anl.gov/dbpp/" TargetMode="External"/><Relationship Id="rId2" Type="http://schemas.openxmlformats.org/officeDocument/2006/relationships/hyperlink" Target="http://www-unix.mcs.anl.gov/dbpp/" TargetMode="External"/><Relationship Id="rId3" Type="http://schemas.openxmlformats.org/officeDocument/2006/relationships/hyperlink" Target="http://www-unix.mcs.anl.gov/dbpp/" TargetMode="External"/><Relationship Id="rId4" Type="http://schemas.openxmlformats.org/officeDocument/2006/relationships/hyperlink" Target="http://www-unix.mcs.anl.gov/dbpp/" TargetMode="External"/><Relationship Id="rId5" Type="http://schemas.openxmlformats.org/officeDocument/2006/relationships/hyperlink" Target="http://www-unix.mcs.anl.gov/dbpp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. Ben-Ari, Podstawy programowania współbieżnego, W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. Foster, Designing and Building Parallel Programs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www-unix.mcs.anl.gov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4"/>
              </a:rPr>
              <a:t>dbpp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.Weiss, T.Gruźlewski, Programowanie współbieżne i rozproszone, W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b. Czech (red.), Programowanie Współbieżne Wybrane Zagadnienia, Skrypty Uczelniane 1638, P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.D. May (red.), Networks, routers &amp;transputers, IOS Pr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87F-3C54-4F10-9E24-7367821BA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zetwarzanie równoległ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twarzanie informacji w oparciu o jednoczes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 makro- lub mikroczasie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ykonywanie obliczeń przez zasoby systemu komputerow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wnoległość przetwarzania jest osiągalna na 4 poziom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iom program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iom proced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iom interrozkazowy (między instrukcyjami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iom intrarozkazowy (wewnątrz  instrukcj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9FF-D80B-4499-9C10-4C71B4576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iomy równoległ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iom programów – wiele programów wykonywanych równolegle dzięki podziałowi czasu  i wieloprocesorowośc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blem: projektowanie algorytmów równoległ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iom procedur – równolegle wykonywanie procedur składających się na jeden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blem: podział programu na równolegle-szeregowe segme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iom międzyrozkazowy – równoczesna realizacja różnych instrukcji tej samej proced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blem: analiza zależności między dany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iom wewnątrzrozkazowy – równoczesność realizacji operacji (mikrokodów) składających się na jeden rozk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blem: rozbicie rozkazów na operacje i konstrukcja sprzę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28D-CBD7-4F43-8DB2-220B112C8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res przedmio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ównoległość na poziomie program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ja czasu oblicze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poprawności i optymalności funkcjonowania systemów wieloprocesorowy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899-0323-4D38-A986-94CA18EC0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warunkowania rozwoju przetwarzania równoległ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erunki w zastosowani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otrzebowanie na coraz większą moc obliczeni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erunki w projektowaniu kompute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aniczenia częstotliwości taktowania, wysoki koszt wydłużenia słowa proce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erunki w rozw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niach sie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ci o większej przepustowości i niezawodn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yni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otrzebowanie na przetwarzanie równoległe: sprzęt, algorytmy,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6E4-4A25-4292-9164-0F6AB84CC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1:28:10Z</dcterms:created>
  <dc:creator>Rafał Walkowiak</dc:creator>
  <dc:description/>
  <dc:language>en-US</dc:language>
  <cp:lastModifiedBy>andrzej</cp:lastModifiedBy>
  <dcterms:modified xsi:type="dcterms:W3CDTF">2004-01-19T11:35:33Z</dcterms:modified>
  <cp:revision>55</cp:revision>
  <dc:subject/>
  <dc:title>Przetwarzanie równoległe cz.1 </dc:title>
</cp:coreProperties>
</file>