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F81-283E-477A-BB33-D27EA2C7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4D3-7E53-4BC1-924B-AD80A85E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ECE-F402-4EAE-A201-2D3ABB94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570-AFC6-4550-BB0D-C4B151AE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7AB3-E788-4DDD-8C1A-3DC76001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43AE-12DE-46B7-AC98-AC2EF4A5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78A8-7BAF-40EE-94D4-E47B9BFE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F63F-354E-4060-8926-D7C3D8C1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E09E-2275-47F4-B7C1-CEB4DCB9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456840"/>
            <a:ext cx="60958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9074-BC95-46F7-A190-C577F4D3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9D32-2AC9-4452-A877-E0B6B66C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4CB-F0EF-4BF7-90CC-11C01EAA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48B5-CC9B-4AB8-BC6F-16E11228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F163-B294-4FC3-A05B-44B3CF97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C8C6-9B9E-4066-B538-BA6BF4BD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1164-319D-4859-BCB8-8DF34F52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C677-6886-4539-9B81-91E0792F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CF7-62EC-465E-B6BF-56F182CB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63B-2ED3-47B4-ABAD-9B370441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877-DB4D-401C-A6F5-421CF27A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456840"/>
            <a:ext cx="60958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C5D-3985-489B-973B-6EE4A32D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70F-7B3B-4207-9B10-ADE36E74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EE4-4D68-4E5C-B9B2-17FBF7CB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5EC-6C39-42F2-B784-C09F6B51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290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9FA8-7ECE-46B2-80AF-2C09154DE0BE}" type="slidenum">
              <a:rPr b="0" lang="pl-PL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4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5A05-C9BC-4BDD-9109-72A7A9421885}" type="slidenum">
              <a:rPr b="0" lang="pl-PL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8532720" cy="14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Przetwarzanie równoległe cz.7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Algorytmy równoległe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41911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fał Walkow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litechnika Poznań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udia inżyniers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yka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89160" y="1728720"/>
            <a:ext cx="1482840" cy="1468440"/>
          </a:xfrm>
          <a:custGeom>
            <a:avLst/>
            <a:gdLst/>
            <a:ahLst/>
            <a:rect l="l" t="t" r="r" b="b"/>
            <a:pathLst>
              <a:path w="934" h="925">
                <a:moveTo>
                  <a:pt x="34" y="120"/>
                </a:moveTo>
                <a:cubicBezTo>
                  <a:pt x="38" y="212"/>
                  <a:pt x="26" y="313"/>
                  <a:pt x="60" y="402"/>
                </a:cubicBezTo>
                <a:cubicBezTo>
                  <a:pt x="84" y="465"/>
                  <a:pt x="128" y="515"/>
                  <a:pt x="171" y="565"/>
                </a:cubicBezTo>
                <a:cubicBezTo>
                  <a:pt x="257" y="664"/>
                  <a:pt x="337" y="749"/>
                  <a:pt x="445" y="822"/>
                </a:cubicBezTo>
                <a:cubicBezTo>
                  <a:pt x="481" y="846"/>
                  <a:pt x="517" y="882"/>
                  <a:pt x="557" y="900"/>
                </a:cubicBezTo>
                <a:cubicBezTo>
                  <a:pt x="590" y="914"/>
                  <a:pt x="633" y="914"/>
                  <a:pt x="668" y="925"/>
                </a:cubicBezTo>
                <a:cubicBezTo>
                  <a:pt x="722" y="922"/>
                  <a:pt x="777" y="924"/>
                  <a:pt x="831" y="917"/>
                </a:cubicBezTo>
                <a:cubicBezTo>
                  <a:pt x="860" y="913"/>
                  <a:pt x="863" y="884"/>
                  <a:pt x="874" y="865"/>
                </a:cubicBezTo>
                <a:cubicBezTo>
                  <a:pt x="904" y="814"/>
                  <a:pt x="919" y="785"/>
                  <a:pt x="934" y="728"/>
                </a:cubicBezTo>
                <a:cubicBezTo>
                  <a:pt x="925" y="615"/>
                  <a:pt x="922" y="568"/>
                  <a:pt x="874" y="471"/>
                </a:cubicBezTo>
                <a:cubicBezTo>
                  <a:pt x="868" y="460"/>
                  <a:pt x="866" y="446"/>
                  <a:pt x="857" y="437"/>
                </a:cubicBezTo>
                <a:cubicBezTo>
                  <a:pt x="805" y="385"/>
                  <a:pt x="749" y="341"/>
                  <a:pt x="694" y="291"/>
                </a:cubicBezTo>
                <a:cubicBezTo>
                  <a:pt x="646" y="247"/>
                  <a:pt x="610" y="209"/>
                  <a:pt x="557" y="171"/>
                </a:cubicBezTo>
                <a:cubicBezTo>
                  <a:pt x="511" y="138"/>
                  <a:pt x="474" y="93"/>
                  <a:pt x="428" y="60"/>
                </a:cubicBezTo>
                <a:cubicBezTo>
                  <a:pt x="377" y="24"/>
                  <a:pt x="291" y="9"/>
                  <a:pt x="231" y="0"/>
                </a:cubicBezTo>
                <a:cubicBezTo>
                  <a:pt x="161" y="5"/>
                  <a:pt x="121" y="6"/>
                  <a:pt x="60" y="25"/>
                </a:cubicBezTo>
                <a:cubicBezTo>
                  <a:pt x="22" y="50"/>
                  <a:pt x="13" y="68"/>
                  <a:pt x="0" y="111"/>
                </a:cubicBezTo>
                <a:cubicBezTo>
                  <a:pt x="11" y="147"/>
                  <a:pt x="0" y="142"/>
                  <a:pt x="34" y="12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5760" y="1660680"/>
            <a:ext cx="2971800" cy="2068200"/>
          </a:xfrm>
          <a:custGeom>
            <a:avLst/>
            <a:gdLst/>
            <a:ahLst/>
            <a:rect l="l" t="t" r="r" b="b"/>
            <a:pathLst>
              <a:path w="1872" h="1303">
                <a:moveTo>
                  <a:pt x="47" y="145"/>
                </a:moveTo>
                <a:cubicBezTo>
                  <a:pt x="44" y="168"/>
                  <a:pt x="47" y="192"/>
                  <a:pt x="39" y="214"/>
                </a:cubicBezTo>
                <a:cubicBezTo>
                  <a:pt x="32" y="233"/>
                  <a:pt x="4" y="265"/>
                  <a:pt x="4" y="265"/>
                </a:cubicBezTo>
                <a:cubicBezTo>
                  <a:pt x="15" y="350"/>
                  <a:pt x="33" y="426"/>
                  <a:pt x="82" y="497"/>
                </a:cubicBezTo>
                <a:cubicBezTo>
                  <a:pt x="92" y="531"/>
                  <a:pt x="109" y="557"/>
                  <a:pt x="133" y="583"/>
                </a:cubicBezTo>
                <a:cubicBezTo>
                  <a:pt x="148" y="624"/>
                  <a:pt x="175" y="661"/>
                  <a:pt x="202" y="694"/>
                </a:cubicBezTo>
                <a:cubicBezTo>
                  <a:pt x="294" y="805"/>
                  <a:pt x="363" y="886"/>
                  <a:pt x="484" y="968"/>
                </a:cubicBezTo>
                <a:cubicBezTo>
                  <a:pt x="521" y="993"/>
                  <a:pt x="555" y="1036"/>
                  <a:pt x="596" y="1054"/>
                </a:cubicBezTo>
                <a:cubicBezTo>
                  <a:pt x="641" y="1073"/>
                  <a:pt x="769" y="1071"/>
                  <a:pt x="776" y="1071"/>
                </a:cubicBezTo>
                <a:cubicBezTo>
                  <a:pt x="888" y="1108"/>
                  <a:pt x="1003" y="1169"/>
                  <a:pt x="1119" y="1191"/>
                </a:cubicBezTo>
                <a:cubicBezTo>
                  <a:pt x="1152" y="1213"/>
                  <a:pt x="1185" y="1213"/>
                  <a:pt x="1222" y="1225"/>
                </a:cubicBezTo>
                <a:cubicBezTo>
                  <a:pt x="1330" y="1261"/>
                  <a:pt x="1444" y="1286"/>
                  <a:pt x="1556" y="1303"/>
                </a:cubicBezTo>
                <a:cubicBezTo>
                  <a:pt x="1625" y="1300"/>
                  <a:pt x="1693" y="1299"/>
                  <a:pt x="1762" y="1294"/>
                </a:cubicBezTo>
                <a:cubicBezTo>
                  <a:pt x="1794" y="1291"/>
                  <a:pt x="1839" y="1234"/>
                  <a:pt x="1839" y="1234"/>
                </a:cubicBezTo>
                <a:cubicBezTo>
                  <a:pt x="1872" y="1128"/>
                  <a:pt x="1855" y="1033"/>
                  <a:pt x="1787" y="951"/>
                </a:cubicBezTo>
                <a:cubicBezTo>
                  <a:pt x="1766" y="925"/>
                  <a:pt x="1760" y="889"/>
                  <a:pt x="1736" y="865"/>
                </a:cubicBezTo>
                <a:cubicBezTo>
                  <a:pt x="1701" y="830"/>
                  <a:pt x="1657" y="806"/>
                  <a:pt x="1616" y="780"/>
                </a:cubicBezTo>
                <a:cubicBezTo>
                  <a:pt x="1582" y="758"/>
                  <a:pt x="1549" y="731"/>
                  <a:pt x="1513" y="711"/>
                </a:cubicBezTo>
                <a:cubicBezTo>
                  <a:pt x="1427" y="663"/>
                  <a:pt x="1331" y="627"/>
                  <a:pt x="1247" y="574"/>
                </a:cubicBezTo>
                <a:cubicBezTo>
                  <a:pt x="1187" y="537"/>
                  <a:pt x="1127" y="500"/>
                  <a:pt x="1067" y="463"/>
                </a:cubicBezTo>
                <a:cubicBezTo>
                  <a:pt x="1004" y="424"/>
                  <a:pt x="941" y="385"/>
                  <a:pt x="879" y="343"/>
                </a:cubicBezTo>
                <a:cubicBezTo>
                  <a:pt x="852" y="325"/>
                  <a:pt x="833" y="302"/>
                  <a:pt x="802" y="291"/>
                </a:cubicBezTo>
                <a:cubicBezTo>
                  <a:pt x="771" y="262"/>
                  <a:pt x="737" y="242"/>
                  <a:pt x="699" y="223"/>
                </a:cubicBezTo>
                <a:cubicBezTo>
                  <a:pt x="657" y="179"/>
                  <a:pt x="715" y="235"/>
                  <a:pt x="647" y="188"/>
                </a:cubicBezTo>
                <a:cubicBezTo>
                  <a:pt x="617" y="167"/>
                  <a:pt x="606" y="148"/>
                  <a:pt x="570" y="137"/>
                </a:cubicBezTo>
                <a:cubicBezTo>
                  <a:pt x="475" y="74"/>
                  <a:pt x="379" y="33"/>
                  <a:pt x="270" y="0"/>
                </a:cubicBezTo>
                <a:cubicBezTo>
                  <a:pt x="173" y="8"/>
                  <a:pt x="194" y="0"/>
                  <a:pt x="133" y="17"/>
                </a:cubicBezTo>
                <a:cubicBezTo>
                  <a:pt x="107" y="24"/>
                  <a:pt x="56" y="43"/>
                  <a:pt x="56" y="43"/>
                </a:cubicBezTo>
                <a:cubicBezTo>
                  <a:pt x="45" y="60"/>
                  <a:pt x="37" y="80"/>
                  <a:pt x="22" y="94"/>
                </a:cubicBezTo>
                <a:cubicBezTo>
                  <a:pt x="16" y="100"/>
                  <a:pt x="0" y="104"/>
                  <a:pt x="4" y="111"/>
                </a:cubicBezTo>
                <a:cubicBezTo>
                  <a:pt x="12" y="127"/>
                  <a:pt x="33" y="134"/>
                  <a:pt x="104" y="202"/>
                </a:cubicBez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Analiza efektywności - aglomeracja (1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zy aglomeracja jest możliwa bez spadku stopień równoległośc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33520" y="1600200"/>
            <a:ext cx="4800600" cy="2362320"/>
            <a:chOff x="533520" y="1600200"/>
            <a:chExt cx="4800600" cy="2362320"/>
          </a:xfrm>
        </p:grpSpPr>
        <p:sp>
          <p:nvSpPr>
            <p:cNvPr id="181" name=""/>
            <p:cNvSpPr/>
            <p:nvPr/>
          </p:nvSpPr>
          <p:spPr>
            <a:xfrm>
              <a:off x="3830400" y="2658960"/>
              <a:ext cx="520560" cy="24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41320" y="2211120"/>
              <a:ext cx="46260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177440" y="2211120"/>
              <a:ext cx="57816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37240" y="1966680"/>
              <a:ext cx="520560" cy="24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21680" y="1681560"/>
              <a:ext cx="28908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384280" y="1640880"/>
              <a:ext cx="3470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0040" y="1925640"/>
              <a:ext cx="520560" cy="24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24480" y="1640880"/>
              <a:ext cx="289080" cy="2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987080" y="1640880"/>
              <a:ext cx="347040" cy="2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9080" y="1966680"/>
              <a:ext cx="520560" cy="24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520" y="1681560"/>
              <a:ext cx="28908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996120" y="1681560"/>
              <a:ext cx="34704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31320" y="3351600"/>
              <a:ext cx="520560" cy="24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95200" y="3025440"/>
              <a:ext cx="809640" cy="3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078360" y="2903400"/>
              <a:ext cx="75168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16680" y="2781000"/>
              <a:ext cx="520560" cy="24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11680" y="2292480"/>
              <a:ext cx="578160" cy="48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863360" y="2251800"/>
              <a:ext cx="462600" cy="5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51880" y="1925640"/>
              <a:ext cx="520560" cy="244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36320" y="1640880"/>
              <a:ext cx="289080" cy="2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598560" y="1600200"/>
              <a:ext cx="2890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62800" y="359604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52280" y="41148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rupowanie operacji realizowanych sekwencyjnie - możliwy przydział do jednego węzła przetwarzającego, mniej komunikacji, ten sam stopień równoległ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5638680"/>
            <a:ext cx="91440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5638680"/>
            <a:ext cx="91440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5638680"/>
            <a:ext cx="91440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5638680"/>
            <a:ext cx="91440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49528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523520" y="49528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4952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733920" y="4952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57800" y="49528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714640" y="49528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49528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620120" y="49528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5" idx="3"/>
            <a:endCxn id="204" idx="5"/>
          </p:cNvCxnSpPr>
          <p:nvPr/>
        </p:nvCxnSpPr>
        <p:spPr>
          <a:xfrm rot="5400000">
            <a:off x="2665440" y="5363280"/>
            <a:ext cx="2520" cy="1334160"/>
          </a:xfrm>
          <a:prstGeom prst="curvedConnector5">
            <a:avLst>
              <a:gd name="adj1" fmla="val 8183333"/>
              <a:gd name="adj2" fmla="val 49986"/>
              <a:gd name="adj3" fmla="val 81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6" idx="3"/>
            <a:endCxn id="204" idx="4"/>
          </p:cNvCxnSpPr>
          <p:nvPr/>
        </p:nvCxnSpPr>
        <p:spPr>
          <a:xfrm rot="5400000">
            <a:off x="3423600" y="4281120"/>
            <a:ext cx="67320" cy="3562920"/>
          </a:xfrm>
          <a:prstGeom prst="curvedConnector5">
            <a:avLst>
              <a:gd name="adj1" fmla="val 418817"/>
              <a:gd name="adj2" fmla="val 50000"/>
              <a:gd name="adj3" fmla="val 4188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7" idx="3"/>
            <a:endCxn id="206" idx="5"/>
          </p:cNvCxnSpPr>
          <p:nvPr/>
        </p:nvCxnSpPr>
        <p:spPr>
          <a:xfrm rot="5400000">
            <a:off x="6551640" y="5363280"/>
            <a:ext cx="2520" cy="1334160"/>
          </a:xfrm>
          <a:prstGeom prst="curvedConnector5">
            <a:avLst>
              <a:gd name="adj1" fmla="val 11683333"/>
              <a:gd name="adj2" fmla="val 49986"/>
              <a:gd name="adj3" fmla="val 116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 flipH="1">
            <a:off x="990720" y="60958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296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5638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1523880"/>
            <a:ext cx="35053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słania poszczególnych etap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62F-87EE-40C2-8E6C-F3463BF794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Analiza efektywności - aglomeracja (2)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niej przesłań między węzł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ższa złożoność obliczeni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a sama ilość pracy ( 7 porówna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zrost stopnia wierzchołka ( 3 do 5 ) - problemy implementacyjne (np. transputery  4 łąc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niejsza liczba procesorów (4 zamiast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227-AE86-4C55-BCDD-87274D0D0D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Analiza efektywności -aglomeracja (3)</a:t>
            </a:r>
            <a:br>
              <a:rPr sz="40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ykres praca-cza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486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09480" y="17524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0292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50292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45720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36576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41148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45720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41148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36576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50292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27432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11480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457200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41148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27432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45720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50292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32004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36576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2004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27432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365760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32004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32004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27432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22860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22860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2860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22860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20" y="12175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6172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34340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50292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50292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41148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41148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45720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43400" y="45720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36576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36576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502920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00600" y="36576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00600" y="41148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00600" y="45720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41148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36576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0292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5720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77120" y="50292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8680" y="502920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50292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1148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38680" y="411480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86600" y="5029200"/>
            <a:ext cx="228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914400"/>
            <a:ext cx="457200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- 3*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7*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o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)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po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(2lo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+1)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k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 3*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5*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o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)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po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(lo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+2)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k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752480" y="3429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82880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98108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057400" y="3048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89548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048120" y="2514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6272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008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0560" y="571356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ez aglom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434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aglom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08A-555A-415B-BD7F-76CFD8AF01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rtowanie w pierścieniu procesorów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143000"/>
            <a:ext cx="74674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jście: ciąg liczb (minimum jedna) zakończonych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1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yjście: posortowany ciąg zakończony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d dla wszystkich węzł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bierz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bierz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b &gt; 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&gt;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wyślij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wyślij a; a:=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bierz b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yślij a; wyślij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28600" y="5638680"/>
            <a:ext cx="8229600" cy="609840"/>
            <a:chOff x="228600" y="5638680"/>
            <a:chExt cx="8229600" cy="609840"/>
          </a:xfrm>
        </p:grpSpPr>
        <p:sp>
          <p:nvSpPr>
            <p:cNvPr id="302" name=""/>
            <p:cNvSpPr/>
            <p:nvPr/>
          </p:nvSpPr>
          <p:spPr>
            <a:xfrm>
              <a:off x="685800" y="5867280"/>
              <a:ext cx="6094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0" y="5867280"/>
              <a:ext cx="6094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62720" y="5867280"/>
              <a:ext cx="6094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72000" y="5867280"/>
              <a:ext cx="6094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81280" y="5867280"/>
              <a:ext cx="6098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90920" y="5867280"/>
              <a:ext cx="6094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0200" y="5867280"/>
              <a:ext cx="6094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8600" y="609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95280" y="6019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09680" y="6019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00400" y="6019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67080" y="6019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6019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48520" y="6019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43800" y="6095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72400" y="5638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F3E-2494-479D-BCC8-AFD1C57537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ziałanie algorytmu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62120" y="5486400"/>
            <a:ext cx="7543440" cy="913680"/>
            <a:chOff x="762120" y="5486400"/>
            <a:chExt cx="7543440" cy="913680"/>
          </a:xfrm>
        </p:grpSpPr>
        <p:sp>
          <p:nvSpPr>
            <p:cNvPr id="320" name=""/>
            <p:cNvSpPr/>
            <p:nvPr/>
          </p:nvSpPr>
          <p:spPr>
            <a:xfrm>
              <a:off x="1883160" y="5892120"/>
              <a:ext cx="815760" cy="507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64640" y="5892120"/>
              <a:ext cx="815760" cy="507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37600" y="5892120"/>
              <a:ext cx="815040" cy="507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0560" y="5892120"/>
              <a:ext cx="815040" cy="507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71520" y="6197040"/>
              <a:ext cx="61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98920" y="6095880"/>
              <a:ext cx="40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25960" y="6095880"/>
              <a:ext cx="40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55240" y="6095880"/>
              <a:ext cx="40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82280" y="6197040"/>
              <a:ext cx="71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88280" y="5587560"/>
              <a:ext cx="91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2120" y="5486400"/>
              <a:ext cx="10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685800" y="533520"/>
            <a:ext cx="822960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wejście łańcucha podajemy kolejno wartości: 4,3,5,6,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t,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,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,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,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,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,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,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,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,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A24-16DB-474C-9CA6-AABA15A98C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rtowanie liczb w łańcuchu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ykres praca- cza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"/>
          <p:cNvSpPr/>
          <p:nvPr/>
        </p:nvSpPr>
        <p:spPr>
          <a:xfrm>
            <a:off x="487440" y="3352680"/>
            <a:ext cx="8464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87440" y="762120"/>
            <a:ext cx="144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7440" y="28195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6960" y="28195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06480" y="2819520"/>
            <a:ext cx="4176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89280" y="1752480"/>
            <a:ext cx="20808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97360" y="28195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89280" y="2286000"/>
            <a:ext cx="20808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70240" y="28195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60720" y="2286000"/>
            <a:ext cx="2095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60720" y="28195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3600" y="28195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24080" y="2286000"/>
            <a:ext cx="2095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24080" y="28195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16400" y="2819520"/>
            <a:ext cx="41904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35440" y="1752480"/>
            <a:ext cx="417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6880" y="2286000"/>
            <a:ext cx="41904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79760" y="2819520"/>
            <a:ext cx="4176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70240" y="2286000"/>
            <a:ext cx="41904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43120" y="2819520"/>
            <a:ext cx="4176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6880" y="28195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25920" y="1752480"/>
            <a:ext cx="2095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53040" y="1752480"/>
            <a:ext cx="2095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25920" y="2286000"/>
            <a:ext cx="2095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97360" y="2286000"/>
            <a:ext cx="2095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35440" y="2286000"/>
            <a:ext cx="20808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35440" y="2819520"/>
            <a:ext cx="208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53040" y="12193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/>
          <p:nvPr/>
        </p:nvCxnSpPr>
        <p:spPr>
          <a:xfrm>
            <a:off x="533160" y="4190760"/>
            <a:ext cx="385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/>
          <p:nvPr/>
        </p:nvCxnSpPr>
        <p:spPr>
          <a:xfrm>
            <a:off x="533520" y="3733920"/>
            <a:ext cx="2674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1324080" y="3809880"/>
            <a:ext cx="1724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ortowanie na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91760" y="4343400"/>
            <a:ext cx="177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ortowanie na I-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>
            <a:off x="4495680" y="4648320"/>
            <a:ext cx="419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4043520" y="2286000"/>
            <a:ext cx="41904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72080" y="1752480"/>
            <a:ext cx="417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99200" y="1219320"/>
            <a:ext cx="41904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62560" y="2286000"/>
            <a:ext cx="2095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89680" y="12193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89680" y="1752480"/>
            <a:ext cx="2095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62560" y="1752480"/>
            <a:ext cx="2095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18240" y="12193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99200" y="2286000"/>
            <a:ext cx="2095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72080" y="2286000"/>
            <a:ext cx="2095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72080" y="28195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45360" y="1752480"/>
            <a:ext cx="41904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81600" y="2286000"/>
            <a:ext cx="417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35840" y="1219320"/>
            <a:ext cx="41904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08720" y="1752480"/>
            <a:ext cx="41904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27760" y="1219320"/>
            <a:ext cx="208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7760" y="1752480"/>
            <a:ext cx="20808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99200" y="1752480"/>
            <a:ext cx="2095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35840" y="2286000"/>
            <a:ext cx="2095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64400" y="1752480"/>
            <a:ext cx="2095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4880" y="12193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35840" y="1752480"/>
            <a:ext cx="2095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810560" y="1219320"/>
            <a:ext cx="4176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73920" y="1219320"/>
            <a:ext cx="4176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01040" y="12193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01040" y="1752480"/>
            <a:ext cx="2095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91520" y="12193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64400" y="12193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437680" y="12193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28160" y="1219320"/>
            <a:ext cx="2095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96080" y="35812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3352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19720" y="4800600"/>
            <a:ext cx="3276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zbieranie wynik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5181480"/>
            <a:ext cx="84582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n-1)*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(2n-1)*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*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(n-2)*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n*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(n+2)*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n*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n*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O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68680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BB9-FEE5-4C12-8D87-15BE001BF6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 Narrow"/>
              </a:rPr>
              <a:t>Wyznaczanie sumy rozproszonych  elementów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zewo binar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lementy  każdym węźle – liczba węzłów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znaczenie sum częściowych (suma 3 wartości) w węzłach pośredn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umy częściowe w propagują w kierunku korze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uma ostateczna wyznaczona w korzen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pagacja sumy do wszystkich węzł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czba operacji – pra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– razy - dla k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go 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ła oprócz l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 - 2 odbiory komunikatu (synchroniczne) i 2 sum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– razy – dla k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go 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ła oprócz l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 – 2 wysłania informacji w dó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rz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ZEM: (K-1)/2 * ( 2t</a:t>
            </a:r>
            <a:r>
              <a:rPr b="0" lang="pl-PL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o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 2 t</a:t>
            </a:r>
            <a:r>
              <a:rPr b="0" lang="pl-PL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u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+ (K-1)/2 *  2 * t</a:t>
            </a:r>
            <a:r>
              <a:rPr b="0" lang="pl-PL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o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2 K t</a:t>
            </a:r>
            <a:r>
              <a:rPr b="0" lang="pl-PL" sz="1900" spc="-1" strike="noStrike" baseline="-25000">
                <a:solidFill>
                  <a:srgbClr val="000000"/>
                </a:solidFill>
                <a:latin typeface="Arial"/>
              </a:rPr>
              <a:t>ko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+ K t</a:t>
            </a:r>
            <a:r>
              <a:rPr b="0" lang="pl-PL" sz="1900" spc="-1" strike="noStrike" baseline="-25000">
                <a:solidFill>
                  <a:srgbClr val="000000"/>
                </a:solidFill>
                <a:latin typeface="Arial"/>
              </a:rPr>
              <a:t>su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0BE-55CA-4B97-8502-8AF675CD39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 Narrow"/>
              </a:rPr>
              <a:t>Wyznaczanie sumy rozproszonych  elementów –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 Narrow"/>
              </a:rPr>
              <a:t>drzewo binarne (2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zas przetwarzania – liczba kolejno realizowanych kroków algoryt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 – razy – liczba poziomów drzewa oprócz poziomu l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 - realizowany cykl - 2 odbiory komunikatu (synchroniczne) i 2 sum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 – razy – liczba poziomów drzewa oprócz poziomu liści – 2 przesł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5f5f5f"/>
              </a:buClr>
              <a:buSzPct val="50000"/>
              <a:buFont typeface="Monotype Sort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AZEM:  (log</a:t>
            </a:r>
            <a:r>
              <a:rPr b="0" lang="pl-PL" sz="19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K+1)  - 1) * ( 2t</a:t>
            </a:r>
            <a:r>
              <a:rPr b="0" lang="pl-PL" sz="1900" spc="-1" strike="noStrike" baseline="-30000">
                <a:solidFill>
                  <a:srgbClr val="000000"/>
                </a:solidFill>
                <a:latin typeface="Arial"/>
              </a:rPr>
              <a:t>ko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+ 2 t</a:t>
            </a:r>
            <a:r>
              <a:rPr b="0" lang="pl-PL" sz="1900" spc="-1" strike="noStrike" baseline="-30000">
                <a:solidFill>
                  <a:srgbClr val="000000"/>
                </a:solidFill>
                <a:latin typeface="Arial"/>
              </a:rPr>
              <a:t>su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  +  (log</a:t>
            </a:r>
            <a:r>
              <a:rPr b="0" lang="pl-PL" sz="19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K+1)  - 1) *  2t</a:t>
            </a:r>
            <a:r>
              <a:rPr b="0" lang="pl-PL" sz="1900" spc="-1" strike="noStrike" baseline="-30000">
                <a:solidFill>
                  <a:srgbClr val="000000"/>
                </a:solidFill>
                <a:latin typeface="Arial"/>
              </a:rPr>
              <a:t>kom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4 log</a:t>
            </a:r>
            <a:r>
              <a:rPr b="0" lang="pl-PL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K t</a:t>
            </a:r>
            <a:r>
              <a:rPr b="0" lang="pl-PL" sz="1900" spc="-1" strike="noStrike" baseline="-25000">
                <a:solidFill>
                  <a:srgbClr val="000000"/>
                </a:solidFill>
                <a:latin typeface="Arial"/>
              </a:rPr>
              <a:t>ko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+ 2log</a:t>
            </a:r>
            <a:r>
              <a:rPr b="0" lang="pl-PL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 t</a:t>
            </a:r>
            <a:r>
              <a:rPr b="0" lang="pl-PL" sz="1900" spc="-1" strike="noStrike" baseline="-25000">
                <a:solidFill>
                  <a:srgbClr val="000000"/>
                </a:solidFill>
                <a:latin typeface="Arial"/>
              </a:rPr>
              <a:t>s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wagi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iczba operacji sumowania równa minimal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ziom równoległości obliczeń i równoległości komunikacji zmien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żliwość minimalizacji liczby przesłań (rozsyłanie wyniku) – inna architek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E39-8205-4D6D-989D-6352D67D41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 Narrow"/>
              </a:rPr>
              <a:t>Wyznaczanie sumy rozproszonych  elementów </a:t>
            </a:r>
            <a:br>
              <a:rPr sz="3200"/>
            </a:b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łańcuch dwukierunkow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Łańc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ch dwukierunkow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ęzeł centralny, liczba węzłów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alogiczna do drzewa praca – tym razem równoległa w 2 gałęzi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czba operacji – pra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-3 – razy - dla k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go 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ła oprócz 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ów k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wych  i centralnego  - odbiór komunikatu i  sumowan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w 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ź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 centralnym 2 odbiory i 2 sum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-3 – razy – dla k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go 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ła oprócz 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ów k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wych i centralnego - wysłanie informacji, 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entralny 2 prz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ZEM: (K-3) * ( t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o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t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+ 2* t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o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*t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(K-3) *  t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o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* t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om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2 K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kom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 K t 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0A7-FAE4-44BC-B94C-FD4E1C5002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 Narrow"/>
              </a:rPr>
              <a:t>Wyznaczanie sumy rozproszonych  elementów </a:t>
            </a:r>
            <a:br>
              <a:rPr sz="3200"/>
            </a:b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łańcuch dwukierunkowy (2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as przetwarzania – liczba kolejno realizowanych kroków algorytm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 – razy – ½ (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czba 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 oprócz k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wych i centralnego)  realizowany cykl - odbiór komunikatu i sumowan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 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entralny- 2 odbiory i 2 sum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 – razy – liczba węzłów oprócz końcowych i centralnego – 1 przesłanie; węzeł centralny – 2 przesł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ZEM:  ½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-3) (t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Arial"/>
              </a:rPr>
              <a:t>ko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 t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Arial"/>
              </a:rPr>
              <a:t>s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  + 2 t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Arial"/>
              </a:rPr>
              <a:t>s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 2 t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Arial"/>
              </a:rPr>
              <a:t>ko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  ½* (K-3) *  t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Arial"/>
              </a:rPr>
              <a:t>ko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 2 *   t</a:t>
            </a:r>
            <a:r>
              <a:rPr b="0" lang="pl-PL" sz="2400" spc="-1" strike="noStrike" baseline="-30000">
                <a:solidFill>
                  <a:srgbClr val="000000"/>
                </a:solidFill>
                <a:latin typeface="Arial"/>
              </a:rPr>
              <a:t>ko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K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kom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 ½ K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s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wagi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czba operacji sumowania równa minimal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iom równoległości obliczeń i komunikacji równy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011-D118-4CB1-A541-1709721D9A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Arial"/>
              </a:rPr>
              <a:t>Miary efektywności algorytmu równoległego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2742840"/>
            <a:ext cx="60958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unkcja złożoności obliczeniowej algorytmu równoległ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zyspiesz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fektywn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s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E3D-9038-4AF9-9AB6-16E98B662C9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 Narrow"/>
              </a:rPr>
              <a:t>Wyznaczanie sumy rozproszonych  elementów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 Narrow"/>
              </a:rPr>
              <a:t>- pierścień jednokierunkow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entralny, liczba 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w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kwencyjne sumowanie i przes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ie sum cz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ś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owych do 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centralnego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zs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ie wyniku do wszystkich 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czba operacji – pra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-1 – razy - dla k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go 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oprócz 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nas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nego po centralnym - odbiór komunikatu i sumowan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-1 – razy – dla k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go 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oprócz 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zed centralnym -  wy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ie wyniku – su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ZEM: (K-1) * ( t</a:t>
            </a:r>
            <a:r>
              <a:rPr b="0" lang="pl-PL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o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 t</a:t>
            </a:r>
            <a:r>
              <a:rPr b="0" lang="pl-PL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u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+ (K-1) *  t</a:t>
            </a:r>
            <a:r>
              <a:rPr b="0" lang="pl-PL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om</a:t>
            </a:r>
            <a:r>
              <a:rPr b="0" lang="pl-PL" sz="19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K t</a:t>
            </a:r>
            <a:r>
              <a:rPr b="0" lang="pl-PL" sz="1900" spc="-1" strike="noStrike" baseline="-25000">
                <a:solidFill>
                  <a:srgbClr val="000000"/>
                </a:solidFill>
                <a:latin typeface="Arial"/>
              </a:rPr>
              <a:t>su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+2K t</a:t>
            </a:r>
            <a:r>
              <a:rPr b="0" lang="pl-PL" sz="1900" spc="-1" strike="noStrike" baseline="-25000">
                <a:solidFill>
                  <a:srgbClr val="000000"/>
                </a:solidFill>
                <a:latin typeface="Arial"/>
              </a:rPr>
              <a:t>k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zas przetwarzania – liczba kolejno realizowanych kroków algoryt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 w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dyż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szystkie operacj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alizowan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kwencyjni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wagi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50000"/>
              <a:buFont typeface="Monotype Sort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iczba operacji sumowania równa minimalne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50000"/>
              <a:buFont typeface="Monotype Sort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równoległośc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50000"/>
              <a:buFont typeface="Monotype Sort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ożliwość minimalizacji liczby przesłań w tej architekturze  (uniknięcie rozsyłania wyniku) poprzez wyznaczanie sumy we wszystkich węzłach – porównaj następny algoryt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5EB-4D08-4A4F-BCD0-B90B97EE6E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Wyznaczanie sumy rozproszonych elementów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ierścień </a:t>
            </a:r>
            <a:r>
              <a:rPr b="1" lang="pl-PL" sz="3600" spc="-1" strike="noStrike">
                <a:solidFill>
                  <a:srgbClr val="000000"/>
                </a:solidFill>
                <a:latin typeface="Arial Narrow"/>
              </a:rPr>
              <a:t>jednokierunkowy -</a:t>
            </a:r>
            <a:br>
              <a:rPr sz="3600"/>
            </a:br>
            <a:r>
              <a:rPr b="1" lang="pl-PL" sz="3200" spc="-1" strike="noStrike">
                <a:solidFill>
                  <a:srgbClr val="000000"/>
                </a:solidFill>
                <a:latin typeface="Arial Narrow"/>
              </a:rPr>
              <a:t>komunikacja synchroniczn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–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elementy sumowa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number_of_nodes=2n;n&gt;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s :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śli parzysty to odbierz b1; wyślij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śli nieparzysty to wyślij a; odbierz b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:= s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_of_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śli parzysty to odbierz b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wyślij b1;b1:=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śli nieparzysty to wyślij b1; odbierz 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s:= s + 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k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 k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ymalizacja liczby przesłań kosztem nadmiarowych oblicze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192-6853-4448-8AD5-2073691E9C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Wyznaczanie sumy rozproszonych  elementów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ierścień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cje węzła 3 (przechowuje wartość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wyślij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odbierz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s = a+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wyślij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odbierz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 = s+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wyślij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odbierz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 = s +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zba węzłó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iczba kroków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twarzani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żdy krok przetwarzania to: nadanie, odbiór, sumow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ość pracy n*(n-1) sumowań, n*(n-1) przesła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mniejszenie czasu przetwarzania do (n-1)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(n-1)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34120" y="1889280"/>
            <a:ext cx="662040" cy="528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61280" y="2595600"/>
            <a:ext cx="661680" cy="528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719840" y="1889280"/>
            <a:ext cx="662040" cy="528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5"/>
            <a:endCxn id="418" idx="2"/>
          </p:cNvCxnSpPr>
          <p:nvPr/>
        </p:nvCxnSpPr>
        <p:spPr>
          <a:xfrm flipH="1" rot="16200000">
            <a:off x="5921280" y="2319840"/>
            <a:ext cx="518400" cy="561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418" idx="6"/>
            <a:endCxn id="419" idx="4"/>
          </p:cNvCxnSpPr>
          <p:nvPr/>
        </p:nvCxnSpPr>
        <p:spPr>
          <a:xfrm flipV="1">
            <a:off x="7122960" y="2417400"/>
            <a:ext cx="928080" cy="442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9" idx="0"/>
            <a:endCxn id="423" idx="6"/>
          </p:cNvCxnSpPr>
          <p:nvPr/>
        </p:nvCxnSpPr>
        <p:spPr>
          <a:xfrm flipV="1" rot="16200000">
            <a:off x="7307640" y="1146240"/>
            <a:ext cx="558000" cy="928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23" idx="2"/>
            <a:endCxn id="417" idx="0"/>
          </p:cNvCxnSpPr>
          <p:nvPr/>
        </p:nvCxnSpPr>
        <p:spPr>
          <a:xfrm flipV="1" rot="10800000">
            <a:off x="5664960" y="1331640"/>
            <a:ext cx="796320" cy="558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5532480" y="1947960"/>
            <a:ext cx="2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61280" y="1066680"/>
            <a:ext cx="661680" cy="528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5F5-49EE-408C-BDFD-4646B3E5AB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yznaczanie sumy rozproszonych  elementó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- podział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520" y="4724280"/>
            <a:ext cx="70866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ęzeł - operacja su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łuk - operacja przesłania jednej licz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zność zbioru n, W= 3*n, D= log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85800" y="1295280"/>
            <a:ext cx="7391520" cy="3124440"/>
            <a:chOff x="685800" y="1295280"/>
            <a:chExt cx="7391520" cy="3124440"/>
          </a:xfrm>
        </p:grpSpPr>
        <p:sp>
          <p:nvSpPr>
            <p:cNvPr id="429" name=""/>
            <p:cNvSpPr/>
            <p:nvPr/>
          </p:nvSpPr>
          <p:spPr>
            <a:xfrm>
              <a:off x="685800" y="40384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52480" y="4038480"/>
              <a:ext cx="38124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5800" y="31240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52480" y="31240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" y="22096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52480" y="22096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5800" y="12952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52480" y="12952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990720" y="3428640"/>
              <a:ext cx="76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990720" y="342864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91440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838080" y="259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83808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19810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981080" y="259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1981080" y="1599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29400" y="40384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96080" y="4038480"/>
              <a:ext cx="38124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29400" y="31240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96080" y="31240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22096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96080" y="22096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29400" y="12952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96080" y="12952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6934320" y="3428640"/>
              <a:ext cx="76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6934320" y="342864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685800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781680" y="259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678168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9246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924680" y="259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924680" y="1599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48320" y="40384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15000" y="40384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8320" y="31240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31240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8320" y="22096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715000" y="22096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48320" y="12952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15000" y="12952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952880" y="342864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>
              <a:off x="4952520" y="3428640"/>
              <a:ext cx="8384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87692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4800600" y="259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594360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5943600" y="259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5943600" y="1599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66880" y="4038480"/>
              <a:ext cx="38124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33920" y="40384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66880" y="3124080"/>
              <a:ext cx="38124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33920" y="31240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66880" y="22096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33920" y="22096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66880" y="12952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12952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2971800" y="342864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2971800" y="342864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8954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819520" y="259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28195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96252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962520" y="259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962520" y="1599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1066680" y="251424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2057400" y="2514240"/>
              <a:ext cx="1752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1066320" y="251424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2133720" y="2514240"/>
              <a:ext cx="1676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4952880" y="251424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095880" y="251424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5028840" y="2514240"/>
              <a:ext cx="1676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6095520" y="2514240"/>
              <a:ext cx="1676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990720" y="1599840"/>
              <a:ext cx="3657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2133720" y="1599840"/>
              <a:ext cx="3581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3048120" y="1599840"/>
              <a:ext cx="3581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4114800" y="1676160"/>
              <a:ext cx="3581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1066680" y="1599840"/>
              <a:ext cx="3581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133720" y="1599840"/>
              <a:ext cx="3504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048120" y="1599840"/>
              <a:ext cx="3504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191120" y="1599840"/>
              <a:ext cx="3429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4430-63DC-4792-9787-A4E7A23F37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467480" y="1066680"/>
            <a:ext cx="838440" cy="3581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1143000"/>
            <a:ext cx="914400" cy="358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86400" y="1143000"/>
            <a:ext cx="838080" cy="358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495680" y="1143000"/>
            <a:ext cx="762120" cy="358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81280" y="1143000"/>
            <a:ext cx="685800" cy="358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514600" y="1219320"/>
            <a:ext cx="685800" cy="3504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00200" y="1143000"/>
            <a:ext cx="685800" cy="358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520" y="1219320"/>
            <a:ext cx="685800" cy="3504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yznaczanie sumy rozproszonych  elementó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- aglomeracj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dania-operacje realizowane sekwencyjnie połączone w jedno zadanie, minimalizacja komunikacji, wzrost lokalności da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85800" y="1295280"/>
            <a:ext cx="7391520" cy="3124440"/>
            <a:chOff x="685800" y="1295280"/>
            <a:chExt cx="7391520" cy="3124440"/>
          </a:xfrm>
        </p:grpSpPr>
        <p:sp>
          <p:nvSpPr>
            <p:cNvPr id="520" name=""/>
            <p:cNvSpPr/>
            <p:nvPr/>
          </p:nvSpPr>
          <p:spPr>
            <a:xfrm>
              <a:off x="685800" y="40384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52480" y="4038480"/>
              <a:ext cx="38124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800" y="31240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52480" y="31240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5800" y="22096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52480" y="22096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5800" y="12952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52480" y="12952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990720" y="3428640"/>
              <a:ext cx="76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990720" y="342864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91440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838080" y="259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83808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9810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1981080" y="259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1981080" y="1599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29400" y="40384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96080" y="4038480"/>
              <a:ext cx="38124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29400" y="31240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96080" y="31240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29400" y="22096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96080" y="22096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29400" y="12952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96080" y="12952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934320" y="3428640"/>
              <a:ext cx="76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6934320" y="342864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85800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781680" y="259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78168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9246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924680" y="259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7924680" y="1599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48320" y="40384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15000" y="40384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48320" y="31240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15000" y="31240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48320" y="22096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15000" y="22096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48320" y="12952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15000" y="12952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4952880" y="342864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>
              <a:off x="4952520" y="3428640"/>
              <a:ext cx="8384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87692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4800600" y="259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480060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94360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5943600" y="259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5943600" y="1599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66880" y="4038480"/>
              <a:ext cx="38124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33920" y="4038480"/>
              <a:ext cx="38088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66880" y="3124080"/>
              <a:ext cx="381240" cy="3812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733920" y="31240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22096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733920" y="22096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66880" y="12952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33920" y="1295280"/>
              <a:ext cx="38088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971800" y="342864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800" y="342864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28954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2819520" y="259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28195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396252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962520" y="259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962520" y="1599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066680" y="251424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2057400" y="2514240"/>
              <a:ext cx="1752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1066320" y="251424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2133720" y="2514240"/>
              <a:ext cx="1676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952880" y="251424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6095880" y="251424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5028840" y="2514240"/>
              <a:ext cx="1676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flipV="1">
              <a:off x="6095520" y="2514240"/>
              <a:ext cx="1676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990720" y="1599840"/>
              <a:ext cx="3657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2133720" y="1599840"/>
              <a:ext cx="3581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flipV="1">
              <a:off x="3048120" y="1599840"/>
              <a:ext cx="3581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4114800" y="1676160"/>
              <a:ext cx="3581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1066680" y="1599840"/>
              <a:ext cx="3581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2133720" y="1599840"/>
              <a:ext cx="3504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3048120" y="1599840"/>
              <a:ext cx="3504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4191120" y="1599840"/>
              <a:ext cx="3429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7DF-E9F5-4A57-AB9E-5A3DC71D2A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yznaczanie sumy rozproszonych  elementó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- aglomeracj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 fazy wymiany wartości między parami zada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 fazy dodawania – dodawanie 2 wartości, wyznaczana lokalnie suma 2,4 lub 8 element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22440" y="3895560"/>
            <a:ext cx="60948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65640" y="3895560"/>
            <a:ext cx="60948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51240" y="3895560"/>
            <a:ext cx="60948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36840" y="3895560"/>
            <a:ext cx="60948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280040" y="3895560"/>
            <a:ext cx="60948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023240" y="3895560"/>
            <a:ext cx="60948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108840" y="3895560"/>
            <a:ext cx="60948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94440" y="3895560"/>
            <a:ext cx="60948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02" idx="7"/>
            <a:endCxn id="605" idx="1"/>
          </p:cNvCxnSpPr>
          <p:nvPr/>
        </p:nvCxnSpPr>
        <p:spPr>
          <a:xfrm flipH="1" rot="16200000">
            <a:off x="1383480" y="3721680"/>
            <a:ext cx="2160" cy="483480"/>
          </a:xfrm>
          <a:prstGeom prst="curvedConnector5">
            <a:avLst>
              <a:gd name="adj1" fmla="val -18600000"/>
              <a:gd name="adj2" fmla="val 50000"/>
              <a:gd name="adj3" fmla="val -18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1" name=""/>
          <p:cNvCxnSpPr>
            <a:stCxn id="604" idx="7"/>
            <a:endCxn id="603" idx="1"/>
          </p:cNvCxnSpPr>
          <p:nvPr/>
        </p:nvCxnSpPr>
        <p:spPr>
          <a:xfrm flipH="1" rot="16200000">
            <a:off x="3212280" y="3721680"/>
            <a:ext cx="2160" cy="483480"/>
          </a:xfrm>
          <a:prstGeom prst="curvedConnector5">
            <a:avLst>
              <a:gd name="adj1" fmla="val -18600000"/>
              <a:gd name="adj2" fmla="val 50000"/>
              <a:gd name="adj3" fmla="val -18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2" name=""/>
          <p:cNvCxnSpPr>
            <a:stCxn id="606" idx="7"/>
            <a:endCxn id="609" idx="0"/>
          </p:cNvCxnSpPr>
          <p:nvPr/>
        </p:nvCxnSpPr>
        <p:spPr>
          <a:xfrm flipH="1" flipV="1" rot="5400000">
            <a:off x="5115960" y="3579480"/>
            <a:ext cx="67680" cy="699120"/>
          </a:xfrm>
          <a:prstGeom prst="curvedConnector5">
            <a:avLst>
              <a:gd name="adj1" fmla="val 442780"/>
              <a:gd name="adj2" fmla="val 49974"/>
              <a:gd name="adj3" fmla="val 44278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3" name=""/>
          <p:cNvCxnSpPr>
            <a:stCxn id="608" idx="0"/>
            <a:endCxn id="607" idx="1"/>
          </p:cNvCxnSpPr>
          <p:nvPr/>
        </p:nvCxnSpPr>
        <p:spPr>
          <a:xfrm flipH="1" rot="16200000">
            <a:off x="6729120" y="3579480"/>
            <a:ext cx="67680" cy="699480"/>
          </a:xfrm>
          <a:prstGeom prst="curvedConnector5">
            <a:avLst>
              <a:gd name="adj1" fmla="val -342780"/>
              <a:gd name="adj2" fmla="val 50000"/>
              <a:gd name="adj3" fmla="val -34278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4" name=""/>
          <p:cNvCxnSpPr>
            <a:stCxn id="604" idx="0"/>
            <a:endCxn id="602" idx="0"/>
          </p:cNvCxnSpPr>
          <p:nvPr/>
        </p:nvCxnSpPr>
        <p:spPr>
          <a:xfrm rot="5400000">
            <a:off x="1839960" y="2981160"/>
            <a:ext cx="2520" cy="1829520"/>
          </a:xfrm>
          <a:prstGeom prst="curvedConnector5">
            <a:avLst>
              <a:gd name="adj1" fmla="val -77900000"/>
              <a:gd name="adj2" fmla="val 49990"/>
              <a:gd name="adj3" fmla="val -779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5" name=""/>
          <p:cNvCxnSpPr>
            <a:stCxn id="603" idx="0"/>
            <a:endCxn id="605" idx="0"/>
          </p:cNvCxnSpPr>
          <p:nvPr/>
        </p:nvCxnSpPr>
        <p:spPr>
          <a:xfrm rot="5400000">
            <a:off x="2754360" y="2981160"/>
            <a:ext cx="2520" cy="1829520"/>
          </a:xfrm>
          <a:prstGeom prst="curvedConnector5">
            <a:avLst>
              <a:gd name="adj1" fmla="val -75300000"/>
              <a:gd name="adj2" fmla="val 49990"/>
              <a:gd name="adj3" fmla="val -753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6" name=""/>
          <p:cNvCxnSpPr>
            <a:stCxn id="606" idx="0"/>
            <a:endCxn id="608" idx="0"/>
          </p:cNvCxnSpPr>
          <p:nvPr/>
        </p:nvCxnSpPr>
        <p:spPr>
          <a:xfrm flipH="1" rot="16200000">
            <a:off x="5497920" y="2980800"/>
            <a:ext cx="2520" cy="1829520"/>
          </a:xfrm>
          <a:prstGeom prst="curvedConnector5">
            <a:avLst>
              <a:gd name="adj1" fmla="val -74400000"/>
              <a:gd name="adj2" fmla="val 49990"/>
              <a:gd name="adj3" fmla="val -7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7" name=""/>
          <p:cNvCxnSpPr>
            <a:stCxn id="609" idx="0"/>
            <a:endCxn id="607" idx="0"/>
          </p:cNvCxnSpPr>
          <p:nvPr/>
        </p:nvCxnSpPr>
        <p:spPr>
          <a:xfrm flipH="1" rot="16200000">
            <a:off x="6412320" y="2980800"/>
            <a:ext cx="2520" cy="1829520"/>
          </a:xfrm>
          <a:prstGeom prst="curvedConnector5">
            <a:avLst>
              <a:gd name="adj1" fmla="val -72000000"/>
              <a:gd name="adj2" fmla="val 49990"/>
              <a:gd name="adj3" fmla="val -720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8" name=""/>
          <p:cNvCxnSpPr/>
          <p:nvPr/>
        </p:nvCxnSpPr>
        <p:spPr>
          <a:xfrm flipH="1" rot="16200000">
            <a:off x="2754720" y="2066400"/>
            <a:ext cx="2520" cy="3658320"/>
          </a:xfrm>
          <a:prstGeom prst="curvedConnector5">
            <a:avLst>
              <a:gd name="adj1" fmla="val -119100000"/>
              <a:gd name="adj2" fmla="val 49995"/>
              <a:gd name="adj3" fmla="val -1191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9" name=""/>
          <p:cNvCxnSpPr>
            <a:stCxn id="605" idx="7"/>
            <a:endCxn id="609" idx="7"/>
          </p:cNvCxnSpPr>
          <p:nvPr/>
        </p:nvCxnSpPr>
        <p:spPr>
          <a:xfrm flipH="1" rot="16200000">
            <a:off x="3885480" y="2134080"/>
            <a:ext cx="2160" cy="3658320"/>
          </a:xfrm>
          <a:prstGeom prst="curvedConnector5">
            <a:avLst>
              <a:gd name="adj1" fmla="val -122400000"/>
              <a:gd name="adj2" fmla="val 49995"/>
              <a:gd name="adj3" fmla="val -122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0" name=""/>
          <p:cNvCxnSpPr>
            <a:stCxn id="604" idx="0"/>
            <a:endCxn id="608" idx="0"/>
          </p:cNvCxnSpPr>
          <p:nvPr/>
        </p:nvCxnSpPr>
        <p:spPr>
          <a:xfrm flipH="1" rot="16200000">
            <a:off x="4583520" y="2066400"/>
            <a:ext cx="2520" cy="3658320"/>
          </a:xfrm>
          <a:prstGeom prst="curvedConnector5">
            <a:avLst>
              <a:gd name="adj1" fmla="val -118200000"/>
              <a:gd name="adj2" fmla="val 49995"/>
              <a:gd name="adj3" fmla="val -118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1" name=""/>
          <p:cNvCxnSpPr>
            <a:stCxn id="603" idx="7"/>
            <a:endCxn id="607" idx="7"/>
          </p:cNvCxnSpPr>
          <p:nvPr/>
        </p:nvCxnSpPr>
        <p:spPr>
          <a:xfrm flipH="1" rot="16200000">
            <a:off x="5714280" y="2134080"/>
            <a:ext cx="2160" cy="3658320"/>
          </a:xfrm>
          <a:prstGeom prst="curvedConnector5">
            <a:avLst>
              <a:gd name="adj1" fmla="val -119900000"/>
              <a:gd name="adj2" fmla="val 49995"/>
              <a:gd name="adj3" fmla="val -1199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8074080" y="1412280"/>
            <a:ext cx="48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AF3-A83E-44A3-ADE0-11BCC0FBA6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yznaczanie sumy rozproszonych  elementó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podejście systematyczn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e – struktura systemu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990720" y="1981080"/>
            <a:ext cx="3428640" cy="2514600"/>
            <a:chOff x="990720" y="1981080"/>
            <a:chExt cx="3428640" cy="2514600"/>
          </a:xfrm>
        </p:grpSpPr>
        <p:grpSp>
          <p:nvGrpSpPr>
            <p:cNvPr id="625" name=""/>
            <p:cNvGrpSpPr/>
            <p:nvPr/>
          </p:nvGrpSpPr>
          <p:grpSpPr>
            <a:xfrm>
              <a:off x="990720" y="3048120"/>
              <a:ext cx="1447920" cy="1447560"/>
              <a:chOff x="990720" y="3048120"/>
              <a:chExt cx="1447920" cy="1447560"/>
            </a:xfrm>
          </p:grpSpPr>
          <p:sp>
            <p:nvSpPr>
              <p:cNvPr id="626" name=""/>
              <p:cNvSpPr/>
              <p:nvPr/>
            </p:nvSpPr>
            <p:spPr>
              <a:xfrm>
                <a:off x="990720" y="3048120"/>
                <a:ext cx="457200" cy="38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990720" y="4114800"/>
                <a:ext cx="457200" cy="38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1440" y="3048120"/>
                <a:ext cx="457200" cy="38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981440" y="4114800"/>
                <a:ext cx="457200" cy="38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0" name=""/>
              <p:cNvCxnSpPr>
                <a:stCxn id="626" idx="4"/>
                <a:endCxn id="627" idx="0"/>
              </p:cNvCxnSpPr>
              <p:nvPr/>
            </p:nvCxnSpPr>
            <p:spPr>
              <a:xfrm>
                <a:off x="1218960" y="3428640"/>
                <a:ext cx="1080" cy="68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31" name=""/>
              <p:cNvCxnSpPr>
                <a:stCxn id="627" idx="6"/>
                <a:endCxn id="629" idx="2"/>
              </p:cNvCxnSpPr>
              <p:nvPr/>
            </p:nvCxnSpPr>
            <p:spPr>
              <a:xfrm>
                <a:off x="1447920" y="4304880"/>
                <a:ext cx="534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32" name=""/>
              <p:cNvCxnSpPr>
                <a:stCxn id="626" idx="6"/>
                <a:endCxn id="628" idx="2"/>
              </p:cNvCxnSpPr>
              <p:nvPr/>
            </p:nvCxnSpPr>
            <p:spPr>
              <a:xfrm>
                <a:off x="1447920" y="3238200"/>
                <a:ext cx="534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33" name=""/>
              <p:cNvCxnSpPr>
                <a:stCxn id="628" idx="4"/>
                <a:endCxn id="629" idx="0"/>
              </p:cNvCxnSpPr>
              <p:nvPr/>
            </p:nvCxnSpPr>
            <p:spPr>
              <a:xfrm>
                <a:off x="2209680" y="3428640"/>
                <a:ext cx="1080" cy="68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grpSp>
          <p:nvGrpSpPr>
            <p:cNvPr id="634" name=""/>
            <p:cNvGrpSpPr/>
            <p:nvPr/>
          </p:nvGrpSpPr>
          <p:grpSpPr>
            <a:xfrm>
              <a:off x="2972160" y="1981080"/>
              <a:ext cx="1447200" cy="1447560"/>
              <a:chOff x="2972160" y="1981080"/>
              <a:chExt cx="1447200" cy="1447560"/>
            </a:xfrm>
          </p:grpSpPr>
          <p:sp>
            <p:nvSpPr>
              <p:cNvPr id="635" name=""/>
              <p:cNvSpPr/>
              <p:nvPr/>
            </p:nvSpPr>
            <p:spPr>
              <a:xfrm>
                <a:off x="2972160" y="1981080"/>
                <a:ext cx="456840" cy="38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972160" y="3047760"/>
                <a:ext cx="456840" cy="38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962520" y="1981080"/>
                <a:ext cx="456840" cy="38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962520" y="3047760"/>
                <a:ext cx="456840" cy="38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9" name=""/>
              <p:cNvCxnSpPr>
                <a:stCxn id="635" idx="4"/>
                <a:endCxn id="636" idx="0"/>
              </p:cNvCxnSpPr>
              <p:nvPr/>
            </p:nvCxnSpPr>
            <p:spPr>
              <a:xfrm>
                <a:off x="3200040" y="2361600"/>
                <a:ext cx="1080" cy="68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40" name=""/>
              <p:cNvCxnSpPr>
                <a:stCxn id="636" idx="6"/>
                <a:endCxn id="638" idx="2"/>
              </p:cNvCxnSpPr>
              <p:nvPr/>
            </p:nvCxnSpPr>
            <p:spPr>
              <a:xfrm>
                <a:off x="3428640" y="3237840"/>
                <a:ext cx="533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41" name=""/>
              <p:cNvCxnSpPr>
                <a:stCxn id="635" idx="6"/>
                <a:endCxn id="637" idx="2"/>
              </p:cNvCxnSpPr>
              <p:nvPr/>
            </p:nvCxnSpPr>
            <p:spPr>
              <a:xfrm>
                <a:off x="3428640" y="2171160"/>
                <a:ext cx="533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42" name=""/>
              <p:cNvCxnSpPr>
                <a:stCxn id="637" idx="4"/>
                <a:endCxn id="638" idx="0"/>
              </p:cNvCxnSpPr>
              <p:nvPr/>
            </p:nvCxnSpPr>
            <p:spPr>
              <a:xfrm>
                <a:off x="4190760" y="2361600"/>
                <a:ext cx="1080" cy="68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643" name=""/>
            <p:cNvCxnSpPr>
              <a:stCxn id="626" idx="7"/>
              <a:endCxn id="635" idx="2"/>
            </p:cNvCxnSpPr>
            <p:nvPr/>
          </p:nvCxnSpPr>
          <p:spPr>
            <a:xfrm flipV="1">
              <a:off x="1380960" y="2171520"/>
              <a:ext cx="1591560" cy="93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44" name=""/>
            <p:cNvCxnSpPr>
              <a:stCxn id="628" idx="7"/>
              <a:endCxn id="637" idx="3"/>
            </p:cNvCxnSpPr>
            <p:nvPr/>
          </p:nvCxnSpPr>
          <p:spPr>
            <a:xfrm flipV="1">
              <a:off x="2372040" y="2306160"/>
              <a:ext cx="1658160" cy="79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45" name=""/>
            <p:cNvCxnSpPr>
              <a:stCxn id="627" idx="7"/>
              <a:endCxn id="636" idx="3"/>
            </p:cNvCxnSpPr>
            <p:nvPr/>
          </p:nvCxnSpPr>
          <p:spPr>
            <a:xfrm flipV="1">
              <a:off x="1381320" y="3372840"/>
              <a:ext cx="1658160" cy="79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46" name=""/>
            <p:cNvCxnSpPr>
              <a:stCxn id="629" idx="6"/>
              <a:endCxn id="638" idx="3"/>
            </p:cNvCxnSpPr>
            <p:nvPr/>
          </p:nvCxnSpPr>
          <p:spPr>
            <a:xfrm flipV="1">
              <a:off x="2438280" y="3373200"/>
              <a:ext cx="1591560" cy="93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647" name=""/>
          <p:cNvGrpSpPr/>
          <p:nvPr/>
        </p:nvGrpSpPr>
        <p:grpSpPr>
          <a:xfrm>
            <a:off x="4876920" y="2438280"/>
            <a:ext cx="3428640" cy="2514600"/>
            <a:chOff x="4876920" y="2438280"/>
            <a:chExt cx="3428640" cy="2514600"/>
          </a:xfrm>
        </p:grpSpPr>
        <p:grpSp>
          <p:nvGrpSpPr>
            <p:cNvPr id="648" name=""/>
            <p:cNvGrpSpPr/>
            <p:nvPr/>
          </p:nvGrpSpPr>
          <p:grpSpPr>
            <a:xfrm>
              <a:off x="4876920" y="3505320"/>
              <a:ext cx="1447920" cy="1447560"/>
              <a:chOff x="4876920" y="3505320"/>
              <a:chExt cx="1447920" cy="1447560"/>
            </a:xfrm>
          </p:grpSpPr>
          <p:sp>
            <p:nvSpPr>
              <p:cNvPr id="649" name=""/>
              <p:cNvSpPr/>
              <p:nvPr/>
            </p:nvSpPr>
            <p:spPr>
              <a:xfrm>
                <a:off x="4876920" y="3505320"/>
                <a:ext cx="457200" cy="38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876920" y="4572000"/>
                <a:ext cx="457200" cy="38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867640" y="3505320"/>
                <a:ext cx="457200" cy="38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67640" y="4572000"/>
                <a:ext cx="457200" cy="38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3" name=""/>
              <p:cNvCxnSpPr>
                <a:stCxn id="649" idx="4"/>
                <a:endCxn id="650" idx="0"/>
              </p:cNvCxnSpPr>
              <p:nvPr/>
            </p:nvCxnSpPr>
            <p:spPr>
              <a:xfrm>
                <a:off x="5105160" y="3885840"/>
                <a:ext cx="1080" cy="68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54" name=""/>
              <p:cNvCxnSpPr>
                <a:stCxn id="650" idx="6"/>
                <a:endCxn id="652" idx="2"/>
              </p:cNvCxnSpPr>
              <p:nvPr/>
            </p:nvCxnSpPr>
            <p:spPr>
              <a:xfrm>
                <a:off x="5334120" y="4762080"/>
                <a:ext cx="534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55" name=""/>
              <p:cNvCxnSpPr>
                <a:stCxn id="649" idx="6"/>
                <a:endCxn id="651" idx="2"/>
              </p:cNvCxnSpPr>
              <p:nvPr/>
            </p:nvCxnSpPr>
            <p:spPr>
              <a:xfrm>
                <a:off x="5334120" y="3695400"/>
                <a:ext cx="534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56" name=""/>
              <p:cNvCxnSpPr>
                <a:stCxn id="651" idx="4"/>
                <a:endCxn id="652" idx="0"/>
              </p:cNvCxnSpPr>
              <p:nvPr/>
            </p:nvCxnSpPr>
            <p:spPr>
              <a:xfrm>
                <a:off x="6095880" y="3885840"/>
                <a:ext cx="1080" cy="68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grpSp>
          <p:nvGrpSpPr>
            <p:cNvPr id="657" name=""/>
            <p:cNvGrpSpPr/>
            <p:nvPr/>
          </p:nvGrpSpPr>
          <p:grpSpPr>
            <a:xfrm>
              <a:off x="6858360" y="2438280"/>
              <a:ext cx="1447200" cy="1447560"/>
              <a:chOff x="6858360" y="2438280"/>
              <a:chExt cx="1447200" cy="1447560"/>
            </a:xfrm>
          </p:grpSpPr>
          <p:sp>
            <p:nvSpPr>
              <p:cNvPr id="658" name=""/>
              <p:cNvSpPr/>
              <p:nvPr/>
            </p:nvSpPr>
            <p:spPr>
              <a:xfrm>
                <a:off x="6858360" y="2438280"/>
                <a:ext cx="456840" cy="38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8360" y="3504960"/>
                <a:ext cx="456840" cy="38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848720" y="2438280"/>
                <a:ext cx="456840" cy="38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848720" y="3504960"/>
                <a:ext cx="456840" cy="38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62" name=""/>
              <p:cNvCxnSpPr>
                <a:stCxn id="658" idx="4"/>
                <a:endCxn id="659" idx="0"/>
              </p:cNvCxnSpPr>
              <p:nvPr/>
            </p:nvCxnSpPr>
            <p:spPr>
              <a:xfrm>
                <a:off x="7086240" y="2818800"/>
                <a:ext cx="1080" cy="68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63" name=""/>
              <p:cNvCxnSpPr>
                <a:stCxn id="659" idx="6"/>
                <a:endCxn id="661" idx="2"/>
              </p:cNvCxnSpPr>
              <p:nvPr/>
            </p:nvCxnSpPr>
            <p:spPr>
              <a:xfrm>
                <a:off x="7314840" y="3695040"/>
                <a:ext cx="533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64" name=""/>
              <p:cNvCxnSpPr>
                <a:stCxn id="658" idx="6"/>
                <a:endCxn id="660" idx="2"/>
              </p:cNvCxnSpPr>
              <p:nvPr/>
            </p:nvCxnSpPr>
            <p:spPr>
              <a:xfrm>
                <a:off x="7314840" y="2628360"/>
                <a:ext cx="533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60" idx="4"/>
                <a:endCxn id="661" idx="0"/>
              </p:cNvCxnSpPr>
              <p:nvPr/>
            </p:nvCxnSpPr>
            <p:spPr>
              <a:xfrm>
                <a:off x="8076960" y="2818800"/>
                <a:ext cx="1080" cy="68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666" name=""/>
            <p:cNvCxnSpPr>
              <a:stCxn id="649" idx="7"/>
              <a:endCxn id="658" idx="2"/>
            </p:cNvCxnSpPr>
            <p:nvPr/>
          </p:nvCxnSpPr>
          <p:spPr>
            <a:xfrm flipV="1">
              <a:off x="5267160" y="2628720"/>
              <a:ext cx="1591560" cy="93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67" name=""/>
            <p:cNvCxnSpPr>
              <a:stCxn id="651" idx="7"/>
              <a:endCxn id="660" idx="3"/>
            </p:cNvCxnSpPr>
            <p:nvPr/>
          </p:nvCxnSpPr>
          <p:spPr>
            <a:xfrm flipV="1">
              <a:off x="6258240" y="2763360"/>
              <a:ext cx="1658160" cy="79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68" name=""/>
            <p:cNvCxnSpPr>
              <a:stCxn id="650" idx="7"/>
              <a:endCxn id="659" idx="3"/>
            </p:cNvCxnSpPr>
            <p:nvPr/>
          </p:nvCxnSpPr>
          <p:spPr>
            <a:xfrm flipV="1">
              <a:off x="5267520" y="3830040"/>
              <a:ext cx="1658160" cy="79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69" name=""/>
            <p:cNvCxnSpPr>
              <a:stCxn id="652" idx="6"/>
              <a:endCxn id="661" idx="3"/>
            </p:cNvCxnSpPr>
            <p:nvPr/>
          </p:nvCxnSpPr>
          <p:spPr>
            <a:xfrm flipV="1">
              <a:off x="6324480" y="3830400"/>
              <a:ext cx="1591560" cy="93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670" name=""/>
          <p:cNvCxnSpPr>
            <a:stCxn id="627" idx="4"/>
            <a:endCxn id="650" idx="4"/>
          </p:cNvCxnSpPr>
          <p:nvPr/>
        </p:nvCxnSpPr>
        <p:spPr>
          <a:xfrm flipH="1" rot="16200000">
            <a:off x="2932920" y="2781000"/>
            <a:ext cx="457920" cy="3886920"/>
          </a:xfrm>
          <a:prstGeom prst="curvedConnector5">
            <a:avLst>
              <a:gd name="adj1" fmla="val 149960"/>
              <a:gd name="adj2" fmla="val 50000"/>
              <a:gd name="adj3" fmla="val 1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1" name=""/>
          <p:cNvCxnSpPr>
            <a:stCxn id="629" idx="4"/>
            <a:endCxn id="652" idx="4"/>
          </p:cNvCxnSpPr>
          <p:nvPr/>
        </p:nvCxnSpPr>
        <p:spPr>
          <a:xfrm flipH="1" rot="16200000">
            <a:off x="3923280" y="2781000"/>
            <a:ext cx="457920" cy="3886920"/>
          </a:xfrm>
          <a:prstGeom prst="curvedConnector5">
            <a:avLst>
              <a:gd name="adj1" fmla="val 149960"/>
              <a:gd name="adj2" fmla="val 50000"/>
              <a:gd name="adj3" fmla="val 1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2" name=""/>
          <p:cNvCxnSpPr>
            <a:stCxn id="626" idx="5"/>
            <a:endCxn id="649" idx="3"/>
          </p:cNvCxnSpPr>
          <p:nvPr/>
        </p:nvCxnSpPr>
        <p:spPr>
          <a:xfrm flipH="1" rot="16200000">
            <a:off x="2933640" y="1820520"/>
            <a:ext cx="457920" cy="3563280"/>
          </a:xfrm>
          <a:prstGeom prst="curvedConnector5">
            <a:avLst>
              <a:gd name="adj1" fmla="val 162077"/>
              <a:gd name="adj2" fmla="val 49994"/>
              <a:gd name="adj3" fmla="val 16207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3" name=""/>
          <p:cNvCxnSpPr>
            <a:stCxn id="628" idx="4"/>
            <a:endCxn id="651" idx="3"/>
          </p:cNvCxnSpPr>
          <p:nvPr/>
        </p:nvCxnSpPr>
        <p:spPr>
          <a:xfrm flipH="1" rot="16200000">
            <a:off x="3871080" y="1767240"/>
            <a:ext cx="402480" cy="3725280"/>
          </a:xfrm>
          <a:prstGeom prst="curvedConnector5">
            <a:avLst>
              <a:gd name="adj1" fmla="val 170725"/>
              <a:gd name="adj2" fmla="val 49995"/>
              <a:gd name="adj3" fmla="val 17072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4" name=""/>
          <p:cNvCxnSpPr>
            <a:stCxn id="635" idx="7"/>
            <a:endCxn id="658" idx="0"/>
          </p:cNvCxnSpPr>
          <p:nvPr/>
        </p:nvCxnSpPr>
        <p:spPr>
          <a:xfrm flipH="1" rot="16200000">
            <a:off x="5023440" y="374400"/>
            <a:ext cx="402120" cy="3724920"/>
          </a:xfrm>
          <a:prstGeom prst="curvedConnector5">
            <a:avLst>
              <a:gd name="adj1" fmla="val -70698"/>
              <a:gd name="adj2" fmla="val 50000"/>
              <a:gd name="adj3" fmla="val -7069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5" name=""/>
          <p:cNvCxnSpPr>
            <a:stCxn id="637" idx="7"/>
            <a:endCxn id="660" idx="0"/>
          </p:cNvCxnSpPr>
          <p:nvPr/>
        </p:nvCxnSpPr>
        <p:spPr>
          <a:xfrm flipH="1" rot="16200000">
            <a:off x="6014160" y="374040"/>
            <a:ext cx="402120" cy="3725280"/>
          </a:xfrm>
          <a:prstGeom prst="curvedConnector5">
            <a:avLst>
              <a:gd name="adj1" fmla="val -70698"/>
              <a:gd name="adj2" fmla="val 49995"/>
              <a:gd name="adj3" fmla="val -7069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6" name=""/>
          <p:cNvCxnSpPr>
            <a:stCxn id="636" idx="7"/>
            <a:endCxn id="659" idx="0"/>
          </p:cNvCxnSpPr>
          <p:nvPr/>
        </p:nvCxnSpPr>
        <p:spPr>
          <a:xfrm flipH="1" rot="16200000">
            <a:off x="5023440" y="1442160"/>
            <a:ext cx="402480" cy="3724920"/>
          </a:xfrm>
          <a:prstGeom prst="curvedConnector5">
            <a:avLst>
              <a:gd name="adj1" fmla="val -70725"/>
              <a:gd name="adj2" fmla="val 50000"/>
              <a:gd name="adj3" fmla="val -7072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7" name=""/>
          <p:cNvCxnSpPr>
            <a:stCxn id="638" idx="7"/>
            <a:endCxn id="661" idx="1"/>
          </p:cNvCxnSpPr>
          <p:nvPr/>
        </p:nvCxnSpPr>
        <p:spPr>
          <a:xfrm flipH="1" rot="16200000">
            <a:off x="5905440" y="1550520"/>
            <a:ext cx="457920" cy="3563280"/>
          </a:xfrm>
          <a:prstGeom prst="curvedConnector5">
            <a:avLst>
              <a:gd name="adj1" fmla="val -62077"/>
              <a:gd name="adj2" fmla="val 49994"/>
              <a:gd name="adj3" fmla="val -6207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8" name=""/>
          <p:cNvSpPr/>
          <p:nvPr/>
        </p:nvSpPr>
        <p:spPr>
          <a:xfrm>
            <a:off x="83808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38080" y="5334120"/>
            <a:ext cx="78487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umowanie danych rozproszonych w 16 węzłach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6 = 4 kro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EFD-BC82-4B4D-963A-AB13D04B1F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 Narrow"/>
              </a:rPr>
              <a:t>Znajdowanie liczb pierwszych (1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et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zielenie badanej liczby przez liczby pierwsze i badanie wartości reszty z dziele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uwanie ze zbioru badanych liczb liczb będących wielokrotnością liczb pierwsz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akie liczby pierwsze uwzględniać dla badanej liczby (bądź górnego zakresu)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starczy znaleźć dla każdej liczby złożonej minimalny podzielnik: 35 – 5, 77 – 7, 121 – 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zy istnieje warunek ograniczający maksymalną wartość najmniejszego podzielnika liczby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3DC-C218-46D5-9BBF-5598299063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 Narrow"/>
              </a:rPr>
              <a:t>Znajdowanie liczb pierwszych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czba złożona: n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i=1..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liczby pierwsze,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 &gt;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naleźć najmniejszy podzielnik liczby badanej n. Aby znaleźć górne ograniczenie zbioru, do którego te podzielniki należą wyznaczymy ma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mi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) – jest równe maksymalnej liczbie pierwszej, która może być najmniejszym podzielnikiem liczby złożo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iedy najmniejszy element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rzyjmuje największą wartość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tedy gdy m jest najmniejsze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 &gt;1 więc m =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mi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) występuje zatem gdy n=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*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le wynosi ma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min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293-E783-465F-8831-32BCD2415E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 Narrow"/>
              </a:rPr>
              <a:t>Znajdowanie liczb pierwszych (3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le wynosi ma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min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dy 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&gt;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to min (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= 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 zatem gdy 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rośni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ośnie również min(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dy 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&gt;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to min (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= 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 zatem gdy 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rośni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ośnie również min(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tem max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min(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ystępuje dla 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zy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dy n=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a tym samym max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min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)=n</a:t>
            </a:r>
            <a:r>
              <a:rPr b="0" lang="pl-PL" sz="23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by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znaleźć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tem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 liczby pierwsz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&lt;k,l&gt; należ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unąć liczby dzielące się bez reszty przez liczby pierwsze z przedziału &lt;2, x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3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pl-PL" sz="2200" spc="-1" strike="noStrike" u="sng">
                <a:solidFill>
                  <a:srgbClr val="000000"/>
                </a:solidFill>
                <a:uFillTx/>
                <a:latin typeface="Arial"/>
              </a:rPr>
              <a:t>lu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unąć liczby będące wielokrotnością liczb pierwszych z przedziału &lt;2, l</a:t>
            </a:r>
            <a:r>
              <a:rPr b="0" lang="pl-PL" sz="23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758-607B-4BA6-9E37-55BFB2523B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62012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Funkcja złożoności obliczeniowej algorytmu równoległego </a:t>
            </a:r>
            <a:r>
              <a:rPr b="1" i="1" lang="pl-PL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realizowanego na </a:t>
            </a: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procesorach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9320" y="2590920"/>
            <a:ext cx="670572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pl-PL" sz="29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pl-PL" sz="29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(n) = max</a:t>
            </a:r>
            <a:r>
              <a:rPr b="0" i="1" lang="pl-PL" sz="29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{t: 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st liczbą jednostek czasu, mierzonych od chwili rozpoczęcia pracy przez pierwszy z procesorów maszyny równoległej do chwili zakończenia pracy przez wszystkie procesory, niezbędnych do rozwiązania konkretnego problemu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l-PL" sz="2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pl-PL" sz="29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n=N(I)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C46-8F59-4457-976E-B2D00F99526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 Narrow"/>
              </a:rPr>
              <a:t>Sito Eratostenesa -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 Narrow"/>
              </a:rPr>
              <a:t>podejście funkcjonalne do podziału</a:t>
            </a:r>
            <a:r>
              <a:rPr b="1" lang="pl-PL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7" name=""/>
          <p:cNvSpPr/>
          <p:nvPr/>
        </p:nvSpPr>
        <p:spPr>
          <a:xfrm>
            <a:off x="2209680" y="2590920"/>
            <a:ext cx="76212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315200" y="2590920"/>
            <a:ext cx="76212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410080" y="2590920"/>
            <a:ext cx="76212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33920" y="2590920"/>
            <a:ext cx="76176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57200" y="2971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24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5720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24852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059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47920" y="1905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3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5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4920" y="4191120"/>
            <a:ext cx="8534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ierwsza liczba odebrana przez każdy z procesów jest traktowana jako dzielnik i jako liczba pierwsza. Wynik przetwarzania – liczby pierwsze pojawiają się na wyjściu systemu oraz rezydują w procesach (należy je przesłać na wyjści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czba procesów niezbędbych dla zakresu &lt;n,k&gt; jest równa liczbie liczb pierwszych w zakresie od &lt;2, k</a:t>
            </a:r>
            <a:r>
              <a:rPr b="0" lang="pl-PL" sz="19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r>
              <a:rPr b="0" lang="pl-PL" sz="19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ln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0880" y="2514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,3,4,5,..,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35053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67080" y="3657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1,13,17,19,23,29,31,37,41,..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D26-26B1-48C3-938D-9E2814B9DB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kreślanie z tablicy –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dejście domenowe do podziału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2" name=""/>
          <p:cNvSpPr/>
          <p:nvPr/>
        </p:nvSpPr>
        <p:spPr>
          <a:xfrm>
            <a:off x="304920" y="914400"/>
            <a:ext cx="8381880" cy="63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badanego zbioru (tablicy) usuwamy wielokrotności (jakie?) liczb pierwszych z przedziału &lt;2,zakres górny</a:t>
            </a:r>
            <a:r>
              <a:rPr b="0" lang="pl-PL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kład dla zakresu : &lt;2,65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 : 4,6,8,...64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 : 9,15,21,27,33,39,45,51,57,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 : 25,35,55,65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7 :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 jest konieczna do rozpoczęcia obliczeń znajomość wszystkich liczb-pierwszych z przedziału &lt;2,zakres górny</a:t>
            </a:r>
            <a:r>
              <a:rPr b="0" lang="pl-PL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lejno pojawiające się liczby pierwsze mogą być wykorzystane dopiero po później, gdyż wyznaczanie wielokrotności mniejszych liczb pierwszych odbywa się dla całego badanego przedziału i zajmuje stosunkowo dużo czas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47E-5D6D-421F-BBF6-020337A5BE0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 Narrow"/>
              </a:rPr>
              <a:t>Znajdowanie składowych spójnych grafu - </a:t>
            </a: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wstęp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kładowa spójna grafu G – każdy największy (nie dający się powiększyć o dalsze krawędzie i wierzchołki) spójny, podgraf grafu G. Graf spójny zawiera co najmniej jedną drogę między każdymi dwoma  tworzącymi go wierzchołk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goryt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ada graf o n wierzchołka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korzystuje 2 n - 1 procesorów w strukturze drzewa binarneg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af jest reprezentowany przez macierz sąsiedztw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iść drzewa posiada wiersz macierzy odpowiadający przetwarzanemu wierzchołkowi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i – a[i,1..n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 zakończeniu przetwarzania zmienn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składow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wiera numer składowej do której należy wierzchołek, numer ten jest równy najmniejszemu spośród numerów wierzchołków należących do tej skład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uper-wierzchołek – graf spójny, dowolny podgraf, identyfikowany  przez wierzchołek o najniższym numerze spośród należących do graf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5B6-59F9-44EF-ADFB-82B2C5A8F5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 Narrow"/>
              </a:rPr>
              <a:t>Znajdowanie składowych spójnych grafu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 Narrow"/>
              </a:rPr>
              <a:t>- algorytm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5f5f5f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la każdego węzła-liścia: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kładowa[i] 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5f5f5f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W pętli po wierzchołkach j= 1..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la każdego węzła-liścia: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wybrany[i] = a[i,j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 korzeniu wyznacz: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c=min {składowa[i]:wybrany[i]=1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oześlij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o liś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póki istnieje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la którego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wybrany[i] =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5f5f5f"/>
              </a:buClr>
              <a:buSzPct val="65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korzeniu wybierz dowolne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d = składowa[i]: wybrany[i]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5f5f5f"/>
              </a:buClr>
              <a:buSzPct val="65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eślij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 li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5f5f5f"/>
              </a:buClr>
              <a:buSzPct val="65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każdym z liśc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Jeśli skłądowa[i]= d to składowa[i]=c i wybrany[i]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BE54-88F4-42C5-B658-9C4118C0E8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 Narrow"/>
              </a:rPr>
              <a:t>Znajdowanie składowych spójnych grafu – </a:t>
            </a:r>
            <a:br>
              <a:rPr sz="3200"/>
            </a:b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przykład obliczeniow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8" name=""/>
          <p:cNvSpPr/>
          <p:nvPr/>
        </p:nvSpPr>
        <p:spPr>
          <a:xfrm>
            <a:off x="6095880" y="1447920"/>
            <a:ext cx="304920" cy="228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781680" y="1447920"/>
            <a:ext cx="304920" cy="228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095880" y="2133720"/>
            <a:ext cx="304920" cy="228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001000" y="1523880"/>
            <a:ext cx="304920" cy="228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705720" y="2057400"/>
            <a:ext cx="304560" cy="228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6400800" y="1523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40080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24852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838080" y="1371600"/>
          <a:ext cx="1828800" cy="1674720"/>
        </p:xfrm>
        <a:graphic>
          <a:graphicData uri="http://schemas.openxmlformats.org/drawingml/2006/table">
            <a:tbl>
              <a:tblPr/>
              <a:tblGrid>
                <a:gridCol w="365400"/>
                <a:gridCol w="366480"/>
                <a:gridCol w="365040"/>
                <a:gridCol w="366840"/>
                <a:gridCol w="365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685800" y="3581280"/>
          <a:ext cx="7924680" cy="2430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240"/>
                <a:gridCol w="660600"/>
                <a:gridCol w="660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685800" y="3809880"/>
          <a:ext cx="7924680" cy="242640"/>
        </p:xfrm>
        <a:graphic>
          <a:graphicData uri="http://schemas.openxmlformats.org/drawingml/2006/table">
            <a:tbl>
              <a:tblPr/>
              <a:tblGrid>
                <a:gridCol w="660240"/>
                <a:gridCol w="660240"/>
                <a:gridCol w="660600"/>
                <a:gridCol w="660240"/>
                <a:gridCol w="660600"/>
                <a:gridCol w="660240"/>
                <a:gridCol w="660240"/>
                <a:gridCol w="660600"/>
                <a:gridCol w="660240"/>
                <a:gridCol w="660600"/>
                <a:gridCol w="660240"/>
                <a:gridCol w="660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685800" y="4038480"/>
          <a:ext cx="7924680" cy="2430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240"/>
                <a:gridCol w="660600"/>
                <a:gridCol w="660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685800" y="4267080"/>
          <a:ext cx="7924680" cy="2430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240"/>
                <a:gridCol w="660600"/>
                <a:gridCol w="660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685800" y="4495680"/>
          <a:ext cx="7924680" cy="2430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240"/>
                <a:gridCol w="660600"/>
                <a:gridCol w="660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685800" y="4724280"/>
          <a:ext cx="7924680" cy="2430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240"/>
                <a:gridCol w="660600"/>
                <a:gridCol w="660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685800" y="4952880"/>
          <a:ext cx="7924680" cy="2430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240"/>
                <a:gridCol w="660600"/>
                <a:gridCol w="660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685800" y="3352680"/>
          <a:ext cx="7924680" cy="2430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240"/>
                <a:gridCol w="660600"/>
                <a:gridCol w="660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685800" y="5181480"/>
          <a:ext cx="7924680" cy="2430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240"/>
                <a:gridCol w="660600"/>
                <a:gridCol w="660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685800" y="5410080"/>
          <a:ext cx="7924680" cy="2430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240"/>
                <a:gridCol w="660600"/>
                <a:gridCol w="660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7" name=""/>
          <p:cNvSpPr/>
          <p:nvPr/>
        </p:nvSpPr>
        <p:spPr>
          <a:xfrm flipH="1">
            <a:off x="6933960" y="1752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8120" y="15238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cierz sąsiedzt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743200" y="243828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ci zmiennych w węzłach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– składowa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wybrany i globalnych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c,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5308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dany gr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6E1-96DF-4124-8910-6D7FFB4579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 Narrow"/>
              </a:rPr>
              <a:t>Znajdowanie składowych spójnych grafu- omówieni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każdej iteracji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wierszach 3-4 wyznaczamy (superwierzchołek) -  NAJMNIEJSZY numer spośród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umerów superwierchołków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 których należały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dotychcza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ierzchołki incydentne z wierzchołkiem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wierszach 7-10 każdemu wierzchołkowi, którego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uperwierzchołkie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jest wierzchołek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cydentn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zmień jego superwierzchołek na wyznaczony w bieżącym kroku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730-2F65-4627-BDD3-A36B6E7DB3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Znajdowanie składowych spójnych grafu - złożoność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żda iteracja pętli zewnętrznej wymaga czasu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wyznaczenie maksimum w drzewie), pętla ta jest powtarzana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ra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ętla wewnętrzna  może być powtórzona (globalnie) co najwyżej niż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2*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razy. Jej złożoność to koszt komunikacji między liśćmi a korzeni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la każdego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jest realizowana jednokrotnie dla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c=d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– gdyż jest tylko jedna wartość minimalna identyfikatorów superwierzchołków incydentnych w danej iteracj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la przypadku c&lt;&gt;d - łączenie superwierzchołków - może być realizowana co najwyżej n-1 razy. Tyle razy można powiększać superwierzchołki, na które składa się maksymalnie n element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statecznie złożoność algorytmu wynosi O(n log n), gdyż liczba kroków o złożoności log n jest mniejsza od 2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algorytmu sekwencyjnego złożoność O(n+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4DA-3461-4D53-9B6A-D033D779FB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904760" y="7621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yspieszen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9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n) =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złożoność obliczeniowa najlepszego algorytmu sekwencyjneg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złożoność obliczeniowa algorytmu równoległego dla m procesor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fektywność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(n)= s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(n)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sz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9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n)=</a:t>
            </a:r>
            <a:r>
              <a:rPr b="0" lang="pl-PL" sz="29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złożoność obliczeniowa algorytmu równoległego dla m procesoró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56F-B368-4B06-BA7E-279ADA50321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Model algorytmu II (work-depth</a:t>
            </a: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zwala na określenie całkowitej liczby operacji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i zależności kolejnościowych między ni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 „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głębokość”  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ługość najdłuższego łańcucha zależności kolejnościowych między operacj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af składający się 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ęzłów - odpowiadają operacjom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uków - odpowiadają zależnościom kolejnościowym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nikających z dostarczania da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ażda wartość wejściowa dociera do węzła przez łuk wejściowy, a wartość wyjściowa - wynik opuszcza węzeł przez łuk wyjściow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iczba łuków wejściowych i wyjściowych to, odpowiednio,   stopień wejściowy i wyjściowy węzł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ewnętrzne łuki wejściowe (nierozpoczynające się w węzłach) dostarczają danych do struktu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ewnętrzne łuki wyjściowe (niekończące się w węzłach) zwracają wyniki pracy struktu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ruktura nie zawiera cyklu. Algorytm jest modelowany jako rodzina skierowanych grafów acyklicznych (dla różnych rozmiarów instancji problemó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595-D05A-4C8D-844B-268030BBAA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Arial"/>
              </a:rPr>
              <a:t>Sumowanie liczb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143000" y="1600200"/>
            <a:ext cx="6324480" cy="4419720"/>
            <a:chOff x="1143000" y="1600200"/>
            <a:chExt cx="6324480" cy="4419720"/>
          </a:xfrm>
        </p:grpSpPr>
        <p:sp>
          <p:nvSpPr>
            <p:cNvPr id="96" name=""/>
            <p:cNvSpPr/>
            <p:nvPr/>
          </p:nvSpPr>
          <p:spPr>
            <a:xfrm>
              <a:off x="5486400" y="358128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2743200"/>
              <a:ext cx="609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5943240" y="27432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24080" y="228600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71800" y="1752480"/>
              <a:ext cx="380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581280" y="167652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3080" y="220968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167652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010280" y="1676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95280" y="228600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3000" y="1752480"/>
              <a:ext cx="380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752480" y="175248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38480" y="487692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00400" y="42670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95680" y="403848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380988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05120" y="2895480"/>
              <a:ext cx="7617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95480" y="2819520"/>
              <a:ext cx="6098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220968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0" y="167652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181120" y="1600200"/>
              <a:ext cx="381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3400" y="5334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28600" y="4419720"/>
            <a:ext cx="3733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ęzły - su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łębokość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a = 4+2+1 = 7 (operacj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4114800"/>
            <a:ext cx="30481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liczność zbi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(n) = n-1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cyk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(n) = lo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cyk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pl-PL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(n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( lo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F54-E6FE-430F-B9A9-FF722402B0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Arial"/>
              </a:rPr>
              <a:t>Ocena efektywności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szt algorytmu jest zależny od W i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kreśla całkowity czas oczekiwania na wyniki algorytmu. Szczególnie ważny w przypadku aplikacji czasowo zależnych np. prognoza pog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kreśla ilość pracy niezbędnej do rozwiązania problemu - może być większa niż w przypadku algorytmu sekwencyjnego, ten wzrost jest kosztem płaconym za skrócenie czasu obliczeń. Pojawia się konflikt między wielkością dodatkowej pracy a czasem przetwarz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aktyczny koszt obliczeń w centrum obliczeniowym może być zależny od W bądź D*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7A9-3257-46E3-9451-8ADCED31C8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Znajdowanie maksimum w zbiorze n liczb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3809880"/>
            <a:ext cx="3657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ęzły - maksimum 2 licz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łębokość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a = 4+2+1 = 7 (operacj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czenia w pot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143000" y="1066680"/>
            <a:ext cx="6324480" cy="4419720"/>
            <a:chOff x="1143000" y="1066680"/>
            <a:chExt cx="6324480" cy="4419720"/>
          </a:xfrm>
        </p:grpSpPr>
        <p:sp>
          <p:nvSpPr>
            <p:cNvPr id="125" name=""/>
            <p:cNvSpPr/>
            <p:nvPr/>
          </p:nvSpPr>
          <p:spPr>
            <a:xfrm>
              <a:off x="5486400" y="304776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5520" y="2209680"/>
              <a:ext cx="609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943240" y="220968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175248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71800" y="1218960"/>
              <a:ext cx="380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581280" y="114300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167616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00800" y="114300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010280" y="114300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5280" y="175248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43000" y="1218960"/>
              <a:ext cx="380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752480" y="121896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38480" y="434340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00400" y="373356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495680" y="350496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38280" y="327636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2361960"/>
              <a:ext cx="7617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895480" y="2286000"/>
              <a:ext cx="6098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167616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0" y="114300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181120" y="1066680"/>
              <a:ext cx="381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3400" y="48006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952880" y="3657600"/>
            <a:ext cx="403884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liczność zbi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(n) = n-1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cyk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(n) = lo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cyk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pl-PL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(n) = O(log n) S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(n),e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(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C302-3EC3-486C-BAF3-00DDC6C122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Znajdowanie maksimum w </a:t>
            </a:r>
            <a:r>
              <a:rPr b="1" i="1" lang="pl-PL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zbiorach </a:t>
            </a:r>
            <a:r>
              <a:rPr b="1" i="1" lang="pl-PL" sz="3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liczb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3520" y="1600200"/>
            <a:ext cx="6324480" cy="4419720"/>
            <a:chOff x="533520" y="1600200"/>
            <a:chExt cx="6324480" cy="4419720"/>
          </a:xfrm>
        </p:grpSpPr>
        <p:sp>
          <p:nvSpPr>
            <p:cNvPr id="150" name=""/>
            <p:cNvSpPr/>
            <p:nvPr/>
          </p:nvSpPr>
          <p:spPr>
            <a:xfrm>
              <a:off x="4876920" y="358128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6040" y="2743200"/>
              <a:ext cx="609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333760" y="27432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14600" y="228600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1752480"/>
              <a:ext cx="380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971800" y="167652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20968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167652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400800" y="1676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228600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520" y="1752480"/>
              <a:ext cx="380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143000" y="175248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487692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90920" y="42670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886200" y="403848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28800" y="380988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5640" y="2895480"/>
              <a:ext cx="7617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86000" y="2819520"/>
              <a:ext cx="6098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14800" y="2209680"/>
              <a:ext cx="68580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62520" y="167652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571640" y="1600200"/>
              <a:ext cx="381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33920" y="5334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9343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3657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480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114800"/>
            <a:ext cx="3886200" cy="23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otne obliczenia w poto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liczność zbi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(n) = k*(n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D(n)= log</a:t>
            </a:r>
            <a:r>
              <a:rPr b="0" i="1" lang="pl-PL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n+(k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pl-PL" sz="19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pl-PL" sz="19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(n) 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(k +log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rytmy równoległe - projektowanie i efektywność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5B9-053C-4793-98B7-096BC342F6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0:38:46Z</dcterms:created>
  <dc:creator>Rafał Walkowiak</dc:creator>
  <dc:description/>
  <dc:language>en-US</dc:language>
  <cp:lastModifiedBy>andrzej</cp:lastModifiedBy>
  <dcterms:modified xsi:type="dcterms:W3CDTF">2004-01-19T11:58:16Z</dcterms:modified>
  <cp:revision>132</cp:revision>
  <dc:subject/>
  <dc:title>Algorytmy równoległe - projektowanie i efektywność</dc:title>
</cp:coreProperties>
</file>