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25C-6B5A-4A1D-8081-22C6160F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C24-D4B0-4FA6-B87E-85E72B6F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B22-FB3B-404B-9293-3CBE2DC4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F22-5585-4F5B-9BB7-594FC48C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720-CB10-45B2-A10D-82DA800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0D4-858D-49DC-8D1E-A92C12F5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22C-A162-418C-BC03-3B4BF3D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104-C842-49E1-A1DD-8452542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80A-B27F-4660-9CCB-7DB26CD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BE2-87A4-4CA8-BC90-AE767BD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23C-18FE-4529-97C4-D63511FC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CAE-BFCF-4482-A69A-AFD0D53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B570DE-067A-4E3E-8205-EE4E15E0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766960"/>
            <a:ext cx="9213840" cy="19209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MODELOWANIE DAN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DIAGRAMY ENCJI-ZWIĄZK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Notacja Bark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7120" y="609120"/>
            <a:ext cx="650232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0880" y="2868480"/>
            <a:ext cx="64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kretne wystąpienie związku nazywa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tancją związ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" y="3656160"/>
            <a:ext cx="49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ki opisujemy w następujących termin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zwią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yp asocja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miar zwią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tnie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asa przynależnoś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12760" y="609120"/>
            <a:ext cx="552420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Własności związ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53640" y="2322360"/>
            <a:ext cx="66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Stopień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wią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a liczbę en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ących w zwią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unar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inarny rekursyw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binar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ternar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06920" y="4392720"/>
            <a:ext cx="744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asocjacji zwią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suje odwzorowanie pomiędzy wystąpienia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cji w związk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yp asocjacji może przyjmować wartoś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ktualna licz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ana z typem asocja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osi nazw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rozmia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wiąz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różniamy następujące typy asocja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je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je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wi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800" y="378000"/>
            <a:ext cx="4065840" cy="19843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Typ asocjacj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: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97440" y="438120"/>
            <a:ext cx="4842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typu jeden-do-jed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ażdy dział musi mieć szef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tomia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cowni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może być szefe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o najwyże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jednego dział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67440" y="220824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53560" y="296244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95280" y="264312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42160" y="3484440"/>
            <a:ext cx="11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49120" y="2343240"/>
            <a:ext cx="103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83440" y="3376440"/>
            <a:ext cx="1460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59600" y="2432160"/>
            <a:ext cx="2235240" cy="102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1440" y="3610080"/>
            <a:ext cx="1996920" cy="55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79960" y="3352680"/>
            <a:ext cx="95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9640" y="2089080"/>
            <a:ext cx="95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62040" y="2598840"/>
            <a:ext cx="157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 manag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70600" y="3683160"/>
            <a:ext cx="151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manag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99280" y="4035600"/>
            <a:ext cx="426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typu jeden-do-je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1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240" y="464040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27400" y="464040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4520" y="4797360"/>
            <a:ext cx="23306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74800" y="4492800"/>
            <a:ext cx="95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58960" y="4778280"/>
            <a:ext cx="151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manag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86960" y="5295960"/>
            <a:ext cx="691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terpretacj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e być szefem tylk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ed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ł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ł może być zarządzany dokładnie prz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ed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19120" y="5275440"/>
            <a:ext cx="651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2520" y="390240"/>
            <a:ext cx="4101840" cy="1971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Typ asocjacj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: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7440" y="438120"/>
            <a:ext cx="484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typu jeden-do-wie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ażdy pracownik pracuje dokładnie w jednym dziale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ział może zatrudniać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a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ie konieczni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ielu pracowników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56480" y="22813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7600" y="3052800"/>
            <a:ext cx="68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74000" y="375444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00600" y="229068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01320" y="306216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52760" y="4135320"/>
            <a:ext cx="124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2000" y="2419200"/>
            <a:ext cx="2663640" cy="2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78360" y="3193920"/>
            <a:ext cx="2627280" cy="2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039000" y="3365640"/>
            <a:ext cx="2350800" cy="527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20320" y="207792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64960" y="28386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34800" y="35002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44480" y="24732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14160" y="286704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44560" y="4178160"/>
            <a:ext cx="384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typu jeden-do-wi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50800" y="47829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6920" y="478296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06680" y="4938840"/>
            <a:ext cx="2449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720" y="463536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40880" y="49831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06680" y="4822920"/>
            <a:ext cx="19368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400560" y="4943520"/>
            <a:ext cx="18072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25760" y="5605560"/>
            <a:ext cx="6467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terpretacj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 pracuje dokładnie w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edny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ł może zatrudnia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ie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60440" y="5584680"/>
            <a:ext cx="651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80920" y="34005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720" y="388440"/>
            <a:ext cx="4130640" cy="23590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Typ asocjacj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M: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379440"/>
            <a:ext cx="48416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typu wiele-do-wie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cownik może pracować na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jedny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lub wieloma (lub żadnym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ojektam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d każdy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ojektem pracuj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jeden lub wiel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cowników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29840" y="2017800"/>
            <a:ext cx="68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45280" y="285264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50920" y="2403360"/>
            <a:ext cx="68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01640" y="326880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31880" y="2092320"/>
            <a:ext cx="179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6560" y="3232080"/>
            <a:ext cx="181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43440" y="2181240"/>
            <a:ext cx="2235240" cy="103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64120" y="3419640"/>
            <a:ext cx="2817720" cy="4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3000" y="187488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72080" y="246528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459400" y="2320560"/>
            <a:ext cx="2455920" cy="235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2406600"/>
            <a:ext cx="2759040" cy="627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8240" y="2193840"/>
            <a:ext cx="2092320" cy="1198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8120" y="308628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25880" y="346392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88680" y="3927600"/>
            <a:ext cx="38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typu wiele-do-wie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: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9440" y="453240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2480" y="453240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51160" y="4687920"/>
            <a:ext cx="2449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4560" y="438480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82920" y="471312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1160" y="4572000"/>
            <a:ext cx="19368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44320" y="4692600"/>
            <a:ext cx="18108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499000" y="4565520"/>
            <a:ext cx="1936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2880" y="4686480"/>
            <a:ext cx="20952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84120" y="5367240"/>
            <a:ext cx="7020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terpretacj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 może pracowa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ed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lub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ie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jek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d każdym projektem pracu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ede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lub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ie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01760" y="5334120"/>
            <a:ext cx="651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85000" y="2944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Typ asocja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6560" y="2819520"/>
            <a:ext cx="914400" cy="245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819520"/>
            <a:ext cx="914400" cy="245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30400" y="323856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363204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0400" y="402588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55600" y="436896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68560" y="4724280"/>
            <a:ext cx="12672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60440" y="325116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98600" y="361944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0440" y="398772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47840" y="43560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7840" y="473724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206360" y="3301560"/>
            <a:ext cx="107964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206360" y="3695400"/>
            <a:ext cx="111780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244520" y="4419360"/>
            <a:ext cx="10540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56080" y="2819520"/>
            <a:ext cx="914400" cy="245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26160" y="2844720"/>
            <a:ext cx="914400" cy="245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03840" y="2806560"/>
            <a:ext cx="914400" cy="245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2793960"/>
            <a:ext cx="914400" cy="245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36960" y="32004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59424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11760" y="4000680"/>
            <a:ext cx="1267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98800" y="441972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98800" y="47880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94440" y="3213000"/>
            <a:ext cx="12672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19640" y="354348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19640" y="392436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439416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19640" y="477504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25880" y="3238560"/>
            <a:ext cx="12700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975120" y="3581280"/>
            <a:ext cx="1270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000680" y="4457880"/>
            <a:ext cx="126972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076640"/>
            <a:ext cx="129528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962520" y="4012920"/>
            <a:ext cx="132084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85080" y="31878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72480" y="3556080"/>
            <a:ext cx="1267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97680" y="398772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23240" y="4432320"/>
            <a:ext cx="1267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47880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31120" y="48006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31120" y="435600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31120" y="3949560"/>
            <a:ext cx="1270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31120" y="359424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80360" y="3187800"/>
            <a:ext cx="1270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74000" y="3225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74000" y="3251160"/>
            <a:ext cx="127008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061040" y="3251160"/>
            <a:ext cx="12700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074000" y="3670200"/>
            <a:ext cx="128268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4064040"/>
            <a:ext cx="12700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124760" y="440676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099200" y="4825800"/>
            <a:ext cx="1257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8480" y="55990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ty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-do-j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03640" y="5649840"/>
            <a:ext cx="16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ty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-do-w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26200" y="563724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ty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le-do-w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7920" y="340920"/>
            <a:ext cx="4197240" cy="1925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Klasa przynależności związ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82548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26760" y="192564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24800" y="83520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18040" y="194004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54640" y="979560"/>
            <a:ext cx="2293920" cy="4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59600" y="2098800"/>
            <a:ext cx="2496960" cy="2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44200" y="6508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34760" y="17683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31400" y="7095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86920" y="21225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8720" y="137952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168960" y="1607760"/>
            <a:ext cx="2462400" cy="438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9880" y="1461960"/>
            <a:ext cx="48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01240" y="132228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22400" y="2556000"/>
            <a:ext cx="5604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opcjonalny w świecie rzeczywisty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nie każ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siada samochó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ę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nie wie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 pracownik posiada samochó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58760" y="3576600"/>
            <a:ext cx="5182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opcjonalny w świecie rzeczywisty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ó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mu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leżeć do co najmniej jed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3080" y="4881600"/>
            <a:ext cx="2888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ednostronny związ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owiązk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55920" y="5746680"/>
            <a:ext cx="7288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terpretacj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żdy pracow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moż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siada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wi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od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żdy samochó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mu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leżeć do co najmni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89160" y="5726160"/>
            <a:ext cx="651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5480" y="504684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39720" y="5046840"/>
            <a:ext cx="8251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R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40680" y="49039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65960" y="52149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81360" y="5203800"/>
            <a:ext cx="1019520" cy="111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03760" y="5214960"/>
            <a:ext cx="131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676560" y="5086440"/>
            <a:ext cx="2509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2480" y="5218200"/>
            <a:ext cx="2253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80080" y="4591080"/>
            <a:ext cx="1941480" cy="28404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4080" y="282240"/>
            <a:ext cx="8407440" cy="2017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ki opcjonalne i obowiązkow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5480" y="2687760"/>
            <a:ext cx="4426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dwustronnie obowiąz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Firma posiada ciężarówk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la każde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iężarówk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musimy pamiętać informacje dotyczą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zeglądu techniczneg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ażdy przeglą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tyczy jednej ciężarów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7960" y="2687760"/>
            <a:ext cx="4425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dwustronnie opcjonal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ażde stowarzyszeni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może posiadać zero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jedneg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lub wielu członków inżynierów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ażdy inżynier może być członkie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jednego lub wielu (lub żadnego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owarzyszen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360" y="4795920"/>
            <a:ext cx="71856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55960" y="479592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32280" y="45720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1840" y="5002200"/>
            <a:ext cx="975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77920" y="4950000"/>
            <a:ext cx="266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580920" y="4822920"/>
            <a:ext cx="2509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94240" y="4954680"/>
            <a:ext cx="2253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17760" y="476712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91160" y="472932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F_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9520" y="454824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38800" y="4883040"/>
            <a:ext cx="2028960" cy="255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94520" y="4759200"/>
            <a:ext cx="21276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181200" y="4913280"/>
            <a:ext cx="225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47560" y="49291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8800" y="615600"/>
            <a:ext cx="3411720" cy="14605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ki bina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62800" y="74448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74240" y="192708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87560" y="141768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02240" y="2390760"/>
            <a:ext cx="11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25360" y="1308240"/>
            <a:ext cx="103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59680" y="2341440"/>
            <a:ext cx="1460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83320" y="1003320"/>
            <a:ext cx="2687400" cy="496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54600" y="2062080"/>
            <a:ext cx="2330640" cy="438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59720" y="181764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24960" y="76824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84120" y="15858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01600" y="21081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37400" y="1562040"/>
            <a:ext cx="2485800" cy="9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89800" y="126540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07080" y="2527200"/>
            <a:ext cx="2341440" cy="92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19960" y="223200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99080" y="3176640"/>
            <a:ext cx="215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binar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7600" y="39243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700400" y="392436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57880" y="4081320"/>
            <a:ext cx="2330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09000" y="376560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60040" y="41101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2040" y="3973680"/>
            <a:ext cx="25704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348160" y="4081320"/>
            <a:ext cx="2318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2600" y="2511360"/>
            <a:ext cx="268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socjacja pomiędz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woma obiekt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8120" y="4724280"/>
            <a:ext cx="215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binar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05000" y="3506760"/>
            <a:ext cx="1177920" cy="1035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7320" y="609120"/>
            <a:ext cx="5130720" cy="18162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ek binarny rekursyw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63720" y="455292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19600" y="4602240"/>
            <a:ext cx="25740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26080" y="4710240"/>
            <a:ext cx="231840" cy="11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65640" y="4719600"/>
            <a:ext cx="1214280" cy="40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79" y="191"/>
                </a:moveTo>
                <a:arcTo wR="10800" hR="10800" stAng="-6047058" swAng="17358904"/>
                <a:lnTo>
                  <a:pt x="10800" y="10800"/>
                </a:lnTo>
                <a:close/>
              </a:path>
              <a:path fill="none" w="21600" h="21600">
                <a:moveTo>
                  <a:pt x="8779" y="191"/>
                </a:moveTo>
                <a:arcTo wR="10800" hR="10800" stAng="-6047058" swAng="17358904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02840" y="4389480"/>
            <a:ext cx="140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subord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28800" y="5021280"/>
            <a:ext cx="91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69600" y="3262320"/>
            <a:ext cx="45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są podzieleni na grupy. Każ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rupa posiada swojego lid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0280" y="3452760"/>
            <a:ext cx="365112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binarny rekursywny określa powiązanie pomiędz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ąpieniem określonej instancji encj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innym wystąpieniem tej samej 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387360"/>
            <a:ext cx="4730760" cy="15876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Źródło modelu encji-związków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4120" y="380880"/>
            <a:ext cx="441936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networks - Quillian [196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59960" y="236052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5160" y="2208240"/>
            <a:ext cx="72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3720" y="2665440"/>
            <a:ext cx="53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3720" y="310824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93440" y="2365200"/>
            <a:ext cx="1521000" cy="14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592000" y="2592360"/>
            <a:ext cx="1521000" cy="22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592000" y="2668680"/>
            <a:ext cx="152100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9040" y="22320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4920" y="253692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04920" y="29178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35920" y="4235400"/>
            <a:ext cx="130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400" y="335124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_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2741760"/>
            <a:ext cx="11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_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31200" y="3427560"/>
            <a:ext cx="114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6080" y="3736800"/>
            <a:ext cx="377640" cy="45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67012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8520" y="3051000"/>
            <a:ext cx="758880" cy="114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3660840"/>
            <a:ext cx="121608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1920" y="299412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76120" y="3298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6640" y="37558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7720" y="37558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8760" y="4235400"/>
            <a:ext cx="113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6520" y="2817720"/>
            <a:ext cx="72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80960" y="2817720"/>
            <a:ext cx="112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8800" y="4722840"/>
            <a:ext cx="106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1240" y="4768920"/>
            <a:ext cx="82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6840" y="3127320"/>
            <a:ext cx="682560" cy="11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165440" y="3127320"/>
            <a:ext cx="606600" cy="11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392600" y="4497480"/>
            <a:ext cx="106380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716440" y="4497480"/>
            <a:ext cx="68292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152880" y="4406760"/>
            <a:ext cx="3171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72160" y="3352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96040" y="3352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0960" y="4495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19520" y="4495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520" y="4921200"/>
            <a:ext cx="130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921200"/>
            <a:ext cx="13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5400" y="5715000"/>
            <a:ext cx="145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_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2400" y="5942160"/>
            <a:ext cx="133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ly_w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27000" y="5942160"/>
            <a:ext cx="106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373040" y="4497120"/>
            <a:ext cx="530280" cy="453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2360" y="4497120"/>
            <a:ext cx="835200" cy="453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63560" y="5411880"/>
            <a:ext cx="37800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677960" y="5411880"/>
            <a:ext cx="30168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429000" y="5411880"/>
            <a:ext cx="0" cy="60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360" y="543240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4720" y="5584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8960" y="55846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part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2400" y="4060800"/>
            <a:ext cx="173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-associated-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49520" y="4594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54240" y="4594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8160" y="5170320"/>
            <a:ext cx="551196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-part-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osujemy do modelowa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biektów złożo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a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osujemy do modelowa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wiązku dziedzi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-associated-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osujemy do modelowa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leżności pomiędzy encj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4000" y="5257800"/>
            <a:ext cx="533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66640" y="468000"/>
            <a:ext cx="3517920" cy="1671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ki terna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79080" y="1033560"/>
            <a:ext cx="179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50800" y="3338640"/>
            <a:ext cx="181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50040" y="159084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09720" y="217656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48240" y="2795760"/>
            <a:ext cx="11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829640" y="162720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29640" y="2220840"/>
            <a:ext cx="127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30000" y="282888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38960" y="1747800"/>
            <a:ext cx="950760" cy="1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491160" y="1356840"/>
            <a:ext cx="12240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91160" y="1765440"/>
            <a:ext cx="1374840" cy="668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57680" y="1817640"/>
            <a:ext cx="1249560" cy="40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807240" y="1922040"/>
            <a:ext cx="1022400" cy="29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721560" y="2224080"/>
            <a:ext cx="85680" cy="1197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627520" y="2927520"/>
            <a:ext cx="1586160" cy="1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914880" y="2928960"/>
            <a:ext cx="31572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2760" y="2928960"/>
            <a:ext cx="668160" cy="8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608800" y="2030400"/>
            <a:ext cx="1038240" cy="316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667560" y="1376280"/>
            <a:ext cx="1584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86640" y="2030400"/>
            <a:ext cx="114444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61000" y="1800000"/>
            <a:ext cx="1498680" cy="107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6791040" y="1356840"/>
            <a:ext cx="36972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62920" y="1782720"/>
            <a:ext cx="650880" cy="6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07200" y="2897280"/>
            <a:ext cx="7452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2192400"/>
            <a:ext cx="7488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2920" y="1989000"/>
            <a:ext cx="74880" cy="74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30880" y="1747800"/>
            <a:ext cx="7488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51560" y="1728720"/>
            <a:ext cx="74520" cy="7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1160" y="2370240"/>
            <a:ext cx="268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socjacja pomiędz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zema obiekt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26200" y="4319640"/>
            <a:ext cx="225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ternar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87360" y="3152880"/>
            <a:ext cx="1177920" cy="10350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02760" y="3705120"/>
            <a:ext cx="225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ternar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98680" y="445284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11840" y="445284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68960" y="4610160"/>
            <a:ext cx="2330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50760" y="424332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89520" y="4859280"/>
            <a:ext cx="137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_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53120" y="4502160"/>
            <a:ext cx="2570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259240" y="4610160"/>
            <a:ext cx="2318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42680" y="515304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6559200" y="4609800"/>
            <a:ext cx="52200" cy="538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3920" y="4249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446880" y="4966920"/>
            <a:ext cx="1382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86560" y="4967280"/>
            <a:ext cx="16992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1905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GENERALIZACJA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LUB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HIERARCHIA EN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96120" y="3198960"/>
            <a:ext cx="81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ek generalizacji określa, ż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ewne enc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 wspólnym zbiorze atrybut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na uogólnić i stworzyć encję wyższego poziom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ncję nadkla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zywa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ęst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ncją generaliz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3880" y="4303800"/>
            <a:ext cx="737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cje niższego poziom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ncje specjaliz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podklasy)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ierarch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eneraliza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g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ierać rozłączne lub nakładające się na sieb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zbi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ąpie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cji generaliz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3480" y="53578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lacja opisująca związki typu generalizacja/specjalizac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między encj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osi nazwę hierarchii generalizacji/specjalizacji lub hierarchii 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7920" y="412560"/>
            <a:ext cx="4197240" cy="1401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Hierarchia en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428760"/>
            <a:ext cx="4768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ziedziczenie atrybu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Firma zatrudnia pracowników kontraktowych i godzinowych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Wszyscy pracownicy posiadają pewien zbiór wspólnych atrybutó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jednakże zarówno pracownicy kontraktowi jak i godzinow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osiadają specyficzne atryb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88560" y="2163600"/>
            <a:ext cx="198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polean Stre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rs_worked = 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rly_wage = 5 usd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37440" y="225576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Street 14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id = X578138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00800" y="3056040"/>
            <a:ext cx="169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rly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02240" y="3076560"/>
            <a:ext cx="1858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75200" y="3259080"/>
            <a:ext cx="207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ierarchia en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337000" y="3984480"/>
            <a:ext cx="2229120" cy="2527560"/>
            <a:chOff x="5337000" y="3984480"/>
            <a:chExt cx="2229120" cy="2527560"/>
          </a:xfrm>
        </p:grpSpPr>
        <p:sp>
          <p:nvSpPr>
            <p:cNvPr id="561" name=""/>
            <p:cNvSpPr/>
            <p:nvPr/>
          </p:nvSpPr>
          <p:spPr>
            <a:xfrm>
              <a:off x="5371920" y="3984480"/>
              <a:ext cx="12517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ir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a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5508720" y="4981680"/>
              <a:ext cx="2012760" cy="518760"/>
              <a:chOff x="5508720" y="4981680"/>
              <a:chExt cx="2012760" cy="51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5522760" y="4981680"/>
                <a:ext cx="1998720" cy="518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08720" y="5268960"/>
                <a:ext cx="19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521320" y="5645160"/>
              <a:ext cx="1924200" cy="731880"/>
              <a:chOff x="5521320" y="5645160"/>
              <a:chExt cx="1924200" cy="731880"/>
            </a:xfrm>
          </p:grpSpPr>
          <p:sp>
            <p:nvSpPr>
              <p:cNvPr id="566" name=""/>
              <p:cNvSpPr/>
              <p:nvPr/>
            </p:nvSpPr>
            <p:spPr>
              <a:xfrm>
                <a:off x="5534280" y="5645160"/>
                <a:ext cx="1785240" cy="731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s_work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_w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521320" y="5913360"/>
                <a:ext cx="192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346720" y="3989520"/>
              <a:ext cx="2212920" cy="252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7000" y="4229280"/>
              <a:ext cx="22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501720" y="4479840"/>
            <a:ext cx="103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ourier New"/>
              </a:rPr>
              <a:t>atrybu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ourier New"/>
              </a:rPr>
              <a:t>wspól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85520" y="5327640"/>
            <a:ext cx="135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ourier New"/>
              </a:rPr>
              <a:t>atrybu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ourier New"/>
              </a:rPr>
              <a:t>specyfi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13600" y="379260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ourier New"/>
              </a:rPr>
              <a:t>nadkl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907040" y="447984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ourier New"/>
              </a:rPr>
              <a:t>podkla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611680" y="3443400"/>
            <a:ext cx="1916280" cy="4633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94240" y="499104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800600" y="4552560"/>
            <a:ext cx="622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75160" y="5823000"/>
            <a:ext cx="116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743360" y="5378040"/>
            <a:ext cx="8384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49840" y="5816520"/>
            <a:ext cx="85716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45280" y="4083120"/>
            <a:ext cx="161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454880" y="4083120"/>
            <a:ext cx="5904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962840" y="4749840"/>
            <a:ext cx="1682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65960" y="4756320"/>
            <a:ext cx="60336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384680" y="4756320"/>
            <a:ext cx="584280" cy="10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3925800"/>
            <a:ext cx="33465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chy hierarchii encj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ncje podklasy dziedziczą wszystk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trybuty swojej encji nadklas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ażde wystąpienie encji nadklas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st zawsze wystąpieni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dnej z encj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klas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04840" y="3917520"/>
            <a:ext cx="375912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7000" y="282600"/>
            <a:ext cx="4006800" cy="1790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Hierarchia encj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33840" y="326880"/>
            <a:ext cx="4908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ziedziczenie związ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Każdy pracownik pracuje na określonym stanowisku w swoim dzial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la pracowników kontraktowych chcielibyśmy przechowywać informację o firmach, w których byli uprzednio zatrudnieni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3080" y="210168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43040" y="2112840"/>
            <a:ext cx="12517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SIT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614440" y="3998880"/>
            <a:ext cx="93168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073480" y="3395520"/>
            <a:ext cx="1570320" cy="1879920"/>
            <a:chOff x="5073480" y="3395520"/>
            <a:chExt cx="1570320" cy="1879920"/>
          </a:xfrm>
        </p:grpSpPr>
        <p:sp>
          <p:nvSpPr>
            <p:cNvPr id="593" name=""/>
            <p:cNvSpPr/>
            <p:nvPr/>
          </p:nvSpPr>
          <p:spPr>
            <a:xfrm>
              <a:off x="5283000" y="3914640"/>
              <a:ext cx="1038600" cy="5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TRAC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83000" y="4581360"/>
              <a:ext cx="1038600" cy="5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URL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7560" y="34131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73480" y="3395520"/>
              <a:ext cx="1570320" cy="187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337440" y="416556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37440" y="4019400"/>
            <a:ext cx="2286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343560" y="4165560"/>
            <a:ext cx="2160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8407080" y="4051440"/>
            <a:ext cx="19692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13920" y="4159080"/>
            <a:ext cx="19044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403960" y="2940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403960" y="2444400"/>
            <a:ext cx="0" cy="501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26360" y="291456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26360" y="244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276520" y="3187800"/>
            <a:ext cx="1270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97480" y="32068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305040" y="3193920"/>
            <a:ext cx="1270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26360" y="321300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67320" y="2879640"/>
            <a:ext cx="825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k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87120" y="243540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72440" y="2892600"/>
            <a:ext cx="825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k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15200" y="2435400"/>
            <a:ext cx="93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_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0600" y="385128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k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51040" y="418140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isted_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1960" y="2235240"/>
            <a:ext cx="3759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iąz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rks_in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rks_ as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tyczą zarów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acowników kontraktowych jak i godzin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iąze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rked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związkiem specyficznym obowiązującym tylk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acowników kontraktowy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560" y="5594400"/>
            <a:ext cx="6477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sność hierarchii generalizacj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ystkie podklasy dziedzicz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ystkie związ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wojej encji nadkla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9800" y="55976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53960" y="609120"/>
            <a:ext cx="46479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tryb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0360" y="2144880"/>
            <a:ext cx="35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różniamy dwa typy atrybut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yfik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skryp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6120" y="3402000"/>
            <a:ext cx="417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yfikator pozwala na jednoznaczn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yfikację dowolnej instancj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ystąpienia) 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67720" y="3376440"/>
            <a:ext cx="34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skry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łuży do specyfika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unikalnej własnoś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wolne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tancji (wystąpienia) enc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44000" y="4836960"/>
            <a:ext cx="73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yfikatory jak i deskryp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gą by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jedynczymi atrybut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ybutami złożony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09520" y="5751360"/>
            <a:ext cx="61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ybuty mogą być jednowartościowe lub wielowartości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0760" y="317160"/>
            <a:ext cx="4006800" cy="18781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Unikaln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identyfikato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en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19600" y="318960"/>
            <a:ext cx="41911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ażda encja musi być jednoznacznie identyfikowalna, tak aby można było odróżnić różne wystąpienia tej samej encj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nikalny identyfikator encji może być pojedynczym atrybutem, kombinacją atrybutów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mbinacją związków, lu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mbinacją atrybutów i związ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1160" y="2698920"/>
            <a:ext cx="367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dentyfikatory natura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270320" y="3238560"/>
            <a:ext cx="1498680" cy="1371240"/>
            <a:chOff x="4270320" y="3238560"/>
            <a:chExt cx="1498680" cy="1371240"/>
          </a:xfrm>
        </p:grpSpPr>
        <p:sp>
          <p:nvSpPr>
            <p:cNvPr id="629" name=""/>
            <p:cNvSpPr/>
            <p:nvPr/>
          </p:nvSpPr>
          <p:spPr>
            <a:xfrm>
              <a:off x="4289400" y="3238560"/>
              <a:ext cx="1465200" cy="137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tart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70320" y="34988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338960" y="3238560"/>
            <a:ext cx="1498680" cy="1371240"/>
            <a:chOff x="7338960" y="3238560"/>
            <a:chExt cx="1498680" cy="1371240"/>
          </a:xfrm>
        </p:grpSpPr>
        <p:sp>
          <p:nvSpPr>
            <p:cNvPr id="632" name=""/>
            <p:cNvSpPr/>
            <p:nvPr/>
          </p:nvSpPr>
          <p:spPr>
            <a:xfrm>
              <a:off x="7354800" y="3238560"/>
              <a:ext cx="1465200" cy="137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start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38960" y="34956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301440" y="381780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l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720" y="4689360"/>
            <a:ext cx="479448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tuczne identyfik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ie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czba atrybutów zapewniająca unikalnoś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uże rozmiary wartości identyfikato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artości identyfikatora są często aktualizowa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410080" y="5075280"/>
            <a:ext cx="1613160" cy="1371240"/>
            <a:chOff x="5410080" y="5075280"/>
            <a:chExt cx="1613160" cy="1371240"/>
          </a:xfrm>
        </p:grpSpPr>
        <p:sp>
          <p:nvSpPr>
            <p:cNvPr id="637" name=""/>
            <p:cNvSpPr/>
            <p:nvPr/>
          </p:nvSpPr>
          <p:spPr>
            <a:xfrm>
              <a:off x="5424480" y="5075280"/>
              <a:ext cx="1571760" cy="137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id_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irs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10080" y="5353200"/>
              <a:ext cx="161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67920" y="125280"/>
            <a:ext cx="9186840" cy="1260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łasności atrybutó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ograniczen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ntegralności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3600" y="1492200"/>
            <a:ext cx="903600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ziedzina atrybu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biór wartości jakie może przyjmowa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trybut en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otac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roject_name - VARCHAR(25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ary - NUMBER(8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600" y="2492280"/>
            <a:ext cx="901044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trybuty obowiązk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trybut, którego wartości muszą być zdefiniowane dla wszystkich instancji danej 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otac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na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second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3600" y="3479760"/>
            <a:ext cx="902664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ikalny identyfik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artość identyfikatora musi być unikal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zdefiniowa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wszystkich instan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anej 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otac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project_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3600" y="4475160"/>
            <a:ext cx="902664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graniczenie dziedziny atrybu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datkowe ograniczenie nałożone na zbiór wartoś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anego atrybu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definiowa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sta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rażenia logiczn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referencji do innych atrybu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(day(pay_date) &lt;&gt; ’Sunday’), check(end_date &gt; start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3600" y="5754600"/>
            <a:ext cx="902664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ynamiczne ograniczenia integralności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biór dopuszczalnych przejś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anów danego atrybu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kawale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żonaty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wdow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0320" y="112680"/>
            <a:ext cx="8407440" cy="13334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Własności związków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ograniczenia integralności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7040" y="1576440"/>
            <a:ext cx="944568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ek obowiązkowy/opcjonal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każdej instancji en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usi istn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powiadająca jej instancja związ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5600" y="1558800"/>
            <a:ext cx="190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wiązek obowiązk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84760" y="1558800"/>
            <a:ext cx="171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wiązek opcjon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590360" y="1817640"/>
            <a:ext cx="2551320" cy="475560"/>
            <a:chOff x="4590360" y="1817640"/>
            <a:chExt cx="2551320" cy="475560"/>
          </a:xfrm>
        </p:grpSpPr>
        <p:sp>
          <p:nvSpPr>
            <p:cNvPr id="650" name=""/>
            <p:cNvSpPr/>
            <p:nvPr/>
          </p:nvSpPr>
          <p:spPr>
            <a:xfrm>
              <a:off x="4590360" y="1987560"/>
              <a:ext cx="103860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676840" y="2136960"/>
              <a:ext cx="1464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70000" y="2024280"/>
              <a:ext cx="2149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676840" y="2138400"/>
              <a:ext cx="2016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7520" y="181764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works_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064280" y="1749600"/>
            <a:ext cx="2519640" cy="666000"/>
            <a:chOff x="7064280" y="1749600"/>
            <a:chExt cx="2519640" cy="666000"/>
          </a:xfrm>
        </p:grpSpPr>
        <p:sp>
          <p:nvSpPr>
            <p:cNvPr id="656" name=""/>
            <p:cNvSpPr/>
            <p:nvPr/>
          </p:nvSpPr>
          <p:spPr>
            <a:xfrm>
              <a:off x="7064280" y="2109960"/>
              <a:ext cx="103860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8128440" y="2258640"/>
              <a:ext cx="123624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21960" y="2146320"/>
              <a:ext cx="2102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128080" y="2260800"/>
              <a:ext cx="1976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5280" y="1749600"/>
              <a:ext cx="1358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ssigned_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09520" y="2657520"/>
            <a:ext cx="9522000" cy="9154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ikalnoś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atrz definicja encji słab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34520" y="2919240"/>
            <a:ext cx="93168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19200" y="2919240"/>
            <a:ext cx="1251720" cy="51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ALANC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53080" y="2919240"/>
            <a:ext cx="114516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31800" y="3138480"/>
            <a:ext cx="93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c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5280" y="3105000"/>
            <a:ext cx="135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scr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uantity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76640" y="308916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52920" y="30891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827680" y="29433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34160" y="3089160"/>
            <a:ext cx="164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713560" y="3003480"/>
            <a:ext cx="144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7288200" y="3083040"/>
            <a:ext cx="476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40800" y="3084480"/>
            <a:ext cx="4950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1720" y="2955960"/>
            <a:ext cx="19080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7281720" y="3083040"/>
            <a:ext cx="190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69360" y="3009960"/>
            <a:ext cx="6120" cy="16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9520" y="4033800"/>
            <a:ext cx="952488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łącznoś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łu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ażda pozycja może dotyczyć jednego i tylk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ego produk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ej i tylko jedn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sług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248080" y="4048200"/>
            <a:ext cx="3344040" cy="1058040"/>
            <a:chOff x="5248080" y="4048200"/>
            <a:chExt cx="3344040" cy="1058040"/>
          </a:xfrm>
        </p:grpSpPr>
        <p:sp>
          <p:nvSpPr>
            <p:cNvPr id="679" name=""/>
            <p:cNvSpPr/>
            <p:nvPr/>
          </p:nvSpPr>
          <p:spPr>
            <a:xfrm>
              <a:off x="5248080" y="4159080"/>
              <a:ext cx="611640" cy="94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60440" y="4172040"/>
              <a:ext cx="93168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0440" y="4800600"/>
              <a:ext cx="93168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72320" y="433692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81760" y="43369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78440" y="4959360"/>
              <a:ext cx="99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81760" y="49593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72320" y="4206960"/>
              <a:ext cx="164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871960" y="4340160"/>
              <a:ext cx="1522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78440" y="4829040"/>
              <a:ext cx="1652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5878440" y="4962600"/>
              <a:ext cx="1526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79880" y="4214880"/>
              <a:ext cx="3175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2" y="1"/>
                  </a:moveTo>
                  <a:arcTo wR="10800" hR="10800" stAng="-5434315" swAng="10834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2" y="1"/>
                  </a:moveTo>
                  <a:arcTo wR="10800" hR="10800" stAng="-5434315" swAng="1083431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10280" y="4311720"/>
              <a:ext cx="6048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26120" y="4930920"/>
              <a:ext cx="5076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83280" y="404820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21080" y="46702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09520" y="5396040"/>
            <a:ext cx="952488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wiązki trwałe (nie-transferowaln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iązek jest trwał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żeli dowolna instancja 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tym związku nie może by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złączona lu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łączona do innej instancji tej samej en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085720" y="5484960"/>
            <a:ext cx="3947760" cy="667440"/>
            <a:chOff x="5085720" y="5484960"/>
            <a:chExt cx="3947760" cy="667440"/>
          </a:xfrm>
        </p:grpSpPr>
        <p:sp>
          <p:nvSpPr>
            <p:cNvPr id="697" name=""/>
            <p:cNvSpPr/>
            <p:nvPr/>
          </p:nvSpPr>
          <p:spPr>
            <a:xfrm>
              <a:off x="5085720" y="5616720"/>
              <a:ext cx="718560" cy="30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R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01800" y="5508720"/>
              <a:ext cx="931680" cy="51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RD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583400" y="5695920"/>
              <a:ext cx="171360" cy="171360"/>
              <a:chOff x="7583400" y="5695920"/>
              <a:chExt cx="171360" cy="171360"/>
            </a:xfrm>
          </p:grpSpPr>
          <p:sp>
            <p:nvSpPr>
              <p:cNvPr id="700" name=""/>
              <p:cNvSpPr/>
              <p:nvPr/>
            </p:nvSpPr>
            <p:spPr>
              <a:xfrm>
                <a:off x="7583400" y="5695920"/>
                <a:ext cx="171360" cy="17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520000">
                <a:off x="7613640" y="5718240"/>
                <a:ext cx="114480" cy="123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819760" y="5780160"/>
              <a:ext cx="176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53320" y="578016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934040" y="5638680"/>
              <a:ext cx="1522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948440" y="5781600"/>
              <a:ext cx="1382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87720" y="54849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35400" y="5846760"/>
              <a:ext cx="1251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belongs_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5000" y="235080"/>
            <a:ext cx="4876920" cy="20635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Unikalny identyfikator hierarchii generaliz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99200" y="237960"/>
            <a:ext cx="4273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tody definiowan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dentyfikatoró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hierarchii generalizacj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ele identyfikator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 najniższy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ziomie hierar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en identyfik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 najwyższym poziomie hierarchii generaliz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034040" y="1990800"/>
            <a:ext cx="2228760" cy="2526840"/>
            <a:chOff x="7034040" y="1990800"/>
            <a:chExt cx="2228760" cy="2526840"/>
          </a:xfrm>
        </p:grpSpPr>
        <p:sp>
          <p:nvSpPr>
            <p:cNvPr id="711" name=""/>
            <p:cNvSpPr/>
            <p:nvPr/>
          </p:nvSpPr>
          <p:spPr>
            <a:xfrm>
              <a:off x="7068960" y="1990800"/>
              <a:ext cx="12517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ir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as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7205400" y="2987640"/>
              <a:ext cx="2013120" cy="518760"/>
              <a:chOff x="7205400" y="2987640"/>
              <a:chExt cx="2013120" cy="518760"/>
            </a:xfrm>
          </p:grpSpPr>
          <p:sp>
            <p:nvSpPr>
              <p:cNvPr id="713" name=""/>
              <p:cNvSpPr/>
              <p:nvPr/>
            </p:nvSpPr>
            <p:spPr>
              <a:xfrm>
                <a:off x="7219800" y="2987640"/>
                <a:ext cx="1998720" cy="518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ntract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05400" y="3274560"/>
                <a:ext cx="19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218360" y="3651120"/>
              <a:ext cx="1923840" cy="731880"/>
              <a:chOff x="7218360" y="3651120"/>
              <a:chExt cx="1923840" cy="731880"/>
            </a:xfrm>
          </p:grpSpPr>
          <p:sp>
            <p:nvSpPr>
              <p:cNvPr id="716" name=""/>
              <p:cNvSpPr/>
              <p:nvPr/>
            </p:nvSpPr>
            <p:spPr>
              <a:xfrm>
                <a:off x="7230960" y="3651120"/>
                <a:ext cx="1785240" cy="731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 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s_work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hourly-w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218360" y="3918960"/>
                <a:ext cx="19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7043760" y="1995120"/>
              <a:ext cx="2212920" cy="252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34040" y="2234880"/>
              <a:ext cx="222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563760" y="2390760"/>
            <a:ext cx="4921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ikalny identyfikator na poziomie encj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dkla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pól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turalne atrybu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ncji nadkla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tuczny atryb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dany do encji nadkla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mbinac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iązków encji nadkla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mbinacja związk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atrybut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ncji nadkla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29120" y="4191120"/>
            <a:ext cx="53546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SNOŚ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nikalny identyfikator jest dziedziczo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z wszystk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kla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możliwia identyfikacj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ch instan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ch podk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0560" y="5592600"/>
            <a:ext cx="8514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ikalne identyfika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finiowane na poziomie podkl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każdej podklasy na najniższym poziomie hierarch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efiniuje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zależ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nikalny identyfik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20400" y="269640"/>
            <a:ext cx="4125960" cy="2663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Hierarchia encji bez atrybutów specyficzn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ŁU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16440" y="271440"/>
            <a:ext cx="4637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Firma wydająca karty kredytow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zakłada kont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klientów indywidualnych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lub klientów zbiorowych (firmy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które mogą wystawiać karty kredytowe dla swoich pracow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56720" y="1378080"/>
            <a:ext cx="207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ierarchia en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78600" y="1846440"/>
            <a:ext cx="2286000" cy="4032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70520" y="4390920"/>
            <a:ext cx="55958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ncje specjaliza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DIVIDUAL ACCOUN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ANY ACCOUN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posiadają specyficznych atrybut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ncje specjaliza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gą posiadać tylko specyficzne związ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17200" y="4687920"/>
            <a:ext cx="63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Ł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8800" y="53989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6880" y="5372280"/>
            <a:ext cx="889200" cy="100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51040" y="5398920"/>
            <a:ext cx="13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04040" y="5945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66880" y="5334120"/>
            <a:ext cx="13716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5880240"/>
            <a:ext cx="1333800" cy="393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86080" y="553716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58920" y="554976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86080" y="6032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70000" y="6045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486080" y="5359320"/>
            <a:ext cx="177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460520" y="5549400"/>
            <a:ext cx="19044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98680" y="5842080"/>
            <a:ext cx="1904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473120" y="6044760"/>
            <a:ext cx="2034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50960" y="5283360"/>
            <a:ext cx="152280" cy="939600"/>
          </a:xfrm>
          <a:custGeom>
            <a:avLst/>
            <a:gdLst>
              <a:gd name="textAreaLeft" fmla="*/ 0 w 152280"/>
              <a:gd name="textAreaRight" fmla="*/ 106920 w 152280"/>
              <a:gd name="textAreaTop" fmla="*/ 38880 h 939600"/>
              <a:gd name="textAreaBottom" fmla="*/ 90072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766880" y="5473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779480" y="596916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1360" y="61992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70600" y="50436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61440" y="2516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98880" y="2820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87800" y="321480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64840" y="37735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03640" y="3225960"/>
            <a:ext cx="1206720" cy="482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03640" y="3772080"/>
            <a:ext cx="1194120" cy="50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38760" y="2476440"/>
            <a:ext cx="1968480" cy="1892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896240" y="3265560"/>
            <a:ext cx="13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99480" y="3809880"/>
            <a:ext cx="1333440" cy="393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86880" y="3213000"/>
            <a:ext cx="1333440" cy="393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087400" y="38368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10360" y="346716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97760" y="4013280"/>
            <a:ext cx="96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88120" y="4013280"/>
            <a:ext cx="698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12160" y="347976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22960" y="3340080"/>
            <a:ext cx="152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6210360" y="3479400"/>
            <a:ext cx="1648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97760" y="3898800"/>
            <a:ext cx="1267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6210000" y="4013280"/>
            <a:ext cx="1141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360120" y="3151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34560" y="3710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a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7920" y="310680"/>
            <a:ext cx="4273560" cy="1739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Model encji-związków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66000" y="1279440"/>
            <a:ext cx="389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otacj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E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’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97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240" y="3240000"/>
            <a:ext cx="128232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11240" y="2216160"/>
            <a:ext cx="1130400" cy="444600"/>
            <a:chOff x="1911240" y="2216160"/>
            <a:chExt cx="1130400" cy="444600"/>
          </a:xfrm>
        </p:grpSpPr>
        <p:sp>
          <p:nvSpPr>
            <p:cNvPr id="102" name=""/>
            <p:cNvSpPr/>
            <p:nvPr/>
          </p:nvSpPr>
          <p:spPr>
            <a:xfrm>
              <a:off x="1959840" y="226224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1240" y="2216160"/>
              <a:ext cx="113040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06880" y="2262240"/>
            <a:ext cx="901440" cy="398520"/>
            <a:chOff x="3206880" y="2262240"/>
            <a:chExt cx="901440" cy="398520"/>
          </a:xfrm>
        </p:grpSpPr>
        <p:sp>
          <p:nvSpPr>
            <p:cNvPr id="105" name=""/>
            <p:cNvSpPr/>
            <p:nvPr/>
          </p:nvSpPr>
          <p:spPr>
            <a:xfrm>
              <a:off x="3254400" y="226224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6880" y="2292480"/>
              <a:ext cx="90144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2880" y="3130560"/>
            <a:ext cx="1789200" cy="444600"/>
            <a:chOff x="272880" y="3130560"/>
            <a:chExt cx="1789200" cy="444600"/>
          </a:xfrm>
        </p:grpSpPr>
        <p:sp>
          <p:nvSpPr>
            <p:cNvPr id="108" name=""/>
            <p:cNvSpPr/>
            <p:nvPr/>
          </p:nvSpPr>
          <p:spPr>
            <a:xfrm>
              <a:off x="505440" y="3176640"/>
              <a:ext cx="155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880" y="3130560"/>
              <a:ext cx="177624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35080" y="2521080"/>
            <a:ext cx="1815840" cy="444240"/>
            <a:chOff x="235080" y="2521080"/>
            <a:chExt cx="1815840" cy="444240"/>
          </a:xfrm>
        </p:grpSpPr>
        <p:sp>
          <p:nvSpPr>
            <p:cNvPr id="111" name=""/>
            <p:cNvSpPr/>
            <p:nvPr/>
          </p:nvSpPr>
          <p:spPr>
            <a:xfrm>
              <a:off x="285840" y="2567160"/>
              <a:ext cx="141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5080" y="2521080"/>
              <a:ext cx="181584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73560" y="2444760"/>
            <a:ext cx="1511280" cy="444600"/>
            <a:chOff x="4273560" y="2444760"/>
            <a:chExt cx="1511280" cy="444600"/>
          </a:xfrm>
        </p:grpSpPr>
        <p:sp>
          <p:nvSpPr>
            <p:cNvPr id="114" name=""/>
            <p:cNvSpPr/>
            <p:nvPr/>
          </p:nvSpPr>
          <p:spPr>
            <a:xfrm>
              <a:off x="4383360" y="2490840"/>
              <a:ext cx="128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73560" y="2444760"/>
              <a:ext cx="151128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29800" y="3240000"/>
            <a:ext cx="114516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16760" y="2063880"/>
            <a:ext cx="839880" cy="444240"/>
            <a:chOff x="7016760" y="2063880"/>
            <a:chExt cx="839880" cy="444240"/>
          </a:xfrm>
        </p:grpSpPr>
        <p:sp>
          <p:nvSpPr>
            <p:cNvPr id="118" name=""/>
            <p:cNvSpPr/>
            <p:nvPr/>
          </p:nvSpPr>
          <p:spPr>
            <a:xfrm>
              <a:off x="7122960" y="210996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16760" y="2063880"/>
              <a:ext cx="82548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702560" y="2521080"/>
            <a:ext cx="1968480" cy="444240"/>
            <a:chOff x="7702560" y="2521080"/>
            <a:chExt cx="1968480" cy="444240"/>
          </a:xfrm>
        </p:grpSpPr>
        <p:sp>
          <p:nvSpPr>
            <p:cNvPr id="121" name=""/>
            <p:cNvSpPr/>
            <p:nvPr/>
          </p:nvSpPr>
          <p:spPr>
            <a:xfrm>
              <a:off x="7829280" y="2567160"/>
              <a:ext cx="155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art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02560" y="2521080"/>
              <a:ext cx="196848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159760" y="3206880"/>
            <a:ext cx="1206360" cy="444240"/>
            <a:chOff x="8159760" y="3206880"/>
            <a:chExt cx="1206360" cy="444240"/>
          </a:xfrm>
        </p:grpSpPr>
        <p:sp>
          <p:nvSpPr>
            <p:cNvPr id="124" name=""/>
            <p:cNvSpPr/>
            <p:nvPr/>
          </p:nvSpPr>
          <p:spPr>
            <a:xfrm>
              <a:off x="8211600" y="325296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ud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9760" y="3206880"/>
              <a:ext cx="1206360" cy="44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854840" y="3816360"/>
            <a:ext cx="1663920" cy="444600"/>
            <a:chOff x="7854840" y="3816360"/>
            <a:chExt cx="1663920" cy="444600"/>
          </a:xfrm>
        </p:grpSpPr>
        <p:sp>
          <p:nvSpPr>
            <p:cNvPr id="127" name=""/>
            <p:cNvSpPr/>
            <p:nvPr/>
          </p:nvSpPr>
          <p:spPr>
            <a:xfrm>
              <a:off x="7982280" y="3862440"/>
              <a:ext cx="128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54840" y="3816360"/>
              <a:ext cx="166392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280" y="5032440"/>
            <a:ext cx="169380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ract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2720" y="5032440"/>
            <a:ext cx="141948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5680" y="5788080"/>
            <a:ext cx="1509480" cy="482040"/>
            <a:chOff x="355680" y="5788080"/>
            <a:chExt cx="1509480" cy="482040"/>
          </a:xfrm>
        </p:grpSpPr>
        <p:sp>
          <p:nvSpPr>
            <p:cNvPr id="132" name=""/>
            <p:cNvSpPr/>
            <p:nvPr/>
          </p:nvSpPr>
          <p:spPr>
            <a:xfrm>
              <a:off x="522720" y="5837760"/>
              <a:ext cx="114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.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5680" y="5788080"/>
              <a:ext cx="1509480" cy="48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139840" y="5761080"/>
            <a:ext cx="1359000" cy="444600"/>
            <a:chOff x="2139840" y="5761080"/>
            <a:chExt cx="1359000" cy="444600"/>
          </a:xfrm>
        </p:grpSpPr>
        <p:sp>
          <p:nvSpPr>
            <p:cNvPr id="135" name=""/>
            <p:cNvSpPr/>
            <p:nvPr/>
          </p:nvSpPr>
          <p:spPr>
            <a:xfrm>
              <a:off x="2253600" y="580716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_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9840" y="5761080"/>
              <a:ext cx="135900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28960" y="5773680"/>
            <a:ext cx="1739880" cy="444600"/>
            <a:chOff x="3828960" y="5773680"/>
            <a:chExt cx="1739880" cy="444600"/>
          </a:xfrm>
        </p:grpSpPr>
        <p:sp>
          <p:nvSpPr>
            <p:cNvPr id="138" name=""/>
            <p:cNvSpPr/>
            <p:nvPr/>
          </p:nvSpPr>
          <p:spPr>
            <a:xfrm>
              <a:off x="3956400" y="5819760"/>
              <a:ext cx="114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_w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8960" y="5773680"/>
              <a:ext cx="1739880" cy="44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2046240" y="3347640"/>
            <a:ext cx="2761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76320" y="2886120"/>
            <a:ext cx="45396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2280" y="2676600"/>
            <a:ext cx="12384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18960" y="2631960"/>
            <a:ext cx="365400" cy="5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177720" y="2765520"/>
            <a:ext cx="1165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16600" y="2441520"/>
            <a:ext cx="33984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216560" y="2822400"/>
            <a:ext cx="5238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400880" y="342900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322760" y="3639600"/>
            <a:ext cx="638280" cy="28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41160" y="4027320"/>
            <a:ext cx="833760" cy="366840"/>
            <a:chOff x="2441160" y="4027320"/>
            <a:chExt cx="833760" cy="366840"/>
          </a:xfrm>
        </p:grpSpPr>
        <p:sp>
          <p:nvSpPr>
            <p:cNvPr id="150" name=""/>
            <p:cNvSpPr/>
            <p:nvPr/>
          </p:nvSpPr>
          <p:spPr>
            <a:xfrm>
              <a:off x="2592720" y="402732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I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03848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441160" y="4041720"/>
              <a:ext cx="1494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41520" y="4194000"/>
              <a:ext cx="1494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93800" y="434340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125880" y="4192200"/>
              <a:ext cx="1490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125880" y="4040280"/>
              <a:ext cx="14904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819520" y="366084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66084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46080" y="366084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8720" y="366084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755360" y="4346640"/>
            <a:ext cx="9111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31680" y="4346640"/>
            <a:ext cx="9111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51000" y="4346640"/>
            <a:ext cx="68292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5040" y="4346640"/>
            <a:ext cx="6825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44440" y="5411520"/>
            <a:ext cx="22572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20960" y="5411520"/>
            <a:ext cx="3780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039920" y="5411520"/>
            <a:ext cx="45396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81880" y="4721400"/>
            <a:ext cx="3807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struk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ryb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ąz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3320" y="4648320"/>
            <a:ext cx="4111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7520" y="32036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27160" y="34322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9960" y="32036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0320" y="3432240"/>
            <a:ext cx="45396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2680" y="342900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4720" y="342900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15480" y="3405240"/>
            <a:ext cx="32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0720" y="3405240"/>
            <a:ext cx="32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3710160"/>
            <a:ext cx="210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s_involved_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400" y="463320"/>
            <a:ext cx="3898800" cy="1739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Obiekty świata rzeczywist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5760" y="509760"/>
            <a:ext cx="397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biekty rzeczyw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ó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duk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72800" y="1243080"/>
            <a:ext cx="167868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any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ctory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72440" y="1511280"/>
            <a:ext cx="17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56400" y="1530360"/>
            <a:ext cx="809640" cy="355680"/>
          </a:xfrm>
          <a:prstGeom prst="rightArrow">
            <a:avLst>
              <a:gd name="adj1" fmla="val 50000"/>
              <a:gd name="adj2" fmla="val 1138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200" y="2579760"/>
            <a:ext cx="2797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biek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ówie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rup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56400" y="2838600"/>
            <a:ext cx="809640" cy="355320"/>
          </a:xfrm>
          <a:prstGeom prst="rightArrow">
            <a:avLst>
              <a:gd name="adj1" fmla="val 50000"/>
              <a:gd name="adj2" fmla="val 11398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92600" y="2563920"/>
            <a:ext cx="22118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ber of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verage 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2960" y="2832120"/>
            <a:ext cx="213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26440" y="3811680"/>
            <a:ext cx="18918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rt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_of_ill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26440" y="4083120"/>
            <a:ext cx="190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12040" y="5094360"/>
            <a:ext cx="18918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NOWLED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nguag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nowledge_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7640" y="5573880"/>
            <a:ext cx="203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7480" y="3790800"/>
            <a:ext cx="165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ro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gro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8560" y="5205240"/>
            <a:ext cx="3202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ak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najomoś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ęzyk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c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 ko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56400" y="4098960"/>
            <a:ext cx="809640" cy="355680"/>
          </a:xfrm>
          <a:prstGeom prst="rightArrow">
            <a:avLst>
              <a:gd name="adj1" fmla="val 50000"/>
              <a:gd name="adj2" fmla="val 1138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56400" y="5405400"/>
            <a:ext cx="809640" cy="355680"/>
          </a:xfrm>
          <a:prstGeom prst="rightArrow">
            <a:avLst>
              <a:gd name="adj1" fmla="val 50000"/>
              <a:gd name="adj2" fmla="val 1138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044960" y="1515960"/>
            <a:ext cx="1440000" cy="39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43440" y="2506680"/>
            <a:ext cx="1393560" cy="107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268880" y="3898800"/>
            <a:ext cx="739800" cy="104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110120" y="5189400"/>
            <a:ext cx="1338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45920" y="609120"/>
            <a:ext cx="48387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ENC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0200" y="236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63880" y="2438280"/>
            <a:ext cx="60530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ncja jest zbior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biektó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jących wspólne własnoś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 których chcielibyśmy przechowywać informac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4025880"/>
            <a:ext cx="32637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73880" y="41162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ZWA</a:t>
            </a: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67480" y="53848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en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84400" y="5041440"/>
            <a:ext cx="6858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0840" y="412920"/>
            <a:ext cx="3351240" cy="2234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Encja 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wystąpienie en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64120" y="476280"/>
            <a:ext cx="5153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świata rzeczywist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Firma zatrudnia pracowników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Chcemy przechowywać informacj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nt. danych personalnych pracowników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imię,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nazwisko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adr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numer telefon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4240" y="206856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Street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253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92080" y="1944720"/>
            <a:ext cx="1448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 Street 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753-6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3480" y="2011320"/>
            <a:ext cx="141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 Street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333-9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00" y="2868480"/>
            <a:ext cx="319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yfikacja wspólnych ce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i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62400" y="459432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8360" y="3924360"/>
            <a:ext cx="617400" cy="522360"/>
          </a:xfrm>
          <a:prstGeom prst="downArrow">
            <a:avLst>
              <a:gd name="adj1" fmla="val 75009"/>
              <a:gd name="adj2" fmla="val 5002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251240" y="3368520"/>
            <a:ext cx="1271520" cy="1585440"/>
            <a:chOff x="4251240" y="3368520"/>
            <a:chExt cx="1271520" cy="1585440"/>
          </a:xfrm>
        </p:grpSpPr>
        <p:sp>
          <p:nvSpPr>
            <p:cNvPr id="216" name=""/>
            <p:cNvSpPr/>
            <p:nvPr/>
          </p:nvSpPr>
          <p:spPr>
            <a:xfrm>
              <a:off x="4285800" y="3368520"/>
              <a:ext cx="794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Enc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251240" y="3795840"/>
              <a:ext cx="1271520" cy="1158120"/>
              <a:chOff x="4251240" y="3795840"/>
              <a:chExt cx="1271520" cy="1158120"/>
            </a:xfrm>
          </p:grpSpPr>
          <p:sp>
            <p:nvSpPr>
              <p:cNvPr id="218" name=""/>
              <p:cNvSpPr/>
              <p:nvPr/>
            </p:nvSpPr>
            <p:spPr>
              <a:xfrm>
                <a:off x="4260240" y="3795840"/>
                <a:ext cx="1251720" cy="1158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first_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last_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teleph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51240" y="4073400"/>
                <a:ext cx="127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6381720" y="3392640"/>
            <a:ext cx="3376800" cy="1915200"/>
            <a:chOff x="6381720" y="3392640"/>
            <a:chExt cx="3376800" cy="1915200"/>
          </a:xfrm>
        </p:grpSpPr>
        <p:sp>
          <p:nvSpPr>
            <p:cNvPr id="221" name=""/>
            <p:cNvSpPr/>
            <p:nvPr/>
          </p:nvSpPr>
          <p:spPr>
            <a:xfrm>
              <a:off x="6993720" y="3392640"/>
              <a:ext cx="210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Wystąpienia encj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381720" y="3817800"/>
              <a:ext cx="3376800" cy="1490040"/>
              <a:chOff x="6381720" y="3817800"/>
              <a:chExt cx="3376800" cy="1490040"/>
            </a:xfrm>
          </p:grpSpPr>
          <p:sp>
            <p:nvSpPr>
              <p:cNvPr id="223" name=""/>
              <p:cNvSpPr/>
              <p:nvPr/>
            </p:nvSpPr>
            <p:spPr>
              <a:xfrm>
                <a:off x="6759720" y="3817800"/>
                <a:ext cx="2998800" cy="1167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80080" y="3959280"/>
                <a:ext cx="2986200" cy="1166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81720" y="4149720"/>
                <a:ext cx="2958840" cy="1158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Employ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first name = Joh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last name  = Smi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address = Long Street 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telephone = 256-48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745160" y="2935440"/>
            <a:ext cx="3822480" cy="41580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400" y="5218200"/>
            <a:ext cx="62179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guły dotyczące encj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ncja jest zbiorem obiektów nazywany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ancjami en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zwa encji powinna być rzeczownikiem w l. pojedync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wolna rzecz lub obiekt może być reprezentowana tyl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jedną encję; każda encja musi być jednoznacznie identyfikowal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160" y="518004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7600" y="293760"/>
            <a:ext cx="4781880" cy="12110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ki i asocja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93720" y="26028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ocjac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Pracownicy posiadają różne samochod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8720" y="146844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6760" y="256860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27080" y="202248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24800" y="147780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18040" y="258300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4640" y="1622520"/>
            <a:ext cx="2293920" cy="4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59600" y="2741760"/>
            <a:ext cx="2496960" cy="2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4920" y="129384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5480" y="2411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04480" y="169848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6920" y="276552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5280" y="1878120"/>
            <a:ext cx="2629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dentyfikac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ocjacji posiadając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ólne włas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4120" y="3030480"/>
            <a:ext cx="939960" cy="8571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8200" y="406728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90320" y="3165480"/>
            <a:ext cx="4671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tnieje asocjacja pomiędzy pracownikami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od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k może posiadać samochó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ód może należeć do pracown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64880" y="4633920"/>
            <a:ext cx="28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ocjacja i jej interpret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3800" y="521640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9480" y="5216400"/>
            <a:ext cx="8251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R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24360" y="5372280"/>
            <a:ext cx="2343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9560" y="506880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535464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8440" y="609120"/>
            <a:ext cx="549936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51560" y="2935440"/>
            <a:ext cx="842544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wiązek reprezentu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socjację występującą 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świecie rzeczywisty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między jedną a kilk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ncj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0" y="5029200"/>
            <a:ext cx="1803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3280" y="5054760"/>
            <a:ext cx="1854360" cy="57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68920" y="51181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Encja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75760" y="515628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Encja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5334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66160" y="5931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wią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60920" y="5486400"/>
            <a:ext cx="45720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8800" y="615960"/>
            <a:ext cx="3637080" cy="11304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wiąz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38720" y="82548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26760" y="1925640"/>
            <a:ext cx="107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27080" y="1379520"/>
            <a:ext cx="113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y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24800" y="835200"/>
            <a:ext cx="73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8040" y="194004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54640" y="979560"/>
            <a:ext cx="2293920" cy="4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59600" y="2098800"/>
            <a:ext cx="2496960" cy="2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4200" y="6508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34760" y="176832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4480" y="105552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86920" y="212256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17600" y="3236760"/>
            <a:ext cx="103860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33640" y="3236760"/>
            <a:ext cx="825120" cy="30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R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35680" y="3392640"/>
            <a:ext cx="2386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96440" y="308916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7880" y="3375000"/>
            <a:ext cx="113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longs_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49880" y="2625840"/>
            <a:ext cx="1857600" cy="307800"/>
          </a:xfrm>
          <a:prstGeom prst="downArrow">
            <a:avLst>
              <a:gd name="adj1" fmla="val 75009"/>
              <a:gd name="adj2" fmla="val 500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04920" y="3843360"/>
            <a:ext cx="566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emy, ż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tnieje asocjacja pomiędzy encj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PLOYE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06000" y="4567320"/>
            <a:ext cx="5522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hcielibyśmy wiedzie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e samochodów pracow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e posiada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u pracowników może posiada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n sam samochó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 każdy samochód musi do kogoś należe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2:47:07Z</dcterms:created>
  <dc:creator>Instytut Informatyki</dc:creator>
  <dc:description/>
  <dc:language>en-US</dc:language>
  <cp:lastModifiedBy>Tadeusz Morzy</cp:lastModifiedBy>
  <dcterms:modified xsi:type="dcterms:W3CDTF">2001-11-28T18:58:00Z</dcterms:modified>
  <cp:revision>183</cp:revision>
  <dc:subject/>
  <dc:title>Bez tytułu slajdu</dc:title>
</cp:coreProperties>
</file>