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2B9-0E03-4741-83D5-47ADAA75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89A-1B0A-47DF-9573-73FA2BDF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BA2-32F7-4D92-8BF7-0C00A544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EE4-7935-4358-AEDC-19304BFF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672-9492-462D-84E6-A94AD05B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C49-13A6-43EB-9421-E2331B7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A84-0482-46C5-9D6B-9BC4B48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FCD-1928-4CC4-A217-D7FBF30F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200-DEFA-4F9B-9E7E-A3AB3AF4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48C-FB8E-40FA-8430-92F76D8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4F4-5933-41EF-BA51-06EA6E4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820-4EAA-4E1F-A187-5463355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036F-6D3F-45CF-95D3-7880DD814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zetwarzanie równoległe cz. 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chematy przetwarzania równoległ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chematy przetwarzania - dziel i rząd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ział problemu i danych na mniejsze podobne proble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problemy możliwe do rozwiązania efektywnie przez pojedyncze proces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orzystanie struktur przetwarzających, które mogą być podzielone na małe podstruktury o analogicznej budowie - efektywne do lokalnej wymiany danych w czasie przetwarzania i połączenia wyników uzyskanych w sąsiednich podstruktur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ematy przetwarzania równoległe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EFF-AB1E-46D3-9273-FC434E5B98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chematy przetwarzania - master-sl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ejście typu metody podziału i ograni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 typu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amiętanie: najlepszego rozwiązania, ograniczenia górnego (minimalizacja), listy podproblem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dzielanie pracy - równoważenie obciąż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 typu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iązywanie podproblem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acanie wynik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gnalizacja gotowości pracy, określanie obciąż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ematy przetwarzania równoległe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7EB-A16D-4DE1-926F-E361B1D1A0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chematy przetwarzania - potokow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twarzanie w strukturze analogicznej do linii produkcyjn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twarzanie rozbite na szereg kroków, których realizacja jest niezbędna do uzyskania rozwiązania proble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twarzanie w komputerze równoległym skonfigurowanym jako łańcuch proceso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ory nie muszą być identyczne, niektóre pracochłonne etapy mogą być realizowane przez kilka proceso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ematy przetwarzania równoległe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92D-BB6A-4E2B-9408-A05D77292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korzystanie równoległych działań rozproszonych - operacje glob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ortowan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uporządkowanej strukturze procesorów, generowanie porządku na elementach (rozproszonyc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łącze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uporządkowanych lokalnie ciągów w uporządkowanej  strukturze procesorów, wynik rozproszon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presj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przesunięcie danych do wybranego podzbioru procesoró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efiks równoległ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operacja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ealizowana na rozproszonych elementach generuje: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głaszanie typu „wszyscy do wszystki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(i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 węz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o wszystkich węzłów lu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(i,j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 węz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o węz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ematy przetwarzania równoległe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3F3-53FE-4D35-9D6F-530FC5C06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blem punktów maksymal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: zbiór punktów S, współrzędne punktów w dwóch wymiar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leźć:  punkty w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 współrzędnych maksymalnych: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=(px,py) : px&gt;q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y&gt;q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tosunku dla każdego z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qx,qy)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 i (qx,qy) </a:t>
            </a:r>
            <a:r>
              <a:rPr b="0" i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Algoryt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sort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unkty tak aby: jeśl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&lt;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gt;x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naj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efix równoległy z operacją maksim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est maksymalną wartością współrzędnych y punktów o indeksach mniejszych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 punkt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ako maksymaln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gt;L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ematy przetwarzania równoległe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827-FF7B-4D18-8A39-61CC694F3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oblem punktów maksymalny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562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8580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9528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952880"/>
            <a:ext cx="22860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4267080"/>
            <a:ext cx="22860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581280"/>
            <a:ext cx="22860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2670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7920" y="1276200"/>
            <a:ext cx="5626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wejściowa (1,1),(4,1),(1,2),(3,2),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posortowana (4,1),(3,2),(2,3),(1,2),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(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k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dkreślono współrzędne punktów maksymal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88960" y="5668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8280" y="277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ematy przetwarzania równoległe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153-C4E2-4271-B89B-ABEE75A6ED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42:02Z</dcterms:created>
  <dc:creator>Rafał Walkowiak</dc:creator>
  <dc:description/>
  <dc:language>en-US</dc:language>
  <cp:lastModifiedBy>andrzej</cp:lastModifiedBy>
  <dcterms:modified xsi:type="dcterms:W3CDTF">2004-01-19T11:54:33Z</dcterms:modified>
  <cp:revision>8</cp:revision>
  <dc:subject/>
  <dc:title>Schematy przetwarzania równoległego</dc:title>
</cp:coreProperties>
</file>