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E6C-43ED-4E8B-BCA7-E9DE90CB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CF0-B267-4751-BBFC-C791C416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98C-9094-4C62-9456-15B09EEF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9CB-D587-48F3-AB2C-3810F3C5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B00-6EC1-4233-9837-3FABD492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4CA-C4B8-4663-A487-74F7CAAB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AB3-2D8D-4469-9CA6-45F4F22D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FCD-7BD0-48E2-839E-5277C0AB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A17-81CE-46CA-BB98-0ED5AED9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F34-3A90-44CC-886E-C7B85F8D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491-9BB3-45FC-8AA4-D91D915E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FA0-80C8-4458-A14E-EA7942B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651E-C941-43D2-A621-0F55B6A7E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JA LOGICZNA PLIKÓ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Model kosztó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otacja i założen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 oznacza ilość stron, każda strona zawi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ó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redni czas odczytu/zapisu bloku dyskowego wyno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redni czas przetwarzania rekor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równanie wartoś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trybutu ze stał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no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padku plików haszowych stosujemy funkcję haszową odwzorowującą wartości rekordów na liczby naturalne; czas obliczenia wartości funkcji haszowej wynos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owe wartości wynoszą 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15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, C i H od 1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10 μs;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minuje kosz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/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Plik nieuporządkow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wową organizacją pliku nieuporządkowanego jest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óg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ng. he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c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tawianie rekordó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kord jest wstawiany do ostatniego bloku pliku; blok ten jest zapisywany na dy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nos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D+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szukiwanie rekord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onieczność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iowego przeszukiwani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szystkich blokó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koszt wynos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+RC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 Jeżeli nie ma rekordów spełniających warunek selekc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stem musi przejrzeć cały p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Plik nieuporządkow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glądanie plik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 – koszt wynos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nieważ musim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czyta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szt odczytu stron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ażdej stro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tworzyć R rekordó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szukiwanie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 przedziałem wartośc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onieczność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czyt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szystkich blokó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koszt wynos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+ 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wanie rekord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niowe przeszukiwanie i zapis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lok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dy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; tj. koszt wyszukania + kosz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ostaje zwolniona pamięć - konieczność periodycznej reorganizacji pliku w celu odzyskania pamię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lem sortowani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ik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zw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rtowanie zewnętr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Plik nieuporządkow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19160" y="2879640"/>
            <a:ext cx="731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3560" y="2147760"/>
            <a:ext cx="731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2147760"/>
            <a:ext cx="731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03880" y="2147760"/>
            <a:ext cx="730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25720" y="3429000"/>
            <a:ext cx="731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5160" y="3429000"/>
            <a:ext cx="731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4240" y="3429000"/>
            <a:ext cx="731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 rot="10872000">
            <a:off x="2279160" y="2335680"/>
            <a:ext cx="914400" cy="10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6" y="98"/>
                </a:moveTo>
                <a:arcTo wR="10800" hR="10800" stAng="-5864220" swAng="5864220"/>
                <a:lnTo>
                  <a:pt x="10800" y="10800"/>
                </a:lnTo>
                <a:close/>
              </a:path>
              <a:path fill="none" w="21600" h="21600">
                <a:moveTo>
                  <a:pt x="9346" y="98"/>
                </a:moveTo>
                <a:arcTo wR="10800" hR="10800" stAng="-5864220" swAng="586422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194200" y="2237400"/>
            <a:ext cx="913680" cy="73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94200" y="3154320"/>
            <a:ext cx="913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19800">
            <a:off x="2287080" y="2881440"/>
            <a:ext cx="12787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36840" y="1828800"/>
            <a:ext cx="1052640" cy="318960"/>
          </a:xfrm>
          <a:custGeom>
            <a:avLst/>
            <a:gdLst/>
            <a:ahLst/>
            <a:rect l="l" t="t" r="r" b="b"/>
            <a:pathLst>
              <a:path w="1656" h="504">
                <a:moveTo>
                  <a:pt x="72" y="504"/>
                </a:moveTo>
                <a:cubicBezTo>
                  <a:pt x="36" y="324"/>
                  <a:pt x="0" y="144"/>
                  <a:pt x="216" y="72"/>
                </a:cubicBezTo>
                <a:cubicBezTo>
                  <a:pt x="432" y="0"/>
                  <a:pt x="1128" y="0"/>
                  <a:pt x="1368" y="72"/>
                </a:cubicBezTo>
                <a:cubicBezTo>
                  <a:pt x="1608" y="144"/>
                  <a:pt x="1632" y="324"/>
                  <a:pt x="1656" y="5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90760" y="2604960"/>
            <a:ext cx="1052640" cy="320760"/>
          </a:xfrm>
          <a:custGeom>
            <a:avLst/>
            <a:gdLst/>
            <a:ahLst/>
            <a:rect l="l" t="t" r="r" b="b"/>
            <a:pathLst>
              <a:path w="1656" h="504">
                <a:moveTo>
                  <a:pt x="1584" y="0"/>
                </a:moveTo>
                <a:cubicBezTo>
                  <a:pt x="1620" y="180"/>
                  <a:pt x="1656" y="360"/>
                  <a:pt x="1440" y="432"/>
                </a:cubicBezTo>
                <a:cubicBezTo>
                  <a:pt x="1224" y="504"/>
                  <a:pt x="528" y="504"/>
                  <a:pt x="288" y="432"/>
                </a:cubicBezTo>
                <a:cubicBezTo>
                  <a:pt x="48" y="360"/>
                  <a:pt x="24" y="18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1935000"/>
            <a:ext cx="838080" cy="212760"/>
          </a:xfrm>
          <a:custGeom>
            <a:avLst/>
            <a:gdLst/>
            <a:ahLst/>
            <a:rect l="l" t="t" r="r" b="b"/>
            <a:pathLst>
              <a:path w="1320" h="336">
                <a:moveTo>
                  <a:pt x="24" y="336"/>
                </a:moveTo>
                <a:cubicBezTo>
                  <a:pt x="12" y="216"/>
                  <a:pt x="0" y="96"/>
                  <a:pt x="168" y="48"/>
                </a:cubicBezTo>
                <a:cubicBezTo>
                  <a:pt x="336" y="0"/>
                  <a:pt x="840" y="0"/>
                  <a:pt x="1032" y="48"/>
                </a:cubicBezTo>
                <a:cubicBezTo>
                  <a:pt x="1224" y="96"/>
                  <a:pt x="1272" y="288"/>
                  <a:pt x="132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18080" y="2604960"/>
            <a:ext cx="990720" cy="214560"/>
          </a:xfrm>
          <a:custGeom>
            <a:avLst/>
            <a:gdLst/>
            <a:ahLst/>
            <a:rect l="l" t="t" r="r" b="b"/>
            <a:pathLst>
              <a:path w="1560" h="336">
                <a:moveTo>
                  <a:pt x="1368" y="0"/>
                </a:moveTo>
                <a:cubicBezTo>
                  <a:pt x="1464" y="120"/>
                  <a:pt x="1560" y="240"/>
                  <a:pt x="1368" y="288"/>
                </a:cubicBezTo>
                <a:cubicBezTo>
                  <a:pt x="1176" y="336"/>
                  <a:pt x="432" y="336"/>
                  <a:pt x="216" y="288"/>
                </a:cubicBezTo>
                <a:cubicBezTo>
                  <a:pt x="0" y="240"/>
                  <a:pt x="36" y="120"/>
                  <a:pt x="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51440" y="1935000"/>
            <a:ext cx="639720" cy="21276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336"/>
                </a:moveTo>
                <a:cubicBezTo>
                  <a:pt x="0" y="216"/>
                  <a:pt x="0" y="96"/>
                  <a:pt x="144" y="48"/>
                </a:cubicBezTo>
                <a:cubicBezTo>
                  <a:pt x="288" y="0"/>
                  <a:pt x="720" y="24"/>
                  <a:pt x="864" y="48"/>
                </a:cubicBezTo>
                <a:cubicBezTo>
                  <a:pt x="1008" y="72"/>
                  <a:pt x="1008" y="132"/>
                  <a:pt x="100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3214800"/>
            <a:ext cx="1050840" cy="214200"/>
          </a:xfrm>
          <a:custGeom>
            <a:avLst/>
            <a:gdLst/>
            <a:ahLst/>
            <a:rect l="l" t="t" r="r" b="b"/>
            <a:pathLst>
              <a:path w="1656" h="336">
                <a:moveTo>
                  <a:pt x="72" y="336"/>
                </a:moveTo>
                <a:cubicBezTo>
                  <a:pt x="36" y="216"/>
                  <a:pt x="0" y="96"/>
                  <a:pt x="216" y="48"/>
                </a:cubicBezTo>
                <a:cubicBezTo>
                  <a:pt x="432" y="0"/>
                  <a:pt x="1128" y="0"/>
                  <a:pt x="1368" y="48"/>
                </a:cubicBezTo>
                <a:cubicBezTo>
                  <a:pt x="1608" y="96"/>
                  <a:pt x="1608" y="288"/>
                  <a:pt x="1656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214800"/>
            <a:ext cx="944640" cy="214200"/>
          </a:xfrm>
          <a:custGeom>
            <a:avLst/>
            <a:gdLst/>
            <a:ahLst/>
            <a:rect l="l" t="t" r="r" b="b"/>
            <a:pathLst>
              <a:path w="1488" h="336">
                <a:moveTo>
                  <a:pt x="48" y="336"/>
                </a:moveTo>
                <a:cubicBezTo>
                  <a:pt x="24" y="216"/>
                  <a:pt x="0" y="96"/>
                  <a:pt x="192" y="48"/>
                </a:cubicBezTo>
                <a:cubicBezTo>
                  <a:pt x="384" y="0"/>
                  <a:pt x="984" y="0"/>
                  <a:pt x="1200" y="48"/>
                </a:cubicBezTo>
                <a:cubicBezTo>
                  <a:pt x="1416" y="96"/>
                  <a:pt x="1452" y="216"/>
                  <a:pt x="1488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214800"/>
            <a:ext cx="731880" cy="214200"/>
          </a:xfrm>
          <a:custGeom>
            <a:avLst/>
            <a:gdLst/>
            <a:ahLst/>
            <a:rect l="l" t="t" r="r" b="b"/>
            <a:pathLst>
              <a:path w="1152" h="336">
                <a:moveTo>
                  <a:pt x="0" y="336"/>
                </a:moveTo>
                <a:cubicBezTo>
                  <a:pt x="0" y="216"/>
                  <a:pt x="0" y="96"/>
                  <a:pt x="144" y="48"/>
                </a:cubicBezTo>
                <a:cubicBezTo>
                  <a:pt x="288" y="0"/>
                  <a:pt x="696" y="24"/>
                  <a:pt x="864" y="48"/>
                </a:cubicBezTo>
                <a:cubicBezTo>
                  <a:pt x="1032" y="72"/>
                  <a:pt x="1092" y="132"/>
                  <a:pt x="115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82920" y="3886200"/>
            <a:ext cx="1050840" cy="212760"/>
          </a:xfrm>
          <a:custGeom>
            <a:avLst/>
            <a:gdLst/>
            <a:ahLst/>
            <a:rect l="l" t="t" r="r" b="b"/>
            <a:pathLst>
              <a:path w="1656" h="336">
                <a:moveTo>
                  <a:pt x="1584" y="0"/>
                </a:moveTo>
                <a:cubicBezTo>
                  <a:pt x="1620" y="120"/>
                  <a:pt x="1656" y="240"/>
                  <a:pt x="1440" y="288"/>
                </a:cubicBezTo>
                <a:cubicBezTo>
                  <a:pt x="1224" y="336"/>
                  <a:pt x="528" y="336"/>
                  <a:pt x="288" y="288"/>
                </a:cubicBezTo>
                <a:cubicBezTo>
                  <a:pt x="48" y="240"/>
                  <a:pt x="24" y="12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54520" y="3886200"/>
            <a:ext cx="944640" cy="212760"/>
          </a:xfrm>
          <a:custGeom>
            <a:avLst/>
            <a:gdLst/>
            <a:ahLst/>
            <a:rect l="l" t="t" r="r" b="b"/>
            <a:pathLst>
              <a:path w="1488" h="336">
                <a:moveTo>
                  <a:pt x="1440" y="0"/>
                </a:moveTo>
                <a:cubicBezTo>
                  <a:pt x="1464" y="120"/>
                  <a:pt x="1488" y="240"/>
                  <a:pt x="1296" y="288"/>
                </a:cubicBezTo>
                <a:cubicBezTo>
                  <a:pt x="1104" y="336"/>
                  <a:pt x="504" y="336"/>
                  <a:pt x="288" y="288"/>
                </a:cubicBezTo>
                <a:cubicBezTo>
                  <a:pt x="72" y="240"/>
                  <a:pt x="36" y="12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55760" y="4613400"/>
            <a:ext cx="489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ó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dwójna lista st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sta stron z wolną przestrzen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sta stron peł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Plik nieuporządkow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025720"/>
            <a:ext cx="1096920" cy="641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032280"/>
            <a:ext cx="1096920" cy="63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038480"/>
            <a:ext cx="1096920" cy="63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63600" y="1386000"/>
            <a:ext cx="14637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der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56160" y="1752480"/>
            <a:ext cx="914400" cy="7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g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56160" y="2849400"/>
            <a:ext cx="91440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46880" y="4768920"/>
            <a:ext cx="91440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ge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209680"/>
            <a:ext cx="10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214800"/>
            <a:ext cx="10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2575080"/>
            <a:ext cx="10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392200"/>
            <a:ext cx="10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221000"/>
            <a:ext cx="10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581280"/>
            <a:ext cx="10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397320"/>
            <a:ext cx="10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4403880"/>
            <a:ext cx="10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4586400"/>
            <a:ext cx="10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0880" y="202572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27360" y="202572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60880" y="303228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27360" y="303228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0880" y="403848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27360" y="403848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376360"/>
            <a:ext cx="304560" cy="930240"/>
          </a:xfrm>
          <a:custGeom>
            <a:avLst/>
            <a:gdLst/>
            <a:ahLst/>
            <a:rect l="l" t="t" r="r" b="b"/>
            <a:pathLst>
              <a:path w="480" h="1464">
                <a:moveTo>
                  <a:pt x="480" y="24"/>
                </a:moveTo>
                <a:cubicBezTo>
                  <a:pt x="372" y="12"/>
                  <a:pt x="264" y="0"/>
                  <a:pt x="192" y="168"/>
                </a:cubicBezTo>
                <a:cubicBezTo>
                  <a:pt x="120" y="336"/>
                  <a:pt x="0" y="816"/>
                  <a:pt x="48" y="1032"/>
                </a:cubicBezTo>
                <a:cubicBezTo>
                  <a:pt x="96" y="1248"/>
                  <a:pt x="288" y="1356"/>
                  <a:pt x="480" y="14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81280" y="3489480"/>
            <a:ext cx="214200" cy="82224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336" y="0"/>
                </a:moveTo>
                <a:cubicBezTo>
                  <a:pt x="216" y="60"/>
                  <a:pt x="96" y="120"/>
                  <a:pt x="48" y="288"/>
                </a:cubicBezTo>
                <a:cubicBezTo>
                  <a:pt x="0" y="456"/>
                  <a:pt x="0" y="840"/>
                  <a:pt x="48" y="1008"/>
                </a:cubicBezTo>
                <a:cubicBezTo>
                  <a:pt x="96" y="1176"/>
                  <a:pt x="216" y="1236"/>
                  <a:pt x="336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86200" y="1461960"/>
            <a:ext cx="2377800" cy="655920"/>
          </a:xfrm>
          <a:custGeom>
            <a:avLst/>
            <a:gdLst/>
            <a:ahLst/>
            <a:rect l="l" t="t" r="r" b="b"/>
            <a:pathLst>
              <a:path w="3744" h="1032">
                <a:moveTo>
                  <a:pt x="144" y="1032"/>
                </a:moveTo>
                <a:cubicBezTo>
                  <a:pt x="72" y="900"/>
                  <a:pt x="0" y="768"/>
                  <a:pt x="288" y="600"/>
                </a:cubicBezTo>
                <a:cubicBezTo>
                  <a:pt x="576" y="432"/>
                  <a:pt x="1296" y="48"/>
                  <a:pt x="1872" y="24"/>
                </a:cubicBezTo>
                <a:cubicBezTo>
                  <a:pt x="2448" y="0"/>
                  <a:pt x="3096" y="228"/>
                  <a:pt x="3744" y="4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43400" y="1660680"/>
            <a:ext cx="2012760" cy="1279440"/>
          </a:xfrm>
          <a:custGeom>
            <a:avLst/>
            <a:gdLst/>
            <a:ahLst/>
            <a:rect l="l" t="t" r="r" b="b"/>
            <a:pathLst>
              <a:path w="3168" h="2016">
                <a:moveTo>
                  <a:pt x="0" y="720"/>
                </a:moveTo>
                <a:cubicBezTo>
                  <a:pt x="12" y="540"/>
                  <a:pt x="24" y="360"/>
                  <a:pt x="288" y="288"/>
                </a:cubicBezTo>
                <a:cubicBezTo>
                  <a:pt x="552" y="216"/>
                  <a:pt x="1104" y="0"/>
                  <a:pt x="1584" y="288"/>
                </a:cubicBezTo>
                <a:cubicBezTo>
                  <a:pt x="2064" y="576"/>
                  <a:pt x="2616" y="1296"/>
                  <a:pt x="3168" y="20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1889280"/>
            <a:ext cx="547920" cy="320400"/>
          </a:xfrm>
          <a:custGeom>
            <a:avLst/>
            <a:gdLst/>
            <a:ahLst/>
            <a:rect l="l" t="t" r="r" b="b"/>
            <a:pathLst>
              <a:path w="864" h="504">
                <a:moveTo>
                  <a:pt x="0" y="360"/>
                </a:moveTo>
                <a:cubicBezTo>
                  <a:pt x="24" y="240"/>
                  <a:pt x="48" y="120"/>
                  <a:pt x="144" y="72"/>
                </a:cubicBezTo>
                <a:cubicBezTo>
                  <a:pt x="240" y="24"/>
                  <a:pt x="456" y="0"/>
                  <a:pt x="576" y="72"/>
                </a:cubicBezTo>
                <a:cubicBezTo>
                  <a:pt x="696" y="144"/>
                  <a:pt x="780" y="324"/>
                  <a:pt x="864" y="5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0600" y="4311720"/>
            <a:ext cx="1555560" cy="549360"/>
          </a:xfrm>
          <a:custGeom>
            <a:avLst/>
            <a:gdLst/>
            <a:ahLst/>
            <a:rect l="l" t="t" r="r" b="b"/>
            <a:pathLst>
              <a:path w="2448" h="864">
                <a:moveTo>
                  <a:pt x="0" y="0"/>
                </a:moveTo>
                <a:cubicBezTo>
                  <a:pt x="444" y="0"/>
                  <a:pt x="888" y="0"/>
                  <a:pt x="1296" y="144"/>
                </a:cubicBezTo>
                <a:cubicBezTo>
                  <a:pt x="1704" y="288"/>
                  <a:pt x="2076" y="576"/>
                  <a:pt x="2448" y="8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4080" y="4876920"/>
            <a:ext cx="44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uktura pliku stogu z katalogi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1480" y="5638680"/>
            <a:ext cx="63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olna przestrzeń dyskowa jest wskazywana prz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y bit (na stronę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Plik uporządkow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971800" y="1365120"/>
          <a:ext cx="3511440" cy="412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365120"/>
                    <a:ext cx="351144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043360" y="164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932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0040" y="476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Plik uporządkow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ordy pliku są porządkowane według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la porządkującego (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ing fiel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Prowadzi to do organizacji typu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ików uporządkowanych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b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kwencyjnych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ng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e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ub (ang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ial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perac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glądanie pliku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nos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+RC), ponieważ wszystkie strony muszą być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czyt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szukiwanie rekordu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szukiwanie binarne - 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 wynos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+Clog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Plik uporządkow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szukiwanie z przedziałem wartości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 jest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ówny kosztowi wyszukiwani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u i selek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bior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kordó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wiani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rekordu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en odpowiad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sztowi wyszukiwania rekord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określenie pozycji rekordu) oraz przepisania połowy rekordów 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(0.5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+RC)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wani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rekordu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suwania odpowiada kosztow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stawiania tj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*(0.5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+RC)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Plik uporządkow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lety: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 operacji porządkowania wyniku zapytania według pola porządkującego plik jest już uporządk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lezienie następnego rekordu, według określonego porządk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st bardzo pro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warunek wyszukiwania rekordu oparty na polu porządkującym w celu wyszukiwania danych można zastosować szybką metodę połowienia binarnego pl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Plik uporządkow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rządkowanie pliku jest nieprzydatne, gdy wyszukiwanie jest realizowane według wartości pola nie porządkującego pliku danyc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ztowne wstawianie i usuwanie rekordów ze względu na konieczność zachowania porządku w pl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jście z przesuwaniem pliku (średnio 1/2 rekordów do przesunię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ostawienie wolnej pamięci w blo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rzenie nieuporządkowanego pliku rekordów, tzw.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flo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 fil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następnie łączenie go z plikiem głów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yfikowanie rekord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ahoma"/>
              </a:rPr>
              <a:t>Wprowadzeni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ganizacja plik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reśla sposób uporządkowania rekordów w pliku przechowywanym na dys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óżne sposoby organizacji rekordów wspomagają wykonywanie różnych operac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pl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zykładow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śli chcemy wyszukiwać rekordy opisujące zatrudnionych pracowników w porządku alfabetycznym, sortowanie pliku według nazwisk jest dobrą organizacją pliku. Z drugiej strony, jeśli  chcemy wyszukiwać rekordy opisujące zatrudnionych, których zarobki są w podanym zakresie, sortowanie rekordów pracowników według nazwisk nie jest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łaściw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ją plik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liki hasz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ik o strukturze wykorzystującej technikę haszowania nosi nazwę pliku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zowego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b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zpośrednie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wą określającą porządek rekordów w pliku jest jedno z pól rekordów zwane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em haszowy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 polega na zdefiniowaniu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ji haszowe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ng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unction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tóra dla argumentu równego wartości  pola haszowego wyznacza wynik, który jest adresem bloku dyskowego, w którym powinien znaleźć się dany rek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Haszowanie wewnętr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1000" y="1393920"/>
          <a:ext cx="49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1393920"/>
                    <a:ext cx="497664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974880" y="362268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na jest tablica rekordó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zczelinach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órych adresy odpowiadają indeksom tablicy haszowej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tablic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– 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8420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ja haszo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K=wartość pola haszowego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M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częściej spotykaną funkcją haszowa jest funkc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K)=K mo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Haszowanie wewnętr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oces haszowan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kłada się z dwóch krokó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ansformacji (ang.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in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a nienumeryczn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formowane na liczby całkow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sz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owy algorytm transform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= 1 to 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 := tem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de(K[i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_address := temp mod 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Koliz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sadniczym problemem w przypadku organizacji haszowej jest problem kolizji. Żadna funkcja haszowa nie gwarantuje, że różnym wartościom pola haszowego będą odpowiadały różne adresy szcze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liz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y wartość funkcji haszowej dla danej wartości pola haszowego nowego rekordu odpowiada adresowi szczeliny, w której znajduje się już inny rek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Rozwiązanie kolizj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es znajdowania innej lokalizacji dla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prowadzanego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kor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tody rozwiązania kolizj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etody rozwiązywania koliz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dresowanie otwarte 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addressin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stępna wolna lokalizac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łańcuchowanie (ang. 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ning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kaźniki do nowych lokalizac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ielokrotne haszowanie (an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hashing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owa funkcja haszow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żda metoda rozwiązywania kolizj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maga własnych algorytmów wstawiania, wyszukiwania i usuwania rekor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Metoda adresacji otwarte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46360" y="1374840"/>
            <a:ext cx="610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= adre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kalizacja i jest zaję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= (i + 1) mod 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) and lokalizacja i jest zaję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:= (i + 1) mod 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 = ad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szystkie pozycje są zaję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wy_adres :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Metoda łańcuchowa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1000" y="1393920"/>
          <a:ext cx="3639960" cy="386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1393920"/>
                    <a:ext cx="363996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510552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4400" y="2071800"/>
            <a:ext cx="12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ze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dres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00800" y="1371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74040" y="405288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ze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pełni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400800" y="34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257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1880" y="5638680"/>
            <a:ext cx="25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kaźnik przepełni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191120" y="52574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Haszowanie zewnętr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676520"/>
            <a:ext cx="3200400" cy="2835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19320" y="2133720"/>
            <a:ext cx="1004760" cy="192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9320" y="2317680"/>
            <a:ext cx="10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19320" y="2500200"/>
            <a:ext cx="10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19320" y="3871800"/>
            <a:ext cx="10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19320" y="3689280"/>
            <a:ext cx="10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19320" y="2682720"/>
            <a:ext cx="10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27160" y="1494000"/>
            <a:ext cx="146376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dresy bloków na dys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44640" y="1951200"/>
            <a:ext cx="274680" cy="27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44640" y="2225520"/>
            <a:ext cx="274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44640" y="2500200"/>
            <a:ext cx="274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87840" y="2590920"/>
            <a:ext cx="3650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87840" y="3048120"/>
            <a:ext cx="3650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87840" y="3505320"/>
            <a:ext cx="3650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87840" y="3962520"/>
            <a:ext cx="3650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35400" y="2590920"/>
            <a:ext cx="3668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35400" y="3048120"/>
            <a:ext cx="3668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35400" y="3505320"/>
            <a:ext cx="3668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35400" y="3962520"/>
            <a:ext cx="3668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590920"/>
            <a:ext cx="3668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3048120"/>
            <a:ext cx="3668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505320"/>
            <a:ext cx="3668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962520"/>
            <a:ext cx="3668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49400" y="2149560"/>
            <a:ext cx="1738440" cy="625320"/>
          </a:xfrm>
          <a:custGeom>
            <a:avLst/>
            <a:gdLst/>
            <a:ahLst/>
            <a:rect l="l" t="t" r="r" b="b"/>
            <a:pathLst>
              <a:path w="2592" h="840">
                <a:moveTo>
                  <a:pt x="0" y="120"/>
                </a:moveTo>
                <a:cubicBezTo>
                  <a:pt x="144" y="60"/>
                  <a:pt x="288" y="0"/>
                  <a:pt x="720" y="120"/>
                </a:cubicBezTo>
                <a:cubicBezTo>
                  <a:pt x="1152" y="240"/>
                  <a:pt x="2280" y="720"/>
                  <a:pt x="2592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49400" y="2286000"/>
            <a:ext cx="2195640" cy="990720"/>
          </a:xfrm>
          <a:custGeom>
            <a:avLst/>
            <a:gdLst/>
            <a:ahLst/>
            <a:rect l="l" t="t" r="r" b="b"/>
            <a:pathLst>
              <a:path w="3456" h="1560">
                <a:moveTo>
                  <a:pt x="0" y="192"/>
                </a:moveTo>
                <a:cubicBezTo>
                  <a:pt x="144" y="96"/>
                  <a:pt x="288" y="0"/>
                  <a:pt x="720" y="192"/>
                </a:cubicBezTo>
                <a:cubicBezTo>
                  <a:pt x="1152" y="384"/>
                  <a:pt x="2136" y="1128"/>
                  <a:pt x="2592" y="1344"/>
                </a:cubicBezTo>
                <a:cubicBezTo>
                  <a:pt x="3048" y="1560"/>
                  <a:pt x="3252" y="1524"/>
                  <a:pt x="3456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1560" y="2424240"/>
            <a:ext cx="3292560" cy="1722240"/>
          </a:xfrm>
          <a:custGeom>
            <a:avLst/>
            <a:gdLst/>
            <a:ahLst/>
            <a:rect l="l" t="t" r="r" b="b"/>
            <a:pathLst>
              <a:path w="5184" h="2712">
                <a:moveTo>
                  <a:pt x="0" y="264"/>
                </a:moveTo>
                <a:cubicBezTo>
                  <a:pt x="108" y="132"/>
                  <a:pt x="216" y="0"/>
                  <a:pt x="432" y="264"/>
                </a:cubicBezTo>
                <a:cubicBezTo>
                  <a:pt x="648" y="528"/>
                  <a:pt x="504" y="1440"/>
                  <a:pt x="1296" y="1848"/>
                </a:cubicBezTo>
                <a:cubicBezTo>
                  <a:pt x="2088" y="2256"/>
                  <a:pt x="3636" y="2484"/>
                  <a:pt x="5184" y="2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49400" y="2865600"/>
            <a:ext cx="2195640" cy="1066680"/>
          </a:xfrm>
          <a:custGeom>
            <a:avLst/>
            <a:gdLst/>
            <a:ahLst/>
            <a:rect l="l" t="t" r="r" b="b"/>
            <a:pathLst>
              <a:path w="3456" h="1680">
                <a:moveTo>
                  <a:pt x="0" y="1440"/>
                </a:moveTo>
                <a:cubicBezTo>
                  <a:pt x="72" y="1560"/>
                  <a:pt x="144" y="1680"/>
                  <a:pt x="720" y="1440"/>
                </a:cubicBezTo>
                <a:cubicBezTo>
                  <a:pt x="1296" y="1200"/>
                  <a:pt x="2376" y="600"/>
                  <a:pt x="34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41560" y="3643200"/>
            <a:ext cx="2193840" cy="365400"/>
          </a:xfrm>
          <a:custGeom>
            <a:avLst/>
            <a:gdLst/>
            <a:ahLst/>
            <a:rect l="l" t="t" r="r" b="b"/>
            <a:pathLst>
              <a:path w="3456" h="576">
                <a:moveTo>
                  <a:pt x="0" y="504"/>
                </a:moveTo>
                <a:cubicBezTo>
                  <a:pt x="120" y="540"/>
                  <a:pt x="240" y="576"/>
                  <a:pt x="576" y="504"/>
                </a:cubicBezTo>
                <a:cubicBezTo>
                  <a:pt x="912" y="432"/>
                  <a:pt x="1536" y="144"/>
                  <a:pt x="2016" y="72"/>
                </a:cubicBezTo>
                <a:cubicBezTo>
                  <a:pt x="2496" y="0"/>
                  <a:pt x="2976" y="36"/>
                  <a:pt x="3456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44640" y="2774880"/>
            <a:ext cx="90360" cy="14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69960" y="4329000"/>
            <a:ext cx="9144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numery blok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62520" y="2454120"/>
            <a:ext cx="1461960" cy="320760"/>
          </a:xfrm>
          <a:custGeom>
            <a:avLst/>
            <a:gdLst/>
            <a:ahLst/>
            <a:rect l="l" t="t" r="r" b="b"/>
            <a:pathLst>
              <a:path w="2304" h="504">
                <a:moveTo>
                  <a:pt x="0" y="360"/>
                </a:moveTo>
                <a:cubicBezTo>
                  <a:pt x="72" y="240"/>
                  <a:pt x="144" y="120"/>
                  <a:pt x="432" y="72"/>
                </a:cubicBezTo>
                <a:cubicBezTo>
                  <a:pt x="720" y="24"/>
                  <a:pt x="1416" y="0"/>
                  <a:pt x="1728" y="72"/>
                </a:cubicBezTo>
                <a:cubicBezTo>
                  <a:pt x="2040" y="144"/>
                  <a:pt x="2172" y="324"/>
                  <a:pt x="2304" y="5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91320" y="2652840"/>
            <a:ext cx="289080" cy="1036440"/>
          </a:xfrm>
          <a:custGeom>
            <a:avLst/>
            <a:gdLst/>
            <a:ahLst/>
            <a:rect l="l" t="t" r="r" b="b"/>
            <a:pathLst>
              <a:path w="456" h="1632">
                <a:moveTo>
                  <a:pt x="0" y="48"/>
                </a:moveTo>
                <a:cubicBezTo>
                  <a:pt x="108" y="24"/>
                  <a:pt x="216" y="0"/>
                  <a:pt x="288" y="192"/>
                </a:cubicBezTo>
                <a:cubicBezTo>
                  <a:pt x="360" y="384"/>
                  <a:pt x="456" y="960"/>
                  <a:pt x="432" y="1200"/>
                </a:cubicBezTo>
                <a:cubicBezTo>
                  <a:pt x="408" y="1440"/>
                  <a:pt x="276" y="1536"/>
                  <a:pt x="144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867280" y="2590560"/>
            <a:ext cx="921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867280" y="3232080"/>
            <a:ext cx="1006560" cy="19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884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łańcu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Haszowanie zewnętr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haszowaniu zewnętrznym wartościami tablicy haszowej są adresy bloków dyskowych. Liczba bloków dyskowych tworzących plik haszowy jest stała i równa liczbie szczelin w tablicy haszow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perac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glądanie pliku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nos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ieważ wszystki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lok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zą być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czyt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szukiwanie rekordu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 wynos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+ 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szukiwanie z przedziałem wartości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nos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Haszowanie zewnętr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wiani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rekordu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en jest równy kosztowi wyszukiwania +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wani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rekordu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en jest równy kosztowi wyszukiwania +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chą dobrej funkcji haszowej jest zapewnie­nie równomiernego rozkładu rekordów w obrębie przestrzeni adresowej tablicy haszowej. Zalecany rozmiar tablicy haszow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/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,7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dzie r oznacza liczbę rekordów, natomiast M liczbę blo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ahoma"/>
              </a:rPr>
              <a:t>Wprowadzeni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BD wspiera kilka organizacji plików, a zadaniem DBA jest wybranie odpowiedniej organizacji dla każdego plik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bór odpowiedniej organizacji zależy od sposobu użytkowania danego pl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edia fizyczne twor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hierarch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pam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i sk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da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s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z dwóch kategor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am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ę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operacyj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am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ę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zew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rz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Dobra funkcja haszow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a funkcja haszująca to taka, która odwzo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uje wartości kluczy, rozłożone nierównomiernie w obrębie dużej dziedziny, w przestrzeń adresową rekordów, o znacznie mniejszym rozmiarze w taki sposób, że wynikowe adresy są równomiernie rozłożone w obrębie przestrzeni adresow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wowe kategorie funkcji haszujący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zowanie kongruencyjn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k)= k mo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ęgowani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dnosimy K do potęgi n i wybieramy log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bitów jako adres st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cja bazow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artość K jest transformowana do systemu liczbowego o podstawie r; część cyfr nowej reprezentacji jest wybierana jako a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ak dobrać parametry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unkcji </a:t>
            </a: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haszowe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zowanie kongruen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maksymalna liczba krotek 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r – liczba krotek w bl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/(bf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łóżmy, że B=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 wartości kluczy są budowane następująco: k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i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 Jeżeli tak,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k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k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 B = k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+ i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mod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k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r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i mod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ymacja liczby kolizj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9080" y="1260360"/>
            <a:ext cx="717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ba kolizji jest zależna wprost proporcjonalnie 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miaru bloków i odwrotnie proporcjonalnie od stop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pełnienia blo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838080" y="3062160"/>
          <a:ext cx="7312320" cy="22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62160"/>
                    <a:ext cx="731232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arakterystyka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rganizacji haszowej plikó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porządkowania pliku oraz wyszukiwania rekordów w porządku wartości pola hasz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łego rozmiaru przestrzeni adresowej przydzielonej plikow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ahoma"/>
              </a:rPr>
              <a:t>Wprowadzeni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ne w bazie danych s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pam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ane w 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gim odcinku czasu w pam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i zewn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rznej z trzech powodów: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e wzg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u na rozmiar bazy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dpor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pam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 zew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znej na aw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oszt jednostk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orowanie bloków dysk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kacja plików na dysk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ordy - typy rekordów i typy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ordy o stałej i zmiennej dług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spółczynnik blokowan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półczynnik blokowania - b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miar bloku 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zmiar rekordu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 blokowania bf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/R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lny obszar 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kord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ypy organizacji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rganizacja plik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ja dzielona (ang. span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286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ypy organizacji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288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532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5320" y="3581280"/>
            <a:ext cx="5553360" cy="1895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rganizacja plik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j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ielona (ang. span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arządzanie danymi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 ramach bloku dany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5943600" cy="354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3880" y="1752480"/>
            <a:ext cx="656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rzymywanie wolnej pamięci w bloku d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jalnych modyfikac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peracje na plika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cje typu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-at-a-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szukiwania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wania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ualizacji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tawiania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cje typu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-at-a-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organ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0:24:18Z</dcterms:created>
  <dc:creator>Tadeusz Morzy</dc:creator>
  <dc:description/>
  <dc:language>en-US</dc:language>
  <cp:lastModifiedBy>Tadeusz Morzy</cp:lastModifiedBy>
  <dcterms:modified xsi:type="dcterms:W3CDTF">2001-11-25T10:57:36Z</dcterms:modified>
  <cp:revision>58</cp:revision>
  <dc:subject/>
  <dc:title>ORGANIZACJA LOGICZNA PLIKÓW </dc:title>
</cp:coreProperties>
</file>