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06B-D2A6-4100-A2E6-3CFF22AA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B35-7485-4FF5-82E1-5A19AEEC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6AE-7251-4275-8788-0EFD4A9C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9DF-DA88-469E-BD60-B775A25B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CEC-6006-4FF0-BE8E-9C8E42CF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203-972C-4DB6-8A40-3B39E494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485-6D25-4534-A207-59D681A7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018-1FA0-4B3D-A825-5E887BF3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E64-A427-42B2-ABBB-1FB899AC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755-AF9F-45A0-987C-70F269A4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6EB-0835-484D-8318-CF11628A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625-6646-4746-B11F-A0497E41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F66C-B3D8-48C2-ABCE-60D666C26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ahoma"/>
              </a:rPr>
              <a:t>Relacyjny model da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graniczenia integralnościow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ahoma"/>
              </a:rPr>
              <a:t>Ograniczenie domeny atrybu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Zbiór wartośc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omeny atrybutu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może być zawężony przez wyrażenie logiczne do pewnego podzbioru: przedziału lub wyliczeniowej listy wartośc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ahoma"/>
              </a:rPr>
              <a:t>Ograniczenie integralnościowe klucza relacji – unikalność krotek rel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elacja jest zbiorem krotek, stąd, z definicji zbioru, wszystkie krotki relacji muszą być unikal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88A-7E1E-4344-9DAC-D15C603365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graniczenia integralnościow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ahoma"/>
                <a:ea typeface="Arial"/>
              </a:rPr>
              <a:t>Ograniczenie na unikalność krotek relacji</a:t>
            </a:r>
            <a:r>
              <a:rPr b="0" lang="pl-PL" sz="2800" spc="-1" strike="noStrike">
                <a:solidFill>
                  <a:srgbClr val="3333cc"/>
                </a:solidFill>
                <a:latin typeface="Tahoma"/>
              </a:rPr>
              <a:t> (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Każdy podzbiór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atrybutów relacj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taki że dla każdych dwóch krotek ze zbioru r(R)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chodz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t1[SK]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t2[SK], jest nazywany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nad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klucze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(ang. super key) relacji R. Każda relacja musi mieć co najmniej jeden klucz – cały schemat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SK = {STUDENT.NrIndeksu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17A-B190-4D9D-B673-7F38A5B2F3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graniczenia integralnościow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ahoma"/>
                <a:ea typeface="Arial"/>
              </a:rPr>
              <a:t>Ograniczenie na unikalność krotek relacji</a:t>
            </a:r>
            <a:r>
              <a:rPr b="0" lang="pl-PL" sz="2800" spc="-1" strike="noStrike">
                <a:solidFill>
                  <a:srgbClr val="3333cc"/>
                </a:solidFill>
                <a:latin typeface="Tahoma"/>
              </a:rPr>
              <a:t> (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uperklucz może posiadać nadmiarowe atrybuty. 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Klucze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K schematu relacji R nazywamy superklucz schematu R o takiej własności, że usunięcie dowolnego atrybutu A z K powoduje, że K’=K-A nie jest już superklucz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lucz jest minimalnym superkluczem zachowującym własność unikalność krotek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chemat relacji może posiadać więcej niż jeden klu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DB8-B8C9-4035-97A3-2548C80E58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graniczenia integralnościowe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ahoma"/>
                <a:ea typeface="Arial"/>
              </a:rPr>
              <a:t>Ograniczenie integralno</a:t>
            </a:r>
            <a:r>
              <a:rPr b="0" lang="pl-PL" sz="2800" spc="-1" strike="noStrike">
                <a:solidFill>
                  <a:srgbClr val="3333cc"/>
                </a:solidFill>
                <a:latin typeface="Tahoma"/>
              </a:rPr>
              <a:t>ś</a:t>
            </a:r>
            <a:r>
              <a:rPr b="0" lang="pl-PL" sz="2800" spc="-1" strike="noStrike">
                <a:solidFill>
                  <a:srgbClr val="3333cc"/>
                </a:solidFill>
                <a:latin typeface="Tahoma"/>
                <a:ea typeface="Arial"/>
              </a:rPr>
              <a:t>ci klucza podstawowego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Jeden z kluczy relacji może b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wyr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niony jako 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  <a:ea typeface="Arial"/>
              </a:rPr>
              <a:t>klucz podstawow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jednoznacznie identyfiku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y krotki relacji. W zw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zku z tym klucz podstawowy nie m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e przyjmować wart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i pusty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zostałe klucze schematu relacji nazywamy kluczami 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wtórnym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lub 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kandydujący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FCC-DA93-42A1-9E47-16A08BD4E2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graniczenia referencyj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Dane są relacje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. Podzbiór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atrybutów relacj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nazywany jest 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  <a:ea typeface="Arial"/>
              </a:rPr>
              <a:t>kluczem obcy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(ang. foreign key), jeże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trybuty w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F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mają taką samą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men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jak atrybuty klucza podstawoweg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relacj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la każdej krotk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relacj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1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istnieje krotka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relacj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, taka że: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F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] =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], lub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F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] =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4F1-37C3-40B4-ACC4-8D1A68C951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Przykł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Dane dwie relacje z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graniczeniami referencyjny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990720" y="2133720"/>
          <a:ext cx="701028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7010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50840" y="169056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acown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360" y="43434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espoł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66680" y="4876920"/>
          <a:ext cx="5105520" cy="84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510552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433-BB33-4793-B0ED-4094E55461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Przykład (c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Wstaw do relacj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racownic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krotkę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t = &lt;120, 'Malinowski', 'Akwizytor', 500, 100, 1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Zmodyfikuj krotkę relacj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Zespoł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t[Zespoły.IdZesp] = 30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dl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t[Zespoły.IdZesp]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Usuń krotkę relacj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racownic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taką ż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t[Nazwisko] = 'Tarzan'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A574-CD7C-4C70-9E5E-21779FD25E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  <a:ea typeface="Arial"/>
              </a:rPr>
              <a:t>Relacyjne j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ę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  <a:ea typeface="Arial"/>
              </a:rPr>
              <a:t>zyki dost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ę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  <a:ea typeface="Arial"/>
              </a:rPr>
              <a:t>pu do danyc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Algebra relacji, rachunek kro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QL (Structured Query Languag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- IBM, 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Qu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- Ing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QBE (Query by Examp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- IB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281952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903-7BDC-4EA5-9B2F-5ACBB0A8F8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  <a:ea typeface="Arial"/>
              </a:rPr>
              <a:t>Standard SQ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1965 - Początek prac nad standardem języka bazy danych (DBTG – CODASYL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1981 - Początek prac nad standardem języka relacyjnej bazy danych (SQL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1986 - NDL (Network-structured Data Languag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1986 - SQL86 ANS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1987 - SQL86 IS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1989 - SQL89 (ISO/ANSI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1991 - początek prac nad SQL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1992 - SQL92 (ISO/ANSI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1999/2000 – SQL 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QL 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BEF-62F3-4A73-8DC5-97FC3477E5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Podstawowe operacje algebry relac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peracje na zbior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NION, INTERSECTION, SET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ARTESIAN PRODUCT,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peracje ‘relacyjne’ (opracowane dla relacyjnego modelu dany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ELECT, PROJECT,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UTER JOIN, 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AF6-95C5-41B1-8E0A-98A7BFAC32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Model da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ruktury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148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5800680" cy="2162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0120" y="4260960"/>
            <a:ext cx="48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graniczenia integraln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28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343400" y="4800600"/>
            <a:ext cx="30384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18560" y="5556240"/>
            <a:ext cx="17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per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846-A44C-4F7E-9363-6E93675446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peracja selekcji - SEL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3333cc"/>
                </a:solidFill>
                <a:uFillTx/>
                <a:latin typeface="Tahoma"/>
                <a:ea typeface="Arial"/>
              </a:rPr>
              <a:t>przeznaczen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wyodrębnienie podzbioru krotek relacji, które spełniają warunek sele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3333cc"/>
                </a:solidFill>
                <a:uFillTx/>
                <a:latin typeface="Tahoma"/>
                <a:ea typeface="Arial"/>
              </a:rPr>
              <a:t>notacj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&lt;warunek selekcji&gt;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(&lt;Nazwa relacji&gt;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gdzie warunek selekcji jest zbiorem predykatów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&lt;nazwa atrybutu&gt;&lt;operator relacyjny&gt;&lt;literał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&lt;nazwa atrybutu&gt;&lt;operator relacyjny&gt;&lt;nazwa atrybut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ołączonych operatorami logicznymi: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AN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lub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. Zbió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peratorów relacyjnych zawiera następujące elementy: {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&lt;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&gt;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866-93D4-4BEE-8BAF-666E5C7834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peracja selekcji - Przykła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dPrac = 100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(Pracowni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Płaca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100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(Pracowni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(IdZesp=10 AND Płaca&gt;1000) OR (IdZesp=20) AND Płaca&gt;800)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Pracownicy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Etat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‘Analityk’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łaca&gt;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=700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Płaca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&lt;12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0)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Pracownicy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3333cc"/>
                </a:solidFill>
                <a:uFillTx/>
                <a:latin typeface="Tahoma"/>
                <a:ea typeface="Arial"/>
              </a:rPr>
              <a:t>własnośc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operacja selekcji jest komutatywn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war1&gt;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war2&gt;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))=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war2&gt;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war1&gt;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R)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DCE-DD5F-43AD-A04E-0CEBD60575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  <a:ea typeface="Arial"/>
              </a:rPr>
              <a:t>Operacja selekcji</a:t>
            </a:r>
            <a:br>
              <a:rPr sz="3600"/>
            </a:br>
            <a:r>
              <a:rPr b="1" lang="pl-PL" sz="3600" spc="-1" strike="noStrike">
                <a:solidFill>
                  <a:srgbClr val="cc0099"/>
                </a:solidFill>
                <a:latin typeface="Tahoma"/>
                <a:ea typeface="Arial"/>
              </a:rPr>
              <a:t>w języku SQ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Arial"/>
              </a:rPr>
              <a:t>SELECT *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Arial"/>
              </a:rPr>
              <a:t>FROM studen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Arial"/>
              </a:rPr>
              <a:t>WHERE rok_studiów = 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Arial"/>
              </a:rPr>
              <a:t>AND średnia_ocen &gt; 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SELECT *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FROM studen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WHERE UPPER(nazwisko) = ‘MORZY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OR stypendium &lt; zasił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 *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OM studen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HERE (rok_studiów, typ_studiów, średnia) = (3, ‘podyplomowe’, 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054-4AD1-4A8C-A0DD-E063AE1952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peracja projekcji -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 u="sng">
                <a:solidFill>
                  <a:srgbClr val="3333cc"/>
                </a:solidFill>
                <a:uFillTx/>
                <a:latin typeface="Tahoma"/>
                <a:ea typeface="Arial"/>
              </a:rPr>
              <a:t>przeznaczen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wyodrębnienie wybranych atrybutów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 u="sng">
                <a:solidFill>
                  <a:srgbClr val="3333cc"/>
                </a:solidFill>
                <a:uFillTx/>
                <a:latin typeface="Tahoma"/>
                <a:ea typeface="Arial"/>
              </a:rPr>
              <a:t>notacj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&lt;lista atrybutów&gt;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(&lt;Nazwa relacji&gt;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gdzie lista atrybutów jest podzbiorem atrybutów ze schematu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 u="sng">
                <a:solidFill>
                  <a:srgbClr val="3333cc"/>
                </a:solidFill>
                <a:uFillTx/>
                <a:latin typeface="Tahoma"/>
                <a:ea typeface="Arial"/>
              </a:rPr>
              <a:t>własnośc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operacja projekcji nie jest komutatywna. Składanie operacji projekcji jest możliwe przy spełnieniu pewnych dodatkowych warunków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lista1&gt;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lista2&gt;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R))=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lista1&gt;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jeżel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lista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zawiera wszystkie atrybuty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list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C88-439E-4D14-8133-243D1CC739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peracja projekcji - Przykła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azwisko, Etat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(Pracownicy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tat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(Pracownicy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IdPrac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Nazwisko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(Pracownicy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0C0-3E02-4CF3-AB67-ABCCC74F43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  <a:ea typeface="Arial"/>
              </a:rPr>
              <a:t>Operacja 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projekcji</a:t>
            </a:r>
            <a:br>
              <a:rPr sz="3600"/>
            </a:br>
            <a:r>
              <a:rPr b="1" lang="pl-PL" sz="3600" spc="-1" strike="noStrike">
                <a:solidFill>
                  <a:srgbClr val="cc0099"/>
                </a:solidFill>
                <a:latin typeface="Tahoma"/>
                <a:ea typeface="Arial"/>
              </a:rPr>
              <a:t>w j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ę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  <a:ea typeface="Arial"/>
              </a:rPr>
              <a:t>zyku SQL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ozszerzenia języka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peracje na dan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+, -, *, /, 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1,22 * cena, cena – rabat, dochód / 12,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imię || nazwis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unkcj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arytmetyczne, znakowe, na datach, konwersji, ogól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UPPER(nazwisko), SIN(kąt), LN(podstawa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OUND(składka, 1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TO_CHAR(data, ‘Day DD-MM-YYY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50B-002B-4598-BA42-879323A2DE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  <a:ea typeface="Arial"/>
              </a:rPr>
              <a:t>Operacja 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projekcji</a:t>
            </a:r>
            <a:br>
              <a:rPr sz="3600"/>
            </a:br>
            <a:r>
              <a:rPr b="1" lang="pl-PL" sz="3600" spc="-1" strike="noStrike">
                <a:solidFill>
                  <a:srgbClr val="cc0099"/>
                </a:solidFill>
                <a:latin typeface="Tahoma"/>
                <a:ea typeface="Arial"/>
              </a:rPr>
              <a:t>w j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ę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  <a:ea typeface="Arial"/>
              </a:rPr>
              <a:t>zyku SQL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upper(nazwisko), 12*płaca, nullif(premia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pracown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Aliasy wyra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ż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e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ń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wyrażenie AS al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TO_CHAR(data, ‘Day DD-MM-YYYY) AS data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OUND(składka, 1) AS składka_zaokrąglon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306-0327-4A41-8120-021ECF9DDC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Usuwanie duplikató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[DISTINCT |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ALL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]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rzyk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adres_mi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ROM studen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DISTINCT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adres_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i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studen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AC1-ACF7-4031-A930-38A2AB27EB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Porządkowanie relacji wynikow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RDER BY wyrażenie1 [</a:t>
            </a:r>
            <a:r>
              <a:rPr b="0" i="1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ASC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| DESC]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 nazwis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pracown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RDER BY zespół ASC, etat ASC, płaca DE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D1F-A7B9-4CDC-AF96-897C44B97A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Składanie operac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ekwencja wielu operacji, w której kolejne operacje są wykonywane na pośrednich wynikach operacji poprzednich, może być zastąpiona pojedynczą operacją złożoną, powstałą przez zagnieżdżenie operacji elementarn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3333cc"/>
                </a:solidFill>
                <a:latin typeface="Tahoma"/>
              </a:rPr>
              <a:t>Przykład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acownicyZesp10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dZesp = 10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Pracowni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ynik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dPrac, Nazwisko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PracownicyZesp10 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dPrac, Nazwisko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dZesp = 10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Pracownicy)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3809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42670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4648320"/>
            <a:ext cx="6098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B28-BE8A-4644-BB0D-BF8C7DB01C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Struktury da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Baza danych jest zbiorem relacji (tabl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Domena 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jest zbiorem wartości atom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omena jest definiowana przez podanie typu danych, które mogą przyjmować wartości danych danej dom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Schemat relacji 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oznaczony przez 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, składa się z nazwy relacji R oraz listy nazw atrybutów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EE3-E042-4D4E-A330-85BFE30E98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  <a:ea typeface="Arial"/>
              </a:rPr>
              <a:t>Operacje na zbiorac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ahoma"/>
                <a:ea typeface="Arial"/>
              </a:rPr>
              <a:t>Kompatybilno</a:t>
            </a:r>
            <a:r>
              <a:rPr b="1" lang="pl-PL" sz="2400" spc="-1" strike="noStrike">
                <a:solidFill>
                  <a:srgbClr val="3333cc"/>
                </a:solidFill>
                <a:latin typeface="Tahoma"/>
              </a:rPr>
              <a:t>ść</a:t>
            </a:r>
            <a:r>
              <a:rPr b="1" lang="pl-PL" sz="2400" spc="-1" strike="noStrike">
                <a:solidFill>
                  <a:srgbClr val="3333cc"/>
                </a:solidFill>
                <a:latin typeface="Tahoma"/>
                <a:ea typeface="Arial"/>
              </a:rPr>
              <a:t>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Dwie relacje: 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i S(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są kompatybilne, jeżeli mają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n sam stopień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i jeżeli dom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= dom(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dla 1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ahoma"/>
                <a:ea typeface="Arial"/>
              </a:rPr>
              <a:t>Operacje na zbior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Dane są dwie kompatybilne relacje: 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i S(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Operacje sumy, iloczynu i 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nicy relacji R i S są zdefiniowane nas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u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o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865-93AA-45AF-8298-5970D5B80C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  <a:ea typeface="Arial"/>
              </a:rPr>
              <a:t>Operacje na zbior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ahoma"/>
                <a:ea typeface="Arial"/>
              </a:rPr>
              <a:t>sum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Wynikiem tej operacji, oznaczanej przez 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, jest relacja zawierająca wszystkie krotki, k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e wys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u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w R i wszystkie krotki, które występują w S, z wy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zeniem duplikatów krotek. Operacja sumy jest operac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komutatyw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 = S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ahoma"/>
                <a:ea typeface="Arial"/>
              </a:rPr>
              <a:t>iloczy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Wynikiem tej operacji, oznaczonej przez 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, jest relacja zawiera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a krotki wys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u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e za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wno w R i S. Operacja iloczynu jest operac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 komutatywną: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 = S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ahoma"/>
                <a:ea typeface="Arial"/>
              </a:rPr>
              <a:t>r</a:t>
            </a:r>
            <a:r>
              <a:rPr b="1" lang="pl-PL" sz="2400" spc="-1" strike="noStrike">
                <a:solidFill>
                  <a:srgbClr val="3333cc"/>
                </a:solidFill>
                <a:latin typeface="Tahoma"/>
              </a:rPr>
              <a:t>óż</a:t>
            </a:r>
            <a:r>
              <a:rPr b="1" lang="pl-PL" sz="2400" spc="-1" strike="noStrike">
                <a:solidFill>
                  <a:srgbClr val="3333cc"/>
                </a:solidFill>
                <a:latin typeface="Tahoma"/>
                <a:ea typeface="Arial"/>
              </a:rPr>
              <a:t>nic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Wynikiem tej operacji, oznaczonej przez R-S, jest relacja zawiera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a wszystkie krotki, k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e wys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u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w R i nie wys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u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w S. Operacja 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nicy nie jest operac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komutatyw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 - S 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 - 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6D5-5419-4838-9340-9C51099D6E1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peracje na zbiorach - Przykła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90720" y="1676520"/>
          <a:ext cx="20602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20602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915480" y="1295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czniow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4160" y="1295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nstruktor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8480" y="1677960"/>
          <a:ext cx="2060280" cy="1036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8480" y="1677960"/>
                    <a:ext cx="206028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995400" y="3809880"/>
          <a:ext cx="2060640" cy="2075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5400" y="3809880"/>
                    <a:ext cx="206064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897120" y="338616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czniowie </a:t>
            </a:r>
            <a:r>
              <a:rPr b="1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Instruktor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0560" y="289548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czniowie </a:t>
            </a:r>
            <a:r>
              <a:rPr b="1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Instruktor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0" y="3429000"/>
          <a:ext cx="2060640" cy="5270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429000"/>
                    <a:ext cx="20606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261600" y="41148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czniowie - Instruktor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352680" y="4572000"/>
          <a:ext cx="2060640" cy="13082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4572000"/>
                    <a:ext cx="206064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792040" y="449568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nstruktorzy - Uczniow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872320" y="4876920"/>
          <a:ext cx="2060280" cy="780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72320" y="4876920"/>
                    <a:ext cx="20602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F31-C8B6-4D4C-9284-3CA47BE8EE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peracje na zbiorach - SQ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9960" y="1182600"/>
            <a:ext cx="7026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SELECT nr_konta, saldo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FROM filia_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WHERE saldo &gt; 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SELECT konto_nr, SUM(operacje)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FROM filia_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GROUP BY konto_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SELECT imię, nazwisko, data_urodzeni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FROM filia_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SELECT imię, nazwisko, data_urodzeni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FROM filia_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SELECT imię, nazwisko, data_urodzeni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FROM filia_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SELECT imię, nazwisko, data_urodzeni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FROM filia_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128-54F4-4F82-A807-1BA6ADE9A6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Iloczyn Kartezjań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Dane są dwie relacje: 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i S(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. Wynikiem iloczynu kartezjańskiego relacji R i S, oznaczon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przez 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S, jest relacja Q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opni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n+m i schemacie: Q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Krotkom w relacji Q odpowiadają wszystkie kombinacje krotek z relacji R i S. Jeżeli relacja R ma 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krotek, a relacja S ma 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krotek, to relacja Q będzie miała 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*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krote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72A-37C9-44B8-A134-0F27BD98784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Iloczyn Kartezjański - Przykł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5400" y="1876320"/>
          <a:ext cx="2060640" cy="103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876320"/>
                    <a:ext cx="20606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991440" y="137160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acown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8480" y="1905120"/>
          <a:ext cx="3297240" cy="78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8480" y="1905120"/>
                    <a:ext cx="3297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4481280" y="14097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espoł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50840" y="339084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acownicy x Zespoł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3809880"/>
          <a:ext cx="5330880" cy="1819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809880"/>
                    <a:ext cx="533088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BCB-EAEB-417D-A8FA-422DEE5FB6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peracja połączenia -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3333cc"/>
                </a:solidFill>
                <a:uFillTx/>
                <a:latin typeface="Tahoma"/>
                <a:ea typeface="Arial"/>
              </a:rPr>
              <a:t>przeznaczen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zenie na podstawie warunku po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zeniowego wybranych krotek z dw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h relacji w pojedyncz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krot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3333cc"/>
                </a:solidFill>
                <a:uFillTx/>
                <a:latin typeface="Tahoma"/>
                <a:ea typeface="Arial"/>
              </a:rPr>
              <a:t>notacj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operacja po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zenia relacji 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i S(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,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jest oznaczona jako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&lt;warunek połączeniowy&gt;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gdzie </a:t>
            </a:r>
            <a:r>
              <a:rPr b="0" lang="pl-PL" sz="2400" spc="-1" strike="noStrike">
                <a:solidFill>
                  <a:srgbClr val="3333cc"/>
                </a:solidFill>
                <a:latin typeface="Tahoma"/>
                <a:ea typeface="Arial"/>
              </a:rPr>
              <a:t>warunek poł</a:t>
            </a:r>
            <a:r>
              <a:rPr b="0" lang="pl-PL" sz="2400" spc="-1" strike="noStrike">
                <a:solidFill>
                  <a:srgbClr val="3333cc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3333cc"/>
                </a:solidFill>
                <a:latin typeface="Tahoma"/>
                <a:ea typeface="Arial"/>
              </a:rPr>
              <a:t>czeniow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jest zbiorem predyka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w po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zonych operatorami logicznymi AND. Predykaty s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postaci: A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Bj, gdzie Ai i Bj są </a:t>
            </a:r>
            <a:r>
              <a:rPr b="0" lang="pl-PL" sz="2400" spc="-1" strike="noStrike">
                <a:solidFill>
                  <a:srgbClr val="3333cc"/>
                </a:solidFill>
                <a:latin typeface="Tahoma"/>
                <a:ea typeface="Arial"/>
              </a:rPr>
              <a:t>atrybutami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l-PL" sz="2400" spc="-1" strike="noStrike">
                <a:solidFill>
                  <a:srgbClr val="3333cc"/>
                </a:solidFill>
                <a:latin typeface="Tahoma"/>
                <a:ea typeface="Arial"/>
              </a:rPr>
              <a:t>poł</a:t>
            </a:r>
            <a:r>
              <a:rPr b="0" lang="pl-PL" sz="2400" spc="-1" strike="noStrike">
                <a:solidFill>
                  <a:srgbClr val="3333cc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3333cc"/>
                </a:solidFill>
                <a:latin typeface="Tahoma"/>
                <a:ea typeface="Arial"/>
              </a:rPr>
              <a:t>czeniowym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i Ai jest atrybutem R, a Bj jest atrybutem S, dom(Ai) = dom(Bj), 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θ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jest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peratore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relacyjn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 ze zbioru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{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}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34290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057400" y="34286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972-0C39-40E7-A1E2-22F82FDD86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peracja połączenia -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Ogólna post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 operacji połączenia, gdzie jest dowolnym operatorem relacyjnym jest nazywana </a:t>
            </a:r>
            <a:r>
              <a:rPr b="0" i="1" lang="pl-PL" sz="2000" spc="-1" strike="noStrike">
                <a:solidFill>
                  <a:srgbClr val="3333cc"/>
                </a:solidFill>
                <a:latin typeface="Tahoma"/>
                <a:ea typeface="Arial"/>
              </a:rPr>
              <a:t>połączeniem typu THET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 (ang. THETA JOI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Operacja połączenia, dla której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θ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jest operatorem =, nazywana jest </a:t>
            </a:r>
            <a:r>
              <a:rPr b="0" i="1" lang="pl-PL" sz="2000" spc="-1" strike="noStrike">
                <a:solidFill>
                  <a:srgbClr val="3333cc"/>
                </a:solidFill>
                <a:latin typeface="Tahoma"/>
                <a:ea typeface="Arial"/>
              </a:rPr>
              <a:t>połączeniem równościowy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 (ang. EQUI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JO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Operacja połączenia, dla której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θ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jest operatorem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różnym od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=, nazywana jest </a:t>
            </a:r>
            <a:r>
              <a:rPr b="0" i="1" lang="pl-PL" sz="2000" spc="-1" strike="noStrike">
                <a:solidFill>
                  <a:srgbClr val="3333cc"/>
                </a:solidFill>
                <a:latin typeface="Tahoma"/>
                <a:ea typeface="Arial"/>
              </a:rPr>
              <a:t>połączeniem </a:t>
            </a:r>
            <a:r>
              <a:rPr b="0" i="1" lang="pl-PL" sz="2000" spc="-1" strike="noStrike">
                <a:solidFill>
                  <a:srgbClr val="3333cc"/>
                </a:solidFill>
                <a:latin typeface="Tahoma"/>
              </a:rPr>
              <a:t>nierównościowy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 (ang.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ON-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EQUI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JO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Operacja połączenia równościowego, w której jeden z atrybutów połączeniowych jest usunięty ze schematu relacji wynikowej, jest nazywana </a:t>
            </a:r>
            <a:r>
              <a:rPr b="0" i="1" lang="pl-PL" sz="2000" spc="-1" strike="noStrike">
                <a:solidFill>
                  <a:srgbClr val="3333cc"/>
                </a:solidFill>
                <a:latin typeface="Tahoma"/>
                <a:ea typeface="Arial"/>
              </a:rPr>
              <a:t>połączeniem naturalny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 (ang. NATURAL JOIN). Połączenie naturalne jest oznaczane jako: R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S, przy czym wymagane jest, by atrybuty połączeniowe w obu relacjach miały tak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 samą naz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A94-605B-41BC-ACB3-582B54E57D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peracja połączenia - Przykła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09720" y="1677960"/>
          <a:ext cx="4335480" cy="103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677960"/>
                    <a:ext cx="433548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839160" y="12193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acown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40480" y="12193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espoł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715000" y="1676520"/>
          <a:ext cx="1974960" cy="78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676520"/>
                    <a:ext cx="19749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33240" y="3429000"/>
          <a:ext cx="7875720" cy="825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3240" y="3429000"/>
                    <a:ext cx="7875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93640" y="2819520"/>
            <a:ext cx="7407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acownicy               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Times New Roman"/>
              </a:rPr>
              <a:t>Szef=IdPrac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Pracown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380800">
            <a:off x="2095200" y="2857320"/>
            <a:ext cx="228600" cy="4572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3640" y="44197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acownicy *  Zespoł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438280" y="4800600"/>
          <a:ext cx="5402520" cy="1052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00600"/>
                    <a:ext cx="54025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549-A55C-4F33-876C-9438CDC36A3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peracja połączenia zewnętrznego – OUTER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 u="sng">
                <a:solidFill>
                  <a:srgbClr val="3333cc"/>
                </a:solidFill>
                <a:uFillTx/>
                <a:latin typeface="Tahoma"/>
                <a:ea typeface="Times New Roman"/>
              </a:rPr>
              <a:t>przeznaczen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zenie na podstawie warunku po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zeniowego wybranych krotek z dw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 relacji w pojedyncz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krot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; w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zypadku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gdy danej krotce relacji nie odpowiad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na krotka drugiej relacji, krotka ta jest 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zona z krot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us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operacja po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łą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czenia zewn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ę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trznego lewostronn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relacj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i S(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,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est oznaczona jak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&lt;warunek poł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</a:rPr>
              <a:t>ą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zeniowy&gt;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znacza, że w relacji wynikowej znaj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krotki odpowiada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e wszystkim krotkom relacji R (lewostronnej)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162240" y="4457520"/>
            <a:ext cx="228600" cy="4572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4572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4800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76E-B9A0-4DD3-8C92-0C69F79D810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Struktury da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Atrybut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schematu relacji R opisuje rolę jaką pełni domena D w schemacie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 nazywamy domeną atrybutu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w schemacie R i oznaczamy przez 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dom(A</a:t>
            </a:r>
            <a:r>
              <a:rPr b="1" i="1" lang="pl-PL" sz="2400" spc="-1" strike="noStrike" baseline="-25000">
                <a:solidFill>
                  <a:srgbClr val="3333cc"/>
                </a:solidFill>
                <a:latin typeface="Tahoma"/>
              </a:rPr>
              <a:t>i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Liczba atrybutów składających się na schemat relacji R nazywamy 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stopniem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UDENT(Pesel, Nazwisko, Adres, Tel, Wiek, GP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F7E-59FE-48B2-8C7E-D816C9CE06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peracja połączenia zewnętrznego – OUTER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905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operacja po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łą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czenia zewn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ę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trznego 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prawostronn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relacj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i S(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,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est oznaczona jak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&lt;warunek poł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</a:rPr>
              <a:t>ą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zeniowy&gt;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znacza, że w relacji wynikowej znaj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krotki odpowiada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e wszystkim krotkom relacj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awostronne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2857320" y="2933640"/>
            <a:ext cx="228600" cy="4572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A68-24EB-46CA-A8EB-6FD49ABDFD6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peracja połączenia zewnętrznego – OUTER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905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operacja po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łą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czenia zewn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ę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trznego </a:t>
            </a: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dwustronn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relacj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i S(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,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est oznaczona jak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&lt;warunek poł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</a:rPr>
              <a:t>ą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zeniowy&gt;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znacza, że w relacji wynikowej znaj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krotki odpowiada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e wszystkim krotkom relacj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 i wszystkim krotkom relacji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3009600" y="2933640"/>
            <a:ext cx="228600" cy="4572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3276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63C-26D5-47D0-8534-8F1DB288386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peracja połączenia zewnętrznego – Przykł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14400" y="2133720"/>
          <a:ext cx="4335480" cy="103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433548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914040" y="165276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acown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429000"/>
            <a:ext cx="64929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acownic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Szef=IdPrac&gt;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acownicy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2933640" y="3466800"/>
            <a:ext cx="228600" cy="4572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66688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666880" y="3581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39720" y="4265640"/>
          <a:ext cx="7875720" cy="1093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720" y="4265640"/>
                    <a:ext cx="78757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0FF-FA0F-4A5A-ABBA-FA395793528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peracja połączenia - SQ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9960" y="1182600"/>
            <a:ext cx="6950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tary sty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a.*, b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konta AS a, operacje A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WHERE a.id_konta = b.id_konta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a.data_założenia &gt; ‘1-01-199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a.*, b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konta AS a, operacje A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WHERE a.id_konta = b.id_kont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F0D-7655-49C9-ADA0-023E948BE74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peracja połączenia - SQ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8800" y="1557360"/>
            <a:ext cx="71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Nowy sty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konta NATURAL JOIN oper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a.*, b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ROM konta AS a LEFT OUTER JOIN operacje A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N a.id_konta = b.id_ko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656-A4AB-44B2-9E53-75A126DE96E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imes New Roman"/>
              </a:rPr>
              <a:t>Wielozbi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lacja jako zbiór kro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lacja jako wielozbiór kro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biór”, w którym mogą się powtarzać elementy nazywamy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ielozbi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365120" y="3511440"/>
          <a:ext cx="1222560" cy="149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3511440"/>
                    <a:ext cx="122256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205280" y="301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B5F-5D41-49E5-90DE-BA9E1FBE859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imes New Roman"/>
              </a:rPr>
              <a:t>Wielozbi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blem implementacji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ozbiory umożliwiają przyspieszenie wykonywania operacji na relacjach (np.. Projekc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ozbiory pozwalają przetwarzać krotki relacji niezależ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konajmy projekcję na relacji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71600" y="4038480"/>
          <a:ext cx="1222200" cy="149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038480"/>
                    <a:ext cx="122220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583080" y="4108320"/>
          <a:ext cx="1193760" cy="881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3080" y="4108320"/>
                    <a:ext cx="119376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12E-A38D-4A61-BD9E-D599BA21378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imes New Roman"/>
              </a:rPr>
              <a:t>Wielozbi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my wartość średnią atrybutu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el zbioru – średnia wynosi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el wielozbioru – średnia wynosi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anie sumy dwóch relacji – w przypadku modelu relacji jako wielozbioru nie zachodzi konieczność sprawdzania czy dana krotka nie należy do obu rel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546-ABFA-4BD8-8B36-63F0EBE2146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imes New Roman"/>
              </a:rPr>
              <a:t>Suma, iloczyn i różnica wielozbioró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ielozbiorów – do wyniku dołącza się wystąpienia wszystkich krotek z poszczególnych składników su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w relacji R krotka t powtarza się n razy, a w relacji S m razy, to w sumie relacji 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S krotka t wystąpi n + m r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Iloczy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ielozbiorów - jeżeli w relacji R krotka t powtarza się n razy, a w relacji S m razy, to w iloczynie relacji 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S krotka t wystąpi min(n, m) r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Różnic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ielozbiorów - jeżeli w relacji R krotka t powtarza się n razy, a w relacji S m razy, to w różnicy R – S liczba wystąpień krotki t jest równa różnicy jej wystąpień w R i 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CF4-6AEA-4BAD-B140-50A927DA0F5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imes New Roman"/>
              </a:rPr>
              <a:t>Projekcja i selekcja wielozbioró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peracji projekcji jest realizowana dla każdej krotki niezależ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perację selekcji wykonuje się dla każdej krotki niezależ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219320" y="3429000"/>
          <a:ext cx="1778040" cy="14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177804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1220760" y="3048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46680" y="3006720"/>
            <a:ext cx="1325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 6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108320" y="3583080"/>
          <a:ext cx="1805040" cy="1193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3583080"/>
                    <a:ext cx="18050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F5B-637A-47F5-842B-EA806AFDACB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Struktury da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Relacj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r o schemacie 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, oznaczoną r(R), nazywamy zbiór n-tek (krotek) postaci r={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...,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jedyncza krotka t jest uporządkowaną listą n wartości t=&lt;v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..., v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&gt;, gdzie v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1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, jest elementem dom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 lub specjalną wartością pustą (null 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I-ta wartość krotki t, odpowiadająca wartości atrybutu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i,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będzie oznaczana przez t[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192-DA7F-4982-89BC-2B87EC1A24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imes New Roman"/>
              </a:rPr>
              <a:t>Iloczyn kartezjański wielozbioró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Iloczyn kartezjańsk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worzymy pary wszystkich możliwych krotek z pierwszej relacji iloczynu ze wszystkimi krotkami drugiej relacji (jeżeli krotka t występuje w relacji R n razy, a w relacji S m razy, to w wyniku wystąpi nm raz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20760" y="3402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3505320"/>
          <a:ext cx="1207800" cy="89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505320"/>
                    <a:ext cx="12078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220760" y="4495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7960" y="4578480"/>
          <a:ext cx="1222560" cy="1193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7960" y="4578480"/>
                    <a:ext cx="12225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3276720" y="4495680"/>
            <a:ext cx="838080" cy="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421160" y="3270240"/>
          <a:ext cx="2444760" cy="2089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1160" y="3270240"/>
                    <a:ext cx="24447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723-847B-45FE-897B-5132AE9B5ED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imes New Roman"/>
              </a:rPr>
              <a:t>Połączenie wielozbioró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Połączenie wielozbioró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równuje się każdą krotkę jednej relacji połączenia z każdą krotka drugiej relacji; z wynikowej relacji nie usuwa się powtarzających się kro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52480" y="2819520"/>
          <a:ext cx="1208160" cy="89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819520"/>
                    <a:ext cx="12081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1220760" y="2819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752480" y="4038480"/>
          <a:ext cx="1222560" cy="1193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038480"/>
                    <a:ext cx="12225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296720" y="403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3962520"/>
            <a:ext cx="533520" cy="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886200" y="2819520"/>
          <a:ext cx="1835280" cy="911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2819520"/>
                    <a:ext cx="1835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171120" y="281952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tural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łąc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886200" y="3962520"/>
          <a:ext cx="2446200" cy="1506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3962520"/>
                    <a:ext cx="2446200" cy="15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6612840" y="4003560"/>
            <a:ext cx="211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łączenie 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arunk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łączen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.B &lt; S.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1C0-854C-480A-9360-6D5E8495F7D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Wartości pu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Zbiory wartości wszystkich typów danych zawierają dodatkowo wy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nioną wartość pus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– NUL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np. INTEGER(3) - &lt;-999, 999&gt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Możliwość występowania wartości pustych wymaga specyficznej obsługi wartości pust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10 + NULL =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1024*118 + NULL*119 =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UM(płaca) = NULL, gdy choć jedna z sumowanych wartości jest wa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śc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pus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unkcja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NULLIF(wyrażenie, wartość jeśli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SUM(NULLIF(dochód, 150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..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C4B-0368-493B-8E10-5375CF7E83F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Wartości pu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ówn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wyr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enia logiczne op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z wartośc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rawd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ałsz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mog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przyjmow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wartośc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ieokr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l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887560" y="2438280"/>
          <a:ext cx="3368880" cy="24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7560" y="2438280"/>
                    <a:ext cx="336888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046160" y="5105520"/>
            <a:ext cx="70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WHERE płaca &gt;= 2000 OR płaca &lt; 2000 OR płaca IS 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B93-3364-4795-B080-B234A62FCE6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Wartości pu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2160" y="155736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Logika trójwartoś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990720" y="2390760"/>
          <a:ext cx="2444760" cy="103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90760"/>
                    <a:ext cx="24447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4267080" y="2390760"/>
          <a:ext cx="2444760" cy="1038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390760"/>
                    <a:ext cx="24447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995400" y="3967200"/>
          <a:ext cx="2444760" cy="525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5400" y="3967200"/>
                    <a:ext cx="244476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B0D-62D5-41A4-8D94-3218A3C820D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Tahoma"/>
                <a:ea typeface="Arial"/>
              </a:rPr>
              <a:t>Definiowanie struktur danych</a:t>
            </a:r>
            <a:br>
              <a:rPr sz="2800"/>
            </a:br>
            <a:r>
              <a:rPr b="1" lang="pl-PL" sz="2800" spc="-1" strike="noStrike">
                <a:solidFill>
                  <a:srgbClr val="cc0099"/>
                </a:solidFill>
                <a:latin typeface="Tahoma"/>
                <a:ea typeface="Arial"/>
              </a:rPr>
              <a:t>SQL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cc0099"/>
                </a:solidFill>
                <a:latin typeface="Tahoma"/>
              </a:rPr>
              <a:t>- Typy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143000" y="1371600"/>
          <a:ext cx="6340320" cy="48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634032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0BE-4B49-434C-B81E-84B7EABFCF9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Struktury da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Relacja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 jest zbiorem </a:t>
            </a:r>
            <a:r>
              <a:rPr b="1" i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krotek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 (k-wartości), które są listami wartoś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8608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86080" y="2481120"/>
            <a:ext cx="6172200" cy="1895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4300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F7B-2977-47A8-AB9F-CD83B56E92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imes New Roman"/>
              </a:rPr>
              <a:t>Alternatywna definicja relac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Wyświetlana relacja ma postać tablicy: krotki są wierszami tej tablicy. Nagłówki kolumn są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atrybut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3333cc"/>
                </a:solidFill>
                <a:latin typeface="Tahoma"/>
              </a:rPr>
              <a:t>Relacj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r(R) jest relacją matematyczną stopnia n zdefiniowaną na zbiorze domen dom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, dom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, ..., dom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 będącą podzbiorem iloczynu kartezjańskiego domen definiujących 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(R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dom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 x dom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 x ... x dom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F80-FD9E-4873-B04A-68A1284542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imes New Roman"/>
              </a:rPr>
              <a:t>Baza da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Baza dan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biór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relacj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chemat bazy dan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biór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chemat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ów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elacj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biór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krote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chemat relacj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biór {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atrybu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typ danej, [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ograniczenia integralnościowe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]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Krotk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lista atomowych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wartoś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0A8-31D6-4E20-8C1E-8AF1BB83C1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Charakterystyka relac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porządkowanie krotek w relacji – nie jest elementem defini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porządkowanie wartości w ramach krotki – nie jest ist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artości atrybutów w ramach krot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NFNF, puste, atom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Interpretacja relacji – rodzaj predykatu lub aser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9F7-88AB-44B4-B4E8-3108E54B79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21:17:17Z</dcterms:created>
  <dc:creator>Tadeusz Morzy</dc:creator>
  <dc:description/>
  <dc:language>en-US</dc:language>
  <cp:lastModifiedBy>Tadeusz</cp:lastModifiedBy>
  <dcterms:modified xsi:type="dcterms:W3CDTF">2005-03-31T08:38:03Z</dcterms:modified>
  <cp:revision>112</cp:revision>
  <dc:subject/>
  <dc:title>Relacyjny model danych</dc:title>
</cp:coreProperties>
</file>