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A5C-1AC0-4AEC-8672-35AF61AC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BE12-ED32-4359-A39A-022BC1FE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094-7A3D-4FE4-9140-D234FAB6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7A0-1F0D-4B91-A98D-A3CEEDCF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3A2-121D-40AE-8192-F763CF8B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A7F-6D35-44BE-BABA-498FAF34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7A6-55B5-4085-9A7B-50BF61F1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BEE-05DB-457F-9835-2637DA18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5FB-8A66-42F6-BABC-98E18F2A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76B-2CCD-415B-BD7A-D08D11AB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92F-B068-44FD-B7F7-7E982E39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D2D-64BB-4A61-B43F-4B4DD642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B62B-1C76-4BED-ADBD-320842952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cc"/>
                </a:solidFill>
                <a:latin typeface="Times New Roman"/>
              </a:rPr>
              <a:t>Wprowadzenie do baz dan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Funkcje systemu zarządzania bazą dany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ęzyk bazy danych - tworzenie, definiowanie,  wyszukiwanie i pielęgnacja danych w bazie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ruktury danych - 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ektywne składowanie i przetwarzani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użyc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wolume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ó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ptymalizacja dostępu do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bieżny dostę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do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apewnienie bezpiecz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wa danych zagr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nego awaryjn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odowiska spr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wo-program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utoryzacja dostępu do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ość interfejsów do bazy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639720"/>
            <a:ext cx="9144000" cy="13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04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Modele da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04880" y="1523880"/>
          <a:ext cx="61675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1523880"/>
                    <a:ext cx="61675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71480" y="2514600"/>
            <a:ext cx="5801040" cy="2162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25680" y="378000"/>
            <a:ext cx="398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Model danych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1080" y="1523880"/>
            <a:ext cx="30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.  Struktury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Model danych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640" y="1666800"/>
            <a:ext cx="503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.  Ograniczenia integralności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528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33600" y="2438280"/>
          <a:ext cx="303840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3600" y="2438280"/>
                    <a:ext cx="3038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407960" y="3425760"/>
          <a:ext cx="6837480" cy="768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7960" y="3425760"/>
                    <a:ext cx="683748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31960" y="4444920"/>
            <a:ext cx="641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3. Operacje (operatory modelu dany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aj datę zakończenia projektu o nazw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gazyny danych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29160" y="457200"/>
            <a:ext cx="588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Przykładowa baza dany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36520" y="1606680"/>
          <a:ext cx="6512040" cy="207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1606680"/>
                    <a:ext cx="651204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355040" y="115740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acown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0560" y="39625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ta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2560" y="4492800"/>
          <a:ext cx="3454560" cy="130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2560" y="4492800"/>
                    <a:ext cx="345456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578480" y="4492800"/>
          <a:ext cx="3454200" cy="1150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8480" y="4492800"/>
                    <a:ext cx="34542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4479840" y="39006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espoł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590560" y="37339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523880" y="3733560"/>
            <a:ext cx="10670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05160" y="373392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295280" y="373392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340400">
            <a:off x="2893320" y="3430800"/>
            <a:ext cx="231480" cy="1751040"/>
          </a:xfrm>
          <a:custGeom>
            <a:avLst/>
            <a:gdLst>
              <a:gd name="textAreaLeft" fmla="*/ 0 w 231480"/>
              <a:gd name="textAreaRight" fmla="*/ 83520 w 231480"/>
              <a:gd name="textAreaTop" fmla="*/ 45360 h 1751040"/>
              <a:gd name="textAreaBottom" fmla="*/ 1705680 h 175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123720" y="3733920"/>
            <a:ext cx="2590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Użytkownicy SB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ktorzy na sc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tkownicy k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wi (naiwn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tkownicy zaawansowa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i aplikacj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jektanci baz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alitycy systemow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dministratorzy systemów baz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cownicy za scen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dministratorzy serwerów, sieci komputerow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jektanci i implementatorzy SZ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jektanci narzędzi dewelopersk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3505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Terminolo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62040" y="2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62040" y="2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62040" y="271440"/>
            <a:ext cx="601992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Specyfika baz danych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Trwałość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gi czas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cia – kilka, kilkadzies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, kilkaset 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iezal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d dzi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ia aplikacj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iezal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d platformy spr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wo-programowe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Rozmiar wolumenu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ane nie mieszc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s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w pam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i operacyjnej – wymagana pam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zew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rz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anych jest zbyt d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 dla ich liniowego przeg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ania przez 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tkownikó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zestrz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nazw jest zbyt mała dla nazwania wszystkich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Specyfika baz danych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ł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no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ść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any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ł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n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strukturalna i semantycz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graniczenia integraln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io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ł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ne zal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i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międz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dany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Wymagania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Spójność bazy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dporn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na 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ł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y, awarie i inne anormalne sytuacje wynika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 z zawodn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i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odowiska spr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wo-programowe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dporn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na anomalie 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 wynikiem współb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i dos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u do baz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dporn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na 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ł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y 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tkownikó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Efektywne przetwarzanie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fektywne metody dos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u do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ptymalizacja metod dos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do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iezal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plikacji od fizycznych metod dos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Wymagania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oprawne modelowanie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ś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ata rzeczywistego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spomaganie procesu projektowania i utrzymania bazy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ó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 poziomy modelowania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ransformacje m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zy modelami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utoryzacja dostępu do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spółbieżność dostępu do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etadane – dane o danych, strukturach dostępu, użytkownikach i ich praw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Technologia baz danych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izyczne struktury danych i metody dost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iki uporządkowane, haszowe, zgrupowane, indeks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drzewiaste i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tma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etoda p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wienia binarnego, haszowanie statyczne i dynamiczne, metody p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ł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zenia, sortowanie, grupowan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dniowe i kosztowe metody optymalizacji dos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zyczna niezal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Technologia baz danych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zetwarzanie transakcyjne (spójno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ść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baz danych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os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 do bazy danych za pomo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ransakcji o własn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iach A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etody synchronizacji transakcji (2PL, znaczniki czasowe, wielowersyjn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danych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etody odtwarzania spójn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i bazy danych (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lik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o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odtwarzanie i wycofywanie operacji, WAL, punkty kontroln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rchiwizacja bazy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cc"/>
                </a:solidFill>
                <a:latin typeface="Times New Roman"/>
              </a:rPr>
              <a:t>Technologia baz danych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dele dany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dele po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iowe (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el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w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ków-encji, UM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dele logiczne (relacyj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siecio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obiekto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, obiektowo-relacyjn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yki budowy aplikacji (4G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ar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zia i metodyka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21:13:03Z</dcterms:created>
  <dc:creator>Tadeusz Morzy</dc:creator>
  <dc:description/>
  <dc:language>en-US</dc:language>
  <cp:lastModifiedBy>Tadeusz Morzy</cp:lastModifiedBy>
  <dcterms:modified xsi:type="dcterms:W3CDTF">2002-10-19T11:19:49Z</dcterms:modified>
  <cp:revision>25</cp:revision>
  <dc:subject/>
  <dc:title>Wprowadzenie do baz danych</dc:title>
</cp:coreProperties>
</file>