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6D1-B4E3-4E95-BBF5-71F94213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91E-53AE-4536-931D-EDAB67C7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A76-DF69-4B5B-BF35-29CCE568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254-EED1-4EB5-8BCF-21C3459C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C88-0C37-45BE-89D0-3A7959CD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048-9802-4143-92B0-89B70184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088-973D-4323-8993-49CA3BB3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C51-8422-4E1F-A1DF-634FA0F6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561-B79A-4516-B542-DA680CF4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632-1200-48C6-A676-DBEA634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522-8DE9-43D3-8C97-DE845570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1AB-221D-4BCC-912D-7DD57985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E9706D-C43D-4994-A58F-877F2A654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0840" y="571320"/>
            <a:ext cx="8420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TION OF THE EER MODEL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AL SQL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5200" y="2203200"/>
            <a:ext cx="8420040" cy="439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gical schema of a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lementation schema, on which run database applic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ation (t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-dimensional table. Columns of a table are attributes. Rows of a table are tuples  - represent instance of an ent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ature or property of an entity, a column of a relation or a field of a rec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otential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 or a set of attributes, that uniquely identify tuples of a rel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imary key (identifi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 or a set of attributes selected from among potential keys to identify tuples of a rel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oreign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 or a set of attributes, that is a primary key in another  rel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3960" y="1811160"/>
            <a:ext cx="185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asic n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2280" y="336600"/>
            <a:ext cx="4579920" cy="17222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tion of ternary relationships -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24560" y="658800"/>
            <a:ext cx="3481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nectivity: „one” for  one of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98680" y="2276640"/>
            <a:ext cx="135252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91720" y="2276640"/>
            <a:ext cx="82512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55880" y="3789360"/>
            <a:ext cx="167868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projec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5800" y="2536920"/>
            <a:ext cx="13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83440" y="2536920"/>
            <a:ext cx="8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43640" y="4041720"/>
            <a:ext cx="170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67400" y="2614680"/>
            <a:ext cx="155412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222960" y="2595600"/>
            <a:ext cx="1859040" cy="27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21520" y="286848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89760" y="3605040"/>
            <a:ext cx="13176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22960" y="3618000"/>
            <a:ext cx="11268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73520" y="2481120"/>
            <a:ext cx="1382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673520" y="2639880"/>
            <a:ext cx="131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98920" y="344808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49480" y="211464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2760" y="228600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8880" y="1927080"/>
            <a:ext cx="3136680" cy="12826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85920" y="5194440"/>
            <a:ext cx="6480360" cy="14641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RTICIPATION_IN_PROJ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mployees(emp_id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rojects(project_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l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ules(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emp_id, project, 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21240" y="4624560"/>
            <a:ext cx="2168640" cy="47592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3080" y="2288880"/>
            <a:ext cx="2582640" cy="42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incipl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new relationship relation for the ternary relationship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ew relation contains foreign keys that match the primary keys of all associated entitie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mary key of the relation consists of foreign keys of entities on the side “many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5000" y="228240"/>
            <a:ext cx="842040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formation of generalization hierarchy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- to thre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820840" y="1498680"/>
            <a:ext cx="375156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les of trans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supertype relation containing a primary key, common attributes and one attribute defining a type of general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ach subtype create the subtype relation containing specific attributes and a primary key inherited  from the supertype re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1520" y="1484280"/>
            <a:ext cx="4724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mmon_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78600" y="188424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5960" y="188424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HOU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1000" y="1482840"/>
            <a:ext cx="5370480" cy="124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71760" y="2367000"/>
            <a:ext cx="14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27320" y="236700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4520" y="1731960"/>
            <a:ext cx="538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2920" y="3289320"/>
            <a:ext cx="3460680" cy="338436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mmon_attribut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ob_typ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NTRACT_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HOURLY_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60640" y="2886120"/>
            <a:ext cx="1498320" cy="27288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20560" y="4006800"/>
            <a:ext cx="5445720" cy="28357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NTRACT_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emp_id, common_attributes, specific_attr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 emp_id, common_attributes, specific_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  EMPLOYEES w, CONTRACT_EMPLOYEES 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here w.emp_id = cw.emp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OURLY_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emp_id, common_attributes, specific_attr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 emp_id, common_attributes, specific_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 EMPLOYEES w, HOURLY_EMPLOYEES f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here w.emp_id = fw.emp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2680" y="177840"/>
            <a:ext cx="8420040" cy="12650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formation of generalization hierarchy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- to tw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97160" y="1695240"/>
            <a:ext cx="3745080" cy="17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inciples of trans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ach subtype create the subtype relation containing:common attributes, specific attributes, and a primary key inherited  from the supertype ent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1520" y="1603440"/>
            <a:ext cx="4724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mmon_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78600" y="200340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5960" y="200340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HOU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1601640"/>
            <a:ext cx="5370480" cy="124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71760" y="2486160"/>
            <a:ext cx="14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7320" y="2486160"/>
            <a:ext cx="14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4520" y="1851120"/>
            <a:ext cx="538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6680" y="3670200"/>
            <a:ext cx="3314520" cy="25614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NTRACT_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mmon_attribut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HOURLY_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mmon_attribut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82800" y="3054240"/>
            <a:ext cx="1569960" cy="43992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4320" y="4205160"/>
            <a:ext cx="5019120" cy="201276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emp_id, common_attributes, job_type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_id, common_attributes, ‘CONTRAC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NTRACT_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_id, common_attributes, ‘HOURLY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 HOURLY_EMPLOYE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2680" y="275760"/>
            <a:ext cx="8420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formation of generalization hierarchy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- to one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881680" y="1552680"/>
            <a:ext cx="3798720" cy="20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les of trans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single relation containing: common attributes, attributes specific for all subtypes and a single attribute defining type of general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specific attributes associated with subtypes assig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1520" y="1603440"/>
            <a:ext cx="4724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mmon_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78600" y="200340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5960" y="200340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HOU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1000" y="1601640"/>
            <a:ext cx="5370480" cy="124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1760" y="2486160"/>
            <a:ext cx="14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27320" y="248616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4520" y="1851120"/>
            <a:ext cx="538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9960" y="3695760"/>
            <a:ext cx="2914560" cy="17384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mmon_attribu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ob_typ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3017880"/>
            <a:ext cx="1963440" cy="51120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3240" y="3695760"/>
            <a:ext cx="4769280" cy="28357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NTRACT_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emp_id, common_attributes, specific_attr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_id, common_attributes, specific_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ob_type = ‘CONTRACT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HOURLY_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emp_id, common_attributes, specific_attr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_id, common_attributes, specific_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here  job_type = ‘HOURLY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358920"/>
            <a:ext cx="8420040" cy="676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tion of ar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46160" y="1109520"/>
            <a:ext cx="5857920" cy="1274400"/>
            <a:chOff x="1946160" y="1109520"/>
            <a:chExt cx="5857920" cy="1274400"/>
          </a:xfrm>
        </p:grpSpPr>
        <p:grpSp>
          <p:nvGrpSpPr>
            <p:cNvPr id="221" name=""/>
            <p:cNvGrpSpPr/>
            <p:nvPr/>
          </p:nvGrpSpPr>
          <p:grpSpPr>
            <a:xfrm>
              <a:off x="1946160" y="1208160"/>
              <a:ext cx="1320840" cy="1073160"/>
              <a:chOff x="1946160" y="1208160"/>
              <a:chExt cx="1320840" cy="1073160"/>
            </a:xfrm>
          </p:grpSpPr>
          <p:sp>
            <p:nvSpPr>
              <p:cNvPr id="222" name=""/>
              <p:cNvSpPr/>
              <p:nvPr/>
            </p:nvSpPr>
            <p:spPr>
              <a:xfrm>
                <a:off x="1989360" y="1260360"/>
                <a:ext cx="931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COU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46160" y="1208160"/>
                <a:ext cx="1320840" cy="107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329520" y="1195560"/>
              <a:ext cx="1474560" cy="30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0600" y="1852560"/>
              <a:ext cx="1038600" cy="30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OMPAN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76720" y="1413000"/>
              <a:ext cx="15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2062080"/>
              <a:ext cx="15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26160" y="20620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26160" y="1413000"/>
              <a:ext cx="1496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70240" y="1285920"/>
              <a:ext cx="214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269880" y="1413000"/>
              <a:ext cx="21420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70240" y="1930320"/>
              <a:ext cx="2142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269880" y="2062080"/>
              <a:ext cx="21420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9360" y="1382760"/>
              <a:ext cx="7632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89360" y="2027160"/>
              <a:ext cx="76320" cy="5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51440" y="1109520"/>
              <a:ext cx="735840" cy="12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4" y="0"/>
                  </a:moveTo>
                  <a:arcTo wR="10800" hR="10800" stAng="-5414799" swAng="107999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4" y="0"/>
                  </a:moveTo>
                  <a:arcTo wR="10800" hR="10800" stAng="-5414799" swAng="107999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25720" y="113508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conc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25720" y="180504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conc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35880" y="2440080"/>
            <a:ext cx="3972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ethod 1. Common foreig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83080" y="2666880"/>
            <a:ext cx="5083200" cy="15526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ccount_number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NTEGER(6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...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CHAR(1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CHECK(concerns IN (’I’,’C’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ccount_balance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NTEGER(8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0840" y="4700520"/>
            <a:ext cx="5481000" cy="17960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ccount_number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NTEGER(6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...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d_ind_account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CHAR(5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EFERENCES individuals(kod_śr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d_comp_account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NTEGER(8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EFERENCES companies(id_furn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880" y="4259160"/>
            <a:ext cx="363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ethod 2. Public foreig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8640" y="3008160"/>
            <a:ext cx="3426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hen identifiers of entities have the sa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8640" y="4816440"/>
            <a:ext cx="3213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hen identifiers of entities have different 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17236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nsformation Rules and SQL Constr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3508200"/>
            <a:ext cx="8420040" cy="25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An entity relation with the same information content as the original ent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transformation always occur for entities with binary relationships that are: many many-to-many, one-to-many on the “one” (parent) side, or one-to-one on one side; entities with binary recursive relationships that are many-to-many; and entities with any ternary or higher-degree relationship, or a generalization hierarchy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An entity relation with the embedded foreign key of the parent ent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transformation always occur for entities with binary relationships that are: one-to-many for the entity on the “many” (child) side, for one-to-one for one of the entities; and for each entity  with a binary recursive relationship that is one-to-one or one-to-man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2840" y="2327400"/>
            <a:ext cx="71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he basic transformation rules can be described in te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of the three types of relation schemas they produ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43040" y="2133720"/>
            <a:ext cx="842004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lationship relation with the foreign keys of all entities in the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transformation always occurs for relationships that are binary and many-to-many, relationships that are binary recursive and many-to-many, and all relationships that are ternary or higher degre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3480" y="361800"/>
            <a:ext cx="817236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nsformation Rules and SQL Constr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1160" y="4152960"/>
            <a:ext cx="79549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The following rules apply to handling SQL null values in these transform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nulls are always allowed in an entity relation for foreign keys of associated (referenced) optional entiti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nulls are not allowed in an entity relation for foreign keys of associated (referenced) mandatory entiti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nulls are not allowed for any key in a relationship relation because only complete tuple entries are meaningful in the re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42926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tion of an 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5520" y="2133360"/>
            <a:ext cx="44956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ation ru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of an entity is mapped into relatio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s of an entity are mapped into attribute names of the relat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que identifier of an entity becomes a primary key of the relat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datory existence of attributes of an entity is represented as a constrain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fined on attributes of the relat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onal existence of  attributes of an entity is represented as  a propert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fined on attributes of the relat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integral constraints specified on attributes of an entity are represented in the same way by attributes of the relat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1920" y="1951200"/>
            <a:ext cx="1996920" cy="137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id_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firs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las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address_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address_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5680" y="2209680"/>
            <a:ext cx="19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8960" y="3587760"/>
            <a:ext cx="1587600" cy="36828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1680" y="4290840"/>
            <a:ext cx="3364200" cy="19220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_employe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rst_nam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ast_nam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ddress_stree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ddress_cit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0" y="318600"/>
            <a:ext cx="4286160" cy="12193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tion of relationships 1: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93920" y="5057280"/>
            <a:ext cx="4941720" cy="11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inciples of trans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Foreign key is added to a relation with smaller number of  tu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ferential integrity constraints are specified for the foreign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520" y="1881360"/>
            <a:ext cx="3832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inciples of trans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Foreign key is added to a relation on the side „mandato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ferential integrity constraints are specified for the foreign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0000" y="2179800"/>
            <a:ext cx="3985920" cy="28357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ale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ale_dat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URN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retur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easo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d_sal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sales(sale_id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38040" y="322200"/>
            <a:ext cx="452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ssociation 1:1 One-side oblig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7640" y="4487760"/>
            <a:ext cx="429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ssociation 1:1 Two-side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240" y="5197320"/>
            <a:ext cx="82512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id_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1560" y="5197320"/>
            <a:ext cx="82512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id_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040" y="546084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17880" y="545472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06600" y="560700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0480" y="776160"/>
            <a:ext cx="17852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ALE OF 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sa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sale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8640" y="774720"/>
            <a:ext cx="13586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id_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r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21520" y="1832040"/>
            <a:ext cx="1809720" cy="29664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6640" y="12952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630480" y="12952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38680" y="1028880"/>
            <a:ext cx="19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6480" y="1025640"/>
            <a:ext cx="179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92680" y="97488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ithdr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44480" y="1260360"/>
            <a:ext cx="93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nc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1520" y="325080"/>
            <a:ext cx="8420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tion of relationships 1: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95840" y="2882880"/>
            <a:ext cx="4757760" cy="36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inciples of trans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Foreign key is added to a relation on the side „man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ferential integrity constraint is specified for the foreign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datory existence of a relationship on the side “many” is represented as a restric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fined on the foreign key of the 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onal existence of a relationship on the side “many” is represented as a propert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fined on the foreign key of the relation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datory and optional existence of a relationship on the side “one” cannot be expressed in the relational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5520" y="3289320"/>
            <a:ext cx="4165560" cy="34466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ges_mi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ges_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rst_nam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position(name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5000" y="1679400"/>
            <a:ext cx="146520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firs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63160" y="1676520"/>
            <a:ext cx="13586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wages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wages_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33440" y="176040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69360" y="2187720"/>
            <a:ext cx="167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is_occupied_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3120" y="1936800"/>
            <a:ext cx="14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1280" y="1936800"/>
            <a:ext cx="13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8840" y="213372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8160" y="213372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065320" y="2135160"/>
            <a:ext cx="30960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071800" y="1957320"/>
            <a:ext cx="30960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46200" y="2637000"/>
            <a:ext cx="1725840" cy="45216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0080" y="299520"/>
            <a:ext cx="842040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tion of relationships M: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93920" y="2774880"/>
            <a:ext cx="3784680" cy="29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les of trans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new relationship relation for the M:N relationshi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ew relation contains foreign keys that match the primary keys of the two associated ent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ferential integrity constraints are specified for the foreign key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ign keys constitute a primary key of the relationship rel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2320" y="1670040"/>
            <a:ext cx="146520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firs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84240" y="1670040"/>
            <a:ext cx="167868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projec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start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end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800" y="1930320"/>
            <a:ext cx="14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81360" y="1930320"/>
            <a:ext cx="169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0320" y="2125800"/>
            <a:ext cx="23605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25520" y="1994040"/>
            <a:ext cx="2145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19400" y="2127240"/>
            <a:ext cx="20160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58880" y="1974960"/>
            <a:ext cx="2206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65720" y="2120760"/>
            <a:ext cx="22068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30360" y="213516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28560" y="17413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90680" y="2614680"/>
            <a:ext cx="1963800" cy="36828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1840" y="3112920"/>
            <a:ext cx="5546520" cy="338436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irst_nam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_nam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art_dat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nd_dat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ORKS-O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employees(id_worker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_name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projects(project_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IMARY KEY(emp_id, project_name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5902560" cy="10206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tion of binary recursive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22680" y="372960"/>
            <a:ext cx="327492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ciples of transformation similar to those in case of binary relationships 1:1, 1:N and M: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262160"/>
            <a:ext cx="413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inary recursive relationship 1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200" y="4973760"/>
            <a:ext cx="424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inary recursive relationship M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9520" y="3151080"/>
            <a:ext cx="417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inary recursive relationship 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5680" y="1657440"/>
            <a:ext cx="1282320" cy="10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* fir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*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" y="3524400"/>
            <a:ext cx="1282320" cy="10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* fir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*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920" y="5338800"/>
            <a:ext cx="1373760" cy="82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# id_medi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*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o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9080" y="1955160"/>
            <a:ext cx="1155240" cy="113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33" y="406"/>
                </a:moveTo>
                <a:arcTo wR="10800" hR="10800" stAng="-4454372" swAng="14331185"/>
                <a:lnTo>
                  <a:pt x="10800" y="10800"/>
                </a:lnTo>
                <a:close/>
              </a:path>
              <a:path fill="none" w="21600" h="21600">
                <a:moveTo>
                  <a:pt x="13733" y="406"/>
                </a:moveTo>
                <a:arcTo wR="10800" hR="10800" stAng="-4454372" swAng="143311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3840" y="2665440"/>
            <a:ext cx="82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marr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35440" y="1655640"/>
            <a:ext cx="82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marr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876320"/>
            <a:ext cx="130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1520" y="3749760"/>
            <a:ext cx="128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08160" y="3828600"/>
            <a:ext cx="1155240" cy="113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33" y="406"/>
                </a:moveTo>
                <a:arcTo wR="10800" hR="10800" stAng="-4454372" swAng="14331185"/>
                <a:lnTo>
                  <a:pt x="10800" y="10800"/>
                </a:lnTo>
                <a:close/>
              </a:path>
              <a:path fill="none" w="21600" h="21600">
                <a:moveTo>
                  <a:pt x="13733" y="406"/>
                </a:moveTo>
                <a:arcTo wR="10800" hR="10800" stAng="-4454372" swAng="143311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65600" y="356724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mon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3720" y="4721400"/>
            <a:ext cx="119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sub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7600" y="4551480"/>
            <a:ext cx="26532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20840" y="4544640"/>
            <a:ext cx="68400" cy="18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35240" y="5466600"/>
            <a:ext cx="1155240" cy="113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33" y="406"/>
                </a:moveTo>
                <a:arcTo wR="10800" hR="10800" stAng="-4454372" swAng="14331185"/>
                <a:lnTo>
                  <a:pt x="10800" y="10800"/>
                </a:lnTo>
                <a:close/>
              </a:path>
              <a:path fill="none" w="21600" h="21600">
                <a:moveTo>
                  <a:pt x="13733" y="406"/>
                </a:moveTo>
                <a:arcTo wR="10800" hR="10800" stAng="-4454372" swAng="143311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5560" y="6180120"/>
            <a:ext cx="2714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49360" y="6180120"/>
            <a:ext cx="5544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77920" y="5373720"/>
            <a:ext cx="15732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64960" y="5570640"/>
            <a:ext cx="15084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6080" y="6141960"/>
            <a:ext cx="109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0120" y="5272200"/>
            <a:ext cx="109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sub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43520" y="1536840"/>
            <a:ext cx="451152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.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_spouse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mployees(emp_i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5720" y="1731960"/>
            <a:ext cx="736560" cy="928800"/>
          </a:xfrm>
          <a:prstGeom prst="right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59520" y="3368520"/>
            <a:ext cx="429516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.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_boss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mployees(emp_i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95720" y="3635280"/>
            <a:ext cx="736560" cy="928800"/>
          </a:xfrm>
          <a:prstGeom prst="right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01120" y="5226120"/>
            <a:ext cx="534528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QUIVALENT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me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edicines(id_med)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eq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edicines(id_med)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IMARY KEY (id_med, id_equ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95720" y="5359320"/>
            <a:ext cx="736560" cy="928800"/>
          </a:xfrm>
          <a:prstGeom prst="right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360000"/>
            <a:ext cx="4794120" cy="16635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tion of ternary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8600" y="2325240"/>
            <a:ext cx="2582640" cy="35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incipl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new relationship relation for the ternary relationship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ew relation contains foreign keys that match the primary keys of all associated ent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ign keys constitute a primary key of the relationship rel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70440" y="855720"/>
            <a:ext cx="3481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nectivity: „many” for  all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06440" y="5075280"/>
            <a:ext cx="6480360" cy="14641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RTICIPATION_IN_PROJ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mployees(emp_id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rojects(project_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l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oles(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emp_id, project, rule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83120" y="4602240"/>
            <a:ext cx="2595600" cy="40464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22640" y="1879560"/>
            <a:ext cx="6450120" cy="2593800"/>
            <a:chOff x="3122640" y="1879560"/>
            <a:chExt cx="6450120" cy="2593800"/>
          </a:xfrm>
        </p:grpSpPr>
        <p:sp>
          <p:nvSpPr>
            <p:cNvPr id="142" name=""/>
            <p:cNvSpPr/>
            <p:nvPr/>
          </p:nvSpPr>
          <p:spPr>
            <a:xfrm>
              <a:off x="3130200" y="2228760"/>
              <a:ext cx="1038600" cy="73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# emp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18560" y="2228760"/>
              <a:ext cx="825120" cy="73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#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0560" y="3741480"/>
              <a:ext cx="1678680" cy="73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# project_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2640" y="2489040"/>
              <a:ext cx="13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10640" y="24890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70480" y="3993840"/>
              <a:ext cx="170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4240" y="2566800"/>
              <a:ext cx="1554120" cy="25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050160" y="2547360"/>
              <a:ext cx="1858680" cy="27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48360" y="2820600"/>
              <a:ext cx="0" cy="9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916600" y="3556800"/>
              <a:ext cx="13176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50160" y="3570120"/>
              <a:ext cx="1126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00720" y="2433240"/>
              <a:ext cx="1378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500720" y="2592000"/>
              <a:ext cx="13176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682040" y="2382480"/>
              <a:ext cx="226800" cy="20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94640" y="2579400"/>
              <a:ext cx="2206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26120" y="3400200"/>
              <a:ext cx="1145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worked_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6680" y="20667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works_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09600" y="2238120"/>
              <a:ext cx="39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35720" y="1879560"/>
              <a:ext cx="3137040" cy="1282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4T09:19:53Z</dcterms:created>
  <dc:creator>Instytut Informatyki</dc:creator>
  <dc:description/>
  <dc:language>en-US</dc:language>
  <cp:lastModifiedBy>Tadeusz Morzy</cp:lastModifiedBy>
  <dcterms:modified xsi:type="dcterms:W3CDTF">1998-08-11T22:55:48Z</dcterms:modified>
  <cp:revision>63</cp:revision>
  <dc:subject/>
  <dc:title>TRANSFORMATION TO RELATIONSHIP SCHEME</dc:title>
</cp:coreProperties>
</file>