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FE51-8BFD-4F9E-B2FD-DA6CE8D69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2D56-6257-468A-A9DA-44ABAC30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9250-DAAD-4AE9-888A-736872C87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38A2-8ABE-49B3-A94B-E85C6AC38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CA3A-A157-4B3E-AA5D-23C34757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762B-06B2-4390-89A1-D6453838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DE7A-BD14-4C33-B412-F385F851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45A6-E0E3-4AE5-9728-40101234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B0DD-2589-40E2-BF12-D81A3F8D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8B1B-2F24-4C9E-872F-83AD3701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AFC9-E81E-479C-9EAA-7B3EA6BB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6E02-FCB1-4557-87EA-203DD9BE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6998-4713-42FA-9019-4D2099115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cc"/>
                </a:solidFill>
                <a:latin typeface="Times New Roman"/>
              </a:rPr>
              <a:t>Indeks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ndeksy rzadkie i indeksy gę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28760" y="137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328760" y="1376280"/>
          <a:ext cx="648648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8760" y="1376280"/>
                    <a:ext cx="648648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ndeksy podstawowe i indeksy wtór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deks zdefiniowany na zbiorze atrybutów zawierającym klucz podstawowy relacji nazywamy </a:t>
            </a:r>
            <a:r>
              <a:rPr b="0" lang="pl-PL" sz="2400" spc="-1" strike="noStrike">
                <a:solidFill>
                  <a:srgbClr val="3333cc"/>
                </a:solidFill>
                <a:latin typeface="Times New Roman"/>
              </a:rPr>
              <a:t>indeksem podstaw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deks, który nie jest indeksem podstawowym, nazywamy </a:t>
            </a:r>
            <a:r>
              <a:rPr b="0" lang="pl-PL" sz="2400" spc="-1" strike="noStrike">
                <a:solidFill>
                  <a:srgbClr val="3333cc"/>
                </a:solidFill>
                <a:latin typeface="Times New Roman"/>
              </a:rPr>
              <a:t>indeksem wtór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cc"/>
                </a:solidFill>
                <a:latin typeface="Times New Roman"/>
              </a:rPr>
              <a:t>Duplikatam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nazywamy rekordy indeksu o tej samej wartości klu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deks podstawowy nie zawiera duplikat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deks wtórny może zawierać duplika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ndeksy o kluczach złożony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lucz indeksu może zawierać kilka atrybutów – taki klucz nazywamy </a:t>
            </a:r>
            <a:r>
              <a:rPr b="0" lang="pl-PL" sz="2400" spc="-1" strike="noStrike">
                <a:solidFill>
                  <a:srgbClr val="3333cc"/>
                </a:solidFill>
                <a:latin typeface="Times New Roman"/>
              </a:rPr>
              <a:t>kluczem złożo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blemy z realizacją zapyta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pytania punktow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ge=20; sal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pytania z przedziałem wartośc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g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ndeksy o kluczach złożony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5264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52640" y="1523880"/>
          <a:ext cx="7038720" cy="45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2640" y="1523880"/>
                    <a:ext cx="703872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Specyfikacja indeksów w SQL-9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EATE IND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IndAgeRa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 STRUC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T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(age,gp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Wprowadzen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deks zdefiniowany na pliku jest dodatkową strukturą fizyczną, której celem jest przyśpieszenie wykonywania operacji, które niesą dostatecznie wspierane przez podstawowe struktury logiczne 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ksy są zakładane na pojedynczych atrybutach lub zbiorach atrybutów relacj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rybuty te noszą nazwę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ybutów indeksowych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ks jest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rządkowanym plikiem rekordów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deksu (ang. data entry)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łej długości. Rekordy indeksu zawierają dwa pola: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uc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prezentujący jedną z wartości występujących w atrybutach indeksowych relacji oraz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kaźni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lo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nych zawierający krotk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tórej atrybut indeksowy równy jest kluczow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Wprowadzen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ażdy rekord indeks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znaczo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*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wiera dostateczną informacj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możliwiającą wyszukan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jednego lub więce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ekordów danych o wartości klucz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ytani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jaki sposób rekordy indeksu powinny być zorganizowane, aby efektywnie wspierać wyszukiwanie rekordów o danej wartości klucz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o powinien zawierać rekord indeks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Rekordy indeks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ekord indeks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*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możliwia wyszukanie rekordów danych o wartości klucz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ztery typy rekordów indeks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kord indeksu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st rekordem dany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 wartości klucz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kord indeksu</a:t>
            </a:r>
            <a:r>
              <a:rPr b="0" lang="pl-PL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st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arą</a:t>
            </a:r>
            <a:r>
              <a:rPr b="0" lang="pl-PL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k, rid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id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dentyfikator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d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kordu dany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 wartości klucz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kord indeksu</a:t>
            </a:r>
            <a:r>
              <a:rPr b="0" lang="pl-PL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st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arą</a:t>
            </a:r>
            <a:r>
              <a:rPr b="0" lang="pl-PL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k, rid-list&gt;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id-list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istą identyfikatorów rekordów dany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i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 wartości klucz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kord indeksu</a:t>
            </a:r>
            <a:r>
              <a:rPr b="0" lang="pl-PL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st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arą</a:t>
            </a:r>
            <a:r>
              <a:rPr b="0" lang="pl-PL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k, </a:t>
            </a:r>
            <a:r>
              <a:rPr b="0" lang="pl-PL" sz="2400" spc="-1" strike="noStrike">
                <a:solidFill>
                  <a:srgbClr val="3333cc"/>
                </a:solidFill>
                <a:latin typeface="Times New Roman"/>
              </a:rPr>
              <a:t>bitmap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gdzi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itma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ektorem 0 i 1 reprezentującym zbiór rekordów 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ndeksy zgrupowane i nie zgrupow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0976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Jeżeli plik danych jest zorganizowany w ten sposób, że porządek rekordów danych jest taki sam lub zbliżony do uporządkowania rekordów indeksu, to taki indeks nazywamy indeksem zgrupowanym (ang.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lust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nde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i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)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st indeksem zgrupowanym z defini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ian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)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3)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i (4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gą być indeksami zgrupowanym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tedy i tylko wtedy, gdy rekordy danych są uporządkowane wg. wartości atrybutu indeksowe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ndeks zgrupowa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976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09760" y="1285920"/>
          <a:ext cx="8124480" cy="42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1285920"/>
                    <a:ext cx="812448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ndeks nie zgrupowa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976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09760" y="1285920"/>
          <a:ext cx="8124480" cy="42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1285920"/>
                    <a:ext cx="812448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ndeksy zgrupowane i nie zgrupow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omentarz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kordy danych są rzadko uporządkowane (wysoki koszt pielęgnacji plików uporządkowanych) – wymaga stron przepełni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deksy zgrupowane są kosztowne w pielęgn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lik danych może być zgrupowany tylko wg. jednego atrybutu indeks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pytania z przedziałem wartośc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oszt zapytania zależy od typu indek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ndeksy rzadkie i indeksy gę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deks nazywamy </a:t>
            </a:r>
            <a:r>
              <a:rPr b="0" lang="pl-PL" sz="2400" spc="-1" strike="noStrike">
                <a:solidFill>
                  <a:srgbClr val="3333cc"/>
                </a:solidFill>
                <a:latin typeface="Times New Roman"/>
              </a:rPr>
              <a:t>gęsty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jeżeli zawier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kord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deksu per rekord 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deks nazywamy </a:t>
            </a:r>
            <a:r>
              <a:rPr b="0" lang="pl-PL" sz="2400" spc="-1" strike="noStrike">
                <a:solidFill>
                  <a:srgbClr val="3333cc"/>
                </a:solidFill>
                <a:latin typeface="Times New Roman"/>
              </a:rPr>
              <a:t>rzadki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jeżeli zawier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kord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deksu per strona rekordów dany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pliku 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lik danych nazywamy </a:t>
            </a:r>
            <a:r>
              <a:rPr b="0" lang="pl-PL" sz="2400" spc="-1" strike="noStrike">
                <a:solidFill>
                  <a:srgbClr val="3333cc"/>
                </a:solidFill>
                <a:latin typeface="Times New Roman"/>
              </a:rPr>
              <a:t>odwrócony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zględem atrybut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żeli istnieje indeks wtórny na tym atrybuc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lik danych nazywamy </a:t>
            </a:r>
            <a:r>
              <a:rPr b="0" lang="pl-PL" sz="2400" spc="-1" strike="noStrike">
                <a:solidFill>
                  <a:srgbClr val="3333cc"/>
                </a:solidFill>
                <a:latin typeface="Times New Roman"/>
              </a:rPr>
              <a:t>w pełn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3333cc"/>
                </a:solidFill>
                <a:latin typeface="Times New Roman"/>
              </a:rPr>
              <a:t>odwrócony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jeżeli istnieje indeks wtórny na każdym atrybuci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tór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16:14:37Z</dcterms:created>
  <dc:creator>Tadeusz Morzy</dc:creator>
  <dc:description/>
  <dc:language>en-US</dc:language>
  <cp:lastModifiedBy>Tadeusz Morzy</cp:lastModifiedBy>
  <dcterms:modified xsi:type="dcterms:W3CDTF">2001-11-27T19:03:50Z</dcterms:modified>
  <cp:revision>19</cp:revision>
  <dc:subject/>
  <dc:title>Indeksy</dc:title>
</cp:coreProperties>
</file>