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2B6-C4BB-45F5-A725-8E73C982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B9D-3BA5-46AE-AE99-EF66301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38F-F541-47CB-B68C-0254FA6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CDC-39DD-471C-AD02-19292F6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19B-1221-4429-AEF5-DBAEF71F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6B6-0FDE-48E0-99C3-7DA91D3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C4A-431E-4631-B2FD-EB600D3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5BC-539A-4184-9FC7-61F9221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C29-E12B-46E8-9B53-A68FF8F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A96-95D2-4B56-B816-4A3F774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857-A1A1-464C-A22B-173A9CA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ACB-E373-4134-BB8B-B105741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D19-1E03-45F6-8F74-8D8AC03F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etwarzanie równoległe_cz.4</a:t>
            </a:r>
            <a:br>
              <a:rPr sz="3600"/>
            </a:b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owanie algorytmów równoległyc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Aglomeracj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leży 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ew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osowania algorytmów równ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ia obc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 procesorów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ś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 koszt za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la efektyw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ównoważe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ciążenia rząd liczby zada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wi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e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s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1 od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ęd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czby procesor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epsze efekty, gd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w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szanie granulacji reali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je się jed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 w kilku wymiara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dnym - pozwoli to na leps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ptymaliz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w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szenie granula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ożliwe takż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 po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eleni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blic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i uzyskaniu struktury przetwarzania pozwal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j n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fektywniejsz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unikacj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6A2-3FDC-473A-A6FA-1300221F7D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st jakości realizacji etapu komunikacj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y aglomeracja spowod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zmniejszenie kosztów komunikacji dz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 o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u w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ego stopnia lokal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a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 J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i aglomeracja spowodowała powielenie oblic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czy zysk prze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ższ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sz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i dane zostały powielone, czy nie powoduje to utraty skalowal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algorytmu przez ograniczenie zakresu rozmiarów problemu i liczby procesoró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 Czy uzyskano zadania o porównywalnych kosztach komunikacji i oblic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łatwiejszy przydział zadań do procesor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84E-32CB-42F6-B0DF-90809B68EC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st jakości realizacji etapu komunikacj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5. 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liczba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skalowalna z rozmiarem proble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 J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i zmniejszono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j realizacji, czy poziom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jest wystarcz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 Czy liczba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dal zredukowana bez wprowadzania niezrówn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lgorytmy gener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 m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czb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ch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o prostsze i bardziej efektywne 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enerując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dania o m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 ziarnis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03F-A013-4C2E-A675-1E05331BA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dział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r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 miejsca realizacji zad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gorytm przydz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ma za zadanie zminimaliz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wity cza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twarza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osowane strateg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ydzielam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da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ych procesorów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któr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wzrost współbieżności przetwarz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ydzielam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da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o jednego proceso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które komunik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zro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ci przetwarz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e te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o konfliktowe i konieczne jest o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e kompromisu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datkowo ograniczenia zasobowe (pa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a komunikacyjne) mo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granicz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iczb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zad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ń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które m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przydziel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dnego proces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2C0-4676-47A6-886B-E5CCF7BB8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dział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ten nie pojawia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 systemach, które u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wi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utomatyczne szeregowanie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Wystarcza wtedy okr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ie zbioru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wymag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yjnych,  na podstawie których system operacyjny lub sp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 uszereguje zadania do d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nych procesorów. Niestety ogólnego przeznaczenia mechanizmy p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 systemach skalowalnych komputerów równole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ch  nie zost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dotychczas opracowane i problem ten wchodzi w zakres projektowania algoryt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F73-5508-4782-A2D2-BA3A960E8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dział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przydz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jest w ogól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NP zup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y.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tegie specjalizowane i heurystyki dla okr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nych klas problemów, dla których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ne efekty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 przypadku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kompozycji domenow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amy ustalo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czb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dnakowym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szc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twarzania 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global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ub lokal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Zadania na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tak przydziel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by zminimaliz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y procesorami,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rów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łączy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adania i uzysk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 jednym zadaniu na procesor.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315-EE91-4EE5-8E15-DBD4D4043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dział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osz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przetwarza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zypada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a zadanie i  niestruktural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oz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udniejsz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gorytm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równowa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ż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ia obci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ąż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zukują efektywnych strategii aglomeracji i przydz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szt realizacji algorytmu musi 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równ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y przez o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 efekt - redukcji ogólnego czasu przetwar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wn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bc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żeń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atyczne i dynamiczne, rozproszone i scentralizow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A73-C52E-4F09-8A06-12969E6870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dział 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d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e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gorytmów szeregowania zada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sowa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dy funkcjonalna dekompozycja dostarcza wiele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 krótkim czas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cia, które koordyn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 innymi tylko na po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ku i 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 przetwarz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gorytmy te przydziel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adania do procesorów, które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ezczyn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ub prawdopodobne jest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krótce takimi będ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032-EE5B-4417-9F3E-E3E6008DE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chy podejś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jektowanie algorytmu ogólnego –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szerokim zakres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za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go od sp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czeg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za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 od realizacj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sprzętowej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wzg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niane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 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 procesu projektowe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proces projektowania algorytmu s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a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 eta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ja 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lomer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620-176D-441D-94CB-51AB9653C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dz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838080"/>
            <a:ext cx="830556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twarza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obliczenia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b dane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ielone na c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defini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m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zad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zukujemy 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ó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ównole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ych i sposobie rozwiąza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em tego etapu jest odkrycie 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realizacji równole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nikiem jest d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liczba m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ch za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s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lastycz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 przydziału zadań do procesor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e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na tym etapie oce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ch alternatyw strategii po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by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ża drob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iarnis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ział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su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olejnym etap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9AC-6D43-4D81-83B8-043B6C3DBE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dz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otyczy: przetwarzania 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nego z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ązywani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 lu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nych, na których przetwarzanie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realiz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e podział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kompozycja domeno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ar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ble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kompozycja funkcjonalna – oparta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twarza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 (obliczenia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a te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zup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ię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we do stosowania na tym samym lub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ch etapach ro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ywania problemu - dla uzyska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ternatywnyc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orytmów równole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-1417680"/>
            <a:ext cx="4572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CC5-8178-4187-BC9E-B549BF7F9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7600" indent="-85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y istni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dmiarowe przetwarzanie lub wymagania na pa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47600" indent="-85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zadania 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równywalnych rozmiarów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3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psze wyrównanie obciążenia procesor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0" indent="-85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liczba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 z rozmiarem problemu czy jest stała ?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33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inna rosnąć – lepsze zrównoleglenie przetwarz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0" indent="-85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podano r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 alternatywne pod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ział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4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st jakości realizacji etapu podział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213-E3ED-42F9-8B8B-96F814B7E6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ja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ania 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 siebi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zal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e. Dane zw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zane z jednym zadaniem 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niezb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ne do realizacji innego zadania.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ąd wynika konieczność komunikacj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kreślenie struktury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yjne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sk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a s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z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Definicja struktury kan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ów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z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ych zadania producentów i konsumentów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formacj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pu 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 kog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o kog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ja komunikatów do przesłania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formacj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co , kied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 niektórych modelach przetwarzania (np. shared memory, data-parallel programming) etap ten nie jest wymagany, lecz pozwala na etapie koncepcji ocenić zagadnienia kosztów komunikacyjnych, lokalnej dostępności i sąsiedztw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C4F-E360-4137-B5E0-93E390427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ja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ik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dmiarowych prze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ka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w (ich wy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wanie w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s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 dodatkowymi kosztam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a-globalna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zestnicz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edz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 proces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alna-niestrukturalna - regularne, nieregularne graf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omunik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tyczna-dynamiczna - partnerzy komunikacyjni sta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u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mie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ający się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 czasie przetwar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czna-asynchroniczna - prz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a wymag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cy, synchronizacji producenta i konsumen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u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iez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realizacja operacji producenta i konsum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7C4-04E2-4CDD-87CE-E35A113FC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st jakości realizacji etapu komunik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liczba opera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unikacji przypadających na każde zadanie jest podobna ?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nie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leż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zprosz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ub powie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komunikacj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a ?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nie 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leży j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ksz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 struktu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i loka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operacje komunikacji mo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?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nie to brak efektyw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i ska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walnoś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y przetwarzanie r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ych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być realizowa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równocześ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nie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a konieczność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mi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lej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operacji komun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F4A-8EDF-4945-B08F-C4241C7DFC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Aglomeracj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zczeg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wienie algorytmu pod wzg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m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osowanego komputera równoległeg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liczby procesoró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konuje się p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e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ilku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 jedno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em jest minimalizacja kosztów komunikacji poprzez wzrost ziarnis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przetwarzania i komunikacji przy zapewnieniu skalow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i elastycz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dl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tap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y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ustal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g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 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 minimalizac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czby za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nie rob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go n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tyw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 za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zadania 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warto aby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ich 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j, gd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wi to czasowe na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nie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ji i przetwarza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wanie algorytmów równoległ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785-6D83-4593-8C07-72ECE67C8D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9:03:43Z</dcterms:created>
  <dc:creator>Rafał Walkowiak</dc:creator>
  <dc:description/>
  <dc:language>en-US</dc:language>
  <cp:lastModifiedBy>andrzej</cp:lastModifiedBy>
  <dcterms:modified xsi:type="dcterms:W3CDTF">2004-01-19T11:53:37Z</dcterms:modified>
  <cp:revision>78</cp:revision>
  <dc:subject/>
  <dc:title>Przetwarzanie równoległe_cz.4</dc:title>
</cp:coreProperties>
</file>