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EE7-6363-4558-A8C2-CDF27E9D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415-5624-4C89-A44C-FA35BDFF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775-ECE2-46A6-A44E-E013D961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B70-333C-4CD2-BD1C-A04D9A85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6BE-8FD8-46D3-BC6B-1D64ABED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AC7-266E-44D9-A67B-AAAA973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38C-AB90-4B32-B61F-11FC6EE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D8B-35D9-4E62-9D93-E901DCF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0E8-032A-4CAE-960E-13E6E03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AE3-57A5-4608-B35D-966399A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A81-9204-4D24-8961-DBC8098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62D-4E94-494B-A164-6C38CD4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714984-C0B4-492D-89C9-B4512312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766960"/>
            <a:ext cx="9213840" cy="19209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ENTITY RELATIONSHIP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ACLE n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7120" y="609120"/>
            <a:ext cx="650232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2320" y="2868480"/>
            <a:ext cx="75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cular occurrence of a relationship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 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6520" y="3656160"/>
            <a:ext cx="418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are described in term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ssociations (connectivity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ity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ce (membership 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12760" y="609120"/>
            <a:ext cx="552420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53640" y="2322360"/>
            <a:ext cx="877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gree of a 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entities associated in the relationsh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ry (recursive bin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ary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06200" y="4392720"/>
            <a:ext cx="831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vity of a 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the mapping of the associ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instances in the relationship. Values for connectivity are either “on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“many”. The actual number associated with the connectivity is called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rdin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elationship. We distinguish the following types of connectiv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many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800" y="378000"/>
            <a:ext cx="4065840" cy="19843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nectivity of a relationship (1: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97440" y="438120"/>
            <a:ext cx="4842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o-One Relationship (1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ry department must have a manager, and an employee can be a manager of at most one depart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67440" y="22082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53560" y="29624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95280" y="26431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42160" y="348444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49120" y="2343240"/>
            <a:ext cx="103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83440" y="3376440"/>
            <a:ext cx="1460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59600" y="2432160"/>
            <a:ext cx="2235240" cy="102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1440" y="3610080"/>
            <a:ext cx="1996920" cy="55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79960" y="335268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9640" y="208908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2040" y="2598840"/>
            <a:ext cx="157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 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70600" y="3683160"/>
            <a:ext cx="15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98920" y="4035600"/>
            <a:ext cx="379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to-One Relationship (1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240" y="464040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7400" y="464040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4520" y="4797360"/>
            <a:ext cx="23306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74800" y="449280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58960" y="4778280"/>
            <a:ext cx="15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84440" y="5295960"/>
            <a:ext cx="6263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mployee can be a manager of on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art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partment is managed by exact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loy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19120" y="5275440"/>
            <a:ext cx="651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2520" y="390240"/>
            <a:ext cx="4101840" cy="1971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nectivity of a relationshi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: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7440" y="438120"/>
            <a:ext cx="484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o-Many Relationship (1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ry employee works in exactly one department, and each department may have (but not necessary) many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6480" y="22813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7600" y="3052800"/>
            <a:ext cx="68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74000" y="375444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0600" y="229068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01320" y="306216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52760" y="4135320"/>
            <a:ext cx="124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2000" y="2419200"/>
            <a:ext cx="2663640" cy="2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78360" y="3193920"/>
            <a:ext cx="2627280" cy="2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039000" y="3365640"/>
            <a:ext cx="2350800" cy="52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20320" y="20779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64960" y="28386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34800" y="35002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44480" y="24732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14160" y="286704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44920" y="4178160"/>
            <a:ext cx="36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o-Many Relationship (1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50800" y="47829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6920" y="478296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06680" y="4938840"/>
            <a:ext cx="2449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720" y="463536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40880" y="4983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06680" y="4822920"/>
            <a:ext cx="1936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400560" y="4943520"/>
            <a:ext cx="18072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25400" y="5605560"/>
            <a:ext cx="6353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mployee works in exactly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art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partment may have none, one 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60440" y="558468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80920" y="34005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720" y="388440"/>
            <a:ext cx="4130640" cy="23590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nectivity of a relationship (M: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79440"/>
            <a:ext cx="484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-to-Many Relationship (M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ry employee might work on none, one or many projects. Each project is worked on by one or many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29840" y="2017800"/>
            <a:ext cx="68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45280" y="285264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50920" y="2403360"/>
            <a:ext cx="68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01640" y="326880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31880" y="2092320"/>
            <a:ext cx="179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6560" y="3232080"/>
            <a:ext cx="181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43440" y="2181240"/>
            <a:ext cx="2235240" cy="103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64120" y="3419640"/>
            <a:ext cx="2817720" cy="4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3000" y="187488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72080" y="246528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459400" y="2320560"/>
            <a:ext cx="2455920" cy="235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2406600"/>
            <a:ext cx="2759040" cy="627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8240" y="2193840"/>
            <a:ext cx="2092320" cy="1198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8120" y="308628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25880" y="346392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89760" y="3927600"/>
            <a:ext cx="38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-to-Many Relationship (M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9440" y="453240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2480" y="453240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51160" y="4687920"/>
            <a:ext cx="2449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4560" y="438480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82920" y="471312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4572000"/>
            <a:ext cx="1936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44320" y="4692600"/>
            <a:ext cx="1810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99000" y="4565520"/>
            <a:ext cx="1936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2880" y="4686480"/>
            <a:ext cx="20952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63480" y="5354640"/>
            <a:ext cx="6347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mployee may work 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n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or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ject is worked on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or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1760" y="533412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85000" y="2944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nectivity of a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656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30400" y="32385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36320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0400" y="402588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55600" y="43689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68560" y="4724280"/>
            <a:ext cx="1267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60440" y="32511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98600" y="36194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0440" y="398772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47840" y="43560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7840" y="4737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206360" y="3301560"/>
            <a:ext cx="10796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06360" y="3695400"/>
            <a:ext cx="111780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244520" y="4419360"/>
            <a:ext cx="1054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608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26160" y="284472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03840" y="280656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279396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36960" y="32004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594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11760" y="400068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98800" y="441972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8800" y="47880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94440" y="3213000"/>
            <a:ext cx="1267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19640" y="354348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19640" y="39243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43941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19640" y="47750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25880" y="3238560"/>
            <a:ext cx="12700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975120" y="3581280"/>
            <a:ext cx="1270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000680" y="4457880"/>
            <a:ext cx="126972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076640"/>
            <a:ext cx="129528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62520" y="4012920"/>
            <a:ext cx="132084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85080" y="31878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72480" y="355608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97680" y="398772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23240" y="443232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47880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31120" y="48006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31120" y="43560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31120" y="39495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31120" y="3594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80360" y="31878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74000" y="3225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74000" y="3251160"/>
            <a:ext cx="127008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061040" y="3251160"/>
            <a:ext cx="12700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074000" y="3670200"/>
            <a:ext cx="128268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4064040"/>
            <a:ext cx="12700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124760" y="440676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099200" y="4825800"/>
            <a:ext cx="1257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5600" y="55990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01480" y="56498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4040" y="56372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7920" y="340920"/>
            <a:ext cx="4197240" cy="1925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istence of a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825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26760" y="19256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24800" y="8352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18040" y="194004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54640" y="97956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59600" y="209880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44200" y="6508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34760" y="17683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31400" y="709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86920" y="2122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8720" y="13795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168960" y="1607760"/>
            <a:ext cx="2462400" cy="438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9880" y="1461960"/>
            <a:ext cx="48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01240" y="132228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22040" y="2556000"/>
            <a:ext cx="5655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existence in the real wor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e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loyee has a 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ft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’t k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ther an employee has a 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5880" y="357660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 existence in the real wor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ong to at least one employ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3440" y="4881600"/>
            <a:ext cx="271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side manda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53040" y="5746680"/>
            <a:ext cx="556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mploye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none, one or many c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ong to at least one employ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89160" y="572616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5480" y="5046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39720" y="504684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40680" y="49039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65960" y="52149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81360" y="5203800"/>
            <a:ext cx="1019520" cy="111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03760" y="5214960"/>
            <a:ext cx="131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676560" y="5086440"/>
            <a:ext cx="250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2480" y="5218200"/>
            <a:ext cx="2253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80080" y="4591080"/>
            <a:ext cx="1941480" cy="28404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4080" y="282240"/>
            <a:ext cx="8407440" cy="2017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al and mandatory existence of entities in relationship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5480" y="2687760"/>
            <a:ext cx="44262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-side mandatory 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ompany has trucks. For each truck we must keep data concerning last service. Each service , we store data about, must concern one company 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7960" y="2687760"/>
            <a:ext cx="4425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-side optional 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ry professional association could have none, one, or many engineer members. Each engineer could be a member of none, one, or many professional associ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360" y="4795920"/>
            <a:ext cx="71856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55960" y="479592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32280" y="45720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1840" y="5002200"/>
            <a:ext cx="97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77920" y="4950000"/>
            <a:ext cx="266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580920" y="4822920"/>
            <a:ext cx="250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94240" y="4954680"/>
            <a:ext cx="2253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17760" y="476712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91160" y="472932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F_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9520" y="454824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38800" y="4883040"/>
            <a:ext cx="2028960" cy="25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94520" y="4759200"/>
            <a:ext cx="21276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181200" y="4913280"/>
            <a:ext cx="225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47560" y="4929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8800" y="615600"/>
            <a:ext cx="3411720" cy="14605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nary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62800" y="744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74240" y="192708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87560" y="141768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02240" y="239076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25360" y="1308240"/>
            <a:ext cx="103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59680" y="2341440"/>
            <a:ext cx="1460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83320" y="1003320"/>
            <a:ext cx="2687400" cy="496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54600" y="2062080"/>
            <a:ext cx="2330640" cy="438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59720" y="18176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24960" y="7682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84120" y="15858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01600" y="21081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37400" y="1562040"/>
            <a:ext cx="2485800" cy="9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89800" y="12654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07080" y="2527200"/>
            <a:ext cx="2341440" cy="92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19960" y="22320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99800" y="3176640"/>
            <a:ext cx="248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7600" y="39243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700400" y="392436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57880" y="408132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09000" y="37656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0040" y="4110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2040" y="3973680"/>
            <a:ext cx="25704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348160" y="4081320"/>
            <a:ext cx="2318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560" y="2511360"/>
            <a:ext cx="271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ociation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objec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724280"/>
            <a:ext cx="257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05000" y="3506760"/>
            <a:ext cx="1177920" cy="1035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7320" y="609120"/>
            <a:ext cx="5130720" cy="18162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nary recurs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63720" y="455292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19600" y="4602240"/>
            <a:ext cx="25740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26080" y="4710240"/>
            <a:ext cx="23184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65640" y="4719600"/>
            <a:ext cx="1214280" cy="40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79" y="191"/>
                </a:moveTo>
                <a:arcTo wR="10800" hR="10800" stAng="-6047058" swAng="17358904"/>
                <a:lnTo>
                  <a:pt x="10800" y="10800"/>
                </a:lnTo>
                <a:close/>
              </a:path>
              <a:path fill="none" w="21600" h="21600">
                <a:moveTo>
                  <a:pt x="8779" y="191"/>
                </a:moveTo>
                <a:arcTo wR="10800" hR="10800" stAng="-6047058" swAng="17358904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02840" y="4389480"/>
            <a:ext cx="140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subord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28800" y="5021280"/>
            <a:ext cx="91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69600" y="3262320"/>
            <a:ext cx="48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 are divided into groups for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. Each group has a l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0280" y="3452760"/>
            <a:ext cx="36511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recursive 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s a particular entity in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other instance of its own 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387360"/>
            <a:ext cx="4730760" cy="15876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igin of entity -relationship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4120" y="380880"/>
            <a:ext cx="441936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networks - Quillian [196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59960" y="236052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5160" y="220824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3720" y="2665440"/>
            <a:ext cx="53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3720" y="310824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93440" y="2365200"/>
            <a:ext cx="1521000" cy="14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592000" y="2592360"/>
            <a:ext cx="1521000" cy="22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592000" y="2668680"/>
            <a:ext cx="152100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9040" y="22320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4920" y="25369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04920" y="29178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35920" y="4235400"/>
            <a:ext cx="130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400" y="335124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_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2741760"/>
            <a:ext cx="11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_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31200" y="3427560"/>
            <a:ext cx="114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6080" y="3736800"/>
            <a:ext cx="377640" cy="45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67012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8520" y="3051000"/>
            <a:ext cx="758880" cy="114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3660840"/>
            <a:ext cx="121608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1920" y="29941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76120" y="3298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6640" y="37558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7720" y="37558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8760" y="4235400"/>
            <a:ext cx="113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6520" y="281772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80960" y="2817720"/>
            <a:ext cx="112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8800" y="4722840"/>
            <a:ext cx="106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1240" y="4768920"/>
            <a:ext cx="82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6840" y="3127320"/>
            <a:ext cx="682560" cy="11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165440" y="3127320"/>
            <a:ext cx="606600" cy="11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392600" y="4497480"/>
            <a:ext cx="106380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716440" y="4497480"/>
            <a:ext cx="68292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152880" y="4406760"/>
            <a:ext cx="3171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72160" y="3352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96040" y="3352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960" y="4495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19520" y="4495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520" y="4921200"/>
            <a:ext cx="13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921200"/>
            <a:ext cx="13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5400" y="5715000"/>
            <a:ext cx="145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_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2400" y="5942160"/>
            <a:ext cx="133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_w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27000" y="5942160"/>
            <a:ext cx="106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373040" y="449712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2360" y="4497120"/>
            <a:ext cx="835200" cy="453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63560" y="5411880"/>
            <a:ext cx="37800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677960" y="5411880"/>
            <a:ext cx="30168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429000" y="5411880"/>
            <a:ext cx="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360" y="54324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4720" y="5584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8960" y="5584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2400" y="4060800"/>
            <a:ext cx="173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associated-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49520" y="4594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54240" y="4594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280120"/>
            <a:ext cx="52578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-part-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s used to model composite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designed to model inheritanc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-associated-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designed to modeling dependencies between entiti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4000" y="5257800"/>
            <a:ext cx="533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66640" y="468000"/>
            <a:ext cx="3517920" cy="1671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nary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9080" y="1033560"/>
            <a:ext cx="179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50800" y="3338640"/>
            <a:ext cx="181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50040" y="15908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09720" y="217656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48240" y="279576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29640" y="162720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29640" y="222084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30000" y="282888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38960" y="1747800"/>
            <a:ext cx="950760" cy="1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491160" y="1356840"/>
            <a:ext cx="12240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91160" y="1765440"/>
            <a:ext cx="1374840" cy="668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57680" y="1817640"/>
            <a:ext cx="1249560" cy="40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807240" y="1922040"/>
            <a:ext cx="1022400" cy="29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721560" y="2224080"/>
            <a:ext cx="85680" cy="1197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627520" y="2927520"/>
            <a:ext cx="1586160" cy="1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914880" y="2928960"/>
            <a:ext cx="31572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2760" y="2928960"/>
            <a:ext cx="668160" cy="8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608800" y="2030400"/>
            <a:ext cx="1038240" cy="31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667560" y="1376280"/>
            <a:ext cx="1584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86640" y="2030400"/>
            <a:ext cx="114444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61000" y="1800000"/>
            <a:ext cx="1498680" cy="107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791040" y="1356840"/>
            <a:ext cx="36972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2920" y="1782720"/>
            <a:ext cx="650880" cy="6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7200" y="2897280"/>
            <a:ext cx="7452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2192400"/>
            <a:ext cx="7488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2920" y="1989000"/>
            <a:ext cx="74880" cy="74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30880" y="1747800"/>
            <a:ext cx="7488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51560" y="1728720"/>
            <a:ext cx="7452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9560" y="2370240"/>
            <a:ext cx="271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ociation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objec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1440" y="4319640"/>
            <a:ext cx="263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nar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87360" y="3152880"/>
            <a:ext cx="1177920" cy="1035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03480" y="3705120"/>
            <a:ext cx="263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nar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98680" y="4452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11840" y="4452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68960" y="461016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50760" y="424332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89520" y="485928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53120" y="4502160"/>
            <a:ext cx="2570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259240" y="4610160"/>
            <a:ext cx="2318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42680" y="515304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559200" y="4609800"/>
            <a:ext cx="52200" cy="538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920" y="4249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446880" y="4966920"/>
            <a:ext cx="1382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86560" y="4967280"/>
            <a:ext cx="16992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1905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IZ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 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95040" y="3198960"/>
            <a:ext cx="76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alization relationship specifies that several types of entitie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common attributes can be generalized into a higher level entity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class entity which more commonly known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typ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1000" y="4303800"/>
            <a:ext cx="78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levels of entities - subtypes in a generalization hierarchy - can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disjoint or overlapping subsets of the supertyp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22480" y="514188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combination of supertype/subtype relationships comprise a structu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ructure is called a supertype/subtype hierarchy, generalization hierarc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ntity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7920" y="412560"/>
            <a:ext cx="4197240" cy="1401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 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13200" y="415800"/>
            <a:ext cx="4426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eritance of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company employs contract and hourly employees. All employees share some common attributes, but both contract and hourly employees have also some specific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88560" y="2163600"/>
            <a:ext cx="198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polean Stre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rs_worked = 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rly_wage = 5 usd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37440" y="225576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Street 14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id = X578138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00800" y="3056040"/>
            <a:ext cx="169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rly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02240" y="3076560"/>
            <a:ext cx="185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74840" y="3259080"/>
            <a:ext cx="210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ty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337000" y="3984480"/>
            <a:ext cx="2229120" cy="2527560"/>
            <a:chOff x="5337000" y="3984480"/>
            <a:chExt cx="2229120" cy="2527560"/>
          </a:xfrm>
        </p:grpSpPr>
        <p:sp>
          <p:nvSpPr>
            <p:cNvPr id="561" name=""/>
            <p:cNvSpPr/>
            <p:nvPr/>
          </p:nvSpPr>
          <p:spPr>
            <a:xfrm>
              <a:off x="5371920" y="3984480"/>
              <a:ext cx="12517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a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5508720" y="4981680"/>
              <a:ext cx="2012760" cy="518760"/>
              <a:chOff x="5508720" y="4981680"/>
              <a:chExt cx="2012760" cy="51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5522760" y="4981680"/>
                <a:ext cx="1998720" cy="518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08720" y="5268960"/>
                <a:ext cx="19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521320" y="5645160"/>
              <a:ext cx="1924200" cy="731880"/>
              <a:chOff x="5521320" y="5645160"/>
              <a:chExt cx="1924200" cy="731880"/>
            </a:xfrm>
          </p:grpSpPr>
          <p:sp>
            <p:nvSpPr>
              <p:cNvPr id="566" name=""/>
              <p:cNvSpPr/>
              <p:nvPr/>
            </p:nvSpPr>
            <p:spPr>
              <a:xfrm>
                <a:off x="5534280" y="5645160"/>
                <a:ext cx="1785240" cy="731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s_work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_w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521320" y="5913360"/>
                <a:ext cx="192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346720" y="3989520"/>
              <a:ext cx="2212920" cy="252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7000" y="4229280"/>
              <a:ext cx="22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503160" y="4479840"/>
            <a:ext cx="1251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om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87320" y="5327640"/>
            <a:ext cx="1251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13600" y="379260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super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907040" y="447984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sub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611680" y="3443400"/>
            <a:ext cx="1916280" cy="4633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94240" y="499104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800600" y="4552560"/>
            <a:ext cx="622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75160" y="5823000"/>
            <a:ext cx="116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743360" y="5378040"/>
            <a:ext cx="8384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49840" y="5816520"/>
            <a:ext cx="85716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45280" y="4083120"/>
            <a:ext cx="161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454880" y="4083120"/>
            <a:ext cx="5904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962840" y="4749840"/>
            <a:ext cx="1682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65960" y="4756320"/>
            <a:ext cx="60336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384680" y="4756320"/>
            <a:ext cx="584280" cy="10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925800"/>
            <a:ext cx="36640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entity hierarch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s inherit all attrib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its super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stance of a super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lways an instance of one of its sub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04840" y="3917520"/>
            <a:ext cx="375912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7000" y="282600"/>
            <a:ext cx="4006800" cy="1790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 hierarchy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13200" y="415800"/>
            <a:ext cx="44262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eritance of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very employee works on a specific position in a company department. We would like to keep track of companies where contract employees worked in bef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3080" y="210168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43040" y="211284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SIT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614440" y="399888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073480" y="3395520"/>
            <a:ext cx="1570320" cy="1879920"/>
            <a:chOff x="5073480" y="3395520"/>
            <a:chExt cx="1570320" cy="1879920"/>
          </a:xfrm>
        </p:grpSpPr>
        <p:sp>
          <p:nvSpPr>
            <p:cNvPr id="593" name=""/>
            <p:cNvSpPr/>
            <p:nvPr/>
          </p:nvSpPr>
          <p:spPr>
            <a:xfrm>
              <a:off x="5283000" y="3914640"/>
              <a:ext cx="103860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TRAC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83000" y="4581360"/>
              <a:ext cx="103860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URL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7560" y="34131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73480" y="3395520"/>
              <a:ext cx="1570320" cy="187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337440" y="416556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37440" y="4019400"/>
            <a:ext cx="2286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343560" y="4165560"/>
            <a:ext cx="2160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8407080" y="4051440"/>
            <a:ext cx="19692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13920" y="4159080"/>
            <a:ext cx="19044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403960" y="2940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403960" y="244440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26360" y="291456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26360" y="244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276520" y="3187800"/>
            <a:ext cx="1270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97480" y="32068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305040" y="3193920"/>
            <a:ext cx="1270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26360" y="321300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67320" y="2879640"/>
            <a:ext cx="825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87120" y="243540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440" y="2892600"/>
            <a:ext cx="825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15200" y="2435400"/>
            <a:ext cx="93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_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0600" y="38512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51040" y="418140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isted_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1960" y="2235240"/>
            <a:ext cx="37591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s_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s_ a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rn both contract and hourly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ed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pecific for contract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560" y="5594400"/>
            <a:ext cx="6477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of the generalization hierarch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btypes inherit all relationships of its supertype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9800" y="55976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53960" y="609120"/>
            <a:ext cx="46479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89640" y="21448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attribu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53280" y="337644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uniqu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an instance of an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65920" y="3376440"/>
            <a:ext cx="35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specif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unique characteristic of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entity in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44000" y="4836960"/>
            <a:ext cx="73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dentifiers and descriptors may consist of either single attribute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posite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07360" y="575136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may be singlevalued or multival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0760" y="317160"/>
            <a:ext cx="4006800" cy="1878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que identifier of an ent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19600" y="318960"/>
            <a:ext cx="431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entity must be uniquely identifiable so that each instance of the entity is separate and distinctly identifiable from all other instances of that type of ent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nique identifier may be a single attribute, a combination of attributes, a combination of relationships or a combination of relationships and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1160" y="2698920"/>
            <a:ext cx="412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270320" y="3238560"/>
            <a:ext cx="1498680" cy="1371240"/>
            <a:chOff x="4270320" y="3238560"/>
            <a:chExt cx="1498680" cy="1371240"/>
          </a:xfrm>
        </p:grpSpPr>
        <p:sp>
          <p:nvSpPr>
            <p:cNvPr id="629" name=""/>
            <p:cNvSpPr/>
            <p:nvPr/>
          </p:nvSpPr>
          <p:spPr>
            <a:xfrm>
              <a:off x="4289400" y="3238560"/>
              <a:ext cx="146520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tar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70320" y="34988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338960" y="3238560"/>
            <a:ext cx="1498680" cy="1371240"/>
            <a:chOff x="7338960" y="3238560"/>
            <a:chExt cx="1498680" cy="1371240"/>
          </a:xfrm>
        </p:grpSpPr>
        <p:sp>
          <p:nvSpPr>
            <p:cNvPr id="632" name=""/>
            <p:cNvSpPr/>
            <p:nvPr/>
          </p:nvSpPr>
          <p:spPr>
            <a:xfrm>
              <a:off x="7354800" y="3238560"/>
              <a:ext cx="146520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tar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38960" y="34956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301800" y="381780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720" y="4689360"/>
            <a:ext cx="50738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attributes ensuring uniqueness &gt; 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of an identifier have large siz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of an identifier are often updat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dd an artificial attribute to an entity that uniquely identifies each entity in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410080" y="5075280"/>
            <a:ext cx="1613160" cy="1371240"/>
            <a:chOff x="5410080" y="5075280"/>
            <a:chExt cx="1613160" cy="1371240"/>
          </a:xfrm>
        </p:grpSpPr>
        <p:sp>
          <p:nvSpPr>
            <p:cNvPr id="637" name=""/>
            <p:cNvSpPr/>
            <p:nvPr/>
          </p:nvSpPr>
          <p:spPr>
            <a:xfrm>
              <a:off x="5424480" y="5075280"/>
              <a:ext cx="157176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id_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0080" y="5353200"/>
              <a:ext cx="161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67920" y="125280"/>
            <a:ext cx="9186840" cy="1260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attributes - integrity con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3600" y="1492200"/>
            <a:ext cx="903600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t of possible values associated with an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tion: project_name - VARCHAR(25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ary - NUMBER(8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600" y="2492280"/>
            <a:ext cx="903600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ttribute those value for all entity instances must always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na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second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600" y="3479760"/>
            <a:ext cx="902664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of an identifier must always be unique and defined for all instances of an ent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project_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600" y="4475160"/>
            <a:ext cx="902664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ed attribut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restriction on a set of values accepted by a given attribute; defined by means of logical expressions and references to other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(day(pay_date) &lt;&gt; ’Sunday’), check(end_date &gt; start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3600" y="5754600"/>
            <a:ext cx="902664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integrity constr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t of acceptable transitions of  the state of an attrib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chelor, married, wid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0320" y="112680"/>
            <a:ext cx="8407440" cy="13334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relationships - integrity con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7040" y="1576440"/>
            <a:ext cx="944568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/optional relationsh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instance of an entity must al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 corresponding instance of a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3080" y="1558800"/>
            <a:ext cx="200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datory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83680" y="1558800"/>
            <a:ext cx="1821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tional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590360" y="1817640"/>
            <a:ext cx="2551320" cy="475560"/>
            <a:chOff x="4590360" y="1817640"/>
            <a:chExt cx="2551320" cy="475560"/>
          </a:xfrm>
        </p:grpSpPr>
        <p:sp>
          <p:nvSpPr>
            <p:cNvPr id="650" name=""/>
            <p:cNvSpPr/>
            <p:nvPr/>
          </p:nvSpPr>
          <p:spPr>
            <a:xfrm>
              <a:off x="4590360" y="1987560"/>
              <a:ext cx="103860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676840" y="2136960"/>
              <a:ext cx="1464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70000" y="2024280"/>
              <a:ext cx="2149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676840" y="2138400"/>
              <a:ext cx="2016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7520" y="181764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works_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064280" y="1749600"/>
            <a:ext cx="2519640" cy="666000"/>
            <a:chOff x="7064280" y="1749600"/>
            <a:chExt cx="2519640" cy="666000"/>
          </a:xfrm>
        </p:grpSpPr>
        <p:sp>
          <p:nvSpPr>
            <p:cNvPr id="656" name=""/>
            <p:cNvSpPr/>
            <p:nvPr/>
          </p:nvSpPr>
          <p:spPr>
            <a:xfrm>
              <a:off x="7064280" y="2109960"/>
              <a:ext cx="103860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128440" y="2258640"/>
              <a:ext cx="123624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21960" y="2146320"/>
              <a:ext cx="2102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128080" y="2260800"/>
              <a:ext cx="1976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5280" y="1749600"/>
              <a:ext cx="1358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ssigned_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09520" y="2657520"/>
            <a:ext cx="952200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n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e a week entity defin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34520" y="2919240"/>
            <a:ext cx="93168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19200" y="2919240"/>
            <a:ext cx="1251720" cy="51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ALANC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53080" y="2919240"/>
            <a:ext cx="114516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31800" y="3138480"/>
            <a:ext cx="93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5280" y="3105000"/>
            <a:ext cx="135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cr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uantity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76640" y="308916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52920" y="30891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827680" y="29433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34160" y="3089160"/>
            <a:ext cx="164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713560" y="3003480"/>
            <a:ext cx="144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7288200" y="3083040"/>
            <a:ext cx="476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40800" y="3084480"/>
            <a:ext cx="4950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1720" y="2955960"/>
            <a:ext cx="19080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281720" y="3083040"/>
            <a:ext cx="190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69360" y="3009960"/>
            <a:ext cx="6120" cy="16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520" y="4033800"/>
            <a:ext cx="95248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lusivity (ar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item must concern either one and only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 or against one and only one servi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248080" y="4048200"/>
            <a:ext cx="3344040" cy="1058040"/>
            <a:chOff x="5248080" y="4048200"/>
            <a:chExt cx="3344040" cy="1058040"/>
          </a:xfrm>
        </p:grpSpPr>
        <p:sp>
          <p:nvSpPr>
            <p:cNvPr id="679" name=""/>
            <p:cNvSpPr/>
            <p:nvPr/>
          </p:nvSpPr>
          <p:spPr>
            <a:xfrm>
              <a:off x="5248080" y="4159080"/>
              <a:ext cx="611640" cy="94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60440" y="4172040"/>
              <a:ext cx="93168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0440" y="4800600"/>
              <a:ext cx="93168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72320" y="433692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81760" y="43369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78440" y="4959360"/>
              <a:ext cx="99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81760" y="49593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72320" y="4206960"/>
              <a:ext cx="164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871960" y="4340160"/>
              <a:ext cx="1522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78440" y="4829040"/>
              <a:ext cx="1652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5878440" y="4962600"/>
              <a:ext cx="1526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79880" y="4214880"/>
              <a:ext cx="3175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2" y="1"/>
                  </a:moveTo>
                  <a:arcTo wR="10800" hR="10800" stAng="-5434315" swAng="10834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2" y="1"/>
                  </a:moveTo>
                  <a:arcTo wR="10800" hR="10800" stAng="-5434315" swAng="1083431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10280" y="4311720"/>
              <a:ext cx="604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26120" y="4930920"/>
              <a:ext cx="5076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83280" y="404820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21080" y="46702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09520" y="5396040"/>
            <a:ext cx="95248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transferable relationsh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lationship is non-transferable if an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ce cannot be disconnected or r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o another instance of the same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085720" y="5484960"/>
            <a:ext cx="3947760" cy="667440"/>
            <a:chOff x="5085720" y="5484960"/>
            <a:chExt cx="3947760" cy="667440"/>
          </a:xfrm>
        </p:grpSpPr>
        <p:sp>
          <p:nvSpPr>
            <p:cNvPr id="697" name=""/>
            <p:cNvSpPr/>
            <p:nvPr/>
          </p:nvSpPr>
          <p:spPr>
            <a:xfrm>
              <a:off x="5085720" y="5616720"/>
              <a:ext cx="71856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R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01800" y="5508720"/>
              <a:ext cx="931680" cy="51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RD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583400" y="5695920"/>
              <a:ext cx="171360" cy="171360"/>
              <a:chOff x="7583400" y="5695920"/>
              <a:chExt cx="171360" cy="171360"/>
            </a:xfrm>
          </p:grpSpPr>
          <p:sp>
            <p:nvSpPr>
              <p:cNvPr id="700" name=""/>
              <p:cNvSpPr/>
              <p:nvPr/>
            </p:nvSpPr>
            <p:spPr>
              <a:xfrm>
                <a:off x="7583400" y="5695920"/>
                <a:ext cx="171360" cy="17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520000">
                <a:off x="7613640" y="5718240"/>
                <a:ext cx="114480" cy="123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819760" y="5780160"/>
              <a:ext cx="17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53320" y="578016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934040" y="5638680"/>
              <a:ext cx="1522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948440" y="5781600"/>
              <a:ext cx="1382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87720" y="54849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5400" y="5846760"/>
              <a:ext cx="1251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belongs_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5000" y="235080"/>
            <a:ext cx="4876920" cy="1936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que identifiers in a generalization 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99200" y="237960"/>
            <a:ext cx="42735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s of defining a unique identifier in a generalization hierarch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identifiers on the lowest level          of th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identifier on the top level of th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034040" y="1990800"/>
            <a:ext cx="2228760" cy="2526840"/>
            <a:chOff x="7034040" y="1990800"/>
            <a:chExt cx="2228760" cy="2526840"/>
          </a:xfrm>
        </p:grpSpPr>
        <p:sp>
          <p:nvSpPr>
            <p:cNvPr id="711" name=""/>
            <p:cNvSpPr/>
            <p:nvPr/>
          </p:nvSpPr>
          <p:spPr>
            <a:xfrm>
              <a:off x="7068960" y="1990800"/>
              <a:ext cx="12517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a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7205400" y="2987640"/>
              <a:ext cx="2013120" cy="518760"/>
              <a:chOff x="7205400" y="2987640"/>
              <a:chExt cx="2013120" cy="518760"/>
            </a:xfrm>
          </p:grpSpPr>
          <p:sp>
            <p:nvSpPr>
              <p:cNvPr id="713" name=""/>
              <p:cNvSpPr/>
              <p:nvPr/>
            </p:nvSpPr>
            <p:spPr>
              <a:xfrm>
                <a:off x="7219800" y="2987640"/>
                <a:ext cx="1998720" cy="518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05400" y="3274560"/>
                <a:ext cx="19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218360" y="3651120"/>
              <a:ext cx="1923840" cy="731880"/>
              <a:chOff x="7218360" y="3651120"/>
              <a:chExt cx="1923840" cy="731880"/>
            </a:xfrm>
          </p:grpSpPr>
          <p:sp>
            <p:nvSpPr>
              <p:cNvPr id="716" name=""/>
              <p:cNvSpPr/>
              <p:nvPr/>
            </p:nvSpPr>
            <p:spPr>
              <a:xfrm>
                <a:off x="7230960" y="3651120"/>
                <a:ext cx="1785240" cy="731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s_work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-w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218360" y="3918960"/>
                <a:ext cx="19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7043760" y="1995120"/>
              <a:ext cx="2212920" cy="252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34040" y="2234880"/>
              <a:ext cx="222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560520" y="2390760"/>
            <a:ext cx="4965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 identifier defined at the super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, natural attributes of the supertype ent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rtificial attribute added to the supertype ent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s of supertype entity relationshi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s of relationships and super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29120" y="4343400"/>
            <a:ext cx="5354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identifier is inherited by all sub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enable identification of all instances of all subty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5541840"/>
            <a:ext cx="8513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 identifiers defined at the subtype lev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subtype at the lowest level of the hierarchy we define independently unique identifi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20400" y="269640"/>
            <a:ext cx="4125960" cy="2663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 hierarchy without specific attributes - A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16440" y="271440"/>
            <a:ext cx="4637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credit card company sets up accounts against either named individuals or a client company, which may issuing cards for its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56360" y="1378080"/>
            <a:ext cx="210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ty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78600" y="1846440"/>
            <a:ext cx="2286000" cy="403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70520" y="4390920"/>
            <a:ext cx="559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ype entities INDIVIDUAL ACCOUNT and COMPANY ACCOUNT have no specific attrib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ypes have only specific relationshi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16480" y="4687920"/>
            <a:ext cx="61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2280" y="5465880"/>
            <a:ext cx="52275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8800" y="5398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6880" y="5372280"/>
            <a:ext cx="889200" cy="100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51040" y="5398920"/>
            <a:ext cx="13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04040" y="5945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5334120"/>
            <a:ext cx="13716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66880" y="5880240"/>
            <a:ext cx="1333800" cy="39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86080" y="553716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58920" y="554976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86080" y="6032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70000" y="6045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86080" y="5359320"/>
            <a:ext cx="177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460520" y="5549400"/>
            <a:ext cx="19044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8680" y="5842080"/>
            <a:ext cx="1904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473120" y="6044760"/>
            <a:ext cx="2034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50960" y="5283360"/>
            <a:ext cx="152280" cy="939600"/>
          </a:xfrm>
          <a:custGeom>
            <a:avLst/>
            <a:gdLst>
              <a:gd name="textAreaLeft" fmla="*/ 0 w 152280"/>
              <a:gd name="textAreaRight" fmla="*/ 106920 w 152280"/>
              <a:gd name="textAreaTop" fmla="*/ 38880 h 939600"/>
              <a:gd name="textAreaBottom" fmla="*/ 90072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66880" y="5473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79480" y="596916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1360" y="61992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70600" y="50436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61440" y="2516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98880" y="2820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87800" y="321480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64840" y="37735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03640" y="3225960"/>
            <a:ext cx="1206720" cy="482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3640" y="3772080"/>
            <a:ext cx="1194120" cy="50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38760" y="2476440"/>
            <a:ext cx="1968480" cy="1892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96240" y="3265560"/>
            <a:ext cx="13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99480" y="3809880"/>
            <a:ext cx="1333440" cy="39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886880" y="3213000"/>
            <a:ext cx="1333440" cy="39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087400" y="38368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10360" y="346716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197760" y="4013280"/>
            <a:ext cx="9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88120" y="4013280"/>
            <a:ext cx="698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112160" y="347976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22960" y="3340080"/>
            <a:ext cx="152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210360" y="3479400"/>
            <a:ext cx="1648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97760" y="3898800"/>
            <a:ext cx="1267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210000" y="4013280"/>
            <a:ext cx="1141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60120" y="3151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34560" y="3710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7920" y="310680"/>
            <a:ext cx="4273560" cy="1739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ntity -relationship model (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65280" y="1279440"/>
            <a:ext cx="377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N ER no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97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240" y="3240000"/>
            <a:ext cx="128232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11240" y="2216160"/>
            <a:ext cx="1130400" cy="444600"/>
            <a:chOff x="1911240" y="2216160"/>
            <a:chExt cx="1130400" cy="444600"/>
          </a:xfrm>
        </p:grpSpPr>
        <p:sp>
          <p:nvSpPr>
            <p:cNvPr id="102" name=""/>
            <p:cNvSpPr/>
            <p:nvPr/>
          </p:nvSpPr>
          <p:spPr>
            <a:xfrm>
              <a:off x="1959840" y="226224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1240" y="2216160"/>
              <a:ext cx="113040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06880" y="2262240"/>
            <a:ext cx="901440" cy="398520"/>
            <a:chOff x="3206880" y="2262240"/>
            <a:chExt cx="901440" cy="398520"/>
          </a:xfrm>
        </p:grpSpPr>
        <p:sp>
          <p:nvSpPr>
            <p:cNvPr id="105" name=""/>
            <p:cNvSpPr/>
            <p:nvPr/>
          </p:nvSpPr>
          <p:spPr>
            <a:xfrm>
              <a:off x="3254400" y="226224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6880" y="2292480"/>
              <a:ext cx="90144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2880" y="3130560"/>
            <a:ext cx="1789200" cy="444600"/>
            <a:chOff x="272880" y="3130560"/>
            <a:chExt cx="1789200" cy="444600"/>
          </a:xfrm>
        </p:grpSpPr>
        <p:sp>
          <p:nvSpPr>
            <p:cNvPr id="108" name=""/>
            <p:cNvSpPr/>
            <p:nvPr/>
          </p:nvSpPr>
          <p:spPr>
            <a:xfrm>
              <a:off x="505440" y="3176640"/>
              <a:ext cx="155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880" y="3130560"/>
              <a:ext cx="177624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5080" y="2521080"/>
            <a:ext cx="1815840" cy="444240"/>
            <a:chOff x="235080" y="2521080"/>
            <a:chExt cx="1815840" cy="444240"/>
          </a:xfrm>
        </p:grpSpPr>
        <p:sp>
          <p:nvSpPr>
            <p:cNvPr id="111" name=""/>
            <p:cNvSpPr/>
            <p:nvPr/>
          </p:nvSpPr>
          <p:spPr>
            <a:xfrm>
              <a:off x="285840" y="2567160"/>
              <a:ext cx="141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5080" y="2521080"/>
              <a:ext cx="181584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73560" y="2444760"/>
            <a:ext cx="1511280" cy="444600"/>
            <a:chOff x="4273560" y="2444760"/>
            <a:chExt cx="1511280" cy="444600"/>
          </a:xfrm>
        </p:grpSpPr>
        <p:sp>
          <p:nvSpPr>
            <p:cNvPr id="114" name=""/>
            <p:cNvSpPr/>
            <p:nvPr/>
          </p:nvSpPr>
          <p:spPr>
            <a:xfrm>
              <a:off x="4383360" y="2490840"/>
              <a:ext cx="128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73560" y="2444760"/>
              <a:ext cx="151128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29800" y="3240000"/>
            <a:ext cx="114516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6760" y="2063880"/>
            <a:ext cx="839880" cy="444240"/>
            <a:chOff x="7016760" y="2063880"/>
            <a:chExt cx="839880" cy="444240"/>
          </a:xfrm>
        </p:grpSpPr>
        <p:sp>
          <p:nvSpPr>
            <p:cNvPr id="118" name=""/>
            <p:cNvSpPr/>
            <p:nvPr/>
          </p:nvSpPr>
          <p:spPr>
            <a:xfrm>
              <a:off x="7122960" y="210996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6760" y="2063880"/>
              <a:ext cx="82548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702560" y="2521080"/>
            <a:ext cx="1968480" cy="444240"/>
            <a:chOff x="7702560" y="2521080"/>
            <a:chExt cx="1968480" cy="444240"/>
          </a:xfrm>
        </p:grpSpPr>
        <p:sp>
          <p:nvSpPr>
            <p:cNvPr id="121" name=""/>
            <p:cNvSpPr/>
            <p:nvPr/>
          </p:nvSpPr>
          <p:spPr>
            <a:xfrm>
              <a:off x="7829280" y="2567160"/>
              <a:ext cx="155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art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02560" y="2521080"/>
              <a:ext cx="196848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159760" y="3206880"/>
            <a:ext cx="1206360" cy="444240"/>
            <a:chOff x="8159760" y="3206880"/>
            <a:chExt cx="1206360" cy="444240"/>
          </a:xfrm>
        </p:grpSpPr>
        <p:sp>
          <p:nvSpPr>
            <p:cNvPr id="124" name=""/>
            <p:cNvSpPr/>
            <p:nvPr/>
          </p:nvSpPr>
          <p:spPr>
            <a:xfrm>
              <a:off x="8211600" y="325296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9760" y="3206880"/>
              <a:ext cx="120636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854840" y="3816360"/>
            <a:ext cx="1663920" cy="444600"/>
            <a:chOff x="7854840" y="3816360"/>
            <a:chExt cx="1663920" cy="444600"/>
          </a:xfrm>
        </p:grpSpPr>
        <p:sp>
          <p:nvSpPr>
            <p:cNvPr id="127" name=""/>
            <p:cNvSpPr/>
            <p:nvPr/>
          </p:nvSpPr>
          <p:spPr>
            <a:xfrm>
              <a:off x="7982280" y="3862440"/>
              <a:ext cx="128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54840" y="3816360"/>
              <a:ext cx="166392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280" y="5032440"/>
            <a:ext cx="169380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ract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2720" y="5032440"/>
            <a:ext cx="141948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5680" y="5788080"/>
            <a:ext cx="1509480" cy="482040"/>
            <a:chOff x="355680" y="5788080"/>
            <a:chExt cx="1509480" cy="482040"/>
          </a:xfrm>
        </p:grpSpPr>
        <p:sp>
          <p:nvSpPr>
            <p:cNvPr id="132" name=""/>
            <p:cNvSpPr/>
            <p:nvPr/>
          </p:nvSpPr>
          <p:spPr>
            <a:xfrm>
              <a:off x="522720" y="583776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.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5680" y="5788080"/>
              <a:ext cx="1509480" cy="48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39840" y="5761080"/>
            <a:ext cx="1359000" cy="444600"/>
            <a:chOff x="2139840" y="5761080"/>
            <a:chExt cx="1359000" cy="444600"/>
          </a:xfrm>
        </p:grpSpPr>
        <p:sp>
          <p:nvSpPr>
            <p:cNvPr id="135" name=""/>
            <p:cNvSpPr/>
            <p:nvPr/>
          </p:nvSpPr>
          <p:spPr>
            <a:xfrm>
              <a:off x="2253600" y="580716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_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9840" y="5761080"/>
              <a:ext cx="135900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28960" y="5773680"/>
            <a:ext cx="1739880" cy="444600"/>
            <a:chOff x="3828960" y="5773680"/>
            <a:chExt cx="1739880" cy="444600"/>
          </a:xfrm>
        </p:grpSpPr>
        <p:sp>
          <p:nvSpPr>
            <p:cNvPr id="138" name=""/>
            <p:cNvSpPr/>
            <p:nvPr/>
          </p:nvSpPr>
          <p:spPr>
            <a:xfrm>
              <a:off x="3956400" y="581976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_w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8960" y="5773680"/>
              <a:ext cx="173988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2046240" y="3347640"/>
            <a:ext cx="276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76320" y="2886120"/>
            <a:ext cx="45396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2280" y="2676600"/>
            <a:ext cx="12384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18960" y="2631960"/>
            <a:ext cx="365400" cy="5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177720" y="2765520"/>
            <a:ext cx="1165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16600" y="2441520"/>
            <a:ext cx="33984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216560" y="2822400"/>
            <a:ext cx="5238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400880" y="342900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322760" y="3639600"/>
            <a:ext cx="638280" cy="28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41160" y="4027320"/>
            <a:ext cx="833760" cy="366840"/>
            <a:chOff x="2441160" y="4027320"/>
            <a:chExt cx="833760" cy="366840"/>
          </a:xfrm>
        </p:grpSpPr>
        <p:sp>
          <p:nvSpPr>
            <p:cNvPr id="150" name=""/>
            <p:cNvSpPr/>
            <p:nvPr/>
          </p:nvSpPr>
          <p:spPr>
            <a:xfrm>
              <a:off x="2592720" y="402732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I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0384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441160" y="4041720"/>
              <a:ext cx="1494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41520" y="4194000"/>
              <a:ext cx="1494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93800" y="434340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125880" y="4192200"/>
              <a:ext cx="1490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125880" y="4040280"/>
              <a:ext cx="14904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819520" y="366084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66084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46080" y="36608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8720" y="36608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755360" y="4346640"/>
            <a:ext cx="9111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31680" y="4346640"/>
            <a:ext cx="9111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51000" y="4346640"/>
            <a:ext cx="68292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5040" y="4346640"/>
            <a:ext cx="6825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4440" y="5411520"/>
            <a:ext cx="22572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20960" y="5411520"/>
            <a:ext cx="3780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039920" y="5411520"/>
            <a:ext cx="45396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66600" y="4708440"/>
            <a:ext cx="4179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3320" y="4648320"/>
            <a:ext cx="4111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7520" y="32036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27160" y="34322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9960" y="32036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0320" y="34322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2680" y="342900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4720" y="342900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5480" y="340524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0720" y="340524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3710160"/>
            <a:ext cx="210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s_involved_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0200" y="463680"/>
            <a:ext cx="3359160" cy="18158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l-world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6480" y="509760"/>
            <a:ext cx="411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, car, building, produc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72800" y="1243080"/>
            <a:ext cx="167868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any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ctory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72440" y="1511280"/>
            <a:ext cx="17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56400" y="153036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200" y="2579760"/>
            <a:ext cx="3177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, employee group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56400" y="2838600"/>
            <a:ext cx="809640" cy="355320"/>
          </a:xfrm>
          <a:prstGeom prst="rightArrow">
            <a:avLst>
              <a:gd name="adj1" fmla="val 50000"/>
              <a:gd name="adj2" fmla="val 11398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92600" y="2563920"/>
            <a:ext cx="22118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ber of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verage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2960" y="2832120"/>
            <a:ext cx="213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26440" y="3811680"/>
            <a:ext cx="18918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rt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_of_ill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26440" y="4083120"/>
            <a:ext cx="190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12040" y="5094360"/>
            <a:ext cx="18918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NOWLED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nguag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nowledge_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7640" y="5573880"/>
            <a:ext cx="203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7120" y="3790800"/>
            <a:ext cx="1554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nes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720" y="5205240"/>
            <a:ext cx="3554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of foreign langua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of an accou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56400" y="409896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56400" y="540540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044960" y="1515960"/>
            <a:ext cx="1440000" cy="39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43440" y="2506680"/>
            <a:ext cx="1393560" cy="107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268880" y="3898800"/>
            <a:ext cx="739800" cy="104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110120" y="5189400"/>
            <a:ext cx="1338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45920" y="609120"/>
            <a:ext cx="48387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0200" y="236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63880" y="2438280"/>
            <a:ext cx="60530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ty is a collection of distinguishable real-world objects with common properties, about which information needs to be known or 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4025880"/>
            <a:ext cx="32637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2680" y="4116240"/>
            <a:ext cx="25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67480" y="5384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84400" y="5041440"/>
            <a:ext cx="6858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0840" y="412920"/>
            <a:ext cx="3351240" cy="2234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ity and entity in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64120" y="476280"/>
            <a:ext cx="5153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s in real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mpany employs employees. We want to keep track of employee’s personal data (first name, last name, address and telephone number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4240" y="206856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Street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253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92080" y="1944720"/>
            <a:ext cx="1448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 Street 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753-6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3480" y="2011320"/>
            <a:ext cx="141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 Street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333-9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8280" y="2868480"/>
            <a:ext cx="213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2400" y="459432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8360" y="3924360"/>
            <a:ext cx="617400" cy="522360"/>
          </a:xfrm>
          <a:prstGeom prst="downArrow">
            <a:avLst>
              <a:gd name="adj1" fmla="val 75009"/>
              <a:gd name="adj2" fmla="val 500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251240" y="3368520"/>
            <a:ext cx="1271520" cy="1585440"/>
            <a:chOff x="4251240" y="3368520"/>
            <a:chExt cx="1271520" cy="1585440"/>
          </a:xfrm>
        </p:grpSpPr>
        <p:sp>
          <p:nvSpPr>
            <p:cNvPr id="216" name=""/>
            <p:cNvSpPr/>
            <p:nvPr/>
          </p:nvSpPr>
          <p:spPr>
            <a:xfrm>
              <a:off x="4285800" y="3368520"/>
              <a:ext cx="82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251240" y="3795840"/>
              <a:ext cx="1271520" cy="1158120"/>
              <a:chOff x="4251240" y="3795840"/>
              <a:chExt cx="1271520" cy="1158120"/>
            </a:xfrm>
          </p:grpSpPr>
          <p:sp>
            <p:nvSpPr>
              <p:cNvPr id="218" name=""/>
              <p:cNvSpPr/>
              <p:nvPr/>
            </p:nvSpPr>
            <p:spPr>
              <a:xfrm>
                <a:off x="4260240" y="3795840"/>
                <a:ext cx="1251720" cy="1158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first_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last_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teleph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51240" y="4073400"/>
                <a:ext cx="127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6381720" y="3392640"/>
            <a:ext cx="3376800" cy="1915200"/>
            <a:chOff x="6381720" y="3392640"/>
            <a:chExt cx="3376800" cy="1915200"/>
          </a:xfrm>
        </p:grpSpPr>
        <p:sp>
          <p:nvSpPr>
            <p:cNvPr id="221" name=""/>
            <p:cNvSpPr/>
            <p:nvPr/>
          </p:nvSpPr>
          <p:spPr>
            <a:xfrm>
              <a:off x="6994080" y="3392640"/>
              <a:ext cx="1937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ity inst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381720" y="3817800"/>
              <a:ext cx="3376800" cy="1490040"/>
              <a:chOff x="6381720" y="3817800"/>
              <a:chExt cx="3376800" cy="1490040"/>
            </a:xfrm>
          </p:grpSpPr>
          <p:sp>
            <p:nvSpPr>
              <p:cNvPr id="223" name=""/>
              <p:cNvSpPr/>
              <p:nvPr/>
            </p:nvSpPr>
            <p:spPr>
              <a:xfrm>
                <a:off x="6759720" y="3817800"/>
                <a:ext cx="2998800" cy="1167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80080" y="3959280"/>
                <a:ext cx="2986200" cy="1166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81720" y="4149720"/>
                <a:ext cx="2958840" cy="1158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first name = Joh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last name  = Smi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address = Long Street 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telephone = 256-48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745160" y="2935440"/>
            <a:ext cx="3822480" cy="41580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194440"/>
            <a:ext cx="57096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 ru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y is a collection of objects called entity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of an entity should be a noun in the 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thing or object may only be represented by one 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tity must be uniquely identif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160" y="518004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7600" y="293760"/>
            <a:ext cx="4781880" cy="1211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 and assoc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94800" y="260280"/>
            <a:ext cx="2896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world associ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oyees have various c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8720" y="14684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6760" y="256860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7080" y="202248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24800" y="14778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18040" y="258300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4640" y="162252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9600" y="274176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4920" y="129384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5480" y="2411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04480" y="169848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6920" y="276552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6440" y="1878120"/>
            <a:ext cx="2606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ssoci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omm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120" y="3030480"/>
            <a:ext cx="939960" cy="8571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8200" y="406728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90320" y="3165480"/>
            <a:ext cx="5624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association between employees and ca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may have a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may belong to an employ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5280" y="4189320"/>
            <a:ext cx="348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and its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5240" y="47973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9480" y="479736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24360" y="49528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9560" y="46497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493560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8440" y="609120"/>
            <a:ext cx="54993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34640" y="2935440"/>
            <a:ext cx="8422560" cy="94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lationship represents real-world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one or mor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0" y="5029200"/>
            <a:ext cx="1803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3280" y="5054760"/>
            <a:ext cx="1854360" cy="57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68920" y="51181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Entit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75760" y="5156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Entit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5334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65800" y="5931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60920" y="5486400"/>
            <a:ext cx="457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8800" y="615960"/>
            <a:ext cx="3637080" cy="11304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38720" y="825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6760" y="19256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27080" y="13795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24800" y="8352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8040" y="194004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54640" y="97956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59600" y="209880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4200" y="6508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34760" y="17683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4480" y="105552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86920" y="2122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17600" y="32367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33640" y="323676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35680" y="3392640"/>
            <a:ext cx="2386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96440" y="30891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7880" y="337500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49880" y="2625840"/>
            <a:ext cx="1857600" cy="30780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04920" y="3843360"/>
            <a:ext cx="642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ow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association between entities EPLOYEE and 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02760" y="4567320"/>
            <a:ext cx="5249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ould like to kn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cars an employee may hav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employees may have the same 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true that each car must belong to somebod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2:47:07Z</dcterms:created>
  <dc:creator>Instytut Informatyki</dc:creator>
  <dc:description/>
  <dc:language>en-US</dc:language>
  <cp:lastModifiedBy>Tadeusz Morzy</cp:lastModifiedBy>
  <dcterms:modified xsi:type="dcterms:W3CDTF">1998-08-07T20:13:26Z</dcterms:modified>
  <cp:revision>119</cp:revision>
  <dc:subject/>
  <dc:title>Bez tytułu slajdu</dc:title>
</cp:coreProperties>
</file>