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C7A-7C94-40DB-BE10-46906C1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486-8856-42A1-8E3B-B9C7A14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5CD-243D-4375-B866-118BFB79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FC4-88D3-438D-820C-18AC78BF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9C2-8275-4928-BA58-6BE4DA83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1DA-8B5C-4283-A574-AB01FD58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865-8B9E-4039-A6FB-50C38B6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C43-B022-4E45-A4B9-C6802EF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2A1-7687-4ABF-866C-05F8632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2CD-9CF9-4856-9AB8-E8E62281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60D-ED79-489A-A7A6-F780B13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191-9497-4A85-B66E-C8BFF50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BDBF-1B55-48F8-99F8-EFDB335B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Indeksy drzewi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operacji I/O jest równa liczbie poziomów drzewa i wyno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liczba stron zajmowanych przez liśc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 (fan-ou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liczbą rekordów indeksu, które znajdują się na pojedynczej stronie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prowadzanie i usuwanie rekordów danych dotyczy wyłącznie zawartości stron znajdujących się w liśc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się rozwijać długie łańcuchy stron przepełnien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raz ze wzrostem rozmiaru plik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pływa to na czas wyszukiwania rekord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a indeksu jest staty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ma potrzeby blokowania stron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Struktura drzewi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1460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14600" y="1209600"/>
            <a:ext cx="59148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+ 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drzewo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 o strukturze dynamiczne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rze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zrównoważoną strukturą drzewiastą, w której wierzchołki wewnętrzne służą do wspomagania wyszukiwania, natomiast wierzchołki liści zawierają rekordy indeksu ze wskaźnikami do rekordów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elu zapewnienia odpowiedniej efektywności realizacji zapytań przedziałow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rzchołki liści stanowią listę dwukierunkową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Charakterystyka indeksu B+ drze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eracje wstawiania i usuwania rekordów indeksu pozostawiają indeks zrównoważ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jest wypełniony w co najmnie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za wyjątkiem korzenia). Jednakż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padku operacji usuwania rekordu z indeksu lokalizujemy rekord do usunięcia, usuwamy rekord i pozostawiamy indeks nie zmieniony (nie jest gwarantowa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pełnienie wierzchołkó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ż najczęściej rozmiar plików się zwiększa (rzadziej male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zukanie rekordu wymaga przejścia od korzenia do liścia. Długość ścieżki od korzenia do dowolnego liścia nazywamy wysokością drzewa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Struktura indeksu B+ drze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58960" y="1770120"/>
            <a:ext cx="3917880" cy="3149640"/>
            <a:chOff x="1758960" y="1770120"/>
            <a:chExt cx="3917880" cy="3149640"/>
          </a:xfrm>
        </p:grpSpPr>
        <p:sp>
          <p:nvSpPr>
            <p:cNvPr id="219" name=""/>
            <p:cNvSpPr/>
            <p:nvPr/>
          </p:nvSpPr>
          <p:spPr>
            <a:xfrm flipV="1">
              <a:off x="2376000" y="2065680"/>
              <a:ext cx="1417680" cy="158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3680" y="2082600"/>
              <a:ext cx="1276920" cy="158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59440" y="3667320"/>
              <a:ext cx="2711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58640" y="1770120"/>
              <a:ext cx="627120" cy="30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8960" y="4497120"/>
              <a:ext cx="804960" cy="422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91240" y="4497120"/>
              <a:ext cx="804960" cy="4132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1880" y="4488120"/>
              <a:ext cx="804960" cy="42120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72160" y="3644280"/>
              <a:ext cx="334440" cy="85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08840" y="3663360"/>
              <a:ext cx="72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1080" y="3681720"/>
              <a:ext cx="460080" cy="79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400" y="4694040"/>
              <a:ext cx="4284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5840" y="4694040"/>
              <a:ext cx="324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7080" y="4694040"/>
              <a:ext cx="324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486400" y="2362320"/>
            <a:ext cx="1011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irect se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91240" y="4238640"/>
            <a:ext cx="1009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„Sequence se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2480" y="1909800"/>
            <a:ext cx="1440" cy="314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00960" y="4957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594120" y="19130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77080" y="3218040"/>
            <a:ext cx="465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4440" y="1447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wierzchołka wewnętrznego indeks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-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zewo rzęd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st następując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rzchołek wewnętrzny ma następującą posta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...,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wskaźnikiem do poddrze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ażdego wierzchołka wewnętrznego zacho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..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wszystkich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zukiwanych w poddrzewie wskazywanym prz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chodz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 1 &lt; i &lt;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 i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for i =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wewnętrzny posiada co najwyż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ów do poddrz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wewnętrz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 wyjątkiem korz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siada co najmni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/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ów do poddrz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zeń posiada co najmniej 2 wskaźniki do poddrzew jeżeli jest wierzchołkiem wewnętr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wewnętrzny 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źnikach posi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-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klucz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ierzchoł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57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57440" y="2043000"/>
            <a:ext cx="58291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wierzchołka liścia indeks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-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zewo rzęd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st następując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rzchołek liścia ma następującą posta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..., &lt;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wskaźnikiem do blok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ażdego wierzchołka liścia zachodz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... &lt;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liść posiada co najmni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/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kluc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Format wierzchołków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wskaźnikiem do bloku danych zawierającego rekord danych o wartości klucz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wskaźnikiem do bloku da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wierającego rek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blok wskaźnik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kazujących na rekordy danych o wartości kluc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zystkie liście znajdują się na tym samym poziomie (tej samej wysokoś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336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33600" y="4191120"/>
            <a:ext cx="607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D SEQUENTIAL ACCES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ny jest plik uporządkowa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jaki sposób zrealizować efektywnie zapytanie z przedziałem wartoś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owied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tworzyć drugi plik, zdefiniowany na określonym atrybucie (klucz) zawierający rekordy odpowiadające wartościom kluczy pierwszych rekordów danych w pliku oryginalnym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pierwszy klucz na stroni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wskaźnik do strony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porządkowany według wartości kluc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owe B+ drzew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28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28800" y="2519280"/>
            <a:ext cx="4686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Jak obliczyć rząd indeksu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n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rozmiar klucz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rozmiar wsk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ka do blok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rozmiar blok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liczba rekordów w indeksowanym pliku danyc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 liczba bloków plik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 wew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zne zawiera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maksymaln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sk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ków 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1 kluczy. K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y z 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łów musi zm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pojedynczym bloku dyskowym. 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r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drzew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est najw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s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cz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owi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dla której sp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ona jest nierówn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)+((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-1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)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na wysokość indeksu rzadkiego: h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na wysokość indeksu gęstego: h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pliku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30 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bloku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ar rekordu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0 baj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rdy mają stałą długość i nie są dzielone między bl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 klucza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 wskaźnika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z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ząd indek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p-1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(V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24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/(9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na wysokość indek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log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 wyszukiwani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z pomocy indek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bloków/2 =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ęp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 wyszukiwania danych za pomocą indeksu jednopoziomoweg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ęsteg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9 dostępów do indeksu+ 1 dostęp do danych =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ostęp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zt wyszukiwania danych za pomocą indeksu typu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rzew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okość drzewa + 1 = 3 + 1 =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tę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yszukiwanie da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y indeks o rzędzi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rzeniu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ukaj (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wskaźnik na blok zawierający korzeń drzew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czytaj blok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(węzeł n nie jest liściem)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= liczba wskaźników w węźle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K 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*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</a:t>
            </a:r>
            <a:r>
              <a:rPr b="0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m kluczem w węźle n*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n := 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(*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</a:t>
            </a:r>
            <a:r>
              <a:rPr b="0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m wskaźnikiem w węźle n*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K &gt;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n := 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ź w węźle n element i taki, że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 &lt; n.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n.P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czytaj blok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ź w węźle n element (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aki, że K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;  (* przeglądaj liść drzewa *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znalezi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odczytaj blok pliku danych o wskaźniku Pr</a:t>
            </a:r>
            <a:r>
              <a:rPr b="0" lang="pl-PL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obierz rekord dany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w pliku danych nie ma rekordu o wartości pola równej 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zuk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stawianie dany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y indeks o rzędzie 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rzeniu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, 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wskaźnik na blok zawierający korzeń drze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taj blok 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czyść stos S;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ęzeł n nie jest liściem)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eść wartość n na stosie 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stos S przechowuje ścieżkę przeszukiwania drzewa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= liczba wskaźników w węźle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</a:t>
            </a:r>
            <a:r>
              <a:rPr b="0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*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-tym kluczem w węźle n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:= 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(*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i-tym wskaźnikiem w węźle n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&gt;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-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:= 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dź w węźle n element i taki, że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K &lt; n.K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n.P</a:t>
            </a:r>
            <a:r>
              <a:rPr b="0" lang="pl-PL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czytaj blok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wórz nowy element indeksu (K,P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ść n nie jest peł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staw nowy element (K, Pr) w odpowiednią pozycję węzła 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stawianie dany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(*węzeł n jest pełny – niezbędny podział liścia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iuj n do temp; (*temp jest temporalnym blokiem o rozmiarze umożliwiającym przechowanie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kowego elementu *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 element (K, Pr) w odpowiednie miejsce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mp przechowuje teraz p+1 elementów 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nowy pusty liść drze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: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 + 1)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pierwszych j elementów temp (do elementu (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ne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pozostałe elementy z te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:= Kj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raz musimy wstawić element (K,new) do węzła pośredniego, który jest przodkiem liścia n, jeżeli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odek jest pełny nastąpi propagacja podziału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ed :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tos S jest pu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(*nie ma przodka – trzeba utworzyć nowy korzeń drzewa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:= nowy węzeł wewnętrzny indeks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:= &lt;n, K, new&gt;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ed :=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Wstawianie dany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wskaźnik ze stosu 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ęzeł wewnętrzny n nie jest peł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(*podział węzła niepotrzebny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 (K, new) w odpowiednie miejsce węzła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ed :=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(*węzeł wewnętrzny jest pełny – niezbędny podział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pisz zawartość n do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taw (K,new) w odpowiednią pozycję do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mp ma teraz p+1 wskaźników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nowy węzeł wewnętrzny indeks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: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p + 1)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:= pierwszych j elementów temp (do wskaźnika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n zawiera &lt;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:= pozostałe elementy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new zawiera &lt;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*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:= Kj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teraz musimy wstawić element (K,new) do przodka węzła n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inish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sta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zykład operacji wstawiania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indeks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wencja operacji wstawiania: 8, 5, 1, 7, 3, 12, 9,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746520" y="2251080"/>
          <a:ext cx="28954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6520" y="2251080"/>
                    <a:ext cx="2895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451240" y="4308480"/>
          <a:ext cx="3838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1240" y="4308480"/>
                    <a:ext cx="38383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ormat strony pliku indeksowego ma następującą postać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93840" y="2062080"/>
          <a:ext cx="6021360" cy="37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2062080"/>
                    <a:ext cx="6021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96760" y="2860560"/>
            <a:ext cx="69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arę wartości posta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klucz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wskaźni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"/>
              </a:rPr>
              <a:t>rekordem indeksu (ang. entry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0480" y="4003560"/>
            <a:ext cx="732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ażda strona indeksu zawie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 jeden wskaźnik wię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iżeli liczba klucz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ażdy klucz pełni funkcj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eparatora pomiędzy stronami wskazywanymi prz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skaźniki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43400" y="3045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 c.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828720" y="838080"/>
          <a:ext cx="3743280" cy="15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838080"/>
                    <a:ext cx="374328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438280" y="2286000"/>
          <a:ext cx="55720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286000"/>
                    <a:ext cx="5572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219320" y="4343400"/>
          <a:ext cx="6153120" cy="194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343400"/>
                    <a:ext cx="61531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Przykład c.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828800" y="1143000"/>
          <a:ext cx="50101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50101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1905120" y="3657600"/>
          <a:ext cx="599112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657600"/>
                    <a:ext cx="59911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wielowymia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+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rzew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iera efektywną realizację zapytań przedziałowych dzięki liniowemu uporządkowaniu rekordów indek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ne sposoby porządkowania rekordów indeksu prowadzą do innych struktur dany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eksy jednowymiaro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 porządek zdefiniowany na zbiorze kluczy (i zbiorze rekordów indeksu).  Przykładem takiego indeksu – ind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+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ze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eksy wielowymiaro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ak liniowego porząd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kordy indeksu uporządkowane wg. relacji przestrzennej, w której każda wartość klucza jest punktem w przestrzeni k-wymiarowe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liczbą atrybutów klucza złożo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wielowymia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jednowymiarowy linearyzu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miarow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strzeń wartoś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a złożoneg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ortując rekordy indeksu najpierw wg. wartości atrybu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i="1" lang="pl-PL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następnie wg. wartości</a:t>
            </a:r>
            <a:r>
              <a:rPr b="0" i="1" lang="pl-P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trybut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o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ucz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przechowywane w indeksie typu B+-drzewo w następującym porządku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ytanie przedziałowe na atrybuc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e być zrealizowane efektywnie ze względu na porządek rekordów indeksu. Zapytanie przedziałowe na atrybuc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e być kosztow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kładowo, wyszukanie rekordów dla któr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&lt;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łat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le wyszukanie rekordów, dla któr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&lt;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maga przeszukania całego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ndeksy wielowymiar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indeksie wielowymiarow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y indeksu są przechowywane w porządku wynikającym z odległości pomiędzy wartościami kluczy w przestrzeni k wymiarowej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pamiętane kolejno, podobnie kluc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9360" y="3068640"/>
            <a:ext cx="1800" cy="260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9360" y="55944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2880" y="5611680"/>
            <a:ext cx="7509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  12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62240" y="4960800"/>
            <a:ext cx="777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49640" y="527040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08440" y="321804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78240" y="338292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3106800"/>
            <a:ext cx="1440" cy="260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00600" y="2819520"/>
            <a:ext cx="28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5611680"/>
            <a:ext cx="21603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5637240"/>
            <a:ext cx="750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  12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18040" y="4986360"/>
            <a:ext cx="781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05440" y="529596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64240" y="324324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3408480"/>
            <a:ext cx="7776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75320" y="3182760"/>
            <a:ext cx="712800" cy="393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29480" y="4948200"/>
            <a:ext cx="255240" cy="469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63760" y="3017880"/>
            <a:ext cx="180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09960" y="302256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82880" y="4098960"/>
            <a:ext cx="1440" cy="149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82880" y="301788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78240" y="4116240"/>
            <a:ext cx="1440" cy="149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097160"/>
            <a:ext cx="1440" cy="14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78240" y="302256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7040" y="3019320"/>
            <a:ext cx="1440" cy="106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300528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9640" y="301464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35160" y="553572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5543640"/>
            <a:ext cx="1159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19520"/>
            <a:ext cx="28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1604880"/>
            <a:ext cx="5220720" cy="1824120"/>
            <a:chOff x="1676520" y="1604880"/>
            <a:chExt cx="5220720" cy="1824120"/>
          </a:xfrm>
        </p:grpSpPr>
        <p:sp>
          <p:nvSpPr>
            <p:cNvPr id="53" name=""/>
            <p:cNvSpPr/>
            <p:nvPr/>
          </p:nvSpPr>
          <p:spPr>
            <a:xfrm>
              <a:off x="2357280" y="1604880"/>
              <a:ext cx="2966760" cy="44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1440" y="1679040"/>
              <a:ext cx="670320" cy="2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 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6720" y="1689120"/>
              <a:ext cx="670320" cy="2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95040" y="1674000"/>
              <a:ext cx="670320" cy="2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N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697760" y="1774800"/>
              <a:ext cx="797400" cy="11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55000" y="1901880"/>
              <a:ext cx="360" cy="10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77840" y="1891800"/>
              <a:ext cx="372600" cy="10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1360" y="1901880"/>
              <a:ext cx="266760" cy="10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78600" y="1753200"/>
              <a:ext cx="68112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ex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2960640"/>
              <a:ext cx="4487760" cy="46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0200" y="3053160"/>
              <a:ext cx="67032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55720" y="3053160"/>
              <a:ext cx="67032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5040" y="3036600"/>
              <a:ext cx="67032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3680" y="3042360"/>
              <a:ext cx="670680" cy="2876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6040" y="3088800"/>
              <a:ext cx="6912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45760" y="35463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eks jedno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zapytań przedziałowyc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ujemy przeszukiwanie binarne pliku indeksowego w celu zidentyfikowania strony zawierającej pierwszy klucz spełniający warunek selek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poczynamy przeglądanie pliku danych od strony wskazanej przez wskaźnik inde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szukiwanie binarne pliku indeksowego może być kosztow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dea ISAM: </a:t>
            </a: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buduj kolejne pliki indeksowe rekursywnie (indeks do indeksu, itd.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40120" y="173844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5720" y="237816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54520" y="237816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8520" y="301788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90760" y="3017880"/>
            <a:ext cx="3668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9480" y="301788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1720" y="301788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3480" y="3567240"/>
            <a:ext cx="43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0348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51040" y="3749760"/>
            <a:ext cx="3668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05160" y="3749760"/>
            <a:ext cx="3668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452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68920" y="37497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201312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107880" y="2013120"/>
            <a:ext cx="8240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013120"/>
            <a:ext cx="8222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08240" y="2652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650680" y="26528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2652840"/>
            <a:ext cx="27468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7040" y="2652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71640" y="2652840"/>
            <a:ext cx="27468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652840"/>
            <a:ext cx="3650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828800"/>
            <a:ext cx="1096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le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3480" y="42069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206960"/>
            <a:ext cx="36504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5104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85640" y="3292560"/>
            <a:ext cx="274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292560"/>
            <a:ext cx="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7508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90760" y="3292560"/>
            <a:ext cx="921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5440" y="3292560"/>
            <a:ext cx="274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389120" y="3292560"/>
            <a:ext cx="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2360" y="3292560"/>
            <a:ext cx="274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211720" y="3292560"/>
            <a:ext cx="921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4240" y="3292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92560"/>
            <a:ext cx="365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41920"/>
            <a:ext cx="198360" cy="457200"/>
          </a:xfrm>
          <a:custGeom>
            <a:avLst/>
            <a:gdLst/>
            <a:ahLst/>
            <a:rect l="l" t="t" r="r" b="b"/>
            <a:pathLst>
              <a:path w="312" h="720">
                <a:moveTo>
                  <a:pt x="312" y="0"/>
                </a:moveTo>
                <a:cubicBezTo>
                  <a:pt x="264" y="24"/>
                  <a:pt x="216" y="48"/>
                  <a:pt x="168" y="144"/>
                </a:cubicBezTo>
                <a:cubicBezTo>
                  <a:pt x="120" y="240"/>
                  <a:pt x="0" y="480"/>
                  <a:pt x="24" y="576"/>
                </a:cubicBezTo>
                <a:cubicBezTo>
                  <a:pt x="48" y="672"/>
                  <a:pt x="264" y="696"/>
                  <a:pt x="312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43400" y="3841920"/>
            <a:ext cx="214200" cy="457200"/>
          </a:xfrm>
          <a:custGeom>
            <a:avLst/>
            <a:gdLst/>
            <a:ahLst/>
            <a:rect l="l" t="t" r="r" b="b"/>
            <a:pathLst>
              <a:path w="336" h="720">
                <a:moveTo>
                  <a:pt x="336" y="0"/>
                </a:moveTo>
                <a:cubicBezTo>
                  <a:pt x="216" y="24"/>
                  <a:pt x="96" y="48"/>
                  <a:pt x="48" y="144"/>
                </a:cubicBezTo>
                <a:cubicBezTo>
                  <a:pt x="0" y="240"/>
                  <a:pt x="0" y="480"/>
                  <a:pt x="48" y="576"/>
                </a:cubicBezTo>
                <a:cubicBezTo>
                  <a:pt x="96" y="672"/>
                  <a:pt x="216" y="696"/>
                  <a:pt x="336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75080" y="4572000"/>
            <a:ext cx="1096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flow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47960" y="44812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650680" y="4389120"/>
            <a:ext cx="109692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6240" y="4460760"/>
            <a:ext cx="41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żdy wierzchołek indeksu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lokiem dyskow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zyst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kordy danych znajdują się 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ścia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)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li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również w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438280"/>
            <a:ext cx="457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798560"/>
            <a:ext cx="1006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54320" y="1798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798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11520" y="17985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11520" y="1433520"/>
            <a:ext cx="18288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55960" y="2438280"/>
            <a:ext cx="100656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 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68720" y="2438280"/>
            <a:ext cx="10051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     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280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316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036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05320" y="1981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2592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1664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83120" y="24382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1981080"/>
            <a:ext cx="1006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*   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6240" y="38098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*    2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3064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*    3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720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*    46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8098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*    5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08800" y="33526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*    9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3440" y="3809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8784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25160" y="2620800"/>
            <a:ext cx="73044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65240" y="2620800"/>
            <a:ext cx="54756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779640" y="2620800"/>
            <a:ext cx="1825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9440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809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6000" y="3352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94400" y="2620800"/>
            <a:ext cx="2743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33760" y="2620800"/>
            <a:ext cx="9180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83120" y="2620800"/>
            <a:ext cx="1828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16240" y="4541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3440" y="4541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3480" y="3992400"/>
            <a:ext cx="212760" cy="731880"/>
          </a:xfrm>
          <a:custGeom>
            <a:avLst/>
            <a:gdLst/>
            <a:ahLst/>
            <a:rect l="l" t="t" r="r" b="b"/>
            <a:pathLst>
              <a:path w="336" h="1152">
                <a:moveTo>
                  <a:pt x="336" y="0"/>
                </a:moveTo>
                <a:cubicBezTo>
                  <a:pt x="216" y="0"/>
                  <a:pt x="96" y="0"/>
                  <a:pt x="48" y="144"/>
                </a:cubicBezTo>
                <a:cubicBezTo>
                  <a:pt x="0" y="288"/>
                  <a:pt x="0" y="696"/>
                  <a:pt x="48" y="864"/>
                </a:cubicBezTo>
                <a:cubicBezTo>
                  <a:pt x="96" y="1032"/>
                  <a:pt x="216" y="1092"/>
                  <a:pt x="336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541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8*    41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8148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541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5181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4160" y="4724280"/>
            <a:ext cx="212760" cy="639720"/>
          </a:xfrm>
          <a:custGeom>
            <a:avLst/>
            <a:gdLst/>
            <a:ahLst/>
            <a:rect l="l" t="t" r="r" b="b"/>
            <a:pathLst>
              <a:path w="336" h="1008">
                <a:moveTo>
                  <a:pt x="336" y="0"/>
                </a:moveTo>
                <a:cubicBezTo>
                  <a:pt x="216" y="12"/>
                  <a:pt x="96" y="24"/>
                  <a:pt x="48" y="144"/>
                </a:cubicBezTo>
                <a:cubicBezTo>
                  <a:pt x="0" y="264"/>
                  <a:pt x="0" y="576"/>
                  <a:pt x="48" y="720"/>
                </a:cubicBezTo>
                <a:cubicBezTo>
                  <a:pt x="96" y="864"/>
                  <a:pt x="216" y="936"/>
                  <a:pt x="336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5280" y="3627360"/>
            <a:ext cx="701640" cy="100656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96" y="0"/>
                </a:moveTo>
                <a:cubicBezTo>
                  <a:pt x="48" y="180"/>
                  <a:pt x="0" y="360"/>
                  <a:pt x="96" y="576"/>
                </a:cubicBezTo>
                <a:cubicBezTo>
                  <a:pt x="192" y="792"/>
                  <a:pt x="504" y="1128"/>
                  <a:pt x="672" y="1296"/>
                </a:cubicBezTo>
                <a:cubicBezTo>
                  <a:pt x="840" y="1464"/>
                  <a:pt x="972" y="1524"/>
                  <a:pt x="1104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1800" y="1108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najdź rekord danych o wartości kluc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prowadź rekordy danych o następujących wartościach klucz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3, 48, 41, 42 (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łóż, że każdy liś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e zawierać co najwyżej 2 rekor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suń rekordy o następujących wartościach klucz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2, 51, 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S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2376360"/>
            <a:ext cx="457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60880" y="1736640"/>
            <a:ext cx="1006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1736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18080" y="1736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0240" y="1736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54320" y="2376360"/>
            <a:ext cx="10065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 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7440" y="2376360"/>
            <a:ext cx="10047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     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648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116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1152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872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703680" y="19191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2464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81840" y="23763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8080" y="1919160"/>
            <a:ext cx="1006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7488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*   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208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7479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*    2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*    37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3556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*    46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5280" y="37479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07160" y="329076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747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424240" y="2558880"/>
            <a:ext cx="7300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063600" y="2558880"/>
            <a:ext cx="54756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78000" y="2558880"/>
            <a:ext cx="1825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9276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32480" y="3747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64360" y="3290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892400" y="2558880"/>
            <a:ext cx="2746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32480" y="2558880"/>
            <a:ext cx="9216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1840" y="2558880"/>
            <a:ext cx="1825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4479840"/>
            <a:ext cx="91440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44798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1840" y="3930480"/>
            <a:ext cx="212760" cy="731880"/>
          </a:xfrm>
          <a:custGeom>
            <a:avLst/>
            <a:gdLst/>
            <a:ahLst/>
            <a:rect l="l" t="t" r="r" b="b"/>
            <a:pathLst>
              <a:path w="336" h="1152">
                <a:moveTo>
                  <a:pt x="336" y="0"/>
                </a:moveTo>
                <a:cubicBezTo>
                  <a:pt x="216" y="0"/>
                  <a:pt x="96" y="0"/>
                  <a:pt x="48" y="144"/>
                </a:cubicBezTo>
                <a:cubicBezTo>
                  <a:pt x="0" y="288"/>
                  <a:pt x="0" y="696"/>
                  <a:pt x="48" y="864"/>
                </a:cubicBezTo>
                <a:cubicBezTo>
                  <a:pt x="96" y="1032"/>
                  <a:pt x="216" y="1092"/>
                  <a:pt x="336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65800" y="4452840"/>
            <a:ext cx="914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8*    41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23000" y="44528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5040" y="3538440"/>
            <a:ext cx="320760" cy="1036800"/>
          </a:xfrm>
          <a:custGeom>
            <a:avLst/>
            <a:gdLst/>
            <a:ahLst/>
            <a:rect l="l" t="t" r="r" b="b"/>
            <a:pathLst>
              <a:path w="504" h="1632">
                <a:moveTo>
                  <a:pt x="504" y="0"/>
                </a:moveTo>
                <a:cubicBezTo>
                  <a:pt x="324" y="96"/>
                  <a:pt x="144" y="192"/>
                  <a:pt x="72" y="432"/>
                </a:cubicBezTo>
                <a:cubicBezTo>
                  <a:pt x="0" y="672"/>
                  <a:pt x="24" y="1248"/>
                  <a:pt x="72" y="1440"/>
                </a:cubicBezTo>
                <a:cubicBezTo>
                  <a:pt x="120" y="1632"/>
                  <a:pt x="240" y="1608"/>
                  <a:pt x="36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3800" y="5222880"/>
            <a:ext cx="50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a ISAM po usunięciu rekor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17:15Z</dcterms:created>
  <dc:creator>Tadeusz Morzy</dc:creator>
  <dc:description/>
  <dc:language>en-US</dc:language>
  <cp:lastModifiedBy>Tadeusz Morzy</cp:lastModifiedBy>
  <dcterms:modified xsi:type="dcterms:W3CDTF">2001-11-28T12:32:08Z</dcterms:modified>
  <cp:revision>51</cp:revision>
  <dc:subject/>
  <dc:title> Indeksy drzewiaste</dc:title>
</cp:coreProperties>
</file>