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DD1-4566-4284-AA93-49F6C564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EA6-C44B-4E83-84B1-C1407EFE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CDE-941B-4151-84A2-AE4DC678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7C1-47DF-4219-95CB-AA12DDE1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608-6419-4A1F-9A9F-F8C610F2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DFE-671C-487E-B044-655B6C68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106-CF89-4683-BDD9-DB99D49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307-DDCC-4ED1-A8C2-B3F6287E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C1D-3D86-4CAB-9ED5-7141652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C8B-1831-4B43-B9F8-FD01790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2D4-976C-42E7-9C0C-F33F0C8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C01-E822-4466-8877-159AEE7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B196-92E8-4F9E-A38B-EC80C3496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ystemy Baz Da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adeusz Mor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rzy@put.poznan.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. Elmasri, S. B. Navathe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3rd ed. 2000, Benjamin/Cumm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. Vossen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ata Models, Database Languages and Database Management Syste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1991, Addison-Wes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. E. O’Neil, E. O’Neil, Database: Pronciples, Programming, and Performance, 2nd ed. 2001, Morgan Kaufm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. Ramakrishnan, J. Gehrke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2nd ed. 2000, McGraw-H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. Ullman, J. Widom, Podstawowy wykład z systemów baz danych, WNT, 2000 (seria Klasyka Informatyk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. Date, Wprowadzenie do systemów baz danych, WNT, 2000, (seria Klasyka Informatyk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46:23Z</dcterms:created>
  <dc:creator>Tadeusz Morzy</dc:creator>
  <dc:description/>
  <dc:language>en-US</dc:language>
  <cp:lastModifiedBy>Tadeusz Morzy</cp:lastModifiedBy>
  <dcterms:modified xsi:type="dcterms:W3CDTF">2002-10-26T12:52:06Z</dcterms:modified>
  <cp:revision>1</cp:revision>
  <dc:subject/>
  <dc:title>Systemy Baz Danych</dc:title>
</cp:coreProperties>
</file>