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5C38-AF84-4A02-BA5A-4EEEDE6D2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5600-8A63-4A2B-B3AD-C38BBB63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5E8E-F829-439C-893A-E0CC90F1B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82B8-3E71-47A6-A827-A91ADB35D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5E20-03B0-4E4F-9BC2-5A14552D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97B1-52BF-4CD4-BBFB-F5EBCF58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8CFC-17EC-48E4-B095-C364D74D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F4E9-87A5-4EEC-8FE8-BEF1D981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CF33-6788-40B6-8C43-C5A91120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9653-C004-4263-8F39-49A30655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8D80-278F-4B72-A137-2A45D716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A6DA-6D78-4C0C-9F16-4DBD1F07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4BA9-D5B6-429D-BE94-BD5716BED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cc"/>
                </a:solidFill>
                <a:latin typeface="Times New Roman"/>
              </a:rPr>
              <a:t>Uszeregowalnoś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3962520"/>
            <a:ext cx="723888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Graf uszeregowalności (c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żeli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istnieje operacja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o 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żeli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  istnieje operacja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to 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a realizacja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jest uszeregowalna wtedy i tylko wtedy, gdy można skonstruować dla niej acykliczny skierowany graf uszeregowlaności SG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0120" y="2057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Uszeregowalność transakcji - klasyfikac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15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828800" y="2057400"/>
          <a:ext cx="5486400" cy="38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057400"/>
                    <a:ext cx="548640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Realizacje</a:t>
            </a:r>
            <a:r>
              <a:rPr b="1" lang="en-GB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odtwarzaln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y własność uszeregowalności gwarantuje wolność od anomalii ?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Przykł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H = r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[x] w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[x] r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[y] r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[x] w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[y] r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[y] c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 r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[z] w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[z] &lt;</a:t>
            </a:r>
            <a:r>
              <a:rPr b="0" i="1" lang="pl-PL" sz="2800" spc="-1" strike="noStrike">
                <a:solidFill>
                  <a:srgbClr val="ff0000"/>
                </a:solidFill>
                <a:latin typeface="Arial"/>
                <a:ea typeface="Arial"/>
              </a:rPr>
              <a:t>crash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&gt; c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Historia H jest uszeregowalna, ale nie jest wolna od anomalii (brudny odczyt). Po restarcie systemu transakcja T</a:t>
            </a:r>
            <a:r>
              <a:rPr b="0" lang="pl-PL" sz="28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nie zostanie poprawnie odtworzo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finicj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rzebna jest definicja nowych własności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ealizacj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ykluczających anomalie będące wynikiem awarii syste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ówimy,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 transakcja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zyt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da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transakcji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w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ealizacj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j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l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</a:t>
            </a:r>
            <a:r>
              <a:rPr b="0" lang="de-DE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x] &lt;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de-DE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x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&lt;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j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li istnieje operacja w</a:t>
            </a:r>
            <a:r>
              <a:rPr b="0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x] taka,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 w</a:t>
            </a:r>
            <a:r>
              <a:rPr b="0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x] &lt; w</a:t>
            </a:r>
            <a:r>
              <a:rPr b="0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x] &lt;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], wtedy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&lt;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ówimy,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 transakcja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zyt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transakcji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w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ealizacj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j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li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zyt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ja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ąś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da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z transakcji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w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ealizacj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1676160" y="34290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Realizacje odtwarzal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ealizacja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jest 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odtwarzalna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(ang.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ecoverabl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 (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C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ówczas,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j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ż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li transakcja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zyta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transakcji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(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 w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ealizacji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i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 to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&lt;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ealizacja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unika kaskadowych wycofa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ń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(ang.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voids cascading aborts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 (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CA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ówczas,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j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ż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li transakcja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zyta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transakcji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(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, to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&lt;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i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ealizacja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jest 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ś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is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ł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(ang.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trict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 (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T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ówczas,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j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ż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li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w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j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] &lt;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i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] (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, zachodzi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&lt;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i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] lub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 &lt; 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i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], gdzie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i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] jest jedn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z operacji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i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] lub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w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i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Realizacje odtwarzal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zykł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w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x] w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y] w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z] c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r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u] w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x] r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y] w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y] c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w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x] w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y] r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u] w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x] r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y] w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y] c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w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z] c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w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x] w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y] r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u] w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x] r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y] w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y] w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z] c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c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w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x] w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y] r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u] w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x] w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z] c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r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y] w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y] c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w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x] w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y] r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u] w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z] c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x] r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y] w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y] c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ależności między zbiorami </a:t>
            </a: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realizacji</a:t>
            </a:r>
            <a:r>
              <a:rPr b="1" lang="en-GB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RC,</a:t>
            </a:r>
            <a:r>
              <a:rPr b="1" lang="en-GB" sz="36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CA i 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1320" y="1889280"/>
            <a:ext cx="486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ierdzeni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T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A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62200" y="14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62200" y="2438280"/>
            <a:ext cx="5619600" cy="39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Izolac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2057400"/>
            <a:ext cx="666756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zolacja = Uszeregowalność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Realizacje uszeregowal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acja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bioru transakcji jest 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rawna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uszeregowalna)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żeli jest ona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brazowo i stanowo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ównoważna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jakiejkolwiek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kwencyjnej realizacji tego zbioru transakcji. Realizację taką nazywamy 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acją uszeregowaln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S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Graf uszeregowalnośc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fem uszeregowalnośc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lizacji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nazywamy skierowany graf SG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 = 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taki, w którym zbiór wierzchołków V odpowiada transakcjom ze zbioru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tomiast zbiór krawędzi jest zdefiniowany następując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żeli istnieje dana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 operacje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takie, że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czyta wartość danej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pisanej przez operację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just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just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żeli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istnieje operacja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o 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ub 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just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żeli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o 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9608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09:44:32Z</dcterms:created>
  <dc:creator>Tadeusz Morzy</dc:creator>
  <dc:description/>
  <dc:language>en-US</dc:language>
  <cp:lastModifiedBy>Tadeusz Morzy</cp:lastModifiedBy>
  <dcterms:modified xsi:type="dcterms:W3CDTF">2002-11-13T10:50:46Z</dcterms:modified>
  <cp:revision>19</cp:revision>
  <dc:subject/>
  <dc:title>Serializability</dc:title>
</cp:coreProperties>
</file>