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E35A-2034-45E0-AD71-D49C538F298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AB1A-CB5D-4ED7-83D3-3B4E907722C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2AB3-6CF5-4F70-936A-44FA7AE33FB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E6B3-1F6C-40ED-8CE9-746E6364DD3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7DA3-9BDA-4BAC-AB98-6AEDA0515FD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F785-A67C-46FA-AA7F-605387429FC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9AC7-34D5-40A3-B0E7-CC3F417790F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384-88DA-4555-896A-00885B38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185-16CA-4D32-BE08-3DC135B8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374-F6D8-4C92-9911-1235A629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6BA-5082-4513-90B0-F502701E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FFE-1597-48EB-A035-E704ECFE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091-7E9C-4765-83BA-D1882F9C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302-FFFB-45DE-89F9-C3B6E0A6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6EF-8FA2-4285-81A4-7010465F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5DC-9511-4ED1-BD76-AEA11885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61F-E064-4248-B127-FFD5812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70F-2488-4FE5-8152-DEEE9766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D4B-F3E0-4F89-951C-F4E03427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31C6-1509-4CB8-B46C-EBECFD2437B5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2286000" cy="1828800"/>
            <a:chOff x="0" y="0"/>
            <a:chExt cx="2286000" cy="18288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286000" cy="1828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914400" y="523800"/>
              <a:ext cx="27468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S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533600" y="528480"/>
              <a:ext cx="457200" cy="52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FT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143000" y="781200"/>
              <a:ext cx="343080" cy="29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7208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66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ffff00"/>
                    </a:outerShdw>
                  </a:effectLst>
                  <a:latin typeface="Impact"/>
                </a:rPr>
                <a:t>O</a:t>
              </a:r>
              <a:endParaRPr b="0" lang="en-US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ffff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520" y="650880"/>
              <a:ext cx="766800" cy="601560"/>
            </a:xfrm>
            <a:custGeom>
              <a:avLst/>
              <a:gdLst/>
              <a:ahLst/>
              <a:rect l="l" t="t" r="r" b="b"/>
              <a:pathLst>
                <a:path w="1393" h="923">
                  <a:moveTo>
                    <a:pt x="1292" y="13"/>
                  </a:moveTo>
                  <a:lnTo>
                    <a:pt x="1280" y="0"/>
                  </a:lnTo>
                  <a:lnTo>
                    <a:pt x="1158" y="48"/>
                  </a:lnTo>
                  <a:lnTo>
                    <a:pt x="1081" y="80"/>
                  </a:lnTo>
                  <a:lnTo>
                    <a:pt x="850" y="226"/>
                  </a:lnTo>
                  <a:lnTo>
                    <a:pt x="621" y="370"/>
                  </a:lnTo>
                  <a:lnTo>
                    <a:pt x="419" y="476"/>
                  </a:lnTo>
                  <a:lnTo>
                    <a:pt x="282" y="545"/>
                  </a:lnTo>
                  <a:lnTo>
                    <a:pt x="112" y="637"/>
                  </a:lnTo>
                  <a:lnTo>
                    <a:pt x="0" y="701"/>
                  </a:lnTo>
                  <a:lnTo>
                    <a:pt x="12" y="755"/>
                  </a:lnTo>
                  <a:lnTo>
                    <a:pt x="57" y="841"/>
                  </a:lnTo>
                  <a:lnTo>
                    <a:pt x="101" y="899"/>
                  </a:lnTo>
                  <a:lnTo>
                    <a:pt x="135" y="923"/>
                  </a:lnTo>
                  <a:lnTo>
                    <a:pt x="365" y="792"/>
                  </a:lnTo>
                  <a:lnTo>
                    <a:pt x="644" y="632"/>
                  </a:lnTo>
                  <a:lnTo>
                    <a:pt x="818" y="529"/>
                  </a:lnTo>
                  <a:lnTo>
                    <a:pt x="958" y="443"/>
                  </a:lnTo>
                  <a:lnTo>
                    <a:pt x="1176" y="318"/>
                  </a:lnTo>
                  <a:lnTo>
                    <a:pt x="1292" y="252"/>
                  </a:lnTo>
                  <a:lnTo>
                    <a:pt x="1351" y="188"/>
                  </a:lnTo>
                  <a:lnTo>
                    <a:pt x="1393" y="121"/>
                  </a:lnTo>
                  <a:lnTo>
                    <a:pt x="1349" y="80"/>
                  </a:lnTo>
                  <a:lnTo>
                    <a:pt x="1315" y="44"/>
                  </a:lnTo>
                  <a:lnTo>
                    <a:pt x="1296" y="2"/>
                  </a:lnTo>
                  <a:lnTo>
                    <a:pt x="1292" y="13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0400" y="169920"/>
              <a:ext cx="549360" cy="649080"/>
            </a:xfrm>
            <a:custGeom>
              <a:avLst/>
              <a:gdLst/>
              <a:ahLst/>
              <a:rect l="l" t="t" r="r" b="b"/>
              <a:pathLst>
                <a:path w="999" h="1000">
                  <a:moveTo>
                    <a:pt x="837" y="588"/>
                  </a:moveTo>
                  <a:lnTo>
                    <a:pt x="643" y="318"/>
                  </a:lnTo>
                  <a:lnTo>
                    <a:pt x="609" y="301"/>
                  </a:lnTo>
                  <a:lnTo>
                    <a:pt x="565" y="288"/>
                  </a:lnTo>
                  <a:lnTo>
                    <a:pt x="535" y="227"/>
                  </a:lnTo>
                  <a:lnTo>
                    <a:pt x="438" y="156"/>
                  </a:lnTo>
                  <a:lnTo>
                    <a:pt x="325" y="92"/>
                  </a:lnTo>
                  <a:lnTo>
                    <a:pt x="224" y="38"/>
                  </a:lnTo>
                  <a:lnTo>
                    <a:pt x="116" y="0"/>
                  </a:lnTo>
                  <a:lnTo>
                    <a:pt x="104" y="18"/>
                  </a:lnTo>
                  <a:lnTo>
                    <a:pt x="320" y="192"/>
                  </a:lnTo>
                  <a:lnTo>
                    <a:pt x="284" y="182"/>
                  </a:lnTo>
                  <a:lnTo>
                    <a:pt x="30" y="86"/>
                  </a:lnTo>
                  <a:lnTo>
                    <a:pt x="0" y="114"/>
                  </a:lnTo>
                  <a:lnTo>
                    <a:pt x="150" y="200"/>
                  </a:lnTo>
                  <a:lnTo>
                    <a:pt x="267" y="288"/>
                  </a:lnTo>
                  <a:lnTo>
                    <a:pt x="330" y="336"/>
                  </a:lnTo>
                  <a:lnTo>
                    <a:pt x="349" y="396"/>
                  </a:lnTo>
                  <a:lnTo>
                    <a:pt x="450" y="488"/>
                  </a:lnTo>
                  <a:lnTo>
                    <a:pt x="450" y="566"/>
                  </a:lnTo>
                  <a:lnTo>
                    <a:pt x="224" y="709"/>
                  </a:lnTo>
                  <a:lnTo>
                    <a:pt x="164" y="740"/>
                  </a:lnTo>
                  <a:lnTo>
                    <a:pt x="143" y="805"/>
                  </a:lnTo>
                  <a:lnTo>
                    <a:pt x="176" y="846"/>
                  </a:lnTo>
                  <a:lnTo>
                    <a:pt x="228" y="860"/>
                  </a:lnTo>
                  <a:lnTo>
                    <a:pt x="272" y="866"/>
                  </a:lnTo>
                  <a:lnTo>
                    <a:pt x="302" y="805"/>
                  </a:lnTo>
                  <a:lnTo>
                    <a:pt x="554" y="679"/>
                  </a:lnTo>
                  <a:lnTo>
                    <a:pt x="614" y="744"/>
                  </a:lnTo>
                  <a:lnTo>
                    <a:pt x="649" y="757"/>
                  </a:lnTo>
                  <a:lnTo>
                    <a:pt x="687" y="768"/>
                  </a:lnTo>
                  <a:lnTo>
                    <a:pt x="714" y="792"/>
                  </a:lnTo>
                  <a:lnTo>
                    <a:pt x="732" y="840"/>
                  </a:lnTo>
                  <a:lnTo>
                    <a:pt x="727" y="878"/>
                  </a:lnTo>
                  <a:lnTo>
                    <a:pt x="702" y="924"/>
                  </a:lnTo>
                  <a:lnTo>
                    <a:pt x="751" y="1000"/>
                  </a:lnTo>
                  <a:lnTo>
                    <a:pt x="843" y="996"/>
                  </a:lnTo>
                  <a:lnTo>
                    <a:pt x="895" y="975"/>
                  </a:lnTo>
                  <a:lnTo>
                    <a:pt x="961" y="918"/>
                  </a:lnTo>
                  <a:lnTo>
                    <a:pt x="987" y="870"/>
                  </a:lnTo>
                  <a:lnTo>
                    <a:pt x="999" y="812"/>
                  </a:lnTo>
                  <a:lnTo>
                    <a:pt x="946" y="734"/>
                  </a:lnTo>
                  <a:lnTo>
                    <a:pt x="891" y="734"/>
                  </a:lnTo>
                  <a:lnTo>
                    <a:pt x="843" y="709"/>
                  </a:lnTo>
                  <a:lnTo>
                    <a:pt x="822" y="698"/>
                  </a:lnTo>
                  <a:lnTo>
                    <a:pt x="807" y="656"/>
                  </a:lnTo>
                  <a:lnTo>
                    <a:pt x="822" y="614"/>
                  </a:lnTo>
                  <a:lnTo>
                    <a:pt x="837" y="588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28600" y="162000"/>
              <a:ext cx="1189800" cy="1094760"/>
              <a:chOff x="228600" y="162000"/>
              <a:chExt cx="1189800" cy="1094760"/>
            </a:xfrm>
          </p:grpSpPr>
          <p:sp>
            <p:nvSpPr>
              <p:cNvPr id="52" name=""/>
              <p:cNvSpPr/>
              <p:nvPr/>
            </p:nvSpPr>
            <p:spPr>
              <a:xfrm>
                <a:off x="228600" y="516240"/>
                <a:ext cx="947880" cy="740520"/>
              </a:xfrm>
              <a:custGeom>
                <a:avLst/>
                <a:gdLst/>
                <a:ahLst/>
                <a:rect l="l" t="t" r="r" b="b"/>
                <a:pathLst>
                  <a:path w="1723" h="1140">
                    <a:moveTo>
                      <a:pt x="1607" y="0"/>
                    </a:moveTo>
                    <a:lnTo>
                      <a:pt x="1461" y="99"/>
                    </a:lnTo>
                    <a:lnTo>
                      <a:pt x="1310" y="195"/>
                    </a:lnTo>
                    <a:lnTo>
                      <a:pt x="1195" y="236"/>
                    </a:lnTo>
                    <a:lnTo>
                      <a:pt x="1081" y="282"/>
                    </a:lnTo>
                    <a:lnTo>
                      <a:pt x="906" y="390"/>
                    </a:lnTo>
                    <a:lnTo>
                      <a:pt x="628" y="564"/>
                    </a:lnTo>
                    <a:lnTo>
                      <a:pt x="371" y="701"/>
                    </a:lnTo>
                    <a:lnTo>
                      <a:pt x="152" y="819"/>
                    </a:lnTo>
                    <a:lnTo>
                      <a:pt x="0" y="905"/>
                    </a:lnTo>
                    <a:lnTo>
                      <a:pt x="14" y="975"/>
                    </a:lnTo>
                    <a:lnTo>
                      <a:pt x="53" y="1038"/>
                    </a:lnTo>
                    <a:lnTo>
                      <a:pt x="101" y="1109"/>
                    </a:lnTo>
                    <a:lnTo>
                      <a:pt x="163" y="1140"/>
                    </a:lnTo>
                    <a:lnTo>
                      <a:pt x="654" y="852"/>
                    </a:lnTo>
                    <a:lnTo>
                      <a:pt x="981" y="658"/>
                    </a:lnTo>
                    <a:lnTo>
                      <a:pt x="1233" y="510"/>
                    </a:lnTo>
                    <a:lnTo>
                      <a:pt x="1322" y="462"/>
                    </a:lnTo>
                    <a:lnTo>
                      <a:pt x="1404" y="366"/>
                    </a:lnTo>
                    <a:lnTo>
                      <a:pt x="1466" y="270"/>
                    </a:lnTo>
                    <a:lnTo>
                      <a:pt x="1596" y="204"/>
                    </a:lnTo>
                    <a:lnTo>
                      <a:pt x="1723" y="149"/>
                    </a:lnTo>
                    <a:lnTo>
                      <a:pt x="1703" y="121"/>
                    </a:lnTo>
                    <a:lnTo>
                      <a:pt x="1484" y="234"/>
                    </a:lnTo>
                    <a:lnTo>
                      <a:pt x="1448" y="254"/>
                    </a:lnTo>
                    <a:lnTo>
                      <a:pt x="1428" y="282"/>
                    </a:lnTo>
                    <a:lnTo>
                      <a:pt x="1376" y="353"/>
                    </a:lnTo>
                    <a:lnTo>
                      <a:pt x="1321" y="426"/>
                    </a:lnTo>
                    <a:lnTo>
                      <a:pt x="1273" y="462"/>
                    </a:lnTo>
                    <a:lnTo>
                      <a:pt x="1046" y="592"/>
                    </a:lnTo>
                    <a:lnTo>
                      <a:pt x="838" y="718"/>
                    </a:lnTo>
                    <a:lnTo>
                      <a:pt x="619" y="840"/>
                    </a:lnTo>
                    <a:lnTo>
                      <a:pt x="420" y="957"/>
                    </a:lnTo>
                    <a:lnTo>
                      <a:pt x="253" y="1056"/>
                    </a:lnTo>
                    <a:lnTo>
                      <a:pt x="152" y="1114"/>
                    </a:lnTo>
                    <a:lnTo>
                      <a:pt x="110" y="1083"/>
                    </a:lnTo>
                    <a:lnTo>
                      <a:pt x="78" y="1030"/>
                    </a:lnTo>
                    <a:lnTo>
                      <a:pt x="48" y="975"/>
                    </a:lnTo>
                    <a:lnTo>
                      <a:pt x="36" y="909"/>
                    </a:lnTo>
                    <a:lnTo>
                      <a:pt x="253" y="790"/>
                    </a:lnTo>
                    <a:lnTo>
                      <a:pt x="589" y="612"/>
                    </a:lnTo>
                    <a:lnTo>
                      <a:pt x="828" y="471"/>
                    </a:lnTo>
                    <a:lnTo>
                      <a:pt x="1027" y="344"/>
                    </a:lnTo>
                    <a:lnTo>
                      <a:pt x="1135" y="288"/>
                    </a:lnTo>
                    <a:lnTo>
                      <a:pt x="1257" y="236"/>
                    </a:lnTo>
                    <a:lnTo>
                      <a:pt x="1339" y="206"/>
                    </a:lnTo>
                    <a:lnTo>
                      <a:pt x="1632" y="25"/>
                    </a:lnTo>
                    <a:lnTo>
                      <a:pt x="1607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6000" y="162000"/>
                <a:ext cx="480240" cy="453960"/>
              </a:xfrm>
              <a:custGeom>
                <a:avLst/>
                <a:gdLst/>
                <a:ahLst/>
                <a:rect l="l" t="t" r="r" b="b"/>
                <a:pathLst>
                  <a:path w="875" h="699">
                    <a:moveTo>
                      <a:pt x="875" y="601"/>
                    </a:moveTo>
                    <a:lnTo>
                      <a:pt x="668" y="321"/>
                    </a:lnTo>
                    <a:lnTo>
                      <a:pt x="622" y="296"/>
                    </a:lnTo>
                    <a:lnTo>
                      <a:pt x="591" y="284"/>
                    </a:lnTo>
                    <a:lnTo>
                      <a:pt x="580" y="241"/>
                    </a:lnTo>
                    <a:lnTo>
                      <a:pt x="494" y="169"/>
                    </a:lnTo>
                    <a:lnTo>
                      <a:pt x="387" y="112"/>
                    </a:lnTo>
                    <a:lnTo>
                      <a:pt x="279" y="48"/>
                    </a:lnTo>
                    <a:lnTo>
                      <a:pt x="152" y="4"/>
                    </a:lnTo>
                    <a:lnTo>
                      <a:pt x="126" y="0"/>
                    </a:lnTo>
                    <a:lnTo>
                      <a:pt x="103" y="29"/>
                    </a:lnTo>
                    <a:lnTo>
                      <a:pt x="141" y="55"/>
                    </a:lnTo>
                    <a:lnTo>
                      <a:pt x="241" y="133"/>
                    </a:lnTo>
                    <a:lnTo>
                      <a:pt x="301" y="175"/>
                    </a:lnTo>
                    <a:lnTo>
                      <a:pt x="189" y="133"/>
                    </a:lnTo>
                    <a:lnTo>
                      <a:pt x="115" y="103"/>
                    </a:lnTo>
                    <a:lnTo>
                      <a:pt x="48" y="78"/>
                    </a:lnTo>
                    <a:lnTo>
                      <a:pt x="0" y="125"/>
                    </a:lnTo>
                    <a:lnTo>
                      <a:pt x="48" y="149"/>
                    </a:lnTo>
                    <a:lnTo>
                      <a:pt x="163" y="215"/>
                    </a:lnTo>
                    <a:lnTo>
                      <a:pt x="255" y="282"/>
                    </a:lnTo>
                    <a:lnTo>
                      <a:pt x="349" y="355"/>
                    </a:lnTo>
                    <a:lnTo>
                      <a:pt x="361" y="411"/>
                    </a:lnTo>
                    <a:lnTo>
                      <a:pt x="397" y="447"/>
                    </a:lnTo>
                    <a:lnTo>
                      <a:pt x="460" y="507"/>
                    </a:lnTo>
                    <a:lnTo>
                      <a:pt x="475" y="567"/>
                    </a:lnTo>
                    <a:lnTo>
                      <a:pt x="482" y="592"/>
                    </a:lnTo>
                    <a:lnTo>
                      <a:pt x="572" y="699"/>
                    </a:lnTo>
                    <a:lnTo>
                      <a:pt x="596" y="686"/>
                    </a:lnTo>
                    <a:lnTo>
                      <a:pt x="550" y="604"/>
                    </a:lnTo>
                    <a:lnTo>
                      <a:pt x="500" y="556"/>
                    </a:lnTo>
                    <a:lnTo>
                      <a:pt x="490" y="501"/>
                    </a:lnTo>
                    <a:lnTo>
                      <a:pt x="434" y="445"/>
                    </a:lnTo>
                    <a:lnTo>
                      <a:pt x="381" y="403"/>
                    </a:lnTo>
                    <a:lnTo>
                      <a:pt x="363" y="338"/>
                    </a:lnTo>
                    <a:lnTo>
                      <a:pt x="314" y="290"/>
                    </a:lnTo>
                    <a:lnTo>
                      <a:pt x="237" y="245"/>
                    </a:lnTo>
                    <a:lnTo>
                      <a:pt x="171" y="193"/>
                    </a:lnTo>
                    <a:lnTo>
                      <a:pt x="81" y="149"/>
                    </a:lnTo>
                    <a:lnTo>
                      <a:pt x="42" y="121"/>
                    </a:lnTo>
                    <a:lnTo>
                      <a:pt x="66" y="108"/>
                    </a:lnTo>
                    <a:lnTo>
                      <a:pt x="309" y="210"/>
                    </a:lnTo>
                    <a:lnTo>
                      <a:pt x="385" y="253"/>
                    </a:lnTo>
                    <a:lnTo>
                      <a:pt x="422" y="278"/>
                    </a:lnTo>
                    <a:lnTo>
                      <a:pt x="439" y="245"/>
                    </a:lnTo>
                    <a:lnTo>
                      <a:pt x="333" y="167"/>
                    </a:lnTo>
                    <a:lnTo>
                      <a:pt x="267" y="115"/>
                    </a:lnTo>
                    <a:lnTo>
                      <a:pt x="181" y="55"/>
                    </a:lnTo>
                    <a:lnTo>
                      <a:pt x="145" y="22"/>
                    </a:lnTo>
                    <a:lnTo>
                      <a:pt x="249" y="59"/>
                    </a:lnTo>
                    <a:lnTo>
                      <a:pt x="361" y="119"/>
                    </a:lnTo>
                    <a:lnTo>
                      <a:pt x="470" y="185"/>
                    </a:lnTo>
                    <a:lnTo>
                      <a:pt x="548" y="245"/>
                    </a:lnTo>
                    <a:lnTo>
                      <a:pt x="565" y="278"/>
                    </a:lnTo>
                    <a:lnTo>
                      <a:pt x="574" y="312"/>
                    </a:lnTo>
                    <a:lnTo>
                      <a:pt x="634" y="325"/>
                    </a:lnTo>
                    <a:lnTo>
                      <a:pt x="674" y="363"/>
                    </a:lnTo>
                    <a:lnTo>
                      <a:pt x="746" y="475"/>
                    </a:lnTo>
                    <a:lnTo>
                      <a:pt x="831" y="590"/>
                    </a:lnTo>
                    <a:lnTo>
                      <a:pt x="854" y="614"/>
                    </a:lnTo>
                    <a:lnTo>
                      <a:pt x="875" y="601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99160" y="452160"/>
                <a:ext cx="66240" cy="91440"/>
              </a:xfrm>
              <a:custGeom>
                <a:avLst/>
                <a:gdLst/>
                <a:ahLst/>
                <a:rect l="l" t="t" r="r" b="b"/>
                <a:pathLst>
                  <a:path w="120" h="141">
                    <a:moveTo>
                      <a:pt x="26" y="0"/>
                    </a:moveTo>
                    <a:lnTo>
                      <a:pt x="62" y="17"/>
                    </a:lnTo>
                    <a:lnTo>
                      <a:pt x="99" y="65"/>
                    </a:lnTo>
                    <a:lnTo>
                      <a:pt x="120" y="115"/>
                    </a:lnTo>
                    <a:lnTo>
                      <a:pt x="114" y="141"/>
                    </a:lnTo>
                    <a:lnTo>
                      <a:pt x="73" y="133"/>
                    </a:lnTo>
                    <a:lnTo>
                      <a:pt x="15" y="71"/>
                    </a:lnTo>
                    <a:lnTo>
                      <a:pt x="0" y="39"/>
                    </a:lnTo>
                    <a:lnTo>
                      <a:pt x="0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56320" y="543600"/>
                <a:ext cx="262080" cy="284400"/>
              </a:xfrm>
              <a:custGeom>
                <a:avLst/>
                <a:gdLst/>
                <a:ahLst/>
                <a:rect l="l" t="t" r="r" b="b"/>
                <a:pathLst>
                  <a:path w="477" h="438">
                    <a:moveTo>
                      <a:pt x="280" y="0"/>
                    </a:moveTo>
                    <a:lnTo>
                      <a:pt x="265" y="45"/>
                    </a:lnTo>
                    <a:lnTo>
                      <a:pt x="256" y="73"/>
                    </a:lnTo>
                    <a:lnTo>
                      <a:pt x="267" y="111"/>
                    </a:lnTo>
                    <a:lnTo>
                      <a:pt x="286" y="143"/>
                    </a:lnTo>
                    <a:lnTo>
                      <a:pt x="343" y="166"/>
                    </a:lnTo>
                    <a:lnTo>
                      <a:pt x="377" y="173"/>
                    </a:lnTo>
                    <a:lnTo>
                      <a:pt x="397" y="178"/>
                    </a:lnTo>
                    <a:lnTo>
                      <a:pt x="444" y="240"/>
                    </a:lnTo>
                    <a:lnTo>
                      <a:pt x="432" y="299"/>
                    </a:lnTo>
                    <a:lnTo>
                      <a:pt x="385" y="349"/>
                    </a:lnTo>
                    <a:lnTo>
                      <a:pt x="322" y="396"/>
                    </a:lnTo>
                    <a:lnTo>
                      <a:pt x="267" y="408"/>
                    </a:lnTo>
                    <a:lnTo>
                      <a:pt x="213" y="406"/>
                    </a:lnTo>
                    <a:lnTo>
                      <a:pt x="173" y="343"/>
                    </a:lnTo>
                    <a:lnTo>
                      <a:pt x="195" y="292"/>
                    </a:lnTo>
                    <a:lnTo>
                      <a:pt x="195" y="245"/>
                    </a:lnTo>
                    <a:lnTo>
                      <a:pt x="177" y="197"/>
                    </a:lnTo>
                    <a:lnTo>
                      <a:pt x="136" y="170"/>
                    </a:lnTo>
                    <a:lnTo>
                      <a:pt x="85" y="160"/>
                    </a:lnTo>
                    <a:lnTo>
                      <a:pt x="13" y="88"/>
                    </a:lnTo>
                    <a:lnTo>
                      <a:pt x="0" y="111"/>
                    </a:lnTo>
                    <a:lnTo>
                      <a:pt x="61" y="173"/>
                    </a:lnTo>
                    <a:lnTo>
                      <a:pt x="88" y="185"/>
                    </a:lnTo>
                    <a:lnTo>
                      <a:pt x="136" y="195"/>
                    </a:lnTo>
                    <a:lnTo>
                      <a:pt x="166" y="228"/>
                    </a:lnTo>
                    <a:lnTo>
                      <a:pt x="173" y="276"/>
                    </a:lnTo>
                    <a:lnTo>
                      <a:pt x="161" y="323"/>
                    </a:lnTo>
                    <a:lnTo>
                      <a:pt x="140" y="349"/>
                    </a:lnTo>
                    <a:lnTo>
                      <a:pt x="195" y="433"/>
                    </a:lnTo>
                    <a:lnTo>
                      <a:pt x="258" y="438"/>
                    </a:lnTo>
                    <a:lnTo>
                      <a:pt x="329" y="426"/>
                    </a:lnTo>
                    <a:lnTo>
                      <a:pt x="362" y="406"/>
                    </a:lnTo>
                    <a:lnTo>
                      <a:pt x="401" y="367"/>
                    </a:lnTo>
                    <a:lnTo>
                      <a:pt x="447" y="330"/>
                    </a:lnTo>
                    <a:lnTo>
                      <a:pt x="459" y="299"/>
                    </a:lnTo>
                    <a:lnTo>
                      <a:pt x="477" y="233"/>
                    </a:lnTo>
                    <a:lnTo>
                      <a:pt x="404" y="143"/>
                    </a:lnTo>
                    <a:lnTo>
                      <a:pt x="362" y="148"/>
                    </a:lnTo>
                    <a:lnTo>
                      <a:pt x="318" y="128"/>
                    </a:lnTo>
                    <a:lnTo>
                      <a:pt x="282" y="104"/>
                    </a:lnTo>
                    <a:lnTo>
                      <a:pt x="282" y="69"/>
                    </a:lnTo>
                    <a:lnTo>
                      <a:pt x="292" y="37"/>
                    </a:lnTo>
                    <a:lnTo>
                      <a:pt x="300" y="8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65400" y="676440"/>
                <a:ext cx="103680" cy="95400"/>
              </a:xfrm>
              <a:custGeom>
                <a:avLst/>
                <a:gdLst/>
                <a:ahLst/>
                <a:rect l="l" t="t" r="r" b="b"/>
                <a:pathLst>
                  <a:path w="189" h="147">
                    <a:moveTo>
                      <a:pt x="189" y="0"/>
                    </a:moveTo>
                    <a:lnTo>
                      <a:pt x="170" y="58"/>
                    </a:lnTo>
                    <a:lnTo>
                      <a:pt x="130" y="113"/>
                    </a:lnTo>
                    <a:lnTo>
                      <a:pt x="74" y="147"/>
                    </a:lnTo>
                    <a:lnTo>
                      <a:pt x="0" y="147"/>
                    </a:lnTo>
                    <a:lnTo>
                      <a:pt x="42" y="128"/>
                    </a:lnTo>
                    <a:lnTo>
                      <a:pt x="107" y="96"/>
                    </a:lnTo>
                    <a:lnTo>
                      <a:pt x="150" y="5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76320" y="6415200"/>
            <a:ext cx="38862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 Narrow"/>
              </a:rPr>
              <a:t>Copyright © Jerzy R. Nawroc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cta.gov.uk/prince/" TargetMode="External"/><Relationship Id="rId2" Type="http://schemas.openxmlformats.org/officeDocument/2006/relationships/hyperlink" Target="http://www.ccta.gov.uk/prince/" TargetMode="External"/><Relationship Id="rId3" Type="http://schemas.openxmlformats.org/officeDocument/2006/relationships/hyperlink" Target="http://www.ccta.gov.uk/prince/" TargetMode="External"/><Relationship Id="rId4" Type="http://schemas.openxmlformats.org/officeDocument/2006/relationships/hyperlink" Target="http://www.ccta.gov.uk/prince/" TargetMode="External"/><Relationship Id="rId5" Type="http://schemas.openxmlformats.org/officeDocument/2006/relationships/hyperlink" Target="http://www.ccta.gov.uk/prince/" TargetMode="External"/><Relationship Id="rId6" Type="http://schemas.openxmlformats.org/officeDocument/2006/relationships/hyperlink" Target="http://www.ccta.gov.uk/prince/" TargetMode="External"/><Relationship Id="rId7" Type="http://schemas.openxmlformats.org/officeDocument/2006/relationships/hyperlink" Target="http://www.ccta.gov.uk/prince/" TargetMode="External"/><Relationship Id="rId8" Type="http://schemas.openxmlformats.org/officeDocument/2006/relationships/hyperlink" Target="http://www.ccta.gov.uk/prince/" TargetMode="External"/><Relationship Id="rId9" Type="http://schemas.openxmlformats.org/officeDocument/2006/relationships/hyperlink" Target="http://www.ccta.gov.uk/prince/" TargetMode="External"/><Relationship Id="rId10" Type="http://schemas.openxmlformats.org/officeDocument/2006/relationships/hyperlink" Target="http://www.ccta.gov.uk/prince/" TargetMode="External"/><Relationship Id="rId11" Type="http://schemas.openxmlformats.org/officeDocument/2006/relationships/hyperlink" Target="http://www.ccta.gov.uk/prince/" TargetMode="Externa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Zarządzanie przedsięwzięciami</a:t>
            </a:r>
            <a:br>
              <a:rPr sz="3600"/>
            </a:b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i PRINCE2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48769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io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38240"/>
            <a:ext cx="6553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Inżynieria oprogramowania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ykład 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867120" y="2413080"/>
            <a:ext cx="1709640" cy="1528560"/>
            <a:chOff x="3867120" y="2413080"/>
            <a:chExt cx="1709640" cy="1528560"/>
          </a:xfrm>
        </p:grpSpPr>
        <p:grpSp>
          <p:nvGrpSpPr>
            <p:cNvPr id="197" name=""/>
            <p:cNvGrpSpPr/>
            <p:nvPr/>
          </p:nvGrpSpPr>
          <p:grpSpPr>
            <a:xfrm>
              <a:off x="3867120" y="2565360"/>
              <a:ext cx="957240" cy="1376280"/>
              <a:chOff x="3867120" y="2565360"/>
              <a:chExt cx="957240" cy="1376280"/>
            </a:xfrm>
          </p:grpSpPr>
          <p:sp>
            <p:nvSpPr>
              <p:cNvPr id="198" name=""/>
              <p:cNvSpPr/>
              <p:nvPr/>
            </p:nvSpPr>
            <p:spPr>
              <a:xfrm>
                <a:off x="4200480" y="2565360"/>
                <a:ext cx="214200" cy="345960"/>
              </a:xfrm>
              <a:custGeom>
                <a:avLst/>
                <a:gdLst/>
                <a:ahLst/>
                <a:rect l="l" t="t" r="r" b="b"/>
                <a:pathLst>
                  <a:path w="537" h="654">
                    <a:moveTo>
                      <a:pt x="138" y="302"/>
                    </a:moveTo>
                    <a:lnTo>
                      <a:pt x="179" y="171"/>
                    </a:lnTo>
                    <a:lnTo>
                      <a:pt x="248" y="66"/>
                    </a:lnTo>
                    <a:lnTo>
                      <a:pt x="317" y="13"/>
                    </a:lnTo>
                    <a:lnTo>
                      <a:pt x="399" y="0"/>
                    </a:lnTo>
                    <a:lnTo>
                      <a:pt x="455" y="13"/>
                    </a:lnTo>
                    <a:lnTo>
                      <a:pt x="524" y="53"/>
                    </a:lnTo>
                    <a:lnTo>
                      <a:pt x="537" y="144"/>
                    </a:lnTo>
                    <a:lnTo>
                      <a:pt x="537" y="275"/>
                    </a:lnTo>
                    <a:lnTo>
                      <a:pt x="482" y="418"/>
                    </a:lnTo>
                    <a:lnTo>
                      <a:pt x="399" y="511"/>
                    </a:lnTo>
                    <a:lnTo>
                      <a:pt x="359" y="563"/>
                    </a:lnTo>
                    <a:lnTo>
                      <a:pt x="290" y="602"/>
                    </a:lnTo>
                    <a:lnTo>
                      <a:pt x="234" y="589"/>
                    </a:lnTo>
                    <a:lnTo>
                      <a:pt x="193" y="576"/>
                    </a:lnTo>
                    <a:lnTo>
                      <a:pt x="151" y="536"/>
                    </a:lnTo>
                    <a:lnTo>
                      <a:pt x="27" y="654"/>
                    </a:lnTo>
                    <a:lnTo>
                      <a:pt x="0" y="576"/>
                    </a:lnTo>
                    <a:lnTo>
                      <a:pt x="124" y="458"/>
                    </a:lnTo>
                    <a:lnTo>
                      <a:pt x="138" y="302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55920" y="2917800"/>
                <a:ext cx="136800" cy="463680"/>
              </a:xfrm>
              <a:custGeom>
                <a:avLst/>
                <a:gdLst/>
                <a:ahLst/>
                <a:rect l="l" t="t" r="r" b="b"/>
                <a:pathLst>
                  <a:path w="345" h="876">
                    <a:moveTo>
                      <a:pt x="111" y="26"/>
                    </a:moveTo>
                    <a:lnTo>
                      <a:pt x="180" y="0"/>
                    </a:lnTo>
                    <a:lnTo>
                      <a:pt x="262" y="26"/>
                    </a:lnTo>
                    <a:lnTo>
                      <a:pt x="318" y="118"/>
                    </a:lnTo>
                    <a:lnTo>
                      <a:pt x="345" y="262"/>
                    </a:lnTo>
                    <a:lnTo>
                      <a:pt x="345" y="483"/>
                    </a:lnTo>
                    <a:lnTo>
                      <a:pt x="303" y="654"/>
                    </a:lnTo>
                    <a:lnTo>
                      <a:pt x="262" y="785"/>
                    </a:lnTo>
                    <a:lnTo>
                      <a:pt x="151" y="876"/>
                    </a:lnTo>
                    <a:lnTo>
                      <a:pt x="55" y="863"/>
                    </a:lnTo>
                    <a:lnTo>
                      <a:pt x="0" y="745"/>
                    </a:lnTo>
                    <a:lnTo>
                      <a:pt x="42" y="614"/>
                    </a:lnTo>
                    <a:lnTo>
                      <a:pt x="82" y="496"/>
                    </a:lnTo>
                    <a:lnTo>
                      <a:pt x="96" y="380"/>
                    </a:lnTo>
                    <a:lnTo>
                      <a:pt x="82" y="222"/>
                    </a:lnTo>
                    <a:lnTo>
                      <a:pt x="82" y="78"/>
                    </a:lnTo>
                    <a:lnTo>
                      <a:pt x="111" y="2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67120" y="2924280"/>
                <a:ext cx="442800" cy="353880"/>
              </a:xfrm>
              <a:custGeom>
                <a:avLst/>
                <a:gdLst/>
                <a:ahLst/>
                <a:rect l="l" t="t" r="r" b="b"/>
                <a:pathLst>
                  <a:path w="1117" h="667">
                    <a:moveTo>
                      <a:pt x="910" y="104"/>
                    </a:moveTo>
                    <a:lnTo>
                      <a:pt x="992" y="26"/>
                    </a:lnTo>
                    <a:lnTo>
                      <a:pt x="1061" y="0"/>
                    </a:lnTo>
                    <a:lnTo>
                      <a:pt x="1103" y="13"/>
                    </a:lnTo>
                    <a:lnTo>
                      <a:pt x="1117" y="64"/>
                    </a:lnTo>
                    <a:lnTo>
                      <a:pt x="1103" y="117"/>
                    </a:lnTo>
                    <a:lnTo>
                      <a:pt x="1075" y="130"/>
                    </a:lnTo>
                    <a:lnTo>
                      <a:pt x="938" y="209"/>
                    </a:lnTo>
                    <a:lnTo>
                      <a:pt x="800" y="300"/>
                    </a:lnTo>
                    <a:lnTo>
                      <a:pt x="689" y="365"/>
                    </a:lnTo>
                    <a:lnTo>
                      <a:pt x="551" y="418"/>
                    </a:lnTo>
                    <a:lnTo>
                      <a:pt x="386" y="470"/>
                    </a:lnTo>
                    <a:lnTo>
                      <a:pt x="359" y="496"/>
                    </a:lnTo>
                    <a:lnTo>
                      <a:pt x="399" y="640"/>
                    </a:lnTo>
                    <a:lnTo>
                      <a:pt x="372" y="640"/>
                    </a:lnTo>
                    <a:lnTo>
                      <a:pt x="317" y="536"/>
                    </a:lnTo>
                    <a:lnTo>
                      <a:pt x="290" y="536"/>
                    </a:lnTo>
                    <a:lnTo>
                      <a:pt x="221" y="667"/>
                    </a:lnTo>
                    <a:lnTo>
                      <a:pt x="179" y="667"/>
                    </a:lnTo>
                    <a:lnTo>
                      <a:pt x="234" y="536"/>
                    </a:lnTo>
                    <a:lnTo>
                      <a:pt x="221" y="496"/>
                    </a:lnTo>
                    <a:lnTo>
                      <a:pt x="0" y="509"/>
                    </a:lnTo>
                    <a:lnTo>
                      <a:pt x="0" y="470"/>
                    </a:lnTo>
                    <a:lnTo>
                      <a:pt x="207" y="444"/>
                    </a:lnTo>
                    <a:lnTo>
                      <a:pt x="221" y="418"/>
                    </a:lnTo>
                    <a:lnTo>
                      <a:pt x="110" y="340"/>
                    </a:lnTo>
                    <a:lnTo>
                      <a:pt x="152" y="326"/>
                    </a:lnTo>
                    <a:lnTo>
                      <a:pt x="290" y="391"/>
                    </a:lnTo>
                    <a:lnTo>
                      <a:pt x="372" y="391"/>
                    </a:lnTo>
                    <a:lnTo>
                      <a:pt x="510" y="378"/>
                    </a:lnTo>
                    <a:lnTo>
                      <a:pt x="593" y="340"/>
                    </a:lnTo>
                    <a:lnTo>
                      <a:pt x="731" y="274"/>
                    </a:lnTo>
                    <a:lnTo>
                      <a:pt x="841" y="169"/>
                    </a:lnTo>
                    <a:lnTo>
                      <a:pt x="910" y="10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32240" y="2786040"/>
                <a:ext cx="492120" cy="193680"/>
              </a:xfrm>
              <a:custGeom>
                <a:avLst/>
                <a:gdLst/>
                <a:ahLst/>
                <a:rect l="l" t="t" r="r" b="b"/>
                <a:pathLst>
                  <a:path w="1241" h="367">
                    <a:moveTo>
                      <a:pt x="0" y="289"/>
                    </a:moveTo>
                    <a:lnTo>
                      <a:pt x="15" y="236"/>
                    </a:lnTo>
                    <a:lnTo>
                      <a:pt x="194" y="171"/>
                    </a:lnTo>
                    <a:lnTo>
                      <a:pt x="387" y="105"/>
                    </a:lnTo>
                    <a:lnTo>
                      <a:pt x="690" y="66"/>
                    </a:lnTo>
                    <a:lnTo>
                      <a:pt x="966" y="79"/>
                    </a:lnTo>
                    <a:lnTo>
                      <a:pt x="1063" y="79"/>
                    </a:lnTo>
                    <a:lnTo>
                      <a:pt x="1214" y="0"/>
                    </a:lnTo>
                    <a:lnTo>
                      <a:pt x="1241" y="26"/>
                    </a:lnTo>
                    <a:lnTo>
                      <a:pt x="1104" y="131"/>
                    </a:lnTo>
                    <a:lnTo>
                      <a:pt x="993" y="236"/>
                    </a:lnTo>
                    <a:lnTo>
                      <a:pt x="924" y="341"/>
                    </a:lnTo>
                    <a:lnTo>
                      <a:pt x="884" y="302"/>
                    </a:lnTo>
                    <a:lnTo>
                      <a:pt x="897" y="236"/>
                    </a:lnTo>
                    <a:lnTo>
                      <a:pt x="911" y="158"/>
                    </a:lnTo>
                    <a:lnTo>
                      <a:pt x="842" y="144"/>
                    </a:lnTo>
                    <a:lnTo>
                      <a:pt x="690" y="131"/>
                    </a:lnTo>
                    <a:lnTo>
                      <a:pt x="566" y="131"/>
                    </a:lnTo>
                    <a:lnTo>
                      <a:pt x="373" y="184"/>
                    </a:lnTo>
                    <a:lnTo>
                      <a:pt x="180" y="289"/>
                    </a:lnTo>
                    <a:lnTo>
                      <a:pt x="0" y="367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282920" y="3255840"/>
                <a:ext cx="147960" cy="622440"/>
              </a:xfrm>
              <a:custGeom>
                <a:avLst/>
                <a:gdLst/>
                <a:ahLst/>
                <a:rect l="l" t="t" r="r" b="b"/>
                <a:pathLst>
                  <a:path w="374" h="1176">
                    <a:moveTo>
                      <a:pt x="111" y="0"/>
                    </a:moveTo>
                    <a:lnTo>
                      <a:pt x="180" y="26"/>
                    </a:lnTo>
                    <a:lnTo>
                      <a:pt x="236" y="156"/>
                    </a:lnTo>
                    <a:lnTo>
                      <a:pt x="264" y="300"/>
                    </a:lnTo>
                    <a:lnTo>
                      <a:pt x="278" y="496"/>
                    </a:lnTo>
                    <a:lnTo>
                      <a:pt x="222" y="705"/>
                    </a:lnTo>
                    <a:lnTo>
                      <a:pt x="140" y="887"/>
                    </a:lnTo>
                    <a:lnTo>
                      <a:pt x="153" y="953"/>
                    </a:lnTo>
                    <a:lnTo>
                      <a:pt x="347" y="1045"/>
                    </a:lnTo>
                    <a:lnTo>
                      <a:pt x="374" y="1096"/>
                    </a:lnTo>
                    <a:lnTo>
                      <a:pt x="264" y="1176"/>
                    </a:lnTo>
                    <a:lnTo>
                      <a:pt x="209" y="1136"/>
                    </a:lnTo>
                    <a:lnTo>
                      <a:pt x="98" y="1018"/>
                    </a:lnTo>
                    <a:lnTo>
                      <a:pt x="0" y="953"/>
                    </a:lnTo>
                    <a:lnTo>
                      <a:pt x="0" y="914"/>
                    </a:lnTo>
                    <a:lnTo>
                      <a:pt x="56" y="836"/>
                    </a:lnTo>
                    <a:lnTo>
                      <a:pt x="140" y="718"/>
                    </a:lnTo>
                    <a:lnTo>
                      <a:pt x="195" y="535"/>
                    </a:lnTo>
                    <a:lnTo>
                      <a:pt x="195" y="300"/>
                    </a:lnTo>
                    <a:lnTo>
                      <a:pt x="153" y="169"/>
                    </a:lnTo>
                    <a:lnTo>
                      <a:pt x="98" y="104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06880" y="3263760"/>
                <a:ext cx="198360" cy="677880"/>
              </a:xfrm>
              <a:custGeom>
                <a:avLst/>
                <a:gdLst/>
                <a:ahLst/>
                <a:rect l="l" t="t" r="r" b="b"/>
                <a:pathLst>
                  <a:path w="498" h="1281">
                    <a:moveTo>
                      <a:pt x="263" y="156"/>
                    </a:moveTo>
                    <a:lnTo>
                      <a:pt x="318" y="38"/>
                    </a:lnTo>
                    <a:lnTo>
                      <a:pt x="456" y="0"/>
                    </a:lnTo>
                    <a:lnTo>
                      <a:pt x="498" y="64"/>
                    </a:lnTo>
                    <a:lnTo>
                      <a:pt x="401" y="169"/>
                    </a:lnTo>
                    <a:lnTo>
                      <a:pt x="345" y="235"/>
                    </a:lnTo>
                    <a:lnTo>
                      <a:pt x="332" y="365"/>
                    </a:lnTo>
                    <a:lnTo>
                      <a:pt x="305" y="587"/>
                    </a:lnTo>
                    <a:lnTo>
                      <a:pt x="318" y="874"/>
                    </a:lnTo>
                    <a:lnTo>
                      <a:pt x="332" y="1005"/>
                    </a:lnTo>
                    <a:lnTo>
                      <a:pt x="360" y="1058"/>
                    </a:lnTo>
                    <a:lnTo>
                      <a:pt x="345" y="1110"/>
                    </a:lnTo>
                    <a:lnTo>
                      <a:pt x="249" y="1150"/>
                    </a:lnTo>
                    <a:lnTo>
                      <a:pt x="98" y="1281"/>
                    </a:lnTo>
                    <a:lnTo>
                      <a:pt x="42" y="1281"/>
                    </a:lnTo>
                    <a:lnTo>
                      <a:pt x="0" y="1176"/>
                    </a:lnTo>
                    <a:lnTo>
                      <a:pt x="98" y="1110"/>
                    </a:lnTo>
                    <a:lnTo>
                      <a:pt x="222" y="1071"/>
                    </a:lnTo>
                    <a:lnTo>
                      <a:pt x="276" y="1045"/>
                    </a:lnTo>
                    <a:lnTo>
                      <a:pt x="263" y="927"/>
                    </a:lnTo>
                    <a:lnTo>
                      <a:pt x="236" y="665"/>
                    </a:lnTo>
                    <a:lnTo>
                      <a:pt x="222" y="444"/>
                    </a:lnTo>
                    <a:lnTo>
                      <a:pt x="236" y="260"/>
                    </a:lnTo>
                    <a:lnTo>
                      <a:pt x="263" y="15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557600" y="2413080"/>
              <a:ext cx="1019160" cy="1458720"/>
              <a:chOff x="4557600" y="2413080"/>
              <a:chExt cx="1019160" cy="1458720"/>
            </a:xfrm>
          </p:grpSpPr>
          <p:sp>
            <p:nvSpPr>
              <p:cNvPr id="205" name=""/>
              <p:cNvSpPr/>
              <p:nvPr/>
            </p:nvSpPr>
            <p:spPr>
              <a:xfrm>
                <a:off x="4557600" y="2413080"/>
                <a:ext cx="1019160" cy="1458720"/>
              </a:xfrm>
              <a:custGeom>
                <a:avLst/>
                <a:gdLst/>
                <a:ahLst/>
                <a:rect l="l" t="t" r="r" b="b"/>
                <a:pathLst>
                  <a:path w="2567" h="2757">
                    <a:moveTo>
                      <a:pt x="898" y="510"/>
                    </a:moveTo>
                    <a:lnTo>
                      <a:pt x="746" y="641"/>
                    </a:lnTo>
                    <a:lnTo>
                      <a:pt x="566" y="772"/>
                    </a:lnTo>
                    <a:lnTo>
                      <a:pt x="374" y="981"/>
                    </a:lnTo>
                    <a:lnTo>
                      <a:pt x="167" y="1255"/>
                    </a:lnTo>
                    <a:lnTo>
                      <a:pt x="56" y="1490"/>
                    </a:lnTo>
                    <a:lnTo>
                      <a:pt x="0" y="1673"/>
                    </a:lnTo>
                    <a:lnTo>
                      <a:pt x="0" y="1790"/>
                    </a:lnTo>
                    <a:lnTo>
                      <a:pt x="15" y="2039"/>
                    </a:lnTo>
                    <a:lnTo>
                      <a:pt x="56" y="2222"/>
                    </a:lnTo>
                    <a:lnTo>
                      <a:pt x="167" y="2339"/>
                    </a:lnTo>
                    <a:lnTo>
                      <a:pt x="387" y="2484"/>
                    </a:lnTo>
                    <a:lnTo>
                      <a:pt x="595" y="2575"/>
                    </a:lnTo>
                    <a:lnTo>
                      <a:pt x="856" y="2666"/>
                    </a:lnTo>
                    <a:lnTo>
                      <a:pt x="1008" y="2718"/>
                    </a:lnTo>
                    <a:lnTo>
                      <a:pt x="1270" y="2757"/>
                    </a:lnTo>
                    <a:lnTo>
                      <a:pt x="1669" y="2718"/>
                    </a:lnTo>
                    <a:lnTo>
                      <a:pt x="2015" y="2627"/>
                    </a:lnTo>
                    <a:lnTo>
                      <a:pt x="2235" y="2496"/>
                    </a:lnTo>
                    <a:lnTo>
                      <a:pt x="2373" y="2353"/>
                    </a:lnTo>
                    <a:lnTo>
                      <a:pt x="2456" y="2209"/>
                    </a:lnTo>
                    <a:lnTo>
                      <a:pt x="2538" y="2026"/>
                    </a:lnTo>
                    <a:lnTo>
                      <a:pt x="2567" y="1817"/>
                    </a:lnTo>
                    <a:lnTo>
                      <a:pt x="2567" y="1530"/>
                    </a:lnTo>
                    <a:lnTo>
                      <a:pt x="2511" y="1346"/>
                    </a:lnTo>
                    <a:lnTo>
                      <a:pt x="2400" y="1150"/>
                    </a:lnTo>
                    <a:lnTo>
                      <a:pt x="2249" y="968"/>
                    </a:lnTo>
                    <a:lnTo>
                      <a:pt x="2084" y="823"/>
                    </a:lnTo>
                    <a:lnTo>
                      <a:pt x="1918" y="706"/>
                    </a:lnTo>
                    <a:lnTo>
                      <a:pt x="1683" y="601"/>
                    </a:lnTo>
                    <a:lnTo>
                      <a:pt x="1669" y="536"/>
                    </a:lnTo>
                    <a:lnTo>
                      <a:pt x="1877" y="327"/>
                    </a:lnTo>
                    <a:lnTo>
                      <a:pt x="1890" y="196"/>
                    </a:lnTo>
                    <a:lnTo>
                      <a:pt x="1656" y="327"/>
                    </a:lnTo>
                    <a:lnTo>
                      <a:pt x="1738" y="92"/>
                    </a:lnTo>
                    <a:lnTo>
                      <a:pt x="1711" y="79"/>
                    </a:lnTo>
                    <a:lnTo>
                      <a:pt x="1629" y="79"/>
                    </a:lnTo>
                    <a:lnTo>
                      <a:pt x="1491" y="236"/>
                    </a:lnTo>
                    <a:lnTo>
                      <a:pt x="1408" y="327"/>
                    </a:lnTo>
                    <a:lnTo>
                      <a:pt x="1435" y="157"/>
                    </a:lnTo>
                    <a:lnTo>
                      <a:pt x="1491" y="27"/>
                    </a:lnTo>
                    <a:lnTo>
                      <a:pt x="1449" y="0"/>
                    </a:lnTo>
                    <a:lnTo>
                      <a:pt x="1353" y="79"/>
                    </a:lnTo>
                    <a:lnTo>
                      <a:pt x="1256" y="274"/>
                    </a:lnTo>
                    <a:lnTo>
                      <a:pt x="1215" y="170"/>
                    </a:lnTo>
                    <a:lnTo>
                      <a:pt x="1132" y="131"/>
                    </a:lnTo>
                    <a:lnTo>
                      <a:pt x="1077" y="261"/>
                    </a:lnTo>
                    <a:lnTo>
                      <a:pt x="1063" y="340"/>
                    </a:lnTo>
                    <a:lnTo>
                      <a:pt x="911" y="157"/>
                    </a:lnTo>
                    <a:lnTo>
                      <a:pt x="718" y="14"/>
                    </a:lnTo>
                    <a:lnTo>
                      <a:pt x="664" y="40"/>
                    </a:lnTo>
                    <a:lnTo>
                      <a:pt x="649" y="118"/>
                    </a:lnTo>
                    <a:lnTo>
                      <a:pt x="718" y="236"/>
                    </a:lnTo>
                    <a:lnTo>
                      <a:pt x="800" y="379"/>
                    </a:lnTo>
                    <a:lnTo>
                      <a:pt x="1008" y="628"/>
                    </a:lnTo>
                    <a:lnTo>
                      <a:pt x="980" y="679"/>
                    </a:lnTo>
                    <a:lnTo>
                      <a:pt x="938" y="706"/>
                    </a:lnTo>
                    <a:lnTo>
                      <a:pt x="967" y="758"/>
                    </a:lnTo>
                    <a:lnTo>
                      <a:pt x="1146" y="823"/>
                    </a:lnTo>
                    <a:lnTo>
                      <a:pt x="1435" y="823"/>
                    </a:lnTo>
                    <a:lnTo>
                      <a:pt x="1683" y="797"/>
                    </a:lnTo>
                    <a:lnTo>
                      <a:pt x="1767" y="719"/>
                    </a:lnTo>
                    <a:lnTo>
                      <a:pt x="1711" y="693"/>
                    </a:lnTo>
                    <a:lnTo>
                      <a:pt x="1656" y="732"/>
                    </a:lnTo>
                    <a:lnTo>
                      <a:pt x="1504" y="745"/>
                    </a:lnTo>
                    <a:lnTo>
                      <a:pt x="1353" y="772"/>
                    </a:lnTo>
                    <a:lnTo>
                      <a:pt x="1187" y="745"/>
                    </a:lnTo>
                    <a:lnTo>
                      <a:pt x="1435" y="719"/>
                    </a:lnTo>
                    <a:lnTo>
                      <a:pt x="1600" y="667"/>
                    </a:lnTo>
                    <a:lnTo>
                      <a:pt x="1629" y="641"/>
                    </a:lnTo>
                    <a:lnTo>
                      <a:pt x="1560" y="614"/>
                    </a:lnTo>
                    <a:lnTo>
                      <a:pt x="1477" y="654"/>
                    </a:lnTo>
                    <a:lnTo>
                      <a:pt x="1284" y="679"/>
                    </a:lnTo>
                    <a:lnTo>
                      <a:pt x="1146" y="667"/>
                    </a:lnTo>
                    <a:lnTo>
                      <a:pt x="1077" y="641"/>
                    </a:lnTo>
                    <a:lnTo>
                      <a:pt x="1105" y="576"/>
                    </a:lnTo>
                    <a:lnTo>
                      <a:pt x="980" y="484"/>
                    </a:lnTo>
                    <a:lnTo>
                      <a:pt x="856" y="367"/>
                    </a:lnTo>
                    <a:lnTo>
                      <a:pt x="787" y="249"/>
                    </a:lnTo>
                    <a:lnTo>
                      <a:pt x="760" y="170"/>
                    </a:lnTo>
                    <a:lnTo>
                      <a:pt x="760" y="145"/>
                    </a:lnTo>
                    <a:lnTo>
                      <a:pt x="787" y="145"/>
                    </a:lnTo>
                    <a:lnTo>
                      <a:pt x="856" y="196"/>
                    </a:lnTo>
                    <a:lnTo>
                      <a:pt x="952" y="314"/>
                    </a:lnTo>
                    <a:lnTo>
                      <a:pt x="1077" y="458"/>
                    </a:lnTo>
                    <a:lnTo>
                      <a:pt x="1105" y="497"/>
                    </a:lnTo>
                    <a:lnTo>
                      <a:pt x="1159" y="470"/>
                    </a:lnTo>
                    <a:lnTo>
                      <a:pt x="1132" y="392"/>
                    </a:lnTo>
                    <a:lnTo>
                      <a:pt x="1146" y="340"/>
                    </a:lnTo>
                    <a:lnTo>
                      <a:pt x="1159" y="274"/>
                    </a:lnTo>
                    <a:lnTo>
                      <a:pt x="1187" y="274"/>
                    </a:lnTo>
                    <a:lnTo>
                      <a:pt x="1215" y="354"/>
                    </a:lnTo>
                    <a:lnTo>
                      <a:pt x="1228" y="405"/>
                    </a:lnTo>
                    <a:lnTo>
                      <a:pt x="1270" y="419"/>
                    </a:lnTo>
                    <a:lnTo>
                      <a:pt x="1326" y="301"/>
                    </a:lnTo>
                    <a:lnTo>
                      <a:pt x="1353" y="261"/>
                    </a:lnTo>
                    <a:lnTo>
                      <a:pt x="1366" y="327"/>
                    </a:lnTo>
                    <a:lnTo>
                      <a:pt x="1366" y="432"/>
                    </a:lnTo>
                    <a:lnTo>
                      <a:pt x="1408" y="458"/>
                    </a:lnTo>
                    <a:lnTo>
                      <a:pt x="1477" y="367"/>
                    </a:lnTo>
                    <a:lnTo>
                      <a:pt x="1546" y="249"/>
                    </a:lnTo>
                    <a:lnTo>
                      <a:pt x="1615" y="223"/>
                    </a:lnTo>
                    <a:lnTo>
                      <a:pt x="1615" y="236"/>
                    </a:lnTo>
                    <a:lnTo>
                      <a:pt x="1573" y="314"/>
                    </a:lnTo>
                    <a:lnTo>
                      <a:pt x="1531" y="432"/>
                    </a:lnTo>
                    <a:lnTo>
                      <a:pt x="1573" y="445"/>
                    </a:lnTo>
                    <a:lnTo>
                      <a:pt x="1794" y="301"/>
                    </a:lnTo>
                    <a:lnTo>
                      <a:pt x="1821" y="301"/>
                    </a:lnTo>
                    <a:lnTo>
                      <a:pt x="1615" y="497"/>
                    </a:lnTo>
                    <a:lnTo>
                      <a:pt x="1573" y="536"/>
                    </a:lnTo>
                    <a:lnTo>
                      <a:pt x="1560" y="601"/>
                    </a:lnTo>
                    <a:lnTo>
                      <a:pt x="1600" y="628"/>
                    </a:lnTo>
                    <a:lnTo>
                      <a:pt x="1725" y="679"/>
                    </a:lnTo>
                    <a:lnTo>
                      <a:pt x="1932" y="785"/>
                    </a:lnTo>
                    <a:lnTo>
                      <a:pt x="2070" y="888"/>
                    </a:lnTo>
                    <a:lnTo>
                      <a:pt x="2235" y="1046"/>
                    </a:lnTo>
                    <a:lnTo>
                      <a:pt x="2360" y="1215"/>
                    </a:lnTo>
                    <a:lnTo>
                      <a:pt x="2442" y="1399"/>
                    </a:lnTo>
                    <a:lnTo>
                      <a:pt x="2498" y="1634"/>
                    </a:lnTo>
                    <a:lnTo>
                      <a:pt x="2483" y="1804"/>
                    </a:lnTo>
                    <a:lnTo>
                      <a:pt x="2469" y="1986"/>
                    </a:lnTo>
                    <a:lnTo>
                      <a:pt x="2387" y="2182"/>
                    </a:lnTo>
                    <a:lnTo>
                      <a:pt x="2304" y="2326"/>
                    </a:lnTo>
                    <a:lnTo>
                      <a:pt x="2208" y="2404"/>
                    </a:lnTo>
                    <a:lnTo>
                      <a:pt x="2097" y="2509"/>
                    </a:lnTo>
                    <a:lnTo>
                      <a:pt x="1890" y="2588"/>
                    </a:lnTo>
                    <a:lnTo>
                      <a:pt x="1642" y="2653"/>
                    </a:lnTo>
                    <a:lnTo>
                      <a:pt x="1518" y="2666"/>
                    </a:lnTo>
                    <a:lnTo>
                      <a:pt x="1284" y="2666"/>
                    </a:lnTo>
                    <a:lnTo>
                      <a:pt x="1063" y="2640"/>
                    </a:lnTo>
                    <a:lnTo>
                      <a:pt x="800" y="2575"/>
                    </a:lnTo>
                    <a:lnTo>
                      <a:pt x="553" y="2470"/>
                    </a:lnTo>
                    <a:lnTo>
                      <a:pt x="359" y="2366"/>
                    </a:lnTo>
                    <a:lnTo>
                      <a:pt x="194" y="2248"/>
                    </a:lnTo>
                    <a:lnTo>
                      <a:pt x="125" y="2157"/>
                    </a:lnTo>
                    <a:lnTo>
                      <a:pt x="111" y="2064"/>
                    </a:lnTo>
                    <a:lnTo>
                      <a:pt x="84" y="1790"/>
                    </a:lnTo>
                    <a:lnTo>
                      <a:pt x="98" y="1608"/>
                    </a:lnTo>
                    <a:lnTo>
                      <a:pt x="180" y="1412"/>
                    </a:lnTo>
                    <a:lnTo>
                      <a:pt x="290" y="1190"/>
                    </a:lnTo>
                    <a:lnTo>
                      <a:pt x="484" y="994"/>
                    </a:lnTo>
                    <a:lnTo>
                      <a:pt x="664" y="772"/>
                    </a:lnTo>
                    <a:lnTo>
                      <a:pt x="829" y="654"/>
                    </a:lnTo>
                    <a:lnTo>
                      <a:pt x="925" y="576"/>
                    </a:lnTo>
                    <a:lnTo>
                      <a:pt x="898" y="5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57920" y="2987640"/>
                <a:ext cx="207720" cy="449280"/>
              </a:xfrm>
              <a:custGeom>
                <a:avLst/>
                <a:gdLst/>
                <a:ahLst/>
                <a:rect l="l" t="t" r="r" b="b"/>
                <a:pathLst>
                  <a:path w="524" h="849">
                    <a:moveTo>
                      <a:pt x="317" y="156"/>
                    </a:moveTo>
                    <a:lnTo>
                      <a:pt x="413" y="169"/>
                    </a:lnTo>
                    <a:lnTo>
                      <a:pt x="495" y="235"/>
                    </a:lnTo>
                    <a:lnTo>
                      <a:pt x="524" y="300"/>
                    </a:lnTo>
                    <a:lnTo>
                      <a:pt x="426" y="326"/>
                    </a:lnTo>
                    <a:lnTo>
                      <a:pt x="371" y="273"/>
                    </a:lnTo>
                    <a:lnTo>
                      <a:pt x="303" y="247"/>
                    </a:lnTo>
                    <a:lnTo>
                      <a:pt x="234" y="235"/>
                    </a:lnTo>
                    <a:lnTo>
                      <a:pt x="123" y="260"/>
                    </a:lnTo>
                    <a:lnTo>
                      <a:pt x="96" y="326"/>
                    </a:lnTo>
                    <a:lnTo>
                      <a:pt x="151" y="378"/>
                    </a:lnTo>
                    <a:lnTo>
                      <a:pt x="288" y="417"/>
                    </a:lnTo>
                    <a:lnTo>
                      <a:pt x="426" y="417"/>
                    </a:lnTo>
                    <a:lnTo>
                      <a:pt x="468" y="456"/>
                    </a:lnTo>
                    <a:lnTo>
                      <a:pt x="495" y="522"/>
                    </a:lnTo>
                    <a:lnTo>
                      <a:pt x="482" y="600"/>
                    </a:lnTo>
                    <a:lnTo>
                      <a:pt x="399" y="653"/>
                    </a:lnTo>
                    <a:lnTo>
                      <a:pt x="303" y="653"/>
                    </a:lnTo>
                    <a:lnTo>
                      <a:pt x="234" y="653"/>
                    </a:lnTo>
                    <a:lnTo>
                      <a:pt x="206" y="718"/>
                    </a:lnTo>
                    <a:lnTo>
                      <a:pt x="219" y="835"/>
                    </a:lnTo>
                    <a:lnTo>
                      <a:pt x="123" y="849"/>
                    </a:lnTo>
                    <a:lnTo>
                      <a:pt x="109" y="757"/>
                    </a:lnTo>
                    <a:lnTo>
                      <a:pt x="137" y="653"/>
                    </a:lnTo>
                    <a:lnTo>
                      <a:pt x="54" y="613"/>
                    </a:lnTo>
                    <a:lnTo>
                      <a:pt x="0" y="574"/>
                    </a:lnTo>
                    <a:lnTo>
                      <a:pt x="82" y="496"/>
                    </a:lnTo>
                    <a:lnTo>
                      <a:pt x="123" y="548"/>
                    </a:lnTo>
                    <a:lnTo>
                      <a:pt x="192" y="560"/>
                    </a:lnTo>
                    <a:lnTo>
                      <a:pt x="288" y="574"/>
                    </a:lnTo>
                    <a:lnTo>
                      <a:pt x="371" y="574"/>
                    </a:lnTo>
                    <a:lnTo>
                      <a:pt x="413" y="560"/>
                    </a:lnTo>
                    <a:lnTo>
                      <a:pt x="386" y="509"/>
                    </a:lnTo>
                    <a:lnTo>
                      <a:pt x="317" y="496"/>
                    </a:lnTo>
                    <a:lnTo>
                      <a:pt x="192" y="469"/>
                    </a:lnTo>
                    <a:lnTo>
                      <a:pt x="68" y="431"/>
                    </a:lnTo>
                    <a:lnTo>
                      <a:pt x="27" y="365"/>
                    </a:lnTo>
                    <a:lnTo>
                      <a:pt x="13" y="287"/>
                    </a:lnTo>
                    <a:lnTo>
                      <a:pt x="82" y="208"/>
                    </a:lnTo>
                    <a:lnTo>
                      <a:pt x="178" y="143"/>
                    </a:lnTo>
                    <a:lnTo>
                      <a:pt x="247" y="143"/>
                    </a:lnTo>
                    <a:lnTo>
                      <a:pt x="275" y="0"/>
                    </a:lnTo>
                    <a:lnTo>
                      <a:pt x="357" y="13"/>
                    </a:lnTo>
                    <a:lnTo>
                      <a:pt x="317" y="1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65680" y="2965320"/>
                <a:ext cx="88920" cy="160560"/>
              </a:xfrm>
              <a:custGeom>
                <a:avLst/>
                <a:gdLst/>
                <a:ahLst/>
                <a:rect l="l" t="t" r="r" b="b"/>
                <a:pathLst>
                  <a:path w="220" h="301">
                    <a:moveTo>
                      <a:pt x="0" y="236"/>
                    </a:moveTo>
                    <a:lnTo>
                      <a:pt x="96" y="78"/>
                    </a:lnTo>
                    <a:lnTo>
                      <a:pt x="220" y="0"/>
                    </a:lnTo>
                    <a:lnTo>
                      <a:pt x="220" y="40"/>
                    </a:lnTo>
                    <a:lnTo>
                      <a:pt x="136" y="131"/>
                    </a:lnTo>
                    <a:lnTo>
                      <a:pt x="40" y="301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51400" y="3367080"/>
                <a:ext cx="55800" cy="111240"/>
              </a:xfrm>
              <a:custGeom>
                <a:avLst/>
                <a:gdLst/>
                <a:ahLst/>
                <a:rect l="l" t="t" r="r" b="b"/>
                <a:pathLst>
                  <a:path w="138" h="209">
                    <a:moveTo>
                      <a:pt x="138" y="0"/>
                    </a:moveTo>
                    <a:lnTo>
                      <a:pt x="42" y="130"/>
                    </a:lnTo>
                    <a:lnTo>
                      <a:pt x="0" y="182"/>
                    </a:lnTo>
                    <a:lnTo>
                      <a:pt x="55" y="209"/>
                    </a:lnTo>
                    <a:lnTo>
                      <a:pt x="96" y="182"/>
                    </a:lnTo>
                    <a:lnTo>
                      <a:pt x="138" y="91"/>
                    </a:lnTo>
                    <a:lnTo>
                      <a:pt x="138" y="51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6099120" y="4083120"/>
            <a:ext cx="1437840" cy="2307600"/>
            <a:chOff x="6099120" y="4083120"/>
            <a:chExt cx="1437840" cy="2307600"/>
          </a:xfrm>
        </p:grpSpPr>
        <p:grpSp>
          <p:nvGrpSpPr>
            <p:cNvPr id="210" name=""/>
            <p:cNvGrpSpPr/>
            <p:nvPr/>
          </p:nvGrpSpPr>
          <p:grpSpPr>
            <a:xfrm>
              <a:off x="6278040" y="4083120"/>
              <a:ext cx="1173240" cy="2307600"/>
              <a:chOff x="6278040" y="4083120"/>
              <a:chExt cx="1173240" cy="230760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6838560" y="4083120"/>
                <a:ext cx="612720" cy="2307600"/>
                <a:chOff x="6838560" y="4083120"/>
                <a:chExt cx="612720" cy="2307600"/>
              </a:xfrm>
            </p:grpSpPr>
            <p:sp>
              <p:nvSpPr>
                <p:cNvPr id="212" name=""/>
                <p:cNvSpPr/>
                <p:nvPr/>
              </p:nvSpPr>
              <p:spPr>
                <a:xfrm flipH="1">
                  <a:off x="6849360" y="4083120"/>
                  <a:ext cx="314280" cy="429840"/>
                </a:xfrm>
                <a:custGeom>
                  <a:avLst/>
                  <a:gdLst/>
                  <a:ahLst/>
                  <a:rect l="l" t="t" r="r" b="b"/>
                  <a:pathLst>
                    <a:path w="396" h="690">
                      <a:moveTo>
                        <a:pt x="158" y="690"/>
                      </a:moveTo>
                      <a:lnTo>
                        <a:pt x="114" y="690"/>
                      </a:lnTo>
                      <a:lnTo>
                        <a:pt x="50" y="670"/>
                      </a:lnTo>
                      <a:lnTo>
                        <a:pt x="21" y="589"/>
                      </a:lnTo>
                      <a:lnTo>
                        <a:pt x="0" y="471"/>
                      </a:lnTo>
                      <a:lnTo>
                        <a:pt x="0" y="308"/>
                      </a:lnTo>
                      <a:lnTo>
                        <a:pt x="21" y="126"/>
                      </a:lnTo>
                      <a:lnTo>
                        <a:pt x="64" y="45"/>
                      </a:lnTo>
                      <a:lnTo>
                        <a:pt x="137" y="0"/>
                      </a:lnTo>
                      <a:lnTo>
                        <a:pt x="215" y="0"/>
                      </a:lnTo>
                      <a:lnTo>
                        <a:pt x="266" y="72"/>
                      </a:lnTo>
                      <a:lnTo>
                        <a:pt x="295" y="172"/>
                      </a:lnTo>
                      <a:lnTo>
                        <a:pt x="295" y="271"/>
                      </a:lnTo>
                      <a:lnTo>
                        <a:pt x="288" y="389"/>
                      </a:lnTo>
                      <a:lnTo>
                        <a:pt x="396" y="525"/>
                      </a:lnTo>
                      <a:lnTo>
                        <a:pt x="396" y="571"/>
                      </a:lnTo>
                      <a:lnTo>
                        <a:pt x="366" y="571"/>
                      </a:lnTo>
                      <a:lnTo>
                        <a:pt x="295" y="480"/>
                      </a:lnTo>
                      <a:lnTo>
                        <a:pt x="274" y="480"/>
                      </a:lnTo>
                      <a:lnTo>
                        <a:pt x="237" y="571"/>
                      </a:lnTo>
                      <a:lnTo>
                        <a:pt x="201" y="643"/>
                      </a:lnTo>
                      <a:lnTo>
                        <a:pt x="158" y="690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6958800" y="4529880"/>
                  <a:ext cx="320760" cy="955800"/>
                </a:xfrm>
                <a:custGeom>
                  <a:avLst/>
                  <a:gdLst/>
                  <a:ahLst/>
                  <a:rect l="l" t="t" r="r" b="b"/>
                  <a:pathLst>
                    <a:path w="403" h="1534">
                      <a:moveTo>
                        <a:pt x="108" y="271"/>
                      </a:moveTo>
                      <a:lnTo>
                        <a:pt x="138" y="122"/>
                      </a:lnTo>
                      <a:lnTo>
                        <a:pt x="181" y="27"/>
                      </a:lnTo>
                      <a:lnTo>
                        <a:pt x="231" y="0"/>
                      </a:lnTo>
                      <a:lnTo>
                        <a:pt x="296" y="9"/>
                      </a:lnTo>
                      <a:lnTo>
                        <a:pt x="332" y="72"/>
                      </a:lnTo>
                      <a:lnTo>
                        <a:pt x="382" y="282"/>
                      </a:lnTo>
                      <a:lnTo>
                        <a:pt x="396" y="508"/>
                      </a:lnTo>
                      <a:lnTo>
                        <a:pt x="403" y="825"/>
                      </a:lnTo>
                      <a:lnTo>
                        <a:pt x="403" y="1034"/>
                      </a:lnTo>
                      <a:lnTo>
                        <a:pt x="375" y="1306"/>
                      </a:lnTo>
                      <a:lnTo>
                        <a:pt x="296" y="1460"/>
                      </a:lnTo>
                      <a:lnTo>
                        <a:pt x="202" y="1534"/>
                      </a:lnTo>
                      <a:lnTo>
                        <a:pt x="115" y="1534"/>
                      </a:lnTo>
                      <a:lnTo>
                        <a:pt x="37" y="1505"/>
                      </a:lnTo>
                      <a:lnTo>
                        <a:pt x="0" y="1360"/>
                      </a:lnTo>
                      <a:lnTo>
                        <a:pt x="0" y="1215"/>
                      </a:lnTo>
                      <a:lnTo>
                        <a:pt x="37" y="961"/>
                      </a:lnTo>
                      <a:lnTo>
                        <a:pt x="80" y="898"/>
                      </a:lnTo>
                      <a:lnTo>
                        <a:pt x="101" y="735"/>
                      </a:lnTo>
                      <a:lnTo>
                        <a:pt x="101" y="490"/>
                      </a:lnTo>
                      <a:lnTo>
                        <a:pt x="108" y="271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6838200" y="5310000"/>
                  <a:ext cx="338040" cy="1005840"/>
                </a:xfrm>
                <a:custGeom>
                  <a:avLst/>
                  <a:gdLst/>
                  <a:ahLst/>
                  <a:rect l="l" t="t" r="r" b="b"/>
                  <a:pathLst>
                    <a:path w="425" h="1615">
                      <a:moveTo>
                        <a:pt x="28" y="0"/>
                      </a:moveTo>
                      <a:lnTo>
                        <a:pt x="115" y="64"/>
                      </a:lnTo>
                      <a:lnTo>
                        <a:pt x="144" y="164"/>
                      </a:lnTo>
                      <a:lnTo>
                        <a:pt x="173" y="426"/>
                      </a:lnTo>
                      <a:lnTo>
                        <a:pt x="173" y="680"/>
                      </a:lnTo>
                      <a:lnTo>
                        <a:pt x="158" y="953"/>
                      </a:lnTo>
                      <a:lnTo>
                        <a:pt x="115" y="1198"/>
                      </a:lnTo>
                      <a:lnTo>
                        <a:pt x="79" y="1361"/>
                      </a:lnTo>
                      <a:lnTo>
                        <a:pt x="79" y="1451"/>
                      </a:lnTo>
                      <a:lnTo>
                        <a:pt x="115" y="1470"/>
                      </a:lnTo>
                      <a:lnTo>
                        <a:pt x="188" y="1460"/>
                      </a:lnTo>
                      <a:lnTo>
                        <a:pt x="289" y="1460"/>
                      </a:lnTo>
                      <a:lnTo>
                        <a:pt x="404" y="1506"/>
                      </a:lnTo>
                      <a:lnTo>
                        <a:pt x="425" y="1542"/>
                      </a:lnTo>
                      <a:lnTo>
                        <a:pt x="404" y="1587"/>
                      </a:lnTo>
                      <a:lnTo>
                        <a:pt x="353" y="1615"/>
                      </a:lnTo>
                      <a:lnTo>
                        <a:pt x="303" y="1569"/>
                      </a:lnTo>
                      <a:lnTo>
                        <a:pt x="238" y="1551"/>
                      </a:lnTo>
                      <a:lnTo>
                        <a:pt x="151" y="1542"/>
                      </a:lnTo>
                      <a:lnTo>
                        <a:pt x="72" y="1542"/>
                      </a:lnTo>
                      <a:lnTo>
                        <a:pt x="28" y="1551"/>
                      </a:lnTo>
                      <a:lnTo>
                        <a:pt x="0" y="1524"/>
                      </a:lnTo>
                      <a:lnTo>
                        <a:pt x="7" y="1488"/>
                      </a:lnTo>
                      <a:lnTo>
                        <a:pt x="14" y="1379"/>
                      </a:lnTo>
                      <a:lnTo>
                        <a:pt x="28" y="1279"/>
                      </a:lnTo>
                      <a:lnTo>
                        <a:pt x="72" y="1116"/>
                      </a:lnTo>
                      <a:lnTo>
                        <a:pt x="101" y="908"/>
                      </a:lnTo>
                      <a:lnTo>
                        <a:pt x="108" y="716"/>
                      </a:lnTo>
                      <a:lnTo>
                        <a:pt x="101" y="473"/>
                      </a:lnTo>
                      <a:lnTo>
                        <a:pt x="65" y="301"/>
                      </a:lnTo>
                      <a:lnTo>
                        <a:pt x="14" y="209"/>
                      </a:lnTo>
                      <a:lnTo>
                        <a:pt x="0" y="127"/>
                      </a:lnTo>
                      <a:lnTo>
                        <a:pt x="14" y="55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7136640" y="5304240"/>
                  <a:ext cx="314280" cy="1086480"/>
                </a:xfrm>
                <a:custGeom>
                  <a:avLst/>
                  <a:gdLst/>
                  <a:ahLst/>
                  <a:rect l="l" t="t" r="r" b="b"/>
                  <a:pathLst>
                    <a:path w="396" h="1742">
                      <a:moveTo>
                        <a:pt x="251" y="45"/>
                      </a:moveTo>
                      <a:lnTo>
                        <a:pt x="309" y="0"/>
                      </a:lnTo>
                      <a:lnTo>
                        <a:pt x="359" y="27"/>
                      </a:lnTo>
                      <a:lnTo>
                        <a:pt x="396" y="101"/>
                      </a:lnTo>
                      <a:lnTo>
                        <a:pt x="387" y="335"/>
                      </a:lnTo>
                      <a:lnTo>
                        <a:pt x="359" y="654"/>
                      </a:lnTo>
                      <a:lnTo>
                        <a:pt x="309" y="971"/>
                      </a:lnTo>
                      <a:lnTo>
                        <a:pt x="244" y="1170"/>
                      </a:lnTo>
                      <a:lnTo>
                        <a:pt x="194" y="1351"/>
                      </a:lnTo>
                      <a:lnTo>
                        <a:pt x="144" y="1415"/>
                      </a:lnTo>
                      <a:lnTo>
                        <a:pt x="151" y="1451"/>
                      </a:lnTo>
                      <a:lnTo>
                        <a:pt x="151" y="1478"/>
                      </a:lnTo>
                      <a:lnTo>
                        <a:pt x="208" y="1534"/>
                      </a:lnTo>
                      <a:lnTo>
                        <a:pt x="295" y="1587"/>
                      </a:lnTo>
                      <a:lnTo>
                        <a:pt x="359" y="1679"/>
                      </a:lnTo>
                      <a:lnTo>
                        <a:pt x="359" y="1715"/>
                      </a:lnTo>
                      <a:lnTo>
                        <a:pt x="309" y="1742"/>
                      </a:lnTo>
                      <a:lnTo>
                        <a:pt x="251" y="1742"/>
                      </a:lnTo>
                      <a:lnTo>
                        <a:pt x="229" y="1697"/>
                      </a:lnTo>
                      <a:lnTo>
                        <a:pt x="201" y="1632"/>
                      </a:lnTo>
                      <a:lnTo>
                        <a:pt x="144" y="1578"/>
                      </a:lnTo>
                      <a:lnTo>
                        <a:pt x="78" y="1525"/>
                      </a:lnTo>
                      <a:lnTo>
                        <a:pt x="35" y="1496"/>
                      </a:lnTo>
                      <a:lnTo>
                        <a:pt x="0" y="1469"/>
                      </a:lnTo>
                      <a:lnTo>
                        <a:pt x="0" y="1424"/>
                      </a:lnTo>
                      <a:lnTo>
                        <a:pt x="35" y="1380"/>
                      </a:lnTo>
                      <a:lnTo>
                        <a:pt x="107" y="1342"/>
                      </a:lnTo>
                      <a:lnTo>
                        <a:pt x="151" y="1270"/>
                      </a:lnTo>
                      <a:lnTo>
                        <a:pt x="194" y="1134"/>
                      </a:lnTo>
                      <a:lnTo>
                        <a:pt x="236" y="989"/>
                      </a:lnTo>
                      <a:lnTo>
                        <a:pt x="266" y="862"/>
                      </a:lnTo>
                      <a:lnTo>
                        <a:pt x="280" y="663"/>
                      </a:lnTo>
                      <a:lnTo>
                        <a:pt x="273" y="454"/>
                      </a:lnTo>
                      <a:lnTo>
                        <a:pt x="266" y="282"/>
                      </a:lnTo>
                      <a:lnTo>
                        <a:pt x="244" y="137"/>
                      </a:lnTo>
                      <a:lnTo>
                        <a:pt x="251" y="45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6278040" y="4574880"/>
                <a:ext cx="768240" cy="645120"/>
              </a:xfrm>
              <a:custGeom>
                <a:avLst/>
                <a:gdLst/>
                <a:ahLst/>
                <a:rect l="l" t="t" r="r" b="b"/>
                <a:pathLst>
                  <a:path w="967" h="1033">
                    <a:moveTo>
                      <a:pt x="22" y="0"/>
                    </a:moveTo>
                    <a:lnTo>
                      <a:pt x="0" y="45"/>
                    </a:lnTo>
                    <a:lnTo>
                      <a:pt x="0" y="125"/>
                    </a:lnTo>
                    <a:lnTo>
                      <a:pt x="22" y="262"/>
                    </a:lnTo>
                    <a:lnTo>
                      <a:pt x="138" y="444"/>
                    </a:lnTo>
                    <a:lnTo>
                      <a:pt x="239" y="616"/>
                    </a:lnTo>
                    <a:lnTo>
                      <a:pt x="317" y="697"/>
                    </a:lnTo>
                    <a:lnTo>
                      <a:pt x="383" y="752"/>
                    </a:lnTo>
                    <a:lnTo>
                      <a:pt x="578" y="833"/>
                    </a:lnTo>
                    <a:lnTo>
                      <a:pt x="766" y="860"/>
                    </a:lnTo>
                    <a:lnTo>
                      <a:pt x="823" y="906"/>
                    </a:lnTo>
                    <a:lnTo>
                      <a:pt x="858" y="1033"/>
                    </a:lnTo>
                    <a:lnTo>
                      <a:pt x="881" y="1033"/>
                    </a:lnTo>
                    <a:lnTo>
                      <a:pt x="858" y="906"/>
                    </a:lnTo>
                    <a:lnTo>
                      <a:pt x="867" y="888"/>
                    </a:lnTo>
                    <a:lnTo>
                      <a:pt x="931" y="969"/>
                    </a:lnTo>
                    <a:lnTo>
                      <a:pt x="938" y="960"/>
                    </a:lnTo>
                    <a:lnTo>
                      <a:pt x="888" y="869"/>
                    </a:lnTo>
                    <a:lnTo>
                      <a:pt x="902" y="860"/>
                    </a:lnTo>
                    <a:lnTo>
                      <a:pt x="959" y="878"/>
                    </a:lnTo>
                    <a:lnTo>
                      <a:pt x="967" y="860"/>
                    </a:lnTo>
                    <a:lnTo>
                      <a:pt x="967" y="851"/>
                    </a:lnTo>
                    <a:lnTo>
                      <a:pt x="867" y="842"/>
                    </a:lnTo>
                    <a:lnTo>
                      <a:pt x="867" y="833"/>
                    </a:lnTo>
                    <a:lnTo>
                      <a:pt x="910" y="761"/>
                    </a:lnTo>
                    <a:lnTo>
                      <a:pt x="902" y="743"/>
                    </a:lnTo>
                    <a:lnTo>
                      <a:pt x="881" y="743"/>
                    </a:lnTo>
                    <a:lnTo>
                      <a:pt x="844" y="815"/>
                    </a:lnTo>
                    <a:lnTo>
                      <a:pt x="787" y="815"/>
                    </a:lnTo>
                    <a:lnTo>
                      <a:pt x="606" y="779"/>
                    </a:lnTo>
                    <a:lnTo>
                      <a:pt x="462" y="715"/>
                    </a:lnTo>
                    <a:lnTo>
                      <a:pt x="361" y="625"/>
                    </a:lnTo>
                    <a:lnTo>
                      <a:pt x="246" y="444"/>
                    </a:lnTo>
                    <a:lnTo>
                      <a:pt x="152" y="253"/>
                    </a:lnTo>
                    <a:lnTo>
                      <a:pt x="116" y="72"/>
                    </a:lnTo>
                    <a:lnTo>
                      <a:pt x="65" y="9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099120" y="4394160"/>
              <a:ext cx="1207800" cy="1201320"/>
              <a:chOff x="6099120" y="4394160"/>
              <a:chExt cx="1207800" cy="1201320"/>
            </a:xfrm>
          </p:grpSpPr>
          <p:sp>
            <p:nvSpPr>
              <p:cNvPr id="218" name=""/>
              <p:cNvSpPr/>
              <p:nvPr/>
            </p:nvSpPr>
            <p:spPr>
              <a:xfrm>
                <a:off x="6111000" y="4408920"/>
                <a:ext cx="1190160" cy="117324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25840" y="4620960"/>
                <a:ext cx="696960" cy="48600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6099120" y="4394160"/>
                <a:ext cx="1207800" cy="1201320"/>
                <a:chOff x="6099120" y="4394160"/>
                <a:chExt cx="1207800" cy="12013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109920" y="5000400"/>
                  <a:ext cx="1197000" cy="59508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330960" y="5202720"/>
                  <a:ext cx="618480" cy="12996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235200" y="5422320"/>
                  <a:ext cx="64800" cy="5184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355080" y="5416200"/>
                  <a:ext cx="64800" cy="5184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47840" y="5399640"/>
                  <a:ext cx="262440" cy="6048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099120" y="4394160"/>
                  <a:ext cx="1107000" cy="80100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73280" y="4408920"/>
                  <a:ext cx="952920" cy="79848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279480" y="4609800"/>
                  <a:ext cx="657720" cy="51084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212520" y="4617360"/>
                  <a:ext cx="653760" cy="49716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 flipH="1">
              <a:off x="7119360" y="4556160"/>
              <a:ext cx="417240" cy="566640"/>
            </a:xfrm>
            <a:custGeom>
              <a:avLst/>
              <a:gdLst/>
              <a:ahLst/>
              <a:rect l="l" t="t" r="r" b="b"/>
              <a:pathLst>
                <a:path w="525" h="908">
                  <a:moveTo>
                    <a:pt x="353" y="91"/>
                  </a:moveTo>
                  <a:lnTo>
                    <a:pt x="410" y="37"/>
                  </a:lnTo>
                  <a:lnTo>
                    <a:pt x="468" y="0"/>
                  </a:lnTo>
                  <a:lnTo>
                    <a:pt x="504" y="0"/>
                  </a:lnTo>
                  <a:lnTo>
                    <a:pt x="525" y="91"/>
                  </a:lnTo>
                  <a:lnTo>
                    <a:pt x="489" y="200"/>
                  </a:lnTo>
                  <a:lnTo>
                    <a:pt x="453" y="254"/>
                  </a:lnTo>
                  <a:lnTo>
                    <a:pt x="353" y="283"/>
                  </a:lnTo>
                  <a:lnTo>
                    <a:pt x="266" y="363"/>
                  </a:lnTo>
                  <a:lnTo>
                    <a:pt x="165" y="437"/>
                  </a:lnTo>
                  <a:lnTo>
                    <a:pt x="108" y="499"/>
                  </a:lnTo>
                  <a:lnTo>
                    <a:pt x="143" y="546"/>
                  </a:lnTo>
                  <a:lnTo>
                    <a:pt x="252" y="645"/>
                  </a:lnTo>
                  <a:lnTo>
                    <a:pt x="353" y="691"/>
                  </a:lnTo>
                  <a:lnTo>
                    <a:pt x="445" y="754"/>
                  </a:lnTo>
                  <a:lnTo>
                    <a:pt x="518" y="836"/>
                  </a:lnTo>
                  <a:lnTo>
                    <a:pt x="511" y="872"/>
                  </a:lnTo>
                  <a:lnTo>
                    <a:pt x="489" y="908"/>
                  </a:lnTo>
                  <a:lnTo>
                    <a:pt x="410" y="908"/>
                  </a:lnTo>
                  <a:lnTo>
                    <a:pt x="338" y="908"/>
                  </a:lnTo>
                  <a:lnTo>
                    <a:pt x="316" y="845"/>
                  </a:lnTo>
                  <a:lnTo>
                    <a:pt x="331" y="809"/>
                  </a:lnTo>
                  <a:lnTo>
                    <a:pt x="331" y="763"/>
                  </a:lnTo>
                  <a:lnTo>
                    <a:pt x="259" y="718"/>
                  </a:lnTo>
                  <a:lnTo>
                    <a:pt x="158" y="664"/>
                  </a:lnTo>
                  <a:lnTo>
                    <a:pt x="57" y="573"/>
                  </a:lnTo>
                  <a:lnTo>
                    <a:pt x="0" y="499"/>
                  </a:lnTo>
                  <a:lnTo>
                    <a:pt x="0" y="446"/>
                  </a:lnTo>
                  <a:lnTo>
                    <a:pt x="49" y="392"/>
                  </a:lnTo>
                  <a:lnTo>
                    <a:pt x="179" y="265"/>
                  </a:lnTo>
                  <a:lnTo>
                    <a:pt x="273" y="182"/>
                  </a:lnTo>
                  <a:lnTo>
                    <a:pt x="353" y="91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517760" y="3782880"/>
            <a:ext cx="2287080" cy="2519640"/>
            <a:chOff x="1517760" y="3782880"/>
            <a:chExt cx="2287080" cy="2519640"/>
          </a:xfrm>
        </p:grpSpPr>
        <p:grpSp>
          <p:nvGrpSpPr>
            <p:cNvPr id="232" name=""/>
            <p:cNvGrpSpPr/>
            <p:nvPr/>
          </p:nvGrpSpPr>
          <p:grpSpPr>
            <a:xfrm>
              <a:off x="2170080" y="4400640"/>
              <a:ext cx="192240" cy="253800"/>
              <a:chOff x="2170080" y="4400640"/>
              <a:chExt cx="192240" cy="253800"/>
            </a:xfrm>
          </p:grpSpPr>
          <p:sp>
            <p:nvSpPr>
              <p:cNvPr id="233" name=""/>
              <p:cNvSpPr/>
              <p:nvPr/>
            </p:nvSpPr>
            <p:spPr>
              <a:xfrm>
                <a:off x="2187720" y="4400640"/>
                <a:ext cx="174600" cy="201600"/>
              </a:xfrm>
              <a:custGeom>
                <a:avLst/>
                <a:gdLst/>
                <a:ahLst/>
                <a:rect l="l" t="t" r="r" b="b"/>
                <a:pathLst>
                  <a:path w="110" h="127">
                    <a:moveTo>
                      <a:pt x="18" y="5"/>
                    </a:moveTo>
                    <a:lnTo>
                      <a:pt x="39" y="0"/>
                    </a:lnTo>
                    <a:lnTo>
                      <a:pt x="71" y="3"/>
                    </a:lnTo>
                    <a:lnTo>
                      <a:pt x="94" y="16"/>
                    </a:lnTo>
                    <a:lnTo>
                      <a:pt x="106" y="34"/>
                    </a:lnTo>
                    <a:lnTo>
                      <a:pt x="110" y="54"/>
                    </a:lnTo>
                    <a:lnTo>
                      <a:pt x="107" y="73"/>
                    </a:lnTo>
                    <a:lnTo>
                      <a:pt x="99" y="86"/>
                    </a:lnTo>
                    <a:lnTo>
                      <a:pt x="87" y="96"/>
                    </a:lnTo>
                    <a:lnTo>
                      <a:pt x="57" y="100"/>
                    </a:lnTo>
                    <a:lnTo>
                      <a:pt x="29" y="106"/>
                    </a:lnTo>
                    <a:lnTo>
                      <a:pt x="24" y="117"/>
                    </a:lnTo>
                    <a:lnTo>
                      <a:pt x="21" y="126"/>
                    </a:lnTo>
                    <a:lnTo>
                      <a:pt x="7" y="127"/>
                    </a:lnTo>
                    <a:lnTo>
                      <a:pt x="0" y="116"/>
                    </a:lnTo>
                    <a:lnTo>
                      <a:pt x="4" y="99"/>
                    </a:lnTo>
                    <a:lnTo>
                      <a:pt x="16" y="89"/>
                    </a:lnTo>
                    <a:lnTo>
                      <a:pt x="38" y="83"/>
                    </a:lnTo>
                    <a:lnTo>
                      <a:pt x="67" y="80"/>
                    </a:lnTo>
                    <a:lnTo>
                      <a:pt x="81" y="76"/>
                    </a:lnTo>
                    <a:lnTo>
                      <a:pt x="89" y="67"/>
                    </a:lnTo>
                    <a:lnTo>
                      <a:pt x="94" y="54"/>
                    </a:lnTo>
                    <a:lnTo>
                      <a:pt x="91" y="41"/>
                    </a:lnTo>
                    <a:lnTo>
                      <a:pt x="80" y="29"/>
                    </a:lnTo>
                    <a:lnTo>
                      <a:pt x="61" y="24"/>
                    </a:lnTo>
                    <a:lnTo>
                      <a:pt x="38" y="21"/>
                    </a:lnTo>
                    <a:lnTo>
                      <a:pt x="25" y="24"/>
                    </a:lnTo>
                    <a:lnTo>
                      <a:pt x="16" y="19"/>
                    </a:lnTo>
                    <a:lnTo>
                      <a:pt x="13" y="1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70080" y="46227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3" y="0"/>
                    </a:moveTo>
                    <a:lnTo>
                      <a:pt x="17" y="0"/>
                    </a:lnTo>
                    <a:lnTo>
                      <a:pt x="24" y="6"/>
                    </a:lnTo>
                    <a:lnTo>
                      <a:pt x="24" y="13"/>
                    </a:lnTo>
                    <a:lnTo>
                      <a:pt x="16" y="20"/>
                    </a:lnTo>
                    <a:lnTo>
                      <a:pt x="4" y="17"/>
                    </a:lnTo>
                    <a:lnTo>
                      <a:pt x="0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397240" y="3801960"/>
              <a:ext cx="1401480" cy="1501920"/>
            </a:xfrm>
            <a:custGeom>
              <a:avLst/>
              <a:gdLst/>
              <a:ahLst/>
              <a:rect l="l" t="t" r="r" b="b"/>
              <a:pathLst>
                <a:path w="883" h="946">
                  <a:moveTo>
                    <a:pt x="166" y="632"/>
                  </a:moveTo>
                  <a:lnTo>
                    <a:pt x="98" y="693"/>
                  </a:lnTo>
                  <a:lnTo>
                    <a:pt x="13" y="767"/>
                  </a:lnTo>
                  <a:lnTo>
                    <a:pt x="13" y="830"/>
                  </a:lnTo>
                  <a:lnTo>
                    <a:pt x="27" y="946"/>
                  </a:lnTo>
                  <a:lnTo>
                    <a:pt x="170" y="941"/>
                  </a:lnTo>
                  <a:lnTo>
                    <a:pt x="330" y="924"/>
                  </a:lnTo>
                  <a:lnTo>
                    <a:pt x="568" y="919"/>
                  </a:lnTo>
                  <a:lnTo>
                    <a:pt x="747" y="924"/>
                  </a:lnTo>
                  <a:lnTo>
                    <a:pt x="809" y="809"/>
                  </a:lnTo>
                  <a:lnTo>
                    <a:pt x="883" y="585"/>
                  </a:lnTo>
                  <a:lnTo>
                    <a:pt x="869" y="517"/>
                  </a:lnTo>
                  <a:lnTo>
                    <a:pt x="842" y="490"/>
                  </a:lnTo>
                  <a:lnTo>
                    <a:pt x="762" y="495"/>
                  </a:lnTo>
                  <a:lnTo>
                    <a:pt x="799" y="325"/>
                  </a:lnTo>
                  <a:lnTo>
                    <a:pt x="804" y="272"/>
                  </a:lnTo>
                  <a:lnTo>
                    <a:pt x="785" y="140"/>
                  </a:lnTo>
                  <a:lnTo>
                    <a:pt x="766" y="42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43" y="11"/>
                  </a:lnTo>
                  <a:lnTo>
                    <a:pt x="539" y="16"/>
                  </a:lnTo>
                  <a:lnTo>
                    <a:pt x="471" y="6"/>
                  </a:lnTo>
                  <a:lnTo>
                    <a:pt x="397" y="2"/>
                  </a:lnTo>
                  <a:lnTo>
                    <a:pt x="369" y="9"/>
                  </a:lnTo>
                  <a:lnTo>
                    <a:pt x="306" y="38"/>
                  </a:lnTo>
                  <a:lnTo>
                    <a:pt x="213" y="63"/>
                  </a:lnTo>
                  <a:lnTo>
                    <a:pt x="95" y="104"/>
                  </a:lnTo>
                  <a:lnTo>
                    <a:pt x="50" y="130"/>
                  </a:lnTo>
                  <a:lnTo>
                    <a:pt x="9" y="174"/>
                  </a:lnTo>
                  <a:lnTo>
                    <a:pt x="0" y="239"/>
                  </a:lnTo>
                  <a:lnTo>
                    <a:pt x="0" y="347"/>
                  </a:lnTo>
                  <a:lnTo>
                    <a:pt x="5" y="475"/>
                  </a:lnTo>
                  <a:lnTo>
                    <a:pt x="14" y="550"/>
                  </a:lnTo>
                  <a:lnTo>
                    <a:pt x="32" y="594"/>
                  </a:lnTo>
                  <a:lnTo>
                    <a:pt x="60" y="616"/>
                  </a:lnTo>
                  <a:lnTo>
                    <a:pt x="93" y="625"/>
                  </a:lnTo>
                  <a:lnTo>
                    <a:pt x="166" y="63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32240" y="4073400"/>
              <a:ext cx="820440" cy="622440"/>
            </a:xfrm>
            <a:custGeom>
              <a:avLst/>
              <a:gdLst/>
              <a:ahLst/>
              <a:rect l="l" t="t" r="r" b="b"/>
              <a:pathLst>
                <a:path w="517" h="392">
                  <a:moveTo>
                    <a:pt x="3" y="107"/>
                  </a:moveTo>
                  <a:lnTo>
                    <a:pt x="8" y="35"/>
                  </a:lnTo>
                  <a:lnTo>
                    <a:pt x="19" y="14"/>
                  </a:lnTo>
                  <a:lnTo>
                    <a:pt x="51" y="6"/>
                  </a:lnTo>
                  <a:lnTo>
                    <a:pt x="179" y="2"/>
                  </a:lnTo>
                  <a:lnTo>
                    <a:pt x="336" y="0"/>
                  </a:lnTo>
                  <a:lnTo>
                    <a:pt x="428" y="2"/>
                  </a:lnTo>
                  <a:lnTo>
                    <a:pt x="450" y="16"/>
                  </a:lnTo>
                  <a:lnTo>
                    <a:pt x="466" y="43"/>
                  </a:lnTo>
                  <a:lnTo>
                    <a:pt x="490" y="159"/>
                  </a:lnTo>
                  <a:lnTo>
                    <a:pt x="512" y="287"/>
                  </a:lnTo>
                  <a:lnTo>
                    <a:pt x="517" y="368"/>
                  </a:lnTo>
                  <a:lnTo>
                    <a:pt x="509" y="382"/>
                  </a:lnTo>
                  <a:lnTo>
                    <a:pt x="481" y="392"/>
                  </a:lnTo>
                  <a:lnTo>
                    <a:pt x="346" y="389"/>
                  </a:lnTo>
                  <a:lnTo>
                    <a:pt x="138" y="379"/>
                  </a:lnTo>
                  <a:lnTo>
                    <a:pt x="36" y="370"/>
                  </a:lnTo>
                  <a:lnTo>
                    <a:pt x="19" y="349"/>
                  </a:lnTo>
                  <a:lnTo>
                    <a:pt x="10" y="308"/>
                  </a:lnTo>
                  <a:lnTo>
                    <a:pt x="0" y="207"/>
                  </a:lnTo>
                  <a:lnTo>
                    <a:pt x="3" y="107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382840" y="3782880"/>
              <a:ext cx="1422000" cy="1538280"/>
              <a:chOff x="2382840" y="3782880"/>
              <a:chExt cx="1422000" cy="1538280"/>
            </a:xfrm>
          </p:grpSpPr>
          <p:sp>
            <p:nvSpPr>
              <p:cNvPr id="238" name=""/>
              <p:cNvSpPr/>
              <p:nvPr/>
            </p:nvSpPr>
            <p:spPr>
              <a:xfrm>
                <a:off x="2395440" y="4559040"/>
                <a:ext cx="1409400" cy="762120"/>
              </a:xfrm>
              <a:custGeom>
                <a:avLst/>
                <a:gdLst/>
                <a:ahLst/>
                <a:rect l="l" t="t" r="r" b="b"/>
                <a:pathLst>
                  <a:path w="888" h="480">
                    <a:moveTo>
                      <a:pt x="0" y="290"/>
                    </a:moveTo>
                    <a:lnTo>
                      <a:pt x="110" y="195"/>
                    </a:lnTo>
                    <a:lnTo>
                      <a:pt x="113" y="217"/>
                    </a:lnTo>
                    <a:lnTo>
                      <a:pt x="38" y="285"/>
                    </a:lnTo>
                    <a:lnTo>
                      <a:pt x="170" y="279"/>
                    </a:lnTo>
                    <a:lnTo>
                      <a:pt x="449" y="280"/>
                    </a:lnTo>
                    <a:lnTo>
                      <a:pt x="597" y="269"/>
                    </a:lnTo>
                    <a:lnTo>
                      <a:pt x="690" y="252"/>
                    </a:lnTo>
                    <a:lnTo>
                      <a:pt x="713" y="246"/>
                    </a:lnTo>
                    <a:lnTo>
                      <a:pt x="822" y="27"/>
                    </a:lnTo>
                    <a:lnTo>
                      <a:pt x="771" y="13"/>
                    </a:lnTo>
                    <a:lnTo>
                      <a:pt x="847" y="0"/>
                    </a:lnTo>
                    <a:lnTo>
                      <a:pt x="875" y="24"/>
                    </a:lnTo>
                    <a:lnTo>
                      <a:pt x="888" y="105"/>
                    </a:lnTo>
                    <a:lnTo>
                      <a:pt x="866" y="171"/>
                    </a:lnTo>
                    <a:lnTo>
                      <a:pt x="795" y="385"/>
                    </a:lnTo>
                    <a:lnTo>
                      <a:pt x="762" y="451"/>
                    </a:lnTo>
                    <a:lnTo>
                      <a:pt x="732" y="459"/>
                    </a:lnTo>
                    <a:lnTo>
                      <a:pt x="507" y="455"/>
                    </a:lnTo>
                    <a:lnTo>
                      <a:pt x="271" y="461"/>
                    </a:lnTo>
                    <a:lnTo>
                      <a:pt x="47" y="478"/>
                    </a:lnTo>
                    <a:lnTo>
                      <a:pt x="14" y="480"/>
                    </a:lnTo>
                    <a:lnTo>
                      <a:pt x="11" y="417"/>
                    </a:lnTo>
                    <a:lnTo>
                      <a:pt x="6" y="355"/>
                    </a:lnTo>
                    <a:lnTo>
                      <a:pt x="5" y="322"/>
                    </a:lnTo>
                    <a:lnTo>
                      <a:pt x="24" y="342"/>
                    </a:lnTo>
                    <a:lnTo>
                      <a:pt x="28" y="393"/>
                    </a:lnTo>
                    <a:lnTo>
                      <a:pt x="35" y="447"/>
                    </a:lnTo>
                    <a:lnTo>
                      <a:pt x="99" y="456"/>
                    </a:lnTo>
                    <a:lnTo>
                      <a:pt x="246" y="442"/>
                    </a:lnTo>
                    <a:lnTo>
                      <a:pt x="370" y="432"/>
                    </a:lnTo>
                    <a:lnTo>
                      <a:pt x="474" y="432"/>
                    </a:lnTo>
                    <a:lnTo>
                      <a:pt x="630" y="432"/>
                    </a:lnTo>
                    <a:lnTo>
                      <a:pt x="729" y="431"/>
                    </a:lnTo>
                    <a:lnTo>
                      <a:pt x="732" y="402"/>
                    </a:lnTo>
                    <a:lnTo>
                      <a:pt x="723" y="341"/>
                    </a:lnTo>
                    <a:lnTo>
                      <a:pt x="715" y="274"/>
                    </a:lnTo>
                    <a:lnTo>
                      <a:pt x="729" y="290"/>
                    </a:lnTo>
                    <a:lnTo>
                      <a:pt x="743" y="364"/>
                    </a:lnTo>
                    <a:lnTo>
                      <a:pt x="756" y="402"/>
                    </a:lnTo>
                    <a:lnTo>
                      <a:pt x="771" y="383"/>
                    </a:lnTo>
                    <a:lnTo>
                      <a:pt x="798" y="309"/>
                    </a:lnTo>
                    <a:lnTo>
                      <a:pt x="838" y="204"/>
                    </a:lnTo>
                    <a:lnTo>
                      <a:pt x="866" y="119"/>
                    </a:lnTo>
                    <a:lnTo>
                      <a:pt x="871" y="93"/>
                    </a:lnTo>
                    <a:lnTo>
                      <a:pt x="857" y="33"/>
                    </a:lnTo>
                    <a:lnTo>
                      <a:pt x="842" y="29"/>
                    </a:lnTo>
                    <a:lnTo>
                      <a:pt x="812" y="100"/>
                    </a:lnTo>
                    <a:lnTo>
                      <a:pt x="760" y="193"/>
                    </a:lnTo>
                    <a:lnTo>
                      <a:pt x="723" y="265"/>
                    </a:lnTo>
                    <a:lnTo>
                      <a:pt x="685" y="276"/>
                    </a:lnTo>
                    <a:lnTo>
                      <a:pt x="549" y="293"/>
                    </a:lnTo>
                    <a:lnTo>
                      <a:pt x="389" y="303"/>
                    </a:lnTo>
                    <a:lnTo>
                      <a:pt x="231" y="303"/>
                    </a:lnTo>
                    <a:lnTo>
                      <a:pt x="52" y="30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55720" y="4817880"/>
                <a:ext cx="728280" cy="166680"/>
              </a:xfrm>
              <a:custGeom>
                <a:avLst/>
                <a:gdLst/>
                <a:ahLst/>
                <a:rect l="l" t="t" r="r" b="b"/>
                <a:pathLst>
                  <a:path w="459" h="105">
                    <a:moveTo>
                      <a:pt x="11" y="19"/>
                    </a:moveTo>
                    <a:lnTo>
                      <a:pt x="43" y="0"/>
                    </a:lnTo>
                    <a:lnTo>
                      <a:pt x="59" y="5"/>
                    </a:lnTo>
                    <a:lnTo>
                      <a:pt x="49" y="29"/>
                    </a:lnTo>
                    <a:lnTo>
                      <a:pt x="25" y="44"/>
                    </a:lnTo>
                    <a:lnTo>
                      <a:pt x="71" y="66"/>
                    </a:lnTo>
                    <a:lnTo>
                      <a:pt x="140" y="69"/>
                    </a:lnTo>
                    <a:lnTo>
                      <a:pt x="200" y="64"/>
                    </a:lnTo>
                    <a:lnTo>
                      <a:pt x="243" y="59"/>
                    </a:lnTo>
                    <a:lnTo>
                      <a:pt x="324" y="51"/>
                    </a:lnTo>
                    <a:lnTo>
                      <a:pt x="376" y="46"/>
                    </a:lnTo>
                    <a:lnTo>
                      <a:pt x="410" y="36"/>
                    </a:lnTo>
                    <a:lnTo>
                      <a:pt x="443" y="15"/>
                    </a:lnTo>
                    <a:lnTo>
                      <a:pt x="440" y="0"/>
                    </a:lnTo>
                    <a:lnTo>
                      <a:pt x="459" y="5"/>
                    </a:lnTo>
                    <a:lnTo>
                      <a:pt x="454" y="56"/>
                    </a:lnTo>
                    <a:lnTo>
                      <a:pt x="405" y="80"/>
                    </a:lnTo>
                    <a:lnTo>
                      <a:pt x="297" y="86"/>
                    </a:lnTo>
                    <a:lnTo>
                      <a:pt x="187" y="97"/>
                    </a:lnTo>
                    <a:lnTo>
                      <a:pt x="124" y="105"/>
                    </a:lnTo>
                    <a:lnTo>
                      <a:pt x="48" y="86"/>
                    </a:lnTo>
                    <a:lnTo>
                      <a:pt x="11" y="75"/>
                    </a:lnTo>
                    <a:lnTo>
                      <a:pt x="0" y="46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43040" y="50990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84160" y="509112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46400" y="5070240"/>
                <a:ext cx="308880" cy="77760"/>
              </a:xfrm>
              <a:custGeom>
                <a:avLst/>
                <a:gdLst/>
                <a:ahLst/>
                <a:rect l="l" t="t" r="r" b="b"/>
                <a:pathLst>
                  <a:path w="195" h="49">
                    <a:moveTo>
                      <a:pt x="0" y="15"/>
                    </a:moveTo>
                    <a:lnTo>
                      <a:pt x="190" y="0"/>
                    </a:lnTo>
                    <a:lnTo>
                      <a:pt x="195" y="32"/>
                    </a:lnTo>
                    <a:lnTo>
                      <a:pt x="0" y="4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382840" y="3782880"/>
                <a:ext cx="1303200" cy="1025640"/>
              </a:xfrm>
              <a:custGeom>
                <a:avLst/>
                <a:gdLst/>
                <a:ahLst/>
                <a:rect l="l" t="t" r="r" b="b"/>
                <a:pathLst>
                  <a:path w="821" h="646">
                    <a:moveTo>
                      <a:pt x="69" y="616"/>
                    </a:moveTo>
                    <a:lnTo>
                      <a:pt x="46" y="592"/>
                    </a:lnTo>
                    <a:lnTo>
                      <a:pt x="32" y="551"/>
                    </a:lnTo>
                    <a:lnTo>
                      <a:pt x="27" y="460"/>
                    </a:lnTo>
                    <a:lnTo>
                      <a:pt x="27" y="309"/>
                    </a:lnTo>
                    <a:lnTo>
                      <a:pt x="32" y="195"/>
                    </a:lnTo>
                    <a:lnTo>
                      <a:pt x="46" y="169"/>
                    </a:lnTo>
                    <a:lnTo>
                      <a:pt x="71" y="136"/>
                    </a:lnTo>
                    <a:lnTo>
                      <a:pt x="132" y="112"/>
                    </a:lnTo>
                    <a:lnTo>
                      <a:pt x="240" y="80"/>
                    </a:lnTo>
                    <a:lnTo>
                      <a:pt x="329" y="57"/>
                    </a:lnTo>
                    <a:lnTo>
                      <a:pt x="369" y="33"/>
                    </a:lnTo>
                    <a:lnTo>
                      <a:pt x="440" y="27"/>
                    </a:lnTo>
                    <a:lnTo>
                      <a:pt x="566" y="38"/>
                    </a:lnTo>
                    <a:lnTo>
                      <a:pt x="670" y="32"/>
                    </a:lnTo>
                    <a:lnTo>
                      <a:pt x="714" y="22"/>
                    </a:lnTo>
                    <a:lnTo>
                      <a:pt x="750" y="32"/>
                    </a:lnTo>
                    <a:lnTo>
                      <a:pt x="774" y="95"/>
                    </a:lnTo>
                    <a:lnTo>
                      <a:pt x="789" y="210"/>
                    </a:lnTo>
                    <a:lnTo>
                      <a:pt x="804" y="301"/>
                    </a:lnTo>
                    <a:lnTo>
                      <a:pt x="797" y="343"/>
                    </a:lnTo>
                    <a:lnTo>
                      <a:pt x="769" y="446"/>
                    </a:lnTo>
                    <a:lnTo>
                      <a:pt x="733" y="550"/>
                    </a:lnTo>
                    <a:lnTo>
                      <a:pt x="709" y="589"/>
                    </a:lnTo>
                    <a:lnTo>
                      <a:pt x="693" y="608"/>
                    </a:lnTo>
                    <a:lnTo>
                      <a:pt x="717" y="622"/>
                    </a:lnTo>
                    <a:lnTo>
                      <a:pt x="742" y="578"/>
                    </a:lnTo>
                    <a:lnTo>
                      <a:pt x="780" y="485"/>
                    </a:lnTo>
                    <a:lnTo>
                      <a:pt x="808" y="386"/>
                    </a:lnTo>
                    <a:lnTo>
                      <a:pt x="818" y="337"/>
                    </a:lnTo>
                    <a:lnTo>
                      <a:pt x="821" y="291"/>
                    </a:lnTo>
                    <a:lnTo>
                      <a:pt x="812" y="214"/>
                    </a:lnTo>
                    <a:lnTo>
                      <a:pt x="797" y="99"/>
                    </a:lnTo>
                    <a:lnTo>
                      <a:pt x="775" y="36"/>
                    </a:lnTo>
                    <a:lnTo>
                      <a:pt x="755" y="8"/>
                    </a:lnTo>
                    <a:lnTo>
                      <a:pt x="722" y="0"/>
                    </a:lnTo>
                    <a:lnTo>
                      <a:pt x="679" y="13"/>
                    </a:lnTo>
                    <a:lnTo>
                      <a:pt x="615" y="17"/>
                    </a:lnTo>
                    <a:lnTo>
                      <a:pt x="533" y="17"/>
                    </a:lnTo>
                    <a:lnTo>
                      <a:pt x="448" y="5"/>
                    </a:lnTo>
                    <a:lnTo>
                      <a:pt x="391" y="8"/>
                    </a:lnTo>
                    <a:lnTo>
                      <a:pt x="362" y="19"/>
                    </a:lnTo>
                    <a:lnTo>
                      <a:pt x="298" y="50"/>
                    </a:lnTo>
                    <a:lnTo>
                      <a:pt x="175" y="84"/>
                    </a:lnTo>
                    <a:lnTo>
                      <a:pt x="57" y="123"/>
                    </a:lnTo>
                    <a:lnTo>
                      <a:pt x="24" y="164"/>
                    </a:lnTo>
                    <a:lnTo>
                      <a:pt x="3" y="219"/>
                    </a:lnTo>
                    <a:lnTo>
                      <a:pt x="0" y="329"/>
                    </a:lnTo>
                    <a:lnTo>
                      <a:pt x="5" y="433"/>
                    </a:lnTo>
                    <a:lnTo>
                      <a:pt x="9" y="540"/>
                    </a:lnTo>
                    <a:lnTo>
                      <a:pt x="28" y="602"/>
                    </a:lnTo>
                    <a:lnTo>
                      <a:pt x="47" y="635"/>
                    </a:lnTo>
                    <a:lnTo>
                      <a:pt x="80" y="646"/>
                    </a:lnTo>
                    <a:lnTo>
                      <a:pt x="99" y="640"/>
                    </a:lnTo>
                    <a:lnTo>
                      <a:pt x="69" y="6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69960" y="3801960"/>
                <a:ext cx="1122120" cy="1022400"/>
              </a:xfrm>
              <a:custGeom>
                <a:avLst/>
                <a:gdLst/>
                <a:ahLst/>
                <a:rect l="l" t="t" r="r" b="b"/>
                <a:pathLst>
                  <a:path w="707" h="644">
                    <a:moveTo>
                      <a:pt x="11" y="611"/>
                    </a:moveTo>
                    <a:lnTo>
                      <a:pt x="129" y="619"/>
                    </a:lnTo>
                    <a:lnTo>
                      <a:pt x="294" y="623"/>
                    </a:lnTo>
                    <a:lnTo>
                      <a:pt x="426" y="623"/>
                    </a:lnTo>
                    <a:lnTo>
                      <a:pt x="544" y="609"/>
                    </a:lnTo>
                    <a:lnTo>
                      <a:pt x="622" y="597"/>
                    </a:lnTo>
                    <a:lnTo>
                      <a:pt x="644" y="586"/>
                    </a:lnTo>
                    <a:lnTo>
                      <a:pt x="644" y="529"/>
                    </a:lnTo>
                    <a:lnTo>
                      <a:pt x="615" y="377"/>
                    </a:lnTo>
                    <a:lnTo>
                      <a:pt x="582" y="193"/>
                    </a:lnTo>
                    <a:lnTo>
                      <a:pt x="565" y="126"/>
                    </a:lnTo>
                    <a:lnTo>
                      <a:pt x="549" y="101"/>
                    </a:lnTo>
                    <a:lnTo>
                      <a:pt x="346" y="123"/>
                    </a:lnTo>
                    <a:lnTo>
                      <a:pt x="147" y="128"/>
                    </a:lnTo>
                    <a:lnTo>
                      <a:pt x="38" y="131"/>
                    </a:lnTo>
                    <a:lnTo>
                      <a:pt x="0" y="136"/>
                    </a:lnTo>
                    <a:lnTo>
                      <a:pt x="21" y="109"/>
                    </a:lnTo>
                    <a:lnTo>
                      <a:pt x="68" y="114"/>
                    </a:lnTo>
                    <a:lnTo>
                      <a:pt x="204" y="109"/>
                    </a:lnTo>
                    <a:lnTo>
                      <a:pt x="333" y="101"/>
                    </a:lnTo>
                    <a:lnTo>
                      <a:pt x="447" y="92"/>
                    </a:lnTo>
                    <a:lnTo>
                      <a:pt x="556" y="82"/>
                    </a:lnTo>
                    <a:lnTo>
                      <a:pt x="641" y="43"/>
                    </a:lnTo>
                    <a:lnTo>
                      <a:pt x="688" y="0"/>
                    </a:lnTo>
                    <a:lnTo>
                      <a:pt x="707" y="21"/>
                    </a:lnTo>
                    <a:lnTo>
                      <a:pt x="663" y="47"/>
                    </a:lnTo>
                    <a:lnTo>
                      <a:pt x="598" y="90"/>
                    </a:lnTo>
                    <a:lnTo>
                      <a:pt x="578" y="104"/>
                    </a:lnTo>
                    <a:lnTo>
                      <a:pt x="601" y="202"/>
                    </a:lnTo>
                    <a:lnTo>
                      <a:pt x="620" y="297"/>
                    </a:lnTo>
                    <a:lnTo>
                      <a:pt x="636" y="384"/>
                    </a:lnTo>
                    <a:lnTo>
                      <a:pt x="650" y="467"/>
                    </a:lnTo>
                    <a:lnTo>
                      <a:pt x="663" y="529"/>
                    </a:lnTo>
                    <a:lnTo>
                      <a:pt x="669" y="582"/>
                    </a:lnTo>
                    <a:lnTo>
                      <a:pt x="660" y="611"/>
                    </a:lnTo>
                    <a:lnTo>
                      <a:pt x="570" y="633"/>
                    </a:lnTo>
                    <a:lnTo>
                      <a:pt x="412" y="644"/>
                    </a:lnTo>
                    <a:lnTo>
                      <a:pt x="246" y="638"/>
                    </a:lnTo>
                    <a:lnTo>
                      <a:pt x="125" y="638"/>
                    </a:lnTo>
                    <a:lnTo>
                      <a:pt x="25" y="635"/>
                    </a:lnTo>
                    <a:lnTo>
                      <a:pt x="11" y="6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95240" y="4059000"/>
                <a:ext cx="774360" cy="654120"/>
              </a:xfrm>
              <a:custGeom>
                <a:avLst/>
                <a:gdLst/>
                <a:ahLst/>
                <a:rect l="l" t="t" r="r" b="b"/>
                <a:pathLst>
                  <a:path w="488" h="412">
                    <a:moveTo>
                      <a:pt x="0" y="11"/>
                    </a:moveTo>
                    <a:lnTo>
                      <a:pt x="162" y="5"/>
                    </a:lnTo>
                    <a:lnTo>
                      <a:pt x="273" y="0"/>
                    </a:lnTo>
                    <a:lnTo>
                      <a:pt x="397" y="2"/>
                    </a:lnTo>
                    <a:lnTo>
                      <a:pt x="416" y="16"/>
                    </a:lnTo>
                    <a:lnTo>
                      <a:pt x="431" y="38"/>
                    </a:lnTo>
                    <a:lnTo>
                      <a:pt x="458" y="154"/>
                    </a:lnTo>
                    <a:lnTo>
                      <a:pt x="478" y="286"/>
                    </a:lnTo>
                    <a:lnTo>
                      <a:pt x="488" y="377"/>
                    </a:lnTo>
                    <a:lnTo>
                      <a:pt x="478" y="406"/>
                    </a:lnTo>
                    <a:lnTo>
                      <a:pt x="453" y="412"/>
                    </a:lnTo>
                    <a:lnTo>
                      <a:pt x="310" y="396"/>
                    </a:lnTo>
                    <a:lnTo>
                      <a:pt x="459" y="383"/>
                    </a:lnTo>
                    <a:lnTo>
                      <a:pt x="467" y="379"/>
                    </a:lnTo>
                    <a:lnTo>
                      <a:pt x="464" y="317"/>
                    </a:lnTo>
                    <a:lnTo>
                      <a:pt x="453" y="229"/>
                    </a:lnTo>
                    <a:lnTo>
                      <a:pt x="429" y="110"/>
                    </a:lnTo>
                    <a:lnTo>
                      <a:pt x="410" y="35"/>
                    </a:lnTo>
                    <a:lnTo>
                      <a:pt x="391" y="24"/>
                    </a:lnTo>
                    <a:lnTo>
                      <a:pt x="302" y="19"/>
                    </a:lnTo>
                    <a:lnTo>
                      <a:pt x="181" y="24"/>
                    </a:lnTo>
                    <a:lnTo>
                      <a:pt x="81" y="2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16040" y="4068720"/>
                <a:ext cx="769680" cy="636480"/>
              </a:xfrm>
              <a:custGeom>
                <a:avLst/>
                <a:gdLst/>
                <a:ahLst/>
                <a:rect l="l" t="t" r="r" b="b"/>
                <a:pathLst>
                  <a:path w="485" h="401">
                    <a:moveTo>
                      <a:pt x="224" y="0"/>
                    </a:moveTo>
                    <a:lnTo>
                      <a:pt x="67" y="0"/>
                    </a:lnTo>
                    <a:lnTo>
                      <a:pt x="22" y="5"/>
                    </a:lnTo>
                    <a:lnTo>
                      <a:pt x="14" y="22"/>
                    </a:lnTo>
                    <a:lnTo>
                      <a:pt x="5" y="57"/>
                    </a:lnTo>
                    <a:lnTo>
                      <a:pt x="0" y="151"/>
                    </a:lnTo>
                    <a:lnTo>
                      <a:pt x="5" y="243"/>
                    </a:lnTo>
                    <a:lnTo>
                      <a:pt x="17" y="334"/>
                    </a:lnTo>
                    <a:lnTo>
                      <a:pt x="37" y="371"/>
                    </a:lnTo>
                    <a:lnTo>
                      <a:pt x="46" y="380"/>
                    </a:lnTo>
                    <a:lnTo>
                      <a:pt x="146" y="390"/>
                    </a:lnTo>
                    <a:lnTo>
                      <a:pt x="275" y="395"/>
                    </a:lnTo>
                    <a:lnTo>
                      <a:pt x="371" y="396"/>
                    </a:lnTo>
                    <a:lnTo>
                      <a:pt x="485" y="401"/>
                    </a:lnTo>
                    <a:lnTo>
                      <a:pt x="480" y="387"/>
                    </a:lnTo>
                    <a:lnTo>
                      <a:pt x="391" y="380"/>
                    </a:lnTo>
                    <a:lnTo>
                      <a:pt x="275" y="372"/>
                    </a:lnTo>
                    <a:lnTo>
                      <a:pt x="114" y="371"/>
                    </a:lnTo>
                    <a:lnTo>
                      <a:pt x="56" y="353"/>
                    </a:lnTo>
                    <a:lnTo>
                      <a:pt x="38" y="339"/>
                    </a:lnTo>
                    <a:lnTo>
                      <a:pt x="32" y="313"/>
                    </a:lnTo>
                    <a:lnTo>
                      <a:pt x="24" y="237"/>
                    </a:lnTo>
                    <a:lnTo>
                      <a:pt x="22" y="142"/>
                    </a:lnTo>
                    <a:lnTo>
                      <a:pt x="29" y="46"/>
                    </a:lnTo>
                    <a:lnTo>
                      <a:pt x="38" y="24"/>
                    </a:lnTo>
                    <a:lnTo>
                      <a:pt x="143" y="1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517760" y="4743360"/>
              <a:ext cx="1084320" cy="1559160"/>
              <a:chOff x="1517760" y="4743360"/>
              <a:chExt cx="1084320" cy="1559160"/>
            </a:xfrm>
          </p:grpSpPr>
          <p:sp>
            <p:nvSpPr>
              <p:cNvPr id="248" name=""/>
              <p:cNvSpPr/>
              <p:nvPr/>
            </p:nvSpPr>
            <p:spPr>
              <a:xfrm>
                <a:off x="2113200" y="4743360"/>
                <a:ext cx="434880" cy="381240"/>
              </a:xfrm>
              <a:custGeom>
                <a:avLst/>
                <a:gdLst/>
                <a:ahLst/>
                <a:rect l="l" t="t" r="r" b="b"/>
                <a:pathLst>
                  <a:path w="274" h="240">
                    <a:moveTo>
                      <a:pt x="172" y="85"/>
                    </a:moveTo>
                    <a:lnTo>
                      <a:pt x="168" y="44"/>
                    </a:lnTo>
                    <a:lnTo>
                      <a:pt x="158" y="17"/>
                    </a:lnTo>
                    <a:lnTo>
                      <a:pt x="147" y="7"/>
                    </a:lnTo>
                    <a:lnTo>
                      <a:pt x="130" y="2"/>
                    </a:lnTo>
                    <a:lnTo>
                      <a:pt x="110" y="0"/>
                    </a:lnTo>
                    <a:lnTo>
                      <a:pt x="83" y="6"/>
                    </a:lnTo>
                    <a:lnTo>
                      <a:pt x="64" y="17"/>
                    </a:lnTo>
                    <a:lnTo>
                      <a:pt x="42" y="39"/>
                    </a:lnTo>
                    <a:lnTo>
                      <a:pt x="25" y="63"/>
                    </a:lnTo>
                    <a:lnTo>
                      <a:pt x="9" y="100"/>
                    </a:lnTo>
                    <a:lnTo>
                      <a:pt x="2" y="128"/>
                    </a:lnTo>
                    <a:lnTo>
                      <a:pt x="0" y="159"/>
                    </a:lnTo>
                    <a:lnTo>
                      <a:pt x="2" y="192"/>
                    </a:lnTo>
                    <a:lnTo>
                      <a:pt x="9" y="213"/>
                    </a:lnTo>
                    <a:lnTo>
                      <a:pt x="20" y="228"/>
                    </a:lnTo>
                    <a:lnTo>
                      <a:pt x="39" y="238"/>
                    </a:lnTo>
                    <a:lnTo>
                      <a:pt x="59" y="240"/>
                    </a:lnTo>
                    <a:lnTo>
                      <a:pt x="86" y="236"/>
                    </a:lnTo>
                    <a:lnTo>
                      <a:pt x="108" y="226"/>
                    </a:lnTo>
                    <a:lnTo>
                      <a:pt x="128" y="206"/>
                    </a:lnTo>
                    <a:lnTo>
                      <a:pt x="147" y="181"/>
                    </a:lnTo>
                    <a:lnTo>
                      <a:pt x="157" y="150"/>
                    </a:lnTo>
                    <a:lnTo>
                      <a:pt x="163" y="125"/>
                    </a:lnTo>
                    <a:lnTo>
                      <a:pt x="212" y="105"/>
                    </a:lnTo>
                    <a:lnTo>
                      <a:pt x="247" y="93"/>
                    </a:lnTo>
                    <a:lnTo>
                      <a:pt x="266" y="90"/>
                    </a:lnTo>
                    <a:lnTo>
                      <a:pt x="274" y="78"/>
                    </a:lnTo>
                    <a:lnTo>
                      <a:pt x="273" y="63"/>
                    </a:lnTo>
                    <a:lnTo>
                      <a:pt x="261" y="51"/>
                    </a:lnTo>
                    <a:lnTo>
                      <a:pt x="244" y="51"/>
                    </a:lnTo>
                    <a:lnTo>
                      <a:pt x="219" y="61"/>
                    </a:lnTo>
                    <a:lnTo>
                      <a:pt x="195" y="78"/>
                    </a:lnTo>
                    <a:lnTo>
                      <a:pt x="172" y="8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606680" y="5040360"/>
                <a:ext cx="514440" cy="542880"/>
              </a:xfrm>
              <a:custGeom>
                <a:avLst/>
                <a:gdLst/>
                <a:ahLst/>
                <a:rect l="l" t="t" r="r" b="b"/>
                <a:pathLst>
                  <a:path w="324" h="342">
                    <a:moveTo>
                      <a:pt x="140" y="24"/>
                    </a:moveTo>
                    <a:lnTo>
                      <a:pt x="182" y="7"/>
                    </a:lnTo>
                    <a:lnTo>
                      <a:pt x="231" y="0"/>
                    </a:lnTo>
                    <a:lnTo>
                      <a:pt x="271" y="2"/>
                    </a:lnTo>
                    <a:lnTo>
                      <a:pt x="292" y="10"/>
                    </a:lnTo>
                    <a:lnTo>
                      <a:pt x="310" y="26"/>
                    </a:lnTo>
                    <a:lnTo>
                      <a:pt x="322" y="46"/>
                    </a:lnTo>
                    <a:lnTo>
                      <a:pt x="324" y="66"/>
                    </a:lnTo>
                    <a:lnTo>
                      <a:pt x="320" y="88"/>
                    </a:lnTo>
                    <a:lnTo>
                      <a:pt x="308" y="105"/>
                    </a:lnTo>
                    <a:lnTo>
                      <a:pt x="286" y="120"/>
                    </a:lnTo>
                    <a:lnTo>
                      <a:pt x="256" y="128"/>
                    </a:lnTo>
                    <a:lnTo>
                      <a:pt x="229" y="138"/>
                    </a:lnTo>
                    <a:lnTo>
                      <a:pt x="202" y="155"/>
                    </a:lnTo>
                    <a:lnTo>
                      <a:pt x="179" y="175"/>
                    </a:lnTo>
                    <a:lnTo>
                      <a:pt x="165" y="202"/>
                    </a:lnTo>
                    <a:lnTo>
                      <a:pt x="157" y="240"/>
                    </a:lnTo>
                    <a:lnTo>
                      <a:pt x="159" y="273"/>
                    </a:lnTo>
                    <a:lnTo>
                      <a:pt x="155" y="295"/>
                    </a:lnTo>
                    <a:lnTo>
                      <a:pt x="149" y="309"/>
                    </a:lnTo>
                    <a:lnTo>
                      <a:pt x="128" y="324"/>
                    </a:lnTo>
                    <a:lnTo>
                      <a:pt x="105" y="334"/>
                    </a:lnTo>
                    <a:lnTo>
                      <a:pt x="81" y="342"/>
                    </a:lnTo>
                    <a:lnTo>
                      <a:pt x="63" y="341"/>
                    </a:lnTo>
                    <a:lnTo>
                      <a:pt x="41" y="334"/>
                    </a:lnTo>
                    <a:lnTo>
                      <a:pt x="22" y="320"/>
                    </a:lnTo>
                    <a:lnTo>
                      <a:pt x="9" y="290"/>
                    </a:lnTo>
                    <a:lnTo>
                      <a:pt x="2" y="260"/>
                    </a:lnTo>
                    <a:lnTo>
                      <a:pt x="0" y="229"/>
                    </a:lnTo>
                    <a:lnTo>
                      <a:pt x="4" y="194"/>
                    </a:lnTo>
                    <a:lnTo>
                      <a:pt x="16" y="160"/>
                    </a:lnTo>
                    <a:lnTo>
                      <a:pt x="31" y="132"/>
                    </a:lnTo>
                    <a:lnTo>
                      <a:pt x="51" y="101"/>
                    </a:lnTo>
                    <a:lnTo>
                      <a:pt x="80" y="73"/>
                    </a:lnTo>
                    <a:lnTo>
                      <a:pt x="106" y="51"/>
                    </a:lnTo>
                    <a:lnTo>
                      <a:pt x="123" y="36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17760" y="4913280"/>
                <a:ext cx="540000" cy="441360"/>
              </a:xfrm>
              <a:custGeom>
                <a:avLst/>
                <a:gdLst/>
                <a:ahLst/>
                <a:rect l="l" t="t" r="r" b="b"/>
                <a:pathLst>
                  <a:path w="340" h="278">
                    <a:moveTo>
                      <a:pt x="278" y="56"/>
                    </a:moveTo>
                    <a:lnTo>
                      <a:pt x="325" y="82"/>
                    </a:lnTo>
                    <a:lnTo>
                      <a:pt x="338" y="90"/>
                    </a:lnTo>
                    <a:lnTo>
                      <a:pt x="338" y="95"/>
                    </a:lnTo>
                    <a:lnTo>
                      <a:pt x="340" y="109"/>
                    </a:lnTo>
                    <a:lnTo>
                      <a:pt x="323" y="125"/>
                    </a:lnTo>
                    <a:lnTo>
                      <a:pt x="296" y="122"/>
                    </a:lnTo>
                    <a:lnTo>
                      <a:pt x="269" y="114"/>
                    </a:lnTo>
                    <a:lnTo>
                      <a:pt x="244" y="95"/>
                    </a:lnTo>
                    <a:lnTo>
                      <a:pt x="212" y="77"/>
                    </a:lnTo>
                    <a:lnTo>
                      <a:pt x="175" y="61"/>
                    </a:lnTo>
                    <a:lnTo>
                      <a:pt x="128" y="48"/>
                    </a:lnTo>
                    <a:lnTo>
                      <a:pt x="91" y="39"/>
                    </a:lnTo>
                    <a:lnTo>
                      <a:pt x="72" y="38"/>
                    </a:lnTo>
                    <a:lnTo>
                      <a:pt x="66" y="44"/>
                    </a:lnTo>
                    <a:lnTo>
                      <a:pt x="67" y="60"/>
                    </a:lnTo>
                    <a:lnTo>
                      <a:pt x="84" y="85"/>
                    </a:lnTo>
                    <a:lnTo>
                      <a:pt x="101" y="112"/>
                    </a:lnTo>
                    <a:lnTo>
                      <a:pt x="118" y="137"/>
                    </a:lnTo>
                    <a:lnTo>
                      <a:pt x="126" y="163"/>
                    </a:lnTo>
                    <a:lnTo>
                      <a:pt x="125" y="180"/>
                    </a:lnTo>
                    <a:lnTo>
                      <a:pt x="114" y="193"/>
                    </a:lnTo>
                    <a:lnTo>
                      <a:pt x="94" y="203"/>
                    </a:lnTo>
                    <a:lnTo>
                      <a:pt x="72" y="212"/>
                    </a:lnTo>
                    <a:lnTo>
                      <a:pt x="54" y="225"/>
                    </a:lnTo>
                    <a:lnTo>
                      <a:pt x="44" y="240"/>
                    </a:lnTo>
                    <a:lnTo>
                      <a:pt x="42" y="257"/>
                    </a:lnTo>
                    <a:lnTo>
                      <a:pt x="39" y="272"/>
                    </a:lnTo>
                    <a:lnTo>
                      <a:pt x="34" y="278"/>
                    </a:lnTo>
                    <a:lnTo>
                      <a:pt x="13" y="274"/>
                    </a:lnTo>
                    <a:lnTo>
                      <a:pt x="2" y="257"/>
                    </a:lnTo>
                    <a:lnTo>
                      <a:pt x="0" y="240"/>
                    </a:lnTo>
                    <a:lnTo>
                      <a:pt x="5" y="227"/>
                    </a:lnTo>
                    <a:lnTo>
                      <a:pt x="19" y="212"/>
                    </a:lnTo>
                    <a:lnTo>
                      <a:pt x="45" y="196"/>
                    </a:lnTo>
                    <a:lnTo>
                      <a:pt x="69" y="186"/>
                    </a:lnTo>
                    <a:lnTo>
                      <a:pt x="86" y="178"/>
                    </a:lnTo>
                    <a:lnTo>
                      <a:pt x="96" y="168"/>
                    </a:lnTo>
                    <a:lnTo>
                      <a:pt x="98" y="156"/>
                    </a:lnTo>
                    <a:lnTo>
                      <a:pt x="88" y="136"/>
                    </a:lnTo>
                    <a:lnTo>
                      <a:pt x="71" y="115"/>
                    </a:lnTo>
                    <a:lnTo>
                      <a:pt x="52" y="92"/>
                    </a:lnTo>
                    <a:lnTo>
                      <a:pt x="34" y="73"/>
                    </a:lnTo>
                    <a:lnTo>
                      <a:pt x="29" y="51"/>
                    </a:lnTo>
                    <a:lnTo>
                      <a:pt x="29" y="33"/>
                    </a:lnTo>
                    <a:lnTo>
                      <a:pt x="35" y="16"/>
                    </a:lnTo>
                    <a:lnTo>
                      <a:pt x="54" y="6"/>
                    </a:lnTo>
                    <a:lnTo>
                      <a:pt x="77" y="4"/>
                    </a:lnTo>
                    <a:lnTo>
                      <a:pt x="104" y="0"/>
                    </a:lnTo>
                    <a:lnTo>
                      <a:pt x="145" y="6"/>
                    </a:lnTo>
                    <a:lnTo>
                      <a:pt x="182" y="14"/>
                    </a:lnTo>
                    <a:lnTo>
                      <a:pt x="215" y="26"/>
                    </a:lnTo>
                    <a:lnTo>
                      <a:pt x="246" y="39"/>
                    </a:lnTo>
                    <a:lnTo>
                      <a:pt x="269" y="51"/>
                    </a:lnTo>
                    <a:lnTo>
                      <a:pt x="278" y="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40120" y="5108760"/>
                <a:ext cx="561960" cy="37620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0"/>
                    </a:moveTo>
                    <a:lnTo>
                      <a:pt x="31" y="3"/>
                    </a:lnTo>
                    <a:lnTo>
                      <a:pt x="49" y="15"/>
                    </a:lnTo>
                    <a:lnTo>
                      <a:pt x="64" y="40"/>
                    </a:lnTo>
                    <a:lnTo>
                      <a:pt x="74" y="77"/>
                    </a:lnTo>
                    <a:lnTo>
                      <a:pt x="78" y="107"/>
                    </a:lnTo>
                    <a:lnTo>
                      <a:pt x="80" y="159"/>
                    </a:lnTo>
                    <a:lnTo>
                      <a:pt x="86" y="188"/>
                    </a:lnTo>
                    <a:lnTo>
                      <a:pt x="100" y="200"/>
                    </a:lnTo>
                    <a:lnTo>
                      <a:pt x="118" y="203"/>
                    </a:lnTo>
                    <a:lnTo>
                      <a:pt x="159" y="200"/>
                    </a:lnTo>
                    <a:lnTo>
                      <a:pt x="199" y="190"/>
                    </a:lnTo>
                    <a:lnTo>
                      <a:pt x="244" y="185"/>
                    </a:lnTo>
                    <a:lnTo>
                      <a:pt x="268" y="178"/>
                    </a:lnTo>
                    <a:lnTo>
                      <a:pt x="280" y="168"/>
                    </a:lnTo>
                    <a:lnTo>
                      <a:pt x="278" y="149"/>
                    </a:lnTo>
                    <a:lnTo>
                      <a:pt x="274" y="133"/>
                    </a:lnTo>
                    <a:lnTo>
                      <a:pt x="285" y="117"/>
                    </a:lnTo>
                    <a:lnTo>
                      <a:pt x="303" y="116"/>
                    </a:lnTo>
                    <a:lnTo>
                      <a:pt x="311" y="122"/>
                    </a:lnTo>
                    <a:lnTo>
                      <a:pt x="306" y="138"/>
                    </a:lnTo>
                    <a:lnTo>
                      <a:pt x="296" y="151"/>
                    </a:lnTo>
                    <a:lnTo>
                      <a:pt x="301" y="163"/>
                    </a:lnTo>
                    <a:lnTo>
                      <a:pt x="315" y="173"/>
                    </a:lnTo>
                    <a:lnTo>
                      <a:pt x="337" y="176"/>
                    </a:lnTo>
                    <a:lnTo>
                      <a:pt x="350" y="180"/>
                    </a:lnTo>
                    <a:lnTo>
                      <a:pt x="354" y="190"/>
                    </a:lnTo>
                    <a:lnTo>
                      <a:pt x="354" y="208"/>
                    </a:lnTo>
                    <a:lnTo>
                      <a:pt x="342" y="210"/>
                    </a:lnTo>
                    <a:lnTo>
                      <a:pt x="325" y="200"/>
                    </a:lnTo>
                    <a:lnTo>
                      <a:pt x="303" y="186"/>
                    </a:lnTo>
                    <a:lnTo>
                      <a:pt x="296" y="188"/>
                    </a:lnTo>
                    <a:lnTo>
                      <a:pt x="310" y="201"/>
                    </a:lnTo>
                    <a:lnTo>
                      <a:pt x="330" y="220"/>
                    </a:lnTo>
                    <a:lnTo>
                      <a:pt x="327" y="232"/>
                    </a:lnTo>
                    <a:lnTo>
                      <a:pt x="313" y="232"/>
                    </a:lnTo>
                    <a:lnTo>
                      <a:pt x="308" y="233"/>
                    </a:lnTo>
                    <a:lnTo>
                      <a:pt x="296" y="223"/>
                    </a:lnTo>
                    <a:lnTo>
                      <a:pt x="288" y="201"/>
                    </a:lnTo>
                    <a:lnTo>
                      <a:pt x="278" y="198"/>
                    </a:lnTo>
                    <a:lnTo>
                      <a:pt x="244" y="210"/>
                    </a:lnTo>
                    <a:lnTo>
                      <a:pt x="195" y="220"/>
                    </a:lnTo>
                    <a:lnTo>
                      <a:pt x="148" y="237"/>
                    </a:lnTo>
                    <a:lnTo>
                      <a:pt x="105" y="237"/>
                    </a:lnTo>
                    <a:lnTo>
                      <a:pt x="69" y="228"/>
                    </a:lnTo>
                    <a:lnTo>
                      <a:pt x="56" y="217"/>
                    </a:lnTo>
                    <a:lnTo>
                      <a:pt x="53" y="200"/>
                    </a:lnTo>
                    <a:lnTo>
                      <a:pt x="48" y="175"/>
                    </a:lnTo>
                    <a:lnTo>
                      <a:pt x="41" y="133"/>
                    </a:lnTo>
                    <a:lnTo>
                      <a:pt x="29" y="101"/>
                    </a:lnTo>
                    <a:lnTo>
                      <a:pt x="16" y="72"/>
                    </a:lnTo>
                    <a:lnTo>
                      <a:pt x="6" y="45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687680" y="5442120"/>
                <a:ext cx="398520" cy="860400"/>
              </a:xfrm>
              <a:custGeom>
                <a:avLst/>
                <a:gdLst/>
                <a:ahLst/>
                <a:rect l="l" t="t" r="r" b="b"/>
                <a:pathLst>
                  <a:path w="251" h="542">
                    <a:moveTo>
                      <a:pt x="25" y="3"/>
                    </a:moveTo>
                    <a:lnTo>
                      <a:pt x="55" y="0"/>
                    </a:lnTo>
                    <a:lnTo>
                      <a:pt x="76" y="8"/>
                    </a:lnTo>
                    <a:lnTo>
                      <a:pt x="89" y="34"/>
                    </a:lnTo>
                    <a:lnTo>
                      <a:pt x="89" y="39"/>
                    </a:lnTo>
                    <a:lnTo>
                      <a:pt x="104" y="76"/>
                    </a:lnTo>
                    <a:lnTo>
                      <a:pt x="126" y="138"/>
                    </a:lnTo>
                    <a:lnTo>
                      <a:pt x="136" y="190"/>
                    </a:lnTo>
                    <a:lnTo>
                      <a:pt x="145" y="232"/>
                    </a:lnTo>
                    <a:lnTo>
                      <a:pt x="145" y="269"/>
                    </a:lnTo>
                    <a:lnTo>
                      <a:pt x="140" y="313"/>
                    </a:lnTo>
                    <a:lnTo>
                      <a:pt x="133" y="369"/>
                    </a:lnTo>
                    <a:lnTo>
                      <a:pt x="121" y="422"/>
                    </a:lnTo>
                    <a:lnTo>
                      <a:pt x="116" y="458"/>
                    </a:lnTo>
                    <a:lnTo>
                      <a:pt x="114" y="463"/>
                    </a:lnTo>
                    <a:lnTo>
                      <a:pt x="118" y="495"/>
                    </a:lnTo>
                    <a:lnTo>
                      <a:pt x="129" y="500"/>
                    </a:lnTo>
                    <a:lnTo>
                      <a:pt x="155" y="492"/>
                    </a:lnTo>
                    <a:lnTo>
                      <a:pt x="190" y="473"/>
                    </a:lnTo>
                    <a:lnTo>
                      <a:pt x="205" y="463"/>
                    </a:lnTo>
                    <a:lnTo>
                      <a:pt x="222" y="460"/>
                    </a:lnTo>
                    <a:lnTo>
                      <a:pt x="241" y="470"/>
                    </a:lnTo>
                    <a:lnTo>
                      <a:pt x="251" y="488"/>
                    </a:lnTo>
                    <a:lnTo>
                      <a:pt x="247" y="503"/>
                    </a:lnTo>
                    <a:lnTo>
                      <a:pt x="224" y="510"/>
                    </a:lnTo>
                    <a:lnTo>
                      <a:pt x="177" y="517"/>
                    </a:lnTo>
                    <a:lnTo>
                      <a:pt x="138" y="532"/>
                    </a:lnTo>
                    <a:lnTo>
                      <a:pt x="103" y="542"/>
                    </a:lnTo>
                    <a:lnTo>
                      <a:pt x="89" y="529"/>
                    </a:lnTo>
                    <a:lnTo>
                      <a:pt x="87" y="513"/>
                    </a:lnTo>
                    <a:lnTo>
                      <a:pt x="84" y="492"/>
                    </a:lnTo>
                    <a:lnTo>
                      <a:pt x="87" y="465"/>
                    </a:lnTo>
                    <a:lnTo>
                      <a:pt x="86" y="417"/>
                    </a:lnTo>
                    <a:lnTo>
                      <a:pt x="87" y="382"/>
                    </a:lnTo>
                    <a:lnTo>
                      <a:pt x="96" y="338"/>
                    </a:lnTo>
                    <a:lnTo>
                      <a:pt x="101" y="301"/>
                    </a:lnTo>
                    <a:lnTo>
                      <a:pt x="99" y="259"/>
                    </a:lnTo>
                    <a:lnTo>
                      <a:pt x="84" y="212"/>
                    </a:lnTo>
                    <a:lnTo>
                      <a:pt x="55" y="160"/>
                    </a:lnTo>
                    <a:lnTo>
                      <a:pt x="39" y="111"/>
                    </a:lnTo>
                    <a:lnTo>
                      <a:pt x="12" y="67"/>
                    </a:lnTo>
                    <a:lnTo>
                      <a:pt x="0" y="35"/>
                    </a:lnTo>
                    <a:lnTo>
                      <a:pt x="12" y="15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611360" y="5464080"/>
                <a:ext cx="281160" cy="752760"/>
              </a:xfrm>
              <a:custGeom>
                <a:avLst/>
                <a:gdLst/>
                <a:ahLst/>
                <a:rect l="l" t="t" r="r" b="b"/>
                <a:pathLst>
                  <a:path w="177" h="474">
                    <a:moveTo>
                      <a:pt x="17" y="34"/>
                    </a:moveTo>
                    <a:lnTo>
                      <a:pt x="25" y="10"/>
                    </a:lnTo>
                    <a:lnTo>
                      <a:pt x="52" y="0"/>
                    </a:lnTo>
                    <a:lnTo>
                      <a:pt x="74" y="5"/>
                    </a:lnTo>
                    <a:lnTo>
                      <a:pt x="91" y="37"/>
                    </a:lnTo>
                    <a:lnTo>
                      <a:pt x="101" y="96"/>
                    </a:lnTo>
                    <a:lnTo>
                      <a:pt x="106" y="163"/>
                    </a:lnTo>
                    <a:lnTo>
                      <a:pt x="104" y="219"/>
                    </a:lnTo>
                    <a:lnTo>
                      <a:pt x="94" y="276"/>
                    </a:lnTo>
                    <a:lnTo>
                      <a:pt x="76" y="324"/>
                    </a:lnTo>
                    <a:lnTo>
                      <a:pt x="57" y="378"/>
                    </a:lnTo>
                    <a:lnTo>
                      <a:pt x="49" y="410"/>
                    </a:lnTo>
                    <a:lnTo>
                      <a:pt x="49" y="429"/>
                    </a:lnTo>
                    <a:lnTo>
                      <a:pt x="84" y="415"/>
                    </a:lnTo>
                    <a:lnTo>
                      <a:pt x="118" y="388"/>
                    </a:lnTo>
                    <a:lnTo>
                      <a:pt x="135" y="378"/>
                    </a:lnTo>
                    <a:lnTo>
                      <a:pt x="151" y="375"/>
                    </a:lnTo>
                    <a:lnTo>
                      <a:pt x="172" y="380"/>
                    </a:lnTo>
                    <a:lnTo>
                      <a:pt x="177" y="397"/>
                    </a:lnTo>
                    <a:lnTo>
                      <a:pt x="167" y="413"/>
                    </a:lnTo>
                    <a:lnTo>
                      <a:pt x="133" y="425"/>
                    </a:lnTo>
                    <a:lnTo>
                      <a:pt x="92" y="440"/>
                    </a:lnTo>
                    <a:lnTo>
                      <a:pt x="50" y="461"/>
                    </a:lnTo>
                    <a:lnTo>
                      <a:pt x="27" y="474"/>
                    </a:lnTo>
                    <a:lnTo>
                      <a:pt x="10" y="472"/>
                    </a:lnTo>
                    <a:lnTo>
                      <a:pt x="3" y="462"/>
                    </a:lnTo>
                    <a:lnTo>
                      <a:pt x="0" y="444"/>
                    </a:lnTo>
                    <a:lnTo>
                      <a:pt x="7" y="420"/>
                    </a:lnTo>
                    <a:lnTo>
                      <a:pt x="22" y="403"/>
                    </a:lnTo>
                    <a:lnTo>
                      <a:pt x="27" y="373"/>
                    </a:lnTo>
                    <a:lnTo>
                      <a:pt x="30" y="338"/>
                    </a:lnTo>
                    <a:lnTo>
                      <a:pt x="39" y="303"/>
                    </a:lnTo>
                    <a:lnTo>
                      <a:pt x="50" y="274"/>
                    </a:lnTo>
                    <a:lnTo>
                      <a:pt x="60" y="247"/>
                    </a:lnTo>
                    <a:lnTo>
                      <a:pt x="62" y="229"/>
                    </a:lnTo>
                    <a:lnTo>
                      <a:pt x="55" y="187"/>
                    </a:lnTo>
                    <a:lnTo>
                      <a:pt x="45" y="148"/>
                    </a:lnTo>
                    <a:lnTo>
                      <a:pt x="30" y="97"/>
                    </a:lnTo>
                    <a:lnTo>
                      <a:pt x="22" y="64"/>
                    </a:lnTo>
                    <a:lnTo>
                      <a:pt x="15" y="4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2435400" y="4114800"/>
              <a:ext cx="98244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 Narrow"/>
                </a:rPr>
                <a:t>Err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607000" y="3765600"/>
            <a:ext cx="914400" cy="53820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19600" y="5203800"/>
            <a:ext cx="2030400" cy="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67120" y="2413080"/>
            <a:ext cx="1709640" cy="1528560"/>
            <a:chOff x="3867120" y="2413080"/>
            <a:chExt cx="1709640" cy="1528560"/>
          </a:xfrm>
        </p:grpSpPr>
        <p:grpSp>
          <p:nvGrpSpPr>
            <p:cNvPr id="263" name=""/>
            <p:cNvGrpSpPr/>
            <p:nvPr/>
          </p:nvGrpSpPr>
          <p:grpSpPr>
            <a:xfrm>
              <a:off x="3867120" y="2565360"/>
              <a:ext cx="957240" cy="1376280"/>
              <a:chOff x="3867120" y="2565360"/>
              <a:chExt cx="957240" cy="1376280"/>
            </a:xfrm>
          </p:grpSpPr>
          <p:sp>
            <p:nvSpPr>
              <p:cNvPr id="264" name=""/>
              <p:cNvSpPr/>
              <p:nvPr/>
            </p:nvSpPr>
            <p:spPr>
              <a:xfrm>
                <a:off x="4200480" y="2565360"/>
                <a:ext cx="214200" cy="345960"/>
              </a:xfrm>
              <a:custGeom>
                <a:avLst/>
                <a:gdLst/>
                <a:ahLst/>
                <a:rect l="l" t="t" r="r" b="b"/>
                <a:pathLst>
                  <a:path w="537" h="654">
                    <a:moveTo>
                      <a:pt x="138" y="302"/>
                    </a:moveTo>
                    <a:lnTo>
                      <a:pt x="179" y="171"/>
                    </a:lnTo>
                    <a:lnTo>
                      <a:pt x="248" y="66"/>
                    </a:lnTo>
                    <a:lnTo>
                      <a:pt x="317" y="13"/>
                    </a:lnTo>
                    <a:lnTo>
                      <a:pt x="399" y="0"/>
                    </a:lnTo>
                    <a:lnTo>
                      <a:pt x="455" y="13"/>
                    </a:lnTo>
                    <a:lnTo>
                      <a:pt x="524" y="53"/>
                    </a:lnTo>
                    <a:lnTo>
                      <a:pt x="537" y="144"/>
                    </a:lnTo>
                    <a:lnTo>
                      <a:pt x="537" y="275"/>
                    </a:lnTo>
                    <a:lnTo>
                      <a:pt x="482" y="418"/>
                    </a:lnTo>
                    <a:lnTo>
                      <a:pt x="399" y="511"/>
                    </a:lnTo>
                    <a:lnTo>
                      <a:pt x="359" y="563"/>
                    </a:lnTo>
                    <a:lnTo>
                      <a:pt x="290" y="602"/>
                    </a:lnTo>
                    <a:lnTo>
                      <a:pt x="234" y="589"/>
                    </a:lnTo>
                    <a:lnTo>
                      <a:pt x="193" y="576"/>
                    </a:lnTo>
                    <a:lnTo>
                      <a:pt x="151" y="536"/>
                    </a:lnTo>
                    <a:lnTo>
                      <a:pt x="27" y="654"/>
                    </a:lnTo>
                    <a:lnTo>
                      <a:pt x="0" y="576"/>
                    </a:lnTo>
                    <a:lnTo>
                      <a:pt x="124" y="458"/>
                    </a:lnTo>
                    <a:lnTo>
                      <a:pt x="138" y="302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55920" y="2917800"/>
                <a:ext cx="136800" cy="463680"/>
              </a:xfrm>
              <a:custGeom>
                <a:avLst/>
                <a:gdLst/>
                <a:ahLst/>
                <a:rect l="l" t="t" r="r" b="b"/>
                <a:pathLst>
                  <a:path w="345" h="876">
                    <a:moveTo>
                      <a:pt x="111" y="26"/>
                    </a:moveTo>
                    <a:lnTo>
                      <a:pt x="180" y="0"/>
                    </a:lnTo>
                    <a:lnTo>
                      <a:pt x="262" y="26"/>
                    </a:lnTo>
                    <a:lnTo>
                      <a:pt x="318" y="118"/>
                    </a:lnTo>
                    <a:lnTo>
                      <a:pt x="345" y="262"/>
                    </a:lnTo>
                    <a:lnTo>
                      <a:pt x="345" y="483"/>
                    </a:lnTo>
                    <a:lnTo>
                      <a:pt x="303" y="654"/>
                    </a:lnTo>
                    <a:lnTo>
                      <a:pt x="262" y="785"/>
                    </a:lnTo>
                    <a:lnTo>
                      <a:pt x="151" y="876"/>
                    </a:lnTo>
                    <a:lnTo>
                      <a:pt x="55" y="863"/>
                    </a:lnTo>
                    <a:lnTo>
                      <a:pt x="0" y="745"/>
                    </a:lnTo>
                    <a:lnTo>
                      <a:pt x="42" y="614"/>
                    </a:lnTo>
                    <a:lnTo>
                      <a:pt x="82" y="496"/>
                    </a:lnTo>
                    <a:lnTo>
                      <a:pt x="96" y="380"/>
                    </a:lnTo>
                    <a:lnTo>
                      <a:pt x="82" y="222"/>
                    </a:lnTo>
                    <a:lnTo>
                      <a:pt x="82" y="78"/>
                    </a:lnTo>
                    <a:lnTo>
                      <a:pt x="111" y="2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67120" y="2924280"/>
                <a:ext cx="442800" cy="353880"/>
              </a:xfrm>
              <a:custGeom>
                <a:avLst/>
                <a:gdLst/>
                <a:ahLst/>
                <a:rect l="l" t="t" r="r" b="b"/>
                <a:pathLst>
                  <a:path w="1117" h="667">
                    <a:moveTo>
                      <a:pt x="910" y="104"/>
                    </a:moveTo>
                    <a:lnTo>
                      <a:pt x="992" y="26"/>
                    </a:lnTo>
                    <a:lnTo>
                      <a:pt x="1061" y="0"/>
                    </a:lnTo>
                    <a:lnTo>
                      <a:pt x="1103" y="13"/>
                    </a:lnTo>
                    <a:lnTo>
                      <a:pt x="1117" y="64"/>
                    </a:lnTo>
                    <a:lnTo>
                      <a:pt x="1103" y="117"/>
                    </a:lnTo>
                    <a:lnTo>
                      <a:pt x="1075" y="130"/>
                    </a:lnTo>
                    <a:lnTo>
                      <a:pt x="938" y="209"/>
                    </a:lnTo>
                    <a:lnTo>
                      <a:pt x="800" y="300"/>
                    </a:lnTo>
                    <a:lnTo>
                      <a:pt x="689" y="365"/>
                    </a:lnTo>
                    <a:lnTo>
                      <a:pt x="551" y="418"/>
                    </a:lnTo>
                    <a:lnTo>
                      <a:pt x="386" y="470"/>
                    </a:lnTo>
                    <a:lnTo>
                      <a:pt x="359" y="496"/>
                    </a:lnTo>
                    <a:lnTo>
                      <a:pt x="399" y="640"/>
                    </a:lnTo>
                    <a:lnTo>
                      <a:pt x="372" y="640"/>
                    </a:lnTo>
                    <a:lnTo>
                      <a:pt x="317" y="536"/>
                    </a:lnTo>
                    <a:lnTo>
                      <a:pt x="290" y="536"/>
                    </a:lnTo>
                    <a:lnTo>
                      <a:pt x="221" y="667"/>
                    </a:lnTo>
                    <a:lnTo>
                      <a:pt x="179" y="667"/>
                    </a:lnTo>
                    <a:lnTo>
                      <a:pt x="234" y="536"/>
                    </a:lnTo>
                    <a:lnTo>
                      <a:pt x="221" y="496"/>
                    </a:lnTo>
                    <a:lnTo>
                      <a:pt x="0" y="509"/>
                    </a:lnTo>
                    <a:lnTo>
                      <a:pt x="0" y="470"/>
                    </a:lnTo>
                    <a:lnTo>
                      <a:pt x="207" y="444"/>
                    </a:lnTo>
                    <a:lnTo>
                      <a:pt x="221" y="418"/>
                    </a:lnTo>
                    <a:lnTo>
                      <a:pt x="110" y="340"/>
                    </a:lnTo>
                    <a:lnTo>
                      <a:pt x="152" y="326"/>
                    </a:lnTo>
                    <a:lnTo>
                      <a:pt x="290" y="391"/>
                    </a:lnTo>
                    <a:lnTo>
                      <a:pt x="372" y="391"/>
                    </a:lnTo>
                    <a:lnTo>
                      <a:pt x="510" y="378"/>
                    </a:lnTo>
                    <a:lnTo>
                      <a:pt x="593" y="340"/>
                    </a:lnTo>
                    <a:lnTo>
                      <a:pt x="731" y="274"/>
                    </a:lnTo>
                    <a:lnTo>
                      <a:pt x="841" y="169"/>
                    </a:lnTo>
                    <a:lnTo>
                      <a:pt x="910" y="10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32240" y="2786040"/>
                <a:ext cx="492120" cy="193680"/>
              </a:xfrm>
              <a:custGeom>
                <a:avLst/>
                <a:gdLst/>
                <a:ahLst/>
                <a:rect l="l" t="t" r="r" b="b"/>
                <a:pathLst>
                  <a:path w="1241" h="367">
                    <a:moveTo>
                      <a:pt x="0" y="289"/>
                    </a:moveTo>
                    <a:lnTo>
                      <a:pt x="15" y="236"/>
                    </a:lnTo>
                    <a:lnTo>
                      <a:pt x="194" y="171"/>
                    </a:lnTo>
                    <a:lnTo>
                      <a:pt x="387" y="105"/>
                    </a:lnTo>
                    <a:lnTo>
                      <a:pt x="690" y="66"/>
                    </a:lnTo>
                    <a:lnTo>
                      <a:pt x="966" y="79"/>
                    </a:lnTo>
                    <a:lnTo>
                      <a:pt x="1063" y="79"/>
                    </a:lnTo>
                    <a:lnTo>
                      <a:pt x="1214" y="0"/>
                    </a:lnTo>
                    <a:lnTo>
                      <a:pt x="1241" y="26"/>
                    </a:lnTo>
                    <a:lnTo>
                      <a:pt x="1104" y="131"/>
                    </a:lnTo>
                    <a:lnTo>
                      <a:pt x="993" y="236"/>
                    </a:lnTo>
                    <a:lnTo>
                      <a:pt x="924" y="341"/>
                    </a:lnTo>
                    <a:lnTo>
                      <a:pt x="884" y="302"/>
                    </a:lnTo>
                    <a:lnTo>
                      <a:pt x="897" y="236"/>
                    </a:lnTo>
                    <a:lnTo>
                      <a:pt x="911" y="158"/>
                    </a:lnTo>
                    <a:lnTo>
                      <a:pt x="842" y="144"/>
                    </a:lnTo>
                    <a:lnTo>
                      <a:pt x="690" y="131"/>
                    </a:lnTo>
                    <a:lnTo>
                      <a:pt x="566" y="131"/>
                    </a:lnTo>
                    <a:lnTo>
                      <a:pt x="373" y="184"/>
                    </a:lnTo>
                    <a:lnTo>
                      <a:pt x="180" y="289"/>
                    </a:lnTo>
                    <a:lnTo>
                      <a:pt x="0" y="367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82920" y="3255840"/>
                <a:ext cx="147960" cy="622440"/>
              </a:xfrm>
              <a:custGeom>
                <a:avLst/>
                <a:gdLst/>
                <a:ahLst/>
                <a:rect l="l" t="t" r="r" b="b"/>
                <a:pathLst>
                  <a:path w="374" h="1176">
                    <a:moveTo>
                      <a:pt x="111" y="0"/>
                    </a:moveTo>
                    <a:lnTo>
                      <a:pt x="180" y="26"/>
                    </a:lnTo>
                    <a:lnTo>
                      <a:pt x="236" y="156"/>
                    </a:lnTo>
                    <a:lnTo>
                      <a:pt x="264" y="300"/>
                    </a:lnTo>
                    <a:lnTo>
                      <a:pt x="278" y="496"/>
                    </a:lnTo>
                    <a:lnTo>
                      <a:pt x="222" y="705"/>
                    </a:lnTo>
                    <a:lnTo>
                      <a:pt x="140" y="887"/>
                    </a:lnTo>
                    <a:lnTo>
                      <a:pt x="153" y="953"/>
                    </a:lnTo>
                    <a:lnTo>
                      <a:pt x="347" y="1045"/>
                    </a:lnTo>
                    <a:lnTo>
                      <a:pt x="374" y="1096"/>
                    </a:lnTo>
                    <a:lnTo>
                      <a:pt x="264" y="1176"/>
                    </a:lnTo>
                    <a:lnTo>
                      <a:pt x="209" y="1136"/>
                    </a:lnTo>
                    <a:lnTo>
                      <a:pt x="98" y="1018"/>
                    </a:lnTo>
                    <a:lnTo>
                      <a:pt x="0" y="953"/>
                    </a:lnTo>
                    <a:lnTo>
                      <a:pt x="0" y="914"/>
                    </a:lnTo>
                    <a:lnTo>
                      <a:pt x="56" y="836"/>
                    </a:lnTo>
                    <a:lnTo>
                      <a:pt x="140" y="718"/>
                    </a:lnTo>
                    <a:lnTo>
                      <a:pt x="195" y="535"/>
                    </a:lnTo>
                    <a:lnTo>
                      <a:pt x="195" y="300"/>
                    </a:lnTo>
                    <a:lnTo>
                      <a:pt x="153" y="169"/>
                    </a:lnTo>
                    <a:lnTo>
                      <a:pt x="98" y="104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06880" y="3263760"/>
                <a:ext cx="198360" cy="677880"/>
              </a:xfrm>
              <a:custGeom>
                <a:avLst/>
                <a:gdLst/>
                <a:ahLst/>
                <a:rect l="l" t="t" r="r" b="b"/>
                <a:pathLst>
                  <a:path w="498" h="1281">
                    <a:moveTo>
                      <a:pt x="263" y="156"/>
                    </a:moveTo>
                    <a:lnTo>
                      <a:pt x="318" y="38"/>
                    </a:lnTo>
                    <a:lnTo>
                      <a:pt x="456" y="0"/>
                    </a:lnTo>
                    <a:lnTo>
                      <a:pt x="498" y="64"/>
                    </a:lnTo>
                    <a:lnTo>
                      <a:pt x="401" y="169"/>
                    </a:lnTo>
                    <a:lnTo>
                      <a:pt x="345" y="235"/>
                    </a:lnTo>
                    <a:lnTo>
                      <a:pt x="332" y="365"/>
                    </a:lnTo>
                    <a:lnTo>
                      <a:pt x="305" y="587"/>
                    </a:lnTo>
                    <a:lnTo>
                      <a:pt x="318" y="874"/>
                    </a:lnTo>
                    <a:lnTo>
                      <a:pt x="332" y="1005"/>
                    </a:lnTo>
                    <a:lnTo>
                      <a:pt x="360" y="1058"/>
                    </a:lnTo>
                    <a:lnTo>
                      <a:pt x="345" y="1110"/>
                    </a:lnTo>
                    <a:lnTo>
                      <a:pt x="249" y="1150"/>
                    </a:lnTo>
                    <a:lnTo>
                      <a:pt x="98" y="1281"/>
                    </a:lnTo>
                    <a:lnTo>
                      <a:pt x="42" y="1281"/>
                    </a:lnTo>
                    <a:lnTo>
                      <a:pt x="0" y="1176"/>
                    </a:lnTo>
                    <a:lnTo>
                      <a:pt x="98" y="1110"/>
                    </a:lnTo>
                    <a:lnTo>
                      <a:pt x="222" y="1071"/>
                    </a:lnTo>
                    <a:lnTo>
                      <a:pt x="276" y="1045"/>
                    </a:lnTo>
                    <a:lnTo>
                      <a:pt x="263" y="927"/>
                    </a:lnTo>
                    <a:lnTo>
                      <a:pt x="236" y="665"/>
                    </a:lnTo>
                    <a:lnTo>
                      <a:pt x="222" y="444"/>
                    </a:lnTo>
                    <a:lnTo>
                      <a:pt x="236" y="260"/>
                    </a:lnTo>
                    <a:lnTo>
                      <a:pt x="263" y="15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557600" y="2413080"/>
              <a:ext cx="1019160" cy="1458720"/>
              <a:chOff x="4557600" y="2413080"/>
              <a:chExt cx="1019160" cy="1458720"/>
            </a:xfrm>
          </p:grpSpPr>
          <p:sp>
            <p:nvSpPr>
              <p:cNvPr id="271" name=""/>
              <p:cNvSpPr/>
              <p:nvPr/>
            </p:nvSpPr>
            <p:spPr>
              <a:xfrm>
                <a:off x="4557600" y="2413080"/>
                <a:ext cx="1019160" cy="1458720"/>
              </a:xfrm>
              <a:custGeom>
                <a:avLst/>
                <a:gdLst/>
                <a:ahLst/>
                <a:rect l="l" t="t" r="r" b="b"/>
                <a:pathLst>
                  <a:path w="2567" h="2757">
                    <a:moveTo>
                      <a:pt x="898" y="510"/>
                    </a:moveTo>
                    <a:lnTo>
                      <a:pt x="746" y="641"/>
                    </a:lnTo>
                    <a:lnTo>
                      <a:pt x="566" y="772"/>
                    </a:lnTo>
                    <a:lnTo>
                      <a:pt x="374" y="981"/>
                    </a:lnTo>
                    <a:lnTo>
                      <a:pt x="167" y="1255"/>
                    </a:lnTo>
                    <a:lnTo>
                      <a:pt x="56" y="1490"/>
                    </a:lnTo>
                    <a:lnTo>
                      <a:pt x="0" y="1673"/>
                    </a:lnTo>
                    <a:lnTo>
                      <a:pt x="0" y="1790"/>
                    </a:lnTo>
                    <a:lnTo>
                      <a:pt x="15" y="2039"/>
                    </a:lnTo>
                    <a:lnTo>
                      <a:pt x="56" y="2222"/>
                    </a:lnTo>
                    <a:lnTo>
                      <a:pt x="167" y="2339"/>
                    </a:lnTo>
                    <a:lnTo>
                      <a:pt x="387" y="2484"/>
                    </a:lnTo>
                    <a:lnTo>
                      <a:pt x="595" y="2575"/>
                    </a:lnTo>
                    <a:lnTo>
                      <a:pt x="856" y="2666"/>
                    </a:lnTo>
                    <a:lnTo>
                      <a:pt x="1008" y="2718"/>
                    </a:lnTo>
                    <a:lnTo>
                      <a:pt x="1270" y="2757"/>
                    </a:lnTo>
                    <a:lnTo>
                      <a:pt x="1669" y="2718"/>
                    </a:lnTo>
                    <a:lnTo>
                      <a:pt x="2015" y="2627"/>
                    </a:lnTo>
                    <a:lnTo>
                      <a:pt x="2235" y="2496"/>
                    </a:lnTo>
                    <a:lnTo>
                      <a:pt x="2373" y="2353"/>
                    </a:lnTo>
                    <a:lnTo>
                      <a:pt x="2456" y="2209"/>
                    </a:lnTo>
                    <a:lnTo>
                      <a:pt x="2538" y="2026"/>
                    </a:lnTo>
                    <a:lnTo>
                      <a:pt x="2567" y="1817"/>
                    </a:lnTo>
                    <a:lnTo>
                      <a:pt x="2567" y="1530"/>
                    </a:lnTo>
                    <a:lnTo>
                      <a:pt x="2511" y="1346"/>
                    </a:lnTo>
                    <a:lnTo>
                      <a:pt x="2400" y="1150"/>
                    </a:lnTo>
                    <a:lnTo>
                      <a:pt x="2249" y="968"/>
                    </a:lnTo>
                    <a:lnTo>
                      <a:pt x="2084" y="823"/>
                    </a:lnTo>
                    <a:lnTo>
                      <a:pt x="1918" y="706"/>
                    </a:lnTo>
                    <a:lnTo>
                      <a:pt x="1683" y="601"/>
                    </a:lnTo>
                    <a:lnTo>
                      <a:pt x="1669" y="536"/>
                    </a:lnTo>
                    <a:lnTo>
                      <a:pt x="1877" y="327"/>
                    </a:lnTo>
                    <a:lnTo>
                      <a:pt x="1890" y="196"/>
                    </a:lnTo>
                    <a:lnTo>
                      <a:pt x="1656" y="327"/>
                    </a:lnTo>
                    <a:lnTo>
                      <a:pt x="1738" y="92"/>
                    </a:lnTo>
                    <a:lnTo>
                      <a:pt x="1711" y="79"/>
                    </a:lnTo>
                    <a:lnTo>
                      <a:pt x="1629" y="79"/>
                    </a:lnTo>
                    <a:lnTo>
                      <a:pt x="1491" y="236"/>
                    </a:lnTo>
                    <a:lnTo>
                      <a:pt x="1408" y="327"/>
                    </a:lnTo>
                    <a:lnTo>
                      <a:pt x="1435" y="157"/>
                    </a:lnTo>
                    <a:lnTo>
                      <a:pt x="1491" y="27"/>
                    </a:lnTo>
                    <a:lnTo>
                      <a:pt x="1449" y="0"/>
                    </a:lnTo>
                    <a:lnTo>
                      <a:pt x="1353" y="79"/>
                    </a:lnTo>
                    <a:lnTo>
                      <a:pt x="1256" y="274"/>
                    </a:lnTo>
                    <a:lnTo>
                      <a:pt x="1215" y="170"/>
                    </a:lnTo>
                    <a:lnTo>
                      <a:pt x="1132" y="131"/>
                    </a:lnTo>
                    <a:lnTo>
                      <a:pt x="1077" y="261"/>
                    </a:lnTo>
                    <a:lnTo>
                      <a:pt x="1063" y="340"/>
                    </a:lnTo>
                    <a:lnTo>
                      <a:pt x="911" y="157"/>
                    </a:lnTo>
                    <a:lnTo>
                      <a:pt x="718" y="14"/>
                    </a:lnTo>
                    <a:lnTo>
                      <a:pt x="664" y="40"/>
                    </a:lnTo>
                    <a:lnTo>
                      <a:pt x="649" y="118"/>
                    </a:lnTo>
                    <a:lnTo>
                      <a:pt x="718" y="236"/>
                    </a:lnTo>
                    <a:lnTo>
                      <a:pt x="800" y="379"/>
                    </a:lnTo>
                    <a:lnTo>
                      <a:pt x="1008" y="628"/>
                    </a:lnTo>
                    <a:lnTo>
                      <a:pt x="980" y="679"/>
                    </a:lnTo>
                    <a:lnTo>
                      <a:pt x="938" y="706"/>
                    </a:lnTo>
                    <a:lnTo>
                      <a:pt x="967" y="758"/>
                    </a:lnTo>
                    <a:lnTo>
                      <a:pt x="1146" y="823"/>
                    </a:lnTo>
                    <a:lnTo>
                      <a:pt x="1435" y="823"/>
                    </a:lnTo>
                    <a:lnTo>
                      <a:pt x="1683" y="797"/>
                    </a:lnTo>
                    <a:lnTo>
                      <a:pt x="1767" y="719"/>
                    </a:lnTo>
                    <a:lnTo>
                      <a:pt x="1711" y="693"/>
                    </a:lnTo>
                    <a:lnTo>
                      <a:pt x="1656" y="732"/>
                    </a:lnTo>
                    <a:lnTo>
                      <a:pt x="1504" y="745"/>
                    </a:lnTo>
                    <a:lnTo>
                      <a:pt x="1353" y="772"/>
                    </a:lnTo>
                    <a:lnTo>
                      <a:pt x="1187" y="745"/>
                    </a:lnTo>
                    <a:lnTo>
                      <a:pt x="1435" y="719"/>
                    </a:lnTo>
                    <a:lnTo>
                      <a:pt x="1600" y="667"/>
                    </a:lnTo>
                    <a:lnTo>
                      <a:pt x="1629" y="641"/>
                    </a:lnTo>
                    <a:lnTo>
                      <a:pt x="1560" y="614"/>
                    </a:lnTo>
                    <a:lnTo>
                      <a:pt x="1477" y="654"/>
                    </a:lnTo>
                    <a:lnTo>
                      <a:pt x="1284" y="679"/>
                    </a:lnTo>
                    <a:lnTo>
                      <a:pt x="1146" y="667"/>
                    </a:lnTo>
                    <a:lnTo>
                      <a:pt x="1077" y="641"/>
                    </a:lnTo>
                    <a:lnTo>
                      <a:pt x="1105" y="576"/>
                    </a:lnTo>
                    <a:lnTo>
                      <a:pt x="980" y="484"/>
                    </a:lnTo>
                    <a:lnTo>
                      <a:pt x="856" y="367"/>
                    </a:lnTo>
                    <a:lnTo>
                      <a:pt x="787" y="249"/>
                    </a:lnTo>
                    <a:lnTo>
                      <a:pt x="760" y="170"/>
                    </a:lnTo>
                    <a:lnTo>
                      <a:pt x="760" y="145"/>
                    </a:lnTo>
                    <a:lnTo>
                      <a:pt x="787" y="145"/>
                    </a:lnTo>
                    <a:lnTo>
                      <a:pt x="856" y="196"/>
                    </a:lnTo>
                    <a:lnTo>
                      <a:pt x="952" y="314"/>
                    </a:lnTo>
                    <a:lnTo>
                      <a:pt x="1077" y="458"/>
                    </a:lnTo>
                    <a:lnTo>
                      <a:pt x="1105" y="497"/>
                    </a:lnTo>
                    <a:lnTo>
                      <a:pt x="1159" y="470"/>
                    </a:lnTo>
                    <a:lnTo>
                      <a:pt x="1132" y="392"/>
                    </a:lnTo>
                    <a:lnTo>
                      <a:pt x="1146" y="340"/>
                    </a:lnTo>
                    <a:lnTo>
                      <a:pt x="1159" y="274"/>
                    </a:lnTo>
                    <a:lnTo>
                      <a:pt x="1187" y="274"/>
                    </a:lnTo>
                    <a:lnTo>
                      <a:pt x="1215" y="354"/>
                    </a:lnTo>
                    <a:lnTo>
                      <a:pt x="1228" y="405"/>
                    </a:lnTo>
                    <a:lnTo>
                      <a:pt x="1270" y="419"/>
                    </a:lnTo>
                    <a:lnTo>
                      <a:pt x="1326" y="301"/>
                    </a:lnTo>
                    <a:lnTo>
                      <a:pt x="1353" y="261"/>
                    </a:lnTo>
                    <a:lnTo>
                      <a:pt x="1366" y="327"/>
                    </a:lnTo>
                    <a:lnTo>
                      <a:pt x="1366" y="432"/>
                    </a:lnTo>
                    <a:lnTo>
                      <a:pt x="1408" y="458"/>
                    </a:lnTo>
                    <a:lnTo>
                      <a:pt x="1477" y="367"/>
                    </a:lnTo>
                    <a:lnTo>
                      <a:pt x="1546" y="249"/>
                    </a:lnTo>
                    <a:lnTo>
                      <a:pt x="1615" y="223"/>
                    </a:lnTo>
                    <a:lnTo>
                      <a:pt x="1615" y="236"/>
                    </a:lnTo>
                    <a:lnTo>
                      <a:pt x="1573" y="314"/>
                    </a:lnTo>
                    <a:lnTo>
                      <a:pt x="1531" y="432"/>
                    </a:lnTo>
                    <a:lnTo>
                      <a:pt x="1573" y="445"/>
                    </a:lnTo>
                    <a:lnTo>
                      <a:pt x="1794" y="301"/>
                    </a:lnTo>
                    <a:lnTo>
                      <a:pt x="1821" y="301"/>
                    </a:lnTo>
                    <a:lnTo>
                      <a:pt x="1615" y="497"/>
                    </a:lnTo>
                    <a:lnTo>
                      <a:pt x="1573" y="536"/>
                    </a:lnTo>
                    <a:lnTo>
                      <a:pt x="1560" y="601"/>
                    </a:lnTo>
                    <a:lnTo>
                      <a:pt x="1600" y="628"/>
                    </a:lnTo>
                    <a:lnTo>
                      <a:pt x="1725" y="679"/>
                    </a:lnTo>
                    <a:lnTo>
                      <a:pt x="1932" y="785"/>
                    </a:lnTo>
                    <a:lnTo>
                      <a:pt x="2070" y="888"/>
                    </a:lnTo>
                    <a:lnTo>
                      <a:pt x="2235" y="1046"/>
                    </a:lnTo>
                    <a:lnTo>
                      <a:pt x="2360" y="1215"/>
                    </a:lnTo>
                    <a:lnTo>
                      <a:pt x="2442" y="1399"/>
                    </a:lnTo>
                    <a:lnTo>
                      <a:pt x="2498" y="1634"/>
                    </a:lnTo>
                    <a:lnTo>
                      <a:pt x="2483" y="1804"/>
                    </a:lnTo>
                    <a:lnTo>
                      <a:pt x="2469" y="1986"/>
                    </a:lnTo>
                    <a:lnTo>
                      <a:pt x="2387" y="2182"/>
                    </a:lnTo>
                    <a:lnTo>
                      <a:pt x="2304" y="2326"/>
                    </a:lnTo>
                    <a:lnTo>
                      <a:pt x="2208" y="2404"/>
                    </a:lnTo>
                    <a:lnTo>
                      <a:pt x="2097" y="2509"/>
                    </a:lnTo>
                    <a:lnTo>
                      <a:pt x="1890" y="2588"/>
                    </a:lnTo>
                    <a:lnTo>
                      <a:pt x="1642" y="2653"/>
                    </a:lnTo>
                    <a:lnTo>
                      <a:pt x="1518" y="2666"/>
                    </a:lnTo>
                    <a:lnTo>
                      <a:pt x="1284" y="2666"/>
                    </a:lnTo>
                    <a:lnTo>
                      <a:pt x="1063" y="2640"/>
                    </a:lnTo>
                    <a:lnTo>
                      <a:pt x="800" y="2575"/>
                    </a:lnTo>
                    <a:lnTo>
                      <a:pt x="553" y="2470"/>
                    </a:lnTo>
                    <a:lnTo>
                      <a:pt x="359" y="2366"/>
                    </a:lnTo>
                    <a:lnTo>
                      <a:pt x="194" y="2248"/>
                    </a:lnTo>
                    <a:lnTo>
                      <a:pt x="125" y="2157"/>
                    </a:lnTo>
                    <a:lnTo>
                      <a:pt x="111" y="2064"/>
                    </a:lnTo>
                    <a:lnTo>
                      <a:pt x="84" y="1790"/>
                    </a:lnTo>
                    <a:lnTo>
                      <a:pt x="98" y="1608"/>
                    </a:lnTo>
                    <a:lnTo>
                      <a:pt x="180" y="1412"/>
                    </a:lnTo>
                    <a:lnTo>
                      <a:pt x="290" y="1190"/>
                    </a:lnTo>
                    <a:lnTo>
                      <a:pt x="484" y="994"/>
                    </a:lnTo>
                    <a:lnTo>
                      <a:pt x="664" y="772"/>
                    </a:lnTo>
                    <a:lnTo>
                      <a:pt x="829" y="654"/>
                    </a:lnTo>
                    <a:lnTo>
                      <a:pt x="925" y="576"/>
                    </a:lnTo>
                    <a:lnTo>
                      <a:pt x="898" y="5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957920" y="2987640"/>
                <a:ext cx="207720" cy="449280"/>
              </a:xfrm>
              <a:custGeom>
                <a:avLst/>
                <a:gdLst/>
                <a:ahLst/>
                <a:rect l="l" t="t" r="r" b="b"/>
                <a:pathLst>
                  <a:path w="524" h="849">
                    <a:moveTo>
                      <a:pt x="317" y="156"/>
                    </a:moveTo>
                    <a:lnTo>
                      <a:pt x="413" y="169"/>
                    </a:lnTo>
                    <a:lnTo>
                      <a:pt x="495" y="235"/>
                    </a:lnTo>
                    <a:lnTo>
                      <a:pt x="524" y="300"/>
                    </a:lnTo>
                    <a:lnTo>
                      <a:pt x="426" y="326"/>
                    </a:lnTo>
                    <a:lnTo>
                      <a:pt x="371" y="273"/>
                    </a:lnTo>
                    <a:lnTo>
                      <a:pt x="303" y="247"/>
                    </a:lnTo>
                    <a:lnTo>
                      <a:pt x="234" y="235"/>
                    </a:lnTo>
                    <a:lnTo>
                      <a:pt x="123" y="260"/>
                    </a:lnTo>
                    <a:lnTo>
                      <a:pt x="96" y="326"/>
                    </a:lnTo>
                    <a:lnTo>
                      <a:pt x="151" y="378"/>
                    </a:lnTo>
                    <a:lnTo>
                      <a:pt x="288" y="417"/>
                    </a:lnTo>
                    <a:lnTo>
                      <a:pt x="426" y="417"/>
                    </a:lnTo>
                    <a:lnTo>
                      <a:pt x="468" y="456"/>
                    </a:lnTo>
                    <a:lnTo>
                      <a:pt x="495" y="522"/>
                    </a:lnTo>
                    <a:lnTo>
                      <a:pt x="482" y="600"/>
                    </a:lnTo>
                    <a:lnTo>
                      <a:pt x="399" y="653"/>
                    </a:lnTo>
                    <a:lnTo>
                      <a:pt x="303" y="653"/>
                    </a:lnTo>
                    <a:lnTo>
                      <a:pt x="234" y="653"/>
                    </a:lnTo>
                    <a:lnTo>
                      <a:pt x="206" y="718"/>
                    </a:lnTo>
                    <a:lnTo>
                      <a:pt x="219" y="835"/>
                    </a:lnTo>
                    <a:lnTo>
                      <a:pt x="123" y="849"/>
                    </a:lnTo>
                    <a:lnTo>
                      <a:pt x="109" y="757"/>
                    </a:lnTo>
                    <a:lnTo>
                      <a:pt x="137" y="653"/>
                    </a:lnTo>
                    <a:lnTo>
                      <a:pt x="54" y="613"/>
                    </a:lnTo>
                    <a:lnTo>
                      <a:pt x="0" y="574"/>
                    </a:lnTo>
                    <a:lnTo>
                      <a:pt x="82" y="496"/>
                    </a:lnTo>
                    <a:lnTo>
                      <a:pt x="123" y="548"/>
                    </a:lnTo>
                    <a:lnTo>
                      <a:pt x="192" y="560"/>
                    </a:lnTo>
                    <a:lnTo>
                      <a:pt x="288" y="574"/>
                    </a:lnTo>
                    <a:lnTo>
                      <a:pt x="371" y="574"/>
                    </a:lnTo>
                    <a:lnTo>
                      <a:pt x="413" y="560"/>
                    </a:lnTo>
                    <a:lnTo>
                      <a:pt x="386" y="509"/>
                    </a:lnTo>
                    <a:lnTo>
                      <a:pt x="317" y="496"/>
                    </a:lnTo>
                    <a:lnTo>
                      <a:pt x="192" y="469"/>
                    </a:lnTo>
                    <a:lnTo>
                      <a:pt x="68" y="431"/>
                    </a:lnTo>
                    <a:lnTo>
                      <a:pt x="27" y="365"/>
                    </a:lnTo>
                    <a:lnTo>
                      <a:pt x="13" y="287"/>
                    </a:lnTo>
                    <a:lnTo>
                      <a:pt x="82" y="208"/>
                    </a:lnTo>
                    <a:lnTo>
                      <a:pt x="178" y="143"/>
                    </a:lnTo>
                    <a:lnTo>
                      <a:pt x="247" y="143"/>
                    </a:lnTo>
                    <a:lnTo>
                      <a:pt x="275" y="0"/>
                    </a:lnTo>
                    <a:lnTo>
                      <a:pt x="357" y="13"/>
                    </a:lnTo>
                    <a:lnTo>
                      <a:pt x="317" y="1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65680" y="2965320"/>
                <a:ext cx="88920" cy="160560"/>
              </a:xfrm>
              <a:custGeom>
                <a:avLst/>
                <a:gdLst/>
                <a:ahLst/>
                <a:rect l="l" t="t" r="r" b="b"/>
                <a:pathLst>
                  <a:path w="220" h="301">
                    <a:moveTo>
                      <a:pt x="0" y="236"/>
                    </a:moveTo>
                    <a:lnTo>
                      <a:pt x="96" y="78"/>
                    </a:lnTo>
                    <a:lnTo>
                      <a:pt x="220" y="0"/>
                    </a:lnTo>
                    <a:lnTo>
                      <a:pt x="220" y="40"/>
                    </a:lnTo>
                    <a:lnTo>
                      <a:pt x="136" y="131"/>
                    </a:lnTo>
                    <a:lnTo>
                      <a:pt x="40" y="301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351400" y="3367080"/>
                <a:ext cx="55800" cy="111240"/>
              </a:xfrm>
              <a:custGeom>
                <a:avLst/>
                <a:gdLst/>
                <a:ahLst/>
                <a:rect l="l" t="t" r="r" b="b"/>
                <a:pathLst>
                  <a:path w="138" h="209">
                    <a:moveTo>
                      <a:pt x="138" y="0"/>
                    </a:moveTo>
                    <a:lnTo>
                      <a:pt x="42" y="130"/>
                    </a:lnTo>
                    <a:lnTo>
                      <a:pt x="0" y="182"/>
                    </a:lnTo>
                    <a:lnTo>
                      <a:pt x="55" y="209"/>
                    </a:lnTo>
                    <a:lnTo>
                      <a:pt x="96" y="182"/>
                    </a:lnTo>
                    <a:lnTo>
                      <a:pt x="138" y="91"/>
                    </a:lnTo>
                    <a:lnTo>
                      <a:pt x="138" y="51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6099120" y="4083120"/>
            <a:ext cx="1437840" cy="2307600"/>
            <a:chOff x="6099120" y="4083120"/>
            <a:chExt cx="1437840" cy="2307600"/>
          </a:xfrm>
        </p:grpSpPr>
        <p:grpSp>
          <p:nvGrpSpPr>
            <p:cNvPr id="276" name=""/>
            <p:cNvGrpSpPr/>
            <p:nvPr/>
          </p:nvGrpSpPr>
          <p:grpSpPr>
            <a:xfrm>
              <a:off x="6278040" y="4083120"/>
              <a:ext cx="1173240" cy="2307600"/>
              <a:chOff x="6278040" y="4083120"/>
              <a:chExt cx="1173240" cy="230760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6838560" y="4083120"/>
                <a:ext cx="612720" cy="2307600"/>
                <a:chOff x="6838560" y="4083120"/>
                <a:chExt cx="612720" cy="2307600"/>
              </a:xfrm>
            </p:grpSpPr>
            <p:sp>
              <p:nvSpPr>
                <p:cNvPr id="278" name=""/>
                <p:cNvSpPr/>
                <p:nvPr/>
              </p:nvSpPr>
              <p:spPr>
                <a:xfrm flipH="1">
                  <a:off x="6849360" y="4083120"/>
                  <a:ext cx="314280" cy="429840"/>
                </a:xfrm>
                <a:custGeom>
                  <a:avLst/>
                  <a:gdLst/>
                  <a:ahLst/>
                  <a:rect l="l" t="t" r="r" b="b"/>
                  <a:pathLst>
                    <a:path w="396" h="690">
                      <a:moveTo>
                        <a:pt x="158" y="690"/>
                      </a:moveTo>
                      <a:lnTo>
                        <a:pt x="114" y="690"/>
                      </a:lnTo>
                      <a:lnTo>
                        <a:pt x="50" y="670"/>
                      </a:lnTo>
                      <a:lnTo>
                        <a:pt x="21" y="589"/>
                      </a:lnTo>
                      <a:lnTo>
                        <a:pt x="0" y="471"/>
                      </a:lnTo>
                      <a:lnTo>
                        <a:pt x="0" y="308"/>
                      </a:lnTo>
                      <a:lnTo>
                        <a:pt x="21" y="126"/>
                      </a:lnTo>
                      <a:lnTo>
                        <a:pt x="64" y="45"/>
                      </a:lnTo>
                      <a:lnTo>
                        <a:pt x="137" y="0"/>
                      </a:lnTo>
                      <a:lnTo>
                        <a:pt x="215" y="0"/>
                      </a:lnTo>
                      <a:lnTo>
                        <a:pt x="266" y="72"/>
                      </a:lnTo>
                      <a:lnTo>
                        <a:pt x="295" y="172"/>
                      </a:lnTo>
                      <a:lnTo>
                        <a:pt x="295" y="271"/>
                      </a:lnTo>
                      <a:lnTo>
                        <a:pt x="288" y="389"/>
                      </a:lnTo>
                      <a:lnTo>
                        <a:pt x="396" y="525"/>
                      </a:lnTo>
                      <a:lnTo>
                        <a:pt x="396" y="571"/>
                      </a:lnTo>
                      <a:lnTo>
                        <a:pt x="366" y="571"/>
                      </a:lnTo>
                      <a:lnTo>
                        <a:pt x="295" y="480"/>
                      </a:lnTo>
                      <a:lnTo>
                        <a:pt x="274" y="480"/>
                      </a:lnTo>
                      <a:lnTo>
                        <a:pt x="237" y="571"/>
                      </a:lnTo>
                      <a:lnTo>
                        <a:pt x="201" y="643"/>
                      </a:lnTo>
                      <a:lnTo>
                        <a:pt x="158" y="690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6958800" y="4529880"/>
                  <a:ext cx="320760" cy="955800"/>
                </a:xfrm>
                <a:custGeom>
                  <a:avLst/>
                  <a:gdLst/>
                  <a:ahLst/>
                  <a:rect l="l" t="t" r="r" b="b"/>
                  <a:pathLst>
                    <a:path w="403" h="1534">
                      <a:moveTo>
                        <a:pt x="108" y="271"/>
                      </a:moveTo>
                      <a:lnTo>
                        <a:pt x="138" y="122"/>
                      </a:lnTo>
                      <a:lnTo>
                        <a:pt x="181" y="27"/>
                      </a:lnTo>
                      <a:lnTo>
                        <a:pt x="231" y="0"/>
                      </a:lnTo>
                      <a:lnTo>
                        <a:pt x="296" y="9"/>
                      </a:lnTo>
                      <a:lnTo>
                        <a:pt x="332" y="72"/>
                      </a:lnTo>
                      <a:lnTo>
                        <a:pt x="382" y="282"/>
                      </a:lnTo>
                      <a:lnTo>
                        <a:pt x="396" y="508"/>
                      </a:lnTo>
                      <a:lnTo>
                        <a:pt x="403" y="825"/>
                      </a:lnTo>
                      <a:lnTo>
                        <a:pt x="403" y="1034"/>
                      </a:lnTo>
                      <a:lnTo>
                        <a:pt x="375" y="1306"/>
                      </a:lnTo>
                      <a:lnTo>
                        <a:pt x="296" y="1460"/>
                      </a:lnTo>
                      <a:lnTo>
                        <a:pt x="202" y="1534"/>
                      </a:lnTo>
                      <a:lnTo>
                        <a:pt x="115" y="1534"/>
                      </a:lnTo>
                      <a:lnTo>
                        <a:pt x="37" y="1505"/>
                      </a:lnTo>
                      <a:lnTo>
                        <a:pt x="0" y="1360"/>
                      </a:lnTo>
                      <a:lnTo>
                        <a:pt x="0" y="1215"/>
                      </a:lnTo>
                      <a:lnTo>
                        <a:pt x="37" y="961"/>
                      </a:lnTo>
                      <a:lnTo>
                        <a:pt x="80" y="898"/>
                      </a:lnTo>
                      <a:lnTo>
                        <a:pt x="101" y="735"/>
                      </a:lnTo>
                      <a:lnTo>
                        <a:pt x="101" y="490"/>
                      </a:lnTo>
                      <a:lnTo>
                        <a:pt x="108" y="271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6838200" y="5310000"/>
                  <a:ext cx="338040" cy="1005840"/>
                </a:xfrm>
                <a:custGeom>
                  <a:avLst/>
                  <a:gdLst/>
                  <a:ahLst/>
                  <a:rect l="l" t="t" r="r" b="b"/>
                  <a:pathLst>
                    <a:path w="425" h="1615">
                      <a:moveTo>
                        <a:pt x="28" y="0"/>
                      </a:moveTo>
                      <a:lnTo>
                        <a:pt x="115" y="64"/>
                      </a:lnTo>
                      <a:lnTo>
                        <a:pt x="144" y="164"/>
                      </a:lnTo>
                      <a:lnTo>
                        <a:pt x="173" y="426"/>
                      </a:lnTo>
                      <a:lnTo>
                        <a:pt x="173" y="680"/>
                      </a:lnTo>
                      <a:lnTo>
                        <a:pt x="158" y="953"/>
                      </a:lnTo>
                      <a:lnTo>
                        <a:pt x="115" y="1198"/>
                      </a:lnTo>
                      <a:lnTo>
                        <a:pt x="79" y="1361"/>
                      </a:lnTo>
                      <a:lnTo>
                        <a:pt x="79" y="1451"/>
                      </a:lnTo>
                      <a:lnTo>
                        <a:pt x="115" y="1470"/>
                      </a:lnTo>
                      <a:lnTo>
                        <a:pt x="188" y="1460"/>
                      </a:lnTo>
                      <a:lnTo>
                        <a:pt x="289" y="1460"/>
                      </a:lnTo>
                      <a:lnTo>
                        <a:pt x="404" y="1506"/>
                      </a:lnTo>
                      <a:lnTo>
                        <a:pt x="425" y="1542"/>
                      </a:lnTo>
                      <a:lnTo>
                        <a:pt x="404" y="1587"/>
                      </a:lnTo>
                      <a:lnTo>
                        <a:pt x="353" y="1615"/>
                      </a:lnTo>
                      <a:lnTo>
                        <a:pt x="303" y="1569"/>
                      </a:lnTo>
                      <a:lnTo>
                        <a:pt x="238" y="1551"/>
                      </a:lnTo>
                      <a:lnTo>
                        <a:pt x="151" y="1542"/>
                      </a:lnTo>
                      <a:lnTo>
                        <a:pt x="72" y="1542"/>
                      </a:lnTo>
                      <a:lnTo>
                        <a:pt x="28" y="1551"/>
                      </a:lnTo>
                      <a:lnTo>
                        <a:pt x="0" y="1524"/>
                      </a:lnTo>
                      <a:lnTo>
                        <a:pt x="7" y="1488"/>
                      </a:lnTo>
                      <a:lnTo>
                        <a:pt x="14" y="1379"/>
                      </a:lnTo>
                      <a:lnTo>
                        <a:pt x="28" y="1279"/>
                      </a:lnTo>
                      <a:lnTo>
                        <a:pt x="72" y="1116"/>
                      </a:lnTo>
                      <a:lnTo>
                        <a:pt x="101" y="908"/>
                      </a:lnTo>
                      <a:lnTo>
                        <a:pt x="108" y="716"/>
                      </a:lnTo>
                      <a:lnTo>
                        <a:pt x="101" y="473"/>
                      </a:lnTo>
                      <a:lnTo>
                        <a:pt x="65" y="301"/>
                      </a:lnTo>
                      <a:lnTo>
                        <a:pt x="14" y="209"/>
                      </a:lnTo>
                      <a:lnTo>
                        <a:pt x="0" y="127"/>
                      </a:lnTo>
                      <a:lnTo>
                        <a:pt x="14" y="55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7136640" y="5304240"/>
                  <a:ext cx="314280" cy="1086480"/>
                </a:xfrm>
                <a:custGeom>
                  <a:avLst/>
                  <a:gdLst/>
                  <a:ahLst/>
                  <a:rect l="l" t="t" r="r" b="b"/>
                  <a:pathLst>
                    <a:path w="396" h="1742">
                      <a:moveTo>
                        <a:pt x="251" y="45"/>
                      </a:moveTo>
                      <a:lnTo>
                        <a:pt x="309" y="0"/>
                      </a:lnTo>
                      <a:lnTo>
                        <a:pt x="359" y="27"/>
                      </a:lnTo>
                      <a:lnTo>
                        <a:pt x="396" y="101"/>
                      </a:lnTo>
                      <a:lnTo>
                        <a:pt x="387" y="335"/>
                      </a:lnTo>
                      <a:lnTo>
                        <a:pt x="359" y="654"/>
                      </a:lnTo>
                      <a:lnTo>
                        <a:pt x="309" y="971"/>
                      </a:lnTo>
                      <a:lnTo>
                        <a:pt x="244" y="1170"/>
                      </a:lnTo>
                      <a:lnTo>
                        <a:pt x="194" y="1351"/>
                      </a:lnTo>
                      <a:lnTo>
                        <a:pt x="144" y="1415"/>
                      </a:lnTo>
                      <a:lnTo>
                        <a:pt x="151" y="1451"/>
                      </a:lnTo>
                      <a:lnTo>
                        <a:pt x="151" y="1478"/>
                      </a:lnTo>
                      <a:lnTo>
                        <a:pt x="208" y="1534"/>
                      </a:lnTo>
                      <a:lnTo>
                        <a:pt x="295" y="1587"/>
                      </a:lnTo>
                      <a:lnTo>
                        <a:pt x="359" y="1679"/>
                      </a:lnTo>
                      <a:lnTo>
                        <a:pt x="359" y="1715"/>
                      </a:lnTo>
                      <a:lnTo>
                        <a:pt x="309" y="1742"/>
                      </a:lnTo>
                      <a:lnTo>
                        <a:pt x="251" y="1742"/>
                      </a:lnTo>
                      <a:lnTo>
                        <a:pt x="229" y="1697"/>
                      </a:lnTo>
                      <a:lnTo>
                        <a:pt x="201" y="1632"/>
                      </a:lnTo>
                      <a:lnTo>
                        <a:pt x="144" y="1578"/>
                      </a:lnTo>
                      <a:lnTo>
                        <a:pt x="78" y="1525"/>
                      </a:lnTo>
                      <a:lnTo>
                        <a:pt x="35" y="1496"/>
                      </a:lnTo>
                      <a:lnTo>
                        <a:pt x="0" y="1469"/>
                      </a:lnTo>
                      <a:lnTo>
                        <a:pt x="0" y="1424"/>
                      </a:lnTo>
                      <a:lnTo>
                        <a:pt x="35" y="1380"/>
                      </a:lnTo>
                      <a:lnTo>
                        <a:pt x="107" y="1342"/>
                      </a:lnTo>
                      <a:lnTo>
                        <a:pt x="151" y="1270"/>
                      </a:lnTo>
                      <a:lnTo>
                        <a:pt x="194" y="1134"/>
                      </a:lnTo>
                      <a:lnTo>
                        <a:pt x="236" y="989"/>
                      </a:lnTo>
                      <a:lnTo>
                        <a:pt x="266" y="862"/>
                      </a:lnTo>
                      <a:lnTo>
                        <a:pt x="280" y="663"/>
                      </a:lnTo>
                      <a:lnTo>
                        <a:pt x="273" y="454"/>
                      </a:lnTo>
                      <a:lnTo>
                        <a:pt x="266" y="282"/>
                      </a:lnTo>
                      <a:lnTo>
                        <a:pt x="244" y="137"/>
                      </a:lnTo>
                      <a:lnTo>
                        <a:pt x="251" y="45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 flipH="1">
                <a:off x="6278040" y="4574880"/>
                <a:ext cx="768240" cy="645120"/>
              </a:xfrm>
              <a:custGeom>
                <a:avLst/>
                <a:gdLst/>
                <a:ahLst/>
                <a:rect l="l" t="t" r="r" b="b"/>
                <a:pathLst>
                  <a:path w="967" h="1033">
                    <a:moveTo>
                      <a:pt x="22" y="0"/>
                    </a:moveTo>
                    <a:lnTo>
                      <a:pt x="0" y="45"/>
                    </a:lnTo>
                    <a:lnTo>
                      <a:pt x="0" y="125"/>
                    </a:lnTo>
                    <a:lnTo>
                      <a:pt x="22" y="262"/>
                    </a:lnTo>
                    <a:lnTo>
                      <a:pt x="138" y="444"/>
                    </a:lnTo>
                    <a:lnTo>
                      <a:pt x="239" y="616"/>
                    </a:lnTo>
                    <a:lnTo>
                      <a:pt x="317" y="697"/>
                    </a:lnTo>
                    <a:lnTo>
                      <a:pt x="383" y="752"/>
                    </a:lnTo>
                    <a:lnTo>
                      <a:pt x="578" y="833"/>
                    </a:lnTo>
                    <a:lnTo>
                      <a:pt x="766" y="860"/>
                    </a:lnTo>
                    <a:lnTo>
                      <a:pt x="823" y="906"/>
                    </a:lnTo>
                    <a:lnTo>
                      <a:pt x="858" y="1033"/>
                    </a:lnTo>
                    <a:lnTo>
                      <a:pt x="881" y="1033"/>
                    </a:lnTo>
                    <a:lnTo>
                      <a:pt x="858" y="906"/>
                    </a:lnTo>
                    <a:lnTo>
                      <a:pt x="867" y="888"/>
                    </a:lnTo>
                    <a:lnTo>
                      <a:pt x="931" y="969"/>
                    </a:lnTo>
                    <a:lnTo>
                      <a:pt x="938" y="960"/>
                    </a:lnTo>
                    <a:lnTo>
                      <a:pt x="888" y="869"/>
                    </a:lnTo>
                    <a:lnTo>
                      <a:pt x="902" y="860"/>
                    </a:lnTo>
                    <a:lnTo>
                      <a:pt x="959" y="878"/>
                    </a:lnTo>
                    <a:lnTo>
                      <a:pt x="967" y="860"/>
                    </a:lnTo>
                    <a:lnTo>
                      <a:pt x="967" y="851"/>
                    </a:lnTo>
                    <a:lnTo>
                      <a:pt x="867" y="842"/>
                    </a:lnTo>
                    <a:lnTo>
                      <a:pt x="867" y="833"/>
                    </a:lnTo>
                    <a:lnTo>
                      <a:pt x="910" y="761"/>
                    </a:lnTo>
                    <a:lnTo>
                      <a:pt x="902" y="743"/>
                    </a:lnTo>
                    <a:lnTo>
                      <a:pt x="881" y="743"/>
                    </a:lnTo>
                    <a:lnTo>
                      <a:pt x="844" y="815"/>
                    </a:lnTo>
                    <a:lnTo>
                      <a:pt x="787" y="815"/>
                    </a:lnTo>
                    <a:lnTo>
                      <a:pt x="606" y="779"/>
                    </a:lnTo>
                    <a:lnTo>
                      <a:pt x="462" y="715"/>
                    </a:lnTo>
                    <a:lnTo>
                      <a:pt x="361" y="625"/>
                    </a:lnTo>
                    <a:lnTo>
                      <a:pt x="246" y="444"/>
                    </a:lnTo>
                    <a:lnTo>
                      <a:pt x="152" y="253"/>
                    </a:lnTo>
                    <a:lnTo>
                      <a:pt x="116" y="72"/>
                    </a:lnTo>
                    <a:lnTo>
                      <a:pt x="65" y="9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099120" y="4394160"/>
              <a:ext cx="1207800" cy="1201320"/>
              <a:chOff x="6099120" y="4394160"/>
              <a:chExt cx="1207800" cy="1201320"/>
            </a:xfrm>
          </p:grpSpPr>
          <p:sp>
            <p:nvSpPr>
              <p:cNvPr id="284" name=""/>
              <p:cNvSpPr/>
              <p:nvPr/>
            </p:nvSpPr>
            <p:spPr>
              <a:xfrm>
                <a:off x="6111000" y="4408920"/>
                <a:ext cx="1190160" cy="117324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25840" y="4620960"/>
                <a:ext cx="696960" cy="48600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6099120" y="4394160"/>
                <a:ext cx="1207800" cy="1201320"/>
                <a:chOff x="6099120" y="4394160"/>
                <a:chExt cx="1207800" cy="12013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109920" y="5000400"/>
                  <a:ext cx="1197000" cy="59508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330960" y="5202720"/>
                  <a:ext cx="618480" cy="12996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235200" y="5422320"/>
                  <a:ext cx="64800" cy="5184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355080" y="5416200"/>
                  <a:ext cx="64800" cy="5184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747840" y="5399640"/>
                  <a:ext cx="262440" cy="6048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099120" y="4394160"/>
                  <a:ext cx="1107000" cy="80100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173280" y="4408920"/>
                  <a:ext cx="952920" cy="79848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279480" y="4609800"/>
                  <a:ext cx="657720" cy="51084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212520" y="4617360"/>
                  <a:ext cx="653760" cy="49716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" name=""/>
            <p:cNvSpPr/>
            <p:nvPr/>
          </p:nvSpPr>
          <p:spPr>
            <a:xfrm flipH="1">
              <a:off x="7119360" y="4556160"/>
              <a:ext cx="417240" cy="566640"/>
            </a:xfrm>
            <a:custGeom>
              <a:avLst/>
              <a:gdLst/>
              <a:ahLst/>
              <a:rect l="l" t="t" r="r" b="b"/>
              <a:pathLst>
                <a:path w="525" h="908">
                  <a:moveTo>
                    <a:pt x="353" y="91"/>
                  </a:moveTo>
                  <a:lnTo>
                    <a:pt x="410" y="37"/>
                  </a:lnTo>
                  <a:lnTo>
                    <a:pt x="468" y="0"/>
                  </a:lnTo>
                  <a:lnTo>
                    <a:pt x="504" y="0"/>
                  </a:lnTo>
                  <a:lnTo>
                    <a:pt x="525" y="91"/>
                  </a:lnTo>
                  <a:lnTo>
                    <a:pt x="489" y="200"/>
                  </a:lnTo>
                  <a:lnTo>
                    <a:pt x="453" y="254"/>
                  </a:lnTo>
                  <a:lnTo>
                    <a:pt x="353" y="283"/>
                  </a:lnTo>
                  <a:lnTo>
                    <a:pt x="266" y="363"/>
                  </a:lnTo>
                  <a:lnTo>
                    <a:pt x="165" y="437"/>
                  </a:lnTo>
                  <a:lnTo>
                    <a:pt x="108" y="499"/>
                  </a:lnTo>
                  <a:lnTo>
                    <a:pt x="143" y="546"/>
                  </a:lnTo>
                  <a:lnTo>
                    <a:pt x="252" y="645"/>
                  </a:lnTo>
                  <a:lnTo>
                    <a:pt x="353" y="691"/>
                  </a:lnTo>
                  <a:lnTo>
                    <a:pt x="445" y="754"/>
                  </a:lnTo>
                  <a:lnTo>
                    <a:pt x="518" y="836"/>
                  </a:lnTo>
                  <a:lnTo>
                    <a:pt x="511" y="872"/>
                  </a:lnTo>
                  <a:lnTo>
                    <a:pt x="489" y="908"/>
                  </a:lnTo>
                  <a:lnTo>
                    <a:pt x="410" y="908"/>
                  </a:lnTo>
                  <a:lnTo>
                    <a:pt x="338" y="908"/>
                  </a:lnTo>
                  <a:lnTo>
                    <a:pt x="316" y="845"/>
                  </a:lnTo>
                  <a:lnTo>
                    <a:pt x="331" y="809"/>
                  </a:lnTo>
                  <a:lnTo>
                    <a:pt x="331" y="763"/>
                  </a:lnTo>
                  <a:lnTo>
                    <a:pt x="259" y="718"/>
                  </a:lnTo>
                  <a:lnTo>
                    <a:pt x="158" y="664"/>
                  </a:lnTo>
                  <a:lnTo>
                    <a:pt x="57" y="573"/>
                  </a:lnTo>
                  <a:lnTo>
                    <a:pt x="0" y="499"/>
                  </a:lnTo>
                  <a:lnTo>
                    <a:pt x="0" y="446"/>
                  </a:lnTo>
                  <a:lnTo>
                    <a:pt x="49" y="392"/>
                  </a:lnTo>
                  <a:lnTo>
                    <a:pt x="179" y="265"/>
                  </a:lnTo>
                  <a:lnTo>
                    <a:pt x="273" y="182"/>
                  </a:lnTo>
                  <a:lnTo>
                    <a:pt x="353" y="91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517760" y="3782880"/>
            <a:ext cx="2287080" cy="2519640"/>
            <a:chOff x="1517760" y="3782880"/>
            <a:chExt cx="2287080" cy="2519640"/>
          </a:xfrm>
        </p:grpSpPr>
        <p:grpSp>
          <p:nvGrpSpPr>
            <p:cNvPr id="298" name=""/>
            <p:cNvGrpSpPr/>
            <p:nvPr/>
          </p:nvGrpSpPr>
          <p:grpSpPr>
            <a:xfrm>
              <a:off x="2170080" y="4400640"/>
              <a:ext cx="192240" cy="253800"/>
              <a:chOff x="2170080" y="4400640"/>
              <a:chExt cx="192240" cy="253800"/>
            </a:xfrm>
          </p:grpSpPr>
          <p:sp>
            <p:nvSpPr>
              <p:cNvPr id="299" name=""/>
              <p:cNvSpPr/>
              <p:nvPr/>
            </p:nvSpPr>
            <p:spPr>
              <a:xfrm>
                <a:off x="2187720" y="4400640"/>
                <a:ext cx="174600" cy="201600"/>
              </a:xfrm>
              <a:custGeom>
                <a:avLst/>
                <a:gdLst/>
                <a:ahLst/>
                <a:rect l="l" t="t" r="r" b="b"/>
                <a:pathLst>
                  <a:path w="110" h="127">
                    <a:moveTo>
                      <a:pt x="18" y="5"/>
                    </a:moveTo>
                    <a:lnTo>
                      <a:pt x="39" y="0"/>
                    </a:lnTo>
                    <a:lnTo>
                      <a:pt x="71" y="3"/>
                    </a:lnTo>
                    <a:lnTo>
                      <a:pt x="94" y="16"/>
                    </a:lnTo>
                    <a:lnTo>
                      <a:pt x="106" y="34"/>
                    </a:lnTo>
                    <a:lnTo>
                      <a:pt x="110" y="54"/>
                    </a:lnTo>
                    <a:lnTo>
                      <a:pt x="107" y="73"/>
                    </a:lnTo>
                    <a:lnTo>
                      <a:pt x="99" y="86"/>
                    </a:lnTo>
                    <a:lnTo>
                      <a:pt x="87" y="96"/>
                    </a:lnTo>
                    <a:lnTo>
                      <a:pt x="57" y="100"/>
                    </a:lnTo>
                    <a:lnTo>
                      <a:pt x="29" y="106"/>
                    </a:lnTo>
                    <a:lnTo>
                      <a:pt x="24" y="117"/>
                    </a:lnTo>
                    <a:lnTo>
                      <a:pt x="21" y="126"/>
                    </a:lnTo>
                    <a:lnTo>
                      <a:pt x="7" y="127"/>
                    </a:lnTo>
                    <a:lnTo>
                      <a:pt x="0" y="116"/>
                    </a:lnTo>
                    <a:lnTo>
                      <a:pt x="4" y="99"/>
                    </a:lnTo>
                    <a:lnTo>
                      <a:pt x="16" y="89"/>
                    </a:lnTo>
                    <a:lnTo>
                      <a:pt x="38" y="83"/>
                    </a:lnTo>
                    <a:lnTo>
                      <a:pt x="67" y="80"/>
                    </a:lnTo>
                    <a:lnTo>
                      <a:pt x="81" y="76"/>
                    </a:lnTo>
                    <a:lnTo>
                      <a:pt x="89" y="67"/>
                    </a:lnTo>
                    <a:lnTo>
                      <a:pt x="94" y="54"/>
                    </a:lnTo>
                    <a:lnTo>
                      <a:pt x="91" y="41"/>
                    </a:lnTo>
                    <a:lnTo>
                      <a:pt x="80" y="29"/>
                    </a:lnTo>
                    <a:lnTo>
                      <a:pt x="61" y="24"/>
                    </a:lnTo>
                    <a:lnTo>
                      <a:pt x="38" y="21"/>
                    </a:lnTo>
                    <a:lnTo>
                      <a:pt x="25" y="24"/>
                    </a:lnTo>
                    <a:lnTo>
                      <a:pt x="16" y="19"/>
                    </a:lnTo>
                    <a:lnTo>
                      <a:pt x="13" y="1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70080" y="46227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3" y="0"/>
                    </a:moveTo>
                    <a:lnTo>
                      <a:pt x="17" y="0"/>
                    </a:lnTo>
                    <a:lnTo>
                      <a:pt x="24" y="6"/>
                    </a:lnTo>
                    <a:lnTo>
                      <a:pt x="24" y="13"/>
                    </a:lnTo>
                    <a:lnTo>
                      <a:pt x="16" y="20"/>
                    </a:lnTo>
                    <a:lnTo>
                      <a:pt x="4" y="17"/>
                    </a:lnTo>
                    <a:lnTo>
                      <a:pt x="0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2397240" y="3801960"/>
              <a:ext cx="1401480" cy="1501920"/>
            </a:xfrm>
            <a:custGeom>
              <a:avLst/>
              <a:gdLst/>
              <a:ahLst/>
              <a:rect l="l" t="t" r="r" b="b"/>
              <a:pathLst>
                <a:path w="883" h="946">
                  <a:moveTo>
                    <a:pt x="166" y="632"/>
                  </a:moveTo>
                  <a:lnTo>
                    <a:pt x="98" y="693"/>
                  </a:lnTo>
                  <a:lnTo>
                    <a:pt x="13" y="767"/>
                  </a:lnTo>
                  <a:lnTo>
                    <a:pt x="13" y="830"/>
                  </a:lnTo>
                  <a:lnTo>
                    <a:pt x="27" y="946"/>
                  </a:lnTo>
                  <a:lnTo>
                    <a:pt x="170" y="941"/>
                  </a:lnTo>
                  <a:lnTo>
                    <a:pt x="330" y="924"/>
                  </a:lnTo>
                  <a:lnTo>
                    <a:pt x="568" y="919"/>
                  </a:lnTo>
                  <a:lnTo>
                    <a:pt x="747" y="924"/>
                  </a:lnTo>
                  <a:lnTo>
                    <a:pt x="809" y="809"/>
                  </a:lnTo>
                  <a:lnTo>
                    <a:pt x="883" y="585"/>
                  </a:lnTo>
                  <a:lnTo>
                    <a:pt x="869" y="517"/>
                  </a:lnTo>
                  <a:lnTo>
                    <a:pt x="842" y="490"/>
                  </a:lnTo>
                  <a:lnTo>
                    <a:pt x="762" y="495"/>
                  </a:lnTo>
                  <a:lnTo>
                    <a:pt x="799" y="325"/>
                  </a:lnTo>
                  <a:lnTo>
                    <a:pt x="804" y="272"/>
                  </a:lnTo>
                  <a:lnTo>
                    <a:pt x="785" y="140"/>
                  </a:lnTo>
                  <a:lnTo>
                    <a:pt x="766" y="42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43" y="11"/>
                  </a:lnTo>
                  <a:lnTo>
                    <a:pt x="539" y="16"/>
                  </a:lnTo>
                  <a:lnTo>
                    <a:pt x="471" y="6"/>
                  </a:lnTo>
                  <a:lnTo>
                    <a:pt x="397" y="2"/>
                  </a:lnTo>
                  <a:lnTo>
                    <a:pt x="369" y="9"/>
                  </a:lnTo>
                  <a:lnTo>
                    <a:pt x="306" y="38"/>
                  </a:lnTo>
                  <a:lnTo>
                    <a:pt x="213" y="63"/>
                  </a:lnTo>
                  <a:lnTo>
                    <a:pt x="95" y="104"/>
                  </a:lnTo>
                  <a:lnTo>
                    <a:pt x="50" y="130"/>
                  </a:lnTo>
                  <a:lnTo>
                    <a:pt x="9" y="174"/>
                  </a:lnTo>
                  <a:lnTo>
                    <a:pt x="0" y="239"/>
                  </a:lnTo>
                  <a:lnTo>
                    <a:pt x="0" y="347"/>
                  </a:lnTo>
                  <a:lnTo>
                    <a:pt x="5" y="475"/>
                  </a:lnTo>
                  <a:lnTo>
                    <a:pt x="14" y="550"/>
                  </a:lnTo>
                  <a:lnTo>
                    <a:pt x="32" y="594"/>
                  </a:lnTo>
                  <a:lnTo>
                    <a:pt x="60" y="616"/>
                  </a:lnTo>
                  <a:lnTo>
                    <a:pt x="93" y="625"/>
                  </a:lnTo>
                  <a:lnTo>
                    <a:pt x="166" y="63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32240" y="4073400"/>
              <a:ext cx="820440" cy="622440"/>
            </a:xfrm>
            <a:custGeom>
              <a:avLst/>
              <a:gdLst/>
              <a:ahLst/>
              <a:rect l="l" t="t" r="r" b="b"/>
              <a:pathLst>
                <a:path w="517" h="392">
                  <a:moveTo>
                    <a:pt x="3" y="107"/>
                  </a:moveTo>
                  <a:lnTo>
                    <a:pt x="8" y="35"/>
                  </a:lnTo>
                  <a:lnTo>
                    <a:pt x="19" y="14"/>
                  </a:lnTo>
                  <a:lnTo>
                    <a:pt x="51" y="6"/>
                  </a:lnTo>
                  <a:lnTo>
                    <a:pt x="179" y="2"/>
                  </a:lnTo>
                  <a:lnTo>
                    <a:pt x="336" y="0"/>
                  </a:lnTo>
                  <a:lnTo>
                    <a:pt x="428" y="2"/>
                  </a:lnTo>
                  <a:lnTo>
                    <a:pt x="450" y="16"/>
                  </a:lnTo>
                  <a:lnTo>
                    <a:pt x="466" y="43"/>
                  </a:lnTo>
                  <a:lnTo>
                    <a:pt x="490" y="159"/>
                  </a:lnTo>
                  <a:lnTo>
                    <a:pt x="512" y="287"/>
                  </a:lnTo>
                  <a:lnTo>
                    <a:pt x="517" y="368"/>
                  </a:lnTo>
                  <a:lnTo>
                    <a:pt x="509" y="382"/>
                  </a:lnTo>
                  <a:lnTo>
                    <a:pt x="481" y="392"/>
                  </a:lnTo>
                  <a:lnTo>
                    <a:pt x="346" y="389"/>
                  </a:lnTo>
                  <a:lnTo>
                    <a:pt x="138" y="379"/>
                  </a:lnTo>
                  <a:lnTo>
                    <a:pt x="36" y="370"/>
                  </a:lnTo>
                  <a:lnTo>
                    <a:pt x="19" y="349"/>
                  </a:lnTo>
                  <a:lnTo>
                    <a:pt x="10" y="308"/>
                  </a:lnTo>
                  <a:lnTo>
                    <a:pt x="0" y="207"/>
                  </a:lnTo>
                  <a:lnTo>
                    <a:pt x="3" y="107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2382840" y="3782880"/>
              <a:ext cx="1422000" cy="1538280"/>
              <a:chOff x="2382840" y="3782880"/>
              <a:chExt cx="1422000" cy="1538280"/>
            </a:xfrm>
          </p:grpSpPr>
          <p:sp>
            <p:nvSpPr>
              <p:cNvPr id="304" name=""/>
              <p:cNvSpPr/>
              <p:nvPr/>
            </p:nvSpPr>
            <p:spPr>
              <a:xfrm>
                <a:off x="2395440" y="4559040"/>
                <a:ext cx="1409400" cy="762120"/>
              </a:xfrm>
              <a:custGeom>
                <a:avLst/>
                <a:gdLst/>
                <a:ahLst/>
                <a:rect l="l" t="t" r="r" b="b"/>
                <a:pathLst>
                  <a:path w="888" h="480">
                    <a:moveTo>
                      <a:pt x="0" y="290"/>
                    </a:moveTo>
                    <a:lnTo>
                      <a:pt x="110" y="195"/>
                    </a:lnTo>
                    <a:lnTo>
                      <a:pt x="113" y="217"/>
                    </a:lnTo>
                    <a:lnTo>
                      <a:pt x="38" y="285"/>
                    </a:lnTo>
                    <a:lnTo>
                      <a:pt x="170" y="279"/>
                    </a:lnTo>
                    <a:lnTo>
                      <a:pt x="449" y="280"/>
                    </a:lnTo>
                    <a:lnTo>
                      <a:pt x="597" y="269"/>
                    </a:lnTo>
                    <a:lnTo>
                      <a:pt x="690" y="252"/>
                    </a:lnTo>
                    <a:lnTo>
                      <a:pt x="713" y="246"/>
                    </a:lnTo>
                    <a:lnTo>
                      <a:pt x="822" y="27"/>
                    </a:lnTo>
                    <a:lnTo>
                      <a:pt x="771" y="13"/>
                    </a:lnTo>
                    <a:lnTo>
                      <a:pt x="847" y="0"/>
                    </a:lnTo>
                    <a:lnTo>
                      <a:pt x="875" y="24"/>
                    </a:lnTo>
                    <a:lnTo>
                      <a:pt x="888" y="105"/>
                    </a:lnTo>
                    <a:lnTo>
                      <a:pt x="866" y="171"/>
                    </a:lnTo>
                    <a:lnTo>
                      <a:pt x="795" y="385"/>
                    </a:lnTo>
                    <a:lnTo>
                      <a:pt x="762" y="451"/>
                    </a:lnTo>
                    <a:lnTo>
                      <a:pt x="732" y="459"/>
                    </a:lnTo>
                    <a:lnTo>
                      <a:pt x="507" y="455"/>
                    </a:lnTo>
                    <a:lnTo>
                      <a:pt x="271" y="461"/>
                    </a:lnTo>
                    <a:lnTo>
                      <a:pt x="47" y="478"/>
                    </a:lnTo>
                    <a:lnTo>
                      <a:pt x="14" y="480"/>
                    </a:lnTo>
                    <a:lnTo>
                      <a:pt x="11" y="417"/>
                    </a:lnTo>
                    <a:lnTo>
                      <a:pt x="6" y="355"/>
                    </a:lnTo>
                    <a:lnTo>
                      <a:pt x="5" y="322"/>
                    </a:lnTo>
                    <a:lnTo>
                      <a:pt x="24" y="342"/>
                    </a:lnTo>
                    <a:lnTo>
                      <a:pt x="28" y="393"/>
                    </a:lnTo>
                    <a:lnTo>
                      <a:pt x="35" y="447"/>
                    </a:lnTo>
                    <a:lnTo>
                      <a:pt x="99" y="456"/>
                    </a:lnTo>
                    <a:lnTo>
                      <a:pt x="246" y="442"/>
                    </a:lnTo>
                    <a:lnTo>
                      <a:pt x="370" y="432"/>
                    </a:lnTo>
                    <a:lnTo>
                      <a:pt x="474" y="432"/>
                    </a:lnTo>
                    <a:lnTo>
                      <a:pt x="630" y="432"/>
                    </a:lnTo>
                    <a:lnTo>
                      <a:pt x="729" y="431"/>
                    </a:lnTo>
                    <a:lnTo>
                      <a:pt x="732" y="402"/>
                    </a:lnTo>
                    <a:lnTo>
                      <a:pt x="723" y="341"/>
                    </a:lnTo>
                    <a:lnTo>
                      <a:pt x="715" y="274"/>
                    </a:lnTo>
                    <a:lnTo>
                      <a:pt x="729" y="290"/>
                    </a:lnTo>
                    <a:lnTo>
                      <a:pt x="743" y="364"/>
                    </a:lnTo>
                    <a:lnTo>
                      <a:pt x="756" y="402"/>
                    </a:lnTo>
                    <a:lnTo>
                      <a:pt x="771" y="383"/>
                    </a:lnTo>
                    <a:lnTo>
                      <a:pt x="798" y="309"/>
                    </a:lnTo>
                    <a:lnTo>
                      <a:pt x="838" y="204"/>
                    </a:lnTo>
                    <a:lnTo>
                      <a:pt x="866" y="119"/>
                    </a:lnTo>
                    <a:lnTo>
                      <a:pt x="871" y="93"/>
                    </a:lnTo>
                    <a:lnTo>
                      <a:pt x="857" y="33"/>
                    </a:lnTo>
                    <a:lnTo>
                      <a:pt x="842" y="29"/>
                    </a:lnTo>
                    <a:lnTo>
                      <a:pt x="812" y="100"/>
                    </a:lnTo>
                    <a:lnTo>
                      <a:pt x="760" y="193"/>
                    </a:lnTo>
                    <a:lnTo>
                      <a:pt x="723" y="265"/>
                    </a:lnTo>
                    <a:lnTo>
                      <a:pt x="685" y="276"/>
                    </a:lnTo>
                    <a:lnTo>
                      <a:pt x="549" y="293"/>
                    </a:lnTo>
                    <a:lnTo>
                      <a:pt x="389" y="303"/>
                    </a:lnTo>
                    <a:lnTo>
                      <a:pt x="231" y="303"/>
                    </a:lnTo>
                    <a:lnTo>
                      <a:pt x="52" y="30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55720" y="4817880"/>
                <a:ext cx="728280" cy="166680"/>
              </a:xfrm>
              <a:custGeom>
                <a:avLst/>
                <a:gdLst/>
                <a:ahLst/>
                <a:rect l="l" t="t" r="r" b="b"/>
                <a:pathLst>
                  <a:path w="459" h="105">
                    <a:moveTo>
                      <a:pt x="11" y="19"/>
                    </a:moveTo>
                    <a:lnTo>
                      <a:pt x="43" y="0"/>
                    </a:lnTo>
                    <a:lnTo>
                      <a:pt x="59" y="5"/>
                    </a:lnTo>
                    <a:lnTo>
                      <a:pt x="49" y="29"/>
                    </a:lnTo>
                    <a:lnTo>
                      <a:pt x="25" y="44"/>
                    </a:lnTo>
                    <a:lnTo>
                      <a:pt x="71" y="66"/>
                    </a:lnTo>
                    <a:lnTo>
                      <a:pt x="140" y="69"/>
                    </a:lnTo>
                    <a:lnTo>
                      <a:pt x="200" y="64"/>
                    </a:lnTo>
                    <a:lnTo>
                      <a:pt x="243" y="59"/>
                    </a:lnTo>
                    <a:lnTo>
                      <a:pt x="324" y="51"/>
                    </a:lnTo>
                    <a:lnTo>
                      <a:pt x="376" y="46"/>
                    </a:lnTo>
                    <a:lnTo>
                      <a:pt x="410" y="36"/>
                    </a:lnTo>
                    <a:lnTo>
                      <a:pt x="443" y="15"/>
                    </a:lnTo>
                    <a:lnTo>
                      <a:pt x="440" y="0"/>
                    </a:lnTo>
                    <a:lnTo>
                      <a:pt x="459" y="5"/>
                    </a:lnTo>
                    <a:lnTo>
                      <a:pt x="454" y="56"/>
                    </a:lnTo>
                    <a:lnTo>
                      <a:pt x="405" y="80"/>
                    </a:lnTo>
                    <a:lnTo>
                      <a:pt x="297" y="86"/>
                    </a:lnTo>
                    <a:lnTo>
                      <a:pt x="187" y="97"/>
                    </a:lnTo>
                    <a:lnTo>
                      <a:pt x="124" y="105"/>
                    </a:lnTo>
                    <a:lnTo>
                      <a:pt x="48" y="86"/>
                    </a:lnTo>
                    <a:lnTo>
                      <a:pt x="11" y="75"/>
                    </a:lnTo>
                    <a:lnTo>
                      <a:pt x="0" y="46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543040" y="50990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684160" y="509112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146400" y="5070240"/>
                <a:ext cx="308880" cy="77760"/>
              </a:xfrm>
              <a:custGeom>
                <a:avLst/>
                <a:gdLst/>
                <a:ahLst/>
                <a:rect l="l" t="t" r="r" b="b"/>
                <a:pathLst>
                  <a:path w="195" h="49">
                    <a:moveTo>
                      <a:pt x="0" y="15"/>
                    </a:moveTo>
                    <a:lnTo>
                      <a:pt x="190" y="0"/>
                    </a:lnTo>
                    <a:lnTo>
                      <a:pt x="195" y="32"/>
                    </a:lnTo>
                    <a:lnTo>
                      <a:pt x="0" y="4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382840" y="3782880"/>
                <a:ext cx="1303200" cy="1025640"/>
              </a:xfrm>
              <a:custGeom>
                <a:avLst/>
                <a:gdLst/>
                <a:ahLst/>
                <a:rect l="l" t="t" r="r" b="b"/>
                <a:pathLst>
                  <a:path w="821" h="646">
                    <a:moveTo>
                      <a:pt x="69" y="616"/>
                    </a:moveTo>
                    <a:lnTo>
                      <a:pt x="46" y="592"/>
                    </a:lnTo>
                    <a:lnTo>
                      <a:pt x="32" y="551"/>
                    </a:lnTo>
                    <a:lnTo>
                      <a:pt x="27" y="460"/>
                    </a:lnTo>
                    <a:lnTo>
                      <a:pt x="27" y="309"/>
                    </a:lnTo>
                    <a:lnTo>
                      <a:pt x="32" y="195"/>
                    </a:lnTo>
                    <a:lnTo>
                      <a:pt x="46" y="169"/>
                    </a:lnTo>
                    <a:lnTo>
                      <a:pt x="71" y="136"/>
                    </a:lnTo>
                    <a:lnTo>
                      <a:pt x="132" y="112"/>
                    </a:lnTo>
                    <a:lnTo>
                      <a:pt x="240" y="80"/>
                    </a:lnTo>
                    <a:lnTo>
                      <a:pt x="329" y="57"/>
                    </a:lnTo>
                    <a:lnTo>
                      <a:pt x="369" y="33"/>
                    </a:lnTo>
                    <a:lnTo>
                      <a:pt x="440" y="27"/>
                    </a:lnTo>
                    <a:lnTo>
                      <a:pt x="566" y="38"/>
                    </a:lnTo>
                    <a:lnTo>
                      <a:pt x="670" y="32"/>
                    </a:lnTo>
                    <a:lnTo>
                      <a:pt x="714" y="22"/>
                    </a:lnTo>
                    <a:lnTo>
                      <a:pt x="750" y="32"/>
                    </a:lnTo>
                    <a:lnTo>
                      <a:pt x="774" y="95"/>
                    </a:lnTo>
                    <a:lnTo>
                      <a:pt x="789" y="210"/>
                    </a:lnTo>
                    <a:lnTo>
                      <a:pt x="804" y="301"/>
                    </a:lnTo>
                    <a:lnTo>
                      <a:pt x="797" y="343"/>
                    </a:lnTo>
                    <a:lnTo>
                      <a:pt x="769" y="446"/>
                    </a:lnTo>
                    <a:lnTo>
                      <a:pt x="733" y="550"/>
                    </a:lnTo>
                    <a:lnTo>
                      <a:pt x="709" y="589"/>
                    </a:lnTo>
                    <a:lnTo>
                      <a:pt x="693" y="608"/>
                    </a:lnTo>
                    <a:lnTo>
                      <a:pt x="717" y="622"/>
                    </a:lnTo>
                    <a:lnTo>
                      <a:pt x="742" y="578"/>
                    </a:lnTo>
                    <a:lnTo>
                      <a:pt x="780" y="485"/>
                    </a:lnTo>
                    <a:lnTo>
                      <a:pt x="808" y="386"/>
                    </a:lnTo>
                    <a:lnTo>
                      <a:pt x="818" y="337"/>
                    </a:lnTo>
                    <a:lnTo>
                      <a:pt x="821" y="291"/>
                    </a:lnTo>
                    <a:lnTo>
                      <a:pt x="812" y="214"/>
                    </a:lnTo>
                    <a:lnTo>
                      <a:pt x="797" y="99"/>
                    </a:lnTo>
                    <a:lnTo>
                      <a:pt x="775" y="36"/>
                    </a:lnTo>
                    <a:lnTo>
                      <a:pt x="755" y="8"/>
                    </a:lnTo>
                    <a:lnTo>
                      <a:pt x="722" y="0"/>
                    </a:lnTo>
                    <a:lnTo>
                      <a:pt x="679" y="13"/>
                    </a:lnTo>
                    <a:lnTo>
                      <a:pt x="615" y="17"/>
                    </a:lnTo>
                    <a:lnTo>
                      <a:pt x="533" y="17"/>
                    </a:lnTo>
                    <a:lnTo>
                      <a:pt x="448" y="5"/>
                    </a:lnTo>
                    <a:lnTo>
                      <a:pt x="391" y="8"/>
                    </a:lnTo>
                    <a:lnTo>
                      <a:pt x="362" y="19"/>
                    </a:lnTo>
                    <a:lnTo>
                      <a:pt x="298" y="50"/>
                    </a:lnTo>
                    <a:lnTo>
                      <a:pt x="175" y="84"/>
                    </a:lnTo>
                    <a:lnTo>
                      <a:pt x="57" y="123"/>
                    </a:lnTo>
                    <a:lnTo>
                      <a:pt x="24" y="164"/>
                    </a:lnTo>
                    <a:lnTo>
                      <a:pt x="3" y="219"/>
                    </a:lnTo>
                    <a:lnTo>
                      <a:pt x="0" y="329"/>
                    </a:lnTo>
                    <a:lnTo>
                      <a:pt x="5" y="433"/>
                    </a:lnTo>
                    <a:lnTo>
                      <a:pt x="9" y="540"/>
                    </a:lnTo>
                    <a:lnTo>
                      <a:pt x="28" y="602"/>
                    </a:lnTo>
                    <a:lnTo>
                      <a:pt x="47" y="635"/>
                    </a:lnTo>
                    <a:lnTo>
                      <a:pt x="80" y="646"/>
                    </a:lnTo>
                    <a:lnTo>
                      <a:pt x="99" y="640"/>
                    </a:lnTo>
                    <a:lnTo>
                      <a:pt x="69" y="6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469960" y="3801960"/>
                <a:ext cx="1122120" cy="1022400"/>
              </a:xfrm>
              <a:custGeom>
                <a:avLst/>
                <a:gdLst/>
                <a:ahLst/>
                <a:rect l="l" t="t" r="r" b="b"/>
                <a:pathLst>
                  <a:path w="707" h="644">
                    <a:moveTo>
                      <a:pt x="11" y="611"/>
                    </a:moveTo>
                    <a:lnTo>
                      <a:pt x="129" y="619"/>
                    </a:lnTo>
                    <a:lnTo>
                      <a:pt x="294" y="623"/>
                    </a:lnTo>
                    <a:lnTo>
                      <a:pt x="426" y="623"/>
                    </a:lnTo>
                    <a:lnTo>
                      <a:pt x="544" y="609"/>
                    </a:lnTo>
                    <a:lnTo>
                      <a:pt x="622" y="597"/>
                    </a:lnTo>
                    <a:lnTo>
                      <a:pt x="644" y="586"/>
                    </a:lnTo>
                    <a:lnTo>
                      <a:pt x="644" y="529"/>
                    </a:lnTo>
                    <a:lnTo>
                      <a:pt x="615" y="377"/>
                    </a:lnTo>
                    <a:lnTo>
                      <a:pt x="582" y="193"/>
                    </a:lnTo>
                    <a:lnTo>
                      <a:pt x="565" y="126"/>
                    </a:lnTo>
                    <a:lnTo>
                      <a:pt x="549" y="101"/>
                    </a:lnTo>
                    <a:lnTo>
                      <a:pt x="346" y="123"/>
                    </a:lnTo>
                    <a:lnTo>
                      <a:pt x="147" y="128"/>
                    </a:lnTo>
                    <a:lnTo>
                      <a:pt x="38" y="131"/>
                    </a:lnTo>
                    <a:lnTo>
                      <a:pt x="0" y="136"/>
                    </a:lnTo>
                    <a:lnTo>
                      <a:pt x="21" y="109"/>
                    </a:lnTo>
                    <a:lnTo>
                      <a:pt x="68" y="114"/>
                    </a:lnTo>
                    <a:lnTo>
                      <a:pt x="204" y="109"/>
                    </a:lnTo>
                    <a:lnTo>
                      <a:pt x="333" y="101"/>
                    </a:lnTo>
                    <a:lnTo>
                      <a:pt x="447" y="92"/>
                    </a:lnTo>
                    <a:lnTo>
                      <a:pt x="556" y="82"/>
                    </a:lnTo>
                    <a:lnTo>
                      <a:pt x="641" y="43"/>
                    </a:lnTo>
                    <a:lnTo>
                      <a:pt x="688" y="0"/>
                    </a:lnTo>
                    <a:lnTo>
                      <a:pt x="707" y="21"/>
                    </a:lnTo>
                    <a:lnTo>
                      <a:pt x="663" y="47"/>
                    </a:lnTo>
                    <a:lnTo>
                      <a:pt x="598" y="90"/>
                    </a:lnTo>
                    <a:lnTo>
                      <a:pt x="578" y="104"/>
                    </a:lnTo>
                    <a:lnTo>
                      <a:pt x="601" y="202"/>
                    </a:lnTo>
                    <a:lnTo>
                      <a:pt x="620" y="297"/>
                    </a:lnTo>
                    <a:lnTo>
                      <a:pt x="636" y="384"/>
                    </a:lnTo>
                    <a:lnTo>
                      <a:pt x="650" y="467"/>
                    </a:lnTo>
                    <a:lnTo>
                      <a:pt x="663" y="529"/>
                    </a:lnTo>
                    <a:lnTo>
                      <a:pt x="669" y="582"/>
                    </a:lnTo>
                    <a:lnTo>
                      <a:pt x="660" y="611"/>
                    </a:lnTo>
                    <a:lnTo>
                      <a:pt x="570" y="633"/>
                    </a:lnTo>
                    <a:lnTo>
                      <a:pt x="412" y="644"/>
                    </a:lnTo>
                    <a:lnTo>
                      <a:pt x="246" y="638"/>
                    </a:lnTo>
                    <a:lnTo>
                      <a:pt x="125" y="638"/>
                    </a:lnTo>
                    <a:lnTo>
                      <a:pt x="25" y="635"/>
                    </a:lnTo>
                    <a:lnTo>
                      <a:pt x="11" y="6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595240" y="4059000"/>
                <a:ext cx="774360" cy="654120"/>
              </a:xfrm>
              <a:custGeom>
                <a:avLst/>
                <a:gdLst/>
                <a:ahLst/>
                <a:rect l="l" t="t" r="r" b="b"/>
                <a:pathLst>
                  <a:path w="488" h="412">
                    <a:moveTo>
                      <a:pt x="0" y="11"/>
                    </a:moveTo>
                    <a:lnTo>
                      <a:pt x="162" y="5"/>
                    </a:lnTo>
                    <a:lnTo>
                      <a:pt x="273" y="0"/>
                    </a:lnTo>
                    <a:lnTo>
                      <a:pt x="397" y="2"/>
                    </a:lnTo>
                    <a:lnTo>
                      <a:pt x="416" y="16"/>
                    </a:lnTo>
                    <a:lnTo>
                      <a:pt x="431" y="38"/>
                    </a:lnTo>
                    <a:lnTo>
                      <a:pt x="458" y="154"/>
                    </a:lnTo>
                    <a:lnTo>
                      <a:pt x="478" y="286"/>
                    </a:lnTo>
                    <a:lnTo>
                      <a:pt x="488" y="377"/>
                    </a:lnTo>
                    <a:lnTo>
                      <a:pt x="478" y="406"/>
                    </a:lnTo>
                    <a:lnTo>
                      <a:pt x="453" y="412"/>
                    </a:lnTo>
                    <a:lnTo>
                      <a:pt x="310" y="396"/>
                    </a:lnTo>
                    <a:lnTo>
                      <a:pt x="459" y="383"/>
                    </a:lnTo>
                    <a:lnTo>
                      <a:pt x="467" y="379"/>
                    </a:lnTo>
                    <a:lnTo>
                      <a:pt x="464" y="317"/>
                    </a:lnTo>
                    <a:lnTo>
                      <a:pt x="453" y="229"/>
                    </a:lnTo>
                    <a:lnTo>
                      <a:pt x="429" y="110"/>
                    </a:lnTo>
                    <a:lnTo>
                      <a:pt x="410" y="35"/>
                    </a:lnTo>
                    <a:lnTo>
                      <a:pt x="391" y="24"/>
                    </a:lnTo>
                    <a:lnTo>
                      <a:pt x="302" y="19"/>
                    </a:lnTo>
                    <a:lnTo>
                      <a:pt x="181" y="24"/>
                    </a:lnTo>
                    <a:lnTo>
                      <a:pt x="81" y="2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516040" y="4068720"/>
                <a:ext cx="769680" cy="636480"/>
              </a:xfrm>
              <a:custGeom>
                <a:avLst/>
                <a:gdLst/>
                <a:ahLst/>
                <a:rect l="l" t="t" r="r" b="b"/>
                <a:pathLst>
                  <a:path w="485" h="401">
                    <a:moveTo>
                      <a:pt x="224" y="0"/>
                    </a:moveTo>
                    <a:lnTo>
                      <a:pt x="67" y="0"/>
                    </a:lnTo>
                    <a:lnTo>
                      <a:pt x="22" y="5"/>
                    </a:lnTo>
                    <a:lnTo>
                      <a:pt x="14" y="22"/>
                    </a:lnTo>
                    <a:lnTo>
                      <a:pt x="5" y="57"/>
                    </a:lnTo>
                    <a:lnTo>
                      <a:pt x="0" y="151"/>
                    </a:lnTo>
                    <a:lnTo>
                      <a:pt x="5" y="243"/>
                    </a:lnTo>
                    <a:lnTo>
                      <a:pt x="17" y="334"/>
                    </a:lnTo>
                    <a:lnTo>
                      <a:pt x="37" y="371"/>
                    </a:lnTo>
                    <a:lnTo>
                      <a:pt x="46" y="380"/>
                    </a:lnTo>
                    <a:lnTo>
                      <a:pt x="146" y="390"/>
                    </a:lnTo>
                    <a:lnTo>
                      <a:pt x="275" y="395"/>
                    </a:lnTo>
                    <a:lnTo>
                      <a:pt x="371" y="396"/>
                    </a:lnTo>
                    <a:lnTo>
                      <a:pt x="485" y="401"/>
                    </a:lnTo>
                    <a:lnTo>
                      <a:pt x="480" y="387"/>
                    </a:lnTo>
                    <a:lnTo>
                      <a:pt x="391" y="380"/>
                    </a:lnTo>
                    <a:lnTo>
                      <a:pt x="275" y="372"/>
                    </a:lnTo>
                    <a:lnTo>
                      <a:pt x="114" y="371"/>
                    </a:lnTo>
                    <a:lnTo>
                      <a:pt x="56" y="353"/>
                    </a:lnTo>
                    <a:lnTo>
                      <a:pt x="38" y="339"/>
                    </a:lnTo>
                    <a:lnTo>
                      <a:pt x="32" y="313"/>
                    </a:lnTo>
                    <a:lnTo>
                      <a:pt x="24" y="237"/>
                    </a:lnTo>
                    <a:lnTo>
                      <a:pt x="22" y="142"/>
                    </a:lnTo>
                    <a:lnTo>
                      <a:pt x="29" y="46"/>
                    </a:lnTo>
                    <a:lnTo>
                      <a:pt x="38" y="24"/>
                    </a:lnTo>
                    <a:lnTo>
                      <a:pt x="143" y="1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1517760" y="4743360"/>
              <a:ext cx="1084320" cy="1559160"/>
              <a:chOff x="1517760" y="4743360"/>
              <a:chExt cx="1084320" cy="1559160"/>
            </a:xfrm>
          </p:grpSpPr>
          <p:sp>
            <p:nvSpPr>
              <p:cNvPr id="314" name=""/>
              <p:cNvSpPr/>
              <p:nvPr/>
            </p:nvSpPr>
            <p:spPr>
              <a:xfrm>
                <a:off x="2113200" y="4743360"/>
                <a:ext cx="434880" cy="381240"/>
              </a:xfrm>
              <a:custGeom>
                <a:avLst/>
                <a:gdLst/>
                <a:ahLst/>
                <a:rect l="l" t="t" r="r" b="b"/>
                <a:pathLst>
                  <a:path w="274" h="240">
                    <a:moveTo>
                      <a:pt x="172" y="85"/>
                    </a:moveTo>
                    <a:lnTo>
                      <a:pt x="168" y="44"/>
                    </a:lnTo>
                    <a:lnTo>
                      <a:pt x="158" y="17"/>
                    </a:lnTo>
                    <a:lnTo>
                      <a:pt x="147" y="7"/>
                    </a:lnTo>
                    <a:lnTo>
                      <a:pt x="130" y="2"/>
                    </a:lnTo>
                    <a:lnTo>
                      <a:pt x="110" y="0"/>
                    </a:lnTo>
                    <a:lnTo>
                      <a:pt x="83" y="6"/>
                    </a:lnTo>
                    <a:lnTo>
                      <a:pt x="64" y="17"/>
                    </a:lnTo>
                    <a:lnTo>
                      <a:pt x="42" y="39"/>
                    </a:lnTo>
                    <a:lnTo>
                      <a:pt x="25" y="63"/>
                    </a:lnTo>
                    <a:lnTo>
                      <a:pt x="9" y="100"/>
                    </a:lnTo>
                    <a:lnTo>
                      <a:pt x="2" y="128"/>
                    </a:lnTo>
                    <a:lnTo>
                      <a:pt x="0" y="159"/>
                    </a:lnTo>
                    <a:lnTo>
                      <a:pt x="2" y="192"/>
                    </a:lnTo>
                    <a:lnTo>
                      <a:pt x="9" y="213"/>
                    </a:lnTo>
                    <a:lnTo>
                      <a:pt x="20" y="228"/>
                    </a:lnTo>
                    <a:lnTo>
                      <a:pt x="39" y="238"/>
                    </a:lnTo>
                    <a:lnTo>
                      <a:pt x="59" y="240"/>
                    </a:lnTo>
                    <a:lnTo>
                      <a:pt x="86" y="236"/>
                    </a:lnTo>
                    <a:lnTo>
                      <a:pt x="108" y="226"/>
                    </a:lnTo>
                    <a:lnTo>
                      <a:pt x="128" y="206"/>
                    </a:lnTo>
                    <a:lnTo>
                      <a:pt x="147" y="181"/>
                    </a:lnTo>
                    <a:lnTo>
                      <a:pt x="157" y="150"/>
                    </a:lnTo>
                    <a:lnTo>
                      <a:pt x="163" y="125"/>
                    </a:lnTo>
                    <a:lnTo>
                      <a:pt x="212" y="105"/>
                    </a:lnTo>
                    <a:lnTo>
                      <a:pt x="247" y="93"/>
                    </a:lnTo>
                    <a:lnTo>
                      <a:pt x="266" y="90"/>
                    </a:lnTo>
                    <a:lnTo>
                      <a:pt x="274" y="78"/>
                    </a:lnTo>
                    <a:lnTo>
                      <a:pt x="273" y="63"/>
                    </a:lnTo>
                    <a:lnTo>
                      <a:pt x="261" y="51"/>
                    </a:lnTo>
                    <a:lnTo>
                      <a:pt x="244" y="51"/>
                    </a:lnTo>
                    <a:lnTo>
                      <a:pt x="219" y="61"/>
                    </a:lnTo>
                    <a:lnTo>
                      <a:pt x="195" y="78"/>
                    </a:lnTo>
                    <a:lnTo>
                      <a:pt x="172" y="8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06680" y="5040360"/>
                <a:ext cx="514440" cy="542880"/>
              </a:xfrm>
              <a:custGeom>
                <a:avLst/>
                <a:gdLst/>
                <a:ahLst/>
                <a:rect l="l" t="t" r="r" b="b"/>
                <a:pathLst>
                  <a:path w="324" h="342">
                    <a:moveTo>
                      <a:pt x="140" y="24"/>
                    </a:moveTo>
                    <a:lnTo>
                      <a:pt x="182" y="7"/>
                    </a:lnTo>
                    <a:lnTo>
                      <a:pt x="231" y="0"/>
                    </a:lnTo>
                    <a:lnTo>
                      <a:pt x="271" y="2"/>
                    </a:lnTo>
                    <a:lnTo>
                      <a:pt x="292" y="10"/>
                    </a:lnTo>
                    <a:lnTo>
                      <a:pt x="310" y="26"/>
                    </a:lnTo>
                    <a:lnTo>
                      <a:pt x="322" y="46"/>
                    </a:lnTo>
                    <a:lnTo>
                      <a:pt x="324" y="66"/>
                    </a:lnTo>
                    <a:lnTo>
                      <a:pt x="320" y="88"/>
                    </a:lnTo>
                    <a:lnTo>
                      <a:pt x="308" y="105"/>
                    </a:lnTo>
                    <a:lnTo>
                      <a:pt x="286" y="120"/>
                    </a:lnTo>
                    <a:lnTo>
                      <a:pt x="256" y="128"/>
                    </a:lnTo>
                    <a:lnTo>
                      <a:pt x="229" y="138"/>
                    </a:lnTo>
                    <a:lnTo>
                      <a:pt x="202" y="155"/>
                    </a:lnTo>
                    <a:lnTo>
                      <a:pt x="179" y="175"/>
                    </a:lnTo>
                    <a:lnTo>
                      <a:pt x="165" y="202"/>
                    </a:lnTo>
                    <a:lnTo>
                      <a:pt x="157" y="240"/>
                    </a:lnTo>
                    <a:lnTo>
                      <a:pt x="159" y="273"/>
                    </a:lnTo>
                    <a:lnTo>
                      <a:pt x="155" y="295"/>
                    </a:lnTo>
                    <a:lnTo>
                      <a:pt x="149" y="309"/>
                    </a:lnTo>
                    <a:lnTo>
                      <a:pt x="128" y="324"/>
                    </a:lnTo>
                    <a:lnTo>
                      <a:pt x="105" y="334"/>
                    </a:lnTo>
                    <a:lnTo>
                      <a:pt x="81" y="342"/>
                    </a:lnTo>
                    <a:lnTo>
                      <a:pt x="63" y="341"/>
                    </a:lnTo>
                    <a:lnTo>
                      <a:pt x="41" y="334"/>
                    </a:lnTo>
                    <a:lnTo>
                      <a:pt x="22" y="320"/>
                    </a:lnTo>
                    <a:lnTo>
                      <a:pt x="9" y="290"/>
                    </a:lnTo>
                    <a:lnTo>
                      <a:pt x="2" y="260"/>
                    </a:lnTo>
                    <a:lnTo>
                      <a:pt x="0" y="229"/>
                    </a:lnTo>
                    <a:lnTo>
                      <a:pt x="4" y="194"/>
                    </a:lnTo>
                    <a:lnTo>
                      <a:pt x="16" y="160"/>
                    </a:lnTo>
                    <a:lnTo>
                      <a:pt x="31" y="132"/>
                    </a:lnTo>
                    <a:lnTo>
                      <a:pt x="51" y="101"/>
                    </a:lnTo>
                    <a:lnTo>
                      <a:pt x="80" y="73"/>
                    </a:lnTo>
                    <a:lnTo>
                      <a:pt x="106" y="51"/>
                    </a:lnTo>
                    <a:lnTo>
                      <a:pt x="123" y="36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17760" y="4913280"/>
                <a:ext cx="540000" cy="441360"/>
              </a:xfrm>
              <a:custGeom>
                <a:avLst/>
                <a:gdLst/>
                <a:ahLst/>
                <a:rect l="l" t="t" r="r" b="b"/>
                <a:pathLst>
                  <a:path w="340" h="278">
                    <a:moveTo>
                      <a:pt x="278" y="56"/>
                    </a:moveTo>
                    <a:lnTo>
                      <a:pt x="325" y="82"/>
                    </a:lnTo>
                    <a:lnTo>
                      <a:pt x="338" y="90"/>
                    </a:lnTo>
                    <a:lnTo>
                      <a:pt x="338" y="95"/>
                    </a:lnTo>
                    <a:lnTo>
                      <a:pt x="340" y="109"/>
                    </a:lnTo>
                    <a:lnTo>
                      <a:pt x="323" y="125"/>
                    </a:lnTo>
                    <a:lnTo>
                      <a:pt x="296" y="122"/>
                    </a:lnTo>
                    <a:lnTo>
                      <a:pt x="269" y="114"/>
                    </a:lnTo>
                    <a:lnTo>
                      <a:pt x="244" y="95"/>
                    </a:lnTo>
                    <a:lnTo>
                      <a:pt x="212" y="77"/>
                    </a:lnTo>
                    <a:lnTo>
                      <a:pt x="175" y="61"/>
                    </a:lnTo>
                    <a:lnTo>
                      <a:pt x="128" y="48"/>
                    </a:lnTo>
                    <a:lnTo>
                      <a:pt x="91" y="39"/>
                    </a:lnTo>
                    <a:lnTo>
                      <a:pt x="72" y="38"/>
                    </a:lnTo>
                    <a:lnTo>
                      <a:pt x="66" y="44"/>
                    </a:lnTo>
                    <a:lnTo>
                      <a:pt x="67" y="60"/>
                    </a:lnTo>
                    <a:lnTo>
                      <a:pt x="84" y="85"/>
                    </a:lnTo>
                    <a:lnTo>
                      <a:pt x="101" y="112"/>
                    </a:lnTo>
                    <a:lnTo>
                      <a:pt x="118" y="137"/>
                    </a:lnTo>
                    <a:lnTo>
                      <a:pt x="126" y="163"/>
                    </a:lnTo>
                    <a:lnTo>
                      <a:pt x="125" y="180"/>
                    </a:lnTo>
                    <a:lnTo>
                      <a:pt x="114" y="193"/>
                    </a:lnTo>
                    <a:lnTo>
                      <a:pt x="94" y="203"/>
                    </a:lnTo>
                    <a:lnTo>
                      <a:pt x="72" y="212"/>
                    </a:lnTo>
                    <a:lnTo>
                      <a:pt x="54" y="225"/>
                    </a:lnTo>
                    <a:lnTo>
                      <a:pt x="44" y="240"/>
                    </a:lnTo>
                    <a:lnTo>
                      <a:pt x="42" y="257"/>
                    </a:lnTo>
                    <a:lnTo>
                      <a:pt x="39" y="272"/>
                    </a:lnTo>
                    <a:lnTo>
                      <a:pt x="34" y="278"/>
                    </a:lnTo>
                    <a:lnTo>
                      <a:pt x="13" y="274"/>
                    </a:lnTo>
                    <a:lnTo>
                      <a:pt x="2" y="257"/>
                    </a:lnTo>
                    <a:lnTo>
                      <a:pt x="0" y="240"/>
                    </a:lnTo>
                    <a:lnTo>
                      <a:pt x="5" y="227"/>
                    </a:lnTo>
                    <a:lnTo>
                      <a:pt x="19" y="212"/>
                    </a:lnTo>
                    <a:lnTo>
                      <a:pt x="45" y="196"/>
                    </a:lnTo>
                    <a:lnTo>
                      <a:pt x="69" y="186"/>
                    </a:lnTo>
                    <a:lnTo>
                      <a:pt x="86" y="178"/>
                    </a:lnTo>
                    <a:lnTo>
                      <a:pt x="96" y="168"/>
                    </a:lnTo>
                    <a:lnTo>
                      <a:pt x="98" y="156"/>
                    </a:lnTo>
                    <a:lnTo>
                      <a:pt x="88" y="136"/>
                    </a:lnTo>
                    <a:lnTo>
                      <a:pt x="71" y="115"/>
                    </a:lnTo>
                    <a:lnTo>
                      <a:pt x="52" y="92"/>
                    </a:lnTo>
                    <a:lnTo>
                      <a:pt x="34" y="73"/>
                    </a:lnTo>
                    <a:lnTo>
                      <a:pt x="29" y="51"/>
                    </a:lnTo>
                    <a:lnTo>
                      <a:pt x="29" y="33"/>
                    </a:lnTo>
                    <a:lnTo>
                      <a:pt x="35" y="16"/>
                    </a:lnTo>
                    <a:lnTo>
                      <a:pt x="54" y="6"/>
                    </a:lnTo>
                    <a:lnTo>
                      <a:pt x="77" y="4"/>
                    </a:lnTo>
                    <a:lnTo>
                      <a:pt x="104" y="0"/>
                    </a:lnTo>
                    <a:lnTo>
                      <a:pt x="145" y="6"/>
                    </a:lnTo>
                    <a:lnTo>
                      <a:pt x="182" y="14"/>
                    </a:lnTo>
                    <a:lnTo>
                      <a:pt x="215" y="26"/>
                    </a:lnTo>
                    <a:lnTo>
                      <a:pt x="246" y="39"/>
                    </a:lnTo>
                    <a:lnTo>
                      <a:pt x="269" y="51"/>
                    </a:lnTo>
                    <a:lnTo>
                      <a:pt x="278" y="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040120" y="5108760"/>
                <a:ext cx="561960" cy="37620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0"/>
                    </a:moveTo>
                    <a:lnTo>
                      <a:pt x="31" y="3"/>
                    </a:lnTo>
                    <a:lnTo>
                      <a:pt x="49" y="15"/>
                    </a:lnTo>
                    <a:lnTo>
                      <a:pt x="64" y="40"/>
                    </a:lnTo>
                    <a:lnTo>
                      <a:pt x="74" y="77"/>
                    </a:lnTo>
                    <a:lnTo>
                      <a:pt x="78" y="107"/>
                    </a:lnTo>
                    <a:lnTo>
                      <a:pt x="80" y="159"/>
                    </a:lnTo>
                    <a:lnTo>
                      <a:pt x="86" y="188"/>
                    </a:lnTo>
                    <a:lnTo>
                      <a:pt x="100" y="200"/>
                    </a:lnTo>
                    <a:lnTo>
                      <a:pt x="118" y="203"/>
                    </a:lnTo>
                    <a:lnTo>
                      <a:pt x="159" y="200"/>
                    </a:lnTo>
                    <a:lnTo>
                      <a:pt x="199" y="190"/>
                    </a:lnTo>
                    <a:lnTo>
                      <a:pt x="244" y="185"/>
                    </a:lnTo>
                    <a:lnTo>
                      <a:pt x="268" y="178"/>
                    </a:lnTo>
                    <a:lnTo>
                      <a:pt x="280" y="168"/>
                    </a:lnTo>
                    <a:lnTo>
                      <a:pt x="278" y="149"/>
                    </a:lnTo>
                    <a:lnTo>
                      <a:pt x="274" y="133"/>
                    </a:lnTo>
                    <a:lnTo>
                      <a:pt x="285" y="117"/>
                    </a:lnTo>
                    <a:lnTo>
                      <a:pt x="303" y="116"/>
                    </a:lnTo>
                    <a:lnTo>
                      <a:pt x="311" y="122"/>
                    </a:lnTo>
                    <a:lnTo>
                      <a:pt x="306" y="138"/>
                    </a:lnTo>
                    <a:lnTo>
                      <a:pt x="296" y="151"/>
                    </a:lnTo>
                    <a:lnTo>
                      <a:pt x="301" y="163"/>
                    </a:lnTo>
                    <a:lnTo>
                      <a:pt x="315" y="173"/>
                    </a:lnTo>
                    <a:lnTo>
                      <a:pt x="337" y="176"/>
                    </a:lnTo>
                    <a:lnTo>
                      <a:pt x="350" y="180"/>
                    </a:lnTo>
                    <a:lnTo>
                      <a:pt x="354" y="190"/>
                    </a:lnTo>
                    <a:lnTo>
                      <a:pt x="354" y="208"/>
                    </a:lnTo>
                    <a:lnTo>
                      <a:pt x="342" y="210"/>
                    </a:lnTo>
                    <a:lnTo>
                      <a:pt x="325" y="200"/>
                    </a:lnTo>
                    <a:lnTo>
                      <a:pt x="303" y="186"/>
                    </a:lnTo>
                    <a:lnTo>
                      <a:pt x="296" y="188"/>
                    </a:lnTo>
                    <a:lnTo>
                      <a:pt x="310" y="201"/>
                    </a:lnTo>
                    <a:lnTo>
                      <a:pt x="330" y="220"/>
                    </a:lnTo>
                    <a:lnTo>
                      <a:pt x="327" y="232"/>
                    </a:lnTo>
                    <a:lnTo>
                      <a:pt x="313" y="232"/>
                    </a:lnTo>
                    <a:lnTo>
                      <a:pt x="308" y="233"/>
                    </a:lnTo>
                    <a:lnTo>
                      <a:pt x="296" y="223"/>
                    </a:lnTo>
                    <a:lnTo>
                      <a:pt x="288" y="201"/>
                    </a:lnTo>
                    <a:lnTo>
                      <a:pt x="278" y="198"/>
                    </a:lnTo>
                    <a:lnTo>
                      <a:pt x="244" y="210"/>
                    </a:lnTo>
                    <a:lnTo>
                      <a:pt x="195" y="220"/>
                    </a:lnTo>
                    <a:lnTo>
                      <a:pt x="148" y="237"/>
                    </a:lnTo>
                    <a:lnTo>
                      <a:pt x="105" y="237"/>
                    </a:lnTo>
                    <a:lnTo>
                      <a:pt x="69" y="228"/>
                    </a:lnTo>
                    <a:lnTo>
                      <a:pt x="56" y="217"/>
                    </a:lnTo>
                    <a:lnTo>
                      <a:pt x="53" y="200"/>
                    </a:lnTo>
                    <a:lnTo>
                      <a:pt x="48" y="175"/>
                    </a:lnTo>
                    <a:lnTo>
                      <a:pt x="41" y="133"/>
                    </a:lnTo>
                    <a:lnTo>
                      <a:pt x="29" y="101"/>
                    </a:lnTo>
                    <a:lnTo>
                      <a:pt x="16" y="72"/>
                    </a:lnTo>
                    <a:lnTo>
                      <a:pt x="6" y="45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87680" y="5442120"/>
                <a:ext cx="398520" cy="860400"/>
              </a:xfrm>
              <a:custGeom>
                <a:avLst/>
                <a:gdLst/>
                <a:ahLst/>
                <a:rect l="l" t="t" r="r" b="b"/>
                <a:pathLst>
                  <a:path w="251" h="542">
                    <a:moveTo>
                      <a:pt x="25" y="3"/>
                    </a:moveTo>
                    <a:lnTo>
                      <a:pt x="55" y="0"/>
                    </a:lnTo>
                    <a:lnTo>
                      <a:pt x="76" y="8"/>
                    </a:lnTo>
                    <a:lnTo>
                      <a:pt x="89" y="34"/>
                    </a:lnTo>
                    <a:lnTo>
                      <a:pt x="89" y="39"/>
                    </a:lnTo>
                    <a:lnTo>
                      <a:pt x="104" y="76"/>
                    </a:lnTo>
                    <a:lnTo>
                      <a:pt x="126" y="138"/>
                    </a:lnTo>
                    <a:lnTo>
                      <a:pt x="136" y="190"/>
                    </a:lnTo>
                    <a:lnTo>
                      <a:pt x="145" y="232"/>
                    </a:lnTo>
                    <a:lnTo>
                      <a:pt x="145" y="269"/>
                    </a:lnTo>
                    <a:lnTo>
                      <a:pt x="140" y="313"/>
                    </a:lnTo>
                    <a:lnTo>
                      <a:pt x="133" y="369"/>
                    </a:lnTo>
                    <a:lnTo>
                      <a:pt x="121" y="422"/>
                    </a:lnTo>
                    <a:lnTo>
                      <a:pt x="116" y="458"/>
                    </a:lnTo>
                    <a:lnTo>
                      <a:pt x="114" y="463"/>
                    </a:lnTo>
                    <a:lnTo>
                      <a:pt x="118" y="495"/>
                    </a:lnTo>
                    <a:lnTo>
                      <a:pt x="129" y="500"/>
                    </a:lnTo>
                    <a:lnTo>
                      <a:pt x="155" y="492"/>
                    </a:lnTo>
                    <a:lnTo>
                      <a:pt x="190" y="473"/>
                    </a:lnTo>
                    <a:lnTo>
                      <a:pt x="205" y="463"/>
                    </a:lnTo>
                    <a:lnTo>
                      <a:pt x="222" y="460"/>
                    </a:lnTo>
                    <a:lnTo>
                      <a:pt x="241" y="470"/>
                    </a:lnTo>
                    <a:lnTo>
                      <a:pt x="251" y="488"/>
                    </a:lnTo>
                    <a:lnTo>
                      <a:pt x="247" y="503"/>
                    </a:lnTo>
                    <a:lnTo>
                      <a:pt x="224" y="510"/>
                    </a:lnTo>
                    <a:lnTo>
                      <a:pt x="177" y="517"/>
                    </a:lnTo>
                    <a:lnTo>
                      <a:pt x="138" y="532"/>
                    </a:lnTo>
                    <a:lnTo>
                      <a:pt x="103" y="542"/>
                    </a:lnTo>
                    <a:lnTo>
                      <a:pt x="89" y="529"/>
                    </a:lnTo>
                    <a:lnTo>
                      <a:pt x="87" y="513"/>
                    </a:lnTo>
                    <a:lnTo>
                      <a:pt x="84" y="492"/>
                    </a:lnTo>
                    <a:lnTo>
                      <a:pt x="87" y="465"/>
                    </a:lnTo>
                    <a:lnTo>
                      <a:pt x="86" y="417"/>
                    </a:lnTo>
                    <a:lnTo>
                      <a:pt x="87" y="382"/>
                    </a:lnTo>
                    <a:lnTo>
                      <a:pt x="96" y="338"/>
                    </a:lnTo>
                    <a:lnTo>
                      <a:pt x="101" y="301"/>
                    </a:lnTo>
                    <a:lnTo>
                      <a:pt x="99" y="259"/>
                    </a:lnTo>
                    <a:lnTo>
                      <a:pt x="84" y="212"/>
                    </a:lnTo>
                    <a:lnTo>
                      <a:pt x="55" y="160"/>
                    </a:lnTo>
                    <a:lnTo>
                      <a:pt x="39" y="111"/>
                    </a:lnTo>
                    <a:lnTo>
                      <a:pt x="12" y="67"/>
                    </a:lnTo>
                    <a:lnTo>
                      <a:pt x="0" y="35"/>
                    </a:lnTo>
                    <a:lnTo>
                      <a:pt x="12" y="15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611360" y="5464080"/>
                <a:ext cx="281160" cy="752760"/>
              </a:xfrm>
              <a:custGeom>
                <a:avLst/>
                <a:gdLst/>
                <a:ahLst/>
                <a:rect l="l" t="t" r="r" b="b"/>
                <a:pathLst>
                  <a:path w="177" h="474">
                    <a:moveTo>
                      <a:pt x="17" y="34"/>
                    </a:moveTo>
                    <a:lnTo>
                      <a:pt x="25" y="10"/>
                    </a:lnTo>
                    <a:lnTo>
                      <a:pt x="52" y="0"/>
                    </a:lnTo>
                    <a:lnTo>
                      <a:pt x="74" y="5"/>
                    </a:lnTo>
                    <a:lnTo>
                      <a:pt x="91" y="37"/>
                    </a:lnTo>
                    <a:lnTo>
                      <a:pt x="101" y="96"/>
                    </a:lnTo>
                    <a:lnTo>
                      <a:pt x="106" y="163"/>
                    </a:lnTo>
                    <a:lnTo>
                      <a:pt x="104" y="219"/>
                    </a:lnTo>
                    <a:lnTo>
                      <a:pt x="94" y="276"/>
                    </a:lnTo>
                    <a:lnTo>
                      <a:pt x="76" y="324"/>
                    </a:lnTo>
                    <a:lnTo>
                      <a:pt x="57" y="378"/>
                    </a:lnTo>
                    <a:lnTo>
                      <a:pt x="49" y="410"/>
                    </a:lnTo>
                    <a:lnTo>
                      <a:pt x="49" y="429"/>
                    </a:lnTo>
                    <a:lnTo>
                      <a:pt x="84" y="415"/>
                    </a:lnTo>
                    <a:lnTo>
                      <a:pt x="118" y="388"/>
                    </a:lnTo>
                    <a:lnTo>
                      <a:pt x="135" y="378"/>
                    </a:lnTo>
                    <a:lnTo>
                      <a:pt x="151" y="375"/>
                    </a:lnTo>
                    <a:lnTo>
                      <a:pt x="172" y="380"/>
                    </a:lnTo>
                    <a:lnTo>
                      <a:pt x="177" y="397"/>
                    </a:lnTo>
                    <a:lnTo>
                      <a:pt x="167" y="413"/>
                    </a:lnTo>
                    <a:lnTo>
                      <a:pt x="133" y="425"/>
                    </a:lnTo>
                    <a:lnTo>
                      <a:pt x="92" y="440"/>
                    </a:lnTo>
                    <a:lnTo>
                      <a:pt x="50" y="461"/>
                    </a:lnTo>
                    <a:lnTo>
                      <a:pt x="27" y="474"/>
                    </a:lnTo>
                    <a:lnTo>
                      <a:pt x="10" y="472"/>
                    </a:lnTo>
                    <a:lnTo>
                      <a:pt x="3" y="462"/>
                    </a:lnTo>
                    <a:lnTo>
                      <a:pt x="0" y="444"/>
                    </a:lnTo>
                    <a:lnTo>
                      <a:pt x="7" y="420"/>
                    </a:lnTo>
                    <a:lnTo>
                      <a:pt x="22" y="403"/>
                    </a:lnTo>
                    <a:lnTo>
                      <a:pt x="27" y="373"/>
                    </a:lnTo>
                    <a:lnTo>
                      <a:pt x="30" y="338"/>
                    </a:lnTo>
                    <a:lnTo>
                      <a:pt x="39" y="303"/>
                    </a:lnTo>
                    <a:lnTo>
                      <a:pt x="50" y="274"/>
                    </a:lnTo>
                    <a:lnTo>
                      <a:pt x="60" y="247"/>
                    </a:lnTo>
                    <a:lnTo>
                      <a:pt x="62" y="229"/>
                    </a:lnTo>
                    <a:lnTo>
                      <a:pt x="55" y="187"/>
                    </a:lnTo>
                    <a:lnTo>
                      <a:pt x="45" y="148"/>
                    </a:lnTo>
                    <a:lnTo>
                      <a:pt x="30" y="97"/>
                    </a:lnTo>
                    <a:lnTo>
                      <a:pt x="22" y="64"/>
                    </a:lnTo>
                    <a:lnTo>
                      <a:pt x="15" y="4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435400" y="4114800"/>
              <a:ext cx="98244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 Narrow"/>
                </a:rPr>
                <a:t>Err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625840" y="2960640"/>
            <a:ext cx="1546200" cy="567000"/>
          </a:xfrm>
          <a:prstGeom prst="rect">
            <a:avLst/>
          </a:prstGeom>
          <a:solidFill>
            <a:srgbClr val="660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’m bus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51680" y="2809800"/>
            <a:ext cx="1913040" cy="916200"/>
          </a:xfrm>
          <a:prstGeom prst="cloudCallout">
            <a:avLst>
              <a:gd name="adj1" fmla="val -46018"/>
              <a:gd name="adj2" fmla="val 80847"/>
            </a:avLst>
          </a:prstGeom>
          <a:solidFill>
            <a:srgbClr val="660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’m bus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733320" y="5257800"/>
            <a:ext cx="1546200" cy="936720"/>
            <a:chOff x="733320" y="5257800"/>
            <a:chExt cx="1546200" cy="936720"/>
          </a:xfrm>
        </p:grpSpPr>
        <p:sp>
          <p:nvSpPr>
            <p:cNvPr id="324" name=""/>
            <p:cNvSpPr/>
            <p:nvPr/>
          </p:nvSpPr>
          <p:spPr>
            <a:xfrm>
              <a:off x="1560600" y="5270400"/>
              <a:ext cx="712800" cy="39060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52040" y="5257800"/>
              <a:ext cx="808200" cy="36360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3320" y="5627520"/>
              <a:ext cx="1546200" cy="567000"/>
            </a:xfrm>
            <a:prstGeom prst="rect">
              <a:avLst/>
            </a:prstGeom>
            <a:solidFill>
              <a:srgbClr val="6600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I’m busy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886200" y="5173560"/>
            <a:ext cx="1536840" cy="1579680"/>
            <a:chOff x="3886200" y="5173560"/>
            <a:chExt cx="1536840" cy="1579680"/>
          </a:xfrm>
        </p:grpSpPr>
        <p:pic>
          <p:nvPicPr>
            <p:cNvPr id="328" name="Amsad" descr=""/>
            <p:cNvPicPr/>
            <p:nvPr/>
          </p:nvPicPr>
          <p:blipFill>
            <a:blip r:embed="rId1"/>
            <a:stretch/>
          </p:blipFill>
          <p:spPr>
            <a:xfrm>
              <a:off x="4419720" y="5173560"/>
              <a:ext cx="60156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Amsad" descr=""/>
            <p:cNvPicPr/>
            <p:nvPr/>
          </p:nvPicPr>
          <p:blipFill>
            <a:blip r:embed="rId2"/>
            <a:stretch/>
          </p:blipFill>
          <p:spPr>
            <a:xfrm>
              <a:off x="4902120" y="5537160"/>
              <a:ext cx="52092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Amsad" descr=""/>
            <p:cNvPicPr/>
            <p:nvPr/>
          </p:nvPicPr>
          <p:blipFill>
            <a:blip r:embed="rId3"/>
            <a:stretch/>
          </p:blipFill>
          <p:spPr>
            <a:xfrm>
              <a:off x="3886200" y="5419800"/>
              <a:ext cx="520560" cy="13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33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930920" y="2413080"/>
            <a:ext cx="1255680" cy="969480"/>
            <a:chOff x="4930920" y="2413080"/>
            <a:chExt cx="1255680" cy="969480"/>
          </a:xfrm>
        </p:grpSpPr>
        <p:grpSp>
          <p:nvGrpSpPr>
            <p:cNvPr id="339" name=""/>
            <p:cNvGrpSpPr/>
            <p:nvPr/>
          </p:nvGrpSpPr>
          <p:grpSpPr>
            <a:xfrm>
              <a:off x="5056200" y="2413080"/>
              <a:ext cx="1130400" cy="512280"/>
              <a:chOff x="5056200" y="2413080"/>
              <a:chExt cx="1130400" cy="512280"/>
            </a:xfrm>
          </p:grpSpPr>
          <p:sp>
            <p:nvSpPr>
              <p:cNvPr id="340" name=""/>
              <p:cNvSpPr/>
              <p:nvPr/>
            </p:nvSpPr>
            <p:spPr>
              <a:xfrm>
                <a:off x="5056200" y="2514600"/>
                <a:ext cx="1130400" cy="390600"/>
              </a:xfrm>
              <a:prstGeom prst="foldedCorner">
                <a:avLst>
                  <a:gd name="adj" fmla="val 31462"/>
                </a:avLst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95800" y="2413080"/>
                <a:ext cx="108900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cc"/>
                    </a:solidFill>
                    <a:latin typeface="Arial Narrow"/>
                  </a:rPr>
                  <a:t>Rapor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5056200" y="2971800"/>
              <a:ext cx="1130400" cy="390600"/>
            </a:xfrm>
            <a:prstGeom prst="foldedCorner">
              <a:avLst>
                <a:gd name="adj" fmla="val 31462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95800" y="2870280"/>
              <a:ext cx="1089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Pl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30920" y="2476440"/>
              <a:ext cx="0" cy="40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43520" y="2959200"/>
              <a:ext cx="0" cy="40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6" name="pcs_popular_159" descr=""/>
          <p:cNvPicPr/>
          <p:nvPr/>
        </p:nvPicPr>
        <p:blipFill>
          <a:blip r:embed="rId1"/>
          <a:stretch/>
        </p:blipFill>
        <p:spPr>
          <a:xfrm>
            <a:off x="7765920" y="825480"/>
            <a:ext cx="8906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3886200" y="5173560"/>
            <a:ext cx="1536840" cy="1579680"/>
            <a:chOff x="3886200" y="5173560"/>
            <a:chExt cx="1536840" cy="1579680"/>
          </a:xfrm>
        </p:grpSpPr>
        <p:pic>
          <p:nvPicPr>
            <p:cNvPr id="348" name="Amsad" descr=""/>
            <p:cNvPicPr/>
            <p:nvPr/>
          </p:nvPicPr>
          <p:blipFill>
            <a:blip r:embed="rId2"/>
            <a:stretch/>
          </p:blipFill>
          <p:spPr>
            <a:xfrm>
              <a:off x="4419720" y="5173560"/>
              <a:ext cx="60156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Amsad" descr=""/>
            <p:cNvPicPr/>
            <p:nvPr/>
          </p:nvPicPr>
          <p:blipFill>
            <a:blip r:embed="rId3"/>
            <a:stretch/>
          </p:blipFill>
          <p:spPr>
            <a:xfrm>
              <a:off x="4902120" y="5537160"/>
              <a:ext cx="52092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Amsad" descr=""/>
            <p:cNvPicPr/>
            <p:nvPr/>
          </p:nvPicPr>
          <p:blipFill>
            <a:blip r:embed="rId4"/>
            <a:stretch/>
          </p:blipFill>
          <p:spPr>
            <a:xfrm>
              <a:off x="3886200" y="5419800"/>
              <a:ext cx="520560" cy="13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"/>
          <p:cNvGrpSpPr/>
          <p:nvPr/>
        </p:nvGrpSpPr>
        <p:grpSpPr>
          <a:xfrm>
            <a:off x="5545080" y="5114880"/>
            <a:ext cx="726840" cy="1633320"/>
            <a:chOff x="5545080" y="5114880"/>
            <a:chExt cx="726840" cy="1633320"/>
          </a:xfrm>
        </p:grpSpPr>
        <p:sp>
          <p:nvSpPr>
            <p:cNvPr id="352" name=""/>
            <p:cNvSpPr/>
            <p:nvPr/>
          </p:nvSpPr>
          <p:spPr>
            <a:xfrm>
              <a:off x="5725080" y="5196960"/>
              <a:ext cx="421200" cy="367200"/>
            </a:xfrm>
            <a:custGeom>
              <a:avLst/>
              <a:gdLst/>
              <a:ahLst/>
              <a:rect l="l" t="t" r="r" b="b"/>
              <a:pathLst>
                <a:path w="853" h="831">
                  <a:moveTo>
                    <a:pt x="260" y="351"/>
                  </a:moveTo>
                  <a:lnTo>
                    <a:pt x="335" y="241"/>
                  </a:lnTo>
                  <a:lnTo>
                    <a:pt x="418" y="157"/>
                  </a:lnTo>
                  <a:lnTo>
                    <a:pt x="502" y="55"/>
                  </a:lnTo>
                  <a:lnTo>
                    <a:pt x="603" y="9"/>
                  </a:lnTo>
                  <a:lnTo>
                    <a:pt x="686" y="0"/>
                  </a:lnTo>
                  <a:lnTo>
                    <a:pt x="770" y="28"/>
                  </a:lnTo>
                  <a:lnTo>
                    <a:pt x="817" y="93"/>
                  </a:lnTo>
                  <a:lnTo>
                    <a:pt x="853" y="212"/>
                  </a:lnTo>
                  <a:lnTo>
                    <a:pt x="844" y="342"/>
                  </a:lnTo>
                  <a:lnTo>
                    <a:pt x="807" y="453"/>
                  </a:lnTo>
                  <a:lnTo>
                    <a:pt x="714" y="581"/>
                  </a:lnTo>
                  <a:lnTo>
                    <a:pt x="613" y="674"/>
                  </a:lnTo>
                  <a:lnTo>
                    <a:pt x="502" y="758"/>
                  </a:lnTo>
                  <a:lnTo>
                    <a:pt x="381" y="813"/>
                  </a:lnTo>
                  <a:lnTo>
                    <a:pt x="278" y="831"/>
                  </a:lnTo>
                  <a:lnTo>
                    <a:pt x="232" y="803"/>
                  </a:lnTo>
                  <a:lnTo>
                    <a:pt x="195" y="692"/>
                  </a:lnTo>
                  <a:lnTo>
                    <a:pt x="205" y="544"/>
                  </a:lnTo>
                  <a:lnTo>
                    <a:pt x="28" y="555"/>
                  </a:lnTo>
                  <a:lnTo>
                    <a:pt x="0" y="526"/>
                  </a:lnTo>
                  <a:lnTo>
                    <a:pt x="28" y="471"/>
                  </a:lnTo>
                  <a:lnTo>
                    <a:pt x="214" y="462"/>
                  </a:lnTo>
                  <a:lnTo>
                    <a:pt x="260" y="35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04920" y="5585760"/>
              <a:ext cx="290880" cy="542880"/>
            </a:xfrm>
            <a:custGeom>
              <a:avLst/>
              <a:gdLst/>
              <a:ahLst/>
              <a:rect l="l" t="t" r="r" b="b"/>
              <a:pathLst>
                <a:path w="590" h="1226">
                  <a:moveTo>
                    <a:pt x="165" y="102"/>
                  </a:moveTo>
                  <a:lnTo>
                    <a:pt x="249" y="28"/>
                  </a:lnTo>
                  <a:lnTo>
                    <a:pt x="378" y="0"/>
                  </a:lnTo>
                  <a:lnTo>
                    <a:pt x="489" y="18"/>
                  </a:lnTo>
                  <a:lnTo>
                    <a:pt x="572" y="93"/>
                  </a:lnTo>
                  <a:lnTo>
                    <a:pt x="590" y="148"/>
                  </a:lnTo>
                  <a:lnTo>
                    <a:pt x="590" y="223"/>
                  </a:lnTo>
                  <a:lnTo>
                    <a:pt x="553" y="289"/>
                  </a:lnTo>
                  <a:lnTo>
                    <a:pt x="489" y="399"/>
                  </a:lnTo>
                  <a:lnTo>
                    <a:pt x="460" y="529"/>
                  </a:lnTo>
                  <a:lnTo>
                    <a:pt x="451" y="641"/>
                  </a:lnTo>
                  <a:lnTo>
                    <a:pt x="480" y="761"/>
                  </a:lnTo>
                  <a:lnTo>
                    <a:pt x="553" y="873"/>
                  </a:lnTo>
                  <a:lnTo>
                    <a:pt x="581" y="984"/>
                  </a:lnTo>
                  <a:lnTo>
                    <a:pt x="572" y="1087"/>
                  </a:lnTo>
                  <a:lnTo>
                    <a:pt x="517" y="1171"/>
                  </a:lnTo>
                  <a:lnTo>
                    <a:pt x="442" y="1217"/>
                  </a:lnTo>
                  <a:lnTo>
                    <a:pt x="350" y="1226"/>
                  </a:lnTo>
                  <a:lnTo>
                    <a:pt x="240" y="1226"/>
                  </a:lnTo>
                  <a:lnTo>
                    <a:pt x="157" y="1180"/>
                  </a:lnTo>
                  <a:lnTo>
                    <a:pt x="75" y="1041"/>
                  </a:lnTo>
                  <a:lnTo>
                    <a:pt x="18" y="920"/>
                  </a:lnTo>
                  <a:lnTo>
                    <a:pt x="0" y="734"/>
                  </a:lnTo>
                  <a:lnTo>
                    <a:pt x="18" y="567"/>
                  </a:lnTo>
                  <a:lnTo>
                    <a:pt x="55" y="390"/>
                  </a:lnTo>
                  <a:lnTo>
                    <a:pt x="110" y="214"/>
                  </a:lnTo>
                  <a:lnTo>
                    <a:pt x="165" y="102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34960" y="5603040"/>
              <a:ext cx="323640" cy="487080"/>
            </a:xfrm>
            <a:custGeom>
              <a:avLst/>
              <a:gdLst/>
              <a:ahLst/>
              <a:rect l="l" t="t" r="r" b="b"/>
              <a:pathLst>
                <a:path w="656" h="1100">
                  <a:moveTo>
                    <a:pt x="0" y="55"/>
                  </a:moveTo>
                  <a:lnTo>
                    <a:pt x="10" y="9"/>
                  </a:lnTo>
                  <a:lnTo>
                    <a:pt x="111" y="0"/>
                  </a:lnTo>
                  <a:lnTo>
                    <a:pt x="166" y="46"/>
                  </a:lnTo>
                  <a:lnTo>
                    <a:pt x="250" y="166"/>
                  </a:lnTo>
                  <a:lnTo>
                    <a:pt x="361" y="323"/>
                  </a:lnTo>
                  <a:lnTo>
                    <a:pt x="463" y="435"/>
                  </a:lnTo>
                  <a:lnTo>
                    <a:pt x="647" y="638"/>
                  </a:lnTo>
                  <a:lnTo>
                    <a:pt x="656" y="685"/>
                  </a:lnTo>
                  <a:lnTo>
                    <a:pt x="620" y="712"/>
                  </a:lnTo>
                  <a:lnTo>
                    <a:pt x="528" y="749"/>
                  </a:lnTo>
                  <a:lnTo>
                    <a:pt x="399" y="777"/>
                  </a:lnTo>
                  <a:lnTo>
                    <a:pt x="241" y="786"/>
                  </a:lnTo>
                  <a:lnTo>
                    <a:pt x="186" y="795"/>
                  </a:lnTo>
                  <a:lnTo>
                    <a:pt x="166" y="833"/>
                  </a:lnTo>
                  <a:lnTo>
                    <a:pt x="204" y="897"/>
                  </a:lnTo>
                  <a:lnTo>
                    <a:pt x="333" y="1008"/>
                  </a:lnTo>
                  <a:lnTo>
                    <a:pt x="425" y="1036"/>
                  </a:lnTo>
                  <a:lnTo>
                    <a:pt x="445" y="1072"/>
                  </a:lnTo>
                  <a:lnTo>
                    <a:pt x="408" y="1100"/>
                  </a:lnTo>
                  <a:lnTo>
                    <a:pt x="324" y="1100"/>
                  </a:lnTo>
                  <a:lnTo>
                    <a:pt x="213" y="1036"/>
                  </a:lnTo>
                  <a:lnTo>
                    <a:pt x="120" y="943"/>
                  </a:lnTo>
                  <a:lnTo>
                    <a:pt x="65" y="860"/>
                  </a:lnTo>
                  <a:lnTo>
                    <a:pt x="65" y="795"/>
                  </a:lnTo>
                  <a:lnTo>
                    <a:pt x="102" y="749"/>
                  </a:lnTo>
                  <a:lnTo>
                    <a:pt x="157" y="731"/>
                  </a:lnTo>
                  <a:lnTo>
                    <a:pt x="241" y="721"/>
                  </a:lnTo>
                  <a:lnTo>
                    <a:pt x="333" y="721"/>
                  </a:lnTo>
                  <a:lnTo>
                    <a:pt x="445" y="703"/>
                  </a:lnTo>
                  <a:lnTo>
                    <a:pt x="500" y="685"/>
                  </a:lnTo>
                  <a:lnTo>
                    <a:pt x="528" y="656"/>
                  </a:lnTo>
                  <a:lnTo>
                    <a:pt x="518" y="629"/>
                  </a:lnTo>
                  <a:lnTo>
                    <a:pt x="434" y="555"/>
                  </a:lnTo>
                  <a:lnTo>
                    <a:pt x="305" y="426"/>
                  </a:lnTo>
                  <a:lnTo>
                    <a:pt x="186" y="314"/>
                  </a:lnTo>
                  <a:lnTo>
                    <a:pt x="56" y="194"/>
                  </a:lnTo>
                  <a:lnTo>
                    <a:pt x="10" y="111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26880" y="6013080"/>
              <a:ext cx="349920" cy="735120"/>
            </a:xfrm>
            <a:custGeom>
              <a:avLst/>
              <a:gdLst/>
              <a:ahLst/>
              <a:rect l="l" t="t" r="r" b="b"/>
              <a:pathLst>
                <a:path w="713" h="1660">
                  <a:moveTo>
                    <a:pt x="352" y="0"/>
                  </a:moveTo>
                  <a:lnTo>
                    <a:pt x="453" y="19"/>
                  </a:lnTo>
                  <a:lnTo>
                    <a:pt x="499" y="93"/>
                  </a:lnTo>
                  <a:lnTo>
                    <a:pt x="490" y="269"/>
                  </a:lnTo>
                  <a:lnTo>
                    <a:pt x="472" y="454"/>
                  </a:lnTo>
                  <a:lnTo>
                    <a:pt x="472" y="649"/>
                  </a:lnTo>
                  <a:lnTo>
                    <a:pt x="565" y="881"/>
                  </a:lnTo>
                  <a:lnTo>
                    <a:pt x="639" y="1048"/>
                  </a:lnTo>
                  <a:lnTo>
                    <a:pt x="676" y="1214"/>
                  </a:lnTo>
                  <a:lnTo>
                    <a:pt x="666" y="1362"/>
                  </a:lnTo>
                  <a:lnTo>
                    <a:pt x="666" y="1417"/>
                  </a:lnTo>
                  <a:lnTo>
                    <a:pt x="703" y="1474"/>
                  </a:lnTo>
                  <a:lnTo>
                    <a:pt x="713" y="1529"/>
                  </a:lnTo>
                  <a:lnTo>
                    <a:pt x="685" y="1556"/>
                  </a:lnTo>
                  <a:lnTo>
                    <a:pt x="611" y="1538"/>
                  </a:lnTo>
                  <a:lnTo>
                    <a:pt x="472" y="1520"/>
                  </a:lnTo>
                  <a:lnTo>
                    <a:pt x="306" y="1556"/>
                  </a:lnTo>
                  <a:lnTo>
                    <a:pt x="194" y="1622"/>
                  </a:lnTo>
                  <a:lnTo>
                    <a:pt x="139" y="1660"/>
                  </a:lnTo>
                  <a:lnTo>
                    <a:pt x="82" y="1660"/>
                  </a:lnTo>
                  <a:lnTo>
                    <a:pt x="0" y="1538"/>
                  </a:lnTo>
                  <a:lnTo>
                    <a:pt x="9" y="1520"/>
                  </a:lnTo>
                  <a:lnTo>
                    <a:pt x="176" y="1464"/>
                  </a:lnTo>
                  <a:lnTo>
                    <a:pt x="370" y="1437"/>
                  </a:lnTo>
                  <a:lnTo>
                    <a:pt x="510" y="1428"/>
                  </a:lnTo>
                  <a:lnTo>
                    <a:pt x="593" y="1428"/>
                  </a:lnTo>
                  <a:lnTo>
                    <a:pt x="611" y="1371"/>
                  </a:lnTo>
                  <a:lnTo>
                    <a:pt x="582" y="1214"/>
                  </a:lnTo>
                  <a:lnTo>
                    <a:pt x="518" y="1048"/>
                  </a:lnTo>
                  <a:lnTo>
                    <a:pt x="416" y="834"/>
                  </a:lnTo>
                  <a:lnTo>
                    <a:pt x="332" y="649"/>
                  </a:lnTo>
                  <a:lnTo>
                    <a:pt x="297" y="483"/>
                  </a:lnTo>
                  <a:lnTo>
                    <a:pt x="286" y="297"/>
                  </a:lnTo>
                  <a:lnTo>
                    <a:pt x="286" y="121"/>
                  </a:lnTo>
                  <a:lnTo>
                    <a:pt x="323" y="46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54080" y="6032880"/>
              <a:ext cx="290880" cy="613080"/>
            </a:xfrm>
            <a:custGeom>
              <a:avLst/>
              <a:gdLst/>
              <a:ahLst/>
              <a:rect l="l" t="t" r="r" b="b"/>
              <a:pathLst>
                <a:path w="589" h="1386">
                  <a:moveTo>
                    <a:pt x="442" y="0"/>
                  </a:moveTo>
                  <a:lnTo>
                    <a:pt x="525" y="0"/>
                  </a:lnTo>
                  <a:lnTo>
                    <a:pt x="552" y="56"/>
                  </a:lnTo>
                  <a:lnTo>
                    <a:pt x="571" y="177"/>
                  </a:lnTo>
                  <a:lnTo>
                    <a:pt x="552" y="307"/>
                  </a:lnTo>
                  <a:lnTo>
                    <a:pt x="506" y="567"/>
                  </a:lnTo>
                  <a:lnTo>
                    <a:pt x="516" y="679"/>
                  </a:lnTo>
                  <a:lnTo>
                    <a:pt x="571" y="902"/>
                  </a:lnTo>
                  <a:lnTo>
                    <a:pt x="589" y="1060"/>
                  </a:lnTo>
                  <a:lnTo>
                    <a:pt x="589" y="1181"/>
                  </a:lnTo>
                  <a:lnTo>
                    <a:pt x="561" y="1208"/>
                  </a:lnTo>
                  <a:lnTo>
                    <a:pt x="479" y="1228"/>
                  </a:lnTo>
                  <a:lnTo>
                    <a:pt x="369" y="1255"/>
                  </a:lnTo>
                  <a:lnTo>
                    <a:pt x="257" y="1311"/>
                  </a:lnTo>
                  <a:lnTo>
                    <a:pt x="147" y="1386"/>
                  </a:lnTo>
                  <a:lnTo>
                    <a:pt x="101" y="1386"/>
                  </a:lnTo>
                  <a:lnTo>
                    <a:pt x="0" y="1303"/>
                  </a:lnTo>
                  <a:lnTo>
                    <a:pt x="8" y="1265"/>
                  </a:lnTo>
                  <a:lnTo>
                    <a:pt x="138" y="1208"/>
                  </a:lnTo>
                  <a:lnTo>
                    <a:pt x="358" y="1153"/>
                  </a:lnTo>
                  <a:lnTo>
                    <a:pt x="460" y="1116"/>
                  </a:lnTo>
                  <a:lnTo>
                    <a:pt x="479" y="1078"/>
                  </a:lnTo>
                  <a:lnTo>
                    <a:pt x="479" y="920"/>
                  </a:lnTo>
                  <a:lnTo>
                    <a:pt x="442" y="716"/>
                  </a:lnTo>
                  <a:lnTo>
                    <a:pt x="424" y="585"/>
                  </a:lnTo>
                  <a:lnTo>
                    <a:pt x="404" y="382"/>
                  </a:lnTo>
                  <a:lnTo>
                    <a:pt x="396" y="157"/>
                  </a:lnTo>
                  <a:lnTo>
                    <a:pt x="404" y="56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36760" y="5127840"/>
              <a:ext cx="335160" cy="359640"/>
            </a:xfrm>
            <a:custGeom>
              <a:avLst/>
              <a:gdLst/>
              <a:ahLst/>
              <a:rect l="l" t="t" r="r" b="b"/>
              <a:pathLst>
                <a:path w="680" h="812">
                  <a:moveTo>
                    <a:pt x="180" y="576"/>
                  </a:moveTo>
                  <a:lnTo>
                    <a:pt x="87" y="413"/>
                  </a:lnTo>
                  <a:lnTo>
                    <a:pt x="32" y="273"/>
                  </a:lnTo>
                  <a:lnTo>
                    <a:pt x="0" y="121"/>
                  </a:lnTo>
                  <a:lnTo>
                    <a:pt x="13" y="60"/>
                  </a:lnTo>
                  <a:lnTo>
                    <a:pt x="59" y="60"/>
                  </a:lnTo>
                  <a:lnTo>
                    <a:pt x="116" y="106"/>
                  </a:lnTo>
                  <a:lnTo>
                    <a:pt x="171" y="172"/>
                  </a:lnTo>
                  <a:lnTo>
                    <a:pt x="338" y="79"/>
                  </a:lnTo>
                  <a:lnTo>
                    <a:pt x="425" y="0"/>
                  </a:lnTo>
                  <a:lnTo>
                    <a:pt x="504" y="51"/>
                  </a:lnTo>
                  <a:lnTo>
                    <a:pt x="592" y="167"/>
                  </a:lnTo>
                  <a:lnTo>
                    <a:pt x="658" y="333"/>
                  </a:lnTo>
                  <a:lnTo>
                    <a:pt x="680" y="441"/>
                  </a:lnTo>
                  <a:lnTo>
                    <a:pt x="680" y="478"/>
                  </a:lnTo>
                  <a:lnTo>
                    <a:pt x="592" y="505"/>
                  </a:lnTo>
                  <a:lnTo>
                    <a:pt x="472" y="580"/>
                  </a:lnTo>
                  <a:lnTo>
                    <a:pt x="416" y="613"/>
                  </a:lnTo>
                  <a:lnTo>
                    <a:pt x="463" y="743"/>
                  </a:lnTo>
                  <a:lnTo>
                    <a:pt x="445" y="803"/>
                  </a:lnTo>
                  <a:lnTo>
                    <a:pt x="408" y="812"/>
                  </a:lnTo>
                  <a:lnTo>
                    <a:pt x="305" y="728"/>
                  </a:lnTo>
                  <a:lnTo>
                    <a:pt x="180" y="576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45080" y="5114880"/>
              <a:ext cx="415080" cy="562320"/>
            </a:xfrm>
            <a:custGeom>
              <a:avLst/>
              <a:gdLst/>
              <a:ahLst/>
              <a:rect l="l" t="t" r="r" b="b"/>
              <a:pathLst>
                <a:path w="843" h="1270">
                  <a:moveTo>
                    <a:pt x="518" y="1270"/>
                  </a:moveTo>
                  <a:lnTo>
                    <a:pt x="564" y="1215"/>
                  </a:lnTo>
                  <a:lnTo>
                    <a:pt x="547" y="1132"/>
                  </a:lnTo>
                  <a:lnTo>
                    <a:pt x="509" y="1020"/>
                  </a:lnTo>
                  <a:lnTo>
                    <a:pt x="371" y="890"/>
                  </a:lnTo>
                  <a:lnTo>
                    <a:pt x="231" y="770"/>
                  </a:lnTo>
                  <a:lnTo>
                    <a:pt x="167" y="640"/>
                  </a:lnTo>
                  <a:lnTo>
                    <a:pt x="139" y="437"/>
                  </a:lnTo>
                  <a:lnTo>
                    <a:pt x="296" y="382"/>
                  </a:lnTo>
                  <a:lnTo>
                    <a:pt x="547" y="353"/>
                  </a:lnTo>
                  <a:lnTo>
                    <a:pt x="648" y="362"/>
                  </a:lnTo>
                  <a:lnTo>
                    <a:pt x="676" y="391"/>
                  </a:lnTo>
                  <a:lnTo>
                    <a:pt x="722" y="344"/>
                  </a:lnTo>
                  <a:lnTo>
                    <a:pt x="704" y="298"/>
                  </a:lnTo>
                  <a:lnTo>
                    <a:pt x="750" y="177"/>
                  </a:lnTo>
                  <a:lnTo>
                    <a:pt x="768" y="131"/>
                  </a:lnTo>
                  <a:lnTo>
                    <a:pt x="806" y="57"/>
                  </a:lnTo>
                  <a:lnTo>
                    <a:pt x="843" y="57"/>
                  </a:lnTo>
                  <a:lnTo>
                    <a:pt x="843" y="20"/>
                  </a:lnTo>
                  <a:lnTo>
                    <a:pt x="768" y="0"/>
                  </a:lnTo>
                  <a:lnTo>
                    <a:pt x="722" y="84"/>
                  </a:lnTo>
                  <a:lnTo>
                    <a:pt x="658" y="205"/>
                  </a:lnTo>
                  <a:lnTo>
                    <a:pt x="575" y="261"/>
                  </a:lnTo>
                  <a:lnTo>
                    <a:pt x="445" y="279"/>
                  </a:lnTo>
                  <a:lnTo>
                    <a:pt x="213" y="307"/>
                  </a:lnTo>
                  <a:lnTo>
                    <a:pt x="28" y="362"/>
                  </a:lnTo>
                  <a:lnTo>
                    <a:pt x="0" y="409"/>
                  </a:lnTo>
                  <a:lnTo>
                    <a:pt x="18" y="557"/>
                  </a:lnTo>
                  <a:lnTo>
                    <a:pt x="84" y="762"/>
                  </a:lnTo>
                  <a:lnTo>
                    <a:pt x="176" y="927"/>
                  </a:lnTo>
                  <a:lnTo>
                    <a:pt x="268" y="1075"/>
                  </a:lnTo>
                  <a:lnTo>
                    <a:pt x="352" y="1179"/>
                  </a:lnTo>
                  <a:lnTo>
                    <a:pt x="435" y="1252"/>
                  </a:lnTo>
                  <a:lnTo>
                    <a:pt x="518" y="127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424560" y="3592440"/>
            <a:ext cx="2719440" cy="1438200"/>
          </a:xfrm>
          <a:prstGeom prst="cloudCallout">
            <a:avLst>
              <a:gd name="adj1" fmla="val -61851"/>
              <a:gd name="adj2" fmla="val 52648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    </a:t>
            </a: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Jestem kierowni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Będę z W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codzienni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35440" y="3125880"/>
            <a:ext cx="64116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836880" y="2350800"/>
            <a:ext cx="75276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8280" y="2743200"/>
            <a:ext cx="3770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ntrola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56200" y="2413080"/>
            <a:ext cx="1130400" cy="512280"/>
            <a:chOff x="5056200" y="2413080"/>
            <a:chExt cx="1130400" cy="512280"/>
          </a:xfrm>
        </p:grpSpPr>
        <p:sp>
          <p:nvSpPr>
            <p:cNvPr id="371" name=""/>
            <p:cNvSpPr/>
            <p:nvPr/>
          </p:nvSpPr>
          <p:spPr>
            <a:xfrm>
              <a:off x="5056200" y="2514600"/>
              <a:ext cx="1130400" cy="390600"/>
            </a:xfrm>
            <a:prstGeom prst="foldedCorner">
              <a:avLst>
                <a:gd name="adj" fmla="val 31462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95800" y="2413080"/>
              <a:ext cx="1089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Ra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056200" y="2971800"/>
            <a:ext cx="1130400" cy="390600"/>
          </a:xfrm>
          <a:prstGeom prst="foldedCorner">
            <a:avLst>
              <a:gd name="adj" fmla="val 31462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95800" y="2870280"/>
            <a:ext cx="10890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0920" y="247644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43520" y="295920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224760" y="2424240"/>
            <a:ext cx="1795320" cy="1839600"/>
            <a:chOff x="6224760" y="2424240"/>
            <a:chExt cx="1795320" cy="1839600"/>
          </a:xfrm>
        </p:grpSpPr>
        <p:sp>
          <p:nvSpPr>
            <p:cNvPr id="378" name=""/>
            <p:cNvSpPr/>
            <p:nvPr/>
          </p:nvSpPr>
          <p:spPr>
            <a:xfrm flipH="1">
              <a:off x="6920640" y="3363840"/>
              <a:ext cx="600120" cy="655560"/>
            </a:xfrm>
            <a:custGeom>
              <a:avLst/>
              <a:gdLst/>
              <a:ahLst/>
              <a:rect l="l" t="t" r="r" b="b"/>
              <a:pathLst>
                <a:path w="508" h="577">
                  <a:moveTo>
                    <a:pt x="482" y="0"/>
                  </a:moveTo>
                  <a:lnTo>
                    <a:pt x="508" y="57"/>
                  </a:lnTo>
                  <a:lnTo>
                    <a:pt x="456" y="144"/>
                  </a:lnTo>
                  <a:lnTo>
                    <a:pt x="389" y="247"/>
                  </a:lnTo>
                  <a:lnTo>
                    <a:pt x="321" y="361"/>
                  </a:lnTo>
                  <a:lnTo>
                    <a:pt x="259" y="433"/>
                  </a:lnTo>
                  <a:lnTo>
                    <a:pt x="176" y="531"/>
                  </a:lnTo>
                  <a:lnTo>
                    <a:pt x="124" y="577"/>
                  </a:lnTo>
                  <a:lnTo>
                    <a:pt x="73" y="556"/>
                  </a:lnTo>
                  <a:lnTo>
                    <a:pt x="16" y="495"/>
                  </a:lnTo>
                  <a:lnTo>
                    <a:pt x="0" y="453"/>
                  </a:lnTo>
                  <a:lnTo>
                    <a:pt x="47" y="345"/>
                  </a:lnTo>
                  <a:lnTo>
                    <a:pt x="119" y="232"/>
                  </a:lnTo>
                  <a:lnTo>
                    <a:pt x="192" y="139"/>
                  </a:lnTo>
                  <a:lnTo>
                    <a:pt x="290" y="67"/>
                  </a:lnTo>
                  <a:lnTo>
                    <a:pt x="389" y="26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230880" y="2522520"/>
              <a:ext cx="719280" cy="901800"/>
            </a:xfrm>
            <a:custGeom>
              <a:avLst/>
              <a:gdLst/>
              <a:ahLst/>
              <a:rect l="l" t="t" r="r" b="b"/>
              <a:pathLst>
                <a:path w="609" h="792">
                  <a:moveTo>
                    <a:pt x="454" y="0"/>
                  </a:moveTo>
                  <a:lnTo>
                    <a:pt x="588" y="72"/>
                  </a:lnTo>
                  <a:lnTo>
                    <a:pt x="609" y="201"/>
                  </a:lnTo>
                  <a:lnTo>
                    <a:pt x="594" y="365"/>
                  </a:lnTo>
                  <a:lnTo>
                    <a:pt x="552" y="483"/>
                  </a:lnTo>
                  <a:lnTo>
                    <a:pt x="511" y="581"/>
                  </a:lnTo>
                  <a:lnTo>
                    <a:pt x="434" y="648"/>
                  </a:lnTo>
                  <a:lnTo>
                    <a:pt x="361" y="705"/>
                  </a:lnTo>
                  <a:lnTo>
                    <a:pt x="258" y="741"/>
                  </a:lnTo>
                  <a:lnTo>
                    <a:pt x="93" y="735"/>
                  </a:lnTo>
                  <a:lnTo>
                    <a:pt x="46" y="792"/>
                  </a:lnTo>
                  <a:lnTo>
                    <a:pt x="0" y="735"/>
                  </a:lnTo>
                  <a:lnTo>
                    <a:pt x="52" y="669"/>
                  </a:lnTo>
                  <a:lnTo>
                    <a:pt x="201" y="648"/>
                  </a:lnTo>
                  <a:lnTo>
                    <a:pt x="325" y="576"/>
                  </a:lnTo>
                  <a:lnTo>
                    <a:pt x="403" y="483"/>
                  </a:lnTo>
                  <a:lnTo>
                    <a:pt x="470" y="360"/>
                  </a:lnTo>
                  <a:lnTo>
                    <a:pt x="490" y="252"/>
                  </a:lnTo>
                  <a:lnTo>
                    <a:pt x="495" y="129"/>
                  </a:lnTo>
                  <a:lnTo>
                    <a:pt x="470" y="51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224760" y="2481120"/>
              <a:ext cx="604800" cy="901800"/>
            </a:xfrm>
            <a:custGeom>
              <a:avLst/>
              <a:gdLst/>
              <a:ahLst/>
              <a:rect l="l" t="t" r="r" b="b"/>
              <a:pathLst>
                <a:path w="512" h="791">
                  <a:moveTo>
                    <a:pt x="62" y="755"/>
                  </a:moveTo>
                  <a:lnTo>
                    <a:pt x="150" y="755"/>
                  </a:lnTo>
                  <a:lnTo>
                    <a:pt x="243" y="719"/>
                  </a:lnTo>
                  <a:lnTo>
                    <a:pt x="310" y="673"/>
                  </a:lnTo>
                  <a:lnTo>
                    <a:pt x="378" y="606"/>
                  </a:lnTo>
                  <a:lnTo>
                    <a:pt x="429" y="519"/>
                  </a:lnTo>
                  <a:lnTo>
                    <a:pt x="460" y="426"/>
                  </a:lnTo>
                  <a:lnTo>
                    <a:pt x="481" y="339"/>
                  </a:lnTo>
                  <a:lnTo>
                    <a:pt x="486" y="257"/>
                  </a:lnTo>
                  <a:lnTo>
                    <a:pt x="481" y="185"/>
                  </a:lnTo>
                  <a:lnTo>
                    <a:pt x="476" y="128"/>
                  </a:lnTo>
                  <a:lnTo>
                    <a:pt x="440" y="98"/>
                  </a:lnTo>
                  <a:lnTo>
                    <a:pt x="393" y="67"/>
                  </a:lnTo>
                  <a:lnTo>
                    <a:pt x="372" y="62"/>
                  </a:lnTo>
                  <a:lnTo>
                    <a:pt x="341" y="26"/>
                  </a:lnTo>
                  <a:lnTo>
                    <a:pt x="347" y="0"/>
                  </a:lnTo>
                  <a:lnTo>
                    <a:pt x="383" y="26"/>
                  </a:lnTo>
                  <a:lnTo>
                    <a:pt x="496" y="108"/>
                  </a:lnTo>
                  <a:lnTo>
                    <a:pt x="512" y="164"/>
                  </a:lnTo>
                  <a:lnTo>
                    <a:pt x="512" y="241"/>
                  </a:lnTo>
                  <a:lnTo>
                    <a:pt x="512" y="318"/>
                  </a:lnTo>
                  <a:lnTo>
                    <a:pt x="507" y="406"/>
                  </a:lnTo>
                  <a:lnTo>
                    <a:pt x="481" y="478"/>
                  </a:lnTo>
                  <a:lnTo>
                    <a:pt x="460" y="544"/>
                  </a:lnTo>
                  <a:lnTo>
                    <a:pt x="429" y="601"/>
                  </a:lnTo>
                  <a:lnTo>
                    <a:pt x="393" y="647"/>
                  </a:lnTo>
                  <a:lnTo>
                    <a:pt x="352" y="693"/>
                  </a:lnTo>
                  <a:lnTo>
                    <a:pt x="290" y="729"/>
                  </a:lnTo>
                  <a:lnTo>
                    <a:pt x="217" y="765"/>
                  </a:lnTo>
                  <a:lnTo>
                    <a:pt x="150" y="786"/>
                  </a:lnTo>
                  <a:lnTo>
                    <a:pt x="52" y="791"/>
                  </a:lnTo>
                  <a:lnTo>
                    <a:pt x="0" y="765"/>
                  </a:lnTo>
                  <a:lnTo>
                    <a:pt x="62" y="755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50760" y="2476440"/>
              <a:ext cx="639720" cy="987480"/>
            </a:xfrm>
            <a:custGeom>
              <a:avLst/>
              <a:gdLst/>
              <a:ahLst/>
              <a:rect l="l" t="t" r="r" b="b"/>
              <a:pathLst>
                <a:path w="542" h="868">
                  <a:moveTo>
                    <a:pt x="108" y="827"/>
                  </a:moveTo>
                  <a:lnTo>
                    <a:pt x="160" y="760"/>
                  </a:lnTo>
                  <a:lnTo>
                    <a:pt x="160" y="714"/>
                  </a:lnTo>
                  <a:lnTo>
                    <a:pt x="237" y="693"/>
                  </a:lnTo>
                  <a:lnTo>
                    <a:pt x="320" y="657"/>
                  </a:lnTo>
                  <a:lnTo>
                    <a:pt x="382" y="606"/>
                  </a:lnTo>
                  <a:lnTo>
                    <a:pt x="439" y="534"/>
                  </a:lnTo>
                  <a:lnTo>
                    <a:pt x="485" y="467"/>
                  </a:lnTo>
                  <a:lnTo>
                    <a:pt x="516" y="385"/>
                  </a:lnTo>
                  <a:lnTo>
                    <a:pt x="527" y="308"/>
                  </a:lnTo>
                  <a:lnTo>
                    <a:pt x="542" y="247"/>
                  </a:lnTo>
                  <a:lnTo>
                    <a:pt x="542" y="144"/>
                  </a:lnTo>
                  <a:lnTo>
                    <a:pt x="521" y="77"/>
                  </a:lnTo>
                  <a:lnTo>
                    <a:pt x="490" y="26"/>
                  </a:lnTo>
                  <a:lnTo>
                    <a:pt x="444" y="0"/>
                  </a:lnTo>
                  <a:lnTo>
                    <a:pt x="470" y="46"/>
                  </a:lnTo>
                  <a:lnTo>
                    <a:pt x="501" y="98"/>
                  </a:lnTo>
                  <a:lnTo>
                    <a:pt x="516" y="154"/>
                  </a:lnTo>
                  <a:lnTo>
                    <a:pt x="511" y="216"/>
                  </a:lnTo>
                  <a:lnTo>
                    <a:pt x="506" y="288"/>
                  </a:lnTo>
                  <a:lnTo>
                    <a:pt x="490" y="375"/>
                  </a:lnTo>
                  <a:lnTo>
                    <a:pt x="470" y="442"/>
                  </a:lnTo>
                  <a:lnTo>
                    <a:pt x="423" y="508"/>
                  </a:lnTo>
                  <a:lnTo>
                    <a:pt x="377" y="570"/>
                  </a:lnTo>
                  <a:lnTo>
                    <a:pt x="325" y="616"/>
                  </a:lnTo>
                  <a:lnTo>
                    <a:pt x="253" y="657"/>
                  </a:lnTo>
                  <a:lnTo>
                    <a:pt x="191" y="683"/>
                  </a:lnTo>
                  <a:lnTo>
                    <a:pt x="124" y="688"/>
                  </a:lnTo>
                  <a:lnTo>
                    <a:pt x="77" y="673"/>
                  </a:lnTo>
                  <a:lnTo>
                    <a:pt x="46" y="709"/>
                  </a:lnTo>
                  <a:lnTo>
                    <a:pt x="0" y="776"/>
                  </a:lnTo>
                  <a:lnTo>
                    <a:pt x="36" y="812"/>
                  </a:lnTo>
                  <a:lnTo>
                    <a:pt x="98" y="734"/>
                  </a:lnTo>
                  <a:lnTo>
                    <a:pt x="134" y="740"/>
                  </a:lnTo>
                  <a:lnTo>
                    <a:pt x="57" y="832"/>
                  </a:lnTo>
                  <a:lnTo>
                    <a:pt x="77" y="868"/>
                  </a:lnTo>
                  <a:lnTo>
                    <a:pt x="108" y="827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381000" y="2463840"/>
              <a:ext cx="615960" cy="826920"/>
            </a:xfrm>
            <a:custGeom>
              <a:avLst/>
              <a:gdLst/>
              <a:ahLst/>
              <a:rect l="l" t="t" r="r" b="b"/>
              <a:pathLst>
                <a:path w="522" h="726">
                  <a:moveTo>
                    <a:pt x="72" y="711"/>
                  </a:moveTo>
                  <a:lnTo>
                    <a:pt x="36" y="659"/>
                  </a:lnTo>
                  <a:lnTo>
                    <a:pt x="10" y="608"/>
                  </a:lnTo>
                  <a:lnTo>
                    <a:pt x="0" y="541"/>
                  </a:lnTo>
                  <a:lnTo>
                    <a:pt x="5" y="458"/>
                  </a:lnTo>
                  <a:lnTo>
                    <a:pt x="21" y="366"/>
                  </a:lnTo>
                  <a:lnTo>
                    <a:pt x="52" y="268"/>
                  </a:lnTo>
                  <a:lnTo>
                    <a:pt x="98" y="180"/>
                  </a:lnTo>
                  <a:lnTo>
                    <a:pt x="171" y="93"/>
                  </a:lnTo>
                  <a:lnTo>
                    <a:pt x="269" y="31"/>
                  </a:lnTo>
                  <a:lnTo>
                    <a:pt x="357" y="0"/>
                  </a:lnTo>
                  <a:lnTo>
                    <a:pt x="419" y="5"/>
                  </a:lnTo>
                  <a:lnTo>
                    <a:pt x="470" y="26"/>
                  </a:lnTo>
                  <a:lnTo>
                    <a:pt x="522" y="62"/>
                  </a:lnTo>
                  <a:lnTo>
                    <a:pt x="512" y="93"/>
                  </a:lnTo>
                  <a:lnTo>
                    <a:pt x="450" y="46"/>
                  </a:lnTo>
                  <a:lnTo>
                    <a:pt x="413" y="31"/>
                  </a:lnTo>
                  <a:lnTo>
                    <a:pt x="362" y="31"/>
                  </a:lnTo>
                  <a:lnTo>
                    <a:pt x="315" y="46"/>
                  </a:lnTo>
                  <a:lnTo>
                    <a:pt x="258" y="67"/>
                  </a:lnTo>
                  <a:lnTo>
                    <a:pt x="217" y="98"/>
                  </a:lnTo>
                  <a:lnTo>
                    <a:pt x="171" y="129"/>
                  </a:lnTo>
                  <a:lnTo>
                    <a:pt x="140" y="175"/>
                  </a:lnTo>
                  <a:lnTo>
                    <a:pt x="109" y="227"/>
                  </a:lnTo>
                  <a:lnTo>
                    <a:pt x="78" y="288"/>
                  </a:lnTo>
                  <a:lnTo>
                    <a:pt x="52" y="355"/>
                  </a:lnTo>
                  <a:lnTo>
                    <a:pt x="36" y="438"/>
                  </a:lnTo>
                  <a:lnTo>
                    <a:pt x="36" y="530"/>
                  </a:lnTo>
                  <a:lnTo>
                    <a:pt x="41" y="608"/>
                  </a:lnTo>
                  <a:lnTo>
                    <a:pt x="78" y="675"/>
                  </a:lnTo>
                  <a:lnTo>
                    <a:pt x="150" y="726"/>
                  </a:lnTo>
                  <a:lnTo>
                    <a:pt x="72" y="711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530400" y="2679840"/>
              <a:ext cx="68040" cy="217440"/>
            </a:xfrm>
            <a:custGeom>
              <a:avLst/>
              <a:gdLst/>
              <a:ahLst/>
              <a:rect l="l" t="t" r="r" b="b"/>
              <a:pathLst>
                <a:path w="59" h="191">
                  <a:moveTo>
                    <a:pt x="0" y="0"/>
                  </a:moveTo>
                  <a:lnTo>
                    <a:pt x="30" y="37"/>
                  </a:lnTo>
                  <a:lnTo>
                    <a:pt x="47" y="80"/>
                  </a:lnTo>
                  <a:lnTo>
                    <a:pt x="59" y="143"/>
                  </a:lnTo>
                  <a:lnTo>
                    <a:pt x="53" y="191"/>
                  </a:lnTo>
                  <a:lnTo>
                    <a:pt x="35" y="170"/>
                  </a:lnTo>
                  <a:lnTo>
                    <a:pt x="30" y="117"/>
                  </a:lnTo>
                  <a:lnTo>
                    <a:pt x="1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873840" y="3344760"/>
              <a:ext cx="658800" cy="681120"/>
            </a:xfrm>
            <a:custGeom>
              <a:avLst/>
              <a:gdLst/>
              <a:ahLst/>
              <a:rect l="l" t="t" r="r" b="b"/>
              <a:pathLst>
                <a:path w="558" h="598">
                  <a:moveTo>
                    <a:pt x="496" y="0"/>
                  </a:moveTo>
                  <a:lnTo>
                    <a:pt x="413" y="15"/>
                  </a:lnTo>
                  <a:lnTo>
                    <a:pt x="341" y="36"/>
                  </a:lnTo>
                  <a:lnTo>
                    <a:pt x="258" y="93"/>
                  </a:lnTo>
                  <a:lnTo>
                    <a:pt x="181" y="165"/>
                  </a:lnTo>
                  <a:lnTo>
                    <a:pt x="109" y="253"/>
                  </a:lnTo>
                  <a:lnTo>
                    <a:pt x="31" y="371"/>
                  </a:lnTo>
                  <a:lnTo>
                    <a:pt x="0" y="454"/>
                  </a:lnTo>
                  <a:lnTo>
                    <a:pt x="0" y="485"/>
                  </a:lnTo>
                  <a:lnTo>
                    <a:pt x="31" y="521"/>
                  </a:lnTo>
                  <a:lnTo>
                    <a:pt x="72" y="567"/>
                  </a:lnTo>
                  <a:lnTo>
                    <a:pt x="140" y="598"/>
                  </a:lnTo>
                  <a:lnTo>
                    <a:pt x="186" y="577"/>
                  </a:lnTo>
                  <a:lnTo>
                    <a:pt x="264" y="479"/>
                  </a:lnTo>
                  <a:lnTo>
                    <a:pt x="341" y="381"/>
                  </a:lnTo>
                  <a:lnTo>
                    <a:pt x="413" y="263"/>
                  </a:lnTo>
                  <a:lnTo>
                    <a:pt x="486" y="165"/>
                  </a:lnTo>
                  <a:lnTo>
                    <a:pt x="558" y="77"/>
                  </a:lnTo>
                  <a:lnTo>
                    <a:pt x="543" y="26"/>
                  </a:lnTo>
                  <a:lnTo>
                    <a:pt x="496" y="31"/>
                  </a:lnTo>
                  <a:lnTo>
                    <a:pt x="486" y="72"/>
                  </a:lnTo>
                  <a:lnTo>
                    <a:pt x="465" y="134"/>
                  </a:lnTo>
                  <a:lnTo>
                    <a:pt x="403" y="217"/>
                  </a:lnTo>
                  <a:lnTo>
                    <a:pt x="357" y="294"/>
                  </a:lnTo>
                  <a:lnTo>
                    <a:pt x="300" y="371"/>
                  </a:lnTo>
                  <a:lnTo>
                    <a:pt x="264" y="438"/>
                  </a:lnTo>
                  <a:lnTo>
                    <a:pt x="196" y="510"/>
                  </a:lnTo>
                  <a:lnTo>
                    <a:pt x="155" y="557"/>
                  </a:lnTo>
                  <a:lnTo>
                    <a:pt x="124" y="567"/>
                  </a:lnTo>
                  <a:lnTo>
                    <a:pt x="67" y="541"/>
                  </a:lnTo>
                  <a:lnTo>
                    <a:pt x="41" y="495"/>
                  </a:lnTo>
                  <a:lnTo>
                    <a:pt x="36" y="454"/>
                  </a:lnTo>
                  <a:lnTo>
                    <a:pt x="62" y="387"/>
                  </a:lnTo>
                  <a:lnTo>
                    <a:pt x="103" y="309"/>
                  </a:lnTo>
                  <a:lnTo>
                    <a:pt x="160" y="222"/>
                  </a:lnTo>
                  <a:lnTo>
                    <a:pt x="238" y="150"/>
                  </a:lnTo>
                  <a:lnTo>
                    <a:pt x="305" y="93"/>
                  </a:lnTo>
                  <a:lnTo>
                    <a:pt x="382" y="52"/>
                  </a:lnTo>
                  <a:lnTo>
                    <a:pt x="444" y="41"/>
                  </a:lnTo>
                  <a:lnTo>
                    <a:pt x="491" y="3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897960" y="2424240"/>
              <a:ext cx="1122120" cy="1839600"/>
              <a:chOff x="6897960" y="2424240"/>
              <a:chExt cx="1122120" cy="1839600"/>
            </a:xfrm>
          </p:grpSpPr>
          <p:sp>
            <p:nvSpPr>
              <p:cNvPr id="386" name=""/>
              <p:cNvSpPr/>
              <p:nvPr/>
            </p:nvSpPr>
            <p:spPr>
              <a:xfrm flipH="1">
                <a:off x="7000200" y="2424240"/>
                <a:ext cx="435960" cy="356040"/>
              </a:xfrm>
              <a:custGeom>
                <a:avLst/>
                <a:gdLst/>
                <a:ahLst/>
                <a:rect l="l" t="t" r="r" b="b"/>
                <a:pathLst>
                  <a:path w="369" h="313">
                    <a:moveTo>
                      <a:pt x="255" y="183"/>
                    </a:moveTo>
                    <a:lnTo>
                      <a:pt x="286" y="130"/>
                    </a:lnTo>
                    <a:lnTo>
                      <a:pt x="301" y="78"/>
                    </a:lnTo>
                    <a:lnTo>
                      <a:pt x="291" y="42"/>
                    </a:lnTo>
                    <a:lnTo>
                      <a:pt x="275" y="16"/>
                    </a:lnTo>
                    <a:lnTo>
                      <a:pt x="234" y="0"/>
                    </a:lnTo>
                    <a:lnTo>
                      <a:pt x="187" y="0"/>
                    </a:lnTo>
                    <a:lnTo>
                      <a:pt x="120" y="21"/>
                    </a:lnTo>
                    <a:lnTo>
                      <a:pt x="52" y="83"/>
                    </a:lnTo>
                    <a:lnTo>
                      <a:pt x="10" y="151"/>
                    </a:lnTo>
                    <a:lnTo>
                      <a:pt x="0" y="224"/>
                    </a:lnTo>
                    <a:lnTo>
                      <a:pt x="16" y="266"/>
                    </a:lnTo>
                    <a:lnTo>
                      <a:pt x="52" y="297"/>
                    </a:lnTo>
                    <a:lnTo>
                      <a:pt x="99" y="313"/>
                    </a:lnTo>
                    <a:lnTo>
                      <a:pt x="151" y="303"/>
                    </a:lnTo>
                    <a:lnTo>
                      <a:pt x="208" y="266"/>
                    </a:lnTo>
                    <a:lnTo>
                      <a:pt x="239" y="230"/>
                    </a:lnTo>
                    <a:lnTo>
                      <a:pt x="301" y="261"/>
                    </a:lnTo>
                    <a:lnTo>
                      <a:pt x="343" y="287"/>
                    </a:lnTo>
                    <a:lnTo>
                      <a:pt x="359" y="287"/>
                    </a:lnTo>
                    <a:lnTo>
                      <a:pt x="369" y="256"/>
                    </a:lnTo>
                    <a:lnTo>
                      <a:pt x="353" y="235"/>
                    </a:lnTo>
                    <a:lnTo>
                      <a:pt x="312" y="240"/>
                    </a:lnTo>
                    <a:lnTo>
                      <a:pt x="281" y="224"/>
                    </a:lnTo>
                    <a:lnTo>
                      <a:pt x="255" y="183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7366680" y="2789640"/>
                <a:ext cx="425160" cy="588240"/>
              </a:xfrm>
              <a:custGeom>
                <a:avLst/>
                <a:gdLst/>
                <a:ahLst/>
                <a:rect l="l" t="t" r="r" b="b"/>
                <a:pathLst>
                  <a:path w="360" h="517">
                    <a:moveTo>
                      <a:pt x="130" y="78"/>
                    </a:moveTo>
                    <a:lnTo>
                      <a:pt x="209" y="21"/>
                    </a:lnTo>
                    <a:lnTo>
                      <a:pt x="266" y="0"/>
                    </a:lnTo>
                    <a:lnTo>
                      <a:pt x="303" y="0"/>
                    </a:lnTo>
                    <a:lnTo>
                      <a:pt x="334" y="16"/>
                    </a:lnTo>
                    <a:lnTo>
                      <a:pt x="360" y="57"/>
                    </a:lnTo>
                    <a:lnTo>
                      <a:pt x="360" y="93"/>
                    </a:lnTo>
                    <a:lnTo>
                      <a:pt x="329" y="160"/>
                    </a:lnTo>
                    <a:lnTo>
                      <a:pt x="271" y="202"/>
                    </a:lnTo>
                    <a:lnTo>
                      <a:pt x="235" y="248"/>
                    </a:lnTo>
                    <a:lnTo>
                      <a:pt x="209" y="305"/>
                    </a:lnTo>
                    <a:lnTo>
                      <a:pt x="198" y="377"/>
                    </a:lnTo>
                    <a:lnTo>
                      <a:pt x="214" y="434"/>
                    </a:lnTo>
                    <a:lnTo>
                      <a:pt x="209" y="476"/>
                    </a:lnTo>
                    <a:lnTo>
                      <a:pt x="183" y="501"/>
                    </a:lnTo>
                    <a:lnTo>
                      <a:pt x="136" y="517"/>
                    </a:lnTo>
                    <a:lnTo>
                      <a:pt x="73" y="491"/>
                    </a:lnTo>
                    <a:lnTo>
                      <a:pt x="26" y="445"/>
                    </a:lnTo>
                    <a:lnTo>
                      <a:pt x="0" y="357"/>
                    </a:lnTo>
                    <a:lnTo>
                      <a:pt x="0" y="284"/>
                    </a:lnTo>
                    <a:lnTo>
                      <a:pt x="21" y="207"/>
                    </a:lnTo>
                    <a:lnTo>
                      <a:pt x="57" y="150"/>
                    </a:lnTo>
                    <a:lnTo>
                      <a:pt x="89" y="109"/>
                    </a:lnTo>
                    <a:lnTo>
                      <a:pt x="130" y="78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7445520" y="2771280"/>
                <a:ext cx="574200" cy="553320"/>
              </a:xfrm>
              <a:custGeom>
                <a:avLst/>
                <a:gdLst/>
                <a:ahLst/>
                <a:rect l="l" t="t" r="r" b="b"/>
                <a:pathLst>
                  <a:path w="486" h="486">
                    <a:moveTo>
                      <a:pt x="398" y="0"/>
                    </a:moveTo>
                    <a:lnTo>
                      <a:pt x="486" y="16"/>
                    </a:lnTo>
                    <a:lnTo>
                      <a:pt x="476" y="52"/>
                    </a:lnTo>
                    <a:lnTo>
                      <a:pt x="424" y="62"/>
                    </a:lnTo>
                    <a:lnTo>
                      <a:pt x="367" y="52"/>
                    </a:lnTo>
                    <a:lnTo>
                      <a:pt x="284" y="57"/>
                    </a:lnTo>
                    <a:lnTo>
                      <a:pt x="186" y="83"/>
                    </a:lnTo>
                    <a:lnTo>
                      <a:pt x="98" y="109"/>
                    </a:lnTo>
                    <a:lnTo>
                      <a:pt x="67" y="140"/>
                    </a:lnTo>
                    <a:lnTo>
                      <a:pt x="72" y="160"/>
                    </a:lnTo>
                    <a:lnTo>
                      <a:pt x="114" y="233"/>
                    </a:lnTo>
                    <a:lnTo>
                      <a:pt x="150" y="300"/>
                    </a:lnTo>
                    <a:lnTo>
                      <a:pt x="191" y="346"/>
                    </a:lnTo>
                    <a:lnTo>
                      <a:pt x="212" y="362"/>
                    </a:lnTo>
                    <a:lnTo>
                      <a:pt x="207" y="398"/>
                    </a:lnTo>
                    <a:lnTo>
                      <a:pt x="160" y="424"/>
                    </a:lnTo>
                    <a:lnTo>
                      <a:pt x="124" y="455"/>
                    </a:lnTo>
                    <a:lnTo>
                      <a:pt x="109" y="486"/>
                    </a:lnTo>
                    <a:lnTo>
                      <a:pt x="78" y="486"/>
                    </a:lnTo>
                    <a:lnTo>
                      <a:pt x="72" y="450"/>
                    </a:lnTo>
                    <a:lnTo>
                      <a:pt x="109" y="408"/>
                    </a:lnTo>
                    <a:lnTo>
                      <a:pt x="155" y="372"/>
                    </a:lnTo>
                    <a:lnTo>
                      <a:pt x="150" y="357"/>
                    </a:lnTo>
                    <a:lnTo>
                      <a:pt x="109" y="300"/>
                    </a:lnTo>
                    <a:lnTo>
                      <a:pt x="62" y="233"/>
                    </a:lnTo>
                    <a:lnTo>
                      <a:pt x="21" y="160"/>
                    </a:lnTo>
                    <a:lnTo>
                      <a:pt x="0" y="119"/>
                    </a:lnTo>
                    <a:lnTo>
                      <a:pt x="31" y="88"/>
                    </a:lnTo>
                    <a:lnTo>
                      <a:pt x="98" y="57"/>
                    </a:lnTo>
                    <a:lnTo>
                      <a:pt x="217" y="16"/>
                    </a:lnTo>
                    <a:lnTo>
                      <a:pt x="326" y="5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6897600" y="2840760"/>
                <a:ext cx="544680" cy="554400"/>
              </a:xfrm>
              <a:custGeom>
                <a:avLst/>
                <a:gdLst/>
                <a:ahLst/>
                <a:rect l="l" t="t" r="r" b="b"/>
                <a:pathLst>
                  <a:path w="461" h="487">
                    <a:moveTo>
                      <a:pt x="52" y="0"/>
                    </a:moveTo>
                    <a:lnTo>
                      <a:pt x="0" y="16"/>
                    </a:lnTo>
                    <a:lnTo>
                      <a:pt x="0" y="52"/>
                    </a:lnTo>
                    <a:lnTo>
                      <a:pt x="26" y="78"/>
                    </a:lnTo>
                    <a:lnTo>
                      <a:pt x="88" y="114"/>
                    </a:lnTo>
                    <a:lnTo>
                      <a:pt x="202" y="187"/>
                    </a:lnTo>
                    <a:lnTo>
                      <a:pt x="269" y="233"/>
                    </a:lnTo>
                    <a:lnTo>
                      <a:pt x="311" y="300"/>
                    </a:lnTo>
                    <a:lnTo>
                      <a:pt x="363" y="389"/>
                    </a:lnTo>
                    <a:lnTo>
                      <a:pt x="368" y="461"/>
                    </a:lnTo>
                    <a:lnTo>
                      <a:pt x="399" y="487"/>
                    </a:lnTo>
                    <a:lnTo>
                      <a:pt x="461" y="430"/>
                    </a:lnTo>
                    <a:lnTo>
                      <a:pt x="414" y="404"/>
                    </a:lnTo>
                    <a:lnTo>
                      <a:pt x="368" y="326"/>
                    </a:lnTo>
                    <a:lnTo>
                      <a:pt x="326" y="254"/>
                    </a:lnTo>
                    <a:lnTo>
                      <a:pt x="311" y="212"/>
                    </a:lnTo>
                    <a:lnTo>
                      <a:pt x="275" y="166"/>
                    </a:lnTo>
                    <a:lnTo>
                      <a:pt x="207" y="114"/>
                    </a:lnTo>
                    <a:lnTo>
                      <a:pt x="129" y="6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349040" y="3257640"/>
                <a:ext cx="297720" cy="902880"/>
              </a:xfrm>
              <a:custGeom>
                <a:avLst/>
                <a:gdLst/>
                <a:ahLst/>
                <a:rect l="l" t="t" r="r" b="b"/>
                <a:pathLst>
                  <a:path w="252" h="793">
                    <a:moveTo>
                      <a:pt x="37" y="0"/>
                    </a:moveTo>
                    <a:lnTo>
                      <a:pt x="0" y="15"/>
                    </a:lnTo>
                    <a:lnTo>
                      <a:pt x="5" y="57"/>
                    </a:lnTo>
                    <a:lnTo>
                      <a:pt x="21" y="82"/>
                    </a:lnTo>
                    <a:lnTo>
                      <a:pt x="63" y="165"/>
                    </a:lnTo>
                    <a:lnTo>
                      <a:pt x="105" y="314"/>
                    </a:lnTo>
                    <a:lnTo>
                      <a:pt x="116" y="402"/>
                    </a:lnTo>
                    <a:lnTo>
                      <a:pt x="79" y="530"/>
                    </a:lnTo>
                    <a:lnTo>
                      <a:pt x="37" y="633"/>
                    </a:lnTo>
                    <a:lnTo>
                      <a:pt x="21" y="721"/>
                    </a:lnTo>
                    <a:lnTo>
                      <a:pt x="37" y="742"/>
                    </a:lnTo>
                    <a:lnTo>
                      <a:pt x="79" y="752"/>
                    </a:lnTo>
                    <a:lnTo>
                      <a:pt x="173" y="788"/>
                    </a:lnTo>
                    <a:lnTo>
                      <a:pt x="210" y="793"/>
                    </a:lnTo>
                    <a:lnTo>
                      <a:pt x="252" y="757"/>
                    </a:lnTo>
                    <a:lnTo>
                      <a:pt x="189" y="736"/>
                    </a:lnTo>
                    <a:lnTo>
                      <a:pt x="100" y="721"/>
                    </a:lnTo>
                    <a:lnTo>
                      <a:pt x="68" y="695"/>
                    </a:lnTo>
                    <a:lnTo>
                      <a:pt x="63" y="659"/>
                    </a:lnTo>
                    <a:lnTo>
                      <a:pt x="100" y="592"/>
                    </a:lnTo>
                    <a:lnTo>
                      <a:pt x="131" y="499"/>
                    </a:lnTo>
                    <a:lnTo>
                      <a:pt x="163" y="386"/>
                    </a:lnTo>
                    <a:lnTo>
                      <a:pt x="158" y="335"/>
                    </a:lnTo>
                    <a:lnTo>
                      <a:pt x="152" y="257"/>
                    </a:lnTo>
                    <a:lnTo>
                      <a:pt x="126" y="165"/>
                    </a:lnTo>
                    <a:lnTo>
                      <a:pt x="105" y="82"/>
                    </a:lnTo>
                    <a:lnTo>
                      <a:pt x="74" y="2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547400" y="3247200"/>
                <a:ext cx="219960" cy="1016640"/>
              </a:xfrm>
              <a:custGeom>
                <a:avLst/>
                <a:gdLst/>
                <a:ahLst/>
                <a:rect l="l" t="t" r="r" b="b"/>
                <a:pathLst>
                  <a:path w="186" h="893">
                    <a:moveTo>
                      <a:pt x="43" y="36"/>
                    </a:moveTo>
                    <a:lnTo>
                      <a:pt x="74" y="0"/>
                    </a:lnTo>
                    <a:lnTo>
                      <a:pt x="117" y="10"/>
                    </a:lnTo>
                    <a:lnTo>
                      <a:pt x="128" y="51"/>
                    </a:lnTo>
                    <a:lnTo>
                      <a:pt x="143" y="221"/>
                    </a:lnTo>
                    <a:lnTo>
                      <a:pt x="138" y="359"/>
                    </a:lnTo>
                    <a:lnTo>
                      <a:pt x="128" y="457"/>
                    </a:lnTo>
                    <a:lnTo>
                      <a:pt x="90" y="647"/>
                    </a:lnTo>
                    <a:lnTo>
                      <a:pt x="64" y="739"/>
                    </a:lnTo>
                    <a:lnTo>
                      <a:pt x="74" y="770"/>
                    </a:lnTo>
                    <a:lnTo>
                      <a:pt x="143" y="816"/>
                    </a:lnTo>
                    <a:lnTo>
                      <a:pt x="186" y="872"/>
                    </a:lnTo>
                    <a:lnTo>
                      <a:pt x="175" y="888"/>
                    </a:lnTo>
                    <a:lnTo>
                      <a:pt x="122" y="893"/>
                    </a:lnTo>
                    <a:lnTo>
                      <a:pt x="90" y="883"/>
                    </a:lnTo>
                    <a:lnTo>
                      <a:pt x="80" y="852"/>
                    </a:lnTo>
                    <a:lnTo>
                      <a:pt x="74" y="821"/>
                    </a:lnTo>
                    <a:lnTo>
                      <a:pt x="32" y="775"/>
                    </a:lnTo>
                    <a:lnTo>
                      <a:pt x="0" y="744"/>
                    </a:lnTo>
                    <a:lnTo>
                      <a:pt x="11" y="698"/>
                    </a:lnTo>
                    <a:lnTo>
                      <a:pt x="48" y="652"/>
                    </a:lnTo>
                    <a:lnTo>
                      <a:pt x="74" y="539"/>
                    </a:lnTo>
                    <a:lnTo>
                      <a:pt x="85" y="416"/>
                    </a:lnTo>
                    <a:lnTo>
                      <a:pt x="80" y="287"/>
                    </a:lnTo>
                    <a:lnTo>
                      <a:pt x="58" y="159"/>
                    </a:lnTo>
                    <a:lnTo>
                      <a:pt x="32" y="67"/>
                    </a:lnTo>
                    <a:lnTo>
                      <a:pt x="43" y="36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2" name="pcs_popular_159" descr=""/>
          <p:cNvPicPr/>
          <p:nvPr/>
        </p:nvPicPr>
        <p:blipFill>
          <a:blip r:embed="rId1"/>
          <a:stretch/>
        </p:blipFill>
        <p:spPr>
          <a:xfrm>
            <a:off x="7765920" y="825480"/>
            <a:ext cx="890640" cy="154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35440" y="3125880"/>
            <a:ext cx="64116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836880" y="2350800"/>
            <a:ext cx="75276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665600" y="4076640"/>
            <a:ext cx="2163960" cy="1652040"/>
            <a:chOff x="4665600" y="4076640"/>
            <a:chExt cx="2163960" cy="1652040"/>
          </a:xfrm>
        </p:grpSpPr>
        <p:sp>
          <p:nvSpPr>
            <p:cNvPr id="397" name=""/>
            <p:cNvSpPr/>
            <p:nvPr/>
          </p:nvSpPr>
          <p:spPr>
            <a:xfrm>
              <a:off x="4675320" y="4076640"/>
              <a:ext cx="887400" cy="121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65600" y="5270400"/>
              <a:ext cx="2163960" cy="45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Kierownik Zesp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8280" y="2743200"/>
            <a:ext cx="3770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ntrola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056200" y="2413080"/>
            <a:ext cx="1130400" cy="512280"/>
            <a:chOff x="5056200" y="2413080"/>
            <a:chExt cx="1130400" cy="512280"/>
          </a:xfrm>
        </p:grpSpPr>
        <p:sp>
          <p:nvSpPr>
            <p:cNvPr id="407" name=""/>
            <p:cNvSpPr/>
            <p:nvPr/>
          </p:nvSpPr>
          <p:spPr>
            <a:xfrm>
              <a:off x="5056200" y="2514600"/>
              <a:ext cx="1130400" cy="390600"/>
            </a:xfrm>
            <a:prstGeom prst="foldedCorner">
              <a:avLst>
                <a:gd name="adj" fmla="val 31462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95800" y="2413080"/>
              <a:ext cx="1089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Ra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56200" y="2971800"/>
            <a:ext cx="1130400" cy="390600"/>
          </a:xfrm>
          <a:prstGeom prst="foldedCorner">
            <a:avLst>
              <a:gd name="adj" fmla="val 31462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95800" y="2870280"/>
            <a:ext cx="10890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247644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43520" y="295920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7246800" y="4708440"/>
            <a:ext cx="726840" cy="1633320"/>
            <a:chOff x="7246800" y="4708440"/>
            <a:chExt cx="726840" cy="1633320"/>
          </a:xfrm>
        </p:grpSpPr>
        <p:sp>
          <p:nvSpPr>
            <p:cNvPr id="414" name=""/>
            <p:cNvSpPr/>
            <p:nvPr/>
          </p:nvSpPr>
          <p:spPr>
            <a:xfrm>
              <a:off x="7426800" y="4790520"/>
              <a:ext cx="421200" cy="367200"/>
            </a:xfrm>
            <a:custGeom>
              <a:avLst/>
              <a:gdLst/>
              <a:ahLst/>
              <a:rect l="l" t="t" r="r" b="b"/>
              <a:pathLst>
                <a:path w="853" h="831">
                  <a:moveTo>
                    <a:pt x="260" y="351"/>
                  </a:moveTo>
                  <a:lnTo>
                    <a:pt x="335" y="241"/>
                  </a:lnTo>
                  <a:lnTo>
                    <a:pt x="418" y="157"/>
                  </a:lnTo>
                  <a:lnTo>
                    <a:pt x="502" y="55"/>
                  </a:lnTo>
                  <a:lnTo>
                    <a:pt x="603" y="9"/>
                  </a:lnTo>
                  <a:lnTo>
                    <a:pt x="686" y="0"/>
                  </a:lnTo>
                  <a:lnTo>
                    <a:pt x="770" y="28"/>
                  </a:lnTo>
                  <a:lnTo>
                    <a:pt x="817" y="93"/>
                  </a:lnTo>
                  <a:lnTo>
                    <a:pt x="853" y="212"/>
                  </a:lnTo>
                  <a:lnTo>
                    <a:pt x="844" y="342"/>
                  </a:lnTo>
                  <a:lnTo>
                    <a:pt x="807" y="453"/>
                  </a:lnTo>
                  <a:lnTo>
                    <a:pt x="714" y="581"/>
                  </a:lnTo>
                  <a:lnTo>
                    <a:pt x="613" y="674"/>
                  </a:lnTo>
                  <a:lnTo>
                    <a:pt x="502" y="758"/>
                  </a:lnTo>
                  <a:lnTo>
                    <a:pt x="381" y="813"/>
                  </a:lnTo>
                  <a:lnTo>
                    <a:pt x="278" y="831"/>
                  </a:lnTo>
                  <a:lnTo>
                    <a:pt x="232" y="803"/>
                  </a:lnTo>
                  <a:lnTo>
                    <a:pt x="195" y="692"/>
                  </a:lnTo>
                  <a:lnTo>
                    <a:pt x="205" y="544"/>
                  </a:lnTo>
                  <a:lnTo>
                    <a:pt x="28" y="555"/>
                  </a:lnTo>
                  <a:lnTo>
                    <a:pt x="0" y="526"/>
                  </a:lnTo>
                  <a:lnTo>
                    <a:pt x="28" y="471"/>
                  </a:lnTo>
                  <a:lnTo>
                    <a:pt x="214" y="462"/>
                  </a:lnTo>
                  <a:lnTo>
                    <a:pt x="260" y="35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406640" y="5179320"/>
              <a:ext cx="290880" cy="542880"/>
            </a:xfrm>
            <a:custGeom>
              <a:avLst/>
              <a:gdLst/>
              <a:ahLst/>
              <a:rect l="l" t="t" r="r" b="b"/>
              <a:pathLst>
                <a:path w="590" h="1226">
                  <a:moveTo>
                    <a:pt x="165" y="102"/>
                  </a:moveTo>
                  <a:lnTo>
                    <a:pt x="249" y="28"/>
                  </a:lnTo>
                  <a:lnTo>
                    <a:pt x="378" y="0"/>
                  </a:lnTo>
                  <a:lnTo>
                    <a:pt x="489" y="18"/>
                  </a:lnTo>
                  <a:lnTo>
                    <a:pt x="572" y="93"/>
                  </a:lnTo>
                  <a:lnTo>
                    <a:pt x="590" y="148"/>
                  </a:lnTo>
                  <a:lnTo>
                    <a:pt x="590" y="223"/>
                  </a:lnTo>
                  <a:lnTo>
                    <a:pt x="553" y="289"/>
                  </a:lnTo>
                  <a:lnTo>
                    <a:pt x="489" y="399"/>
                  </a:lnTo>
                  <a:lnTo>
                    <a:pt x="460" y="529"/>
                  </a:lnTo>
                  <a:lnTo>
                    <a:pt x="451" y="641"/>
                  </a:lnTo>
                  <a:lnTo>
                    <a:pt x="480" y="761"/>
                  </a:lnTo>
                  <a:lnTo>
                    <a:pt x="553" y="873"/>
                  </a:lnTo>
                  <a:lnTo>
                    <a:pt x="581" y="984"/>
                  </a:lnTo>
                  <a:lnTo>
                    <a:pt x="572" y="1087"/>
                  </a:lnTo>
                  <a:lnTo>
                    <a:pt x="517" y="1171"/>
                  </a:lnTo>
                  <a:lnTo>
                    <a:pt x="442" y="1217"/>
                  </a:lnTo>
                  <a:lnTo>
                    <a:pt x="350" y="1226"/>
                  </a:lnTo>
                  <a:lnTo>
                    <a:pt x="240" y="1226"/>
                  </a:lnTo>
                  <a:lnTo>
                    <a:pt x="157" y="1180"/>
                  </a:lnTo>
                  <a:lnTo>
                    <a:pt x="75" y="1041"/>
                  </a:lnTo>
                  <a:lnTo>
                    <a:pt x="18" y="920"/>
                  </a:lnTo>
                  <a:lnTo>
                    <a:pt x="0" y="734"/>
                  </a:lnTo>
                  <a:lnTo>
                    <a:pt x="18" y="567"/>
                  </a:lnTo>
                  <a:lnTo>
                    <a:pt x="55" y="390"/>
                  </a:lnTo>
                  <a:lnTo>
                    <a:pt x="110" y="214"/>
                  </a:lnTo>
                  <a:lnTo>
                    <a:pt x="165" y="102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36680" y="5196600"/>
              <a:ext cx="323640" cy="487080"/>
            </a:xfrm>
            <a:custGeom>
              <a:avLst/>
              <a:gdLst/>
              <a:ahLst/>
              <a:rect l="l" t="t" r="r" b="b"/>
              <a:pathLst>
                <a:path w="656" h="1100">
                  <a:moveTo>
                    <a:pt x="0" y="55"/>
                  </a:moveTo>
                  <a:lnTo>
                    <a:pt x="10" y="9"/>
                  </a:lnTo>
                  <a:lnTo>
                    <a:pt x="111" y="0"/>
                  </a:lnTo>
                  <a:lnTo>
                    <a:pt x="166" y="46"/>
                  </a:lnTo>
                  <a:lnTo>
                    <a:pt x="250" y="166"/>
                  </a:lnTo>
                  <a:lnTo>
                    <a:pt x="361" y="323"/>
                  </a:lnTo>
                  <a:lnTo>
                    <a:pt x="463" y="435"/>
                  </a:lnTo>
                  <a:lnTo>
                    <a:pt x="647" y="638"/>
                  </a:lnTo>
                  <a:lnTo>
                    <a:pt x="656" y="685"/>
                  </a:lnTo>
                  <a:lnTo>
                    <a:pt x="620" y="712"/>
                  </a:lnTo>
                  <a:lnTo>
                    <a:pt x="528" y="749"/>
                  </a:lnTo>
                  <a:lnTo>
                    <a:pt x="399" y="777"/>
                  </a:lnTo>
                  <a:lnTo>
                    <a:pt x="241" y="786"/>
                  </a:lnTo>
                  <a:lnTo>
                    <a:pt x="186" y="795"/>
                  </a:lnTo>
                  <a:lnTo>
                    <a:pt x="166" y="833"/>
                  </a:lnTo>
                  <a:lnTo>
                    <a:pt x="204" y="897"/>
                  </a:lnTo>
                  <a:lnTo>
                    <a:pt x="333" y="1008"/>
                  </a:lnTo>
                  <a:lnTo>
                    <a:pt x="425" y="1036"/>
                  </a:lnTo>
                  <a:lnTo>
                    <a:pt x="445" y="1072"/>
                  </a:lnTo>
                  <a:lnTo>
                    <a:pt x="408" y="1100"/>
                  </a:lnTo>
                  <a:lnTo>
                    <a:pt x="324" y="1100"/>
                  </a:lnTo>
                  <a:lnTo>
                    <a:pt x="213" y="1036"/>
                  </a:lnTo>
                  <a:lnTo>
                    <a:pt x="120" y="943"/>
                  </a:lnTo>
                  <a:lnTo>
                    <a:pt x="65" y="860"/>
                  </a:lnTo>
                  <a:lnTo>
                    <a:pt x="65" y="795"/>
                  </a:lnTo>
                  <a:lnTo>
                    <a:pt x="102" y="749"/>
                  </a:lnTo>
                  <a:lnTo>
                    <a:pt x="157" y="731"/>
                  </a:lnTo>
                  <a:lnTo>
                    <a:pt x="241" y="721"/>
                  </a:lnTo>
                  <a:lnTo>
                    <a:pt x="333" y="721"/>
                  </a:lnTo>
                  <a:lnTo>
                    <a:pt x="445" y="703"/>
                  </a:lnTo>
                  <a:lnTo>
                    <a:pt x="500" y="685"/>
                  </a:lnTo>
                  <a:lnTo>
                    <a:pt x="528" y="656"/>
                  </a:lnTo>
                  <a:lnTo>
                    <a:pt x="518" y="629"/>
                  </a:lnTo>
                  <a:lnTo>
                    <a:pt x="434" y="555"/>
                  </a:lnTo>
                  <a:lnTo>
                    <a:pt x="305" y="426"/>
                  </a:lnTo>
                  <a:lnTo>
                    <a:pt x="186" y="314"/>
                  </a:lnTo>
                  <a:lnTo>
                    <a:pt x="56" y="194"/>
                  </a:lnTo>
                  <a:lnTo>
                    <a:pt x="10" y="111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28600" y="5606640"/>
              <a:ext cx="349920" cy="735120"/>
            </a:xfrm>
            <a:custGeom>
              <a:avLst/>
              <a:gdLst/>
              <a:ahLst/>
              <a:rect l="l" t="t" r="r" b="b"/>
              <a:pathLst>
                <a:path w="713" h="1660">
                  <a:moveTo>
                    <a:pt x="352" y="0"/>
                  </a:moveTo>
                  <a:lnTo>
                    <a:pt x="453" y="19"/>
                  </a:lnTo>
                  <a:lnTo>
                    <a:pt x="499" y="93"/>
                  </a:lnTo>
                  <a:lnTo>
                    <a:pt x="490" y="269"/>
                  </a:lnTo>
                  <a:lnTo>
                    <a:pt x="472" y="454"/>
                  </a:lnTo>
                  <a:lnTo>
                    <a:pt x="472" y="649"/>
                  </a:lnTo>
                  <a:lnTo>
                    <a:pt x="565" y="881"/>
                  </a:lnTo>
                  <a:lnTo>
                    <a:pt x="639" y="1048"/>
                  </a:lnTo>
                  <a:lnTo>
                    <a:pt x="676" y="1214"/>
                  </a:lnTo>
                  <a:lnTo>
                    <a:pt x="666" y="1362"/>
                  </a:lnTo>
                  <a:lnTo>
                    <a:pt x="666" y="1417"/>
                  </a:lnTo>
                  <a:lnTo>
                    <a:pt x="703" y="1474"/>
                  </a:lnTo>
                  <a:lnTo>
                    <a:pt x="713" y="1529"/>
                  </a:lnTo>
                  <a:lnTo>
                    <a:pt x="685" y="1556"/>
                  </a:lnTo>
                  <a:lnTo>
                    <a:pt x="611" y="1538"/>
                  </a:lnTo>
                  <a:lnTo>
                    <a:pt x="472" y="1520"/>
                  </a:lnTo>
                  <a:lnTo>
                    <a:pt x="306" y="1556"/>
                  </a:lnTo>
                  <a:lnTo>
                    <a:pt x="194" y="1622"/>
                  </a:lnTo>
                  <a:lnTo>
                    <a:pt x="139" y="1660"/>
                  </a:lnTo>
                  <a:lnTo>
                    <a:pt x="82" y="1660"/>
                  </a:lnTo>
                  <a:lnTo>
                    <a:pt x="0" y="1538"/>
                  </a:lnTo>
                  <a:lnTo>
                    <a:pt x="9" y="1520"/>
                  </a:lnTo>
                  <a:lnTo>
                    <a:pt x="176" y="1464"/>
                  </a:lnTo>
                  <a:lnTo>
                    <a:pt x="370" y="1437"/>
                  </a:lnTo>
                  <a:lnTo>
                    <a:pt x="510" y="1428"/>
                  </a:lnTo>
                  <a:lnTo>
                    <a:pt x="593" y="1428"/>
                  </a:lnTo>
                  <a:lnTo>
                    <a:pt x="611" y="1371"/>
                  </a:lnTo>
                  <a:lnTo>
                    <a:pt x="582" y="1214"/>
                  </a:lnTo>
                  <a:lnTo>
                    <a:pt x="518" y="1048"/>
                  </a:lnTo>
                  <a:lnTo>
                    <a:pt x="416" y="834"/>
                  </a:lnTo>
                  <a:lnTo>
                    <a:pt x="332" y="649"/>
                  </a:lnTo>
                  <a:lnTo>
                    <a:pt x="297" y="483"/>
                  </a:lnTo>
                  <a:lnTo>
                    <a:pt x="286" y="297"/>
                  </a:lnTo>
                  <a:lnTo>
                    <a:pt x="286" y="121"/>
                  </a:lnTo>
                  <a:lnTo>
                    <a:pt x="323" y="46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55800" y="5626440"/>
              <a:ext cx="290880" cy="613080"/>
            </a:xfrm>
            <a:custGeom>
              <a:avLst/>
              <a:gdLst/>
              <a:ahLst/>
              <a:rect l="l" t="t" r="r" b="b"/>
              <a:pathLst>
                <a:path w="589" h="1386">
                  <a:moveTo>
                    <a:pt x="442" y="0"/>
                  </a:moveTo>
                  <a:lnTo>
                    <a:pt x="525" y="0"/>
                  </a:lnTo>
                  <a:lnTo>
                    <a:pt x="552" y="56"/>
                  </a:lnTo>
                  <a:lnTo>
                    <a:pt x="571" y="177"/>
                  </a:lnTo>
                  <a:lnTo>
                    <a:pt x="552" y="307"/>
                  </a:lnTo>
                  <a:lnTo>
                    <a:pt x="506" y="567"/>
                  </a:lnTo>
                  <a:lnTo>
                    <a:pt x="516" y="679"/>
                  </a:lnTo>
                  <a:lnTo>
                    <a:pt x="571" y="902"/>
                  </a:lnTo>
                  <a:lnTo>
                    <a:pt x="589" y="1060"/>
                  </a:lnTo>
                  <a:lnTo>
                    <a:pt x="589" y="1181"/>
                  </a:lnTo>
                  <a:lnTo>
                    <a:pt x="561" y="1208"/>
                  </a:lnTo>
                  <a:lnTo>
                    <a:pt x="479" y="1228"/>
                  </a:lnTo>
                  <a:lnTo>
                    <a:pt x="369" y="1255"/>
                  </a:lnTo>
                  <a:lnTo>
                    <a:pt x="257" y="1311"/>
                  </a:lnTo>
                  <a:lnTo>
                    <a:pt x="147" y="1386"/>
                  </a:lnTo>
                  <a:lnTo>
                    <a:pt x="101" y="1386"/>
                  </a:lnTo>
                  <a:lnTo>
                    <a:pt x="0" y="1303"/>
                  </a:lnTo>
                  <a:lnTo>
                    <a:pt x="8" y="1265"/>
                  </a:lnTo>
                  <a:lnTo>
                    <a:pt x="138" y="1208"/>
                  </a:lnTo>
                  <a:lnTo>
                    <a:pt x="358" y="1153"/>
                  </a:lnTo>
                  <a:lnTo>
                    <a:pt x="460" y="1116"/>
                  </a:lnTo>
                  <a:lnTo>
                    <a:pt x="479" y="1078"/>
                  </a:lnTo>
                  <a:lnTo>
                    <a:pt x="479" y="920"/>
                  </a:lnTo>
                  <a:lnTo>
                    <a:pt x="442" y="716"/>
                  </a:lnTo>
                  <a:lnTo>
                    <a:pt x="424" y="585"/>
                  </a:lnTo>
                  <a:lnTo>
                    <a:pt x="404" y="382"/>
                  </a:lnTo>
                  <a:lnTo>
                    <a:pt x="396" y="157"/>
                  </a:lnTo>
                  <a:lnTo>
                    <a:pt x="404" y="56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38480" y="4721400"/>
              <a:ext cx="335160" cy="359640"/>
            </a:xfrm>
            <a:custGeom>
              <a:avLst/>
              <a:gdLst/>
              <a:ahLst/>
              <a:rect l="l" t="t" r="r" b="b"/>
              <a:pathLst>
                <a:path w="680" h="812">
                  <a:moveTo>
                    <a:pt x="180" y="576"/>
                  </a:moveTo>
                  <a:lnTo>
                    <a:pt x="87" y="413"/>
                  </a:lnTo>
                  <a:lnTo>
                    <a:pt x="32" y="273"/>
                  </a:lnTo>
                  <a:lnTo>
                    <a:pt x="0" y="121"/>
                  </a:lnTo>
                  <a:lnTo>
                    <a:pt x="13" y="60"/>
                  </a:lnTo>
                  <a:lnTo>
                    <a:pt x="59" y="60"/>
                  </a:lnTo>
                  <a:lnTo>
                    <a:pt x="116" y="106"/>
                  </a:lnTo>
                  <a:lnTo>
                    <a:pt x="171" y="172"/>
                  </a:lnTo>
                  <a:lnTo>
                    <a:pt x="338" y="79"/>
                  </a:lnTo>
                  <a:lnTo>
                    <a:pt x="425" y="0"/>
                  </a:lnTo>
                  <a:lnTo>
                    <a:pt x="504" y="51"/>
                  </a:lnTo>
                  <a:lnTo>
                    <a:pt x="592" y="167"/>
                  </a:lnTo>
                  <a:lnTo>
                    <a:pt x="658" y="333"/>
                  </a:lnTo>
                  <a:lnTo>
                    <a:pt x="680" y="441"/>
                  </a:lnTo>
                  <a:lnTo>
                    <a:pt x="680" y="478"/>
                  </a:lnTo>
                  <a:lnTo>
                    <a:pt x="592" y="505"/>
                  </a:lnTo>
                  <a:lnTo>
                    <a:pt x="472" y="580"/>
                  </a:lnTo>
                  <a:lnTo>
                    <a:pt x="416" y="613"/>
                  </a:lnTo>
                  <a:lnTo>
                    <a:pt x="463" y="743"/>
                  </a:lnTo>
                  <a:lnTo>
                    <a:pt x="445" y="803"/>
                  </a:lnTo>
                  <a:lnTo>
                    <a:pt x="408" y="812"/>
                  </a:lnTo>
                  <a:lnTo>
                    <a:pt x="305" y="728"/>
                  </a:lnTo>
                  <a:lnTo>
                    <a:pt x="180" y="576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46800" y="4708440"/>
              <a:ext cx="415080" cy="562320"/>
            </a:xfrm>
            <a:custGeom>
              <a:avLst/>
              <a:gdLst/>
              <a:ahLst/>
              <a:rect l="l" t="t" r="r" b="b"/>
              <a:pathLst>
                <a:path w="843" h="1270">
                  <a:moveTo>
                    <a:pt x="518" y="1270"/>
                  </a:moveTo>
                  <a:lnTo>
                    <a:pt x="564" y="1215"/>
                  </a:lnTo>
                  <a:lnTo>
                    <a:pt x="547" y="1132"/>
                  </a:lnTo>
                  <a:lnTo>
                    <a:pt x="509" y="1020"/>
                  </a:lnTo>
                  <a:lnTo>
                    <a:pt x="371" y="890"/>
                  </a:lnTo>
                  <a:lnTo>
                    <a:pt x="231" y="770"/>
                  </a:lnTo>
                  <a:lnTo>
                    <a:pt x="167" y="640"/>
                  </a:lnTo>
                  <a:lnTo>
                    <a:pt x="139" y="437"/>
                  </a:lnTo>
                  <a:lnTo>
                    <a:pt x="296" y="382"/>
                  </a:lnTo>
                  <a:lnTo>
                    <a:pt x="547" y="353"/>
                  </a:lnTo>
                  <a:lnTo>
                    <a:pt x="648" y="362"/>
                  </a:lnTo>
                  <a:lnTo>
                    <a:pt x="676" y="391"/>
                  </a:lnTo>
                  <a:lnTo>
                    <a:pt x="722" y="344"/>
                  </a:lnTo>
                  <a:lnTo>
                    <a:pt x="704" y="298"/>
                  </a:lnTo>
                  <a:lnTo>
                    <a:pt x="750" y="177"/>
                  </a:lnTo>
                  <a:lnTo>
                    <a:pt x="768" y="131"/>
                  </a:lnTo>
                  <a:lnTo>
                    <a:pt x="806" y="57"/>
                  </a:lnTo>
                  <a:lnTo>
                    <a:pt x="843" y="57"/>
                  </a:lnTo>
                  <a:lnTo>
                    <a:pt x="843" y="20"/>
                  </a:lnTo>
                  <a:lnTo>
                    <a:pt x="768" y="0"/>
                  </a:lnTo>
                  <a:lnTo>
                    <a:pt x="722" y="84"/>
                  </a:lnTo>
                  <a:lnTo>
                    <a:pt x="658" y="205"/>
                  </a:lnTo>
                  <a:lnTo>
                    <a:pt x="575" y="261"/>
                  </a:lnTo>
                  <a:lnTo>
                    <a:pt x="445" y="279"/>
                  </a:lnTo>
                  <a:lnTo>
                    <a:pt x="213" y="307"/>
                  </a:lnTo>
                  <a:lnTo>
                    <a:pt x="28" y="362"/>
                  </a:lnTo>
                  <a:lnTo>
                    <a:pt x="0" y="409"/>
                  </a:lnTo>
                  <a:lnTo>
                    <a:pt x="18" y="557"/>
                  </a:lnTo>
                  <a:lnTo>
                    <a:pt x="84" y="762"/>
                  </a:lnTo>
                  <a:lnTo>
                    <a:pt x="176" y="927"/>
                  </a:lnTo>
                  <a:lnTo>
                    <a:pt x="268" y="1075"/>
                  </a:lnTo>
                  <a:lnTo>
                    <a:pt x="352" y="1179"/>
                  </a:lnTo>
                  <a:lnTo>
                    <a:pt x="435" y="1252"/>
                  </a:lnTo>
                  <a:lnTo>
                    <a:pt x="518" y="127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734000" y="5824440"/>
            <a:ext cx="1445760" cy="969480"/>
            <a:chOff x="4734000" y="5824440"/>
            <a:chExt cx="1445760" cy="969480"/>
          </a:xfrm>
        </p:grpSpPr>
        <p:grpSp>
          <p:nvGrpSpPr>
            <p:cNvPr id="422" name=""/>
            <p:cNvGrpSpPr/>
            <p:nvPr/>
          </p:nvGrpSpPr>
          <p:grpSpPr>
            <a:xfrm>
              <a:off x="5648400" y="5871960"/>
              <a:ext cx="531360" cy="896400"/>
              <a:chOff x="5648400" y="5871960"/>
              <a:chExt cx="531360" cy="896400"/>
            </a:xfrm>
          </p:grpSpPr>
          <p:sp>
            <p:nvSpPr>
              <p:cNvPr id="423" name=""/>
              <p:cNvSpPr/>
              <p:nvPr/>
            </p:nvSpPr>
            <p:spPr>
              <a:xfrm>
                <a:off x="5805360" y="5871960"/>
                <a:ext cx="342360" cy="193680"/>
              </a:xfrm>
              <a:custGeom>
                <a:avLst/>
                <a:gdLst/>
                <a:ahLst/>
                <a:rect l="l" t="t" r="r" b="b"/>
                <a:pathLst>
                  <a:path w="431" h="811">
                    <a:moveTo>
                      <a:pt x="0" y="342"/>
                    </a:moveTo>
                    <a:lnTo>
                      <a:pt x="31" y="175"/>
                    </a:lnTo>
                    <a:lnTo>
                      <a:pt x="72" y="91"/>
                    </a:lnTo>
                    <a:lnTo>
                      <a:pt x="124" y="30"/>
                    </a:lnTo>
                    <a:lnTo>
                      <a:pt x="176" y="0"/>
                    </a:lnTo>
                    <a:lnTo>
                      <a:pt x="244" y="9"/>
                    </a:lnTo>
                    <a:lnTo>
                      <a:pt x="288" y="76"/>
                    </a:lnTo>
                    <a:lnTo>
                      <a:pt x="329" y="196"/>
                    </a:lnTo>
                    <a:lnTo>
                      <a:pt x="346" y="357"/>
                    </a:lnTo>
                    <a:lnTo>
                      <a:pt x="346" y="539"/>
                    </a:lnTo>
                    <a:lnTo>
                      <a:pt x="428" y="664"/>
                    </a:lnTo>
                    <a:lnTo>
                      <a:pt x="431" y="721"/>
                    </a:lnTo>
                    <a:lnTo>
                      <a:pt x="418" y="725"/>
                    </a:lnTo>
                    <a:lnTo>
                      <a:pt x="339" y="614"/>
                    </a:lnTo>
                    <a:lnTo>
                      <a:pt x="316" y="695"/>
                    </a:lnTo>
                    <a:lnTo>
                      <a:pt x="268" y="765"/>
                    </a:lnTo>
                    <a:lnTo>
                      <a:pt x="223" y="801"/>
                    </a:lnTo>
                    <a:lnTo>
                      <a:pt x="151" y="811"/>
                    </a:lnTo>
                    <a:lnTo>
                      <a:pt x="59" y="755"/>
                    </a:lnTo>
                    <a:lnTo>
                      <a:pt x="17" y="634"/>
                    </a:lnTo>
                    <a:lnTo>
                      <a:pt x="0" y="514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770440" y="6080400"/>
                <a:ext cx="306000" cy="312120"/>
              </a:xfrm>
              <a:custGeom>
                <a:avLst/>
                <a:gdLst/>
                <a:ahLst/>
                <a:rect l="l" t="t" r="r" b="b"/>
                <a:pathLst>
                  <a:path w="385" h="1306">
                    <a:moveTo>
                      <a:pt x="56" y="85"/>
                    </a:moveTo>
                    <a:lnTo>
                      <a:pt x="104" y="30"/>
                    </a:lnTo>
                    <a:lnTo>
                      <a:pt x="159" y="9"/>
                    </a:lnTo>
                    <a:lnTo>
                      <a:pt x="210" y="0"/>
                    </a:lnTo>
                    <a:lnTo>
                      <a:pt x="279" y="15"/>
                    </a:lnTo>
                    <a:lnTo>
                      <a:pt x="355" y="85"/>
                    </a:lnTo>
                    <a:lnTo>
                      <a:pt x="385" y="210"/>
                    </a:lnTo>
                    <a:lnTo>
                      <a:pt x="385" y="401"/>
                    </a:lnTo>
                    <a:lnTo>
                      <a:pt x="382" y="583"/>
                    </a:lnTo>
                    <a:lnTo>
                      <a:pt x="344" y="859"/>
                    </a:lnTo>
                    <a:lnTo>
                      <a:pt x="313" y="1085"/>
                    </a:lnTo>
                    <a:lnTo>
                      <a:pt x="279" y="1230"/>
                    </a:lnTo>
                    <a:lnTo>
                      <a:pt x="207" y="1306"/>
                    </a:lnTo>
                    <a:lnTo>
                      <a:pt x="104" y="1290"/>
                    </a:lnTo>
                    <a:lnTo>
                      <a:pt x="52" y="1175"/>
                    </a:lnTo>
                    <a:lnTo>
                      <a:pt x="22" y="1004"/>
                    </a:lnTo>
                    <a:lnTo>
                      <a:pt x="4" y="813"/>
                    </a:lnTo>
                    <a:lnTo>
                      <a:pt x="0" y="526"/>
                    </a:lnTo>
                    <a:lnTo>
                      <a:pt x="15" y="325"/>
                    </a:lnTo>
                    <a:lnTo>
                      <a:pt x="35" y="146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48400" y="6080040"/>
                <a:ext cx="180720" cy="384480"/>
              </a:xfrm>
              <a:custGeom>
                <a:avLst/>
                <a:gdLst/>
                <a:ahLst/>
                <a:rect l="l" t="t" r="r" b="b"/>
                <a:pathLst>
                  <a:path w="226" h="1607">
                    <a:moveTo>
                      <a:pt x="154" y="10"/>
                    </a:moveTo>
                    <a:lnTo>
                      <a:pt x="209" y="0"/>
                    </a:lnTo>
                    <a:lnTo>
                      <a:pt x="226" y="71"/>
                    </a:lnTo>
                    <a:lnTo>
                      <a:pt x="198" y="162"/>
                    </a:lnTo>
                    <a:lnTo>
                      <a:pt x="157" y="211"/>
                    </a:lnTo>
                    <a:lnTo>
                      <a:pt x="123" y="331"/>
                    </a:lnTo>
                    <a:lnTo>
                      <a:pt x="82" y="493"/>
                    </a:lnTo>
                    <a:lnTo>
                      <a:pt x="65" y="643"/>
                    </a:lnTo>
                    <a:lnTo>
                      <a:pt x="55" y="898"/>
                    </a:lnTo>
                    <a:lnTo>
                      <a:pt x="65" y="1139"/>
                    </a:lnTo>
                    <a:lnTo>
                      <a:pt x="85" y="1251"/>
                    </a:lnTo>
                    <a:lnTo>
                      <a:pt x="71" y="1371"/>
                    </a:lnTo>
                    <a:lnTo>
                      <a:pt x="55" y="1462"/>
                    </a:lnTo>
                    <a:lnTo>
                      <a:pt x="61" y="1607"/>
                    </a:lnTo>
                    <a:lnTo>
                      <a:pt x="33" y="1597"/>
                    </a:lnTo>
                    <a:lnTo>
                      <a:pt x="10" y="1476"/>
                    </a:lnTo>
                    <a:lnTo>
                      <a:pt x="0" y="1371"/>
                    </a:lnTo>
                    <a:lnTo>
                      <a:pt x="30" y="1230"/>
                    </a:lnTo>
                    <a:lnTo>
                      <a:pt x="20" y="1099"/>
                    </a:lnTo>
                    <a:lnTo>
                      <a:pt x="10" y="888"/>
                    </a:lnTo>
                    <a:lnTo>
                      <a:pt x="10" y="633"/>
                    </a:lnTo>
                    <a:lnTo>
                      <a:pt x="30" y="362"/>
                    </a:lnTo>
                    <a:lnTo>
                      <a:pt x="65" y="162"/>
                    </a:lnTo>
                    <a:lnTo>
                      <a:pt x="103" y="56"/>
                    </a:lnTo>
                    <a:lnTo>
                      <a:pt x="154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040440" y="6090120"/>
                <a:ext cx="113760" cy="365040"/>
              </a:xfrm>
              <a:custGeom>
                <a:avLst/>
                <a:gdLst/>
                <a:ahLst/>
                <a:rect l="l" t="t" r="r" b="b"/>
                <a:pathLst>
                  <a:path w="145" h="1528">
                    <a:moveTo>
                      <a:pt x="3" y="5"/>
                    </a:moveTo>
                    <a:lnTo>
                      <a:pt x="62" y="0"/>
                    </a:lnTo>
                    <a:lnTo>
                      <a:pt x="103" y="121"/>
                    </a:lnTo>
                    <a:lnTo>
                      <a:pt x="145" y="452"/>
                    </a:lnTo>
                    <a:lnTo>
                      <a:pt x="145" y="834"/>
                    </a:lnTo>
                    <a:lnTo>
                      <a:pt x="124" y="1161"/>
                    </a:lnTo>
                    <a:lnTo>
                      <a:pt x="145" y="1272"/>
                    </a:lnTo>
                    <a:lnTo>
                      <a:pt x="145" y="1422"/>
                    </a:lnTo>
                    <a:lnTo>
                      <a:pt x="124" y="1528"/>
                    </a:lnTo>
                    <a:lnTo>
                      <a:pt x="97" y="1432"/>
                    </a:lnTo>
                    <a:lnTo>
                      <a:pt x="83" y="1287"/>
                    </a:lnTo>
                    <a:lnTo>
                      <a:pt x="52" y="1175"/>
                    </a:lnTo>
                    <a:lnTo>
                      <a:pt x="87" y="1076"/>
                    </a:lnTo>
                    <a:lnTo>
                      <a:pt x="107" y="834"/>
                    </a:lnTo>
                    <a:lnTo>
                      <a:pt x="107" y="608"/>
                    </a:lnTo>
                    <a:lnTo>
                      <a:pt x="87" y="382"/>
                    </a:lnTo>
                    <a:lnTo>
                      <a:pt x="45" y="216"/>
                    </a:lnTo>
                    <a:lnTo>
                      <a:pt x="0" y="13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771880" y="6330240"/>
                <a:ext cx="257040" cy="438120"/>
              </a:xfrm>
              <a:custGeom>
                <a:avLst/>
                <a:gdLst/>
                <a:ahLst/>
                <a:rect l="l" t="t" r="r" b="b"/>
                <a:pathLst>
                  <a:path w="324" h="1831">
                    <a:moveTo>
                      <a:pt x="32" y="0"/>
                    </a:moveTo>
                    <a:lnTo>
                      <a:pt x="69" y="76"/>
                    </a:lnTo>
                    <a:lnTo>
                      <a:pt x="85" y="153"/>
                    </a:lnTo>
                    <a:lnTo>
                      <a:pt x="100" y="419"/>
                    </a:lnTo>
                    <a:lnTo>
                      <a:pt x="107" y="597"/>
                    </a:lnTo>
                    <a:lnTo>
                      <a:pt x="107" y="902"/>
                    </a:lnTo>
                    <a:lnTo>
                      <a:pt x="105" y="1189"/>
                    </a:lnTo>
                    <a:lnTo>
                      <a:pt x="90" y="1417"/>
                    </a:lnTo>
                    <a:lnTo>
                      <a:pt x="77" y="1487"/>
                    </a:lnTo>
                    <a:lnTo>
                      <a:pt x="157" y="1526"/>
                    </a:lnTo>
                    <a:lnTo>
                      <a:pt x="224" y="1571"/>
                    </a:lnTo>
                    <a:lnTo>
                      <a:pt x="314" y="1666"/>
                    </a:lnTo>
                    <a:lnTo>
                      <a:pt x="324" y="1703"/>
                    </a:lnTo>
                    <a:lnTo>
                      <a:pt x="316" y="1774"/>
                    </a:lnTo>
                    <a:lnTo>
                      <a:pt x="271" y="1831"/>
                    </a:lnTo>
                    <a:lnTo>
                      <a:pt x="254" y="1799"/>
                    </a:lnTo>
                    <a:lnTo>
                      <a:pt x="239" y="1722"/>
                    </a:lnTo>
                    <a:lnTo>
                      <a:pt x="196" y="1660"/>
                    </a:lnTo>
                    <a:lnTo>
                      <a:pt x="122" y="1588"/>
                    </a:lnTo>
                    <a:lnTo>
                      <a:pt x="74" y="1571"/>
                    </a:lnTo>
                    <a:lnTo>
                      <a:pt x="18" y="1571"/>
                    </a:lnTo>
                    <a:lnTo>
                      <a:pt x="18" y="1513"/>
                    </a:lnTo>
                    <a:lnTo>
                      <a:pt x="45" y="1449"/>
                    </a:lnTo>
                    <a:lnTo>
                      <a:pt x="69" y="1245"/>
                    </a:lnTo>
                    <a:lnTo>
                      <a:pt x="77" y="1030"/>
                    </a:lnTo>
                    <a:lnTo>
                      <a:pt x="74" y="840"/>
                    </a:lnTo>
                    <a:lnTo>
                      <a:pt x="69" y="597"/>
                    </a:lnTo>
                    <a:lnTo>
                      <a:pt x="54" y="388"/>
                    </a:lnTo>
                    <a:lnTo>
                      <a:pt x="23" y="235"/>
                    </a:lnTo>
                    <a:lnTo>
                      <a:pt x="0" y="95"/>
                    </a:lnTo>
                    <a:lnTo>
                      <a:pt x="7" y="4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41800" y="6330960"/>
                <a:ext cx="237960" cy="394560"/>
              </a:xfrm>
              <a:custGeom>
                <a:avLst/>
                <a:gdLst/>
                <a:ahLst/>
                <a:rect l="l" t="t" r="r" b="b"/>
                <a:pathLst>
                  <a:path w="298" h="1650">
                    <a:moveTo>
                      <a:pt x="0" y="130"/>
                    </a:moveTo>
                    <a:lnTo>
                      <a:pt x="0" y="25"/>
                    </a:lnTo>
                    <a:lnTo>
                      <a:pt x="30" y="0"/>
                    </a:lnTo>
                    <a:lnTo>
                      <a:pt x="78" y="0"/>
                    </a:lnTo>
                    <a:lnTo>
                      <a:pt x="112" y="60"/>
                    </a:lnTo>
                    <a:lnTo>
                      <a:pt x="119" y="115"/>
                    </a:lnTo>
                    <a:lnTo>
                      <a:pt x="112" y="236"/>
                    </a:lnTo>
                    <a:lnTo>
                      <a:pt x="89" y="386"/>
                    </a:lnTo>
                    <a:lnTo>
                      <a:pt x="78" y="618"/>
                    </a:lnTo>
                    <a:lnTo>
                      <a:pt x="72" y="768"/>
                    </a:lnTo>
                    <a:lnTo>
                      <a:pt x="72" y="793"/>
                    </a:lnTo>
                    <a:lnTo>
                      <a:pt x="82" y="1004"/>
                    </a:lnTo>
                    <a:lnTo>
                      <a:pt x="99" y="1124"/>
                    </a:lnTo>
                    <a:lnTo>
                      <a:pt x="112" y="1219"/>
                    </a:lnTo>
                    <a:lnTo>
                      <a:pt x="109" y="1259"/>
                    </a:lnTo>
                    <a:lnTo>
                      <a:pt x="154" y="1369"/>
                    </a:lnTo>
                    <a:lnTo>
                      <a:pt x="202" y="1439"/>
                    </a:lnTo>
                    <a:lnTo>
                      <a:pt x="253" y="1505"/>
                    </a:lnTo>
                    <a:lnTo>
                      <a:pt x="298" y="1536"/>
                    </a:lnTo>
                    <a:lnTo>
                      <a:pt x="298" y="1591"/>
                    </a:lnTo>
                    <a:lnTo>
                      <a:pt x="274" y="1635"/>
                    </a:lnTo>
                    <a:lnTo>
                      <a:pt x="216" y="1650"/>
                    </a:lnTo>
                    <a:lnTo>
                      <a:pt x="174" y="1621"/>
                    </a:lnTo>
                    <a:lnTo>
                      <a:pt x="174" y="1580"/>
                    </a:lnTo>
                    <a:lnTo>
                      <a:pt x="140" y="1439"/>
                    </a:lnTo>
                    <a:lnTo>
                      <a:pt x="82" y="1365"/>
                    </a:lnTo>
                    <a:lnTo>
                      <a:pt x="40" y="1289"/>
                    </a:lnTo>
                    <a:lnTo>
                      <a:pt x="10" y="1249"/>
                    </a:lnTo>
                    <a:lnTo>
                      <a:pt x="20" y="1199"/>
                    </a:lnTo>
                    <a:lnTo>
                      <a:pt x="37" y="1063"/>
                    </a:lnTo>
                    <a:lnTo>
                      <a:pt x="37" y="808"/>
                    </a:lnTo>
                    <a:lnTo>
                      <a:pt x="30" y="627"/>
                    </a:lnTo>
                    <a:lnTo>
                      <a:pt x="30" y="447"/>
                    </a:lnTo>
                    <a:lnTo>
                      <a:pt x="27" y="251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151240" y="5849640"/>
              <a:ext cx="395280" cy="944280"/>
              <a:chOff x="5151240" y="5849640"/>
              <a:chExt cx="395280" cy="944280"/>
            </a:xfrm>
          </p:grpSpPr>
          <p:sp>
            <p:nvSpPr>
              <p:cNvPr id="430" name=""/>
              <p:cNvSpPr/>
              <p:nvPr/>
            </p:nvSpPr>
            <p:spPr>
              <a:xfrm>
                <a:off x="5267160" y="5849640"/>
                <a:ext cx="258840" cy="202320"/>
              </a:xfrm>
              <a:custGeom>
                <a:avLst/>
                <a:gdLst/>
                <a:ahLst/>
                <a:rect l="l" t="t" r="r" b="b"/>
                <a:pathLst>
                  <a:path w="326" h="662">
                    <a:moveTo>
                      <a:pt x="0" y="280"/>
                    </a:moveTo>
                    <a:lnTo>
                      <a:pt x="23" y="145"/>
                    </a:lnTo>
                    <a:lnTo>
                      <a:pt x="55" y="75"/>
                    </a:lnTo>
                    <a:lnTo>
                      <a:pt x="93" y="24"/>
                    </a:lnTo>
                    <a:lnTo>
                      <a:pt x="132" y="0"/>
                    </a:lnTo>
                    <a:lnTo>
                      <a:pt x="184" y="8"/>
                    </a:lnTo>
                    <a:lnTo>
                      <a:pt x="217" y="61"/>
                    </a:lnTo>
                    <a:lnTo>
                      <a:pt x="249" y="161"/>
                    </a:lnTo>
                    <a:lnTo>
                      <a:pt x="262" y="292"/>
                    </a:lnTo>
                    <a:lnTo>
                      <a:pt x="262" y="440"/>
                    </a:lnTo>
                    <a:lnTo>
                      <a:pt x="324" y="543"/>
                    </a:lnTo>
                    <a:lnTo>
                      <a:pt x="326" y="587"/>
                    </a:lnTo>
                    <a:lnTo>
                      <a:pt x="316" y="592"/>
                    </a:lnTo>
                    <a:lnTo>
                      <a:pt x="257" y="501"/>
                    </a:lnTo>
                    <a:lnTo>
                      <a:pt x="238" y="567"/>
                    </a:lnTo>
                    <a:lnTo>
                      <a:pt x="202" y="624"/>
                    </a:lnTo>
                    <a:lnTo>
                      <a:pt x="168" y="653"/>
                    </a:lnTo>
                    <a:lnTo>
                      <a:pt x="114" y="662"/>
                    </a:lnTo>
                    <a:lnTo>
                      <a:pt x="44" y="616"/>
                    </a:lnTo>
                    <a:lnTo>
                      <a:pt x="13" y="517"/>
                    </a:lnTo>
                    <a:lnTo>
                      <a:pt x="0" y="419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241960" y="6069240"/>
                <a:ext cx="226800" cy="329040"/>
              </a:xfrm>
              <a:custGeom>
                <a:avLst/>
                <a:gdLst/>
                <a:ahLst/>
                <a:rect l="l" t="t" r="r" b="b"/>
                <a:pathLst>
                  <a:path w="286" h="1074">
                    <a:moveTo>
                      <a:pt x="42" y="69"/>
                    </a:moveTo>
                    <a:lnTo>
                      <a:pt x="77" y="23"/>
                    </a:lnTo>
                    <a:lnTo>
                      <a:pt x="118" y="7"/>
                    </a:lnTo>
                    <a:lnTo>
                      <a:pt x="157" y="0"/>
                    </a:lnTo>
                    <a:lnTo>
                      <a:pt x="207" y="11"/>
                    </a:lnTo>
                    <a:lnTo>
                      <a:pt x="263" y="69"/>
                    </a:lnTo>
                    <a:lnTo>
                      <a:pt x="286" y="172"/>
                    </a:lnTo>
                    <a:lnTo>
                      <a:pt x="286" y="329"/>
                    </a:lnTo>
                    <a:lnTo>
                      <a:pt x="284" y="478"/>
                    </a:lnTo>
                    <a:lnTo>
                      <a:pt x="255" y="705"/>
                    </a:lnTo>
                    <a:lnTo>
                      <a:pt x="233" y="891"/>
                    </a:lnTo>
                    <a:lnTo>
                      <a:pt x="207" y="1011"/>
                    </a:lnTo>
                    <a:lnTo>
                      <a:pt x="154" y="1074"/>
                    </a:lnTo>
                    <a:lnTo>
                      <a:pt x="77" y="1060"/>
                    </a:lnTo>
                    <a:lnTo>
                      <a:pt x="39" y="965"/>
                    </a:lnTo>
                    <a:lnTo>
                      <a:pt x="17" y="826"/>
                    </a:lnTo>
                    <a:lnTo>
                      <a:pt x="3" y="668"/>
                    </a:lnTo>
                    <a:lnTo>
                      <a:pt x="0" y="432"/>
                    </a:lnTo>
                    <a:lnTo>
                      <a:pt x="11" y="267"/>
                    </a:lnTo>
                    <a:lnTo>
                      <a:pt x="27" y="118"/>
                    </a:lnTo>
                    <a:lnTo>
                      <a:pt x="42" y="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1240" y="6069240"/>
                <a:ext cx="133560" cy="403560"/>
              </a:xfrm>
              <a:custGeom>
                <a:avLst/>
                <a:gdLst/>
                <a:ahLst/>
                <a:rect l="l" t="t" r="r" b="b"/>
                <a:pathLst>
                  <a:path w="168" h="1319">
                    <a:moveTo>
                      <a:pt x="114" y="8"/>
                    </a:moveTo>
                    <a:lnTo>
                      <a:pt x="155" y="0"/>
                    </a:lnTo>
                    <a:lnTo>
                      <a:pt x="168" y="58"/>
                    </a:lnTo>
                    <a:lnTo>
                      <a:pt x="148" y="132"/>
                    </a:lnTo>
                    <a:lnTo>
                      <a:pt x="117" y="173"/>
                    </a:lnTo>
                    <a:lnTo>
                      <a:pt x="92" y="271"/>
                    </a:lnTo>
                    <a:lnTo>
                      <a:pt x="60" y="404"/>
                    </a:lnTo>
                    <a:lnTo>
                      <a:pt x="48" y="527"/>
                    </a:lnTo>
                    <a:lnTo>
                      <a:pt x="40" y="738"/>
                    </a:lnTo>
                    <a:lnTo>
                      <a:pt x="48" y="936"/>
                    </a:lnTo>
                    <a:lnTo>
                      <a:pt x="64" y="1026"/>
                    </a:lnTo>
                    <a:lnTo>
                      <a:pt x="53" y="1126"/>
                    </a:lnTo>
                    <a:lnTo>
                      <a:pt x="40" y="1200"/>
                    </a:lnTo>
                    <a:lnTo>
                      <a:pt x="45" y="1319"/>
                    </a:lnTo>
                    <a:lnTo>
                      <a:pt x="25" y="1310"/>
                    </a:lnTo>
                    <a:lnTo>
                      <a:pt x="8" y="1212"/>
                    </a:lnTo>
                    <a:lnTo>
                      <a:pt x="0" y="1126"/>
                    </a:lnTo>
                    <a:lnTo>
                      <a:pt x="23" y="1010"/>
                    </a:lnTo>
                    <a:lnTo>
                      <a:pt x="15" y="903"/>
                    </a:lnTo>
                    <a:lnTo>
                      <a:pt x="8" y="729"/>
                    </a:lnTo>
                    <a:lnTo>
                      <a:pt x="8" y="520"/>
                    </a:lnTo>
                    <a:lnTo>
                      <a:pt x="23" y="297"/>
                    </a:lnTo>
                    <a:lnTo>
                      <a:pt x="48" y="132"/>
                    </a:lnTo>
                    <a:lnTo>
                      <a:pt x="76" y="46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45000" y="6078600"/>
                <a:ext cx="84240" cy="384480"/>
              </a:xfrm>
              <a:custGeom>
                <a:avLst/>
                <a:gdLst/>
                <a:ahLst/>
                <a:rect l="l" t="t" r="r" b="b"/>
                <a:pathLst>
                  <a:path w="106" h="1253">
                    <a:moveTo>
                      <a:pt x="2" y="3"/>
                    </a:moveTo>
                    <a:lnTo>
                      <a:pt x="46" y="0"/>
                    </a:lnTo>
                    <a:lnTo>
                      <a:pt x="75" y="98"/>
                    </a:lnTo>
                    <a:lnTo>
                      <a:pt x="106" y="370"/>
                    </a:lnTo>
                    <a:lnTo>
                      <a:pt x="106" y="684"/>
                    </a:lnTo>
                    <a:lnTo>
                      <a:pt x="90" y="951"/>
                    </a:lnTo>
                    <a:lnTo>
                      <a:pt x="106" y="1042"/>
                    </a:lnTo>
                    <a:lnTo>
                      <a:pt x="106" y="1165"/>
                    </a:lnTo>
                    <a:lnTo>
                      <a:pt x="90" y="1253"/>
                    </a:lnTo>
                    <a:lnTo>
                      <a:pt x="70" y="1174"/>
                    </a:lnTo>
                    <a:lnTo>
                      <a:pt x="60" y="1054"/>
                    </a:lnTo>
                    <a:lnTo>
                      <a:pt x="38" y="963"/>
                    </a:lnTo>
                    <a:lnTo>
                      <a:pt x="63" y="881"/>
                    </a:lnTo>
                    <a:lnTo>
                      <a:pt x="78" y="684"/>
                    </a:lnTo>
                    <a:lnTo>
                      <a:pt x="78" y="498"/>
                    </a:lnTo>
                    <a:lnTo>
                      <a:pt x="63" y="312"/>
                    </a:lnTo>
                    <a:lnTo>
                      <a:pt x="33" y="177"/>
                    </a:lnTo>
                    <a:lnTo>
                      <a:pt x="0" y="1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400" y="6332400"/>
                <a:ext cx="190440" cy="461520"/>
              </a:xfrm>
              <a:custGeom>
                <a:avLst/>
                <a:gdLst/>
                <a:ahLst/>
                <a:rect l="l" t="t" r="r" b="b"/>
                <a:pathLst>
                  <a:path w="241" h="1507">
                    <a:moveTo>
                      <a:pt x="24" y="0"/>
                    </a:moveTo>
                    <a:lnTo>
                      <a:pt x="52" y="63"/>
                    </a:lnTo>
                    <a:lnTo>
                      <a:pt x="62" y="127"/>
                    </a:lnTo>
                    <a:lnTo>
                      <a:pt x="73" y="345"/>
                    </a:lnTo>
                    <a:lnTo>
                      <a:pt x="79" y="492"/>
                    </a:lnTo>
                    <a:lnTo>
                      <a:pt x="79" y="743"/>
                    </a:lnTo>
                    <a:lnTo>
                      <a:pt x="77" y="978"/>
                    </a:lnTo>
                    <a:lnTo>
                      <a:pt x="66" y="1167"/>
                    </a:lnTo>
                    <a:lnTo>
                      <a:pt x="57" y="1225"/>
                    </a:lnTo>
                    <a:lnTo>
                      <a:pt x="116" y="1256"/>
                    </a:lnTo>
                    <a:lnTo>
                      <a:pt x="167" y="1293"/>
                    </a:lnTo>
                    <a:lnTo>
                      <a:pt x="233" y="1370"/>
                    </a:lnTo>
                    <a:lnTo>
                      <a:pt x="241" y="1403"/>
                    </a:lnTo>
                    <a:lnTo>
                      <a:pt x="235" y="1459"/>
                    </a:lnTo>
                    <a:lnTo>
                      <a:pt x="201" y="1507"/>
                    </a:lnTo>
                    <a:lnTo>
                      <a:pt x="188" y="1480"/>
                    </a:lnTo>
                    <a:lnTo>
                      <a:pt x="178" y="1418"/>
                    </a:lnTo>
                    <a:lnTo>
                      <a:pt x="147" y="1366"/>
                    </a:lnTo>
                    <a:lnTo>
                      <a:pt x="91" y="1308"/>
                    </a:lnTo>
                    <a:lnTo>
                      <a:pt x="55" y="1293"/>
                    </a:lnTo>
                    <a:lnTo>
                      <a:pt x="12" y="1293"/>
                    </a:lnTo>
                    <a:lnTo>
                      <a:pt x="12" y="1245"/>
                    </a:lnTo>
                    <a:lnTo>
                      <a:pt x="33" y="1193"/>
                    </a:lnTo>
                    <a:lnTo>
                      <a:pt x="52" y="1025"/>
                    </a:lnTo>
                    <a:lnTo>
                      <a:pt x="57" y="847"/>
                    </a:lnTo>
                    <a:lnTo>
                      <a:pt x="55" y="691"/>
                    </a:lnTo>
                    <a:lnTo>
                      <a:pt x="52" y="492"/>
                    </a:lnTo>
                    <a:lnTo>
                      <a:pt x="41" y="320"/>
                    </a:lnTo>
                    <a:lnTo>
                      <a:pt x="17" y="193"/>
                    </a:lnTo>
                    <a:lnTo>
                      <a:pt x="0" y="79"/>
                    </a:lnTo>
                    <a:lnTo>
                      <a:pt x="5" y="3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68680" y="6332400"/>
                <a:ext cx="177840" cy="415800"/>
              </a:xfrm>
              <a:custGeom>
                <a:avLst/>
                <a:gdLst/>
                <a:ahLst/>
                <a:rect l="l" t="t" r="r" b="b"/>
                <a:pathLst>
                  <a:path w="223" h="1355">
                    <a:moveTo>
                      <a:pt x="0" y="107"/>
                    </a:moveTo>
                    <a:lnTo>
                      <a:pt x="0" y="21"/>
                    </a:lnTo>
                    <a:lnTo>
                      <a:pt x="23" y="0"/>
                    </a:lnTo>
                    <a:lnTo>
                      <a:pt x="59" y="0"/>
                    </a:lnTo>
                    <a:lnTo>
                      <a:pt x="85" y="50"/>
                    </a:lnTo>
                    <a:lnTo>
                      <a:pt x="90" y="95"/>
                    </a:lnTo>
                    <a:lnTo>
                      <a:pt x="85" y="194"/>
                    </a:lnTo>
                    <a:lnTo>
                      <a:pt x="67" y="318"/>
                    </a:lnTo>
                    <a:lnTo>
                      <a:pt x="59" y="506"/>
                    </a:lnTo>
                    <a:lnTo>
                      <a:pt x="54" y="631"/>
                    </a:lnTo>
                    <a:lnTo>
                      <a:pt x="54" y="651"/>
                    </a:lnTo>
                    <a:lnTo>
                      <a:pt x="62" y="824"/>
                    </a:lnTo>
                    <a:lnTo>
                      <a:pt x="75" y="922"/>
                    </a:lnTo>
                    <a:lnTo>
                      <a:pt x="85" y="1001"/>
                    </a:lnTo>
                    <a:lnTo>
                      <a:pt x="82" y="1034"/>
                    </a:lnTo>
                    <a:lnTo>
                      <a:pt x="115" y="1125"/>
                    </a:lnTo>
                    <a:lnTo>
                      <a:pt x="151" y="1182"/>
                    </a:lnTo>
                    <a:lnTo>
                      <a:pt x="190" y="1236"/>
                    </a:lnTo>
                    <a:lnTo>
                      <a:pt x="223" y="1261"/>
                    </a:lnTo>
                    <a:lnTo>
                      <a:pt x="223" y="1306"/>
                    </a:lnTo>
                    <a:lnTo>
                      <a:pt x="206" y="1343"/>
                    </a:lnTo>
                    <a:lnTo>
                      <a:pt x="162" y="1355"/>
                    </a:lnTo>
                    <a:lnTo>
                      <a:pt x="131" y="1331"/>
                    </a:lnTo>
                    <a:lnTo>
                      <a:pt x="131" y="1298"/>
                    </a:lnTo>
                    <a:lnTo>
                      <a:pt x="105" y="1182"/>
                    </a:lnTo>
                    <a:lnTo>
                      <a:pt x="62" y="1120"/>
                    </a:lnTo>
                    <a:lnTo>
                      <a:pt x="31" y="1059"/>
                    </a:lnTo>
                    <a:lnTo>
                      <a:pt x="8" y="1026"/>
                    </a:lnTo>
                    <a:lnTo>
                      <a:pt x="15" y="985"/>
                    </a:lnTo>
                    <a:lnTo>
                      <a:pt x="28" y="873"/>
                    </a:lnTo>
                    <a:lnTo>
                      <a:pt x="28" y="664"/>
                    </a:lnTo>
                    <a:lnTo>
                      <a:pt x="23" y="515"/>
                    </a:lnTo>
                    <a:lnTo>
                      <a:pt x="23" y="367"/>
                    </a:lnTo>
                    <a:lnTo>
                      <a:pt x="20" y="206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734000" y="5824440"/>
              <a:ext cx="261360" cy="958320"/>
              <a:chOff x="4734000" y="5824440"/>
              <a:chExt cx="261360" cy="958320"/>
            </a:xfrm>
          </p:grpSpPr>
          <p:sp>
            <p:nvSpPr>
              <p:cNvPr id="437" name=""/>
              <p:cNvSpPr/>
              <p:nvPr/>
            </p:nvSpPr>
            <p:spPr>
              <a:xfrm>
                <a:off x="4809960" y="5824440"/>
                <a:ext cx="171000" cy="207360"/>
              </a:xfrm>
              <a:custGeom>
                <a:avLst/>
                <a:gdLst/>
                <a:ahLst/>
                <a:rect l="l" t="t" r="r" b="b"/>
                <a:pathLst>
                  <a:path w="239" h="547">
                    <a:moveTo>
                      <a:pt x="0" y="232"/>
                    </a:moveTo>
                    <a:lnTo>
                      <a:pt x="18" y="119"/>
                    </a:lnTo>
                    <a:lnTo>
                      <a:pt x="41" y="61"/>
                    </a:lnTo>
                    <a:lnTo>
                      <a:pt x="69" y="21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60" y="50"/>
                    </a:lnTo>
                    <a:lnTo>
                      <a:pt x="183" y="132"/>
                    </a:lnTo>
                    <a:lnTo>
                      <a:pt x="192" y="240"/>
                    </a:lnTo>
                    <a:lnTo>
                      <a:pt x="192" y="364"/>
                    </a:lnTo>
                    <a:lnTo>
                      <a:pt x="238" y="448"/>
                    </a:lnTo>
                    <a:lnTo>
                      <a:pt x="239" y="486"/>
                    </a:lnTo>
                    <a:lnTo>
                      <a:pt x="232" y="489"/>
                    </a:lnTo>
                    <a:lnTo>
                      <a:pt x="188" y="414"/>
                    </a:lnTo>
                    <a:lnTo>
                      <a:pt x="175" y="469"/>
                    </a:lnTo>
                    <a:lnTo>
                      <a:pt x="149" y="517"/>
                    </a:lnTo>
                    <a:lnTo>
                      <a:pt x="124" y="541"/>
                    </a:lnTo>
                    <a:lnTo>
                      <a:pt x="85" y="547"/>
                    </a:lnTo>
                    <a:lnTo>
                      <a:pt x="33" y="509"/>
                    </a:lnTo>
                    <a:lnTo>
                      <a:pt x="10" y="428"/>
                    </a:lnTo>
                    <a:lnTo>
                      <a:pt x="0" y="34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95920" y="6048720"/>
                <a:ext cx="150840" cy="331560"/>
              </a:xfrm>
              <a:custGeom>
                <a:avLst/>
                <a:gdLst/>
                <a:ahLst/>
                <a:rect l="l" t="t" r="r" b="b"/>
                <a:pathLst>
                  <a:path w="209" h="875">
                    <a:moveTo>
                      <a:pt x="29" y="57"/>
                    </a:moveTo>
                    <a:lnTo>
                      <a:pt x="56" y="19"/>
                    </a:lnTo>
                    <a:lnTo>
                      <a:pt x="86" y="6"/>
                    </a:lnTo>
                    <a:lnTo>
                      <a:pt x="114" y="0"/>
                    </a:lnTo>
                    <a:lnTo>
                      <a:pt x="151" y="9"/>
                    </a:lnTo>
                    <a:lnTo>
                      <a:pt x="192" y="57"/>
                    </a:lnTo>
                    <a:lnTo>
                      <a:pt x="209" y="141"/>
                    </a:lnTo>
                    <a:lnTo>
                      <a:pt x="209" y="269"/>
                    </a:lnTo>
                    <a:lnTo>
                      <a:pt x="207" y="389"/>
                    </a:lnTo>
                    <a:lnTo>
                      <a:pt x="187" y="575"/>
                    </a:lnTo>
                    <a:lnTo>
                      <a:pt x="170" y="727"/>
                    </a:lnTo>
                    <a:lnTo>
                      <a:pt x="151" y="825"/>
                    </a:lnTo>
                    <a:lnTo>
                      <a:pt x="112" y="875"/>
                    </a:lnTo>
                    <a:lnTo>
                      <a:pt x="56" y="865"/>
                    </a:lnTo>
                    <a:lnTo>
                      <a:pt x="28" y="788"/>
                    </a:lnTo>
                    <a:lnTo>
                      <a:pt x="11" y="673"/>
                    </a:lnTo>
                    <a:lnTo>
                      <a:pt x="2" y="544"/>
                    </a:lnTo>
                    <a:lnTo>
                      <a:pt x="0" y="352"/>
                    </a:lnTo>
                    <a:lnTo>
                      <a:pt x="7" y="219"/>
                    </a:lnTo>
                    <a:lnTo>
                      <a:pt x="18" y="9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34000" y="6047640"/>
                <a:ext cx="89280" cy="410400"/>
              </a:xfrm>
              <a:custGeom>
                <a:avLst/>
                <a:gdLst/>
                <a:ahLst/>
                <a:rect l="l" t="t" r="r" b="b"/>
                <a:pathLst>
                  <a:path w="125" h="1080">
                    <a:moveTo>
                      <a:pt x="84" y="7"/>
                    </a:moveTo>
                    <a:lnTo>
                      <a:pt x="114" y="0"/>
                    </a:lnTo>
                    <a:lnTo>
                      <a:pt x="125" y="47"/>
                    </a:lnTo>
                    <a:lnTo>
                      <a:pt x="109" y="108"/>
                    </a:lnTo>
                    <a:lnTo>
                      <a:pt x="86" y="142"/>
                    </a:lnTo>
                    <a:lnTo>
                      <a:pt x="68" y="222"/>
                    </a:lnTo>
                    <a:lnTo>
                      <a:pt x="44" y="331"/>
                    </a:lnTo>
                    <a:lnTo>
                      <a:pt x="35" y="432"/>
                    </a:lnTo>
                    <a:lnTo>
                      <a:pt x="29" y="604"/>
                    </a:lnTo>
                    <a:lnTo>
                      <a:pt x="35" y="766"/>
                    </a:lnTo>
                    <a:lnTo>
                      <a:pt x="46" y="841"/>
                    </a:lnTo>
                    <a:lnTo>
                      <a:pt x="39" y="922"/>
                    </a:lnTo>
                    <a:lnTo>
                      <a:pt x="29" y="983"/>
                    </a:lnTo>
                    <a:lnTo>
                      <a:pt x="33" y="1080"/>
                    </a:lnTo>
                    <a:lnTo>
                      <a:pt x="18" y="1074"/>
                    </a:lnTo>
                    <a:lnTo>
                      <a:pt x="5" y="992"/>
                    </a:lnTo>
                    <a:lnTo>
                      <a:pt x="0" y="922"/>
                    </a:lnTo>
                    <a:lnTo>
                      <a:pt x="16" y="827"/>
                    </a:lnTo>
                    <a:lnTo>
                      <a:pt x="11" y="740"/>
                    </a:lnTo>
                    <a:lnTo>
                      <a:pt x="5" y="598"/>
                    </a:lnTo>
                    <a:lnTo>
                      <a:pt x="5" y="426"/>
                    </a:lnTo>
                    <a:lnTo>
                      <a:pt x="16" y="243"/>
                    </a:lnTo>
                    <a:lnTo>
                      <a:pt x="35" y="108"/>
                    </a:lnTo>
                    <a:lnTo>
                      <a:pt x="56" y="3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929480" y="6058800"/>
                <a:ext cx="55800" cy="387720"/>
              </a:xfrm>
              <a:custGeom>
                <a:avLst/>
                <a:gdLst/>
                <a:ahLst/>
                <a:rect l="l" t="t" r="r" b="b"/>
                <a:pathLst>
                  <a:path w="77" h="1022">
                    <a:moveTo>
                      <a:pt x="2" y="3"/>
                    </a:moveTo>
                    <a:lnTo>
                      <a:pt x="33" y="0"/>
                    </a:lnTo>
                    <a:lnTo>
                      <a:pt x="55" y="80"/>
                    </a:lnTo>
                    <a:lnTo>
                      <a:pt x="77" y="303"/>
                    </a:lnTo>
                    <a:lnTo>
                      <a:pt x="77" y="558"/>
                    </a:lnTo>
                    <a:lnTo>
                      <a:pt x="66" y="777"/>
                    </a:lnTo>
                    <a:lnTo>
                      <a:pt x="77" y="851"/>
                    </a:lnTo>
                    <a:lnTo>
                      <a:pt x="77" y="951"/>
                    </a:lnTo>
                    <a:lnTo>
                      <a:pt x="66" y="1022"/>
                    </a:lnTo>
                    <a:lnTo>
                      <a:pt x="52" y="958"/>
                    </a:lnTo>
                    <a:lnTo>
                      <a:pt x="43" y="860"/>
                    </a:lnTo>
                    <a:lnTo>
                      <a:pt x="27" y="787"/>
                    </a:lnTo>
                    <a:lnTo>
                      <a:pt x="45" y="719"/>
                    </a:lnTo>
                    <a:lnTo>
                      <a:pt x="57" y="558"/>
                    </a:lnTo>
                    <a:lnTo>
                      <a:pt x="57" y="407"/>
                    </a:lnTo>
                    <a:lnTo>
                      <a:pt x="45" y="255"/>
                    </a:lnTo>
                    <a:lnTo>
                      <a:pt x="24" y="144"/>
                    </a:lnTo>
                    <a:lnTo>
                      <a:pt x="0" y="9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95920" y="6314400"/>
                <a:ext cx="126360" cy="468360"/>
              </a:xfrm>
              <a:custGeom>
                <a:avLst/>
                <a:gdLst/>
                <a:ahLst/>
                <a:rect l="l" t="t" r="r" b="b"/>
                <a:pathLst>
                  <a:path w="176" h="1232">
                    <a:moveTo>
                      <a:pt x="17" y="0"/>
                    </a:moveTo>
                    <a:lnTo>
                      <a:pt x="38" y="52"/>
                    </a:lnTo>
                    <a:lnTo>
                      <a:pt x="46" y="104"/>
                    </a:lnTo>
                    <a:lnTo>
                      <a:pt x="54" y="283"/>
                    </a:lnTo>
                    <a:lnTo>
                      <a:pt x="58" y="403"/>
                    </a:lnTo>
                    <a:lnTo>
                      <a:pt x="58" y="608"/>
                    </a:lnTo>
                    <a:lnTo>
                      <a:pt x="56" y="801"/>
                    </a:lnTo>
                    <a:lnTo>
                      <a:pt x="48" y="954"/>
                    </a:lnTo>
                    <a:lnTo>
                      <a:pt x="42" y="1002"/>
                    </a:lnTo>
                    <a:lnTo>
                      <a:pt x="84" y="1027"/>
                    </a:lnTo>
                    <a:lnTo>
                      <a:pt x="121" y="1057"/>
                    </a:lnTo>
                    <a:lnTo>
                      <a:pt x="170" y="1122"/>
                    </a:lnTo>
                    <a:lnTo>
                      <a:pt x="176" y="1147"/>
                    </a:lnTo>
                    <a:lnTo>
                      <a:pt x="172" y="1195"/>
                    </a:lnTo>
                    <a:lnTo>
                      <a:pt x="147" y="1232"/>
                    </a:lnTo>
                    <a:lnTo>
                      <a:pt x="137" y="1211"/>
                    </a:lnTo>
                    <a:lnTo>
                      <a:pt x="129" y="1161"/>
                    </a:lnTo>
                    <a:lnTo>
                      <a:pt x="107" y="1118"/>
                    </a:lnTo>
                    <a:lnTo>
                      <a:pt x="66" y="1070"/>
                    </a:lnTo>
                    <a:lnTo>
                      <a:pt x="40" y="1057"/>
                    </a:lnTo>
                    <a:lnTo>
                      <a:pt x="9" y="1057"/>
                    </a:lnTo>
                    <a:lnTo>
                      <a:pt x="9" y="1020"/>
                    </a:lnTo>
                    <a:lnTo>
                      <a:pt x="23" y="977"/>
                    </a:lnTo>
                    <a:lnTo>
                      <a:pt x="38" y="840"/>
                    </a:lnTo>
                    <a:lnTo>
                      <a:pt x="42" y="694"/>
                    </a:lnTo>
                    <a:lnTo>
                      <a:pt x="40" y="565"/>
                    </a:lnTo>
                    <a:lnTo>
                      <a:pt x="38" y="403"/>
                    </a:lnTo>
                    <a:lnTo>
                      <a:pt x="29" y="262"/>
                    </a:lnTo>
                    <a:lnTo>
                      <a:pt x="11" y="159"/>
                    </a:lnTo>
                    <a:lnTo>
                      <a:pt x="0" y="66"/>
                    </a:lnTo>
                    <a:lnTo>
                      <a:pt x="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77640" y="6315840"/>
                <a:ext cx="117720" cy="420480"/>
              </a:xfrm>
              <a:custGeom>
                <a:avLst/>
                <a:gdLst/>
                <a:ahLst/>
                <a:rect l="l" t="t" r="r" b="b"/>
                <a:pathLst>
                  <a:path w="163" h="1106">
                    <a:moveTo>
                      <a:pt x="0" y="88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43" y="0"/>
                    </a:lnTo>
                    <a:lnTo>
                      <a:pt x="62" y="40"/>
                    </a:lnTo>
                    <a:lnTo>
                      <a:pt x="66" y="78"/>
                    </a:lnTo>
                    <a:lnTo>
                      <a:pt x="62" y="158"/>
                    </a:lnTo>
                    <a:lnTo>
                      <a:pt x="49" y="259"/>
                    </a:lnTo>
                    <a:lnTo>
                      <a:pt x="43" y="413"/>
                    </a:lnTo>
                    <a:lnTo>
                      <a:pt x="39" y="514"/>
                    </a:lnTo>
                    <a:lnTo>
                      <a:pt x="39" y="531"/>
                    </a:lnTo>
                    <a:lnTo>
                      <a:pt x="45" y="672"/>
                    </a:lnTo>
                    <a:lnTo>
                      <a:pt x="55" y="754"/>
                    </a:lnTo>
                    <a:lnTo>
                      <a:pt x="62" y="818"/>
                    </a:lnTo>
                    <a:lnTo>
                      <a:pt x="61" y="844"/>
                    </a:lnTo>
                    <a:lnTo>
                      <a:pt x="85" y="917"/>
                    </a:lnTo>
                    <a:lnTo>
                      <a:pt x="111" y="965"/>
                    </a:lnTo>
                    <a:lnTo>
                      <a:pt x="139" y="1009"/>
                    </a:lnTo>
                    <a:lnTo>
                      <a:pt x="163" y="1028"/>
                    </a:lnTo>
                    <a:lnTo>
                      <a:pt x="163" y="1066"/>
                    </a:lnTo>
                    <a:lnTo>
                      <a:pt x="150" y="1095"/>
                    </a:lnTo>
                    <a:lnTo>
                      <a:pt x="118" y="1106"/>
                    </a:lnTo>
                    <a:lnTo>
                      <a:pt x="96" y="1086"/>
                    </a:lnTo>
                    <a:lnTo>
                      <a:pt x="96" y="1058"/>
                    </a:lnTo>
                    <a:lnTo>
                      <a:pt x="77" y="965"/>
                    </a:lnTo>
                    <a:lnTo>
                      <a:pt x="45" y="914"/>
                    </a:lnTo>
                    <a:lnTo>
                      <a:pt x="23" y="864"/>
                    </a:lnTo>
                    <a:lnTo>
                      <a:pt x="6" y="837"/>
                    </a:lnTo>
                    <a:lnTo>
                      <a:pt x="12" y="804"/>
                    </a:lnTo>
                    <a:lnTo>
                      <a:pt x="21" y="714"/>
                    </a:lnTo>
                    <a:lnTo>
                      <a:pt x="21" y="541"/>
                    </a:lnTo>
                    <a:lnTo>
                      <a:pt x="17" y="421"/>
                    </a:lnTo>
                    <a:lnTo>
                      <a:pt x="17" y="299"/>
                    </a:lnTo>
                    <a:lnTo>
                      <a:pt x="15" y="16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2727360" y="5824440"/>
            <a:ext cx="1445760" cy="969840"/>
            <a:chOff x="2727360" y="5824440"/>
            <a:chExt cx="1445760" cy="969840"/>
          </a:xfrm>
        </p:grpSpPr>
        <p:grpSp>
          <p:nvGrpSpPr>
            <p:cNvPr id="444" name=""/>
            <p:cNvGrpSpPr/>
            <p:nvPr/>
          </p:nvGrpSpPr>
          <p:grpSpPr>
            <a:xfrm>
              <a:off x="3641760" y="5872320"/>
              <a:ext cx="531360" cy="896400"/>
              <a:chOff x="3641760" y="5872320"/>
              <a:chExt cx="531360" cy="896400"/>
            </a:xfrm>
          </p:grpSpPr>
          <p:sp>
            <p:nvSpPr>
              <p:cNvPr id="445" name=""/>
              <p:cNvSpPr/>
              <p:nvPr/>
            </p:nvSpPr>
            <p:spPr>
              <a:xfrm>
                <a:off x="3798720" y="5872320"/>
                <a:ext cx="342360" cy="193680"/>
              </a:xfrm>
              <a:custGeom>
                <a:avLst/>
                <a:gdLst/>
                <a:ahLst/>
                <a:rect l="l" t="t" r="r" b="b"/>
                <a:pathLst>
                  <a:path w="431" h="811">
                    <a:moveTo>
                      <a:pt x="0" y="342"/>
                    </a:moveTo>
                    <a:lnTo>
                      <a:pt x="31" y="175"/>
                    </a:lnTo>
                    <a:lnTo>
                      <a:pt x="72" y="91"/>
                    </a:lnTo>
                    <a:lnTo>
                      <a:pt x="124" y="30"/>
                    </a:lnTo>
                    <a:lnTo>
                      <a:pt x="176" y="0"/>
                    </a:lnTo>
                    <a:lnTo>
                      <a:pt x="244" y="9"/>
                    </a:lnTo>
                    <a:lnTo>
                      <a:pt x="288" y="76"/>
                    </a:lnTo>
                    <a:lnTo>
                      <a:pt x="329" y="196"/>
                    </a:lnTo>
                    <a:lnTo>
                      <a:pt x="346" y="357"/>
                    </a:lnTo>
                    <a:lnTo>
                      <a:pt x="346" y="539"/>
                    </a:lnTo>
                    <a:lnTo>
                      <a:pt x="428" y="664"/>
                    </a:lnTo>
                    <a:lnTo>
                      <a:pt x="431" y="721"/>
                    </a:lnTo>
                    <a:lnTo>
                      <a:pt x="418" y="725"/>
                    </a:lnTo>
                    <a:lnTo>
                      <a:pt x="339" y="614"/>
                    </a:lnTo>
                    <a:lnTo>
                      <a:pt x="316" y="695"/>
                    </a:lnTo>
                    <a:lnTo>
                      <a:pt x="268" y="765"/>
                    </a:lnTo>
                    <a:lnTo>
                      <a:pt x="223" y="801"/>
                    </a:lnTo>
                    <a:lnTo>
                      <a:pt x="151" y="811"/>
                    </a:lnTo>
                    <a:lnTo>
                      <a:pt x="59" y="755"/>
                    </a:lnTo>
                    <a:lnTo>
                      <a:pt x="17" y="634"/>
                    </a:lnTo>
                    <a:lnTo>
                      <a:pt x="0" y="514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63800" y="6080760"/>
                <a:ext cx="306000" cy="312120"/>
              </a:xfrm>
              <a:custGeom>
                <a:avLst/>
                <a:gdLst/>
                <a:ahLst/>
                <a:rect l="l" t="t" r="r" b="b"/>
                <a:pathLst>
                  <a:path w="385" h="1306">
                    <a:moveTo>
                      <a:pt x="56" y="85"/>
                    </a:moveTo>
                    <a:lnTo>
                      <a:pt x="104" y="30"/>
                    </a:lnTo>
                    <a:lnTo>
                      <a:pt x="159" y="9"/>
                    </a:lnTo>
                    <a:lnTo>
                      <a:pt x="210" y="0"/>
                    </a:lnTo>
                    <a:lnTo>
                      <a:pt x="279" y="15"/>
                    </a:lnTo>
                    <a:lnTo>
                      <a:pt x="355" y="85"/>
                    </a:lnTo>
                    <a:lnTo>
                      <a:pt x="385" y="210"/>
                    </a:lnTo>
                    <a:lnTo>
                      <a:pt x="385" y="401"/>
                    </a:lnTo>
                    <a:lnTo>
                      <a:pt x="382" y="583"/>
                    </a:lnTo>
                    <a:lnTo>
                      <a:pt x="344" y="859"/>
                    </a:lnTo>
                    <a:lnTo>
                      <a:pt x="313" y="1085"/>
                    </a:lnTo>
                    <a:lnTo>
                      <a:pt x="279" y="1230"/>
                    </a:lnTo>
                    <a:lnTo>
                      <a:pt x="207" y="1306"/>
                    </a:lnTo>
                    <a:lnTo>
                      <a:pt x="104" y="1290"/>
                    </a:lnTo>
                    <a:lnTo>
                      <a:pt x="52" y="1175"/>
                    </a:lnTo>
                    <a:lnTo>
                      <a:pt x="22" y="1004"/>
                    </a:lnTo>
                    <a:lnTo>
                      <a:pt x="4" y="813"/>
                    </a:lnTo>
                    <a:lnTo>
                      <a:pt x="0" y="526"/>
                    </a:lnTo>
                    <a:lnTo>
                      <a:pt x="15" y="325"/>
                    </a:lnTo>
                    <a:lnTo>
                      <a:pt x="35" y="146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41760" y="6080400"/>
                <a:ext cx="180720" cy="384480"/>
              </a:xfrm>
              <a:custGeom>
                <a:avLst/>
                <a:gdLst/>
                <a:ahLst/>
                <a:rect l="l" t="t" r="r" b="b"/>
                <a:pathLst>
                  <a:path w="226" h="1607">
                    <a:moveTo>
                      <a:pt x="154" y="10"/>
                    </a:moveTo>
                    <a:lnTo>
                      <a:pt x="209" y="0"/>
                    </a:lnTo>
                    <a:lnTo>
                      <a:pt x="226" y="71"/>
                    </a:lnTo>
                    <a:lnTo>
                      <a:pt x="198" y="162"/>
                    </a:lnTo>
                    <a:lnTo>
                      <a:pt x="157" y="211"/>
                    </a:lnTo>
                    <a:lnTo>
                      <a:pt x="123" y="331"/>
                    </a:lnTo>
                    <a:lnTo>
                      <a:pt x="82" y="493"/>
                    </a:lnTo>
                    <a:lnTo>
                      <a:pt x="65" y="643"/>
                    </a:lnTo>
                    <a:lnTo>
                      <a:pt x="55" y="898"/>
                    </a:lnTo>
                    <a:lnTo>
                      <a:pt x="65" y="1139"/>
                    </a:lnTo>
                    <a:lnTo>
                      <a:pt x="85" y="1251"/>
                    </a:lnTo>
                    <a:lnTo>
                      <a:pt x="71" y="1371"/>
                    </a:lnTo>
                    <a:lnTo>
                      <a:pt x="55" y="1462"/>
                    </a:lnTo>
                    <a:lnTo>
                      <a:pt x="61" y="1607"/>
                    </a:lnTo>
                    <a:lnTo>
                      <a:pt x="33" y="1597"/>
                    </a:lnTo>
                    <a:lnTo>
                      <a:pt x="10" y="1476"/>
                    </a:lnTo>
                    <a:lnTo>
                      <a:pt x="0" y="1371"/>
                    </a:lnTo>
                    <a:lnTo>
                      <a:pt x="30" y="1230"/>
                    </a:lnTo>
                    <a:lnTo>
                      <a:pt x="20" y="1099"/>
                    </a:lnTo>
                    <a:lnTo>
                      <a:pt x="10" y="888"/>
                    </a:lnTo>
                    <a:lnTo>
                      <a:pt x="10" y="633"/>
                    </a:lnTo>
                    <a:lnTo>
                      <a:pt x="30" y="362"/>
                    </a:lnTo>
                    <a:lnTo>
                      <a:pt x="65" y="162"/>
                    </a:lnTo>
                    <a:lnTo>
                      <a:pt x="103" y="56"/>
                    </a:lnTo>
                    <a:lnTo>
                      <a:pt x="154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33800" y="6090480"/>
                <a:ext cx="113760" cy="365040"/>
              </a:xfrm>
              <a:custGeom>
                <a:avLst/>
                <a:gdLst/>
                <a:ahLst/>
                <a:rect l="l" t="t" r="r" b="b"/>
                <a:pathLst>
                  <a:path w="145" h="1528">
                    <a:moveTo>
                      <a:pt x="3" y="5"/>
                    </a:moveTo>
                    <a:lnTo>
                      <a:pt x="62" y="0"/>
                    </a:lnTo>
                    <a:lnTo>
                      <a:pt x="103" y="121"/>
                    </a:lnTo>
                    <a:lnTo>
                      <a:pt x="145" y="452"/>
                    </a:lnTo>
                    <a:lnTo>
                      <a:pt x="145" y="834"/>
                    </a:lnTo>
                    <a:lnTo>
                      <a:pt x="124" y="1161"/>
                    </a:lnTo>
                    <a:lnTo>
                      <a:pt x="145" y="1272"/>
                    </a:lnTo>
                    <a:lnTo>
                      <a:pt x="145" y="1422"/>
                    </a:lnTo>
                    <a:lnTo>
                      <a:pt x="124" y="1528"/>
                    </a:lnTo>
                    <a:lnTo>
                      <a:pt x="97" y="1432"/>
                    </a:lnTo>
                    <a:lnTo>
                      <a:pt x="83" y="1287"/>
                    </a:lnTo>
                    <a:lnTo>
                      <a:pt x="52" y="1175"/>
                    </a:lnTo>
                    <a:lnTo>
                      <a:pt x="87" y="1076"/>
                    </a:lnTo>
                    <a:lnTo>
                      <a:pt x="107" y="834"/>
                    </a:lnTo>
                    <a:lnTo>
                      <a:pt x="107" y="608"/>
                    </a:lnTo>
                    <a:lnTo>
                      <a:pt x="87" y="382"/>
                    </a:lnTo>
                    <a:lnTo>
                      <a:pt x="45" y="216"/>
                    </a:lnTo>
                    <a:lnTo>
                      <a:pt x="0" y="13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65240" y="6330600"/>
                <a:ext cx="257040" cy="438120"/>
              </a:xfrm>
              <a:custGeom>
                <a:avLst/>
                <a:gdLst/>
                <a:ahLst/>
                <a:rect l="l" t="t" r="r" b="b"/>
                <a:pathLst>
                  <a:path w="324" h="1831">
                    <a:moveTo>
                      <a:pt x="32" y="0"/>
                    </a:moveTo>
                    <a:lnTo>
                      <a:pt x="69" y="76"/>
                    </a:lnTo>
                    <a:lnTo>
                      <a:pt x="85" y="153"/>
                    </a:lnTo>
                    <a:lnTo>
                      <a:pt x="100" y="419"/>
                    </a:lnTo>
                    <a:lnTo>
                      <a:pt x="107" y="597"/>
                    </a:lnTo>
                    <a:lnTo>
                      <a:pt x="107" y="902"/>
                    </a:lnTo>
                    <a:lnTo>
                      <a:pt x="105" y="1189"/>
                    </a:lnTo>
                    <a:lnTo>
                      <a:pt x="90" y="1417"/>
                    </a:lnTo>
                    <a:lnTo>
                      <a:pt x="77" y="1487"/>
                    </a:lnTo>
                    <a:lnTo>
                      <a:pt x="157" y="1526"/>
                    </a:lnTo>
                    <a:lnTo>
                      <a:pt x="224" y="1571"/>
                    </a:lnTo>
                    <a:lnTo>
                      <a:pt x="314" y="1666"/>
                    </a:lnTo>
                    <a:lnTo>
                      <a:pt x="324" y="1703"/>
                    </a:lnTo>
                    <a:lnTo>
                      <a:pt x="316" y="1774"/>
                    </a:lnTo>
                    <a:lnTo>
                      <a:pt x="271" y="1831"/>
                    </a:lnTo>
                    <a:lnTo>
                      <a:pt x="254" y="1799"/>
                    </a:lnTo>
                    <a:lnTo>
                      <a:pt x="239" y="1722"/>
                    </a:lnTo>
                    <a:lnTo>
                      <a:pt x="196" y="1660"/>
                    </a:lnTo>
                    <a:lnTo>
                      <a:pt x="122" y="1588"/>
                    </a:lnTo>
                    <a:lnTo>
                      <a:pt x="74" y="1571"/>
                    </a:lnTo>
                    <a:lnTo>
                      <a:pt x="18" y="1571"/>
                    </a:lnTo>
                    <a:lnTo>
                      <a:pt x="18" y="1513"/>
                    </a:lnTo>
                    <a:lnTo>
                      <a:pt x="45" y="1449"/>
                    </a:lnTo>
                    <a:lnTo>
                      <a:pt x="69" y="1245"/>
                    </a:lnTo>
                    <a:lnTo>
                      <a:pt x="77" y="1030"/>
                    </a:lnTo>
                    <a:lnTo>
                      <a:pt x="74" y="840"/>
                    </a:lnTo>
                    <a:lnTo>
                      <a:pt x="69" y="597"/>
                    </a:lnTo>
                    <a:lnTo>
                      <a:pt x="54" y="388"/>
                    </a:lnTo>
                    <a:lnTo>
                      <a:pt x="23" y="235"/>
                    </a:lnTo>
                    <a:lnTo>
                      <a:pt x="0" y="95"/>
                    </a:lnTo>
                    <a:lnTo>
                      <a:pt x="7" y="4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935160" y="6331320"/>
                <a:ext cx="237960" cy="394560"/>
              </a:xfrm>
              <a:custGeom>
                <a:avLst/>
                <a:gdLst/>
                <a:ahLst/>
                <a:rect l="l" t="t" r="r" b="b"/>
                <a:pathLst>
                  <a:path w="298" h="1650">
                    <a:moveTo>
                      <a:pt x="0" y="130"/>
                    </a:moveTo>
                    <a:lnTo>
                      <a:pt x="0" y="25"/>
                    </a:lnTo>
                    <a:lnTo>
                      <a:pt x="30" y="0"/>
                    </a:lnTo>
                    <a:lnTo>
                      <a:pt x="78" y="0"/>
                    </a:lnTo>
                    <a:lnTo>
                      <a:pt x="112" y="60"/>
                    </a:lnTo>
                    <a:lnTo>
                      <a:pt x="119" y="115"/>
                    </a:lnTo>
                    <a:lnTo>
                      <a:pt x="112" y="236"/>
                    </a:lnTo>
                    <a:lnTo>
                      <a:pt x="89" y="386"/>
                    </a:lnTo>
                    <a:lnTo>
                      <a:pt x="78" y="618"/>
                    </a:lnTo>
                    <a:lnTo>
                      <a:pt x="72" y="768"/>
                    </a:lnTo>
                    <a:lnTo>
                      <a:pt x="72" y="793"/>
                    </a:lnTo>
                    <a:lnTo>
                      <a:pt x="82" y="1004"/>
                    </a:lnTo>
                    <a:lnTo>
                      <a:pt x="99" y="1124"/>
                    </a:lnTo>
                    <a:lnTo>
                      <a:pt x="112" y="1219"/>
                    </a:lnTo>
                    <a:lnTo>
                      <a:pt x="109" y="1259"/>
                    </a:lnTo>
                    <a:lnTo>
                      <a:pt x="154" y="1369"/>
                    </a:lnTo>
                    <a:lnTo>
                      <a:pt x="202" y="1439"/>
                    </a:lnTo>
                    <a:lnTo>
                      <a:pt x="253" y="1505"/>
                    </a:lnTo>
                    <a:lnTo>
                      <a:pt x="298" y="1536"/>
                    </a:lnTo>
                    <a:lnTo>
                      <a:pt x="298" y="1591"/>
                    </a:lnTo>
                    <a:lnTo>
                      <a:pt x="274" y="1635"/>
                    </a:lnTo>
                    <a:lnTo>
                      <a:pt x="216" y="1650"/>
                    </a:lnTo>
                    <a:lnTo>
                      <a:pt x="174" y="1621"/>
                    </a:lnTo>
                    <a:lnTo>
                      <a:pt x="174" y="1580"/>
                    </a:lnTo>
                    <a:lnTo>
                      <a:pt x="140" y="1439"/>
                    </a:lnTo>
                    <a:lnTo>
                      <a:pt x="82" y="1365"/>
                    </a:lnTo>
                    <a:lnTo>
                      <a:pt x="40" y="1289"/>
                    </a:lnTo>
                    <a:lnTo>
                      <a:pt x="10" y="1249"/>
                    </a:lnTo>
                    <a:lnTo>
                      <a:pt x="20" y="1199"/>
                    </a:lnTo>
                    <a:lnTo>
                      <a:pt x="37" y="1063"/>
                    </a:lnTo>
                    <a:lnTo>
                      <a:pt x="37" y="808"/>
                    </a:lnTo>
                    <a:lnTo>
                      <a:pt x="30" y="627"/>
                    </a:lnTo>
                    <a:lnTo>
                      <a:pt x="30" y="447"/>
                    </a:lnTo>
                    <a:lnTo>
                      <a:pt x="27" y="251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144960" y="5850000"/>
              <a:ext cx="395280" cy="944280"/>
              <a:chOff x="3144960" y="5850000"/>
              <a:chExt cx="395280" cy="944280"/>
            </a:xfrm>
          </p:grpSpPr>
          <p:sp>
            <p:nvSpPr>
              <p:cNvPr id="452" name=""/>
              <p:cNvSpPr/>
              <p:nvPr/>
            </p:nvSpPr>
            <p:spPr>
              <a:xfrm>
                <a:off x="3260880" y="5850000"/>
                <a:ext cx="258840" cy="202320"/>
              </a:xfrm>
              <a:custGeom>
                <a:avLst/>
                <a:gdLst/>
                <a:ahLst/>
                <a:rect l="l" t="t" r="r" b="b"/>
                <a:pathLst>
                  <a:path w="326" h="662">
                    <a:moveTo>
                      <a:pt x="0" y="280"/>
                    </a:moveTo>
                    <a:lnTo>
                      <a:pt x="23" y="145"/>
                    </a:lnTo>
                    <a:lnTo>
                      <a:pt x="55" y="75"/>
                    </a:lnTo>
                    <a:lnTo>
                      <a:pt x="93" y="24"/>
                    </a:lnTo>
                    <a:lnTo>
                      <a:pt x="132" y="0"/>
                    </a:lnTo>
                    <a:lnTo>
                      <a:pt x="184" y="8"/>
                    </a:lnTo>
                    <a:lnTo>
                      <a:pt x="217" y="61"/>
                    </a:lnTo>
                    <a:lnTo>
                      <a:pt x="249" y="161"/>
                    </a:lnTo>
                    <a:lnTo>
                      <a:pt x="262" y="292"/>
                    </a:lnTo>
                    <a:lnTo>
                      <a:pt x="262" y="440"/>
                    </a:lnTo>
                    <a:lnTo>
                      <a:pt x="324" y="543"/>
                    </a:lnTo>
                    <a:lnTo>
                      <a:pt x="326" y="587"/>
                    </a:lnTo>
                    <a:lnTo>
                      <a:pt x="316" y="592"/>
                    </a:lnTo>
                    <a:lnTo>
                      <a:pt x="257" y="501"/>
                    </a:lnTo>
                    <a:lnTo>
                      <a:pt x="238" y="567"/>
                    </a:lnTo>
                    <a:lnTo>
                      <a:pt x="202" y="624"/>
                    </a:lnTo>
                    <a:lnTo>
                      <a:pt x="168" y="653"/>
                    </a:lnTo>
                    <a:lnTo>
                      <a:pt x="114" y="662"/>
                    </a:lnTo>
                    <a:lnTo>
                      <a:pt x="44" y="616"/>
                    </a:lnTo>
                    <a:lnTo>
                      <a:pt x="13" y="517"/>
                    </a:lnTo>
                    <a:lnTo>
                      <a:pt x="0" y="419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35680" y="6069600"/>
                <a:ext cx="226800" cy="329040"/>
              </a:xfrm>
              <a:custGeom>
                <a:avLst/>
                <a:gdLst/>
                <a:ahLst/>
                <a:rect l="l" t="t" r="r" b="b"/>
                <a:pathLst>
                  <a:path w="286" h="1074">
                    <a:moveTo>
                      <a:pt x="42" y="69"/>
                    </a:moveTo>
                    <a:lnTo>
                      <a:pt x="77" y="23"/>
                    </a:lnTo>
                    <a:lnTo>
                      <a:pt x="118" y="7"/>
                    </a:lnTo>
                    <a:lnTo>
                      <a:pt x="157" y="0"/>
                    </a:lnTo>
                    <a:lnTo>
                      <a:pt x="207" y="11"/>
                    </a:lnTo>
                    <a:lnTo>
                      <a:pt x="263" y="69"/>
                    </a:lnTo>
                    <a:lnTo>
                      <a:pt x="286" y="172"/>
                    </a:lnTo>
                    <a:lnTo>
                      <a:pt x="286" y="329"/>
                    </a:lnTo>
                    <a:lnTo>
                      <a:pt x="284" y="478"/>
                    </a:lnTo>
                    <a:lnTo>
                      <a:pt x="255" y="705"/>
                    </a:lnTo>
                    <a:lnTo>
                      <a:pt x="233" y="891"/>
                    </a:lnTo>
                    <a:lnTo>
                      <a:pt x="207" y="1011"/>
                    </a:lnTo>
                    <a:lnTo>
                      <a:pt x="154" y="1074"/>
                    </a:lnTo>
                    <a:lnTo>
                      <a:pt x="77" y="1060"/>
                    </a:lnTo>
                    <a:lnTo>
                      <a:pt x="39" y="965"/>
                    </a:lnTo>
                    <a:lnTo>
                      <a:pt x="17" y="826"/>
                    </a:lnTo>
                    <a:lnTo>
                      <a:pt x="3" y="668"/>
                    </a:lnTo>
                    <a:lnTo>
                      <a:pt x="0" y="432"/>
                    </a:lnTo>
                    <a:lnTo>
                      <a:pt x="11" y="267"/>
                    </a:lnTo>
                    <a:lnTo>
                      <a:pt x="27" y="118"/>
                    </a:lnTo>
                    <a:lnTo>
                      <a:pt x="42" y="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44960" y="6069600"/>
                <a:ext cx="133560" cy="403560"/>
              </a:xfrm>
              <a:custGeom>
                <a:avLst/>
                <a:gdLst/>
                <a:ahLst/>
                <a:rect l="l" t="t" r="r" b="b"/>
                <a:pathLst>
                  <a:path w="168" h="1319">
                    <a:moveTo>
                      <a:pt x="114" y="8"/>
                    </a:moveTo>
                    <a:lnTo>
                      <a:pt x="155" y="0"/>
                    </a:lnTo>
                    <a:lnTo>
                      <a:pt x="168" y="58"/>
                    </a:lnTo>
                    <a:lnTo>
                      <a:pt x="148" y="132"/>
                    </a:lnTo>
                    <a:lnTo>
                      <a:pt x="117" y="173"/>
                    </a:lnTo>
                    <a:lnTo>
                      <a:pt x="92" y="271"/>
                    </a:lnTo>
                    <a:lnTo>
                      <a:pt x="60" y="404"/>
                    </a:lnTo>
                    <a:lnTo>
                      <a:pt x="48" y="527"/>
                    </a:lnTo>
                    <a:lnTo>
                      <a:pt x="40" y="738"/>
                    </a:lnTo>
                    <a:lnTo>
                      <a:pt x="48" y="936"/>
                    </a:lnTo>
                    <a:lnTo>
                      <a:pt x="64" y="1026"/>
                    </a:lnTo>
                    <a:lnTo>
                      <a:pt x="53" y="1126"/>
                    </a:lnTo>
                    <a:lnTo>
                      <a:pt x="40" y="1200"/>
                    </a:lnTo>
                    <a:lnTo>
                      <a:pt x="45" y="1319"/>
                    </a:lnTo>
                    <a:lnTo>
                      <a:pt x="25" y="1310"/>
                    </a:lnTo>
                    <a:lnTo>
                      <a:pt x="8" y="1212"/>
                    </a:lnTo>
                    <a:lnTo>
                      <a:pt x="0" y="1126"/>
                    </a:lnTo>
                    <a:lnTo>
                      <a:pt x="23" y="1010"/>
                    </a:lnTo>
                    <a:lnTo>
                      <a:pt x="15" y="903"/>
                    </a:lnTo>
                    <a:lnTo>
                      <a:pt x="8" y="729"/>
                    </a:lnTo>
                    <a:lnTo>
                      <a:pt x="8" y="520"/>
                    </a:lnTo>
                    <a:lnTo>
                      <a:pt x="23" y="297"/>
                    </a:lnTo>
                    <a:lnTo>
                      <a:pt x="48" y="132"/>
                    </a:lnTo>
                    <a:lnTo>
                      <a:pt x="76" y="46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38720" y="6078960"/>
                <a:ext cx="84240" cy="384480"/>
              </a:xfrm>
              <a:custGeom>
                <a:avLst/>
                <a:gdLst/>
                <a:ahLst/>
                <a:rect l="l" t="t" r="r" b="b"/>
                <a:pathLst>
                  <a:path w="106" h="1253">
                    <a:moveTo>
                      <a:pt x="2" y="3"/>
                    </a:moveTo>
                    <a:lnTo>
                      <a:pt x="46" y="0"/>
                    </a:lnTo>
                    <a:lnTo>
                      <a:pt x="75" y="98"/>
                    </a:lnTo>
                    <a:lnTo>
                      <a:pt x="106" y="370"/>
                    </a:lnTo>
                    <a:lnTo>
                      <a:pt x="106" y="684"/>
                    </a:lnTo>
                    <a:lnTo>
                      <a:pt x="90" y="951"/>
                    </a:lnTo>
                    <a:lnTo>
                      <a:pt x="106" y="1042"/>
                    </a:lnTo>
                    <a:lnTo>
                      <a:pt x="106" y="1165"/>
                    </a:lnTo>
                    <a:lnTo>
                      <a:pt x="90" y="1253"/>
                    </a:lnTo>
                    <a:lnTo>
                      <a:pt x="70" y="1174"/>
                    </a:lnTo>
                    <a:lnTo>
                      <a:pt x="60" y="1054"/>
                    </a:lnTo>
                    <a:lnTo>
                      <a:pt x="38" y="963"/>
                    </a:lnTo>
                    <a:lnTo>
                      <a:pt x="63" y="881"/>
                    </a:lnTo>
                    <a:lnTo>
                      <a:pt x="78" y="684"/>
                    </a:lnTo>
                    <a:lnTo>
                      <a:pt x="78" y="498"/>
                    </a:lnTo>
                    <a:lnTo>
                      <a:pt x="63" y="312"/>
                    </a:lnTo>
                    <a:lnTo>
                      <a:pt x="33" y="177"/>
                    </a:lnTo>
                    <a:lnTo>
                      <a:pt x="0" y="1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237120" y="6332760"/>
                <a:ext cx="190440" cy="461520"/>
              </a:xfrm>
              <a:custGeom>
                <a:avLst/>
                <a:gdLst/>
                <a:ahLst/>
                <a:rect l="l" t="t" r="r" b="b"/>
                <a:pathLst>
                  <a:path w="241" h="1507">
                    <a:moveTo>
                      <a:pt x="24" y="0"/>
                    </a:moveTo>
                    <a:lnTo>
                      <a:pt x="52" y="63"/>
                    </a:lnTo>
                    <a:lnTo>
                      <a:pt x="62" y="127"/>
                    </a:lnTo>
                    <a:lnTo>
                      <a:pt x="73" y="345"/>
                    </a:lnTo>
                    <a:lnTo>
                      <a:pt x="79" y="492"/>
                    </a:lnTo>
                    <a:lnTo>
                      <a:pt x="79" y="743"/>
                    </a:lnTo>
                    <a:lnTo>
                      <a:pt x="77" y="978"/>
                    </a:lnTo>
                    <a:lnTo>
                      <a:pt x="66" y="1167"/>
                    </a:lnTo>
                    <a:lnTo>
                      <a:pt x="57" y="1225"/>
                    </a:lnTo>
                    <a:lnTo>
                      <a:pt x="116" y="1256"/>
                    </a:lnTo>
                    <a:lnTo>
                      <a:pt x="167" y="1293"/>
                    </a:lnTo>
                    <a:lnTo>
                      <a:pt x="233" y="1370"/>
                    </a:lnTo>
                    <a:lnTo>
                      <a:pt x="241" y="1403"/>
                    </a:lnTo>
                    <a:lnTo>
                      <a:pt x="235" y="1459"/>
                    </a:lnTo>
                    <a:lnTo>
                      <a:pt x="201" y="1507"/>
                    </a:lnTo>
                    <a:lnTo>
                      <a:pt x="188" y="1480"/>
                    </a:lnTo>
                    <a:lnTo>
                      <a:pt x="178" y="1418"/>
                    </a:lnTo>
                    <a:lnTo>
                      <a:pt x="147" y="1366"/>
                    </a:lnTo>
                    <a:lnTo>
                      <a:pt x="91" y="1308"/>
                    </a:lnTo>
                    <a:lnTo>
                      <a:pt x="55" y="1293"/>
                    </a:lnTo>
                    <a:lnTo>
                      <a:pt x="12" y="1293"/>
                    </a:lnTo>
                    <a:lnTo>
                      <a:pt x="12" y="1245"/>
                    </a:lnTo>
                    <a:lnTo>
                      <a:pt x="33" y="1193"/>
                    </a:lnTo>
                    <a:lnTo>
                      <a:pt x="52" y="1025"/>
                    </a:lnTo>
                    <a:lnTo>
                      <a:pt x="57" y="847"/>
                    </a:lnTo>
                    <a:lnTo>
                      <a:pt x="55" y="691"/>
                    </a:lnTo>
                    <a:lnTo>
                      <a:pt x="52" y="492"/>
                    </a:lnTo>
                    <a:lnTo>
                      <a:pt x="41" y="320"/>
                    </a:lnTo>
                    <a:lnTo>
                      <a:pt x="17" y="193"/>
                    </a:lnTo>
                    <a:lnTo>
                      <a:pt x="0" y="79"/>
                    </a:lnTo>
                    <a:lnTo>
                      <a:pt x="5" y="3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62400" y="6332760"/>
                <a:ext cx="177840" cy="415800"/>
              </a:xfrm>
              <a:custGeom>
                <a:avLst/>
                <a:gdLst/>
                <a:ahLst/>
                <a:rect l="l" t="t" r="r" b="b"/>
                <a:pathLst>
                  <a:path w="223" h="1355">
                    <a:moveTo>
                      <a:pt x="0" y="107"/>
                    </a:moveTo>
                    <a:lnTo>
                      <a:pt x="0" y="21"/>
                    </a:lnTo>
                    <a:lnTo>
                      <a:pt x="23" y="0"/>
                    </a:lnTo>
                    <a:lnTo>
                      <a:pt x="59" y="0"/>
                    </a:lnTo>
                    <a:lnTo>
                      <a:pt x="85" y="50"/>
                    </a:lnTo>
                    <a:lnTo>
                      <a:pt x="90" y="95"/>
                    </a:lnTo>
                    <a:lnTo>
                      <a:pt x="85" y="194"/>
                    </a:lnTo>
                    <a:lnTo>
                      <a:pt x="67" y="318"/>
                    </a:lnTo>
                    <a:lnTo>
                      <a:pt x="59" y="506"/>
                    </a:lnTo>
                    <a:lnTo>
                      <a:pt x="54" y="631"/>
                    </a:lnTo>
                    <a:lnTo>
                      <a:pt x="54" y="651"/>
                    </a:lnTo>
                    <a:lnTo>
                      <a:pt x="62" y="824"/>
                    </a:lnTo>
                    <a:lnTo>
                      <a:pt x="75" y="922"/>
                    </a:lnTo>
                    <a:lnTo>
                      <a:pt x="85" y="1001"/>
                    </a:lnTo>
                    <a:lnTo>
                      <a:pt x="82" y="1034"/>
                    </a:lnTo>
                    <a:lnTo>
                      <a:pt x="115" y="1125"/>
                    </a:lnTo>
                    <a:lnTo>
                      <a:pt x="151" y="1182"/>
                    </a:lnTo>
                    <a:lnTo>
                      <a:pt x="190" y="1236"/>
                    </a:lnTo>
                    <a:lnTo>
                      <a:pt x="223" y="1261"/>
                    </a:lnTo>
                    <a:lnTo>
                      <a:pt x="223" y="1306"/>
                    </a:lnTo>
                    <a:lnTo>
                      <a:pt x="206" y="1343"/>
                    </a:lnTo>
                    <a:lnTo>
                      <a:pt x="162" y="1355"/>
                    </a:lnTo>
                    <a:lnTo>
                      <a:pt x="131" y="1331"/>
                    </a:lnTo>
                    <a:lnTo>
                      <a:pt x="131" y="1298"/>
                    </a:lnTo>
                    <a:lnTo>
                      <a:pt x="105" y="1182"/>
                    </a:lnTo>
                    <a:lnTo>
                      <a:pt x="62" y="1120"/>
                    </a:lnTo>
                    <a:lnTo>
                      <a:pt x="31" y="1059"/>
                    </a:lnTo>
                    <a:lnTo>
                      <a:pt x="8" y="1026"/>
                    </a:lnTo>
                    <a:lnTo>
                      <a:pt x="15" y="985"/>
                    </a:lnTo>
                    <a:lnTo>
                      <a:pt x="28" y="873"/>
                    </a:lnTo>
                    <a:lnTo>
                      <a:pt x="28" y="664"/>
                    </a:lnTo>
                    <a:lnTo>
                      <a:pt x="23" y="515"/>
                    </a:lnTo>
                    <a:lnTo>
                      <a:pt x="23" y="367"/>
                    </a:lnTo>
                    <a:lnTo>
                      <a:pt x="20" y="206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2727360" y="5824440"/>
              <a:ext cx="261720" cy="958680"/>
              <a:chOff x="2727360" y="5824440"/>
              <a:chExt cx="261720" cy="958680"/>
            </a:xfrm>
          </p:grpSpPr>
          <p:sp>
            <p:nvSpPr>
              <p:cNvPr id="459" name=""/>
              <p:cNvSpPr/>
              <p:nvPr/>
            </p:nvSpPr>
            <p:spPr>
              <a:xfrm>
                <a:off x="2803680" y="5824440"/>
                <a:ext cx="171360" cy="207360"/>
              </a:xfrm>
              <a:custGeom>
                <a:avLst/>
                <a:gdLst/>
                <a:ahLst/>
                <a:rect l="l" t="t" r="r" b="b"/>
                <a:pathLst>
                  <a:path w="239" h="547">
                    <a:moveTo>
                      <a:pt x="0" y="232"/>
                    </a:moveTo>
                    <a:lnTo>
                      <a:pt x="18" y="119"/>
                    </a:lnTo>
                    <a:lnTo>
                      <a:pt x="41" y="61"/>
                    </a:lnTo>
                    <a:lnTo>
                      <a:pt x="69" y="21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60" y="50"/>
                    </a:lnTo>
                    <a:lnTo>
                      <a:pt x="183" y="132"/>
                    </a:lnTo>
                    <a:lnTo>
                      <a:pt x="192" y="240"/>
                    </a:lnTo>
                    <a:lnTo>
                      <a:pt x="192" y="364"/>
                    </a:lnTo>
                    <a:lnTo>
                      <a:pt x="238" y="448"/>
                    </a:lnTo>
                    <a:lnTo>
                      <a:pt x="239" y="486"/>
                    </a:lnTo>
                    <a:lnTo>
                      <a:pt x="232" y="489"/>
                    </a:lnTo>
                    <a:lnTo>
                      <a:pt x="188" y="414"/>
                    </a:lnTo>
                    <a:lnTo>
                      <a:pt x="175" y="469"/>
                    </a:lnTo>
                    <a:lnTo>
                      <a:pt x="149" y="517"/>
                    </a:lnTo>
                    <a:lnTo>
                      <a:pt x="124" y="541"/>
                    </a:lnTo>
                    <a:lnTo>
                      <a:pt x="85" y="547"/>
                    </a:lnTo>
                    <a:lnTo>
                      <a:pt x="33" y="509"/>
                    </a:lnTo>
                    <a:lnTo>
                      <a:pt x="10" y="428"/>
                    </a:lnTo>
                    <a:lnTo>
                      <a:pt x="0" y="34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89280" y="6049080"/>
                <a:ext cx="150840" cy="331560"/>
              </a:xfrm>
              <a:custGeom>
                <a:avLst/>
                <a:gdLst/>
                <a:ahLst/>
                <a:rect l="l" t="t" r="r" b="b"/>
                <a:pathLst>
                  <a:path w="209" h="875">
                    <a:moveTo>
                      <a:pt x="29" y="57"/>
                    </a:moveTo>
                    <a:lnTo>
                      <a:pt x="56" y="19"/>
                    </a:lnTo>
                    <a:lnTo>
                      <a:pt x="86" y="6"/>
                    </a:lnTo>
                    <a:lnTo>
                      <a:pt x="114" y="0"/>
                    </a:lnTo>
                    <a:lnTo>
                      <a:pt x="151" y="9"/>
                    </a:lnTo>
                    <a:lnTo>
                      <a:pt x="192" y="57"/>
                    </a:lnTo>
                    <a:lnTo>
                      <a:pt x="209" y="141"/>
                    </a:lnTo>
                    <a:lnTo>
                      <a:pt x="209" y="269"/>
                    </a:lnTo>
                    <a:lnTo>
                      <a:pt x="207" y="389"/>
                    </a:lnTo>
                    <a:lnTo>
                      <a:pt x="187" y="575"/>
                    </a:lnTo>
                    <a:lnTo>
                      <a:pt x="170" y="727"/>
                    </a:lnTo>
                    <a:lnTo>
                      <a:pt x="151" y="825"/>
                    </a:lnTo>
                    <a:lnTo>
                      <a:pt x="112" y="875"/>
                    </a:lnTo>
                    <a:lnTo>
                      <a:pt x="56" y="865"/>
                    </a:lnTo>
                    <a:lnTo>
                      <a:pt x="28" y="788"/>
                    </a:lnTo>
                    <a:lnTo>
                      <a:pt x="11" y="673"/>
                    </a:lnTo>
                    <a:lnTo>
                      <a:pt x="2" y="544"/>
                    </a:lnTo>
                    <a:lnTo>
                      <a:pt x="0" y="352"/>
                    </a:lnTo>
                    <a:lnTo>
                      <a:pt x="7" y="219"/>
                    </a:lnTo>
                    <a:lnTo>
                      <a:pt x="18" y="9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27360" y="6047640"/>
                <a:ext cx="89280" cy="410400"/>
              </a:xfrm>
              <a:custGeom>
                <a:avLst/>
                <a:gdLst/>
                <a:ahLst/>
                <a:rect l="l" t="t" r="r" b="b"/>
                <a:pathLst>
                  <a:path w="125" h="1080">
                    <a:moveTo>
                      <a:pt x="84" y="7"/>
                    </a:moveTo>
                    <a:lnTo>
                      <a:pt x="114" y="0"/>
                    </a:lnTo>
                    <a:lnTo>
                      <a:pt x="125" y="47"/>
                    </a:lnTo>
                    <a:lnTo>
                      <a:pt x="109" y="108"/>
                    </a:lnTo>
                    <a:lnTo>
                      <a:pt x="86" y="142"/>
                    </a:lnTo>
                    <a:lnTo>
                      <a:pt x="68" y="222"/>
                    </a:lnTo>
                    <a:lnTo>
                      <a:pt x="44" y="331"/>
                    </a:lnTo>
                    <a:lnTo>
                      <a:pt x="35" y="432"/>
                    </a:lnTo>
                    <a:lnTo>
                      <a:pt x="29" y="604"/>
                    </a:lnTo>
                    <a:lnTo>
                      <a:pt x="35" y="766"/>
                    </a:lnTo>
                    <a:lnTo>
                      <a:pt x="46" y="841"/>
                    </a:lnTo>
                    <a:lnTo>
                      <a:pt x="39" y="922"/>
                    </a:lnTo>
                    <a:lnTo>
                      <a:pt x="29" y="983"/>
                    </a:lnTo>
                    <a:lnTo>
                      <a:pt x="33" y="1080"/>
                    </a:lnTo>
                    <a:lnTo>
                      <a:pt x="18" y="1074"/>
                    </a:lnTo>
                    <a:lnTo>
                      <a:pt x="5" y="992"/>
                    </a:lnTo>
                    <a:lnTo>
                      <a:pt x="0" y="922"/>
                    </a:lnTo>
                    <a:lnTo>
                      <a:pt x="16" y="827"/>
                    </a:lnTo>
                    <a:lnTo>
                      <a:pt x="11" y="740"/>
                    </a:lnTo>
                    <a:lnTo>
                      <a:pt x="5" y="598"/>
                    </a:lnTo>
                    <a:lnTo>
                      <a:pt x="5" y="426"/>
                    </a:lnTo>
                    <a:lnTo>
                      <a:pt x="16" y="243"/>
                    </a:lnTo>
                    <a:lnTo>
                      <a:pt x="35" y="108"/>
                    </a:lnTo>
                    <a:lnTo>
                      <a:pt x="56" y="3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23200" y="6059160"/>
                <a:ext cx="55800" cy="387720"/>
              </a:xfrm>
              <a:custGeom>
                <a:avLst/>
                <a:gdLst/>
                <a:ahLst/>
                <a:rect l="l" t="t" r="r" b="b"/>
                <a:pathLst>
                  <a:path w="77" h="1022">
                    <a:moveTo>
                      <a:pt x="2" y="3"/>
                    </a:moveTo>
                    <a:lnTo>
                      <a:pt x="33" y="0"/>
                    </a:lnTo>
                    <a:lnTo>
                      <a:pt x="55" y="80"/>
                    </a:lnTo>
                    <a:lnTo>
                      <a:pt x="77" y="303"/>
                    </a:lnTo>
                    <a:lnTo>
                      <a:pt x="77" y="558"/>
                    </a:lnTo>
                    <a:lnTo>
                      <a:pt x="66" y="777"/>
                    </a:lnTo>
                    <a:lnTo>
                      <a:pt x="77" y="851"/>
                    </a:lnTo>
                    <a:lnTo>
                      <a:pt x="77" y="951"/>
                    </a:lnTo>
                    <a:lnTo>
                      <a:pt x="66" y="1022"/>
                    </a:lnTo>
                    <a:lnTo>
                      <a:pt x="52" y="958"/>
                    </a:lnTo>
                    <a:lnTo>
                      <a:pt x="43" y="860"/>
                    </a:lnTo>
                    <a:lnTo>
                      <a:pt x="27" y="787"/>
                    </a:lnTo>
                    <a:lnTo>
                      <a:pt x="45" y="719"/>
                    </a:lnTo>
                    <a:lnTo>
                      <a:pt x="57" y="558"/>
                    </a:lnTo>
                    <a:lnTo>
                      <a:pt x="57" y="407"/>
                    </a:lnTo>
                    <a:lnTo>
                      <a:pt x="45" y="255"/>
                    </a:lnTo>
                    <a:lnTo>
                      <a:pt x="24" y="144"/>
                    </a:lnTo>
                    <a:lnTo>
                      <a:pt x="0" y="9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89280" y="6314400"/>
                <a:ext cx="126360" cy="468720"/>
              </a:xfrm>
              <a:custGeom>
                <a:avLst/>
                <a:gdLst/>
                <a:ahLst/>
                <a:rect l="l" t="t" r="r" b="b"/>
                <a:pathLst>
                  <a:path w="176" h="1232">
                    <a:moveTo>
                      <a:pt x="17" y="0"/>
                    </a:moveTo>
                    <a:lnTo>
                      <a:pt x="38" y="52"/>
                    </a:lnTo>
                    <a:lnTo>
                      <a:pt x="46" y="104"/>
                    </a:lnTo>
                    <a:lnTo>
                      <a:pt x="54" y="283"/>
                    </a:lnTo>
                    <a:lnTo>
                      <a:pt x="58" y="403"/>
                    </a:lnTo>
                    <a:lnTo>
                      <a:pt x="58" y="608"/>
                    </a:lnTo>
                    <a:lnTo>
                      <a:pt x="56" y="801"/>
                    </a:lnTo>
                    <a:lnTo>
                      <a:pt x="48" y="954"/>
                    </a:lnTo>
                    <a:lnTo>
                      <a:pt x="42" y="1002"/>
                    </a:lnTo>
                    <a:lnTo>
                      <a:pt x="84" y="1027"/>
                    </a:lnTo>
                    <a:lnTo>
                      <a:pt x="121" y="1057"/>
                    </a:lnTo>
                    <a:lnTo>
                      <a:pt x="170" y="1122"/>
                    </a:lnTo>
                    <a:lnTo>
                      <a:pt x="176" y="1147"/>
                    </a:lnTo>
                    <a:lnTo>
                      <a:pt x="172" y="1195"/>
                    </a:lnTo>
                    <a:lnTo>
                      <a:pt x="147" y="1232"/>
                    </a:lnTo>
                    <a:lnTo>
                      <a:pt x="137" y="1211"/>
                    </a:lnTo>
                    <a:lnTo>
                      <a:pt x="129" y="1161"/>
                    </a:lnTo>
                    <a:lnTo>
                      <a:pt x="107" y="1118"/>
                    </a:lnTo>
                    <a:lnTo>
                      <a:pt x="66" y="1070"/>
                    </a:lnTo>
                    <a:lnTo>
                      <a:pt x="40" y="1057"/>
                    </a:lnTo>
                    <a:lnTo>
                      <a:pt x="9" y="1057"/>
                    </a:lnTo>
                    <a:lnTo>
                      <a:pt x="9" y="1020"/>
                    </a:lnTo>
                    <a:lnTo>
                      <a:pt x="23" y="977"/>
                    </a:lnTo>
                    <a:lnTo>
                      <a:pt x="38" y="840"/>
                    </a:lnTo>
                    <a:lnTo>
                      <a:pt x="42" y="694"/>
                    </a:lnTo>
                    <a:lnTo>
                      <a:pt x="40" y="565"/>
                    </a:lnTo>
                    <a:lnTo>
                      <a:pt x="38" y="403"/>
                    </a:lnTo>
                    <a:lnTo>
                      <a:pt x="29" y="262"/>
                    </a:lnTo>
                    <a:lnTo>
                      <a:pt x="11" y="159"/>
                    </a:lnTo>
                    <a:lnTo>
                      <a:pt x="0" y="66"/>
                    </a:lnTo>
                    <a:lnTo>
                      <a:pt x="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71000" y="6315840"/>
                <a:ext cx="118080" cy="420480"/>
              </a:xfrm>
              <a:custGeom>
                <a:avLst/>
                <a:gdLst/>
                <a:ahLst/>
                <a:rect l="l" t="t" r="r" b="b"/>
                <a:pathLst>
                  <a:path w="163" h="1106">
                    <a:moveTo>
                      <a:pt x="0" y="88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43" y="0"/>
                    </a:lnTo>
                    <a:lnTo>
                      <a:pt x="62" y="40"/>
                    </a:lnTo>
                    <a:lnTo>
                      <a:pt x="66" y="78"/>
                    </a:lnTo>
                    <a:lnTo>
                      <a:pt x="62" y="158"/>
                    </a:lnTo>
                    <a:lnTo>
                      <a:pt x="49" y="259"/>
                    </a:lnTo>
                    <a:lnTo>
                      <a:pt x="43" y="413"/>
                    </a:lnTo>
                    <a:lnTo>
                      <a:pt x="39" y="514"/>
                    </a:lnTo>
                    <a:lnTo>
                      <a:pt x="39" y="531"/>
                    </a:lnTo>
                    <a:lnTo>
                      <a:pt x="45" y="672"/>
                    </a:lnTo>
                    <a:lnTo>
                      <a:pt x="55" y="754"/>
                    </a:lnTo>
                    <a:lnTo>
                      <a:pt x="62" y="818"/>
                    </a:lnTo>
                    <a:lnTo>
                      <a:pt x="61" y="844"/>
                    </a:lnTo>
                    <a:lnTo>
                      <a:pt x="85" y="917"/>
                    </a:lnTo>
                    <a:lnTo>
                      <a:pt x="111" y="965"/>
                    </a:lnTo>
                    <a:lnTo>
                      <a:pt x="139" y="1009"/>
                    </a:lnTo>
                    <a:lnTo>
                      <a:pt x="163" y="1028"/>
                    </a:lnTo>
                    <a:lnTo>
                      <a:pt x="163" y="1066"/>
                    </a:lnTo>
                    <a:lnTo>
                      <a:pt x="150" y="1095"/>
                    </a:lnTo>
                    <a:lnTo>
                      <a:pt x="118" y="1106"/>
                    </a:lnTo>
                    <a:lnTo>
                      <a:pt x="96" y="1086"/>
                    </a:lnTo>
                    <a:lnTo>
                      <a:pt x="96" y="1058"/>
                    </a:lnTo>
                    <a:lnTo>
                      <a:pt x="77" y="965"/>
                    </a:lnTo>
                    <a:lnTo>
                      <a:pt x="45" y="914"/>
                    </a:lnTo>
                    <a:lnTo>
                      <a:pt x="23" y="864"/>
                    </a:lnTo>
                    <a:lnTo>
                      <a:pt x="6" y="837"/>
                    </a:lnTo>
                    <a:lnTo>
                      <a:pt x="12" y="804"/>
                    </a:lnTo>
                    <a:lnTo>
                      <a:pt x="21" y="714"/>
                    </a:lnTo>
                    <a:lnTo>
                      <a:pt x="21" y="541"/>
                    </a:lnTo>
                    <a:lnTo>
                      <a:pt x="17" y="421"/>
                    </a:lnTo>
                    <a:lnTo>
                      <a:pt x="17" y="299"/>
                    </a:lnTo>
                    <a:lnTo>
                      <a:pt x="15" y="16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861840" y="5827680"/>
            <a:ext cx="1445760" cy="969480"/>
            <a:chOff x="861840" y="5827680"/>
            <a:chExt cx="1445760" cy="969480"/>
          </a:xfrm>
        </p:grpSpPr>
        <p:grpSp>
          <p:nvGrpSpPr>
            <p:cNvPr id="466" name=""/>
            <p:cNvGrpSpPr/>
            <p:nvPr/>
          </p:nvGrpSpPr>
          <p:grpSpPr>
            <a:xfrm>
              <a:off x="1776240" y="5875200"/>
              <a:ext cx="531360" cy="896400"/>
              <a:chOff x="1776240" y="5875200"/>
              <a:chExt cx="531360" cy="896400"/>
            </a:xfrm>
          </p:grpSpPr>
          <p:sp>
            <p:nvSpPr>
              <p:cNvPr id="467" name=""/>
              <p:cNvSpPr/>
              <p:nvPr/>
            </p:nvSpPr>
            <p:spPr>
              <a:xfrm>
                <a:off x="1933200" y="5875200"/>
                <a:ext cx="342360" cy="193680"/>
              </a:xfrm>
              <a:custGeom>
                <a:avLst/>
                <a:gdLst/>
                <a:ahLst/>
                <a:rect l="l" t="t" r="r" b="b"/>
                <a:pathLst>
                  <a:path w="431" h="811">
                    <a:moveTo>
                      <a:pt x="0" y="342"/>
                    </a:moveTo>
                    <a:lnTo>
                      <a:pt x="31" y="175"/>
                    </a:lnTo>
                    <a:lnTo>
                      <a:pt x="72" y="91"/>
                    </a:lnTo>
                    <a:lnTo>
                      <a:pt x="124" y="30"/>
                    </a:lnTo>
                    <a:lnTo>
                      <a:pt x="176" y="0"/>
                    </a:lnTo>
                    <a:lnTo>
                      <a:pt x="244" y="9"/>
                    </a:lnTo>
                    <a:lnTo>
                      <a:pt x="288" y="76"/>
                    </a:lnTo>
                    <a:lnTo>
                      <a:pt x="329" y="196"/>
                    </a:lnTo>
                    <a:lnTo>
                      <a:pt x="346" y="357"/>
                    </a:lnTo>
                    <a:lnTo>
                      <a:pt x="346" y="539"/>
                    </a:lnTo>
                    <a:lnTo>
                      <a:pt x="428" y="664"/>
                    </a:lnTo>
                    <a:lnTo>
                      <a:pt x="431" y="721"/>
                    </a:lnTo>
                    <a:lnTo>
                      <a:pt x="418" y="725"/>
                    </a:lnTo>
                    <a:lnTo>
                      <a:pt x="339" y="614"/>
                    </a:lnTo>
                    <a:lnTo>
                      <a:pt x="316" y="695"/>
                    </a:lnTo>
                    <a:lnTo>
                      <a:pt x="268" y="765"/>
                    </a:lnTo>
                    <a:lnTo>
                      <a:pt x="223" y="801"/>
                    </a:lnTo>
                    <a:lnTo>
                      <a:pt x="151" y="811"/>
                    </a:lnTo>
                    <a:lnTo>
                      <a:pt x="59" y="755"/>
                    </a:lnTo>
                    <a:lnTo>
                      <a:pt x="17" y="634"/>
                    </a:lnTo>
                    <a:lnTo>
                      <a:pt x="0" y="514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898280" y="6083640"/>
                <a:ext cx="306000" cy="312120"/>
              </a:xfrm>
              <a:custGeom>
                <a:avLst/>
                <a:gdLst/>
                <a:ahLst/>
                <a:rect l="l" t="t" r="r" b="b"/>
                <a:pathLst>
                  <a:path w="385" h="1306">
                    <a:moveTo>
                      <a:pt x="56" y="85"/>
                    </a:moveTo>
                    <a:lnTo>
                      <a:pt x="104" y="30"/>
                    </a:lnTo>
                    <a:lnTo>
                      <a:pt x="159" y="9"/>
                    </a:lnTo>
                    <a:lnTo>
                      <a:pt x="210" y="0"/>
                    </a:lnTo>
                    <a:lnTo>
                      <a:pt x="279" y="15"/>
                    </a:lnTo>
                    <a:lnTo>
                      <a:pt x="355" y="85"/>
                    </a:lnTo>
                    <a:lnTo>
                      <a:pt x="385" y="210"/>
                    </a:lnTo>
                    <a:lnTo>
                      <a:pt x="385" y="401"/>
                    </a:lnTo>
                    <a:lnTo>
                      <a:pt x="382" y="583"/>
                    </a:lnTo>
                    <a:lnTo>
                      <a:pt x="344" y="859"/>
                    </a:lnTo>
                    <a:lnTo>
                      <a:pt x="313" y="1085"/>
                    </a:lnTo>
                    <a:lnTo>
                      <a:pt x="279" y="1230"/>
                    </a:lnTo>
                    <a:lnTo>
                      <a:pt x="207" y="1306"/>
                    </a:lnTo>
                    <a:lnTo>
                      <a:pt x="104" y="1290"/>
                    </a:lnTo>
                    <a:lnTo>
                      <a:pt x="52" y="1175"/>
                    </a:lnTo>
                    <a:lnTo>
                      <a:pt x="22" y="1004"/>
                    </a:lnTo>
                    <a:lnTo>
                      <a:pt x="4" y="813"/>
                    </a:lnTo>
                    <a:lnTo>
                      <a:pt x="0" y="526"/>
                    </a:lnTo>
                    <a:lnTo>
                      <a:pt x="15" y="325"/>
                    </a:lnTo>
                    <a:lnTo>
                      <a:pt x="35" y="146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776240" y="6083280"/>
                <a:ext cx="180720" cy="384480"/>
              </a:xfrm>
              <a:custGeom>
                <a:avLst/>
                <a:gdLst/>
                <a:ahLst/>
                <a:rect l="l" t="t" r="r" b="b"/>
                <a:pathLst>
                  <a:path w="226" h="1607">
                    <a:moveTo>
                      <a:pt x="154" y="10"/>
                    </a:moveTo>
                    <a:lnTo>
                      <a:pt x="209" y="0"/>
                    </a:lnTo>
                    <a:lnTo>
                      <a:pt x="226" y="71"/>
                    </a:lnTo>
                    <a:lnTo>
                      <a:pt x="198" y="162"/>
                    </a:lnTo>
                    <a:lnTo>
                      <a:pt x="157" y="211"/>
                    </a:lnTo>
                    <a:lnTo>
                      <a:pt x="123" y="331"/>
                    </a:lnTo>
                    <a:lnTo>
                      <a:pt x="82" y="493"/>
                    </a:lnTo>
                    <a:lnTo>
                      <a:pt x="65" y="643"/>
                    </a:lnTo>
                    <a:lnTo>
                      <a:pt x="55" y="898"/>
                    </a:lnTo>
                    <a:lnTo>
                      <a:pt x="65" y="1139"/>
                    </a:lnTo>
                    <a:lnTo>
                      <a:pt x="85" y="1251"/>
                    </a:lnTo>
                    <a:lnTo>
                      <a:pt x="71" y="1371"/>
                    </a:lnTo>
                    <a:lnTo>
                      <a:pt x="55" y="1462"/>
                    </a:lnTo>
                    <a:lnTo>
                      <a:pt x="61" y="1607"/>
                    </a:lnTo>
                    <a:lnTo>
                      <a:pt x="33" y="1597"/>
                    </a:lnTo>
                    <a:lnTo>
                      <a:pt x="10" y="1476"/>
                    </a:lnTo>
                    <a:lnTo>
                      <a:pt x="0" y="1371"/>
                    </a:lnTo>
                    <a:lnTo>
                      <a:pt x="30" y="1230"/>
                    </a:lnTo>
                    <a:lnTo>
                      <a:pt x="20" y="1099"/>
                    </a:lnTo>
                    <a:lnTo>
                      <a:pt x="10" y="888"/>
                    </a:lnTo>
                    <a:lnTo>
                      <a:pt x="10" y="633"/>
                    </a:lnTo>
                    <a:lnTo>
                      <a:pt x="30" y="362"/>
                    </a:lnTo>
                    <a:lnTo>
                      <a:pt x="65" y="162"/>
                    </a:lnTo>
                    <a:lnTo>
                      <a:pt x="103" y="56"/>
                    </a:lnTo>
                    <a:lnTo>
                      <a:pt x="154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68280" y="6093360"/>
                <a:ext cx="113760" cy="365040"/>
              </a:xfrm>
              <a:custGeom>
                <a:avLst/>
                <a:gdLst/>
                <a:ahLst/>
                <a:rect l="l" t="t" r="r" b="b"/>
                <a:pathLst>
                  <a:path w="145" h="1528">
                    <a:moveTo>
                      <a:pt x="3" y="5"/>
                    </a:moveTo>
                    <a:lnTo>
                      <a:pt x="62" y="0"/>
                    </a:lnTo>
                    <a:lnTo>
                      <a:pt x="103" y="121"/>
                    </a:lnTo>
                    <a:lnTo>
                      <a:pt x="145" y="452"/>
                    </a:lnTo>
                    <a:lnTo>
                      <a:pt x="145" y="834"/>
                    </a:lnTo>
                    <a:lnTo>
                      <a:pt x="124" y="1161"/>
                    </a:lnTo>
                    <a:lnTo>
                      <a:pt x="145" y="1272"/>
                    </a:lnTo>
                    <a:lnTo>
                      <a:pt x="145" y="1422"/>
                    </a:lnTo>
                    <a:lnTo>
                      <a:pt x="124" y="1528"/>
                    </a:lnTo>
                    <a:lnTo>
                      <a:pt x="97" y="1432"/>
                    </a:lnTo>
                    <a:lnTo>
                      <a:pt x="83" y="1287"/>
                    </a:lnTo>
                    <a:lnTo>
                      <a:pt x="52" y="1175"/>
                    </a:lnTo>
                    <a:lnTo>
                      <a:pt x="87" y="1076"/>
                    </a:lnTo>
                    <a:lnTo>
                      <a:pt x="107" y="834"/>
                    </a:lnTo>
                    <a:lnTo>
                      <a:pt x="107" y="608"/>
                    </a:lnTo>
                    <a:lnTo>
                      <a:pt x="87" y="382"/>
                    </a:lnTo>
                    <a:lnTo>
                      <a:pt x="45" y="216"/>
                    </a:lnTo>
                    <a:lnTo>
                      <a:pt x="0" y="13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9720" y="6333480"/>
                <a:ext cx="257040" cy="438120"/>
              </a:xfrm>
              <a:custGeom>
                <a:avLst/>
                <a:gdLst/>
                <a:ahLst/>
                <a:rect l="l" t="t" r="r" b="b"/>
                <a:pathLst>
                  <a:path w="324" h="1831">
                    <a:moveTo>
                      <a:pt x="32" y="0"/>
                    </a:moveTo>
                    <a:lnTo>
                      <a:pt x="69" y="76"/>
                    </a:lnTo>
                    <a:lnTo>
                      <a:pt x="85" y="153"/>
                    </a:lnTo>
                    <a:lnTo>
                      <a:pt x="100" y="419"/>
                    </a:lnTo>
                    <a:lnTo>
                      <a:pt x="107" y="597"/>
                    </a:lnTo>
                    <a:lnTo>
                      <a:pt x="107" y="902"/>
                    </a:lnTo>
                    <a:lnTo>
                      <a:pt x="105" y="1189"/>
                    </a:lnTo>
                    <a:lnTo>
                      <a:pt x="90" y="1417"/>
                    </a:lnTo>
                    <a:lnTo>
                      <a:pt x="77" y="1487"/>
                    </a:lnTo>
                    <a:lnTo>
                      <a:pt x="157" y="1526"/>
                    </a:lnTo>
                    <a:lnTo>
                      <a:pt x="224" y="1571"/>
                    </a:lnTo>
                    <a:lnTo>
                      <a:pt x="314" y="1666"/>
                    </a:lnTo>
                    <a:lnTo>
                      <a:pt x="324" y="1703"/>
                    </a:lnTo>
                    <a:lnTo>
                      <a:pt x="316" y="1774"/>
                    </a:lnTo>
                    <a:lnTo>
                      <a:pt x="271" y="1831"/>
                    </a:lnTo>
                    <a:lnTo>
                      <a:pt x="254" y="1799"/>
                    </a:lnTo>
                    <a:lnTo>
                      <a:pt x="239" y="1722"/>
                    </a:lnTo>
                    <a:lnTo>
                      <a:pt x="196" y="1660"/>
                    </a:lnTo>
                    <a:lnTo>
                      <a:pt x="122" y="1588"/>
                    </a:lnTo>
                    <a:lnTo>
                      <a:pt x="74" y="1571"/>
                    </a:lnTo>
                    <a:lnTo>
                      <a:pt x="18" y="1571"/>
                    </a:lnTo>
                    <a:lnTo>
                      <a:pt x="18" y="1513"/>
                    </a:lnTo>
                    <a:lnTo>
                      <a:pt x="45" y="1449"/>
                    </a:lnTo>
                    <a:lnTo>
                      <a:pt x="69" y="1245"/>
                    </a:lnTo>
                    <a:lnTo>
                      <a:pt x="77" y="1030"/>
                    </a:lnTo>
                    <a:lnTo>
                      <a:pt x="74" y="840"/>
                    </a:lnTo>
                    <a:lnTo>
                      <a:pt x="69" y="597"/>
                    </a:lnTo>
                    <a:lnTo>
                      <a:pt x="54" y="388"/>
                    </a:lnTo>
                    <a:lnTo>
                      <a:pt x="23" y="235"/>
                    </a:lnTo>
                    <a:lnTo>
                      <a:pt x="0" y="95"/>
                    </a:lnTo>
                    <a:lnTo>
                      <a:pt x="7" y="4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069640" y="6334200"/>
                <a:ext cx="237960" cy="394560"/>
              </a:xfrm>
              <a:custGeom>
                <a:avLst/>
                <a:gdLst/>
                <a:ahLst/>
                <a:rect l="l" t="t" r="r" b="b"/>
                <a:pathLst>
                  <a:path w="298" h="1650">
                    <a:moveTo>
                      <a:pt x="0" y="130"/>
                    </a:moveTo>
                    <a:lnTo>
                      <a:pt x="0" y="25"/>
                    </a:lnTo>
                    <a:lnTo>
                      <a:pt x="30" y="0"/>
                    </a:lnTo>
                    <a:lnTo>
                      <a:pt x="78" y="0"/>
                    </a:lnTo>
                    <a:lnTo>
                      <a:pt x="112" y="60"/>
                    </a:lnTo>
                    <a:lnTo>
                      <a:pt x="119" y="115"/>
                    </a:lnTo>
                    <a:lnTo>
                      <a:pt x="112" y="236"/>
                    </a:lnTo>
                    <a:lnTo>
                      <a:pt x="89" y="386"/>
                    </a:lnTo>
                    <a:lnTo>
                      <a:pt x="78" y="618"/>
                    </a:lnTo>
                    <a:lnTo>
                      <a:pt x="72" y="768"/>
                    </a:lnTo>
                    <a:lnTo>
                      <a:pt x="72" y="793"/>
                    </a:lnTo>
                    <a:lnTo>
                      <a:pt x="82" y="1004"/>
                    </a:lnTo>
                    <a:lnTo>
                      <a:pt x="99" y="1124"/>
                    </a:lnTo>
                    <a:lnTo>
                      <a:pt x="112" y="1219"/>
                    </a:lnTo>
                    <a:lnTo>
                      <a:pt x="109" y="1259"/>
                    </a:lnTo>
                    <a:lnTo>
                      <a:pt x="154" y="1369"/>
                    </a:lnTo>
                    <a:lnTo>
                      <a:pt x="202" y="1439"/>
                    </a:lnTo>
                    <a:lnTo>
                      <a:pt x="253" y="1505"/>
                    </a:lnTo>
                    <a:lnTo>
                      <a:pt x="298" y="1536"/>
                    </a:lnTo>
                    <a:lnTo>
                      <a:pt x="298" y="1591"/>
                    </a:lnTo>
                    <a:lnTo>
                      <a:pt x="274" y="1635"/>
                    </a:lnTo>
                    <a:lnTo>
                      <a:pt x="216" y="1650"/>
                    </a:lnTo>
                    <a:lnTo>
                      <a:pt x="174" y="1621"/>
                    </a:lnTo>
                    <a:lnTo>
                      <a:pt x="174" y="1580"/>
                    </a:lnTo>
                    <a:lnTo>
                      <a:pt x="140" y="1439"/>
                    </a:lnTo>
                    <a:lnTo>
                      <a:pt x="82" y="1365"/>
                    </a:lnTo>
                    <a:lnTo>
                      <a:pt x="40" y="1289"/>
                    </a:lnTo>
                    <a:lnTo>
                      <a:pt x="10" y="1249"/>
                    </a:lnTo>
                    <a:lnTo>
                      <a:pt x="20" y="1199"/>
                    </a:lnTo>
                    <a:lnTo>
                      <a:pt x="37" y="1063"/>
                    </a:lnTo>
                    <a:lnTo>
                      <a:pt x="37" y="808"/>
                    </a:lnTo>
                    <a:lnTo>
                      <a:pt x="30" y="627"/>
                    </a:lnTo>
                    <a:lnTo>
                      <a:pt x="30" y="447"/>
                    </a:lnTo>
                    <a:lnTo>
                      <a:pt x="27" y="251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279080" y="5852880"/>
              <a:ext cx="395280" cy="944280"/>
              <a:chOff x="1279080" y="5852880"/>
              <a:chExt cx="395280" cy="944280"/>
            </a:xfrm>
          </p:grpSpPr>
          <p:sp>
            <p:nvSpPr>
              <p:cNvPr id="474" name=""/>
              <p:cNvSpPr/>
              <p:nvPr/>
            </p:nvSpPr>
            <p:spPr>
              <a:xfrm>
                <a:off x="1395000" y="5852880"/>
                <a:ext cx="258840" cy="202320"/>
              </a:xfrm>
              <a:custGeom>
                <a:avLst/>
                <a:gdLst/>
                <a:ahLst/>
                <a:rect l="l" t="t" r="r" b="b"/>
                <a:pathLst>
                  <a:path w="326" h="662">
                    <a:moveTo>
                      <a:pt x="0" y="280"/>
                    </a:moveTo>
                    <a:lnTo>
                      <a:pt x="23" y="145"/>
                    </a:lnTo>
                    <a:lnTo>
                      <a:pt x="55" y="75"/>
                    </a:lnTo>
                    <a:lnTo>
                      <a:pt x="93" y="24"/>
                    </a:lnTo>
                    <a:lnTo>
                      <a:pt x="132" y="0"/>
                    </a:lnTo>
                    <a:lnTo>
                      <a:pt x="184" y="8"/>
                    </a:lnTo>
                    <a:lnTo>
                      <a:pt x="217" y="61"/>
                    </a:lnTo>
                    <a:lnTo>
                      <a:pt x="249" y="161"/>
                    </a:lnTo>
                    <a:lnTo>
                      <a:pt x="262" y="292"/>
                    </a:lnTo>
                    <a:lnTo>
                      <a:pt x="262" y="440"/>
                    </a:lnTo>
                    <a:lnTo>
                      <a:pt x="324" y="543"/>
                    </a:lnTo>
                    <a:lnTo>
                      <a:pt x="326" y="587"/>
                    </a:lnTo>
                    <a:lnTo>
                      <a:pt x="316" y="592"/>
                    </a:lnTo>
                    <a:lnTo>
                      <a:pt x="257" y="501"/>
                    </a:lnTo>
                    <a:lnTo>
                      <a:pt x="238" y="567"/>
                    </a:lnTo>
                    <a:lnTo>
                      <a:pt x="202" y="624"/>
                    </a:lnTo>
                    <a:lnTo>
                      <a:pt x="168" y="653"/>
                    </a:lnTo>
                    <a:lnTo>
                      <a:pt x="114" y="662"/>
                    </a:lnTo>
                    <a:lnTo>
                      <a:pt x="44" y="616"/>
                    </a:lnTo>
                    <a:lnTo>
                      <a:pt x="13" y="517"/>
                    </a:lnTo>
                    <a:lnTo>
                      <a:pt x="0" y="419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69800" y="6072480"/>
                <a:ext cx="226800" cy="329040"/>
              </a:xfrm>
              <a:custGeom>
                <a:avLst/>
                <a:gdLst/>
                <a:ahLst/>
                <a:rect l="l" t="t" r="r" b="b"/>
                <a:pathLst>
                  <a:path w="286" h="1074">
                    <a:moveTo>
                      <a:pt x="42" y="69"/>
                    </a:moveTo>
                    <a:lnTo>
                      <a:pt x="77" y="23"/>
                    </a:lnTo>
                    <a:lnTo>
                      <a:pt x="118" y="7"/>
                    </a:lnTo>
                    <a:lnTo>
                      <a:pt x="157" y="0"/>
                    </a:lnTo>
                    <a:lnTo>
                      <a:pt x="207" y="11"/>
                    </a:lnTo>
                    <a:lnTo>
                      <a:pt x="263" y="69"/>
                    </a:lnTo>
                    <a:lnTo>
                      <a:pt x="286" y="172"/>
                    </a:lnTo>
                    <a:lnTo>
                      <a:pt x="286" y="329"/>
                    </a:lnTo>
                    <a:lnTo>
                      <a:pt x="284" y="478"/>
                    </a:lnTo>
                    <a:lnTo>
                      <a:pt x="255" y="705"/>
                    </a:lnTo>
                    <a:lnTo>
                      <a:pt x="233" y="891"/>
                    </a:lnTo>
                    <a:lnTo>
                      <a:pt x="207" y="1011"/>
                    </a:lnTo>
                    <a:lnTo>
                      <a:pt x="154" y="1074"/>
                    </a:lnTo>
                    <a:lnTo>
                      <a:pt x="77" y="1060"/>
                    </a:lnTo>
                    <a:lnTo>
                      <a:pt x="39" y="965"/>
                    </a:lnTo>
                    <a:lnTo>
                      <a:pt x="17" y="826"/>
                    </a:lnTo>
                    <a:lnTo>
                      <a:pt x="3" y="668"/>
                    </a:lnTo>
                    <a:lnTo>
                      <a:pt x="0" y="432"/>
                    </a:lnTo>
                    <a:lnTo>
                      <a:pt x="11" y="267"/>
                    </a:lnTo>
                    <a:lnTo>
                      <a:pt x="27" y="118"/>
                    </a:lnTo>
                    <a:lnTo>
                      <a:pt x="42" y="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279080" y="6072480"/>
                <a:ext cx="133560" cy="403560"/>
              </a:xfrm>
              <a:custGeom>
                <a:avLst/>
                <a:gdLst/>
                <a:ahLst/>
                <a:rect l="l" t="t" r="r" b="b"/>
                <a:pathLst>
                  <a:path w="168" h="1319">
                    <a:moveTo>
                      <a:pt x="114" y="8"/>
                    </a:moveTo>
                    <a:lnTo>
                      <a:pt x="155" y="0"/>
                    </a:lnTo>
                    <a:lnTo>
                      <a:pt x="168" y="58"/>
                    </a:lnTo>
                    <a:lnTo>
                      <a:pt x="148" y="132"/>
                    </a:lnTo>
                    <a:lnTo>
                      <a:pt x="117" y="173"/>
                    </a:lnTo>
                    <a:lnTo>
                      <a:pt x="92" y="271"/>
                    </a:lnTo>
                    <a:lnTo>
                      <a:pt x="60" y="404"/>
                    </a:lnTo>
                    <a:lnTo>
                      <a:pt x="48" y="527"/>
                    </a:lnTo>
                    <a:lnTo>
                      <a:pt x="40" y="738"/>
                    </a:lnTo>
                    <a:lnTo>
                      <a:pt x="48" y="936"/>
                    </a:lnTo>
                    <a:lnTo>
                      <a:pt x="64" y="1026"/>
                    </a:lnTo>
                    <a:lnTo>
                      <a:pt x="53" y="1126"/>
                    </a:lnTo>
                    <a:lnTo>
                      <a:pt x="40" y="1200"/>
                    </a:lnTo>
                    <a:lnTo>
                      <a:pt x="45" y="1319"/>
                    </a:lnTo>
                    <a:lnTo>
                      <a:pt x="25" y="1310"/>
                    </a:lnTo>
                    <a:lnTo>
                      <a:pt x="8" y="1212"/>
                    </a:lnTo>
                    <a:lnTo>
                      <a:pt x="0" y="1126"/>
                    </a:lnTo>
                    <a:lnTo>
                      <a:pt x="23" y="1010"/>
                    </a:lnTo>
                    <a:lnTo>
                      <a:pt x="15" y="903"/>
                    </a:lnTo>
                    <a:lnTo>
                      <a:pt x="8" y="729"/>
                    </a:lnTo>
                    <a:lnTo>
                      <a:pt x="8" y="520"/>
                    </a:lnTo>
                    <a:lnTo>
                      <a:pt x="23" y="297"/>
                    </a:lnTo>
                    <a:lnTo>
                      <a:pt x="48" y="132"/>
                    </a:lnTo>
                    <a:lnTo>
                      <a:pt x="76" y="46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572840" y="6081840"/>
                <a:ext cx="84240" cy="384480"/>
              </a:xfrm>
              <a:custGeom>
                <a:avLst/>
                <a:gdLst/>
                <a:ahLst/>
                <a:rect l="l" t="t" r="r" b="b"/>
                <a:pathLst>
                  <a:path w="106" h="1253">
                    <a:moveTo>
                      <a:pt x="2" y="3"/>
                    </a:moveTo>
                    <a:lnTo>
                      <a:pt x="46" y="0"/>
                    </a:lnTo>
                    <a:lnTo>
                      <a:pt x="75" y="98"/>
                    </a:lnTo>
                    <a:lnTo>
                      <a:pt x="106" y="370"/>
                    </a:lnTo>
                    <a:lnTo>
                      <a:pt x="106" y="684"/>
                    </a:lnTo>
                    <a:lnTo>
                      <a:pt x="90" y="951"/>
                    </a:lnTo>
                    <a:lnTo>
                      <a:pt x="106" y="1042"/>
                    </a:lnTo>
                    <a:lnTo>
                      <a:pt x="106" y="1165"/>
                    </a:lnTo>
                    <a:lnTo>
                      <a:pt x="90" y="1253"/>
                    </a:lnTo>
                    <a:lnTo>
                      <a:pt x="70" y="1174"/>
                    </a:lnTo>
                    <a:lnTo>
                      <a:pt x="60" y="1054"/>
                    </a:lnTo>
                    <a:lnTo>
                      <a:pt x="38" y="963"/>
                    </a:lnTo>
                    <a:lnTo>
                      <a:pt x="63" y="881"/>
                    </a:lnTo>
                    <a:lnTo>
                      <a:pt x="78" y="684"/>
                    </a:lnTo>
                    <a:lnTo>
                      <a:pt x="78" y="498"/>
                    </a:lnTo>
                    <a:lnTo>
                      <a:pt x="63" y="312"/>
                    </a:lnTo>
                    <a:lnTo>
                      <a:pt x="33" y="177"/>
                    </a:lnTo>
                    <a:lnTo>
                      <a:pt x="0" y="1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240" y="6335640"/>
                <a:ext cx="190440" cy="461520"/>
              </a:xfrm>
              <a:custGeom>
                <a:avLst/>
                <a:gdLst/>
                <a:ahLst/>
                <a:rect l="l" t="t" r="r" b="b"/>
                <a:pathLst>
                  <a:path w="241" h="1507">
                    <a:moveTo>
                      <a:pt x="24" y="0"/>
                    </a:moveTo>
                    <a:lnTo>
                      <a:pt x="52" y="63"/>
                    </a:lnTo>
                    <a:lnTo>
                      <a:pt x="62" y="127"/>
                    </a:lnTo>
                    <a:lnTo>
                      <a:pt x="73" y="345"/>
                    </a:lnTo>
                    <a:lnTo>
                      <a:pt x="79" y="492"/>
                    </a:lnTo>
                    <a:lnTo>
                      <a:pt x="79" y="743"/>
                    </a:lnTo>
                    <a:lnTo>
                      <a:pt x="77" y="978"/>
                    </a:lnTo>
                    <a:lnTo>
                      <a:pt x="66" y="1167"/>
                    </a:lnTo>
                    <a:lnTo>
                      <a:pt x="57" y="1225"/>
                    </a:lnTo>
                    <a:lnTo>
                      <a:pt x="116" y="1256"/>
                    </a:lnTo>
                    <a:lnTo>
                      <a:pt x="167" y="1293"/>
                    </a:lnTo>
                    <a:lnTo>
                      <a:pt x="233" y="1370"/>
                    </a:lnTo>
                    <a:lnTo>
                      <a:pt x="241" y="1403"/>
                    </a:lnTo>
                    <a:lnTo>
                      <a:pt x="235" y="1459"/>
                    </a:lnTo>
                    <a:lnTo>
                      <a:pt x="201" y="1507"/>
                    </a:lnTo>
                    <a:lnTo>
                      <a:pt x="188" y="1480"/>
                    </a:lnTo>
                    <a:lnTo>
                      <a:pt x="178" y="1418"/>
                    </a:lnTo>
                    <a:lnTo>
                      <a:pt x="147" y="1366"/>
                    </a:lnTo>
                    <a:lnTo>
                      <a:pt x="91" y="1308"/>
                    </a:lnTo>
                    <a:lnTo>
                      <a:pt x="55" y="1293"/>
                    </a:lnTo>
                    <a:lnTo>
                      <a:pt x="12" y="1293"/>
                    </a:lnTo>
                    <a:lnTo>
                      <a:pt x="12" y="1245"/>
                    </a:lnTo>
                    <a:lnTo>
                      <a:pt x="33" y="1193"/>
                    </a:lnTo>
                    <a:lnTo>
                      <a:pt x="52" y="1025"/>
                    </a:lnTo>
                    <a:lnTo>
                      <a:pt x="57" y="847"/>
                    </a:lnTo>
                    <a:lnTo>
                      <a:pt x="55" y="691"/>
                    </a:lnTo>
                    <a:lnTo>
                      <a:pt x="52" y="492"/>
                    </a:lnTo>
                    <a:lnTo>
                      <a:pt x="41" y="320"/>
                    </a:lnTo>
                    <a:lnTo>
                      <a:pt x="17" y="193"/>
                    </a:lnTo>
                    <a:lnTo>
                      <a:pt x="0" y="79"/>
                    </a:lnTo>
                    <a:lnTo>
                      <a:pt x="5" y="3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496520" y="6335640"/>
                <a:ext cx="177840" cy="415800"/>
              </a:xfrm>
              <a:custGeom>
                <a:avLst/>
                <a:gdLst/>
                <a:ahLst/>
                <a:rect l="l" t="t" r="r" b="b"/>
                <a:pathLst>
                  <a:path w="223" h="1355">
                    <a:moveTo>
                      <a:pt x="0" y="107"/>
                    </a:moveTo>
                    <a:lnTo>
                      <a:pt x="0" y="21"/>
                    </a:lnTo>
                    <a:lnTo>
                      <a:pt x="23" y="0"/>
                    </a:lnTo>
                    <a:lnTo>
                      <a:pt x="59" y="0"/>
                    </a:lnTo>
                    <a:lnTo>
                      <a:pt x="85" y="50"/>
                    </a:lnTo>
                    <a:lnTo>
                      <a:pt x="90" y="95"/>
                    </a:lnTo>
                    <a:lnTo>
                      <a:pt x="85" y="194"/>
                    </a:lnTo>
                    <a:lnTo>
                      <a:pt x="67" y="318"/>
                    </a:lnTo>
                    <a:lnTo>
                      <a:pt x="59" y="506"/>
                    </a:lnTo>
                    <a:lnTo>
                      <a:pt x="54" y="631"/>
                    </a:lnTo>
                    <a:lnTo>
                      <a:pt x="54" y="651"/>
                    </a:lnTo>
                    <a:lnTo>
                      <a:pt x="62" y="824"/>
                    </a:lnTo>
                    <a:lnTo>
                      <a:pt x="75" y="922"/>
                    </a:lnTo>
                    <a:lnTo>
                      <a:pt x="85" y="1001"/>
                    </a:lnTo>
                    <a:lnTo>
                      <a:pt x="82" y="1034"/>
                    </a:lnTo>
                    <a:lnTo>
                      <a:pt x="115" y="1125"/>
                    </a:lnTo>
                    <a:lnTo>
                      <a:pt x="151" y="1182"/>
                    </a:lnTo>
                    <a:lnTo>
                      <a:pt x="190" y="1236"/>
                    </a:lnTo>
                    <a:lnTo>
                      <a:pt x="223" y="1261"/>
                    </a:lnTo>
                    <a:lnTo>
                      <a:pt x="223" y="1306"/>
                    </a:lnTo>
                    <a:lnTo>
                      <a:pt x="206" y="1343"/>
                    </a:lnTo>
                    <a:lnTo>
                      <a:pt x="162" y="1355"/>
                    </a:lnTo>
                    <a:lnTo>
                      <a:pt x="131" y="1331"/>
                    </a:lnTo>
                    <a:lnTo>
                      <a:pt x="131" y="1298"/>
                    </a:lnTo>
                    <a:lnTo>
                      <a:pt x="105" y="1182"/>
                    </a:lnTo>
                    <a:lnTo>
                      <a:pt x="62" y="1120"/>
                    </a:lnTo>
                    <a:lnTo>
                      <a:pt x="31" y="1059"/>
                    </a:lnTo>
                    <a:lnTo>
                      <a:pt x="8" y="1026"/>
                    </a:lnTo>
                    <a:lnTo>
                      <a:pt x="15" y="985"/>
                    </a:lnTo>
                    <a:lnTo>
                      <a:pt x="28" y="873"/>
                    </a:lnTo>
                    <a:lnTo>
                      <a:pt x="28" y="664"/>
                    </a:lnTo>
                    <a:lnTo>
                      <a:pt x="23" y="515"/>
                    </a:lnTo>
                    <a:lnTo>
                      <a:pt x="23" y="367"/>
                    </a:lnTo>
                    <a:lnTo>
                      <a:pt x="20" y="206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861840" y="5827680"/>
              <a:ext cx="261360" cy="958320"/>
              <a:chOff x="861840" y="5827680"/>
              <a:chExt cx="261360" cy="958320"/>
            </a:xfrm>
          </p:grpSpPr>
          <p:sp>
            <p:nvSpPr>
              <p:cNvPr id="481" name=""/>
              <p:cNvSpPr/>
              <p:nvPr/>
            </p:nvSpPr>
            <p:spPr>
              <a:xfrm>
                <a:off x="937800" y="5827680"/>
                <a:ext cx="171000" cy="207360"/>
              </a:xfrm>
              <a:custGeom>
                <a:avLst/>
                <a:gdLst/>
                <a:ahLst/>
                <a:rect l="l" t="t" r="r" b="b"/>
                <a:pathLst>
                  <a:path w="239" h="547">
                    <a:moveTo>
                      <a:pt x="0" y="232"/>
                    </a:moveTo>
                    <a:lnTo>
                      <a:pt x="18" y="119"/>
                    </a:lnTo>
                    <a:lnTo>
                      <a:pt x="41" y="61"/>
                    </a:lnTo>
                    <a:lnTo>
                      <a:pt x="69" y="21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60" y="50"/>
                    </a:lnTo>
                    <a:lnTo>
                      <a:pt x="183" y="132"/>
                    </a:lnTo>
                    <a:lnTo>
                      <a:pt x="192" y="240"/>
                    </a:lnTo>
                    <a:lnTo>
                      <a:pt x="192" y="364"/>
                    </a:lnTo>
                    <a:lnTo>
                      <a:pt x="238" y="448"/>
                    </a:lnTo>
                    <a:lnTo>
                      <a:pt x="239" y="486"/>
                    </a:lnTo>
                    <a:lnTo>
                      <a:pt x="232" y="489"/>
                    </a:lnTo>
                    <a:lnTo>
                      <a:pt x="188" y="414"/>
                    </a:lnTo>
                    <a:lnTo>
                      <a:pt x="175" y="469"/>
                    </a:lnTo>
                    <a:lnTo>
                      <a:pt x="149" y="517"/>
                    </a:lnTo>
                    <a:lnTo>
                      <a:pt x="124" y="541"/>
                    </a:lnTo>
                    <a:lnTo>
                      <a:pt x="85" y="547"/>
                    </a:lnTo>
                    <a:lnTo>
                      <a:pt x="33" y="509"/>
                    </a:lnTo>
                    <a:lnTo>
                      <a:pt x="10" y="428"/>
                    </a:lnTo>
                    <a:lnTo>
                      <a:pt x="0" y="34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23760" y="6051960"/>
                <a:ext cx="150840" cy="331560"/>
              </a:xfrm>
              <a:custGeom>
                <a:avLst/>
                <a:gdLst/>
                <a:ahLst/>
                <a:rect l="l" t="t" r="r" b="b"/>
                <a:pathLst>
                  <a:path w="209" h="875">
                    <a:moveTo>
                      <a:pt x="29" y="57"/>
                    </a:moveTo>
                    <a:lnTo>
                      <a:pt x="56" y="19"/>
                    </a:lnTo>
                    <a:lnTo>
                      <a:pt x="86" y="6"/>
                    </a:lnTo>
                    <a:lnTo>
                      <a:pt x="114" y="0"/>
                    </a:lnTo>
                    <a:lnTo>
                      <a:pt x="151" y="9"/>
                    </a:lnTo>
                    <a:lnTo>
                      <a:pt x="192" y="57"/>
                    </a:lnTo>
                    <a:lnTo>
                      <a:pt x="209" y="141"/>
                    </a:lnTo>
                    <a:lnTo>
                      <a:pt x="209" y="269"/>
                    </a:lnTo>
                    <a:lnTo>
                      <a:pt x="207" y="389"/>
                    </a:lnTo>
                    <a:lnTo>
                      <a:pt x="187" y="575"/>
                    </a:lnTo>
                    <a:lnTo>
                      <a:pt x="170" y="727"/>
                    </a:lnTo>
                    <a:lnTo>
                      <a:pt x="151" y="825"/>
                    </a:lnTo>
                    <a:lnTo>
                      <a:pt x="112" y="875"/>
                    </a:lnTo>
                    <a:lnTo>
                      <a:pt x="56" y="865"/>
                    </a:lnTo>
                    <a:lnTo>
                      <a:pt x="28" y="788"/>
                    </a:lnTo>
                    <a:lnTo>
                      <a:pt x="11" y="673"/>
                    </a:lnTo>
                    <a:lnTo>
                      <a:pt x="2" y="544"/>
                    </a:lnTo>
                    <a:lnTo>
                      <a:pt x="0" y="352"/>
                    </a:lnTo>
                    <a:lnTo>
                      <a:pt x="7" y="219"/>
                    </a:lnTo>
                    <a:lnTo>
                      <a:pt x="18" y="9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61840" y="6050880"/>
                <a:ext cx="89280" cy="410400"/>
              </a:xfrm>
              <a:custGeom>
                <a:avLst/>
                <a:gdLst/>
                <a:ahLst/>
                <a:rect l="l" t="t" r="r" b="b"/>
                <a:pathLst>
                  <a:path w="125" h="1080">
                    <a:moveTo>
                      <a:pt x="84" y="7"/>
                    </a:moveTo>
                    <a:lnTo>
                      <a:pt x="114" y="0"/>
                    </a:lnTo>
                    <a:lnTo>
                      <a:pt x="125" y="47"/>
                    </a:lnTo>
                    <a:lnTo>
                      <a:pt x="109" y="108"/>
                    </a:lnTo>
                    <a:lnTo>
                      <a:pt x="86" y="142"/>
                    </a:lnTo>
                    <a:lnTo>
                      <a:pt x="68" y="222"/>
                    </a:lnTo>
                    <a:lnTo>
                      <a:pt x="44" y="331"/>
                    </a:lnTo>
                    <a:lnTo>
                      <a:pt x="35" y="432"/>
                    </a:lnTo>
                    <a:lnTo>
                      <a:pt x="29" y="604"/>
                    </a:lnTo>
                    <a:lnTo>
                      <a:pt x="35" y="766"/>
                    </a:lnTo>
                    <a:lnTo>
                      <a:pt x="46" y="841"/>
                    </a:lnTo>
                    <a:lnTo>
                      <a:pt x="39" y="922"/>
                    </a:lnTo>
                    <a:lnTo>
                      <a:pt x="29" y="983"/>
                    </a:lnTo>
                    <a:lnTo>
                      <a:pt x="33" y="1080"/>
                    </a:lnTo>
                    <a:lnTo>
                      <a:pt x="18" y="1074"/>
                    </a:lnTo>
                    <a:lnTo>
                      <a:pt x="5" y="992"/>
                    </a:lnTo>
                    <a:lnTo>
                      <a:pt x="0" y="922"/>
                    </a:lnTo>
                    <a:lnTo>
                      <a:pt x="16" y="827"/>
                    </a:lnTo>
                    <a:lnTo>
                      <a:pt x="11" y="740"/>
                    </a:lnTo>
                    <a:lnTo>
                      <a:pt x="5" y="598"/>
                    </a:lnTo>
                    <a:lnTo>
                      <a:pt x="5" y="426"/>
                    </a:lnTo>
                    <a:lnTo>
                      <a:pt x="16" y="243"/>
                    </a:lnTo>
                    <a:lnTo>
                      <a:pt x="35" y="108"/>
                    </a:lnTo>
                    <a:lnTo>
                      <a:pt x="56" y="3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057320" y="6062040"/>
                <a:ext cx="55800" cy="387720"/>
              </a:xfrm>
              <a:custGeom>
                <a:avLst/>
                <a:gdLst/>
                <a:ahLst/>
                <a:rect l="l" t="t" r="r" b="b"/>
                <a:pathLst>
                  <a:path w="77" h="1022">
                    <a:moveTo>
                      <a:pt x="2" y="3"/>
                    </a:moveTo>
                    <a:lnTo>
                      <a:pt x="33" y="0"/>
                    </a:lnTo>
                    <a:lnTo>
                      <a:pt x="55" y="80"/>
                    </a:lnTo>
                    <a:lnTo>
                      <a:pt x="77" y="303"/>
                    </a:lnTo>
                    <a:lnTo>
                      <a:pt x="77" y="558"/>
                    </a:lnTo>
                    <a:lnTo>
                      <a:pt x="66" y="777"/>
                    </a:lnTo>
                    <a:lnTo>
                      <a:pt x="77" y="851"/>
                    </a:lnTo>
                    <a:lnTo>
                      <a:pt x="77" y="951"/>
                    </a:lnTo>
                    <a:lnTo>
                      <a:pt x="66" y="1022"/>
                    </a:lnTo>
                    <a:lnTo>
                      <a:pt x="52" y="958"/>
                    </a:lnTo>
                    <a:lnTo>
                      <a:pt x="43" y="860"/>
                    </a:lnTo>
                    <a:lnTo>
                      <a:pt x="27" y="787"/>
                    </a:lnTo>
                    <a:lnTo>
                      <a:pt x="45" y="719"/>
                    </a:lnTo>
                    <a:lnTo>
                      <a:pt x="57" y="558"/>
                    </a:lnTo>
                    <a:lnTo>
                      <a:pt x="57" y="407"/>
                    </a:lnTo>
                    <a:lnTo>
                      <a:pt x="45" y="255"/>
                    </a:lnTo>
                    <a:lnTo>
                      <a:pt x="24" y="144"/>
                    </a:lnTo>
                    <a:lnTo>
                      <a:pt x="0" y="9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23760" y="6317640"/>
                <a:ext cx="126360" cy="468360"/>
              </a:xfrm>
              <a:custGeom>
                <a:avLst/>
                <a:gdLst/>
                <a:ahLst/>
                <a:rect l="l" t="t" r="r" b="b"/>
                <a:pathLst>
                  <a:path w="176" h="1232">
                    <a:moveTo>
                      <a:pt x="17" y="0"/>
                    </a:moveTo>
                    <a:lnTo>
                      <a:pt x="38" y="52"/>
                    </a:lnTo>
                    <a:lnTo>
                      <a:pt x="46" y="104"/>
                    </a:lnTo>
                    <a:lnTo>
                      <a:pt x="54" y="283"/>
                    </a:lnTo>
                    <a:lnTo>
                      <a:pt x="58" y="403"/>
                    </a:lnTo>
                    <a:lnTo>
                      <a:pt x="58" y="608"/>
                    </a:lnTo>
                    <a:lnTo>
                      <a:pt x="56" y="801"/>
                    </a:lnTo>
                    <a:lnTo>
                      <a:pt x="48" y="954"/>
                    </a:lnTo>
                    <a:lnTo>
                      <a:pt x="42" y="1002"/>
                    </a:lnTo>
                    <a:lnTo>
                      <a:pt x="84" y="1027"/>
                    </a:lnTo>
                    <a:lnTo>
                      <a:pt x="121" y="1057"/>
                    </a:lnTo>
                    <a:lnTo>
                      <a:pt x="170" y="1122"/>
                    </a:lnTo>
                    <a:lnTo>
                      <a:pt x="176" y="1147"/>
                    </a:lnTo>
                    <a:lnTo>
                      <a:pt x="172" y="1195"/>
                    </a:lnTo>
                    <a:lnTo>
                      <a:pt x="147" y="1232"/>
                    </a:lnTo>
                    <a:lnTo>
                      <a:pt x="137" y="1211"/>
                    </a:lnTo>
                    <a:lnTo>
                      <a:pt x="129" y="1161"/>
                    </a:lnTo>
                    <a:lnTo>
                      <a:pt x="107" y="1118"/>
                    </a:lnTo>
                    <a:lnTo>
                      <a:pt x="66" y="1070"/>
                    </a:lnTo>
                    <a:lnTo>
                      <a:pt x="40" y="1057"/>
                    </a:lnTo>
                    <a:lnTo>
                      <a:pt x="9" y="1057"/>
                    </a:lnTo>
                    <a:lnTo>
                      <a:pt x="9" y="1020"/>
                    </a:lnTo>
                    <a:lnTo>
                      <a:pt x="23" y="977"/>
                    </a:lnTo>
                    <a:lnTo>
                      <a:pt x="38" y="840"/>
                    </a:lnTo>
                    <a:lnTo>
                      <a:pt x="42" y="694"/>
                    </a:lnTo>
                    <a:lnTo>
                      <a:pt x="40" y="565"/>
                    </a:lnTo>
                    <a:lnTo>
                      <a:pt x="38" y="403"/>
                    </a:lnTo>
                    <a:lnTo>
                      <a:pt x="29" y="262"/>
                    </a:lnTo>
                    <a:lnTo>
                      <a:pt x="11" y="159"/>
                    </a:lnTo>
                    <a:lnTo>
                      <a:pt x="0" y="66"/>
                    </a:lnTo>
                    <a:lnTo>
                      <a:pt x="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005480" y="6319080"/>
                <a:ext cx="117720" cy="420480"/>
              </a:xfrm>
              <a:custGeom>
                <a:avLst/>
                <a:gdLst/>
                <a:ahLst/>
                <a:rect l="l" t="t" r="r" b="b"/>
                <a:pathLst>
                  <a:path w="163" h="1106">
                    <a:moveTo>
                      <a:pt x="0" y="88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43" y="0"/>
                    </a:lnTo>
                    <a:lnTo>
                      <a:pt x="62" y="40"/>
                    </a:lnTo>
                    <a:lnTo>
                      <a:pt x="66" y="78"/>
                    </a:lnTo>
                    <a:lnTo>
                      <a:pt x="62" y="158"/>
                    </a:lnTo>
                    <a:lnTo>
                      <a:pt x="49" y="259"/>
                    </a:lnTo>
                    <a:lnTo>
                      <a:pt x="43" y="413"/>
                    </a:lnTo>
                    <a:lnTo>
                      <a:pt x="39" y="514"/>
                    </a:lnTo>
                    <a:lnTo>
                      <a:pt x="39" y="531"/>
                    </a:lnTo>
                    <a:lnTo>
                      <a:pt x="45" y="672"/>
                    </a:lnTo>
                    <a:lnTo>
                      <a:pt x="55" y="754"/>
                    </a:lnTo>
                    <a:lnTo>
                      <a:pt x="62" y="818"/>
                    </a:lnTo>
                    <a:lnTo>
                      <a:pt x="61" y="844"/>
                    </a:lnTo>
                    <a:lnTo>
                      <a:pt x="85" y="917"/>
                    </a:lnTo>
                    <a:lnTo>
                      <a:pt x="111" y="965"/>
                    </a:lnTo>
                    <a:lnTo>
                      <a:pt x="139" y="1009"/>
                    </a:lnTo>
                    <a:lnTo>
                      <a:pt x="163" y="1028"/>
                    </a:lnTo>
                    <a:lnTo>
                      <a:pt x="163" y="1066"/>
                    </a:lnTo>
                    <a:lnTo>
                      <a:pt x="150" y="1095"/>
                    </a:lnTo>
                    <a:lnTo>
                      <a:pt x="118" y="1106"/>
                    </a:lnTo>
                    <a:lnTo>
                      <a:pt x="96" y="1086"/>
                    </a:lnTo>
                    <a:lnTo>
                      <a:pt x="96" y="1058"/>
                    </a:lnTo>
                    <a:lnTo>
                      <a:pt x="77" y="965"/>
                    </a:lnTo>
                    <a:lnTo>
                      <a:pt x="45" y="914"/>
                    </a:lnTo>
                    <a:lnTo>
                      <a:pt x="23" y="864"/>
                    </a:lnTo>
                    <a:lnTo>
                      <a:pt x="6" y="837"/>
                    </a:lnTo>
                    <a:lnTo>
                      <a:pt x="12" y="804"/>
                    </a:lnTo>
                    <a:lnTo>
                      <a:pt x="21" y="714"/>
                    </a:lnTo>
                    <a:lnTo>
                      <a:pt x="21" y="541"/>
                    </a:lnTo>
                    <a:lnTo>
                      <a:pt x="17" y="421"/>
                    </a:lnTo>
                    <a:lnTo>
                      <a:pt x="17" y="299"/>
                    </a:lnTo>
                    <a:lnTo>
                      <a:pt x="15" y="16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2430360" y="4075200"/>
            <a:ext cx="2138400" cy="1666440"/>
            <a:chOff x="2430360" y="4075200"/>
            <a:chExt cx="2138400" cy="1666440"/>
          </a:xfrm>
        </p:grpSpPr>
        <p:sp>
          <p:nvSpPr>
            <p:cNvPr id="488" name=""/>
            <p:cNvSpPr/>
            <p:nvPr/>
          </p:nvSpPr>
          <p:spPr>
            <a:xfrm>
              <a:off x="2430360" y="5283360"/>
              <a:ext cx="2138400" cy="45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Kierownik Zesp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3643200" y="4075200"/>
              <a:ext cx="766800" cy="12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69920" y="4075200"/>
            <a:ext cx="2782440" cy="1679040"/>
            <a:chOff x="169920" y="4075200"/>
            <a:chExt cx="2782440" cy="1679040"/>
          </a:xfrm>
        </p:grpSpPr>
        <p:sp>
          <p:nvSpPr>
            <p:cNvPr id="491" name=""/>
            <p:cNvSpPr/>
            <p:nvPr/>
          </p:nvSpPr>
          <p:spPr>
            <a:xfrm>
              <a:off x="169920" y="5295960"/>
              <a:ext cx="2136600" cy="45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Kierownik Zesp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079360" y="4075200"/>
              <a:ext cx="873000" cy="1263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724280" y="4076640"/>
            <a:ext cx="938160" cy="453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711680" y="4759200"/>
            <a:ext cx="936720" cy="480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8320" y="4076640"/>
            <a:ext cx="0" cy="121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35440" y="3125880"/>
            <a:ext cx="64116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6880" y="2350800"/>
            <a:ext cx="75276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32160" y="518148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268800" y="524520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02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8280" y="2743200"/>
            <a:ext cx="3770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ntrola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5080" y="529596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22840" y="4338720"/>
            <a:ext cx="32814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omocnik Kierow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056200" y="2413080"/>
            <a:ext cx="1130400" cy="512280"/>
            <a:chOff x="5056200" y="2413080"/>
            <a:chExt cx="1130400" cy="512280"/>
          </a:xfrm>
        </p:grpSpPr>
        <p:sp>
          <p:nvSpPr>
            <p:cNvPr id="511" name=""/>
            <p:cNvSpPr/>
            <p:nvPr/>
          </p:nvSpPr>
          <p:spPr>
            <a:xfrm>
              <a:off x="5056200" y="2514600"/>
              <a:ext cx="1130400" cy="390600"/>
            </a:xfrm>
            <a:prstGeom prst="foldedCorner">
              <a:avLst>
                <a:gd name="adj" fmla="val 31462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95800" y="2413080"/>
              <a:ext cx="1089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Ra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056200" y="2971800"/>
            <a:ext cx="1130400" cy="390600"/>
          </a:xfrm>
          <a:prstGeom prst="foldedCorner">
            <a:avLst>
              <a:gd name="adj" fmla="val 31462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95800" y="2870280"/>
            <a:ext cx="10890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930920" y="247644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43520" y="295920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243240" y="4541760"/>
            <a:ext cx="1348920" cy="512280"/>
            <a:chOff x="3243240" y="4541760"/>
            <a:chExt cx="1348920" cy="512280"/>
          </a:xfrm>
        </p:grpSpPr>
        <p:grpSp>
          <p:nvGrpSpPr>
            <p:cNvPr id="518" name=""/>
            <p:cNvGrpSpPr/>
            <p:nvPr/>
          </p:nvGrpSpPr>
          <p:grpSpPr>
            <a:xfrm>
              <a:off x="3368520" y="4541760"/>
              <a:ext cx="1223640" cy="512280"/>
              <a:chOff x="3368520" y="4541760"/>
              <a:chExt cx="1223640" cy="512280"/>
            </a:xfrm>
          </p:grpSpPr>
          <p:sp>
            <p:nvSpPr>
              <p:cNvPr id="519" name=""/>
              <p:cNvSpPr/>
              <p:nvPr/>
            </p:nvSpPr>
            <p:spPr>
              <a:xfrm>
                <a:off x="3368520" y="4643280"/>
                <a:ext cx="1223640" cy="390600"/>
              </a:xfrm>
              <a:prstGeom prst="foldedCorner">
                <a:avLst>
                  <a:gd name="adj" fmla="val 31462"/>
                </a:avLst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411360" y="4541760"/>
                <a:ext cx="117900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cc"/>
                    </a:solidFill>
                    <a:latin typeface="Arial Narrow"/>
                  </a:rPr>
                  <a:t>Rapor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243240" y="4605120"/>
              <a:ext cx="0" cy="40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243240" y="4059360"/>
            <a:ext cx="1376280" cy="512280"/>
            <a:chOff x="3243240" y="4059360"/>
            <a:chExt cx="1376280" cy="512280"/>
          </a:xfrm>
        </p:grpSpPr>
        <p:sp>
          <p:nvSpPr>
            <p:cNvPr id="523" name=""/>
            <p:cNvSpPr/>
            <p:nvPr/>
          </p:nvSpPr>
          <p:spPr>
            <a:xfrm>
              <a:off x="3355920" y="4160880"/>
              <a:ext cx="1236600" cy="390600"/>
            </a:xfrm>
            <a:prstGeom prst="foldedCorner">
              <a:avLst>
                <a:gd name="adj" fmla="val 31462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95520" y="4059360"/>
              <a:ext cx="1224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Zleceni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43240" y="4148280"/>
              <a:ext cx="0" cy="40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144440" y="4243320"/>
            <a:ext cx="459000" cy="1182600"/>
            <a:chOff x="1144440" y="4243320"/>
            <a:chExt cx="459000" cy="1182600"/>
          </a:xfrm>
        </p:grpSpPr>
        <p:sp>
          <p:nvSpPr>
            <p:cNvPr id="527" name=""/>
            <p:cNvSpPr/>
            <p:nvPr/>
          </p:nvSpPr>
          <p:spPr>
            <a:xfrm>
              <a:off x="1359000" y="4886280"/>
              <a:ext cx="244440" cy="476280"/>
            </a:xfrm>
            <a:custGeom>
              <a:avLst/>
              <a:gdLst/>
              <a:ahLst/>
              <a:rect l="l" t="t" r="r" b="b"/>
              <a:pathLst>
                <a:path w="308" h="600">
                  <a:moveTo>
                    <a:pt x="103" y="24"/>
                  </a:moveTo>
                  <a:lnTo>
                    <a:pt x="66" y="0"/>
                  </a:lnTo>
                  <a:lnTo>
                    <a:pt x="17" y="0"/>
                  </a:lnTo>
                  <a:lnTo>
                    <a:pt x="0" y="32"/>
                  </a:lnTo>
                  <a:lnTo>
                    <a:pt x="7" y="81"/>
                  </a:lnTo>
                  <a:lnTo>
                    <a:pt x="50" y="129"/>
                  </a:lnTo>
                  <a:lnTo>
                    <a:pt x="136" y="173"/>
                  </a:lnTo>
                  <a:lnTo>
                    <a:pt x="236" y="266"/>
                  </a:lnTo>
                  <a:lnTo>
                    <a:pt x="252" y="306"/>
                  </a:lnTo>
                  <a:lnTo>
                    <a:pt x="245" y="326"/>
                  </a:lnTo>
                  <a:lnTo>
                    <a:pt x="169" y="387"/>
                  </a:lnTo>
                  <a:lnTo>
                    <a:pt x="79" y="460"/>
                  </a:lnTo>
                  <a:lnTo>
                    <a:pt x="57" y="492"/>
                  </a:lnTo>
                  <a:lnTo>
                    <a:pt x="57" y="525"/>
                  </a:lnTo>
                  <a:lnTo>
                    <a:pt x="126" y="559"/>
                  </a:lnTo>
                  <a:lnTo>
                    <a:pt x="232" y="600"/>
                  </a:lnTo>
                  <a:lnTo>
                    <a:pt x="269" y="600"/>
                  </a:lnTo>
                  <a:lnTo>
                    <a:pt x="308" y="573"/>
                  </a:lnTo>
                  <a:lnTo>
                    <a:pt x="308" y="552"/>
                  </a:lnTo>
                  <a:lnTo>
                    <a:pt x="279" y="540"/>
                  </a:lnTo>
                  <a:lnTo>
                    <a:pt x="145" y="525"/>
                  </a:lnTo>
                  <a:lnTo>
                    <a:pt x="95" y="511"/>
                  </a:lnTo>
                  <a:lnTo>
                    <a:pt x="89" y="487"/>
                  </a:lnTo>
                  <a:lnTo>
                    <a:pt x="176" y="420"/>
                  </a:lnTo>
                  <a:lnTo>
                    <a:pt x="272" y="356"/>
                  </a:lnTo>
                  <a:lnTo>
                    <a:pt x="292" y="332"/>
                  </a:lnTo>
                  <a:lnTo>
                    <a:pt x="301" y="299"/>
                  </a:lnTo>
                  <a:lnTo>
                    <a:pt x="292" y="254"/>
                  </a:lnTo>
                  <a:lnTo>
                    <a:pt x="263" y="218"/>
                  </a:lnTo>
                  <a:lnTo>
                    <a:pt x="169" y="99"/>
                  </a:lnTo>
                  <a:lnTo>
                    <a:pt x="103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4760" y="4243320"/>
              <a:ext cx="254160" cy="368280"/>
            </a:xfrm>
            <a:custGeom>
              <a:avLst/>
              <a:gdLst/>
              <a:ahLst/>
              <a:rect l="l" t="t" r="r" b="b"/>
              <a:pathLst>
                <a:path w="320" h="464">
                  <a:moveTo>
                    <a:pt x="97" y="61"/>
                  </a:moveTo>
                  <a:lnTo>
                    <a:pt x="137" y="30"/>
                  </a:lnTo>
                  <a:lnTo>
                    <a:pt x="197" y="0"/>
                  </a:lnTo>
                  <a:lnTo>
                    <a:pt x="244" y="3"/>
                  </a:lnTo>
                  <a:lnTo>
                    <a:pt x="281" y="16"/>
                  </a:lnTo>
                  <a:lnTo>
                    <a:pt x="314" y="57"/>
                  </a:lnTo>
                  <a:lnTo>
                    <a:pt x="320" y="121"/>
                  </a:lnTo>
                  <a:lnTo>
                    <a:pt x="317" y="169"/>
                  </a:lnTo>
                  <a:lnTo>
                    <a:pt x="297" y="211"/>
                  </a:lnTo>
                  <a:lnTo>
                    <a:pt x="264" y="263"/>
                  </a:lnTo>
                  <a:lnTo>
                    <a:pt x="234" y="305"/>
                  </a:lnTo>
                  <a:lnTo>
                    <a:pt x="228" y="316"/>
                  </a:lnTo>
                  <a:lnTo>
                    <a:pt x="228" y="376"/>
                  </a:lnTo>
                  <a:lnTo>
                    <a:pt x="250" y="434"/>
                  </a:lnTo>
                  <a:lnTo>
                    <a:pt x="253" y="454"/>
                  </a:lnTo>
                  <a:lnTo>
                    <a:pt x="237" y="464"/>
                  </a:lnTo>
                  <a:lnTo>
                    <a:pt x="216" y="458"/>
                  </a:lnTo>
                  <a:lnTo>
                    <a:pt x="204" y="383"/>
                  </a:lnTo>
                  <a:lnTo>
                    <a:pt x="203" y="335"/>
                  </a:lnTo>
                  <a:lnTo>
                    <a:pt x="167" y="359"/>
                  </a:lnTo>
                  <a:lnTo>
                    <a:pt x="140" y="380"/>
                  </a:lnTo>
                  <a:lnTo>
                    <a:pt x="87" y="389"/>
                  </a:lnTo>
                  <a:lnTo>
                    <a:pt x="53" y="383"/>
                  </a:lnTo>
                  <a:lnTo>
                    <a:pt x="3" y="346"/>
                  </a:lnTo>
                  <a:lnTo>
                    <a:pt x="0" y="268"/>
                  </a:lnTo>
                  <a:lnTo>
                    <a:pt x="29" y="172"/>
                  </a:lnTo>
                  <a:lnTo>
                    <a:pt x="68" y="82"/>
                  </a:lnTo>
                  <a:lnTo>
                    <a:pt x="9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28680" y="4951440"/>
              <a:ext cx="246240" cy="474480"/>
            </a:xfrm>
            <a:custGeom>
              <a:avLst/>
              <a:gdLst/>
              <a:ahLst/>
              <a:rect l="l" t="t" r="r" b="b"/>
              <a:pathLst>
                <a:path w="308" h="600">
                  <a:moveTo>
                    <a:pt x="103" y="24"/>
                  </a:moveTo>
                  <a:lnTo>
                    <a:pt x="66" y="0"/>
                  </a:lnTo>
                  <a:lnTo>
                    <a:pt x="17" y="0"/>
                  </a:lnTo>
                  <a:lnTo>
                    <a:pt x="0" y="32"/>
                  </a:lnTo>
                  <a:lnTo>
                    <a:pt x="7" y="81"/>
                  </a:lnTo>
                  <a:lnTo>
                    <a:pt x="50" y="129"/>
                  </a:lnTo>
                  <a:lnTo>
                    <a:pt x="136" y="173"/>
                  </a:lnTo>
                  <a:lnTo>
                    <a:pt x="236" y="266"/>
                  </a:lnTo>
                  <a:lnTo>
                    <a:pt x="252" y="306"/>
                  </a:lnTo>
                  <a:lnTo>
                    <a:pt x="245" y="325"/>
                  </a:lnTo>
                  <a:lnTo>
                    <a:pt x="169" y="387"/>
                  </a:lnTo>
                  <a:lnTo>
                    <a:pt x="79" y="460"/>
                  </a:lnTo>
                  <a:lnTo>
                    <a:pt x="57" y="492"/>
                  </a:lnTo>
                  <a:lnTo>
                    <a:pt x="57" y="525"/>
                  </a:lnTo>
                  <a:lnTo>
                    <a:pt x="126" y="559"/>
                  </a:lnTo>
                  <a:lnTo>
                    <a:pt x="232" y="600"/>
                  </a:lnTo>
                  <a:lnTo>
                    <a:pt x="269" y="600"/>
                  </a:lnTo>
                  <a:lnTo>
                    <a:pt x="308" y="573"/>
                  </a:lnTo>
                  <a:lnTo>
                    <a:pt x="308" y="552"/>
                  </a:lnTo>
                  <a:lnTo>
                    <a:pt x="279" y="540"/>
                  </a:lnTo>
                  <a:lnTo>
                    <a:pt x="145" y="525"/>
                  </a:lnTo>
                  <a:lnTo>
                    <a:pt x="95" y="511"/>
                  </a:lnTo>
                  <a:lnTo>
                    <a:pt x="89" y="487"/>
                  </a:lnTo>
                  <a:lnTo>
                    <a:pt x="176" y="420"/>
                  </a:lnTo>
                  <a:lnTo>
                    <a:pt x="272" y="355"/>
                  </a:lnTo>
                  <a:lnTo>
                    <a:pt x="292" y="331"/>
                  </a:lnTo>
                  <a:lnTo>
                    <a:pt x="301" y="298"/>
                  </a:lnTo>
                  <a:lnTo>
                    <a:pt x="292" y="254"/>
                  </a:lnTo>
                  <a:lnTo>
                    <a:pt x="263" y="218"/>
                  </a:lnTo>
                  <a:lnTo>
                    <a:pt x="169" y="99"/>
                  </a:lnTo>
                  <a:lnTo>
                    <a:pt x="103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44440" y="4568760"/>
              <a:ext cx="282600" cy="453960"/>
            </a:xfrm>
            <a:custGeom>
              <a:avLst/>
              <a:gdLst/>
              <a:ahLst/>
              <a:rect l="l" t="t" r="r" b="b"/>
              <a:pathLst>
                <a:path w="356" h="573">
                  <a:moveTo>
                    <a:pt x="53" y="177"/>
                  </a:moveTo>
                  <a:lnTo>
                    <a:pt x="77" y="72"/>
                  </a:lnTo>
                  <a:lnTo>
                    <a:pt x="156" y="8"/>
                  </a:lnTo>
                  <a:lnTo>
                    <a:pt x="196" y="0"/>
                  </a:lnTo>
                  <a:lnTo>
                    <a:pt x="246" y="17"/>
                  </a:lnTo>
                  <a:lnTo>
                    <a:pt x="283" y="57"/>
                  </a:lnTo>
                  <a:lnTo>
                    <a:pt x="297" y="105"/>
                  </a:lnTo>
                  <a:lnTo>
                    <a:pt x="306" y="146"/>
                  </a:lnTo>
                  <a:lnTo>
                    <a:pt x="293" y="197"/>
                  </a:lnTo>
                  <a:lnTo>
                    <a:pt x="290" y="241"/>
                  </a:lnTo>
                  <a:lnTo>
                    <a:pt x="259" y="282"/>
                  </a:lnTo>
                  <a:lnTo>
                    <a:pt x="253" y="330"/>
                  </a:lnTo>
                  <a:lnTo>
                    <a:pt x="266" y="366"/>
                  </a:lnTo>
                  <a:lnTo>
                    <a:pt x="322" y="382"/>
                  </a:lnTo>
                  <a:lnTo>
                    <a:pt x="353" y="421"/>
                  </a:lnTo>
                  <a:lnTo>
                    <a:pt x="356" y="502"/>
                  </a:lnTo>
                  <a:lnTo>
                    <a:pt x="330" y="552"/>
                  </a:lnTo>
                  <a:lnTo>
                    <a:pt x="243" y="573"/>
                  </a:lnTo>
                  <a:lnTo>
                    <a:pt x="158" y="573"/>
                  </a:lnTo>
                  <a:lnTo>
                    <a:pt x="93" y="543"/>
                  </a:lnTo>
                  <a:lnTo>
                    <a:pt x="30" y="475"/>
                  </a:lnTo>
                  <a:lnTo>
                    <a:pt x="8" y="411"/>
                  </a:lnTo>
                  <a:lnTo>
                    <a:pt x="0" y="333"/>
                  </a:lnTo>
                  <a:lnTo>
                    <a:pt x="14" y="252"/>
                  </a:lnTo>
                  <a:lnTo>
                    <a:pt x="37" y="204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81080" y="4452840"/>
            <a:ext cx="2357280" cy="1984320"/>
          </a:xfrm>
          <a:custGeom>
            <a:avLst/>
            <a:gdLst/>
            <a:ahLst/>
            <a:rect l="l" t="t" r="r" b="b"/>
            <a:pathLst>
              <a:path w="2971" h="2498">
                <a:moveTo>
                  <a:pt x="24" y="1765"/>
                </a:moveTo>
                <a:lnTo>
                  <a:pt x="16" y="1588"/>
                </a:lnTo>
                <a:lnTo>
                  <a:pt x="40" y="1436"/>
                </a:lnTo>
                <a:lnTo>
                  <a:pt x="40" y="1290"/>
                </a:lnTo>
                <a:lnTo>
                  <a:pt x="7" y="1113"/>
                </a:lnTo>
                <a:lnTo>
                  <a:pt x="0" y="975"/>
                </a:lnTo>
                <a:lnTo>
                  <a:pt x="7" y="830"/>
                </a:lnTo>
                <a:lnTo>
                  <a:pt x="40" y="742"/>
                </a:lnTo>
                <a:lnTo>
                  <a:pt x="126" y="677"/>
                </a:lnTo>
                <a:lnTo>
                  <a:pt x="237" y="596"/>
                </a:lnTo>
                <a:lnTo>
                  <a:pt x="498" y="508"/>
                </a:lnTo>
                <a:lnTo>
                  <a:pt x="758" y="443"/>
                </a:lnTo>
                <a:lnTo>
                  <a:pt x="987" y="403"/>
                </a:lnTo>
                <a:lnTo>
                  <a:pt x="1177" y="395"/>
                </a:lnTo>
                <a:lnTo>
                  <a:pt x="1359" y="339"/>
                </a:lnTo>
                <a:lnTo>
                  <a:pt x="1518" y="298"/>
                </a:lnTo>
                <a:lnTo>
                  <a:pt x="1595" y="267"/>
                </a:lnTo>
                <a:lnTo>
                  <a:pt x="1722" y="226"/>
                </a:lnTo>
                <a:lnTo>
                  <a:pt x="1833" y="169"/>
                </a:lnTo>
                <a:lnTo>
                  <a:pt x="1936" y="73"/>
                </a:lnTo>
                <a:lnTo>
                  <a:pt x="2054" y="40"/>
                </a:lnTo>
                <a:lnTo>
                  <a:pt x="2204" y="0"/>
                </a:lnTo>
                <a:lnTo>
                  <a:pt x="2276" y="9"/>
                </a:lnTo>
                <a:lnTo>
                  <a:pt x="2339" y="66"/>
                </a:lnTo>
                <a:lnTo>
                  <a:pt x="2528" y="226"/>
                </a:lnTo>
                <a:lnTo>
                  <a:pt x="2749" y="452"/>
                </a:lnTo>
                <a:lnTo>
                  <a:pt x="2900" y="589"/>
                </a:lnTo>
                <a:lnTo>
                  <a:pt x="2971" y="686"/>
                </a:lnTo>
                <a:lnTo>
                  <a:pt x="2971" y="751"/>
                </a:lnTo>
                <a:lnTo>
                  <a:pt x="2938" y="806"/>
                </a:lnTo>
                <a:lnTo>
                  <a:pt x="2907" y="911"/>
                </a:lnTo>
                <a:lnTo>
                  <a:pt x="2907" y="1178"/>
                </a:lnTo>
                <a:lnTo>
                  <a:pt x="2891" y="1386"/>
                </a:lnTo>
                <a:lnTo>
                  <a:pt x="2868" y="1540"/>
                </a:lnTo>
                <a:lnTo>
                  <a:pt x="2828" y="1653"/>
                </a:lnTo>
                <a:lnTo>
                  <a:pt x="2758" y="1677"/>
                </a:lnTo>
                <a:lnTo>
                  <a:pt x="2725" y="1644"/>
                </a:lnTo>
                <a:lnTo>
                  <a:pt x="2741" y="1588"/>
                </a:lnTo>
                <a:lnTo>
                  <a:pt x="2749" y="1450"/>
                </a:lnTo>
                <a:lnTo>
                  <a:pt x="2575" y="1531"/>
                </a:lnTo>
                <a:lnTo>
                  <a:pt x="2473" y="1588"/>
                </a:lnTo>
                <a:lnTo>
                  <a:pt x="2339" y="1620"/>
                </a:lnTo>
                <a:lnTo>
                  <a:pt x="2236" y="1669"/>
                </a:lnTo>
                <a:lnTo>
                  <a:pt x="2110" y="1758"/>
                </a:lnTo>
                <a:lnTo>
                  <a:pt x="1991" y="1822"/>
                </a:lnTo>
                <a:lnTo>
                  <a:pt x="1808" y="1911"/>
                </a:lnTo>
                <a:lnTo>
                  <a:pt x="1691" y="1951"/>
                </a:lnTo>
                <a:lnTo>
                  <a:pt x="1518" y="2032"/>
                </a:lnTo>
                <a:lnTo>
                  <a:pt x="1319" y="2071"/>
                </a:lnTo>
                <a:lnTo>
                  <a:pt x="1177" y="2111"/>
                </a:lnTo>
                <a:lnTo>
                  <a:pt x="1020" y="2152"/>
                </a:lnTo>
                <a:lnTo>
                  <a:pt x="940" y="2192"/>
                </a:lnTo>
                <a:lnTo>
                  <a:pt x="908" y="2273"/>
                </a:lnTo>
                <a:lnTo>
                  <a:pt x="901" y="2395"/>
                </a:lnTo>
                <a:lnTo>
                  <a:pt x="877" y="2459"/>
                </a:lnTo>
                <a:lnTo>
                  <a:pt x="807" y="2498"/>
                </a:lnTo>
                <a:lnTo>
                  <a:pt x="695" y="2434"/>
                </a:lnTo>
                <a:lnTo>
                  <a:pt x="664" y="2338"/>
                </a:lnTo>
                <a:lnTo>
                  <a:pt x="704" y="2257"/>
                </a:lnTo>
                <a:lnTo>
                  <a:pt x="679" y="2209"/>
                </a:lnTo>
                <a:lnTo>
                  <a:pt x="529" y="2039"/>
                </a:lnTo>
                <a:lnTo>
                  <a:pt x="316" y="1839"/>
                </a:lnTo>
                <a:lnTo>
                  <a:pt x="182" y="1710"/>
                </a:lnTo>
                <a:lnTo>
                  <a:pt x="126" y="1677"/>
                </a:lnTo>
                <a:lnTo>
                  <a:pt x="103" y="1734"/>
                </a:lnTo>
                <a:lnTo>
                  <a:pt x="126" y="1839"/>
                </a:lnTo>
                <a:lnTo>
                  <a:pt x="24" y="1765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4200" y="5032440"/>
            <a:ext cx="2313000" cy="1400040"/>
          </a:xfrm>
          <a:custGeom>
            <a:avLst/>
            <a:gdLst/>
            <a:ahLst/>
            <a:rect l="l" t="t" r="r" b="b"/>
            <a:pathLst>
              <a:path w="2915" h="1766">
                <a:moveTo>
                  <a:pt x="742" y="1733"/>
                </a:moveTo>
                <a:lnTo>
                  <a:pt x="751" y="1563"/>
                </a:lnTo>
                <a:lnTo>
                  <a:pt x="742" y="1193"/>
                </a:lnTo>
                <a:lnTo>
                  <a:pt x="742" y="919"/>
                </a:lnTo>
                <a:lnTo>
                  <a:pt x="702" y="847"/>
                </a:lnTo>
                <a:lnTo>
                  <a:pt x="410" y="532"/>
                </a:lnTo>
                <a:lnTo>
                  <a:pt x="221" y="339"/>
                </a:lnTo>
                <a:lnTo>
                  <a:pt x="63" y="201"/>
                </a:lnTo>
                <a:lnTo>
                  <a:pt x="0" y="129"/>
                </a:lnTo>
                <a:lnTo>
                  <a:pt x="16" y="89"/>
                </a:lnTo>
                <a:lnTo>
                  <a:pt x="40" y="89"/>
                </a:lnTo>
                <a:lnTo>
                  <a:pt x="150" y="210"/>
                </a:lnTo>
                <a:lnTo>
                  <a:pt x="300" y="330"/>
                </a:lnTo>
                <a:lnTo>
                  <a:pt x="442" y="525"/>
                </a:lnTo>
                <a:lnTo>
                  <a:pt x="576" y="669"/>
                </a:lnTo>
                <a:lnTo>
                  <a:pt x="702" y="766"/>
                </a:lnTo>
                <a:lnTo>
                  <a:pt x="782" y="838"/>
                </a:lnTo>
                <a:lnTo>
                  <a:pt x="838" y="823"/>
                </a:lnTo>
                <a:lnTo>
                  <a:pt x="892" y="782"/>
                </a:lnTo>
                <a:lnTo>
                  <a:pt x="1067" y="742"/>
                </a:lnTo>
                <a:lnTo>
                  <a:pt x="1383" y="654"/>
                </a:lnTo>
                <a:lnTo>
                  <a:pt x="1572" y="549"/>
                </a:lnTo>
                <a:lnTo>
                  <a:pt x="1792" y="451"/>
                </a:lnTo>
                <a:lnTo>
                  <a:pt x="2022" y="363"/>
                </a:lnTo>
                <a:lnTo>
                  <a:pt x="2260" y="258"/>
                </a:lnTo>
                <a:lnTo>
                  <a:pt x="2426" y="201"/>
                </a:lnTo>
                <a:lnTo>
                  <a:pt x="2622" y="113"/>
                </a:lnTo>
                <a:lnTo>
                  <a:pt x="2780" y="72"/>
                </a:lnTo>
                <a:lnTo>
                  <a:pt x="2915" y="0"/>
                </a:lnTo>
                <a:lnTo>
                  <a:pt x="2868" y="129"/>
                </a:lnTo>
                <a:lnTo>
                  <a:pt x="2788" y="129"/>
                </a:lnTo>
                <a:lnTo>
                  <a:pt x="2686" y="153"/>
                </a:lnTo>
                <a:lnTo>
                  <a:pt x="2503" y="210"/>
                </a:lnTo>
                <a:lnTo>
                  <a:pt x="2370" y="265"/>
                </a:lnTo>
                <a:lnTo>
                  <a:pt x="2204" y="322"/>
                </a:lnTo>
                <a:lnTo>
                  <a:pt x="2094" y="379"/>
                </a:lnTo>
                <a:lnTo>
                  <a:pt x="1911" y="451"/>
                </a:lnTo>
                <a:lnTo>
                  <a:pt x="1792" y="451"/>
                </a:lnTo>
                <a:lnTo>
                  <a:pt x="1619" y="580"/>
                </a:lnTo>
                <a:lnTo>
                  <a:pt x="1500" y="637"/>
                </a:lnTo>
                <a:lnTo>
                  <a:pt x="1350" y="693"/>
                </a:lnTo>
                <a:lnTo>
                  <a:pt x="1161" y="758"/>
                </a:lnTo>
                <a:lnTo>
                  <a:pt x="1011" y="797"/>
                </a:lnTo>
                <a:lnTo>
                  <a:pt x="908" y="847"/>
                </a:lnTo>
                <a:lnTo>
                  <a:pt x="814" y="895"/>
                </a:lnTo>
                <a:lnTo>
                  <a:pt x="791" y="1024"/>
                </a:lnTo>
                <a:lnTo>
                  <a:pt x="791" y="1329"/>
                </a:lnTo>
                <a:lnTo>
                  <a:pt x="791" y="1539"/>
                </a:lnTo>
                <a:lnTo>
                  <a:pt x="805" y="1718"/>
                </a:lnTo>
                <a:lnTo>
                  <a:pt x="758" y="1766"/>
                </a:lnTo>
                <a:lnTo>
                  <a:pt x="742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58840" y="4773600"/>
            <a:ext cx="558720" cy="396720"/>
          </a:xfrm>
          <a:custGeom>
            <a:avLst/>
            <a:gdLst/>
            <a:ahLst/>
            <a:rect l="l" t="t" r="r" b="b"/>
            <a:pathLst>
              <a:path w="703" h="499">
                <a:moveTo>
                  <a:pt x="8" y="145"/>
                </a:moveTo>
                <a:lnTo>
                  <a:pt x="182" y="105"/>
                </a:lnTo>
                <a:lnTo>
                  <a:pt x="285" y="57"/>
                </a:lnTo>
                <a:lnTo>
                  <a:pt x="357" y="0"/>
                </a:lnTo>
                <a:lnTo>
                  <a:pt x="427" y="73"/>
                </a:lnTo>
                <a:lnTo>
                  <a:pt x="537" y="178"/>
                </a:lnTo>
                <a:lnTo>
                  <a:pt x="633" y="234"/>
                </a:lnTo>
                <a:lnTo>
                  <a:pt x="703" y="307"/>
                </a:lnTo>
                <a:lnTo>
                  <a:pt x="664" y="372"/>
                </a:lnTo>
                <a:lnTo>
                  <a:pt x="523" y="436"/>
                </a:lnTo>
                <a:lnTo>
                  <a:pt x="380" y="499"/>
                </a:lnTo>
                <a:lnTo>
                  <a:pt x="317" y="499"/>
                </a:lnTo>
                <a:lnTo>
                  <a:pt x="229" y="387"/>
                </a:lnTo>
                <a:lnTo>
                  <a:pt x="142" y="315"/>
                </a:lnTo>
                <a:lnTo>
                  <a:pt x="55" y="267"/>
                </a:lnTo>
                <a:lnTo>
                  <a:pt x="0" y="186"/>
                </a:lnTo>
                <a:lnTo>
                  <a:pt x="8" y="145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65400" y="4775040"/>
            <a:ext cx="120600" cy="198720"/>
          </a:xfrm>
          <a:custGeom>
            <a:avLst/>
            <a:gdLst/>
            <a:ahLst/>
            <a:rect l="l" t="t" r="r" b="b"/>
            <a:pathLst>
              <a:path w="152" h="251">
                <a:moveTo>
                  <a:pt x="144" y="210"/>
                </a:moveTo>
                <a:lnTo>
                  <a:pt x="25" y="0"/>
                </a:lnTo>
                <a:lnTo>
                  <a:pt x="0" y="17"/>
                </a:lnTo>
                <a:lnTo>
                  <a:pt x="9" y="41"/>
                </a:lnTo>
                <a:lnTo>
                  <a:pt x="121" y="243"/>
                </a:lnTo>
                <a:lnTo>
                  <a:pt x="152" y="251"/>
                </a:lnTo>
                <a:lnTo>
                  <a:pt x="144" y="21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995400" y="4289400"/>
            <a:ext cx="689040" cy="752400"/>
            <a:chOff x="995400" y="4289400"/>
            <a:chExt cx="689040" cy="752400"/>
          </a:xfrm>
        </p:grpSpPr>
        <p:sp>
          <p:nvSpPr>
            <p:cNvPr id="536" name=""/>
            <p:cNvSpPr/>
            <p:nvPr/>
          </p:nvSpPr>
          <p:spPr>
            <a:xfrm>
              <a:off x="1341360" y="4289400"/>
              <a:ext cx="343080" cy="426960"/>
            </a:xfrm>
            <a:custGeom>
              <a:avLst/>
              <a:gdLst/>
              <a:ahLst/>
              <a:rect l="l" t="t" r="r" b="b"/>
              <a:pathLst>
                <a:path w="432" h="538">
                  <a:moveTo>
                    <a:pt x="0" y="526"/>
                  </a:moveTo>
                  <a:lnTo>
                    <a:pt x="16" y="486"/>
                  </a:lnTo>
                  <a:lnTo>
                    <a:pt x="50" y="463"/>
                  </a:lnTo>
                  <a:lnTo>
                    <a:pt x="158" y="463"/>
                  </a:lnTo>
                  <a:lnTo>
                    <a:pt x="286" y="480"/>
                  </a:lnTo>
                  <a:lnTo>
                    <a:pt x="363" y="490"/>
                  </a:lnTo>
                  <a:lnTo>
                    <a:pt x="376" y="477"/>
                  </a:lnTo>
                  <a:lnTo>
                    <a:pt x="361" y="421"/>
                  </a:lnTo>
                  <a:lnTo>
                    <a:pt x="321" y="331"/>
                  </a:lnTo>
                  <a:lnTo>
                    <a:pt x="276" y="249"/>
                  </a:lnTo>
                  <a:lnTo>
                    <a:pt x="236" y="199"/>
                  </a:lnTo>
                  <a:lnTo>
                    <a:pt x="216" y="157"/>
                  </a:lnTo>
                  <a:lnTo>
                    <a:pt x="223" y="135"/>
                  </a:lnTo>
                  <a:lnTo>
                    <a:pt x="250" y="118"/>
                  </a:lnTo>
                  <a:lnTo>
                    <a:pt x="292" y="124"/>
                  </a:lnTo>
                  <a:lnTo>
                    <a:pt x="361" y="108"/>
                  </a:lnTo>
                  <a:lnTo>
                    <a:pt x="382" y="73"/>
                  </a:lnTo>
                  <a:lnTo>
                    <a:pt x="402" y="23"/>
                  </a:lnTo>
                  <a:lnTo>
                    <a:pt x="402" y="0"/>
                  </a:lnTo>
                  <a:lnTo>
                    <a:pt x="421" y="14"/>
                  </a:lnTo>
                  <a:lnTo>
                    <a:pt x="432" y="67"/>
                  </a:lnTo>
                  <a:lnTo>
                    <a:pt x="424" y="118"/>
                  </a:lnTo>
                  <a:lnTo>
                    <a:pt x="382" y="144"/>
                  </a:lnTo>
                  <a:lnTo>
                    <a:pt x="349" y="141"/>
                  </a:lnTo>
                  <a:lnTo>
                    <a:pt x="286" y="148"/>
                  </a:lnTo>
                  <a:lnTo>
                    <a:pt x="273" y="162"/>
                  </a:lnTo>
                  <a:lnTo>
                    <a:pt x="273" y="178"/>
                  </a:lnTo>
                  <a:lnTo>
                    <a:pt x="305" y="237"/>
                  </a:lnTo>
                  <a:lnTo>
                    <a:pt x="345" y="280"/>
                  </a:lnTo>
                  <a:lnTo>
                    <a:pt x="392" y="364"/>
                  </a:lnTo>
                  <a:lnTo>
                    <a:pt x="411" y="447"/>
                  </a:lnTo>
                  <a:lnTo>
                    <a:pt x="413" y="510"/>
                  </a:lnTo>
                  <a:lnTo>
                    <a:pt x="398" y="526"/>
                  </a:lnTo>
                  <a:lnTo>
                    <a:pt x="379" y="531"/>
                  </a:lnTo>
                  <a:lnTo>
                    <a:pt x="316" y="534"/>
                  </a:lnTo>
                  <a:lnTo>
                    <a:pt x="186" y="526"/>
                  </a:lnTo>
                  <a:lnTo>
                    <a:pt x="103" y="531"/>
                  </a:lnTo>
                  <a:lnTo>
                    <a:pt x="44" y="538"/>
                  </a:lnTo>
                  <a:lnTo>
                    <a:pt x="16" y="534"/>
                  </a:lnTo>
                  <a:lnTo>
                    <a:pt x="0" y="5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95400" y="4564080"/>
              <a:ext cx="473040" cy="477720"/>
            </a:xfrm>
            <a:custGeom>
              <a:avLst/>
              <a:gdLst/>
              <a:ahLst/>
              <a:rect l="l" t="t" r="r" b="b"/>
              <a:pathLst>
                <a:path w="595" h="601">
                  <a:moveTo>
                    <a:pt x="184" y="24"/>
                  </a:moveTo>
                  <a:lnTo>
                    <a:pt x="239" y="5"/>
                  </a:lnTo>
                  <a:lnTo>
                    <a:pt x="278" y="0"/>
                  </a:lnTo>
                  <a:lnTo>
                    <a:pt x="310" y="5"/>
                  </a:lnTo>
                  <a:lnTo>
                    <a:pt x="326" y="21"/>
                  </a:lnTo>
                  <a:lnTo>
                    <a:pt x="317" y="63"/>
                  </a:lnTo>
                  <a:lnTo>
                    <a:pt x="263" y="86"/>
                  </a:lnTo>
                  <a:lnTo>
                    <a:pt x="204" y="86"/>
                  </a:lnTo>
                  <a:lnTo>
                    <a:pt x="141" y="96"/>
                  </a:lnTo>
                  <a:lnTo>
                    <a:pt x="94" y="117"/>
                  </a:lnTo>
                  <a:lnTo>
                    <a:pt x="50" y="150"/>
                  </a:lnTo>
                  <a:lnTo>
                    <a:pt x="47" y="198"/>
                  </a:lnTo>
                  <a:lnTo>
                    <a:pt x="65" y="246"/>
                  </a:lnTo>
                  <a:lnTo>
                    <a:pt x="110" y="286"/>
                  </a:lnTo>
                  <a:lnTo>
                    <a:pt x="181" y="319"/>
                  </a:lnTo>
                  <a:lnTo>
                    <a:pt x="276" y="354"/>
                  </a:lnTo>
                  <a:lnTo>
                    <a:pt x="373" y="382"/>
                  </a:lnTo>
                  <a:lnTo>
                    <a:pt x="436" y="409"/>
                  </a:lnTo>
                  <a:lnTo>
                    <a:pt x="467" y="418"/>
                  </a:lnTo>
                  <a:lnTo>
                    <a:pt x="457" y="456"/>
                  </a:lnTo>
                  <a:lnTo>
                    <a:pt x="467" y="507"/>
                  </a:lnTo>
                  <a:lnTo>
                    <a:pt x="523" y="531"/>
                  </a:lnTo>
                  <a:lnTo>
                    <a:pt x="592" y="562"/>
                  </a:lnTo>
                  <a:lnTo>
                    <a:pt x="595" y="601"/>
                  </a:lnTo>
                  <a:lnTo>
                    <a:pt x="523" y="568"/>
                  </a:lnTo>
                  <a:lnTo>
                    <a:pt x="436" y="531"/>
                  </a:lnTo>
                  <a:lnTo>
                    <a:pt x="417" y="490"/>
                  </a:lnTo>
                  <a:lnTo>
                    <a:pt x="417" y="442"/>
                  </a:lnTo>
                  <a:lnTo>
                    <a:pt x="373" y="418"/>
                  </a:lnTo>
                  <a:lnTo>
                    <a:pt x="260" y="385"/>
                  </a:lnTo>
                  <a:lnTo>
                    <a:pt x="176" y="354"/>
                  </a:lnTo>
                  <a:lnTo>
                    <a:pt x="81" y="310"/>
                  </a:lnTo>
                  <a:lnTo>
                    <a:pt x="15" y="262"/>
                  </a:lnTo>
                  <a:lnTo>
                    <a:pt x="1" y="218"/>
                  </a:lnTo>
                  <a:lnTo>
                    <a:pt x="0" y="182"/>
                  </a:lnTo>
                  <a:lnTo>
                    <a:pt x="1" y="128"/>
                  </a:lnTo>
                  <a:lnTo>
                    <a:pt x="41" y="89"/>
                  </a:lnTo>
                  <a:lnTo>
                    <a:pt x="101" y="62"/>
                  </a:lnTo>
                  <a:lnTo>
                    <a:pt x="151" y="38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1743120" y="3484440"/>
            <a:ext cx="689040" cy="1586160"/>
            <a:chOff x="1743120" y="3484440"/>
            <a:chExt cx="689040" cy="1586160"/>
          </a:xfrm>
        </p:grpSpPr>
        <p:sp>
          <p:nvSpPr>
            <p:cNvPr id="539" name=""/>
            <p:cNvSpPr/>
            <p:nvPr/>
          </p:nvSpPr>
          <p:spPr>
            <a:xfrm>
              <a:off x="1755720" y="3554280"/>
              <a:ext cx="362160" cy="1494000"/>
            </a:xfrm>
            <a:custGeom>
              <a:avLst/>
              <a:gdLst/>
              <a:ahLst/>
              <a:rect l="l" t="t" r="r" b="b"/>
              <a:pathLst>
                <a:path w="455" h="1882">
                  <a:moveTo>
                    <a:pt x="448" y="339"/>
                  </a:moveTo>
                  <a:lnTo>
                    <a:pt x="455" y="408"/>
                  </a:lnTo>
                  <a:lnTo>
                    <a:pt x="455" y="781"/>
                  </a:lnTo>
                  <a:lnTo>
                    <a:pt x="423" y="1281"/>
                  </a:lnTo>
                  <a:lnTo>
                    <a:pt x="426" y="1600"/>
                  </a:lnTo>
                  <a:lnTo>
                    <a:pt x="442" y="1821"/>
                  </a:lnTo>
                  <a:lnTo>
                    <a:pt x="426" y="1882"/>
                  </a:lnTo>
                  <a:lnTo>
                    <a:pt x="399" y="1869"/>
                  </a:lnTo>
                  <a:lnTo>
                    <a:pt x="245" y="1747"/>
                  </a:lnTo>
                  <a:lnTo>
                    <a:pt x="205" y="1723"/>
                  </a:lnTo>
                  <a:lnTo>
                    <a:pt x="182" y="1689"/>
                  </a:lnTo>
                  <a:lnTo>
                    <a:pt x="142" y="1642"/>
                  </a:lnTo>
                  <a:lnTo>
                    <a:pt x="89" y="1594"/>
                  </a:lnTo>
                  <a:lnTo>
                    <a:pt x="63" y="1530"/>
                  </a:lnTo>
                  <a:lnTo>
                    <a:pt x="0" y="1475"/>
                  </a:lnTo>
                  <a:lnTo>
                    <a:pt x="0" y="1442"/>
                  </a:lnTo>
                  <a:lnTo>
                    <a:pt x="34" y="1398"/>
                  </a:lnTo>
                  <a:lnTo>
                    <a:pt x="47" y="1343"/>
                  </a:lnTo>
                  <a:lnTo>
                    <a:pt x="39" y="1313"/>
                  </a:lnTo>
                  <a:lnTo>
                    <a:pt x="23" y="1265"/>
                  </a:lnTo>
                  <a:lnTo>
                    <a:pt x="17" y="1230"/>
                  </a:lnTo>
                  <a:lnTo>
                    <a:pt x="42" y="1176"/>
                  </a:lnTo>
                  <a:lnTo>
                    <a:pt x="42" y="1140"/>
                  </a:lnTo>
                  <a:lnTo>
                    <a:pt x="16" y="1068"/>
                  </a:lnTo>
                  <a:lnTo>
                    <a:pt x="16" y="1028"/>
                  </a:lnTo>
                  <a:lnTo>
                    <a:pt x="31" y="996"/>
                  </a:lnTo>
                  <a:lnTo>
                    <a:pt x="57" y="959"/>
                  </a:lnTo>
                  <a:lnTo>
                    <a:pt x="56" y="895"/>
                  </a:lnTo>
                  <a:lnTo>
                    <a:pt x="39" y="842"/>
                  </a:lnTo>
                  <a:lnTo>
                    <a:pt x="56" y="781"/>
                  </a:lnTo>
                  <a:lnTo>
                    <a:pt x="70" y="766"/>
                  </a:lnTo>
                  <a:lnTo>
                    <a:pt x="57" y="709"/>
                  </a:lnTo>
                  <a:lnTo>
                    <a:pt x="23" y="649"/>
                  </a:lnTo>
                  <a:lnTo>
                    <a:pt x="16" y="610"/>
                  </a:lnTo>
                  <a:lnTo>
                    <a:pt x="23" y="572"/>
                  </a:lnTo>
                  <a:lnTo>
                    <a:pt x="66" y="539"/>
                  </a:lnTo>
                  <a:lnTo>
                    <a:pt x="63" y="512"/>
                  </a:lnTo>
                  <a:lnTo>
                    <a:pt x="17" y="427"/>
                  </a:lnTo>
                  <a:lnTo>
                    <a:pt x="3" y="360"/>
                  </a:lnTo>
                  <a:lnTo>
                    <a:pt x="16" y="322"/>
                  </a:lnTo>
                  <a:lnTo>
                    <a:pt x="57" y="288"/>
                  </a:lnTo>
                  <a:lnTo>
                    <a:pt x="47" y="258"/>
                  </a:lnTo>
                  <a:lnTo>
                    <a:pt x="17" y="223"/>
                  </a:lnTo>
                  <a:lnTo>
                    <a:pt x="17" y="186"/>
                  </a:lnTo>
                  <a:lnTo>
                    <a:pt x="66" y="160"/>
                  </a:lnTo>
                  <a:lnTo>
                    <a:pt x="86" y="133"/>
                  </a:lnTo>
                  <a:lnTo>
                    <a:pt x="47" y="78"/>
                  </a:lnTo>
                  <a:lnTo>
                    <a:pt x="47" y="48"/>
                  </a:lnTo>
                  <a:lnTo>
                    <a:pt x="94" y="30"/>
                  </a:lnTo>
                  <a:lnTo>
                    <a:pt x="97" y="0"/>
                  </a:lnTo>
                  <a:lnTo>
                    <a:pt x="150" y="78"/>
                  </a:lnTo>
                  <a:lnTo>
                    <a:pt x="213" y="159"/>
                  </a:lnTo>
                  <a:lnTo>
                    <a:pt x="292" y="223"/>
                  </a:lnTo>
                  <a:lnTo>
                    <a:pt x="355" y="274"/>
                  </a:lnTo>
                  <a:lnTo>
                    <a:pt x="423" y="315"/>
                  </a:lnTo>
                  <a:lnTo>
                    <a:pt x="448" y="3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43120" y="3576600"/>
              <a:ext cx="104760" cy="1138320"/>
            </a:xfrm>
            <a:custGeom>
              <a:avLst/>
              <a:gdLst/>
              <a:ahLst/>
              <a:rect l="l" t="t" r="r" b="b"/>
              <a:pathLst>
                <a:path w="132" h="1435">
                  <a:moveTo>
                    <a:pt x="66" y="0"/>
                  </a:moveTo>
                  <a:lnTo>
                    <a:pt x="90" y="48"/>
                  </a:lnTo>
                  <a:lnTo>
                    <a:pt x="112" y="80"/>
                  </a:lnTo>
                  <a:lnTo>
                    <a:pt x="132" y="99"/>
                  </a:lnTo>
                  <a:lnTo>
                    <a:pt x="126" y="123"/>
                  </a:lnTo>
                  <a:lnTo>
                    <a:pt x="106" y="140"/>
                  </a:lnTo>
                  <a:lnTo>
                    <a:pt x="74" y="147"/>
                  </a:lnTo>
                  <a:lnTo>
                    <a:pt x="50" y="168"/>
                  </a:lnTo>
                  <a:lnTo>
                    <a:pt x="56" y="194"/>
                  </a:lnTo>
                  <a:lnTo>
                    <a:pt x="72" y="209"/>
                  </a:lnTo>
                  <a:lnTo>
                    <a:pt x="99" y="242"/>
                  </a:lnTo>
                  <a:lnTo>
                    <a:pt x="99" y="260"/>
                  </a:lnTo>
                  <a:lnTo>
                    <a:pt x="90" y="276"/>
                  </a:lnTo>
                  <a:lnTo>
                    <a:pt x="66" y="293"/>
                  </a:lnTo>
                  <a:lnTo>
                    <a:pt x="43" y="309"/>
                  </a:lnTo>
                  <a:lnTo>
                    <a:pt x="40" y="333"/>
                  </a:lnTo>
                  <a:lnTo>
                    <a:pt x="47" y="357"/>
                  </a:lnTo>
                  <a:lnTo>
                    <a:pt x="66" y="405"/>
                  </a:lnTo>
                  <a:lnTo>
                    <a:pt x="82" y="442"/>
                  </a:lnTo>
                  <a:lnTo>
                    <a:pt x="99" y="469"/>
                  </a:lnTo>
                  <a:lnTo>
                    <a:pt x="99" y="499"/>
                  </a:lnTo>
                  <a:lnTo>
                    <a:pt x="90" y="526"/>
                  </a:lnTo>
                  <a:lnTo>
                    <a:pt x="66" y="550"/>
                  </a:lnTo>
                  <a:lnTo>
                    <a:pt x="50" y="574"/>
                  </a:lnTo>
                  <a:lnTo>
                    <a:pt x="56" y="615"/>
                  </a:lnTo>
                  <a:lnTo>
                    <a:pt x="96" y="676"/>
                  </a:lnTo>
                  <a:lnTo>
                    <a:pt x="112" y="709"/>
                  </a:lnTo>
                  <a:lnTo>
                    <a:pt x="113" y="741"/>
                  </a:lnTo>
                  <a:lnTo>
                    <a:pt x="99" y="765"/>
                  </a:lnTo>
                  <a:lnTo>
                    <a:pt x="79" y="789"/>
                  </a:lnTo>
                  <a:lnTo>
                    <a:pt x="74" y="822"/>
                  </a:lnTo>
                  <a:lnTo>
                    <a:pt x="87" y="862"/>
                  </a:lnTo>
                  <a:lnTo>
                    <a:pt x="103" y="904"/>
                  </a:lnTo>
                  <a:lnTo>
                    <a:pt x="112" y="934"/>
                  </a:lnTo>
                  <a:lnTo>
                    <a:pt x="103" y="953"/>
                  </a:lnTo>
                  <a:lnTo>
                    <a:pt x="82" y="974"/>
                  </a:lnTo>
                  <a:lnTo>
                    <a:pt x="56" y="998"/>
                  </a:lnTo>
                  <a:lnTo>
                    <a:pt x="43" y="1022"/>
                  </a:lnTo>
                  <a:lnTo>
                    <a:pt x="56" y="1066"/>
                  </a:lnTo>
                  <a:lnTo>
                    <a:pt x="82" y="1111"/>
                  </a:lnTo>
                  <a:lnTo>
                    <a:pt x="96" y="1144"/>
                  </a:lnTo>
                  <a:lnTo>
                    <a:pt x="99" y="1171"/>
                  </a:lnTo>
                  <a:lnTo>
                    <a:pt x="90" y="1184"/>
                  </a:lnTo>
                  <a:lnTo>
                    <a:pt x="63" y="1184"/>
                  </a:lnTo>
                  <a:lnTo>
                    <a:pt x="56" y="1243"/>
                  </a:lnTo>
                  <a:lnTo>
                    <a:pt x="72" y="1280"/>
                  </a:lnTo>
                  <a:lnTo>
                    <a:pt x="87" y="1307"/>
                  </a:lnTo>
                  <a:lnTo>
                    <a:pt x="90" y="1331"/>
                  </a:lnTo>
                  <a:lnTo>
                    <a:pt x="90" y="1354"/>
                  </a:lnTo>
                  <a:lnTo>
                    <a:pt x="63" y="1388"/>
                  </a:lnTo>
                  <a:lnTo>
                    <a:pt x="27" y="1435"/>
                  </a:lnTo>
                  <a:lnTo>
                    <a:pt x="3" y="1418"/>
                  </a:lnTo>
                  <a:lnTo>
                    <a:pt x="10" y="1381"/>
                  </a:lnTo>
                  <a:lnTo>
                    <a:pt x="47" y="1321"/>
                  </a:lnTo>
                  <a:lnTo>
                    <a:pt x="43" y="1283"/>
                  </a:lnTo>
                  <a:lnTo>
                    <a:pt x="27" y="1240"/>
                  </a:lnTo>
                  <a:lnTo>
                    <a:pt x="16" y="1202"/>
                  </a:lnTo>
                  <a:lnTo>
                    <a:pt x="32" y="1171"/>
                  </a:lnTo>
                  <a:lnTo>
                    <a:pt x="47" y="1160"/>
                  </a:lnTo>
                  <a:lnTo>
                    <a:pt x="50" y="1136"/>
                  </a:lnTo>
                  <a:lnTo>
                    <a:pt x="32" y="1090"/>
                  </a:lnTo>
                  <a:lnTo>
                    <a:pt x="10" y="1049"/>
                  </a:lnTo>
                  <a:lnTo>
                    <a:pt x="0" y="1009"/>
                  </a:lnTo>
                  <a:lnTo>
                    <a:pt x="10" y="961"/>
                  </a:lnTo>
                  <a:lnTo>
                    <a:pt x="47" y="943"/>
                  </a:lnTo>
                  <a:lnTo>
                    <a:pt x="59" y="921"/>
                  </a:lnTo>
                  <a:lnTo>
                    <a:pt x="56" y="889"/>
                  </a:lnTo>
                  <a:lnTo>
                    <a:pt x="47" y="856"/>
                  </a:lnTo>
                  <a:lnTo>
                    <a:pt x="34" y="814"/>
                  </a:lnTo>
                  <a:lnTo>
                    <a:pt x="34" y="781"/>
                  </a:lnTo>
                  <a:lnTo>
                    <a:pt x="50" y="760"/>
                  </a:lnTo>
                  <a:lnTo>
                    <a:pt x="72" y="733"/>
                  </a:lnTo>
                  <a:lnTo>
                    <a:pt x="72" y="717"/>
                  </a:lnTo>
                  <a:lnTo>
                    <a:pt x="56" y="679"/>
                  </a:lnTo>
                  <a:lnTo>
                    <a:pt x="24" y="631"/>
                  </a:lnTo>
                  <a:lnTo>
                    <a:pt x="10" y="595"/>
                  </a:lnTo>
                  <a:lnTo>
                    <a:pt x="10" y="567"/>
                  </a:lnTo>
                  <a:lnTo>
                    <a:pt x="19" y="540"/>
                  </a:lnTo>
                  <a:lnTo>
                    <a:pt x="40" y="517"/>
                  </a:lnTo>
                  <a:lnTo>
                    <a:pt x="59" y="493"/>
                  </a:lnTo>
                  <a:lnTo>
                    <a:pt x="59" y="475"/>
                  </a:lnTo>
                  <a:lnTo>
                    <a:pt x="16" y="387"/>
                  </a:lnTo>
                  <a:lnTo>
                    <a:pt x="7" y="354"/>
                  </a:lnTo>
                  <a:lnTo>
                    <a:pt x="0" y="324"/>
                  </a:lnTo>
                  <a:lnTo>
                    <a:pt x="16" y="297"/>
                  </a:lnTo>
                  <a:lnTo>
                    <a:pt x="34" y="276"/>
                  </a:lnTo>
                  <a:lnTo>
                    <a:pt x="50" y="260"/>
                  </a:lnTo>
                  <a:lnTo>
                    <a:pt x="50" y="245"/>
                  </a:lnTo>
                  <a:lnTo>
                    <a:pt x="34" y="219"/>
                  </a:lnTo>
                  <a:lnTo>
                    <a:pt x="10" y="194"/>
                  </a:lnTo>
                  <a:lnTo>
                    <a:pt x="10" y="168"/>
                  </a:lnTo>
                  <a:lnTo>
                    <a:pt x="27" y="144"/>
                  </a:lnTo>
                  <a:lnTo>
                    <a:pt x="50" y="123"/>
                  </a:lnTo>
                  <a:lnTo>
                    <a:pt x="72" y="113"/>
                  </a:lnTo>
                  <a:lnTo>
                    <a:pt x="82" y="96"/>
                  </a:lnTo>
                  <a:lnTo>
                    <a:pt x="74" y="75"/>
                  </a:lnTo>
                  <a:lnTo>
                    <a:pt x="59" y="51"/>
                  </a:lnTo>
                  <a:lnTo>
                    <a:pt x="50" y="2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25720" y="3854520"/>
              <a:ext cx="98280" cy="920520"/>
            </a:xfrm>
            <a:custGeom>
              <a:avLst/>
              <a:gdLst/>
              <a:ahLst/>
              <a:rect l="l" t="t" r="r" b="b"/>
              <a:pathLst>
                <a:path w="124" h="1159">
                  <a:moveTo>
                    <a:pt x="94" y="0"/>
                  </a:moveTo>
                  <a:lnTo>
                    <a:pt x="110" y="31"/>
                  </a:lnTo>
                  <a:lnTo>
                    <a:pt x="124" y="88"/>
                  </a:lnTo>
                  <a:lnTo>
                    <a:pt x="116" y="112"/>
                  </a:lnTo>
                  <a:lnTo>
                    <a:pt x="84" y="128"/>
                  </a:lnTo>
                  <a:lnTo>
                    <a:pt x="63" y="145"/>
                  </a:lnTo>
                  <a:lnTo>
                    <a:pt x="63" y="190"/>
                  </a:lnTo>
                  <a:lnTo>
                    <a:pt x="79" y="233"/>
                  </a:lnTo>
                  <a:lnTo>
                    <a:pt x="100" y="263"/>
                  </a:lnTo>
                  <a:lnTo>
                    <a:pt x="103" y="319"/>
                  </a:lnTo>
                  <a:lnTo>
                    <a:pt x="91" y="338"/>
                  </a:lnTo>
                  <a:lnTo>
                    <a:pt x="71" y="362"/>
                  </a:lnTo>
                  <a:lnTo>
                    <a:pt x="68" y="400"/>
                  </a:lnTo>
                  <a:lnTo>
                    <a:pt x="79" y="434"/>
                  </a:lnTo>
                  <a:lnTo>
                    <a:pt x="94" y="464"/>
                  </a:lnTo>
                  <a:lnTo>
                    <a:pt x="103" y="512"/>
                  </a:lnTo>
                  <a:lnTo>
                    <a:pt x="103" y="539"/>
                  </a:lnTo>
                  <a:lnTo>
                    <a:pt x="87" y="569"/>
                  </a:lnTo>
                  <a:lnTo>
                    <a:pt x="60" y="596"/>
                  </a:lnTo>
                  <a:lnTo>
                    <a:pt x="60" y="620"/>
                  </a:lnTo>
                  <a:lnTo>
                    <a:pt x="68" y="692"/>
                  </a:lnTo>
                  <a:lnTo>
                    <a:pt x="94" y="722"/>
                  </a:lnTo>
                  <a:lnTo>
                    <a:pt x="110" y="753"/>
                  </a:lnTo>
                  <a:lnTo>
                    <a:pt x="103" y="789"/>
                  </a:lnTo>
                  <a:lnTo>
                    <a:pt x="63" y="813"/>
                  </a:lnTo>
                  <a:lnTo>
                    <a:pt x="44" y="837"/>
                  </a:lnTo>
                  <a:lnTo>
                    <a:pt x="40" y="882"/>
                  </a:lnTo>
                  <a:lnTo>
                    <a:pt x="60" y="939"/>
                  </a:lnTo>
                  <a:lnTo>
                    <a:pt x="77" y="996"/>
                  </a:lnTo>
                  <a:lnTo>
                    <a:pt x="77" y="1028"/>
                  </a:lnTo>
                  <a:lnTo>
                    <a:pt x="68" y="1071"/>
                  </a:lnTo>
                  <a:lnTo>
                    <a:pt x="44" y="1079"/>
                  </a:lnTo>
                  <a:lnTo>
                    <a:pt x="30" y="1112"/>
                  </a:lnTo>
                  <a:lnTo>
                    <a:pt x="30" y="1149"/>
                  </a:lnTo>
                  <a:lnTo>
                    <a:pt x="0" y="1159"/>
                  </a:lnTo>
                  <a:lnTo>
                    <a:pt x="13" y="1119"/>
                  </a:lnTo>
                  <a:lnTo>
                    <a:pt x="37" y="1071"/>
                  </a:lnTo>
                  <a:lnTo>
                    <a:pt x="44" y="1038"/>
                  </a:lnTo>
                  <a:lnTo>
                    <a:pt x="44" y="974"/>
                  </a:lnTo>
                  <a:lnTo>
                    <a:pt x="30" y="918"/>
                  </a:lnTo>
                  <a:lnTo>
                    <a:pt x="24" y="875"/>
                  </a:lnTo>
                  <a:lnTo>
                    <a:pt x="21" y="830"/>
                  </a:lnTo>
                  <a:lnTo>
                    <a:pt x="47" y="794"/>
                  </a:lnTo>
                  <a:lnTo>
                    <a:pt x="63" y="770"/>
                  </a:lnTo>
                  <a:lnTo>
                    <a:pt x="53" y="722"/>
                  </a:lnTo>
                  <a:lnTo>
                    <a:pt x="30" y="684"/>
                  </a:lnTo>
                  <a:lnTo>
                    <a:pt x="24" y="651"/>
                  </a:lnTo>
                  <a:lnTo>
                    <a:pt x="21" y="603"/>
                  </a:lnTo>
                  <a:lnTo>
                    <a:pt x="31" y="572"/>
                  </a:lnTo>
                  <a:lnTo>
                    <a:pt x="53" y="539"/>
                  </a:lnTo>
                  <a:lnTo>
                    <a:pt x="68" y="515"/>
                  </a:lnTo>
                  <a:lnTo>
                    <a:pt x="68" y="491"/>
                  </a:lnTo>
                  <a:lnTo>
                    <a:pt x="53" y="464"/>
                  </a:lnTo>
                  <a:lnTo>
                    <a:pt x="37" y="410"/>
                  </a:lnTo>
                  <a:lnTo>
                    <a:pt x="37" y="376"/>
                  </a:lnTo>
                  <a:lnTo>
                    <a:pt x="44" y="343"/>
                  </a:lnTo>
                  <a:lnTo>
                    <a:pt x="60" y="319"/>
                  </a:lnTo>
                  <a:lnTo>
                    <a:pt x="63" y="295"/>
                  </a:lnTo>
                  <a:lnTo>
                    <a:pt x="60" y="265"/>
                  </a:lnTo>
                  <a:lnTo>
                    <a:pt x="40" y="223"/>
                  </a:lnTo>
                  <a:lnTo>
                    <a:pt x="30" y="193"/>
                  </a:lnTo>
                  <a:lnTo>
                    <a:pt x="31" y="142"/>
                  </a:lnTo>
                  <a:lnTo>
                    <a:pt x="47" y="121"/>
                  </a:lnTo>
                  <a:lnTo>
                    <a:pt x="68" y="88"/>
                  </a:lnTo>
                  <a:lnTo>
                    <a:pt x="79" y="61"/>
                  </a:lnTo>
                  <a:lnTo>
                    <a:pt x="71" y="37"/>
                  </a:lnTo>
                  <a:lnTo>
                    <a:pt x="77" y="13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68400" y="3745080"/>
              <a:ext cx="225360" cy="196560"/>
            </a:xfrm>
            <a:custGeom>
              <a:avLst/>
              <a:gdLst/>
              <a:ahLst/>
              <a:rect l="l" t="t" r="r" b="b"/>
              <a:pathLst>
                <a:path w="283" h="248">
                  <a:moveTo>
                    <a:pt x="283" y="201"/>
                  </a:moveTo>
                  <a:lnTo>
                    <a:pt x="197" y="129"/>
                  </a:lnTo>
                  <a:lnTo>
                    <a:pt x="125" y="64"/>
                  </a:lnTo>
                  <a:lnTo>
                    <a:pt x="60" y="0"/>
                  </a:lnTo>
                  <a:lnTo>
                    <a:pt x="0" y="0"/>
                  </a:lnTo>
                  <a:lnTo>
                    <a:pt x="141" y="105"/>
                  </a:lnTo>
                  <a:lnTo>
                    <a:pt x="208" y="168"/>
                  </a:lnTo>
                  <a:lnTo>
                    <a:pt x="267" y="248"/>
                  </a:lnTo>
                  <a:lnTo>
                    <a:pt x="283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65160" y="3857760"/>
              <a:ext cx="195480" cy="163440"/>
            </a:xfrm>
            <a:custGeom>
              <a:avLst/>
              <a:gdLst/>
              <a:ahLst/>
              <a:rect l="l" t="t" r="r" b="b"/>
              <a:pathLst>
                <a:path w="245" h="205">
                  <a:moveTo>
                    <a:pt x="245" y="129"/>
                  </a:moveTo>
                  <a:lnTo>
                    <a:pt x="182" y="105"/>
                  </a:lnTo>
                  <a:lnTo>
                    <a:pt x="135" y="64"/>
                  </a:lnTo>
                  <a:lnTo>
                    <a:pt x="48" y="0"/>
                  </a:lnTo>
                  <a:lnTo>
                    <a:pt x="0" y="0"/>
                  </a:lnTo>
                  <a:lnTo>
                    <a:pt x="112" y="64"/>
                  </a:lnTo>
                  <a:lnTo>
                    <a:pt x="154" y="108"/>
                  </a:lnTo>
                  <a:lnTo>
                    <a:pt x="245" y="205"/>
                  </a:lnTo>
                  <a:lnTo>
                    <a:pt x="241" y="145"/>
                  </a:lnTo>
                  <a:lnTo>
                    <a:pt x="245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36720" y="3954600"/>
              <a:ext cx="230040" cy="252360"/>
            </a:xfrm>
            <a:custGeom>
              <a:avLst/>
              <a:gdLst/>
              <a:ahLst/>
              <a:rect l="l" t="t" r="r" b="b"/>
              <a:pathLst>
                <a:path w="290" h="318">
                  <a:moveTo>
                    <a:pt x="284" y="237"/>
                  </a:moveTo>
                  <a:lnTo>
                    <a:pt x="204" y="165"/>
                  </a:lnTo>
                  <a:lnTo>
                    <a:pt x="173" y="116"/>
                  </a:lnTo>
                  <a:lnTo>
                    <a:pt x="110" y="68"/>
                  </a:lnTo>
                  <a:lnTo>
                    <a:pt x="54" y="24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7" y="57"/>
                  </a:lnTo>
                  <a:lnTo>
                    <a:pt x="134" y="113"/>
                  </a:lnTo>
                  <a:lnTo>
                    <a:pt x="197" y="179"/>
                  </a:lnTo>
                  <a:lnTo>
                    <a:pt x="241" y="251"/>
                  </a:lnTo>
                  <a:lnTo>
                    <a:pt x="290" y="318"/>
                  </a:lnTo>
                  <a:lnTo>
                    <a:pt x="284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59040" y="4159080"/>
              <a:ext cx="177840" cy="147960"/>
            </a:xfrm>
            <a:custGeom>
              <a:avLst/>
              <a:gdLst/>
              <a:ahLst/>
              <a:rect l="l" t="t" r="r" b="b"/>
              <a:pathLst>
                <a:path w="225" h="186">
                  <a:moveTo>
                    <a:pt x="225" y="153"/>
                  </a:moveTo>
                  <a:lnTo>
                    <a:pt x="162" y="84"/>
                  </a:lnTo>
                  <a:lnTo>
                    <a:pt x="96" y="40"/>
                  </a:lnTo>
                  <a:lnTo>
                    <a:pt x="40" y="10"/>
                  </a:lnTo>
                  <a:lnTo>
                    <a:pt x="0" y="0"/>
                  </a:lnTo>
                  <a:lnTo>
                    <a:pt x="25" y="40"/>
                  </a:lnTo>
                  <a:lnTo>
                    <a:pt x="96" y="81"/>
                  </a:lnTo>
                  <a:lnTo>
                    <a:pt x="151" y="139"/>
                  </a:lnTo>
                  <a:lnTo>
                    <a:pt x="178" y="178"/>
                  </a:lnTo>
                  <a:lnTo>
                    <a:pt x="201" y="186"/>
                  </a:lnTo>
                  <a:lnTo>
                    <a:pt x="223" y="172"/>
                  </a:lnTo>
                  <a:lnTo>
                    <a:pt x="225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38160" y="4264200"/>
              <a:ext cx="196920" cy="182520"/>
            </a:xfrm>
            <a:custGeom>
              <a:avLst/>
              <a:gdLst/>
              <a:ahLst/>
              <a:rect l="l" t="t" r="r" b="b"/>
              <a:pathLst>
                <a:path w="248" h="231">
                  <a:moveTo>
                    <a:pt x="248" y="214"/>
                  </a:moveTo>
                  <a:lnTo>
                    <a:pt x="183" y="145"/>
                  </a:lnTo>
                  <a:lnTo>
                    <a:pt x="104" y="62"/>
                  </a:lnTo>
                  <a:lnTo>
                    <a:pt x="57" y="21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41" y="48"/>
                  </a:lnTo>
                  <a:lnTo>
                    <a:pt x="113" y="121"/>
                  </a:lnTo>
                  <a:lnTo>
                    <a:pt x="179" y="193"/>
                  </a:lnTo>
                  <a:lnTo>
                    <a:pt x="223" y="231"/>
                  </a:lnTo>
                  <a:lnTo>
                    <a:pt x="235" y="231"/>
                  </a:lnTo>
                  <a:lnTo>
                    <a:pt x="248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60480" y="4416480"/>
              <a:ext cx="139680" cy="14616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172" y="153"/>
                  </a:moveTo>
                  <a:lnTo>
                    <a:pt x="100" y="47"/>
                  </a:lnTo>
                  <a:lnTo>
                    <a:pt x="31" y="6"/>
                  </a:lnTo>
                  <a:lnTo>
                    <a:pt x="0" y="0"/>
                  </a:lnTo>
                  <a:lnTo>
                    <a:pt x="7" y="21"/>
                  </a:lnTo>
                  <a:lnTo>
                    <a:pt x="87" y="81"/>
                  </a:lnTo>
                  <a:lnTo>
                    <a:pt x="163" y="176"/>
                  </a:lnTo>
                  <a:lnTo>
                    <a:pt x="175" y="183"/>
                  </a:lnTo>
                  <a:lnTo>
                    <a:pt x="17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66960" y="4557600"/>
              <a:ext cx="93600" cy="109800"/>
            </a:xfrm>
            <a:custGeom>
              <a:avLst/>
              <a:gdLst/>
              <a:ahLst/>
              <a:rect l="l" t="t" r="r" b="b"/>
              <a:pathLst>
                <a:path w="118" h="138">
                  <a:moveTo>
                    <a:pt x="112" y="105"/>
                  </a:moveTo>
                  <a:lnTo>
                    <a:pt x="55" y="24"/>
                  </a:lnTo>
                  <a:lnTo>
                    <a:pt x="3" y="0"/>
                  </a:lnTo>
                  <a:lnTo>
                    <a:pt x="0" y="24"/>
                  </a:lnTo>
                  <a:lnTo>
                    <a:pt x="24" y="64"/>
                  </a:lnTo>
                  <a:lnTo>
                    <a:pt x="87" y="118"/>
                  </a:lnTo>
                  <a:lnTo>
                    <a:pt x="105" y="138"/>
                  </a:lnTo>
                  <a:lnTo>
                    <a:pt x="118" y="129"/>
                  </a:lnTo>
                  <a:lnTo>
                    <a:pt x="112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73080" y="4702320"/>
              <a:ext cx="119160" cy="123840"/>
            </a:xfrm>
            <a:custGeom>
              <a:avLst/>
              <a:gdLst/>
              <a:ahLst/>
              <a:rect l="l" t="t" r="r" b="b"/>
              <a:pathLst>
                <a:path w="150" h="156">
                  <a:moveTo>
                    <a:pt x="150" y="156"/>
                  </a:moveTo>
                  <a:lnTo>
                    <a:pt x="129" y="132"/>
                  </a:lnTo>
                  <a:lnTo>
                    <a:pt x="86" y="67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0" y="24"/>
                  </a:lnTo>
                  <a:lnTo>
                    <a:pt x="57" y="88"/>
                  </a:lnTo>
                  <a:lnTo>
                    <a:pt x="104" y="153"/>
                  </a:lnTo>
                  <a:lnTo>
                    <a:pt x="15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35080" y="3673440"/>
              <a:ext cx="363600" cy="1376280"/>
            </a:xfrm>
            <a:custGeom>
              <a:avLst/>
              <a:gdLst/>
              <a:ahLst/>
              <a:rect l="l" t="t" r="r" b="b"/>
              <a:pathLst>
                <a:path w="458" h="1734">
                  <a:moveTo>
                    <a:pt x="82" y="163"/>
                  </a:moveTo>
                  <a:lnTo>
                    <a:pt x="66" y="211"/>
                  </a:lnTo>
                  <a:lnTo>
                    <a:pt x="79" y="259"/>
                  </a:lnTo>
                  <a:lnTo>
                    <a:pt x="82" y="307"/>
                  </a:lnTo>
                  <a:lnTo>
                    <a:pt x="66" y="337"/>
                  </a:lnTo>
                  <a:lnTo>
                    <a:pt x="42" y="371"/>
                  </a:lnTo>
                  <a:lnTo>
                    <a:pt x="32" y="425"/>
                  </a:lnTo>
                  <a:lnTo>
                    <a:pt x="47" y="461"/>
                  </a:lnTo>
                  <a:lnTo>
                    <a:pt x="70" y="500"/>
                  </a:lnTo>
                  <a:lnTo>
                    <a:pt x="70" y="533"/>
                  </a:lnTo>
                  <a:lnTo>
                    <a:pt x="56" y="565"/>
                  </a:lnTo>
                  <a:lnTo>
                    <a:pt x="34" y="605"/>
                  </a:lnTo>
                  <a:lnTo>
                    <a:pt x="42" y="646"/>
                  </a:lnTo>
                  <a:lnTo>
                    <a:pt x="73" y="731"/>
                  </a:lnTo>
                  <a:lnTo>
                    <a:pt x="70" y="767"/>
                  </a:lnTo>
                  <a:lnTo>
                    <a:pt x="26" y="836"/>
                  </a:lnTo>
                  <a:lnTo>
                    <a:pt x="26" y="896"/>
                  </a:lnTo>
                  <a:lnTo>
                    <a:pt x="50" y="941"/>
                  </a:lnTo>
                  <a:lnTo>
                    <a:pt x="66" y="981"/>
                  </a:lnTo>
                  <a:lnTo>
                    <a:pt x="63" y="1016"/>
                  </a:lnTo>
                  <a:lnTo>
                    <a:pt x="23" y="1053"/>
                  </a:lnTo>
                  <a:lnTo>
                    <a:pt x="16" y="1080"/>
                  </a:lnTo>
                  <a:lnTo>
                    <a:pt x="23" y="1145"/>
                  </a:lnTo>
                  <a:lnTo>
                    <a:pt x="42" y="1215"/>
                  </a:lnTo>
                  <a:lnTo>
                    <a:pt x="42" y="1256"/>
                  </a:lnTo>
                  <a:lnTo>
                    <a:pt x="40" y="1287"/>
                  </a:lnTo>
                  <a:lnTo>
                    <a:pt x="10" y="1335"/>
                  </a:lnTo>
                  <a:lnTo>
                    <a:pt x="0" y="1375"/>
                  </a:lnTo>
                  <a:lnTo>
                    <a:pt x="3" y="1419"/>
                  </a:lnTo>
                  <a:lnTo>
                    <a:pt x="23" y="1450"/>
                  </a:lnTo>
                  <a:lnTo>
                    <a:pt x="47" y="1480"/>
                  </a:lnTo>
                  <a:lnTo>
                    <a:pt x="26" y="1521"/>
                  </a:lnTo>
                  <a:lnTo>
                    <a:pt x="16" y="1561"/>
                  </a:lnTo>
                  <a:lnTo>
                    <a:pt x="34" y="1593"/>
                  </a:lnTo>
                  <a:lnTo>
                    <a:pt x="63" y="1617"/>
                  </a:lnTo>
                  <a:lnTo>
                    <a:pt x="66" y="1657"/>
                  </a:lnTo>
                  <a:lnTo>
                    <a:pt x="66" y="1690"/>
                  </a:lnTo>
                  <a:lnTo>
                    <a:pt x="70" y="1734"/>
                  </a:lnTo>
                  <a:lnTo>
                    <a:pt x="120" y="1698"/>
                  </a:lnTo>
                  <a:lnTo>
                    <a:pt x="173" y="1669"/>
                  </a:lnTo>
                  <a:lnTo>
                    <a:pt x="222" y="1653"/>
                  </a:lnTo>
                  <a:lnTo>
                    <a:pt x="295" y="1653"/>
                  </a:lnTo>
                  <a:lnTo>
                    <a:pt x="348" y="1644"/>
                  </a:lnTo>
                  <a:lnTo>
                    <a:pt x="379" y="1617"/>
                  </a:lnTo>
                  <a:lnTo>
                    <a:pt x="435" y="1602"/>
                  </a:lnTo>
                  <a:lnTo>
                    <a:pt x="405" y="1569"/>
                  </a:lnTo>
                  <a:lnTo>
                    <a:pt x="395" y="1524"/>
                  </a:lnTo>
                  <a:lnTo>
                    <a:pt x="414" y="1473"/>
                  </a:lnTo>
                  <a:lnTo>
                    <a:pt x="411" y="1399"/>
                  </a:lnTo>
                  <a:lnTo>
                    <a:pt x="395" y="1347"/>
                  </a:lnTo>
                  <a:lnTo>
                    <a:pt x="379" y="1320"/>
                  </a:lnTo>
                  <a:lnTo>
                    <a:pt x="374" y="1280"/>
                  </a:lnTo>
                  <a:lnTo>
                    <a:pt x="395" y="1232"/>
                  </a:lnTo>
                  <a:lnTo>
                    <a:pt x="388" y="1199"/>
                  </a:lnTo>
                  <a:lnTo>
                    <a:pt x="348" y="1142"/>
                  </a:lnTo>
                  <a:lnTo>
                    <a:pt x="350" y="1110"/>
                  </a:lnTo>
                  <a:lnTo>
                    <a:pt x="366" y="1080"/>
                  </a:lnTo>
                  <a:lnTo>
                    <a:pt x="402" y="1040"/>
                  </a:lnTo>
                  <a:lnTo>
                    <a:pt x="389" y="1008"/>
                  </a:lnTo>
                  <a:lnTo>
                    <a:pt x="363" y="941"/>
                  </a:lnTo>
                  <a:lnTo>
                    <a:pt x="342" y="896"/>
                  </a:lnTo>
                  <a:lnTo>
                    <a:pt x="342" y="846"/>
                  </a:lnTo>
                  <a:lnTo>
                    <a:pt x="414" y="821"/>
                  </a:lnTo>
                  <a:lnTo>
                    <a:pt x="422" y="775"/>
                  </a:lnTo>
                  <a:lnTo>
                    <a:pt x="414" y="748"/>
                  </a:lnTo>
                  <a:lnTo>
                    <a:pt x="395" y="724"/>
                  </a:lnTo>
                  <a:lnTo>
                    <a:pt x="398" y="683"/>
                  </a:lnTo>
                  <a:lnTo>
                    <a:pt x="395" y="635"/>
                  </a:lnTo>
                  <a:lnTo>
                    <a:pt x="374" y="611"/>
                  </a:lnTo>
                  <a:lnTo>
                    <a:pt x="358" y="578"/>
                  </a:lnTo>
                  <a:lnTo>
                    <a:pt x="372" y="547"/>
                  </a:lnTo>
                  <a:lnTo>
                    <a:pt x="388" y="509"/>
                  </a:lnTo>
                  <a:lnTo>
                    <a:pt x="388" y="485"/>
                  </a:lnTo>
                  <a:lnTo>
                    <a:pt x="363" y="452"/>
                  </a:lnTo>
                  <a:lnTo>
                    <a:pt x="355" y="425"/>
                  </a:lnTo>
                  <a:lnTo>
                    <a:pt x="363" y="404"/>
                  </a:lnTo>
                  <a:lnTo>
                    <a:pt x="388" y="388"/>
                  </a:lnTo>
                  <a:lnTo>
                    <a:pt x="389" y="361"/>
                  </a:lnTo>
                  <a:lnTo>
                    <a:pt x="382" y="346"/>
                  </a:lnTo>
                  <a:lnTo>
                    <a:pt x="355" y="305"/>
                  </a:lnTo>
                  <a:lnTo>
                    <a:pt x="348" y="259"/>
                  </a:lnTo>
                  <a:lnTo>
                    <a:pt x="350" y="225"/>
                  </a:lnTo>
                  <a:lnTo>
                    <a:pt x="374" y="192"/>
                  </a:lnTo>
                  <a:lnTo>
                    <a:pt x="438" y="123"/>
                  </a:lnTo>
                  <a:lnTo>
                    <a:pt x="458" y="63"/>
                  </a:lnTo>
                  <a:lnTo>
                    <a:pt x="458" y="15"/>
                  </a:lnTo>
                  <a:lnTo>
                    <a:pt x="438" y="0"/>
                  </a:lnTo>
                  <a:lnTo>
                    <a:pt x="405" y="15"/>
                  </a:lnTo>
                  <a:lnTo>
                    <a:pt x="326" y="66"/>
                  </a:lnTo>
                  <a:lnTo>
                    <a:pt x="253" y="99"/>
                  </a:lnTo>
                  <a:lnTo>
                    <a:pt x="176" y="130"/>
                  </a:lnTo>
                  <a:lnTo>
                    <a:pt x="126" y="147"/>
                  </a:lnTo>
                  <a:lnTo>
                    <a:pt x="82" y="1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81280" y="3660840"/>
              <a:ext cx="650880" cy="1409760"/>
            </a:xfrm>
            <a:custGeom>
              <a:avLst/>
              <a:gdLst/>
              <a:ahLst/>
              <a:rect l="l" t="t" r="r" b="b"/>
              <a:pathLst>
                <a:path w="819" h="1774">
                  <a:moveTo>
                    <a:pt x="696" y="1605"/>
                  </a:moveTo>
                  <a:lnTo>
                    <a:pt x="661" y="1645"/>
                  </a:lnTo>
                  <a:lnTo>
                    <a:pt x="606" y="1659"/>
                  </a:lnTo>
                  <a:lnTo>
                    <a:pt x="534" y="1666"/>
                  </a:lnTo>
                  <a:lnTo>
                    <a:pt x="458" y="1683"/>
                  </a:lnTo>
                  <a:lnTo>
                    <a:pt x="408" y="1714"/>
                  </a:lnTo>
                  <a:lnTo>
                    <a:pt x="392" y="1731"/>
                  </a:lnTo>
                  <a:lnTo>
                    <a:pt x="376" y="1723"/>
                  </a:lnTo>
                  <a:lnTo>
                    <a:pt x="285" y="1653"/>
                  </a:lnTo>
                  <a:lnTo>
                    <a:pt x="166" y="1557"/>
                  </a:lnTo>
                  <a:lnTo>
                    <a:pt x="126" y="1497"/>
                  </a:lnTo>
                  <a:lnTo>
                    <a:pt x="66" y="1435"/>
                  </a:lnTo>
                  <a:lnTo>
                    <a:pt x="47" y="1387"/>
                  </a:lnTo>
                  <a:lnTo>
                    <a:pt x="0" y="1380"/>
                  </a:lnTo>
                  <a:lnTo>
                    <a:pt x="23" y="1432"/>
                  </a:lnTo>
                  <a:lnTo>
                    <a:pt x="50" y="1483"/>
                  </a:lnTo>
                  <a:lnTo>
                    <a:pt x="126" y="1540"/>
                  </a:lnTo>
                  <a:lnTo>
                    <a:pt x="179" y="1611"/>
                  </a:lnTo>
                  <a:lnTo>
                    <a:pt x="308" y="1693"/>
                  </a:lnTo>
                  <a:lnTo>
                    <a:pt x="387" y="1774"/>
                  </a:lnTo>
                  <a:lnTo>
                    <a:pt x="418" y="1767"/>
                  </a:lnTo>
                  <a:lnTo>
                    <a:pt x="451" y="1726"/>
                  </a:lnTo>
                  <a:lnTo>
                    <a:pt x="495" y="1702"/>
                  </a:lnTo>
                  <a:lnTo>
                    <a:pt x="551" y="1686"/>
                  </a:lnTo>
                  <a:lnTo>
                    <a:pt x="670" y="1675"/>
                  </a:lnTo>
                  <a:lnTo>
                    <a:pt x="703" y="1653"/>
                  </a:lnTo>
                  <a:lnTo>
                    <a:pt x="764" y="1638"/>
                  </a:lnTo>
                  <a:lnTo>
                    <a:pt x="774" y="1611"/>
                  </a:lnTo>
                  <a:lnTo>
                    <a:pt x="756" y="1578"/>
                  </a:lnTo>
                  <a:lnTo>
                    <a:pt x="734" y="1546"/>
                  </a:lnTo>
                  <a:lnTo>
                    <a:pt x="747" y="1506"/>
                  </a:lnTo>
                  <a:lnTo>
                    <a:pt x="764" y="1483"/>
                  </a:lnTo>
                  <a:lnTo>
                    <a:pt x="764" y="1449"/>
                  </a:lnTo>
                  <a:lnTo>
                    <a:pt x="747" y="1395"/>
                  </a:lnTo>
                  <a:lnTo>
                    <a:pt x="740" y="1368"/>
                  </a:lnTo>
                  <a:lnTo>
                    <a:pt x="719" y="1344"/>
                  </a:lnTo>
                  <a:lnTo>
                    <a:pt x="709" y="1316"/>
                  </a:lnTo>
                  <a:lnTo>
                    <a:pt x="719" y="1289"/>
                  </a:lnTo>
                  <a:lnTo>
                    <a:pt x="743" y="1266"/>
                  </a:lnTo>
                  <a:lnTo>
                    <a:pt x="740" y="1232"/>
                  </a:lnTo>
                  <a:lnTo>
                    <a:pt x="727" y="1208"/>
                  </a:lnTo>
                  <a:lnTo>
                    <a:pt x="700" y="1170"/>
                  </a:lnTo>
                  <a:lnTo>
                    <a:pt x="684" y="1151"/>
                  </a:lnTo>
                  <a:lnTo>
                    <a:pt x="693" y="1122"/>
                  </a:lnTo>
                  <a:lnTo>
                    <a:pt x="733" y="1098"/>
                  </a:lnTo>
                  <a:lnTo>
                    <a:pt x="747" y="1065"/>
                  </a:lnTo>
                  <a:lnTo>
                    <a:pt x="743" y="1038"/>
                  </a:lnTo>
                  <a:lnTo>
                    <a:pt x="717" y="993"/>
                  </a:lnTo>
                  <a:lnTo>
                    <a:pt x="687" y="936"/>
                  </a:lnTo>
                  <a:lnTo>
                    <a:pt x="677" y="896"/>
                  </a:lnTo>
                  <a:lnTo>
                    <a:pt x="693" y="879"/>
                  </a:lnTo>
                  <a:lnTo>
                    <a:pt x="734" y="864"/>
                  </a:lnTo>
                  <a:lnTo>
                    <a:pt x="759" y="848"/>
                  </a:lnTo>
                  <a:lnTo>
                    <a:pt x="764" y="797"/>
                  </a:lnTo>
                  <a:lnTo>
                    <a:pt x="734" y="740"/>
                  </a:lnTo>
                  <a:lnTo>
                    <a:pt x="740" y="703"/>
                  </a:lnTo>
                  <a:lnTo>
                    <a:pt x="750" y="668"/>
                  </a:lnTo>
                  <a:lnTo>
                    <a:pt x="724" y="628"/>
                  </a:lnTo>
                  <a:lnTo>
                    <a:pt x="700" y="590"/>
                  </a:lnTo>
                  <a:lnTo>
                    <a:pt x="709" y="566"/>
                  </a:lnTo>
                  <a:lnTo>
                    <a:pt x="724" y="542"/>
                  </a:lnTo>
                  <a:lnTo>
                    <a:pt x="724" y="502"/>
                  </a:lnTo>
                  <a:lnTo>
                    <a:pt x="709" y="478"/>
                  </a:lnTo>
                  <a:lnTo>
                    <a:pt x="693" y="458"/>
                  </a:lnTo>
                  <a:lnTo>
                    <a:pt x="696" y="428"/>
                  </a:lnTo>
                  <a:lnTo>
                    <a:pt x="724" y="413"/>
                  </a:lnTo>
                  <a:lnTo>
                    <a:pt x="740" y="397"/>
                  </a:lnTo>
                  <a:lnTo>
                    <a:pt x="733" y="365"/>
                  </a:lnTo>
                  <a:lnTo>
                    <a:pt x="700" y="325"/>
                  </a:lnTo>
                  <a:lnTo>
                    <a:pt x="687" y="289"/>
                  </a:lnTo>
                  <a:lnTo>
                    <a:pt x="684" y="249"/>
                  </a:lnTo>
                  <a:lnTo>
                    <a:pt x="711" y="210"/>
                  </a:lnTo>
                  <a:lnTo>
                    <a:pt x="766" y="147"/>
                  </a:lnTo>
                  <a:lnTo>
                    <a:pt x="796" y="99"/>
                  </a:lnTo>
                  <a:lnTo>
                    <a:pt x="819" y="58"/>
                  </a:lnTo>
                  <a:lnTo>
                    <a:pt x="812" y="18"/>
                  </a:lnTo>
                  <a:lnTo>
                    <a:pt x="790" y="0"/>
                  </a:lnTo>
                  <a:lnTo>
                    <a:pt x="774" y="3"/>
                  </a:lnTo>
                  <a:lnTo>
                    <a:pt x="747" y="34"/>
                  </a:lnTo>
                  <a:lnTo>
                    <a:pt x="766" y="58"/>
                  </a:lnTo>
                  <a:lnTo>
                    <a:pt x="764" y="99"/>
                  </a:lnTo>
                  <a:lnTo>
                    <a:pt x="727" y="169"/>
                  </a:lnTo>
                  <a:lnTo>
                    <a:pt x="680" y="210"/>
                  </a:lnTo>
                  <a:lnTo>
                    <a:pt x="664" y="234"/>
                  </a:lnTo>
                  <a:lnTo>
                    <a:pt x="653" y="265"/>
                  </a:lnTo>
                  <a:lnTo>
                    <a:pt x="647" y="285"/>
                  </a:lnTo>
                  <a:lnTo>
                    <a:pt x="577" y="340"/>
                  </a:lnTo>
                  <a:lnTo>
                    <a:pt x="514" y="377"/>
                  </a:lnTo>
                  <a:lnTo>
                    <a:pt x="505" y="404"/>
                  </a:lnTo>
                  <a:lnTo>
                    <a:pt x="527" y="410"/>
                  </a:lnTo>
                  <a:lnTo>
                    <a:pt x="621" y="340"/>
                  </a:lnTo>
                  <a:lnTo>
                    <a:pt x="670" y="325"/>
                  </a:lnTo>
                  <a:lnTo>
                    <a:pt x="693" y="370"/>
                  </a:lnTo>
                  <a:lnTo>
                    <a:pt x="700" y="389"/>
                  </a:lnTo>
                  <a:lnTo>
                    <a:pt x="677" y="410"/>
                  </a:lnTo>
                  <a:lnTo>
                    <a:pt x="656" y="427"/>
                  </a:lnTo>
                  <a:lnTo>
                    <a:pt x="653" y="454"/>
                  </a:lnTo>
                  <a:lnTo>
                    <a:pt x="661" y="482"/>
                  </a:lnTo>
                  <a:lnTo>
                    <a:pt x="640" y="506"/>
                  </a:lnTo>
                  <a:lnTo>
                    <a:pt x="581" y="533"/>
                  </a:lnTo>
                  <a:lnTo>
                    <a:pt x="495" y="571"/>
                  </a:lnTo>
                  <a:lnTo>
                    <a:pt x="527" y="583"/>
                  </a:lnTo>
                  <a:lnTo>
                    <a:pt x="617" y="547"/>
                  </a:lnTo>
                  <a:lnTo>
                    <a:pt x="687" y="509"/>
                  </a:lnTo>
                  <a:lnTo>
                    <a:pt x="700" y="518"/>
                  </a:lnTo>
                  <a:lnTo>
                    <a:pt x="693" y="542"/>
                  </a:lnTo>
                  <a:lnTo>
                    <a:pt x="670" y="566"/>
                  </a:lnTo>
                  <a:lnTo>
                    <a:pt x="661" y="590"/>
                  </a:lnTo>
                  <a:lnTo>
                    <a:pt x="671" y="622"/>
                  </a:lnTo>
                  <a:lnTo>
                    <a:pt x="700" y="647"/>
                  </a:lnTo>
                  <a:lnTo>
                    <a:pt x="700" y="668"/>
                  </a:lnTo>
                  <a:lnTo>
                    <a:pt x="653" y="679"/>
                  </a:lnTo>
                  <a:lnTo>
                    <a:pt x="614" y="733"/>
                  </a:lnTo>
                  <a:lnTo>
                    <a:pt x="567" y="764"/>
                  </a:lnTo>
                  <a:lnTo>
                    <a:pt x="504" y="781"/>
                  </a:lnTo>
                  <a:lnTo>
                    <a:pt x="498" y="797"/>
                  </a:lnTo>
                  <a:lnTo>
                    <a:pt x="537" y="791"/>
                  </a:lnTo>
                  <a:lnTo>
                    <a:pt x="621" y="764"/>
                  </a:lnTo>
                  <a:lnTo>
                    <a:pt x="653" y="740"/>
                  </a:lnTo>
                  <a:lnTo>
                    <a:pt x="671" y="716"/>
                  </a:lnTo>
                  <a:lnTo>
                    <a:pt x="700" y="712"/>
                  </a:lnTo>
                  <a:lnTo>
                    <a:pt x="700" y="740"/>
                  </a:lnTo>
                  <a:lnTo>
                    <a:pt x="719" y="767"/>
                  </a:lnTo>
                  <a:lnTo>
                    <a:pt x="734" y="797"/>
                  </a:lnTo>
                  <a:lnTo>
                    <a:pt x="724" y="821"/>
                  </a:lnTo>
                  <a:lnTo>
                    <a:pt x="687" y="838"/>
                  </a:lnTo>
                  <a:lnTo>
                    <a:pt x="653" y="848"/>
                  </a:lnTo>
                  <a:lnTo>
                    <a:pt x="630" y="872"/>
                  </a:lnTo>
                  <a:lnTo>
                    <a:pt x="521" y="905"/>
                  </a:lnTo>
                  <a:lnTo>
                    <a:pt x="442" y="933"/>
                  </a:lnTo>
                  <a:lnTo>
                    <a:pt x="411" y="950"/>
                  </a:lnTo>
                  <a:lnTo>
                    <a:pt x="434" y="969"/>
                  </a:lnTo>
                  <a:lnTo>
                    <a:pt x="481" y="957"/>
                  </a:lnTo>
                  <a:lnTo>
                    <a:pt x="577" y="920"/>
                  </a:lnTo>
                  <a:lnTo>
                    <a:pt x="640" y="902"/>
                  </a:lnTo>
                  <a:lnTo>
                    <a:pt x="656" y="929"/>
                  </a:lnTo>
                  <a:lnTo>
                    <a:pt x="671" y="977"/>
                  </a:lnTo>
                  <a:lnTo>
                    <a:pt x="700" y="1017"/>
                  </a:lnTo>
                  <a:lnTo>
                    <a:pt x="703" y="1049"/>
                  </a:lnTo>
                  <a:lnTo>
                    <a:pt x="700" y="1079"/>
                  </a:lnTo>
                  <a:lnTo>
                    <a:pt x="670" y="1089"/>
                  </a:lnTo>
                  <a:lnTo>
                    <a:pt x="614" y="1103"/>
                  </a:lnTo>
                  <a:lnTo>
                    <a:pt x="543" y="1136"/>
                  </a:lnTo>
                  <a:lnTo>
                    <a:pt x="440" y="1151"/>
                  </a:lnTo>
                  <a:lnTo>
                    <a:pt x="401" y="1170"/>
                  </a:lnTo>
                  <a:lnTo>
                    <a:pt x="427" y="1184"/>
                  </a:lnTo>
                  <a:lnTo>
                    <a:pt x="518" y="1170"/>
                  </a:lnTo>
                  <a:lnTo>
                    <a:pt x="581" y="1146"/>
                  </a:lnTo>
                  <a:lnTo>
                    <a:pt x="624" y="1130"/>
                  </a:lnTo>
                  <a:lnTo>
                    <a:pt x="661" y="1122"/>
                  </a:lnTo>
                  <a:lnTo>
                    <a:pt x="656" y="1151"/>
                  </a:lnTo>
                  <a:lnTo>
                    <a:pt x="671" y="1191"/>
                  </a:lnTo>
                  <a:lnTo>
                    <a:pt x="696" y="1215"/>
                  </a:lnTo>
                  <a:lnTo>
                    <a:pt x="700" y="1242"/>
                  </a:lnTo>
                  <a:lnTo>
                    <a:pt x="700" y="1266"/>
                  </a:lnTo>
                  <a:lnTo>
                    <a:pt x="670" y="1280"/>
                  </a:lnTo>
                  <a:lnTo>
                    <a:pt x="608" y="1283"/>
                  </a:lnTo>
                  <a:lnTo>
                    <a:pt x="567" y="1296"/>
                  </a:lnTo>
                  <a:lnTo>
                    <a:pt x="471" y="1329"/>
                  </a:lnTo>
                  <a:lnTo>
                    <a:pt x="418" y="1331"/>
                  </a:lnTo>
                  <a:lnTo>
                    <a:pt x="401" y="1355"/>
                  </a:lnTo>
                  <a:lnTo>
                    <a:pt x="424" y="1364"/>
                  </a:lnTo>
                  <a:lnTo>
                    <a:pt x="471" y="1353"/>
                  </a:lnTo>
                  <a:lnTo>
                    <a:pt x="543" y="1331"/>
                  </a:lnTo>
                  <a:lnTo>
                    <a:pt x="581" y="1316"/>
                  </a:lnTo>
                  <a:lnTo>
                    <a:pt x="633" y="1304"/>
                  </a:lnTo>
                  <a:lnTo>
                    <a:pt x="671" y="1307"/>
                  </a:lnTo>
                  <a:lnTo>
                    <a:pt x="684" y="1307"/>
                  </a:lnTo>
                  <a:lnTo>
                    <a:pt x="684" y="1344"/>
                  </a:lnTo>
                  <a:lnTo>
                    <a:pt x="696" y="1364"/>
                  </a:lnTo>
                  <a:lnTo>
                    <a:pt x="624" y="1380"/>
                  </a:lnTo>
                  <a:lnTo>
                    <a:pt x="561" y="1428"/>
                  </a:lnTo>
                  <a:lnTo>
                    <a:pt x="490" y="1452"/>
                  </a:lnTo>
                  <a:lnTo>
                    <a:pt x="442" y="1459"/>
                  </a:lnTo>
                  <a:lnTo>
                    <a:pt x="402" y="1482"/>
                  </a:lnTo>
                  <a:lnTo>
                    <a:pt x="418" y="1497"/>
                  </a:lnTo>
                  <a:lnTo>
                    <a:pt x="458" y="1483"/>
                  </a:lnTo>
                  <a:lnTo>
                    <a:pt x="504" y="1468"/>
                  </a:lnTo>
                  <a:lnTo>
                    <a:pt x="553" y="1459"/>
                  </a:lnTo>
                  <a:lnTo>
                    <a:pt x="598" y="1432"/>
                  </a:lnTo>
                  <a:lnTo>
                    <a:pt x="621" y="1408"/>
                  </a:lnTo>
                  <a:lnTo>
                    <a:pt x="653" y="1404"/>
                  </a:lnTo>
                  <a:lnTo>
                    <a:pt x="693" y="1404"/>
                  </a:lnTo>
                  <a:lnTo>
                    <a:pt x="703" y="1408"/>
                  </a:lnTo>
                  <a:lnTo>
                    <a:pt x="717" y="1435"/>
                  </a:lnTo>
                  <a:lnTo>
                    <a:pt x="724" y="1468"/>
                  </a:lnTo>
                  <a:lnTo>
                    <a:pt x="717" y="1497"/>
                  </a:lnTo>
                  <a:lnTo>
                    <a:pt x="700" y="1513"/>
                  </a:lnTo>
                  <a:lnTo>
                    <a:pt x="687" y="1554"/>
                  </a:lnTo>
                  <a:lnTo>
                    <a:pt x="700" y="1570"/>
                  </a:lnTo>
                  <a:lnTo>
                    <a:pt x="717" y="1587"/>
                  </a:lnTo>
                  <a:lnTo>
                    <a:pt x="717" y="1602"/>
                  </a:lnTo>
                  <a:lnTo>
                    <a:pt x="696" y="16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24000" y="4870440"/>
              <a:ext cx="189000" cy="61920"/>
            </a:xfrm>
            <a:custGeom>
              <a:avLst/>
              <a:gdLst/>
              <a:ahLst/>
              <a:rect l="l" t="t" r="r" b="b"/>
              <a:pathLst>
                <a:path w="237" h="80">
                  <a:moveTo>
                    <a:pt x="0" y="65"/>
                  </a:moveTo>
                  <a:lnTo>
                    <a:pt x="94" y="62"/>
                  </a:lnTo>
                  <a:lnTo>
                    <a:pt x="131" y="41"/>
                  </a:lnTo>
                  <a:lnTo>
                    <a:pt x="162" y="17"/>
                  </a:lnTo>
                  <a:lnTo>
                    <a:pt x="220" y="0"/>
                  </a:lnTo>
                  <a:lnTo>
                    <a:pt x="237" y="17"/>
                  </a:lnTo>
                  <a:lnTo>
                    <a:pt x="212" y="24"/>
                  </a:lnTo>
                  <a:lnTo>
                    <a:pt x="170" y="47"/>
                  </a:lnTo>
                  <a:lnTo>
                    <a:pt x="148" y="62"/>
                  </a:lnTo>
                  <a:lnTo>
                    <a:pt x="110" y="72"/>
                  </a:lnTo>
                  <a:lnTo>
                    <a:pt x="51" y="78"/>
                  </a:lnTo>
                  <a:lnTo>
                    <a:pt x="4" y="8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38160" y="3494160"/>
              <a:ext cx="546120" cy="301680"/>
            </a:xfrm>
            <a:custGeom>
              <a:avLst/>
              <a:gdLst/>
              <a:ahLst/>
              <a:rect l="l" t="t" r="r" b="b"/>
              <a:pathLst>
                <a:path w="687" h="381">
                  <a:moveTo>
                    <a:pt x="20" y="44"/>
                  </a:moveTo>
                  <a:lnTo>
                    <a:pt x="102" y="48"/>
                  </a:lnTo>
                  <a:lnTo>
                    <a:pt x="189" y="51"/>
                  </a:lnTo>
                  <a:lnTo>
                    <a:pt x="245" y="51"/>
                  </a:lnTo>
                  <a:lnTo>
                    <a:pt x="289" y="41"/>
                  </a:lnTo>
                  <a:lnTo>
                    <a:pt x="361" y="20"/>
                  </a:lnTo>
                  <a:lnTo>
                    <a:pt x="395" y="0"/>
                  </a:lnTo>
                  <a:lnTo>
                    <a:pt x="442" y="27"/>
                  </a:lnTo>
                  <a:lnTo>
                    <a:pt x="518" y="81"/>
                  </a:lnTo>
                  <a:lnTo>
                    <a:pt x="574" y="120"/>
                  </a:lnTo>
                  <a:lnTo>
                    <a:pt x="645" y="171"/>
                  </a:lnTo>
                  <a:lnTo>
                    <a:pt x="687" y="210"/>
                  </a:lnTo>
                  <a:lnTo>
                    <a:pt x="647" y="245"/>
                  </a:lnTo>
                  <a:lnTo>
                    <a:pt x="608" y="282"/>
                  </a:lnTo>
                  <a:lnTo>
                    <a:pt x="545" y="309"/>
                  </a:lnTo>
                  <a:lnTo>
                    <a:pt x="479" y="338"/>
                  </a:lnTo>
                  <a:lnTo>
                    <a:pt x="418" y="362"/>
                  </a:lnTo>
                  <a:lnTo>
                    <a:pt x="362" y="371"/>
                  </a:lnTo>
                  <a:lnTo>
                    <a:pt x="305" y="381"/>
                  </a:lnTo>
                  <a:lnTo>
                    <a:pt x="233" y="330"/>
                  </a:lnTo>
                  <a:lnTo>
                    <a:pt x="179" y="285"/>
                  </a:lnTo>
                  <a:lnTo>
                    <a:pt x="116" y="228"/>
                  </a:lnTo>
                  <a:lnTo>
                    <a:pt x="63" y="171"/>
                  </a:lnTo>
                  <a:lnTo>
                    <a:pt x="23" y="132"/>
                  </a:lnTo>
                  <a:lnTo>
                    <a:pt x="0" y="75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24120" y="3484440"/>
              <a:ext cx="588960" cy="352440"/>
            </a:xfrm>
            <a:custGeom>
              <a:avLst/>
              <a:gdLst/>
              <a:ahLst/>
              <a:rect l="l" t="t" r="r" b="b"/>
              <a:pathLst>
                <a:path w="742" h="444">
                  <a:moveTo>
                    <a:pt x="363" y="380"/>
                  </a:moveTo>
                  <a:lnTo>
                    <a:pt x="480" y="347"/>
                  </a:lnTo>
                  <a:lnTo>
                    <a:pt x="576" y="305"/>
                  </a:lnTo>
                  <a:lnTo>
                    <a:pt x="643" y="255"/>
                  </a:lnTo>
                  <a:lnTo>
                    <a:pt x="670" y="227"/>
                  </a:lnTo>
                  <a:lnTo>
                    <a:pt x="573" y="135"/>
                  </a:lnTo>
                  <a:lnTo>
                    <a:pt x="494" y="86"/>
                  </a:lnTo>
                  <a:lnTo>
                    <a:pt x="417" y="38"/>
                  </a:lnTo>
                  <a:lnTo>
                    <a:pt x="401" y="38"/>
                  </a:lnTo>
                  <a:lnTo>
                    <a:pt x="354" y="54"/>
                  </a:lnTo>
                  <a:lnTo>
                    <a:pt x="291" y="72"/>
                  </a:lnTo>
                  <a:lnTo>
                    <a:pt x="178" y="81"/>
                  </a:lnTo>
                  <a:lnTo>
                    <a:pt x="68" y="78"/>
                  </a:lnTo>
                  <a:lnTo>
                    <a:pt x="38" y="81"/>
                  </a:lnTo>
                  <a:lnTo>
                    <a:pt x="38" y="102"/>
                  </a:lnTo>
                  <a:lnTo>
                    <a:pt x="62" y="135"/>
                  </a:lnTo>
                  <a:lnTo>
                    <a:pt x="107" y="194"/>
                  </a:lnTo>
                  <a:lnTo>
                    <a:pt x="165" y="242"/>
                  </a:lnTo>
                  <a:lnTo>
                    <a:pt x="236" y="312"/>
                  </a:lnTo>
                  <a:lnTo>
                    <a:pt x="304" y="363"/>
                  </a:lnTo>
                  <a:lnTo>
                    <a:pt x="347" y="393"/>
                  </a:lnTo>
                  <a:lnTo>
                    <a:pt x="360" y="425"/>
                  </a:lnTo>
                  <a:lnTo>
                    <a:pt x="344" y="444"/>
                  </a:lnTo>
                  <a:lnTo>
                    <a:pt x="320" y="434"/>
                  </a:lnTo>
                  <a:lnTo>
                    <a:pt x="251" y="369"/>
                  </a:lnTo>
                  <a:lnTo>
                    <a:pt x="165" y="296"/>
                  </a:lnTo>
                  <a:lnTo>
                    <a:pt x="101" y="242"/>
                  </a:lnTo>
                  <a:lnTo>
                    <a:pt x="60" y="194"/>
                  </a:lnTo>
                  <a:lnTo>
                    <a:pt x="23" y="143"/>
                  </a:lnTo>
                  <a:lnTo>
                    <a:pt x="7" y="110"/>
                  </a:lnTo>
                  <a:lnTo>
                    <a:pt x="0" y="72"/>
                  </a:lnTo>
                  <a:lnTo>
                    <a:pt x="10" y="48"/>
                  </a:lnTo>
                  <a:lnTo>
                    <a:pt x="37" y="38"/>
                  </a:lnTo>
                  <a:lnTo>
                    <a:pt x="84" y="41"/>
                  </a:lnTo>
                  <a:lnTo>
                    <a:pt x="173" y="54"/>
                  </a:lnTo>
                  <a:lnTo>
                    <a:pt x="250" y="54"/>
                  </a:lnTo>
                  <a:lnTo>
                    <a:pt x="304" y="38"/>
                  </a:lnTo>
                  <a:lnTo>
                    <a:pt x="367" y="24"/>
                  </a:lnTo>
                  <a:lnTo>
                    <a:pt x="394" y="0"/>
                  </a:lnTo>
                  <a:lnTo>
                    <a:pt x="423" y="0"/>
                  </a:lnTo>
                  <a:lnTo>
                    <a:pt x="489" y="41"/>
                  </a:lnTo>
                  <a:lnTo>
                    <a:pt x="560" y="96"/>
                  </a:lnTo>
                  <a:lnTo>
                    <a:pt x="636" y="146"/>
                  </a:lnTo>
                  <a:lnTo>
                    <a:pt x="679" y="177"/>
                  </a:lnTo>
                  <a:lnTo>
                    <a:pt x="723" y="207"/>
                  </a:lnTo>
                  <a:lnTo>
                    <a:pt x="742" y="218"/>
                  </a:lnTo>
                  <a:lnTo>
                    <a:pt x="730" y="240"/>
                  </a:lnTo>
                  <a:lnTo>
                    <a:pt x="699" y="258"/>
                  </a:lnTo>
                  <a:lnTo>
                    <a:pt x="663" y="291"/>
                  </a:lnTo>
                  <a:lnTo>
                    <a:pt x="627" y="305"/>
                  </a:lnTo>
                  <a:lnTo>
                    <a:pt x="566" y="332"/>
                  </a:lnTo>
                  <a:lnTo>
                    <a:pt x="520" y="353"/>
                  </a:lnTo>
                  <a:lnTo>
                    <a:pt x="470" y="384"/>
                  </a:lnTo>
                  <a:lnTo>
                    <a:pt x="417" y="393"/>
                  </a:lnTo>
                  <a:lnTo>
                    <a:pt x="376" y="396"/>
                  </a:lnTo>
                  <a:lnTo>
                    <a:pt x="363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57480" y="3751200"/>
              <a:ext cx="187200" cy="120600"/>
            </a:xfrm>
            <a:custGeom>
              <a:avLst/>
              <a:gdLst/>
              <a:ahLst/>
              <a:rect l="l" t="t" r="r" b="b"/>
              <a:pathLst>
                <a:path w="235" h="153">
                  <a:moveTo>
                    <a:pt x="198" y="18"/>
                  </a:moveTo>
                  <a:lnTo>
                    <a:pt x="149" y="59"/>
                  </a:lnTo>
                  <a:lnTo>
                    <a:pt x="103" y="96"/>
                  </a:lnTo>
                  <a:lnTo>
                    <a:pt x="37" y="120"/>
                  </a:lnTo>
                  <a:lnTo>
                    <a:pt x="0" y="132"/>
                  </a:lnTo>
                  <a:lnTo>
                    <a:pt x="30" y="153"/>
                  </a:lnTo>
                  <a:lnTo>
                    <a:pt x="77" y="146"/>
                  </a:lnTo>
                  <a:lnTo>
                    <a:pt x="150" y="96"/>
                  </a:lnTo>
                  <a:lnTo>
                    <a:pt x="235" y="0"/>
                  </a:lnTo>
                  <a:lnTo>
                    <a:pt x="1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78000" y="3803760"/>
            <a:ext cx="687240" cy="1585800"/>
            <a:chOff x="378000" y="3803760"/>
            <a:chExt cx="687240" cy="1585800"/>
          </a:xfrm>
        </p:grpSpPr>
        <p:sp>
          <p:nvSpPr>
            <p:cNvPr id="557" name=""/>
            <p:cNvSpPr/>
            <p:nvPr/>
          </p:nvSpPr>
          <p:spPr>
            <a:xfrm>
              <a:off x="390600" y="3875040"/>
              <a:ext cx="361800" cy="1494000"/>
            </a:xfrm>
            <a:custGeom>
              <a:avLst/>
              <a:gdLst/>
              <a:ahLst/>
              <a:rect l="l" t="t" r="r" b="b"/>
              <a:pathLst>
                <a:path w="456" h="1882">
                  <a:moveTo>
                    <a:pt x="449" y="339"/>
                  </a:moveTo>
                  <a:lnTo>
                    <a:pt x="456" y="408"/>
                  </a:lnTo>
                  <a:lnTo>
                    <a:pt x="456" y="781"/>
                  </a:lnTo>
                  <a:lnTo>
                    <a:pt x="424" y="1281"/>
                  </a:lnTo>
                  <a:lnTo>
                    <a:pt x="426" y="1601"/>
                  </a:lnTo>
                  <a:lnTo>
                    <a:pt x="443" y="1821"/>
                  </a:lnTo>
                  <a:lnTo>
                    <a:pt x="426" y="1882"/>
                  </a:lnTo>
                  <a:lnTo>
                    <a:pt x="400" y="1869"/>
                  </a:lnTo>
                  <a:lnTo>
                    <a:pt x="246" y="1747"/>
                  </a:lnTo>
                  <a:lnTo>
                    <a:pt x="206" y="1723"/>
                  </a:lnTo>
                  <a:lnTo>
                    <a:pt x="183" y="1689"/>
                  </a:lnTo>
                  <a:lnTo>
                    <a:pt x="143" y="1642"/>
                  </a:lnTo>
                  <a:lnTo>
                    <a:pt x="90" y="1595"/>
                  </a:lnTo>
                  <a:lnTo>
                    <a:pt x="64" y="1530"/>
                  </a:lnTo>
                  <a:lnTo>
                    <a:pt x="0" y="1475"/>
                  </a:lnTo>
                  <a:lnTo>
                    <a:pt x="0" y="1442"/>
                  </a:lnTo>
                  <a:lnTo>
                    <a:pt x="34" y="1398"/>
                  </a:lnTo>
                  <a:lnTo>
                    <a:pt x="47" y="1343"/>
                  </a:lnTo>
                  <a:lnTo>
                    <a:pt x="40" y="1313"/>
                  </a:lnTo>
                  <a:lnTo>
                    <a:pt x="24" y="1265"/>
                  </a:lnTo>
                  <a:lnTo>
                    <a:pt x="18" y="1230"/>
                  </a:lnTo>
                  <a:lnTo>
                    <a:pt x="43" y="1176"/>
                  </a:lnTo>
                  <a:lnTo>
                    <a:pt x="43" y="1140"/>
                  </a:lnTo>
                  <a:lnTo>
                    <a:pt x="17" y="1069"/>
                  </a:lnTo>
                  <a:lnTo>
                    <a:pt x="17" y="1028"/>
                  </a:lnTo>
                  <a:lnTo>
                    <a:pt x="31" y="997"/>
                  </a:lnTo>
                  <a:lnTo>
                    <a:pt x="58" y="959"/>
                  </a:lnTo>
                  <a:lnTo>
                    <a:pt x="56" y="895"/>
                  </a:lnTo>
                  <a:lnTo>
                    <a:pt x="40" y="842"/>
                  </a:lnTo>
                  <a:lnTo>
                    <a:pt x="56" y="781"/>
                  </a:lnTo>
                  <a:lnTo>
                    <a:pt x="71" y="766"/>
                  </a:lnTo>
                  <a:lnTo>
                    <a:pt x="58" y="709"/>
                  </a:lnTo>
                  <a:lnTo>
                    <a:pt x="24" y="649"/>
                  </a:lnTo>
                  <a:lnTo>
                    <a:pt x="17" y="610"/>
                  </a:lnTo>
                  <a:lnTo>
                    <a:pt x="24" y="572"/>
                  </a:lnTo>
                  <a:lnTo>
                    <a:pt x="67" y="540"/>
                  </a:lnTo>
                  <a:lnTo>
                    <a:pt x="64" y="513"/>
                  </a:lnTo>
                  <a:lnTo>
                    <a:pt x="18" y="427"/>
                  </a:lnTo>
                  <a:lnTo>
                    <a:pt x="3" y="360"/>
                  </a:lnTo>
                  <a:lnTo>
                    <a:pt x="17" y="322"/>
                  </a:lnTo>
                  <a:lnTo>
                    <a:pt x="58" y="288"/>
                  </a:lnTo>
                  <a:lnTo>
                    <a:pt x="47" y="258"/>
                  </a:lnTo>
                  <a:lnTo>
                    <a:pt x="18" y="223"/>
                  </a:lnTo>
                  <a:lnTo>
                    <a:pt x="18" y="186"/>
                  </a:lnTo>
                  <a:lnTo>
                    <a:pt x="67" y="160"/>
                  </a:lnTo>
                  <a:lnTo>
                    <a:pt x="87" y="133"/>
                  </a:lnTo>
                  <a:lnTo>
                    <a:pt x="47" y="78"/>
                  </a:lnTo>
                  <a:lnTo>
                    <a:pt x="47" y="48"/>
                  </a:lnTo>
                  <a:lnTo>
                    <a:pt x="94" y="30"/>
                  </a:lnTo>
                  <a:lnTo>
                    <a:pt x="97" y="0"/>
                  </a:lnTo>
                  <a:lnTo>
                    <a:pt x="150" y="78"/>
                  </a:lnTo>
                  <a:lnTo>
                    <a:pt x="213" y="159"/>
                  </a:lnTo>
                  <a:lnTo>
                    <a:pt x="293" y="223"/>
                  </a:lnTo>
                  <a:lnTo>
                    <a:pt x="356" y="274"/>
                  </a:lnTo>
                  <a:lnTo>
                    <a:pt x="424" y="315"/>
                  </a:lnTo>
                  <a:lnTo>
                    <a:pt x="449" y="3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8000" y="3897360"/>
              <a:ext cx="104760" cy="1138320"/>
            </a:xfrm>
            <a:custGeom>
              <a:avLst/>
              <a:gdLst/>
              <a:ahLst/>
              <a:rect l="l" t="t" r="r" b="b"/>
              <a:pathLst>
                <a:path w="131" h="1434">
                  <a:moveTo>
                    <a:pt x="65" y="0"/>
                  </a:moveTo>
                  <a:lnTo>
                    <a:pt x="88" y="47"/>
                  </a:lnTo>
                  <a:lnTo>
                    <a:pt x="109" y="79"/>
                  </a:lnTo>
                  <a:lnTo>
                    <a:pt x="131" y="98"/>
                  </a:lnTo>
                  <a:lnTo>
                    <a:pt x="125" y="122"/>
                  </a:lnTo>
                  <a:lnTo>
                    <a:pt x="105" y="139"/>
                  </a:lnTo>
                  <a:lnTo>
                    <a:pt x="72" y="146"/>
                  </a:lnTo>
                  <a:lnTo>
                    <a:pt x="49" y="167"/>
                  </a:lnTo>
                  <a:lnTo>
                    <a:pt x="55" y="193"/>
                  </a:lnTo>
                  <a:lnTo>
                    <a:pt x="71" y="208"/>
                  </a:lnTo>
                  <a:lnTo>
                    <a:pt x="96" y="241"/>
                  </a:lnTo>
                  <a:lnTo>
                    <a:pt x="96" y="259"/>
                  </a:lnTo>
                  <a:lnTo>
                    <a:pt x="88" y="275"/>
                  </a:lnTo>
                  <a:lnTo>
                    <a:pt x="65" y="292"/>
                  </a:lnTo>
                  <a:lnTo>
                    <a:pt x="41" y="308"/>
                  </a:lnTo>
                  <a:lnTo>
                    <a:pt x="38" y="332"/>
                  </a:lnTo>
                  <a:lnTo>
                    <a:pt x="47" y="356"/>
                  </a:lnTo>
                  <a:lnTo>
                    <a:pt x="65" y="404"/>
                  </a:lnTo>
                  <a:lnTo>
                    <a:pt x="81" y="442"/>
                  </a:lnTo>
                  <a:lnTo>
                    <a:pt x="96" y="469"/>
                  </a:lnTo>
                  <a:lnTo>
                    <a:pt x="96" y="499"/>
                  </a:lnTo>
                  <a:lnTo>
                    <a:pt x="88" y="526"/>
                  </a:lnTo>
                  <a:lnTo>
                    <a:pt x="65" y="549"/>
                  </a:lnTo>
                  <a:lnTo>
                    <a:pt x="49" y="573"/>
                  </a:lnTo>
                  <a:lnTo>
                    <a:pt x="55" y="614"/>
                  </a:lnTo>
                  <a:lnTo>
                    <a:pt x="94" y="675"/>
                  </a:lnTo>
                  <a:lnTo>
                    <a:pt x="109" y="708"/>
                  </a:lnTo>
                  <a:lnTo>
                    <a:pt x="112" y="740"/>
                  </a:lnTo>
                  <a:lnTo>
                    <a:pt x="96" y="764"/>
                  </a:lnTo>
                  <a:lnTo>
                    <a:pt x="78" y="788"/>
                  </a:lnTo>
                  <a:lnTo>
                    <a:pt x="72" y="821"/>
                  </a:lnTo>
                  <a:lnTo>
                    <a:pt x="85" y="861"/>
                  </a:lnTo>
                  <a:lnTo>
                    <a:pt x="102" y="903"/>
                  </a:lnTo>
                  <a:lnTo>
                    <a:pt x="109" y="933"/>
                  </a:lnTo>
                  <a:lnTo>
                    <a:pt x="102" y="953"/>
                  </a:lnTo>
                  <a:lnTo>
                    <a:pt x="81" y="974"/>
                  </a:lnTo>
                  <a:lnTo>
                    <a:pt x="55" y="998"/>
                  </a:lnTo>
                  <a:lnTo>
                    <a:pt x="41" y="1022"/>
                  </a:lnTo>
                  <a:lnTo>
                    <a:pt x="55" y="1065"/>
                  </a:lnTo>
                  <a:lnTo>
                    <a:pt x="81" y="1110"/>
                  </a:lnTo>
                  <a:lnTo>
                    <a:pt x="94" y="1143"/>
                  </a:lnTo>
                  <a:lnTo>
                    <a:pt x="96" y="1170"/>
                  </a:lnTo>
                  <a:lnTo>
                    <a:pt x="88" y="1183"/>
                  </a:lnTo>
                  <a:lnTo>
                    <a:pt x="62" y="1183"/>
                  </a:lnTo>
                  <a:lnTo>
                    <a:pt x="55" y="1242"/>
                  </a:lnTo>
                  <a:lnTo>
                    <a:pt x="71" y="1279"/>
                  </a:lnTo>
                  <a:lnTo>
                    <a:pt x="85" y="1306"/>
                  </a:lnTo>
                  <a:lnTo>
                    <a:pt x="88" y="1330"/>
                  </a:lnTo>
                  <a:lnTo>
                    <a:pt x="88" y="1353"/>
                  </a:lnTo>
                  <a:lnTo>
                    <a:pt x="62" y="1387"/>
                  </a:lnTo>
                  <a:lnTo>
                    <a:pt x="25" y="1434"/>
                  </a:lnTo>
                  <a:lnTo>
                    <a:pt x="2" y="1417"/>
                  </a:lnTo>
                  <a:lnTo>
                    <a:pt x="11" y="1380"/>
                  </a:lnTo>
                  <a:lnTo>
                    <a:pt x="47" y="1320"/>
                  </a:lnTo>
                  <a:lnTo>
                    <a:pt x="41" y="1282"/>
                  </a:lnTo>
                  <a:lnTo>
                    <a:pt x="25" y="1239"/>
                  </a:lnTo>
                  <a:lnTo>
                    <a:pt x="15" y="1201"/>
                  </a:lnTo>
                  <a:lnTo>
                    <a:pt x="31" y="1170"/>
                  </a:lnTo>
                  <a:lnTo>
                    <a:pt x="47" y="1159"/>
                  </a:lnTo>
                  <a:lnTo>
                    <a:pt x="49" y="1135"/>
                  </a:lnTo>
                  <a:lnTo>
                    <a:pt x="31" y="1089"/>
                  </a:lnTo>
                  <a:lnTo>
                    <a:pt x="11" y="1049"/>
                  </a:lnTo>
                  <a:lnTo>
                    <a:pt x="0" y="1008"/>
                  </a:lnTo>
                  <a:lnTo>
                    <a:pt x="11" y="960"/>
                  </a:lnTo>
                  <a:lnTo>
                    <a:pt x="47" y="942"/>
                  </a:lnTo>
                  <a:lnTo>
                    <a:pt x="58" y="920"/>
                  </a:lnTo>
                  <a:lnTo>
                    <a:pt x="55" y="888"/>
                  </a:lnTo>
                  <a:lnTo>
                    <a:pt x="47" y="855"/>
                  </a:lnTo>
                  <a:lnTo>
                    <a:pt x="34" y="813"/>
                  </a:lnTo>
                  <a:lnTo>
                    <a:pt x="34" y="780"/>
                  </a:lnTo>
                  <a:lnTo>
                    <a:pt x="49" y="759"/>
                  </a:lnTo>
                  <a:lnTo>
                    <a:pt x="71" y="732"/>
                  </a:lnTo>
                  <a:lnTo>
                    <a:pt x="71" y="716"/>
                  </a:lnTo>
                  <a:lnTo>
                    <a:pt x="55" y="678"/>
                  </a:lnTo>
                  <a:lnTo>
                    <a:pt x="24" y="630"/>
                  </a:lnTo>
                  <a:lnTo>
                    <a:pt x="11" y="594"/>
                  </a:lnTo>
                  <a:lnTo>
                    <a:pt x="11" y="566"/>
                  </a:lnTo>
                  <a:lnTo>
                    <a:pt x="18" y="539"/>
                  </a:lnTo>
                  <a:lnTo>
                    <a:pt x="38" y="517"/>
                  </a:lnTo>
                  <a:lnTo>
                    <a:pt x="58" y="493"/>
                  </a:lnTo>
                  <a:lnTo>
                    <a:pt x="58" y="475"/>
                  </a:lnTo>
                  <a:lnTo>
                    <a:pt x="15" y="386"/>
                  </a:lnTo>
                  <a:lnTo>
                    <a:pt x="8" y="353"/>
                  </a:lnTo>
                  <a:lnTo>
                    <a:pt x="0" y="323"/>
                  </a:lnTo>
                  <a:lnTo>
                    <a:pt x="15" y="296"/>
                  </a:lnTo>
                  <a:lnTo>
                    <a:pt x="34" y="275"/>
                  </a:lnTo>
                  <a:lnTo>
                    <a:pt x="49" y="259"/>
                  </a:lnTo>
                  <a:lnTo>
                    <a:pt x="49" y="244"/>
                  </a:lnTo>
                  <a:lnTo>
                    <a:pt x="34" y="218"/>
                  </a:lnTo>
                  <a:lnTo>
                    <a:pt x="11" y="193"/>
                  </a:lnTo>
                  <a:lnTo>
                    <a:pt x="11" y="167"/>
                  </a:lnTo>
                  <a:lnTo>
                    <a:pt x="25" y="143"/>
                  </a:lnTo>
                  <a:lnTo>
                    <a:pt x="49" y="122"/>
                  </a:lnTo>
                  <a:lnTo>
                    <a:pt x="71" y="112"/>
                  </a:lnTo>
                  <a:lnTo>
                    <a:pt x="81" y="95"/>
                  </a:lnTo>
                  <a:lnTo>
                    <a:pt x="72" y="74"/>
                  </a:lnTo>
                  <a:lnTo>
                    <a:pt x="58" y="50"/>
                  </a:lnTo>
                  <a:lnTo>
                    <a:pt x="49" y="2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8800" y="4173480"/>
              <a:ext cx="100080" cy="920880"/>
            </a:xfrm>
            <a:custGeom>
              <a:avLst/>
              <a:gdLst/>
              <a:ahLst/>
              <a:rect l="l" t="t" r="r" b="b"/>
              <a:pathLst>
                <a:path w="125" h="1160">
                  <a:moveTo>
                    <a:pt x="97" y="0"/>
                  </a:moveTo>
                  <a:lnTo>
                    <a:pt x="112" y="31"/>
                  </a:lnTo>
                  <a:lnTo>
                    <a:pt x="125" y="88"/>
                  </a:lnTo>
                  <a:lnTo>
                    <a:pt x="118" y="112"/>
                  </a:lnTo>
                  <a:lnTo>
                    <a:pt x="86" y="129"/>
                  </a:lnTo>
                  <a:lnTo>
                    <a:pt x="65" y="145"/>
                  </a:lnTo>
                  <a:lnTo>
                    <a:pt x="65" y="190"/>
                  </a:lnTo>
                  <a:lnTo>
                    <a:pt x="81" y="233"/>
                  </a:lnTo>
                  <a:lnTo>
                    <a:pt x="102" y="263"/>
                  </a:lnTo>
                  <a:lnTo>
                    <a:pt x="105" y="319"/>
                  </a:lnTo>
                  <a:lnTo>
                    <a:pt x="94" y="338"/>
                  </a:lnTo>
                  <a:lnTo>
                    <a:pt x="72" y="362"/>
                  </a:lnTo>
                  <a:lnTo>
                    <a:pt x="69" y="400"/>
                  </a:lnTo>
                  <a:lnTo>
                    <a:pt x="81" y="434"/>
                  </a:lnTo>
                  <a:lnTo>
                    <a:pt x="97" y="464"/>
                  </a:lnTo>
                  <a:lnTo>
                    <a:pt x="105" y="512"/>
                  </a:lnTo>
                  <a:lnTo>
                    <a:pt x="105" y="539"/>
                  </a:lnTo>
                  <a:lnTo>
                    <a:pt x="88" y="569"/>
                  </a:lnTo>
                  <a:lnTo>
                    <a:pt x="62" y="596"/>
                  </a:lnTo>
                  <a:lnTo>
                    <a:pt x="62" y="620"/>
                  </a:lnTo>
                  <a:lnTo>
                    <a:pt x="69" y="692"/>
                  </a:lnTo>
                  <a:lnTo>
                    <a:pt x="97" y="722"/>
                  </a:lnTo>
                  <a:lnTo>
                    <a:pt x="112" y="753"/>
                  </a:lnTo>
                  <a:lnTo>
                    <a:pt x="105" y="789"/>
                  </a:lnTo>
                  <a:lnTo>
                    <a:pt x="65" y="813"/>
                  </a:lnTo>
                  <a:lnTo>
                    <a:pt x="46" y="837"/>
                  </a:lnTo>
                  <a:lnTo>
                    <a:pt x="41" y="882"/>
                  </a:lnTo>
                  <a:lnTo>
                    <a:pt x="62" y="939"/>
                  </a:lnTo>
                  <a:lnTo>
                    <a:pt x="78" y="996"/>
                  </a:lnTo>
                  <a:lnTo>
                    <a:pt x="78" y="1028"/>
                  </a:lnTo>
                  <a:lnTo>
                    <a:pt x="69" y="1071"/>
                  </a:lnTo>
                  <a:lnTo>
                    <a:pt x="46" y="1079"/>
                  </a:lnTo>
                  <a:lnTo>
                    <a:pt x="30" y="1112"/>
                  </a:lnTo>
                  <a:lnTo>
                    <a:pt x="30" y="1149"/>
                  </a:lnTo>
                  <a:lnTo>
                    <a:pt x="0" y="1160"/>
                  </a:lnTo>
                  <a:lnTo>
                    <a:pt x="14" y="1119"/>
                  </a:lnTo>
                  <a:lnTo>
                    <a:pt x="39" y="1071"/>
                  </a:lnTo>
                  <a:lnTo>
                    <a:pt x="46" y="1038"/>
                  </a:lnTo>
                  <a:lnTo>
                    <a:pt x="46" y="974"/>
                  </a:lnTo>
                  <a:lnTo>
                    <a:pt x="30" y="918"/>
                  </a:lnTo>
                  <a:lnTo>
                    <a:pt x="25" y="875"/>
                  </a:lnTo>
                  <a:lnTo>
                    <a:pt x="22" y="830"/>
                  </a:lnTo>
                  <a:lnTo>
                    <a:pt x="49" y="794"/>
                  </a:lnTo>
                  <a:lnTo>
                    <a:pt x="65" y="770"/>
                  </a:lnTo>
                  <a:lnTo>
                    <a:pt x="55" y="722"/>
                  </a:lnTo>
                  <a:lnTo>
                    <a:pt x="30" y="685"/>
                  </a:lnTo>
                  <a:lnTo>
                    <a:pt x="25" y="652"/>
                  </a:lnTo>
                  <a:lnTo>
                    <a:pt x="22" y="604"/>
                  </a:lnTo>
                  <a:lnTo>
                    <a:pt x="33" y="572"/>
                  </a:lnTo>
                  <a:lnTo>
                    <a:pt x="55" y="539"/>
                  </a:lnTo>
                  <a:lnTo>
                    <a:pt x="69" y="515"/>
                  </a:lnTo>
                  <a:lnTo>
                    <a:pt x="69" y="491"/>
                  </a:lnTo>
                  <a:lnTo>
                    <a:pt x="55" y="464"/>
                  </a:lnTo>
                  <a:lnTo>
                    <a:pt x="39" y="410"/>
                  </a:lnTo>
                  <a:lnTo>
                    <a:pt x="39" y="376"/>
                  </a:lnTo>
                  <a:lnTo>
                    <a:pt x="46" y="343"/>
                  </a:lnTo>
                  <a:lnTo>
                    <a:pt x="62" y="319"/>
                  </a:lnTo>
                  <a:lnTo>
                    <a:pt x="65" y="295"/>
                  </a:lnTo>
                  <a:lnTo>
                    <a:pt x="62" y="265"/>
                  </a:lnTo>
                  <a:lnTo>
                    <a:pt x="41" y="223"/>
                  </a:lnTo>
                  <a:lnTo>
                    <a:pt x="30" y="193"/>
                  </a:lnTo>
                  <a:lnTo>
                    <a:pt x="33" y="142"/>
                  </a:lnTo>
                  <a:lnTo>
                    <a:pt x="49" y="121"/>
                  </a:lnTo>
                  <a:lnTo>
                    <a:pt x="69" y="88"/>
                  </a:lnTo>
                  <a:lnTo>
                    <a:pt x="81" y="61"/>
                  </a:lnTo>
                  <a:lnTo>
                    <a:pt x="72" y="37"/>
                  </a:lnTo>
                  <a:lnTo>
                    <a:pt x="78" y="1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3280" y="4062240"/>
              <a:ext cx="225360" cy="198720"/>
            </a:xfrm>
            <a:custGeom>
              <a:avLst/>
              <a:gdLst/>
              <a:ahLst/>
              <a:rect l="l" t="t" r="r" b="b"/>
              <a:pathLst>
                <a:path w="285" h="250">
                  <a:moveTo>
                    <a:pt x="285" y="202"/>
                  </a:moveTo>
                  <a:lnTo>
                    <a:pt x="199" y="130"/>
                  </a:lnTo>
                  <a:lnTo>
                    <a:pt x="127" y="64"/>
                  </a:lnTo>
                  <a:lnTo>
                    <a:pt x="61" y="0"/>
                  </a:lnTo>
                  <a:lnTo>
                    <a:pt x="0" y="0"/>
                  </a:lnTo>
                  <a:lnTo>
                    <a:pt x="143" y="105"/>
                  </a:lnTo>
                  <a:lnTo>
                    <a:pt x="212" y="171"/>
                  </a:lnTo>
                  <a:lnTo>
                    <a:pt x="269" y="250"/>
                  </a:lnTo>
                  <a:lnTo>
                    <a:pt x="28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0040" y="4178160"/>
              <a:ext cx="195120" cy="16056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45" y="129"/>
                  </a:moveTo>
                  <a:lnTo>
                    <a:pt x="182" y="105"/>
                  </a:lnTo>
                  <a:lnTo>
                    <a:pt x="135" y="65"/>
                  </a:lnTo>
                  <a:lnTo>
                    <a:pt x="48" y="0"/>
                  </a:lnTo>
                  <a:lnTo>
                    <a:pt x="0" y="0"/>
                  </a:lnTo>
                  <a:lnTo>
                    <a:pt x="111" y="65"/>
                  </a:lnTo>
                  <a:lnTo>
                    <a:pt x="154" y="108"/>
                  </a:lnTo>
                  <a:lnTo>
                    <a:pt x="245" y="204"/>
                  </a:lnTo>
                  <a:lnTo>
                    <a:pt x="240" y="146"/>
                  </a:lnTo>
                  <a:lnTo>
                    <a:pt x="245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1600" y="4273560"/>
              <a:ext cx="230040" cy="250920"/>
            </a:xfrm>
            <a:custGeom>
              <a:avLst/>
              <a:gdLst/>
              <a:ahLst/>
              <a:rect l="l" t="t" r="r" b="b"/>
              <a:pathLst>
                <a:path w="289" h="316">
                  <a:moveTo>
                    <a:pt x="283" y="237"/>
                  </a:moveTo>
                  <a:lnTo>
                    <a:pt x="204" y="165"/>
                  </a:lnTo>
                  <a:lnTo>
                    <a:pt x="173" y="115"/>
                  </a:lnTo>
                  <a:lnTo>
                    <a:pt x="110" y="68"/>
                  </a:lnTo>
                  <a:lnTo>
                    <a:pt x="54" y="2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47" y="57"/>
                  </a:lnTo>
                  <a:lnTo>
                    <a:pt x="133" y="114"/>
                  </a:lnTo>
                  <a:lnTo>
                    <a:pt x="197" y="178"/>
                  </a:lnTo>
                  <a:lnTo>
                    <a:pt x="241" y="250"/>
                  </a:lnTo>
                  <a:lnTo>
                    <a:pt x="289" y="316"/>
                  </a:lnTo>
                  <a:lnTo>
                    <a:pt x="283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360" y="4479840"/>
              <a:ext cx="177840" cy="147600"/>
            </a:xfrm>
            <a:custGeom>
              <a:avLst/>
              <a:gdLst/>
              <a:ahLst/>
              <a:rect l="l" t="t" r="r" b="b"/>
              <a:pathLst>
                <a:path w="223" h="186">
                  <a:moveTo>
                    <a:pt x="223" y="153"/>
                  </a:moveTo>
                  <a:lnTo>
                    <a:pt x="160" y="84"/>
                  </a:lnTo>
                  <a:lnTo>
                    <a:pt x="94" y="40"/>
                  </a:lnTo>
                  <a:lnTo>
                    <a:pt x="39" y="10"/>
                  </a:lnTo>
                  <a:lnTo>
                    <a:pt x="0" y="0"/>
                  </a:lnTo>
                  <a:lnTo>
                    <a:pt x="23" y="40"/>
                  </a:lnTo>
                  <a:lnTo>
                    <a:pt x="94" y="81"/>
                  </a:lnTo>
                  <a:lnTo>
                    <a:pt x="150" y="139"/>
                  </a:lnTo>
                  <a:lnTo>
                    <a:pt x="176" y="178"/>
                  </a:lnTo>
                  <a:lnTo>
                    <a:pt x="199" y="186"/>
                  </a:lnTo>
                  <a:lnTo>
                    <a:pt x="220" y="172"/>
                  </a:lnTo>
                  <a:lnTo>
                    <a:pt x="223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3040" y="4583160"/>
              <a:ext cx="196920" cy="182520"/>
            </a:xfrm>
            <a:custGeom>
              <a:avLst/>
              <a:gdLst/>
              <a:ahLst/>
              <a:rect l="l" t="t" r="r" b="b"/>
              <a:pathLst>
                <a:path w="247" h="231">
                  <a:moveTo>
                    <a:pt x="247" y="214"/>
                  </a:moveTo>
                  <a:lnTo>
                    <a:pt x="183" y="146"/>
                  </a:lnTo>
                  <a:lnTo>
                    <a:pt x="104" y="62"/>
                  </a:lnTo>
                  <a:lnTo>
                    <a:pt x="57" y="21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42" y="48"/>
                  </a:lnTo>
                  <a:lnTo>
                    <a:pt x="113" y="122"/>
                  </a:lnTo>
                  <a:lnTo>
                    <a:pt x="179" y="194"/>
                  </a:lnTo>
                  <a:lnTo>
                    <a:pt x="223" y="231"/>
                  </a:lnTo>
                  <a:lnTo>
                    <a:pt x="233" y="231"/>
                  </a:lnTo>
                  <a:lnTo>
                    <a:pt x="24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6800" y="4737240"/>
              <a:ext cx="138240" cy="14436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1" y="152"/>
                  </a:moveTo>
                  <a:lnTo>
                    <a:pt x="100" y="46"/>
                  </a:lnTo>
                  <a:lnTo>
                    <a:pt x="31" y="6"/>
                  </a:lnTo>
                  <a:lnTo>
                    <a:pt x="0" y="0"/>
                  </a:lnTo>
                  <a:lnTo>
                    <a:pt x="7" y="20"/>
                  </a:lnTo>
                  <a:lnTo>
                    <a:pt x="87" y="80"/>
                  </a:lnTo>
                  <a:lnTo>
                    <a:pt x="163" y="175"/>
                  </a:lnTo>
                  <a:lnTo>
                    <a:pt x="173" y="182"/>
                  </a:lnTo>
                  <a:lnTo>
                    <a:pt x="17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0040" y="4878360"/>
              <a:ext cx="95400" cy="10944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114" y="105"/>
                  </a:moveTo>
                  <a:lnTo>
                    <a:pt x="55" y="24"/>
                  </a:lnTo>
                  <a:lnTo>
                    <a:pt x="2" y="0"/>
                  </a:lnTo>
                  <a:lnTo>
                    <a:pt x="0" y="24"/>
                  </a:lnTo>
                  <a:lnTo>
                    <a:pt x="25" y="64"/>
                  </a:lnTo>
                  <a:lnTo>
                    <a:pt x="88" y="118"/>
                  </a:lnTo>
                  <a:lnTo>
                    <a:pt x="105" y="138"/>
                  </a:lnTo>
                  <a:lnTo>
                    <a:pt x="119" y="129"/>
                  </a:lnTo>
                  <a:lnTo>
                    <a:pt x="11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7960" y="5022720"/>
              <a:ext cx="119160" cy="123840"/>
            </a:xfrm>
            <a:custGeom>
              <a:avLst/>
              <a:gdLst/>
              <a:ahLst/>
              <a:rect l="l" t="t" r="r" b="b"/>
              <a:pathLst>
                <a:path w="150" h="156">
                  <a:moveTo>
                    <a:pt x="150" y="156"/>
                  </a:moveTo>
                  <a:lnTo>
                    <a:pt x="129" y="132"/>
                  </a:lnTo>
                  <a:lnTo>
                    <a:pt x="86" y="68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0" y="24"/>
                  </a:lnTo>
                  <a:lnTo>
                    <a:pt x="57" y="89"/>
                  </a:lnTo>
                  <a:lnTo>
                    <a:pt x="104" y="153"/>
                  </a:lnTo>
                  <a:lnTo>
                    <a:pt x="15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9960" y="3992400"/>
              <a:ext cx="363600" cy="1376640"/>
            </a:xfrm>
            <a:custGeom>
              <a:avLst/>
              <a:gdLst/>
              <a:ahLst/>
              <a:rect l="l" t="t" r="r" b="b"/>
              <a:pathLst>
                <a:path w="458" h="1736">
                  <a:moveTo>
                    <a:pt x="82" y="164"/>
                  </a:moveTo>
                  <a:lnTo>
                    <a:pt x="66" y="213"/>
                  </a:lnTo>
                  <a:lnTo>
                    <a:pt x="79" y="261"/>
                  </a:lnTo>
                  <a:lnTo>
                    <a:pt x="82" y="309"/>
                  </a:lnTo>
                  <a:lnTo>
                    <a:pt x="66" y="339"/>
                  </a:lnTo>
                  <a:lnTo>
                    <a:pt x="42" y="374"/>
                  </a:lnTo>
                  <a:lnTo>
                    <a:pt x="32" y="427"/>
                  </a:lnTo>
                  <a:lnTo>
                    <a:pt x="47" y="462"/>
                  </a:lnTo>
                  <a:lnTo>
                    <a:pt x="70" y="502"/>
                  </a:lnTo>
                  <a:lnTo>
                    <a:pt x="70" y="535"/>
                  </a:lnTo>
                  <a:lnTo>
                    <a:pt x="55" y="567"/>
                  </a:lnTo>
                  <a:lnTo>
                    <a:pt x="33" y="607"/>
                  </a:lnTo>
                  <a:lnTo>
                    <a:pt x="42" y="648"/>
                  </a:lnTo>
                  <a:lnTo>
                    <a:pt x="73" y="733"/>
                  </a:lnTo>
                  <a:lnTo>
                    <a:pt x="70" y="769"/>
                  </a:lnTo>
                  <a:lnTo>
                    <a:pt x="26" y="838"/>
                  </a:lnTo>
                  <a:lnTo>
                    <a:pt x="26" y="898"/>
                  </a:lnTo>
                  <a:lnTo>
                    <a:pt x="50" y="943"/>
                  </a:lnTo>
                  <a:lnTo>
                    <a:pt x="66" y="983"/>
                  </a:lnTo>
                  <a:lnTo>
                    <a:pt x="63" y="1018"/>
                  </a:lnTo>
                  <a:lnTo>
                    <a:pt x="23" y="1055"/>
                  </a:lnTo>
                  <a:lnTo>
                    <a:pt x="16" y="1082"/>
                  </a:lnTo>
                  <a:lnTo>
                    <a:pt x="23" y="1147"/>
                  </a:lnTo>
                  <a:lnTo>
                    <a:pt x="42" y="1217"/>
                  </a:lnTo>
                  <a:lnTo>
                    <a:pt x="42" y="1258"/>
                  </a:lnTo>
                  <a:lnTo>
                    <a:pt x="39" y="1289"/>
                  </a:lnTo>
                  <a:lnTo>
                    <a:pt x="10" y="1339"/>
                  </a:lnTo>
                  <a:lnTo>
                    <a:pt x="0" y="1379"/>
                  </a:lnTo>
                  <a:lnTo>
                    <a:pt x="2" y="1421"/>
                  </a:lnTo>
                  <a:lnTo>
                    <a:pt x="23" y="1454"/>
                  </a:lnTo>
                  <a:lnTo>
                    <a:pt x="47" y="1483"/>
                  </a:lnTo>
                  <a:lnTo>
                    <a:pt x="26" y="1523"/>
                  </a:lnTo>
                  <a:lnTo>
                    <a:pt x="16" y="1563"/>
                  </a:lnTo>
                  <a:lnTo>
                    <a:pt x="33" y="1596"/>
                  </a:lnTo>
                  <a:lnTo>
                    <a:pt x="63" y="1620"/>
                  </a:lnTo>
                  <a:lnTo>
                    <a:pt x="66" y="1661"/>
                  </a:lnTo>
                  <a:lnTo>
                    <a:pt x="66" y="1692"/>
                  </a:lnTo>
                  <a:lnTo>
                    <a:pt x="70" y="1736"/>
                  </a:lnTo>
                  <a:lnTo>
                    <a:pt x="120" y="1701"/>
                  </a:lnTo>
                  <a:lnTo>
                    <a:pt x="173" y="1671"/>
                  </a:lnTo>
                  <a:lnTo>
                    <a:pt x="221" y="1655"/>
                  </a:lnTo>
                  <a:lnTo>
                    <a:pt x="295" y="1655"/>
                  </a:lnTo>
                  <a:lnTo>
                    <a:pt x="348" y="1647"/>
                  </a:lnTo>
                  <a:lnTo>
                    <a:pt x="379" y="1620"/>
                  </a:lnTo>
                  <a:lnTo>
                    <a:pt x="434" y="1604"/>
                  </a:lnTo>
                  <a:lnTo>
                    <a:pt x="405" y="1572"/>
                  </a:lnTo>
                  <a:lnTo>
                    <a:pt x="395" y="1526"/>
                  </a:lnTo>
                  <a:lnTo>
                    <a:pt x="414" y="1475"/>
                  </a:lnTo>
                  <a:lnTo>
                    <a:pt x="411" y="1403"/>
                  </a:lnTo>
                  <a:lnTo>
                    <a:pt x="395" y="1349"/>
                  </a:lnTo>
                  <a:lnTo>
                    <a:pt x="379" y="1322"/>
                  </a:lnTo>
                  <a:lnTo>
                    <a:pt x="374" y="1282"/>
                  </a:lnTo>
                  <a:lnTo>
                    <a:pt x="395" y="1234"/>
                  </a:lnTo>
                  <a:lnTo>
                    <a:pt x="387" y="1201"/>
                  </a:lnTo>
                  <a:lnTo>
                    <a:pt x="348" y="1145"/>
                  </a:lnTo>
                  <a:lnTo>
                    <a:pt x="349" y="1112"/>
                  </a:lnTo>
                  <a:lnTo>
                    <a:pt x="365" y="1082"/>
                  </a:lnTo>
                  <a:lnTo>
                    <a:pt x="402" y="1043"/>
                  </a:lnTo>
                  <a:lnTo>
                    <a:pt x="389" y="1010"/>
                  </a:lnTo>
                  <a:lnTo>
                    <a:pt x="362" y="943"/>
                  </a:lnTo>
                  <a:lnTo>
                    <a:pt x="342" y="898"/>
                  </a:lnTo>
                  <a:lnTo>
                    <a:pt x="342" y="849"/>
                  </a:lnTo>
                  <a:lnTo>
                    <a:pt x="414" y="823"/>
                  </a:lnTo>
                  <a:lnTo>
                    <a:pt x="421" y="777"/>
                  </a:lnTo>
                  <a:lnTo>
                    <a:pt x="414" y="750"/>
                  </a:lnTo>
                  <a:lnTo>
                    <a:pt x="395" y="726"/>
                  </a:lnTo>
                  <a:lnTo>
                    <a:pt x="398" y="685"/>
                  </a:lnTo>
                  <a:lnTo>
                    <a:pt x="395" y="637"/>
                  </a:lnTo>
                  <a:lnTo>
                    <a:pt x="374" y="613"/>
                  </a:lnTo>
                  <a:lnTo>
                    <a:pt x="358" y="580"/>
                  </a:lnTo>
                  <a:lnTo>
                    <a:pt x="371" y="549"/>
                  </a:lnTo>
                  <a:lnTo>
                    <a:pt x="387" y="511"/>
                  </a:lnTo>
                  <a:lnTo>
                    <a:pt x="387" y="486"/>
                  </a:lnTo>
                  <a:lnTo>
                    <a:pt x="362" y="454"/>
                  </a:lnTo>
                  <a:lnTo>
                    <a:pt x="355" y="427"/>
                  </a:lnTo>
                  <a:lnTo>
                    <a:pt x="362" y="407"/>
                  </a:lnTo>
                  <a:lnTo>
                    <a:pt x="387" y="390"/>
                  </a:lnTo>
                  <a:lnTo>
                    <a:pt x="389" y="363"/>
                  </a:lnTo>
                  <a:lnTo>
                    <a:pt x="382" y="347"/>
                  </a:lnTo>
                  <a:lnTo>
                    <a:pt x="355" y="306"/>
                  </a:lnTo>
                  <a:lnTo>
                    <a:pt x="348" y="261"/>
                  </a:lnTo>
                  <a:lnTo>
                    <a:pt x="349" y="227"/>
                  </a:lnTo>
                  <a:lnTo>
                    <a:pt x="374" y="194"/>
                  </a:lnTo>
                  <a:lnTo>
                    <a:pt x="437" y="123"/>
                  </a:lnTo>
                  <a:lnTo>
                    <a:pt x="458" y="65"/>
                  </a:lnTo>
                  <a:lnTo>
                    <a:pt x="458" y="17"/>
                  </a:lnTo>
                  <a:lnTo>
                    <a:pt x="437" y="0"/>
                  </a:lnTo>
                  <a:lnTo>
                    <a:pt x="405" y="17"/>
                  </a:lnTo>
                  <a:lnTo>
                    <a:pt x="326" y="68"/>
                  </a:lnTo>
                  <a:lnTo>
                    <a:pt x="252" y="99"/>
                  </a:lnTo>
                  <a:lnTo>
                    <a:pt x="176" y="132"/>
                  </a:lnTo>
                  <a:lnTo>
                    <a:pt x="126" y="149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5800" y="3981600"/>
              <a:ext cx="649440" cy="1407960"/>
            </a:xfrm>
            <a:custGeom>
              <a:avLst/>
              <a:gdLst/>
              <a:ahLst/>
              <a:rect l="l" t="t" r="r" b="b"/>
              <a:pathLst>
                <a:path w="819" h="1774">
                  <a:moveTo>
                    <a:pt x="695" y="1605"/>
                  </a:moveTo>
                  <a:lnTo>
                    <a:pt x="661" y="1645"/>
                  </a:lnTo>
                  <a:lnTo>
                    <a:pt x="606" y="1659"/>
                  </a:lnTo>
                  <a:lnTo>
                    <a:pt x="535" y="1666"/>
                  </a:lnTo>
                  <a:lnTo>
                    <a:pt x="459" y="1683"/>
                  </a:lnTo>
                  <a:lnTo>
                    <a:pt x="409" y="1714"/>
                  </a:lnTo>
                  <a:lnTo>
                    <a:pt x="393" y="1731"/>
                  </a:lnTo>
                  <a:lnTo>
                    <a:pt x="378" y="1723"/>
                  </a:lnTo>
                  <a:lnTo>
                    <a:pt x="285" y="1653"/>
                  </a:lnTo>
                  <a:lnTo>
                    <a:pt x="166" y="1557"/>
                  </a:lnTo>
                  <a:lnTo>
                    <a:pt x="127" y="1497"/>
                  </a:lnTo>
                  <a:lnTo>
                    <a:pt x="66" y="1436"/>
                  </a:lnTo>
                  <a:lnTo>
                    <a:pt x="49" y="1388"/>
                  </a:lnTo>
                  <a:lnTo>
                    <a:pt x="0" y="1380"/>
                  </a:lnTo>
                  <a:lnTo>
                    <a:pt x="25" y="1433"/>
                  </a:lnTo>
                  <a:lnTo>
                    <a:pt x="50" y="1484"/>
                  </a:lnTo>
                  <a:lnTo>
                    <a:pt x="127" y="1540"/>
                  </a:lnTo>
                  <a:lnTo>
                    <a:pt x="180" y="1611"/>
                  </a:lnTo>
                  <a:lnTo>
                    <a:pt x="309" y="1693"/>
                  </a:lnTo>
                  <a:lnTo>
                    <a:pt x="388" y="1774"/>
                  </a:lnTo>
                  <a:lnTo>
                    <a:pt x="419" y="1767"/>
                  </a:lnTo>
                  <a:lnTo>
                    <a:pt x="451" y="1726"/>
                  </a:lnTo>
                  <a:lnTo>
                    <a:pt x="495" y="1702"/>
                  </a:lnTo>
                  <a:lnTo>
                    <a:pt x="551" y="1686"/>
                  </a:lnTo>
                  <a:lnTo>
                    <a:pt x="669" y="1675"/>
                  </a:lnTo>
                  <a:lnTo>
                    <a:pt x="704" y="1653"/>
                  </a:lnTo>
                  <a:lnTo>
                    <a:pt x="764" y="1638"/>
                  </a:lnTo>
                  <a:lnTo>
                    <a:pt x="775" y="1611"/>
                  </a:lnTo>
                  <a:lnTo>
                    <a:pt x="755" y="1578"/>
                  </a:lnTo>
                  <a:lnTo>
                    <a:pt x="735" y="1546"/>
                  </a:lnTo>
                  <a:lnTo>
                    <a:pt x="748" y="1506"/>
                  </a:lnTo>
                  <a:lnTo>
                    <a:pt x="764" y="1484"/>
                  </a:lnTo>
                  <a:lnTo>
                    <a:pt x="764" y="1449"/>
                  </a:lnTo>
                  <a:lnTo>
                    <a:pt x="748" y="1395"/>
                  </a:lnTo>
                  <a:lnTo>
                    <a:pt x="741" y="1368"/>
                  </a:lnTo>
                  <a:lnTo>
                    <a:pt x="719" y="1344"/>
                  </a:lnTo>
                  <a:lnTo>
                    <a:pt x="708" y="1316"/>
                  </a:lnTo>
                  <a:lnTo>
                    <a:pt x="719" y="1289"/>
                  </a:lnTo>
                  <a:lnTo>
                    <a:pt x="742" y="1266"/>
                  </a:lnTo>
                  <a:lnTo>
                    <a:pt x="741" y="1232"/>
                  </a:lnTo>
                  <a:lnTo>
                    <a:pt x="727" y="1208"/>
                  </a:lnTo>
                  <a:lnTo>
                    <a:pt x="701" y="1170"/>
                  </a:lnTo>
                  <a:lnTo>
                    <a:pt x="685" y="1151"/>
                  </a:lnTo>
                  <a:lnTo>
                    <a:pt x="692" y="1122"/>
                  </a:lnTo>
                  <a:lnTo>
                    <a:pt x="732" y="1098"/>
                  </a:lnTo>
                  <a:lnTo>
                    <a:pt x="748" y="1065"/>
                  </a:lnTo>
                  <a:lnTo>
                    <a:pt x="742" y="1038"/>
                  </a:lnTo>
                  <a:lnTo>
                    <a:pt x="717" y="993"/>
                  </a:lnTo>
                  <a:lnTo>
                    <a:pt x="688" y="937"/>
                  </a:lnTo>
                  <a:lnTo>
                    <a:pt x="678" y="896"/>
                  </a:lnTo>
                  <a:lnTo>
                    <a:pt x="692" y="880"/>
                  </a:lnTo>
                  <a:lnTo>
                    <a:pt x="735" y="865"/>
                  </a:lnTo>
                  <a:lnTo>
                    <a:pt x="758" y="848"/>
                  </a:lnTo>
                  <a:lnTo>
                    <a:pt x="764" y="797"/>
                  </a:lnTo>
                  <a:lnTo>
                    <a:pt x="735" y="740"/>
                  </a:lnTo>
                  <a:lnTo>
                    <a:pt x="741" y="703"/>
                  </a:lnTo>
                  <a:lnTo>
                    <a:pt x="751" y="668"/>
                  </a:lnTo>
                  <a:lnTo>
                    <a:pt x="725" y="628"/>
                  </a:lnTo>
                  <a:lnTo>
                    <a:pt x="701" y="590"/>
                  </a:lnTo>
                  <a:lnTo>
                    <a:pt x="708" y="566"/>
                  </a:lnTo>
                  <a:lnTo>
                    <a:pt x="725" y="542"/>
                  </a:lnTo>
                  <a:lnTo>
                    <a:pt x="725" y="502"/>
                  </a:lnTo>
                  <a:lnTo>
                    <a:pt x="708" y="478"/>
                  </a:lnTo>
                  <a:lnTo>
                    <a:pt x="692" y="458"/>
                  </a:lnTo>
                  <a:lnTo>
                    <a:pt x="695" y="429"/>
                  </a:lnTo>
                  <a:lnTo>
                    <a:pt x="725" y="414"/>
                  </a:lnTo>
                  <a:lnTo>
                    <a:pt x="741" y="397"/>
                  </a:lnTo>
                  <a:lnTo>
                    <a:pt x="732" y="366"/>
                  </a:lnTo>
                  <a:lnTo>
                    <a:pt x="701" y="325"/>
                  </a:lnTo>
                  <a:lnTo>
                    <a:pt x="688" y="289"/>
                  </a:lnTo>
                  <a:lnTo>
                    <a:pt x="685" y="249"/>
                  </a:lnTo>
                  <a:lnTo>
                    <a:pt x="711" y="210"/>
                  </a:lnTo>
                  <a:lnTo>
                    <a:pt x="767" y="147"/>
                  </a:lnTo>
                  <a:lnTo>
                    <a:pt x="795" y="99"/>
                  </a:lnTo>
                  <a:lnTo>
                    <a:pt x="819" y="58"/>
                  </a:lnTo>
                  <a:lnTo>
                    <a:pt x="811" y="18"/>
                  </a:lnTo>
                  <a:lnTo>
                    <a:pt x="791" y="0"/>
                  </a:lnTo>
                  <a:lnTo>
                    <a:pt x="775" y="3"/>
                  </a:lnTo>
                  <a:lnTo>
                    <a:pt x="748" y="34"/>
                  </a:lnTo>
                  <a:lnTo>
                    <a:pt x="767" y="58"/>
                  </a:lnTo>
                  <a:lnTo>
                    <a:pt x="764" y="99"/>
                  </a:lnTo>
                  <a:lnTo>
                    <a:pt x="727" y="169"/>
                  </a:lnTo>
                  <a:lnTo>
                    <a:pt x="679" y="210"/>
                  </a:lnTo>
                  <a:lnTo>
                    <a:pt x="664" y="234"/>
                  </a:lnTo>
                  <a:lnTo>
                    <a:pt x="654" y="265"/>
                  </a:lnTo>
                  <a:lnTo>
                    <a:pt x="648" y="285"/>
                  </a:lnTo>
                  <a:lnTo>
                    <a:pt x="578" y="340"/>
                  </a:lnTo>
                  <a:lnTo>
                    <a:pt x="514" y="378"/>
                  </a:lnTo>
                  <a:lnTo>
                    <a:pt x="506" y="405"/>
                  </a:lnTo>
                  <a:lnTo>
                    <a:pt x="528" y="411"/>
                  </a:lnTo>
                  <a:lnTo>
                    <a:pt x="622" y="340"/>
                  </a:lnTo>
                  <a:lnTo>
                    <a:pt x="669" y="325"/>
                  </a:lnTo>
                  <a:lnTo>
                    <a:pt x="692" y="370"/>
                  </a:lnTo>
                  <a:lnTo>
                    <a:pt x="701" y="390"/>
                  </a:lnTo>
                  <a:lnTo>
                    <a:pt x="678" y="411"/>
                  </a:lnTo>
                  <a:lnTo>
                    <a:pt x="656" y="427"/>
                  </a:lnTo>
                  <a:lnTo>
                    <a:pt x="654" y="454"/>
                  </a:lnTo>
                  <a:lnTo>
                    <a:pt x="661" y="482"/>
                  </a:lnTo>
                  <a:lnTo>
                    <a:pt x="641" y="506"/>
                  </a:lnTo>
                  <a:lnTo>
                    <a:pt x="582" y="533"/>
                  </a:lnTo>
                  <a:lnTo>
                    <a:pt x="495" y="571"/>
                  </a:lnTo>
                  <a:lnTo>
                    <a:pt x="528" y="583"/>
                  </a:lnTo>
                  <a:lnTo>
                    <a:pt x="616" y="547"/>
                  </a:lnTo>
                  <a:lnTo>
                    <a:pt x="688" y="509"/>
                  </a:lnTo>
                  <a:lnTo>
                    <a:pt x="701" y="518"/>
                  </a:lnTo>
                  <a:lnTo>
                    <a:pt x="692" y="542"/>
                  </a:lnTo>
                  <a:lnTo>
                    <a:pt x="669" y="566"/>
                  </a:lnTo>
                  <a:lnTo>
                    <a:pt x="661" y="590"/>
                  </a:lnTo>
                  <a:lnTo>
                    <a:pt x="672" y="622"/>
                  </a:lnTo>
                  <a:lnTo>
                    <a:pt x="701" y="647"/>
                  </a:lnTo>
                  <a:lnTo>
                    <a:pt x="701" y="668"/>
                  </a:lnTo>
                  <a:lnTo>
                    <a:pt x="654" y="679"/>
                  </a:lnTo>
                  <a:lnTo>
                    <a:pt x="614" y="733"/>
                  </a:lnTo>
                  <a:lnTo>
                    <a:pt x="566" y="764"/>
                  </a:lnTo>
                  <a:lnTo>
                    <a:pt x="503" y="781"/>
                  </a:lnTo>
                  <a:lnTo>
                    <a:pt x="498" y="797"/>
                  </a:lnTo>
                  <a:lnTo>
                    <a:pt x="538" y="791"/>
                  </a:lnTo>
                  <a:lnTo>
                    <a:pt x="622" y="764"/>
                  </a:lnTo>
                  <a:lnTo>
                    <a:pt x="654" y="740"/>
                  </a:lnTo>
                  <a:lnTo>
                    <a:pt x="672" y="716"/>
                  </a:lnTo>
                  <a:lnTo>
                    <a:pt x="701" y="712"/>
                  </a:lnTo>
                  <a:lnTo>
                    <a:pt x="701" y="740"/>
                  </a:lnTo>
                  <a:lnTo>
                    <a:pt x="719" y="767"/>
                  </a:lnTo>
                  <a:lnTo>
                    <a:pt x="735" y="797"/>
                  </a:lnTo>
                  <a:lnTo>
                    <a:pt x="725" y="821"/>
                  </a:lnTo>
                  <a:lnTo>
                    <a:pt x="688" y="838"/>
                  </a:lnTo>
                  <a:lnTo>
                    <a:pt x="654" y="848"/>
                  </a:lnTo>
                  <a:lnTo>
                    <a:pt x="629" y="872"/>
                  </a:lnTo>
                  <a:lnTo>
                    <a:pt x="522" y="905"/>
                  </a:lnTo>
                  <a:lnTo>
                    <a:pt x="442" y="934"/>
                  </a:lnTo>
                  <a:lnTo>
                    <a:pt x="412" y="950"/>
                  </a:lnTo>
                  <a:lnTo>
                    <a:pt x="435" y="969"/>
                  </a:lnTo>
                  <a:lnTo>
                    <a:pt x="482" y="958"/>
                  </a:lnTo>
                  <a:lnTo>
                    <a:pt x="578" y="920"/>
                  </a:lnTo>
                  <a:lnTo>
                    <a:pt x="641" y="902"/>
                  </a:lnTo>
                  <a:lnTo>
                    <a:pt x="656" y="929"/>
                  </a:lnTo>
                  <a:lnTo>
                    <a:pt x="672" y="977"/>
                  </a:lnTo>
                  <a:lnTo>
                    <a:pt x="701" y="1017"/>
                  </a:lnTo>
                  <a:lnTo>
                    <a:pt x="704" y="1049"/>
                  </a:lnTo>
                  <a:lnTo>
                    <a:pt x="701" y="1079"/>
                  </a:lnTo>
                  <a:lnTo>
                    <a:pt x="669" y="1089"/>
                  </a:lnTo>
                  <a:lnTo>
                    <a:pt x="614" y="1103"/>
                  </a:lnTo>
                  <a:lnTo>
                    <a:pt x="542" y="1136"/>
                  </a:lnTo>
                  <a:lnTo>
                    <a:pt x="440" y="1151"/>
                  </a:lnTo>
                  <a:lnTo>
                    <a:pt x="401" y="1170"/>
                  </a:lnTo>
                  <a:lnTo>
                    <a:pt x="428" y="1184"/>
                  </a:lnTo>
                  <a:lnTo>
                    <a:pt x="519" y="1170"/>
                  </a:lnTo>
                  <a:lnTo>
                    <a:pt x="582" y="1146"/>
                  </a:lnTo>
                  <a:lnTo>
                    <a:pt x="625" y="1130"/>
                  </a:lnTo>
                  <a:lnTo>
                    <a:pt x="661" y="1122"/>
                  </a:lnTo>
                  <a:lnTo>
                    <a:pt x="656" y="1151"/>
                  </a:lnTo>
                  <a:lnTo>
                    <a:pt x="672" y="1191"/>
                  </a:lnTo>
                  <a:lnTo>
                    <a:pt x="695" y="1215"/>
                  </a:lnTo>
                  <a:lnTo>
                    <a:pt x="701" y="1242"/>
                  </a:lnTo>
                  <a:lnTo>
                    <a:pt x="701" y="1266"/>
                  </a:lnTo>
                  <a:lnTo>
                    <a:pt x="669" y="1280"/>
                  </a:lnTo>
                  <a:lnTo>
                    <a:pt x="608" y="1283"/>
                  </a:lnTo>
                  <a:lnTo>
                    <a:pt x="566" y="1296"/>
                  </a:lnTo>
                  <a:lnTo>
                    <a:pt x="472" y="1329"/>
                  </a:lnTo>
                  <a:lnTo>
                    <a:pt x="419" y="1331"/>
                  </a:lnTo>
                  <a:lnTo>
                    <a:pt x="401" y="1355"/>
                  </a:lnTo>
                  <a:lnTo>
                    <a:pt x="425" y="1364"/>
                  </a:lnTo>
                  <a:lnTo>
                    <a:pt x="472" y="1353"/>
                  </a:lnTo>
                  <a:lnTo>
                    <a:pt x="542" y="1331"/>
                  </a:lnTo>
                  <a:lnTo>
                    <a:pt x="582" y="1316"/>
                  </a:lnTo>
                  <a:lnTo>
                    <a:pt x="632" y="1304"/>
                  </a:lnTo>
                  <a:lnTo>
                    <a:pt x="672" y="1307"/>
                  </a:lnTo>
                  <a:lnTo>
                    <a:pt x="685" y="1307"/>
                  </a:lnTo>
                  <a:lnTo>
                    <a:pt x="685" y="1344"/>
                  </a:lnTo>
                  <a:lnTo>
                    <a:pt x="695" y="1364"/>
                  </a:lnTo>
                  <a:lnTo>
                    <a:pt x="625" y="1380"/>
                  </a:lnTo>
                  <a:lnTo>
                    <a:pt x="561" y="1428"/>
                  </a:lnTo>
                  <a:lnTo>
                    <a:pt x="491" y="1452"/>
                  </a:lnTo>
                  <a:lnTo>
                    <a:pt x="442" y="1460"/>
                  </a:lnTo>
                  <a:lnTo>
                    <a:pt x="403" y="1482"/>
                  </a:lnTo>
                  <a:lnTo>
                    <a:pt x="419" y="1497"/>
                  </a:lnTo>
                  <a:lnTo>
                    <a:pt x="459" y="1484"/>
                  </a:lnTo>
                  <a:lnTo>
                    <a:pt x="503" y="1469"/>
                  </a:lnTo>
                  <a:lnTo>
                    <a:pt x="554" y="1460"/>
                  </a:lnTo>
                  <a:lnTo>
                    <a:pt x="598" y="1433"/>
                  </a:lnTo>
                  <a:lnTo>
                    <a:pt x="622" y="1409"/>
                  </a:lnTo>
                  <a:lnTo>
                    <a:pt x="654" y="1404"/>
                  </a:lnTo>
                  <a:lnTo>
                    <a:pt x="692" y="1404"/>
                  </a:lnTo>
                  <a:lnTo>
                    <a:pt x="704" y="1409"/>
                  </a:lnTo>
                  <a:lnTo>
                    <a:pt x="717" y="1436"/>
                  </a:lnTo>
                  <a:lnTo>
                    <a:pt x="725" y="1469"/>
                  </a:lnTo>
                  <a:lnTo>
                    <a:pt x="717" y="1497"/>
                  </a:lnTo>
                  <a:lnTo>
                    <a:pt x="701" y="1513"/>
                  </a:lnTo>
                  <a:lnTo>
                    <a:pt x="688" y="1554"/>
                  </a:lnTo>
                  <a:lnTo>
                    <a:pt x="701" y="1570"/>
                  </a:lnTo>
                  <a:lnTo>
                    <a:pt x="717" y="1587"/>
                  </a:lnTo>
                  <a:lnTo>
                    <a:pt x="717" y="1602"/>
                  </a:lnTo>
                  <a:lnTo>
                    <a:pt x="695" y="16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0320" y="5189400"/>
              <a:ext cx="187560" cy="63720"/>
            </a:xfrm>
            <a:custGeom>
              <a:avLst/>
              <a:gdLst/>
              <a:ahLst/>
              <a:rect l="l" t="t" r="r" b="b"/>
              <a:pathLst>
                <a:path w="237" h="80">
                  <a:moveTo>
                    <a:pt x="0" y="65"/>
                  </a:moveTo>
                  <a:lnTo>
                    <a:pt x="94" y="62"/>
                  </a:lnTo>
                  <a:lnTo>
                    <a:pt x="131" y="41"/>
                  </a:lnTo>
                  <a:lnTo>
                    <a:pt x="162" y="17"/>
                  </a:lnTo>
                  <a:lnTo>
                    <a:pt x="221" y="0"/>
                  </a:lnTo>
                  <a:lnTo>
                    <a:pt x="237" y="17"/>
                  </a:lnTo>
                  <a:lnTo>
                    <a:pt x="212" y="24"/>
                  </a:lnTo>
                  <a:lnTo>
                    <a:pt x="171" y="47"/>
                  </a:lnTo>
                  <a:lnTo>
                    <a:pt x="149" y="62"/>
                  </a:lnTo>
                  <a:lnTo>
                    <a:pt x="110" y="72"/>
                  </a:lnTo>
                  <a:lnTo>
                    <a:pt x="52" y="78"/>
                  </a:lnTo>
                  <a:lnTo>
                    <a:pt x="5" y="8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3040" y="3813120"/>
              <a:ext cx="544680" cy="303120"/>
            </a:xfrm>
            <a:custGeom>
              <a:avLst/>
              <a:gdLst/>
              <a:ahLst/>
              <a:rect l="l" t="t" r="r" b="b"/>
              <a:pathLst>
                <a:path w="688" h="380">
                  <a:moveTo>
                    <a:pt x="21" y="43"/>
                  </a:moveTo>
                  <a:lnTo>
                    <a:pt x="103" y="48"/>
                  </a:lnTo>
                  <a:lnTo>
                    <a:pt x="190" y="51"/>
                  </a:lnTo>
                  <a:lnTo>
                    <a:pt x="246" y="51"/>
                  </a:lnTo>
                  <a:lnTo>
                    <a:pt x="290" y="40"/>
                  </a:lnTo>
                  <a:lnTo>
                    <a:pt x="362" y="19"/>
                  </a:lnTo>
                  <a:lnTo>
                    <a:pt x="395" y="0"/>
                  </a:lnTo>
                  <a:lnTo>
                    <a:pt x="442" y="27"/>
                  </a:lnTo>
                  <a:lnTo>
                    <a:pt x="519" y="81"/>
                  </a:lnTo>
                  <a:lnTo>
                    <a:pt x="575" y="119"/>
                  </a:lnTo>
                  <a:lnTo>
                    <a:pt x="645" y="170"/>
                  </a:lnTo>
                  <a:lnTo>
                    <a:pt x="688" y="209"/>
                  </a:lnTo>
                  <a:lnTo>
                    <a:pt x="648" y="244"/>
                  </a:lnTo>
                  <a:lnTo>
                    <a:pt x="608" y="281"/>
                  </a:lnTo>
                  <a:lnTo>
                    <a:pt x="545" y="308"/>
                  </a:lnTo>
                  <a:lnTo>
                    <a:pt x="479" y="337"/>
                  </a:lnTo>
                  <a:lnTo>
                    <a:pt x="419" y="361"/>
                  </a:lnTo>
                  <a:lnTo>
                    <a:pt x="363" y="370"/>
                  </a:lnTo>
                  <a:lnTo>
                    <a:pt x="306" y="380"/>
                  </a:lnTo>
                  <a:lnTo>
                    <a:pt x="234" y="329"/>
                  </a:lnTo>
                  <a:lnTo>
                    <a:pt x="180" y="284"/>
                  </a:lnTo>
                  <a:lnTo>
                    <a:pt x="116" y="227"/>
                  </a:lnTo>
                  <a:lnTo>
                    <a:pt x="63" y="170"/>
                  </a:lnTo>
                  <a:lnTo>
                    <a:pt x="24" y="131"/>
                  </a:lnTo>
                  <a:lnTo>
                    <a:pt x="0" y="75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8640" y="3803760"/>
              <a:ext cx="590760" cy="352440"/>
            </a:xfrm>
            <a:custGeom>
              <a:avLst/>
              <a:gdLst/>
              <a:ahLst/>
              <a:rect l="l" t="t" r="r" b="b"/>
              <a:pathLst>
                <a:path w="743" h="443">
                  <a:moveTo>
                    <a:pt x="364" y="379"/>
                  </a:moveTo>
                  <a:lnTo>
                    <a:pt x="482" y="346"/>
                  </a:lnTo>
                  <a:lnTo>
                    <a:pt x="577" y="304"/>
                  </a:lnTo>
                  <a:lnTo>
                    <a:pt x="646" y="254"/>
                  </a:lnTo>
                  <a:lnTo>
                    <a:pt x="672" y="226"/>
                  </a:lnTo>
                  <a:lnTo>
                    <a:pt x="574" y="134"/>
                  </a:lnTo>
                  <a:lnTo>
                    <a:pt x="495" y="85"/>
                  </a:lnTo>
                  <a:lnTo>
                    <a:pt x="418" y="37"/>
                  </a:lnTo>
                  <a:lnTo>
                    <a:pt x="404" y="37"/>
                  </a:lnTo>
                  <a:lnTo>
                    <a:pt x="355" y="54"/>
                  </a:lnTo>
                  <a:lnTo>
                    <a:pt x="292" y="72"/>
                  </a:lnTo>
                  <a:lnTo>
                    <a:pt x="179" y="81"/>
                  </a:lnTo>
                  <a:lnTo>
                    <a:pt x="69" y="78"/>
                  </a:lnTo>
                  <a:lnTo>
                    <a:pt x="39" y="81"/>
                  </a:lnTo>
                  <a:lnTo>
                    <a:pt x="39" y="102"/>
                  </a:lnTo>
                  <a:lnTo>
                    <a:pt x="63" y="134"/>
                  </a:lnTo>
                  <a:lnTo>
                    <a:pt x="108" y="193"/>
                  </a:lnTo>
                  <a:lnTo>
                    <a:pt x="166" y="241"/>
                  </a:lnTo>
                  <a:lnTo>
                    <a:pt x="236" y="311"/>
                  </a:lnTo>
                  <a:lnTo>
                    <a:pt x="305" y="362"/>
                  </a:lnTo>
                  <a:lnTo>
                    <a:pt x="348" y="392"/>
                  </a:lnTo>
                  <a:lnTo>
                    <a:pt x="361" y="424"/>
                  </a:lnTo>
                  <a:lnTo>
                    <a:pt x="345" y="443"/>
                  </a:lnTo>
                  <a:lnTo>
                    <a:pt x="321" y="433"/>
                  </a:lnTo>
                  <a:lnTo>
                    <a:pt x="252" y="368"/>
                  </a:lnTo>
                  <a:lnTo>
                    <a:pt x="166" y="295"/>
                  </a:lnTo>
                  <a:lnTo>
                    <a:pt x="102" y="241"/>
                  </a:lnTo>
                  <a:lnTo>
                    <a:pt x="60" y="193"/>
                  </a:lnTo>
                  <a:lnTo>
                    <a:pt x="23" y="142"/>
                  </a:lnTo>
                  <a:lnTo>
                    <a:pt x="7" y="109"/>
                  </a:lnTo>
                  <a:lnTo>
                    <a:pt x="0" y="72"/>
                  </a:lnTo>
                  <a:lnTo>
                    <a:pt x="10" y="48"/>
                  </a:lnTo>
                  <a:lnTo>
                    <a:pt x="36" y="37"/>
                  </a:lnTo>
                  <a:lnTo>
                    <a:pt x="83" y="40"/>
                  </a:lnTo>
                  <a:lnTo>
                    <a:pt x="173" y="54"/>
                  </a:lnTo>
                  <a:lnTo>
                    <a:pt x="249" y="54"/>
                  </a:lnTo>
                  <a:lnTo>
                    <a:pt x="305" y="37"/>
                  </a:lnTo>
                  <a:lnTo>
                    <a:pt x="368" y="24"/>
                  </a:lnTo>
                  <a:lnTo>
                    <a:pt x="395" y="0"/>
                  </a:lnTo>
                  <a:lnTo>
                    <a:pt x="424" y="0"/>
                  </a:lnTo>
                  <a:lnTo>
                    <a:pt x="490" y="40"/>
                  </a:lnTo>
                  <a:lnTo>
                    <a:pt x="561" y="96"/>
                  </a:lnTo>
                  <a:lnTo>
                    <a:pt x="637" y="145"/>
                  </a:lnTo>
                  <a:lnTo>
                    <a:pt x="680" y="176"/>
                  </a:lnTo>
                  <a:lnTo>
                    <a:pt x="724" y="206"/>
                  </a:lnTo>
                  <a:lnTo>
                    <a:pt x="743" y="217"/>
                  </a:lnTo>
                  <a:lnTo>
                    <a:pt x="733" y="239"/>
                  </a:lnTo>
                  <a:lnTo>
                    <a:pt x="700" y="257"/>
                  </a:lnTo>
                  <a:lnTo>
                    <a:pt x="664" y="290"/>
                  </a:lnTo>
                  <a:lnTo>
                    <a:pt x="630" y="304"/>
                  </a:lnTo>
                  <a:lnTo>
                    <a:pt x="567" y="331"/>
                  </a:lnTo>
                  <a:lnTo>
                    <a:pt x="521" y="352"/>
                  </a:lnTo>
                  <a:lnTo>
                    <a:pt x="471" y="383"/>
                  </a:lnTo>
                  <a:lnTo>
                    <a:pt x="418" y="392"/>
                  </a:lnTo>
                  <a:lnTo>
                    <a:pt x="377" y="395"/>
                  </a:lnTo>
                  <a:lnTo>
                    <a:pt x="364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2000" y="4070520"/>
              <a:ext cx="185760" cy="122040"/>
            </a:xfrm>
            <a:custGeom>
              <a:avLst/>
              <a:gdLst/>
              <a:ahLst/>
              <a:rect l="l" t="t" r="r" b="b"/>
              <a:pathLst>
                <a:path w="235" h="153">
                  <a:moveTo>
                    <a:pt x="198" y="18"/>
                  </a:moveTo>
                  <a:lnTo>
                    <a:pt x="148" y="59"/>
                  </a:lnTo>
                  <a:lnTo>
                    <a:pt x="103" y="96"/>
                  </a:lnTo>
                  <a:lnTo>
                    <a:pt x="37" y="120"/>
                  </a:lnTo>
                  <a:lnTo>
                    <a:pt x="0" y="132"/>
                  </a:lnTo>
                  <a:lnTo>
                    <a:pt x="29" y="153"/>
                  </a:lnTo>
                  <a:lnTo>
                    <a:pt x="76" y="146"/>
                  </a:lnTo>
                  <a:lnTo>
                    <a:pt x="150" y="96"/>
                  </a:lnTo>
                  <a:lnTo>
                    <a:pt x="235" y="0"/>
                  </a:lnTo>
                  <a:lnTo>
                    <a:pt x="1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75" name=""/>
          <p:cNvSpPr/>
          <p:nvPr/>
        </p:nvSpPr>
        <p:spPr>
          <a:xfrm>
            <a:off x="2590920" y="1690560"/>
            <a:ext cx="571500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rganizacja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zygotowanie założeń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icjowanie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terow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zakresem eta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ykl życ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380880" y="1876320"/>
          <a:ext cx="8534520" cy="37339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297080"/>
                <a:gridCol w="1216080"/>
                <a:gridCol w="1220760"/>
                <a:gridCol w="1217520"/>
                <a:gridCol w="1220760"/>
              </a:tblGrid>
              <a:tr h="482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 gridSpan="7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 gridSpan="7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ykl życ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80880" y="1876320"/>
          <a:ext cx="8534520" cy="37339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297080"/>
                <a:gridCol w="1216080"/>
                <a:gridCol w="1220760"/>
                <a:gridCol w="1217520"/>
                <a:gridCol w="1220760"/>
              </a:tblGrid>
              <a:tr h="482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amknięci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812520">
                <a:tc gridSpan="7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 gridSpan="7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ykl życ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80880" y="1876320"/>
          <a:ext cx="8534520" cy="37339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297080"/>
                <a:gridCol w="1216080"/>
                <a:gridCol w="1220760"/>
                <a:gridCol w="1217520"/>
                <a:gridCol w="1220760"/>
              </a:tblGrid>
              <a:tr h="482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icj. projek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amknięci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812520">
                <a:tc gridSpan="7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 gridSpan="7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ó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85800"/>
            <a:ext cx="7086600" cy="57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1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sady skutecznego dział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8.03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Kontrola jakości o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zacowanie rozmiaru i pracochłonn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5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ndardy serii ISO 9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9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odele C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9.04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żynieria wymaga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6.05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Zarządzanie projektami i PRINCE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3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ersonal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20.05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am Softwar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3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ational Unified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0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winne metodyki program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17.06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kty dyplomowe i 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ykl życ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80880" y="1876320"/>
          <a:ext cx="8534520" cy="37339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297080"/>
                <a:gridCol w="1216080"/>
                <a:gridCol w="1220760"/>
                <a:gridCol w="1217520"/>
                <a:gridCol w="1220760"/>
              </a:tblGrid>
              <a:tr h="482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zyg. zał. pro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icj. projek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amknięci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812520">
                <a:tc gridSpan="7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 gridSpan="7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PRINCE 2 – Pierwsza przymiark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52280" y="2209680"/>
            <a:ext cx="8839440" cy="3733920"/>
            <a:chOff x="152280" y="2209680"/>
            <a:chExt cx="8839440" cy="3733920"/>
          </a:xfrm>
        </p:grpSpPr>
        <p:sp>
          <p:nvSpPr>
            <p:cNvPr id="588" name=""/>
            <p:cNvSpPr/>
            <p:nvPr/>
          </p:nvSpPr>
          <p:spPr>
            <a:xfrm>
              <a:off x="4419720" y="2209680"/>
              <a:ext cx="2590560" cy="82404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Zarządzanie zakresem etapu S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2280" y="2209680"/>
              <a:ext cx="1981440" cy="82404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Przyg. założeń projektu S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33720" y="2666880"/>
              <a:ext cx="380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38480" y="2666880"/>
              <a:ext cx="381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10280" y="2666880"/>
              <a:ext cx="381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74920" y="2209680"/>
              <a:ext cx="175248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Inicjowanie projektu 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38880" y="2209680"/>
              <a:ext cx="1752840" cy="82404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 Narrow"/>
                </a:rPr>
                <a:t>Zamknięcie projektu 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19720" y="2209680"/>
              <a:ext cx="2590560" cy="373392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Zarządzanie etap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96" name=""/>
          <p:cNvGraphicFramePr/>
          <p:nvPr/>
        </p:nvGraphicFramePr>
        <p:xfrm>
          <a:off x="228600" y="762120"/>
          <a:ext cx="8763120" cy="1143000"/>
        </p:xfrm>
        <a:graphic>
          <a:graphicData uri="http://schemas.openxmlformats.org/drawingml/2006/table">
            <a:tbl>
              <a:tblPr/>
              <a:tblGrid>
                <a:gridCol w="1173240"/>
                <a:gridCol w="1252440"/>
                <a:gridCol w="1332000"/>
                <a:gridCol w="1247760"/>
                <a:gridCol w="1254240"/>
                <a:gridCol w="1249200"/>
                <a:gridCol w="1254240"/>
              </a:tblGrid>
              <a:tr h="4255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zyg. zał. Pro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icj. projek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tap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amknięc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98" name=""/>
          <p:cNvSpPr/>
          <p:nvPr/>
        </p:nvSpPr>
        <p:spPr>
          <a:xfrm>
            <a:off x="4419720" y="2209680"/>
            <a:ext cx="2590560" cy="824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Zarządzanie zakresem etapu S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2280" y="2209680"/>
            <a:ext cx="1981440" cy="824040"/>
          </a:xfrm>
          <a:prstGeom prst="rect">
            <a:avLst/>
          </a:prstGeom>
          <a:solidFill>
            <a:srgbClr val="66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zyg. założeń projektu 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438280" y="3606840"/>
            <a:ext cx="1600200" cy="824040"/>
          </a:xfrm>
          <a:prstGeom prst="rect">
            <a:avLst/>
          </a:prstGeom>
          <a:solidFill>
            <a:srgbClr val="660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419720" y="4724280"/>
            <a:ext cx="2590560" cy="118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Zarządzanie wytwarzaniem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7672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62720" y="3048120"/>
            <a:ext cx="0" cy="53316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276720" y="3047760"/>
            <a:ext cx="20574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62720" y="4419720"/>
            <a:ext cx="0" cy="30456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1218960" y="3047760"/>
            <a:ext cx="20574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133720" y="266688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266688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0280" y="266688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74920" y="2209680"/>
            <a:ext cx="175248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Inicjowanie projektu 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238880" y="2209680"/>
            <a:ext cx="1752840" cy="824040"/>
          </a:xfrm>
          <a:prstGeom prst="rect">
            <a:avLst/>
          </a:prstGeom>
          <a:solidFill>
            <a:srgbClr val="00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Zamknięcie projektu 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19720" y="3606840"/>
            <a:ext cx="2590560" cy="824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Sterowanie etapem 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19720" y="2209680"/>
            <a:ext cx="2590560" cy="3733920"/>
          </a:xfrm>
          <a:prstGeom prst="rect">
            <a:avLst/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rządz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16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4930920" y="2413080"/>
            <a:ext cx="1255680" cy="969480"/>
            <a:chOff x="4930920" y="2413080"/>
            <a:chExt cx="1255680" cy="969480"/>
          </a:xfrm>
        </p:grpSpPr>
        <p:grpSp>
          <p:nvGrpSpPr>
            <p:cNvPr id="622" name=""/>
            <p:cNvGrpSpPr/>
            <p:nvPr/>
          </p:nvGrpSpPr>
          <p:grpSpPr>
            <a:xfrm>
              <a:off x="5056200" y="2413080"/>
              <a:ext cx="1130400" cy="512280"/>
              <a:chOff x="5056200" y="2413080"/>
              <a:chExt cx="1130400" cy="512280"/>
            </a:xfrm>
          </p:grpSpPr>
          <p:sp>
            <p:nvSpPr>
              <p:cNvPr id="623" name=""/>
              <p:cNvSpPr/>
              <p:nvPr/>
            </p:nvSpPr>
            <p:spPr>
              <a:xfrm>
                <a:off x="5056200" y="2514600"/>
                <a:ext cx="1130400" cy="390600"/>
              </a:xfrm>
              <a:prstGeom prst="foldedCorner">
                <a:avLst>
                  <a:gd name="adj" fmla="val 31462"/>
                </a:avLst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95800" y="2413080"/>
                <a:ext cx="108900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cc"/>
                    </a:solidFill>
                    <a:latin typeface="Arial Narrow"/>
                  </a:rPr>
                  <a:t>Rapor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056200" y="2971800"/>
              <a:ext cx="1130400" cy="390600"/>
            </a:xfrm>
            <a:prstGeom prst="foldedCorner">
              <a:avLst>
                <a:gd name="adj" fmla="val 31462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95800" y="2870280"/>
              <a:ext cx="1089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Pl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930920" y="2476440"/>
              <a:ext cx="0" cy="40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943520" y="2959200"/>
              <a:ext cx="0" cy="40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29" name="pcs_popular_159" descr=""/>
          <p:cNvPicPr/>
          <p:nvPr/>
        </p:nvPicPr>
        <p:blipFill>
          <a:blip r:embed="rId1"/>
          <a:stretch/>
        </p:blipFill>
        <p:spPr>
          <a:xfrm>
            <a:off x="7765920" y="825480"/>
            <a:ext cx="8906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3886200" y="5173560"/>
            <a:ext cx="1536840" cy="1579680"/>
            <a:chOff x="3886200" y="5173560"/>
            <a:chExt cx="1536840" cy="1579680"/>
          </a:xfrm>
        </p:grpSpPr>
        <p:pic>
          <p:nvPicPr>
            <p:cNvPr id="631" name="Amsad" descr=""/>
            <p:cNvPicPr/>
            <p:nvPr/>
          </p:nvPicPr>
          <p:blipFill>
            <a:blip r:embed="rId2"/>
            <a:stretch/>
          </p:blipFill>
          <p:spPr>
            <a:xfrm>
              <a:off x="4419720" y="5173560"/>
              <a:ext cx="60156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Amsad" descr=""/>
            <p:cNvPicPr/>
            <p:nvPr/>
          </p:nvPicPr>
          <p:blipFill>
            <a:blip r:embed="rId3"/>
            <a:stretch/>
          </p:blipFill>
          <p:spPr>
            <a:xfrm>
              <a:off x="4902120" y="5537160"/>
              <a:ext cx="52092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Amsad" descr=""/>
            <p:cNvPicPr/>
            <p:nvPr/>
          </p:nvPicPr>
          <p:blipFill>
            <a:blip r:embed="rId4"/>
            <a:stretch/>
          </p:blipFill>
          <p:spPr>
            <a:xfrm>
              <a:off x="3886200" y="5419800"/>
              <a:ext cx="520560" cy="13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4" name=""/>
          <p:cNvGrpSpPr/>
          <p:nvPr/>
        </p:nvGrpSpPr>
        <p:grpSpPr>
          <a:xfrm>
            <a:off x="5545080" y="5114880"/>
            <a:ext cx="726840" cy="1633320"/>
            <a:chOff x="5545080" y="5114880"/>
            <a:chExt cx="726840" cy="1633320"/>
          </a:xfrm>
        </p:grpSpPr>
        <p:sp>
          <p:nvSpPr>
            <p:cNvPr id="635" name=""/>
            <p:cNvSpPr/>
            <p:nvPr/>
          </p:nvSpPr>
          <p:spPr>
            <a:xfrm>
              <a:off x="5725080" y="5196960"/>
              <a:ext cx="421200" cy="367200"/>
            </a:xfrm>
            <a:custGeom>
              <a:avLst/>
              <a:gdLst/>
              <a:ahLst/>
              <a:rect l="l" t="t" r="r" b="b"/>
              <a:pathLst>
                <a:path w="853" h="831">
                  <a:moveTo>
                    <a:pt x="260" y="351"/>
                  </a:moveTo>
                  <a:lnTo>
                    <a:pt x="335" y="241"/>
                  </a:lnTo>
                  <a:lnTo>
                    <a:pt x="418" y="157"/>
                  </a:lnTo>
                  <a:lnTo>
                    <a:pt x="502" y="55"/>
                  </a:lnTo>
                  <a:lnTo>
                    <a:pt x="603" y="9"/>
                  </a:lnTo>
                  <a:lnTo>
                    <a:pt x="686" y="0"/>
                  </a:lnTo>
                  <a:lnTo>
                    <a:pt x="770" y="28"/>
                  </a:lnTo>
                  <a:lnTo>
                    <a:pt x="817" y="93"/>
                  </a:lnTo>
                  <a:lnTo>
                    <a:pt x="853" y="212"/>
                  </a:lnTo>
                  <a:lnTo>
                    <a:pt x="844" y="342"/>
                  </a:lnTo>
                  <a:lnTo>
                    <a:pt x="807" y="453"/>
                  </a:lnTo>
                  <a:lnTo>
                    <a:pt x="714" y="581"/>
                  </a:lnTo>
                  <a:lnTo>
                    <a:pt x="613" y="674"/>
                  </a:lnTo>
                  <a:lnTo>
                    <a:pt x="502" y="758"/>
                  </a:lnTo>
                  <a:lnTo>
                    <a:pt x="381" y="813"/>
                  </a:lnTo>
                  <a:lnTo>
                    <a:pt x="278" y="831"/>
                  </a:lnTo>
                  <a:lnTo>
                    <a:pt x="232" y="803"/>
                  </a:lnTo>
                  <a:lnTo>
                    <a:pt x="195" y="692"/>
                  </a:lnTo>
                  <a:lnTo>
                    <a:pt x="205" y="544"/>
                  </a:lnTo>
                  <a:lnTo>
                    <a:pt x="28" y="555"/>
                  </a:lnTo>
                  <a:lnTo>
                    <a:pt x="0" y="526"/>
                  </a:lnTo>
                  <a:lnTo>
                    <a:pt x="28" y="471"/>
                  </a:lnTo>
                  <a:lnTo>
                    <a:pt x="214" y="462"/>
                  </a:lnTo>
                  <a:lnTo>
                    <a:pt x="260" y="35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04920" y="5585760"/>
              <a:ext cx="290880" cy="542880"/>
            </a:xfrm>
            <a:custGeom>
              <a:avLst/>
              <a:gdLst/>
              <a:ahLst/>
              <a:rect l="l" t="t" r="r" b="b"/>
              <a:pathLst>
                <a:path w="590" h="1226">
                  <a:moveTo>
                    <a:pt x="165" y="102"/>
                  </a:moveTo>
                  <a:lnTo>
                    <a:pt x="249" y="28"/>
                  </a:lnTo>
                  <a:lnTo>
                    <a:pt x="378" y="0"/>
                  </a:lnTo>
                  <a:lnTo>
                    <a:pt x="489" y="18"/>
                  </a:lnTo>
                  <a:lnTo>
                    <a:pt x="572" y="93"/>
                  </a:lnTo>
                  <a:lnTo>
                    <a:pt x="590" y="148"/>
                  </a:lnTo>
                  <a:lnTo>
                    <a:pt x="590" y="223"/>
                  </a:lnTo>
                  <a:lnTo>
                    <a:pt x="553" y="289"/>
                  </a:lnTo>
                  <a:lnTo>
                    <a:pt x="489" y="399"/>
                  </a:lnTo>
                  <a:lnTo>
                    <a:pt x="460" y="529"/>
                  </a:lnTo>
                  <a:lnTo>
                    <a:pt x="451" y="641"/>
                  </a:lnTo>
                  <a:lnTo>
                    <a:pt x="480" y="761"/>
                  </a:lnTo>
                  <a:lnTo>
                    <a:pt x="553" y="873"/>
                  </a:lnTo>
                  <a:lnTo>
                    <a:pt x="581" y="984"/>
                  </a:lnTo>
                  <a:lnTo>
                    <a:pt x="572" y="1087"/>
                  </a:lnTo>
                  <a:lnTo>
                    <a:pt x="517" y="1171"/>
                  </a:lnTo>
                  <a:lnTo>
                    <a:pt x="442" y="1217"/>
                  </a:lnTo>
                  <a:lnTo>
                    <a:pt x="350" y="1226"/>
                  </a:lnTo>
                  <a:lnTo>
                    <a:pt x="240" y="1226"/>
                  </a:lnTo>
                  <a:lnTo>
                    <a:pt x="157" y="1180"/>
                  </a:lnTo>
                  <a:lnTo>
                    <a:pt x="75" y="1041"/>
                  </a:lnTo>
                  <a:lnTo>
                    <a:pt x="18" y="920"/>
                  </a:lnTo>
                  <a:lnTo>
                    <a:pt x="0" y="734"/>
                  </a:lnTo>
                  <a:lnTo>
                    <a:pt x="18" y="567"/>
                  </a:lnTo>
                  <a:lnTo>
                    <a:pt x="55" y="390"/>
                  </a:lnTo>
                  <a:lnTo>
                    <a:pt x="110" y="214"/>
                  </a:lnTo>
                  <a:lnTo>
                    <a:pt x="165" y="102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34960" y="5603040"/>
              <a:ext cx="323640" cy="487080"/>
            </a:xfrm>
            <a:custGeom>
              <a:avLst/>
              <a:gdLst/>
              <a:ahLst/>
              <a:rect l="l" t="t" r="r" b="b"/>
              <a:pathLst>
                <a:path w="656" h="1100">
                  <a:moveTo>
                    <a:pt x="0" y="55"/>
                  </a:moveTo>
                  <a:lnTo>
                    <a:pt x="10" y="9"/>
                  </a:lnTo>
                  <a:lnTo>
                    <a:pt x="111" y="0"/>
                  </a:lnTo>
                  <a:lnTo>
                    <a:pt x="166" y="46"/>
                  </a:lnTo>
                  <a:lnTo>
                    <a:pt x="250" y="166"/>
                  </a:lnTo>
                  <a:lnTo>
                    <a:pt x="361" y="323"/>
                  </a:lnTo>
                  <a:lnTo>
                    <a:pt x="463" y="435"/>
                  </a:lnTo>
                  <a:lnTo>
                    <a:pt x="647" y="638"/>
                  </a:lnTo>
                  <a:lnTo>
                    <a:pt x="656" y="685"/>
                  </a:lnTo>
                  <a:lnTo>
                    <a:pt x="620" y="712"/>
                  </a:lnTo>
                  <a:lnTo>
                    <a:pt x="528" y="749"/>
                  </a:lnTo>
                  <a:lnTo>
                    <a:pt x="399" y="777"/>
                  </a:lnTo>
                  <a:lnTo>
                    <a:pt x="241" y="786"/>
                  </a:lnTo>
                  <a:lnTo>
                    <a:pt x="186" y="795"/>
                  </a:lnTo>
                  <a:lnTo>
                    <a:pt x="166" y="833"/>
                  </a:lnTo>
                  <a:lnTo>
                    <a:pt x="204" y="897"/>
                  </a:lnTo>
                  <a:lnTo>
                    <a:pt x="333" y="1008"/>
                  </a:lnTo>
                  <a:lnTo>
                    <a:pt x="425" y="1036"/>
                  </a:lnTo>
                  <a:lnTo>
                    <a:pt x="445" y="1072"/>
                  </a:lnTo>
                  <a:lnTo>
                    <a:pt x="408" y="1100"/>
                  </a:lnTo>
                  <a:lnTo>
                    <a:pt x="324" y="1100"/>
                  </a:lnTo>
                  <a:lnTo>
                    <a:pt x="213" y="1036"/>
                  </a:lnTo>
                  <a:lnTo>
                    <a:pt x="120" y="943"/>
                  </a:lnTo>
                  <a:lnTo>
                    <a:pt x="65" y="860"/>
                  </a:lnTo>
                  <a:lnTo>
                    <a:pt x="65" y="795"/>
                  </a:lnTo>
                  <a:lnTo>
                    <a:pt x="102" y="749"/>
                  </a:lnTo>
                  <a:lnTo>
                    <a:pt x="157" y="731"/>
                  </a:lnTo>
                  <a:lnTo>
                    <a:pt x="241" y="721"/>
                  </a:lnTo>
                  <a:lnTo>
                    <a:pt x="333" y="721"/>
                  </a:lnTo>
                  <a:lnTo>
                    <a:pt x="445" y="703"/>
                  </a:lnTo>
                  <a:lnTo>
                    <a:pt x="500" y="685"/>
                  </a:lnTo>
                  <a:lnTo>
                    <a:pt x="528" y="656"/>
                  </a:lnTo>
                  <a:lnTo>
                    <a:pt x="518" y="629"/>
                  </a:lnTo>
                  <a:lnTo>
                    <a:pt x="434" y="555"/>
                  </a:lnTo>
                  <a:lnTo>
                    <a:pt x="305" y="426"/>
                  </a:lnTo>
                  <a:lnTo>
                    <a:pt x="186" y="314"/>
                  </a:lnTo>
                  <a:lnTo>
                    <a:pt x="56" y="194"/>
                  </a:lnTo>
                  <a:lnTo>
                    <a:pt x="10" y="111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26880" y="6013080"/>
              <a:ext cx="349920" cy="735120"/>
            </a:xfrm>
            <a:custGeom>
              <a:avLst/>
              <a:gdLst/>
              <a:ahLst/>
              <a:rect l="l" t="t" r="r" b="b"/>
              <a:pathLst>
                <a:path w="713" h="1660">
                  <a:moveTo>
                    <a:pt x="352" y="0"/>
                  </a:moveTo>
                  <a:lnTo>
                    <a:pt x="453" y="19"/>
                  </a:lnTo>
                  <a:lnTo>
                    <a:pt x="499" y="93"/>
                  </a:lnTo>
                  <a:lnTo>
                    <a:pt x="490" y="269"/>
                  </a:lnTo>
                  <a:lnTo>
                    <a:pt x="472" y="454"/>
                  </a:lnTo>
                  <a:lnTo>
                    <a:pt x="472" y="649"/>
                  </a:lnTo>
                  <a:lnTo>
                    <a:pt x="565" y="881"/>
                  </a:lnTo>
                  <a:lnTo>
                    <a:pt x="639" y="1048"/>
                  </a:lnTo>
                  <a:lnTo>
                    <a:pt x="676" y="1214"/>
                  </a:lnTo>
                  <a:lnTo>
                    <a:pt x="666" y="1362"/>
                  </a:lnTo>
                  <a:lnTo>
                    <a:pt x="666" y="1417"/>
                  </a:lnTo>
                  <a:lnTo>
                    <a:pt x="703" y="1474"/>
                  </a:lnTo>
                  <a:lnTo>
                    <a:pt x="713" y="1529"/>
                  </a:lnTo>
                  <a:lnTo>
                    <a:pt x="685" y="1556"/>
                  </a:lnTo>
                  <a:lnTo>
                    <a:pt x="611" y="1538"/>
                  </a:lnTo>
                  <a:lnTo>
                    <a:pt x="472" y="1520"/>
                  </a:lnTo>
                  <a:lnTo>
                    <a:pt x="306" y="1556"/>
                  </a:lnTo>
                  <a:lnTo>
                    <a:pt x="194" y="1622"/>
                  </a:lnTo>
                  <a:lnTo>
                    <a:pt x="139" y="1660"/>
                  </a:lnTo>
                  <a:lnTo>
                    <a:pt x="82" y="1660"/>
                  </a:lnTo>
                  <a:lnTo>
                    <a:pt x="0" y="1538"/>
                  </a:lnTo>
                  <a:lnTo>
                    <a:pt x="9" y="1520"/>
                  </a:lnTo>
                  <a:lnTo>
                    <a:pt x="176" y="1464"/>
                  </a:lnTo>
                  <a:lnTo>
                    <a:pt x="370" y="1437"/>
                  </a:lnTo>
                  <a:lnTo>
                    <a:pt x="510" y="1428"/>
                  </a:lnTo>
                  <a:lnTo>
                    <a:pt x="593" y="1428"/>
                  </a:lnTo>
                  <a:lnTo>
                    <a:pt x="611" y="1371"/>
                  </a:lnTo>
                  <a:lnTo>
                    <a:pt x="582" y="1214"/>
                  </a:lnTo>
                  <a:lnTo>
                    <a:pt x="518" y="1048"/>
                  </a:lnTo>
                  <a:lnTo>
                    <a:pt x="416" y="834"/>
                  </a:lnTo>
                  <a:lnTo>
                    <a:pt x="332" y="649"/>
                  </a:lnTo>
                  <a:lnTo>
                    <a:pt x="297" y="483"/>
                  </a:lnTo>
                  <a:lnTo>
                    <a:pt x="286" y="297"/>
                  </a:lnTo>
                  <a:lnTo>
                    <a:pt x="286" y="121"/>
                  </a:lnTo>
                  <a:lnTo>
                    <a:pt x="323" y="46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54080" y="6032880"/>
              <a:ext cx="290880" cy="613080"/>
            </a:xfrm>
            <a:custGeom>
              <a:avLst/>
              <a:gdLst/>
              <a:ahLst/>
              <a:rect l="l" t="t" r="r" b="b"/>
              <a:pathLst>
                <a:path w="589" h="1386">
                  <a:moveTo>
                    <a:pt x="442" y="0"/>
                  </a:moveTo>
                  <a:lnTo>
                    <a:pt x="525" y="0"/>
                  </a:lnTo>
                  <a:lnTo>
                    <a:pt x="552" y="56"/>
                  </a:lnTo>
                  <a:lnTo>
                    <a:pt x="571" y="177"/>
                  </a:lnTo>
                  <a:lnTo>
                    <a:pt x="552" y="307"/>
                  </a:lnTo>
                  <a:lnTo>
                    <a:pt x="506" y="567"/>
                  </a:lnTo>
                  <a:lnTo>
                    <a:pt x="516" y="679"/>
                  </a:lnTo>
                  <a:lnTo>
                    <a:pt x="571" y="902"/>
                  </a:lnTo>
                  <a:lnTo>
                    <a:pt x="589" y="1060"/>
                  </a:lnTo>
                  <a:lnTo>
                    <a:pt x="589" y="1181"/>
                  </a:lnTo>
                  <a:lnTo>
                    <a:pt x="561" y="1208"/>
                  </a:lnTo>
                  <a:lnTo>
                    <a:pt x="479" y="1228"/>
                  </a:lnTo>
                  <a:lnTo>
                    <a:pt x="369" y="1255"/>
                  </a:lnTo>
                  <a:lnTo>
                    <a:pt x="257" y="1311"/>
                  </a:lnTo>
                  <a:lnTo>
                    <a:pt x="147" y="1386"/>
                  </a:lnTo>
                  <a:lnTo>
                    <a:pt x="101" y="1386"/>
                  </a:lnTo>
                  <a:lnTo>
                    <a:pt x="0" y="1303"/>
                  </a:lnTo>
                  <a:lnTo>
                    <a:pt x="8" y="1265"/>
                  </a:lnTo>
                  <a:lnTo>
                    <a:pt x="138" y="1208"/>
                  </a:lnTo>
                  <a:lnTo>
                    <a:pt x="358" y="1153"/>
                  </a:lnTo>
                  <a:lnTo>
                    <a:pt x="460" y="1116"/>
                  </a:lnTo>
                  <a:lnTo>
                    <a:pt x="479" y="1078"/>
                  </a:lnTo>
                  <a:lnTo>
                    <a:pt x="479" y="920"/>
                  </a:lnTo>
                  <a:lnTo>
                    <a:pt x="442" y="716"/>
                  </a:lnTo>
                  <a:lnTo>
                    <a:pt x="424" y="585"/>
                  </a:lnTo>
                  <a:lnTo>
                    <a:pt x="404" y="382"/>
                  </a:lnTo>
                  <a:lnTo>
                    <a:pt x="396" y="157"/>
                  </a:lnTo>
                  <a:lnTo>
                    <a:pt x="404" y="56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36760" y="5127840"/>
              <a:ext cx="335160" cy="359640"/>
            </a:xfrm>
            <a:custGeom>
              <a:avLst/>
              <a:gdLst/>
              <a:ahLst/>
              <a:rect l="l" t="t" r="r" b="b"/>
              <a:pathLst>
                <a:path w="680" h="812">
                  <a:moveTo>
                    <a:pt x="180" y="576"/>
                  </a:moveTo>
                  <a:lnTo>
                    <a:pt x="87" y="413"/>
                  </a:lnTo>
                  <a:lnTo>
                    <a:pt x="32" y="273"/>
                  </a:lnTo>
                  <a:lnTo>
                    <a:pt x="0" y="121"/>
                  </a:lnTo>
                  <a:lnTo>
                    <a:pt x="13" y="60"/>
                  </a:lnTo>
                  <a:lnTo>
                    <a:pt x="59" y="60"/>
                  </a:lnTo>
                  <a:lnTo>
                    <a:pt x="116" y="106"/>
                  </a:lnTo>
                  <a:lnTo>
                    <a:pt x="171" y="172"/>
                  </a:lnTo>
                  <a:lnTo>
                    <a:pt x="338" y="79"/>
                  </a:lnTo>
                  <a:lnTo>
                    <a:pt x="425" y="0"/>
                  </a:lnTo>
                  <a:lnTo>
                    <a:pt x="504" y="51"/>
                  </a:lnTo>
                  <a:lnTo>
                    <a:pt x="592" y="167"/>
                  </a:lnTo>
                  <a:lnTo>
                    <a:pt x="658" y="333"/>
                  </a:lnTo>
                  <a:lnTo>
                    <a:pt x="680" y="441"/>
                  </a:lnTo>
                  <a:lnTo>
                    <a:pt x="680" y="478"/>
                  </a:lnTo>
                  <a:lnTo>
                    <a:pt x="592" y="505"/>
                  </a:lnTo>
                  <a:lnTo>
                    <a:pt x="472" y="580"/>
                  </a:lnTo>
                  <a:lnTo>
                    <a:pt x="416" y="613"/>
                  </a:lnTo>
                  <a:lnTo>
                    <a:pt x="463" y="743"/>
                  </a:lnTo>
                  <a:lnTo>
                    <a:pt x="445" y="803"/>
                  </a:lnTo>
                  <a:lnTo>
                    <a:pt x="408" y="812"/>
                  </a:lnTo>
                  <a:lnTo>
                    <a:pt x="305" y="728"/>
                  </a:lnTo>
                  <a:lnTo>
                    <a:pt x="180" y="576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45080" y="5114880"/>
              <a:ext cx="415080" cy="562320"/>
            </a:xfrm>
            <a:custGeom>
              <a:avLst/>
              <a:gdLst/>
              <a:ahLst/>
              <a:rect l="l" t="t" r="r" b="b"/>
              <a:pathLst>
                <a:path w="843" h="1270">
                  <a:moveTo>
                    <a:pt x="518" y="1270"/>
                  </a:moveTo>
                  <a:lnTo>
                    <a:pt x="564" y="1215"/>
                  </a:lnTo>
                  <a:lnTo>
                    <a:pt x="547" y="1132"/>
                  </a:lnTo>
                  <a:lnTo>
                    <a:pt x="509" y="1020"/>
                  </a:lnTo>
                  <a:lnTo>
                    <a:pt x="371" y="890"/>
                  </a:lnTo>
                  <a:lnTo>
                    <a:pt x="231" y="770"/>
                  </a:lnTo>
                  <a:lnTo>
                    <a:pt x="167" y="640"/>
                  </a:lnTo>
                  <a:lnTo>
                    <a:pt x="139" y="437"/>
                  </a:lnTo>
                  <a:lnTo>
                    <a:pt x="296" y="382"/>
                  </a:lnTo>
                  <a:lnTo>
                    <a:pt x="547" y="353"/>
                  </a:lnTo>
                  <a:lnTo>
                    <a:pt x="648" y="362"/>
                  </a:lnTo>
                  <a:lnTo>
                    <a:pt x="676" y="391"/>
                  </a:lnTo>
                  <a:lnTo>
                    <a:pt x="722" y="344"/>
                  </a:lnTo>
                  <a:lnTo>
                    <a:pt x="704" y="298"/>
                  </a:lnTo>
                  <a:lnTo>
                    <a:pt x="750" y="177"/>
                  </a:lnTo>
                  <a:lnTo>
                    <a:pt x="768" y="131"/>
                  </a:lnTo>
                  <a:lnTo>
                    <a:pt x="806" y="57"/>
                  </a:lnTo>
                  <a:lnTo>
                    <a:pt x="843" y="57"/>
                  </a:lnTo>
                  <a:lnTo>
                    <a:pt x="843" y="20"/>
                  </a:lnTo>
                  <a:lnTo>
                    <a:pt x="768" y="0"/>
                  </a:lnTo>
                  <a:lnTo>
                    <a:pt x="722" y="84"/>
                  </a:lnTo>
                  <a:lnTo>
                    <a:pt x="658" y="205"/>
                  </a:lnTo>
                  <a:lnTo>
                    <a:pt x="575" y="261"/>
                  </a:lnTo>
                  <a:lnTo>
                    <a:pt x="445" y="279"/>
                  </a:lnTo>
                  <a:lnTo>
                    <a:pt x="213" y="307"/>
                  </a:lnTo>
                  <a:lnTo>
                    <a:pt x="28" y="362"/>
                  </a:lnTo>
                  <a:lnTo>
                    <a:pt x="0" y="409"/>
                  </a:lnTo>
                  <a:lnTo>
                    <a:pt x="18" y="557"/>
                  </a:lnTo>
                  <a:lnTo>
                    <a:pt x="84" y="762"/>
                  </a:lnTo>
                  <a:lnTo>
                    <a:pt x="176" y="927"/>
                  </a:lnTo>
                  <a:lnTo>
                    <a:pt x="268" y="1075"/>
                  </a:lnTo>
                  <a:lnTo>
                    <a:pt x="352" y="1179"/>
                  </a:lnTo>
                  <a:lnTo>
                    <a:pt x="435" y="1252"/>
                  </a:lnTo>
                  <a:lnTo>
                    <a:pt x="518" y="127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6424560" y="3592440"/>
            <a:ext cx="2719440" cy="1438200"/>
          </a:xfrm>
          <a:prstGeom prst="cloudCallout">
            <a:avLst>
              <a:gd name="adj1" fmla="val -61851"/>
              <a:gd name="adj2" fmla="val 52648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    </a:t>
            </a: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Jestem kierowni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Będę z W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codzienni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" y="1219320"/>
            <a:ext cx="8381880" cy="519120"/>
          </a:xfrm>
          <a:prstGeom prst="rect">
            <a:avLst/>
          </a:prstGeom>
          <a:solidFill>
            <a:srgbClr val="0066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trategiczne zarządzanie projektem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19720" y="2209680"/>
            <a:ext cx="2590560" cy="824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Zarządzanie zakresem etapu S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2280" y="2209680"/>
            <a:ext cx="1981440" cy="824040"/>
          </a:xfrm>
          <a:prstGeom prst="rect">
            <a:avLst/>
          </a:prstGeom>
          <a:solidFill>
            <a:srgbClr val="66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zyg. założeń projektu 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38280" y="3606840"/>
            <a:ext cx="1600200" cy="824040"/>
          </a:xfrm>
          <a:prstGeom prst="rect">
            <a:avLst/>
          </a:prstGeom>
          <a:solidFill>
            <a:srgbClr val="660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19720" y="4724280"/>
            <a:ext cx="2590560" cy="118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Zarządzanie wytwarzaniem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219320" y="175248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175248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175248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001000" y="175248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27672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62720" y="3048120"/>
            <a:ext cx="0" cy="53316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276720" y="3047760"/>
            <a:ext cx="20574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562720" y="4419720"/>
            <a:ext cx="0" cy="30456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1218960" y="3047760"/>
            <a:ext cx="20574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133720" y="266688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38480" y="266688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010280" y="266688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74920" y="2209680"/>
            <a:ext cx="175248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Inicjowanie projektu 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238880" y="2209680"/>
            <a:ext cx="1752840" cy="824040"/>
          </a:xfrm>
          <a:prstGeom prst="rect">
            <a:avLst/>
          </a:prstGeom>
          <a:solidFill>
            <a:srgbClr val="00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Zamknięcie projektu 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19720" y="3606840"/>
            <a:ext cx="2590560" cy="824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Sterowanie etapem 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19720" y="2209680"/>
            <a:ext cx="2590560" cy="3733920"/>
          </a:xfrm>
          <a:prstGeom prst="rect">
            <a:avLst/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rządz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cesy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" y="1219320"/>
            <a:ext cx="8381880" cy="519120"/>
          </a:xfrm>
          <a:prstGeom prst="rect">
            <a:avLst/>
          </a:prstGeom>
          <a:solidFill>
            <a:srgbClr val="0066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trategiczne zarządzanie projektem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2209680"/>
            <a:ext cx="2590560" cy="8240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Zarządzanie zakresem etapu S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280" y="2209680"/>
            <a:ext cx="1981440" cy="824040"/>
          </a:xfrm>
          <a:prstGeom prst="rect">
            <a:avLst/>
          </a:prstGeom>
          <a:solidFill>
            <a:srgbClr val="66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zyg. założeń projektu 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3606840"/>
            <a:ext cx="1600200" cy="824040"/>
          </a:xfrm>
          <a:prstGeom prst="rect">
            <a:avLst/>
          </a:prstGeom>
          <a:solidFill>
            <a:srgbClr val="660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19720" y="4724280"/>
            <a:ext cx="2590560" cy="118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Zarządzanie wytwarzaniem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175248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76720" y="175248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175248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001000" y="175248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7672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6272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76720" y="3047760"/>
            <a:ext cx="20574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562720" y="44197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1218960" y="3047760"/>
            <a:ext cx="20574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266688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38480" y="266688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010280" y="266688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74920" y="2209680"/>
            <a:ext cx="175248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Inicjowanie projektu 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238880" y="2209680"/>
            <a:ext cx="1752840" cy="824040"/>
          </a:xfrm>
          <a:prstGeom prst="rect">
            <a:avLst/>
          </a:prstGeom>
          <a:solidFill>
            <a:srgbClr val="00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Zamknięcie projektu 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19720" y="3606840"/>
            <a:ext cx="2590560" cy="8240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Sterowanie etapem 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Główne części normy ISO 9001:2000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87" name=""/>
          <p:cNvSpPr/>
          <p:nvPr/>
        </p:nvSpPr>
        <p:spPr>
          <a:xfrm>
            <a:off x="2514600" y="1830240"/>
            <a:ext cx="6578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ystem zarządzania jakością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(dokumentac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5 Odpowiedzialność kierownict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6 Zarządzanie zasob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7 Realizacja wyrob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8 Pomiary, analiza i doskonal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52280" y="2438280"/>
            <a:ext cx="228600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ISO 9001: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1690560"/>
            <a:ext cx="571500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rganizacja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zygotowanie założeń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icjowanie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terow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zakresem eta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gotowanie założeń projektu (SU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" y="1219320"/>
            <a:ext cx="8381880" cy="5191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Strategiczne zarządzanie projektem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3759120"/>
            <a:ext cx="259092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Sterowanie etapem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09680" y="3733920"/>
            <a:ext cx="190512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91120" y="5029200"/>
            <a:ext cx="2743200" cy="13723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rządzanie wytwarzaniem produ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0040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07732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3200400"/>
            <a:ext cx="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562720" y="3200400"/>
            <a:ext cx="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62720" y="4724280"/>
            <a:ext cx="0" cy="3049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3276720" y="3200400"/>
            <a:ext cx="205740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1218960" y="3200400"/>
            <a:ext cx="205740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05120" y="2666880"/>
            <a:ext cx="3808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38480" y="2666880"/>
            <a:ext cx="38124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010280" y="2666880"/>
            <a:ext cx="38124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209680"/>
            <a:ext cx="198108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Inicjowanie projektu 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162920" y="2209680"/>
            <a:ext cx="190476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mknięcie projektu 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209680"/>
            <a:ext cx="297180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rządzanie zakresem etapu S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320" y="2209680"/>
            <a:ext cx="1904760" cy="945720"/>
          </a:xfrm>
          <a:prstGeom prst="rect">
            <a:avLst/>
          </a:prstGeom>
          <a:solidFill>
            <a:srgbClr val="66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Przyg. zał. projektu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1219320" y="1219320"/>
            <a:ext cx="6705360" cy="396216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gotowanie założeń projektu (SU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16" name=""/>
          <p:cNvSpPr/>
          <p:nvPr/>
        </p:nvSpPr>
        <p:spPr>
          <a:xfrm>
            <a:off x="1219320" y="341964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002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Wyznaczenie przewodnicz. i kierown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290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162920" y="129528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114720"/>
            <a:ext cx="129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Propozyc-ja proj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762120"/>
            <a:ext cx="190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INC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776160"/>
            <a:ext cx="65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PR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jects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IN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C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ntrolled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206360"/>
            <a:ext cx="8534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430280" indent="-1430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CTA = the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C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ntral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C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mputer and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T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lecommunications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A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gency, 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357800"/>
            <a:ext cx="655308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49320" indent="-9493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989: CCTA wprowadza metodę 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49320" indent="-9493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996: CCTA ogłasza metodę PRINC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rince2-logo2" descr=""/>
          <p:cNvPicPr/>
          <p:nvPr/>
        </p:nvPicPr>
        <p:blipFill>
          <a:blip r:embed="rId1"/>
          <a:stretch/>
        </p:blipFill>
        <p:spPr>
          <a:xfrm>
            <a:off x="2629080" y="2629080"/>
            <a:ext cx="3886200" cy="11048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23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cs_popular_159" descr=""/>
          <p:cNvPicPr/>
          <p:nvPr/>
        </p:nvPicPr>
        <p:blipFill>
          <a:blip r:embed="rId1"/>
          <a:stretch/>
        </p:blipFill>
        <p:spPr>
          <a:xfrm>
            <a:off x="7765920" y="825480"/>
            <a:ext cx="8906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727" name=""/>
          <p:cNvGrpSpPr/>
          <p:nvPr/>
        </p:nvGrpSpPr>
        <p:grpSpPr>
          <a:xfrm>
            <a:off x="5545080" y="4267080"/>
            <a:ext cx="726840" cy="1633320"/>
            <a:chOff x="5545080" y="4267080"/>
            <a:chExt cx="726840" cy="1633320"/>
          </a:xfrm>
        </p:grpSpPr>
        <p:sp>
          <p:nvSpPr>
            <p:cNvPr id="728" name=""/>
            <p:cNvSpPr/>
            <p:nvPr/>
          </p:nvSpPr>
          <p:spPr>
            <a:xfrm>
              <a:off x="5725080" y="4349160"/>
              <a:ext cx="421200" cy="367200"/>
            </a:xfrm>
            <a:custGeom>
              <a:avLst/>
              <a:gdLst/>
              <a:ahLst/>
              <a:rect l="l" t="t" r="r" b="b"/>
              <a:pathLst>
                <a:path w="853" h="831">
                  <a:moveTo>
                    <a:pt x="260" y="351"/>
                  </a:moveTo>
                  <a:lnTo>
                    <a:pt x="335" y="241"/>
                  </a:lnTo>
                  <a:lnTo>
                    <a:pt x="418" y="157"/>
                  </a:lnTo>
                  <a:lnTo>
                    <a:pt x="502" y="55"/>
                  </a:lnTo>
                  <a:lnTo>
                    <a:pt x="603" y="9"/>
                  </a:lnTo>
                  <a:lnTo>
                    <a:pt x="686" y="0"/>
                  </a:lnTo>
                  <a:lnTo>
                    <a:pt x="770" y="28"/>
                  </a:lnTo>
                  <a:lnTo>
                    <a:pt x="817" y="93"/>
                  </a:lnTo>
                  <a:lnTo>
                    <a:pt x="853" y="212"/>
                  </a:lnTo>
                  <a:lnTo>
                    <a:pt x="844" y="342"/>
                  </a:lnTo>
                  <a:lnTo>
                    <a:pt x="807" y="453"/>
                  </a:lnTo>
                  <a:lnTo>
                    <a:pt x="714" y="581"/>
                  </a:lnTo>
                  <a:lnTo>
                    <a:pt x="613" y="674"/>
                  </a:lnTo>
                  <a:lnTo>
                    <a:pt x="502" y="758"/>
                  </a:lnTo>
                  <a:lnTo>
                    <a:pt x="381" y="813"/>
                  </a:lnTo>
                  <a:lnTo>
                    <a:pt x="278" y="831"/>
                  </a:lnTo>
                  <a:lnTo>
                    <a:pt x="232" y="803"/>
                  </a:lnTo>
                  <a:lnTo>
                    <a:pt x="195" y="692"/>
                  </a:lnTo>
                  <a:lnTo>
                    <a:pt x="205" y="544"/>
                  </a:lnTo>
                  <a:lnTo>
                    <a:pt x="28" y="555"/>
                  </a:lnTo>
                  <a:lnTo>
                    <a:pt x="0" y="526"/>
                  </a:lnTo>
                  <a:lnTo>
                    <a:pt x="28" y="471"/>
                  </a:lnTo>
                  <a:lnTo>
                    <a:pt x="214" y="462"/>
                  </a:lnTo>
                  <a:lnTo>
                    <a:pt x="260" y="35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04920" y="4737960"/>
              <a:ext cx="290880" cy="542880"/>
            </a:xfrm>
            <a:custGeom>
              <a:avLst/>
              <a:gdLst/>
              <a:ahLst/>
              <a:rect l="l" t="t" r="r" b="b"/>
              <a:pathLst>
                <a:path w="590" h="1226">
                  <a:moveTo>
                    <a:pt x="165" y="102"/>
                  </a:moveTo>
                  <a:lnTo>
                    <a:pt x="249" y="28"/>
                  </a:lnTo>
                  <a:lnTo>
                    <a:pt x="378" y="0"/>
                  </a:lnTo>
                  <a:lnTo>
                    <a:pt x="489" y="18"/>
                  </a:lnTo>
                  <a:lnTo>
                    <a:pt x="572" y="93"/>
                  </a:lnTo>
                  <a:lnTo>
                    <a:pt x="590" y="148"/>
                  </a:lnTo>
                  <a:lnTo>
                    <a:pt x="590" y="223"/>
                  </a:lnTo>
                  <a:lnTo>
                    <a:pt x="553" y="289"/>
                  </a:lnTo>
                  <a:lnTo>
                    <a:pt x="489" y="399"/>
                  </a:lnTo>
                  <a:lnTo>
                    <a:pt x="460" y="529"/>
                  </a:lnTo>
                  <a:lnTo>
                    <a:pt x="451" y="641"/>
                  </a:lnTo>
                  <a:lnTo>
                    <a:pt x="480" y="761"/>
                  </a:lnTo>
                  <a:lnTo>
                    <a:pt x="553" y="873"/>
                  </a:lnTo>
                  <a:lnTo>
                    <a:pt x="581" y="984"/>
                  </a:lnTo>
                  <a:lnTo>
                    <a:pt x="572" y="1087"/>
                  </a:lnTo>
                  <a:lnTo>
                    <a:pt x="517" y="1171"/>
                  </a:lnTo>
                  <a:lnTo>
                    <a:pt x="442" y="1217"/>
                  </a:lnTo>
                  <a:lnTo>
                    <a:pt x="350" y="1226"/>
                  </a:lnTo>
                  <a:lnTo>
                    <a:pt x="240" y="1226"/>
                  </a:lnTo>
                  <a:lnTo>
                    <a:pt x="157" y="1180"/>
                  </a:lnTo>
                  <a:lnTo>
                    <a:pt x="75" y="1041"/>
                  </a:lnTo>
                  <a:lnTo>
                    <a:pt x="18" y="920"/>
                  </a:lnTo>
                  <a:lnTo>
                    <a:pt x="0" y="734"/>
                  </a:lnTo>
                  <a:lnTo>
                    <a:pt x="18" y="567"/>
                  </a:lnTo>
                  <a:lnTo>
                    <a:pt x="55" y="390"/>
                  </a:lnTo>
                  <a:lnTo>
                    <a:pt x="110" y="214"/>
                  </a:lnTo>
                  <a:lnTo>
                    <a:pt x="165" y="102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34960" y="4755240"/>
              <a:ext cx="323640" cy="487080"/>
            </a:xfrm>
            <a:custGeom>
              <a:avLst/>
              <a:gdLst/>
              <a:ahLst/>
              <a:rect l="l" t="t" r="r" b="b"/>
              <a:pathLst>
                <a:path w="656" h="1100">
                  <a:moveTo>
                    <a:pt x="0" y="55"/>
                  </a:moveTo>
                  <a:lnTo>
                    <a:pt x="10" y="9"/>
                  </a:lnTo>
                  <a:lnTo>
                    <a:pt x="111" y="0"/>
                  </a:lnTo>
                  <a:lnTo>
                    <a:pt x="166" y="46"/>
                  </a:lnTo>
                  <a:lnTo>
                    <a:pt x="250" y="166"/>
                  </a:lnTo>
                  <a:lnTo>
                    <a:pt x="361" y="323"/>
                  </a:lnTo>
                  <a:lnTo>
                    <a:pt x="463" y="435"/>
                  </a:lnTo>
                  <a:lnTo>
                    <a:pt x="647" y="638"/>
                  </a:lnTo>
                  <a:lnTo>
                    <a:pt x="656" y="685"/>
                  </a:lnTo>
                  <a:lnTo>
                    <a:pt x="620" y="712"/>
                  </a:lnTo>
                  <a:lnTo>
                    <a:pt x="528" y="749"/>
                  </a:lnTo>
                  <a:lnTo>
                    <a:pt x="399" y="777"/>
                  </a:lnTo>
                  <a:lnTo>
                    <a:pt x="241" y="786"/>
                  </a:lnTo>
                  <a:lnTo>
                    <a:pt x="186" y="795"/>
                  </a:lnTo>
                  <a:lnTo>
                    <a:pt x="166" y="833"/>
                  </a:lnTo>
                  <a:lnTo>
                    <a:pt x="204" y="897"/>
                  </a:lnTo>
                  <a:lnTo>
                    <a:pt x="333" y="1008"/>
                  </a:lnTo>
                  <a:lnTo>
                    <a:pt x="425" y="1036"/>
                  </a:lnTo>
                  <a:lnTo>
                    <a:pt x="445" y="1072"/>
                  </a:lnTo>
                  <a:lnTo>
                    <a:pt x="408" y="1100"/>
                  </a:lnTo>
                  <a:lnTo>
                    <a:pt x="324" y="1100"/>
                  </a:lnTo>
                  <a:lnTo>
                    <a:pt x="213" y="1036"/>
                  </a:lnTo>
                  <a:lnTo>
                    <a:pt x="120" y="943"/>
                  </a:lnTo>
                  <a:lnTo>
                    <a:pt x="65" y="860"/>
                  </a:lnTo>
                  <a:lnTo>
                    <a:pt x="65" y="795"/>
                  </a:lnTo>
                  <a:lnTo>
                    <a:pt x="102" y="749"/>
                  </a:lnTo>
                  <a:lnTo>
                    <a:pt x="157" y="731"/>
                  </a:lnTo>
                  <a:lnTo>
                    <a:pt x="241" y="721"/>
                  </a:lnTo>
                  <a:lnTo>
                    <a:pt x="333" y="721"/>
                  </a:lnTo>
                  <a:lnTo>
                    <a:pt x="445" y="703"/>
                  </a:lnTo>
                  <a:lnTo>
                    <a:pt x="500" y="685"/>
                  </a:lnTo>
                  <a:lnTo>
                    <a:pt x="528" y="656"/>
                  </a:lnTo>
                  <a:lnTo>
                    <a:pt x="518" y="629"/>
                  </a:lnTo>
                  <a:lnTo>
                    <a:pt x="434" y="555"/>
                  </a:lnTo>
                  <a:lnTo>
                    <a:pt x="305" y="426"/>
                  </a:lnTo>
                  <a:lnTo>
                    <a:pt x="186" y="314"/>
                  </a:lnTo>
                  <a:lnTo>
                    <a:pt x="56" y="194"/>
                  </a:lnTo>
                  <a:lnTo>
                    <a:pt x="10" y="111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26880" y="5165280"/>
              <a:ext cx="349920" cy="735120"/>
            </a:xfrm>
            <a:custGeom>
              <a:avLst/>
              <a:gdLst/>
              <a:ahLst/>
              <a:rect l="l" t="t" r="r" b="b"/>
              <a:pathLst>
                <a:path w="713" h="1660">
                  <a:moveTo>
                    <a:pt x="352" y="0"/>
                  </a:moveTo>
                  <a:lnTo>
                    <a:pt x="453" y="19"/>
                  </a:lnTo>
                  <a:lnTo>
                    <a:pt x="499" y="93"/>
                  </a:lnTo>
                  <a:lnTo>
                    <a:pt x="490" y="269"/>
                  </a:lnTo>
                  <a:lnTo>
                    <a:pt x="472" y="454"/>
                  </a:lnTo>
                  <a:lnTo>
                    <a:pt x="472" y="649"/>
                  </a:lnTo>
                  <a:lnTo>
                    <a:pt x="565" y="881"/>
                  </a:lnTo>
                  <a:lnTo>
                    <a:pt x="639" y="1048"/>
                  </a:lnTo>
                  <a:lnTo>
                    <a:pt x="676" y="1214"/>
                  </a:lnTo>
                  <a:lnTo>
                    <a:pt x="666" y="1362"/>
                  </a:lnTo>
                  <a:lnTo>
                    <a:pt x="666" y="1417"/>
                  </a:lnTo>
                  <a:lnTo>
                    <a:pt x="703" y="1474"/>
                  </a:lnTo>
                  <a:lnTo>
                    <a:pt x="713" y="1529"/>
                  </a:lnTo>
                  <a:lnTo>
                    <a:pt x="685" y="1556"/>
                  </a:lnTo>
                  <a:lnTo>
                    <a:pt x="611" y="1538"/>
                  </a:lnTo>
                  <a:lnTo>
                    <a:pt x="472" y="1520"/>
                  </a:lnTo>
                  <a:lnTo>
                    <a:pt x="306" y="1556"/>
                  </a:lnTo>
                  <a:lnTo>
                    <a:pt x="194" y="1622"/>
                  </a:lnTo>
                  <a:lnTo>
                    <a:pt x="139" y="1660"/>
                  </a:lnTo>
                  <a:lnTo>
                    <a:pt x="82" y="1660"/>
                  </a:lnTo>
                  <a:lnTo>
                    <a:pt x="0" y="1538"/>
                  </a:lnTo>
                  <a:lnTo>
                    <a:pt x="9" y="1520"/>
                  </a:lnTo>
                  <a:lnTo>
                    <a:pt x="176" y="1464"/>
                  </a:lnTo>
                  <a:lnTo>
                    <a:pt x="370" y="1437"/>
                  </a:lnTo>
                  <a:lnTo>
                    <a:pt x="510" y="1428"/>
                  </a:lnTo>
                  <a:lnTo>
                    <a:pt x="593" y="1428"/>
                  </a:lnTo>
                  <a:lnTo>
                    <a:pt x="611" y="1371"/>
                  </a:lnTo>
                  <a:lnTo>
                    <a:pt x="582" y="1214"/>
                  </a:lnTo>
                  <a:lnTo>
                    <a:pt x="518" y="1048"/>
                  </a:lnTo>
                  <a:lnTo>
                    <a:pt x="416" y="834"/>
                  </a:lnTo>
                  <a:lnTo>
                    <a:pt x="332" y="649"/>
                  </a:lnTo>
                  <a:lnTo>
                    <a:pt x="297" y="483"/>
                  </a:lnTo>
                  <a:lnTo>
                    <a:pt x="286" y="297"/>
                  </a:lnTo>
                  <a:lnTo>
                    <a:pt x="286" y="121"/>
                  </a:lnTo>
                  <a:lnTo>
                    <a:pt x="323" y="46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54080" y="5185080"/>
              <a:ext cx="290880" cy="613080"/>
            </a:xfrm>
            <a:custGeom>
              <a:avLst/>
              <a:gdLst/>
              <a:ahLst/>
              <a:rect l="l" t="t" r="r" b="b"/>
              <a:pathLst>
                <a:path w="589" h="1386">
                  <a:moveTo>
                    <a:pt x="442" y="0"/>
                  </a:moveTo>
                  <a:lnTo>
                    <a:pt x="525" y="0"/>
                  </a:lnTo>
                  <a:lnTo>
                    <a:pt x="552" y="56"/>
                  </a:lnTo>
                  <a:lnTo>
                    <a:pt x="571" y="177"/>
                  </a:lnTo>
                  <a:lnTo>
                    <a:pt x="552" y="307"/>
                  </a:lnTo>
                  <a:lnTo>
                    <a:pt x="506" y="567"/>
                  </a:lnTo>
                  <a:lnTo>
                    <a:pt x="516" y="679"/>
                  </a:lnTo>
                  <a:lnTo>
                    <a:pt x="571" y="902"/>
                  </a:lnTo>
                  <a:lnTo>
                    <a:pt x="589" y="1060"/>
                  </a:lnTo>
                  <a:lnTo>
                    <a:pt x="589" y="1181"/>
                  </a:lnTo>
                  <a:lnTo>
                    <a:pt x="561" y="1208"/>
                  </a:lnTo>
                  <a:lnTo>
                    <a:pt x="479" y="1228"/>
                  </a:lnTo>
                  <a:lnTo>
                    <a:pt x="369" y="1255"/>
                  </a:lnTo>
                  <a:lnTo>
                    <a:pt x="257" y="1311"/>
                  </a:lnTo>
                  <a:lnTo>
                    <a:pt x="147" y="1386"/>
                  </a:lnTo>
                  <a:lnTo>
                    <a:pt x="101" y="1386"/>
                  </a:lnTo>
                  <a:lnTo>
                    <a:pt x="0" y="1303"/>
                  </a:lnTo>
                  <a:lnTo>
                    <a:pt x="8" y="1265"/>
                  </a:lnTo>
                  <a:lnTo>
                    <a:pt x="138" y="1208"/>
                  </a:lnTo>
                  <a:lnTo>
                    <a:pt x="358" y="1153"/>
                  </a:lnTo>
                  <a:lnTo>
                    <a:pt x="460" y="1116"/>
                  </a:lnTo>
                  <a:lnTo>
                    <a:pt x="479" y="1078"/>
                  </a:lnTo>
                  <a:lnTo>
                    <a:pt x="479" y="920"/>
                  </a:lnTo>
                  <a:lnTo>
                    <a:pt x="442" y="716"/>
                  </a:lnTo>
                  <a:lnTo>
                    <a:pt x="424" y="585"/>
                  </a:lnTo>
                  <a:lnTo>
                    <a:pt x="404" y="382"/>
                  </a:lnTo>
                  <a:lnTo>
                    <a:pt x="396" y="157"/>
                  </a:lnTo>
                  <a:lnTo>
                    <a:pt x="404" y="56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36760" y="4280040"/>
              <a:ext cx="335160" cy="359640"/>
            </a:xfrm>
            <a:custGeom>
              <a:avLst/>
              <a:gdLst/>
              <a:ahLst/>
              <a:rect l="l" t="t" r="r" b="b"/>
              <a:pathLst>
                <a:path w="680" h="812">
                  <a:moveTo>
                    <a:pt x="180" y="576"/>
                  </a:moveTo>
                  <a:lnTo>
                    <a:pt x="87" y="413"/>
                  </a:lnTo>
                  <a:lnTo>
                    <a:pt x="32" y="273"/>
                  </a:lnTo>
                  <a:lnTo>
                    <a:pt x="0" y="121"/>
                  </a:lnTo>
                  <a:lnTo>
                    <a:pt x="13" y="60"/>
                  </a:lnTo>
                  <a:lnTo>
                    <a:pt x="59" y="60"/>
                  </a:lnTo>
                  <a:lnTo>
                    <a:pt x="116" y="106"/>
                  </a:lnTo>
                  <a:lnTo>
                    <a:pt x="171" y="172"/>
                  </a:lnTo>
                  <a:lnTo>
                    <a:pt x="338" y="79"/>
                  </a:lnTo>
                  <a:lnTo>
                    <a:pt x="425" y="0"/>
                  </a:lnTo>
                  <a:lnTo>
                    <a:pt x="504" y="51"/>
                  </a:lnTo>
                  <a:lnTo>
                    <a:pt x="592" y="167"/>
                  </a:lnTo>
                  <a:lnTo>
                    <a:pt x="658" y="333"/>
                  </a:lnTo>
                  <a:lnTo>
                    <a:pt x="680" y="441"/>
                  </a:lnTo>
                  <a:lnTo>
                    <a:pt x="680" y="478"/>
                  </a:lnTo>
                  <a:lnTo>
                    <a:pt x="592" y="505"/>
                  </a:lnTo>
                  <a:lnTo>
                    <a:pt x="472" y="580"/>
                  </a:lnTo>
                  <a:lnTo>
                    <a:pt x="416" y="613"/>
                  </a:lnTo>
                  <a:lnTo>
                    <a:pt x="463" y="743"/>
                  </a:lnTo>
                  <a:lnTo>
                    <a:pt x="445" y="803"/>
                  </a:lnTo>
                  <a:lnTo>
                    <a:pt x="408" y="812"/>
                  </a:lnTo>
                  <a:lnTo>
                    <a:pt x="305" y="728"/>
                  </a:lnTo>
                  <a:lnTo>
                    <a:pt x="180" y="576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45080" y="4267080"/>
              <a:ext cx="415080" cy="562320"/>
            </a:xfrm>
            <a:custGeom>
              <a:avLst/>
              <a:gdLst/>
              <a:ahLst/>
              <a:rect l="l" t="t" r="r" b="b"/>
              <a:pathLst>
                <a:path w="843" h="1270">
                  <a:moveTo>
                    <a:pt x="518" y="1270"/>
                  </a:moveTo>
                  <a:lnTo>
                    <a:pt x="564" y="1215"/>
                  </a:lnTo>
                  <a:lnTo>
                    <a:pt x="547" y="1132"/>
                  </a:lnTo>
                  <a:lnTo>
                    <a:pt x="509" y="1020"/>
                  </a:lnTo>
                  <a:lnTo>
                    <a:pt x="371" y="890"/>
                  </a:lnTo>
                  <a:lnTo>
                    <a:pt x="231" y="770"/>
                  </a:lnTo>
                  <a:lnTo>
                    <a:pt x="167" y="640"/>
                  </a:lnTo>
                  <a:lnTo>
                    <a:pt x="139" y="437"/>
                  </a:lnTo>
                  <a:lnTo>
                    <a:pt x="296" y="382"/>
                  </a:lnTo>
                  <a:lnTo>
                    <a:pt x="547" y="353"/>
                  </a:lnTo>
                  <a:lnTo>
                    <a:pt x="648" y="362"/>
                  </a:lnTo>
                  <a:lnTo>
                    <a:pt x="676" y="391"/>
                  </a:lnTo>
                  <a:lnTo>
                    <a:pt x="722" y="344"/>
                  </a:lnTo>
                  <a:lnTo>
                    <a:pt x="704" y="298"/>
                  </a:lnTo>
                  <a:lnTo>
                    <a:pt x="750" y="177"/>
                  </a:lnTo>
                  <a:lnTo>
                    <a:pt x="768" y="131"/>
                  </a:lnTo>
                  <a:lnTo>
                    <a:pt x="806" y="57"/>
                  </a:lnTo>
                  <a:lnTo>
                    <a:pt x="843" y="57"/>
                  </a:lnTo>
                  <a:lnTo>
                    <a:pt x="843" y="20"/>
                  </a:lnTo>
                  <a:lnTo>
                    <a:pt x="768" y="0"/>
                  </a:lnTo>
                  <a:lnTo>
                    <a:pt x="722" y="84"/>
                  </a:lnTo>
                  <a:lnTo>
                    <a:pt x="658" y="205"/>
                  </a:lnTo>
                  <a:lnTo>
                    <a:pt x="575" y="261"/>
                  </a:lnTo>
                  <a:lnTo>
                    <a:pt x="445" y="279"/>
                  </a:lnTo>
                  <a:lnTo>
                    <a:pt x="213" y="307"/>
                  </a:lnTo>
                  <a:lnTo>
                    <a:pt x="28" y="362"/>
                  </a:lnTo>
                  <a:lnTo>
                    <a:pt x="0" y="409"/>
                  </a:lnTo>
                  <a:lnTo>
                    <a:pt x="18" y="557"/>
                  </a:lnTo>
                  <a:lnTo>
                    <a:pt x="84" y="762"/>
                  </a:lnTo>
                  <a:lnTo>
                    <a:pt x="176" y="927"/>
                  </a:lnTo>
                  <a:lnTo>
                    <a:pt x="268" y="1075"/>
                  </a:lnTo>
                  <a:lnTo>
                    <a:pt x="352" y="1179"/>
                  </a:lnTo>
                  <a:lnTo>
                    <a:pt x="435" y="1252"/>
                  </a:lnTo>
                  <a:lnTo>
                    <a:pt x="518" y="127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1219320" y="1219320"/>
            <a:ext cx="6705360" cy="396216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gotowanie założeń projektu (SU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341964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002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Wyznaczenie przewodnicz. i kierown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6290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162920" y="129528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114720"/>
            <a:ext cx="129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Propozyc-ja proj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57600" y="1752480"/>
            <a:ext cx="1828800" cy="146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 Zespołu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864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4724280" y="4076640"/>
            <a:ext cx="938160" cy="453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711680" y="4759200"/>
            <a:ext cx="936720" cy="480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48320" y="4076640"/>
            <a:ext cx="0" cy="121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35440" y="3125880"/>
            <a:ext cx="64116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836880" y="2350800"/>
            <a:ext cx="75276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32160" y="518148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68800" y="524520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53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użytkownik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8280" y="2743200"/>
            <a:ext cx="3770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ntrola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05080" y="529596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622840" y="4338720"/>
            <a:ext cx="32814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omocnik Kierow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219320" y="1219320"/>
            <a:ext cx="6705360" cy="396216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gotowanie założeń projektu (SU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341964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7543800" y="243828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002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Wyznaczenie przewodnicz. i kierown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6290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162920" y="129528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114720"/>
            <a:ext cx="129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Propozyc-ja proj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1752480"/>
            <a:ext cx="1828800" cy="146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 Zespołu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64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467480" y="5403960"/>
            <a:ext cx="1676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Zespół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924680" y="2438280"/>
            <a:ext cx="457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81880" y="2438280"/>
            <a:ext cx="0" cy="289584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7150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Wyznaczenie Zespołu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7438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1219320" y="1219320"/>
            <a:ext cx="6705360" cy="396216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gotowanie założeń projektu (SU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8" name=""/>
          <p:cNvSpPr/>
          <p:nvPr/>
        </p:nvSpPr>
        <p:spPr>
          <a:xfrm>
            <a:off x="1219320" y="341964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7543800" y="243828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002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Wyznaczenie przewodnicz. i kierown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6290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162920" y="129528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3114720"/>
            <a:ext cx="129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Propozyc-ja proj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657600" y="1752480"/>
            <a:ext cx="1828800" cy="146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 Zespołu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6864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67480" y="5403960"/>
            <a:ext cx="1676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Zespół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924680" y="2438280"/>
            <a:ext cx="457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381880" y="2438280"/>
            <a:ext cx="0" cy="289584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150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Wyznaczenie Zespołu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438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00200" y="373392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rzygotowanie opisu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6290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05120" y="5479920"/>
            <a:ext cx="12189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Opis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514600" y="5181480"/>
            <a:ext cx="0" cy="30492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pis projekt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97" name=""/>
          <p:cNvSpPr/>
          <p:nvPr/>
        </p:nvSpPr>
        <p:spPr>
          <a:xfrm>
            <a:off x="2286000" y="1452600"/>
            <a:ext cx="4343400" cy="366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Opis kli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Opis proble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Kogo problem dotycz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Jakie są jego implikac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Koncepcja rozwiąz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Lista głównych produ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Ogranicz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Główne czynniki ryzy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219320" y="1219320"/>
            <a:ext cx="6705360" cy="396216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gotowanie założeń projektu (SU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00" name=""/>
          <p:cNvSpPr/>
          <p:nvPr/>
        </p:nvSpPr>
        <p:spPr>
          <a:xfrm>
            <a:off x="1219320" y="341964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7543800" y="243828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6002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Wyznaczenie przewodnicz. i kierown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6290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62920" y="129528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3114720"/>
            <a:ext cx="129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Propozyc-ja proj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657600" y="1752480"/>
            <a:ext cx="1828800" cy="146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 Zespołu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6864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467480" y="5403960"/>
            <a:ext cx="1676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Zespół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924680" y="2438280"/>
            <a:ext cx="457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381880" y="2438280"/>
            <a:ext cx="0" cy="289584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150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Wyznaczenie Zespołu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7438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00200" y="373392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rzygotowanie opisu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6290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05120" y="5479920"/>
            <a:ext cx="12189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Opis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514600" y="5181480"/>
            <a:ext cx="0" cy="30492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657600" y="373392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Zdefiniowanie podejścia do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116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219320" y="1219320"/>
            <a:ext cx="6705360" cy="396216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ygotowanie założeń projektu (SU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22" name=""/>
          <p:cNvSpPr/>
          <p:nvPr/>
        </p:nvSpPr>
        <p:spPr>
          <a:xfrm>
            <a:off x="1219320" y="341964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7543800" y="243828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002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Wyznaczenie przewodnicz. i kierown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290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62920" y="129528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3114720"/>
            <a:ext cx="129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Propozyc-ja proj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553080" y="4876920"/>
            <a:ext cx="0" cy="304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657600" y="1752480"/>
            <a:ext cx="1828800" cy="146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 Zespołu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864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467480" y="5403960"/>
            <a:ext cx="1676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Zespół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24680" y="2438280"/>
            <a:ext cx="457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438280"/>
            <a:ext cx="0" cy="289584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7150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Wyznaczenie Zespołu Zarząd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7438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600200" y="373392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rzygotowanie opisu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6290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05120" y="5479920"/>
            <a:ext cx="12189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Opis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514600" y="5181480"/>
            <a:ext cx="0" cy="30492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657600" y="373392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Zdefiniowanie podejścia do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7116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15000" y="373392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owanie etapu rozpo-częc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705720" y="4525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91320" y="5479920"/>
            <a:ext cx="15238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Plan etapu rozpoczęc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53080" y="5181480"/>
            <a:ext cx="0" cy="30492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48" name=""/>
          <p:cNvSpPr/>
          <p:nvPr/>
        </p:nvSpPr>
        <p:spPr>
          <a:xfrm>
            <a:off x="2590920" y="1690560"/>
            <a:ext cx="571500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rganizacja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zygotowanie założeń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icjowanie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terow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zakresem eta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icjowanie projekt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" y="1219320"/>
            <a:ext cx="8381880" cy="5191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Strategiczne zarządzanie projektem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7080" y="3759120"/>
            <a:ext cx="259092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Sterowanie etapem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97080" y="3759120"/>
            <a:ext cx="190512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8080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8080"/>
                </a:solidFill>
                <a:latin typeface="Arial Narrow"/>
              </a:rPr>
              <a:t>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191120" y="5029200"/>
            <a:ext cx="2743200" cy="13723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rządzanie wytwarzaniem produ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4300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0040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56272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7732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76720" y="3200400"/>
            <a:ext cx="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562720" y="3200400"/>
            <a:ext cx="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62720" y="4724280"/>
            <a:ext cx="0" cy="3049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3276720" y="3200400"/>
            <a:ext cx="205740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1218960" y="3200400"/>
            <a:ext cx="205740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5120" y="2666880"/>
            <a:ext cx="3808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38480" y="2666880"/>
            <a:ext cx="38124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010280" y="2666880"/>
            <a:ext cx="38124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057400" y="2209680"/>
            <a:ext cx="1981080" cy="945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Inicjowanie projektu 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62920" y="2209680"/>
            <a:ext cx="190476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mknięcie projektu 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114800" y="2209680"/>
            <a:ext cx="297180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rządzanie zakresem etapu S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6320" y="2209680"/>
            <a:ext cx="190476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Przyg. zał. projektu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stę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3341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Managing Successful Proje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ith PRINC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914400"/>
            <a:ext cx="58672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etodyka zarządzania przedsięwzięci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Główny aktor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kierownik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ff0033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pl-PL" sz="28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www</a:t>
            </a:r>
            <a:r>
              <a:rPr b="0" lang="pl-PL" sz="2800" spc="-1" strike="noStrike" u="sng">
                <a:solidFill>
                  <a:srgbClr val="ff0033"/>
                </a:solidFill>
                <a:uFillTx/>
                <a:latin typeface="Arial Narrow"/>
                <a:hlinkClick r:id="rId3"/>
              </a:rPr>
              <a:t>.</a:t>
            </a:r>
            <a:r>
              <a:rPr b="0" lang="pl-PL" sz="2800" spc="-1" strike="noStrike" u="sng">
                <a:solidFill>
                  <a:srgbClr val="ff0033"/>
                </a:solidFill>
                <a:uFillTx/>
                <a:latin typeface="Arial Narrow"/>
                <a:hlinkClick r:id="rId4"/>
              </a:rPr>
              <a:t>ccta</a:t>
            </a:r>
            <a:r>
              <a:rPr b="0" lang="pl-PL" sz="2800" spc="-1" strike="noStrike" u="sng">
                <a:solidFill>
                  <a:srgbClr val="ff0033"/>
                </a:solidFill>
                <a:uFillTx/>
                <a:latin typeface="Arial Narrow"/>
                <a:hlinkClick r:id="rId5"/>
              </a:rPr>
              <a:t>.</a:t>
            </a:r>
            <a:r>
              <a:rPr b="0" lang="pl-PL" sz="2800" spc="-1" strike="noStrike" u="sng">
                <a:solidFill>
                  <a:srgbClr val="ff0033"/>
                </a:solidFill>
                <a:uFillTx/>
                <a:latin typeface="Arial Narrow"/>
                <a:hlinkClick r:id="rId6"/>
              </a:rPr>
              <a:t>gov</a:t>
            </a:r>
            <a:r>
              <a:rPr b="0" lang="pl-PL" sz="2800" spc="-1" strike="noStrike" u="sng">
                <a:solidFill>
                  <a:srgbClr val="ff0033"/>
                </a:solidFill>
                <a:uFillTx/>
                <a:latin typeface="Arial Narrow"/>
                <a:hlinkClick r:id="rId7"/>
              </a:rPr>
              <a:t>.</a:t>
            </a:r>
            <a:r>
              <a:rPr b="0" lang="pl-PL" sz="2800" spc="-1" strike="noStrike" u="sng">
                <a:solidFill>
                  <a:srgbClr val="ff0033"/>
                </a:solidFill>
                <a:uFillTx/>
                <a:latin typeface="Arial Narrow"/>
                <a:hlinkClick r:id="rId8"/>
              </a:rPr>
              <a:t>uk</a:t>
            </a:r>
            <a:r>
              <a:rPr b="0" lang="pl-PL" sz="2800" spc="-1" strike="noStrike" u="sng">
                <a:solidFill>
                  <a:srgbClr val="ff0033"/>
                </a:solidFill>
                <a:uFillTx/>
                <a:latin typeface="Arial Narrow"/>
                <a:hlinkClick r:id="rId9"/>
              </a:rPr>
              <a:t>/</a:t>
            </a:r>
            <a:r>
              <a:rPr b="0" lang="pl-PL" sz="2800" spc="-1" strike="noStrike" u="sng">
                <a:solidFill>
                  <a:srgbClr val="ff0033"/>
                </a:solidFill>
                <a:uFillTx/>
                <a:latin typeface="Arial Narrow"/>
                <a:hlinkClick r:id="rId10"/>
              </a:rPr>
              <a:t>prince</a:t>
            </a:r>
            <a:r>
              <a:rPr b="0" lang="pl-PL" sz="2800" spc="-1" strike="noStrike" u="sng">
                <a:solidFill>
                  <a:srgbClr val="ff0033"/>
                </a:solidFill>
                <a:uFillTx/>
                <a:latin typeface="Arial Narrow"/>
                <a:hlinkClick r:id="rId11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rince-book" descr=""/>
          <p:cNvPicPr/>
          <p:nvPr/>
        </p:nvPicPr>
        <p:blipFill>
          <a:blip r:embed="rId12"/>
          <a:stretch/>
        </p:blipFill>
        <p:spPr>
          <a:xfrm>
            <a:off x="76320" y="685800"/>
            <a:ext cx="3087720" cy="45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8600" y="1295280"/>
            <a:ext cx="8686800" cy="381024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1676520"/>
            <a:ext cx="1828800" cy="144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owanie jakoś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43280" y="276876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305920" y="132552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990720" y="1681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 jakości projekt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676520" y="914040"/>
            <a:ext cx="0" cy="7621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743200" y="152280"/>
            <a:ext cx="3022560" cy="3044160"/>
            <a:chOff x="2743200" y="152280"/>
            <a:chExt cx="3022560" cy="3044160"/>
          </a:xfrm>
        </p:grpSpPr>
        <p:sp>
          <p:nvSpPr>
            <p:cNvPr id="880" name=""/>
            <p:cNvSpPr/>
            <p:nvPr/>
          </p:nvSpPr>
          <p:spPr>
            <a:xfrm>
              <a:off x="3822840" y="1676520"/>
              <a:ext cx="1828800" cy="14508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ff"/>
              </a:solidFill>
              <a:miter/>
            </a:ln>
            <a:effectLst>
              <a:outerShdw dist="71785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cc"/>
                  </a:solidFill>
                  <a:latin typeface="Arial Narrow"/>
                </a:rPr>
                <a:t>Planowanie projektu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851360" y="2768760"/>
              <a:ext cx="9144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cc"/>
                  </a:solidFill>
                  <a:latin typeface="Arial Black"/>
                </a:rPr>
                <a:t>IP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14800" y="15228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 Narrow"/>
                </a:rPr>
                <a:t>Plan projekt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43200" y="2438280"/>
              <a:ext cx="1066680" cy="0"/>
            </a:xfrm>
            <a:prstGeom prst="line">
              <a:avLst/>
            </a:prstGeom>
            <a:ln w="38160">
              <a:solidFill>
                <a:srgbClr val="0066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724280" y="914040"/>
              <a:ext cx="0" cy="7621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5638680" y="152280"/>
            <a:ext cx="2857680" cy="3044160"/>
            <a:chOff x="5638680" y="152280"/>
            <a:chExt cx="2857680" cy="3044160"/>
          </a:xfrm>
        </p:grpSpPr>
        <p:sp>
          <p:nvSpPr>
            <p:cNvPr id="886" name=""/>
            <p:cNvSpPr/>
            <p:nvPr/>
          </p:nvSpPr>
          <p:spPr>
            <a:xfrm>
              <a:off x="6553080" y="1676520"/>
              <a:ext cx="1828800" cy="1447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cc"/>
                  </a:solidFill>
                  <a:latin typeface="Arial Narrow"/>
                </a:rPr>
                <a:t>Dopracowanie spojrzenia biz. i czynników ryzyk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81960" y="2768760"/>
              <a:ext cx="9144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cc"/>
                  </a:solidFill>
                  <a:latin typeface="Arial Black"/>
                </a:rPr>
                <a:t>IP3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05720" y="15228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 Narrow"/>
                </a:rPr>
                <a:t>Spojrzenie biznesow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38680" y="2438280"/>
              <a:ext cx="914400" cy="0"/>
            </a:xfrm>
            <a:prstGeom prst="line">
              <a:avLst/>
            </a:prstGeom>
            <a:ln w="38160">
              <a:solidFill>
                <a:srgbClr val="0066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7391520" y="914040"/>
              <a:ext cx="0" cy="7621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" y="1295280"/>
            <a:ext cx="8686800" cy="381024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914400" y="365760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Zdefiniowanie mechanizmów kontrol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14400" y="1676520"/>
            <a:ext cx="1828800" cy="144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owanie jakoś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22840" y="1676520"/>
            <a:ext cx="1828800" cy="1450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  <a:effectLst>
            <a:outerShdw dist="71785" dir="189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owanie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553080" y="1676520"/>
            <a:ext cx="1828800" cy="144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opracowanie spojrzenia biz. i czynników ryzy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43280" y="276876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851360" y="276876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81960" y="276876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43280" y="4444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305920" y="132552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90720" y="1681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 jakości projekt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114800" y="1522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05720" y="1522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Spojrzenie biznesow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52480" y="534996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Mechaniz-my kont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320" y="53341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 komunikacj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438280" y="4800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990720" y="4800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638680" y="2438280"/>
            <a:ext cx="9144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381880" y="2438280"/>
            <a:ext cx="3049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686800" y="2438280"/>
            <a:ext cx="0" cy="91440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380880" y="3352680"/>
            <a:ext cx="83059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0880" y="3352680"/>
            <a:ext cx="0" cy="91440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0880" y="4267080"/>
            <a:ext cx="5335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676520" y="914040"/>
            <a:ext cx="0" cy="7621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724280" y="914040"/>
            <a:ext cx="0" cy="7621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7391520" y="914040"/>
            <a:ext cx="0" cy="7621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8600" y="1295280"/>
            <a:ext cx="8686800" cy="381024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914400" y="365760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Zdefiniowanie mechanizmów kontrol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914400" y="1676520"/>
            <a:ext cx="1828800" cy="144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owanie jakoś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22840" y="1676520"/>
            <a:ext cx="1828800" cy="1450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  <a:effectLst>
            <a:outerShdw dist="71785" dir="189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owanie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553080" y="1676520"/>
            <a:ext cx="1828800" cy="144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opracowanie spojrzenia biz. i czynników ryzy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22840" y="365760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Założenie plików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943280" y="276876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851360" y="276876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581960" y="276876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943280" y="4444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876920" y="4444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305920" y="132552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90720" y="1681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 jakości projekt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114800" y="1522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705720" y="1522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Spojrzenie biznesow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752480" y="534996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Mechaniz-my kont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6320" y="53341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 komunikacj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38280" y="4800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990720" y="4800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267080" y="5349960"/>
            <a:ext cx="10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Rejestr jakośc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5334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Rejestr spra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4120" y="5423040"/>
            <a:ext cx="17524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Raport doświadcze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2438280"/>
            <a:ext cx="9144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381880" y="2438280"/>
            <a:ext cx="3049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8686800" y="2438280"/>
            <a:ext cx="0" cy="91440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80880" y="3352680"/>
            <a:ext cx="83059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0880" y="3352680"/>
            <a:ext cx="0" cy="91440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80880" y="4267080"/>
            <a:ext cx="5335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743200" y="4267080"/>
            <a:ext cx="106668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676520" y="914040"/>
            <a:ext cx="0" cy="7621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4724280" y="914040"/>
            <a:ext cx="0" cy="7621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7391520" y="914040"/>
            <a:ext cx="0" cy="7621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86200" y="4800600"/>
            <a:ext cx="0" cy="6858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4800600"/>
            <a:ext cx="0" cy="6858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62720" y="4800600"/>
            <a:ext cx="0" cy="6858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jestr spraw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957" name="issue-log1" descr=""/>
          <p:cNvPicPr/>
          <p:nvPr/>
        </p:nvPicPr>
        <p:blipFill>
          <a:blip r:embed="rId1"/>
          <a:stretch/>
        </p:blipFill>
        <p:spPr>
          <a:xfrm>
            <a:off x="50760" y="1589040"/>
            <a:ext cx="9040680" cy="435456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048120" y="2082960"/>
            <a:ext cx="297180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Rejestr spr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0" y="1066680"/>
            <a:ext cx="9144000" cy="5029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zetwarzanie żądania zmian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61" name=""/>
          <p:cNvSpPr/>
          <p:nvPr/>
        </p:nvSpPr>
        <p:spPr>
          <a:xfrm>
            <a:off x="5105520" y="1855800"/>
            <a:ext cx="350496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Zgłoszo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00"/>
                </a:solidFill>
                <a:latin typeface="Arial Narrow"/>
              </a:rPr>
              <a:t>W akcept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cc"/>
                </a:solidFill>
                <a:latin typeface="Arial Narrow"/>
              </a:rPr>
              <a:t>W implement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ff"/>
                </a:solidFill>
                <a:latin typeface="Arial Narrow"/>
              </a:rPr>
              <a:t>W kontr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ff"/>
                </a:solidFill>
                <a:latin typeface="Arial Narrow"/>
              </a:rPr>
              <a:t>W udostępniani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Skończo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685800" y="1676520"/>
            <a:ext cx="3048120" cy="747720"/>
            <a:chOff x="685800" y="1676520"/>
            <a:chExt cx="3048120" cy="747720"/>
          </a:xfrm>
        </p:grpSpPr>
        <p:sp>
          <p:nvSpPr>
            <p:cNvPr id="963" name=""/>
            <p:cNvSpPr/>
            <p:nvPr/>
          </p:nvSpPr>
          <p:spPr>
            <a:xfrm>
              <a:off x="3429000" y="2057400"/>
              <a:ext cx="304920" cy="30492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56080" y="1676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85800" y="1905120"/>
              <a:ext cx="266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3366"/>
                  </a:solidFill>
                  <a:latin typeface="Arial Narrow"/>
                </a:rPr>
                <a:t>Analiza wpływ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1523880" y="2362320"/>
            <a:ext cx="2210040" cy="990360"/>
            <a:chOff x="1523880" y="2362320"/>
            <a:chExt cx="2210040" cy="990360"/>
          </a:xfrm>
        </p:grpSpPr>
        <p:sp>
          <p:nvSpPr>
            <p:cNvPr id="967" name=""/>
            <p:cNvSpPr/>
            <p:nvPr/>
          </p:nvSpPr>
          <p:spPr>
            <a:xfrm>
              <a:off x="3429000" y="2971800"/>
              <a:ext cx="304920" cy="30492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556080" y="23623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23880" y="2833560"/>
              <a:ext cx="1828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3300"/>
                  </a:solidFill>
                  <a:latin typeface="Arial Narrow"/>
                </a:rPr>
                <a:t>Akceptac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914400" y="3276720"/>
            <a:ext cx="2819520" cy="1066680"/>
            <a:chOff x="914400" y="3276720"/>
            <a:chExt cx="2819520" cy="1066680"/>
          </a:xfrm>
        </p:grpSpPr>
        <p:sp>
          <p:nvSpPr>
            <p:cNvPr id="971" name=""/>
            <p:cNvSpPr/>
            <p:nvPr/>
          </p:nvSpPr>
          <p:spPr>
            <a:xfrm>
              <a:off x="3429000" y="3962520"/>
              <a:ext cx="304920" cy="30456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56080" y="3276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14400" y="3824280"/>
              <a:ext cx="243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6600cc"/>
                  </a:solidFill>
                  <a:latin typeface="Arial Narrow"/>
                </a:rPr>
                <a:t>Implementac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685800" y="4267080"/>
            <a:ext cx="3048120" cy="990720"/>
            <a:chOff x="685800" y="4267080"/>
            <a:chExt cx="3048120" cy="990720"/>
          </a:xfrm>
        </p:grpSpPr>
        <p:sp>
          <p:nvSpPr>
            <p:cNvPr id="975" name=""/>
            <p:cNvSpPr/>
            <p:nvPr/>
          </p:nvSpPr>
          <p:spPr>
            <a:xfrm>
              <a:off x="3429000" y="4876920"/>
              <a:ext cx="304920" cy="30456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56080" y="42670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85800" y="4738680"/>
              <a:ext cx="266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33ff"/>
                  </a:solidFill>
                  <a:latin typeface="Arial Narrow"/>
                </a:rPr>
                <a:t>Kontrola jakośc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457200" y="1219320"/>
            <a:ext cx="3276720" cy="519120"/>
            <a:chOff x="457200" y="1219320"/>
            <a:chExt cx="3276720" cy="519120"/>
          </a:xfrm>
        </p:grpSpPr>
        <p:sp>
          <p:nvSpPr>
            <p:cNvPr id="979" name=""/>
            <p:cNvSpPr/>
            <p:nvPr/>
          </p:nvSpPr>
          <p:spPr>
            <a:xfrm>
              <a:off x="3429000" y="1371600"/>
              <a:ext cx="304920" cy="3049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" y="121932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Zgłoszenie zmia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752480" y="5181480"/>
            <a:ext cx="1981440" cy="778320"/>
            <a:chOff x="1752480" y="5181480"/>
            <a:chExt cx="1981440" cy="778320"/>
          </a:xfrm>
        </p:grpSpPr>
        <p:sp>
          <p:nvSpPr>
            <p:cNvPr id="982" name=""/>
            <p:cNvSpPr/>
            <p:nvPr/>
          </p:nvSpPr>
          <p:spPr>
            <a:xfrm>
              <a:off x="3429000" y="5562720"/>
              <a:ext cx="304920" cy="3045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56080" y="5181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752480" y="5486400"/>
              <a:ext cx="1600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500" spc="-1" strike="noStrike">
                  <a:solidFill>
                    <a:srgbClr val="000066"/>
                  </a:solidFill>
                  <a:latin typeface="Arial Narrow"/>
                </a:rPr>
                <a:t>Skończone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jestr jakości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986" name="quality-log" descr=""/>
          <p:cNvPicPr/>
          <p:nvPr/>
        </p:nvPicPr>
        <p:blipFill>
          <a:blip r:embed="rId1"/>
          <a:stretch/>
        </p:blipFill>
        <p:spPr>
          <a:xfrm>
            <a:off x="0" y="2855880"/>
            <a:ext cx="9101160" cy="118260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762120" y="4419720"/>
            <a:ext cx="1218960" cy="533160"/>
          </a:xfrm>
          <a:prstGeom prst="wedgeRoundRectCallout">
            <a:avLst>
              <a:gd name="adj1" fmla="val 3125"/>
              <a:gd name="adj2" fmla="val -179462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odu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362320" y="4419720"/>
            <a:ext cx="1143000" cy="533160"/>
          </a:xfrm>
          <a:prstGeom prst="wedgeRoundRectCallout">
            <a:avLst>
              <a:gd name="adj1" fmla="val 36250"/>
              <a:gd name="adj2" fmla="val -184226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Met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114800" y="4419720"/>
            <a:ext cx="1066680" cy="533160"/>
          </a:xfrm>
          <a:prstGeom prst="wedgeRoundRectCallout">
            <a:avLst>
              <a:gd name="adj1" fmla="val 6995"/>
              <a:gd name="adj2" fmla="val -184226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410080" y="4419720"/>
            <a:ext cx="1219320" cy="914400"/>
          </a:xfrm>
          <a:prstGeom prst="wedgeRoundRectCallout">
            <a:avLst>
              <a:gd name="adj1" fmla="val 42837"/>
              <a:gd name="adj2" fmla="val -128300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Termin pla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705720" y="4419720"/>
            <a:ext cx="1218960" cy="914400"/>
          </a:xfrm>
          <a:prstGeom prst="wedgeRoundRectCallout">
            <a:avLst>
              <a:gd name="adj1" fmla="val 24347"/>
              <a:gd name="adj2" fmla="val -132638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Termin rzec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001000" y="4419720"/>
            <a:ext cx="1066680" cy="533160"/>
          </a:xfrm>
          <a:prstGeom prst="wedgeRoundRectCallout">
            <a:avLst>
              <a:gd name="adj1" fmla="val 14138"/>
              <a:gd name="adj2" fmla="val -184226"/>
              <a:gd name="adj3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Wyn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47920" y="190512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el: Podsumowanie wykonanej kontroli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1295280"/>
            <a:ext cx="8686800" cy="381024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14400" y="365760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Zdefiniowanie mechanizmów kontrol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914400" y="1676520"/>
            <a:ext cx="1828800" cy="144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owanie jakoś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22840" y="1676520"/>
            <a:ext cx="1828800" cy="1450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  <a:effectLst>
            <a:outerShdw dist="71785" dir="189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owanie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553080" y="1676520"/>
            <a:ext cx="1828800" cy="144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opracowanie spojrzenia biz. i czynników ryzy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22840" y="365760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Założenie plików projek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553080" y="365760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Scalenie dokumentu rozpocz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943280" y="276876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851360" y="276876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81960" y="276876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43280" y="4444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876920" y="4444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543800" y="444960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305920" y="132552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I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990720" y="1681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 jakości projekt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114800" y="1522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1522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Spojrzenie biznesow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752480" y="534996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Mechaniz-my kont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320" y="53341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 komunikacj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438280" y="4800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90720" y="4800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086600" y="5398920"/>
            <a:ext cx="1676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Dokument rozpoczęcia projekt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67080" y="5349960"/>
            <a:ext cx="10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Rejestr jakośc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00400" y="5334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Rejestr spra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334120" y="5423040"/>
            <a:ext cx="17524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Raport doświadcze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638680" y="2438280"/>
            <a:ext cx="9144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381880" y="2438280"/>
            <a:ext cx="3049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686800" y="2438280"/>
            <a:ext cx="0" cy="91440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80880" y="3352680"/>
            <a:ext cx="83059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0880" y="3352680"/>
            <a:ext cx="0" cy="91440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0880" y="4267080"/>
            <a:ext cx="5335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4267080"/>
            <a:ext cx="106668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638680" y="4191120"/>
            <a:ext cx="9144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1676520" y="914040"/>
            <a:ext cx="0" cy="7621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724280" y="914040"/>
            <a:ext cx="0" cy="7621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7391520" y="914040"/>
            <a:ext cx="0" cy="7621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86200" y="4800600"/>
            <a:ext cx="0" cy="6858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724280" y="4800600"/>
            <a:ext cx="0" cy="6858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562720" y="4800600"/>
            <a:ext cx="0" cy="6858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543800" y="4800600"/>
            <a:ext cx="0" cy="6858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okument rozpoczęcia projekt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37" name=""/>
          <p:cNvSpPr/>
          <p:nvPr/>
        </p:nvSpPr>
        <p:spPr>
          <a:xfrm>
            <a:off x="4343400" y="2128680"/>
            <a:ext cx="46483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.   Wizja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I.  Plan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II. Plan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V. Pozostałe aspekty przedsięwzię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76320" y="963720"/>
          <a:ext cx="403848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63720"/>
                    <a:ext cx="403848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41" name=""/>
          <p:cNvSpPr/>
          <p:nvPr/>
        </p:nvSpPr>
        <p:spPr>
          <a:xfrm>
            <a:off x="2590920" y="1690560"/>
            <a:ext cx="571500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rganizacja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zygotowanie założeń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icjowanie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terow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zakresem eta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2184480" y="3746520"/>
            <a:ext cx="1930320" cy="99072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owa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46" name=""/>
          <p:cNvSpPr/>
          <p:nvPr/>
        </p:nvSpPr>
        <p:spPr>
          <a:xfrm>
            <a:off x="457200" y="1219320"/>
            <a:ext cx="8381880" cy="5191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Strategiczne zarządzanie projektem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267080" y="3759120"/>
            <a:ext cx="259092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Sterowanie etapem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197080" y="3759120"/>
            <a:ext cx="1905120" cy="94572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191120" y="5029200"/>
            <a:ext cx="2743200" cy="13723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rządzanie wytwarzaniem produ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14300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20040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077320" y="17524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276720" y="3200400"/>
            <a:ext cx="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562720" y="3200400"/>
            <a:ext cx="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562720" y="4724280"/>
            <a:ext cx="0" cy="3049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3276720" y="3200400"/>
            <a:ext cx="205740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1218960" y="3200400"/>
            <a:ext cx="205740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905120" y="2666880"/>
            <a:ext cx="3808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038480" y="2666880"/>
            <a:ext cx="38124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010280" y="2666880"/>
            <a:ext cx="38124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057400" y="2209680"/>
            <a:ext cx="198108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Inicjowanie projektu 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62920" y="2209680"/>
            <a:ext cx="190476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mknięcie projektu 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14800" y="2209680"/>
            <a:ext cx="297180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rządzanie zakresem etapu S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6320" y="2209680"/>
            <a:ext cx="190476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Przyg. zał. projektu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MMI: Obszary procesu na poziomi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668840"/>
            <a:ext cx="56386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1. Początk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125960"/>
            <a:ext cx="5105160" cy="51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2. Zarządzany (powtarzal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587760"/>
            <a:ext cx="464796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3. Zdefiniow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059280"/>
            <a:ext cx="42670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4. Zarządzany ilościow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502000"/>
            <a:ext cx="3809880" cy="51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</a:rPr>
              <a:t>5. Optymaliz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057400"/>
            <a:ext cx="586728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3399ff"/>
                </a:solidFill>
                <a:latin typeface="Arial Narrow"/>
              </a:rPr>
              <a:t>Zarządzanie wymaganiami (1; 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Planowanie przedsięwzięcia (3; 1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Monitorowanie i kontrola przedsięw. (2; 10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Zarządzanie podzleceniami (2; 7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3399ff"/>
                </a:solidFill>
                <a:latin typeface="Arial Narrow"/>
              </a:rPr>
              <a:t>Pomiary i analiza (2; 8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3399ff"/>
                </a:solidFill>
                <a:latin typeface="Arial Narrow"/>
              </a:rPr>
              <a:t>Zapewnienie jakości proc. i prod. (2; 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cc"/>
                </a:solidFill>
                <a:latin typeface="Arial Narrow"/>
              </a:rPr>
              <a:t>Zarządzanie konfiguracją (3; 7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254480"/>
            <a:ext cx="533520" cy="304920"/>
          </a:xfrm>
          <a:prstGeom prst="rightArrow">
            <a:avLst>
              <a:gd name="adj1" fmla="val 50000"/>
              <a:gd name="adj2" fmla="val 94046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838080"/>
            <a:ext cx="1752840" cy="838440"/>
          </a:xfrm>
          <a:prstGeom prst="wedgeRoundRectCallout">
            <a:avLst>
              <a:gd name="adj1" fmla="val 63949"/>
              <a:gd name="adj2" fmla="val 111740"/>
              <a:gd name="adj3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Cele specyficz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838080"/>
            <a:ext cx="1752480" cy="838440"/>
          </a:xfrm>
          <a:prstGeom prst="wedgeRoundRectCallout">
            <a:avLst>
              <a:gd name="adj1" fmla="val -53439"/>
              <a:gd name="adj2" fmla="val 111740"/>
              <a:gd name="adj3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 Narrow"/>
              </a:rPr>
              <a:t>Praktyki specyficz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1219320"/>
            <a:ext cx="8305920" cy="4190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13762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owanie plan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562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PL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52280" y="1219320"/>
            <a:ext cx="8305920" cy="4190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33520" y="13762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owanie plan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048120" y="1376280"/>
            <a:ext cx="1828800" cy="145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efiniowanie i analiza produktó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62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PL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0766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295280" y="65160"/>
            <a:ext cx="1828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ierarchiczna struktura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048120" y="88920"/>
            <a:ext cx="15238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pisy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95680" y="65160"/>
            <a:ext cx="1524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Diagram przepływu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3733920" y="7617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342900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2819160" y="914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403848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038480" y="914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362320" y="2057400"/>
            <a:ext cx="6858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52280" y="1219320"/>
            <a:ext cx="8305920" cy="4190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3520" y="13762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owanie plan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048120" y="1376280"/>
            <a:ext cx="1828800" cy="145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efiniowanie i analiza produktó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248520" y="13762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Identyfikacja czynności i zależnoś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562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PL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0766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77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95280" y="65160"/>
            <a:ext cx="1828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ierarchiczna struktura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048120" y="88920"/>
            <a:ext cx="15238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pisy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495680" y="65160"/>
            <a:ext cx="1524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Diagram przepływu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943600" y="76320"/>
            <a:ext cx="1447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Lista czyn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315200" y="65160"/>
            <a:ext cx="1828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Zależności między czynności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553080" y="7617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85800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858000" y="914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3733920" y="7617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342900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819160" y="914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403848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038480" y="914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62320" y="2057400"/>
            <a:ext cx="6858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876920" y="2057400"/>
            <a:ext cx="13716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52280" y="1219320"/>
            <a:ext cx="8305920" cy="4190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3520" y="13762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owanie plan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048120" y="1376280"/>
            <a:ext cx="1828800" cy="145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efiniowanie i analiza produktó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248520" y="13762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Identyfikacja czynności i zależnoś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562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PL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0766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277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295280" y="65160"/>
            <a:ext cx="1828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ierarchiczna struktura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48120" y="88920"/>
            <a:ext cx="15238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pisy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495680" y="65160"/>
            <a:ext cx="1524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Diagram przepływu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33520" y="3276720"/>
            <a:ext cx="182880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Szacowan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376380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943600" y="76320"/>
            <a:ext cx="1447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Lista czyn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315200" y="65160"/>
            <a:ext cx="1828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Zależności między czynności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33520" y="565164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szacowanie czyn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41148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6553080" y="7617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685800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0" y="914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733920" y="7617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342900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2819160" y="914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403848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038480" y="914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362320" y="2057400"/>
            <a:ext cx="6858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876920" y="2057400"/>
            <a:ext cx="13716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077320" y="2057400"/>
            <a:ext cx="2286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305920" y="2057400"/>
            <a:ext cx="0" cy="99072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228240" y="3048120"/>
            <a:ext cx="80773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8600" y="3048120"/>
            <a:ext cx="0" cy="60948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28600" y="3657600"/>
            <a:ext cx="3049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2280" y="1219320"/>
            <a:ext cx="8305920" cy="4190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33520" y="13762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owanie plan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48120" y="1376280"/>
            <a:ext cx="1828800" cy="145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efiniowanie i analiza produktó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248520" y="13762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Identyfikacja czynności i zależnoś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562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PL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0766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277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295280" y="65160"/>
            <a:ext cx="1828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ierarchiczna struktura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048120" y="88920"/>
            <a:ext cx="15238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pisy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48120" y="3276720"/>
            <a:ext cx="182880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Szeregowan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495680" y="65160"/>
            <a:ext cx="1524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Diagram przepływu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3520" y="3276720"/>
            <a:ext cx="182880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Szacowan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00200" y="376380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038480" y="376380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43600" y="76320"/>
            <a:ext cx="1447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Lista czyn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15200" y="65160"/>
            <a:ext cx="1828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Zależności między czynności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33520" y="565164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szacowanie czyn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86200" y="41148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743200" y="5638680"/>
            <a:ext cx="2286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armon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447920" y="41148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6553080" y="7617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685800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858000" y="914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3733920" y="7617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342900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2819160" y="914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403848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038480" y="914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362320" y="2057400"/>
            <a:ext cx="6858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057400"/>
            <a:ext cx="13716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077320" y="2057400"/>
            <a:ext cx="2286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305920" y="2057400"/>
            <a:ext cx="0" cy="99072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228240" y="3048120"/>
            <a:ext cx="80773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8600" y="3048120"/>
            <a:ext cx="0" cy="60948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28600" y="3657600"/>
            <a:ext cx="3049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362320" y="3657600"/>
            <a:ext cx="6858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2280" y="1219320"/>
            <a:ext cx="8305920" cy="4190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33520" y="13762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owanie plan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048120" y="1376280"/>
            <a:ext cx="1828800" cy="145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efiniowanie i analiza produktó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248520" y="13762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Identyfikacja czynności i zależnoś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248520" y="3276720"/>
            <a:ext cx="182880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Analizowanie ryzy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562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PL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0766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277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38880" y="3733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295280" y="65160"/>
            <a:ext cx="1828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ierarchiczna struktura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048120" y="88920"/>
            <a:ext cx="15238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pisy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048120" y="3276720"/>
            <a:ext cx="182880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Szeregowan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495680" y="65160"/>
            <a:ext cx="1524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Diagram przepływu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276720"/>
            <a:ext cx="182880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Szacowan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600200" y="376380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038480" y="376380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943600" y="76320"/>
            <a:ext cx="1447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Lista czyn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315200" y="65160"/>
            <a:ext cx="1828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Zależności między czynności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565164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szacowanie czyn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886200" y="41148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5638680"/>
            <a:ext cx="2286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armon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447920" y="41148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943600" y="43434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410080" y="5715000"/>
            <a:ext cx="1143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Rejestr ryzy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943600" y="43434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7162920" y="411444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553080" y="7617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685800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58000" y="914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3733920" y="7617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342900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2819160" y="914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03848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038480" y="914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62320" y="2057400"/>
            <a:ext cx="6858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876920" y="2057400"/>
            <a:ext cx="13716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077320" y="2057400"/>
            <a:ext cx="2286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8305920" y="2057400"/>
            <a:ext cx="0" cy="99072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228240" y="3048120"/>
            <a:ext cx="80773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28600" y="3048120"/>
            <a:ext cx="0" cy="60948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28600" y="3657600"/>
            <a:ext cx="3049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362320" y="3657600"/>
            <a:ext cx="6858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876920" y="3657600"/>
            <a:ext cx="13716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52280" y="1219320"/>
            <a:ext cx="8305920" cy="4190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3520" y="13762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ktowanie plan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048120" y="1376280"/>
            <a:ext cx="1828800" cy="145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efiniowanie i analiza produktó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248520" y="13762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Identyfikacja czynności i zależnoś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248520" y="3276720"/>
            <a:ext cx="182880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Analizowanie ryzy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62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PL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0766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277040" y="24685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38880" y="3733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248520" y="4495680"/>
            <a:ext cx="1828800" cy="838440"/>
          </a:xfrm>
          <a:prstGeom prst="rect">
            <a:avLst/>
          </a:prstGeom>
          <a:solidFill>
            <a:srgbClr val="6600cc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Scalanie  plan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238880" y="49831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Black"/>
              </a:rPr>
              <a:t>PL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65160"/>
            <a:ext cx="1828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ierarchiczna struktura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048120" y="88920"/>
            <a:ext cx="15238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pisy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182880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Szeregowan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495680" y="65160"/>
            <a:ext cx="1524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Diagram przepływu produkt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3520" y="3276720"/>
            <a:ext cx="182880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Szacowan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600200" y="376380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376380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PL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943600" y="76320"/>
            <a:ext cx="1447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Lista czyn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315200" y="65160"/>
            <a:ext cx="1828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Zależności między czynności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565164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szacowanie czyn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86200" y="41148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743200" y="5638680"/>
            <a:ext cx="2286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armon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47920" y="41148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943600" y="43434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410080" y="5715000"/>
            <a:ext cx="1143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Rejestr ryzy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943600" y="43434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7162920" y="411444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6553080" y="7617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685800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0" y="914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733920" y="7617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342900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2819160" y="914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038480" y="914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038480" y="914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62320" y="2057400"/>
            <a:ext cx="6858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876920" y="2057400"/>
            <a:ext cx="13716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77320" y="2057400"/>
            <a:ext cx="2286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305920" y="2057400"/>
            <a:ext cx="0" cy="99072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228240" y="3048120"/>
            <a:ext cx="80773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28600" y="3048120"/>
            <a:ext cx="0" cy="60948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28600" y="3657600"/>
            <a:ext cx="30492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3657600"/>
            <a:ext cx="6858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876920" y="3657600"/>
            <a:ext cx="1371600" cy="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68" name=""/>
          <p:cNvSpPr/>
          <p:nvPr/>
        </p:nvSpPr>
        <p:spPr>
          <a:xfrm>
            <a:off x="2590920" y="1690560"/>
            <a:ext cx="571500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rganizacja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zygotowanie założeń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icjowanie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terow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zakresem eta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erowanie projekt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72" name=""/>
          <p:cNvSpPr/>
          <p:nvPr/>
        </p:nvSpPr>
        <p:spPr>
          <a:xfrm>
            <a:off x="457200" y="1676520"/>
            <a:ext cx="8381880" cy="5191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Strategiczne zarządzanie projektem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197080" y="4216320"/>
            <a:ext cx="190512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191120" y="5486400"/>
            <a:ext cx="274320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rządzanie wytw. produ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43000" y="22096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200400" y="22096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562720" y="22096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077320" y="22096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276720" y="3657600"/>
            <a:ext cx="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562720" y="3657600"/>
            <a:ext cx="0" cy="6094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562720" y="5181480"/>
            <a:ext cx="0" cy="3049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276720" y="3657600"/>
            <a:ext cx="205740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 flipV="1">
            <a:off x="1218960" y="3657600"/>
            <a:ext cx="205740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905120" y="3124080"/>
            <a:ext cx="38088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38480" y="3124080"/>
            <a:ext cx="38124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010280" y="3124080"/>
            <a:ext cx="38124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057400" y="2666880"/>
            <a:ext cx="198108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Inicjowanie projektu 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62920" y="2666880"/>
            <a:ext cx="190476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mknięcie projektu 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2666880"/>
            <a:ext cx="297180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rządzanie zakresem etapu S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6320" y="2666880"/>
            <a:ext cx="190476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Przyg. zał. projektu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267080" y="4216320"/>
            <a:ext cx="2590920" cy="945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terowanie etapem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057400" y="1219320"/>
            <a:ext cx="5410080" cy="411480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erowanie etap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94" name=""/>
          <p:cNvSpPr/>
          <p:nvPr/>
        </p:nvSpPr>
        <p:spPr>
          <a:xfrm>
            <a:off x="2286000" y="14479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Autory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akie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638680" y="14479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Oc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ostęp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62520" y="1447920"/>
            <a:ext cx="1600200" cy="11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Odbiór skończ. pr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1690560"/>
            <a:ext cx="571500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rganizacja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zygotowanie założeń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icjowanie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terow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rządzanie zakresem eta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2057400" y="1219320"/>
            <a:ext cx="5410080" cy="411480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erowanie etap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99" name=""/>
          <p:cNvSpPr/>
          <p:nvPr/>
        </p:nvSpPr>
        <p:spPr>
          <a:xfrm>
            <a:off x="2286000" y="14479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Autory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akie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638680" y="14479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Oc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ostęp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286000" y="2666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Rejestrowa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nie spr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962520" y="2666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Ana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spr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638680" y="2666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odejm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działa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naprawcz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962520" y="1447920"/>
            <a:ext cx="1600200" cy="11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Odbiór skończ. pr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057400" y="1219320"/>
            <a:ext cx="5410080" cy="411480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erowanie etap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07" name=""/>
          <p:cNvSpPr/>
          <p:nvPr/>
        </p:nvSpPr>
        <p:spPr>
          <a:xfrm>
            <a:off x="2286000" y="14479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Autory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akie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638680" y="14479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Oc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ostęp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286000" y="2666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Rejestrowa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nie spr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962520" y="2666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Ana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spr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286000" y="3917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zeglą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Statu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962520" y="3917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Rapo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dla Komite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Sterując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638680" y="2666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odejm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działa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naprawcz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962520" y="1447920"/>
            <a:ext cx="1600200" cy="11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Odbiór skończ. pr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aport dla Komitetu Sterującego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16" name=""/>
          <p:cNvSpPr/>
          <p:nvPr/>
        </p:nvSpPr>
        <p:spPr>
          <a:xfrm>
            <a:off x="1371600" y="1843200"/>
            <a:ext cx="7315200" cy="411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Okres, którego raport dotycz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tan budże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tan harmonogra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odukty zakończone w danym okres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Faktyczne i potencjalne proble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odukty do skończenia w następnym okres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tan spraw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Wpływ zmian na budżet i harmon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2057400" y="1219320"/>
            <a:ext cx="5410080" cy="411480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erowanie etape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19" name=""/>
          <p:cNvSpPr/>
          <p:nvPr/>
        </p:nvSpPr>
        <p:spPr>
          <a:xfrm>
            <a:off x="2286000" y="14479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Autory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akie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638680" y="14479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Oc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ostęp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286000" y="2666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Rejestrowa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nie spr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962520" y="2666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Ana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spr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286000" y="3917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zeglą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Statu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962520" y="3917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Rapo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dla Komite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Sterując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638680" y="2666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odejm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działa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naprawcz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638680" y="3917880"/>
            <a:ext cx="1600200" cy="11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Eskal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spra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962520" y="1447920"/>
            <a:ext cx="1600200" cy="11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Odbiór skończ. pr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aport o zagrożeni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29" name=""/>
          <p:cNvSpPr/>
          <p:nvPr/>
        </p:nvSpPr>
        <p:spPr>
          <a:xfrm>
            <a:off x="1295280" y="2362320"/>
            <a:ext cx="7315200" cy="274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yczyna odchylenia od planu eta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onsekwencje odchyl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Dostępne opc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Wpływ każdej opcji na przypadek biznesowy, czynniki ryzyka i granice toleran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176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Zalecenia kierownik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31" name=""/>
          <p:cNvSpPr/>
          <p:nvPr/>
        </p:nvSpPr>
        <p:spPr>
          <a:xfrm>
            <a:off x="2590920" y="1690560"/>
            <a:ext cx="571500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rganizacja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zygotowanie założeń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icjowanie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terow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rządzanie zakresem eta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zakresem etap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35" name=""/>
          <p:cNvSpPr/>
          <p:nvPr/>
        </p:nvSpPr>
        <p:spPr>
          <a:xfrm>
            <a:off x="457200" y="1676520"/>
            <a:ext cx="8381880" cy="5191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Strategiczne zarządzanie projektem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197080" y="4216320"/>
            <a:ext cx="190512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91120" y="5486400"/>
            <a:ext cx="274320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rządzanie wytw. produk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143000" y="22096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200400" y="22096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62720" y="22096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8077320" y="2209680"/>
            <a:ext cx="0" cy="457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276720" y="3657600"/>
            <a:ext cx="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562720" y="3657600"/>
            <a:ext cx="0" cy="6094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562720" y="5181480"/>
            <a:ext cx="0" cy="3049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3276720" y="3657600"/>
            <a:ext cx="205740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1218960" y="3657600"/>
            <a:ext cx="2057400" cy="5335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05120" y="3124080"/>
            <a:ext cx="38088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038480" y="3124080"/>
            <a:ext cx="38124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010280" y="3124080"/>
            <a:ext cx="38124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057400" y="2666880"/>
            <a:ext cx="198108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Inicjowanie projektu 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162920" y="2666880"/>
            <a:ext cx="190476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Zamknięcie projektu 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114800" y="2666880"/>
            <a:ext cx="2971800" cy="945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Zarządzanie zakresem etapu S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6320" y="2666880"/>
            <a:ext cx="190476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Przyg. zał. projektu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267080" y="4216320"/>
            <a:ext cx="2590920" cy="945720"/>
          </a:xfrm>
          <a:prstGeom prst="rect">
            <a:avLst/>
          </a:prstGeom>
          <a:solidFill>
            <a:srgbClr val="eaeaea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69696"/>
                </a:solidFill>
                <a:latin typeface="Arial Narrow"/>
              </a:rPr>
              <a:t>Sterowanie etapem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676520" y="1066680"/>
            <a:ext cx="5562360" cy="403884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zakresem etapu SB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57" name=""/>
          <p:cNvSpPr/>
          <p:nvPr/>
        </p:nvSpPr>
        <p:spPr>
          <a:xfrm>
            <a:off x="1828800" y="12193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1676520" y="1066680"/>
            <a:ext cx="5562360" cy="403884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zakresem etapu SB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60" name=""/>
          <p:cNvSpPr/>
          <p:nvPr/>
        </p:nvSpPr>
        <p:spPr>
          <a:xfrm>
            <a:off x="1828800" y="12193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28800" y="251460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Aktuali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505320" y="2514600"/>
            <a:ext cx="190476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Aktuali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zypad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biznesow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486400" y="251460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Aktuali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rejest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ryzy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1676520" y="1066680"/>
            <a:ext cx="5562360" cy="403884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zakresem etapu SB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66" name=""/>
          <p:cNvSpPr/>
          <p:nvPr/>
        </p:nvSpPr>
        <p:spPr>
          <a:xfrm>
            <a:off x="1828800" y="12193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828800" y="251460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Aktuali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505320" y="2514600"/>
            <a:ext cx="190476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Aktuali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zypad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biznesow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486400" y="251460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Aktuali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rejest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ryzy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376560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Meld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o zakończe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niu 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1690560"/>
            <a:ext cx="571500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rganizacja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zygotowanie założeń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icjowanie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terow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zakresem eta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1676520" y="1066680"/>
            <a:ext cx="5562360" cy="403884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Zarządzanie zakresem etapu SB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73" name=""/>
          <p:cNvSpPr/>
          <p:nvPr/>
        </p:nvSpPr>
        <p:spPr>
          <a:xfrm>
            <a:off x="1828800" y="121932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828800" y="251460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Aktuali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505320" y="2514600"/>
            <a:ext cx="190476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Aktuali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rzypad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biznesow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486400" y="251460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Aktualiz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rejest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ryzy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828800" y="3765600"/>
            <a:ext cx="1600200" cy="11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Meld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o zakończe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niu eta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505320" y="3765600"/>
            <a:ext cx="1904760" cy="1187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pracow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pla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awaryjn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INCE2 w formie przypadku użyci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80" name=""/>
          <p:cNvSpPr/>
          <p:nvPr/>
        </p:nvSpPr>
        <p:spPr>
          <a:xfrm>
            <a:off x="2743200" y="1596960"/>
            <a:ext cx="624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Realizacja projektu wg PRINC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Zespół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przygotowuje założen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Zespół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inicjuje projek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Zespół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realizuje etap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Zespół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zamyka projek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Rozszerz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a. Potrzebny jeszcze jeden e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a1. Powtórzenie kroku 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76320" y="3733920"/>
            <a:ext cx="1675800" cy="2663640"/>
            <a:chOff x="76320" y="3733920"/>
            <a:chExt cx="1675800" cy="2663640"/>
          </a:xfrm>
        </p:grpSpPr>
        <p:sp>
          <p:nvSpPr>
            <p:cNvPr id="1382" name=""/>
            <p:cNvSpPr/>
            <p:nvPr/>
          </p:nvSpPr>
          <p:spPr>
            <a:xfrm>
              <a:off x="610200" y="3882960"/>
              <a:ext cx="656640" cy="58104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0" y="3733920"/>
              <a:ext cx="755640" cy="93240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88760" y="4506840"/>
              <a:ext cx="394560" cy="87552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971640" y="4531320"/>
              <a:ext cx="602280" cy="67176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018800" y="5292360"/>
              <a:ext cx="733320" cy="108720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7280" y="5290200"/>
              <a:ext cx="493560" cy="110736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0" y="1600200"/>
            <a:ext cx="2666880" cy="1600200"/>
          </a:xfrm>
          <a:prstGeom prst="cloudCallout">
            <a:avLst>
              <a:gd name="adj1" fmla="val -15060"/>
              <a:gd name="adj2" fmla="val 88689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Jaki zespół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odsumowa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90" name=""/>
          <p:cNvSpPr/>
          <p:nvPr/>
        </p:nvSpPr>
        <p:spPr>
          <a:xfrm>
            <a:off x="1143000" y="2286000"/>
            <a:ext cx="2362320" cy="99072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998640" y="3538440"/>
            <a:ext cx="485640" cy="558720"/>
          </a:xfrm>
          <a:custGeom>
            <a:avLst/>
            <a:gdLst/>
            <a:ahLst/>
            <a:rect l="l" t="t" r="r" b="b"/>
            <a:pathLst>
              <a:path w="613" h="704">
                <a:moveTo>
                  <a:pt x="187" y="255"/>
                </a:moveTo>
                <a:lnTo>
                  <a:pt x="222" y="156"/>
                </a:lnTo>
                <a:lnTo>
                  <a:pt x="267" y="58"/>
                </a:lnTo>
                <a:lnTo>
                  <a:pt x="333" y="9"/>
                </a:lnTo>
                <a:lnTo>
                  <a:pt x="427" y="0"/>
                </a:lnTo>
                <a:lnTo>
                  <a:pt x="501" y="33"/>
                </a:lnTo>
                <a:lnTo>
                  <a:pt x="555" y="87"/>
                </a:lnTo>
                <a:lnTo>
                  <a:pt x="595" y="185"/>
                </a:lnTo>
                <a:lnTo>
                  <a:pt x="613" y="304"/>
                </a:lnTo>
                <a:lnTo>
                  <a:pt x="613" y="427"/>
                </a:lnTo>
                <a:lnTo>
                  <a:pt x="582" y="563"/>
                </a:lnTo>
                <a:lnTo>
                  <a:pt x="501" y="649"/>
                </a:lnTo>
                <a:lnTo>
                  <a:pt x="422" y="704"/>
                </a:lnTo>
                <a:lnTo>
                  <a:pt x="346" y="698"/>
                </a:lnTo>
                <a:lnTo>
                  <a:pt x="280" y="641"/>
                </a:lnTo>
                <a:lnTo>
                  <a:pt x="222" y="542"/>
                </a:lnTo>
                <a:lnTo>
                  <a:pt x="182" y="456"/>
                </a:lnTo>
                <a:lnTo>
                  <a:pt x="182" y="345"/>
                </a:lnTo>
                <a:lnTo>
                  <a:pt x="0" y="320"/>
                </a:lnTo>
                <a:lnTo>
                  <a:pt x="23" y="259"/>
                </a:lnTo>
                <a:lnTo>
                  <a:pt x="187" y="25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19040" y="3092400"/>
            <a:ext cx="633600" cy="1251000"/>
          </a:xfrm>
          <a:custGeom>
            <a:avLst/>
            <a:gdLst/>
            <a:ahLst/>
            <a:rect l="l" t="t" r="r" b="b"/>
            <a:pathLst>
              <a:path w="798" h="1576">
                <a:moveTo>
                  <a:pt x="19" y="1564"/>
                </a:moveTo>
                <a:lnTo>
                  <a:pt x="0" y="1486"/>
                </a:lnTo>
                <a:lnTo>
                  <a:pt x="44" y="1423"/>
                </a:lnTo>
                <a:lnTo>
                  <a:pt x="190" y="1349"/>
                </a:lnTo>
                <a:lnTo>
                  <a:pt x="318" y="1267"/>
                </a:lnTo>
                <a:lnTo>
                  <a:pt x="441" y="1130"/>
                </a:lnTo>
                <a:lnTo>
                  <a:pt x="609" y="941"/>
                </a:lnTo>
                <a:lnTo>
                  <a:pt x="652" y="866"/>
                </a:lnTo>
                <a:lnTo>
                  <a:pt x="675" y="792"/>
                </a:lnTo>
                <a:lnTo>
                  <a:pt x="665" y="718"/>
                </a:lnTo>
                <a:lnTo>
                  <a:pt x="626" y="581"/>
                </a:lnTo>
                <a:lnTo>
                  <a:pt x="530" y="409"/>
                </a:lnTo>
                <a:lnTo>
                  <a:pt x="424" y="313"/>
                </a:lnTo>
                <a:lnTo>
                  <a:pt x="331" y="260"/>
                </a:lnTo>
                <a:lnTo>
                  <a:pt x="256" y="252"/>
                </a:lnTo>
                <a:lnTo>
                  <a:pt x="216" y="260"/>
                </a:lnTo>
                <a:lnTo>
                  <a:pt x="212" y="223"/>
                </a:lnTo>
                <a:lnTo>
                  <a:pt x="304" y="211"/>
                </a:lnTo>
                <a:lnTo>
                  <a:pt x="410" y="211"/>
                </a:lnTo>
                <a:lnTo>
                  <a:pt x="335" y="127"/>
                </a:lnTo>
                <a:lnTo>
                  <a:pt x="291" y="62"/>
                </a:lnTo>
                <a:lnTo>
                  <a:pt x="322" y="37"/>
                </a:lnTo>
                <a:lnTo>
                  <a:pt x="441" y="149"/>
                </a:lnTo>
                <a:lnTo>
                  <a:pt x="463" y="166"/>
                </a:lnTo>
                <a:lnTo>
                  <a:pt x="441" y="78"/>
                </a:lnTo>
                <a:lnTo>
                  <a:pt x="424" y="12"/>
                </a:lnTo>
                <a:lnTo>
                  <a:pt x="441" y="0"/>
                </a:lnTo>
                <a:lnTo>
                  <a:pt x="480" y="12"/>
                </a:lnTo>
                <a:lnTo>
                  <a:pt x="516" y="166"/>
                </a:lnTo>
                <a:lnTo>
                  <a:pt x="534" y="161"/>
                </a:lnTo>
                <a:lnTo>
                  <a:pt x="534" y="41"/>
                </a:lnTo>
                <a:lnTo>
                  <a:pt x="569" y="29"/>
                </a:lnTo>
                <a:lnTo>
                  <a:pt x="595" y="49"/>
                </a:lnTo>
                <a:lnTo>
                  <a:pt x="582" y="211"/>
                </a:lnTo>
                <a:lnTo>
                  <a:pt x="573" y="276"/>
                </a:lnTo>
                <a:lnTo>
                  <a:pt x="595" y="409"/>
                </a:lnTo>
                <a:lnTo>
                  <a:pt x="665" y="549"/>
                </a:lnTo>
                <a:lnTo>
                  <a:pt x="740" y="710"/>
                </a:lnTo>
                <a:lnTo>
                  <a:pt x="798" y="829"/>
                </a:lnTo>
                <a:lnTo>
                  <a:pt x="794" y="891"/>
                </a:lnTo>
                <a:lnTo>
                  <a:pt x="688" y="1003"/>
                </a:lnTo>
                <a:lnTo>
                  <a:pt x="542" y="1142"/>
                </a:lnTo>
                <a:lnTo>
                  <a:pt x="424" y="1279"/>
                </a:lnTo>
                <a:lnTo>
                  <a:pt x="278" y="1461"/>
                </a:lnTo>
                <a:lnTo>
                  <a:pt x="159" y="1552"/>
                </a:lnTo>
                <a:lnTo>
                  <a:pt x="67" y="1576"/>
                </a:lnTo>
                <a:lnTo>
                  <a:pt x="19" y="156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7760" y="4259160"/>
            <a:ext cx="1158840" cy="630360"/>
          </a:xfrm>
          <a:custGeom>
            <a:avLst/>
            <a:gdLst/>
            <a:ahLst/>
            <a:rect l="l" t="t" r="r" b="b"/>
            <a:pathLst>
              <a:path w="1461" h="794">
                <a:moveTo>
                  <a:pt x="297" y="641"/>
                </a:moveTo>
                <a:lnTo>
                  <a:pt x="508" y="633"/>
                </a:lnTo>
                <a:lnTo>
                  <a:pt x="702" y="608"/>
                </a:lnTo>
                <a:lnTo>
                  <a:pt x="822" y="579"/>
                </a:lnTo>
                <a:lnTo>
                  <a:pt x="994" y="485"/>
                </a:lnTo>
                <a:lnTo>
                  <a:pt x="1117" y="395"/>
                </a:lnTo>
                <a:lnTo>
                  <a:pt x="1276" y="284"/>
                </a:lnTo>
                <a:lnTo>
                  <a:pt x="1351" y="214"/>
                </a:lnTo>
                <a:lnTo>
                  <a:pt x="1409" y="165"/>
                </a:lnTo>
                <a:lnTo>
                  <a:pt x="1461" y="111"/>
                </a:lnTo>
                <a:lnTo>
                  <a:pt x="1461" y="54"/>
                </a:lnTo>
                <a:lnTo>
                  <a:pt x="1403" y="0"/>
                </a:lnTo>
                <a:lnTo>
                  <a:pt x="1368" y="13"/>
                </a:lnTo>
                <a:lnTo>
                  <a:pt x="1272" y="124"/>
                </a:lnTo>
                <a:lnTo>
                  <a:pt x="1166" y="251"/>
                </a:lnTo>
                <a:lnTo>
                  <a:pt x="1060" y="370"/>
                </a:lnTo>
                <a:lnTo>
                  <a:pt x="905" y="468"/>
                </a:lnTo>
                <a:lnTo>
                  <a:pt x="772" y="534"/>
                </a:lnTo>
                <a:lnTo>
                  <a:pt x="627" y="567"/>
                </a:lnTo>
                <a:lnTo>
                  <a:pt x="424" y="571"/>
                </a:lnTo>
                <a:lnTo>
                  <a:pt x="305" y="571"/>
                </a:lnTo>
                <a:lnTo>
                  <a:pt x="204" y="497"/>
                </a:lnTo>
                <a:lnTo>
                  <a:pt x="177" y="448"/>
                </a:lnTo>
                <a:lnTo>
                  <a:pt x="133" y="448"/>
                </a:lnTo>
                <a:lnTo>
                  <a:pt x="164" y="509"/>
                </a:lnTo>
                <a:lnTo>
                  <a:pt x="212" y="567"/>
                </a:lnTo>
                <a:lnTo>
                  <a:pt x="94" y="542"/>
                </a:lnTo>
                <a:lnTo>
                  <a:pt x="5" y="530"/>
                </a:lnTo>
                <a:lnTo>
                  <a:pt x="5" y="555"/>
                </a:lnTo>
                <a:lnTo>
                  <a:pt x="84" y="571"/>
                </a:lnTo>
                <a:lnTo>
                  <a:pt x="137" y="604"/>
                </a:lnTo>
                <a:lnTo>
                  <a:pt x="185" y="608"/>
                </a:lnTo>
                <a:lnTo>
                  <a:pt x="110" y="633"/>
                </a:lnTo>
                <a:lnTo>
                  <a:pt x="0" y="657"/>
                </a:lnTo>
                <a:lnTo>
                  <a:pt x="5" y="682"/>
                </a:lnTo>
                <a:lnTo>
                  <a:pt x="40" y="690"/>
                </a:lnTo>
                <a:lnTo>
                  <a:pt x="146" y="657"/>
                </a:lnTo>
                <a:lnTo>
                  <a:pt x="212" y="653"/>
                </a:lnTo>
                <a:lnTo>
                  <a:pt x="173" y="690"/>
                </a:lnTo>
                <a:lnTo>
                  <a:pt x="110" y="752"/>
                </a:lnTo>
                <a:lnTo>
                  <a:pt x="84" y="768"/>
                </a:lnTo>
                <a:lnTo>
                  <a:pt x="106" y="794"/>
                </a:lnTo>
                <a:lnTo>
                  <a:pt x="160" y="764"/>
                </a:lnTo>
                <a:lnTo>
                  <a:pt x="230" y="702"/>
                </a:lnTo>
                <a:lnTo>
                  <a:pt x="297" y="64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144440" y="4194000"/>
            <a:ext cx="679680" cy="866880"/>
          </a:xfrm>
          <a:custGeom>
            <a:avLst/>
            <a:gdLst/>
            <a:ahLst/>
            <a:rect l="l" t="t" r="r" b="b"/>
            <a:pathLst>
              <a:path w="857" h="1094">
                <a:moveTo>
                  <a:pt x="54" y="124"/>
                </a:moveTo>
                <a:lnTo>
                  <a:pt x="89" y="37"/>
                </a:lnTo>
                <a:lnTo>
                  <a:pt x="147" y="0"/>
                </a:lnTo>
                <a:lnTo>
                  <a:pt x="199" y="0"/>
                </a:lnTo>
                <a:lnTo>
                  <a:pt x="253" y="25"/>
                </a:lnTo>
                <a:lnTo>
                  <a:pt x="305" y="74"/>
                </a:lnTo>
                <a:lnTo>
                  <a:pt x="332" y="160"/>
                </a:lnTo>
                <a:lnTo>
                  <a:pt x="346" y="247"/>
                </a:lnTo>
                <a:lnTo>
                  <a:pt x="371" y="333"/>
                </a:lnTo>
                <a:lnTo>
                  <a:pt x="421" y="427"/>
                </a:lnTo>
                <a:lnTo>
                  <a:pt x="504" y="526"/>
                </a:lnTo>
                <a:lnTo>
                  <a:pt x="585" y="591"/>
                </a:lnTo>
                <a:lnTo>
                  <a:pt x="703" y="641"/>
                </a:lnTo>
                <a:lnTo>
                  <a:pt x="805" y="715"/>
                </a:lnTo>
                <a:lnTo>
                  <a:pt x="857" y="788"/>
                </a:lnTo>
                <a:lnTo>
                  <a:pt x="848" y="850"/>
                </a:lnTo>
                <a:lnTo>
                  <a:pt x="836" y="924"/>
                </a:lnTo>
                <a:lnTo>
                  <a:pt x="796" y="973"/>
                </a:lnTo>
                <a:lnTo>
                  <a:pt x="730" y="1035"/>
                </a:lnTo>
                <a:lnTo>
                  <a:pt x="633" y="1080"/>
                </a:lnTo>
                <a:lnTo>
                  <a:pt x="558" y="1094"/>
                </a:lnTo>
                <a:lnTo>
                  <a:pt x="452" y="1072"/>
                </a:lnTo>
                <a:lnTo>
                  <a:pt x="355" y="1022"/>
                </a:lnTo>
                <a:lnTo>
                  <a:pt x="253" y="949"/>
                </a:lnTo>
                <a:lnTo>
                  <a:pt x="182" y="862"/>
                </a:lnTo>
                <a:lnTo>
                  <a:pt x="116" y="752"/>
                </a:lnTo>
                <a:lnTo>
                  <a:pt x="62" y="624"/>
                </a:lnTo>
                <a:lnTo>
                  <a:pt x="27" y="513"/>
                </a:lnTo>
                <a:lnTo>
                  <a:pt x="10" y="407"/>
                </a:lnTo>
                <a:lnTo>
                  <a:pt x="0" y="259"/>
                </a:lnTo>
                <a:lnTo>
                  <a:pt x="27" y="160"/>
                </a:lnTo>
                <a:lnTo>
                  <a:pt x="54" y="1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701720" y="4565520"/>
            <a:ext cx="1165320" cy="787680"/>
          </a:xfrm>
          <a:custGeom>
            <a:avLst/>
            <a:gdLst/>
            <a:ahLst/>
            <a:rect l="l" t="t" r="r" b="b"/>
            <a:pathLst>
              <a:path w="1469" h="992">
                <a:moveTo>
                  <a:pt x="163" y="314"/>
                </a:moveTo>
                <a:lnTo>
                  <a:pt x="305" y="201"/>
                </a:lnTo>
                <a:lnTo>
                  <a:pt x="477" y="99"/>
                </a:lnTo>
                <a:lnTo>
                  <a:pt x="587" y="37"/>
                </a:lnTo>
                <a:lnTo>
                  <a:pt x="674" y="17"/>
                </a:lnTo>
                <a:lnTo>
                  <a:pt x="745" y="0"/>
                </a:lnTo>
                <a:lnTo>
                  <a:pt x="807" y="25"/>
                </a:lnTo>
                <a:lnTo>
                  <a:pt x="846" y="103"/>
                </a:lnTo>
                <a:lnTo>
                  <a:pt x="873" y="314"/>
                </a:lnTo>
                <a:lnTo>
                  <a:pt x="873" y="568"/>
                </a:lnTo>
                <a:lnTo>
                  <a:pt x="873" y="732"/>
                </a:lnTo>
                <a:lnTo>
                  <a:pt x="904" y="832"/>
                </a:lnTo>
                <a:lnTo>
                  <a:pt x="966" y="816"/>
                </a:lnTo>
                <a:lnTo>
                  <a:pt x="1010" y="754"/>
                </a:lnTo>
                <a:lnTo>
                  <a:pt x="1098" y="683"/>
                </a:lnTo>
                <a:lnTo>
                  <a:pt x="1235" y="642"/>
                </a:lnTo>
                <a:lnTo>
                  <a:pt x="1328" y="642"/>
                </a:lnTo>
                <a:lnTo>
                  <a:pt x="1469" y="667"/>
                </a:lnTo>
                <a:lnTo>
                  <a:pt x="1460" y="716"/>
                </a:lnTo>
                <a:lnTo>
                  <a:pt x="1429" y="758"/>
                </a:lnTo>
                <a:lnTo>
                  <a:pt x="1381" y="766"/>
                </a:lnTo>
                <a:lnTo>
                  <a:pt x="1328" y="740"/>
                </a:lnTo>
                <a:lnTo>
                  <a:pt x="1249" y="708"/>
                </a:lnTo>
                <a:lnTo>
                  <a:pt x="1168" y="708"/>
                </a:lnTo>
                <a:lnTo>
                  <a:pt x="1062" y="771"/>
                </a:lnTo>
                <a:lnTo>
                  <a:pt x="997" y="865"/>
                </a:lnTo>
                <a:lnTo>
                  <a:pt x="983" y="943"/>
                </a:lnTo>
                <a:lnTo>
                  <a:pt x="957" y="992"/>
                </a:lnTo>
                <a:lnTo>
                  <a:pt x="851" y="988"/>
                </a:lnTo>
                <a:lnTo>
                  <a:pt x="846" y="914"/>
                </a:lnTo>
                <a:lnTo>
                  <a:pt x="811" y="808"/>
                </a:lnTo>
                <a:lnTo>
                  <a:pt x="798" y="695"/>
                </a:lnTo>
                <a:lnTo>
                  <a:pt x="807" y="548"/>
                </a:lnTo>
                <a:lnTo>
                  <a:pt x="794" y="338"/>
                </a:lnTo>
                <a:lnTo>
                  <a:pt x="786" y="201"/>
                </a:lnTo>
                <a:lnTo>
                  <a:pt x="759" y="152"/>
                </a:lnTo>
                <a:lnTo>
                  <a:pt x="705" y="103"/>
                </a:lnTo>
                <a:lnTo>
                  <a:pt x="649" y="103"/>
                </a:lnTo>
                <a:lnTo>
                  <a:pt x="568" y="152"/>
                </a:lnTo>
                <a:lnTo>
                  <a:pt x="463" y="248"/>
                </a:lnTo>
                <a:lnTo>
                  <a:pt x="331" y="371"/>
                </a:lnTo>
                <a:lnTo>
                  <a:pt x="199" y="486"/>
                </a:lnTo>
                <a:lnTo>
                  <a:pt x="132" y="523"/>
                </a:lnTo>
                <a:lnTo>
                  <a:pt x="53" y="523"/>
                </a:lnTo>
                <a:lnTo>
                  <a:pt x="0" y="470"/>
                </a:lnTo>
                <a:lnTo>
                  <a:pt x="4" y="383"/>
                </a:lnTo>
                <a:lnTo>
                  <a:pt x="58" y="338"/>
                </a:lnTo>
                <a:lnTo>
                  <a:pt x="118" y="326"/>
                </a:lnTo>
                <a:lnTo>
                  <a:pt x="163" y="3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38360" y="4906800"/>
            <a:ext cx="798480" cy="827280"/>
          </a:xfrm>
          <a:custGeom>
            <a:avLst/>
            <a:gdLst/>
            <a:ahLst/>
            <a:rect l="l" t="t" r="r" b="b"/>
            <a:pathLst>
              <a:path w="1004" h="1041">
                <a:moveTo>
                  <a:pt x="0" y="88"/>
                </a:moveTo>
                <a:lnTo>
                  <a:pt x="31" y="22"/>
                </a:lnTo>
                <a:lnTo>
                  <a:pt x="97" y="0"/>
                </a:lnTo>
                <a:lnTo>
                  <a:pt x="189" y="10"/>
                </a:lnTo>
                <a:lnTo>
                  <a:pt x="211" y="71"/>
                </a:lnTo>
                <a:lnTo>
                  <a:pt x="176" y="311"/>
                </a:lnTo>
                <a:lnTo>
                  <a:pt x="172" y="493"/>
                </a:lnTo>
                <a:lnTo>
                  <a:pt x="163" y="595"/>
                </a:lnTo>
                <a:lnTo>
                  <a:pt x="163" y="616"/>
                </a:lnTo>
                <a:lnTo>
                  <a:pt x="185" y="716"/>
                </a:lnTo>
                <a:lnTo>
                  <a:pt x="242" y="732"/>
                </a:lnTo>
                <a:lnTo>
                  <a:pt x="317" y="716"/>
                </a:lnTo>
                <a:lnTo>
                  <a:pt x="427" y="658"/>
                </a:lnTo>
                <a:lnTo>
                  <a:pt x="546" y="630"/>
                </a:lnTo>
                <a:lnTo>
                  <a:pt x="678" y="608"/>
                </a:lnTo>
                <a:lnTo>
                  <a:pt x="824" y="591"/>
                </a:lnTo>
                <a:lnTo>
                  <a:pt x="930" y="591"/>
                </a:lnTo>
                <a:lnTo>
                  <a:pt x="978" y="604"/>
                </a:lnTo>
                <a:lnTo>
                  <a:pt x="1004" y="634"/>
                </a:lnTo>
                <a:lnTo>
                  <a:pt x="992" y="679"/>
                </a:lnTo>
                <a:lnTo>
                  <a:pt x="925" y="716"/>
                </a:lnTo>
                <a:lnTo>
                  <a:pt x="863" y="769"/>
                </a:lnTo>
                <a:lnTo>
                  <a:pt x="805" y="844"/>
                </a:lnTo>
                <a:lnTo>
                  <a:pt x="770" y="906"/>
                </a:lnTo>
                <a:lnTo>
                  <a:pt x="741" y="968"/>
                </a:lnTo>
                <a:lnTo>
                  <a:pt x="718" y="1041"/>
                </a:lnTo>
                <a:lnTo>
                  <a:pt x="687" y="1041"/>
                </a:lnTo>
                <a:lnTo>
                  <a:pt x="660" y="1013"/>
                </a:lnTo>
                <a:lnTo>
                  <a:pt x="652" y="931"/>
                </a:lnTo>
                <a:lnTo>
                  <a:pt x="714" y="857"/>
                </a:lnTo>
                <a:lnTo>
                  <a:pt x="797" y="769"/>
                </a:lnTo>
                <a:lnTo>
                  <a:pt x="876" y="704"/>
                </a:lnTo>
                <a:lnTo>
                  <a:pt x="911" y="683"/>
                </a:lnTo>
                <a:lnTo>
                  <a:pt x="925" y="654"/>
                </a:lnTo>
                <a:lnTo>
                  <a:pt x="890" y="634"/>
                </a:lnTo>
                <a:lnTo>
                  <a:pt x="770" y="634"/>
                </a:lnTo>
                <a:lnTo>
                  <a:pt x="621" y="658"/>
                </a:lnTo>
                <a:lnTo>
                  <a:pt x="502" y="695"/>
                </a:lnTo>
                <a:lnTo>
                  <a:pt x="374" y="765"/>
                </a:lnTo>
                <a:lnTo>
                  <a:pt x="264" y="814"/>
                </a:lnTo>
                <a:lnTo>
                  <a:pt x="145" y="818"/>
                </a:lnTo>
                <a:lnTo>
                  <a:pt x="97" y="802"/>
                </a:lnTo>
                <a:lnTo>
                  <a:pt x="70" y="740"/>
                </a:lnTo>
                <a:lnTo>
                  <a:pt x="52" y="654"/>
                </a:lnTo>
                <a:lnTo>
                  <a:pt x="43" y="493"/>
                </a:lnTo>
                <a:lnTo>
                  <a:pt x="26" y="207"/>
                </a:lnTo>
                <a:lnTo>
                  <a:pt x="0" y="8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2562120" y="4838760"/>
            <a:ext cx="484200" cy="950760"/>
            <a:chOff x="2562120" y="4838760"/>
            <a:chExt cx="484200" cy="950760"/>
          </a:xfrm>
        </p:grpSpPr>
        <p:sp>
          <p:nvSpPr>
            <p:cNvPr id="1398" name=""/>
            <p:cNvSpPr/>
            <p:nvPr/>
          </p:nvSpPr>
          <p:spPr>
            <a:xfrm>
              <a:off x="2665440" y="5370480"/>
              <a:ext cx="380880" cy="11592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62120" y="5473800"/>
              <a:ext cx="109800" cy="315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19440" y="4838760"/>
              <a:ext cx="239760" cy="12060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 txBox="1"/>
          <p:nvPr/>
        </p:nvSpPr>
        <p:spPr>
          <a:xfrm>
            <a:off x="1523880" y="2666880"/>
            <a:ext cx="179100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3399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Wreszcie!</a:t>
            </a:r>
            <a:endParaRPr b="0" lang="en-US" sz="2400" spc="1" strike="noStrike">
              <a:ln cap="sq" w="9360">
                <a:solidFill>
                  <a:srgbClr val="333399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402" name=""/>
          <p:cNvSpPr/>
          <p:nvPr/>
        </p:nvSpPr>
        <p:spPr>
          <a:xfrm>
            <a:off x="3657600" y="1752480"/>
            <a:ext cx="5257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espół zarządz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la kierownik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Najważniejsze procesy PRINC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twarc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ozpoczęc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terow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rządzanie granic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mknięcie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cena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76320" y="2602080"/>
            <a:ext cx="1908000" cy="3795480"/>
            <a:chOff x="76320" y="2602080"/>
            <a:chExt cx="1908000" cy="3795480"/>
          </a:xfrm>
        </p:grpSpPr>
        <p:sp>
          <p:nvSpPr>
            <p:cNvPr id="1405" name=""/>
            <p:cNvSpPr/>
            <p:nvPr/>
          </p:nvSpPr>
          <p:spPr>
            <a:xfrm>
              <a:off x="684360" y="2814840"/>
              <a:ext cx="74772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6320" y="260208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87400" y="3703680"/>
              <a:ext cx="44928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095480" y="3738600"/>
              <a:ext cx="68580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149480" y="482292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23880" y="4819680"/>
              <a:ext cx="56196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1225440" y="2286000"/>
            <a:ext cx="344520" cy="466200"/>
            <a:chOff x="1225440" y="2286000"/>
            <a:chExt cx="344520" cy="466200"/>
          </a:xfrm>
        </p:grpSpPr>
        <p:sp>
          <p:nvSpPr>
            <p:cNvPr id="1412" name=""/>
            <p:cNvSpPr/>
            <p:nvPr/>
          </p:nvSpPr>
          <p:spPr>
            <a:xfrm>
              <a:off x="1292400" y="2286000"/>
              <a:ext cx="277560" cy="32364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225440" y="266364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2743200" y="2666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Wrażenie ogólne (1 - 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Za szybko czy za woln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Czy dowiedziałeś się czegoś ważneg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Co i jak poprawić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lan wykład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416" name=""/>
          <p:cNvSpPr/>
          <p:nvPr/>
        </p:nvSpPr>
        <p:spPr>
          <a:xfrm>
            <a:off x="2590920" y="1690560"/>
            <a:ext cx="571500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Organizacja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ykl życia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rzygotowanie założeń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icjowanie projek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Plan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Sterowanie etap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Zarządzanie zakresem eta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33520" y="2556000"/>
            <a:ext cx="12189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stę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rganizacja zespoł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Cykl życia projek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Wybrane praktyki i narzędz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ISO 9001:2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XPrince a CM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 Narrow"/>
              </a:rPr>
              <a:t>Oferta dla Polsoft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67120" y="2413080"/>
            <a:ext cx="1709640" cy="1528560"/>
            <a:chOff x="3867120" y="2413080"/>
            <a:chExt cx="1709640" cy="1528560"/>
          </a:xfrm>
        </p:grpSpPr>
        <p:grpSp>
          <p:nvGrpSpPr>
            <p:cNvPr id="139" name=""/>
            <p:cNvGrpSpPr/>
            <p:nvPr/>
          </p:nvGrpSpPr>
          <p:grpSpPr>
            <a:xfrm>
              <a:off x="3867120" y="2565360"/>
              <a:ext cx="957240" cy="1376280"/>
              <a:chOff x="3867120" y="2565360"/>
              <a:chExt cx="957240" cy="1376280"/>
            </a:xfrm>
          </p:grpSpPr>
          <p:sp>
            <p:nvSpPr>
              <p:cNvPr id="140" name=""/>
              <p:cNvSpPr/>
              <p:nvPr/>
            </p:nvSpPr>
            <p:spPr>
              <a:xfrm>
                <a:off x="4200480" y="2565360"/>
                <a:ext cx="214200" cy="345960"/>
              </a:xfrm>
              <a:custGeom>
                <a:avLst/>
                <a:gdLst/>
                <a:ahLst/>
                <a:rect l="l" t="t" r="r" b="b"/>
                <a:pathLst>
                  <a:path w="537" h="654">
                    <a:moveTo>
                      <a:pt x="138" y="302"/>
                    </a:moveTo>
                    <a:lnTo>
                      <a:pt x="179" y="171"/>
                    </a:lnTo>
                    <a:lnTo>
                      <a:pt x="248" y="66"/>
                    </a:lnTo>
                    <a:lnTo>
                      <a:pt x="317" y="13"/>
                    </a:lnTo>
                    <a:lnTo>
                      <a:pt x="399" y="0"/>
                    </a:lnTo>
                    <a:lnTo>
                      <a:pt x="455" y="13"/>
                    </a:lnTo>
                    <a:lnTo>
                      <a:pt x="524" y="53"/>
                    </a:lnTo>
                    <a:lnTo>
                      <a:pt x="537" y="144"/>
                    </a:lnTo>
                    <a:lnTo>
                      <a:pt x="537" y="275"/>
                    </a:lnTo>
                    <a:lnTo>
                      <a:pt x="482" y="418"/>
                    </a:lnTo>
                    <a:lnTo>
                      <a:pt x="399" y="511"/>
                    </a:lnTo>
                    <a:lnTo>
                      <a:pt x="359" y="563"/>
                    </a:lnTo>
                    <a:lnTo>
                      <a:pt x="290" y="602"/>
                    </a:lnTo>
                    <a:lnTo>
                      <a:pt x="234" y="589"/>
                    </a:lnTo>
                    <a:lnTo>
                      <a:pt x="193" y="576"/>
                    </a:lnTo>
                    <a:lnTo>
                      <a:pt x="151" y="536"/>
                    </a:lnTo>
                    <a:lnTo>
                      <a:pt x="27" y="654"/>
                    </a:lnTo>
                    <a:lnTo>
                      <a:pt x="0" y="576"/>
                    </a:lnTo>
                    <a:lnTo>
                      <a:pt x="124" y="458"/>
                    </a:lnTo>
                    <a:lnTo>
                      <a:pt x="138" y="302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55920" y="2917800"/>
                <a:ext cx="136800" cy="463680"/>
              </a:xfrm>
              <a:custGeom>
                <a:avLst/>
                <a:gdLst/>
                <a:ahLst/>
                <a:rect l="l" t="t" r="r" b="b"/>
                <a:pathLst>
                  <a:path w="345" h="876">
                    <a:moveTo>
                      <a:pt x="111" y="26"/>
                    </a:moveTo>
                    <a:lnTo>
                      <a:pt x="180" y="0"/>
                    </a:lnTo>
                    <a:lnTo>
                      <a:pt x="262" y="26"/>
                    </a:lnTo>
                    <a:lnTo>
                      <a:pt x="318" y="118"/>
                    </a:lnTo>
                    <a:lnTo>
                      <a:pt x="345" y="262"/>
                    </a:lnTo>
                    <a:lnTo>
                      <a:pt x="345" y="483"/>
                    </a:lnTo>
                    <a:lnTo>
                      <a:pt x="303" y="654"/>
                    </a:lnTo>
                    <a:lnTo>
                      <a:pt x="262" y="785"/>
                    </a:lnTo>
                    <a:lnTo>
                      <a:pt x="151" y="876"/>
                    </a:lnTo>
                    <a:lnTo>
                      <a:pt x="55" y="863"/>
                    </a:lnTo>
                    <a:lnTo>
                      <a:pt x="0" y="745"/>
                    </a:lnTo>
                    <a:lnTo>
                      <a:pt x="42" y="614"/>
                    </a:lnTo>
                    <a:lnTo>
                      <a:pt x="82" y="496"/>
                    </a:lnTo>
                    <a:lnTo>
                      <a:pt x="96" y="380"/>
                    </a:lnTo>
                    <a:lnTo>
                      <a:pt x="82" y="222"/>
                    </a:lnTo>
                    <a:lnTo>
                      <a:pt x="82" y="78"/>
                    </a:lnTo>
                    <a:lnTo>
                      <a:pt x="111" y="2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67120" y="2924280"/>
                <a:ext cx="442800" cy="353880"/>
              </a:xfrm>
              <a:custGeom>
                <a:avLst/>
                <a:gdLst/>
                <a:ahLst/>
                <a:rect l="l" t="t" r="r" b="b"/>
                <a:pathLst>
                  <a:path w="1117" h="667">
                    <a:moveTo>
                      <a:pt x="910" y="104"/>
                    </a:moveTo>
                    <a:lnTo>
                      <a:pt x="992" y="26"/>
                    </a:lnTo>
                    <a:lnTo>
                      <a:pt x="1061" y="0"/>
                    </a:lnTo>
                    <a:lnTo>
                      <a:pt x="1103" y="13"/>
                    </a:lnTo>
                    <a:lnTo>
                      <a:pt x="1117" y="64"/>
                    </a:lnTo>
                    <a:lnTo>
                      <a:pt x="1103" y="117"/>
                    </a:lnTo>
                    <a:lnTo>
                      <a:pt x="1075" y="130"/>
                    </a:lnTo>
                    <a:lnTo>
                      <a:pt x="938" y="209"/>
                    </a:lnTo>
                    <a:lnTo>
                      <a:pt x="800" y="300"/>
                    </a:lnTo>
                    <a:lnTo>
                      <a:pt x="689" y="365"/>
                    </a:lnTo>
                    <a:lnTo>
                      <a:pt x="551" y="418"/>
                    </a:lnTo>
                    <a:lnTo>
                      <a:pt x="386" y="470"/>
                    </a:lnTo>
                    <a:lnTo>
                      <a:pt x="359" y="496"/>
                    </a:lnTo>
                    <a:lnTo>
                      <a:pt x="399" y="640"/>
                    </a:lnTo>
                    <a:lnTo>
                      <a:pt x="372" y="640"/>
                    </a:lnTo>
                    <a:lnTo>
                      <a:pt x="317" y="536"/>
                    </a:lnTo>
                    <a:lnTo>
                      <a:pt x="290" y="536"/>
                    </a:lnTo>
                    <a:lnTo>
                      <a:pt x="221" y="667"/>
                    </a:lnTo>
                    <a:lnTo>
                      <a:pt x="179" y="667"/>
                    </a:lnTo>
                    <a:lnTo>
                      <a:pt x="234" y="536"/>
                    </a:lnTo>
                    <a:lnTo>
                      <a:pt x="221" y="496"/>
                    </a:lnTo>
                    <a:lnTo>
                      <a:pt x="0" y="509"/>
                    </a:lnTo>
                    <a:lnTo>
                      <a:pt x="0" y="470"/>
                    </a:lnTo>
                    <a:lnTo>
                      <a:pt x="207" y="444"/>
                    </a:lnTo>
                    <a:lnTo>
                      <a:pt x="221" y="418"/>
                    </a:lnTo>
                    <a:lnTo>
                      <a:pt x="110" y="340"/>
                    </a:lnTo>
                    <a:lnTo>
                      <a:pt x="152" y="326"/>
                    </a:lnTo>
                    <a:lnTo>
                      <a:pt x="290" y="391"/>
                    </a:lnTo>
                    <a:lnTo>
                      <a:pt x="372" y="391"/>
                    </a:lnTo>
                    <a:lnTo>
                      <a:pt x="510" y="378"/>
                    </a:lnTo>
                    <a:lnTo>
                      <a:pt x="593" y="340"/>
                    </a:lnTo>
                    <a:lnTo>
                      <a:pt x="731" y="274"/>
                    </a:lnTo>
                    <a:lnTo>
                      <a:pt x="841" y="169"/>
                    </a:lnTo>
                    <a:lnTo>
                      <a:pt x="910" y="10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32240" y="2786040"/>
                <a:ext cx="492120" cy="193680"/>
              </a:xfrm>
              <a:custGeom>
                <a:avLst/>
                <a:gdLst/>
                <a:ahLst/>
                <a:rect l="l" t="t" r="r" b="b"/>
                <a:pathLst>
                  <a:path w="1241" h="367">
                    <a:moveTo>
                      <a:pt x="0" y="289"/>
                    </a:moveTo>
                    <a:lnTo>
                      <a:pt x="15" y="236"/>
                    </a:lnTo>
                    <a:lnTo>
                      <a:pt x="194" y="171"/>
                    </a:lnTo>
                    <a:lnTo>
                      <a:pt x="387" y="105"/>
                    </a:lnTo>
                    <a:lnTo>
                      <a:pt x="690" y="66"/>
                    </a:lnTo>
                    <a:lnTo>
                      <a:pt x="966" y="79"/>
                    </a:lnTo>
                    <a:lnTo>
                      <a:pt x="1063" y="79"/>
                    </a:lnTo>
                    <a:lnTo>
                      <a:pt x="1214" y="0"/>
                    </a:lnTo>
                    <a:lnTo>
                      <a:pt x="1241" y="26"/>
                    </a:lnTo>
                    <a:lnTo>
                      <a:pt x="1104" y="131"/>
                    </a:lnTo>
                    <a:lnTo>
                      <a:pt x="993" y="236"/>
                    </a:lnTo>
                    <a:lnTo>
                      <a:pt x="924" y="341"/>
                    </a:lnTo>
                    <a:lnTo>
                      <a:pt x="884" y="302"/>
                    </a:lnTo>
                    <a:lnTo>
                      <a:pt x="897" y="236"/>
                    </a:lnTo>
                    <a:lnTo>
                      <a:pt x="911" y="158"/>
                    </a:lnTo>
                    <a:lnTo>
                      <a:pt x="842" y="144"/>
                    </a:lnTo>
                    <a:lnTo>
                      <a:pt x="690" y="131"/>
                    </a:lnTo>
                    <a:lnTo>
                      <a:pt x="566" y="131"/>
                    </a:lnTo>
                    <a:lnTo>
                      <a:pt x="373" y="184"/>
                    </a:lnTo>
                    <a:lnTo>
                      <a:pt x="180" y="289"/>
                    </a:lnTo>
                    <a:lnTo>
                      <a:pt x="0" y="367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82920" y="3255840"/>
                <a:ext cx="147960" cy="622440"/>
              </a:xfrm>
              <a:custGeom>
                <a:avLst/>
                <a:gdLst/>
                <a:ahLst/>
                <a:rect l="l" t="t" r="r" b="b"/>
                <a:pathLst>
                  <a:path w="374" h="1176">
                    <a:moveTo>
                      <a:pt x="111" y="0"/>
                    </a:moveTo>
                    <a:lnTo>
                      <a:pt x="180" y="26"/>
                    </a:lnTo>
                    <a:lnTo>
                      <a:pt x="236" y="156"/>
                    </a:lnTo>
                    <a:lnTo>
                      <a:pt x="264" y="300"/>
                    </a:lnTo>
                    <a:lnTo>
                      <a:pt x="278" y="496"/>
                    </a:lnTo>
                    <a:lnTo>
                      <a:pt x="222" y="705"/>
                    </a:lnTo>
                    <a:lnTo>
                      <a:pt x="140" y="887"/>
                    </a:lnTo>
                    <a:lnTo>
                      <a:pt x="153" y="953"/>
                    </a:lnTo>
                    <a:lnTo>
                      <a:pt x="347" y="1045"/>
                    </a:lnTo>
                    <a:lnTo>
                      <a:pt x="374" y="1096"/>
                    </a:lnTo>
                    <a:lnTo>
                      <a:pt x="264" y="1176"/>
                    </a:lnTo>
                    <a:lnTo>
                      <a:pt x="209" y="1136"/>
                    </a:lnTo>
                    <a:lnTo>
                      <a:pt x="98" y="1018"/>
                    </a:lnTo>
                    <a:lnTo>
                      <a:pt x="0" y="953"/>
                    </a:lnTo>
                    <a:lnTo>
                      <a:pt x="0" y="914"/>
                    </a:lnTo>
                    <a:lnTo>
                      <a:pt x="56" y="836"/>
                    </a:lnTo>
                    <a:lnTo>
                      <a:pt x="140" y="718"/>
                    </a:lnTo>
                    <a:lnTo>
                      <a:pt x="195" y="535"/>
                    </a:lnTo>
                    <a:lnTo>
                      <a:pt x="195" y="300"/>
                    </a:lnTo>
                    <a:lnTo>
                      <a:pt x="153" y="169"/>
                    </a:lnTo>
                    <a:lnTo>
                      <a:pt x="98" y="104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06880" y="3263760"/>
                <a:ext cx="198360" cy="677880"/>
              </a:xfrm>
              <a:custGeom>
                <a:avLst/>
                <a:gdLst/>
                <a:ahLst/>
                <a:rect l="l" t="t" r="r" b="b"/>
                <a:pathLst>
                  <a:path w="498" h="1281">
                    <a:moveTo>
                      <a:pt x="263" y="156"/>
                    </a:moveTo>
                    <a:lnTo>
                      <a:pt x="318" y="38"/>
                    </a:lnTo>
                    <a:lnTo>
                      <a:pt x="456" y="0"/>
                    </a:lnTo>
                    <a:lnTo>
                      <a:pt x="498" y="64"/>
                    </a:lnTo>
                    <a:lnTo>
                      <a:pt x="401" y="169"/>
                    </a:lnTo>
                    <a:lnTo>
                      <a:pt x="345" y="235"/>
                    </a:lnTo>
                    <a:lnTo>
                      <a:pt x="332" y="365"/>
                    </a:lnTo>
                    <a:lnTo>
                      <a:pt x="305" y="587"/>
                    </a:lnTo>
                    <a:lnTo>
                      <a:pt x="318" y="874"/>
                    </a:lnTo>
                    <a:lnTo>
                      <a:pt x="332" y="1005"/>
                    </a:lnTo>
                    <a:lnTo>
                      <a:pt x="360" y="1058"/>
                    </a:lnTo>
                    <a:lnTo>
                      <a:pt x="345" y="1110"/>
                    </a:lnTo>
                    <a:lnTo>
                      <a:pt x="249" y="1150"/>
                    </a:lnTo>
                    <a:lnTo>
                      <a:pt x="98" y="1281"/>
                    </a:lnTo>
                    <a:lnTo>
                      <a:pt x="42" y="1281"/>
                    </a:lnTo>
                    <a:lnTo>
                      <a:pt x="0" y="1176"/>
                    </a:lnTo>
                    <a:lnTo>
                      <a:pt x="98" y="1110"/>
                    </a:lnTo>
                    <a:lnTo>
                      <a:pt x="222" y="1071"/>
                    </a:lnTo>
                    <a:lnTo>
                      <a:pt x="276" y="1045"/>
                    </a:lnTo>
                    <a:lnTo>
                      <a:pt x="263" y="927"/>
                    </a:lnTo>
                    <a:lnTo>
                      <a:pt x="236" y="665"/>
                    </a:lnTo>
                    <a:lnTo>
                      <a:pt x="222" y="444"/>
                    </a:lnTo>
                    <a:lnTo>
                      <a:pt x="236" y="260"/>
                    </a:lnTo>
                    <a:lnTo>
                      <a:pt x="263" y="15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557600" y="2413080"/>
              <a:ext cx="1019160" cy="1458720"/>
              <a:chOff x="4557600" y="2413080"/>
              <a:chExt cx="1019160" cy="1458720"/>
            </a:xfrm>
          </p:grpSpPr>
          <p:sp>
            <p:nvSpPr>
              <p:cNvPr id="147" name=""/>
              <p:cNvSpPr/>
              <p:nvPr/>
            </p:nvSpPr>
            <p:spPr>
              <a:xfrm>
                <a:off x="4557600" y="2413080"/>
                <a:ext cx="1019160" cy="1458720"/>
              </a:xfrm>
              <a:custGeom>
                <a:avLst/>
                <a:gdLst/>
                <a:ahLst/>
                <a:rect l="l" t="t" r="r" b="b"/>
                <a:pathLst>
                  <a:path w="2567" h="2757">
                    <a:moveTo>
                      <a:pt x="898" y="510"/>
                    </a:moveTo>
                    <a:lnTo>
                      <a:pt x="746" y="641"/>
                    </a:lnTo>
                    <a:lnTo>
                      <a:pt x="566" y="772"/>
                    </a:lnTo>
                    <a:lnTo>
                      <a:pt x="374" y="981"/>
                    </a:lnTo>
                    <a:lnTo>
                      <a:pt x="167" y="1255"/>
                    </a:lnTo>
                    <a:lnTo>
                      <a:pt x="56" y="1490"/>
                    </a:lnTo>
                    <a:lnTo>
                      <a:pt x="0" y="1673"/>
                    </a:lnTo>
                    <a:lnTo>
                      <a:pt x="0" y="1790"/>
                    </a:lnTo>
                    <a:lnTo>
                      <a:pt x="15" y="2039"/>
                    </a:lnTo>
                    <a:lnTo>
                      <a:pt x="56" y="2222"/>
                    </a:lnTo>
                    <a:lnTo>
                      <a:pt x="167" y="2339"/>
                    </a:lnTo>
                    <a:lnTo>
                      <a:pt x="387" y="2484"/>
                    </a:lnTo>
                    <a:lnTo>
                      <a:pt x="595" y="2575"/>
                    </a:lnTo>
                    <a:lnTo>
                      <a:pt x="856" y="2666"/>
                    </a:lnTo>
                    <a:lnTo>
                      <a:pt x="1008" y="2718"/>
                    </a:lnTo>
                    <a:lnTo>
                      <a:pt x="1270" y="2757"/>
                    </a:lnTo>
                    <a:lnTo>
                      <a:pt x="1669" y="2718"/>
                    </a:lnTo>
                    <a:lnTo>
                      <a:pt x="2015" y="2627"/>
                    </a:lnTo>
                    <a:lnTo>
                      <a:pt x="2235" y="2496"/>
                    </a:lnTo>
                    <a:lnTo>
                      <a:pt x="2373" y="2353"/>
                    </a:lnTo>
                    <a:lnTo>
                      <a:pt x="2456" y="2209"/>
                    </a:lnTo>
                    <a:lnTo>
                      <a:pt x="2538" y="2026"/>
                    </a:lnTo>
                    <a:lnTo>
                      <a:pt x="2567" y="1817"/>
                    </a:lnTo>
                    <a:lnTo>
                      <a:pt x="2567" y="1530"/>
                    </a:lnTo>
                    <a:lnTo>
                      <a:pt x="2511" y="1346"/>
                    </a:lnTo>
                    <a:lnTo>
                      <a:pt x="2400" y="1150"/>
                    </a:lnTo>
                    <a:lnTo>
                      <a:pt x="2249" y="968"/>
                    </a:lnTo>
                    <a:lnTo>
                      <a:pt x="2084" y="823"/>
                    </a:lnTo>
                    <a:lnTo>
                      <a:pt x="1918" y="706"/>
                    </a:lnTo>
                    <a:lnTo>
                      <a:pt x="1683" y="601"/>
                    </a:lnTo>
                    <a:lnTo>
                      <a:pt x="1669" y="536"/>
                    </a:lnTo>
                    <a:lnTo>
                      <a:pt x="1877" y="327"/>
                    </a:lnTo>
                    <a:lnTo>
                      <a:pt x="1890" y="196"/>
                    </a:lnTo>
                    <a:lnTo>
                      <a:pt x="1656" y="327"/>
                    </a:lnTo>
                    <a:lnTo>
                      <a:pt x="1738" y="92"/>
                    </a:lnTo>
                    <a:lnTo>
                      <a:pt x="1711" y="79"/>
                    </a:lnTo>
                    <a:lnTo>
                      <a:pt x="1629" y="79"/>
                    </a:lnTo>
                    <a:lnTo>
                      <a:pt x="1491" y="236"/>
                    </a:lnTo>
                    <a:lnTo>
                      <a:pt x="1408" y="327"/>
                    </a:lnTo>
                    <a:lnTo>
                      <a:pt x="1435" y="157"/>
                    </a:lnTo>
                    <a:lnTo>
                      <a:pt x="1491" y="27"/>
                    </a:lnTo>
                    <a:lnTo>
                      <a:pt x="1449" y="0"/>
                    </a:lnTo>
                    <a:lnTo>
                      <a:pt x="1353" y="79"/>
                    </a:lnTo>
                    <a:lnTo>
                      <a:pt x="1256" y="274"/>
                    </a:lnTo>
                    <a:lnTo>
                      <a:pt x="1215" y="170"/>
                    </a:lnTo>
                    <a:lnTo>
                      <a:pt x="1132" y="131"/>
                    </a:lnTo>
                    <a:lnTo>
                      <a:pt x="1077" y="261"/>
                    </a:lnTo>
                    <a:lnTo>
                      <a:pt x="1063" y="340"/>
                    </a:lnTo>
                    <a:lnTo>
                      <a:pt x="911" y="157"/>
                    </a:lnTo>
                    <a:lnTo>
                      <a:pt x="718" y="14"/>
                    </a:lnTo>
                    <a:lnTo>
                      <a:pt x="664" y="40"/>
                    </a:lnTo>
                    <a:lnTo>
                      <a:pt x="649" y="118"/>
                    </a:lnTo>
                    <a:lnTo>
                      <a:pt x="718" y="236"/>
                    </a:lnTo>
                    <a:lnTo>
                      <a:pt x="800" y="379"/>
                    </a:lnTo>
                    <a:lnTo>
                      <a:pt x="1008" y="628"/>
                    </a:lnTo>
                    <a:lnTo>
                      <a:pt x="980" y="679"/>
                    </a:lnTo>
                    <a:lnTo>
                      <a:pt x="938" y="706"/>
                    </a:lnTo>
                    <a:lnTo>
                      <a:pt x="967" y="758"/>
                    </a:lnTo>
                    <a:lnTo>
                      <a:pt x="1146" y="823"/>
                    </a:lnTo>
                    <a:lnTo>
                      <a:pt x="1435" y="823"/>
                    </a:lnTo>
                    <a:lnTo>
                      <a:pt x="1683" y="797"/>
                    </a:lnTo>
                    <a:lnTo>
                      <a:pt x="1767" y="719"/>
                    </a:lnTo>
                    <a:lnTo>
                      <a:pt x="1711" y="693"/>
                    </a:lnTo>
                    <a:lnTo>
                      <a:pt x="1656" y="732"/>
                    </a:lnTo>
                    <a:lnTo>
                      <a:pt x="1504" y="745"/>
                    </a:lnTo>
                    <a:lnTo>
                      <a:pt x="1353" y="772"/>
                    </a:lnTo>
                    <a:lnTo>
                      <a:pt x="1187" y="745"/>
                    </a:lnTo>
                    <a:lnTo>
                      <a:pt x="1435" y="719"/>
                    </a:lnTo>
                    <a:lnTo>
                      <a:pt x="1600" y="667"/>
                    </a:lnTo>
                    <a:lnTo>
                      <a:pt x="1629" y="641"/>
                    </a:lnTo>
                    <a:lnTo>
                      <a:pt x="1560" y="614"/>
                    </a:lnTo>
                    <a:lnTo>
                      <a:pt x="1477" y="654"/>
                    </a:lnTo>
                    <a:lnTo>
                      <a:pt x="1284" y="679"/>
                    </a:lnTo>
                    <a:lnTo>
                      <a:pt x="1146" y="667"/>
                    </a:lnTo>
                    <a:lnTo>
                      <a:pt x="1077" y="641"/>
                    </a:lnTo>
                    <a:lnTo>
                      <a:pt x="1105" y="576"/>
                    </a:lnTo>
                    <a:lnTo>
                      <a:pt x="980" y="484"/>
                    </a:lnTo>
                    <a:lnTo>
                      <a:pt x="856" y="367"/>
                    </a:lnTo>
                    <a:lnTo>
                      <a:pt x="787" y="249"/>
                    </a:lnTo>
                    <a:lnTo>
                      <a:pt x="760" y="170"/>
                    </a:lnTo>
                    <a:lnTo>
                      <a:pt x="760" y="145"/>
                    </a:lnTo>
                    <a:lnTo>
                      <a:pt x="787" y="145"/>
                    </a:lnTo>
                    <a:lnTo>
                      <a:pt x="856" y="196"/>
                    </a:lnTo>
                    <a:lnTo>
                      <a:pt x="952" y="314"/>
                    </a:lnTo>
                    <a:lnTo>
                      <a:pt x="1077" y="458"/>
                    </a:lnTo>
                    <a:lnTo>
                      <a:pt x="1105" y="497"/>
                    </a:lnTo>
                    <a:lnTo>
                      <a:pt x="1159" y="470"/>
                    </a:lnTo>
                    <a:lnTo>
                      <a:pt x="1132" y="392"/>
                    </a:lnTo>
                    <a:lnTo>
                      <a:pt x="1146" y="340"/>
                    </a:lnTo>
                    <a:lnTo>
                      <a:pt x="1159" y="274"/>
                    </a:lnTo>
                    <a:lnTo>
                      <a:pt x="1187" y="274"/>
                    </a:lnTo>
                    <a:lnTo>
                      <a:pt x="1215" y="354"/>
                    </a:lnTo>
                    <a:lnTo>
                      <a:pt x="1228" y="405"/>
                    </a:lnTo>
                    <a:lnTo>
                      <a:pt x="1270" y="419"/>
                    </a:lnTo>
                    <a:lnTo>
                      <a:pt x="1326" y="301"/>
                    </a:lnTo>
                    <a:lnTo>
                      <a:pt x="1353" y="261"/>
                    </a:lnTo>
                    <a:lnTo>
                      <a:pt x="1366" y="327"/>
                    </a:lnTo>
                    <a:lnTo>
                      <a:pt x="1366" y="432"/>
                    </a:lnTo>
                    <a:lnTo>
                      <a:pt x="1408" y="458"/>
                    </a:lnTo>
                    <a:lnTo>
                      <a:pt x="1477" y="367"/>
                    </a:lnTo>
                    <a:lnTo>
                      <a:pt x="1546" y="249"/>
                    </a:lnTo>
                    <a:lnTo>
                      <a:pt x="1615" y="223"/>
                    </a:lnTo>
                    <a:lnTo>
                      <a:pt x="1615" y="236"/>
                    </a:lnTo>
                    <a:lnTo>
                      <a:pt x="1573" y="314"/>
                    </a:lnTo>
                    <a:lnTo>
                      <a:pt x="1531" y="432"/>
                    </a:lnTo>
                    <a:lnTo>
                      <a:pt x="1573" y="445"/>
                    </a:lnTo>
                    <a:lnTo>
                      <a:pt x="1794" y="301"/>
                    </a:lnTo>
                    <a:lnTo>
                      <a:pt x="1821" y="301"/>
                    </a:lnTo>
                    <a:lnTo>
                      <a:pt x="1615" y="497"/>
                    </a:lnTo>
                    <a:lnTo>
                      <a:pt x="1573" y="536"/>
                    </a:lnTo>
                    <a:lnTo>
                      <a:pt x="1560" y="601"/>
                    </a:lnTo>
                    <a:lnTo>
                      <a:pt x="1600" y="628"/>
                    </a:lnTo>
                    <a:lnTo>
                      <a:pt x="1725" y="679"/>
                    </a:lnTo>
                    <a:lnTo>
                      <a:pt x="1932" y="785"/>
                    </a:lnTo>
                    <a:lnTo>
                      <a:pt x="2070" y="888"/>
                    </a:lnTo>
                    <a:lnTo>
                      <a:pt x="2235" y="1046"/>
                    </a:lnTo>
                    <a:lnTo>
                      <a:pt x="2360" y="1215"/>
                    </a:lnTo>
                    <a:lnTo>
                      <a:pt x="2442" y="1399"/>
                    </a:lnTo>
                    <a:lnTo>
                      <a:pt x="2498" y="1634"/>
                    </a:lnTo>
                    <a:lnTo>
                      <a:pt x="2483" y="1804"/>
                    </a:lnTo>
                    <a:lnTo>
                      <a:pt x="2469" y="1986"/>
                    </a:lnTo>
                    <a:lnTo>
                      <a:pt x="2387" y="2182"/>
                    </a:lnTo>
                    <a:lnTo>
                      <a:pt x="2304" y="2326"/>
                    </a:lnTo>
                    <a:lnTo>
                      <a:pt x="2208" y="2404"/>
                    </a:lnTo>
                    <a:lnTo>
                      <a:pt x="2097" y="2509"/>
                    </a:lnTo>
                    <a:lnTo>
                      <a:pt x="1890" y="2588"/>
                    </a:lnTo>
                    <a:lnTo>
                      <a:pt x="1642" y="2653"/>
                    </a:lnTo>
                    <a:lnTo>
                      <a:pt x="1518" y="2666"/>
                    </a:lnTo>
                    <a:lnTo>
                      <a:pt x="1284" y="2666"/>
                    </a:lnTo>
                    <a:lnTo>
                      <a:pt x="1063" y="2640"/>
                    </a:lnTo>
                    <a:lnTo>
                      <a:pt x="800" y="2575"/>
                    </a:lnTo>
                    <a:lnTo>
                      <a:pt x="553" y="2470"/>
                    </a:lnTo>
                    <a:lnTo>
                      <a:pt x="359" y="2366"/>
                    </a:lnTo>
                    <a:lnTo>
                      <a:pt x="194" y="2248"/>
                    </a:lnTo>
                    <a:lnTo>
                      <a:pt x="125" y="2157"/>
                    </a:lnTo>
                    <a:lnTo>
                      <a:pt x="111" y="2064"/>
                    </a:lnTo>
                    <a:lnTo>
                      <a:pt x="84" y="1790"/>
                    </a:lnTo>
                    <a:lnTo>
                      <a:pt x="98" y="1608"/>
                    </a:lnTo>
                    <a:lnTo>
                      <a:pt x="180" y="1412"/>
                    </a:lnTo>
                    <a:lnTo>
                      <a:pt x="290" y="1190"/>
                    </a:lnTo>
                    <a:lnTo>
                      <a:pt x="484" y="994"/>
                    </a:lnTo>
                    <a:lnTo>
                      <a:pt x="664" y="772"/>
                    </a:lnTo>
                    <a:lnTo>
                      <a:pt x="829" y="654"/>
                    </a:lnTo>
                    <a:lnTo>
                      <a:pt x="925" y="576"/>
                    </a:lnTo>
                    <a:lnTo>
                      <a:pt x="898" y="5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57920" y="2987640"/>
                <a:ext cx="207720" cy="449280"/>
              </a:xfrm>
              <a:custGeom>
                <a:avLst/>
                <a:gdLst/>
                <a:ahLst/>
                <a:rect l="l" t="t" r="r" b="b"/>
                <a:pathLst>
                  <a:path w="524" h="849">
                    <a:moveTo>
                      <a:pt x="317" y="156"/>
                    </a:moveTo>
                    <a:lnTo>
                      <a:pt x="413" y="169"/>
                    </a:lnTo>
                    <a:lnTo>
                      <a:pt x="495" y="235"/>
                    </a:lnTo>
                    <a:lnTo>
                      <a:pt x="524" y="300"/>
                    </a:lnTo>
                    <a:lnTo>
                      <a:pt x="426" y="326"/>
                    </a:lnTo>
                    <a:lnTo>
                      <a:pt x="371" y="273"/>
                    </a:lnTo>
                    <a:lnTo>
                      <a:pt x="303" y="247"/>
                    </a:lnTo>
                    <a:lnTo>
                      <a:pt x="234" y="235"/>
                    </a:lnTo>
                    <a:lnTo>
                      <a:pt x="123" y="260"/>
                    </a:lnTo>
                    <a:lnTo>
                      <a:pt x="96" y="326"/>
                    </a:lnTo>
                    <a:lnTo>
                      <a:pt x="151" y="378"/>
                    </a:lnTo>
                    <a:lnTo>
                      <a:pt x="288" y="417"/>
                    </a:lnTo>
                    <a:lnTo>
                      <a:pt x="426" y="417"/>
                    </a:lnTo>
                    <a:lnTo>
                      <a:pt x="468" y="456"/>
                    </a:lnTo>
                    <a:lnTo>
                      <a:pt x="495" y="522"/>
                    </a:lnTo>
                    <a:lnTo>
                      <a:pt x="482" y="600"/>
                    </a:lnTo>
                    <a:lnTo>
                      <a:pt x="399" y="653"/>
                    </a:lnTo>
                    <a:lnTo>
                      <a:pt x="303" y="653"/>
                    </a:lnTo>
                    <a:lnTo>
                      <a:pt x="234" y="653"/>
                    </a:lnTo>
                    <a:lnTo>
                      <a:pt x="206" y="718"/>
                    </a:lnTo>
                    <a:lnTo>
                      <a:pt x="219" y="835"/>
                    </a:lnTo>
                    <a:lnTo>
                      <a:pt x="123" y="849"/>
                    </a:lnTo>
                    <a:lnTo>
                      <a:pt x="109" y="757"/>
                    </a:lnTo>
                    <a:lnTo>
                      <a:pt x="137" y="653"/>
                    </a:lnTo>
                    <a:lnTo>
                      <a:pt x="54" y="613"/>
                    </a:lnTo>
                    <a:lnTo>
                      <a:pt x="0" y="574"/>
                    </a:lnTo>
                    <a:lnTo>
                      <a:pt x="82" y="496"/>
                    </a:lnTo>
                    <a:lnTo>
                      <a:pt x="123" y="548"/>
                    </a:lnTo>
                    <a:lnTo>
                      <a:pt x="192" y="560"/>
                    </a:lnTo>
                    <a:lnTo>
                      <a:pt x="288" y="574"/>
                    </a:lnTo>
                    <a:lnTo>
                      <a:pt x="371" y="574"/>
                    </a:lnTo>
                    <a:lnTo>
                      <a:pt x="413" y="560"/>
                    </a:lnTo>
                    <a:lnTo>
                      <a:pt x="386" y="509"/>
                    </a:lnTo>
                    <a:lnTo>
                      <a:pt x="317" y="496"/>
                    </a:lnTo>
                    <a:lnTo>
                      <a:pt x="192" y="469"/>
                    </a:lnTo>
                    <a:lnTo>
                      <a:pt x="68" y="431"/>
                    </a:lnTo>
                    <a:lnTo>
                      <a:pt x="27" y="365"/>
                    </a:lnTo>
                    <a:lnTo>
                      <a:pt x="13" y="287"/>
                    </a:lnTo>
                    <a:lnTo>
                      <a:pt x="82" y="208"/>
                    </a:lnTo>
                    <a:lnTo>
                      <a:pt x="178" y="143"/>
                    </a:lnTo>
                    <a:lnTo>
                      <a:pt x="247" y="143"/>
                    </a:lnTo>
                    <a:lnTo>
                      <a:pt x="275" y="0"/>
                    </a:lnTo>
                    <a:lnTo>
                      <a:pt x="357" y="13"/>
                    </a:lnTo>
                    <a:lnTo>
                      <a:pt x="317" y="1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65680" y="2965320"/>
                <a:ext cx="88920" cy="160560"/>
              </a:xfrm>
              <a:custGeom>
                <a:avLst/>
                <a:gdLst/>
                <a:ahLst/>
                <a:rect l="l" t="t" r="r" b="b"/>
                <a:pathLst>
                  <a:path w="220" h="301">
                    <a:moveTo>
                      <a:pt x="0" y="236"/>
                    </a:moveTo>
                    <a:lnTo>
                      <a:pt x="96" y="78"/>
                    </a:lnTo>
                    <a:lnTo>
                      <a:pt x="220" y="0"/>
                    </a:lnTo>
                    <a:lnTo>
                      <a:pt x="220" y="40"/>
                    </a:lnTo>
                    <a:lnTo>
                      <a:pt x="136" y="131"/>
                    </a:lnTo>
                    <a:lnTo>
                      <a:pt x="40" y="301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51400" y="3367080"/>
                <a:ext cx="55800" cy="111240"/>
              </a:xfrm>
              <a:custGeom>
                <a:avLst/>
                <a:gdLst/>
                <a:ahLst/>
                <a:rect l="l" t="t" r="r" b="b"/>
                <a:pathLst>
                  <a:path w="138" h="209">
                    <a:moveTo>
                      <a:pt x="138" y="0"/>
                    </a:moveTo>
                    <a:lnTo>
                      <a:pt x="42" y="130"/>
                    </a:lnTo>
                    <a:lnTo>
                      <a:pt x="0" y="182"/>
                    </a:lnTo>
                    <a:lnTo>
                      <a:pt x="55" y="209"/>
                    </a:lnTo>
                    <a:lnTo>
                      <a:pt x="96" y="182"/>
                    </a:lnTo>
                    <a:lnTo>
                      <a:pt x="138" y="91"/>
                    </a:lnTo>
                    <a:lnTo>
                      <a:pt x="138" y="51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ruktura zarządzania wg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omitet Sterują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zew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Reprezentant dostaw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67120" y="2413080"/>
            <a:ext cx="1709640" cy="1528560"/>
            <a:chOff x="3867120" y="2413080"/>
            <a:chExt cx="1709640" cy="1528560"/>
          </a:xfrm>
        </p:grpSpPr>
        <p:grpSp>
          <p:nvGrpSpPr>
            <p:cNvPr id="156" name=""/>
            <p:cNvGrpSpPr/>
            <p:nvPr/>
          </p:nvGrpSpPr>
          <p:grpSpPr>
            <a:xfrm>
              <a:off x="3867120" y="2565360"/>
              <a:ext cx="957240" cy="1376280"/>
              <a:chOff x="3867120" y="2565360"/>
              <a:chExt cx="957240" cy="1376280"/>
            </a:xfrm>
          </p:grpSpPr>
          <p:sp>
            <p:nvSpPr>
              <p:cNvPr id="157" name=""/>
              <p:cNvSpPr/>
              <p:nvPr/>
            </p:nvSpPr>
            <p:spPr>
              <a:xfrm>
                <a:off x="4200480" y="2565360"/>
                <a:ext cx="214200" cy="345960"/>
              </a:xfrm>
              <a:custGeom>
                <a:avLst/>
                <a:gdLst/>
                <a:ahLst/>
                <a:rect l="l" t="t" r="r" b="b"/>
                <a:pathLst>
                  <a:path w="537" h="654">
                    <a:moveTo>
                      <a:pt x="138" y="302"/>
                    </a:moveTo>
                    <a:lnTo>
                      <a:pt x="179" y="171"/>
                    </a:lnTo>
                    <a:lnTo>
                      <a:pt x="248" y="66"/>
                    </a:lnTo>
                    <a:lnTo>
                      <a:pt x="317" y="13"/>
                    </a:lnTo>
                    <a:lnTo>
                      <a:pt x="399" y="0"/>
                    </a:lnTo>
                    <a:lnTo>
                      <a:pt x="455" y="13"/>
                    </a:lnTo>
                    <a:lnTo>
                      <a:pt x="524" y="53"/>
                    </a:lnTo>
                    <a:lnTo>
                      <a:pt x="537" y="144"/>
                    </a:lnTo>
                    <a:lnTo>
                      <a:pt x="537" y="275"/>
                    </a:lnTo>
                    <a:lnTo>
                      <a:pt x="482" y="418"/>
                    </a:lnTo>
                    <a:lnTo>
                      <a:pt x="399" y="511"/>
                    </a:lnTo>
                    <a:lnTo>
                      <a:pt x="359" y="563"/>
                    </a:lnTo>
                    <a:lnTo>
                      <a:pt x="290" y="602"/>
                    </a:lnTo>
                    <a:lnTo>
                      <a:pt x="234" y="589"/>
                    </a:lnTo>
                    <a:lnTo>
                      <a:pt x="193" y="576"/>
                    </a:lnTo>
                    <a:lnTo>
                      <a:pt x="151" y="536"/>
                    </a:lnTo>
                    <a:lnTo>
                      <a:pt x="27" y="654"/>
                    </a:lnTo>
                    <a:lnTo>
                      <a:pt x="0" y="576"/>
                    </a:lnTo>
                    <a:lnTo>
                      <a:pt x="124" y="458"/>
                    </a:lnTo>
                    <a:lnTo>
                      <a:pt x="138" y="302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55920" y="2917800"/>
                <a:ext cx="136800" cy="463680"/>
              </a:xfrm>
              <a:custGeom>
                <a:avLst/>
                <a:gdLst/>
                <a:ahLst/>
                <a:rect l="l" t="t" r="r" b="b"/>
                <a:pathLst>
                  <a:path w="345" h="876">
                    <a:moveTo>
                      <a:pt x="111" y="26"/>
                    </a:moveTo>
                    <a:lnTo>
                      <a:pt x="180" y="0"/>
                    </a:lnTo>
                    <a:lnTo>
                      <a:pt x="262" y="26"/>
                    </a:lnTo>
                    <a:lnTo>
                      <a:pt x="318" y="118"/>
                    </a:lnTo>
                    <a:lnTo>
                      <a:pt x="345" y="262"/>
                    </a:lnTo>
                    <a:lnTo>
                      <a:pt x="345" y="483"/>
                    </a:lnTo>
                    <a:lnTo>
                      <a:pt x="303" y="654"/>
                    </a:lnTo>
                    <a:lnTo>
                      <a:pt x="262" y="785"/>
                    </a:lnTo>
                    <a:lnTo>
                      <a:pt x="151" y="876"/>
                    </a:lnTo>
                    <a:lnTo>
                      <a:pt x="55" y="863"/>
                    </a:lnTo>
                    <a:lnTo>
                      <a:pt x="0" y="745"/>
                    </a:lnTo>
                    <a:lnTo>
                      <a:pt x="42" y="614"/>
                    </a:lnTo>
                    <a:lnTo>
                      <a:pt x="82" y="496"/>
                    </a:lnTo>
                    <a:lnTo>
                      <a:pt x="96" y="380"/>
                    </a:lnTo>
                    <a:lnTo>
                      <a:pt x="82" y="222"/>
                    </a:lnTo>
                    <a:lnTo>
                      <a:pt x="82" y="78"/>
                    </a:lnTo>
                    <a:lnTo>
                      <a:pt x="111" y="2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67120" y="2924280"/>
                <a:ext cx="442800" cy="353880"/>
              </a:xfrm>
              <a:custGeom>
                <a:avLst/>
                <a:gdLst/>
                <a:ahLst/>
                <a:rect l="l" t="t" r="r" b="b"/>
                <a:pathLst>
                  <a:path w="1117" h="667">
                    <a:moveTo>
                      <a:pt x="910" y="104"/>
                    </a:moveTo>
                    <a:lnTo>
                      <a:pt x="992" y="26"/>
                    </a:lnTo>
                    <a:lnTo>
                      <a:pt x="1061" y="0"/>
                    </a:lnTo>
                    <a:lnTo>
                      <a:pt x="1103" y="13"/>
                    </a:lnTo>
                    <a:lnTo>
                      <a:pt x="1117" y="64"/>
                    </a:lnTo>
                    <a:lnTo>
                      <a:pt x="1103" y="117"/>
                    </a:lnTo>
                    <a:lnTo>
                      <a:pt x="1075" y="130"/>
                    </a:lnTo>
                    <a:lnTo>
                      <a:pt x="938" y="209"/>
                    </a:lnTo>
                    <a:lnTo>
                      <a:pt x="800" y="300"/>
                    </a:lnTo>
                    <a:lnTo>
                      <a:pt x="689" y="365"/>
                    </a:lnTo>
                    <a:lnTo>
                      <a:pt x="551" y="418"/>
                    </a:lnTo>
                    <a:lnTo>
                      <a:pt x="386" y="470"/>
                    </a:lnTo>
                    <a:lnTo>
                      <a:pt x="359" y="496"/>
                    </a:lnTo>
                    <a:lnTo>
                      <a:pt x="399" y="640"/>
                    </a:lnTo>
                    <a:lnTo>
                      <a:pt x="372" y="640"/>
                    </a:lnTo>
                    <a:lnTo>
                      <a:pt x="317" y="536"/>
                    </a:lnTo>
                    <a:lnTo>
                      <a:pt x="290" y="536"/>
                    </a:lnTo>
                    <a:lnTo>
                      <a:pt x="221" y="667"/>
                    </a:lnTo>
                    <a:lnTo>
                      <a:pt x="179" y="667"/>
                    </a:lnTo>
                    <a:lnTo>
                      <a:pt x="234" y="536"/>
                    </a:lnTo>
                    <a:lnTo>
                      <a:pt x="221" y="496"/>
                    </a:lnTo>
                    <a:lnTo>
                      <a:pt x="0" y="509"/>
                    </a:lnTo>
                    <a:lnTo>
                      <a:pt x="0" y="470"/>
                    </a:lnTo>
                    <a:lnTo>
                      <a:pt x="207" y="444"/>
                    </a:lnTo>
                    <a:lnTo>
                      <a:pt x="221" y="418"/>
                    </a:lnTo>
                    <a:lnTo>
                      <a:pt x="110" y="340"/>
                    </a:lnTo>
                    <a:lnTo>
                      <a:pt x="152" y="326"/>
                    </a:lnTo>
                    <a:lnTo>
                      <a:pt x="290" y="391"/>
                    </a:lnTo>
                    <a:lnTo>
                      <a:pt x="372" y="391"/>
                    </a:lnTo>
                    <a:lnTo>
                      <a:pt x="510" y="378"/>
                    </a:lnTo>
                    <a:lnTo>
                      <a:pt x="593" y="340"/>
                    </a:lnTo>
                    <a:lnTo>
                      <a:pt x="731" y="274"/>
                    </a:lnTo>
                    <a:lnTo>
                      <a:pt x="841" y="169"/>
                    </a:lnTo>
                    <a:lnTo>
                      <a:pt x="910" y="10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32240" y="2786040"/>
                <a:ext cx="492120" cy="193680"/>
              </a:xfrm>
              <a:custGeom>
                <a:avLst/>
                <a:gdLst/>
                <a:ahLst/>
                <a:rect l="l" t="t" r="r" b="b"/>
                <a:pathLst>
                  <a:path w="1241" h="367">
                    <a:moveTo>
                      <a:pt x="0" y="289"/>
                    </a:moveTo>
                    <a:lnTo>
                      <a:pt x="15" y="236"/>
                    </a:lnTo>
                    <a:lnTo>
                      <a:pt x="194" y="171"/>
                    </a:lnTo>
                    <a:lnTo>
                      <a:pt x="387" y="105"/>
                    </a:lnTo>
                    <a:lnTo>
                      <a:pt x="690" y="66"/>
                    </a:lnTo>
                    <a:lnTo>
                      <a:pt x="966" y="79"/>
                    </a:lnTo>
                    <a:lnTo>
                      <a:pt x="1063" y="79"/>
                    </a:lnTo>
                    <a:lnTo>
                      <a:pt x="1214" y="0"/>
                    </a:lnTo>
                    <a:lnTo>
                      <a:pt x="1241" y="26"/>
                    </a:lnTo>
                    <a:lnTo>
                      <a:pt x="1104" y="131"/>
                    </a:lnTo>
                    <a:lnTo>
                      <a:pt x="993" y="236"/>
                    </a:lnTo>
                    <a:lnTo>
                      <a:pt x="924" y="341"/>
                    </a:lnTo>
                    <a:lnTo>
                      <a:pt x="884" y="302"/>
                    </a:lnTo>
                    <a:lnTo>
                      <a:pt x="897" y="236"/>
                    </a:lnTo>
                    <a:lnTo>
                      <a:pt x="911" y="158"/>
                    </a:lnTo>
                    <a:lnTo>
                      <a:pt x="842" y="144"/>
                    </a:lnTo>
                    <a:lnTo>
                      <a:pt x="690" y="131"/>
                    </a:lnTo>
                    <a:lnTo>
                      <a:pt x="566" y="131"/>
                    </a:lnTo>
                    <a:lnTo>
                      <a:pt x="373" y="184"/>
                    </a:lnTo>
                    <a:lnTo>
                      <a:pt x="180" y="289"/>
                    </a:lnTo>
                    <a:lnTo>
                      <a:pt x="0" y="367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282920" y="3255840"/>
                <a:ext cx="147960" cy="622440"/>
              </a:xfrm>
              <a:custGeom>
                <a:avLst/>
                <a:gdLst/>
                <a:ahLst/>
                <a:rect l="l" t="t" r="r" b="b"/>
                <a:pathLst>
                  <a:path w="374" h="1176">
                    <a:moveTo>
                      <a:pt x="111" y="0"/>
                    </a:moveTo>
                    <a:lnTo>
                      <a:pt x="180" y="26"/>
                    </a:lnTo>
                    <a:lnTo>
                      <a:pt x="236" y="156"/>
                    </a:lnTo>
                    <a:lnTo>
                      <a:pt x="264" y="300"/>
                    </a:lnTo>
                    <a:lnTo>
                      <a:pt x="278" y="496"/>
                    </a:lnTo>
                    <a:lnTo>
                      <a:pt x="222" y="705"/>
                    </a:lnTo>
                    <a:lnTo>
                      <a:pt x="140" y="887"/>
                    </a:lnTo>
                    <a:lnTo>
                      <a:pt x="153" y="953"/>
                    </a:lnTo>
                    <a:lnTo>
                      <a:pt x="347" y="1045"/>
                    </a:lnTo>
                    <a:lnTo>
                      <a:pt x="374" y="1096"/>
                    </a:lnTo>
                    <a:lnTo>
                      <a:pt x="264" y="1176"/>
                    </a:lnTo>
                    <a:lnTo>
                      <a:pt x="209" y="1136"/>
                    </a:lnTo>
                    <a:lnTo>
                      <a:pt x="98" y="1018"/>
                    </a:lnTo>
                    <a:lnTo>
                      <a:pt x="0" y="953"/>
                    </a:lnTo>
                    <a:lnTo>
                      <a:pt x="0" y="914"/>
                    </a:lnTo>
                    <a:lnTo>
                      <a:pt x="56" y="836"/>
                    </a:lnTo>
                    <a:lnTo>
                      <a:pt x="140" y="718"/>
                    </a:lnTo>
                    <a:lnTo>
                      <a:pt x="195" y="535"/>
                    </a:lnTo>
                    <a:lnTo>
                      <a:pt x="195" y="300"/>
                    </a:lnTo>
                    <a:lnTo>
                      <a:pt x="153" y="169"/>
                    </a:lnTo>
                    <a:lnTo>
                      <a:pt x="98" y="104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06880" y="3263760"/>
                <a:ext cx="198360" cy="677880"/>
              </a:xfrm>
              <a:custGeom>
                <a:avLst/>
                <a:gdLst/>
                <a:ahLst/>
                <a:rect l="l" t="t" r="r" b="b"/>
                <a:pathLst>
                  <a:path w="498" h="1281">
                    <a:moveTo>
                      <a:pt x="263" y="156"/>
                    </a:moveTo>
                    <a:lnTo>
                      <a:pt x="318" y="38"/>
                    </a:lnTo>
                    <a:lnTo>
                      <a:pt x="456" y="0"/>
                    </a:lnTo>
                    <a:lnTo>
                      <a:pt x="498" y="64"/>
                    </a:lnTo>
                    <a:lnTo>
                      <a:pt x="401" y="169"/>
                    </a:lnTo>
                    <a:lnTo>
                      <a:pt x="345" y="235"/>
                    </a:lnTo>
                    <a:lnTo>
                      <a:pt x="332" y="365"/>
                    </a:lnTo>
                    <a:lnTo>
                      <a:pt x="305" y="587"/>
                    </a:lnTo>
                    <a:lnTo>
                      <a:pt x="318" y="874"/>
                    </a:lnTo>
                    <a:lnTo>
                      <a:pt x="332" y="1005"/>
                    </a:lnTo>
                    <a:lnTo>
                      <a:pt x="360" y="1058"/>
                    </a:lnTo>
                    <a:lnTo>
                      <a:pt x="345" y="1110"/>
                    </a:lnTo>
                    <a:lnTo>
                      <a:pt x="249" y="1150"/>
                    </a:lnTo>
                    <a:lnTo>
                      <a:pt x="98" y="1281"/>
                    </a:lnTo>
                    <a:lnTo>
                      <a:pt x="42" y="1281"/>
                    </a:lnTo>
                    <a:lnTo>
                      <a:pt x="0" y="1176"/>
                    </a:lnTo>
                    <a:lnTo>
                      <a:pt x="98" y="1110"/>
                    </a:lnTo>
                    <a:lnTo>
                      <a:pt x="222" y="1071"/>
                    </a:lnTo>
                    <a:lnTo>
                      <a:pt x="276" y="1045"/>
                    </a:lnTo>
                    <a:lnTo>
                      <a:pt x="263" y="927"/>
                    </a:lnTo>
                    <a:lnTo>
                      <a:pt x="236" y="665"/>
                    </a:lnTo>
                    <a:lnTo>
                      <a:pt x="222" y="444"/>
                    </a:lnTo>
                    <a:lnTo>
                      <a:pt x="236" y="260"/>
                    </a:lnTo>
                    <a:lnTo>
                      <a:pt x="263" y="15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557600" y="2413080"/>
              <a:ext cx="1019160" cy="1458720"/>
              <a:chOff x="4557600" y="2413080"/>
              <a:chExt cx="1019160" cy="1458720"/>
            </a:xfrm>
          </p:grpSpPr>
          <p:sp>
            <p:nvSpPr>
              <p:cNvPr id="164" name=""/>
              <p:cNvSpPr/>
              <p:nvPr/>
            </p:nvSpPr>
            <p:spPr>
              <a:xfrm>
                <a:off x="4557600" y="2413080"/>
                <a:ext cx="1019160" cy="1458720"/>
              </a:xfrm>
              <a:custGeom>
                <a:avLst/>
                <a:gdLst/>
                <a:ahLst/>
                <a:rect l="l" t="t" r="r" b="b"/>
                <a:pathLst>
                  <a:path w="2567" h="2757">
                    <a:moveTo>
                      <a:pt x="898" y="510"/>
                    </a:moveTo>
                    <a:lnTo>
                      <a:pt x="746" y="641"/>
                    </a:lnTo>
                    <a:lnTo>
                      <a:pt x="566" y="772"/>
                    </a:lnTo>
                    <a:lnTo>
                      <a:pt x="374" y="981"/>
                    </a:lnTo>
                    <a:lnTo>
                      <a:pt x="167" y="1255"/>
                    </a:lnTo>
                    <a:lnTo>
                      <a:pt x="56" y="1490"/>
                    </a:lnTo>
                    <a:lnTo>
                      <a:pt x="0" y="1673"/>
                    </a:lnTo>
                    <a:lnTo>
                      <a:pt x="0" y="1790"/>
                    </a:lnTo>
                    <a:lnTo>
                      <a:pt x="15" y="2039"/>
                    </a:lnTo>
                    <a:lnTo>
                      <a:pt x="56" y="2222"/>
                    </a:lnTo>
                    <a:lnTo>
                      <a:pt x="167" y="2339"/>
                    </a:lnTo>
                    <a:lnTo>
                      <a:pt x="387" y="2484"/>
                    </a:lnTo>
                    <a:lnTo>
                      <a:pt x="595" y="2575"/>
                    </a:lnTo>
                    <a:lnTo>
                      <a:pt x="856" y="2666"/>
                    </a:lnTo>
                    <a:lnTo>
                      <a:pt x="1008" y="2718"/>
                    </a:lnTo>
                    <a:lnTo>
                      <a:pt x="1270" y="2757"/>
                    </a:lnTo>
                    <a:lnTo>
                      <a:pt x="1669" y="2718"/>
                    </a:lnTo>
                    <a:lnTo>
                      <a:pt x="2015" y="2627"/>
                    </a:lnTo>
                    <a:lnTo>
                      <a:pt x="2235" y="2496"/>
                    </a:lnTo>
                    <a:lnTo>
                      <a:pt x="2373" y="2353"/>
                    </a:lnTo>
                    <a:lnTo>
                      <a:pt x="2456" y="2209"/>
                    </a:lnTo>
                    <a:lnTo>
                      <a:pt x="2538" y="2026"/>
                    </a:lnTo>
                    <a:lnTo>
                      <a:pt x="2567" y="1817"/>
                    </a:lnTo>
                    <a:lnTo>
                      <a:pt x="2567" y="1530"/>
                    </a:lnTo>
                    <a:lnTo>
                      <a:pt x="2511" y="1346"/>
                    </a:lnTo>
                    <a:lnTo>
                      <a:pt x="2400" y="1150"/>
                    </a:lnTo>
                    <a:lnTo>
                      <a:pt x="2249" y="968"/>
                    </a:lnTo>
                    <a:lnTo>
                      <a:pt x="2084" y="823"/>
                    </a:lnTo>
                    <a:lnTo>
                      <a:pt x="1918" y="706"/>
                    </a:lnTo>
                    <a:lnTo>
                      <a:pt x="1683" y="601"/>
                    </a:lnTo>
                    <a:lnTo>
                      <a:pt x="1669" y="536"/>
                    </a:lnTo>
                    <a:lnTo>
                      <a:pt x="1877" y="327"/>
                    </a:lnTo>
                    <a:lnTo>
                      <a:pt x="1890" y="196"/>
                    </a:lnTo>
                    <a:lnTo>
                      <a:pt x="1656" y="327"/>
                    </a:lnTo>
                    <a:lnTo>
                      <a:pt x="1738" y="92"/>
                    </a:lnTo>
                    <a:lnTo>
                      <a:pt x="1711" y="79"/>
                    </a:lnTo>
                    <a:lnTo>
                      <a:pt x="1629" y="79"/>
                    </a:lnTo>
                    <a:lnTo>
                      <a:pt x="1491" y="236"/>
                    </a:lnTo>
                    <a:lnTo>
                      <a:pt x="1408" y="327"/>
                    </a:lnTo>
                    <a:lnTo>
                      <a:pt x="1435" y="157"/>
                    </a:lnTo>
                    <a:lnTo>
                      <a:pt x="1491" y="27"/>
                    </a:lnTo>
                    <a:lnTo>
                      <a:pt x="1449" y="0"/>
                    </a:lnTo>
                    <a:lnTo>
                      <a:pt x="1353" y="79"/>
                    </a:lnTo>
                    <a:lnTo>
                      <a:pt x="1256" y="274"/>
                    </a:lnTo>
                    <a:lnTo>
                      <a:pt x="1215" y="170"/>
                    </a:lnTo>
                    <a:lnTo>
                      <a:pt x="1132" y="131"/>
                    </a:lnTo>
                    <a:lnTo>
                      <a:pt x="1077" y="261"/>
                    </a:lnTo>
                    <a:lnTo>
                      <a:pt x="1063" y="340"/>
                    </a:lnTo>
                    <a:lnTo>
                      <a:pt x="911" y="157"/>
                    </a:lnTo>
                    <a:lnTo>
                      <a:pt x="718" y="14"/>
                    </a:lnTo>
                    <a:lnTo>
                      <a:pt x="664" y="40"/>
                    </a:lnTo>
                    <a:lnTo>
                      <a:pt x="649" y="118"/>
                    </a:lnTo>
                    <a:lnTo>
                      <a:pt x="718" y="236"/>
                    </a:lnTo>
                    <a:lnTo>
                      <a:pt x="800" y="379"/>
                    </a:lnTo>
                    <a:lnTo>
                      <a:pt x="1008" y="628"/>
                    </a:lnTo>
                    <a:lnTo>
                      <a:pt x="980" y="679"/>
                    </a:lnTo>
                    <a:lnTo>
                      <a:pt x="938" y="706"/>
                    </a:lnTo>
                    <a:lnTo>
                      <a:pt x="967" y="758"/>
                    </a:lnTo>
                    <a:lnTo>
                      <a:pt x="1146" y="823"/>
                    </a:lnTo>
                    <a:lnTo>
                      <a:pt x="1435" y="823"/>
                    </a:lnTo>
                    <a:lnTo>
                      <a:pt x="1683" y="797"/>
                    </a:lnTo>
                    <a:lnTo>
                      <a:pt x="1767" y="719"/>
                    </a:lnTo>
                    <a:lnTo>
                      <a:pt x="1711" y="693"/>
                    </a:lnTo>
                    <a:lnTo>
                      <a:pt x="1656" y="732"/>
                    </a:lnTo>
                    <a:lnTo>
                      <a:pt x="1504" y="745"/>
                    </a:lnTo>
                    <a:lnTo>
                      <a:pt x="1353" y="772"/>
                    </a:lnTo>
                    <a:lnTo>
                      <a:pt x="1187" y="745"/>
                    </a:lnTo>
                    <a:lnTo>
                      <a:pt x="1435" y="719"/>
                    </a:lnTo>
                    <a:lnTo>
                      <a:pt x="1600" y="667"/>
                    </a:lnTo>
                    <a:lnTo>
                      <a:pt x="1629" y="641"/>
                    </a:lnTo>
                    <a:lnTo>
                      <a:pt x="1560" y="614"/>
                    </a:lnTo>
                    <a:lnTo>
                      <a:pt x="1477" y="654"/>
                    </a:lnTo>
                    <a:lnTo>
                      <a:pt x="1284" y="679"/>
                    </a:lnTo>
                    <a:lnTo>
                      <a:pt x="1146" y="667"/>
                    </a:lnTo>
                    <a:lnTo>
                      <a:pt x="1077" y="641"/>
                    </a:lnTo>
                    <a:lnTo>
                      <a:pt x="1105" y="576"/>
                    </a:lnTo>
                    <a:lnTo>
                      <a:pt x="980" y="484"/>
                    </a:lnTo>
                    <a:lnTo>
                      <a:pt x="856" y="367"/>
                    </a:lnTo>
                    <a:lnTo>
                      <a:pt x="787" y="249"/>
                    </a:lnTo>
                    <a:lnTo>
                      <a:pt x="760" y="170"/>
                    </a:lnTo>
                    <a:lnTo>
                      <a:pt x="760" y="145"/>
                    </a:lnTo>
                    <a:lnTo>
                      <a:pt x="787" y="145"/>
                    </a:lnTo>
                    <a:lnTo>
                      <a:pt x="856" y="196"/>
                    </a:lnTo>
                    <a:lnTo>
                      <a:pt x="952" y="314"/>
                    </a:lnTo>
                    <a:lnTo>
                      <a:pt x="1077" y="458"/>
                    </a:lnTo>
                    <a:lnTo>
                      <a:pt x="1105" y="497"/>
                    </a:lnTo>
                    <a:lnTo>
                      <a:pt x="1159" y="470"/>
                    </a:lnTo>
                    <a:lnTo>
                      <a:pt x="1132" y="392"/>
                    </a:lnTo>
                    <a:lnTo>
                      <a:pt x="1146" y="340"/>
                    </a:lnTo>
                    <a:lnTo>
                      <a:pt x="1159" y="274"/>
                    </a:lnTo>
                    <a:lnTo>
                      <a:pt x="1187" y="274"/>
                    </a:lnTo>
                    <a:lnTo>
                      <a:pt x="1215" y="354"/>
                    </a:lnTo>
                    <a:lnTo>
                      <a:pt x="1228" y="405"/>
                    </a:lnTo>
                    <a:lnTo>
                      <a:pt x="1270" y="419"/>
                    </a:lnTo>
                    <a:lnTo>
                      <a:pt x="1326" y="301"/>
                    </a:lnTo>
                    <a:lnTo>
                      <a:pt x="1353" y="261"/>
                    </a:lnTo>
                    <a:lnTo>
                      <a:pt x="1366" y="327"/>
                    </a:lnTo>
                    <a:lnTo>
                      <a:pt x="1366" y="432"/>
                    </a:lnTo>
                    <a:lnTo>
                      <a:pt x="1408" y="458"/>
                    </a:lnTo>
                    <a:lnTo>
                      <a:pt x="1477" y="367"/>
                    </a:lnTo>
                    <a:lnTo>
                      <a:pt x="1546" y="249"/>
                    </a:lnTo>
                    <a:lnTo>
                      <a:pt x="1615" y="223"/>
                    </a:lnTo>
                    <a:lnTo>
                      <a:pt x="1615" y="236"/>
                    </a:lnTo>
                    <a:lnTo>
                      <a:pt x="1573" y="314"/>
                    </a:lnTo>
                    <a:lnTo>
                      <a:pt x="1531" y="432"/>
                    </a:lnTo>
                    <a:lnTo>
                      <a:pt x="1573" y="445"/>
                    </a:lnTo>
                    <a:lnTo>
                      <a:pt x="1794" y="301"/>
                    </a:lnTo>
                    <a:lnTo>
                      <a:pt x="1821" y="301"/>
                    </a:lnTo>
                    <a:lnTo>
                      <a:pt x="1615" y="497"/>
                    </a:lnTo>
                    <a:lnTo>
                      <a:pt x="1573" y="536"/>
                    </a:lnTo>
                    <a:lnTo>
                      <a:pt x="1560" y="601"/>
                    </a:lnTo>
                    <a:lnTo>
                      <a:pt x="1600" y="628"/>
                    </a:lnTo>
                    <a:lnTo>
                      <a:pt x="1725" y="679"/>
                    </a:lnTo>
                    <a:lnTo>
                      <a:pt x="1932" y="785"/>
                    </a:lnTo>
                    <a:lnTo>
                      <a:pt x="2070" y="888"/>
                    </a:lnTo>
                    <a:lnTo>
                      <a:pt x="2235" y="1046"/>
                    </a:lnTo>
                    <a:lnTo>
                      <a:pt x="2360" y="1215"/>
                    </a:lnTo>
                    <a:lnTo>
                      <a:pt x="2442" y="1399"/>
                    </a:lnTo>
                    <a:lnTo>
                      <a:pt x="2498" y="1634"/>
                    </a:lnTo>
                    <a:lnTo>
                      <a:pt x="2483" y="1804"/>
                    </a:lnTo>
                    <a:lnTo>
                      <a:pt x="2469" y="1986"/>
                    </a:lnTo>
                    <a:lnTo>
                      <a:pt x="2387" y="2182"/>
                    </a:lnTo>
                    <a:lnTo>
                      <a:pt x="2304" y="2326"/>
                    </a:lnTo>
                    <a:lnTo>
                      <a:pt x="2208" y="2404"/>
                    </a:lnTo>
                    <a:lnTo>
                      <a:pt x="2097" y="2509"/>
                    </a:lnTo>
                    <a:lnTo>
                      <a:pt x="1890" y="2588"/>
                    </a:lnTo>
                    <a:lnTo>
                      <a:pt x="1642" y="2653"/>
                    </a:lnTo>
                    <a:lnTo>
                      <a:pt x="1518" y="2666"/>
                    </a:lnTo>
                    <a:lnTo>
                      <a:pt x="1284" y="2666"/>
                    </a:lnTo>
                    <a:lnTo>
                      <a:pt x="1063" y="2640"/>
                    </a:lnTo>
                    <a:lnTo>
                      <a:pt x="800" y="2575"/>
                    </a:lnTo>
                    <a:lnTo>
                      <a:pt x="553" y="2470"/>
                    </a:lnTo>
                    <a:lnTo>
                      <a:pt x="359" y="2366"/>
                    </a:lnTo>
                    <a:lnTo>
                      <a:pt x="194" y="2248"/>
                    </a:lnTo>
                    <a:lnTo>
                      <a:pt x="125" y="2157"/>
                    </a:lnTo>
                    <a:lnTo>
                      <a:pt x="111" y="2064"/>
                    </a:lnTo>
                    <a:lnTo>
                      <a:pt x="84" y="1790"/>
                    </a:lnTo>
                    <a:lnTo>
                      <a:pt x="98" y="1608"/>
                    </a:lnTo>
                    <a:lnTo>
                      <a:pt x="180" y="1412"/>
                    </a:lnTo>
                    <a:lnTo>
                      <a:pt x="290" y="1190"/>
                    </a:lnTo>
                    <a:lnTo>
                      <a:pt x="484" y="994"/>
                    </a:lnTo>
                    <a:lnTo>
                      <a:pt x="664" y="772"/>
                    </a:lnTo>
                    <a:lnTo>
                      <a:pt x="829" y="654"/>
                    </a:lnTo>
                    <a:lnTo>
                      <a:pt x="925" y="576"/>
                    </a:lnTo>
                    <a:lnTo>
                      <a:pt x="898" y="5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57920" y="2987640"/>
                <a:ext cx="207720" cy="449280"/>
              </a:xfrm>
              <a:custGeom>
                <a:avLst/>
                <a:gdLst/>
                <a:ahLst/>
                <a:rect l="l" t="t" r="r" b="b"/>
                <a:pathLst>
                  <a:path w="524" h="849">
                    <a:moveTo>
                      <a:pt x="317" y="156"/>
                    </a:moveTo>
                    <a:lnTo>
                      <a:pt x="413" y="169"/>
                    </a:lnTo>
                    <a:lnTo>
                      <a:pt x="495" y="235"/>
                    </a:lnTo>
                    <a:lnTo>
                      <a:pt x="524" y="300"/>
                    </a:lnTo>
                    <a:lnTo>
                      <a:pt x="426" y="326"/>
                    </a:lnTo>
                    <a:lnTo>
                      <a:pt x="371" y="273"/>
                    </a:lnTo>
                    <a:lnTo>
                      <a:pt x="303" y="247"/>
                    </a:lnTo>
                    <a:lnTo>
                      <a:pt x="234" y="235"/>
                    </a:lnTo>
                    <a:lnTo>
                      <a:pt x="123" y="260"/>
                    </a:lnTo>
                    <a:lnTo>
                      <a:pt x="96" y="326"/>
                    </a:lnTo>
                    <a:lnTo>
                      <a:pt x="151" y="378"/>
                    </a:lnTo>
                    <a:lnTo>
                      <a:pt x="288" y="417"/>
                    </a:lnTo>
                    <a:lnTo>
                      <a:pt x="426" y="417"/>
                    </a:lnTo>
                    <a:lnTo>
                      <a:pt x="468" y="456"/>
                    </a:lnTo>
                    <a:lnTo>
                      <a:pt x="495" y="522"/>
                    </a:lnTo>
                    <a:lnTo>
                      <a:pt x="482" y="600"/>
                    </a:lnTo>
                    <a:lnTo>
                      <a:pt x="399" y="653"/>
                    </a:lnTo>
                    <a:lnTo>
                      <a:pt x="303" y="653"/>
                    </a:lnTo>
                    <a:lnTo>
                      <a:pt x="234" y="653"/>
                    </a:lnTo>
                    <a:lnTo>
                      <a:pt x="206" y="718"/>
                    </a:lnTo>
                    <a:lnTo>
                      <a:pt x="219" y="835"/>
                    </a:lnTo>
                    <a:lnTo>
                      <a:pt x="123" y="849"/>
                    </a:lnTo>
                    <a:lnTo>
                      <a:pt x="109" y="757"/>
                    </a:lnTo>
                    <a:lnTo>
                      <a:pt x="137" y="653"/>
                    </a:lnTo>
                    <a:lnTo>
                      <a:pt x="54" y="613"/>
                    </a:lnTo>
                    <a:lnTo>
                      <a:pt x="0" y="574"/>
                    </a:lnTo>
                    <a:lnTo>
                      <a:pt x="82" y="496"/>
                    </a:lnTo>
                    <a:lnTo>
                      <a:pt x="123" y="548"/>
                    </a:lnTo>
                    <a:lnTo>
                      <a:pt x="192" y="560"/>
                    </a:lnTo>
                    <a:lnTo>
                      <a:pt x="288" y="574"/>
                    </a:lnTo>
                    <a:lnTo>
                      <a:pt x="371" y="574"/>
                    </a:lnTo>
                    <a:lnTo>
                      <a:pt x="413" y="560"/>
                    </a:lnTo>
                    <a:lnTo>
                      <a:pt x="386" y="509"/>
                    </a:lnTo>
                    <a:lnTo>
                      <a:pt x="317" y="496"/>
                    </a:lnTo>
                    <a:lnTo>
                      <a:pt x="192" y="469"/>
                    </a:lnTo>
                    <a:lnTo>
                      <a:pt x="68" y="431"/>
                    </a:lnTo>
                    <a:lnTo>
                      <a:pt x="27" y="365"/>
                    </a:lnTo>
                    <a:lnTo>
                      <a:pt x="13" y="287"/>
                    </a:lnTo>
                    <a:lnTo>
                      <a:pt x="82" y="208"/>
                    </a:lnTo>
                    <a:lnTo>
                      <a:pt x="178" y="143"/>
                    </a:lnTo>
                    <a:lnTo>
                      <a:pt x="247" y="143"/>
                    </a:lnTo>
                    <a:lnTo>
                      <a:pt x="275" y="0"/>
                    </a:lnTo>
                    <a:lnTo>
                      <a:pt x="357" y="13"/>
                    </a:lnTo>
                    <a:lnTo>
                      <a:pt x="317" y="1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65680" y="2965320"/>
                <a:ext cx="88920" cy="160560"/>
              </a:xfrm>
              <a:custGeom>
                <a:avLst/>
                <a:gdLst/>
                <a:ahLst/>
                <a:rect l="l" t="t" r="r" b="b"/>
                <a:pathLst>
                  <a:path w="220" h="301">
                    <a:moveTo>
                      <a:pt x="0" y="236"/>
                    </a:moveTo>
                    <a:lnTo>
                      <a:pt x="96" y="78"/>
                    </a:lnTo>
                    <a:lnTo>
                      <a:pt x="220" y="0"/>
                    </a:lnTo>
                    <a:lnTo>
                      <a:pt x="220" y="40"/>
                    </a:lnTo>
                    <a:lnTo>
                      <a:pt x="136" y="131"/>
                    </a:lnTo>
                    <a:lnTo>
                      <a:pt x="40" y="301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51400" y="3367080"/>
                <a:ext cx="55800" cy="111240"/>
              </a:xfrm>
              <a:custGeom>
                <a:avLst/>
                <a:gdLst/>
                <a:ahLst/>
                <a:rect l="l" t="t" r="r" b="b"/>
                <a:pathLst>
                  <a:path w="138" h="209">
                    <a:moveTo>
                      <a:pt x="138" y="0"/>
                    </a:moveTo>
                    <a:lnTo>
                      <a:pt x="42" y="130"/>
                    </a:lnTo>
                    <a:lnTo>
                      <a:pt x="0" y="182"/>
                    </a:lnTo>
                    <a:lnTo>
                      <a:pt x="55" y="209"/>
                    </a:lnTo>
                    <a:lnTo>
                      <a:pt x="96" y="182"/>
                    </a:lnTo>
                    <a:lnTo>
                      <a:pt x="138" y="91"/>
                    </a:lnTo>
                    <a:lnTo>
                      <a:pt x="138" y="51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6099120" y="4083120"/>
            <a:ext cx="1437840" cy="2307600"/>
            <a:chOff x="6099120" y="4083120"/>
            <a:chExt cx="1437840" cy="2307600"/>
          </a:xfrm>
        </p:grpSpPr>
        <p:grpSp>
          <p:nvGrpSpPr>
            <p:cNvPr id="169" name=""/>
            <p:cNvGrpSpPr/>
            <p:nvPr/>
          </p:nvGrpSpPr>
          <p:grpSpPr>
            <a:xfrm>
              <a:off x="6278040" y="4083120"/>
              <a:ext cx="1173240" cy="2307600"/>
              <a:chOff x="6278040" y="4083120"/>
              <a:chExt cx="1173240" cy="230760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6838560" y="4083120"/>
                <a:ext cx="612720" cy="2307600"/>
                <a:chOff x="6838560" y="4083120"/>
                <a:chExt cx="612720" cy="2307600"/>
              </a:xfrm>
            </p:grpSpPr>
            <p:sp>
              <p:nvSpPr>
                <p:cNvPr id="171" name=""/>
                <p:cNvSpPr/>
                <p:nvPr/>
              </p:nvSpPr>
              <p:spPr>
                <a:xfrm flipH="1">
                  <a:off x="6849360" y="4083120"/>
                  <a:ext cx="314280" cy="429840"/>
                </a:xfrm>
                <a:custGeom>
                  <a:avLst/>
                  <a:gdLst/>
                  <a:ahLst/>
                  <a:rect l="l" t="t" r="r" b="b"/>
                  <a:pathLst>
                    <a:path w="396" h="690">
                      <a:moveTo>
                        <a:pt x="158" y="690"/>
                      </a:moveTo>
                      <a:lnTo>
                        <a:pt x="114" y="690"/>
                      </a:lnTo>
                      <a:lnTo>
                        <a:pt x="50" y="670"/>
                      </a:lnTo>
                      <a:lnTo>
                        <a:pt x="21" y="589"/>
                      </a:lnTo>
                      <a:lnTo>
                        <a:pt x="0" y="471"/>
                      </a:lnTo>
                      <a:lnTo>
                        <a:pt x="0" y="308"/>
                      </a:lnTo>
                      <a:lnTo>
                        <a:pt x="21" y="126"/>
                      </a:lnTo>
                      <a:lnTo>
                        <a:pt x="64" y="45"/>
                      </a:lnTo>
                      <a:lnTo>
                        <a:pt x="137" y="0"/>
                      </a:lnTo>
                      <a:lnTo>
                        <a:pt x="215" y="0"/>
                      </a:lnTo>
                      <a:lnTo>
                        <a:pt x="266" y="72"/>
                      </a:lnTo>
                      <a:lnTo>
                        <a:pt x="295" y="172"/>
                      </a:lnTo>
                      <a:lnTo>
                        <a:pt x="295" y="271"/>
                      </a:lnTo>
                      <a:lnTo>
                        <a:pt x="288" y="389"/>
                      </a:lnTo>
                      <a:lnTo>
                        <a:pt x="396" y="525"/>
                      </a:lnTo>
                      <a:lnTo>
                        <a:pt x="396" y="571"/>
                      </a:lnTo>
                      <a:lnTo>
                        <a:pt x="366" y="571"/>
                      </a:lnTo>
                      <a:lnTo>
                        <a:pt x="295" y="480"/>
                      </a:lnTo>
                      <a:lnTo>
                        <a:pt x="274" y="480"/>
                      </a:lnTo>
                      <a:lnTo>
                        <a:pt x="237" y="571"/>
                      </a:lnTo>
                      <a:lnTo>
                        <a:pt x="201" y="643"/>
                      </a:lnTo>
                      <a:lnTo>
                        <a:pt x="158" y="690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6958800" y="4529880"/>
                  <a:ext cx="320760" cy="955800"/>
                </a:xfrm>
                <a:custGeom>
                  <a:avLst/>
                  <a:gdLst/>
                  <a:ahLst/>
                  <a:rect l="l" t="t" r="r" b="b"/>
                  <a:pathLst>
                    <a:path w="403" h="1534">
                      <a:moveTo>
                        <a:pt x="108" y="271"/>
                      </a:moveTo>
                      <a:lnTo>
                        <a:pt x="138" y="122"/>
                      </a:lnTo>
                      <a:lnTo>
                        <a:pt x="181" y="27"/>
                      </a:lnTo>
                      <a:lnTo>
                        <a:pt x="231" y="0"/>
                      </a:lnTo>
                      <a:lnTo>
                        <a:pt x="296" y="9"/>
                      </a:lnTo>
                      <a:lnTo>
                        <a:pt x="332" y="72"/>
                      </a:lnTo>
                      <a:lnTo>
                        <a:pt x="382" y="282"/>
                      </a:lnTo>
                      <a:lnTo>
                        <a:pt x="396" y="508"/>
                      </a:lnTo>
                      <a:lnTo>
                        <a:pt x="403" y="825"/>
                      </a:lnTo>
                      <a:lnTo>
                        <a:pt x="403" y="1034"/>
                      </a:lnTo>
                      <a:lnTo>
                        <a:pt x="375" y="1306"/>
                      </a:lnTo>
                      <a:lnTo>
                        <a:pt x="296" y="1460"/>
                      </a:lnTo>
                      <a:lnTo>
                        <a:pt x="202" y="1534"/>
                      </a:lnTo>
                      <a:lnTo>
                        <a:pt x="115" y="1534"/>
                      </a:lnTo>
                      <a:lnTo>
                        <a:pt x="37" y="1505"/>
                      </a:lnTo>
                      <a:lnTo>
                        <a:pt x="0" y="1360"/>
                      </a:lnTo>
                      <a:lnTo>
                        <a:pt x="0" y="1215"/>
                      </a:lnTo>
                      <a:lnTo>
                        <a:pt x="37" y="961"/>
                      </a:lnTo>
                      <a:lnTo>
                        <a:pt x="80" y="898"/>
                      </a:lnTo>
                      <a:lnTo>
                        <a:pt x="101" y="735"/>
                      </a:lnTo>
                      <a:lnTo>
                        <a:pt x="101" y="490"/>
                      </a:lnTo>
                      <a:lnTo>
                        <a:pt x="108" y="271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6838200" y="5310000"/>
                  <a:ext cx="338040" cy="1005840"/>
                </a:xfrm>
                <a:custGeom>
                  <a:avLst/>
                  <a:gdLst/>
                  <a:ahLst/>
                  <a:rect l="l" t="t" r="r" b="b"/>
                  <a:pathLst>
                    <a:path w="425" h="1615">
                      <a:moveTo>
                        <a:pt x="28" y="0"/>
                      </a:moveTo>
                      <a:lnTo>
                        <a:pt x="115" y="64"/>
                      </a:lnTo>
                      <a:lnTo>
                        <a:pt x="144" y="164"/>
                      </a:lnTo>
                      <a:lnTo>
                        <a:pt x="173" y="426"/>
                      </a:lnTo>
                      <a:lnTo>
                        <a:pt x="173" y="680"/>
                      </a:lnTo>
                      <a:lnTo>
                        <a:pt x="158" y="953"/>
                      </a:lnTo>
                      <a:lnTo>
                        <a:pt x="115" y="1198"/>
                      </a:lnTo>
                      <a:lnTo>
                        <a:pt x="79" y="1361"/>
                      </a:lnTo>
                      <a:lnTo>
                        <a:pt x="79" y="1451"/>
                      </a:lnTo>
                      <a:lnTo>
                        <a:pt x="115" y="1470"/>
                      </a:lnTo>
                      <a:lnTo>
                        <a:pt x="188" y="1460"/>
                      </a:lnTo>
                      <a:lnTo>
                        <a:pt x="289" y="1460"/>
                      </a:lnTo>
                      <a:lnTo>
                        <a:pt x="404" y="1506"/>
                      </a:lnTo>
                      <a:lnTo>
                        <a:pt x="425" y="1542"/>
                      </a:lnTo>
                      <a:lnTo>
                        <a:pt x="404" y="1587"/>
                      </a:lnTo>
                      <a:lnTo>
                        <a:pt x="353" y="1615"/>
                      </a:lnTo>
                      <a:lnTo>
                        <a:pt x="303" y="1569"/>
                      </a:lnTo>
                      <a:lnTo>
                        <a:pt x="238" y="1551"/>
                      </a:lnTo>
                      <a:lnTo>
                        <a:pt x="151" y="1542"/>
                      </a:lnTo>
                      <a:lnTo>
                        <a:pt x="72" y="1542"/>
                      </a:lnTo>
                      <a:lnTo>
                        <a:pt x="28" y="1551"/>
                      </a:lnTo>
                      <a:lnTo>
                        <a:pt x="0" y="1524"/>
                      </a:lnTo>
                      <a:lnTo>
                        <a:pt x="7" y="1488"/>
                      </a:lnTo>
                      <a:lnTo>
                        <a:pt x="14" y="1379"/>
                      </a:lnTo>
                      <a:lnTo>
                        <a:pt x="28" y="1279"/>
                      </a:lnTo>
                      <a:lnTo>
                        <a:pt x="72" y="1116"/>
                      </a:lnTo>
                      <a:lnTo>
                        <a:pt x="101" y="908"/>
                      </a:lnTo>
                      <a:lnTo>
                        <a:pt x="108" y="716"/>
                      </a:lnTo>
                      <a:lnTo>
                        <a:pt x="101" y="473"/>
                      </a:lnTo>
                      <a:lnTo>
                        <a:pt x="65" y="301"/>
                      </a:lnTo>
                      <a:lnTo>
                        <a:pt x="14" y="209"/>
                      </a:lnTo>
                      <a:lnTo>
                        <a:pt x="0" y="127"/>
                      </a:lnTo>
                      <a:lnTo>
                        <a:pt x="14" y="55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7136640" y="5304240"/>
                  <a:ext cx="314280" cy="1086480"/>
                </a:xfrm>
                <a:custGeom>
                  <a:avLst/>
                  <a:gdLst/>
                  <a:ahLst/>
                  <a:rect l="l" t="t" r="r" b="b"/>
                  <a:pathLst>
                    <a:path w="396" h="1742">
                      <a:moveTo>
                        <a:pt x="251" y="45"/>
                      </a:moveTo>
                      <a:lnTo>
                        <a:pt x="309" y="0"/>
                      </a:lnTo>
                      <a:lnTo>
                        <a:pt x="359" y="27"/>
                      </a:lnTo>
                      <a:lnTo>
                        <a:pt x="396" y="101"/>
                      </a:lnTo>
                      <a:lnTo>
                        <a:pt x="387" y="335"/>
                      </a:lnTo>
                      <a:lnTo>
                        <a:pt x="359" y="654"/>
                      </a:lnTo>
                      <a:lnTo>
                        <a:pt x="309" y="971"/>
                      </a:lnTo>
                      <a:lnTo>
                        <a:pt x="244" y="1170"/>
                      </a:lnTo>
                      <a:lnTo>
                        <a:pt x="194" y="1351"/>
                      </a:lnTo>
                      <a:lnTo>
                        <a:pt x="144" y="1415"/>
                      </a:lnTo>
                      <a:lnTo>
                        <a:pt x="151" y="1451"/>
                      </a:lnTo>
                      <a:lnTo>
                        <a:pt x="151" y="1478"/>
                      </a:lnTo>
                      <a:lnTo>
                        <a:pt x="208" y="1534"/>
                      </a:lnTo>
                      <a:lnTo>
                        <a:pt x="295" y="1587"/>
                      </a:lnTo>
                      <a:lnTo>
                        <a:pt x="359" y="1679"/>
                      </a:lnTo>
                      <a:lnTo>
                        <a:pt x="359" y="1715"/>
                      </a:lnTo>
                      <a:lnTo>
                        <a:pt x="309" y="1742"/>
                      </a:lnTo>
                      <a:lnTo>
                        <a:pt x="251" y="1742"/>
                      </a:lnTo>
                      <a:lnTo>
                        <a:pt x="229" y="1697"/>
                      </a:lnTo>
                      <a:lnTo>
                        <a:pt x="201" y="1632"/>
                      </a:lnTo>
                      <a:lnTo>
                        <a:pt x="144" y="1578"/>
                      </a:lnTo>
                      <a:lnTo>
                        <a:pt x="78" y="1525"/>
                      </a:lnTo>
                      <a:lnTo>
                        <a:pt x="35" y="1496"/>
                      </a:lnTo>
                      <a:lnTo>
                        <a:pt x="0" y="1469"/>
                      </a:lnTo>
                      <a:lnTo>
                        <a:pt x="0" y="1424"/>
                      </a:lnTo>
                      <a:lnTo>
                        <a:pt x="35" y="1380"/>
                      </a:lnTo>
                      <a:lnTo>
                        <a:pt x="107" y="1342"/>
                      </a:lnTo>
                      <a:lnTo>
                        <a:pt x="151" y="1270"/>
                      </a:lnTo>
                      <a:lnTo>
                        <a:pt x="194" y="1134"/>
                      </a:lnTo>
                      <a:lnTo>
                        <a:pt x="236" y="989"/>
                      </a:lnTo>
                      <a:lnTo>
                        <a:pt x="266" y="862"/>
                      </a:lnTo>
                      <a:lnTo>
                        <a:pt x="280" y="663"/>
                      </a:lnTo>
                      <a:lnTo>
                        <a:pt x="273" y="454"/>
                      </a:lnTo>
                      <a:lnTo>
                        <a:pt x="266" y="282"/>
                      </a:lnTo>
                      <a:lnTo>
                        <a:pt x="244" y="137"/>
                      </a:lnTo>
                      <a:lnTo>
                        <a:pt x="251" y="45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flipH="1">
                <a:off x="6278040" y="4574880"/>
                <a:ext cx="768240" cy="645120"/>
              </a:xfrm>
              <a:custGeom>
                <a:avLst/>
                <a:gdLst/>
                <a:ahLst/>
                <a:rect l="l" t="t" r="r" b="b"/>
                <a:pathLst>
                  <a:path w="967" h="1033">
                    <a:moveTo>
                      <a:pt x="22" y="0"/>
                    </a:moveTo>
                    <a:lnTo>
                      <a:pt x="0" y="45"/>
                    </a:lnTo>
                    <a:lnTo>
                      <a:pt x="0" y="125"/>
                    </a:lnTo>
                    <a:lnTo>
                      <a:pt x="22" y="262"/>
                    </a:lnTo>
                    <a:lnTo>
                      <a:pt x="138" y="444"/>
                    </a:lnTo>
                    <a:lnTo>
                      <a:pt x="239" y="616"/>
                    </a:lnTo>
                    <a:lnTo>
                      <a:pt x="317" y="697"/>
                    </a:lnTo>
                    <a:lnTo>
                      <a:pt x="383" y="752"/>
                    </a:lnTo>
                    <a:lnTo>
                      <a:pt x="578" y="833"/>
                    </a:lnTo>
                    <a:lnTo>
                      <a:pt x="766" y="860"/>
                    </a:lnTo>
                    <a:lnTo>
                      <a:pt x="823" y="906"/>
                    </a:lnTo>
                    <a:lnTo>
                      <a:pt x="858" y="1033"/>
                    </a:lnTo>
                    <a:lnTo>
                      <a:pt x="881" y="1033"/>
                    </a:lnTo>
                    <a:lnTo>
                      <a:pt x="858" y="906"/>
                    </a:lnTo>
                    <a:lnTo>
                      <a:pt x="867" y="888"/>
                    </a:lnTo>
                    <a:lnTo>
                      <a:pt x="931" y="969"/>
                    </a:lnTo>
                    <a:lnTo>
                      <a:pt x="938" y="960"/>
                    </a:lnTo>
                    <a:lnTo>
                      <a:pt x="888" y="869"/>
                    </a:lnTo>
                    <a:lnTo>
                      <a:pt x="902" y="860"/>
                    </a:lnTo>
                    <a:lnTo>
                      <a:pt x="959" y="878"/>
                    </a:lnTo>
                    <a:lnTo>
                      <a:pt x="967" y="860"/>
                    </a:lnTo>
                    <a:lnTo>
                      <a:pt x="967" y="851"/>
                    </a:lnTo>
                    <a:lnTo>
                      <a:pt x="867" y="842"/>
                    </a:lnTo>
                    <a:lnTo>
                      <a:pt x="867" y="833"/>
                    </a:lnTo>
                    <a:lnTo>
                      <a:pt x="910" y="761"/>
                    </a:lnTo>
                    <a:lnTo>
                      <a:pt x="902" y="743"/>
                    </a:lnTo>
                    <a:lnTo>
                      <a:pt x="881" y="743"/>
                    </a:lnTo>
                    <a:lnTo>
                      <a:pt x="844" y="815"/>
                    </a:lnTo>
                    <a:lnTo>
                      <a:pt x="787" y="815"/>
                    </a:lnTo>
                    <a:lnTo>
                      <a:pt x="606" y="779"/>
                    </a:lnTo>
                    <a:lnTo>
                      <a:pt x="462" y="715"/>
                    </a:lnTo>
                    <a:lnTo>
                      <a:pt x="361" y="625"/>
                    </a:lnTo>
                    <a:lnTo>
                      <a:pt x="246" y="444"/>
                    </a:lnTo>
                    <a:lnTo>
                      <a:pt x="152" y="253"/>
                    </a:lnTo>
                    <a:lnTo>
                      <a:pt x="116" y="72"/>
                    </a:lnTo>
                    <a:lnTo>
                      <a:pt x="65" y="9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099120" y="4394160"/>
              <a:ext cx="1207800" cy="1201320"/>
              <a:chOff x="6099120" y="4394160"/>
              <a:chExt cx="1207800" cy="1201320"/>
            </a:xfrm>
          </p:grpSpPr>
          <p:sp>
            <p:nvSpPr>
              <p:cNvPr id="177" name=""/>
              <p:cNvSpPr/>
              <p:nvPr/>
            </p:nvSpPr>
            <p:spPr>
              <a:xfrm>
                <a:off x="6111000" y="4408920"/>
                <a:ext cx="1190160" cy="117324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25840" y="4620960"/>
                <a:ext cx="696960" cy="48600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6099120" y="4394160"/>
                <a:ext cx="1207800" cy="1201320"/>
                <a:chOff x="6099120" y="4394160"/>
                <a:chExt cx="1207800" cy="12013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109920" y="5000400"/>
                  <a:ext cx="1197000" cy="59508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330960" y="5202720"/>
                  <a:ext cx="618480" cy="12996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235200" y="5422320"/>
                  <a:ext cx="64800" cy="5184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355080" y="5416200"/>
                  <a:ext cx="64800" cy="5184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47840" y="5399640"/>
                  <a:ext cx="262440" cy="6048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99120" y="4394160"/>
                  <a:ext cx="1107000" cy="80100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173280" y="4408920"/>
                  <a:ext cx="952920" cy="79848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279480" y="4609800"/>
                  <a:ext cx="657720" cy="51084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212520" y="4617360"/>
                  <a:ext cx="653760" cy="49716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 flipH="1">
              <a:off x="7119360" y="4556160"/>
              <a:ext cx="417240" cy="566640"/>
            </a:xfrm>
            <a:custGeom>
              <a:avLst/>
              <a:gdLst/>
              <a:ahLst/>
              <a:rect l="l" t="t" r="r" b="b"/>
              <a:pathLst>
                <a:path w="525" h="908">
                  <a:moveTo>
                    <a:pt x="353" y="91"/>
                  </a:moveTo>
                  <a:lnTo>
                    <a:pt x="410" y="37"/>
                  </a:lnTo>
                  <a:lnTo>
                    <a:pt x="468" y="0"/>
                  </a:lnTo>
                  <a:lnTo>
                    <a:pt x="504" y="0"/>
                  </a:lnTo>
                  <a:lnTo>
                    <a:pt x="525" y="91"/>
                  </a:lnTo>
                  <a:lnTo>
                    <a:pt x="489" y="200"/>
                  </a:lnTo>
                  <a:lnTo>
                    <a:pt x="453" y="254"/>
                  </a:lnTo>
                  <a:lnTo>
                    <a:pt x="353" y="283"/>
                  </a:lnTo>
                  <a:lnTo>
                    <a:pt x="266" y="363"/>
                  </a:lnTo>
                  <a:lnTo>
                    <a:pt x="165" y="437"/>
                  </a:lnTo>
                  <a:lnTo>
                    <a:pt x="108" y="499"/>
                  </a:lnTo>
                  <a:lnTo>
                    <a:pt x="143" y="546"/>
                  </a:lnTo>
                  <a:lnTo>
                    <a:pt x="252" y="645"/>
                  </a:lnTo>
                  <a:lnTo>
                    <a:pt x="353" y="691"/>
                  </a:lnTo>
                  <a:lnTo>
                    <a:pt x="445" y="754"/>
                  </a:lnTo>
                  <a:lnTo>
                    <a:pt x="518" y="836"/>
                  </a:lnTo>
                  <a:lnTo>
                    <a:pt x="511" y="872"/>
                  </a:lnTo>
                  <a:lnTo>
                    <a:pt x="489" y="908"/>
                  </a:lnTo>
                  <a:lnTo>
                    <a:pt x="410" y="908"/>
                  </a:lnTo>
                  <a:lnTo>
                    <a:pt x="338" y="908"/>
                  </a:lnTo>
                  <a:lnTo>
                    <a:pt x="316" y="845"/>
                  </a:lnTo>
                  <a:lnTo>
                    <a:pt x="331" y="809"/>
                  </a:lnTo>
                  <a:lnTo>
                    <a:pt x="331" y="763"/>
                  </a:lnTo>
                  <a:lnTo>
                    <a:pt x="259" y="718"/>
                  </a:lnTo>
                  <a:lnTo>
                    <a:pt x="158" y="664"/>
                  </a:lnTo>
                  <a:lnTo>
                    <a:pt x="57" y="573"/>
                  </a:lnTo>
                  <a:lnTo>
                    <a:pt x="0" y="499"/>
                  </a:lnTo>
                  <a:lnTo>
                    <a:pt x="0" y="446"/>
                  </a:lnTo>
                  <a:lnTo>
                    <a:pt x="49" y="392"/>
                  </a:lnTo>
                  <a:lnTo>
                    <a:pt x="179" y="265"/>
                  </a:lnTo>
                  <a:lnTo>
                    <a:pt x="273" y="182"/>
                  </a:lnTo>
                  <a:lnTo>
                    <a:pt x="353" y="91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607000" y="3765600"/>
            <a:ext cx="914400" cy="53820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PRINCE2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5-05-06T09:14:42Z</dcterms:modified>
  <cp:revision>70</cp:revision>
  <dc:subject/>
  <dc:title>Prezentacja programu PowerPoint</dc:title>
</cp:coreProperties>
</file>