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12.jpeg" ContentType="image/jpeg"/>
  <Override PartName="/ppt/media/image6.png" ContentType="image/png"/>
  <Override PartName="/ppt/media/image4.jpeg" ContentType="image/jpeg"/>
  <Override PartName="/ppt/media/image13.jpeg" ContentType="image/jpeg"/>
  <Override PartName="/ppt/media/image8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9FF-542A-4497-B7D9-0D60DF8A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68C-8AF2-4AE2-8F83-80DCB24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52B-7F0D-4D27-B8BD-1DED462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A63-3549-4DFA-8581-4D083E5A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59D-5A32-4E1F-91BA-9B64EB85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EBB-5317-4476-B577-F6F95078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7408-56D4-4A05-9DD4-B653B62D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F21-870B-4C13-8CB7-21B60F1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5A37-65DD-4FC9-8032-FD5438E4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814-1F2B-48A6-871D-85DEB03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3EC-BBC7-4952-895E-EBB4C71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66C-9530-483E-ABBD-30EC24E2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66EF-254E-40EA-AC2E-1C939DA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046-A10C-4939-8269-F404C38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EAF6-68E2-4B99-82E7-5CB4EFD3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459-FF6C-4AE8-A556-24D7065E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D0C-4246-4126-8506-694E9E94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31B-E97E-4881-888B-A503B66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323-C233-461A-9C8F-2D5D3D2C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7A3-D405-4DE4-8B0F-71825D7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20B-6126-47FB-B188-08A3E208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4B0-4D6B-4B99-8D88-FB3AD7A5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35A-7556-442D-98D1-DC6238D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26A-B057-4770-871C-24CBB73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7339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142560" cy="1144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685800" y="657828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904B-EE65-4313-8682-ABC2FF38B9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logopp3" descr=""/>
          <p:cNvPicPr/>
          <p:nvPr/>
        </p:nvPicPr>
        <p:blipFill>
          <a:blip r:embed="rId2"/>
          <a:stretch/>
        </p:blipFill>
        <p:spPr>
          <a:xfrm>
            <a:off x="0" y="0"/>
            <a:ext cx="1562040" cy="14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pp3" descr=""/>
          <p:cNvPicPr/>
          <p:nvPr/>
        </p:nvPicPr>
        <p:blipFill>
          <a:blip r:embed="rId2"/>
          <a:stretch/>
        </p:blipFill>
        <p:spPr>
          <a:xfrm>
            <a:off x="-76320" y="0"/>
            <a:ext cx="2925720" cy="279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58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19200" y="4048200"/>
            <a:ext cx="66600" cy="2123640"/>
            <a:chOff x="619200" y="4048200"/>
            <a:chExt cx="66600" cy="2123640"/>
          </a:xfrm>
        </p:grpSpPr>
        <p:sp>
          <p:nvSpPr>
            <p:cNvPr id="67" name=""/>
            <p:cNvSpPr/>
            <p:nvPr/>
          </p:nvSpPr>
          <p:spPr>
            <a:xfrm>
              <a:off x="619200" y="4048200"/>
              <a:ext cx="66600" cy="666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9200" y="42782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9200" y="45050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9200" y="49640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9200" y="5190840"/>
              <a:ext cx="66600" cy="666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9200" y="54212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200" y="56480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200" y="5878440"/>
              <a:ext cx="66600" cy="630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200" y="6107040"/>
              <a:ext cx="66600" cy="648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9200" y="4735440"/>
              <a:ext cx="66600" cy="63000"/>
            </a:xfrm>
            <a:prstGeom prst="ellipse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32F-C4BF-418A-89C2-F10E6388BE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124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winne metodyki programowani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65293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pyright, 200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© Jerzy R. Nawroc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1814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Jerzy.Nawrocki@put.poznan.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http://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www.cs.put.poznan.pl/jnawrocki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52280"/>
            <a:ext cx="62485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Black"/>
              </a:rPr>
              <a:t>Inżynieria oprogramowania II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ykład 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2" name="cyrk2" descr=""/>
          <p:cNvPicPr/>
          <p:nvPr/>
        </p:nvPicPr>
        <p:blipFill>
          <a:blip r:embed="rId1"/>
          <a:stretch/>
        </p:blipFill>
        <p:spPr>
          <a:xfrm>
            <a:off x="1981080" y="1908000"/>
            <a:ext cx="572616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504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5280" y="1415160"/>
              <a:ext cx="655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0099"/>
                  </a:solidFill>
                  <a:latin typeface="Arial"/>
                </a:rPr>
                <a:t>XP </a:t>
              </a: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Zbaw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352320" y="2438280"/>
            <a:ext cx="5791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Najważniejsza komunikacja ustn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Jedyne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artefa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kty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d + test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IEEE/ANSI standard 830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1993?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Zbędny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Inspekcje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Fagan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?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Zbędne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unkty f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un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kcyjne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?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Zbędne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Żadnych nadgodz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6320" y="1981080"/>
            <a:ext cx="3276360" cy="4572000"/>
            <a:chOff x="76320" y="1981080"/>
            <a:chExt cx="3276360" cy="4572000"/>
          </a:xfrm>
        </p:grpSpPr>
        <p:pic>
          <p:nvPicPr>
            <p:cNvPr id="509" name="" descr=""/>
            <p:cNvPicPr/>
            <p:nvPr/>
          </p:nvPicPr>
          <p:blipFill>
            <a:blip r:embed="rId1"/>
            <a:stretch/>
          </p:blipFill>
          <p:spPr>
            <a:xfrm>
              <a:off x="76320" y="39625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6320" y="1981080"/>
              <a:ext cx="3276360" cy="1828800"/>
            </a:xfrm>
            <a:prstGeom prst="cloudCallout">
              <a:avLst>
                <a:gd name="adj1" fmla="val -17537"/>
                <a:gd name="adj2" fmla="val 76129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Zawsze 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ówiłem</a:t>
              </a: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068640" y="4141800"/>
            <a:ext cx="2206800" cy="2600640"/>
            <a:chOff x="3068640" y="4141800"/>
            <a:chExt cx="2206800" cy="2600640"/>
          </a:xfrm>
        </p:grpSpPr>
        <p:pic>
          <p:nvPicPr>
            <p:cNvPr id="513" name="tom-demarco" descr=""/>
            <p:cNvPicPr/>
            <p:nvPr/>
          </p:nvPicPr>
          <p:blipFill>
            <a:blip r:embed="rId1"/>
            <a:stretch/>
          </p:blipFill>
          <p:spPr>
            <a:xfrm>
              <a:off x="3281400" y="4141800"/>
              <a:ext cx="182880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068640" y="6175440"/>
              <a:ext cx="22068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Tom DeMar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562720" y="3657600"/>
            <a:ext cx="2819160" cy="1674720"/>
          </a:xfrm>
          <a:prstGeom prst="wedgeRoundRectCallout">
            <a:avLst>
              <a:gd name="adj1" fmla="val -86375"/>
              <a:gd name="adj2" fmla="val 5256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"</a:t>
            </a: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XP 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jest dzisiaj najważniejszym ruchem w naszej dziedzinie</a:t>
            </a: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67200" y="1434960"/>
            <a:ext cx="6076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762120" indent="-762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xtreme Programming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 (XP)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=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762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lekka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lightweight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agile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762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metodyka rozwoju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xp-explained" descr=""/>
          <p:cNvPicPr/>
          <p:nvPr/>
        </p:nvPicPr>
        <p:blipFill>
          <a:blip r:embed="rId2"/>
          <a:stretch/>
        </p:blipFill>
        <p:spPr>
          <a:xfrm>
            <a:off x="282600" y="1521000"/>
            <a:ext cx="2651040" cy="335592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Manifest zwinnośc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1004760"/>
            <a:ext cx="5172120" cy="519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Luty 2001, Snowbird, Utah, 17 osó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0" name="kent-beck-black-white" descr=""/>
          <p:cNvPicPr/>
          <p:nvPr/>
        </p:nvPicPr>
        <p:blipFill>
          <a:blip r:embed="rId1"/>
          <a:stretch/>
        </p:blipFill>
        <p:spPr>
          <a:xfrm>
            <a:off x="1571760" y="582480"/>
            <a:ext cx="1162080" cy="1595520"/>
          </a:xfrm>
          <a:prstGeom prst="rect">
            <a:avLst/>
          </a:prstGeom>
          <a:ln w="0">
            <a:noFill/>
          </a:ln>
        </p:spPr>
      </p:pic>
      <p:pic>
        <p:nvPicPr>
          <p:cNvPr id="521" name="cockburn" descr=""/>
          <p:cNvPicPr/>
          <p:nvPr/>
        </p:nvPicPr>
        <p:blipFill>
          <a:blip r:embed="rId2"/>
          <a:stretch/>
        </p:blipFill>
        <p:spPr>
          <a:xfrm>
            <a:off x="1592280" y="2141640"/>
            <a:ext cx="1133280" cy="1569960"/>
          </a:xfrm>
          <a:prstGeom prst="rect">
            <a:avLst/>
          </a:prstGeom>
          <a:ln w="0">
            <a:noFill/>
          </a:ln>
        </p:spPr>
      </p:pic>
      <p:pic>
        <p:nvPicPr>
          <p:cNvPr id="522" name="fowler" descr=""/>
          <p:cNvPicPr/>
          <p:nvPr/>
        </p:nvPicPr>
        <p:blipFill>
          <a:blip r:embed="rId3"/>
          <a:stretch/>
        </p:blipFill>
        <p:spPr>
          <a:xfrm>
            <a:off x="1592280" y="3652920"/>
            <a:ext cx="1133280" cy="1539720"/>
          </a:xfrm>
          <a:prstGeom prst="rect">
            <a:avLst/>
          </a:prstGeom>
          <a:ln w="0">
            <a:noFill/>
          </a:ln>
        </p:spPr>
      </p:pic>
      <p:pic>
        <p:nvPicPr>
          <p:cNvPr id="523" name="highsmith-small" descr=""/>
          <p:cNvPicPr/>
          <p:nvPr/>
        </p:nvPicPr>
        <p:blipFill>
          <a:blip r:embed="rId4"/>
          <a:stretch/>
        </p:blipFill>
        <p:spPr>
          <a:xfrm>
            <a:off x="1593720" y="5113440"/>
            <a:ext cx="1150920" cy="15159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822400" y="1581120"/>
            <a:ext cx="5151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Kent Beck (karty CRC, xUnit, X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22400" y="2863800"/>
            <a:ext cx="5559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Alistair Cockburn (rodzina metodyk Cryst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27440" y="4375080"/>
            <a:ext cx="63054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Marin Fowler (refaktoryzacja, UML Distill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2400" y="5784840"/>
            <a:ext cx="60166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Jim Highsmith (Adaptive Software Develop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Manifest zwinnośc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98108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Jednostki i interakcje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niż procesy i narzędz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3400" y="1447920"/>
            <a:ext cx="2113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Ważniejs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Główne części normy ISO 9001:2000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1944720"/>
            <a:ext cx="640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4 System zarządzania jakością (dokumentac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5 Odpowiedzialność kierownict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6 Zarządzanie zasob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7 Realizacja wyro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8 Pomiary, analiza i doskonal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2438280"/>
            <a:ext cx="22860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blemy z ISO 9001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875120" y="2838600"/>
            <a:ext cx="4141800" cy="2266920"/>
            <a:chOff x="4875120" y="2838600"/>
            <a:chExt cx="4141800" cy="2266920"/>
          </a:xfrm>
        </p:grpSpPr>
        <p:sp>
          <p:nvSpPr>
            <p:cNvPr id="536" name=""/>
            <p:cNvSpPr/>
            <p:nvPr/>
          </p:nvSpPr>
          <p:spPr>
            <a:xfrm>
              <a:off x="4875120" y="4586400"/>
              <a:ext cx="41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Brak elastyczności dział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884920" y="2838600"/>
              <a:ext cx="2421000" cy="1776600"/>
              <a:chOff x="5884920" y="2838600"/>
              <a:chExt cx="2421000" cy="17766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7383600" y="2838600"/>
                <a:ext cx="922320" cy="1769400"/>
                <a:chOff x="7383600" y="2838600"/>
                <a:chExt cx="922320" cy="17694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531560" y="2838600"/>
                  <a:ext cx="344160" cy="381600"/>
                </a:xfrm>
                <a:custGeom>
                  <a:avLst/>
                  <a:gdLst/>
                  <a:ahLst/>
                  <a:rect l="l" t="t" r="r" b="b"/>
                  <a:pathLst>
                    <a:path w="434" h="546">
                      <a:moveTo>
                        <a:pt x="96" y="357"/>
                      </a:moveTo>
                      <a:lnTo>
                        <a:pt x="77" y="299"/>
                      </a:lnTo>
                      <a:lnTo>
                        <a:pt x="58" y="205"/>
                      </a:lnTo>
                      <a:lnTo>
                        <a:pt x="58" y="114"/>
                      </a:lnTo>
                      <a:lnTo>
                        <a:pt x="71" y="58"/>
                      </a:lnTo>
                      <a:lnTo>
                        <a:pt x="106" y="19"/>
                      </a:lnTo>
                      <a:lnTo>
                        <a:pt x="174" y="0"/>
                      </a:lnTo>
                      <a:lnTo>
                        <a:pt x="241" y="10"/>
                      </a:lnTo>
                      <a:lnTo>
                        <a:pt x="292" y="39"/>
                      </a:lnTo>
                      <a:lnTo>
                        <a:pt x="341" y="107"/>
                      </a:lnTo>
                      <a:lnTo>
                        <a:pt x="389" y="191"/>
                      </a:lnTo>
                      <a:lnTo>
                        <a:pt x="427" y="309"/>
                      </a:lnTo>
                      <a:lnTo>
                        <a:pt x="434" y="406"/>
                      </a:lnTo>
                      <a:lnTo>
                        <a:pt x="424" y="488"/>
                      </a:lnTo>
                      <a:lnTo>
                        <a:pt x="389" y="527"/>
                      </a:lnTo>
                      <a:lnTo>
                        <a:pt x="327" y="546"/>
                      </a:lnTo>
                      <a:lnTo>
                        <a:pt x="254" y="543"/>
                      </a:lnTo>
                      <a:lnTo>
                        <a:pt x="193" y="494"/>
                      </a:lnTo>
                      <a:lnTo>
                        <a:pt x="145" y="439"/>
                      </a:lnTo>
                      <a:lnTo>
                        <a:pt x="134" y="420"/>
                      </a:lnTo>
                      <a:lnTo>
                        <a:pt x="28" y="488"/>
                      </a:lnTo>
                      <a:lnTo>
                        <a:pt x="3" y="488"/>
                      </a:lnTo>
                      <a:lnTo>
                        <a:pt x="0" y="467"/>
                      </a:lnTo>
                      <a:lnTo>
                        <a:pt x="106" y="377"/>
                      </a:lnTo>
                      <a:lnTo>
                        <a:pt x="96" y="35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905960" y="3259440"/>
                  <a:ext cx="325440" cy="656640"/>
                </a:xfrm>
                <a:custGeom>
                  <a:avLst/>
                  <a:gdLst/>
                  <a:ahLst/>
                  <a:rect l="l" t="t" r="r" b="b"/>
                  <a:pathLst>
                    <a:path w="409" h="940">
                      <a:moveTo>
                        <a:pt x="61" y="0"/>
                      </a:moveTo>
                      <a:lnTo>
                        <a:pt x="13" y="3"/>
                      </a:lnTo>
                      <a:lnTo>
                        <a:pt x="0" y="43"/>
                      </a:lnTo>
                      <a:lnTo>
                        <a:pt x="0" y="98"/>
                      </a:lnTo>
                      <a:lnTo>
                        <a:pt x="38" y="120"/>
                      </a:lnTo>
                      <a:lnTo>
                        <a:pt x="100" y="150"/>
                      </a:lnTo>
                      <a:lnTo>
                        <a:pt x="206" y="218"/>
                      </a:lnTo>
                      <a:lnTo>
                        <a:pt x="274" y="296"/>
                      </a:lnTo>
                      <a:lnTo>
                        <a:pt x="332" y="371"/>
                      </a:lnTo>
                      <a:lnTo>
                        <a:pt x="348" y="410"/>
                      </a:lnTo>
                      <a:lnTo>
                        <a:pt x="341" y="423"/>
                      </a:lnTo>
                      <a:lnTo>
                        <a:pt x="309" y="462"/>
                      </a:lnTo>
                      <a:lnTo>
                        <a:pt x="241" y="527"/>
                      </a:lnTo>
                      <a:lnTo>
                        <a:pt x="193" y="566"/>
                      </a:lnTo>
                      <a:lnTo>
                        <a:pt x="154" y="605"/>
                      </a:lnTo>
                      <a:lnTo>
                        <a:pt x="110" y="654"/>
                      </a:lnTo>
                      <a:lnTo>
                        <a:pt x="110" y="693"/>
                      </a:lnTo>
                      <a:lnTo>
                        <a:pt x="145" y="716"/>
                      </a:lnTo>
                      <a:lnTo>
                        <a:pt x="193" y="771"/>
                      </a:lnTo>
                      <a:lnTo>
                        <a:pt x="232" y="862"/>
                      </a:lnTo>
                      <a:lnTo>
                        <a:pt x="232" y="921"/>
                      </a:lnTo>
                      <a:lnTo>
                        <a:pt x="244" y="921"/>
                      </a:lnTo>
                      <a:lnTo>
                        <a:pt x="254" y="940"/>
                      </a:lnTo>
                      <a:lnTo>
                        <a:pt x="271" y="937"/>
                      </a:lnTo>
                      <a:lnTo>
                        <a:pt x="300" y="901"/>
                      </a:lnTo>
                      <a:lnTo>
                        <a:pt x="300" y="842"/>
                      </a:lnTo>
                      <a:lnTo>
                        <a:pt x="265" y="774"/>
                      </a:lnTo>
                      <a:lnTo>
                        <a:pt x="232" y="735"/>
                      </a:lnTo>
                      <a:lnTo>
                        <a:pt x="165" y="686"/>
                      </a:lnTo>
                      <a:lnTo>
                        <a:pt x="148" y="676"/>
                      </a:lnTo>
                      <a:lnTo>
                        <a:pt x="177" y="638"/>
                      </a:lnTo>
                      <a:lnTo>
                        <a:pt x="271" y="559"/>
                      </a:lnTo>
                      <a:lnTo>
                        <a:pt x="368" y="488"/>
                      </a:lnTo>
                      <a:lnTo>
                        <a:pt x="406" y="430"/>
                      </a:lnTo>
                      <a:lnTo>
                        <a:pt x="409" y="384"/>
                      </a:lnTo>
                      <a:lnTo>
                        <a:pt x="387" y="325"/>
                      </a:lnTo>
                      <a:lnTo>
                        <a:pt x="293" y="215"/>
                      </a:lnTo>
                      <a:lnTo>
                        <a:pt x="193" y="117"/>
                      </a:lnTo>
                      <a:lnTo>
                        <a:pt x="119" y="3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17080" y="3274560"/>
                  <a:ext cx="357120" cy="596880"/>
                </a:xfrm>
                <a:custGeom>
                  <a:avLst/>
                  <a:gdLst/>
                  <a:ahLst/>
                  <a:rect l="l" t="t" r="r" b="b"/>
                  <a:pathLst>
                    <a:path w="450" h="855">
                      <a:moveTo>
                        <a:pt x="266" y="66"/>
                      </a:moveTo>
                      <a:lnTo>
                        <a:pt x="334" y="17"/>
                      </a:lnTo>
                      <a:lnTo>
                        <a:pt x="373" y="6"/>
                      </a:lnTo>
                      <a:lnTo>
                        <a:pt x="421" y="0"/>
                      </a:lnTo>
                      <a:lnTo>
                        <a:pt x="444" y="17"/>
                      </a:lnTo>
                      <a:lnTo>
                        <a:pt x="450" y="55"/>
                      </a:lnTo>
                      <a:lnTo>
                        <a:pt x="434" y="85"/>
                      </a:lnTo>
                      <a:lnTo>
                        <a:pt x="402" y="104"/>
                      </a:lnTo>
                      <a:lnTo>
                        <a:pt x="334" y="114"/>
                      </a:lnTo>
                      <a:lnTo>
                        <a:pt x="270" y="143"/>
                      </a:lnTo>
                      <a:lnTo>
                        <a:pt x="193" y="192"/>
                      </a:lnTo>
                      <a:lnTo>
                        <a:pt x="125" y="254"/>
                      </a:lnTo>
                      <a:lnTo>
                        <a:pt x="73" y="303"/>
                      </a:lnTo>
                      <a:lnTo>
                        <a:pt x="54" y="338"/>
                      </a:lnTo>
                      <a:lnTo>
                        <a:pt x="57" y="358"/>
                      </a:lnTo>
                      <a:lnTo>
                        <a:pt x="116" y="429"/>
                      </a:lnTo>
                      <a:lnTo>
                        <a:pt x="183" y="494"/>
                      </a:lnTo>
                      <a:lnTo>
                        <a:pt x="270" y="546"/>
                      </a:lnTo>
                      <a:lnTo>
                        <a:pt x="353" y="585"/>
                      </a:lnTo>
                      <a:lnTo>
                        <a:pt x="415" y="611"/>
                      </a:lnTo>
                      <a:lnTo>
                        <a:pt x="415" y="644"/>
                      </a:lnTo>
                      <a:lnTo>
                        <a:pt x="382" y="663"/>
                      </a:lnTo>
                      <a:lnTo>
                        <a:pt x="334" y="721"/>
                      </a:lnTo>
                      <a:lnTo>
                        <a:pt x="315" y="797"/>
                      </a:lnTo>
                      <a:lnTo>
                        <a:pt x="318" y="855"/>
                      </a:lnTo>
                      <a:lnTo>
                        <a:pt x="290" y="855"/>
                      </a:lnTo>
                      <a:lnTo>
                        <a:pt x="260" y="819"/>
                      </a:lnTo>
                      <a:lnTo>
                        <a:pt x="266" y="761"/>
                      </a:lnTo>
                      <a:lnTo>
                        <a:pt x="306" y="702"/>
                      </a:lnTo>
                      <a:lnTo>
                        <a:pt x="344" y="660"/>
                      </a:lnTo>
                      <a:lnTo>
                        <a:pt x="366" y="621"/>
                      </a:lnTo>
                      <a:lnTo>
                        <a:pt x="325" y="601"/>
                      </a:lnTo>
                      <a:lnTo>
                        <a:pt x="222" y="563"/>
                      </a:lnTo>
                      <a:lnTo>
                        <a:pt x="144" y="517"/>
                      </a:lnTo>
                      <a:lnTo>
                        <a:pt x="67" y="448"/>
                      </a:lnTo>
                      <a:lnTo>
                        <a:pt x="19" y="397"/>
                      </a:lnTo>
                      <a:lnTo>
                        <a:pt x="0" y="358"/>
                      </a:lnTo>
                      <a:lnTo>
                        <a:pt x="0" y="290"/>
                      </a:lnTo>
                      <a:lnTo>
                        <a:pt x="38" y="251"/>
                      </a:lnTo>
                      <a:lnTo>
                        <a:pt x="125" y="183"/>
                      </a:lnTo>
                      <a:lnTo>
                        <a:pt x="203" y="124"/>
                      </a:lnTo>
                      <a:lnTo>
                        <a:pt x="266" y="6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722000" y="3241080"/>
                  <a:ext cx="258480" cy="666720"/>
                </a:xfrm>
                <a:custGeom>
                  <a:avLst/>
                  <a:gdLst/>
                  <a:ahLst/>
                  <a:rect l="l" t="t" r="r" b="b"/>
                  <a:pathLst>
                    <a:path w="327" h="954">
                      <a:moveTo>
                        <a:pt x="231" y="59"/>
                      </a:moveTo>
                      <a:lnTo>
                        <a:pt x="205" y="10"/>
                      </a:lnTo>
                      <a:lnTo>
                        <a:pt x="182" y="7"/>
                      </a:lnTo>
                      <a:lnTo>
                        <a:pt x="153" y="0"/>
                      </a:lnTo>
                      <a:lnTo>
                        <a:pt x="115" y="0"/>
                      </a:lnTo>
                      <a:lnTo>
                        <a:pt x="79" y="10"/>
                      </a:lnTo>
                      <a:lnTo>
                        <a:pt x="57" y="45"/>
                      </a:lnTo>
                      <a:lnTo>
                        <a:pt x="32" y="107"/>
                      </a:lnTo>
                      <a:lnTo>
                        <a:pt x="13" y="192"/>
                      </a:lnTo>
                      <a:lnTo>
                        <a:pt x="0" y="270"/>
                      </a:lnTo>
                      <a:lnTo>
                        <a:pt x="0" y="407"/>
                      </a:lnTo>
                      <a:lnTo>
                        <a:pt x="3" y="537"/>
                      </a:lnTo>
                      <a:lnTo>
                        <a:pt x="19" y="674"/>
                      </a:lnTo>
                      <a:lnTo>
                        <a:pt x="29" y="748"/>
                      </a:lnTo>
                      <a:lnTo>
                        <a:pt x="41" y="826"/>
                      </a:lnTo>
                      <a:lnTo>
                        <a:pt x="67" y="905"/>
                      </a:lnTo>
                      <a:lnTo>
                        <a:pt x="125" y="944"/>
                      </a:lnTo>
                      <a:lnTo>
                        <a:pt x="192" y="954"/>
                      </a:lnTo>
                      <a:lnTo>
                        <a:pt x="234" y="937"/>
                      </a:lnTo>
                      <a:lnTo>
                        <a:pt x="272" y="914"/>
                      </a:lnTo>
                      <a:lnTo>
                        <a:pt x="291" y="859"/>
                      </a:lnTo>
                      <a:lnTo>
                        <a:pt x="321" y="781"/>
                      </a:lnTo>
                      <a:lnTo>
                        <a:pt x="321" y="720"/>
                      </a:lnTo>
                      <a:lnTo>
                        <a:pt x="327" y="625"/>
                      </a:lnTo>
                      <a:lnTo>
                        <a:pt x="327" y="518"/>
                      </a:lnTo>
                      <a:lnTo>
                        <a:pt x="321" y="407"/>
                      </a:lnTo>
                      <a:lnTo>
                        <a:pt x="302" y="260"/>
                      </a:lnTo>
                      <a:lnTo>
                        <a:pt x="272" y="137"/>
                      </a:lnTo>
                      <a:lnTo>
                        <a:pt x="231" y="5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896600" y="3805920"/>
                  <a:ext cx="409320" cy="789480"/>
                </a:xfrm>
                <a:custGeom>
                  <a:avLst/>
                  <a:gdLst/>
                  <a:ahLst/>
                  <a:rect l="l" t="t" r="r" b="b"/>
                  <a:pathLst>
                    <a:path w="516" h="1131">
                      <a:moveTo>
                        <a:pt x="96" y="94"/>
                      </a:moveTo>
                      <a:lnTo>
                        <a:pt x="77" y="36"/>
                      </a:lnTo>
                      <a:lnTo>
                        <a:pt x="47" y="0"/>
                      </a:lnTo>
                      <a:lnTo>
                        <a:pt x="28" y="6"/>
                      </a:lnTo>
                      <a:lnTo>
                        <a:pt x="9" y="46"/>
                      </a:lnTo>
                      <a:lnTo>
                        <a:pt x="0" y="94"/>
                      </a:lnTo>
                      <a:lnTo>
                        <a:pt x="3" y="143"/>
                      </a:lnTo>
                      <a:lnTo>
                        <a:pt x="47" y="221"/>
                      </a:lnTo>
                      <a:lnTo>
                        <a:pt x="96" y="347"/>
                      </a:lnTo>
                      <a:lnTo>
                        <a:pt x="128" y="465"/>
                      </a:lnTo>
                      <a:lnTo>
                        <a:pt x="147" y="555"/>
                      </a:lnTo>
                      <a:lnTo>
                        <a:pt x="144" y="614"/>
                      </a:lnTo>
                      <a:lnTo>
                        <a:pt x="96" y="692"/>
                      </a:lnTo>
                      <a:lnTo>
                        <a:pt x="57" y="825"/>
                      </a:lnTo>
                      <a:lnTo>
                        <a:pt x="47" y="965"/>
                      </a:lnTo>
                      <a:lnTo>
                        <a:pt x="70" y="1098"/>
                      </a:lnTo>
                      <a:lnTo>
                        <a:pt x="96" y="1131"/>
                      </a:lnTo>
                      <a:lnTo>
                        <a:pt x="135" y="1131"/>
                      </a:lnTo>
                      <a:lnTo>
                        <a:pt x="157" y="1117"/>
                      </a:lnTo>
                      <a:lnTo>
                        <a:pt x="212" y="1089"/>
                      </a:lnTo>
                      <a:lnTo>
                        <a:pt x="260" y="1079"/>
                      </a:lnTo>
                      <a:lnTo>
                        <a:pt x="377" y="1089"/>
                      </a:lnTo>
                      <a:lnTo>
                        <a:pt x="454" y="1117"/>
                      </a:lnTo>
                      <a:lnTo>
                        <a:pt x="493" y="1117"/>
                      </a:lnTo>
                      <a:lnTo>
                        <a:pt x="506" y="1098"/>
                      </a:lnTo>
                      <a:lnTo>
                        <a:pt x="516" y="1069"/>
                      </a:lnTo>
                      <a:lnTo>
                        <a:pt x="444" y="1033"/>
                      </a:lnTo>
                      <a:lnTo>
                        <a:pt x="341" y="1021"/>
                      </a:lnTo>
                      <a:lnTo>
                        <a:pt x="225" y="1033"/>
                      </a:lnTo>
                      <a:lnTo>
                        <a:pt x="167" y="1079"/>
                      </a:lnTo>
                      <a:lnTo>
                        <a:pt x="128" y="1098"/>
                      </a:lnTo>
                      <a:lnTo>
                        <a:pt x="96" y="1079"/>
                      </a:lnTo>
                      <a:lnTo>
                        <a:pt x="87" y="956"/>
                      </a:lnTo>
                      <a:lnTo>
                        <a:pt x="87" y="877"/>
                      </a:lnTo>
                      <a:lnTo>
                        <a:pt x="115" y="776"/>
                      </a:lnTo>
                      <a:lnTo>
                        <a:pt x="147" y="699"/>
                      </a:lnTo>
                      <a:lnTo>
                        <a:pt x="187" y="634"/>
                      </a:lnTo>
                      <a:lnTo>
                        <a:pt x="203" y="582"/>
                      </a:lnTo>
                      <a:lnTo>
                        <a:pt x="203" y="513"/>
                      </a:lnTo>
                      <a:lnTo>
                        <a:pt x="184" y="410"/>
                      </a:lnTo>
                      <a:lnTo>
                        <a:pt x="154" y="283"/>
                      </a:lnTo>
                      <a:lnTo>
                        <a:pt x="135" y="202"/>
                      </a:lnTo>
                      <a:lnTo>
                        <a:pt x="96" y="9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383600" y="3823920"/>
                  <a:ext cx="444600" cy="784080"/>
                </a:xfrm>
                <a:custGeom>
                  <a:avLst/>
                  <a:gdLst/>
                  <a:ahLst/>
                  <a:rect l="l" t="t" r="r" b="b"/>
                  <a:pathLst>
                    <a:path w="560" h="1121">
                      <a:moveTo>
                        <a:pt x="418" y="139"/>
                      </a:moveTo>
                      <a:lnTo>
                        <a:pt x="467" y="32"/>
                      </a:lnTo>
                      <a:lnTo>
                        <a:pt x="525" y="0"/>
                      </a:lnTo>
                      <a:lnTo>
                        <a:pt x="560" y="32"/>
                      </a:lnTo>
                      <a:lnTo>
                        <a:pt x="554" y="90"/>
                      </a:lnTo>
                      <a:lnTo>
                        <a:pt x="525" y="130"/>
                      </a:lnTo>
                      <a:lnTo>
                        <a:pt x="473" y="198"/>
                      </a:lnTo>
                      <a:lnTo>
                        <a:pt x="435" y="292"/>
                      </a:lnTo>
                      <a:lnTo>
                        <a:pt x="399" y="400"/>
                      </a:lnTo>
                      <a:lnTo>
                        <a:pt x="386" y="501"/>
                      </a:lnTo>
                      <a:lnTo>
                        <a:pt x="367" y="597"/>
                      </a:lnTo>
                      <a:lnTo>
                        <a:pt x="367" y="734"/>
                      </a:lnTo>
                      <a:lnTo>
                        <a:pt x="377" y="822"/>
                      </a:lnTo>
                      <a:lnTo>
                        <a:pt x="399" y="968"/>
                      </a:lnTo>
                      <a:lnTo>
                        <a:pt x="418" y="1027"/>
                      </a:lnTo>
                      <a:lnTo>
                        <a:pt x="418" y="1072"/>
                      </a:lnTo>
                      <a:lnTo>
                        <a:pt x="408" y="1112"/>
                      </a:lnTo>
                      <a:lnTo>
                        <a:pt x="370" y="1121"/>
                      </a:lnTo>
                      <a:lnTo>
                        <a:pt x="351" y="1112"/>
                      </a:lnTo>
                      <a:lnTo>
                        <a:pt x="299" y="1096"/>
                      </a:lnTo>
                      <a:lnTo>
                        <a:pt x="222" y="1096"/>
                      </a:lnTo>
                      <a:lnTo>
                        <a:pt x="106" y="1105"/>
                      </a:lnTo>
                      <a:lnTo>
                        <a:pt x="33" y="1115"/>
                      </a:lnTo>
                      <a:lnTo>
                        <a:pt x="0" y="1105"/>
                      </a:lnTo>
                      <a:lnTo>
                        <a:pt x="0" y="1085"/>
                      </a:lnTo>
                      <a:lnTo>
                        <a:pt x="49" y="1063"/>
                      </a:lnTo>
                      <a:lnTo>
                        <a:pt x="100" y="1044"/>
                      </a:lnTo>
                      <a:lnTo>
                        <a:pt x="193" y="1036"/>
                      </a:lnTo>
                      <a:lnTo>
                        <a:pt x="255" y="1036"/>
                      </a:lnTo>
                      <a:lnTo>
                        <a:pt x="318" y="1056"/>
                      </a:lnTo>
                      <a:lnTo>
                        <a:pt x="357" y="1075"/>
                      </a:lnTo>
                      <a:lnTo>
                        <a:pt x="386" y="1066"/>
                      </a:lnTo>
                      <a:lnTo>
                        <a:pt x="377" y="1023"/>
                      </a:lnTo>
                      <a:lnTo>
                        <a:pt x="351" y="959"/>
                      </a:lnTo>
                      <a:lnTo>
                        <a:pt x="329" y="887"/>
                      </a:lnTo>
                      <a:lnTo>
                        <a:pt x="318" y="802"/>
                      </a:lnTo>
                      <a:lnTo>
                        <a:pt x="312" y="722"/>
                      </a:lnTo>
                      <a:lnTo>
                        <a:pt x="312" y="605"/>
                      </a:lnTo>
                      <a:lnTo>
                        <a:pt x="329" y="536"/>
                      </a:lnTo>
                      <a:lnTo>
                        <a:pt x="332" y="448"/>
                      </a:lnTo>
                      <a:lnTo>
                        <a:pt x="351" y="321"/>
                      </a:lnTo>
                      <a:lnTo>
                        <a:pt x="377" y="224"/>
                      </a:lnTo>
                      <a:lnTo>
                        <a:pt x="418" y="13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026040" y="4011480"/>
                <a:ext cx="1734480" cy="603000"/>
                <a:chOff x="6026040" y="4011480"/>
                <a:chExt cx="1734480" cy="6030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94120" y="4355640"/>
                  <a:ext cx="266400" cy="175320"/>
                </a:xfrm>
                <a:custGeom>
                  <a:avLst/>
                  <a:gdLst/>
                  <a:ahLst/>
                  <a:rect l="l" t="t" r="r" b="b"/>
                  <a:pathLst>
                    <a:path w="242" h="154">
                      <a:moveTo>
                        <a:pt x="0" y="36"/>
                      </a:moveTo>
                      <a:lnTo>
                        <a:pt x="19" y="154"/>
                      </a:lnTo>
                      <a:lnTo>
                        <a:pt x="242" y="118"/>
                      </a:lnTo>
                      <a:lnTo>
                        <a:pt x="224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026040" y="4011480"/>
                  <a:ext cx="640440" cy="603000"/>
                </a:xfrm>
                <a:custGeom>
                  <a:avLst/>
                  <a:gdLst/>
                  <a:ahLst/>
                  <a:rect l="l" t="t" r="r" b="b"/>
                  <a:pathLst>
                    <a:path w="583" h="521">
                      <a:moveTo>
                        <a:pt x="545" y="336"/>
                      </a:moveTo>
                      <a:lnTo>
                        <a:pt x="564" y="336"/>
                      </a:lnTo>
                      <a:lnTo>
                        <a:pt x="583" y="306"/>
                      </a:lnTo>
                      <a:lnTo>
                        <a:pt x="570" y="274"/>
                      </a:lnTo>
                      <a:lnTo>
                        <a:pt x="542" y="263"/>
                      </a:lnTo>
                      <a:lnTo>
                        <a:pt x="522" y="247"/>
                      </a:lnTo>
                      <a:lnTo>
                        <a:pt x="506" y="189"/>
                      </a:lnTo>
                      <a:lnTo>
                        <a:pt x="467" y="111"/>
                      </a:lnTo>
                      <a:lnTo>
                        <a:pt x="448" y="81"/>
                      </a:lnTo>
                      <a:lnTo>
                        <a:pt x="415" y="59"/>
                      </a:lnTo>
                      <a:lnTo>
                        <a:pt x="380" y="29"/>
                      </a:lnTo>
                      <a:lnTo>
                        <a:pt x="319" y="10"/>
                      </a:lnTo>
                      <a:lnTo>
                        <a:pt x="274" y="0"/>
                      </a:lnTo>
                      <a:lnTo>
                        <a:pt x="168" y="13"/>
                      </a:lnTo>
                      <a:lnTo>
                        <a:pt x="119" y="38"/>
                      </a:lnTo>
                      <a:lnTo>
                        <a:pt x="68" y="81"/>
                      </a:lnTo>
                      <a:lnTo>
                        <a:pt x="32" y="149"/>
                      </a:lnTo>
                      <a:lnTo>
                        <a:pt x="19" y="195"/>
                      </a:lnTo>
                      <a:lnTo>
                        <a:pt x="0" y="238"/>
                      </a:lnTo>
                      <a:lnTo>
                        <a:pt x="10" y="326"/>
                      </a:lnTo>
                      <a:lnTo>
                        <a:pt x="42" y="391"/>
                      </a:lnTo>
                      <a:lnTo>
                        <a:pt x="87" y="450"/>
                      </a:lnTo>
                      <a:lnTo>
                        <a:pt x="177" y="502"/>
                      </a:lnTo>
                      <a:lnTo>
                        <a:pt x="274" y="521"/>
                      </a:lnTo>
                      <a:lnTo>
                        <a:pt x="387" y="499"/>
                      </a:lnTo>
                      <a:lnTo>
                        <a:pt x="464" y="443"/>
                      </a:lnTo>
                      <a:lnTo>
                        <a:pt x="502" y="374"/>
                      </a:lnTo>
                      <a:lnTo>
                        <a:pt x="522" y="336"/>
                      </a:lnTo>
                      <a:lnTo>
                        <a:pt x="545" y="33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717240" y="4339440"/>
                  <a:ext cx="96840" cy="80640"/>
                </a:xfrm>
                <a:custGeom>
                  <a:avLst/>
                  <a:gdLst/>
                  <a:ahLst/>
                  <a:rect l="l" t="t" r="r" b="b"/>
                  <a:pathLst>
                    <a:path w="89" h="68">
                      <a:moveTo>
                        <a:pt x="58" y="13"/>
                      </a:moveTo>
                      <a:lnTo>
                        <a:pt x="32" y="0"/>
                      </a:lnTo>
                      <a:lnTo>
                        <a:pt x="3" y="19"/>
                      </a:lnTo>
                      <a:lnTo>
                        <a:pt x="0" y="52"/>
                      </a:lnTo>
                      <a:lnTo>
                        <a:pt x="32" y="68"/>
                      </a:lnTo>
                      <a:lnTo>
                        <a:pt x="76" y="59"/>
                      </a:lnTo>
                      <a:lnTo>
                        <a:pt x="89" y="49"/>
                      </a:lnTo>
                      <a:lnTo>
                        <a:pt x="89" y="13"/>
                      </a:lnTo>
                      <a:lnTo>
                        <a:pt x="58" y="13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62680" y="4285800"/>
                  <a:ext cx="105120" cy="90000"/>
                </a:xfrm>
                <a:custGeom>
                  <a:avLst/>
                  <a:gdLst/>
                  <a:ahLst/>
                  <a:rect l="l" t="t" r="r" b="b"/>
                  <a:pathLst>
                    <a:path w="96" h="77">
                      <a:moveTo>
                        <a:pt x="81" y="6"/>
                      </a:moveTo>
                      <a:lnTo>
                        <a:pt x="51" y="0"/>
                      </a:lnTo>
                      <a:lnTo>
                        <a:pt x="29" y="16"/>
                      </a:lnTo>
                      <a:lnTo>
                        <a:pt x="0" y="55"/>
                      </a:lnTo>
                      <a:lnTo>
                        <a:pt x="13" y="77"/>
                      </a:lnTo>
                      <a:lnTo>
                        <a:pt x="67" y="77"/>
                      </a:lnTo>
                      <a:lnTo>
                        <a:pt x="96" y="4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034400" y="4251240"/>
                  <a:ext cx="127080" cy="7848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0" y="19"/>
                      </a:moveTo>
                      <a:lnTo>
                        <a:pt x="0" y="51"/>
                      </a:lnTo>
                      <a:lnTo>
                        <a:pt x="42" y="68"/>
                      </a:lnTo>
                      <a:lnTo>
                        <a:pt x="100" y="68"/>
                      </a:lnTo>
                      <a:lnTo>
                        <a:pt x="116" y="29"/>
                      </a:lnTo>
                      <a:lnTo>
                        <a:pt x="87" y="3"/>
                      </a:lnTo>
                      <a:lnTo>
                        <a:pt x="3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195320" y="4283640"/>
                  <a:ext cx="76680" cy="78480"/>
                </a:xfrm>
                <a:custGeom>
                  <a:avLst/>
                  <a:gdLst/>
                  <a:ahLst/>
                  <a:rect l="l" t="t" r="r" b="b"/>
                  <a:pathLst>
                    <a:path w="71" h="68">
                      <a:moveTo>
                        <a:pt x="71" y="13"/>
                      </a:moveTo>
                      <a:lnTo>
                        <a:pt x="29" y="0"/>
                      </a:lnTo>
                      <a:lnTo>
                        <a:pt x="3" y="3"/>
                      </a:lnTo>
                      <a:lnTo>
                        <a:pt x="0" y="33"/>
                      </a:lnTo>
                      <a:lnTo>
                        <a:pt x="13" y="59"/>
                      </a:lnTo>
                      <a:lnTo>
                        <a:pt x="60" y="68"/>
                      </a:lnTo>
                      <a:lnTo>
                        <a:pt x="71" y="13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331400" y="4323240"/>
                  <a:ext cx="121320" cy="85320"/>
                </a:xfrm>
                <a:custGeom>
                  <a:avLst/>
                  <a:gdLst/>
                  <a:ahLst/>
                  <a:rect l="l" t="t" r="r" b="b"/>
                  <a:pathLst>
                    <a:path w="110" h="75">
                      <a:moveTo>
                        <a:pt x="72" y="19"/>
                      </a:moveTo>
                      <a:lnTo>
                        <a:pt x="53" y="0"/>
                      </a:lnTo>
                      <a:lnTo>
                        <a:pt x="4" y="0"/>
                      </a:lnTo>
                      <a:lnTo>
                        <a:pt x="0" y="25"/>
                      </a:lnTo>
                      <a:lnTo>
                        <a:pt x="13" y="55"/>
                      </a:lnTo>
                      <a:lnTo>
                        <a:pt x="50" y="75"/>
                      </a:lnTo>
                      <a:lnTo>
                        <a:pt x="82" y="75"/>
                      </a:lnTo>
                      <a:lnTo>
                        <a:pt x="110" y="48"/>
                      </a:lnTo>
                      <a:lnTo>
                        <a:pt x="72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54880" y="4429440"/>
                  <a:ext cx="59400" cy="60120"/>
                </a:xfrm>
                <a:custGeom>
                  <a:avLst/>
                  <a:gdLst/>
                  <a:ahLst/>
                  <a:rect l="l" t="t" r="r" b="b"/>
                  <a:pathLst>
                    <a:path w="55" h="53">
                      <a:moveTo>
                        <a:pt x="48" y="13"/>
                      </a:moveTo>
                      <a:lnTo>
                        <a:pt x="25" y="0"/>
                      </a:lnTo>
                      <a:lnTo>
                        <a:pt x="0" y="21"/>
                      </a:lnTo>
                      <a:lnTo>
                        <a:pt x="9" y="53"/>
                      </a:lnTo>
                      <a:lnTo>
                        <a:pt x="55" y="53"/>
                      </a:lnTo>
                      <a:lnTo>
                        <a:pt x="48" y="13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5884920" y="4048200"/>
                <a:ext cx="8874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IS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76320" y="2579760"/>
            <a:ext cx="3627360" cy="2449440"/>
            <a:chOff x="76320" y="2579760"/>
            <a:chExt cx="3627360" cy="2449440"/>
          </a:xfrm>
        </p:grpSpPr>
        <p:sp>
          <p:nvSpPr>
            <p:cNvPr id="556" name=""/>
            <p:cNvSpPr/>
            <p:nvPr/>
          </p:nvSpPr>
          <p:spPr>
            <a:xfrm>
              <a:off x="100080" y="4510080"/>
              <a:ext cx="360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Zbyt dużo dokumentacj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76320" y="2579760"/>
              <a:ext cx="1931760" cy="2154240"/>
              <a:chOff x="76320" y="2579760"/>
              <a:chExt cx="1931760" cy="2154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214280" y="2579760"/>
                <a:ext cx="760680" cy="493560"/>
              </a:xfrm>
              <a:custGeom>
                <a:avLst/>
                <a:gdLst/>
                <a:ahLst/>
                <a:rect l="l" t="t" r="r" b="b"/>
                <a:pathLst>
                  <a:path w="368" h="278">
                    <a:moveTo>
                      <a:pt x="138" y="144"/>
                    </a:moveTo>
                    <a:lnTo>
                      <a:pt x="152" y="108"/>
                    </a:lnTo>
                    <a:lnTo>
                      <a:pt x="174" y="72"/>
                    </a:lnTo>
                    <a:lnTo>
                      <a:pt x="204" y="39"/>
                    </a:lnTo>
                    <a:lnTo>
                      <a:pt x="233" y="18"/>
                    </a:lnTo>
                    <a:lnTo>
                      <a:pt x="265" y="6"/>
                    </a:lnTo>
                    <a:lnTo>
                      <a:pt x="296" y="0"/>
                    </a:lnTo>
                    <a:lnTo>
                      <a:pt x="322" y="5"/>
                    </a:lnTo>
                    <a:lnTo>
                      <a:pt x="345" y="15"/>
                    </a:lnTo>
                    <a:lnTo>
                      <a:pt x="357" y="32"/>
                    </a:lnTo>
                    <a:lnTo>
                      <a:pt x="364" y="56"/>
                    </a:lnTo>
                    <a:lnTo>
                      <a:pt x="368" y="88"/>
                    </a:lnTo>
                    <a:lnTo>
                      <a:pt x="364" y="125"/>
                    </a:lnTo>
                    <a:lnTo>
                      <a:pt x="357" y="154"/>
                    </a:lnTo>
                    <a:lnTo>
                      <a:pt x="342" y="187"/>
                    </a:lnTo>
                    <a:lnTo>
                      <a:pt x="323" y="213"/>
                    </a:lnTo>
                    <a:lnTo>
                      <a:pt x="298" y="240"/>
                    </a:lnTo>
                    <a:lnTo>
                      <a:pt x="273" y="260"/>
                    </a:lnTo>
                    <a:lnTo>
                      <a:pt x="250" y="272"/>
                    </a:lnTo>
                    <a:lnTo>
                      <a:pt x="224" y="278"/>
                    </a:lnTo>
                    <a:lnTo>
                      <a:pt x="193" y="276"/>
                    </a:lnTo>
                    <a:lnTo>
                      <a:pt x="167" y="266"/>
                    </a:lnTo>
                    <a:lnTo>
                      <a:pt x="148" y="247"/>
                    </a:lnTo>
                    <a:lnTo>
                      <a:pt x="137" y="219"/>
                    </a:lnTo>
                    <a:lnTo>
                      <a:pt x="132" y="190"/>
                    </a:lnTo>
                    <a:lnTo>
                      <a:pt x="96" y="206"/>
                    </a:lnTo>
                    <a:lnTo>
                      <a:pt x="63" y="219"/>
                    </a:lnTo>
                    <a:lnTo>
                      <a:pt x="37" y="220"/>
                    </a:lnTo>
                    <a:lnTo>
                      <a:pt x="12" y="217"/>
                    </a:lnTo>
                    <a:lnTo>
                      <a:pt x="0" y="203"/>
                    </a:lnTo>
                    <a:lnTo>
                      <a:pt x="1" y="186"/>
                    </a:lnTo>
                    <a:lnTo>
                      <a:pt x="17" y="174"/>
                    </a:lnTo>
                    <a:lnTo>
                      <a:pt x="37" y="173"/>
                    </a:lnTo>
                    <a:lnTo>
                      <a:pt x="60" y="173"/>
                    </a:lnTo>
                    <a:lnTo>
                      <a:pt x="83" y="168"/>
                    </a:lnTo>
                    <a:lnTo>
                      <a:pt x="102" y="161"/>
                    </a:lnTo>
                    <a:lnTo>
                      <a:pt x="127" y="150"/>
                    </a:lnTo>
                    <a:lnTo>
                      <a:pt x="138" y="14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93760" y="3117960"/>
                <a:ext cx="534960" cy="831600"/>
              </a:xfrm>
              <a:custGeom>
                <a:avLst/>
                <a:gdLst/>
                <a:ahLst/>
                <a:rect l="l" t="t" r="r" b="b"/>
                <a:pathLst>
                  <a:path w="259" h="469">
                    <a:moveTo>
                      <a:pt x="7" y="127"/>
                    </a:moveTo>
                    <a:lnTo>
                      <a:pt x="25" y="91"/>
                    </a:lnTo>
                    <a:lnTo>
                      <a:pt x="48" y="61"/>
                    </a:lnTo>
                    <a:lnTo>
                      <a:pt x="76" y="36"/>
                    </a:lnTo>
                    <a:lnTo>
                      <a:pt x="106" y="18"/>
                    </a:lnTo>
                    <a:lnTo>
                      <a:pt x="139" y="5"/>
                    </a:lnTo>
                    <a:lnTo>
                      <a:pt x="168" y="0"/>
                    </a:lnTo>
                    <a:lnTo>
                      <a:pt x="205" y="0"/>
                    </a:lnTo>
                    <a:lnTo>
                      <a:pt x="225" y="8"/>
                    </a:lnTo>
                    <a:lnTo>
                      <a:pt x="243" y="22"/>
                    </a:lnTo>
                    <a:lnTo>
                      <a:pt x="253" y="42"/>
                    </a:lnTo>
                    <a:lnTo>
                      <a:pt x="259" y="65"/>
                    </a:lnTo>
                    <a:lnTo>
                      <a:pt x="257" y="87"/>
                    </a:lnTo>
                    <a:lnTo>
                      <a:pt x="250" y="110"/>
                    </a:lnTo>
                    <a:lnTo>
                      <a:pt x="234" y="131"/>
                    </a:lnTo>
                    <a:lnTo>
                      <a:pt x="214" y="159"/>
                    </a:lnTo>
                    <a:lnTo>
                      <a:pt x="201" y="185"/>
                    </a:lnTo>
                    <a:lnTo>
                      <a:pt x="188" y="218"/>
                    </a:lnTo>
                    <a:lnTo>
                      <a:pt x="188" y="245"/>
                    </a:lnTo>
                    <a:lnTo>
                      <a:pt x="202" y="272"/>
                    </a:lnTo>
                    <a:lnTo>
                      <a:pt x="214" y="294"/>
                    </a:lnTo>
                    <a:lnTo>
                      <a:pt x="238" y="327"/>
                    </a:lnTo>
                    <a:lnTo>
                      <a:pt x="248" y="360"/>
                    </a:lnTo>
                    <a:lnTo>
                      <a:pt x="250" y="389"/>
                    </a:lnTo>
                    <a:lnTo>
                      <a:pt x="243" y="413"/>
                    </a:lnTo>
                    <a:lnTo>
                      <a:pt x="220" y="441"/>
                    </a:lnTo>
                    <a:lnTo>
                      <a:pt x="200" y="452"/>
                    </a:lnTo>
                    <a:lnTo>
                      <a:pt x="171" y="465"/>
                    </a:lnTo>
                    <a:lnTo>
                      <a:pt x="151" y="468"/>
                    </a:lnTo>
                    <a:lnTo>
                      <a:pt x="122" y="469"/>
                    </a:lnTo>
                    <a:lnTo>
                      <a:pt x="94" y="459"/>
                    </a:lnTo>
                    <a:lnTo>
                      <a:pt x="69" y="441"/>
                    </a:lnTo>
                    <a:lnTo>
                      <a:pt x="46" y="418"/>
                    </a:lnTo>
                    <a:lnTo>
                      <a:pt x="30" y="386"/>
                    </a:lnTo>
                    <a:lnTo>
                      <a:pt x="17" y="353"/>
                    </a:lnTo>
                    <a:lnTo>
                      <a:pt x="7" y="311"/>
                    </a:lnTo>
                    <a:lnTo>
                      <a:pt x="1" y="275"/>
                    </a:lnTo>
                    <a:lnTo>
                      <a:pt x="0" y="242"/>
                    </a:lnTo>
                    <a:lnTo>
                      <a:pt x="0" y="208"/>
                    </a:lnTo>
                    <a:lnTo>
                      <a:pt x="1" y="175"/>
                    </a:lnTo>
                    <a:lnTo>
                      <a:pt x="2" y="149"/>
                    </a:lnTo>
                    <a:lnTo>
                      <a:pt x="7" y="12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3880" y="3130560"/>
                <a:ext cx="947880" cy="447840"/>
              </a:xfrm>
              <a:custGeom>
                <a:avLst/>
                <a:gdLst/>
                <a:ahLst/>
                <a:rect l="l" t="t" r="r" b="b"/>
                <a:pathLst>
                  <a:path w="458" h="253">
                    <a:moveTo>
                      <a:pt x="442" y="0"/>
                    </a:moveTo>
                    <a:lnTo>
                      <a:pt x="447" y="3"/>
                    </a:lnTo>
                    <a:lnTo>
                      <a:pt x="458" y="12"/>
                    </a:lnTo>
                    <a:lnTo>
                      <a:pt x="458" y="34"/>
                    </a:lnTo>
                    <a:lnTo>
                      <a:pt x="440" y="61"/>
                    </a:lnTo>
                    <a:lnTo>
                      <a:pt x="412" y="81"/>
                    </a:lnTo>
                    <a:lnTo>
                      <a:pt x="367" y="90"/>
                    </a:lnTo>
                    <a:lnTo>
                      <a:pt x="309" y="84"/>
                    </a:lnTo>
                    <a:lnTo>
                      <a:pt x="265" y="85"/>
                    </a:lnTo>
                    <a:lnTo>
                      <a:pt x="216" y="90"/>
                    </a:lnTo>
                    <a:lnTo>
                      <a:pt x="172" y="101"/>
                    </a:lnTo>
                    <a:lnTo>
                      <a:pt x="127" y="121"/>
                    </a:lnTo>
                    <a:lnTo>
                      <a:pt x="110" y="146"/>
                    </a:lnTo>
                    <a:lnTo>
                      <a:pt x="104" y="176"/>
                    </a:lnTo>
                    <a:lnTo>
                      <a:pt x="104" y="180"/>
                    </a:lnTo>
                    <a:lnTo>
                      <a:pt x="104" y="184"/>
                    </a:lnTo>
                    <a:lnTo>
                      <a:pt x="105" y="189"/>
                    </a:lnTo>
                    <a:lnTo>
                      <a:pt x="107" y="193"/>
                    </a:lnTo>
                    <a:lnTo>
                      <a:pt x="107" y="197"/>
                    </a:lnTo>
                    <a:lnTo>
                      <a:pt x="110" y="202"/>
                    </a:lnTo>
                    <a:lnTo>
                      <a:pt x="114" y="205"/>
                    </a:lnTo>
                    <a:lnTo>
                      <a:pt x="115" y="209"/>
                    </a:lnTo>
                    <a:lnTo>
                      <a:pt x="118" y="213"/>
                    </a:lnTo>
                    <a:lnTo>
                      <a:pt x="121" y="218"/>
                    </a:lnTo>
                    <a:lnTo>
                      <a:pt x="123" y="222"/>
                    </a:lnTo>
                    <a:lnTo>
                      <a:pt x="124" y="226"/>
                    </a:lnTo>
                    <a:lnTo>
                      <a:pt x="124" y="230"/>
                    </a:lnTo>
                    <a:lnTo>
                      <a:pt x="124" y="235"/>
                    </a:lnTo>
                    <a:lnTo>
                      <a:pt x="124" y="241"/>
                    </a:lnTo>
                    <a:lnTo>
                      <a:pt x="124" y="245"/>
                    </a:lnTo>
                    <a:lnTo>
                      <a:pt x="121" y="249"/>
                    </a:lnTo>
                    <a:lnTo>
                      <a:pt x="117" y="251"/>
                    </a:lnTo>
                    <a:lnTo>
                      <a:pt x="111" y="252"/>
                    </a:lnTo>
                    <a:lnTo>
                      <a:pt x="107" y="253"/>
                    </a:lnTo>
                    <a:lnTo>
                      <a:pt x="101" y="253"/>
                    </a:lnTo>
                    <a:lnTo>
                      <a:pt x="97" y="252"/>
                    </a:lnTo>
                    <a:lnTo>
                      <a:pt x="92" y="251"/>
                    </a:lnTo>
                    <a:lnTo>
                      <a:pt x="88" y="246"/>
                    </a:lnTo>
                    <a:lnTo>
                      <a:pt x="85" y="242"/>
                    </a:lnTo>
                    <a:lnTo>
                      <a:pt x="85" y="238"/>
                    </a:lnTo>
                    <a:lnTo>
                      <a:pt x="84" y="232"/>
                    </a:lnTo>
                    <a:lnTo>
                      <a:pt x="82" y="228"/>
                    </a:lnTo>
                    <a:lnTo>
                      <a:pt x="82" y="223"/>
                    </a:lnTo>
                    <a:lnTo>
                      <a:pt x="84" y="219"/>
                    </a:lnTo>
                    <a:lnTo>
                      <a:pt x="82" y="215"/>
                    </a:lnTo>
                    <a:lnTo>
                      <a:pt x="78" y="213"/>
                    </a:lnTo>
                    <a:lnTo>
                      <a:pt x="74" y="212"/>
                    </a:lnTo>
                    <a:lnTo>
                      <a:pt x="69" y="213"/>
                    </a:lnTo>
                    <a:lnTo>
                      <a:pt x="65" y="216"/>
                    </a:lnTo>
                    <a:lnTo>
                      <a:pt x="61" y="218"/>
                    </a:lnTo>
                    <a:lnTo>
                      <a:pt x="57" y="222"/>
                    </a:lnTo>
                    <a:lnTo>
                      <a:pt x="51" y="226"/>
                    </a:lnTo>
                    <a:lnTo>
                      <a:pt x="48" y="230"/>
                    </a:lnTo>
                    <a:lnTo>
                      <a:pt x="44" y="233"/>
                    </a:lnTo>
                    <a:lnTo>
                      <a:pt x="39" y="236"/>
                    </a:lnTo>
                    <a:lnTo>
                      <a:pt x="34" y="239"/>
                    </a:lnTo>
                    <a:lnTo>
                      <a:pt x="29" y="239"/>
                    </a:lnTo>
                    <a:lnTo>
                      <a:pt x="25" y="241"/>
                    </a:lnTo>
                    <a:lnTo>
                      <a:pt x="21" y="239"/>
                    </a:lnTo>
                    <a:lnTo>
                      <a:pt x="15" y="236"/>
                    </a:lnTo>
                    <a:lnTo>
                      <a:pt x="11" y="232"/>
                    </a:lnTo>
                    <a:lnTo>
                      <a:pt x="6" y="226"/>
                    </a:lnTo>
                    <a:lnTo>
                      <a:pt x="5" y="220"/>
                    </a:lnTo>
                    <a:lnTo>
                      <a:pt x="5" y="216"/>
                    </a:lnTo>
                    <a:lnTo>
                      <a:pt x="6" y="212"/>
                    </a:lnTo>
                    <a:lnTo>
                      <a:pt x="13" y="207"/>
                    </a:lnTo>
                    <a:lnTo>
                      <a:pt x="18" y="202"/>
                    </a:lnTo>
                    <a:lnTo>
                      <a:pt x="23" y="197"/>
                    </a:lnTo>
                    <a:lnTo>
                      <a:pt x="29" y="195"/>
                    </a:lnTo>
                    <a:lnTo>
                      <a:pt x="34" y="193"/>
                    </a:lnTo>
                    <a:lnTo>
                      <a:pt x="38" y="192"/>
                    </a:lnTo>
                    <a:lnTo>
                      <a:pt x="44" y="190"/>
                    </a:lnTo>
                    <a:lnTo>
                      <a:pt x="48" y="189"/>
                    </a:lnTo>
                    <a:lnTo>
                      <a:pt x="32" y="192"/>
                    </a:lnTo>
                    <a:lnTo>
                      <a:pt x="28" y="192"/>
                    </a:lnTo>
                    <a:lnTo>
                      <a:pt x="23" y="192"/>
                    </a:lnTo>
                    <a:lnTo>
                      <a:pt x="19" y="192"/>
                    </a:lnTo>
                    <a:lnTo>
                      <a:pt x="15" y="192"/>
                    </a:lnTo>
                    <a:lnTo>
                      <a:pt x="11" y="190"/>
                    </a:lnTo>
                    <a:lnTo>
                      <a:pt x="6" y="186"/>
                    </a:lnTo>
                    <a:lnTo>
                      <a:pt x="2" y="183"/>
                    </a:lnTo>
                    <a:lnTo>
                      <a:pt x="0" y="179"/>
                    </a:lnTo>
                    <a:lnTo>
                      <a:pt x="2" y="174"/>
                    </a:lnTo>
                    <a:lnTo>
                      <a:pt x="3" y="170"/>
                    </a:lnTo>
                    <a:lnTo>
                      <a:pt x="8" y="167"/>
                    </a:lnTo>
                    <a:lnTo>
                      <a:pt x="11" y="163"/>
                    </a:lnTo>
                    <a:lnTo>
                      <a:pt x="15" y="160"/>
                    </a:lnTo>
                    <a:lnTo>
                      <a:pt x="21" y="159"/>
                    </a:lnTo>
                    <a:lnTo>
                      <a:pt x="25" y="159"/>
                    </a:lnTo>
                    <a:lnTo>
                      <a:pt x="29" y="159"/>
                    </a:lnTo>
                    <a:lnTo>
                      <a:pt x="34" y="157"/>
                    </a:lnTo>
                    <a:lnTo>
                      <a:pt x="39" y="157"/>
                    </a:lnTo>
                    <a:lnTo>
                      <a:pt x="44" y="157"/>
                    </a:lnTo>
                    <a:lnTo>
                      <a:pt x="48" y="157"/>
                    </a:lnTo>
                    <a:lnTo>
                      <a:pt x="52" y="156"/>
                    </a:lnTo>
                    <a:lnTo>
                      <a:pt x="57" y="153"/>
                    </a:lnTo>
                    <a:lnTo>
                      <a:pt x="61" y="153"/>
                    </a:lnTo>
                    <a:lnTo>
                      <a:pt x="65" y="150"/>
                    </a:lnTo>
                    <a:lnTo>
                      <a:pt x="69" y="147"/>
                    </a:lnTo>
                    <a:lnTo>
                      <a:pt x="75" y="146"/>
                    </a:lnTo>
                    <a:lnTo>
                      <a:pt x="80" y="141"/>
                    </a:lnTo>
                    <a:lnTo>
                      <a:pt x="84" y="138"/>
                    </a:lnTo>
                    <a:lnTo>
                      <a:pt x="87" y="134"/>
                    </a:lnTo>
                    <a:lnTo>
                      <a:pt x="91" y="131"/>
                    </a:lnTo>
                    <a:lnTo>
                      <a:pt x="118" y="103"/>
                    </a:lnTo>
                    <a:lnTo>
                      <a:pt x="151" y="78"/>
                    </a:lnTo>
                    <a:lnTo>
                      <a:pt x="200" y="54"/>
                    </a:lnTo>
                    <a:lnTo>
                      <a:pt x="258" y="38"/>
                    </a:lnTo>
                    <a:lnTo>
                      <a:pt x="321" y="22"/>
                    </a:lnTo>
                    <a:lnTo>
                      <a:pt x="377" y="11"/>
                    </a:lnTo>
                    <a:lnTo>
                      <a:pt x="419" y="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95360" y="3719520"/>
                <a:ext cx="415800" cy="1014480"/>
              </a:xfrm>
              <a:custGeom>
                <a:avLst/>
                <a:gdLst/>
                <a:ahLst/>
                <a:rect l="l" t="t" r="r" b="b"/>
                <a:pathLst>
                  <a:path w="201" h="572">
                    <a:moveTo>
                      <a:pt x="106" y="0"/>
                    </a:moveTo>
                    <a:lnTo>
                      <a:pt x="137" y="20"/>
                    </a:lnTo>
                    <a:lnTo>
                      <a:pt x="153" y="42"/>
                    </a:lnTo>
                    <a:lnTo>
                      <a:pt x="163" y="79"/>
                    </a:lnTo>
                    <a:lnTo>
                      <a:pt x="163" y="128"/>
                    </a:lnTo>
                    <a:lnTo>
                      <a:pt x="156" y="177"/>
                    </a:lnTo>
                    <a:lnTo>
                      <a:pt x="146" y="217"/>
                    </a:lnTo>
                    <a:lnTo>
                      <a:pt x="139" y="270"/>
                    </a:lnTo>
                    <a:lnTo>
                      <a:pt x="140" y="310"/>
                    </a:lnTo>
                    <a:lnTo>
                      <a:pt x="143" y="354"/>
                    </a:lnTo>
                    <a:lnTo>
                      <a:pt x="156" y="394"/>
                    </a:lnTo>
                    <a:lnTo>
                      <a:pt x="175" y="447"/>
                    </a:lnTo>
                    <a:lnTo>
                      <a:pt x="195" y="493"/>
                    </a:lnTo>
                    <a:lnTo>
                      <a:pt x="201" y="510"/>
                    </a:lnTo>
                    <a:lnTo>
                      <a:pt x="196" y="526"/>
                    </a:lnTo>
                    <a:lnTo>
                      <a:pt x="195" y="530"/>
                    </a:lnTo>
                    <a:lnTo>
                      <a:pt x="188" y="542"/>
                    </a:lnTo>
                    <a:lnTo>
                      <a:pt x="178" y="546"/>
                    </a:lnTo>
                    <a:lnTo>
                      <a:pt x="173" y="546"/>
                    </a:lnTo>
                    <a:lnTo>
                      <a:pt x="156" y="545"/>
                    </a:lnTo>
                    <a:lnTo>
                      <a:pt x="119" y="538"/>
                    </a:lnTo>
                    <a:lnTo>
                      <a:pt x="86" y="540"/>
                    </a:lnTo>
                    <a:lnTo>
                      <a:pt x="50" y="558"/>
                    </a:lnTo>
                    <a:lnTo>
                      <a:pt x="27" y="572"/>
                    </a:lnTo>
                    <a:lnTo>
                      <a:pt x="8" y="563"/>
                    </a:lnTo>
                    <a:lnTo>
                      <a:pt x="0" y="536"/>
                    </a:lnTo>
                    <a:lnTo>
                      <a:pt x="10" y="513"/>
                    </a:lnTo>
                    <a:lnTo>
                      <a:pt x="31" y="503"/>
                    </a:lnTo>
                    <a:lnTo>
                      <a:pt x="73" y="497"/>
                    </a:lnTo>
                    <a:lnTo>
                      <a:pt x="124" y="499"/>
                    </a:lnTo>
                    <a:lnTo>
                      <a:pt x="146" y="493"/>
                    </a:lnTo>
                    <a:lnTo>
                      <a:pt x="149" y="481"/>
                    </a:lnTo>
                    <a:lnTo>
                      <a:pt x="149" y="461"/>
                    </a:lnTo>
                    <a:lnTo>
                      <a:pt x="137" y="428"/>
                    </a:lnTo>
                    <a:lnTo>
                      <a:pt x="116" y="391"/>
                    </a:lnTo>
                    <a:lnTo>
                      <a:pt x="97" y="346"/>
                    </a:lnTo>
                    <a:lnTo>
                      <a:pt x="90" y="299"/>
                    </a:lnTo>
                    <a:lnTo>
                      <a:pt x="81" y="231"/>
                    </a:lnTo>
                    <a:lnTo>
                      <a:pt x="76" y="165"/>
                    </a:lnTo>
                    <a:lnTo>
                      <a:pt x="70" y="99"/>
                    </a:lnTo>
                    <a:lnTo>
                      <a:pt x="77" y="34"/>
                    </a:lnTo>
                    <a:lnTo>
                      <a:pt x="93" y="14"/>
                    </a:lnTo>
                    <a:lnTo>
                      <a:pt x="104" y="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112760" y="3629160"/>
                <a:ext cx="368280" cy="968400"/>
              </a:xfrm>
              <a:custGeom>
                <a:avLst/>
                <a:gdLst/>
                <a:ahLst/>
                <a:rect l="l" t="t" r="r" b="b"/>
                <a:pathLst>
                  <a:path w="178" h="546">
                    <a:moveTo>
                      <a:pt x="129" y="0"/>
                    </a:moveTo>
                    <a:lnTo>
                      <a:pt x="155" y="22"/>
                    </a:lnTo>
                    <a:lnTo>
                      <a:pt x="168" y="43"/>
                    </a:lnTo>
                    <a:lnTo>
                      <a:pt x="174" y="80"/>
                    </a:lnTo>
                    <a:lnTo>
                      <a:pt x="171" y="127"/>
                    </a:lnTo>
                    <a:lnTo>
                      <a:pt x="161" y="173"/>
                    </a:lnTo>
                    <a:lnTo>
                      <a:pt x="150" y="212"/>
                    </a:lnTo>
                    <a:lnTo>
                      <a:pt x="140" y="262"/>
                    </a:lnTo>
                    <a:lnTo>
                      <a:pt x="139" y="301"/>
                    </a:lnTo>
                    <a:lnTo>
                      <a:pt x="138" y="343"/>
                    </a:lnTo>
                    <a:lnTo>
                      <a:pt x="146" y="382"/>
                    </a:lnTo>
                    <a:lnTo>
                      <a:pt x="159" y="435"/>
                    </a:lnTo>
                    <a:lnTo>
                      <a:pt x="174" y="480"/>
                    </a:lnTo>
                    <a:lnTo>
                      <a:pt x="178" y="497"/>
                    </a:lnTo>
                    <a:lnTo>
                      <a:pt x="173" y="512"/>
                    </a:lnTo>
                    <a:lnTo>
                      <a:pt x="172" y="516"/>
                    </a:lnTo>
                    <a:lnTo>
                      <a:pt x="164" y="527"/>
                    </a:lnTo>
                    <a:lnTo>
                      <a:pt x="155" y="530"/>
                    </a:lnTo>
                    <a:lnTo>
                      <a:pt x="151" y="530"/>
                    </a:lnTo>
                    <a:lnTo>
                      <a:pt x="136" y="527"/>
                    </a:lnTo>
                    <a:lnTo>
                      <a:pt x="104" y="518"/>
                    </a:lnTo>
                    <a:lnTo>
                      <a:pt x="75" y="519"/>
                    </a:lnTo>
                    <a:lnTo>
                      <a:pt x="42" y="534"/>
                    </a:lnTo>
                    <a:lnTo>
                      <a:pt x="22" y="546"/>
                    </a:lnTo>
                    <a:lnTo>
                      <a:pt x="6" y="537"/>
                    </a:lnTo>
                    <a:lnTo>
                      <a:pt x="0" y="509"/>
                    </a:lnTo>
                    <a:lnTo>
                      <a:pt x="10" y="488"/>
                    </a:lnTo>
                    <a:lnTo>
                      <a:pt x="30" y="480"/>
                    </a:lnTo>
                    <a:lnTo>
                      <a:pt x="67" y="477"/>
                    </a:lnTo>
                    <a:lnTo>
                      <a:pt x="112" y="481"/>
                    </a:lnTo>
                    <a:lnTo>
                      <a:pt x="131" y="477"/>
                    </a:lnTo>
                    <a:lnTo>
                      <a:pt x="134" y="466"/>
                    </a:lnTo>
                    <a:lnTo>
                      <a:pt x="136" y="447"/>
                    </a:lnTo>
                    <a:lnTo>
                      <a:pt x="128" y="415"/>
                    </a:lnTo>
                    <a:lnTo>
                      <a:pt x="111" y="377"/>
                    </a:lnTo>
                    <a:lnTo>
                      <a:pt x="98" y="333"/>
                    </a:lnTo>
                    <a:lnTo>
                      <a:pt x="95" y="287"/>
                    </a:lnTo>
                    <a:lnTo>
                      <a:pt x="92" y="221"/>
                    </a:lnTo>
                    <a:lnTo>
                      <a:pt x="92" y="157"/>
                    </a:lnTo>
                    <a:lnTo>
                      <a:pt x="91" y="93"/>
                    </a:lnTo>
                    <a:lnTo>
                      <a:pt x="102" y="32"/>
                    </a:lnTo>
                    <a:lnTo>
                      <a:pt x="117" y="14"/>
                    </a:lnTo>
                    <a:lnTo>
                      <a:pt x="127" y="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09840" y="3138480"/>
                <a:ext cx="498240" cy="941400"/>
              </a:xfrm>
              <a:custGeom>
                <a:avLst/>
                <a:gdLst/>
                <a:ahLst/>
                <a:rect l="l" t="t" r="r" b="b"/>
                <a:pathLst>
                  <a:path w="241" h="530">
                    <a:moveTo>
                      <a:pt x="61" y="0"/>
                    </a:moveTo>
                    <a:lnTo>
                      <a:pt x="90" y="16"/>
                    </a:lnTo>
                    <a:lnTo>
                      <a:pt x="113" y="38"/>
                    </a:lnTo>
                    <a:lnTo>
                      <a:pt x="116" y="42"/>
                    </a:lnTo>
                    <a:lnTo>
                      <a:pt x="149" y="85"/>
                    </a:lnTo>
                    <a:lnTo>
                      <a:pt x="179" y="130"/>
                    </a:lnTo>
                    <a:lnTo>
                      <a:pt x="203" y="167"/>
                    </a:lnTo>
                    <a:lnTo>
                      <a:pt x="220" y="202"/>
                    </a:lnTo>
                    <a:lnTo>
                      <a:pt x="233" y="241"/>
                    </a:lnTo>
                    <a:lnTo>
                      <a:pt x="239" y="271"/>
                    </a:lnTo>
                    <a:lnTo>
                      <a:pt x="241" y="292"/>
                    </a:lnTo>
                    <a:lnTo>
                      <a:pt x="236" y="310"/>
                    </a:lnTo>
                    <a:lnTo>
                      <a:pt x="225" y="330"/>
                    </a:lnTo>
                    <a:lnTo>
                      <a:pt x="199" y="356"/>
                    </a:lnTo>
                    <a:lnTo>
                      <a:pt x="169" y="380"/>
                    </a:lnTo>
                    <a:lnTo>
                      <a:pt x="143" y="404"/>
                    </a:lnTo>
                    <a:lnTo>
                      <a:pt x="130" y="423"/>
                    </a:lnTo>
                    <a:lnTo>
                      <a:pt x="121" y="433"/>
                    </a:lnTo>
                    <a:lnTo>
                      <a:pt x="120" y="438"/>
                    </a:lnTo>
                    <a:lnTo>
                      <a:pt x="117" y="442"/>
                    </a:lnTo>
                    <a:lnTo>
                      <a:pt x="113" y="448"/>
                    </a:lnTo>
                    <a:lnTo>
                      <a:pt x="110" y="453"/>
                    </a:lnTo>
                    <a:lnTo>
                      <a:pt x="106" y="458"/>
                    </a:lnTo>
                    <a:lnTo>
                      <a:pt x="104" y="462"/>
                    </a:lnTo>
                    <a:lnTo>
                      <a:pt x="104" y="466"/>
                    </a:lnTo>
                    <a:lnTo>
                      <a:pt x="104" y="471"/>
                    </a:lnTo>
                    <a:lnTo>
                      <a:pt x="101" y="476"/>
                    </a:lnTo>
                    <a:lnTo>
                      <a:pt x="100" y="481"/>
                    </a:lnTo>
                    <a:lnTo>
                      <a:pt x="98" y="485"/>
                    </a:lnTo>
                    <a:lnTo>
                      <a:pt x="98" y="489"/>
                    </a:lnTo>
                    <a:lnTo>
                      <a:pt x="97" y="494"/>
                    </a:lnTo>
                    <a:lnTo>
                      <a:pt x="96" y="499"/>
                    </a:lnTo>
                    <a:lnTo>
                      <a:pt x="96" y="504"/>
                    </a:lnTo>
                    <a:lnTo>
                      <a:pt x="94" y="508"/>
                    </a:lnTo>
                    <a:lnTo>
                      <a:pt x="91" y="512"/>
                    </a:lnTo>
                    <a:lnTo>
                      <a:pt x="88" y="518"/>
                    </a:lnTo>
                    <a:lnTo>
                      <a:pt x="84" y="522"/>
                    </a:lnTo>
                    <a:lnTo>
                      <a:pt x="80" y="525"/>
                    </a:lnTo>
                    <a:lnTo>
                      <a:pt x="76" y="528"/>
                    </a:lnTo>
                    <a:lnTo>
                      <a:pt x="71" y="528"/>
                    </a:lnTo>
                    <a:lnTo>
                      <a:pt x="64" y="530"/>
                    </a:lnTo>
                    <a:lnTo>
                      <a:pt x="58" y="528"/>
                    </a:lnTo>
                    <a:lnTo>
                      <a:pt x="53" y="528"/>
                    </a:lnTo>
                    <a:lnTo>
                      <a:pt x="47" y="524"/>
                    </a:lnTo>
                    <a:lnTo>
                      <a:pt x="44" y="519"/>
                    </a:lnTo>
                    <a:lnTo>
                      <a:pt x="44" y="515"/>
                    </a:lnTo>
                    <a:lnTo>
                      <a:pt x="44" y="511"/>
                    </a:lnTo>
                    <a:lnTo>
                      <a:pt x="44" y="505"/>
                    </a:lnTo>
                    <a:lnTo>
                      <a:pt x="45" y="501"/>
                    </a:lnTo>
                    <a:lnTo>
                      <a:pt x="48" y="496"/>
                    </a:lnTo>
                    <a:lnTo>
                      <a:pt x="50" y="492"/>
                    </a:lnTo>
                    <a:lnTo>
                      <a:pt x="54" y="488"/>
                    </a:lnTo>
                    <a:lnTo>
                      <a:pt x="58" y="484"/>
                    </a:lnTo>
                    <a:lnTo>
                      <a:pt x="61" y="479"/>
                    </a:lnTo>
                    <a:lnTo>
                      <a:pt x="64" y="473"/>
                    </a:lnTo>
                    <a:lnTo>
                      <a:pt x="68" y="469"/>
                    </a:lnTo>
                    <a:lnTo>
                      <a:pt x="70" y="465"/>
                    </a:lnTo>
                    <a:lnTo>
                      <a:pt x="73" y="461"/>
                    </a:lnTo>
                    <a:lnTo>
                      <a:pt x="76" y="456"/>
                    </a:lnTo>
                    <a:lnTo>
                      <a:pt x="78" y="452"/>
                    </a:lnTo>
                    <a:lnTo>
                      <a:pt x="81" y="448"/>
                    </a:lnTo>
                    <a:lnTo>
                      <a:pt x="81" y="443"/>
                    </a:lnTo>
                    <a:lnTo>
                      <a:pt x="78" y="439"/>
                    </a:lnTo>
                    <a:lnTo>
                      <a:pt x="74" y="439"/>
                    </a:lnTo>
                    <a:lnTo>
                      <a:pt x="70" y="439"/>
                    </a:lnTo>
                    <a:lnTo>
                      <a:pt x="64" y="442"/>
                    </a:lnTo>
                    <a:lnTo>
                      <a:pt x="58" y="446"/>
                    </a:lnTo>
                    <a:lnTo>
                      <a:pt x="54" y="452"/>
                    </a:lnTo>
                    <a:lnTo>
                      <a:pt x="48" y="456"/>
                    </a:lnTo>
                    <a:lnTo>
                      <a:pt x="44" y="461"/>
                    </a:lnTo>
                    <a:lnTo>
                      <a:pt x="41" y="465"/>
                    </a:lnTo>
                    <a:lnTo>
                      <a:pt x="38" y="469"/>
                    </a:lnTo>
                    <a:lnTo>
                      <a:pt x="32" y="471"/>
                    </a:lnTo>
                    <a:lnTo>
                      <a:pt x="28" y="473"/>
                    </a:lnTo>
                    <a:lnTo>
                      <a:pt x="24" y="473"/>
                    </a:lnTo>
                    <a:lnTo>
                      <a:pt x="20" y="475"/>
                    </a:lnTo>
                    <a:lnTo>
                      <a:pt x="15" y="475"/>
                    </a:lnTo>
                    <a:lnTo>
                      <a:pt x="11" y="475"/>
                    </a:lnTo>
                    <a:lnTo>
                      <a:pt x="7" y="473"/>
                    </a:lnTo>
                    <a:lnTo>
                      <a:pt x="4" y="469"/>
                    </a:lnTo>
                    <a:lnTo>
                      <a:pt x="1" y="463"/>
                    </a:lnTo>
                    <a:lnTo>
                      <a:pt x="1" y="459"/>
                    </a:lnTo>
                    <a:lnTo>
                      <a:pt x="0" y="453"/>
                    </a:lnTo>
                    <a:lnTo>
                      <a:pt x="1" y="448"/>
                    </a:lnTo>
                    <a:lnTo>
                      <a:pt x="2" y="443"/>
                    </a:lnTo>
                    <a:lnTo>
                      <a:pt x="7" y="440"/>
                    </a:lnTo>
                    <a:lnTo>
                      <a:pt x="10" y="436"/>
                    </a:lnTo>
                    <a:lnTo>
                      <a:pt x="12" y="432"/>
                    </a:lnTo>
                    <a:lnTo>
                      <a:pt x="18" y="429"/>
                    </a:lnTo>
                    <a:lnTo>
                      <a:pt x="22" y="427"/>
                    </a:lnTo>
                    <a:lnTo>
                      <a:pt x="28" y="426"/>
                    </a:lnTo>
                    <a:lnTo>
                      <a:pt x="32" y="426"/>
                    </a:lnTo>
                    <a:lnTo>
                      <a:pt x="38" y="425"/>
                    </a:lnTo>
                    <a:lnTo>
                      <a:pt x="44" y="422"/>
                    </a:lnTo>
                    <a:lnTo>
                      <a:pt x="48" y="422"/>
                    </a:lnTo>
                    <a:lnTo>
                      <a:pt x="53" y="420"/>
                    </a:lnTo>
                    <a:lnTo>
                      <a:pt x="57" y="417"/>
                    </a:lnTo>
                    <a:lnTo>
                      <a:pt x="61" y="417"/>
                    </a:lnTo>
                    <a:lnTo>
                      <a:pt x="65" y="416"/>
                    </a:lnTo>
                    <a:lnTo>
                      <a:pt x="70" y="415"/>
                    </a:lnTo>
                    <a:lnTo>
                      <a:pt x="73" y="410"/>
                    </a:lnTo>
                    <a:lnTo>
                      <a:pt x="73" y="406"/>
                    </a:lnTo>
                    <a:lnTo>
                      <a:pt x="73" y="402"/>
                    </a:lnTo>
                    <a:lnTo>
                      <a:pt x="73" y="397"/>
                    </a:lnTo>
                    <a:lnTo>
                      <a:pt x="70" y="393"/>
                    </a:lnTo>
                    <a:lnTo>
                      <a:pt x="67" y="389"/>
                    </a:lnTo>
                    <a:lnTo>
                      <a:pt x="64" y="384"/>
                    </a:lnTo>
                    <a:lnTo>
                      <a:pt x="61" y="380"/>
                    </a:lnTo>
                    <a:lnTo>
                      <a:pt x="58" y="376"/>
                    </a:lnTo>
                    <a:lnTo>
                      <a:pt x="55" y="371"/>
                    </a:lnTo>
                    <a:lnTo>
                      <a:pt x="53" y="367"/>
                    </a:lnTo>
                    <a:lnTo>
                      <a:pt x="50" y="363"/>
                    </a:lnTo>
                    <a:lnTo>
                      <a:pt x="48" y="358"/>
                    </a:lnTo>
                    <a:lnTo>
                      <a:pt x="47" y="353"/>
                    </a:lnTo>
                    <a:lnTo>
                      <a:pt x="44" y="347"/>
                    </a:lnTo>
                    <a:lnTo>
                      <a:pt x="44" y="343"/>
                    </a:lnTo>
                    <a:lnTo>
                      <a:pt x="44" y="338"/>
                    </a:lnTo>
                    <a:lnTo>
                      <a:pt x="47" y="334"/>
                    </a:lnTo>
                    <a:lnTo>
                      <a:pt x="51" y="331"/>
                    </a:lnTo>
                    <a:lnTo>
                      <a:pt x="55" y="328"/>
                    </a:lnTo>
                    <a:lnTo>
                      <a:pt x="60" y="324"/>
                    </a:lnTo>
                    <a:lnTo>
                      <a:pt x="64" y="321"/>
                    </a:lnTo>
                    <a:lnTo>
                      <a:pt x="68" y="320"/>
                    </a:lnTo>
                    <a:lnTo>
                      <a:pt x="74" y="320"/>
                    </a:lnTo>
                    <a:lnTo>
                      <a:pt x="78" y="320"/>
                    </a:lnTo>
                    <a:lnTo>
                      <a:pt x="83" y="320"/>
                    </a:lnTo>
                    <a:lnTo>
                      <a:pt x="87" y="324"/>
                    </a:lnTo>
                    <a:lnTo>
                      <a:pt x="87" y="328"/>
                    </a:lnTo>
                    <a:lnTo>
                      <a:pt x="90" y="333"/>
                    </a:lnTo>
                    <a:lnTo>
                      <a:pt x="93" y="338"/>
                    </a:lnTo>
                    <a:lnTo>
                      <a:pt x="93" y="343"/>
                    </a:lnTo>
                    <a:lnTo>
                      <a:pt x="93" y="347"/>
                    </a:lnTo>
                    <a:lnTo>
                      <a:pt x="93" y="353"/>
                    </a:lnTo>
                    <a:lnTo>
                      <a:pt x="90" y="358"/>
                    </a:lnTo>
                    <a:lnTo>
                      <a:pt x="88" y="363"/>
                    </a:lnTo>
                    <a:lnTo>
                      <a:pt x="88" y="367"/>
                    </a:lnTo>
                    <a:lnTo>
                      <a:pt x="88" y="371"/>
                    </a:lnTo>
                    <a:lnTo>
                      <a:pt x="90" y="376"/>
                    </a:lnTo>
                    <a:lnTo>
                      <a:pt x="91" y="380"/>
                    </a:lnTo>
                    <a:lnTo>
                      <a:pt x="93" y="384"/>
                    </a:lnTo>
                    <a:lnTo>
                      <a:pt x="94" y="389"/>
                    </a:lnTo>
                    <a:lnTo>
                      <a:pt x="98" y="392"/>
                    </a:lnTo>
                    <a:lnTo>
                      <a:pt x="103" y="392"/>
                    </a:lnTo>
                    <a:lnTo>
                      <a:pt x="107" y="390"/>
                    </a:lnTo>
                    <a:lnTo>
                      <a:pt x="111" y="386"/>
                    </a:lnTo>
                    <a:lnTo>
                      <a:pt x="139" y="369"/>
                    </a:lnTo>
                    <a:lnTo>
                      <a:pt x="170" y="337"/>
                    </a:lnTo>
                    <a:lnTo>
                      <a:pt x="193" y="304"/>
                    </a:lnTo>
                    <a:lnTo>
                      <a:pt x="197" y="281"/>
                    </a:lnTo>
                    <a:lnTo>
                      <a:pt x="197" y="252"/>
                    </a:lnTo>
                    <a:lnTo>
                      <a:pt x="185" y="219"/>
                    </a:lnTo>
                    <a:lnTo>
                      <a:pt x="159" y="182"/>
                    </a:lnTo>
                    <a:lnTo>
                      <a:pt x="121" y="141"/>
                    </a:lnTo>
                    <a:lnTo>
                      <a:pt x="71" y="105"/>
                    </a:lnTo>
                    <a:lnTo>
                      <a:pt x="40" y="87"/>
                    </a:lnTo>
                    <a:lnTo>
                      <a:pt x="20" y="62"/>
                    </a:lnTo>
                    <a:lnTo>
                      <a:pt x="24" y="32"/>
                    </a:lnTo>
                    <a:lnTo>
                      <a:pt x="38" y="5"/>
                    </a:lnTo>
                    <a:lnTo>
                      <a:pt x="53" y="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6320" y="2887560"/>
                <a:ext cx="1786680" cy="1346040"/>
                <a:chOff x="76320" y="2887560"/>
                <a:chExt cx="1786680" cy="13460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98360" y="3039480"/>
                  <a:ext cx="1265040" cy="1148040"/>
                </a:xfrm>
                <a:custGeom>
                  <a:avLst/>
                  <a:gdLst/>
                  <a:ahLst/>
                  <a:rect l="l" t="t" r="r" b="b"/>
                  <a:pathLst>
                    <a:path w="2028" h="1948">
                      <a:moveTo>
                        <a:pt x="73" y="0"/>
                      </a:moveTo>
                      <a:lnTo>
                        <a:pt x="74" y="218"/>
                      </a:lnTo>
                      <a:lnTo>
                        <a:pt x="8" y="376"/>
                      </a:lnTo>
                      <a:lnTo>
                        <a:pt x="288" y="581"/>
                      </a:lnTo>
                      <a:lnTo>
                        <a:pt x="0" y="1132"/>
                      </a:lnTo>
                      <a:lnTo>
                        <a:pt x="443" y="1948"/>
                      </a:lnTo>
                      <a:lnTo>
                        <a:pt x="1383" y="1839"/>
                      </a:lnTo>
                      <a:lnTo>
                        <a:pt x="2028" y="1337"/>
                      </a:lnTo>
                      <a:lnTo>
                        <a:pt x="1403" y="157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53000" y="3428280"/>
                  <a:ext cx="286920" cy="409680"/>
                </a:xfrm>
                <a:custGeom>
                  <a:avLst/>
                  <a:gdLst/>
                  <a:ahLst/>
                  <a:rect l="l" t="t" r="r" b="b"/>
                  <a:pathLst>
                    <a:path w="459" h="695">
                      <a:moveTo>
                        <a:pt x="237" y="0"/>
                      </a:moveTo>
                      <a:lnTo>
                        <a:pt x="0" y="34"/>
                      </a:lnTo>
                      <a:lnTo>
                        <a:pt x="29" y="96"/>
                      </a:lnTo>
                      <a:lnTo>
                        <a:pt x="459" y="695"/>
                      </a:lnTo>
                      <a:lnTo>
                        <a:pt x="268" y="90"/>
                      </a:lnTo>
                      <a:lnTo>
                        <a:pt x="237" y="0"/>
                      </a:lnTo>
                      <a:lnTo>
                        <a:pt x="23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8440" y="3629160"/>
                  <a:ext cx="711000" cy="576000"/>
                </a:xfrm>
                <a:custGeom>
                  <a:avLst/>
                  <a:gdLst/>
                  <a:ahLst/>
                  <a:rect l="l" t="t" r="r" b="b"/>
                  <a:pathLst>
                    <a:path w="1142" h="977">
                      <a:moveTo>
                        <a:pt x="195" y="0"/>
                      </a:moveTo>
                      <a:lnTo>
                        <a:pt x="0" y="66"/>
                      </a:lnTo>
                      <a:lnTo>
                        <a:pt x="518" y="977"/>
                      </a:lnTo>
                      <a:lnTo>
                        <a:pt x="1142" y="946"/>
                      </a:lnTo>
                      <a:lnTo>
                        <a:pt x="568" y="840"/>
                      </a:lnTo>
                      <a:lnTo>
                        <a:pt x="161" y="111"/>
                      </a:lnTo>
                      <a:lnTo>
                        <a:pt x="195" y="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90720" y="2898360"/>
                  <a:ext cx="835920" cy="358200"/>
                </a:xfrm>
                <a:custGeom>
                  <a:avLst/>
                  <a:gdLst/>
                  <a:ahLst/>
                  <a:rect l="l" t="t" r="r" b="b"/>
                  <a:pathLst>
                    <a:path w="1337" h="607">
                      <a:moveTo>
                        <a:pt x="1155" y="0"/>
                      </a:moveTo>
                      <a:lnTo>
                        <a:pt x="15" y="195"/>
                      </a:lnTo>
                      <a:lnTo>
                        <a:pt x="0" y="238"/>
                      </a:lnTo>
                      <a:lnTo>
                        <a:pt x="1097" y="607"/>
                      </a:lnTo>
                      <a:lnTo>
                        <a:pt x="1337" y="519"/>
                      </a:lnTo>
                      <a:lnTo>
                        <a:pt x="667" y="323"/>
                      </a:lnTo>
                      <a:lnTo>
                        <a:pt x="1192" y="53"/>
                      </a:lnTo>
                      <a:lnTo>
                        <a:pt x="1155" y="0"/>
                      </a:lnTo>
                      <a:lnTo>
                        <a:pt x="1155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0520" y="3204000"/>
                  <a:ext cx="891360" cy="340560"/>
                </a:xfrm>
                <a:custGeom>
                  <a:avLst/>
                  <a:gdLst/>
                  <a:ahLst/>
                  <a:rect l="l" t="t" r="r" b="b"/>
                  <a:pathLst>
                    <a:path w="1427" h="580">
                      <a:moveTo>
                        <a:pt x="190" y="0"/>
                      </a:moveTo>
                      <a:lnTo>
                        <a:pt x="0" y="71"/>
                      </a:lnTo>
                      <a:lnTo>
                        <a:pt x="0" y="122"/>
                      </a:lnTo>
                      <a:lnTo>
                        <a:pt x="1066" y="580"/>
                      </a:lnTo>
                      <a:lnTo>
                        <a:pt x="1406" y="488"/>
                      </a:lnTo>
                      <a:lnTo>
                        <a:pt x="1427" y="405"/>
                      </a:lnTo>
                      <a:lnTo>
                        <a:pt x="1243" y="391"/>
                      </a:lnTo>
                      <a:lnTo>
                        <a:pt x="1061" y="452"/>
                      </a:lnTo>
                      <a:lnTo>
                        <a:pt x="163" y="91"/>
                      </a:lnTo>
                      <a:lnTo>
                        <a:pt x="190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68200" y="3366000"/>
                  <a:ext cx="671400" cy="452160"/>
                </a:xfrm>
                <a:custGeom>
                  <a:avLst/>
                  <a:gdLst/>
                  <a:ahLst/>
                  <a:rect l="l" t="t" r="r" b="b"/>
                  <a:pathLst>
                    <a:path w="1074" h="768">
                      <a:moveTo>
                        <a:pt x="5" y="42"/>
                      </a:moveTo>
                      <a:lnTo>
                        <a:pt x="0" y="128"/>
                      </a:lnTo>
                      <a:lnTo>
                        <a:pt x="8" y="223"/>
                      </a:lnTo>
                      <a:lnTo>
                        <a:pt x="62" y="273"/>
                      </a:lnTo>
                      <a:lnTo>
                        <a:pt x="179" y="298"/>
                      </a:lnTo>
                      <a:lnTo>
                        <a:pt x="636" y="600"/>
                      </a:lnTo>
                      <a:lnTo>
                        <a:pt x="837" y="739"/>
                      </a:lnTo>
                      <a:lnTo>
                        <a:pt x="983" y="768"/>
                      </a:lnTo>
                      <a:lnTo>
                        <a:pt x="963" y="594"/>
                      </a:lnTo>
                      <a:lnTo>
                        <a:pt x="1074" y="330"/>
                      </a:lnTo>
                      <a:lnTo>
                        <a:pt x="849" y="320"/>
                      </a:lnTo>
                      <a:lnTo>
                        <a:pt x="40" y="0"/>
                      </a:lnTo>
                      <a:lnTo>
                        <a:pt x="5" y="42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7520" y="2979360"/>
                  <a:ext cx="811440" cy="164160"/>
                </a:xfrm>
                <a:custGeom>
                  <a:avLst/>
                  <a:gdLst/>
                  <a:ahLst/>
                  <a:rect l="l" t="t" r="r" b="b"/>
                  <a:pathLst>
                    <a:path w="1301" h="277">
                      <a:moveTo>
                        <a:pt x="0" y="208"/>
                      </a:moveTo>
                      <a:lnTo>
                        <a:pt x="42" y="194"/>
                      </a:lnTo>
                      <a:lnTo>
                        <a:pt x="151" y="169"/>
                      </a:lnTo>
                      <a:lnTo>
                        <a:pt x="222" y="153"/>
                      </a:lnTo>
                      <a:lnTo>
                        <a:pt x="302" y="135"/>
                      </a:lnTo>
                      <a:lnTo>
                        <a:pt x="388" y="118"/>
                      </a:lnTo>
                      <a:lnTo>
                        <a:pt x="476" y="99"/>
                      </a:lnTo>
                      <a:lnTo>
                        <a:pt x="565" y="80"/>
                      </a:lnTo>
                      <a:lnTo>
                        <a:pt x="650" y="62"/>
                      </a:lnTo>
                      <a:lnTo>
                        <a:pt x="730" y="45"/>
                      </a:lnTo>
                      <a:lnTo>
                        <a:pt x="802" y="30"/>
                      </a:lnTo>
                      <a:lnTo>
                        <a:pt x="909" y="8"/>
                      </a:lnTo>
                      <a:lnTo>
                        <a:pt x="950" y="0"/>
                      </a:lnTo>
                      <a:lnTo>
                        <a:pt x="1301" y="54"/>
                      </a:lnTo>
                      <a:lnTo>
                        <a:pt x="125" y="277"/>
                      </a:lnTo>
                      <a:lnTo>
                        <a:pt x="0" y="208"/>
                      </a:lnTo>
                      <a:lnTo>
                        <a:pt x="0" y="208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64920" y="3572640"/>
                  <a:ext cx="127080" cy="173160"/>
                </a:xfrm>
                <a:custGeom>
                  <a:avLst/>
                  <a:gdLst/>
                  <a:ahLst/>
                  <a:rect l="l" t="t" r="r" b="b"/>
                  <a:pathLst>
                    <a:path w="205" h="296">
                      <a:moveTo>
                        <a:pt x="59" y="0"/>
                      </a:moveTo>
                      <a:lnTo>
                        <a:pt x="205" y="15"/>
                      </a:lnTo>
                      <a:lnTo>
                        <a:pt x="107" y="171"/>
                      </a:lnTo>
                      <a:lnTo>
                        <a:pt x="87" y="296"/>
                      </a:lnTo>
                      <a:lnTo>
                        <a:pt x="0" y="249"/>
                      </a:lnTo>
                      <a:lnTo>
                        <a:pt x="20" y="57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72760" y="3746160"/>
                  <a:ext cx="209880" cy="101880"/>
                </a:xfrm>
                <a:custGeom>
                  <a:avLst/>
                  <a:gdLst/>
                  <a:ahLst/>
                  <a:rect l="l" t="t" r="r" b="b"/>
                  <a:pathLst>
                    <a:path w="335" h="175">
                      <a:moveTo>
                        <a:pt x="0" y="12"/>
                      </a:moveTo>
                      <a:lnTo>
                        <a:pt x="138" y="0"/>
                      </a:lnTo>
                      <a:lnTo>
                        <a:pt x="335" y="143"/>
                      </a:lnTo>
                      <a:lnTo>
                        <a:pt x="35" y="175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5520" y="3859200"/>
                  <a:ext cx="1172880" cy="314280"/>
                </a:xfrm>
                <a:custGeom>
                  <a:avLst/>
                  <a:gdLst/>
                  <a:ahLst/>
                  <a:rect l="l" t="t" r="r" b="b"/>
                  <a:pathLst>
                    <a:path w="1879" h="534">
                      <a:moveTo>
                        <a:pt x="123" y="214"/>
                      </a:moveTo>
                      <a:lnTo>
                        <a:pt x="103" y="320"/>
                      </a:lnTo>
                      <a:lnTo>
                        <a:pt x="0" y="427"/>
                      </a:lnTo>
                      <a:lnTo>
                        <a:pt x="446" y="534"/>
                      </a:lnTo>
                      <a:lnTo>
                        <a:pt x="1331" y="460"/>
                      </a:lnTo>
                      <a:lnTo>
                        <a:pt x="1394" y="438"/>
                      </a:lnTo>
                      <a:lnTo>
                        <a:pt x="1512" y="460"/>
                      </a:lnTo>
                      <a:lnTo>
                        <a:pt x="1615" y="448"/>
                      </a:lnTo>
                      <a:lnTo>
                        <a:pt x="1729" y="431"/>
                      </a:lnTo>
                      <a:lnTo>
                        <a:pt x="1756" y="412"/>
                      </a:lnTo>
                      <a:lnTo>
                        <a:pt x="1799" y="380"/>
                      </a:lnTo>
                      <a:lnTo>
                        <a:pt x="1839" y="348"/>
                      </a:lnTo>
                      <a:lnTo>
                        <a:pt x="1856" y="335"/>
                      </a:lnTo>
                      <a:lnTo>
                        <a:pt x="1879" y="132"/>
                      </a:lnTo>
                      <a:lnTo>
                        <a:pt x="1753" y="0"/>
                      </a:lnTo>
                      <a:lnTo>
                        <a:pt x="1138" y="100"/>
                      </a:lnTo>
                      <a:lnTo>
                        <a:pt x="123" y="214"/>
                      </a:lnTo>
                      <a:lnTo>
                        <a:pt x="123" y="214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95480" y="3458160"/>
                  <a:ext cx="1510200" cy="723960"/>
                </a:xfrm>
                <a:custGeom>
                  <a:avLst/>
                  <a:gdLst/>
                  <a:ahLst/>
                  <a:rect l="l" t="t" r="r" b="b"/>
                  <a:pathLst>
                    <a:path w="2420" h="1230">
                      <a:moveTo>
                        <a:pt x="12" y="21"/>
                      </a:moveTo>
                      <a:lnTo>
                        <a:pt x="106" y="0"/>
                      </a:lnTo>
                      <a:lnTo>
                        <a:pt x="162" y="131"/>
                      </a:lnTo>
                      <a:lnTo>
                        <a:pt x="242" y="151"/>
                      </a:lnTo>
                      <a:lnTo>
                        <a:pt x="695" y="448"/>
                      </a:lnTo>
                      <a:lnTo>
                        <a:pt x="529" y="484"/>
                      </a:lnTo>
                      <a:lnTo>
                        <a:pt x="639" y="665"/>
                      </a:lnTo>
                      <a:lnTo>
                        <a:pt x="1015" y="630"/>
                      </a:lnTo>
                      <a:lnTo>
                        <a:pt x="1260" y="697"/>
                      </a:lnTo>
                      <a:lnTo>
                        <a:pt x="1939" y="502"/>
                      </a:lnTo>
                      <a:lnTo>
                        <a:pt x="2278" y="519"/>
                      </a:lnTo>
                      <a:lnTo>
                        <a:pt x="2420" y="689"/>
                      </a:lnTo>
                      <a:lnTo>
                        <a:pt x="2382" y="1015"/>
                      </a:lnTo>
                      <a:lnTo>
                        <a:pt x="2258" y="1106"/>
                      </a:lnTo>
                      <a:lnTo>
                        <a:pt x="2005" y="1148"/>
                      </a:lnTo>
                      <a:lnTo>
                        <a:pt x="1887" y="1124"/>
                      </a:lnTo>
                      <a:lnTo>
                        <a:pt x="1793" y="1152"/>
                      </a:lnTo>
                      <a:lnTo>
                        <a:pt x="881" y="1230"/>
                      </a:lnTo>
                      <a:lnTo>
                        <a:pt x="443" y="1133"/>
                      </a:lnTo>
                      <a:lnTo>
                        <a:pt x="762" y="1091"/>
                      </a:lnTo>
                      <a:lnTo>
                        <a:pt x="2018" y="1002"/>
                      </a:lnTo>
                      <a:lnTo>
                        <a:pt x="2219" y="992"/>
                      </a:lnTo>
                      <a:lnTo>
                        <a:pt x="2298" y="825"/>
                      </a:lnTo>
                      <a:lnTo>
                        <a:pt x="2285" y="806"/>
                      </a:lnTo>
                      <a:lnTo>
                        <a:pt x="2256" y="764"/>
                      </a:lnTo>
                      <a:lnTo>
                        <a:pt x="2240" y="741"/>
                      </a:lnTo>
                      <a:lnTo>
                        <a:pt x="2224" y="720"/>
                      </a:lnTo>
                      <a:lnTo>
                        <a:pt x="2203" y="697"/>
                      </a:lnTo>
                      <a:lnTo>
                        <a:pt x="2004" y="716"/>
                      </a:lnTo>
                      <a:lnTo>
                        <a:pt x="1874" y="731"/>
                      </a:lnTo>
                      <a:lnTo>
                        <a:pt x="1816" y="740"/>
                      </a:lnTo>
                      <a:lnTo>
                        <a:pt x="620" y="864"/>
                      </a:lnTo>
                      <a:lnTo>
                        <a:pt x="555" y="879"/>
                      </a:lnTo>
                      <a:lnTo>
                        <a:pt x="0" y="85"/>
                      </a:lnTo>
                      <a:lnTo>
                        <a:pt x="363" y="505"/>
                      </a:lnTo>
                      <a:lnTo>
                        <a:pt x="12" y="21"/>
                      </a:lnTo>
                      <a:lnTo>
                        <a:pt x="12" y="21"/>
                      </a:lnTo>
                      <a:close/>
                    </a:path>
                  </a:pathLst>
                </a:custGeom>
                <a:solidFill>
                  <a:srgbClr val="7a7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229400" y="3740760"/>
                  <a:ext cx="291960" cy="73800"/>
                </a:xfrm>
                <a:custGeom>
                  <a:avLst/>
                  <a:gdLst/>
                  <a:ahLst/>
                  <a:rect l="l" t="t" r="r" b="b"/>
                  <a:pathLst>
                    <a:path w="468" h="127">
                      <a:moveTo>
                        <a:pt x="0" y="127"/>
                      </a:moveTo>
                      <a:lnTo>
                        <a:pt x="334" y="114"/>
                      </a:lnTo>
                      <a:lnTo>
                        <a:pt x="468" y="100"/>
                      </a:lnTo>
                      <a:lnTo>
                        <a:pt x="410" y="48"/>
                      </a:lnTo>
                      <a:lnTo>
                        <a:pt x="431" y="0"/>
                      </a:lnTo>
                      <a:lnTo>
                        <a:pt x="300" y="21"/>
                      </a:lnTo>
                      <a:lnTo>
                        <a:pt x="122" y="88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948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47280" y="3546360"/>
                  <a:ext cx="132120" cy="199800"/>
                </a:xfrm>
                <a:custGeom>
                  <a:avLst/>
                  <a:gdLst/>
                  <a:ahLst/>
                  <a:rect l="l" t="t" r="r" b="b"/>
                  <a:pathLst>
                    <a:path w="209" h="339">
                      <a:moveTo>
                        <a:pt x="7" y="299"/>
                      </a:moveTo>
                      <a:lnTo>
                        <a:pt x="0" y="189"/>
                      </a:lnTo>
                      <a:lnTo>
                        <a:pt x="47" y="68"/>
                      </a:lnTo>
                      <a:lnTo>
                        <a:pt x="86" y="0"/>
                      </a:lnTo>
                      <a:lnTo>
                        <a:pt x="209" y="58"/>
                      </a:lnTo>
                      <a:lnTo>
                        <a:pt x="169" y="76"/>
                      </a:lnTo>
                      <a:lnTo>
                        <a:pt x="94" y="94"/>
                      </a:lnTo>
                      <a:lnTo>
                        <a:pt x="58" y="174"/>
                      </a:lnTo>
                      <a:lnTo>
                        <a:pt x="58" y="260"/>
                      </a:lnTo>
                      <a:lnTo>
                        <a:pt x="114" y="339"/>
                      </a:lnTo>
                      <a:lnTo>
                        <a:pt x="7" y="299"/>
                      </a:lnTo>
                      <a:lnTo>
                        <a:pt x="7" y="299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72840" y="2970720"/>
                  <a:ext cx="683640" cy="208080"/>
                </a:xfrm>
                <a:custGeom>
                  <a:avLst/>
                  <a:gdLst/>
                  <a:ahLst/>
                  <a:rect l="l" t="t" r="r" b="b"/>
                  <a:pathLst>
                    <a:path w="1094" h="353">
                      <a:moveTo>
                        <a:pt x="0" y="211"/>
                      </a:moveTo>
                      <a:lnTo>
                        <a:pt x="877" y="0"/>
                      </a:lnTo>
                      <a:lnTo>
                        <a:pt x="992" y="22"/>
                      </a:lnTo>
                      <a:lnTo>
                        <a:pt x="213" y="220"/>
                      </a:lnTo>
                      <a:lnTo>
                        <a:pt x="1094" y="86"/>
                      </a:lnTo>
                      <a:lnTo>
                        <a:pt x="230" y="353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5240" y="3723120"/>
                  <a:ext cx="291960" cy="125280"/>
                </a:xfrm>
                <a:custGeom>
                  <a:avLst/>
                  <a:gdLst/>
                  <a:ahLst/>
                  <a:rect l="l" t="t" r="r" b="b"/>
                  <a:pathLst>
                    <a:path w="470" h="213">
                      <a:moveTo>
                        <a:pt x="0" y="32"/>
                      </a:moveTo>
                      <a:lnTo>
                        <a:pt x="148" y="0"/>
                      </a:lnTo>
                      <a:lnTo>
                        <a:pt x="338" y="94"/>
                      </a:lnTo>
                      <a:lnTo>
                        <a:pt x="470" y="179"/>
                      </a:lnTo>
                      <a:lnTo>
                        <a:pt x="387" y="191"/>
                      </a:lnTo>
                      <a:lnTo>
                        <a:pt x="296" y="138"/>
                      </a:lnTo>
                      <a:lnTo>
                        <a:pt x="229" y="78"/>
                      </a:lnTo>
                      <a:lnTo>
                        <a:pt x="122" y="67"/>
                      </a:lnTo>
                      <a:lnTo>
                        <a:pt x="110" y="213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982080" y="3256560"/>
                  <a:ext cx="224640" cy="506880"/>
                </a:xfrm>
                <a:custGeom>
                  <a:avLst/>
                  <a:gdLst/>
                  <a:ahLst/>
                  <a:rect l="l" t="t" r="r" b="b"/>
                  <a:pathLst>
                    <a:path w="357" h="861">
                      <a:moveTo>
                        <a:pt x="56" y="68"/>
                      </a:moveTo>
                      <a:lnTo>
                        <a:pt x="286" y="0"/>
                      </a:lnTo>
                      <a:lnTo>
                        <a:pt x="357" y="79"/>
                      </a:lnTo>
                      <a:lnTo>
                        <a:pt x="254" y="552"/>
                      </a:lnTo>
                      <a:lnTo>
                        <a:pt x="147" y="637"/>
                      </a:lnTo>
                      <a:lnTo>
                        <a:pt x="144" y="861"/>
                      </a:lnTo>
                      <a:lnTo>
                        <a:pt x="56" y="772"/>
                      </a:lnTo>
                      <a:lnTo>
                        <a:pt x="39" y="669"/>
                      </a:lnTo>
                      <a:lnTo>
                        <a:pt x="21" y="598"/>
                      </a:lnTo>
                      <a:lnTo>
                        <a:pt x="4" y="564"/>
                      </a:lnTo>
                      <a:lnTo>
                        <a:pt x="0" y="549"/>
                      </a:lnTo>
                      <a:lnTo>
                        <a:pt x="4" y="509"/>
                      </a:lnTo>
                      <a:lnTo>
                        <a:pt x="24" y="390"/>
                      </a:lnTo>
                      <a:lnTo>
                        <a:pt x="48" y="272"/>
                      </a:lnTo>
                      <a:lnTo>
                        <a:pt x="61" y="217"/>
                      </a:lnTo>
                      <a:lnTo>
                        <a:pt x="29" y="86"/>
                      </a:lnTo>
                      <a:lnTo>
                        <a:pt x="56" y="68"/>
                      </a:lnTo>
                      <a:lnTo>
                        <a:pt x="56" y="68"/>
                      </a:lnTo>
                      <a:close/>
                    </a:path>
                  </a:pathLst>
                </a:custGeom>
                <a:solidFill>
                  <a:srgbClr val="ff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09800" y="3235320"/>
                  <a:ext cx="231840" cy="540360"/>
                </a:xfrm>
                <a:custGeom>
                  <a:avLst/>
                  <a:gdLst/>
                  <a:ahLst/>
                  <a:rect l="l" t="t" r="r" b="b"/>
                  <a:pathLst>
                    <a:path w="374" h="917">
                      <a:moveTo>
                        <a:pt x="0" y="78"/>
                      </a:moveTo>
                      <a:lnTo>
                        <a:pt x="292" y="0"/>
                      </a:lnTo>
                      <a:lnTo>
                        <a:pt x="374" y="153"/>
                      </a:lnTo>
                      <a:lnTo>
                        <a:pt x="245" y="490"/>
                      </a:lnTo>
                      <a:lnTo>
                        <a:pt x="343" y="715"/>
                      </a:lnTo>
                      <a:lnTo>
                        <a:pt x="182" y="682"/>
                      </a:lnTo>
                      <a:lnTo>
                        <a:pt x="111" y="917"/>
                      </a:lnTo>
                      <a:lnTo>
                        <a:pt x="45" y="730"/>
                      </a:lnTo>
                      <a:lnTo>
                        <a:pt x="12" y="554"/>
                      </a:lnTo>
                      <a:lnTo>
                        <a:pt x="71" y="362"/>
                      </a:lnTo>
                      <a:lnTo>
                        <a:pt x="27" y="217"/>
                      </a:lnTo>
                      <a:lnTo>
                        <a:pt x="98" y="153"/>
                      </a:lnTo>
                      <a:lnTo>
                        <a:pt x="182" y="174"/>
                      </a:lnTo>
                      <a:lnTo>
                        <a:pt x="150" y="242"/>
                      </a:lnTo>
                      <a:lnTo>
                        <a:pt x="209" y="277"/>
                      </a:lnTo>
                      <a:lnTo>
                        <a:pt x="91" y="490"/>
                      </a:lnTo>
                      <a:lnTo>
                        <a:pt x="150" y="480"/>
                      </a:lnTo>
                      <a:lnTo>
                        <a:pt x="91" y="640"/>
                      </a:lnTo>
                      <a:lnTo>
                        <a:pt x="169" y="559"/>
                      </a:lnTo>
                      <a:lnTo>
                        <a:pt x="205" y="395"/>
                      </a:lnTo>
                      <a:lnTo>
                        <a:pt x="205" y="345"/>
                      </a:lnTo>
                      <a:lnTo>
                        <a:pt x="268" y="224"/>
                      </a:lnTo>
                      <a:lnTo>
                        <a:pt x="225" y="213"/>
                      </a:lnTo>
                      <a:lnTo>
                        <a:pt x="240" y="121"/>
                      </a:lnTo>
                      <a:lnTo>
                        <a:pt x="142" y="106"/>
                      </a:lnTo>
                      <a:lnTo>
                        <a:pt x="157" y="71"/>
                      </a:lnTo>
                      <a:lnTo>
                        <a:pt x="20" y="139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85480" y="3443760"/>
                  <a:ext cx="391680" cy="288000"/>
                </a:xfrm>
                <a:custGeom>
                  <a:avLst/>
                  <a:gdLst/>
                  <a:ahLst/>
                  <a:rect l="l" t="t" r="r" b="b"/>
                  <a:pathLst>
                    <a:path w="628" h="488">
                      <a:moveTo>
                        <a:pt x="0" y="97"/>
                      </a:moveTo>
                      <a:lnTo>
                        <a:pt x="48" y="28"/>
                      </a:lnTo>
                      <a:lnTo>
                        <a:pt x="106" y="0"/>
                      </a:lnTo>
                      <a:lnTo>
                        <a:pt x="114" y="68"/>
                      </a:lnTo>
                      <a:lnTo>
                        <a:pt x="276" y="207"/>
                      </a:lnTo>
                      <a:lnTo>
                        <a:pt x="517" y="332"/>
                      </a:lnTo>
                      <a:lnTo>
                        <a:pt x="628" y="242"/>
                      </a:lnTo>
                      <a:lnTo>
                        <a:pt x="565" y="488"/>
                      </a:lnTo>
                      <a:lnTo>
                        <a:pt x="79" y="164"/>
                      </a:lnTo>
                      <a:lnTo>
                        <a:pt x="16" y="153"/>
                      </a:lnTo>
                      <a:lnTo>
                        <a:pt x="0" y="9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78280" y="3369600"/>
                  <a:ext cx="444240" cy="217440"/>
                </a:xfrm>
                <a:custGeom>
                  <a:avLst/>
                  <a:gdLst/>
                  <a:ahLst/>
                  <a:rect l="l" t="t" r="r" b="b"/>
                  <a:pathLst>
                    <a:path w="713" h="370">
                      <a:moveTo>
                        <a:pt x="26" y="28"/>
                      </a:moveTo>
                      <a:lnTo>
                        <a:pt x="0" y="72"/>
                      </a:lnTo>
                      <a:lnTo>
                        <a:pt x="113" y="86"/>
                      </a:lnTo>
                      <a:lnTo>
                        <a:pt x="607" y="317"/>
                      </a:lnTo>
                      <a:lnTo>
                        <a:pt x="642" y="370"/>
                      </a:lnTo>
                      <a:lnTo>
                        <a:pt x="713" y="310"/>
                      </a:lnTo>
                      <a:lnTo>
                        <a:pt x="74" y="0"/>
                      </a:lnTo>
                      <a:lnTo>
                        <a:pt x="26" y="28"/>
                      </a:lnTo>
                      <a:lnTo>
                        <a:pt x="26" y="28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37280" y="3492000"/>
                  <a:ext cx="1113480" cy="375840"/>
                </a:xfrm>
                <a:custGeom>
                  <a:avLst/>
                  <a:gdLst/>
                  <a:ahLst/>
                  <a:rect l="l" t="t" r="r" b="b"/>
                  <a:pathLst>
                    <a:path w="1784" h="640">
                      <a:moveTo>
                        <a:pt x="8" y="366"/>
                      </a:moveTo>
                      <a:lnTo>
                        <a:pt x="71" y="466"/>
                      </a:lnTo>
                      <a:lnTo>
                        <a:pt x="178" y="504"/>
                      </a:lnTo>
                      <a:lnTo>
                        <a:pt x="182" y="363"/>
                      </a:lnTo>
                      <a:lnTo>
                        <a:pt x="253" y="202"/>
                      </a:lnTo>
                      <a:lnTo>
                        <a:pt x="159" y="245"/>
                      </a:lnTo>
                      <a:lnTo>
                        <a:pt x="122" y="269"/>
                      </a:lnTo>
                      <a:lnTo>
                        <a:pt x="111" y="224"/>
                      </a:lnTo>
                      <a:lnTo>
                        <a:pt x="115" y="131"/>
                      </a:lnTo>
                      <a:lnTo>
                        <a:pt x="404" y="0"/>
                      </a:lnTo>
                      <a:lnTo>
                        <a:pt x="398" y="165"/>
                      </a:lnTo>
                      <a:lnTo>
                        <a:pt x="345" y="201"/>
                      </a:lnTo>
                      <a:lnTo>
                        <a:pt x="308" y="384"/>
                      </a:lnTo>
                      <a:lnTo>
                        <a:pt x="380" y="519"/>
                      </a:lnTo>
                      <a:lnTo>
                        <a:pt x="1489" y="217"/>
                      </a:lnTo>
                      <a:lnTo>
                        <a:pt x="1407" y="71"/>
                      </a:lnTo>
                      <a:lnTo>
                        <a:pt x="1784" y="213"/>
                      </a:lnTo>
                      <a:lnTo>
                        <a:pt x="1721" y="253"/>
                      </a:lnTo>
                      <a:lnTo>
                        <a:pt x="392" y="640"/>
                      </a:lnTo>
                      <a:lnTo>
                        <a:pt x="275" y="615"/>
                      </a:lnTo>
                      <a:lnTo>
                        <a:pt x="36" y="526"/>
                      </a:lnTo>
                      <a:lnTo>
                        <a:pt x="0" y="427"/>
                      </a:lnTo>
                      <a:lnTo>
                        <a:pt x="8" y="366"/>
                      </a:lnTo>
                      <a:lnTo>
                        <a:pt x="8" y="366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156680" y="3329280"/>
                  <a:ext cx="658800" cy="245520"/>
                </a:xfrm>
                <a:custGeom>
                  <a:avLst/>
                  <a:gdLst/>
                  <a:ahLst/>
                  <a:rect l="l" t="t" r="r" b="b"/>
                  <a:pathLst>
                    <a:path w="1059" h="416">
                      <a:moveTo>
                        <a:pt x="79" y="149"/>
                      </a:moveTo>
                      <a:lnTo>
                        <a:pt x="501" y="0"/>
                      </a:lnTo>
                      <a:lnTo>
                        <a:pt x="1059" y="121"/>
                      </a:lnTo>
                      <a:lnTo>
                        <a:pt x="955" y="181"/>
                      </a:lnTo>
                      <a:lnTo>
                        <a:pt x="11" y="416"/>
                      </a:lnTo>
                      <a:lnTo>
                        <a:pt x="0" y="309"/>
                      </a:lnTo>
                      <a:lnTo>
                        <a:pt x="79" y="149"/>
                      </a:lnTo>
                      <a:lnTo>
                        <a:pt x="79" y="149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6000" y="3258360"/>
                  <a:ext cx="683640" cy="322920"/>
                </a:xfrm>
                <a:custGeom>
                  <a:avLst/>
                  <a:gdLst/>
                  <a:ahLst/>
                  <a:rect l="l" t="t" r="r" b="b"/>
                  <a:pathLst>
                    <a:path w="1096" h="548">
                      <a:moveTo>
                        <a:pt x="0" y="33"/>
                      </a:moveTo>
                      <a:lnTo>
                        <a:pt x="19" y="0"/>
                      </a:lnTo>
                      <a:lnTo>
                        <a:pt x="1096" y="469"/>
                      </a:lnTo>
                      <a:lnTo>
                        <a:pt x="1072" y="548"/>
                      </a:lnTo>
                      <a:lnTo>
                        <a:pt x="0" y="3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40840" y="3051720"/>
                  <a:ext cx="1374840" cy="395640"/>
                </a:xfrm>
                <a:custGeom>
                  <a:avLst/>
                  <a:gdLst/>
                  <a:ahLst/>
                  <a:rect l="l" t="t" r="r" b="b"/>
                  <a:pathLst>
                    <a:path w="2207" h="672">
                      <a:moveTo>
                        <a:pt x="7" y="199"/>
                      </a:moveTo>
                      <a:lnTo>
                        <a:pt x="964" y="509"/>
                      </a:lnTo>
                      <a:lnTo>
                        <a:pt x="924" y="672"/>
                      </a:lnTo>
                      <a:lnTo>
                        <a:pt x="1133" y="608"/>
                      </a:lnTo>
                      <a:lnTo>
                        <a:pt x="1252" y="565"/>
                      </a:lnTo>
                      <a:lnTo>
                        <a:pt x="1220" y="419"/>
                      </a:lnTo>
                      <a:lnTo>
                        <a:pt x="1524" y="313"/>
                      </a:lnTo>
                      <a:lnTo>
                        <a:pt x="1583" y="416"/>
                      </a:lnTo>
                      <a:lnTo>
                        <a:pt x="1548" y="594"/>
                      </a:lnTo>
                      <a:lnTo>
                        <a:pt x="1974" y="408"/>
                      </a:lnTo>
                      <a:lnTo>
                        <a:pt x="2093" y="416"/>
                      </a:lnTo>
                      <a:lnTo>
                        <a:pt x="2207" y="220"/>
                      </a:lnTo>
                      <a:lnTo>
                        <a:pt x="2195" y="75"/>
                      </a:lnTo>
                      <a:lnTo>
                        <a:pt x="2045" y="0"/>
                      </a:lnTo>
                      <a:lnTo>
                        <a:pt x="944" y="309"/>
                      </a:lnTo>
                      <a:lnTo>
                        <a:pt x="861" y="348"/>
                      </a:lnTo>
                      <a:lnTo>
                        <a:pt x="0" y="82"/>
                      </a:lnTo>
                      <a:lnTo>
                        <a:pt x="7" y="199"/>
                      </a:lnTo>
                      <a:lnTo>
                        <a:pt x="7" y="199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3000" y="2896200"/>
                  <a:ext cx="1470600" cy="529920"/>
                </a:xfrm>
                <a:custGeom>
                  <a:avLst/>
                  <a:gdLst/>
                  <a:ahLst/>
                  <a:rect l="l" t="t" r="r" b="b"/>
                  <a:pathLst>
                    <a:path w="2357" h="901">
                      <a:moveTo>
                        <a:pt x="0" y="225"/>
                      </a:moveTo>
                      <a:lnTo>
                        <a:pt x="1176" y="0"/>
                      </a:lnTo>
                      <a:lnTo>
                        <a:pt x="1804" y="121"/>
                      </a:lnTo>
                      <a:lnTo>
                        <a:pt x="782" y="342"/>
                      </a:lnTo>
                      <a:lnTo>
                        <a:pt x="1019" y="417"/>
                      </a:lnTo>
                      <a:lnTo>
                        <a:pt x="2052" y="189"/>
                      </a:lnTo>
                      <a:lnTo>
                        <a:pt x="2157" y="151"/>
                      </a:lnTo>
                      <a:lnTo>
                        <a:pt x="2294" y="218"/>
                      </a:lnTo>
                      <a:lnTo>
                        <a:pt x="2353" y="299"/>
                      </a:lnTo>
                      <a:lnTo>
                        <a:pt x="2357" y="527"/>
                      </a:lnTo>
                      <a:lnTo>
                        <a:pt x="2231" y="680"/>
                      </a:lnTo>
                      <a:lnTo>
                        <a:pt x="2112" y="688"/>
                      </a:lnTo>
                      <a:lnTo>
                        <a:pt x="2092" y="734"/>
                      </a:lnTo>
                      <a:lnTo>
                        <a:pt x="1986" y="780"/>
                      </a:lnTo>
                      <a:lnTo>
                        <a:pt x="1855" y="816"/>
                      </a:lnTo>
                      <a:lnTo>
                        <a:pt x="1673" y="901"/>
                      </a:lnTo>
                      <a:lnTo>
                        <a:pt x="1686" y="858"/>
                      </a:lnTo>
                      <a:lnTo>
                        <a:pt x="1744" y="730"/>
                      </a:lnTo>
                      <a:lnTo>
                        <a:pt x="2179" y="573"/>
                      </a:lnTo>
                      <a:lnTo>
                        <a:pt x="2262" y="481"/>
                      </a:lnTo>
                      <a:lnTo>
                        <a:pt x="2239" y="317"/>
                      </a:lnTo>
                      <a:lnTo>
                        <a:pt x="2179" y="287"/>
                      </a:lnTo>
                      <a:lnTo>
                        <a:pt x="1085" y="560"/>
                      </a:lnTo>
                      <a:lnTo>
                        <a:pt x="0" y="225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924840" y="3482640"/>
                  <a:ext cx="756000" cy="326520"/>
                </a:xfrm>
                <a:custGeom>
                  <a:avLst/>
                  <a:gdLst/>
                  <a:ahLst/>
                  <a:rect l="l" t="t" r="r" b="b"/>
                  <a:pathLst>
                    <a:path w="1212" h="555">
                      <a:moveTo>
                        <a:pt x="402" y="168"/>
                      </a:moveTo>
                      <a:lnTo>
                        <a:pt x="1121" y="0"/>
                      </a:lnTo>
                      <a:lnTo>
                        <a:pt x="1113" y="98"/>
                      </a:lnTo>
                      <a:lnTo>
                        <a:pt x="1124" y="178"/>
                      </a:lnTo>
                      <a:lnTo>
                        <a:pt x="1212" y="235"/>
                      </a:lnTo>
                      <a:lnTo>
                        <a:pt x="91" y="555"/>
                      </a:lnTo>
                      <a:lnTo>
                        <a:pt x="31" y="527"/>
                      </a:lnTo>
                      <a:lnTo>
                        <a:pt x="0" y="434"/>
                      </a:lnTo>
                      <a:lnTo>
                        <a:pt x="43" y="246"/>
                      </a:lnTo>
                      <a:lnTo>
                        <a:pt x="86" y="225"/>
                      </a:lnTo>
                      <a:lnTo>
                        <a:pt x="193" y="417"/>
                      </a:lnTo>
                      <a:lnTo>
                        <a:pt x="249" y="461"/>
                      </a:lnTo>
                      <a:lnTo>
                        <a:pt x="256" y="292"/>
                      </a:lnTo>
                      <a:lnTo>
                        <a:pt x="323" y="235"/>
                      </a:lnTo>
                      <a:lnTo>
                        <a:pt x="456" y="275"/>
                      </a:lnTo>
                      <a:lnTo>
                        <a:pt x="402" y="168"/>
                      </a:lnTo>
                      <a:lnTo>
                        <a:pt x="402" y="168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97400" y="3376800"/>
                  <a:ext cx="229680" cy="109080"/>
                </a:xfrm>
                <a:custGeom>
                  <a:avLst/>
                  <a:gdLst/>
                  <a:ahLst/>
                  <a:rect l="l" t="t" r="r" b="b"/>
                  <a:pathLst>
                    <a:path w="369" h="187">
                      <a:moveTo>
                        <a:pt x="0" y="162"/>
                      </a:moveTo>
                      <a:lnTo>
                        <a:pt x="245" y="141"/>
                      </a:lnTo>
                      <a:lnTo>
                        <a:pt x="232" y="187"/>
                      </a:lnTo>
                      <a:lnTo>
                        <a:pt x="343" y="149"/>
                      </a:lnTo>
                      <a:lnTo>
                        <a:pt x="369" y="0"/>
                      </a:lnTo>
                      <a:lnTo>
                        <a:pt x="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6320" y="2887560"/>
                  <a:ext cx="1512360" cy="452160"/>
                </a:xfrm>
                <a:custGeom>
                  <a:avLst/>
                  <a:gdLst/>
                  <a:ahLst/>
                  <a:rect l="l" t="t" r="r" b="b"/>
                  <a:pathLst>
                    <a:path w="2425" h="769">
                      <a:moveTo>
                        <a:pt x="20" y="199"/>
                      </a:moveTo>
                      <a:lnTo>
                        <a:pt x="0" y="272"/>
                      </a:lnTo>
                      <a:lnTo>
                        <a:pt x="215" y="369"/>
                      </a:lnTo>
                      <a:lnTo>
                        <a:pt x="241" y="459"/>
                      </a:lnTo>
                      <a:lnTo>
                        <a:pt x="247" y="538"/>
                      </a:lnTo>
                      <a:lnTo>
                        <a:pt x="220" y="629"/>
                      </a:lnTo>
                      <a:lnTo>
                        <a:pt x="288" y="550"/>
                      </a:lnTo>
                      <a:lnTo>
                        <a:pt x="322" y="459"/>
                      </a:lnTo>
                      <a:lnTo>
                        <a:pt x="315" y="393"/>
                      </a:lnTo>
                      <a:lnTo>
                        <a:pt x="1135" y="653"/>
                      </a:lnTo>
                      <a:lnTo>
                        <a:pt x="2303" y="302"/>
                      </a:lnTo>
                      <a:lnTo>
                        <a:pt x="2337" y="393"/>
                      </a:lnTo>
                      <a:lnTo>
                        <a:pt x="2337" y="496"/>
                      </a:lnTo>
                      <a:lnTo>
                        <a:pt x="2257" y="586"/>
                      </a:lnTo>
                      <a:lnTo>
                        <a:pt x="1873" y="729"/>
                      </a:lnTo>
                      <a:lnTo>
                        <a:pt x="1853" y="769"/>
                      </a:lnTo>
                      <a:lnTo>
                        <a:pt x="2298" y="617"/>
                      </a:lnTo>
                      <a:lnTo>
                        <a:pt x="2385" y="562"/>
                      </a:lnTo>
                      <a:lnTo>
                        <a:pt x="2425" y="472"/>
                      </a:lnTo>
                      <a:lnTo>
                        <a:pt x="2412" y="350"/>
                      </a:lnTo>
                      <a:lnTo>
                        <a:pt x="2351" y="284"/>
                      </a:lnTo>
                      <a:lnTo>
                        <a:pt x="2291" y="260"/>
                      </a:lnTo>
                      <a:lnTo>
                        <a:pt x="2130" y="326"/>
                      </a:lnTo>
                      <a:lnTo>
                        <a:pt x="1162" y="532"/>
                      </a:lnTo>
                      <a:lnTo>
                        <a:pt x="223" y="270"/>
                      </a:lnTo>
                      <a:lnTo>
                        <a:pt x="1108" y="575"/>
                      </a:lnTo>
                      <a:lnTo>
                        <a:pt x="1108" y="605"/>
                      </a:lnTo>
                      <a:lnTo>
                        <a:pt x="40" y="254"/>
                      </a:lnTo>
                      <a:lnTo>
                        <a:pt x="73" y="223"/>
                      </a:lnTo>
                      <a:lnTo>
                        <a:pt x="1262" y="30"/>
                      </a:lnTo>
                      <a:lnTo>
                        <a:pt x="1844" y="127"/>
                      </a:lnTo>
                      <a:lnTo>
                        <a:pt x="1229" y="0"/>
                      </a:lnTo>
                      <a:lnTo>
                        <a:pt x="20" y="199"/>
                      </a:lnTo>
                      <a:lnTo>
                        <a:pt x="20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0640" y="3189240"/>
                  <a:ext cx="933840" cy="400680"/>
                </a:xfrm>
                <a:custGeom>
                  <a:avLst/>
                  <a:gdLst/>
                  <a:ahLst/>
                  <a:rect l="l" t="t" r="r" b="b"/>
                  <a:pathLst>
                    <a:path w="1497" h="682">
                      <a:moveTo>
                        <a:pt x="253" y="0"/>
                      </a:moveTo>
                      <a:lnTo>
                        <a:pt x="22" y="74"/>
                      </a:lnTo>
                      <a:lnTo>
                        <a:pt x="0" y="150"/>
                      </a:lnTo>
                      <a:lnTo>
                        <a:pt x="1138" y="682"/>
                      </a:lnTo>
                      <a:lnTo>
                        <a:pt x="1453" y="540"/>
                      </a:lnTo>
                      <a:lnTo>
                        <a:pt x="1497" y="445"/>
                      </a:lnTo>
                      <a:lnTo>
                        <a:pt x="1147" y="567"/>
                      </a:lnTo>
                      <a:lnTo>
                        <a:pt x="355" y="240"/>
                      </a:lnTo>
                      <a:lnTo>
                        <a:pt x="1107" y="590"/>
                      </a:lnTo>
                      <a:lnTo>
                        <a:pt x="1124" y="642"/>
                      </a:lnTo>
                      <a:lnTo>
                        <a:pt x="70" y="150"/>
                      </a:lnTo>
                      <a:lnTo>
                        <a:pt x="61" y="106"/>
                      </a:lnTo>
                      <a:lnTo>
                        <a:pt x="250" y="39"/>
                      </a:lnTo>
                      <a:lnTo>
                        <a:pt x="253" y="0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45880" y="3235320"/>
                  <a:ext cx="781200" cy="245520"/>
                </a:xfrm>
                <a:custGeom>
                  <a:avLst/>
                  <a:gdLst/>
                  <a:ahLst/>
                  <a:rect l="l" t="t" r="r" b="b"/>
                  <a:pathLst>
                    <a:path w="1251" h="416">
                      <a:moveTo>
                        <a:pt x="0" y="59"/>
                      </a:moveTo>
                      <a:lnTo>
                        <a:pt x="855" y="416"/>
                      </a:lnTo>
                      <a:lnTo>
                        <a:pt x="1251" y="269"/>
                      </a:lnTo>
                      <a:lnTo>
                        <a:pt x="1251" y="239"/>
                      </a:lnTo>
                      <a:lnTo>
                        <a:pt x="948" y="343"/>
                      </a:lnTo>
                      <a:lnTo>
                        <a:pt x="991" y="256"/>
                      </a:lnTo>
                      <a:lnTo>
                        <a:pt x="1144" y="201"/>
                      </a:lnTo>
                      <a:lnTo>
                        <a:pt x="978" y="218"/>
                      </a:lnTo>
                      <a:lnTo>
                        <a:pt x="969" y="122"/>
                      </a:lnTo>
                      <a:lnTo>
                        <a:pt x="913" y="16"/>
                      </a:lnTo>
                      <a:lnTo>
                        <a:pt x="873" y="40"/>
                      </a:lnTo>
                      <a:lnTo>
                        <a:pt x="921" y="122"/>
                      </a:lnTo>
                      <a:lnTo>
                        <a:pt x="522" y="0"/>
                      </a:lnTo>
                      <a:lnTo>
                        <a:pt x="921" y="178"/>
                      </a:lnTo>
                      <a:lnTo>
                        <a:pt x="933" y="231"/>
                      </a:lnTo>
                      <a:lnTo>
                        <a:pt x="901" y="297"/>
                      </a:lnTo>
                      <a:lnTo>
                        <a:pt x="282" y="79"/>
                      </a:lnTo>
                      <a:lnTo>
                        <a:pt x="898" y="332"/>
                      </a:lnTo>
                      <a:lnTo>
                        <a:pt x="855" y="384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97120" y="3141720"/>
                  <a:ext cx="546840" cy="611280"/>
                </a:xfrm>
                <a:custGeom>
                  <a:avLst/>
                  <a:gdLst/>
                  <a:ahLst/>
                  <a:rect l="l" t="t" r="r" b="b"/>
                  <a:pathLst>
                    <a:path w="876" h="1038">
                      <a:moveTo>
                        <a:pt x="0" y="269"/>
                      </a:moveTo>
                      <a:lnTo>
                        <a:pt x="324" y="181"/>
                      </a:lnTo>
                      <a:lnTo>
                        <a:pt x="876" y="0"/>
                      </a:lnTo>
                      <a:lnTo>
                        <a:pt x="494" y="174"/>
                      </a:lnTo>
                      <a:lnTo>
                        <a:pt x="560" y="245"/>
                      </a:lnTo>
                      <a:lnTo>
                        <a:pt x="560" y="332"/>
                      </a:lnTo>
                      <a:lnTo>
                        <a:pt x="507" y="477"/>
                      </a:lnTo>
                      <a:lnTo>
                        <a:pt x="437" y="636"/>
                      </a:lnTo>
                      <a:lnTo>
                        <a:pt x="434" y="722"/>
                      </a:lnTo>
                      <a:lnTo>
                        <a:pt x="499" y="852"/>
                      </a:lnTo>
                      <a:lnTo>
                        <a:pt x="402" y="750"/>
                      </a:lnTo>
                      <a:lnTo>
                        <a:pt x="389" y="639"/>
                      </a:lnTo>
                      <a:lnTo>
                        <a:pt x="464" y="454"/>
                      </a:lnTo>
                      <a:lnTo>
                        <a:pt x="521" y="320"/>
                      </a:lnTo>
                      <a:lnTo>
                        <a:pt x="434" y="178"/>
                      </a:lnTo>
                      <a:lnTo>
                        <a:pt x="192" y="261"/>
                      </a:lnTo>
                      <a:lnTo>
                        <a:pt x="214" y="304"/>
                      </a:lnTo>
                      <a:lnTo>
                        <a:pt x="232" y="414"/>
                      </a:lnTo>
                      <a:lnTo>
                        <a:pt x="210" y="540"/>
                      </a:lnTo>
                      <a:lnTo>
                        <a:pt x="175" y="663"/>
                      </a:lnTo>
                      <a:lnTo>
                        <a:pt x="162" y="789"/>
                      </a:lnTo>
                      <a:lnTo>
                        <a:pt x="202" y="912"/>
                      </a:lnTo>
                      <a:lnTo>
                        <a:pt x="292" y="1038"/>
                      </a:lnTo>
                      <a:lnTo>
                        <a:pt x="197" y="986"/>
                      </a:lnTo>
                      <a:lnTo>
                        <a:pt x="132" y="852"/>
                      </a:lnTo>
                      <a:lnTo>
                        <a:pt x="118" y="703"/>
                      </a:lnTo>
                      <a:lnTo>
                        <a:pt x="167" y="509"/>
                      </a:lnTo>
                      <a:lnTo>
                        <a:pt x="184" y="391"/>
                      </a:lnTo>
                      <a:lnTo>
                        <a:pt x="118" y="277"/>
                      </a:lnTo>
                      <a:lnTo>
                        <a:pt x="0" y="269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66680" y="3610080"/>
                  <a:ext cx="142560" cy="142920"/>
                </a:xfrm>
                <a:custGeom>
                  <a:avLst/>
                  <a:gdLst/>
                  <a:ahLst/>
                  <a:rect l="l" t="t" r="r" b="b"/>
                  <a:pathLst>
                    <a:path w="228" h="245">
                      <a:moveTo>
                        <a:pt x="21" y="245"/>
                      </a:moveTo>
                      <a:lnTo>
                        <a:pt x="0" y="115"/>
                      </a:lnTo>
                      <a:lnTo>
                        <a:pt x="58" y="0"/>
                      </a:lnTo>
                      <a:lnTo>
                        <a:pt x="110" y="4"/>
                      </a:lnTo>
                      <a:lnTo>
                        <a:pt x="228" y="59"/>
                      </a:lnTo>
                      <a:lnTo>
                        <a:pt x="88" y="47"/>
                      </a:lnTo>
                      <a:lnTo>
                        <a:pt x="39" y="119"/>
                      </a:lnTo>
                      <a:lnTo>
                        <a:pt x="21" y="245"/>
                      </a:lnTo>
                      <a:lnTo>
                        <a:pt x="21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186920" y="2991960"/>
                  <a:ext cx="449280" cy="451800"/>
                </a:xfrm>
                <a:custGeom>
                  <a:avLst/>
                  <a:gdLst/>
                  <a:ahLst/>
                  <a:rect l="l" t="t" r="r" b="b"/>
                  <a:pathLst>
                    <a:path w="717" h="769">
                      <a:moveTo>
                        <a:pt x="52" y="675"/>
                      </a:moveTo>
                      <a:lnTo>
                        <a:pt x="455" y="509"/>
                      </a:lnTo>
                      <a:lnTo>
                        <a:pt x="549" y="499"/>
                      </a:lnTo>
                      <a:lnTo>
                        <a:pt x="617" y="442"/>
                      </a:lnTo>
                      <a:lnTo>
                        <a:pt x="679" y="304"/>
                      </a:lnTo>
                      <a:lnTo>
                        <a:pt x="652" y="114"/>
                      </a:lnTo>
                      <a:lnTo>
                        <a:pt x="553" y="37"/>
                      </a:lnTo>
                      <a:lnTo>
                        <a:pt x="378" y="88"/>
                      </a:lnTo>
                      <a:lnTo>
                        <a:pt x="522" y="0"/>
                      </a:lnTo>
                      <a:lnTo>
                        <a:pt x="617" y="28"/>
                      </a:lnTo>
                      <a:lnTo>
                        <a:pt x="696" y="107"/>
                      </a:lnTo>
                      <a:lnTo>
                        <a:pt x="717" y="264"/>
                      </a:lnTo>
                      <a:lnTo>
                        <a:pt x="709" y="375"/>
                      </a:lnTo>
                      <a:lnTo>
                        <a:pt x="627" y="514"/>
                      </a:lnTo>
                      <a:lnTo>
                        <a:pt x="574" y="543"/>
                      </a:lnTo>
                      <a:lnTo>
                        <a:pt x="477" y="540"/>
                      </a:lnTo>
                      <a:lnTo>
                        <a:pt x="0" y="769"/>
                      </a:lnTo>
                      <a:lnTo>
                        <a:pt x="52" y="675"/>
                      </a:lnTo>
                      <a:lnTo>
                        <a:pt x="52" y="6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5600" y="3360960"/>
                  <a:ext cx="1607400" cy="526320"/>
                </a:xfrm>
                <a:custGeom>
                  <a:avLst/>
                  <a:gdLst/>
                  <a:ahLst/>
                  <a:rect l="l" t="t" r="r" b="b"/>
                  <a:pathLst>
                    <a:path w="2574" h="895">
                      <a:moveTo>
                        <a:pt x="35" y="0"/>
                      </a:moveTo>
                      <a:lnTo>
                        <a:pt x="0" y="71"/>
                      </a:lnTo>
                      <a:lnTo>
                        <a:pt x="5" y="229"/>
                      </a:lnTo>
                      <a:lnTo>
                        <a:pt x="53" y="319"/>
                      </a:lnTo>
                      <a:lnTo>
                        <a:pt x="132" y="343"/>
                      </a:lnTo>
                      <a:lnTo>
                        <a:pt x="267" y="445"/>
                      </a:lnTo>
                      <a:lnTo>
                        <a:pt x="600" y="651"/>
                      </a:lnTo>
                      <a:lnTo>
                        <a:pt x="674" y="662"/>
                      </a:lnTo>
                      <a:lnTo>
                        <a:pt x="770" y="710"/>
                      </a:lnTo>
                      <a:lnTo>
                        <a:pt x="801" y="765"/>
                      </a:lnTo>
                      <a:lnTo>
                        <a:pt x="1054" y="884"/>
                      </a:lnTo>
                      <a:lnTo>
                        <a:pt x="1161" y="895"/>
                      </a:lnTo>
                      <a:lnTo>
                        <a:pt x="2574" y="497"/>
                      </a:lnTo>
                      <a:lnTo>
                        <a:pt x="2561" y="411"/>
                      </a:lnTo>
                      <a:lnTo>
                        <a:pt x="2185" y="304"/>
                      </a:lnTo>
                      <a:lnTo>
                        <a:pt x="2534" y="442"/>
                      </a:lnTo>
                      <a:lnTo>
                        <a:pt x="1143" y="836"/>
                      </a:lnTo>
                      <a:lnTo>
                        <a:pt x="1054" y="765"/>
                      </a:lnTo>
                      <a:lnTo>
                        <a:pt x="1011" y="662"/>
                      </a:lnTo>
                      <a:lnTo>
                        <a:pt x="1046" y="461"/>
                      </a:lnTo>
                      <a:lnTo>
                        <a:pt x="984" y="560"/>
                      </a:lnTo>
                      <a:lnTo>
                        <a:pt x="972" y="662"/>
                      </a:lnTo>
                      <a:lnTo>
                        <a:pt x="1011" y="792"/>
                      </a:lnTo>
                      <a:lnTo>
                        <a:pt x="1046" y="836"/>
                      </a:lnTo>
                      <a:lnTo>
                        <a:pt x="841" y="745"/>
                      </a:lnTo>
                      <a:lnTo>
                        <a:pt x="801" y="658"/>
                      </a:lnTo>
                      <a:lnTo>
                        <a:pt x="792" y="528"/>
                      </a:lnTo>
                      <a:lnTo>
                        <a:pt x="819" y="438"/>
                      </a:lnTo>
                      <a:lnTo>
                        <a:pt x="770" y="505"/>
                      </a:lnTo>
                      <a:lnTo>
                        <a:pt x="752" y="599"/>
                      </a:lnTo>
                      <a:lnTo>
                        <a:pt x="744" y="655"/>
                      </a:lnTo>
                      <a:lnTo>
                        <a:pt x="670" y="611"/>
                      </a:lnTo>
                      <a:lnTo>
                        <a:pt x="657" y="497"/>
                      </a:lnTo>
                      <a:lnTo>
                        <a:pt x="696" y="363"/>
                      </a:lnTo>
                      <a:lnTo>
                        <a:pt x="649" y="422"/>
                      </a:lnTo>
                      <a:lnTo>
                        <a:pt x="614" y="512"/>
                      </a:lnTo>
                      <a:lnTo>
                        <a:pt x="614" y="607"/>
                      </a:lnTo>
                      <a:lnTo>
                        <a:pt x="145" y="315"/>
                      </a:lnTo>
                      <a:lnTo>
                        <a:pt x="140" y="229"/>
                      </a:lnTo>
                      <a:lnTo>
                        <a:pt x="145" y="158"/>
                      </a:lnTo>
                      <a:lnTo>
                        <a:pt x="105" y="205"/>
                      </a:lnTo>
                      <a:lnTo>
                        <a:pt x="83" y="281"/>
                      </a:lnTo>
                      <a:lnTo>
                        <a:pt x="35" y="201"/>
                      </a:lnTo>
                      <a:lnTo>
                        <a:pt x="35" y="86"/>
                      </a:lnTo>
                      <a:lnTo>
                        <a:pt x="118" y="39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914400" y="3588840"/>
                  <a:ext cx="147600" cy="190440"/>
                </a:xfrm>
                <a:custGeom>
                  <a:avLst/>
                  <a:gdLst/>
                  <a:ahLst/>
                  <a:rect l="l" t="t" r="r" b="b"/>
                  <a:pathLst>
                    <a:path w="237" h="324">
                      <a:moveTo>
                        <a:pt x="115" y="0"/>
                      </a:moveTo>
                      <a:lnTo>
                        <a:pt x="62" y="36"/>
                      </a:lnTo>
                      <a:lnTo>
                        <a:pt x="37" y="99"/>
                      </a:lnTo>
                      <a:lnTo>
                        <a:pt x="0" y="249"/>
                      </a:lnTo>
                      <a:lnTo>
                        <a:pt x="37" y="324"/>
                      </a:lnTo>
                      <a:lnTo>
                        <a:pt x="237" y="265"/>
                      </a:lnTo>
                      <a:lnTo>
                        <a:pt x="189" y="221"/>
                      </a:lnTo>
                      <a:lnTo>
                        <a:pt x="62" y="253"/>
                      </a:lnTo>
                      <a:lnTo>
                        <a:pt x="67" y="131"/>
                      </a:lnTo>
                      <a:lnTo>
                        <a:pt x="124" y="88"/>
                      </a:lnTo>
                      <a:lnTo>
                        <a:pt x="115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77120" y="3668040"/>
                  <a:ext cx="234360" cy="66960"/>
                </a:xfrm>
                <a:custGeom>
                  <a:avLst/>
                  <a:gdLst/>
                  <a:ahLst/>
                  <a:rect l="l" t="t" r="r" b="b"/>
                  <a:pathLst>
                    <a:path w="372" h="114">
                      <a:moveTo>
                        <a:pt x="8" y="70"/>
                      </a:moveTo>
                      <a:lnTo>
                        <a:pt x="372" y="0"/>
                      </a:lnTo>
                      <a:lnTo>
                        <a:pt x="0" y="114"/>
                      </a:lnTo>
                      <a:lnTo>
                        <a:pt x="8" y="70"/>
                      </a:lnTo>
                      <a:lnTo>
                        <a:pt x="8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53000" y="3433320"/>
                  <a:ext cx="1505160" cy="619920"/>
                </a:xfrm>
                <a:custGeom>
                  <a:avLst/>
                  <a:gdLst/>
                  <a:ahLst/>
                  <a:rect l="l" t="t" r="r" b="b"/>
                  <a:pathLst>
                    <a:path w="2412" h="1053">
                      <a:moveTo>
                        <a:pt x="192" y="0"/>
                      </a:moveTo>
                      <a:lnTo>
                        <a:pt x="0" y="26"/>
                      </a:lnTo>
                      <a:lnTo>
                        <a:pt x="6" y="89"/>
                      </a:lnTo>
                      <a:lnTo>
                        <a:pt x="609" y="951"/>
                      </a:lnTo>
                      <a:lnTo>
                        <a:pt x="2219" y="787"/>
                      </a:lnTo>
                      <a:lnTo>
                        <a:pt x="2294" y="818"/>
                      </a:lnTo>
                      <a:lnTo>
                        <a:pt x="2336" y="879"/>
                      </a:lnTo>
                      <a:lnTo>
                        <a:pt x="2285" y="1008"/>
                      </a:lnTo>
                      <a:lnTo>
                        <a:pt x="2017" y="1053"/>
                      </a:lnTo>
                      <a:lnTo>
                        <a:pt x="2296" y="1053"/>
                      </a:lnTo>
                      <a:lnTo>
                        <a:pt x="2412" y="895"/>
                      </a:lnTo>
                      <a:lnTo>
                        <a:pt x="2405" y="766"/>
                      </a:lnTo>
                      <a:lnTo>
                        <a:pt x="2355" y="706"/>
                      </a:lnTo>
                      <a:lnTo>
                        <a:pt x="2075" y="740"/>
                      </a:lnTo>
                      <a:lnTo>
                        <a:pt x="2023" y="760"/>
                      </a:lnTo>
                      <a:lnTo>
                        <a:pt x="1963" y="740"/>
                      </a:lnTo>
                      <a:lnTo>
                        <a:pt x="696" y="874"/>
                      </a:lnTo>
                      <a:lnTo>
                        <a:pt x="303" y="378"/>
                      </a:lnTo>
                      <a:lnTo>
                        <a:pt x="653" y="878"/>
                      </a:lnTo>
                      <a:lnTo>
                        <a:pt x="621" y="920"/>
                      </a:lnTo>
                      <a:lnTo>
                        <a:pt x="24" y="49"/>
                      </a:lnTo>
                      <a:lnTo>
                        <a:pt x="177" y="26"/>
                      </a:lnTo>
                      <a:lnTo>
                        <a:pt x="192" y="0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93320" y="3572640"/>
                  <a:ext cx="269280" cy="535320"/>
                </a:xfrm>
                <a:custGeom>
                  <a:avLst/>
                  <a:gdLst/>
                  <a:ahLst/>
                  <a:rect l="l" t="t" r="r" b="b"/>
                  <a:pathLst>
                    <a:path w="432" h="911">
                      <a:moveTo>
                        <a:pt x="56" y="0"/>
                      </a:moveTo>
                      <a:lnTo>
                        <a:pt x="65" y="67"/>
                      </a:lnTo>
                      <a:lnTo>
                        <a:pt x="52" y="124"/>
                      </a:lnTo>
                      <a:lnTo>
                        <a:pt x="30" y="162"/>
                      </a:lnTo>
                      <a:lnTo>
                        <a:pt x="0" y="182"/>
                      </a:lnTo>
                      <a:lnTo>
                        <a:pt x="113" y="375"/>
                      </a:lnTo>
                      <a:lnTo>
                        <a:pt x="432" y="911"/>
                      </a:lnTo>
                      <a:lnTo>
                        <a:pt x="197" y="429"/>
                      </a:lnTo>
                      <a:lnTo>
                        <a:pt x="52" y="182"/>
                      </a:lnTo>
                      <a:lnTo>
                        <a:pt x="192" y="331"/>
                      </a:lnTo>
                      <a:lnTo>
                        <a:pt x="83" y="134"/>
                      </a:lnTo>
                      <a:lnTo>
                        <a:pt x="113" y="63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10520" y="3618720"/>
                  <a:ext cx="1617840" cy="614880"/>
                </a:xfrm>
                <a:custGeom>
                  <a:avLst/>
                  <a:gdLst/>
                  <a:ahLst/>
                  <a:rect l="l" t="t" r="r" b="b"/>
                  <a:pathLst>
                    <a:path w="2589" h="1043">
                      <a:moveTo>
                        <a:pt x="202" y="0"/>
                      </a:moveTo>
                      <a:lnTo>
                        <a:pt x="95" y="44"/>
                      </a:lnTo>
                      <a:lnTo>
                        <a:pt x="9" y="61"/>
                      </a:lnTo>
                      <a:lnTo>
                        <a:pt x="0" y="112"/>
                      </a:lnTo>
                      <a:lnTo>
                        <a:pt x="351" y="706"/>
                      </a:lnTo>
                      <a:lnTo>
                        <a:pt x="502" y="1043"/>
                      </a:lnTo>
                      <a:lnTo>
                        <a:pt x="1999" y="877"/>
                      </a:lnTo>
                      <a:lnTo>
                        <a:pt x="2055" y="860"/>
                      </a:lnTo>
                      <a:lnTo>
                        <a:pt x="2134" y="884"/>
                      </a:lnTo>
                      <a:lnTo>
                        <a:pt x="2406" y="852"/>
                      </a:lnTo>
                      <a:lnTo>
                        <a:pt x="2527" y="751"/>
                      </a:lnTo>
                      <a:lnTo>
                        <a:pt x="2589" y="502"/>
                      </a:lnTo>
                      <a:lnTo>
                        <a:pt x="2546" y="324"/>
                      </a:lnTo>
                      <a:lnTo>
                        <a:pt x="2356" y="174"/>
                      </a:lnTo>
                      <a:lnTo>
                        <a:pt x="1984" y="258"/>
                      </a:lnTo>
                      <a:lnTo>
                        <a:pt x="2318" y="264"/>
                      </a:lnTo>
                      <a:lnTo>
                        <a:pt x="2461" y="363"/>
                      </a:lnTo>
                      <a:lnTo>
                        <a:pt x="2525" y="449"/>
                      </a:lnTo>
                      <a:lnTo>
                        <a:pt x="2530" y="577"/>
                      </a:lnTo>
                      <a:lnTo>
                        <a:pt x="2476" y="730"/>
                      </a:lnTo>
                      <a:lnTo>
                        <a:pt x="2407" y="799"/>
                      </a:lnTo>
                      <a:lnTo>
                        <a:pt x="2188" y="826"/>
                      </a:lnTo>
                      <a:lnTo>
                        <a:pt x="2090" y="797"/>
                      </a:lnTo>
                      <a:lnTo>
                        <a:pt x="1957" y="857"/>
                      </a:lnTo>
                      <a:lnTo>
                        <a:pt x="544" y="967"/>
                      </a:lnTo>
                      <a:lnTo>
                        <a:pt x="42" y="77"/>
                      </a:lnTo>
                      <a:lnTo>
                        <a:pt x="214" y="29"/>
                      </a:lnTo>
                      <a:lnTo>
                        <a:pt x="202" y="0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73040" y="3920760"/>
                  <a:ext cx="816120" cy="203040"/>
                </a:xfrm>
                <a:custGeom>
                  <a:avLst/>
                  <a:gdLst/>
                  <a:ahLst/>
                  <a:rect l="l" t="t" r="r" b="b"/>
                  <a:pathLst>
                    <a:path w="1309" h="347">
                      <a:moveTo>
                        <a:pt x="0" y="347"/>
                      </a:moveTo>
                      <a:lnTo>
                        <a:pt x="105" y="260"/>
                      </a:lnTo>
                      <a:lnTo>
                        <a:pt x="153" y="181"/>
                      </a:lnTo>
                      <a:lnTo>
                        <a:pt x="140" y="87"/>
                      </a:lnTo>
                      <a:lnTo>
                        <a:pt x="950" y="0"/>
                      </a:lnTo>
                      <a:lnTo>
                        <a:pt x="228" y="111"/>
                      </a:lnTo>
                      <a:lnTo>
                        <a:pt x="196" y="190"/>
                      </a:lnTo>
                      <a:lnTo>
                        <a:pt x="815" y="158"/>
                      </a:lnTo>
                      <a:lnTo>
                        <a:pt x="184" y="241"/>
                      </a:lnTo>
                      <a:lnTo>
                        <a:pt x="149" y="273"/>
                      </a:lnTo>
                      <a:lnTo>
                        <a:pt x="114" y="292"/>
                      </a:lnTo>
                      <a:lnTo>
                        <a:pt x="1309" y="233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3040" y="3723120"/>
                  <a:ext cx="374040" cy="139680"/>
                </a:xfrm>
                <a:custGeom>
                  <a:avLst/>
                  <a:gdLst/>
                  <a:ahLst/>
                  <a:rect l="l" t="t" r="r" b="b"/>
                  <a:pathLst>
                    <a:path w="599" h="236">
                      <a:moveTo>
                        <a:pt x="231" y="0"/>
                      </a:moveTo>
                      <a:lnTo>
                        <a:pt x="0" y="11"/>
                      </a:lnTo>
                      <a:lnTo>
                        <a:pt x="175" y="236"/>
                      </a:lnTo>
                      <a:lnTo>
                        <a:pt x="599" y="207"/>
                      </a:lnTo>
                      <a:lnTo>
                        <a:pt x="553" y="179"/>
                      </a:lnTo>
                      <a:lnTo>
                        <a:pt x="206" y="189"/>
                      </a:lnTo>
                      <a:lnTo>
                        <a:pt x="114" y="51"/>
                      </a:lnTo>
                      <a:lnTo>
                        <a:pt x="284" y="14"/>
                      </a:lnTo>
                      <a:lnTo>
                        <a:pt x="231" y="0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14200" y="3808080"/>
                  <a:ext cx="324360" cy="34920"/>
                </a:xfrm>
                <a:custGeom>
                  <a:avLst/>
                  <a:gdLst/>
                  <a:ahLst/>
                  <a:rect l="l" t="t" r="r" b="b"/>
                  <a:pathLst>
                    <a:path w="519" h="60">
                      <a:moveTo>
                        <a:pt x="0" y="60"/>
                      </a:moveTo>
                      <a:lnTo>
                        <a:pt x="89" y="50"/>
                      </a:lnTo>
                      <a:lnTo>
                        <a:pt x="266" y="30"/>
                      </a:lnTo>
                      <a:lnTo>
                        <a:pt x="441" y="9"/>
                      </a:lnTo>
                      <a:lnTo>
                        <a:pt x="519" y="0"/>
                      </a:lnTo>
                      <a:lnTo>
                        <a:pt x="130" y="13"/>
                      </a:lnTo>
                      <a:lnTo>
                        <a:pt x="0" y="60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52960" y="2964960"/>
                  <a:ext cx="901080" cy="189000"/>
                </a:xfrm>
                <a:custGeom>
                  <a:avLst/>
                  <a:gdLst/>
                  <a:ahLst/>
                  <a:rect l="l" t="t" r="r" b="b"/>
                  <a:pathLst>
                    <a:path w="1442" h="321">
                      <a:moveTo>
                        <a:pt x="1442" y="69"/>
                      </a:moveTo>
                      <a:lnTo>
                        <a:pt x="1206" y="33"/>
                      </a:lnTo>
                      <a:lnTo>
                        <a:pt x="1163" y="3"/>
                      </a:lnTo>
                      <a:lnTo>
                        <a:pt x="1099" y="0"/>
                      </a:lnTo>
                      <a:lnTo>
                        <a:pt x="0" y="219"/>
                      </a:lnTo>
                      <a:lnTo>
                        <a:pt x="356" y="321"/>
                      </a:lnTo>
                      <a:lnTo>
                        <a:pt x="1286" y="109"/>
                      </a:lnTo>
                      <a:lnTo>
                        <a:pt x="342" y="274"/>
                      </a:lnTo>
                      <a:lnTo>
                        <a:pt x="245" y="217"/>
                      </a:lnTo>
                      <a:lnTo>
                        <a:pt x="1106" y="30"/>
                      </a:lnTo>
                      <a:lnTo>
                        <a:pt x="1166" y="45"/>
                      </a:lnTo>
                      <a:lnTo>
                        <a:pt x="1442" y="69"/>
                      </a:lnTo>
                      <a:lnTo>
                        <a:pt x="1442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18960" y="3354120"/>
                  <a:ext cx="466920" cy="160560"/>
                </a:xfrm>
                <a:custGeom>
                  <a:avLst/>
                  <a:gdLst/>
                  <a:ahLst/>
                  <a:rect l="l" t="t" r="r" b="b"/>
                  <a:pathLst>
                    <a:path w="747" h="272">
                      <a:moveTo>
                        <a:pt x="0" y="272"/>
                      </a:moveTo>
                      <a:lnTo>
                        <a:pt x="215" y="84"/>
                      </a:lnTo>
                      <a:lnTo>
                        <a:pt x="524" y="0"/>
                      </a:lnTo>
                      <a:lnTo>
                        <a:pt x="747" y="84"/>
                      </a:lnTo>
                      <a:lnTo>
                        <a:pt x="0" y="272"/>
                      </a:lnTo>
                      <a:lnTo>
                        <a:pt x="0" y="272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992160" y="3316680"/>
                  <a:ext cx="828720" cy="491040"/>
                </a:xfrm>
                <a:custGeom>
                  <a:avLst/>
                  <a:gdLst/>
                  <a:ahLst/>
                  <a:rect l="l" t="t" r="r" b="b"/>
                  <a:pathLst>
                    <a:path w="1329" h="834">
                      <a:moveTo>
                        <a:pt x="742" y="0"/>
                      </a:moveTo>
                      <a:lnTo>
                        <a:pt x="1302" y="134"/>
                      </a:lnTo>
                      <a:lnTo>
                        <a:pt x="1329" y="213"/>
                      </a:lnTo>
                      <a:lnTo>
                        <a:pt x="1057" y="296"/>
                      </a:lnTo>
                      <a:lnTo>
                        <a:pt x="1022" y="359"/>
                      </a:lnTo>
                      <a:lnTo>
                        <a:pt x="1040" y="430"/>
                      </a:lnTo>
                      <a:lnTo>
                        <a:pt x="1079" y="481"/>
                      </a:lnTo>
                      <a:lnTo>
                        <a:pt x="1157" y="520"/>
                      </a:lnTo>
                      <a:lnTo>
                        <a:pt x="0" y="834"/>
                      </a:lnTo>
                      <a:lnTo>
                        <a:pt x="1065" y="509"/>
                      </a:lnTo>
                      <a:lnTo>
                        <a:pt x="995" y="470"/>
                      </a:lnTo>
                      <a:lnTo>
                        <a:pt x="655" y="536"/>
                      </a:lnTo>
                      <a:lnTo>
                        <a:pt x="978" y="426"/>
                      </a:lnTo>
                      <a:lnTo>
                        <a:pt x="982" y="336"/>
                      </a:lnTo>
                      <a:lnTo>
                        <a:pt x="291" y="473"/>
                      </a:lnTo>
                      <a:lnTo>
                        <a:pt x="273" y="407"/>
                      </a:lnTo>
                      <a:lnTo>
                        <a:pt x="1297" y="160"/>
                      </a:lnTo>
                      <a:lnTo>
                        <a:pt x="776" y="48"/>
                      </a:lnTo>
                      <a:lnTo>
                        <a:pt x="375" y="167"/>
                      </a:lnTo>
                      <a:lnTo>
                        <a:pt x="742" y="0"/>
                      </a:lnTo>
                      <a:lnTo>
                        <a:pt x="7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91760" y="3755160"/>
                  <a:ext cx="146880" cy="57960"/>
                </a:xfrm>
                <a:custGeom>
                  <a:avLst/>
                  <a:gdLst/>
                  <a:ahLst/>
                  <a:rect l="l" t="t" r="r" b="b"/>
                  <a:pathLst>
                    <a:path w="234" h="100">
                      <a:moveTo>
                        <a:pt x="155" y="0"/>
                      </a:moveTo>
                      <a:lnTo>
                        <a:pt x="234" y="86"/>
                      </a:lnTo>
                      <a:lnTo>
                        <a:pt x="0" y="100"/>
                      </a:lnTo>
                      <a:lnTo>
                        <a:pt x="133" y="63"/>
                      </a:lnTo>
                      <a:lnTo>
                        <a:pt x="101" y="9"/>
                      </a:lnTo>
                      <a:lnTo>
                        <a:pt x="155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0" name=""/>
          <p:cNvSpPr/>
          <p:nvPr/>
        </p:nvSpPr>
        <p:spPr>
          <a:xfrm>
            <a:off x="4648320" y="1066680"/>
            <a:ext cx="0" cy="441972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1219320"/>
            <a:ext cx="2567160" cy="993600"/>
          </a:xfrm>
          <a:prstGeom prst="cloudCallout">
            <a:avLst>
              <a:gd name="adj1" fmla="val -47092"/>
              <a:gd name="adj2" fmla="val 81310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   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Udokumentow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= leps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Manifest zwinnośc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9480" y="198108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Jednostki i interakcje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niż procesy i narzędz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400" y="1447920"/>
            <a:ext cx="2113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Ważniejs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480" y="2363760"/>
            <a:ext cx="83822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Działające oprogramowanie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niż obszerna dokument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Współpraca klienta</a:t>
            </a: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niż negocjacja kontra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000066"/>
                </a:solidFill>
                <a:latin typeface="Arial Narrow"/>
              </a:rPr>
              <a:t>Nadążanie za zmianami</a:t>
            </a:r>
            <a:r>
              <a:rPr b="1" lang="pl-PL" sz="3200" spc="-1" strike="noStrike">
                <a:solidFill>
                  <a:srgbClr val="0000ff"/>
                </a:solidFill>
                <a:latin typeface="Arial Narrow"/>
              </a:rPr>
              <a:t> niż trzymanie się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tiger-head" descr=""/>
          <p:cNvPicPr/>
          <p:nvPr/>
        </p:nvPicPr>
        <p:blipFill>
          <a:blip r:embed="rId1"/>
          <a:stretch/>
        </p:blipFill>
        <p:spPr>
          <a:xfrm>
            <a:off x="6915240" y="3886200"/>
            <a:ext cx="2228760" cy="297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5942160"/>
            <a:ext cx="8305560" cy="5349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Zupełnie niezgod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1809720" cy="335268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0" y="1295280"/>
            <a:ext cx="9140760" cy="914400"/>
            <a:chOff x="0" y="1295280"/>
            <a:chExt cx="9140760" cy="914400"/>
          </a:xfrm>
        </p:grpSpPr>
        <p:sp>
          <p:nvSpPr>
            <p:cNvPr id="621" name=""/>
            <p:cNvSpPr/>
            <p:nvPr/>
          </p:nvSpPr>
          <p:spPr>
            <a:xfrm>
              <a:off x="0" y="1295280"/>
              <a:ext cx="9140760" cy="914400"/>
            </a:xfrm>
            <a:custGeom>
              <a:avLst/>
              <a:gdLst>
                <a:gd name="textAreaLeft" fmla="*/ 1218600 w 9140760"/>
                <a:gd name="textAreaRight" fmla="*/ 7922160 w 914076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16080" y="1415160"/>
              <a:ext cx="67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Model dojrzałości dla X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981080" y="4419720"/>
            <a:ext cx="6858000" cy="15238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Relacje z klientem (C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Zapewnienie jakości produ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52680" y="3505320"/>
            <a:ext cx="5486400" cy="914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Zaawans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Programowanie pa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48320" y="2590920"/>
            <a:ext cx="4190760" cy="9158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Dojrza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Wydajność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Plan </a:t>
            </a: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ykład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14600" y="281952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Zapewnienie jakoś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Programowanie par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04920" y="2743200"/>
            <a:ext cx="1676160" cy="2286000"/>
            <a:chOff x="304920" y="2743200"/>
            <a:chExt cx="1676160" cy="2286000"/>
          </a:xfrm>
        </p:grpSpPr>
        <p:sp>
          <p:nvSpPr>
            <p:cNvPr id="629" name=""/>
            <p:cNvSpPr/>
            <p:nvPr/>
          </p:nvSpPr>
          <p:spPr>
            <a:xfrm>
              <a:off x="304920" y="2743200"/>
              <a:ext cx="167616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9480" y="32763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9480" y="34290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9480" y="36576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480" y="39621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480" y="426708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757600"/>
            <a:ext cx="53316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125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7040" y="1415160"/>
              <a:ext cx="282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Syndrom LOO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48120" y="2743200"/>
            <a:ext cx="236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ate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(późn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0" y="470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oor quality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(kiepska jakoś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5000" y="3386160"/>
            <a:ext cx="60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ver budget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(przekroczony budż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033800"/>
            <a:ext cx="49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vertime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(nadgodzi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280" y="3048120"/>
            <a:ext cx="2362320" cy="3581280"/>
            <a:chOff x="152280" y="3048120"/>
            <a:chExt cx="2362320" cy="3581280"/>
          </a:xfrm>
        </p:grpSpPr>
        <p:sp>
          <p:nvSpPr>
            <p:cNvPr id="132" name=""/>
            <p:cNvSpPr/>
            <p:nvPr/>
          </p:nvSpPr>
          <p:spPr>
            <a:xfrm>
              <a:off x="152280" y="3048120"/>
              <a:ext cx="609840" cy="358128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280" y="3048120"/>
              <a:ext cx="1981440" cy="45720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9880"/>
              <a:ext cx="121932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879560" y="3505320"/>
              <a:ext cx="203400" cy="546120"/>
            </a:xfrm>
            <a:custGeom>
              <a:avLst/>
              <a:gdLst/>
              <a:ahLst/>
              <a:rect l="l" t="t" r="r" b="b"/>
              <a:pathLst>
                <a:path w="128" h="344">
                  <a:moveTo>
                    <a:pt x="64" y="8"/>
                  </a:moveTo>
                  <a:cubicBezTo>
                    <a:pt x="48" y="16"/>
                    <a:pt x="24" y="112"/>
                    <a:pt x="16" y="152"/>
                  </a:cubicBezTo>
                  <a:cubicBezTo>
                    <a:pt x="8" y="192"/>
                    <a:pt x="16" y="216"/>
                    <a:pt x="16" y="248"/>
                  </a:cubicBezTo>
                  <a:cubicBezTo>
                    <a:pt x="16" y="280"/>
                    <a:pt x="0" y="344"/>
                    <a:pt x="16" y="344"/>
                  </a:cubicBezTo>
                  <a:cubicBezTo>
                    <a:pt x="32" y="344"/>
                    <a:pt x="96" y="288"/>
                    <a:pt x="112" y="248"/>
                  </a:cubicBezTo>
                  <a:cubicBezTo>
                    <a:pt x="128" y="208"/>
                    <a:pt x="112" y="144"/>
                    <a:pt x="112" y="104"/>
                  </a:cubicBezTo>
                  <a:cubicBezTo>
                    <a:pt x="112" y="64"/>
                    <a:pt x="80" y="0"/>
                    <a:pt x="64" y="8"/>
                  </a:cubicBezTo>
                  <a:close/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4760" y="2368440"/>
            <a:ext cx="1051200" cy="519480"/>
          </a:xfrm>
          <a:prstGeom prst="wedgeRectCallout">
            <a:avLst>
              <a:gd name="adj1" fmla="val 86046"/>
              <a:gd name="adj2" fmla="val 198402"/>
            </a:avLst>
          </a:prstGeom>
          <a:solidFill>
            <a:srgbClr val="ffffff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ole w X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71480" y="1387440"/>
            <a:ext cx="1091880" cy="1518840"/>
            <a:chOff x="771480" y="1387440"/>
            <a:chExt cx="1091880" cy="1518840"/>
          </a:xfrm>
        </p:grpSpPr>
        <p:sp>
          <p:nvSpPr>
            <p:cNvPr id="637" name=""/>
            <p:cNvSpPr/>
            <p:nvPr/>
          </p:nvSpPr>
          <p:spPr>
            <a:xfrm>
              <a:off x="1151640" y="1387440"/>
              <a:ext cx="244080" cy="381600"/>
            </a:xfrm>
            <a:custGeom>
              <a:avLst/>
              <a:gdLst/>
              <a:ahLst/>
              <a:rect l="l" t="t" r="r" b="b"/>
              <a:pathLst>
                <a:path w="537" h="654">
                  <a:moveTo>
                    <a:pt x="138" y="302"/>
                  </a:moveTo>
                  <a:lnTo>
                    <a:pt x="179" y="171"/>
                  </a:lnTo>
                  <a:lnTo>
                    <a:pt x="248" y="66"/>
                  </a:lnTo>
                  <a:lnTo>
                    <a:pt x="317" y="13"/>
                  </a:lnTo>
                  <a:lnTo>
                    <a:pt x="399" y="0"/>
                  </a:lnTo>
                  <a:lnTo>
                    <a:pt x="455" y="13"/>
                  </a:lnTo>
                  <a:lnTo>
                    <a:pt x="524" y="53"/>
                  </a:lnTo>
                  <a:lnTo>
                    <a:pt x="537" y="144"/>
                  </a:lnTo>
                  <a:lnTo>
                    <a:pt x="537" y="275"/>
                  </a:lnTo>
                  <a:lnTo>
                    <a:pt x="482" y="418"/>
                  </a:lnTo>
                  <a:lnTo>
                    <a:pt x="399" y="511"/>
                  </a:lnTo>
                  <a:lnTo>
                    <a:pt x="359" y="563"/>
                  </a:lnTo>
                  <a:lnTo>
                    <a:pt x="290" y="602"/>
                  </a:lnTo>
                  <a:lnTo>
                    <a:pt x="234" y="589"/>
                  </a:lnTo>
                  <a:lnTo>
                    <a:pt x="193" y="576"/>
                  </a:lnTo>
                  <a:lnTo>
                    <a:pt x="151" y="536"/>
                  </a:lnTo>
                  <a:lnTo>
                    <a:pt x="27" y="654"/>
                  </a:lnTo>
                  <a:lnTo>
                    <a:pt x="0" y="576"/>
                  </a:lnTo>
                  <a:lnTo>
                    <a:pt x="124" y="458"/>
                  </a:lnTo>
                  <a:lnTo>
                    <a:pt x="138" y="30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15000" y="1776240"/>
              <a:ext cx="155880" cy="511560"/>
            </a:xfrm>
            <a:custGeom>
              <a:avLst/>
              <a:gdLst/>
              <a:ahLst/>
              <a:rect l="l" t="t" r="r" b="b"/>
              <a:pathLst>
                <a:path w="345" h="876">
                  <a:moveTo>
                    <a:pt x="111" y="26"/>
                  </a:moveTo>
                  <a:lnTo>
                    <a:pt x="180" y="0"/>
                  </a:lnTo>
                  <a:lnTo>
                    <a:pt x="262" y="26"/>
                  </a:lnTo>
                  <a:lnTo>
                    <a:pt x="318" y="118"/>
                  </a:lnTo>
                  <a:lnTo>
                    <a:pt x="345" y="262"/>
                  </a:lnTo>
                  <a:lnTo>
                    <a:pt x="345" y="483"/>
                  </a:lnTo>
                  <a:lnTo>
                    <a:pt x="303" y="654"/>
                  </a:lnTo>
                  <a:lnTo>
                    <a:pt x="262" y="785"/>
                  </a:lnTo>
                  <a:lnTo>
                    <a:pt x="151" y="876"/>
                  </a:lnTo>
                  <a:lnTo>
                    <a:pt x="55" y="863"/>
                  </a:lnTo>
                  <a:lnTo>
                    <a:pt x="0" y="745"/>
                  </a:lnTo>
                  <a:lnTo>
                    <a:pt x="42" y="614"/>
                  </a:lnTo>
                  <a:lnTo>
                    <a:pt x="82" y="496"/>
                  </a:lnTo>
                  <a:lnTo>
                    <a:pt x="96" y="380"/>
                  </a:lnTo>
                  <a:lnTo>
                    <a:pt x="82" y="222"/>
                  </a:lnTo>
                  <a:lnTo>
                    <a:pt x="82" y="78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480" y="1783440"/>
              <a:ext cx="505080" cy="390600"/>
            </a:xfrm>
            <a:custGeom>
              <a:avLst/>
              <a:gdLst/>
              <a:ahLst/>
              <a:rect l="l" t="t" r="r" b="b"/>
              <a:pathLst>
                <a:path w="1117" h="667">
                  <a:moveTo>
                    <a:pt x="910" y="104"/>
                  </a:moveTo>
                  <a:lnTo>
                    <a:pt x="992" y="26"/>
                  </a:lnTo>
                  <a:lnTo>
                    <a:pt x="1061" y="0"/>
                  </a:lnTo>
                  <a:lnTo>
                    <a:pt x="1103" y="13"/>
                  </a:lnTo>
                  <a:lnTo>
                    <a:pt x="1117" y="64"/>
                  </a:lnTo>
                  <a:lnTo>
                    <a:pt x="1103" y="117"/>
                  </a:lnTo>
                  <a:lnTo>
                    <a:pt x="1075" y="130"/>
                  </a:lnTo>
                  <a:lnTo>
                    <a:pt x="938" y="209"/>
                  </a:lnTo>
                  <a:lnTo>
                    <a:pt x="800" y="300"/>
                  </a:lnTo>
                  <a:lnTo>
                    <a:pt x="689" y="365"/>
                  </a:lnTo>
                  <a:lnTo>
                    <a:pt x="551" y="418"/>
                  </a:lnTo>
                  <a:lnTo>
                    <a:pt x="386" y="470"/>
                  </a:lnTo>
                  <a:lnTo>
                    <a:pt x="359" y="496"/>
                  </a:lnTo>
                  <a:lnTo>
                    <a:pt x="399" y="640"/>
                  </a:lnTo>
                  <a:lnTo>
                    <a:pt x="372" y="640"/>
                  </a:lnTo>
                  <a:lnTo>
                    <a:pt x="317" y="536"/>
                  </a:lnTo>
                  <a:lnTo>
                    <a:pt x="290" y="536"/>
                  </a:lnTo>
                  <a:lnTo>
                    <a:pt x="221" y="667"/>
                  </a:lnTo>
                  <a:lnTo>
                    <a:pt x="179" y="667"/>
                  </a:lnTo>
                  <a:lnTo>
                    <a:pt x="234" y="536"/>
                  </a:lnTo>
                  <a:lnTo>
                    <a:pt x="221" y="496"/>
                  </a:lnTo>
                  <a:lnTo>
                    <a:pt x="0" y="509"/>
                  </a:lnTo>
                  <a:lnTo>
                    <a:pt x="0" y="470"/>
                  </a:lnTo>
                  <a:lnTo>
                    <a:pt x="207" y="444"/>
                  </a:lnTo>
                  <a:lnTo>
                    <a:pt x="221" y="418"/>
                  </a:lnTo>
                  <a:lnTo>
                    <a:pt x="110" y="340"/>
                  </a:lnTo>
                  <a:lnTo>
                    <a:pt x="152" y="326"/>
                  </a:lnTo>
                  <a:lnTo>
                    <a:pt x="290" y="391"/>
                  </a:lnTo>
                  <a:lnTo>
                    <a:pt x="372" y="391"/>
                  </a:lnTo>
                  <a:lnTo>
                    <a:pt x="510" y="378"/>
                  </a:lnTo>
                  <a:lnTo>
                    <a:pt x="593" y="340"/>
                  </a:lnTo>
                  <a:lnTo>
                    <a:pt x="731" y="274"/>
                  </a:lnTo>
                  <a:lnTo>
                    <a:pt x="841" y="169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02120" y="1630800"/>
              <a:ext cx="561240" cy="213480"/>
            </a:xfrm>
            <a:custGeom>
              <a:avLst/>
              <a:gdLst/>
              <a:ahLst/>
              <a:rect l="l" t="t" r="r" b="b"/>
              <a:pathLst>
                <a:path w="1241" h="367">
                  <a:moveTo>
                    <a:pt x="0" y="289"/>
                  </a:moveTo>
                  <a:lnTo>
                    <a:pt x="15" y="236"/>
                  </a:lnTo>
                  <a:lnTo>
                    <a:pt x="194" y="171"/>
                  </a:lnTo>
                  <a:lnTo>
                    <a:pt x="387" y="105"/>
                  </a:lnTo>
                  <a:lnTo>
                    <a:pt x="690" y="66"/>
                  </a:lnTo>
                  <a:lnTo>
                    <a:pt x="966" y="79"/>
                  </a:lnTo>
                  <a:lnTo>
                    <a:pt x="1063" y="79"/>
                  </a:lnTo>
                  <a:lnTo>
                    <a:pt x="1214" y="0"/>
                  </a:lnTo>
                  <a:lnTo>
                    <a:pt x="1241" y="26"/>
                  </a:lnTo>
                  <a:lnTo>
                    <a:pt x="1104" y="131"/>
                  </a:lnTo>
                  <a:lnTo>
                    <a:pt x="993" y="236"/>
                  </a:lnTo>
                  <a:lnTo>
                    <a:pt x="924" y="341"/>
                  </a:lnTo>
                  <a:lnTo>
                    <a:pt x="884" y="302"/>
                  </a:lnTo>
                  <a:lnTo>
                    <a:pt x="897" y="236"/>
                  </a:lnTo>
                  <a:lnTo>
                    <a:pt x="911" y="158"/>
                  </a:lnTo>
                  <a:lnTo>
                    <a:pt x="842" y="144"/>
                  </a:lnTo>
                  <a:lnTo>
                    <a:pt x="690" y="131"/>
                  </a:lnTo>
                  <a:lnTo>
                    <a:pt x="566" y="131"/>
                  </a:lnTo>
                  <a:lnTo>
                    <a:pt x="373" y="184"/>
                  </a:lnTo>
                  <a:lnTo>
                    <a:pt x="180" y="289"/>
                  </a:lnTo>
                  <a:lnTo>
                    <a:pt x="0" y="36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45600" y="2149560"/>
              <a:ext cx="168480" cy="686880"/>
            </a:xfrm>
            <a:custGeom>
              <a:avLst/>
              <a:gdLst/>
              <a:ahLst/>
              <a:rect l="l" t="t" r="r" b="b"/>
              <a:pathLst>
                <a:path w="374" h="1176">
                  <a:moveTo>
                    <a:pt x="111" y="0"/>
                  </a:moveTo>
                  <a:lnTo>
                    <a:pt x="180" y="26"/>
                  </a:lnTo>
                  <a:lnTo>
                    <a:pt x="236" y="156"/>
                  </a:lnTo>
                  <a:lnTo>
                    <a:pt x="264" y="300"/>
                  </a:lnTo>
                  <a:lnTo>
                    <a:pt x="278" y="496"/>
                  </a:lnTo>
                  <a:lnTo>
                    <a:pt x="222" y="705"/>
                  </a:lnTo>
                  <a:lnTo>
                    <a:pt x="140" y="887"/>
                  </a:lnTo>
                  <a:lnTo>
                    <a:pt x="153" y="953"/>
                  </a:lnTo>
                  <a:lnTo>
                    <a:pt x="347" y="1045"/>
                  </a:lnTo>
                  <a:lnTo>
                    <a:pt x="374" y="1096"/>
                  </a:lnTo>
                  <a:lnTo>
                    <a:pt x="264" y="1176"/>
                  </a:lnTo>
                  <a:lnTo>
                    <a:pt x="209" y="1136"/>
                  </a:lnTo>
                  <a:lnTo>
                    <a:pt x="98" y="1018"/>
                  </a:lnTo>
                  <a:lnTo>
                    <a:pt x="0" y="953"/>
                  </a:lnTo>
                  <a:lnTo>
                    <a:pt x="0" y="914"/>
                  </a:lnTo>
                  <a:lnTo>
                    <a:pt x="56" y="836"/>
                  </a:lnTo>
                  <a:lnTo>
                    <a:pt x="140" y="718"/>
                  </a:lnTo>
                  <a:lnTo>
                    <a:pt x="195" y="535"/>
                  </a:lnTo>
                  <a:lnTo>
                    <a:pt x="195" y="300"/>
                  </a:lnTo>
                  <a:lnTo>
                    <a:pt x="153" y="169"/>
                  </a:lnTo>
                  <a:lnTo>
                    <a:pt x="98" y="10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44720" y="2158200"/>
              <a:ext cx="226080" cy="748080"/>
            </a:xfrm>
            <a:custGeom>
              <a:avLst/>
              <a:gdLst/>
              <a:ahLst/>
              <a:rect l="l" t="t" r="r" b="b"/>
              <a:pathLst>
                <a:path w="498" h="1281">
                  <a:moveTo>
                    <a:pt x="263" y="156"/>
                  </a:moveTo>
                  <a:lnTo>
                    <a:pt x="318" y="38"/>
                  </a:lnTo>
                  <a:lnTo>
                    <a:pt x="456" y="0"/>
                  </a:lnTo>
                  <a:lnTo>
                    <a:pt x="498" y="64"/>
                  </a:lnTo>
                  <a:lnTo>
                    <a:pt x="401" y="169"/>
                  </a:lnTo>
                  <a:lnTo>
                    <a:pt x="345" y="235"/>
                  </a:lnTo>
                  <a:lnTo>
                    <a:pt x="332" y="365"/>
                  </a:lnTo>
                  <a:lnTo>
                    <a:pt x="305" y="587"/>
                  </a:lnTo>
                  <a:lnTo>
                    <a:pt x="318" y="874"/>
                  </a:lnTo>
                  <a:lnTo>
                    <a:pt x="332" y="1005"/>
                  </a:lnTo>
                  <a:lnTo>
                    <a:pt x="360" y="1058"/>
                  </a:lnTo>
                  <a:lnTo>
                    <a:pt x="345" y="1110"/>
                  </a:lnTo>
                  <a:lnTo>
                    <a:pt x="249" y="1150"/>
                  </a:lnTo>
                  <a:lnTo>
                    <a:pt x="98" y="1281"/>
                  </a:lnTo>
                  <a:lnTo>
                    <a:pt x="42" y="1281"/>
                  </a:lnTo>
                  <a:lnTo>
                    <a:pt x="0" y="1176"/>
                  </a:lnTo>
                  <a:lnTo>
                    <a:pt x="98" y="1110"/>
                  </a:lnTo>
                  <a:lnTo>
                    <a:pt x="222" y="1071"/>
                  </a:lnTo>
                  <a:lnTo>
                    <a:pt x="276" y="1045"/>
                  </a:lnTo>
                  <a:lnTo>
                    <a:pt x="263" y="927"/>
                  </a:lnTo>
                  <a:lnTo>
                    <a:pt x="236" y="665"/>
                  </a:lnTo>
                  <a:lnTo>
                    <a:pt x="222" y="444"/>
                  </a:lnTo>
                  <a:lnTo>
                    <a:pt x="236" y="260"/>
                  </a:lnTo>
                  <a:lnTo>
                    <a:pt x="263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558800" y="1219320"/>
            <a:ext cx="1163520" cy="1609200"/>
            <a:chOff x="1558800" y="1219320"/>
            <a:chExt cx="1163520" cy="1609200"/>
          </a:xfrm>
        </p:grpSpPr>
        <p:sp>
          <p:nvSpPr>
            <p:cNvPr id="644" name=""/>
            <p:cNvSpPr/>
            <p:nvPr/>
          </p:nvSpPr>
          <p:spPr>
            <a:xfrm>
              <a:off x="1558800" y="1219320"/>
              <a:ext cx="1163520" cy="1609200"/>
            </a:xfrm>
            <a:custGeom>
              <a:avLst/>
              <a:gdLst/>
              <a:ahLst/>
              <a:rect l="l" t="t" r="r" b="b"/>
              <a:pathLst>
                <a:path w="2567" h="2757">
                  <a:moveTo>
                    <a:pt x="898" y="510"/>
                  </a:moveTo>
                  <a:lnTo>
                    <a:pt x="746" y="641"/>
                  </a:lnTo>
                  <a:lnTo>
                    <a:pt x="566" y="772"/>
                  </a:lnTo>
                  <a:lnTo>
                    <a:pt x="374" y="981"/>
                  </a:lnTo>
                  <a:lnTo>
                    <a:pt x="167" y="1255"/>
                  </a:lnTo>
                  <a:lnTo>
                    <a:pt x="56" y="1490"/>
                  </a:lnTo>
                  <a:lnTo>
                    <a:pt x="0" y="1673"/>
                  </a:lnTo>
                  <a:lnTo>
                    <a:pt x="0" y="1790"/>
                  </a:lnTo>
                  <a:lnTo>
                    <a:pt x="15" y="2039"/>
                  </a:lnTo>
                  <a:lnTo>
                    <a:pt x="56" y="2222"/>
                  </a:lnTo>
                  <a:lnTo>
                    <a:pt x="167" y="2339"/>
                  </a:lnTo>
                  <a:lnTo>
                    <a:pt x="387" y="2484"/>
                  </a:lnTo>
                  <a:lnTo>
                    <a:pt x="595" y="2575"/>
                  </a:lnTo>
                  <a:lnTo>
                    <a:pt x="856" y="2666"/>
                  </a:lnTo>
                  <a:lnTo>
                    <a:pt x="1008" y="2718"/>
                  </a:lnTo>
                  <a:lnTo>
                    <a:pt x="1270" y="2757"/>
                  </a:lnTo>
                  <a:lnTo>
                    <a:pt x="1669" y="2718"/>
                  </a:lnTo>
                  <a:lnTo>
                    <a:pt x="2015" y="2627"/>
                  </a:lnTo>
                  <a:lnTo>
                    <a:pt x="2235" y="2496"/>
                  </a:lnTo>
                  <a:lnTo>
                    <a:pt x="2373" y="2353"/>
                  </a:lnTo>
                  <a:lnTo>
                    <a:pt x="2456" y="2209"/>
                  </a:lnTo>
                  <a:lnTo>
                    <a:pt x="2538" y="2026"/>
                  </a:lnTo>
                  <a:lnTo>
                    <a:pt x="2567" y="1817"/>
                  </a:lnTo>
                  <a:lnTo>
                    <a:pt x="2567" y="1530"/>
                  </a:lnTo>
                  <a:lnTo>
                    <a:pt x="2511" y="1346"/>
                  </a:lnTo>
                  <a:lnTo>
                    <a:pt x="2400" y="1150"/>
                  </a:lnTo>
                  <a:lnTo>
                    <a:pt x="2249" y="968"/>
                  </a:lnTo>
                  <a:lnTo>
                    <a:pt x="2084" y="823"/>
                  </a:lnTo>
                  <a:lnTo>
                    <a:pt x="1918" y="706"/>
                  </a:lnTo>
                  <a:lnTo>
                    <a:pt x="1683" y="601"/>
                  </a:lnTo>
                  <a:lnTo>
                    <a:pt x="1669" y="536"/>
                  </a:lnTo>
                  <a:lnTo>
                    <a:pt x="1877" y="327"/>
                  </a:lnTo>
                  <a:lnTo>
                    <a:pt x="1890" y="196"/>
                  </a:lnTo>
                  <a:lnTo>
                    <a:pt x="1656" y="327"/>
                  </a:lnTo>
                  <a:lnTo>
                    <a:pt x="1738" y="92"/>
                  </a:lnTo>
                  <a:lnTo>
                    <a:pt x="1711" y="79"/>
                  </a:lnTo>
                  <a:lnTo>
                    <a:pt x="1629" y="79"/>
                  </a:lnTo>
                  <a:lnTo>
                    <a:pt x="1491" y="236"/>
                  </a:lnTo>
                  <a:lnTo>
                    <a:pt x="1408" y="327"/>
                  </a:lnTo>
                  <a:lnTo>
                    <a:pt x="1435" y="157"/>
                  </a:lnTo>
                  <a:lnTo>
                    <a:pt x="1491" y="27"/>
                  </a:lnTo>
                  <a:lnTo>
                    <a:pt x="1449" y="0"/>
                  </a:lnTo>
                  <a:lnTo>
                    <a:pt x="1353" y="79"/>
                  </a:lnTo>
                  <a:lnTo>
                    <a:pt x="1256" y="274"/>
                  </a:lnTo>
                  <a:lnTo>
                    <a:pt x="1215" y="170"/>
                  </a:lnTo>
                  <a:lnTo>
                    <a:pt x="1132" y="131"/>
                  </a:lnTo>
                  <a:lnTo>
                    <a:pt x="1077" y="261"/>
                  </a:lnTo>
                  <a:lnTo>
                    <a:pt x="1063" y="340"/>
                  </a:lnTo>
                  <a:lnTo>
                    <a:pt x="911" y="157"/>
                  </a:lnTo>
                  <a:lnTo>
                    <a:pt x="718" y="14"/>
                  </a:lnTo>
                  <a:lnTo>
                    <a:pt x="664" y="40"/>
                  </a:lnTo>
                  <a:lnTo>
                    <a:pt x="649" y="118"/>
                  </a:lnTo>
                  <a:lnTo>
                    <a:pt x="718" y="236"/>
                  </a:lnTo>
                  <a:lnTo>
                    <a:pt x="800" y="379"/>
                  </a:lnTo>
                  <a:lnTo>
                    <a:pt x="1008" y="628"/>
                  </a:lnTo>
                  <a:lnTo>
                    <a:pt x="980" y="679"/>
                  </a:lnTo>
                  <a:lnTo>
                    <a:pt x="938" y="706"/>
                  </a:lnTo>
                  <a:lnTo>
                    <a:pt x="967" y="758"/>
                  </a:lnTo>
                  <a:lnTo>
                    <a:pt x="1146" y="823"/>
                  </a:lnTo>
                  <a:lnTo>
                    <a:pt x="1435" y="823"/>
                  </a:lnTo>
                  <a:lnTo>
                    <a:pt x="1683" y="797"/>
                  </a:lnTo>
                  <a:lnTo>
                    <a:pt x="1767" y="719"/>
                  </a:lnTo>
                  <a:lnTo>
                    <a:pt x="1711" y="693"/>
                  </a:lnTo>
                  <a:lnTo>
                    <a:pt x="1656" y="732"/>
                  </a:lnTo>
                  <a:lnTo>
                    <a:pt x="1504" y="745"/>
                  </a:lnTo>
                  <a:lnTo>
                    <a:pt x="1353" y="772"/>
                  </a:lnTo>
                  <a:lnTo>
                    <a:pt x="1187" y="745"/>
                  </a:lnTo>
                  <a:lnTo>
                    <a:pt x="1435" y="719"/>
                  </a:lnTo>
                  <a:lnTo>
                    <a:pt x="1600" y="667"/>
                  </a:lnTo>
                  <a:lnTo>
                    <a:pt x="1629" y="641"/>
                  </a:lnTo>
                  <a:lnTo>
                    <a:pt x="1560" y="614"/>
                  </a:lnTo>
                  <a:lnTo>
                    <a:pt x="1477" y="654"/>
                  </a:lnTo>
                  <a:lnTo>
                    <a:pt x="1284" y="679"/>
                  </a:lnTo>
                  <a:lnTo>
                    <a:pt x="1146" y="667"/>
                  </a:lnTo>
                  <a:lnTo>
                    <a:pt x="1077" y="641"/>
                  </a:lnTo>
                  <a:lnTo>
                    <a:pt x="1105" y="576"/>
                  </a:lnTo>
                  <a:lnTo>
                    <a:pt x="980" y="484"/>
                  </a:lnTo>
                  <a:lnTo>
                    <a:pt x="856" y="367"/>
                  </a:lnTo>
                  <a:lnTo>
                    <a:pt x="787" y="249"/>
                  </a:lnTo>
                  <a:lnTo>
                    <a:pt x="760" y="170"/>
                  </a:lnTo>
                  <a:lnTo>
                    <a:pt x="760" y="145"/>
                  </a:lnTo>
                  <a:lnTo>
                    <a:pt x="787" y="145"/>
                  </a:lnTo>
                  <a:lnTo>
                    <a:pt x="856" y="196"/>
                  </a:lnTo>
                  <a:lnTo>
                    <a:pt x="952" y="314"/>
                  </a:lnTo>
                  <a:lnTo>
                    <a:pt x="1077" y="458"/>
                  </a:lnTo>
                  <a:lnTo>
                    <a:pt x="1105" y="497"/>
                  </a:lnTo>
                  <a:lnTo>
                    <a:pt x="1159" y="470"/>
                  </a:lnTo>
                  <a:lnTo>
                    <a:pt x="1132" y="392"/>
                  </a:lnTo>
                  <a:lnTo>
                    <a:pt x="1146" y="340"/>
                  </a:lnTo>
                  <a:lnTo>
                    <a:pt x="1159" y="274"/>
                  </a:lnTo>
                  <a:lnTo>
                    <a:pt x="1187" y="274"/>
                  </a:lnTo>
                  <a:lnTo>
                    <a:pt x="1215" y="354"/>
                  </a:lnTo>
                  <a:lnTo>
                    <a:pt x="1228" y="405"/>
                  </a:lnTo>
                  <a:lnTo>
                    <a:pt x="1270" y="419"/>
                  </a:lnTo>
                  <a:lnTo>
                    <a:pt x="1326" y="301"/>
                  </a:lnTo>
                  <a:lnTo>
                    <a:pt x="1353" y="261"/>
                  </a:lnTo>
                  <a:lnTo>
                    <a:pt x="1366" y="327"/>
                  </a:lnTo>
                  <a:lnTo>
                    <a:pt x="1366" y="432"/>
                  </a:lnTo>
                  <a:lnTo>
                    <a:pt x="1408" y="458"/>
                  </a:lnTo>
                  <a:lnTo>
                    <a:pt x="1477" y="367"/>
                  </a:lnTo>
                  <a:lnTo>
                    <a:pt x="1546" y="249"/>
                  </a:lnTo>
                  <a:lnTo>
                    <a:pt x="1615" y="223"/>
                  </a:lnTo>
                  <a:lnTo>
                    <a:pt x="1615" y="236"/>
                  </a:lnTo>
                  <a:lnTo>
                    <a:pt x="1573" y="314"/>
                  </a:lnTo>
                  <a:lnTo>
                    <a:pt x="1531" y="432"/>
                  </a:lnTo>
                  <a:lnTo>
                    <a:pt x="1573" y="445"/>
                  </a:lnTo>
                  <a:lnTo>
                    <a:pt x="1794" y="301"/>
                  </a:lnTo>
                  <a:lnTo>
                    <a:pt x="1821" y="301"/>
                  </a:lnTo>
                  <a:lnTo>
                    <a:pt x="1615" y="497"/>
                  </a:lnTo>
                  <a:lnTo>
                    <a:pt x="1573" y="536"/>
                  </a:lnTo>
                  <a:lnTo>
                    <a:pt x="1560" y="601"/>
                  </a:lnTo>
                  <a:lnTo>
                    <a:pt x="1600" y="628"/>
                  </a:lnTo>
                  <a:lnTo>
                    <a:pt x="1725" y="679"/>
                  </a:lnTo>
                  <a:lnTo>
                    <a:pt x="1932" y="785"/>
                  </a:lnTo>
                  <a:lnTo>
                    <a:pt x="2070" y="888"/>
                  </a:lnTo>
                  <a:lnTo>
                    <a:pt x="2235" y="1046"/>
                  </a:lnTo>
                  <a:lnTo>
                    <a:pt x="2360" y="1215"/>
                  </a:lnTo>
                  <a:lnTo>
                    <a:pt x="2442" y="1399"/>
                  </a:lnTo>
                  <a:lnTo>
                    <a:pt x="2498" y="1634"/>
                  </a:lnTo>
                  <a:lnTo>
                    <a:pt x="2483" y="1804"/>
                  </a:lnTo>
                  <a:lnTo>
                    <a:pt x="2469" y="1986"/>
                  </a:lnTo>
                  <a:lnTo>
                    <a:pt x="2387" y="2182"/>
                  </a:lnTo>
                  <a:lnTo>
                    <a:pt x="2304" y="2326"/>
                  </a:lnTo>
                  <a:lnTo>
                    <a:pt x="2208" y="2404"/>
                  </a:lnTo>
                  <a:lnTo>
                    <a:pt x="2097" y="2509"/>
                  </a:lnTo>
                  <a:lnTo>
                    <a:pt x="1890" y="2588"/>
                  </a:lnTo>
                  <a:lnTo>
                    <a:pt x="1642" y="2653"/>
                  </a:lnTo>
                  <a:lnTo>
                    <a:pt x="1518" y="2666"/>
                  </a:lnTo>
                  <a:lnTo>
                    <a:pt x="1284" y="2666"/>
                  </a:lnTo>
                  <a:lnTo>
                    <a:pt x="1063" y="2640"/>
                  </a:lnTo>
                  <a:lnTo>
                    <a:pt x="800" y="2575"/>
                  </a:lnTo>
                  <a:lnTo>
                    <a:pt x="553" y="2470"/>
                  </a:lnTo>
                  <a:lnTo>
                    <a:pt x="359" y="2366"/>
                  </a:lnTo>
                  <a:lnTo>
                    <a:pt x="194" y="2248"/>
                  </a:lnTo>
                  <a:lnTo>
                    <a:pt x="125" y="2157"/>
                  </a:lnTo>
                  <a:lnTo>
                    <a:pt x="111" y="2064"/>
                  </a:lnTo>
                  <a:lnTo>
                    <a:pt x="84" y="1790"/>
                  </a:lnTo>
                  <a:lnTo>
                    <a:pt x="98" y="1608"/>
                  </a:lnTo>
                  <a:lnTo>
                    <a:pt x="180" y="1412"/>
                  </a:lnTo>
                  <a:lnTo>
                    <a:pt x="290" y="1190"/>
                  </a:lnTo>
                  <a:lnTo>
                    <a:pt x="484" y="994"/>
                  </a:lnTo>
                  <a:lnTo>
                    <a:pt x="664" y="772"/>
                  </a:lnTo>
                  <a:lnTo>
                    <a:pt x="829" y="654"/>
                  </a:lnTo>
                  <a:lnTo>
                    <a:pt x="925" y="576"/>
                  </a:lnTo>
                  <a:lnTo>
                    <a:pt x="898" y="5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15640" y="1852920"/>
              <a:ext cx="236880" cy="495720"/>
            </a:xfrm>
            <a:custGeom>
              <a:avLst/>
              <a:gdLst/>
              <a:ahLst/>
              <a:rect l="l" t="t" r="r" b="b"/>
              <a:pathLst>
                <a:path w="524" h="849">
                  <a:moveTo>
                    <a:pt x="317" y="156"/>
                  </a:moveTo>
                  <a:lnTo>
                    <a:pt x="413" y="169"/>
                  </a:lnTo>
                  <a:lnTo>
                    <a:pt x="495" y="235"/>
                  </a:lnTo>
                  <a:lnTo>
                    <a:pt x="524" y="300"/>
                  </a:lnTo>
                  <a:lnTo>
                    <a:pt x="426" y="326"/>
                  </a:lnTo>
                  <a:lnTo>
                    <a:pt x="371" y="273"/>
                  </a:lnTo>
                  <a:lnTo>
                    <a:pt x="303" y="247"/>
                  </a:lnTo>
                  <a:lnTo>
                    <a:pt x="234" y="235"/>
                  </a:lnTo>
                  <a:lnTo>
                    <a:pt x="123" y="260"/>
                  </a:lnTo>
                  <a:lnTo>
                    <a:pt x="96" y="326"/>
                  </a:lnTo>
                  <a:lnTo>
                    <a:pt x="151" y="378"/>
                  </a:lnTo>
                  <a:lnTo>
                    <a:pt x="288" y="417"/>
                  </a:lnTo>
                  <a:lnTo>
                    <a:pt x="426" y="417"/>
                  </a:lnTo>
                  <a:lnTo>
                    <a:pt x="468" y="456"/>
                  </a:lnTo>
                  <a:lnTo>
                    <a:pt x="495" y="522"/>
                  </a:lnTo>
                  <a:lnTo>
                    <a:pt x="482" y="600"/>
                  </a:lnTo>
                  <a:lnTo>
                    <a:pt x="399" y="653"/>
                  </a:lnTo>
                  <a:lnTo>
                    <a:pt x="303" y="653"/>
                  </a:lnTo>
                  <a:lnTo>
                    <a:pt x="234" y="653"/>
                  </a:lnTo>
                  <a:lnTo>
                    <a:pt x="206" y="718"/>
                  </a:lnTo>
                  <a:lnTo>
                    <a:pt x="219" y="835"/>
                  </a:lnTo>
                  <a:lnTo>
                    <a:pt x="123" y="849"/>
                  </a:lnTo>
                  <a:lnTo>
                    <a:pt x="109" y="757"/>
                  </a:lnTo>
                  <a:lnTo>
                    <a:pt x="137" y="653"/>
                  </a:lnTo>
                  <a:lnTo>
                    <a:pt x="54" y="613"/>
                  </a:lnTo>
                  <a:lnTo>
                    <a:pt x="0" y="574"/>
                  </a:lnTo>
                  <a:lnTo>
                    <a:pt x="82" y="496"/>
                  </a:lnTo>
                  <a:lnTo>
                    <a:pt x="123" y="548"/>
                  </a:lnTo>
                  <a:lnTo>
                    <a:pt x="192" y="560"/>
                  </a:lnTo>
                  <a:lnTo>
                    <a:pt x="288" y="574"/>
                  </a:lnTo>
                  <a:lnTo>
                    <a:pt x="371" y="574"/>
                  </a:lnTo>
                  <a:lnTo>
                    <a:pt x="413" y="560"/>
                  </a:lnTo>
                  <a:lnTo>
                    <a:pt x="386" y="509"/>
                  </a:lnTo>
                  <a:lnTo>
                    <a:pt x="317" y="496"/>
                  </a:lnTo>
                  <a:lnTo>
                    <a:pt x="192" y="469"/>
                  </a:lnTo>
                  <a:lnTo>
                    <a:pt x="68" y="431"/>
                  </a:lnTo>
                  <a:lnTo>
                    <a:pt x="27" y="365"/>
                  </a:lnTo>
                  <a:lnTo>
                    <a:pt x="13" y="287"/>
                  </a:lnTo>
                  <a:lnTo>
                    <a:pt x="82" y="208"/>
                  </a:lnTo>
                  <a:lnTo>
                    <a:pt x="178" y="143"/>
                  </a:lnTo>
                  <a:lnTo>
                    <a:pt x="247" y="143"/>
                  </a:lnTo>
                  <a:lnTo>
                    <a:pt x="275" y="0"/>
                  </a:lnTo>
                  <a:lnTo>
                    <a:pt x="357" y="13"/>
                  </a:lnTo>
                  <a:lnTo>
                    <a:pt x="317" y="15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96400" y="1828440"/>
              <a:ext cx="101520" cy="177120"/>
            </a:xfrm>
            <a:custGeom>
              <a:avLst/>
              <a:gdLst/>
              <a:ahLst/>
              <a:rect l="l" t="t" r="r" b="b"/>
              <a:pathLst>
                <a:path w="220" h="301">
                  <a:moveTo>
                    <a:pt x="0" y="236"/>
                  </a:moveTo>
                  <a:lnTo>
                    <a:pt x="96" y="78"/>
                  </a:lnTo>
                  <a:lnTo>
                    <a:pt x="220" y="0"/>
                  </a:lnTo>
                  <a:lnTo>
                    <a:pt x="220" y="40"/>
                  </a:lnTo>
                  <a:lnTo>
                    <a:pt x="136" y="131"/>
                  </a:lnTo>
                  <a:lnTo>
                    <a:pt x="40" y="301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4920" y="2271600"/>
              <a:ext cx="63720" cy="122400"/>
            </a:xfrm>
            <a:custGeom>
              <a:avLst/>
              <a:gdLst/>
              <a:ahLst/>
              <a:rect l="l" t="t" r="r" b="b"/>
              <a:pathLst>
                <a:path w="138" h="209">
                  <a:moveTo>
                    <a:pt x="138" y="0"/>
                  </a:moveTo>
                  <a:lnTo>
                    <a:pt x="42" y="130"/>
                  </a:lnTo>
                  <a:lnTo>
                    <a:pt x="0" y="182"/>
                  </a:lnTo>
                  <a:lnTo>
                    <a:pt x="55" y="209"/>
                  </a:lnTo>
                  <a:lnTo>
                    <a:pt x="96" y="182"/>
                  </a:lnTo>
                  <a:lnTo>
                    <a:pt x="138" y="91"/>
                  </a:lnTo>
                  <a:lnTo>
                    <a:pt x="138" y="5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695680" y="1674720"/>
            <a:ext cx="1647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689120" y="3963960"/>
            <a:ext cx="601200" cy="1464840"/>
            <a:chOff x="1689120" y="3963960"/>
            <a:chExt cx="601200" cy="1464840"/>
          </a:xfrm>
        </p:grpSpPr>
        <p:sp>
          <p:nvSpPr>
            <p:cNvPr id="650" name=""/>
            <p:cNvSpPr/>
            <p:nvPr/>
          </p:nvSpPr>
          <p:spPr>
            <a:xfrm>
              <a:off x="1866960" y="3963960"/>
              <a:ext cx="387360" cy="316440"/>
            </a:xfrm>
            <a:custGeom>
              <a:avLst/>
              <a:gdLst/>
              <a:ahLst/>
              <a:rect l="l" t="t" r="r" b="b"/>
              <a:pathLst>
                <a:path w="431" h="811">
                  <a:moveTo>
                    <a:pt x="0" y="342"/>
                  </a:moveTo>
                  <a:lnTo>
                    <a:pt x="31" y="175"/>
                  </a:lnTo>
                  <a:lnTo>
                    <a:pt x="72" y="91"/>
                  </a:lnTo>
                  <a:lnTo>
                    <a:pt x="124" y="30"/>
                  </a:lnTo>
                  <a:lnTo>
                    <a:pt x="176" y="0"/>
                  </a:lnTo>
                  <a:lnTo>
                    <a:pt x="244" y="9"/>
                  </a:lnTo>
                  <a:lnTo>
                    <a:pt x="288" y="76"/>
                  </a:lnTo>
                  <a:lnTo>
                    <a:pt x="329" y="196"/>
                  </a:lnTo>
                  <a:lnTo>
                    <a:pt x="346" y="357"/>
                  </a:lnTo>
                  <a:lnTo>
                    <a:pt x="346" y="539"/>
                  </a:lnTo>
                  <a:lnTo>
                    <a:pt x="428" y="664"/>
                  </a:lnTo>
                  <a:lnTo>
                    <a:pt x="431" y="721"/>
                  </a:lnTo>
                  <a:lnTo>
                    <a:pt x="418" y="725"/>
                  </a:lnTo>
                  <a:lnTo>
                    <a:pt x="339" y="614"/>
                  </a:lnTo>
                  <a:lnTo>
                    <a:pt x="316" y="695"/>
                  </a:lnTo>
                  <a:lnTo>
                    <a:pt x="268" y="765"/>
                  </a:lnTo>
                  <a:lnTo>
                    <a:pt x="223" y="801"/>
                  </a:lnTo>
                  <a:lnTo>
                    <a:pt x="151" y="811"/>
                  </a:lnTo>
                  <a:lnTo>
                    <a:pt x="59" y="755"/>
                  </a:lnTo>
                  <a:lnTo>
                    <a:pt x="17" y="634"/>
                  </a:lnTo>
                  <a:lnTo>
                    <a:pt x="0" y="51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7360" y="4304880"/>
              <a:ext cx="346320" cy="510120"/>
            </a:xfrm>
            <a:custGeom>
              <a:avLst/>
              <a:gdLst/>
              <a:ahLst/>
              <a:rect l="l" t="t" r="r" b="b"/>
              <a:pathLst>
                <a:path w="385" h="1306">
                  <a:moveTo>
                    <a:pt x="56" y="85"/>
                  </a:moveTo>
                  <a:lnTo>
                    <a:pt x="104" y="30"/>
                  </a:lnTo>
                  <a:lnTo>
                    <a:pt x="159" y="9"/>
                  </a:lnTo>
                  <a:lnTo>
                    <a:pt x="210" y="0"/>
                  </a:lnTo>
                  <a:lnTo>
                    <a:pt x="279" y="15"/>
                  </a:lnTo>
                  <a:lnTo>
                    <a:pt x="355" y="85"/>
                  </a:lnTo>
                  <a:lnTo>
                    <a:pt x="385" y="210"/>
                  </a:lnTo>
                  <a:lnTo>
                    <a:pt x="385" y="401"/>
                  </a:lnTo>
                  <a:lnTo>
                    <a:pt x="382" y="583"/>
                  </a:lnTo>
                  <a:lnTo>
                    <a:pt x="344" y="859"/>
                  </a:lnTo>
                  <a:lnTo>
                    <a:pt x="313" y="1085"/>
                  </a:lnTo>
                  <a:lnTo>
                    <a:pt x="279" y="1230"/>
                  </a:lnTo>
                  <a:lnTo>
                    <a:pt x="207" y="1306"/>
                  </a:lnTo>
                  <a:lnTo>
                    <a:pt x="104" y="1290"/>
                  </a:lnTo>
                  <a:lnTo>
                    <a:pt x="52" y="1175"/>
                  </a:lnTo>
                  <a:lnTo>
                    <a:pt x="22" y="1004"/>
                  </a:lnTo>
                  <a:lnTo>
                    <a:pt x="4" y="813"/>
                  </a:lnTo>
                  <a:lnTo>
                    <a:pt x="0" y="526"/>
                  </a:lnTo>
                  <a:lnTo>
                    <a:pt x="15" y="325"/>
                  </a:lnTo>
                  <a:lnTo>
                    <a:pt x="35" y="146"/>
                  </a:lnTo>
                  <a:lnTo>
                    <a:pt x="56" y="8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9120" y="4303800"/>
              <a:ext cx="204480" cy="628200"/>
            </a:xfrm>
            <a:custGeom>
              <a:avLst/>
              <a:gdLst/>
              <a:ahLst/>
              <a:rect l="l" t="t" r="r" b="b"/>
              <a:pathLst>
                <a:path w="226" h="1607">
                  <a:moveTo>
                    <a:pt x="154" y="10"/>
                  </a:moveTo>
                  <a:lnTo>
                    <a:pt x="209" y="0"/>
                  </a:lnTo>
                  <a:lnTo>
                    <a:pt x="226" y="71"/>
                  </a:lnTo>
                  <a:lnTo>
                    <a:pt x="198" y="162"/>
                  </a:lnTo>
                  <a:lnTo>
                    <a:pt x="157" y="211"/>
                  </a:lnTo>
                  <a:lnTo>
                    <a:pt x="123" y="331"/>
                  </a:lnTo>
                  <a:lnTo>
                    <a:pt x="82" y="493"/>
                  </a:lnTo>
                  <a:lnTo>
                    <a:pt x="65" y="643"/>
                  </a:lnTo>
                  <a:lnTo>
                    <a:pt x="55" y="898"/>
                  </a:lnTo>
                  <a:lnTo>
                    <a:pt x="65" y="1139"/>
                  </a:lnTo>
                  <a:lnTo>
                    <a:pt x="85" y="1251"/>
                  </a:lnTo>
                  <a:lnTo>
                    <a:pt x="71" y="1371"/>
                  </a:lnTo>
                  <a:lnTo>
                    <a:pt x="55" y="1462"/>
                  </a:lnTo>
                  <a:lnTo>
                    <a:pt x="61" y="1607"/>
                  </a:lnTo>
                  <a:lnTo>
                    <a:pt x="33" y="1597"/>
                  </a:lnTo>
                  <a:lnTo>
                    <a:pt x="10" y="1476"/>
                  </a:lnTo>
                  <a:lnTo>
                    <a:pt x="0" y="1371"/>
                  </a:lnTo>
                  <a:lnTo>
                    <a:pt x="30" y="1230"/>
                  </a:lnTo>
                  <a:lnTo>
                    <a:pt x="20" y="1099"/>
                  </a:lnTo>
                  <a:lnTo>
                    <a:pt x="10" y="888"/>
                  </a:lnTo>
                  <a:lnTo>
                    <a:pt x="10" y="633"/>
                  </a:lnTo>
                  <a:lnTo>
                    <a:pt x="30" y="362"/>
                  </a:lnTo>
                  <a:lnTo>
                    <a:pt x="65" y="162"/>
                  </a:lnTo>
                  <a:lnTo>
                    <a:pt x="103" y="56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32640" y="4320360"/>
              <a:ext cx="128880" cy="596520"/>
            </a:xfrm>
            <a:custGeom>
              <a:avLst/>
              <a:gdLst/>
              <a:ahLst/>
              <a:rect l="l" t="t" r="r" b="b"/>
              <a:pathLst>
                <a:path w="145" h="1528">
                  <a:moveTo>
                    <a:pt x="3" y="5"/>
                  </a:moveTo>
                  <a:lnTo>
                    <a:pt x="62" y="0"/>
                  </a:lnTo>
                  <a:lnTo>
                    <a:pt x="103" y="121"/>
                  </a:lnTo>
                  <a:lnTo>
                    <a:pt x="145" y="452"/>
                  </a:lnTo>
                  <a:lnTo>
                    <a:pt x="145" y="834"/>
                  </a:lnTo>
                  <a:lnTo>
                    <a:pt x="124" y="1161"/>
                  </a:lnTo>
                  <a:lnTo>
                    <a:pt x="145" y="1272"/>
                  </a:lnTo>
                  <a:lnTo>
                    <a:pt x="145" y="1422"/>
                  </a:lnTo>
                  <a:lnTo>
                    <a:pt x="124" y="1528"/>
                  </a:lnTo>
                  <a:lnTo>
                    <a:pt x="97" y="1432"/>
                  </a:lnTo>
                  <a:lnTo>
                    <a:pt x="83" y="1287"/>
                  </a:lnTo>
                  <a:lnTo>
                    <a:pt x="52" y="1175"/>
                  </a:lnTo>
                  <a:lnTo>
                    <a:pt x="87" y="1076"/>
                  </a:lnTo>
                  <a:lnTo>
                    <a:pt x="107" y="834"/>
                  </a:lnTo>
                  <a:lnTo>
                    <a:pt x="107" y="608"/>
                  </a:lnTo>
                  <a:lnTo>
                    <a:pt x="87" y="382"/>
                  </a:lnTo>
                  <a:lnTo>
                    <a:pt x="45" y="216"/>
                  </a:lnTo>
                  <a:lnTo>
                    <a:pt x="0" y="13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28800" y="4712760"/>
              <a:ext cx="290880" cy="716040"/>
            </a:xfrm>
            <a:custGeom>
              <a:avLst/>
              <a:gdLst/>
              <a:ahLst/>
              <a:rect l="l" t="t" r="r" b="b"/>
              <a:pathLst>
                <a:path w="324" h="1831">
                  <a:moveTo>
                    <a:pt x="32" y="0"/>
                  </a:moveTo>
                  <a:lnTo>
                    <a:pt x="69" y="76"/>
                  </a:lnTo>
                  <a:lnTo>
                    <a:pt x="85" y="153"/>
                  </a:lnTo>
                  <a:lnTo>
                    <a:pt x="100" y="419"/>
                  </a:lnTo>
                  <a:lnTo>
                    <a:pt x="107" y="597"/>
                  </a:lnTo>
                  <a:lnTo>
                    <a:pt x="107" y="902"/>
                  </a:lnTo>
                  <a:lnTo>
                    <a:pt x="105" y="1189"/>
                  </a:lnTo>
                  <a:lnTo>
                    <a:pt x="90" y="1417"/>
                  </a:lnTo>
                  <a:lnTo>
                    <a:pt x="77" y="1487"/>
                  </a:lnTo>
                  <a:lnTo>
                    <a:pt x="157" y="1526"/>
                  </a:lnTo>
                  <a:lnTo>
                    <a:pt x="224" y="1571"/>
                  </a:lnTo>
                  <a:lnTo>
                    <a:pt x="314" y="1666"/>
                  </a:lnTo>
                  <a:lnTo>
                    <a:pt x="324" y="1703"/>
                  </a:lnTo>
                  <a:lnTo>
                    <a:pt x="316" y="1774"/>
                  </a:lnTo>
                  <a:lnTo>
                    <a:pt x="271" y="1831"/>
                  </a:lnTo>
                  <a:lnTo>
                    <a:pt x="254" y="1799"/>
                  </a:lnTo>
                  <a:lnTo>
                    <a:pt x="239" y="1722"/>
                  </a:lnTo>
                  <a:lnTo>
                    <a:pt x="196" y="1660"/>
                  </a:lnTo>
                  <a:lnTo>
                    <a:pt x="122" y="1588"/>
                  </a:lnTo>
                  <a:lnTo>
                    <a:pt x="74" y="1571"/>
                  </a:lnTo>
                  <a:lnTo>
                    <a:pt x="18" y="1571"/>
                  </a:lnTo>
                  <a:lnTo>
                    <a:pt x="18" y="1513"/>
                  </a:lnTo>
                  <a:lnTo>
                    <a:pt x="45" y="1449"/>
                  </a:lnTo>
                  <a:lnTo>
                    <a:pt x="69" y="1245"/>
                  </a:lnTo>
                  <a:lnTo>
                    <a:pt x="77" y="1030"/>
                  </a:lnTo>
                  <a:lnTo>
                    <a:pt x="74" y="840"/>
                  </a:lnTo>
                  <a:lnTo>
                    <a:pt x="69" y="597"/>
                  </a:lnTo>
                  <a:lnTo>
                    <a:pt x="54" y="388"/>
                  </a:lnTo>
                  <a:lnTo>
                    <a:pt x="23" y="235"/>
                  </a:lnTo>
                  <a:lnTo>
                    <a:pt x="0" y="95"/>
                  </a:lnTo>
                  <a:lnTo>
                    <a:pt x="7" y="4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21040" y="4713840"/>
              <a:ext cx="269280" cy="644760"/>
            </a:xfrm>
            <a:custGeom>
              <a:avLst/>
              <a:gdLst/>
              <a:ahLst/>
              <a:rect l="l" t="t" r="r" b="b"/>
              <a:pathLst>
                <a:path w="298" h="1650">
                  <a:moveTo>
                    <a:pt x="0" y="130"/>
                  </a:moveTo>
                  <a:lnTo>
                    <a:pt x="0" y="25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112" y="60"/>
                  </a:lnTo>
                  <a:lnTo>
                    <a:pt x="119" y="115"/>
                  </a:lnTo>
                  <a:lnTo>
                    <a:pt x="112" y="236"/>
                  </a:lnTo>
                  <a:lnTo>
                    <a:pt x="89" y="386"/>
                  </a:lnTo>
                  <a:lnTo>
                    <a:pt x="78" y="618"/>
                  </a:lnTo>
                  <a:lnTo>
                    <a:pt x="72" y="768"/>
                  </a:lnTo>
                  <a:lnTo>
                    <a:pt x="72" y="793"/>
                  </a:lnTo>
                  <a:lnTo>
                    <a:pt x="82" y="1004"/>
                  </a:lnTo>
                  <a:lnTo>
                    <a:pt x="99" y="1124"/>
                  </a:lnTo>
                  <a:lnTo>
                    <a:pt x="112" y="1219"/>
                  </a:lnTo>
                  <a:lnTo>
                    <a:pt x="109" y="1259"/>
                  </a:lnTo>
                  <a:lnTo>
                    <a:pt x="154" y="1369"/>
                  </a:lnTo>
                  <a:lnTo>
                    <a:pt x="202" y="1439"/>
                  </a:lnTo>
                  <a:lnTo>
                    <a:pt x="253" y="1505"/>
                  </a:lnTo>
                  <a:lnTo>
                    <a:pt x="298" y="1536"/>
                  </a:lnTo>
                  <a:lnTo>
                    <a:pt x="298" y="1591"/>
                  </a:lnTo>
                  <a:lnTo>
                    <a:pt x="274" y="1635"/>
                  </a:lnTo>
                  <a:lnTo>
                    <a:pt x="216" y="1650"/>
                  </a:lnTo>
                  <a:lnTo>
                    <a:pt x="174" y="1621"/>
                  </a:lnTo>
                  <a:lnTo>
                    <a:pt x="174" y="1580"/>
                  </a:lnTo>
                  <a:lnTo>
                    <a:pt x="140" y="1439"/>
                  </a:lnTo>
                  <a:lnTo>
                    <a:pt x="82" y="1365"/>
                  </a:lnTo>
                  <a:lnTo>
                    <a:pt x="40" y="1289"/>
                  </a:lnTo>
                  <a:lnTo>
                    <a:pt x="10" y="1249"/>
                  </a:lnTo>
                  <a:lnTo>
                    <a:pt x="20" y="1199"/>
                  </a:lnTo>
                  <a:lnTo>
                    <a:pt x="37" y="1063"/>
                  </a:lnTo>
                  <a:lnTo>
                    <a:pt x="37" y="808"/>
                  </a:lnTo>
                  <a:lnTo>
                    <a:pt x="30" y="627"/>
                  </a:lnTo>
                  <a:lnTo>
                    <a:pt x="30" y="447"/>
                  </a:lnTo>
                  <a:lnTo>
                    <a:pt x="27" y="25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143000" y="3927600"/>
            <a:ext cx="498240" cy="1542600"/>
            <a:chOff x="1143000" y="3927600"/>
            <a:chExt cx="498240" cy="1542600"/>
          </a:xfrm>
        </p:grpSpPr>
        <p:sp>
          <p:nvSpPr>
            <p:cNvPr id="657" name=""/>
            <p:cNvSpPr/>
            <p:nvPr/>
          </p:nvSpPr>
          <p:spPr>
            <a:xfrm>
              <a:off x="1289160" y="3927600"/>
              <a:ext cx="326160" cy="330120"/>
            </a:xfrm>
            <a:custGeom>
              <a:avLst/>
              <a:gdLst/>
              <a:ahLst/>
              <a:rect l="l" t="t" r="r" b="b"/>
              <a:pathLst>
                <a:path w="326" h="662">
                  <a:moveTo>
                    <a:pt x="0" y="280"/>
                  </a:moveTo>
                  <a:lnTo>
                    <a:pt x="23" y="145"/>
                  </a:lnTo>
                  <a:lnTo>
                    <a:pt x="55" y="75"/>
                  </a:lnTo>
                  <a:lnTo>
                    <a:pt x="93" y="24"/>
                  </a:lnTo>
                  <a:lnTo>
                    <a:pt x="132" y="0"/>
                  </a:lnTo>
                  <a:lnTo>
                    <a:pt x="184" y="8"/>
                  </a:lnTo>
                  <a:lnTo>
                    <a:pt x="217" y="61"/>
                  </a:lnTo>
                  <a:lnTo>
                    <a:pt x="249" y="161"/>
                  </a:lnTo>
                  <a:lnTo>
                    <a:pt x="262" y="292"/>
                  </a:lnTo>
                  <a:lnTo>
                    <a:pt x="262" y="440"/>
                  </a:lnTo>
                  <a:lnTo>
                    <a:pt x="324" y="543"/>
                  </a:lnTo>
                  <a:lnTo>
                    <a:pt x="326" y="587"/>
                  </a:lnTo>
                  <a:lnTo>
                    <a:pt x="316" y="592"/>
                  </a:lnTo>
                  <a:lnTo>
                    <a:pt x="257" y="501"/>
                  </a:lnTo>
                  <a:lnTo>
                    <a:pt x="238" y="567"/>
                  </a:lnTo>
                  <a:lnTo>
                    <a:pt x="202" y="624"/>
                  </a:lnTo>
                  <a:lnTo>
                    <a:pt x="168" y="653"/>
                  </a:lnTo>
                  <a:lnTo>
                    <a:pt x="114" y="662"/>
                  </a:lnTo>
                  <a:lnTo>
                    <a:pt x="44" y="616"/>
                  </a:lnTo>
                  <a:lnTo>
                    <a:pt x="13" y="517"/>
                  </a:lnTo>
                  <a:lnTo>
                    <a:pt x="0" y="41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57120" y="4286520"/>
              <a:ext cx="285840" cy="537840"/>
            </a:xfrm>
            <a:custGeom>
              <a:avLst/>
              <a:gdLst/>
              <a:ahLst/>
              <a:rect l="l" t="t" r="r" b="b"/>
              <a:pathLst>
                <a:path w="286" h="1074">
                  <a:moveTo>
                    <a:pt x="42" y="69"/>
                  </a:moveTo>
                  <a:lnTo>
                    <a:pt x="77" y="23"/>
                  </a:lnTo>
                  <a:lnTo>
                    <a:pt x="118" y="7"/>
                  </a:lnTo>
                  <a:lnTo>
                    <a:pt x="157" y="0"/>
                  </a:lnTo>
                  <a:lnTo>
                    <a:pt x="207" y="11"/>
                  </a:lnTo>
                  <a:lnTo>
                    <a:pt x="263" y="69"/>
                  </a:lnTo>
                  <a:lnTo>
                    <a:pt x="286" y="172"/>
                  </a:lnTo>
                  <a:lnTo>
                    <a:pt x="286" y="329"/>
                  </a:lnTo>
                  <a:lnTo>
                    <a:pt x="284" y="478"/>
                  </a:lnTo>
                  <a:lnTo>
                    <a:pt x="255" y="705"/>
                  </a:lnTo>
                  <a:lnTo>
                    <a:pt x="233" y="891"/>
                  </a:lnTo>
                  <a:lnTo>
                    <a:pt x="207" y="1011"/>
                  </a:lnTo>
                  <a:lnTo>
                    <a:pt x="154" y="1074"/>
                  </a:lnTo>
                  <a:lnTo>
                    <a:pt x="77" y="1060"/>
                  </a:lnTo>
                  <a:lnTo>
                    <a:pt x="39" y="965"/>
                  </a:lnTo>
                  <a:lnTo>
                    <a:pt x="17" y="826"/>
                  </a:lnTo>
                  <a:lnTo>
                    <a:pt x="3" y="668"/>
                  </a:lnTo>
                  <a:lnTo>
                    <a:pt x="0" y="432"/>
                  </a:lnTo>
                  <a:lnTo>
                    <a:pt x="11" y="267"/>
                  </a:lnTo>
                  <a:lnTo>
                    <a:pt x="27" y="118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3000" y="4286520"/>
              <a:ext cx="168120" cy="659520"/>
            </a:xfrm>
            <a:custGeom>
              <a:avLst/>
              <a:gdLst/>
              <a:ahLst/>
              <a:rect l="l" t="t" r="r" b="b"/>
              <a:pathLst>
                <a:path w="168" h="1319">
                  <a:moveTo>
                    <a:pt x="114" y="8"/>
                  </a:moveTo>
                  <a:lnTo>
                    <a:pt x="155" y="0"/>
                  </a:lnTo>
                  <a:lnTo>
                    <a:pt x="168" y="58"/>
                  </a:lnTo>
                  <a:lnTo>
                    <a:pt x="148" y="132"/>
                  </a:lnTo>
                  <a:lnTo>
                    <a:pt x="117" y="173"/>
                  </a:lnTo>
                  <a:lnTo>
                    <a:pt x="92" y="271"/>
                  </a:lnTo>
                  <a:lnTo>
                    <a:pt x="60" y="404"/>
                  </a:lnTo>
                  <a:lnTo>
                    <a:pt x="48" y="527"/>
                  </a:lnTo>
                  <a:lnTo>
                    <a:pt x="40" y="738"/>
                  </a:lnTo>
                  <a:lnTo>
                    <a:pt x="48" y="936"/>
                  </a:lnTo>
                  <a:lnTo>
                    <a:pt x="64" y="1026"/>
                  </a:lnTo>
                  <a:lnTo>
                    <a:pt x="53" y="1126"/>
                  </a:lnTo>
                  <a:lnTo>
                    <a:pt x="40" y="1200"/>
                  </a:lnTo>
                  <a:lnTo>
                    <a:pt x="45" y="1319"/>
                  </a:lnTo>
                  <a:lnTo>
                    <a:pt x="25" y="1310"/>
                  </a:lnTo>
                  <a:lnTo>
                    <a:pt x="8" y="1212"/>
                  </a:lnTo>
                  <a:lnTo>
                    <a:pt x="0" y="1126"/>
                  </a:lnTo>
                  <a:lnTo>
                    <a:pt x="23" y="1010"/>
                  </a:lnTo>
                  <a:lnTo>
                    <a:pt x="15" y="903"/>
                  </a:lnTo>
                  <a:lnTo>
                    <a:pt x="8" y="729"/>
                  </a:lnTo>
                  <a:lnTo>
                    <a:pt x="8" y="520"/>
                  </a:lnTo>
                  <a:lnTo>
                    <a:pt x="23" y="297"/>
                  </a:lnTo>
                  <a:lnTo>
                    <a:pt x="48" y="132"/>
                  </a:lnTo>
                  <a:lnTo>
                    <a:pt x="76" y="46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13440" y="4301640"/>
              <a:ext cx="106200" cy="628200"/>
            </a:xfrm>
            <a:custGeom>
              <a:avLst/>
              <a:gdLst/>
              <a:ahLst/>
              <a:rect l="l" t="t" r="r" b="b"/>
              <a:pathLst>
                <a:path w="106" h="1253">
                  <a:moveTo>
                    <a:pt x="2" y="3"/>
                  </a:moveTo>
                  <a:lnTo>
                    <a:pt x="46" y="0"/>
                  </a:lnTo>
                  <a:lnTo>
                    <a:pt x="75" y="98"/>
                  </a:lnTo>
                  <a:lnTo>
                    <a:pt x="106" y="370"/>
                  </a:lnTo>
                  <a:lnTo>
                    <a:pt x="106" y="684"/>
                  </a:lnTo>
                  <a:lnTo>
                    <a:pt x="90" y="951"/>
                  </a:lnTo>
                  <a:lnTo>
                    <a:pt x="106" y="1042"/>
                  </a:lnTo>
                  <a:lnTo>
                    <a:pt x="106" y="1165"/>
                  </a:lnTo>
                  <a:lnTo>
                    <a:pt x="90" y="1253"/>
                  </a:lnTo>
                  <a:lnTo>
                    <a:pt x="70" y="1174"/>
                  </a:lnTo>
                  <a:lnTo>
                    <a:pt x="60" y="1054"/>
                  </a:lnTo>
                  <a:lnTo>
                    <a:pt x="38" y="963"/>
                  </a:lnTo>
                  <a:lnTo>
                    <a:pt x="63" y="881"/>
                  </a:lnTo>
                  <a:lnTo>
                    <a:pt x="78" y="684"/>
                  </a:lnTo>
                  <a:lnTo>
                    <a:pt x="78" y="498"/>
                  </a:lnTo>
                  <a:lnTo>
                    <a:pt x="63" y="312"/>
                  </a:lnTo>
                  <a:lnTo>
                    <a:pt x="33" y="177"/>
                  </a:lnTo>
                  <a:lnTo>
                    <a:pt x="0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58920" y="4716000"/>
              <a:ext cx="240120" cy="754200"/>
            </a:xfrm>
            <a:custGeom>
              <a:avLst/>
              <a:gdLst/>
              <a:ahLst/>
              <a:rect l="l" t="t" r="r" b="b"/>
              <a:pathLst>
                <a:path w="241" h="1507">
                  <a:moveTo>
                    <a:pt x="24" y="0"/>
                  </a:moveTo>
                  <a:lnTo>
                    <a:pt x="52" y="63"/>
                  </a:lnTo>
                  <a:lnTo>
                    <a:pt x="62" y="127"/>
                  </a:lnTo>
                  <a:lnTo>
                    <a:pt x="73" y="345"/>
                  </a:lnTo>
                  <a:lnTo>
                    <a:pt x="79" y="492"/>
                  </a:lnTo>
                  <a:lnTo>
                    <a:pt x="79" y="743"/>
                  </a:lnTo>
                  <a:lnTo>
                    <a:pt x="77" y="978"/>
                  </a:lnTo>
                  <a:lnTo>
                    <a:pt x="66" y="1167"/>
                  </a:lnTo>
                  <a:lnTo>
                    <a:pt x="57" y="1225"/>
                  </a:lnTo>
                  <a:lnTo>
                    <a:pt x="116" y="1256"/>
                  </a:lnTo>
                  <a:lnTo>
                    <a:pt x="167" y="1293"/>
                  </a:lnTo>
                  <a:lnTo>
                    <a:pt x="233" y="1370"/>
                  </a:lnTo>
                  <a:lnTo>
                    <a:pt x="241" y="1403"/>
                  </a:lnTo>
                  <a:lnTo>
                    <a:pt x="235" y="1459"/>
                  </a:lnTo>
                  <a:lnTo>
                    <a:pt x="201" y="1507"/>
                  </a:lnTo>
                  <a:lnTo>
                    <a:pt x="188" y="1480"/>
                  </a:lnTo>
                  <a:lnTo>
                    <a:pt x="178" y="1418"/>
                  </a:lnTo>
                  <a:lnTo>
                    <a:pt x="147" y="1366"/>
                  </a:lnTo>
                  <a:lnTo>
                    <a:pt x="91" y="1308"/>
                  </a:lnTo>
                  <a:lnTo>
                    <a:pt x="55" y="1293"/>
                  </a:lnTo>
                  <a:lnTo>
                    <a:pt x="12" y="1293"/>
                  </a:lnTo>
                  <a:lnTo>
                    <a:pt x="12" y="1245"/>
                  </a:lnTo>
                  <a:lnTo>
                    <a:pt x="33" y="1193"/>
                  </a:lnTo>
                  <a:lnTo>
                    <a:pt x="52" y="1025"/>
                  </a:lnTo>
                  <a:lnTo>
                    <a:pt x="57" y="847"/>
                  </a:lnTo>
                  <a:lnTo>
                    <a:pt x="55" y="691"/>
                  </a:lnTo>
                  <a:lnTo>
                    <a:pt x="52" y="492"/>
                  </a:lnTo>
                  <a:lnTo>
                    <a:pt x="41" y="320"/>
                  </a:lnTo>
                  <a:lnTo>
                    <a:pt x="17" y="193"/>
                  </a:lnTo>
                  <a:lnTo>
                    <a:pt x="0" y="79"/>
                  </a:lnTo>
                  <a:lnTo>
                    <a:pt x="5" y="3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16960" y="4716000"/>
              <a:ext cx="224280" cy="679320"/>
            </a:xfrm>
            <a:custGeom>
              <a:avLst/>
              <a:gdLst/>
              <a:ahLst/>
              <a:rect l="l" t="t" r="r" b="b"/>
              <a:pathLst>
                <a:path w="223" h="1355">
                  <a:moveTo>
                    <a:pt x="0" y="107"/>
                  </a:moveTo>
                  <a:lnTo>
                    <a:pt x="0" y="21"/>
                  </a:lnTo>
                  <a:lnTo>
                    <a:pt x="23" y="0"/>
                  </a:lnTo>
                  <a:lnTo>
                    <a:pt x="59" y="0"/>
                  </a:lnTo>
                  <a:lnTo>
                    <a:pt x="85" y="50"/>
                  </a:lnTo>
                  <a:lnTo>
                    <a:pt x="90" y="95"/>
                  </a:lnTo>
                  <a:lnTo>
                    <a:pt x="85" y="194"/>
                  </a:lnTo>
                  <a:lnTo>
                    <a:pt x="67" y="318"/>
                  </a:lnTo>
                  <a:lnTo>
                    <a:pt x="59" y="506"/>
                  </a:lnTo>
                  <a:lnTo>
                    <a:pt x="54" y="631"/>
                  </a:lnTo>
                  <a:lnTo>
                    <a:pt x="54" y="651"/>
                  </a:lnTo>
                  <a:lnTo>
                    <a:pt x="62" y="824"/>
                  </a:lnTo>
                  <a:lnTo>
                    <a:pt x="75" y="922"/>
                  </a:lnTo>
                  <a:lnTo>
                    <a:pt x="85" y="1001"/>
                  </a:lnTo>
                  <a:lnTo>
                    <a:pt x="82" y="1034"/>
                  </a:lnTo>
                  <a:lnTo>
                    <a:pt x="115" y="1125"/>
                  </a:lnTo>
                  <a:lnTo>
                    <a:pt x="151" y="1182"/>
                  </a:lnTo>
                  <a:lnTo>
                    <a:pt x="190" y="1236"/>
                  </a:lnTo>
                  <a:lnTo>
                    <a:pt x="223" y="1261"/>
                  </a:lnTo>
                  <a:lnTo>
                    <a:pt x="223" y="1306"/>
                  </a:lnTo>
                  <a:lnTo>
                    <a:pt x="206" y="1343"/>
                  </a:lnTo>
                  <a:lnTo>
                    <a:pt x="162" y="1355"/>
                  </a:lnTo>
                  <a:lnTo>
                    <a:pt x="131" y="1331"/>
                  </a:lnTo>
                  <a:lnTo>
                    <a:pt x="131" y="1298"/>
                  </a:lnTo>
                  <a:lnTo>
                    <a:pt x="105" y="1182"/>
                  </a:lnTo>
                  <a:lnTo>
                    <a:pt x="62" y="1120"/>
                  </a:lnTo>
                  <a:lnTo>
                    <a:pt x="31" y="1059"/>
                  </a:lnTo>
                  <a:lnTo>
                    <a:pt x="8" y="1026"/>
                  </a:lnTo>
                  <a:lnTo>
                    <a:pt x="15" y="985"/>
                  </a:lnTo>
                  <a:lnTo>
                    <a:pt x="28" y="873"/>
                  </a:lnTo>
                  <a:lnTo>
                    <a:pt x="28" y="664"/>
                  </a:lnTo>
                  <a:lnTo>
                    <a:pt x="23" y="515"/>
                  </a:lnTo>
                  <a:lnTo>
                    <a:pt x="23" y="367"/>
                  </a:lnTo>
                  <a:lnTo>
                    <a:pt x="20" y="20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62120" y="3886200"/>
            <a:ext cx="329760" cy="1566360"/>
            <a:chOff x="762120" y="3886200"/>
            <a:chExt cx="329760" cy="1566360"/>
          </a:xfrm>
        </p:grpSpPr>
        <p:sp>
          <p:nvSpPr>
            <p:cNvPr id="664" name=""/>
            <p:cNvSpPr/>
            <p:nvPr/>
          </p:nvSpPr>
          <p:spPr>
            <a:xfrm>
              <a:off x="858240" y="388620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9880" y="425304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2120" y="425088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08720" y="426960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9880" y="468684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43200" y="468900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360520" y="3919680"/>
            <a:ext cx="329760" cy="1566360"/>
            <a:chOff x="2360520" y="3919680"/>
            <a:chExt cx="329760" cy="1566360"/>
          </a:xfrm>
        </p:grpSpPr>
        <p:sp>
          <p:nvSpPr>
            <p:cNvPr id="671" name=""/>
            <p:cNvSpPr/>
            <p:nvPr/>
          </p:nvSpPr>
          <p:spPr>
            <a:xfrm>
              <a:off x="2456640" y="391968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428652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60520" y="428436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07120" y="430308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38280" y="472032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41600" y="472248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746440" y="4205160"/>
            <a:ext cx="25876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ogrami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819520" y="213372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On-site customer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895480" y="2666880"/>
            <a:ext cx="60962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Nie musisz być wydajny, byleś był skutecz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Klient powinien cały czas pracować z zespoł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Uczyń klienta swoim przywódcą („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co robić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” ważniejsze niż „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jak robić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73160" y="3994200"/>
            <a:ext cx="1579320" cy="1644480"/>
            <a:chOff x="173160" y="3994200"/>
            <a:chExt cx="1579320" cy="1644480"/>
          </a:xfrm>
        </p:grpSpPr>
        <p:sp>
          <p:nvSpPr>
            <p:cNvPr id="682" name=""/>
            <p:cNvSpPr/>
            <p:nvPr/>
          </p:nvSpPr>
          <p:spPr>
            <a:xfrm>
              <a:off x="173160" y="3994200"/>
              <a:ext cx="1579320" cy="1644480"/>
            </a:xfrm>
            <a:custGeom>
              <a:avLst/>
              <a:gdLst/>
              <a:ahLst/>
              <a:rect l="l" t="t" r="r" b="b"/>
              <a:pathLst>
                <a:path w="2086" h="2456">
                  <a:moveTo>
                    <a:pt x="729" y="455"/>
                  </a:moveTo>
                  <a:lnTo>
                    <a:pt x="606" y="571"/>
                  </a:lnTo>
                  <a:lnTo>
                    <a:pt x="460" y="688"/>
                  </a:lnTo>
                  <a:lnTo>
                    <a:pt x="303" y="874"/>
                  </a:lnTo>
                  <a:lnTo>
                    <a:pt x="135" y="1118"/>
                  </a:lnTo>
                  <a:lnTo>
                    <a:pt x="45" y="1328"/>
                  </a:lnTo>
                  <a:lnTo>
                    <a:pt x="0" y="1491"/>
                  </a:lnTo>
                  <a:lnTo>
                    <a:pt x="0" y="1595"/>
                  </a:lnTo>
                  <a:lnTo>
                    <a:pt x="12" y="1817"/>
                  </a:lnTo>
                  <a:lnTo>
                    <a:pt x="45" y="1980"/>
                  </a:lnTo>
                  <a:lnTo>
                    <a:pt x="135" y="2084"/>
                  </a:lnTo>
                  <a:lnTo>
                    <a:pt x="314" y="2213"/>
                  </a:lnTo>
                  <a:lnTo>
                    <a:pt x="483" y="2294"/>
                  </a:lnTo>
                  <a:lnTo>
                    <a:pt x="695" y="2375"/>
                  </a:lnTo>
                  <a:lnTo>
                    <a:pt x="818" y="2422"/>
                  </a:lnTo>
                  <a:lnTo>
                    <a:pt x="1032" y="2456"/>
                  </a:lnTo>
                  <a:lnTo>
                    <a:pt x="1357" y="2422"/>
                  </a:lnTo>
                  <a:lnTo>
                    <a:pt x="1637" y="2341"/>
                  </a:lnTo>
                  <a:lnTo>
                    <a:pt x="1816" y="2224"/>
                  </a:lnTo>
                  <a:lnTo>
                    <a:pt x="1929" y="2096"/>
                  </a:lnTo>
                  <a:lnTo>
                    <a:pt x="1996" y="1968"/>
                  </a:lnTo>
                  <a:lnTo>
                    <a:pt x="2063" y="1805"/>
                  </a:lnTo>
                  <a:lnTo>
                    <a:pt x="2086" y="1619"/>
                  </a:lnTo>
                  <a:lnTo>
                    <a:pt x="2086" y="1363"/>
                  </a:lnTo>
                  <a:lnTo>
                    <a:pt x="2041" y="1200"/>
                  </a:lnTo>
                  <a:lnTo>
                    <a:pt x="1951" y="1025"/>
                  </a:lnTo>
                  <a:lnTo>
                    <a:pt x="1827" y="862"/>
                  </a:lnTo>
                  <a:lnTo>
                    <a:pt x="1693" y="733"/>
                  </a:lnTo>
                  <a:lnTo>
                    <a:pt x="1559" y="629"/>
                  </a:lnTo>
                  <a:lnTo>
                    <a:pt x="1368" y="536"/>
                  </a:lnTo>
                  <a:lnTo>
                    <a:pt x="1357" y="478"/>
                  </a:lnTo>
                  <a:lnTo>
                    <a:pt x="1525" y="291"/>
                  </a:lnTo>
                  <a:lnTo>
                    <a:pt x="1536" y="175"/>
                  </a:lnTo>
                  <a:lnTo>
                    <a:pt x="1346" y="291"/>
                  </a:lnTo>
                  <a:lnTo>
                    <a:pt x="1413" y="82"/>
                  </a:lnTo>
                  <a:lnTo>
                    <a:pt x="1391" y="71"/>
                  </a:lnTo>
                  <a:lnTo>
                    <a:pt x="1323" y="71"/>
                  </a:lnTo>
                  <a:lnTo>
                    <a:pt x="1211" y="210"/>
                  </a:lnTo>
                  <a:lnTo>
                    <a:pt x="1144" y="291"/>
                  </a:lnTo>
                  <a:lnTo>
                    <a:pt x="1166" y="140"/>
                  </a:lnTo>
                  <a:lnTo>
                    <a:pt x="1211" y="24"/>
                  </a:lnTo>
                  <a:lnTo>
                    <a:pt x="1177" y="0"/>
                  </a:lnTo>
                  <a:lnTo>
                    <a:pt x="1099" y="71"/>
                  </a:lnTo>
                  <a:lnTo>
                    <a:pt x="1021" y="244"/>
                  </a:lnTo>
                  <a:lnTo>
                    <a:pt x="987" y="152"/>
                  </a:lnTo>
                  <a:lnTo>
                    <a:pt x="920" y="116"/>
                  </a:lnTo>
                  <a:lnTo>
                    <a:pt x="875" y="233"/>
                  </a:lnTo>
                  <a:lnTo>
                    <a:pt x="864" y="303"/>
                  </a:lnTo>
                  <a:lnTo>
                    <a:pt x="740" y="140"/>
                  </a:lnTo>
                  <a:lnTo>
                    <a:pt x="583" y="12"/>
                  </a:lnTo>
                  <a:lnTo>
                    <a:pt x="539" y="35"/>
                  </a:lnTo>
                  <a:lnTo>
                    <a:pt x="527" y="105"/>
                  </a:lnTo>
                  <a:lnTo>
                    <a:pt x="583" y="210"/>
                  </a:lnTo>
                  <a:lnTo>
                    <a:pt x="650" y="338"/>
                  </a:lnTo>
                  <a:lnTo>
                    <a:pt x="818" y="560"/>
                  </a:lnTo>
                  <a:lnTo>
                    <a:pt x="796" y="605"/>
                  </a:lnTo>
                  <a:lnTo>
                    <a:pt x="762" y="629"/>
                  </a:lnTo>
                  <a:lnTo>
                    <a:pt x="785" y="675"/>
                  </a:lnTo>
                  <a:lnTo>
                    <a:pt x="931" y="733"/>
                  </a:lnTo>
                  <a:lnTo>
                    <a:pt x="1166" y="733"/>
                  </a:lnTo>
                  <a:lnTo>
                    <a:pt x="1368" y="711"/>
                  </a:lnTo>
                  <a:lnTo>
                    <a:pt x="1436" y="641"/>
                  </a:lnTo>
                  <a:lnTo>
                    <a:pt x="1391" y="618"/>
                  </a:lnTo>
                  <a:lnTo>
                    <a:pt x="1346" y="652"/>
                  </a:lnTo>
                  <a:lnTo>
                    <a:pt x="1222" y="664"/>
                  </a:lnTo>
                  <a:lnTo>
                    <a:pt x="1099" y="688"/>
                  </a:lnTo>
                  <a:lnTo>
                    <a:pt x="965" y="664"/>
                  </a:lnTo>
                  <a:lnTo>
                    <a:pt x="1166" y="641"/>
                  </a:lnTo>
                  <a:lnTo>
                    <a:pt x="1300" y="594"/>
                  </a:lnTo>
                  <a:lnTo>
                    <a:pt x="1323" y="571"/>
                  </a:lnTo>
                  <a:lnTo>
                    <a:pt x="1267" y="547"/>
                  </a:lnTo>
                  <a:lnTo>
                    <a:pt x="1200" y="583"/>
                  </a:lnTo>
                  <a:lnTo>
                    <a:pt x="1043" y="605"/>
                  </a:lnTo>
                  <a:lnTo>
                    <a:pt x="931" y="594"/>
                  </a:lnTo>
                  <a:lnTo>
                    <a:pt x="875" y="571"/>
                  </a:lnTo>
                  <a:lnTo>
                    <a:pt x="898" y="513"/>
                  </a:lnTo>
                  <a:lnTo>
                    <a:pt x="796" y="432"/>
                  </a:lnTo>
                  <a:lnTo>
                    <a:pt x="695" y="327"/>
                  </a:lnTo>
                  <a:lnTo>
                    <a:pt x="639" y="222"/>
                  </a:lnTo>
                  <a:lnTo>
                    <a:pt x="617" y="152"/>
                  </a:lnTo>
                  <a:lnTo>
                    <a:pt x="617" y="129"/>
                  </a:lnTo>
                  <a:lnTo>
                    <a:pt x="639" y="129"/>
                  </a:lnTo>
                  <a:lnTo>
                    <a:pt x="695" y="175"/>
                  </a:lnTo>
                  <a:lnTo>
                    <a:pt x="773" y="280"/>
                  </a:lnTo>
                  <a:lnTo>
                    <a:pt x="875" y="408"/>
                  </a:lnTo>
                  <a:lnTo>
                    <a:pt x="898" y="443"/>
                  </a:lnTo>
                  <a:lnTo>
                    <a:pt x="942" y="419"/>
                  </a:lnTo>
                  <a:lnTo>
                    <a:pt x="920" y="350"/>
                  </a:lnTo>
                  <a:lnTo>
                    <a:pt x="931" y="303"/>
                  </a:lnTo>
                  <a:lnTo>
                    <a:pt x="942" y="244"/>
                  </a:lnTo>
                  <a:lnTo>
                    <a:pt x="965" y="244"/>
                  </a:lnTo>
                  <a:lnTo>
                    <a:pt x="987" y="315"/>
                  </a:lnTo>
                  <a:lnTo>
                    <a:pt x="998" y="361"/>
                  </a:lnTo>
                  <a:lnTo>
                    <a:pt x="1032" y="373"/>
                  </a:lnTo>
                  <a:lnTo>
                    <a:pt x="1077" y="268"/>
                  </a:lnTo>
                  <a:lnTo>
                    <a:pt x="1099" y="233"/>
                  </a:lnTo>
                  <a:lnTo>
                    <a:pt x="1110" y="291"/>
                  </a:lnTo>
                  <a:lnTo>
                    <a:pt x="1110" y="385"/>
                  </a:lnTo>
                  <a:lnTo>
                    <a:pt x="1144" y="408"/>
                  </a:lnTo>
                  <a:lnTo>
                    <a:pt x="1200" y="327"/>
                  </a:lnTo>
                  <a:lnTo>
                    <a:pt x="1256" y="222"/>
                  </a:lnTo>
                  <a:lnTo>
                    <a:pt x="1312" y="199"/>
                  </a:lnTo>
                  <a:lnTo>
                    <a:pt x="1312" y="210"/>
                  </a:lnTo>
                  <a:lnTo>
                    <a:pt x="1278" y="280"/>
                  </a:lnTo>
                  <a:lnTo>
                    <a:pt x="1244" y="385"/>
                  </a:lnTo>
                  <a:lnTo>
                    <a:pt x="1278" y="396"/>
                  </a:lnTo>
                  <a:lnTo>
                    <a:pt x="1458" y="268"/>
                  </a:lnTo>
                  <a:lnTo>
                    <a:pt x="1480" y="268"/>
                  </a:lnTo>
                  <a:lnTo>
                    <a:pt x="1312" y="443"/>
                  </a:lnTo>
                  <a:lnTo>
                    <a:pt x="1278" y="478"/>
                  </a:lnTo>
                  <a:lnTo>
                    <a:pt x="1267" y="536"/>
                  </a:lnTo>
                  <a:lnTo>
                    <a:pt x="1300" y="560"/>
                  </a:lnTo>
                  <a:lnTo>
                    <a:pt x="1402" y="605"/>
                  </a:lnTo>
                  <a:lnTo>
                    <a:pt x="1570" y="699"/>
                  </a:lnTo>
                  <a:lnTo>
                    <a:pt x="1682" y="792"/>
                  </a:lnTo>
                  <a:lnTo>
                    <a:pt x="1816" y="932"/>
                  </a:lnTo>
                  <a:lnTo>
                    <a:pt x="1918" y="1083"/>
                  </a:lnTo>
                  <a:lnTo>
                    <a:pt x="1985" y="1246"/>
                  </a:lnTo>
                  <a:lnTo>
                    <a:pt x="2030" y="1456"/>
                  </a:lnTo>
                  <a:lnTo>
                    <a:pt x="2018" y="1607"/>
                  </a:lnTo>
                  <a:lnTo>
                    <a:pt x="2007" y="1770"/>
                  </a:lnTo>
                  <a:lnTo>
                    <a:pt x="1940" y="1945"/>
                  </a:lnTo>
                  <a:lnTo>
                    <a:pt x="1873" y="2072"/>
                  </a:lnTo>
                  <a:lnTo>
                    <a:pt x="1794" y="2142"/>
                  </a:lnTo>
                  <a:lnTo>
                    <a:pt x="1704" y="2236"/>
                  </a:lnTo>
                  <a:lnTo>
                    <a:pt x="1536" y="2306"/>
                  </a:lnTo>
                  <a:lnTo>
                    <a:pt x="1334" y="2364"/>
                  </a:lnTo>
                  <a:lnTo>
                    <a:pt x="1233" y="2375"/>
                  </a:lnTo>
                  <a:lnTo>
                    <a:pt x="1043" y="2375"/>
                  </a:lnTo>
                  <a:lnTo>
                    <a:pt x="864" y="2352"/>
                  </a:lnTo>
                  <a:lnTo>
                    <a:pt x="650" y="2294"/>
                  </a:lnTo>
                  <a:lnTo>
                    <a:pt x="449" y="2200"/>
                  </a:lnTo>
                  <a:lnTo>
                    <a:pt x="291" y="2108"/>
                  </a:lnTo>
                  <a:lnTo>
                    <a:pt x="157" y="2003"/>
                  </a:lnTo>
                  <a:lnTo>
                    <a:pt x="101" y="1922"/>
                  </a:lnTo>
                  <a:lnTo>
                    <a:pt x="90" y="1839"/>
                  </a:lnTo>
                  <a:lnTo>
                    <a:pt x="68" y="1595"/>
                  </a:lnTo>
                  <a:lnTo>
                    <a:pt x="79" y="1433"/>
                  </a:lnTo>
                  <a:lnTo>
                    <a:pt x="146" y="1258"/>
                  </a:lnTo>
                  <a:lnTo>
                    <a:pt x="235" y="1060"/>
                  </a:lnTo>
                  <a:lnTo>
                    <a:pt x="393" y="885"/>
                  </a:lnTo>
                  <a:lnTo>
                    <a:pt x="539" y="688"/>
                  </a:lnTo>
                  <a:lnTo>
                    <a:pt x="673" y="583"/>
                  </a:lnTo>
                  <a:lnTo>
                    <a:pt x="751" y="513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3800" y="4641480"/>
              <a:ext cx="322200" cy="505800"/>
            </a:xfrm>
            <a:custGeom>
              <a:avLst/>
              <a:gdLst/>
              <a:ahLst/>
              <a:rect l="l" t="t" r="r" b="b"/>
              <a:pathLst>
                <a:path w="426" h="756">
                  <a:moveTo>
                    <a:pt x="258" y="139"/>
                  </a:moveTo>
                  <a:lnTo>
                    <a:pt x="336" y="150"/>
                  </a:lnTo>
                  <a:lnTo>
                    <a:pt x="403" y="209"/>
                  </a:lnTo>
                  <a:lnTo>
                    <a:pt x="426" y="267"/>
                  </a:lnTo>
                  <a:lnTo>
                    <a:pt x="347" y="290"/>
                  </a:lnTo>
                  <a:lnTo>
                    <a:pt x="302" y="243"/>
                  </a:lnTo>
                  <a:lnTo>
                    <a:pt x="247" y="220"/>
                  </a:lnTo>
                  <a:lnTo>
                    <a:pt x="191" y="209"/>
                  </a:lnTo>
                  <a:lnTo>
                    <a:pt x="101" y="232"/>
                  </a:lnTo>
                  <a:lnTo>
                    <a:pt x="79" y="290"/>
                  </a:lnTo>
                  <a:lnTo>
                    <a:pt x="124" y="337"/>
                  </a:lnTo>
                  <a:lnTo>
                    <a:pt x="235" y="371"/>
                  </a:lnTo>
                  <a:lnTo>
                    <a:pt x="347" y="371"/>
                  </a:lnTo>
                  <a:lnTo>
                    <a:pt x="381" y="406"/>
                  </a:lnTo>
                  <a:lnTo>
                    <a:pt x="403" y="465"/>
                  </a:lnTo>
                  <a:lnTo>
                    <a:pt x="392" y="534"/>
                  </a:lnTo>
                  <a:lnTo>
                    <a:pt x="325" y="581"/>
                  </a:lnTo>
                  <a:lnTo>
                    <a:pt x="247" y="581"/>
                  </a:lnTo>
                  <a:lnTo>
                    <a:pt x="191" y="581"/>
                  </a:lnTo>
                  <a:lnTo>
                    <a:pt x="168" y="639"/>
                  </a:lnTo>
                  <a:lnTo>
                    <a:pt x="179" y="743"/>
                  </a:lnTo>
                  <a:lnTo>
                    <a:pt x="101" y="756"/>
                  </a:lnTo>
                  <a:lnTo>
                    <a:pt x="90" y="674"/>
                  </a:lnTo>
                  <a:lnTo>
                    <a:pt x="112" y="581"/>
                  </a:lnTo>
                  <a:lnTo>
                    <a:pt x="45" y="546"/>
                  </a:lnTo>
                  <a:lnTo>
                    <a:pt x="0" y="511"/>
                  </a:lnTo>
                  <a:lnTo>
                    <a:pt x="68" y="442"/>
                  </a:lnTo>
                  <a:lnTo>
                    <a:pt x="101" y="488"/>
                  </a:lnTo>
                  <a:lnTo>
                    <a:pt x="157" y="499"/>
                  </a:lnTo>
                  <a:lnTo>
                    <a:pt x="235" y="511"/>
                  </a:lnTo>
                  <a:lnTo>
                    <a:pt x="302" y="511"/>
                  </a:lnTo>
                  <a:lnTo>
                    <a:pt x="336" y="499"/>
                  </a:lnTo>
                  <a:lnTo>
                    <a:pt x="314" y="453"/>
                  </a:lnTo>
                  <a:lnTo>
                    <a:pt x="258" y="442"/>
                  </a:lnTo>
                  <a:lnTo>
                    <a:pt x="157" y="418"/>
                  </a:lnTo>
                  <a:lnTo>
                    <a:pt x="56" y="383"/>
                  </a:lnTo>
                  <a:lnTo>
                    <a:pt x="23" y="325"/>
                  </a:lnTo>
                  <a:lnTo>
                    <a:pt x="11" y="255"/>
                  </a:lnTo>
                  <a:lnTo>
                    <a:pt x="68" y="185"/>
                  </a:lnTo>
                  <a:lnTo>
                    <a:pt x="146" y="128"/>
                  </a:lnTo>
                  <a:lnTo>
                    <a:pt x="202" y="128"/>
                  </a:lnTo>
                  <a:lnTo>
                    <a:pt x="224" y="0"/>
                  </a:lnTo>
                  <a:lnTo>
                    <a:pt x="291" y="11"/>
                  </a:lnTo>
                  <a:lnTo>
                    <a:pt x="258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6800" y="4618800"/>
              <a:ext cx="136080" cy="17928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0" y="210"/>
                  </a:moveTo>
                  <a:lnTo>
                    <a:pt x="78" y="70"/>
                  </a:lnTo>
                  <a:lnTo>
                    <a:pt x="179" y="0"/>
                  </a:lnTo>
                  <a:lnTo>
                    <a:pt x="179" y="36"/>
                  </a:lnTo>
                  <a:lnTo>
                    <a:pt x="111" y="117"/>
                  </a:lnTo>
                  <a:lnTo>
                    <a:pt x="33" y="269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05440" y="5069880"/>
              <a:ext cx="84600" cy="124200"/>
            </a:xfrm>
            <a:custGeom>
              <a:avLst/>
              <a:gdLst/>
              <a:ahLst/>
              <a:rect l="l" t="t" r="r" b="b"/>
              <a:pathLst>
                <a:path w="112" h="187">
                  <a:moveTo>
                    <a:pt x="112" y="0"/>
                  </a:moveTo>
                  <a:lnTo>
                    <a:pt x="34" y="116"/>
                  </a:lnTo>
                  <a:lnTo>
                    <a:pt x="0" y="163"/>
                  </a:lnTo>
                  <a:lnTo>
                    <a:pt x="45" y="187"/>
                  </a:lnTo>
                  <a:lnTo>
                    <a:pt x="78" y="163"/>
                  </a:lnTo>
                  <a:lnTo>
                    <a:pt x="112" y="82"/>
                  </a:lnTo>
                  <a:lnTo>
                    <a:pt x="112" y="4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477720" y="2927520"/>
            <a:ext cx="1067040" cy="1992240"/>
            <a:chOff x="477720" y="2927520"/>
            <a:chExt cx="1067040" cy="1992240"/>
          </a:xfrm>
        </p:grpSpPr>
        <p:sp>
          <p:nvSpPr>
            <p:cNvPr id="687" name=""/>
            <p:cNvSpPr/>
            <p:nvPr/>
          </p:nvSpPr>
          <p:spPr>
            <a:xfrm>
              <a:off x="843840" y="3409560"/>
              <a:ext cx="389520" cy="671400"/>
            </a:xfrm>
            <a:custGeom>
              <a:avLst/>
              <a:gdLst/>
              <a:ahLst/>
              <a:rect l="l" t="t" r="r" b="b"/>
              <a:pathLst>
                <a:path w="334" h="504">
                  <a:moveTo>
                    <a:pt x="46" y="241"/>
                  </a:moveTo>
                  <a:lnTo>
                    <a:pt x="73" y="154"/>
                  </a:lnTo>
                  <a:lnTo>
                    <a:pt x="102" y="81"/>
                  </a:lnTo>
                  <a:lnTo>
                    <a:pt x="131" y="22"/>
                  </a:lnTo>
                  <a:lnTo>
                    <a:pt x="182" y="0"/>
                  </a:lnTo>
                  <a:lnTo>
                    <a:pt x="242" y="0"/>
                  </a:lnTo>
                  <a:lnTo>
                    <a:pt x="290" y="22"/>
                  </a:lnTo>
                  <a:lnTo>
                    <a:pt x="322" y="68"/>
                  </a:lnTo>
                  <a:lnTo>
                    <a:pt x="327" y="156"/>
                  </a:lnTo>
                  <a:lnTo>
                    <a:pt x="334" y="266"/>
                  </a:lnTo>
                  <a:lnTo>
                    <a:pt x="322" y="368"/>
                  </a:lnTo>
                  <a:lnTo>
                    <a:pt x="312" y="419"/>
                  </a:lnTo>
                  <a:lnTo>
                    <a:pt x="293" y="460"/>
                  </a:lnTo>
                  <a:lnTo>
                    <a:pt x="261" y="475"/>
                  </a:lnTo>
                  <a:lnTo>
                    <a:pt x="174" y="499"/>
                  </a:lnTo>
                  <a:lnTo>
                    <a:pt x="119" y="504"/>
                  </a:lnTo>
                  <a:lnTo>
                    <a:pt x="31" y="482"/>
                  </a:lnTo>
                  <a:lnTo>
                    <a:pt x="0" y="417"/>
                  </a:lnTo>
                  <a:lnTo>
                    <a:pt x="7" y="353"/>
                  </a:lnTo>
                  <a:lnTo>
                    <a:pt x="39" y="263"/>
                  </a:lnTo>
                  <a:lnTo>
                    <a:pt x="46" y="2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68200" y="3454920"/>
              <a:ext cx="376560" cy="852840"/>
            </a:xfrm>
            <a:custGeom>
              <a:avLst/>
              <a:gdLst/>
              <a:ahLst/>
              <a:rect l="l" t="t" r="r" b="b"/>
              <a:pathLst>
                <a:path w="323" h="640">
                  <a:moveTo>
                    <a:pt x="14" y="8"/>
                  </a:moveTo>
                  <a:lnTo>
                    <a:pt x="51" y="0"/>
                  </a:lnTo>
                  <a:lnTo>
                    <a:pt x="102" y="30"/>
                  </a:lnTo>
                  <a:lnTo>
                    <a:pt x="148" y="96"/>
                  </a:lnTo>
                  <a:lnTo>
                    <a:pt x="204" y="186"/>
                  </a:lnTo>
                  <a:lnTo>
                    <a:pt x="226" y="271"/>
                  </a:lnTo>
                  <a:lnTo>
                    <a:pt x="233" y="376"/>
                  </a:lnTo>
                  <a:lnTo>
                    <a:pt x="228" y="440"/>
                  </a:lnTo>
                  <a:lnTo>
                    <a:pt x="228" y="476"/>
                  </a:lnTo>
                  <a:lnTo>
                    <a:pt x="279" y="515"/>
                  </a:lnTo>
                  <a:lnTo>
                    <a:pt x="306" y="566"/>
                  </a:lnTo>
                  <a:lnTo>
                    <a:pt x="323" y="610"/>
                  </a:lnTo>
                  <a:lnTo>
                    <a:pt x="308" y="640"/>
                  </a:lnTo>
                  <a:lnTo>
                    <a:pt x="279" y="640"/>
                  </a:lnTo>
                  <a:lnTo>
                    <a:pt x="247" y="618"/>
                  </a:lnTo>
                  <a:lnTo>
                    <a:pt x="243" y="579"/>
                  </a:lnTo>
                  <a:lnTo>
                    <a:pt x="226" y="530"/>
                  </a:lnTo>
                  <a:lnTo>
                    <a:pt x="196" y="500"/>
                  </a:lnTo>
                  <a:lnTo>
                    <a:pt x="167" y="491"/>
                  </a:lnTo>
                  <a:lnTo>
                    <a:pt x="138" y="491"/>
                  </a:lnTo>
                  <a:lnTo>
                    <a:pt x="133" y="469"/>
                  </a:lnTo>
                  <a:lnTo>
                    <a:pt x="162" y="461"/>
                  </a:lnTo>
                  <a:lnTo>
                    <a:pt x="192" y="457"/>
                  </a:lnTo>
                  <a:lnTo>
                    <a:pt x="204" y="410"/>
                  </a:lnTo>
                  <a:lnTo>
                    <a:pt x="206" y="337"/>
                  </a:lnTo>
                  <a:lnTo>
                    <a:pt x="196" y="257"/>
                  </a:lnTo>
                  <a:lnTo>
                    <a:pt x="170" y="193"/>
                  </a:lnTo>
                  <a:lnTo>
                    <a:pt x="141" y="140"/>
                  </a:lnTo>
                  <a:lnTo>
                    <a:pt x="111" y="113"/>
                  </a:lnTo>
                  <a:lnTo>
                    <a:pt x="73" y="91"/>
                  </a:lnTo>
                  <a:lnTo>
                    <a:pt x="31" y="69"/>
                  </a:lnTo>
                  <a:lnTo>
                    <a:pt x="2" y="54"/>
                  </a:lnTo>
                  <a:lnTo>
                    <a:pt x="0" y="25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7720" y="3429720"/>
              <a:ext cx="580680" cy="828360"/>
            </a:xfrm>
            <a:custGeom>
              <a:avLst/>
              <a:gdLst/>
              <a:ahLst/>
              <a:rect l="l" t="t" r="r" b="b"/>
              <a:pathLst>
                <a:path w="498" h="622">
                  <a:moveTo>
                    <a:pt x="243" y="125"/>
                  </a:moveTo>
                  <a:lnTo>
                    <a:pt x="316" y="66"/>
                  </a:lnTo>
                  <a:lnTo>
                    <a:pt x="394" y="15"/>
                  </a:lnTo>
                  <a:lnTo>
                    <a:pt x="440" y="0"/>
                  </a:lnTo>
                  <a:lnTo>
                    <a:pt x="496" y="10"/>
                  </a:lnTo>
                  <a:lnTo>
                    <a:pt x="498" y="51"/>
                  </a:lnTo>
                  <a:lnTo>
                    <a:pt x="469" y="98"/>
                  </a:lnTo>
                  <a:lnTo>
                    <a:pt x="440" y="90"/>
                  </a:lnTo>
                  <a:lnTo>
                    <a:pt x="408" y="73"/>
                  </a:lnTo>
                  <a:lnTo>
                    <a:pt x="367" y="73"/>
                  </a:lnTo>
                  <a:lnTo>
                    <a:pt x="309" y="110"/>
                  </a:lnTo>
                  <a:lnTo>
                    <a:pt x="265" y="154"/>
                  </a:lnTo>
                  <a:lnTo>
                    <a:pt x="190" y="234"/>
                  </a:lnTo>
                  <a:lnTo>
                    <a:pt x="148" y="325"/>
                  </a:lnTo>
                  <a:lnTo>
                    <a:pt x="119" y="388"/>
                  </a:lnTo>
                  <a:lnTo>
                    <a:pt x="105" y="449"/>
                  </a:lnTo>
                  <a:lnTo>
                    <a:pt x="117" y="456"/>
                  </a:lnTo>
                  <a:lnTo>
                    <a:pt x="153" y="456"/>
                  </a:lnTo>
                  <a:lnTo>
                    <a:pt x="192" y="464"/>
                  </a:lnTo>
                  <a:lnTo>
                    <a:pt x="197" y="483"/>
                  </a:lnTo>
                  <a:lnTo>
                    <a:pt x="170" y="500"/>
                  </a:lnTo>
                  <a:lnTo>
                    <a:pt x="131" y="508"/>
                  </a:lnTo>
                  <a:lnTo>
                    <a:pt x="83" y="534"/>
                  </a:lnTo>
                  <a:lnTo>
                    <a:pt x="54" y="573"/>
                  </a:lnTo>
                  <a:lnTo>
                    <a:pt x="46" y="617"/>
                  </a:lnTo>
                  <a:lnTo>
                    <a:pt x="25" y="622"/>
                  </a:lnTo>
                  <a:lnTo>
                    <a:pt x="3" y="600"/>
                  </a:lnTo>
                  <a:lnTo>
                    <a:pt x="0" y="559"/>
                  </a:lnTo>
                  <a:lnTo>
                    <a:pt x="22" y="522"/>
                  </a:lnTo>
                  <a:lnTo>
                    <a:pt x="68" y="469"/>
                  </a:lnTo>
                  <a:lnTo>
                    <a:pt x="88" y="410"/>
                  </a:lnTo>
                  <a:lnTo>
                    <a:pt x="110" y="344"/>
                  </a:lnTo>
                  <a:lnTo>
                    <a:pt x="139" y="266"/>
                  </a:lnTo>
                  <a:lnTo>
                    <a:pt x="175" y="200"/>
                  </a:lnTo>
                  <a:lnTo>
                    <a:pt x="214" y="149"/>
                  </a:lnTo>
                  <a:lnTo>
                    <a:pt x="243" y="12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04760" y="3941640"/>
              <a:ext cx="276480" cy="951120"/>
            </a:xfrm>
            <a:custGeom>
              <a:avLst/>
              <a:gdLst/>
              <a:ahLst/>
              <a:rect l="l" t="t" r="r" b="b"/>
              <a:pathLst>
                <a:path w="237" h="714">
                  <a:moveTo>
                    <a:pt x="95" y="245"/>
                  </a:moveTo>
                  <a:lnTo>
                    <a:pt x="110" y="179"/>
                  </a:lnTo>
                  <a:lnTo>
                    <a:pt x="110" y="149"/>
                  </a:lnTo>
                  <a:lnTo>
                    <a:pt x="83" y="118"/>
                  </a:lnTo>
                  <a:lnTo>
                    <a:pt x="24" y="96"/>
                  </a:lnTo>
                  <a:lnTo>
                    <a:pt x="24" y="62"/>
                  </a:lnTo>
                  <a:lnTo>
                    <a:pt x="61" y="18"/>
                  </a:lnTo>
                  <a:lnTo>
                    <a:pt x="95" y="0"/>
                  </a:lnTo>
                  <a:lnTo>
                    <a:pt x="141" y="3"/>
                  </a:lnTo>
                  <a:lnTo>
                    <a:pt x="161" y="18"/>
                  </a:lnTo>
                  <a:lnTo>
                    <a:pt x="183" y="59"/>
                  </a:lnTo>
                  <a:lnTo>
                    <a:pt x="215" y="103"/>
                  </a:lnTo>
                  <a:lnTo>
                    <a:pt x="234" y="149"/>
                  </a:lnTo>
                  <a:lnTo>
                    <a:pt x="237" y="171"/>
                  </a:lnTo>
                  <a:lnTo>
                    <a:pt x="227" y="198"/>
                  </a:lnTo>
                  <a:lnTo>
                    <a:pt x="200" y="252"/>
                  </a:lnTo>
                  <a:lnTo>
                    <a:pt x="168" y="318"/>
                  </a:lnTo>
                  <a:lnTo>
                    <a:pt x="127" y="396"/>
                  </a:lnTo>
                  <a:lnTo>
                    <a:pt x="102" y="435"/>
                  </a:lnTo>
                  <a:lnTo>
                    <a:pt x="66" y="464"/>
                  </a:lnTo>
                  <a:lnTo>
                    <a:pt x="68" y="484"/>
                  </a:lnTo>
                  <a:lnTo>
                    <a:pt x="97" y="501"/>
                  </a:lnTo>
                  <a:lnTo>
                    <a:pt x="134" y="530"/>
                  </a:lnTo>
                  <a:lnTo>
                    <a:pt x="168" y="572"/>
                  </a:lnTo>
                  <a:lnTo>
                    <a:pt x="183" y="618"/>
                  </a:lnTo>
                  <a:lnTo>
                    <a:pt x="193" y="689"/>
                  </a:lnTo>
                  <a:lnTo>
                    <a:pt x="185" y="714"/>
                  </a:lnTo>
                  <a:lnTo>
                    <a:pt x="163" y="714"/>
                  </a:lnTo>
                  <a:lnTo>
                    <a:pt x="124" y="692"/>
                  </a:lnTo>
                  <a:lnTo>
                    <a:pt x="112" y="677"/>
                  </a:lnTo>
                  <a:lnTo>
                    <a:pt x="112" y="652"/>
                  </a:lnTo>
                  <a:lnTo>
                    <a:pt x="117" y="611"/>
                  </a:lnTo>
                  <a:lnTo>
                    <a:pt x="102" y="567"/>
                  </a:lnTo>
                  <a:lnTo>
                    <a:pt x="73" y="538"/>
                  </a:lnTo>
                  <a:lnTo>
                    <a:pt x="46" y="516"/>
                  </a:lnTo>
                  <a:lnTo>
                    <a:pt x="17" y="516"/>
                  </a:lnTo>
                  <a:lnTo>
                    <a:pt x="0" y="494"/>
                  </a:lnTo>
                  <a:lnTo>
                    <a:pt x="2" y="469"/>
                  </a:lnTo>
                  <a:lnTo>
                    <a:pt x="29" y="440"/>
                  </a:lnTo>
                  <a:lnTo>
                    <a:pt x="61" y="377"/>
                  </a:lnTo>
                  <a:lnTo>
                    <a:pt x="73" y="345"/>
                  </a:lnTo>
                  <a:lnTo>
                    <a:pt x="83" y="301"/>
                  </a:lnTo>
                  <a:lnTo>
                    <a:pt x="95" y="259"/>
                  </a:lnTo>
                  <a:lnTo>
                    <a:pt x="95" y="24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0840" y="3937680"/>
              <a:ext cx="329760" cy="982080"/>
            </a:xfrm>
            <a:custGeom>
              <a:avLst/>
              <a:gdLst/>
              <a:ahLst/>
              <a:rect l="l" t="t" r="r" b="b"/>
              <a:pathLst>
                <a:path w="283" h="737">
                  <a:moveTo>
                    <a:pt x="75" y="132"/>
                  </a:moveTo>
                  <a:lnTo>
                    <a:pt x="109" y="66"/>
                  </a:lnTo>
                  <a:lnTo>
                    <a:pt x="140" y="27"/>
                  </a:lnTo>
                  <a:lnTo>
                    <a:pt x="196" y="0"/>
                  </a:lnTo>
                  <a:lnTo>
                    <a:pt x="254" y="0"/>
                  </a:lnTo>
                  <a:lnTo>
                    <a:pt x="283" y="27"/>
                  </a:lnTo>
                  <a:lnTo>
                    <a:pt x="283" y="57"/>
                  </a:lnTo>
                  <a:lnTo>
                    <a:pt x="246" y="88"/>
                  </a:lnTo>
                  <a:lnTo>
                    <a:pt x="205" y="110"/>
                  </a:lnTo>
                  <a:lnTo>
                    <a:pt x="174" y="137"/>
                  </a:lnTo>
                  <a:lnTo>
                    <a:pt x="159" y="174"/>
                  </a:lnTo>
                  <a:lnTo>
                    <a:pt x="159" y="235"/>
                  </a:lnTo>
                  <a:lnTo>
                    <a:pt x="174" y="293"/>
                  </a:lnTo>
                  <a:lnTo>
                    <a:pt x="176" y="374"/>
                  </a:lnTo>
                  <a:lnTo>
                    <a:pt x="188" y="430"/>
                  </a:lnTo>
                  <a:lnTo>
                    <a:pt x="196" y="484"/>
                  </a:lnTo>
                  <a:lnTo>
                    <a:pt x="196" y="525"/>
                  </a:lnTo>
                  <a:lnTo>
                    <a:pt x="176" y="540"/>
                  </a:lnTo>
                  <a:lnTo>
                    <a:pt x="152" y="535"/>
                  </a:lnTo>
                  <a:lnTo>
                    <a:pt x="116" y="542"/>
                  </a:lnTo>
                  <a:lnTo>
                    <a:pt x="82" y="579"/>
                  </a:lnTo>
                  <a:lnTo>
                    <a:pt x="65" y="635"/>
                  </a:lnTo>
                  <a:lnTo>
                    <a:pt x="60" y="708"/>
                  </a:lnTo>
                  <a:lnTo>
                    <a:pt x="65" y="733"/>
                  </a:lnTo>
                  <a:lnTo>
                    <a:pt x="36" y="737"/>
                  </a:lnTo>
                  <a:lnTo>
                    <a:pt x="17" y="725"/>
                  </a:lnTo>
                  <a:lnTo>
                    <a:pt x="0" y="686"/>
                  </a:lnTo>
                  <a:lnTo>
                    <a:pt x="2" y="650"/>
                  </a:lnTo>
                  <a:lnTo>
                    <a:pt x="24" y="579"/>
                  </a:lnTo>
                  <a:lnTo>
                    <a:pt x="58" y="542"/>
                  </a:lnTo>
                  <a:lnTo>
                    <a:pt x="94" y="506"/>
                  </a:lnTo>
                  <a:lnTo>
                    <a:pt x="123" y="489"/>
                  </a:lnTo>
                  <a:lnTo>
                    <a:pt x="152" y="481"/>
                  </a:lnTo>
                  <a:lnTo>
                    <a:pt x="155" y="459"/>
                  </a:lnTo>
                  <a:lnTo>
                    <a:pt x="133" y="393"/>
                  </a:lnTo>
                  <a:lnTo>
                    <a:pt x="111" y="323"/>
                  </a:lnTo>
                  <a:lnTo>
                    <a:pt x="89" y="271"/>
                  </a:lnTo>
                  <a:lnTo>
                    <a:pt x="75" y="213"/>
                  </a:lnTo>
                  <a:lnTo>
                    <a:pt x="65" y="176"/>
                  </a:lnTo>
                  <a:lnTo>
                    <a:pt x="75" y="13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44360" y="2927520"/>
              <a:ext cx="336960" cy="478080"/>
            </a:xfrm>
            <a:custGeom>
              <a:avLst/>
              <a:gdLst/>
              <a:ahLst/>
              <a:rect l="l" t="t" r="r" b="b"/>
              <a:pathLst>
                <a:path w="289" h="359">
                  <a:moveTo>
                    <a:pt x="102" y="351"/>
                  </a:moveTo>
                  <a:lnTo>
                    <a:pt x="51" y="351"/>
                  </a:lnTo>
                  <a:lnTo>
                    <a:pt x="7" y="312"/>
                  </a:lnTo>
                  <a:lnTo>
                    <a:pt x="0" y="285"/>
                  </a:lnTo>
                  <a:lnTo>
                    <a:pt x="0" y="249"/>
                  </a:lnTo>
                  <a:lnTo>
                    <a:pt x="14" y="176"/>
                  </a:lnTo>
                  <a:lnTo>
                    <a:pt x="43" y="124"/>
                  </a:lnTo>
                  <a:lnTo>
                    <a:pt x="99" y="44"/>
                  </a:lnTo>
                  <a:lnTo>
                    <a:pt x="138" y="14"/>
                  </a:lnTo>
                  <a:lnTo>
                    <a:pt x="194" y="0"/>
                  </a:lnTo>
                  <a:lnTo>
                    <a:pt x="247" y="19"/>
                  </a:lnTo>
                  <a:lnTo>
                    <a:pt x="274" y="51"/>
                  </a:lnTo>
                  <a:lnTo>
                    <a:pt x="281" y="88"/>
                  </a:lnTo>
                  <a:lnTo>
                    <a:pt x="281" y="136"/>
                  </a:lnTo>
                  <a:lnTo>
                    <a:pt x="262" y="198"/>
                  </a:lnTo>
                  <a:lnTo>
                    <a:pt x="247" y="234"/>
                  </a:lnTo>
                  <a:lnTo>
                    <a:pt x="252" y="271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69" y="359"/>
                  </a:lnTo>
                  <a:lnTo>
                    <a:pt x="223" y="278"/>
                  </a:lnTo>
                  <a:lnTo>
                    <a:pt x="187" y="307"/>
                  </a:lnTo>
                  <a:lnTo>
                    <a:pt x="145" y="334"/>
                  </a:lnTo>
                  <a:lnTo>
                    <a:pt x="124" y="342"/>
                  </a:lnTo>
                  <a:lnTo>
                    <a:pt x="102" y="35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295280" y="5567400"/>
            <a:ext cx="1676160" cy="756720"/>
            <a:chOff x="1295280" y="5567400"/>
            <a:chExt cx="1676160" cy="756720"/>
          </a:xfrm>
        </p:grpSpPr>
        <p:sp>
          <p:nvSpPr>
            <p:cNvPr id="694" name=""/>
            <p:cNvSpPr/>
            <p:nvPr/>
          </p:nvSpPr>
          <p:spPr>
            <a:xfrm>
              <a:off x="1735200" y="5567400"/>
              <a:ext cx="731160" cy="418680"/>
            </a:xfrm>
            <a:custGeom>
              <a:avLst/>
              <a:gdLst/>
              <a:ahLst/>
              <a:rect l="l" t="t" r="r" b="b"/>
              <a:pathLst>
                <a:path w="831" h="423">
                  <a:moveTo>
                    <a:pt x="0" y="302"/>
                  </a:moveTo>
                  <a:lnTo>
                    <a:pt x="9" y="203"/>
                  </a:lnTo>
                  <a:lnTo>
                    <a:pt x="79" y="138"/>
                  </a:lnTo>
                  <a:lnTo>
                    <a:pt x="214" y="62"/>
                  </a:lnTo>
                  <a:lnTo>
                    <a:pt x="385" y="17"/>
                  </a:lnTo>
                  <a:lnTo>
                    <a:pt x="530" y="0"/>
                  </a:lnTo>
                  <a:lnTo>
                    <a:pt x="636" y="36"/>
                  </a:lnTo>
                  <a:lnTo>
                    <a:pt x="728" y="102"/>
                  </a:lnTo>
                  <a:lnTo>
                    <a:pt x="778" y="161"/>
                  </a:lnTo>
                  <a:lnTo>
                    <a:pt x="817" y="253"/>
                  </a:lnTo>
                  <a:lnTo>
                    <a:pt x="831" y="331"/>
                  </a:lnTo>
                  <a:lnTo>
                    <a:pt x="798" y="384"/>
                  </a:lnTo>
                  <a:lnTo>
                    <a:pt x="761" y="410"/>
                  </a:lnTo>
                  <a:lnTo>
                    <a:pt x="672" y="423"/>
                  </a:lnTo>
                  <a:lnTo>
                    <a:pt x="590" y="410"/>
                  </a:lnTo>
                  <a:lnTo>
                    <a:pt x="537" y="371"/>
                  </a:lnTo>
                  <a:lnTo>
                    <a:pt x="481" y="328"/>
                  </a:lnTo>
                  <a:lnTo>
                    <a:pt x="431" y="302"/>
                  </a:lnTo>
                  <a:lnTo>
                    <a:pt x="352" y="302"/>
                  </a:lnTo>
                  <a:lnTo>
                    <a:pt x="267" y="315"/>
                  </a:lnTo>
                  <a:lnTo>
                    <a:pt x="164" y="338"/>
                  </a:lnTo>
                  <a:lnTo>
                    <a:pt x="85" y="354"/>
                  </a:lnTo>
                  <a:lnTo>
                    <a:pt x="13" y="35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20560" y="5765040"/>
              <a:ext cx="650880" cy="541080"/>
            </a:xfrm>
            <a:custGeom>
              <a:avLst/>
              <a:gdLst/>
              <a:ahLst/>
              <a:rect l="l" t="t" r="r" b="b"/>
              <a:pathLst>
                <a:path w="740" h="547">
                  <a:moveTo>
                    <a:pt x="53" y="0"/>
                  </a:moveTo>
                  <a:lnTo>
                    <a:pt x="119" y="32"/>
                  </a:lnTo>
                  <a:lnTo>
                    <a:pt x="132" y="79"/>
                  </a:lnTo>
                  <a:lnTo>
                    <a:pt x="172" y="151"/>
                  </a:lnTo>
                  <a:lnTo>
                    <a:pt x="172" y="204"/>
                  </a:lnTo>
                  <a:lnTo>
                    <a:pt x="139" y="309"/>
                  </a:lnTo>
                  <a:lnTo>
                    <a:pt x="99" y="382"/>
                  </a:lnTo>
                  <a:lnTo>
                    <a:pt x="66" y="428"/>
                  </a:lnTo>
                  <a:lnTo>
                    <a:pt x="53" y="487"/>
                  </a:lnTo>
                  <a:lnTo>
                    <a:pt x="73" y="514"/>
                  </a:lnTo>
                  <a:lnTo>
                    <a:pt x="172" y="494"/>
                  </a:lnTo>
                  <a:lnTo>
                    <a:pt x="251" y="454"/>
                  </a:lnTo>
                  <a:lnTo>
                    <a:pt x="350" y="375"/>
                  </a:lnTo>
                  <a:lnTo>
                    <a:pt x="429" y="283"/>
                  </a:lnTo>
                  <a:lnTo>
                    <a:pt x="469" y="204"/>
                  </a:lnTo>
                  <a:lnTo>
                    <a:pt x="489" y="158"/>
                  </a:lnTo>
                  <a:lnTo>
                    <a:pt x="522" y="158"/>
                  </a:lnTo>
                  <a:lnTo>
                    <a:pt x="542" y="164"/>
                  </a:lnTo>
                  <a:lnTo>
                    <a:pt x="568" y="237"/>
                  </a:lnTo>
                  <a:lnTo>
                    <a:pt x="595" y="303"/>
                  </a:lnTo>
                  <a:lnTo>
                    <a:pt x="667" y="349"/>
                  </a:lnTo>
                  <a:lnTo>
                    <a:pt x="740" y="375"/>
                  </a:lnTo>
                  <a:lnTo>
                    <a:pt x="720" y="395"/>
                  </a:lnTo>
                  <a:lnTo>
                    <a:pt x="681" y="415"/>
                  </a:lnTo>
                  <a:lnTo>
                    <a:pt x="614" y="395"/>
                  </a:lnTo>
                  <a:lnTo>
                    <a:pt x="575" y="342"/>
                  </a:lnTo>
                  <a:lnTo>
                    <a:pt x="548" y="296"/>
                  </a:lnTo>
                  <a:lnTo>
                    <a:pt x="529" y="250"/>
                  </a:lnTo>
                  <a:lnTo>
                    <a:pt x="509" y="237"/>
                  </a:lnTo>
                  <a:lnTo>
                    <a:pt x="489" y="257"/>
                  </a:lnTo>
                  <a:lnTo>
                    <a:pt x="449" y="329"/>
                  </a:lnTo>
                  <a:lnTo>
                    <a:pt x="363" y="428"/>
                  </a:lnTo>
                  <a:lnTo>
                    <a:pt x="284" y="474"/>
                  </a:lnTo>
                  <a:lnTo>
                    <a:pt x="198" y="520"/>
                  </a:lnTo>
                  <a:lnTo>
                    <a:pt x="79" y="547"/>
                  </a:lnTo>
                  <a:lnTo>
                    <a:pt x="20" y="540"/>
                  </a:lnTo>
                  <a:lnTo>
                    <a:pt x="0" y="514"/>
                  </a:lnTo>
                  <a:lnTo>
                    <a:pt x="0" y="487"/>
                  </a:lnTo>
                  <a:lnTo>
                    <a:pt x="0" y="448"/>
                  </a:lnTo>
                  <a:lnTo>
                    <a:pt x="26" y="382"/>
                  </a:lnTo>
                  <a:lnTo>
                    <a:pt x="73" y="322"/>
                  </a:lnTo>
                  <a:lnTo>
                    <a:pt x="99" y="230"/>
                  </a:lnTo>
                  <a:lnTo>
                    <a:pt x="106" y="184"/>
                  </a:lnTo>
                  <a:lnTo>
                    <a:pt x="86" y="138"/>
                  </a:lnTo>
                  <a:lnTo>
                    <a:pt x="33" y="92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16520" y="5703840"/>
              <a:ext cx="650880" cy="543960"/>
            </a:xfrm>
            <a:custGeom>
              <a:avLst/>
              <a:gdLst/>
              <a:ahLst/>
              <a:rect l="l" t="t" r="r" b="b"/>
              <a:pathLst>
                <a:path w="740" h="550">
                  <a:moveTo>
                    <a:pt x="53" y="0"/>
                  </a:moveTo>
                  <a:lnTo>
                    <a:pt x="119" y="33"/>
                  </a:lnTo>
                  <a:lnTo>
                    <a:pt x="132" y="80"/>
                  </a:lnTo>
                  <a:lnTo>
                    <a:pt x="172" y="152"/>
                  </a:lnTo>
                  <a:lnTo>
                    <a:pt x="172" y="205"/>
                  </a:lnTo>
                  <a:lnTo>
                    <a:pt x="139" y="311"/>
                  </a:lnTo>
                  <a:lnTo>
                    <a:pt x="99" y="384"/>
                  </a:lnTo>
                  <a:lnTo>
                    <a:pt x="66" y="431"/>
                  </a:lnTo>
                  <a:lnTo>
                    <a:pt x="53" y="490"/>
                  </a:lnTo>
                  <a:lnTo>
                    <a:pt x="73" y="517"/>
                  </a:lnTo>
                  <a:lnTo>
                    <a:pt x="172" y="497"/>
                  </a:lnTo>
                  <a:lnTo>
                    <a:pt x="251" y="457"/>
                  </a:lnTo>
                  <a:lnTo>
                    <a:pt x="350" y="378"/>
                  </a:lnTo>
                  <a:lnTo>
                    <a:pt x="429" y="285"/>
                  </a:lnTo>
                  <a:lnTo>
                    <a:pt x="469" y="205"/>
                  </a:lnTo>
                  <a:lnTo>
                    <a:pt x="489" y="159"/>
                  </a:lnTo>
                  <a:lnTo>
                    <a:pt x="522" y="159"/>
                  </a:lnTo>
                  <a:lnTo>
                    <a:pt x="542" y="166"/>
                  </a:lnTo>
                  <a:lnTo>
                    <a:pt x="568" y="239"/>
                  </a:lnTo>
                  <a:lnTo>
                    <a:pt x="595" y="305"/>
                  </a:lnTo>
                  <a:lnTo>
                    <a:pt x="667" y="351"/>
                  </a:lnTo>
                  <a:lnTo>
                    <a:pt x="740" y="378"/>
                  </a:lnTo>
                  <a:lnTo>
                    <a:pt x="720" y="398"/>
                  </a:lnTo>
                  <a:lnTo>
                    <a:pt x="681" y="417"/>
                  </a:lnTo>
                  <a:lnTo>
                    <a:pt x="614" y="398"/>
                  </a:lnTo>
                  <a:lnTo>
                    <a:pt x="575" y="345"/>
                  </a:lnTo>
                  <a:lnTo>
                    <a:pt x="548" y="298"/>
                  </a:lnTo>
                  <a:lnTo>
                    <a:pt x="529" y="252"/>
                  </a:lnTo>
                  <a:lnTo>
                    <a:pt x="509" y="239"/>
                  </a:lnTo>
                  <a:lnTo>
                    <a:pt x="489" y="258"/>
                  </a:lnTo>
                  <a:lnTo>
                    <a:pt x="449" y="331"/>
                  </a:lnTo>
                  <a:lnTo>
                    <a:pt x="363" y="431"/>
                  </a:lnTo>
                  <a:lnTo>
                    <a:pt x="284" y="477"/>
                  </a:lnTo>
                  <a:lnTo>
                    <a:pt x="198" y="523"/>
                  </a:lnTo>
                  <a:lnTo>
                    <a:pt x="79" y="550"/>
                  </a:lnTo>
                  <a:lnTo>
                    <a:pt x="20" y="543"/>
                  </a:lnTo>
                  <a:lnTo>
                    <a:pt x="0" y="517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26" y="384"/>
                  </a:lnTo>
                  <a:lnTo>
                    <a:pt x="73" y="325"/>
                  </a:lnTo>
                  <a:lnTo>
                    <a:pt x="99" y="232"/>
                  </a:lnTo>
                  <a:lnTo>
                    <a:pt x="106" y="186"/>
                  </a:lnTo>
                  <a:lnTo>
                    <a:pt x="86" y="139"/>
                  </a:lnTo>
                  <a:lnTo>
                    <a:pt x="33" y="93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95280" y="5841360"/>
              <a:ext cx="632520" cy="482760"/>
            </a:xfrm>
            <a:custGeom>
              <a:avLst/>
              <a:gdLst/>
              <a:ahLst/>
              <a:rect l="l" t="t" r="r" b="b"/>
              <a:pathLst>
                <a:path w="719" h="488">
                  <a:moveTo>
                    <a:pt x="620" y="33"/>
                  </a:moveTo>
                  <a:lnTo>
                    <a:pt x="580" y="0"/>
                  </a:lnTo>
                  <a:lnTo>
                    <a:pt x="540" y="0"/>
                  </a:lnTo>
                  <a:lnTo>
                    <a:pt x="521" y="33"/>
                  </a:lnTo>
                  <a:lnTo>
                    <a:pt x="527" y="73"/>
                  </a:lnTo>
                  <a:lnTo>
                    <a:pt x="600" y="198"/>
                  </a:lnTo>
                  <a:lnTo>
                    <a:pt x="666" y="330"/>
                  </a:lnTo>
                  <a:lnTo>
                    <a:pt x="672" y="402"/>
                  </a:lnTo>
                  <a:lnTo>
                    <a:pt x="653" y="442"/>
                  </a:lnTo>
                  <a:lnTo>
                    <a:pt x="600" y="442"/>
                  </a:lnTo>
                  <a:lnTo>
                    <a:pt x="448" y="448"/>
                  </a:lnTo>
                  <a:lnTo>
                    <a:pt x="310" y="435"/>
                  </a:lnTo>
                  <a:lnTo>
                    <a:pt x="237" y="402"/>
                  </a:lnTo>
                  <a:lnTo>
                    <a:pt x="178" y="376"/>
                  </a:lnTo>
                  <a:lnTo>
                    <a:pt x="145" y="376"/>
                  </a:lnTo>
                  <a:lnTo>
                    <a:pt x="105" y="415"/>
                  </a:lnTo>
                  <a:lnTo>
                    <a:pt x="13" y="429"/>
                  </a:lnTo>
                  <a:lnTo>
                    <a:pt x="0" y="455"/>
                  </a:lnTo>
                  <a:lnTo>
                    <a:pt x="59" y="462"/>
                  </a:lnTo>
                  <a:lnTo>
                    <a:pt x="145" y="455"/>
                  </a:lnTo>
                  <a:lnTo>
                    <a:pt x="171" y="442"/>
                  </a:lnTo>
                  <a:lnTo>
                    <a:pt x="244" y="468"/>
                  </a:lnTo>
                  <a:lnTo>
                    <a:pt x="303" y="468"/>
                  </a:lnTo>
                  <a:lnTo>
                    <a:pt x="389" y="481"/>
                  </a:lnTo>
                  <a:lnTo>
                    <a:pt x="514" y="488"/>
                  </a:lnTo>
                  <a:lnTo>
                    <a:pt x="626" y="481"/>
                  </a:lnTo>
                  <a:lnTo>
                    <a:pt x="692" y="462"/>
                  </a:lnTo>
                  <a:lnTo>
                    <a:pt x="719" y="429"/>
                  </a:lnTo>
                  <a:lnTo>
                    <a:pt x="719" y="382"/>
                  </a:lnTo>
                  <a:lnTo>
                    <a:pt x="719" y="297"/>
                  </a:lnTo>
                  <a:lnTo>
                    <a:pt x="686" y="211"/>
                  </a:lnTo>
                  <a:lnTo>
                    <a:pt x="653" y="119"/>
                  </a:lnTo>
                  <a:lnTo>
                    <a:pt x="620" y="3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00320" y="5783040"/>
              <a:ext cx="556920" cy="450000"/>
            </a:xfrm>
            <a:custGeom>
              <a:avLst/>
              <a:gdLst/>
              <a:ahLst/>
              <a:rect l="l" t="t" r="r" b="b"/>
              <a:pathLst>
                <a:path w="633" h="455">
                  <a:moveTo>
                    <a:pt x="547" y="0"/>
                  </a:moveTo>
                  <a:lnTo>
                    <a:pt x="514" y="32"/>
                  </a:lnTo>
                  <a:lnTo>
                    <a:pt x="507" y="85"/>
                  </a:lnTo>
                  <a:lnTo>
                    <a:pt x="514" y="158"/>
                  </a:lnTo>
                  <a:lnTo>
                    <a:pt x="534" y="243"/>
                  </a:lnTo>
                  <a:lnTo>
                    <a:pt x="547" y="342"/>
                  </a:lnTo>
                  <a:lnTo>
                    <a:pt x="560" y="389"/>
                  </a:lnTo>
                  <a:lnTo>
                    <a:pt x="553" y="408"/>
                  </a:lnTo>
                  <a:lnTo>
                    <a:pt x="487" y="415"/>
                  </a:lnTo>
                  <a:lnTo>
                    <a:pt x="362" y="422"/>
                  </a:lnTo>
                  <a:lnTo>
                    <a:pt x="257" y="402"/>
                  </a:lnTo>
                  <a:lnTo>
                    <a:pt x="178" y="362"/>
                  </a:lnTo>
                  <a:lnTo>
                    <a:pt x="138" y="356"/>
                  </a:lnTo>
                  <a:lnTo>
                    <a:pt x="85" y="389"/>
                  </a:lnTo>
                  <a:lnTo>
                    <a:pt x="39" y="395"/>
                  </a:lnTo>
                  <a:lnTo>
                    <a:pt x="0" y="408"/>
                  </a:lnTo>
                  <a:lnTo>
                    <a:pt x="6" y="428"/>
                  </a:lnTo>
                  <a:lnTo>
                    <a:pt x="59" y="428"/>
                  </a:lnTo>
                  <a:lnTo>
                    <a:pt x="112" y="428"/>
                  </a:lnTo>
                  <a:lnTo>
                    <a:pt x="151" y="408"/>
                  </a:lnTo>
                  <a:lnTo>
                    <a:pt x="191" y="415"/>
                  </a:lnTo>
                  <a:lnTo>
                    <a:pt x="237" y="441"/>
                  </a:lnTo>
                  <a:lnTo>
                    <a:pt x="309" y="441"/>
                  </a:lnTo>
                  <a:lnTo>
                    <a:pt x="428" y="455"/>
                  </a:lnTo>
                  <a:lnTo>
                    <a:pt x="540" y="448"/>
                  </a:lnTo>
                  <a:lnTo>
                    <a:pt x="613" y="428"/>
                  </a:lnTo>
                  <a:lnTo>
                    <a:pt x="633" y="395"/>
                  </a:lnTo>
                  <a:lnTo>
                    <a:pt x="593" y="342"/>
                  </a:lnTo>
                  <a:lnTo>
                    <a:pt x="580" y="270"/>
                  </a:lnTo>
                  <a:lnTo>
                    <a:pt x="580" y="197"/>
                  </a:lnTo>
                  <a:lnTo>
                    <a:pt x="586" y="131"/>
                  </a:lnTo>
                  <a:lnTo>
                    <a:pt x="600" y="59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02120" y="5720760"/>
              <a:ext cx="413640" cy="427320"/>
            </a:xfrm>
            <a:custGeom>
              <a:avLst/>
              <a:gdLst/>
              <a:ahLst/>
              <a:rect l="l" t="t" r="r" b="b"/>
              <a:pathLst>
                <a:path w="470" h="432">
                  <a:moveTo>
                    <a:pt x="460" y="171"/>
                  </a:moveTo>
                  <a:lnTo>
                    <a:pt x="470" y="118"/>
                  </a:lnTo>
                  <a:lnTo>
                    <a:pt x="447" y="59"/>
                  </a:lnTo>
                  <a:lnTo>
                    <a:pt x="381" y="16"/>
                  </a:lnTo>
                  <a:lnTo>
                    <a:pt x="256" y="0"/>
                  </a:lnTo>
                  <a:lnTo>
                    <a:pt x="118" y="29"/>
                  </a:lnTo>
                  <a:lnTo>
                    <a:pt x="13" y="89"/>
                  </a:lnTo>
                  <a:lnTo>
                    <a:pt x="0" y="151"/>
                  </a:lnTo>
                  <a:lnTo>
                    <a:pt x="0" y="230"/>
                  </a:lnTo>
                  <a:lnTo>
                    <a:pt x="56" y="277"/>
                  </a:lnTo>
                  <a:lnTo>
                    <a:pt x="111" y="296"/>
                  </a:lnTo>
                  <a:lnTo>
                    <a:pt x="190" y="296"/>
                  </a:lnTo>
                  <a:lnTo>
                    <a:pt x="266" y="293"/>
                  </a:lnTo>
                  <a:lnTo>
                    <a:pt x="318" y="382"/>
                  </a:lnTo>
                  <a:lnTo>
                    <a:pt x="351" y="425"/>
                  </a:lnTo>
                  <a:lnTo>
                    <a:pt x="378" y="432"/>
                  </a:lnTo>
                  <a:lnTo>
                    <a:pt x="378" y="412"/>
                  </a:lnTo>
                  <a:lnTo>
                    <a:pt x="309" y="287"/>
                  </a:lnTo>
                  <a:lnTo>
                    <a:pt x="374" y="257"/>
                  </a:lnTo>
                  <a:lnTo>
                    <a:pt x="437" y="201"/>
                  </a:lnTo>
                  <a:lnTo>
                    <a:pt x="460" y="17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701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5280" y="1415160"/>
              <a:ext cx="655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Zadbaj o efektywną współprac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ole w X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71480" y="1387440"/>
            <a:ext cx="1091880" cy="1518840"/>
            <a:chOff x="771480" y="1387440"/>
            <a:chExt cx="1091880" cy="1518840"/>
          </a:xfrm>
        </p:grpSpPr>
        <p:sp>
          <p:nvSpPr>
            <p:cNvPr id="705" name=""/>
            <p:cNvSpPr/>
            <p:nvPr/>
          </p:nvSpPr>
          <p:spPr>
            <a:xfrm>
              <a:off x="1151640" y="1387440"/>
              <a:ext cx="244080" cy="381600"/>
            </a:xfrm>
            <a:custGeom>
              <a:avLst/>
              <a:gdLst/>
              <a:ahLst/>
              <a:rect l="l" t="t" r="r" b="b"/>
              <a:pathLst>
                <a:path w="537" h="654">
                  <a:moveTo>
                    <a:pt x="138" y="302"/>
                  </a:moveTo>
                  <a:lnTo>
                    <a:pt x="179" y="171"/>
                  </a:lnTo>
                  <a:lnTo>
                    <a:pt x="248" y="66"/>
                  </a:lnTo>
                  <a:lnTo>
                    <a:pt x="317" y="13"/>
                  </a:lnTo>
                  <a:lnTo>
                    <a:pt x="399" y="0"/>
                  </a:lnTo>
                  <a:lnTo>
                    <a:pt x="455" y="13"/>
                  </a:lnTo>
                  <a:lnTo>
                    <a:pt x="524" y="53"/>
                  </a:lnTo>
                  <a:lnTo>
                    <a:pt x="537" y="144"/>
                  </a:lnTo>
                  <a:lnTo>
                    <a:pt x="537" y="275"/>
                  </a:lnTo>
                  <a:lnTo>
                    <a:pt x="482" y="418"/>
                  </a:lnTo>
                  <a:lnTo>
                    <a:pt x="399" y="511"/>
                  </a:lnTo>
                  <a:lnTo>
                    <a:pt x="359" y="563"/>
                  </a:lnTo>
                  <a:lnTo>
                    <a:pt x="290" y="602"/>
                  </a:lnTo>
                  <a:lnTo>
                    <a:pt x="234" y="589"/>
                  </a:lnTo>
                  <a:lnTo>
                    <a:pt x="193" y="576"/>
                  </a:lnTo>
                  <a:lnTo>
                    <a:pt x="151" y="536"/>
                  </a:lnTo>
                  <a:lnTo>
                    <a:pt x="27" y="654"/>
                  </a:lnTo>
                  <a:lnTo>
                    <a:pt x="0" y="576"/>
                  </a:lnTo>
                  <a:lnTo>
                    <a:pt x="124" y="458"/>
                  </a:lnTo>
                  <a:lnTo>
                    <a:pt x="138" y="30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5000" y="1776240"/>
              <a:ext cx="155880" cy="511560"/>
            </a:xfrm>
            <a:custGeom>
              <a:avLst/>
              <a:gdLst/>
              <a:ahLst/>
              <a:rect l="l" t="t" r="r" b="b"/>
              <a:pathLst>
                <a:path w="345" h="876">
                  <a:moveTo>
                    <a:pt x="111" y="26"/>
                  </a:moveTo>
                  <a:lnTo>
                    <a:pt x="180" y="0"/>
                  </a:lnTo>
                  <a:lnTo>
                    <a:pt x="262" y="26"/>
                  </a:lnTo>
                  <a:lnTo>
                    <a:pt x="318" y="118"/>
                  </a:lnTo>
                  <a:lnTo>
                    <a:pt x="345" y="262"/>
                  </a:lnTo>
                  <a:lnTo>
                    <a:pt x="345" y="483"/>
                  </a:lnTo>
                  <a:lnTo>
                    <a:pt x="303" y="654"/>
                  </a:lnTo>
                  <a:lnTo>
                    <a:pt x="262" y="785"/>
                  </a:lnTo>
                  <a:lnTo>
                    <a:pt x="151" y="876"/>
                  </a:lnTo>
                  <a:lnTo>
                    <a:pt x="55" y="863"/>
                  </a:lnTo>
                  <a:lnTo>
                    <a:pt x="0" y="745"/>
                  </a:lnTo>
                  <a:lnTo>
                    <a:pt x="42" y="614"/>
                  </a:lnTo>
                  <a:lnTo>
                    <a:pt x="82" y="496"/>
                  </a:lnTo>
                  <a:lnTo>
                    <a:pt x="96" y="380"/>
                  </a:lnTo>
                  <a:lnTo>
                    <a:pt x="82" y="222"/>
                  </a:lnTo>
                  <a:lnTo>
                    <a:pt x="82" y="78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1480" y="1783440"/>
              <a:ext cx="505080" cy="390600"/>
            </a:xfrm>
            <a:custGeom>
              <a:avLst/>
              <a:gdLst/>
              <a:ahLst/>
              <a:rect l="l" t="t" r="r" b="b"/>
              <a:pathLst>
                <a:path w="1117" h="667">
                  <a:moveTo>
                    <a:pt x="910" y="104"/>
                  </a:moveTo>
                  <a:lnTo>
                    <a:pt x="992" y="26"/>
                  </a:lnTo>
                  <a:lnTo>
                    <a:pt x="1061" y="0"/>
                  </a:lnTo>
                  <a:lnTo>
                    <a:pt x="1103" y="13"/>
                  </a:lnTo>
                  <a:lnTo>
                    <a:pt x="1117" y="64"/>
                  </a:lnTo>
                  <a:lnTo>
                    <a:pt x="1103" y="117"/>
                  </a:lnTo>
                  <a:lnTo>
                    <a:pt x="1075" y="130"/>
                  </a:lnTo>
                  <a:lnTo>
                    <a:pt x="938" y="209"/>
                  </a:lnTo>
                  <a:lnTo>
                    <a:pt x="800" y="300"/>
                  </a:lnTo>
                  <a:lnTo>
                    <a:pt x="689" y="365"/>
                  </a:lnTo>
                  <a:lnTo>
                    <a:pt x="551" y="418"/>
                  </a:lnTo>
                  <a:lnTo>
                    <a:pt x="386" y="470"/>
                  </a:lnTo>
                  <a:lnTo>
                    <a:pt x="359" y="496"/>
                  </a:lnTo>
                  <a:lnTo>
                    <a:pt x="399" y="640"/>
                  </a:lnTo>
                  <a:lnTo>
                    <a:pt x="372" y="640"/>
                  </a:lnTo>
                  <a:lnTo>
                    <a:pt x="317" y="536"/>
                  </a:lnTo>
                  <a:lnTo>
                    <a:pt x="290" y="536"/>
                  </a:lnTo>
                  <a:lnTo>
                    <a:pt x="221" y="667"/>
                  </a:lnTo>
                  <a:lnTo>
                    <a:pt x="179" y="667"/>
                  </a:lnTo>
                  <a:lnTo>
                    <a:pt x="234" y="536"/>
                  </a:lnTo>
                  <a:lnTo>
                    <a:pt x="221" y="496"/>
                  </a:lnTo>
                  <a:lnTo>
                    <a:pt x="0" y="509"/>
                  </a:lnTo>
                  <a:lnTo>
                    <a:pt x="0" y="470"/>
                  </a:lnTo>
                  <a:lnTo>
                    <a:pt x="207" y="444"/>
                  </a:lnTo>
                  <a:lnTo>
                    <a:pt x="221" y="418"/>
                  </a:lnTo>
                  <a:lnTo>
                    <a:pt x="110" y="340"/>
                  </a:lnTo>
                  <a:lnTo>
                    <a:pt x="152" y="326"/>
                  </a:lnTo>
                  <a:lnTo>
                    <a:pt x="290" y="391"/>
                  </a:lnTo>
                  <a:lnTo>
                    <a:pt x="372" y="391"/>
                  </a:lnTo>
                  <a:lnTo>
                    <a:pt x="510" y="378"/>
                  </a:lnTo>
                  <a:lnTo>
                    <a:pt x="593" y="340"/>
                  </a:lnTo>
                  <a:lnTo>
                    <a:pt x="731" y="274"/>
                  </a:lnTo>
                  <a:lnTo>
                    <a:pt x="841" y="169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02120" y="1630800"/>
              <a:ext cx="561240" cy="213480"/>
            </a:xfrm>
            <a:custGeom>
              <a:avLst/>
              <a:gdLst/>
              <a:ahLst/>
              <a:rect l="l" t="t" r="r" b="b"/>
              <a:pathLst>
                <a:path w="1241" h="367">
                  <a:moveTo>
                    <a:pt x="0" y="289"/>
                  </a:moveTo>
                  <a:lnTo>
                    <a:pt x="15" y="236"/>
                  </a:lnTo>
                  <a:lnTo>
                    <a:pt x="194" y="171"/>
                  </a:lnTo>
                  <a:lnTo>
                    <a:pt x="387" y="105"/>
                  </a:lnTo>
                  <a:lnTo>
                    <a:pt x="690" y="66"/>
                  </a:lnTo>
                  <a:lnTo>
                    <a:pt x="966" y="79"/>
                  </a:lnTo>
                  <a:lnTo>
                    <a:pt x="1063" y="79"/>
                  </a:lnTo>
                  <a:lnTo>
                    <a:pt x="1214" y="0"/>
                  </a:lnTo>
                  <a:lnTo>
                    <a:pt x="1241" y="26"/>
                  </a:lnTo>
                  <a:lnTo>
                    <a:pt x="1104" y="131"/>
                  </a:lnTo>
                  <a:lnTo>
                    <a:pt x="993" y="236"/>
                  </a:lnTo>
                  <a:lnTo>
                    <a:pt x="924" y="341"/>
                  </a:lnTo>
                  <a:lnTo>
                    <a:pt x="884" y="302"/>
                  </a:lnTo>
                  <a:lnTo>
                    <a:pt x="897" y="236"/>
                  </a:lnTo>
                  <a:lnTo>
                    <a:pt x="911" y="158"/>
                  </a:lnTo>
                  <a:lnTo>
                    <a:pt x="842" y="144"/>
                  </a:lnTo>
                  <a:lnTo>
                    <a:pt x="690" y="131"/>
                  </a:lnTo>
                  <a:lnTo>
                    <a:pt x="566" y="131"/>
                  </a:lnTo>
                  <a:lnTo>
                    <a:pt x="373" y="184"/>
                  </a:lnTo>
                  <a:lnTo>
                    <a:pt x="180" y="289"/>
                  </a:lnTo>
                  <a:lnTo>
                    <a:pt x="0" y="36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45600" y="2149560"/>
              <a:ext cx="168480" cy="686880"/>
            </a:xfrm>
            <a:custGeom>
              <a:avLst/>
              <a:gdLst/>
              <a:ahLst/>
              <a:rect l="l" t="t" r="r" b="b"/>
              <a:pathLst>
                <a:path w="374" h="1176">
                  <a:moveTo>
                    <a:pt x="111" y="0"/>
                  </a:moveTo>
                  <a:lnTo>
                    <a:pt x="180" y="26"/>
                  </a:lnTo>
                  <a:lnTo>
                    <a:pt x="236" y="156"/>
                  </a:lnTo>
                  <a:lnTo>
                    <a:pt x="264" y="300"/>
                  </a:lnTo>
                  <a:lnTo>
                    <a:pt x="278" y="496"/>
                  </a:lnTo>
                  <a:lnTo>
                    <a:pt x="222" y="705"/>
                  </a:lnTo>
                  <a:lnTo>
                    <a:pt x="140" y="887"/>
                  </a:lnTo>
                  <a:lnTo>
                    <a:pt x="153" y="953"/>
                  </a:lnTo>
                  <a:lnTo>
                    <a:pt x="347" y="1045"/>
                  </a:lnTo>
                  <a:lnTo>
                    <a:pt x="374" y="1096"/>
                  </a:lnTo>
                  <a:lnTo>
                    <a:pt x="264" y="1176"/>
                  </a:lnTo>
                  <a:lnTo>
                    <a:pt x="209" y="1136"/>
                  </a:lnTo>
                  <a:lnTo>
                    <a:pt x="98" y="1018"/>
                  </a:lnTo>
                  <a:lnTo>
                    <a:pt x="0" y="953"/>
                  </a:lnTo>
                  <a:lnTo>
                    <a:pt x="0" y="914"/>
                  </a:lnTo>
                  <a:lnTo>
                    <a:pt x="56" y="836"/>
                  </a:lnTo>
                  <a:lnTo>
                    <a:pt x="140" y="718"/>
                  </a:lnTo>
                  <a:lnTo>
                    <a:pt x="195" y="535"/>
                  </a:lnTo>
                  <a:lnTo>
                    <a:pt x="195" y="300"/>
                  </a:lnTo>
                  <a:lnTo>
                    <a:pt x="153" y="169"/>
                  </a:lnTo>
                  <a:lnTo>
                    <a:pt x="98" y="10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44720" y="2158200"/>
              <a:ext cx="226080" cy="748080"/>
            </a:xfrm>
            <a:custGeom>
              <a:avLst/>
              <a:gdLst/>
              <a:ahLst/>
              <a:rect l="l" t="t" r="r" b="b"/>
              <a:pathLst>
                <a:path w="498" h="1281">
                  <a:moveTo>
                    <a:pt x="263" y="156"/>
                  </a:moveTo>
                  <a:lnTo>
                    <a:pt x="318" y="38"/>
                  </a:lnTo>
                  <a:lnTo>
                    <a:pt x="456" y="0"/>
                  </a:lnTo>
                  <a:lnTo>
                    <a:pt x="498" y="64"/>
                  </a:lnTo>
                  <a:lnTo>
                    <a:pt x="401" y="169"/>
                  </a:lnTo>
                  <a:lnTo>
                    <a:pt x="345" y="235"/>
                  </a:lnTo>
                  <a:lnTo>
                    <a:pt x="332" y="365"/>
                  </a:lnTo>
                  <a:lnTo>
                    <a:pt x="305" y="587"/>
                  </a:lnTo>
                  <a:lnTo>
                    <a:pt x="318" y="874"/>
                  </a:lnTo>
                  <a:lnTo>
                    <a:pt x="332" y="1005"/>
                  </a:lnTo>
                  <a:lnTo>
                    <a:pt x="360" y="1058"/>
                  </a:lnTo>
                  <a:lnTo>
                    <a:pt x="345" y="1110"/>
                  </a:lnTo>
                  <a:lnTo>
                    <a:pt x="249" y="1150"/>
                  </a:lnTo>
                  <a:lnTo>
                    <a:pt x="98" y="1281"/>
                  </a:lnTo>
                  <a:lnTo>
                    <a:pt x="42" y="1281"/>
                  </a:lnTo>
                  <a:lnTo>
                    <a:pt x="0" y="1176"/>
                  </a:lnTo>
                  <a:lnTo>
                    <a:pt x="98" y="1110"/>
                  </a:lnTo>
                  <a:lnTo>
                    <a:pt x="222" y="1071"/>
                  </a:lnTo>
                  <a:lnTo>
                    <a:pt x="276" y="1045"/>
                  </a:lnTo>
                  <a:lnTo>
                    <a:pt x="263" y="927"/>
                  </a:lnTo>
                  <a:lnTo>
                    <a:pt x="236" y="665"/>
                  </a:lnTo>
                  <a:lnTo>
                    <a:pt x="222" y="444"/>
                  </a:lnTo>
                  <a:lnTo>
                    <a:pt x="236" y="260"/>
                  </a:lnTo>
                  <a:lnTo>
                    <a:pt x="263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558800" y="1219320"/>
            <a:ext cx="1163520" cy="1609200"/>
            <a:chOff x="1558800" y="1219320"/>
            <a:chExt cx="1163520" cy="1609200"/>
          </a:xfrm>
        </p:grpSpPr>
        <p:sp>
          <p:nvSpPr>
            <p:cNvPr id="712" name=""/>
            <p:cNvSpPr/>
            <p:nvPr/>
          </p:nvSpPr>
          <p:spPr>
            <a:xfrm>
              <a:off x="1558800" y="1219320"/>
              <a:ext cx="1163520" cy="1609200"/>
            </a:xfrm>
            <a:custGeom>
              <a:avLst/>
              <a:gdLst/>
              <a:ahLst/>
              <a:rect l="l" t="t" r="r" b="b"/>
              <a:pathLst>
                <a:path w="2567" h="2757">
                  <a:moveTo>
                    <a:pt x="898" y="510"/>
                  </a:moveTo>
                  <a:lnTo>
                    <a:pt x="746" y="641"/>
                  </a:lnTo>
                  <a:lnTo>
                    <a:pt x="566" y="772"/>
                  </a:lnTo>
                  <a:lnTo>
                    <a:pt x="374" y="981"/>
                  </a:lnTo>
                  <a:lnTo>
                    <a:pt x="167" y="1255"/>
                  </a:lnTo>
                  <a:lnTo>
                    <a:pt x="56" y="1490"/>
                  </a:lnTo>
                  <a:lnTo>
                    <a:pt x="0" y="1673"/>
                  </a:lnTo>
                  <a:lnTo>
                    <a:pt x="0" y="1790"/>
                  </a:lnTo>
                  <a:lnTo>
                    <a:pt x="15" y="2039"/>
                  </a:lnTo>
                  <a:lnTo>
                    <a:pt x="56" y="2222"/>
                  </a:lnTo>
                  <a:lnTo>
                    <a:pt x="167" y="2339"/>
                  </a:lnTo>
                  <a:lnTo>
                    <a:pt x="387" y="2484"/>
                  </a:lnTo>
                  <a:lnTo>
                    <a:pt x="595" y="2575"/>
                  </a:lnTo>
                  <a:lnTo>
                    <a:pt x="856" y="2666"/>
                  </a:lnTo>
                  <a:lnTo>
                    <a:pt x="1008" y="2718"/>
                  </a:lnTo>
                  <a:lnTo>
                    <a:pt x="1270" y="2757"/>
                  </a:lnTo>
                  <a:lnTo>
                    <a:pt x="1669" y="2718"/>
                  </a:lnTo>
                  <a:lnTo>
                    <a:pt x="2015" y="2627"/>
                  </a:lnTo>
                  <a:lnTo>
                    <a:pt x="2235" y="2496"/>
                  </a:lnTo>
                  <a:lnTo>
                    <a:pt x="2373" y="2353"/>
                  </a:lnTo>
                  <a:lnTo>
                    <a:pt x="2456" y="2209"/>
                  </a:lnTo>
                  <a:lnTo>
                    <a:pt x="2538" y="2026"/>
                  </a:lnTo>
                  <a:lnTo>
                    <a:pt x="2567" y="1817"/>
                  </a:lnTo>
                  <a:lnTo>
                    <a:pt x="2567" y="1530"/>
                  </a:lnTo>
                  <a:lnTo>
                    <a:pt x="2511" y="1346"/>
                  </a:lnTo>
                  <a:lnTo>
                    <a:pt x="2400" y="1150"/>
                  </a:lnTo>
                  <a:lnTo>
                    <a:pt x="2249" y="968"/>
                  </a:lnTo>
                  <a:lnTo>
                    <a:pt x="2084" y="823"/>
                  </a:lnTo>
                  <a:lnTo>
                    <a:pt x="1918" y="706"/>
                  </a:lnTo>
                  <a:lnTo>
                    <a:pt x="1683" y="601"/>
                  </a:lnTo>
                  <a:lnTo>
                    <a:pt x="1669" y="536"/>
                  </a:lnTo>
                  <a:lnTo>
                    <a:pt x="1877" y="327"/>
                  </a:lnTo>
                  <a:lnTo>
                    <a:pt x="1890" y="196"/>
                  </a:lnTo>
                  <a:lnTo>
                    <a:pt x="1656" y="327"/>
                  </a:lnTo>
                  <a:lnTo>
                    <a:pt x="1738" y="92"/>
                  </a:lnTo>
                  <a:lnTo>
                    <a:pt x="1711" y="79"/>
                  </a:lnTo>
                  <a:lnTo>
                    <a:pt x="1629" y="79"/>
                  </a:lnTo>
                  <a:lnTo>
                    <a:pt x="1491" y="236"/>
                  </a:lnTo>
                  <a:lnTo>
                    <a:pt x="1408" y="327"/>
                  </a:lnTo>
                  <a:lnTo>
                    <a:pt x="1435" y="157"/>
                  </a:lnTo>
                  <a:lnTo>
                    <a:pt x="1491" y="27"/>
                  </a:lnTo>
                  <a:lnTo>
                    <a:pt x="1449" y="0"/>
                  </a:lnTo>
                  <a:lnTo>
                    <a:pt x="1353" y="79"/>
                  </a:lnTo>
                  <a:lnTo>
                    <a:pt x="1256" y="274"/>
                  </a:lnTo>
                  <a:lnTo>
                    <a:pt x="1215" y="170"/>
                  </a:lnTo>
                  <a:lnTo>
                    <a:pt x="1132" y="131"/>
                  </a:lnTo>
                  <a:lnTo>
                    <a:pt x="1077" y="261"/>
                  </a:lnTo>
                  <a:lnTo>
                    <a:pt x="1063" y="340"/>
                  </a:lnTo>
                  <a:lnTo>
                    <a:pt x="911" y="157"/>
                  </a:lnTo>
                  <a:lnTo>
                    <a:pt x="718" y="14"/>
                  </a:lnTo>
                  <a:lnTo>
                    <a:pt x="664" y="40"/>
                  </a:lnTo>
                  <a:lnTo>
                    <a:pt x="649" y="118"/>
                  </a:lnTo>
                  <a:lnTo>
                    <a:pt x="718" y="236"/>
                  </a:lnTo>
                  <a:lnTo>
                    <a:pt x="800" y="379"/>
                  </a:lnTo>
                  <a:lnTo>
                    <a:pt x="1008" y="628"/>
                  </a:lnTo>
                  <a:lnTo>
                    <a:pt x="980" y="679"/>
                  </a:lnTo>
                  <a:lnTo>
                    <a:pt x="938" y="706"/>
                  </a:lnTo>
                  <a:lnTo>
                    <a:pt x="967" y="758"/>
                  </a:lnTo>
                  <a:lnTo>
                    <a:pt x="1146" y="823"/>
                  </a:lnTo>
                  <a:lnTo>
                    <a:pt x="1435" y="823"/>
                  </a:lnTo>
                  <a:lnTo>
                    <a:pt x="1683" y="797"/>
                  </a:lnTo>
                  <a:lnTo>
                    <a:pt x="1767" y="719"/>
                  </a:lnTo>
                  <a:lnTo>
                    <a:pt x="1711" y="693"/>
                  </a:lnTo>
                  <a:lnTo>
                    <a:pt x="1656" y="732"/>
                  </a:lnTo>
                  <a:lnTo>
                    <a:pt x="1504" y="745"/>
                  </a:lnTo>
                  <a:lnTo>
                    <a:pt x="1353" y="772"/>
                  </a:lnTo>
                  <a:lnTo>
                    <a:pt x="1187" y="745"/>
                  </a:lnTo>
                  <a:lnTo>
                    <a:pt x="1435" y="719"/>
                  </a:lnTo>
                  <a:lnTo>
                    <a:pt x="1600" y="667"/>
                  </a:lnTo>
                  <a:lnTo>
                    <a:pt x="1629" y="641"/>
                  </a:lnTo>
                  <a:lnTo>
                    <a:pt x="1560" y="614"/>
                  </a:lnTo>
                  <a:lnTo>
                    <a:pt x="1477" y="654"/>
                  </a:lnTo>
                  <a:lnTo>
                    <a:pt x="1284" y="679"/>
                  </a:lnTo>
                  <a:lnTo>
                    <a:pt x="1146" y="667"/>
                  </a:lnTo>
                  <a:lnTo>
                    <a:pt x="1077" y="641"/>
                  </a:lnTo>
                  <a:lnTo>
                    <a:pt x="1105" y="576"/>
                  </a:lnTo>
                  <a:lnTo>
                    <a:pt x="980" y="484"/>
                  </a:lnTo>
                  <a:lnTo>
                    <a:pt x="856" y="367"/>
                  </a:lnTo>
                  <a:lnTo>
                    <a:pt x="787" y="249"/>
                  </a:lnTo>
                  <a:lnTo>
                    <a:pt x="760" y="170"/>
                  </a:lnTo>
                  <a:lnTo>
                    <a:pt x="760" y="145"/>
                  </a:lnTo>
                  <a:lnTo>
                    <a:pt x="787" y="145"/>
                  </a:lnTo>
                  <a:lnTo>
                    <a:pt x="856" y="196"/>
                  </a:lnTo>
                  <a:lnTo>
                    <a:pt x="952" y="314"/>
                  </a:lnTo>
                  <a:lnTo>
                    <a:pt x="1077" y="458"/>
                  </a:lnTo>
                  <a:lnTo>
                    <a:pt x="1105" y="497"/>
                  </a:lnTo>
                  <a:lnTo>
                    <a:pt x="1159" y="470"/>
                  </a:lnTo>
                  <a:lnTo>
                    <a:pt x="1132" y="392"/>
                  </a:lnTo>
                  <a:lnTo>
                    <a:pt x="1146" y="340"/>
                  </a:lnTo>
                  <a:lnTo>
                    <a:pt x="1159" y="274"/>
                  </a:lnTo>
                  <a:lnTo>
                    <a:pt x="1187" y="274"/>
                  </a:lnTo>
                  <a:lnTo>
                    <a:pt x="1215" y="354"/>
                  </a:lnTo>
                  <a:lnTo>
                    <a:pt x="1228" y="405"/>
                  </a:lnTo>
                  <a:lnTo>
                    <a:pt x="1270" y="419"/>
                  </a:lnTo>
                  <a:lnTo>
                    <a:pt x="1326" y="301"/>
                  </a:lnTo>
                  <a:lnTo>
                    <a:pt x="1353" y="261"/>
                  </a:lnTo>
                  <a:lnTo>
                    <a:pt x="1366" y="327"/>
                  </a:lnTo>
                  <a:lnTo>
                    <a:pt x="1366" y="432"/>
                  </a:lnTo>
                  <a:lnTo>
                    <a:pt x="1408" y="458"/>
                  </a:lnTo>
                  <a:lnTo>
                    <a:pt x="1477" y="367"/>
                  </a:lnTo>
                  <a:lnTo>
                    <a:pt x="1546" y="249"/>
                  </a:lnTo>
                  <a:lnTo>
                    <a:pt x="1615" y="223"/>
                  </a:lnTo>
                  <a:lnTo>
                    <a:pt x="1615" y="236"/>
                  </a:lnTo>
                  <a:lnTo>
                    <a:pt x="1573" y="314"/>
                  </a:lnTo>
                  <a:lnTo>
                    <a:pt x="1531" y="432"/>
                  </a:lnTo>
                  <a:lnTo>
                    <a:pt x="1573" y="445"/>
                  </a:lnTo>
                  <a:lnTo>
                    <a:pt x="1794" y="301"/>
                  </a:lnTo>
                  <a:lnTo>
                    <a:pt x="1821" y="301"/>
                  </a:lnTo>
                  <a:lnTo>
                    <a:pt x="1615" y="497"/>
                  </a:lnTo>
                  <a:lnTo>
                    <a:pt x="1573" y="536"/>
                  </a:lnTo>
                  <a:lnTo>
                    <a:pt x="1560" y="601"/>
                  </a:lnTo>
                  <a:lnTo>
                    <a:pt x="1600" y="628"/>
                  </a:lnTo>
                  <a:lnTo>
                    <a:pt x="1725" y="679"/>
                  </a:lnTo>
                  <a:lnTo>
                    <a:pt x="1932" y="785"/>
                  </a:lnTo>
                  <a:lnTo>
                    <a:pt x="2070" y="888"/>
                  </a:lnTo>
                  <a:lnTo>
                    <a:pt x="2235" y="1046"/>
                  </a:lnTo>
                  <a:lnTo>
                    <a:pt x="2360" y="1215"/>
                  </a:lnTo>
                  <a:lnTo>
                    <a:pt x="2442" y="1399"/>
                  </a:lnTo>
                  <a:lnTo>
                    <a:pt x="2498" y="1634"/>
                  </a:lnTo>
                  <a:lnTo>
                    <a:pt x="2483" y="1804"/>
                  </a:lnTo>
                  <a:lnTo>
                    <a:pt x="2469" y="1986"/>
                  </a:lnTo>
                  <a:lnTo>
                    <a:pt x="2387" y="2182"/>
                  </a:lnTo>
                  <a:lnTo>
                    <a:pt x="2304" y="2326"/>
                  </a:lnTo>
                  <a:lnTo>
                    <a:pt x="2208" y="2404"/>
                  </a:lnTo>
                  <a:lnTo>
                    <a:pt x="2097" y="2509"/>
                  </a:lnTo>
                  <a:lnTo>
                    <a:pt x="1890" y="2588"/>
                  </a:lnTo>
                  <a:lnTo>
                    <a:pt x="1642" y="2653"/>
                  </a:lnTo>
                  <a:lnTo>
                    <a:pt x="1518" y="2666"/>
                  </a:lnTo>
                  <a:lnTo>
                    <a:pt x="1284" y="2666"/>
                  </a:lnTo>
                  <a:lnTo>
                    <a:pt x="1063" y="2640"/>
                  </a:lnTo>
                  <a:lnTo>
                    <a:pt x="800" y="2575"/>
                  </a:lnTo>
                  <a:lnTo>
                    <a:pt x="553" y="2470"/>
                  </a:lnTo>
                  <a:lnTo>
                    <a:pt x="359" y="2366"/>
                  </a:lnTo>
                  <a:lnTo>
                    <a:pt x="194" y="2248"/>
                  </a:lnTo>
                  <a:lnTo>
                    <a:pt x="125" y="2157"/>
                  </a:lnTo>
                  <a:lnTo>
                    <a:pt x="111" y="2064"/>
                  </a:lnTo>
                  <a:lnTo>
                    <a:pt x="84" y="1790"/>
                  </a:lnTo>
                  <a:lnTo>
                    <a:pt x="98" y="1608"/>
                  </a:lnTo>
                  <a:lnTo>
                    <a:pt x="180" y="1412"/>
                  </a:lnTo>
                  <a:lnTo>
                    <a:pt x="290" y="1190"/>
                  </a:lnTo>
                  <a:lnTo>
                    <a:pt x="484" y="994"/>
                  </a:lnTo>
                  <a:lnTo>
                    <a:pt x="664" y="772"/>
                  </a:lnTo>
                  <a:lnTo>
                    <a:pt x="829" y="654"/>
                  </a:lnTo>
                  <a:lnTo>
                    <a:pt x="925" y="576"/>
                  </a:lnTo>
                  <a:lnTo>
                    <a:pt x="898" y="5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15640" y="1852920"/>
              <a:ext cx="236880" cy="495720"/>
            </a:xfrm>
            <a:custGeom>
              <a:avLst/>
              <a:gdLst/>
              <a:ahLst/>
              <a:rect l="l" t="t" r="r" b="b"/>
              <a:pathLst>
                <a:path w="524" h="849">
                  <a:moveTo>
                    <a:pt x="317" y="156"/>
                  </a:moveTo>
                  <a:lnTo>
                    <a:pt x="413" y="169"/>
                  </a:lnTo>
                  <a:lnTo>
                    <a:pt x="495" y="235"/>
                  </a:lnTo>
                  <a:lnTo>
                    <a:pt x="524" y="300"/>
                  </a:lnTo>
                  <a:lnTo>
                    <a:pt x="426" y="326"/>
                  </a:lnTo>
                  <a:lnTo>
                    <a:pt x="371" y="273"/>
                  </a:lnTo>
                  <a:lnTo>
                    <a:pt x="303" y="247"/>
                  </a:lnTo>
                  <a:lnTo>
                    <a:pt x="234" y="235"/>
                  </a:lnTo>
                  <a:lnTo>
                    <a:pt x="123" y="260"/>
                  </a:lnTo>
                  <a:lnTo>
                    <a:pt x="96" y="326"/>
                  </a:lnTo>
                  <a:lnTo>
                    <a:pt x="151" y="378"/>
                  </a:lnTo>
                  <a:lnTo>
                    <a:pt x="288" y="417"/>
                  </a:lnTo>
                  <a:lnTo>
                    <a:pt x="426" y="417"/>
                  </a:lnTo>
                  <a:lnTo>
                    <a:pt x="468" y="456"/>
                  </a:lnTo>
                  <a:lnTo>
                    <a:pt x="495" y="522"/>
                  </a:lnTo>
                  <a:lnTo>
                    <a:pt x="482" y="600"/>
                  </a:lnTo>
                  <a:lnTo>
                    <a:pt x="399" y="653"/>
                  </a:lnTo>
                  <a:lnTo>
                    <a:pt x="303" y="653"/>
                  </a:lnTo>
                  <a:lnTo>
                    <a:pt x="234" y="653"/>
                  </a:lnTo>
                  <a:lnTo>
                    <a:pt x="206" y="718"/>
                  </a:lnTo>
                  <a:lnTo>
                    <a:pt x="219" y="835"/>
                  </a:lnTo>
                  <a:lnTo>
                    <a:pt x="123" y="849"/>
                  </a:lnTo>
                  <a:lnTo>
                    <a:pt x="109" y="757"/>
                  </a:lnTo>
                  <a:lnTo>
                    <a:pt x="137" y="653"/>
                  </a:lnTo>
                  <a:lnTo>
                    <a:pt x="54" y="613"/>
                  </a:lnTo>
                  <a:lnTo>
                    <a:pt x="0" y="574"/>
                  </a:lnTo>
                  <a:lnTo>
                    <a:pt x="82" y="496"/>
                  </a:lnTo>
                  <a:lnTo>
                    <a:pt x="123" y="548"/>
                  </a:lnTo>
                  <a:lnTo>
                    <a:pt x="192" y="560"/>
                  </a:lnTo>
                  <a:lnTo>
                    <a:pt x="288" y="574"/>
                  </a:lnTo>
                  <a:lnTo>
                    <a:pt x="371" y="574"/>
                  </a:lnTo>
                  <a:lnTo>
                    <a:pt x="413" y="560"/>
                  </a:lnTo>
                  <a:lnTo>
                    <a:pt x="386" y="509"/>
                  </a:lnTo>
                  <a:lnTo>
                    <a:pt x="317" y="496"/>
                  </a:lnTo>
                  <a:lnTo>
                    <a:pt x="192" y="469"/>
                  </a:lnTo>
                  <a:lnTo>
                    <a:pt x="68" y="431"/>
                  </a:lnTo>
                  <a:lnTo>
                    <a:pt x="27" y="365"/>
                  </a:lnTo>
                  <a:lnTo>
                    <a:pt x="13" y="287"/>
                  </a:lnTo>
                  <a:lnTo>
                    <a:pt x="82" y="208"/>
                  </a:lnTo>
                  <a:lnTo>
                    <a:pt x="178" y="143"/>
                  </a:lnTo>
                  <a:lnTo>
                    <a:pt x="247" y="143"/>
                  </a:lnTo>
                  <a:lnTo>
                    <a:pt x="275" y="0"/>
                  </a:lnTo>
                  <a:lnTo>
                    <a:pt x="357" y="13"/>
                  </a:lnTo>
                  <a:lnTo>
                    <a:pt x="317" y="15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6400" y="1828440"/>
              <a:ext cx="101520" cy="177120"/>
            </a:xfrm>
            <a:custGeom>
              <a:avLst/>
              <a:gdLst/>
              <a:ahLst/>
              <a:rect l="l" t="t" r="r" b="b"/>
              <a:pathLst>
                <a:path w="220" h="301">
                  <a:moveTo>
                    <a:pt x="0" y="236"/>
                  </a:moveTo>
                  <a:lnTo>
                    <a:pt x="96" y="78"/>
                  </a:lnTo>
                  <a:lnTo>
                    <a:pt x="220" y="0"/>
                  </a:lnTo>
                  <a:lnTo>
                    <a:pt x="220" y="40"/>
                  </a:lnTo>
                  <a:lnTo>
                    <a:pt x="136" y="131"/>
                  </a:lnTo>
                  <a:lnTo>
                    <a:pt x="40" y="301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64920" y="2271600"/>
              <a:ext cx="63720" cy="122400"/>
            </a:xfrm>
            <a:custGeom>
              <a:avLst/>
              <a:gdLst/>
              <a:ahLst/>
              <a:rect l="l" t="t" r="r" b="b"/>
              <a:pathLst>
                <a:path w="138" h="209">
                  <a:moveTo>
                    <a:pt x="138" y="0"/>
                  </a:moveTo>
                  <a:lnTo>
                    <a:pt x="42" y="130"/>
                  </a:lnTo>
                  <a:lnTo>
                    <a:pt x="0" y="182"/>
                  </a:lnTo>
                  <a:lnTo>
                    <a:pt x="55" y="209"/>
                  </a:lnTo>
                  <a:lnTo>
                    <a:pt x="96" y="182"/>
                  </a:lnTo>
                  <a:lnTo>
                    <a:pt x="138" y="91"/>
                  </a:lnTo>
                  <a:lnTo>
                    <a:pt x="138" y="5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695680" y="1674720"/>
            <a:ext cx="1647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6400800" y="1295280"/>
            <a:ext cx="2666880" cy="4571640"/>
            <a:chOff x="6400800" y="1295280"/>
            <a:chExt cx="2666880" cy="4571640"/>
          </a:xfrm>
        </p:grpSpPr>
        <p:grpSp>
          <p:nvGrpSpPr>
            <p:cNvPr id="718" name=""/>
            <p:cNvGrpSpPr/>
            <p:nvPr/>
          </p:nvGrpSpPr>
          <p:grpSpPr>
            <a:xfrm>
              <a:off x="6781680" y="3367080"/>
              <a:ext cx="606240" cy="1163160"/>
              <a:chOff x="6781680" y="3367080"/>
              <a:chExt cx="606240" cy="1163160"/>
            </a:xfrm>
          </p:grpSpPr>
          <p:sp>
            <p:nvSpPr>
              <p:cNvPr id="719" name=""/>
              <p:cNvSpPr/>
              <p:nvPr/>
            </p:nvSpPr>
            <p:spPr>
              <a:xfrm flipH="1">
                <a:off x="6886440" y="3425400"/>
                <a:ext cx="351360" cy="261720"/>
              </a:xfrm>
              <a:custGeom>
                <a:avLst/>
                <a:gdLst/>
                <a:ahLst/>
                <a:rect l="l" t="t" r="r" b="b"/>
                <a:pathLst>
                  <a:path w="853" h="831">
                    <a:moveTo>
                      <a:pt x="260" y="351"/>
                    </a:moveTo>
                    <a:lnTo>
                      <a:pt x="335" y="241"/>
                    </a:lnTo>
                    <a:lnTo>
                      <a:pt x="418" y="157"/>
                    </a:lnTo>
                    <a:lnTo>
                      <a:pt x="502" y="55"/>
                    </a:lnTo>
                    <a:lnTo>
                      <a:pt x="603" y="9"/>
                    </a:lnTo>
                    <a:lnTo>
                      <a:pt x="686" y="0"/>
                    </a:lnTo>
                    <a:lnTo>
                      <a:pt x="770" y="28"/>
                    </a:lnTo>
                    <a:lnTo>
                      <a:pt x="817" y="93"/>
                    </a:lnTo>
                    <a:lnTo>
                      <a:pt x="853" y="212"/>
                    </a:lnTo>
                    <a:lnTo>
                      <a:pt x="844" y="342"/>
                    </a:lnTo>
                    <a:lnTo>
                      <a:pt x="807" y="453"/>
                    </a:lnTo>
                    <a:lnTo>
                      <a:pt x="714" y="581"/>
                    </a:lnTo>
                    <a:lnTo>
                      <a:pt x="613" y="674"/>
                    </a:lnTo>
                    <a:lnTo>
                      <a:pt x="502" y="758"/>
                    </a:lnTo>
                    <a:lnTo>
                      <a:pt x="381" y="813"/>
                    </a:lnTo>
                    <a:lnTo>
                      <a:pt x="278" y="831"/>
                    </a:lnTo>
                    <a:lnTo>
                      <a:pt x="232" y="803"/>
                    </a:lnTo>
                    <a:lnTo>
                      <a:pt x="195" y="692"/>
                    </a:lnTo>
                    <a:lnTo>
                      <a:pt x="205" y="544"/>
                    </a:lnTo>
                    <a:lnTo>
                      <a:pt x="28" y="555"/>
                    </a:lnTo>
                    <a:lnTo>
                      <a:pt x="0" y="526"/>
                    </a:lnTo>
                    <a:lnTo>
                      <a:pt x="28" y="471"/>
                    </a:lnTo>
                    <a:lnTo>
                      <a:pt x="214" y="462"/>
                    </a:lnTo>
                    <a:lnTo>
                      <a:pt x="260" y="35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12080" y="3702240"/>
                <a:ext cx="242640" cy="386640"/>
              </a:xfrm>
              <a:custGeom>
                <a:avLst/>
                <a:gdLst/>
                <a:ahLst/>
                <a:rect l="l" t="t" r="r" b="b"/>
                <a:pathLst>
                  <a:path w="590" h="1226">
                    <a:moveTo>
                      <a:pt x="165" y="102"/>
                    </a:moveTo>
                    <a:lnTo>
                      <a:pt x="249" y="28"/>
                    </a:lnTo>
                    <a:lnTo>
                      <a:pt x="378" y="0"/>
                    </a:lnTo>
                    <a:lnTo>
                      <a:pt x="489" y="18"/>
                    </a:lnTo>
                    <a:lnTo>
                      <a:pt x="572" y="93"/>
                    </a:lnTo>
                    <a:lnTo>
                      <a:pt x="590" y="148"/>
                    </a:lnTo>
                    <a:lnTo>
                      <a:pt x="590" y="223"/>
                    </a:lnTo>
                    <a:lnTo>
                      <a:pt x="553" y="289"/>
                    </a:lnTo>
                    <a:lnTo>
                      <a:pt x="489" y="399"/>
                    </a:lnTo>
                    <a:lnTo>
                      <a:pt x="460" y="529"/>
                    </a:lnTo>
                    <a:lnTo>
                      <a:pt x="451" y="641"/>
                    </a:lnTo>
                    <a:lnTo>
                      <a:pt x="480" y="761"/>
                    </a:lnTo>
                    <a:lnTo>
                      <a:pt x="553" y="873"/>
                    </a:lnTo>
                    <a:lnTo>
                      <a:pt x="581" y="984"/>
                    </a:lnTo>
                    <a:lnTo>
                      <a:pt x="572" y="1087"/>
                    </a:lnTo>
                    <a:lnTo>
                      <a:pt x="517" y="1171"/>
                    </a:lnTo>
                    <a:lnTo>
                      <a:pt x="442" y="1217"/>
                    </a:lnTo>
                    <a:lnTo>
                      <a:pt x="350" y="1226"/>
                    </a:lnTo>
                    <a:lnTo>
                      <a:pt x="240" y="1226"/>
                    </a:lnTo>
                    <a:lnTo>
                      <a:pt x="157" y="1180"/>
                    </a:lnTo>
                    <a:lnTo>
                      <a:pt x="75" y="1041"/>
                    </a:lnTo>
                    <a:lnTo>
                      <a:pt x="18" y="920"/>
                    </a:lnTo>
                    <a:lnTo>
                      <a:pt x="0" y="734"/>
                    </a:lnTo>
                    <a:lnTo>
                      <a:pt x="18" y="567"/>
                    </a:lnTo>
                    <a:lnTo>
                      <a:pt x="55" y="390"/>
                    </a:lnTo>
                    <a:lnTo>
                      <a:pt x="110" y="214"/>
                    </a:lnTo>
                    <a:lnTo>
                      <a:pt x="165" y="102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792840" y="3714480"/>
                <a:ext cx="270000" cy="347040"/>
              </a:xfrm>
              <a:custGeom>
                <a:avLst/>
                <a:gdLst/>
                <a:ahLst/>
                <a:rect l="l" t="t" r="r" b="b"/>
                <a:pathLst>
                  <a:path w="656" h="1100">
                    <a:moveTo>
                      <a:pt x="0" y="55"/>
                    </a:moveTo>
                    <a:lnTo>
                      <a:pt x="10" y="9"/>
                    </a:lnTo>
                    <a:lnTo>
                      <a:pt x="111" y="0"/>
                    </a:lnTo>
                    <a:lnTo>
                      <a:pt x="166" y="46"/>
                    </a:lnTo>
                    <a:lnTo>
                      <a:pt x="250" y="166"/>
                    </a:lnTo>
                    <a:lnTo>
                      <a:pt x="361" y="323"/>
                    </a:lnTo>
                    <a:lnTo>
                      <a:pt x="463" y="435"/>
                    </a:lnTo>
                    <a:lnTo>
                      <a:pt x="647" y="638"/>
                    </a:lnTo>
                    <a:lnTo>
                      <a:pt x="656" y="685"/>
                    </a:lnTo>
                    <a:lnTo>
                      <a:pt x="620" y="712"/>
                    </a:lnTo>
                    <a:lnTo>
                      <a:pt x="528" y="749"/>
                    </a:lnTo>
                    <a:lnTo>
                      <a:pt x="399" y="777"/>
                    </a:lnTo>
                    <a:lnTo>
                      <a:pt x="241" y="786"/>
                    </a:lnTo>
                    <a:lnTo>
                      <a:pt x="186" y="795"/>
                    </a:lnTo>
                    <a:lnTo>
                      <a:pt x="166" y="833"/>
                    </a:lnTo>
                    <a:lnTo>
                      <a:pt x="204" y="897"/>
                    </a:lnTo>
                    <a:lnTo>
                      <a:pt x="333" y="1008"/>
                    </a:lnTo>
                    <a:lnTo>
                      <a:pt x="425" y="1036"/>
                    </a:lnTo>
                    <a:lnTo>
                      <a:pt x="445" y="1072"/>
                    </a:lnTo>
                    <a:lnTo>
                      <a:pt x="408" y="1100"/>
                    </a:lnTo>
                    <a:lnTo>
                      <a:pt x="324" y="1100"/>
                    </a:lnTo>
                    <a:lnTo>
                      <a:pt x="213" y="1036"/>
                    </a:lnTo>
                    <a:lnTo>
                      <a:pt x="120" y="943"/>
                    </a:lnTo>
                    <a:lnTo>
                      <a:pt x="65" y="860"/>
                    </a:lnTo>
                    <a:lnTo>
                      <a:pt x="65" y="795"/>
                    </a:lnTo>
                    <a:lnTo>
                      <a:pt x="102" y="749"/>
                    </a:lnTo>
                    <a:lnTo>
                      <a:pt x="157" y="731"/>
                    </a:lnTo>
                    <a:lnTo>
                      <a:pt x="241" y="721"/>
                    </a:lnTo>
                    <a:lnTo>
                      <a:pt x="333" y="721"/>
                    </a:lnTo>
                    <a:lnTo>
                      <a:pt x="445" y="703"/>
                    </a:lnTo>
                    <a:lnTo>
                      <a:pt x="500" y="685"/>
                    </a:lnTo>
                    <a:lnTo>
                      <a:pt x="528" y="656"/>
                    </a:lnTo>
                    <a:lnTo>
                      <a:pt x="518" y="629"/>
                    </a:lnTo>
                    <a:lnTo>
                      <a:pt x="434" y="555"/>
                    </a:lnTo>
                    <a:lnTo>
                      <a:pt x="305" y="426"/>
                    </a:lnTo>
                    <a:lnTo>
                      <a:pt x="186" y="314"/>
                    </a:lnTo>
                    <a:lnTo>
                      <a:pt x="56" y="194"/>
                    </a:lnTo>
                    <a:lnTo>
                      <a:pt x="10" y="11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944040" y="4006800"/>
                <a:ext cx="291960" cy="523440"/>
              </a:xfrm>
              <a:custGeom>
                <a:avLst/>
                <a:gdLst/>
                <a:ahLst/>
                <a:rect l="l" t="t" r="r" b="b"/>
                <a:pathLst>
                  <a:path w="713" h="1660">
                    <a:moveTo>
                      <a:pt x="352" y="0"/>
                    </a:moveTo>
                    <a:lnTo>
                      <a:pt x="453" y="19"/>
                    </a:lnTo>
                    <a:lnTo>
                      <a:pt x="499" y="93"/>
                    </a:lnTo>
                    <a:lnTo>
                      <a:pt x="490" y="269"/>
                    </a:lnTo>
                    <a:lnTo>
                      <a:pt x="472" y="454"/>
                    </a:lnTo>
                    <a:lnTo>
                      <a:pt x="472" y="649"/>
                    </a:lnTo>
                    <a:lnTo>
                      <a:pt x="565" y="881"/>
                    </a:lnTo>
                    <a:lnTo>
                      <a:pt x="639" y="1048"/>
                    </a:lnTo>
                    <a:lnTo>
                      <a:pt x="676" y="1214"/>
                    </a:lnTo>
                    <a:lnTo>
                      <a:pt x="666" y="1362"/>
                    </a:lnTo>
                    <a:lnTo>
                      <a:pt x="666" y="1417"/>
                    </a:lnTo>
                    <a:lnTo>
                      <a:pt x="703" y="1474"/>
                    </a:lnTo>
                    <a:lnTo>
                      <a:pt x="713" y="1529"/>
                    </a:lnTo>
                    <a:lnTo>
                      <a:pt x="685" y="1556"/>
                    </a:lnTo>
                    <a:lnTo>
                      <a:pt x="611" y="1538"/>
                    </a:lnTo>
                    <a:lnTo>
                      <a:pt x="472" y="1520"/>
                    </a:lnTo>
                    <a:lnTo>
                      <a:pt x="306" y="1556"/>
                    </a:lnTo>
                    <a:lnTo>
                      <a:pt x="194" y="1622"/>
                    </a:lnTo>
                    <a:lnTo>
                      <a:pt x="139" y="1660"/>
                    </a:lnTo>
                    <a:lnTo>
                      <a:pt x="82" y="1660"/>
                    </a:lnTo>
                    <a:lnTo>
                      <a:pt x="0" y="1538"/>
                    </a:lnTo>
                    <a:lnTo>
                      <a:pt x="9" y="1520"/>
                    </a:lnTo>
                    <a:lnTo>
                      <a:pt x="176" y="1464"/>
                    </a:lnTo>
                    <a:lnTo>
                      <a:pt x="370" y="1437"/>
                    </a:lnTo>
                    <a:lnTo>
                      <a:pt x="510" y="1428"/>
                    </a:lnTo>
                    <a:lnTo>
                      <a:pt x="593" y="1428"/>
                    </a:lnTo>
                    <a:lnTo>
                      <a:pt x="611" y="1371"/>
                    </a:lnTo>
                    <a:lnTo>
                      <a:pt x="582" y="1214"/>
                    </a:lnTo>
                    <a:lnTo>
                      <a:pt x="518" y="1048"/>
                    </a:lnTo>
                    <a:lnTo>
                      <a:pt x="416" y="834"/>
                    </a:lnTo>
                    <a:lnTo>
                      <a:pt x="332" y="649"/>
                    </a:lnTo>
                    <a:lnTo>
                      <a:pt x="297" y="483"/>
                    </a:lnTo>
                    <a:lnTo>
                      <a:pt x="286" y="297"/>
                    </a:lnTo>
                    <a:lnTo>
                      <a:pt x="286" y="121"/>
                    </a:lnTo>
                    <a:lnTo>
                      <a:pt x="323" y="46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138080" y="4020840"/>
                <a:ext cx="242640" cy="436680"/>
              </a:xfrm>
              <a:custGeom>
                <a:avLst/>
                <a:gdLst/>
                <a:ahLst/>
                <a:rect l="l" t="t" r="r" b="b"/>
                <a:pathLst>
                  <a:path w="589" h="1386">
                    <a:moveTo>
                      <a:pt x="442" y="0"/>
                    </a:moveTo>
                    <a:lnTo>
                      <a:pt x="525" y="0"/>
                    </a:lnTo>
                    <a:lnTo>
                      <a:pt x="552" y="56"/>
                    </a:lnTo>
                    <a:lnTo>
                      <a:pt x="571" y="177"/>
                    </a:lnTo>
                    <a:lnTo>
                      <a:pt x="552" y="307"/>
                    </a:lnTo>
                    <a:lnTo>
                      <a:pt x="506" y="567"/>
                    </a:lnTo>
                    <a:lnTo>
                      <a:pt x="516" y="679"/>
                    </a:lnTo>
                    <a:lnTo>
                      <a:pt x="571" y="902"/>
                    </a:lnTo>
                    <a:lnTo>
                      <a:pt x="589" y="1060"/>
                    </a:lnTo>
                    <a:lnTo>
                      <a:pt x="589" y="1181"/>
                    </a:lnTo>
                    <a:lnTo>
                      <a:pt x="561" y="1208"/>
                    </a:lnTo>
                    <a:lnTo>
                      <a:pt x="479" y="1228"/>
                    </a:lnTo>
                    <a:lnTo>
                      <a:pt x="369" y="1255"/>
                    </a:lnTo>
                    <a:lnTo>
                      <a:pt x="257" y="1311"/>
                    </a:lnTo>
                    <a:lnTo>
                      <a:pt x="147" y="1386"/>
                    </a:lnTo>
                    <a:lnTo>
                      <a:pt x="101" y="1386"/>
                    </a:lnTo>
                    <a:lnTo>
                      <a:pt x="0" y="1303"/>
                    </a:lnTo>
                    <a:lnTo>
                      <a:pt x="8" y="1265"/>
                    </a:lnTo>
                    <a:lnTo>
                      <a:pt x="138" y="1208"/>
                    </a:lnTo>
                    <a:lnTo>
                      <a:pt x="358" y="1153"/>
                    </a:lnTo>
                    <a:lnTo>
                      <a:pt x="460" y="1116"/>
                    </a:lnTo>
                    <a:lnTo>
                      <a:pt x="479" y="1078"/>
                    </a:lnTo>
                    <a:lnTo>
                      <a:pt x="479" y="920"/>
                    </a:lnTo>
                    <a:lnTo>
                      <a:pt x="442" y="716"/>
                    </a:lnTo>
                    <a:lnTo>
                      <a:pt x="424" y="585"/>
                    </a:lnTo>
                    <a:lnTo>
                      <a:pt x="404" y="382"/>
                    </a:lnTo>
                    <a:lnTo>
                      <a:pt x="396" y="157"/>
                    </a:lnTo>
                    <a:lnTo>
                      <a:pt x="404" y="5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781320" y="3376440"/>
                <a:ext cx="279720" cy="255960"/>
              </a:xfrm>
              <a:custGeom>
                <a:avLst/>
                <a:gdLst/>
                <a:ahLst/>
                <a:rect l="l" t="t" r="r" b="b"/>
                <a:pathLst>
                  <a:path w="680" h="812">
                    <a:moveTo>
                      <a:pt x="180" y="576"/>
                    </a:moveTo>
                    <a:lnTo>
                      <a:pt x="87" y="413"/>
                    </a:lnTo>
                    <a:lnTo>
                      <a:pt x="32" y="273"/>
                    </a:lnTo>
                    <a:lnTo>
                      <a:pt x="0" y="121"/>
                    </a:lnTo>
                    <a:lnTo>
                      <a:pt x="13" y="60"/>
                    </a:lnTo>
                    <a:lnTo>
                      <a:pt x="59" y="60"/>
                    </a:lnTo>
                    <a:lnTo>
                      <a:pt x="116" y="106"/>
                    </a:lnTo>
                    <a:lnTo>
                      <a:pt x="171" y="172"/>
                    </a:lnTo>
                    <a:lnTo>
                      <a:pt x="338" y="79"/>
                    </a:lnTo>
                    <a:lnTo>
                      <a:pt x="425" y="0"/>
                    </a:lnTo>
                    <a:lnTo>
                      <a:pt x="504" y="51"/>
                    </a:lnTo>
                    <a:lnTo>
                      <a:pt x="592" y="167"/>
                    </a:lnTo>
                    <a:lnTo>
                      <a:pt x="658" y="333"/>
                    </a:lnTo>
                    <a:lnTo>
                      <a:pt x="680" y="441"/>
                    </a:lnTo>
                    <a:lnTo>
                      <a:pt x="680" y="478"/>
                    </a:lnTo>
                    <a:lnTo>
                      <a:pt x="592" y="505"/>
                    </a:lnTo>
                    <a:lnTo>
                      <a:pt x="472" y="580"/>
                    </a:lnTo>
                    <a:lnTo>
                      <a:pt x="416" y="613"/>
                    </a:lnTo>
                    <a:lnTo>
                      <a:pt x="463" y="743"/>
                    </a:lnTo>
                    <a:lnTo>
                      <a:pt x="445" y="803"/>
                    </a:lnTo>
                    <a:lnTo>
                      <a:pt x="408" y="812"/>
                    </a:lnTo>
                    <a:lnTo>
                      <a:pt x="305" y="728"/>
                    </a:lnTo>
                    <a:lnTo>
                      <a:pt x="180" y="576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041600" y="3367080"/>
                <a:ext cx="346320" cy="400680"/>
              </a:xfrm>
              <a:custGeom>
                <a:avLst/>
                <a:gdLst/>
                <a:ahLst/>
                <a:rect l="l" t="t" r="r" b="b"/>
                <a:pathLst>
                  <a:path w="843" h="1270">
                    <a:moveTo>
                      <a:pt x="518" y="1270"/>
                    </a:moveTo>
                    <a:lnTo>
                      <a:pt x="564" y="1215"/>
                    </a:lnTo>
                    <a:lnTo>
                      <a:pt x="547" y="1132"/>
                    </a:lnTo>
                    <a:lnTo>
                      <a:pt x="509" y="1020"/>
                    </a:lnTo>
                    <a:lnTo>
                      <a:pt x="371" y="890"/>
                    </a:lnTo>
                    <a:lnTo>
                      <a:pt x="231" y="770"/>
                    </a:lnTo>
                    <a:lnTo>
                      <a:pt x="167" y="640"/>
                    </a:lnTo>
                    <a:lnTo>
                      <a:pt x="139" y="437"/>
                    </a:lnTo>
                    <a:lnTo>
                      <a:pt x="296" y="382"/>
                    </a:lnTo>
                    <a:lnTo>
                      <a:pt x="547" y="353"/>
                    </a:lnTo>
                    <a:lnTo>
                      <a:pt x="648" y="362"/>
                    </a:lnTo>
                    <a:lnTo>
                      <a:pt x="676" y="391"/>
                    </a:lnTo>
                    <a:lnTo>
                      <a:pt x="722" y="344"/>
                    </a:lnTo>
                    <a:lnTo>
                      <a:pt x="704" y="298"/>
                    </a:lnTo>
                    <a:lnTo>
                      <a:pt x="750" y="177"/>
                    </a:lnTo>
                    <a:lnTo>
                      <a:pt x="768" y="131"/>
                    </a:lnTo>
                    <a:lnTo>
                      <a:pt x="806" y="57"/>
                    </a:lnTo>
                    <a:lnTo>
                      <a:pt x="843" y="57"/>
                    </a:lnTo>
                    <a:lnTo>
                      <a:pt x="843" y="20"/>
                    </a:lnTo>
                    <a:lnTo>
                      <a:pt x="768" y="0"/>
                    </a:lnTo>
                    <a:lnTo>
                      <a:pt x="722" y="84"/>
                    </a:lnTo>
                    <a:lnTo>
                      <a:pt x="658" y="205"/>
                    </a:lnTo>
                    <a:lnTo>
                      <a:pt x="575" y="261"/>
                    </a:lnTo>
                    <a:lnTo>
                      <a:pt x="445" y="279"/>
                    </a:lnTo>
                    <a:lnTo>
                      <a:pt x="213" y="307"/>
                    </a:lnTo>
                    <a:lnTo>
                      <a:pt x="28" y="362"/>
                    </a:lnTo>
                    <a:lnTo>
                      <a:pt x="0" y="409"/>
                    </a:lnTo>
                    <a:lnTo>
                      <a:pt x="18" y="557"/>
                    </a:lnTo>
                    <a:lnTo>
                      <a:pt x="84" y="762"/>
                    </a:lnTo>
                    <a:lnTo>
                      <a:pt x="176" y="927"/>
                    </a:lnTo>
                    <a:lnTo>
                      <a:pt x="268" y="1075"/>
                    </a:lnTo>
                    <a:lnTo>
                      <a:pt x="352" y="1179"/>
                    </a:lnTo>
                    <a:lnTo>
                      <a:pt x="435" y="1252"/>
                    </a:lnTo>
                    <a:lnTo>
                      <a:pt x="518" y="127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443720" y="3508200"/>
              <a:ext cx="1141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Coa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015320" y="4848120"/>
              <a:ext cx="534960" cy="874800"/>
            </a:xfrm>
            <a:custGeom>
              <a:avLst/>
              <a:gdLst/>
              <a:ahLst/>
              <a:rect l="l" t="t" r="r" b="b"/>
              <a:pathLst>
                <a:path w="890" h="2854">
                  <a:moveTo>
                    <a:pt x="320" y="1308"/>
                  </a:moveTo>
                  <a:lnTo>
                    <a:pt x="307" y="1199"/>
                  </a:lnTo>
                  <a:lnTo>
                    <a:pt x="277" y="1121"/>
                  </a:lnTo>
                  <a:lnTo>
                    <a:pt x="200" y="993"/>
                  </a:lnTo>
                  <a:lnTo>
                    <a:pt x="149" y="879"/>
                  </a:lnTo>
                  <a:lnTo>
                    <a:pt x="80" y="726"/>
                  </a:lnTo>
                  <a:lnTo>
                    <a:pt x="35" y="576"/>
                  </a:lnTo>
                  <a:lnTo>
                    <a:pt x="0" y="452"/>
                  </a:lnTo>
                  <a:lnTo>
                    <a:pt x="7" y="339"/>
                  </a:lnTo>
                  <a:lnTo>
                    <a:pt x="30" y="218"/>
                  </a:lnTo>
                  <a:lnTo>
                    <a:pt x="67" y="125"/>
                  </a:lnTo>
                  <a:lnTo>
                    <a:pt x="119" y="48"/>
                  </a:lnTo>
                  <a:lnTo>
                    <a:pt x="200" y="0"/>
                  </a:lnTo>
                  <a:lnTo>
                    <a:pt x="515" y="0"/>
                  </a:lnTo>
                  <a:lnTo>
                    <a:pt x="712" y="4"/>
                  </a:lnTo>
                  <a:lnTo>
                    <a:pt x="755" y="85"/>
                  </a:lnTo>
                  <a:lnTo>
                    <a:pt x="795" y="173"/>
                  </a:lnTo>
                  <a:lnTo>
                    <a:pt x="838" y="306"/>
                  </a:lnTo>
                  <a:lnTo>
                    <a:pt x="840" y="412"/>
                  </a:lnTo>
                  <a:lnTo>
                    <a:pt x="823" y="588"/>
                  </a:lnTo>
                  <a:lnTo>
                    <a:pt x="779" y="723"/>
                  </a:lnTo>
                  <a:lnTo>
                    <a:pt x="710" y="867"/>
                  </a:lnTo>
                  <a:lnTo>
                    <a:pt x="650" y="988"/>
                  </a:lnTo>
                  <a:lnTo>
                    <a:pt x="574" y="1114"/>
                  </a:lnTo>
                  <a:lnTo>
                    <a:pt x="537" y="1187"/>
                  </a:lnTo>
                  <a:lnTo>
                    <a:pt x="515" y="1283"/>
                  </a:lnTo>
                  <a:lnTo>
                    <a:pt x="515" y="1377"/>
                  </a:lnTo>
                  <a:lnTo>
                    <a:pt x="525" y="1486"/>
                  </a:lnTo>
                  <a:lnTo>
                    <a:pt x="574" y="1622"/>
                  </a:lnTo>
                  <a:lnTo>
                    <a:pt x="653" y="1768"/>
                  </a:lnTo>
                  <a:lnTo>
                    <a:pt x="725" y="1920"/>
                  </a:lnTo>
                  <a:lnTo>
                    <a:pt x="770" y="2017"/>
                  </a:lnTo>
                  <a:lnTo>
                    <a:pt x="818" y="2126"/>
                  </a:lnTo>
                  <a:lnTo>
                    <a:pt x="868" y="2235"/>
                  </a:lnTo>
                  <a:lnTo>
                    <a:pt x="890" y="2410"/>
                  </a:lnTo>
                  <a:lnTo>
                    <a:pt x="878" y="2519"/>
                  </a:lnTo>
                  <a:lnTo>
                    <a:pt x="860" y="2603"/>
                  </a:lnTo>
                  <a:lnTo>
                    <a:pt x="810" y="2695"/>
                  </a:lnTo>
                  <a:lnTo>
                    <a:pt x="755" y="2768"/>
                  </a:lnTo>
                  <a:lnTo>
                    <a:pt x="717" y="2818"/>
                  </a:lnTo>
                  <a:lnTo>
                    <a:pt x="638" y="2833"/>
                  </a:lnTo>
                  <a:lnTo>
                    <a:pt x="589" y="2854"/>
                  </a:lnTo>
                  <a:lnTo>
                    <a:pt x="285" y="2845"/>
                  </a:lnTo>
                  <a:lnTo>
                    <a:pt x="223" y="2792"/>
                  </a:lnTo>
                  <a:lnTo>
                    <a:pt x="102" y="2683"/>
                  </a:lnTo>
                  <a:lnTo>
                    <a:pt x="52" y="2603"/>
                  </a:lnTo>
                  <a:lnTo>
                    <a:pt x="27" y="2543"/>
                  </a:lnTo>
                  <a:lnTo>
                    <a:pt x="15" y="2453"/>
                  </a:lnTo>
                  <a:lnTo>
                    <a:pt x="12" y="2261"/>
                  </a:lnTo>
                  <a:lnTo>
                    <a:pt x="12" y="2119"/>
                  </a:lnTo>
                  <a:lnTo>
                    <a:pt x="35" y="2029"/>
                  </a:lnTo>
                  <a:lnTo>
                    <a:pt x="65" y="1937"/>
                  </a:lnTo>
                  <a:lnTo>
                    <a:pt x="127" y="1828"/>
                  </a:lnTo>
                  <a:lnTo>
                    <a:pt x="172" y="1768"/>
                  </a:lnTo>
                  <a:lnTo>
                    <a:pt x="245" y="1695"/>
                  </a:lnTo>
                  <a:lnTo>
                    <a:pt x="285" y="1622"/>
                  </a:lnTo>
                  <a:lnTo>
                    <a:pt x="300" y="1526"/>
                  </a:lnTo>
                  <a:lnTo>
                    <a:pt x="315" y="1404"/>
                  </a:lnTo>
                  <a:lnTo>
                    <a:pt x="320" y="1283"/>
                  </a:lnTo>
                  <a:lnTo>
                    <a:pt x="320" y="130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079400" y="5019840"/>
              <a:ext cx="427320" cy="703080"/>
            </a:xfrm>
            <a:custGeom>
              <a:avLst/>
              <a:gdLst/>
              <a:ahLst/>
              <a:rect l="l" t="t" r="r" b="b"/>
              <a:pathLst>
                <a:path w="711" h="2297">
                  <a:moveTo>
                    <a:pt x="0" y="81"/>
                  </a:moveTo>
                  <a:lnTo>
                    <a:pt x="50" y="57"/>
                  </a:lnTo>
                  <a:lnTo>
                    <a:pt x="102" y="25"/>
                  </a:lnTo>
                  <a:lnTo>
                    <a:pt x="155" y="0"/>
                  </a:lnTo>
                  <a:lnTo>
                    <a:pt x="207" y="37"/>
                  </a:lnTo>
                  <a:lnTo>
                    <a:pt x="245" y="94"/>
                  </a:lnTo>
                  <a:lnTo>
                    <a:pt x="330" y="106"/>
                  </a:lnTo>
                  <a:lnTo>
                    <a:pt x="417" y="81"/>
                  </a:lnTo>
                  <a:lnTo>
                    <a:pt x="454" y="73"/>
                  </a:lnTo>
                  <a:lnTo>
                    <a:pt x="522" y="118"/>
                  </a:lnTo>
                  <a:lnTo>
                    <a:pt x="604" y="121"/>
                  </a:lnTo>
                  <a:lnTo>
                    <a:pt x="667" y="97"/>
                  </a:lnTo>
                  <a:lnTo>
                    <a:pt x="711" y="94"/>
                  </a:lnTo>
                  <a:lnTo>
                    <a:pt x="709" y="142"/>
                  </a:lnTo>
                  <a:lnTo>
                    <a:pt x="649" y="266"/>
                  </a:lnTo>
                  <a:lnTo>
                    <a:pt x="582" y="387"/>
                  </a:lnTo>
                  <a:lnTo>
                    <a:pt x="499" y="531"/>
                  </a:lnTo>
                  <a:lnTo>
                    <a:pt x="439" y="673"/>
                  </a:lnTo>
                  <a:lnTo>
                    <a:pt x="397" y="785"/>
                  </a:lnTo>
                  <a:lnTo>
                    <a:pt x="387" y="963"/>
                  </a:lnTo>
                  <a:lnTo>
                    <a:pt x="380" y="1265"/>
                  </a:lnTo>
                  <a:lnTo>
                    <a:pt x="390" y="1531"/>
                  </a:lnTo>
                  <a:lnTo>
                    <a:pt x="420" y="1699"/>
                  </a:lnTo>
                  <a:lnTo>
                    <a:pt x="514" y="1872"/>
                  </a:lnTo>
                  <a:lnTo>
                    <a:pt x="612" y="2043"/>
                  </a:lnTo>
                  <a:lnTo>
                    <a:pt x="642" y="2126"/>
                  </a:lnTo>
                  <a:lnTo>
                    <a:pt x="652" y="2207"/>
                  </a:lnTo>
                  <a:lnTo>
                    <a:pt x="592" y="2256"/>
                  </a:lnTo>
                  <a:lnTo>
                    <a:pt x="447" y="2297"/>
                  </a:lnTo>
                  <a:lnTo>
                    <a:pt x="320" y="2292"/>
                  </a:lnTo>
                  <a:lnTo>
                    <a:pt x="230" y="2268"/>
                  </a:lnTo>
                  <a:lnTo>
                    <a:pt x="143" y="2207"/>
                  </a:lnTo>
                  <a:lnTo>
                    <a:pt x="102" y="2171"/>
                  </a:lnTo>
                  <a:lnTo>
                    <a:pt x="148" y="2026"/>
                  </a:lnTo>
                  <a:lnTo>
                    <a:pt x="202" y="1910"/>
                  </a:lnTo>
                  <a:lnTo>
                    <a:pt x="270" y="1777"/>
                  </a:lnTo>
                  <a:lnTo>
                    <a:pt x="314" y="1628"/>
                  </a:lnTo>
                  <a:lnTo>
                    <a:pt x="335" y="1402"/>
                  </a:lnTo>
                  <a:lnTo>
                    <a:pt x="343" y="1168"/>
                  </a:lnTo>
                  <a:lnTo>
                    <a:pt x="328" y="942"/>
                  </a:lnTo>
                  <a:lnTo>
                    <a:pt x="314" y="782"/>
                  </a:lnTo>
                  <a:lnTo>
                    <a:pt x="267" y="641"/>
                  </a:lnTo>
                  <a:lnTo>
                    <a:pt x="193" y="508"/>
                  </a:lnTo>
                  <a:lnTo>
                    <a:pt x="110" y="372"/>
                  </a:lnTo>
                  <a:lnTo>
                    <a:pt x="50" y="218"/>
                  </a:lnTo>
                  <a:lnTo>
                    <a:pt x="0" y="133"/>
                  </a:lnTo>
                  <a:lnTo>
                    <a:pt x="0" y="8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001640" y="4836960"/>
              <a:ext cx="560520" cy="895680"/>
            </a:xfrm>
            <a:custGeom>
              <a:avLst/>
              <a:gdLst/>
              <a:ahLst/>
              <a:rect l="l" t="t" r="r" b="b"/>
              <a:pathLst>
                <a:path w="931" h="2923">
                  <a:moveTo>
                    <a:pt x="225" y="2858"/>
                  </a:moveTo>
                  <a:lnTo>
                    <a:pt x="147" y="2791"/>
                  </a:lnTo>
                  <a:lnTo>
                    <a:pt x="80" y="2713"/>
                  </a:lnTo>
                  <a:lnTo>
                    <a:pt x="46" y="2646"/>
                  </a:lnTo>
                  <a:lnTo>
                    <a:pt x="23" y="2556"/>
                  </a:lnTo>
                  <a:lnTo>
                    <a:pt x="13" y="2464"/>
                  </a:lnTo>
                  <a:lnTo>
                    <a:pt x="8" y="2352"/>
                  </a:lnTo>
                  <a:lnTo>
                    <a:pt x="13" y="2219"/>
                  </a:lnTo>
                  <a:lnTo>
                    <a:pt x="21" y="2122"/>
                  </a:lnTo>
                  <a:lnTo>
                    <a:pt x="38" y="2041"/>
                  </a:lnTo>
                  <a:lnTo>
                    <a:pt x="73" y="1953"/>
                  </a:lnTo>
                  <a:lnTo>
                    <a:pt x="112" y="1880"/>
                  </a:lnTo>
                  <a:lnTo>
                    <a:pt x="142" y="1820"/>
                  </a:lnTo>
                  <a:lnTo>
                    <a:pt x="202" y="1751"/>
                  </a:lnTo>
                  <a:lnTo>
                    <a:pt x="252" y="1703"/>
                  </a:lnTo>
                  <a:lnTo>
                    <a:pt x="277" y="1666"/>
                  </a:lnTo>
                  <a:lnTo>
                    <a:pt x="297" y="1606"/>
                  </a:lnTo>
                  <a:lnTo>
                    <a:pt x="311" y="1530"/>
                  </a:lnTo>
                  <a:lnTo>
                    <a:pt x="319" y="1457"/>
                  </a:lnTo>
                  <a:lnTo>
                    <a:pt x="319" y="1385"/>
                  </a:lnTo>
                  <a:lnTo>
                    <a:pt x="319" y="1317"/>
                  </a:lnTo>
                  <a:lnTo>
                    <a:pt x="311" y="1257"/>
                  </a:lnTo>
                  <a:lnTo>
                    <a:pt x="277" y="1172"/>
                  </a:lnTo>
                  <a:lnTo>
                    <a:pt x="237" y="1108"/>
                  </a:lnTo>
                  <a:lnTo>
                    <a:pt x="199" y="1051"/>
                  </a:lnTo>
                  <a:lnTo>
                    <a:pt x="164" y="966"/>
                  </a:lnTo>
                  <a:lnTo>
                    <a:pt x="125" y="878"/>
                  </a:lnTo>
                  <a:lnTo>
                    <a:pt x="75" y="769"/>
                  </a:lnTo>
                  <a:lnTo>
                    <a:pt x="46" y="661"/>
                  </a:lnTo>
                  <a:lnTo>
                    <a:pt x="16" y="555"/>
                  </a:lnTo>
                  <a:lnTo>
                    <a:pt x="0" y="483"/>
                  </a:lnTo>
                  <a:lnTo>
                    <a:pt x="0" y="424"/>
                  </a:lnTo>
                  <a:lnTo>
                    <a:pt x="13" y="367"/>
                  </a:lnTo>
                  <a:lnTo>
                    <a:pt x="28" y="258"/>
                  </a:lnTo>
                  <a:lnTo>
                    <a:pt x="58" y="182"/>
                  </a:lnTo>
                  <a:lnTo>
                    <a:pt x="90" y="125"/>
                  </a:lnTo>
                  <a:lnTo>
                    <a:pt x="125" y="65"/>
                  </a:lnTo>
                  <a:lnTo>
                    <a:pt x="164" y="25"/>
                  </a:lnTo>
                  <a:lnTo>
                    <a:pt x="208" y="4"/>
                  </a:lnTo>
                  <a:lnTo>
                    <a:pt x="311" y="0"/>
                  </a:lnTo>
                  <a:lnTo>
                    <a:pt x="262" y="53"/>
                  </a:lnTo>
                  <a:lnTo>
                    <a:pt x="202" y="85"/>
                  </a:lnTo>
                  <a:lnTo>
                    <a:pt x="140" y="132"/>
                  </a:lnTo>
                  <a:lnTo>
                    <a:pt x="105" y="194"/>
                  </a:lnTo>
                  <a:lnTo>
                    <a:pt x="80" y="253"/>
                  </a:lnTo>
                  <a:lnTo>
                    <a:pt x="65" y="339"/>
                  </a:lnTo>
                  <a:lnTo>
                    <a:pt x="51" y="415"/>
                  </a:lnTo>
                  <a:lnTo>
                    <a:pt x="51" y="495"/>
                  </a:lnTo>
                  <a:lnTo>
                    <a:pt x="80" y="616"/>
                  </a:lnTo>
                  <a:lnTo>
                    <a:pt x="110" y="697"/>
                  </a:lnTo>
                  <a:lnTo>
                    <a:pt x="147" y="794"/>
                  </a:lnTo>
                  <a:lnTo>
                    <a:pt x="177" y="858"/>
                  </a:lnTo>
                  <a:lnTo>
                    <a:pt x="210" y="954"/>
                  </a:lnTo>
                  <a:lnTo>
                    <a:pt x="252" y="1027"/>
                  </a:lnTo>
                  <a:lnTo>
                    <a:pt x="297" y="1099"/>
                  </a:lnTo>
                  <a:lnTo>
                    <a:pt x="326" y="1143"/>
                  </a:lnTo>
                  <a:lnTo>
                    <a:pt x="359" y="1232"/>
                  </a:lnTo>
                  <a:lnTo>
                    <a:pt x="363" y="1305"/>
                  </a:lnTo>
                  <a:lnTo>
                    <a:pt x="366" y="1376"/>
                  </a:lnTo>
                  <a:lnTo>
                    <a:pt x="363" y="1473"/>
                  </a:lnTo>
                  <a:lnTo>
                    <a:pt x="356" y="1547"/>
                  </a:lnTo>
                  <a:lnTo>
                    <a:pt x="341" y="1630"/>
                  </a:lnTo>
                  <a:lnTo>
                    <a:pt x="326" y="1691"/>
                  </a:lnTo>
                  <a:lnTo>
                    <a:pt x="292" y="1747"/>
                  </a:lnTo>
                  <a:lnTo>
                    <a:pt x="259" y="1784"/>
                  </a:lnTo>
                  <a:lnTo>
                    <a:pt x="210" y="1836"/>
                  </a:lnTo>
                  <a:lnTo>
                    <a:pt x="142" y="1920"/>
                  </a:lnTo>
                  <a:lnTo>
                    <a:pt x="110" y="2001"/>
                  </a:lnTo>
                  <a:lnTo>
                    <a:pt x="83" y="2062"/>
                  </a:lnTo>
                  <a:lnTo>
                    <a:pt x="68" y="2122"/>
                  </a:lnTo>
                  <a:lnTo>
                    <a:pt x="58" y="2183"/>
                  </a:lnTo>
                  <a:lnTo>
                    <a:pt x="58" y="2387"/>
                  </a:lnTo>
                  <a:lnTo>
                    <a:pt x="60" y="2475"/>
                  </a:lnTo>
                  <a:lnTo>
                    <a:pt x="68" y="2532"/>
                  </a:lnTo>
                  <a:lnTo>
                    <a:pt x="90" y="2592"/>
                  </a:lnTo>
                  <a:lnTo>
                    <a:pt x="117" y="2653"/>
                  </a:lnTo>
                  <a:lnTo>
                    <a:pt x="157" y="2701"/>
                  </a:lnTo>
                  <a:lnTo>
                    <a:pt x="208" y="2738"/>
                  </a:lnTo>
                  <a:lnTo>
                    <a:pt x="259" y="2791"/>
                  </a:lnTo>
                  <a:lnTo>
                    <a:pt x="304" y="2822"/>
                  </a:lnTo>
                  <a:lnTo>
                    <a:pt x="349" y="2846"/>
                  </a:lnTo>
                  <a:lnTo>
                    <a:pt x="419" y="2850"/>
                  </a:lnTo>
                  <a:lnTo>
                    <a:pt x="560" y="2850"/>
                  </a:lnTo>
                  <a:lnTo>
                    <a:pt x="658" y="2834"/>
                  </a:lnTo>
                  <a:lnTo>
                    <a:pt x="732" y="2803"/>
                  </a:lnTo>
                  <a:lnTo>
                    <a:pt x="767" y="2753"/>
                  </a:lnTo>
                  <a:lnTo>
                    <a:pt x="822" y="2682"/>
                  </a:lnTo>
                  <a:lnTo>
                    <a:pt x="857" y="2617"/>
                  </a:lnTo>
                  <a:lnTo>
                    <a:pt x="879" y="2532"/>
                  </a:lnTo>
                  <a:lnTo>
                    <a:pt x="881" y="2440"/>
                  </a:lnTo>
                  <a:lnTo>
                    <a:pt x="879" y="2375"/>
                  </a:lnTo>
                  <a:lnTo>
                    <a:pt x="859" y="2302"/>
                  </a:lnTo>
                  <a:lnTo>
                    <a:pt x="837" y="2243"/>
                  </a:lnTo>
                  <a:lnTo>
                    <a:pt x="811" y="2162"/>
                  </a:lnTo>
                  <a:lnTo>
                    <a:pt x="759" y="2053"/>
                  </a:lnTo>
                  <a:lnTo>
                    <a:pt x="710" y="1944"/>
                  </a:lnTo>
                  <a:lnTo>
                    <a:pt x="673" y="1860"/>
                  </a:lnTo>
                  <a:lnTo>
                    <a:pt x="621" y="1763"/>
                  </a:lnTo>
                  <a:lnTo>
                    <a:pt x="568" y="1666"/>
                  </a:lnTo>
                  <a:lnTo>
                    <a:pt x="543" y="1594"/>
                  </a:lnTo>
                  <a:lnTo>
                    <a:pt x="523" y="1506"/>
                  </a:lnTo>
                  <a:lnTo>
                    <a:pt x="513" y="1426"/>
                  </a:lnTo>
                  <a:lnTo>
                    <a:pt x="513" y="1361"/>
                  </a:lnTo>
                  <a:lnTo>
                    <a:pt x="520" y="1264"/>
                  </a:lnTo>
                  <a:lnTo>
                    <a:pt x="538" y="1184"/>
                  </a:lnTo>
                  <a:lnTo>
                    <a:pt x="587" y="1099"/>
                  </a:lnTo>
                  <a:lnTo>
                    <a:pt x="643" y="1011"/>
                  </a:lnTo>
                  <a:lnTo>
                    <a:pt x="707" y="882"/>
                  </a:lnTo>
                  <a:lnTo>
                    <a:pt x="752" y="797"/>
                  </a:lnTo>
                  <a:lnTo>
                    <a:pt x="804" y="676"/>
                  </a:lnTo>
                  <a:lnTo>
                    <a:pt x="822" y="564"/>
                  </a:lnTo>
                  <a:lnTo>
                    <a:pt x="829" y="471"/>
                  </a:lnTo>
                  <a:lnTo>
                    <a:pt x="829" y="374"/>
                  </a:lnTo>
                  <a:lnTo>
                    <a:pt x="811" y="282"/>
                  </a:lnTo>
                  <a:lnTo>
                    <a:pt x="781" y="198"/>
                  </a:lnTo>
                  <a:lnTo>
                    <a:pt x="732" y="113"/>
                  </a:lnTo>
                  <a:lnTo>
                    <a:pt x="695" y="85"/>
                  </a:lnTo>
                  <a:lnTo>
                    <a:pt x="643" y="73"/>
                  </a:lnTo>
                  <a:lnTo>
                    <a:pt x="595" y="61"/>
                  </a:lnTo>
                  <a:lnTo>
                    <a:pt x="262" y="61"/>
                  </a:lnTo>
                  <a:lnTo>
                    <a:pt x="304" y="4"/>
                  </a:lnTo>
                  <a:lnTo>
                    <a:pt x="677" y="13"/>
                  </a:lnTo>
                  <a:lnTo>
                    <a:pt x="732" y="25"/>
                  </a:lnTo>
                  <a:lnTo>
                    <a:pt x="762" y="65"/>
                  </a:lnTo>
                  <a:lnTo>
                    <a:pt x="784" y="101"/>
                  </a:lnTo>
                  <a:lnTo>
                    <a:pt x="827" y="173"/>
                  </a:lnTo>
                  <a:lnTo>
                    <a:pt x="844" y="253"/>
                  </a:lnTo>
                  <a:lnTo>
                    <a:pt x="872" y="339"/>
                  </a:lnTo>
                  <a:lnTo>
                    <a:pt x="874" y="436"/>
                  </a:lnTo>
                  <a:lnTo>
                    <a:pt x="874" y="540"/>
                  </a:lnTo>
                  <a:lnTo>
                    <a:pt x="859" y="636"/>
                  </a:lnTo>
                  <a:lnTo>
                    <a:pt x="829" y="733"/>
                  </a:lnTo>
                  <a:lnTo>
                    <a:pt x="791" y="821"/>
                  </a:lnTo>
                  <a:lnTo>
                    <a:pt x="754" y="902"/>
                  </a:lnTo>
                  <a:lnTo>
                    <a:pt x="692" y="1022"/>
                  </a:lnTo>
                  <a:lnTo>
                    <a:pt x="648" y="1108"/>
                  </a:lnTo>
                  <a:lnTo>
                    <a:pt x="590" y="1208"/>
                  </a:lnTo>
                  <a:lnTo>
                    <a:pt x="565" y="1269"/>
                  </a:lnTo>
                  <a:lnTo>
                    <a:pt x="553" y="1341"/>
                  </a:lnTo>
                  <a:lnTo>
                    <a:pt x="550" y="1414"/>
                  </a:lnTo>
                  <a:lnTo>
                    <a:pt x="568" y="1509"/>
                  </a:lnTo>
                  <a:lnTo>
                    <a:pt x="590" y="1582"/>
                  </a:lnTo>
                  <a:lnTo>
                    <a:pt x="650" y="1715"/>
                  </a:lnTo>
                  <a:lnTo>
                    <a:pt x="710" y="1820"/>
                  </a:lnTo>
                  <a:lnTo>
                    <a:pt x="759" y="1932"/>
                  </a:lnTo>
                  <a:lnTo>
                    <a:pt x="820" y="2062"/>
                  </a:lnTo>
                  <a:lnTo>
                    <a:pt x="872" y="2174"/>
                  </a:lnTo>
                  <a:lnTo>
                    <a:pt x="896" y="2247"/>
                  </a:lnTo>
                  <a:lnTo>
                    <a:pt x="911" y="2340"/>
                  </a:lnTo>
                  <a:lnTo>
                    <a:pt x="931" y="2452"/>
                  </a:lnTo>
                  <a:lnTo>
                    <a:pt x="926" y="2537"/>
                  </a:lnTo>
                  <a:lnTo>
                    <a:pt x="911" y="2617"/>
                  </a:lnTo>
                  <a:lnTo>
                    <a:pt x="874" y="2713"/>
                  </a:lnTo>
                  <a:lnTo>
                    <a:pt x="829" y="2791"/>
                  </a:lnTo>
                  <a:lnTo>
                    <a:pt x="767" y="2862"/>
                  </a:lnTo>
                  <a:lnTo>
                    <a:pt x="710" y="2898"/>
                  </a:lnTo>
                  <a:lnTo>
                    <a:pt x="625" y="2910"/>
                  </a:lnTo>
                  <a:lnTo>
                    <a:pt x="486" y="2919"/>
                  </a:lnTo>
                  <a:lnTo>
                    <a:pt x="349" y="2923"/>
                  </a:lnTo>
                  <a:lnTo>
                    <a:pt x="269" y="2898"/>
                  </a:lnTo>
                  <a:lnTo>
                    <a:pt x="225" y="28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964200" y="4738680"/>
              <a:ext cx="649440" cy="123840"/>
            </a:xfrm>
            <a:custGeom>
              <a:avLst/>
              <a:gdLst/>
              <a:ahLst/>
              <a:rect l="l" t="t" r="r" b="b"/>
              <a:pathLst>
                <a:path w="1080" h="402">
                  <a:moveTo>
                    <a:pt x="132" y="0"/>
                  </a:moveTo>
                  <a:lnTo>
                    <a:pt x="109" y="1"/>
                  </a:lnTo>
                  <a:lnTo>
                    <a:pt x="88" y="10"/>
                  </a:lnTo>
                  <a:lnTo>
                    <a:pt x="67" y="24"/>
                  </a:lnTo>
                  <a:lnTo>
                    <a:pt x="48" y="40"/>
                  </a:lnTo>
                  <a:lnTo>
                    <a:pt x="32" y="64"/>
                  </a:lnTo>
                  <a:lnTo>
                    <a:pt x="18" y="91"/>
                  </a:lnTo>
                  <a:lnTo>
                    <a:pt x="9" y="122"/>
                  </a:lnTo>
                  <a:lnTo>
                    <a:pt x="3" y="152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2" y="224"/>
                  </a:lnTo>
                  <a:lnTo>
                    <a:pt x="7" y="254"/>
                  </a:lnTo>
                  <a:lnTo>
                    <a:pt x="16" y="284"/>
                  </a:lnTo>
                  <a:lnTo>
                    <a:pt x="29" y="312"/>
                  </a:lnTo>
                  <a:lnTo>
                    <a:pt x="44" y="334"/>
                  </a:lnTo>
                  <a:lnTo>
                    <a:pt x="63" y="355"/>
                  </a:lnTo>
                  <a:lnTo>
                    <a:pt x="83" y="369"/>
                  </a:lnTo>
                  <a:lnTo>
                    <a:pt x="105" y="376"/>
                  </a:lnTo>
                  <a:lnTo>
                    <a:pt x="128" y="381"/>
                  </a:lnTo>
                  <a:lnTo>
                    <a:pt x="949" y="402"/>
                  </a:lnTo>
                  <a:lnTo>
                    <a:pt x="972" y="400"/>
                  </a:lnTo>
                  <a:lnTo>
                    <a:pt x="993" y="391"/>
                  </a:lnTo>
                  <a:lnTo>
                    <a:pt x="1013" y="378"/>
                  </a:lnTo>
                  <a:lnTo>
                    <a:pt x="1032" y="361"/>
                  </a:lnTo>
                  <a:lnTo>
                    <a:pt x="1048" y="337"/>
                  </a:lnTo>
                  <a:lnTo>
                    <a:pt x="1062" y="311"/>
                  </a:lnTo>
                  <a:lnTo>
                    <a:pt x="1071" y="279"/>
                  </a:lnTo>
                  <a:lnTo>
                    <a:pt x="1077" y="249"/>
                  </a:lnTo>
                  <a:lnTo>
                    <a:pt x="1080" y="216"/>
                  </a:lnTo>
                  <a:lnTo>
                    <a:pt x="1080" y="212"/>
                  </a:lnTo>
                  <a:lnTo>
                    <a:pt x="1078" y="178"/>
                  </a:lnTo>
                  <a:lnTo>
                    <a:pt x="1073" y="148"/>
                  </a:lnTo>
                  <a:lnTo>
                    <a:pt x="1064" y="118"/>
                  </a:lnTo>
                  <a:lnTo>
                    <a:pt x="1051" y="90"/>
                  </a:lnTo>
                  <a:lnTo>
                    <a:pt x="1036" y="67"/>
                  </a:lnTo>
                  <a:lnTo>
                    <a:pt x="1017" y="46"/>
                  </a:lnTo>
                  <a:lnTo>
                    <a:pt x="997" y="33"/>
                  </a:lnTo>
                  <a:lnTo>
                    <a:pt x="976" y="25"/>
                  </a:lnTo>
                  <a:lnTo>
                    <a:pt x="953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965280" y="5707080"/>
              <a:ext cx="654120" cy="104760"/>
            </a:xfrm>
            <a:prstGeom prst="roundRect">
              <a:avLst>
                <a:gd name="adj" fmla="val 49153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6400800" y="4862520"/>
              <a:ext cx="768240" cy="1004400"/>
              <a:chOff x="6400800" y="4862520"/>
              <a:chExt cx="768240" cy="10044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6759000" y="5086800"/>
                <a:ext cx="277920" cy="223200"/>
              </a:xfrm>
              <a:custGeom>
                <a:avLst/>
                <a:gdLst/>
                <a:ahLst/>
                <a:rect l="l" t="t" r="r" b="b"/>
                <a:pathLst>
                  <a:path w="461" h="731">
                    <a:moveTo>
                      <a:pt x="108" y="490"/>
                    </a:moveTo>
                    <a:lnTo>
                      <a:pt x="99" y="407"/>
                    </a:lnTo>
                    <a:lnTo>
                      <a:pt x="108" y="289"/>
                    </a:lnTo>
                    <a:lnTo>
                      <a:pt x="148" y="171"/>
                    </a:lnTo>
                    <a:lnTo>
                      <a:pt x="211" y="71"/>
                    </a:lnTo>
                    <a:lnTo>
                      <a:pt x="265" y="30"/>
                    </a:lnTo>
                    <a:lnTo>
                      <a:pt x="331" y="0"/>
                    </a:lnTo>
                    <a:lnTo>
                      <a:pt x="383" y="27"/>
                    </a:lnTo>
                    <a:lnTo>
                      <a:pt x="440" y="88"/>
                    </a:lnTo>
                    <a:lnTo>
                      <a:pt x="458" y="166"/>
                    </a:lnTo>
                    <a:lnTo>
                      <a:pt x="461" y="259"/>
                    </a:lnTo>
                    <a:lnTo>
                      <a:pt x="437" y="390"/>
                    </a:lnTo>
                    <a:lnTo>
                      <a:pt x="380" y="525"/>
                    </a:lnTo>
                    <a:lnTo>
                      <a:pt x="307" y="595"/>
                    </a:lnTo>
                    <a:lnTo>
                      <a:pt x="202" y="590"/>
                    </a:lnTo>
                    <a:lnTo>
                      <a:pt x="145" y="569"/>
                    </a:lnTo>
                    <a:lnTo>
                      <a:pt x="51" y="731"/>
                    </a:lnTo>
                    <a:lnTo>
                      <a:pt x="27" y="722"/>
                    </a:lnTo>
                    <a:lnTo>
                      <a:pt x="0" y="683"/>
                    </a:lnTo>
                    <a:lnTo>
                      <a:pt x="123" y="525"/>
                    </a:lnTo>
                    <a:lnTo>
                      <a:pt x="108" y="4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524640" y="5165640"/>
                <a:ext cx="276840" cy="378720"/>
              </a:xfrm>
              <a:custGeom>
                <a:avLst/>
                <a:gdLst/>
                <a:ahLst/>
                <a:rect l="l" t="t" r="r" b="b"/>
                <a:pathLst>
                  <a:path w="461" h="1235">
                    <a:moveTo>
                      <a:pt x="12" y="0"/>
                    </a:moveTo>
                    <a:lnTo>
                      <a:pt x="111" y="17"/>
                    </a:lnTo>
                    <a:lnTo>
                      <a:pt x="181" y="52"/>
                    </a:lnTo>
                    <a:lnTo>
                      <a:pt x="244" y="118"/>
                    </a:lnTo>
                    <a:lnTo>
                      <a:pt x="298" y="209"/>
                    </a:lnTo>
                    <a:lnTo>
                      <a:pt x="346" y="306"/>
                    </a:lnTo>
                    <a:lnTo>
                      <a:pt x="383" y="420"/>
                    </a:lnTo>
                    <a:lnTo>
                      <a:pt x="419" y="569"/>
                    </a:lnTo>
                    <a:lnTo>
                      <a:pt x="446" y="735"/>
                    </a:lnTo>
                    <a:lnTo>
                      <a:pt x="461" y="898"/>
                    </a:lnTo>
                    <a:lnTo>
                      <a:pt x="461" y="998"/>
                    </a:lnTo>
                    <a:lnTo>
                      <a:pt x="455" y="1104"/>
                    </a:lnTo>
                    <a:lnTo>
                      <a:pt x="425" y="1181"/>
                    </a:lnTo>
                    <a:lnTo>
                      <a:pt x="355" y="1226"/>
                    </a:lnTo>
                    <a:lnTo>
                      <a:pt x="289" y="1235"/>
                    </a:lnTo>
                    <a:lnTo>
                      <a:pt x="226" y="1195"/>
                    </a:lnTo>
                    <a:lnTo>
                      <a:pt x="156" y="1095"/>
                    </a:lnTo>
                    <a:lnTo>
                      <a:pt x="129" y="963"/>
                    </a:lnTo>
                    <a:lnTo>
                      <a:pt x="126" y="775"/>
                    </a:lnTo>
                    <a:lnTo>
                      <a:pt x="138" y="660"/>
                    </a:lnTo>
                    <a:lnTo>
                      <a:pt x="166" y="529"/>
                    </a:lnTo>
                    <a:lnTo>
                      <a:pt x="166" y="372"/>
                    </a:lnTo>
                    <a:lnTo>
                      <a:pt x="138" y="275"/>
                    </a:lnTo>
                    <a:lnTo>
                      <a:pt x="90" y="200"/>
                    </a:lnTo>
                    <a:lnTo>
                      <a:pt x="12" y="162"/>
                    </a:lnTo>
                    <a:lnTo>
                      <a:pt x="0" y="91"/>
                    </a:lnTo>
                    <a:lnTo>
                      <a:pt x="9" y="39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737040" y="4862520"/>
                <a:ext cx="393480" cy="317880"/>
              </a:xfrm>
              <a:custGeom>
                <a:avLst/>
                <a:gdLst/>
                <a:ahLst/>
                <a:rect l="l" t="t" r="r" b="b"/>
                <a:pathLst>
                  <a:path w="655" h="1037">
                    <a:moveTo>
                      <a:pt x="646" y="1020"/>
                    </a:moveTo>
                    <a:lnTo>
                      <a:pt x="573" y="1037"/>
                    </a:lnTo>
                    <a:lnTo>
                      <a:pt x="491" y="959"/>
                    </a:lnTo>
                    <a:lnTo>
                      <a:pt x="391" y="853"/>
                    </a:lnTo>
                    <a:lnTo>
                      <a:pt x="282" y="666"/>
                    </a:lnTo>
                    <a:lnTo>
                      <a:pt x="212" y="487"/>
                    </a:lnTo>
                    <a:lnTo>
                      <a:pt x="158" y="333"/>
                    </a:lnTo>
                    <a:lnTo>
                      <a:pt x="137" y="215"/>
                    </a:lnTo>
                    <a:lnTo>
                      <a:pt x="91" y="111"/>
                    </a:lnTo>
                    <a:lnTo>
                      <a:pt x="18" y="58"/>
                    </a:lnTo>
                    <a:lnTo>
                      <a:pt x="0" y="18"/>
                    </a:lnTo>
                    <a:lnTo>
                      <a:pt x="27" y="0"/>
                    </a:lnTo>
                    <a:lnTo>
                      <a:pt x="91" y="14"/>
                    </a:lnTo>
                    <a:lnTo>
                      <a:pt x="128" y="58"/>
                    </a:lnTo>
                    <a:lnTo>
                      <a:pt x="173" y="120"/>
                    </a:lnTo>
                    <a:lnTo>
                      <a:pt x="191" y="188"/>
                    </a:lnTo>
                    <a:lnTo>
                      <a:pt x="185" y="254"/>
                    </a:lnTo>
                    <a:lnTo>
                      <a:pt x="185" y="294"/>
                    </a:lnTo>
                    <a:lnTo>
                      <a:pt x="218" y="394"/>
                    </a:lnTo>
                    <a:lnTo>
                      <a:pt x="255" y="494"/>
                    </a:lnTo>
                    <a:lnTo>
                      <a:pt x="301" y="578"/>
                    </a:lnTo>
                    <a:lnTo>
                      <a:pt x="355" y="653"/>
                    </a:lnTo>
                    <a:lnTo>
                      <a:pt x="419" y="744"/>
                    </a:lnTo>
                    <a:lnTo>
                      <a:pt x="510" y="810"/>
                    </a:lnTo>
                    <a:lnTo>
                      <a:pt x="573" y="875"/>
                    </a:lnTo>
                    <a:lnTo>
                      <a:pt x="619" y="928"/>
                    </a:lnTo>
                    <a:lnTo>
                      <a:pt x="655" y="993"/>
                    </a:lnTo>
                    <a:lnTo>
                      <a:pt x="646" y="10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724800" y="5203440"/>
                <a:ext cx="443880" cy="372960"/>
              </a:xfrm>
              <a:custGeom>
                <a:avLst/>
                <a:gdLst/>
                <a:ahLst/>
                <a:rect l="l" t="t" r="r" b="b"/>
                <a:pathLst>
                  <a:path w="737" h="1219">
                    <a:moveTo>
                      <a:pt x="653" y="211"/>
                    </a:moveTo>
                    <a:lnTo>
                      <a:pt x="638" y="145"/>
                    </a:lnTo>
                    <a:lnTo>
                      <a:pt x="635" y="41"/>
                    </a:lnTo>
                    <a:lnTo>
                      <a:pt x="665" y="0"/>
                    </a:lnTo>
                    <a:lnTo>
                      <a:pt x="716" y="18"/>
                    </a:lnTo>
                    <a:lnTo>
                      <a:pt x="737" y="97"/>
                    </a:lnTo>
                    <a:lnTo>
                      <a:pt x="737" y="188"/>
                    </a:lnTo>
                    <a:lnTo>
                      <a:pt x="728" y="372"/>
                    </a:lnTo>
                    <a:lnTo>
                      <a:pt x="707" y="538"/>
                    </a:lnTo>
                    <a:lnTo>
                      <a:pt x="662" y="695"/>
                    </a:lnTo>
                    <a:lnTo>
                      <a:pt x="537" y="826"/>
                    </a:lnTo>
                    <a:lnTo>
                      <a:pt x="390" y="883"/>
                    </a:lnTo>
                    <a:lnTo>
                      <a:pt x="245" y="931"/>
                    </a:lnTo>
                    <a:lnTo>
                      <a:pt x="172" y="975"/>
                    </a:lnTo>
                    <a:lnTo>
                      <a:pt x="163" y="1075"/>
                    </a:lnTo>
                    <a:lnTo>
                      <a:pt x="172" y="1198"/>
                    </a:lnTo>
                    <a:lnTo>
                      <a:pt x="144" y="1219"/>
                    </a:lnTo>
                    <a:lnTo>
                      <a:pt x="135" y="1093"/>
                    </a:lnTo>
                    <a:lnTo>
                      <a:pt x="120" y="1089"/>
                    </a:lnTo>
                    <a:lnTo>
                      <a:pt x="66" y="1207"/>
                    </a:lnTo>
                    <a:lnTo>
                      <a:pt x="54" y="1171"/>
                    </a:lnTo>
                    <a:lnTo>
                      <a:pt x="75" y="1105"/>
                    </a:lnTo>
                    <a:lnTo>
                      <a:pt x="102" y="1041"/>
                    </a:lnTo>
                    <a:lnTo>
                      <a:pt x="99" y="1028"/>
                    </a:lnTo>
                    <a:lnTo>
                      <a:pt x="3" y="1041"/>
                    </a:lnTo>
                    <a:lnTo>
                      <a:pt x="0" y="1014"/>
                    </a:lnTo>
                    <a:lnTo>
                      <a:pt x="3" y="1001"/>
                    </a:lnTo>
                    <a:lnTo>
                      <a:pt x="93" y="984"/>
                    </a:lnTo>
                    <a:lnTo>
                      <a:pt x="102" y="962"/>
                    </a:lnTo>
                    <a:lnTo>
                      <a:pt x="30" y="892"/>
                    </a:lnTo>
                    <a:lnTo>
                      <a:pt x="30" y="878"/>
                    </a:lnTo>
                    <a:lnTo>
                      <a:pt x="54" y="866"/>
                    </a:lnTo>
                    <a:lnTo>
                      <a:pt x="111" y="923"/>
                    </a:lnTo>
                    <a:lnTo>
                      <a:pt x="163" y="923"/>
                    </a:lnTo>
                    <a:lnTo>
                      <a:pt x="239" y="878"/>
                    </a:lnTo>
                    <a:lnTo>
                      <a:pt x="347" y="853"/>
                    </a:lnTo>
                    <a:lnTo>
                      <a:pt x="480" y="801"/>
                    </a:lnTo>
                    <a:lnTo>
                      <a:pt x="562" y="712"/>
                    </a:lnTo>
                    <a:lnTo>
                      <a:pt x="611" y="621"/>
                    </a:lnTo>
                    <a:lnTo>
                      <a:pt x="644" y="463"/>
                    </a:lnTo>
                    <a:lnTo>
                      <a:pt x="653" y="306"/>
                    </a:lnTo>
                    <a:lnTo>
                      <a:pt x="653" y="175"/>
                    </a:lnTo>
                    <a:lnTo>
                      <a:pt x="647" y="163"/>
                    </a:lnTo>
                    <a:lnTo>
                      <a:pt x="653" y="21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6400800" y="5452560"/>
                <a:ext cx="220320" cy="414360"/>
              </a:xfrm>
              <a:custGeom>
                <a:avLst/>
                <a:gdLst/>
                <a:ahLst/>
                <a:rect l="l" t="t" r="r" b="b"/>
                <a:pathLst>
                  <a:path w="366" h="1353">
                    <a:moveTo>
                      <a:pt x="30" y="193"/>
                    </a:moveTo>
                    <a:lnTo>
                      <a:pt x="0" y="66"/>
                    </a:lnTo>
                    <a:lnTo>
                      <a:pt x="39" y="0"/>
                    </a:lnTo>
                    <a:lnTo>
                      <a:pt x="94" y="13"/>
                    </a:lnTo>
                    <a:lnTo>
                      <a:pt x="181" y="158"/>
                    </a:lnTo>
                    <a:lnTo>
                      <a:pt x="253" y="324"/>
                    </a:lnTo>
                    <a:lnTo>
                      <a:pt x="302" y="469"/>
                    </a:lnTo>
                    <a:lnTo>
                      <a:pt x="320" y="566"/>
                    </a:lnTo>
                    <a:lnTo>
                      <a:pt x="317" y="657"/>
                    </a:lnTo>
                    <a:lnTo>
                      <a:pt x="272" y="836"/>
                    </a:lnTo>
                    <a:lnTo>
                      <a:pt x="217" y="947"/>
                    </a:lnTo>
                    <a:lnTo>
                      <a:pt x="190" y="1033"/>
                    </a:lnTo>
                    <a:lnTo>
                      <a:pt x="181" y="1126"/>
                    </a:lnTo>
                    <a:lnTo>
                      <a:pt x="217" y="1153"/>
                    </a:lnTo>
                    <a:lnTo>
                      <a:pt x="329" y="1210"/>
                    </a:lnTo>
                    <a:lnTo>
                      <a:pt x="366" y="1275"/>
                    </a:lnTo>
                    <a:lnTo>
                      <a:pt x="353" y="1323"/>
                    </a:lnTo>
                    <a:lnTo>
                      <a:pt x="320" y="1353"/>
                    </a:lnTo>
                    <a:lnTo>
                      <a:pt x="290" y="1301"/>
                    </a:lnTo>
                    <a:lnTo>
                      <a:pt x="244" y="1257"/>
                    </a:lnTo>
                    <a:lnTo>
                      <a:pt x="184" y="1196"/>
                    </a:lnTo>
                    <a:lnTo>
                      <a:pt x="127" y="1178"/>
                    </a:lnTo>
                    <a:lnTo>
                      <a:pt x="94" y="1165"/>
                    </a:lnTo>
                    <a:lnTo>
                      <a:pt x="94" y="1113"/>
                    </a:lnTo>
                    <a:lnTo>
                      <a:pt x="136" y="1051"/>
                    </a:lnTo>
                    <a:lnTo>
                      <a:pt x="175" y="906"/>
                    </a:lnTo>
                    <a:lnTo>
                      <a:pt x="217" y="802"/>
                    </a:lnTo>
                    <a:lnTo>
                      <a:pt x="244" y="693"/>
                    </a:lnTo>
                    <a:lnTo>
                      <a:pt x="247" y="605"/>
                    </a:lnTo>
                    <a:lnTo>
                      <a:pt x="238" y="535"/>
                    </a:lnTo>
                    <a:lnTo>
                      <a:pt x="193" y="408"/>
                    </a:lnTo>
                    <a:lnTo>
                      <a:pt x="136" y="317"/>
                    </a:lnTo>
                    <a:lnTo>
                      <a:pt x="100" y="258"/>
                    </a:lnTo>
                    <a:lnTo>
                      <a:pt x="30" y="19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642720" y="5471640"/>
                <a:ext cx="217800" cy="351000"/>
              </a:xfrm>
              <a:custGeom>
                <a:avLst/>
                <a:gdLst/>
                <a:ahLst/>
                <a:rect l="l" t="t" r="r" b="b"/>
                <a:pathLst>
                  <a:path w="362" h="1145">
                    <a:moveTo>
                      <a:pt x="190" y="236"/>
                    </a:moveTo>
                    <a:lnTo>
                      <a:pt x="244" y="91"/>
                    </a:lnTo>
                    <a:lnTo>
                      <a:pt x="299" y="0"/>
                    </a:lnTo>
                    <a:lnTo>
                      <a:pt x="332" y="0"/>
                    </a:lnTo>
                    <a:lnTo>
                      <a:pt x="362" y="25"/>
                    </a:lnTo>
                    <a:lnTo>
                      <a:pt x="359" y="109"/>
                    </a:lnTo>
                    <a:lnTo>
                      <a:pt x="323" y="186"/>
                    </a:lnTo>
                    <a:lnTo>
                      <a:pt x="269" y="261"/>
                    </a:lnTo>
                    <a:lnTo>
                      <a:pt x="235" y="397"/>
                    </a:lnTo>
                    <a:lnTo>
                      <a:pt x="223" y="449"/>
                    </a:lnTo>
                    <a:lnTo>
                      <a:pt x="226" y="554"/>
                    </a:lnTo>
                    <a:lnTo>
                      <a:pt x="281" y="760"/>
                    </a:lnTo>
                    <a:lnTo>
                      <a:pt x="323" y="944"/>
                    </a:lnTo>
                    <a:lnTo>
                      <a:pt x="359" y="1026"/>
                    </a:lnTo>
                    <a:lnTo>
                      <a:pt x="353" y="1087"/>
                    </a:lnTo>
                    <a:lnTo>
                      <a:pt x="317" y="1100"/>
                    </a:lnTo>
                    <a:lnTo>
                      <a:pt x="235" y="1079"/>
                    </a:lnTo>
                    <a:lnTo>
                      <a:pt x="196" y="1079"/>
                    </a:lnTo>
                    <a:lnTo>
                      <a:pt x="133" y="1118"/>
                    </a:lnTo>
                    <a:lnTo>
                      <a:pt x="70" y="1145"/>
                    </a:lnTo>
                    <a:lnTo>
                      <a:pt x="33" y="1132"/>
                    </a:lnTo>
                    <a:lnTo>
                      <a:pt x="0" y="1079"/>
                    </a:lnTo>
                    <a:lnTo>
                      <a:pt x="70" y="1048"/>
                    </a:lnTo>
                    <a:lnTo>
                      <a:pt x="145" y="1026"/>
                    </a:lnTo>
                    <a:lnTo>
                      <a:pt x="223" y="1026"/>
                    </a:lnTo>
                    <a:lnTo>
                      <a:pt x="269" y="1035"/>
                    </a:lnTo>
                    <a:lnTo>
                      <a:pt x="296" y="1035"/>
                    </a:lnTo>
                    <a:lnTo>
                      <a:pt x="290" y="982"/>
                    </a:lnTo>
                    <a:lnTo>
                      <a:pt x="241" y="803"/>
                    </a:lnTo>
                    <a:lnTo>
                      <a:pt x="196" y="619"/>
                    </a:lnTo>
                    <a:lnTo>
                      <a:pt x="178" y="515"/>
                    </a:lnTo>
                    <a:lnTo>
                      <a:pt x="172" y="397"/>
                    </a:lnTo>
                    <a:lnTo>
                      <a:pt x="178" y="313"/>
                    </a:lnTo>
                    <a:lnTo>
                      <a:pt x="190" y="2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7581960" y="4962600"/>
              <a:ext cx="14238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Track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0" name="Frustrat" descr=""/>
            <p:cNvPicPr/>
            <p:nvPr/>
          </p:nvPicPr>
          <p:blipFill>
            <a:blip r:embed="rId2"/>
            <a:stretch/>
          </p:blipFill>
          <p:spPr>
            <a:xfrm>
              <a:off x="6699240" y="1295280"/>
              <a:ext cx="17208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7912080" y="1968480"/>
              <a:ext cx="115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Tes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689120" y="3963960"/>
            <a:ext cx="601200" cy="1464840"/>
            <a:chOff x="1689120" y="3963960"/>
            <a:chExt cx="601200" cy="1464840"/>
          </a:xfrm>
        </p:grpSpPr>
        <p:sp>
          <p:nvSpPr>
            <p:cNvPr id="743" name=""/>
            <p:cNvSpPr/>
            <p:nvPr/>
          </p:nvSpPr>
          <p:spPr>
            <a:xfrm>
              <a:off x="1866960" y="3963960"/>
              <a:ext cx="387360" cy="316440"/>
            </a:xfrm>
            <a:custGeom>
              <a:avLst/>
              <a:gdLst/>
              <a:ahLst/>
              <a:rect l="l" t="t" r="r" b="b"/>
              <a:pathLst>
                <a:path w="431" h="811">
                  <a:moveTo>
                    <a:pt x="0" y="342"/>
                  </a:moveTo>
                  <a:lnTo>
                    <a:pt x="31" y="175"/>
                  </a:lnTo>
                  <a:lnTo>
                    <a:pt x="72" y="91"/>
                  </a:lnTo>
                  <a:lnTo>
                    <a:pt x="124" y="30"/>
                  </a:lnTo>
                  <a:lnTo>
                    <a:pt x="176" y="0"/>
                  </a:lnTo>
                  <a:lnTo>
                    <a:pt x="244" y="9"/>
                  </a:lnTo>
                  <a:lnTo>
                    <a:pt x="288" y="76"/>
                  </a:lnTo>
                  <a:lnTo>
                    <a:pt x="329" y="196"/>
                  </a:lnTo>
                  <a:lnTo>
                    <a:pt x="346" y="357"/>
                  </a:lnTo>
                  <a:lnTo>
                    <a:pt x="346" y="539"/>
                  </a:lnTo>
                  <a:lnTo>
                    <a:pt x="428" y="664"/>
                  </a:lnTo>
                  <a:lnTo>
                    <a:pt x="431" y="721"/>
                  </a:lnTo>
                  <a:lnTo>
                    <a:pt x="418" y="725"/>
                  </a:lnTo>
                  <a:lnTo>
                    <a:pt x="339" y="614"/>
                  </a:lnTo>
                  <a:lnTo>
                    <a:pt x="316" y="695"/>
                  </a:lnTo>
                  <a:lnTo>
                    <a:pt x="268" y="765"/>
                  </a:lnTo>
                  <a:lnTo>
                    <a:pt x="223" y="801"/>
                  </a:lnTo>
                  <a:lnTo>
                    <a:pt x="151" y="811"/>
                  </a:lnTo>
                  <a:lnTo>
                    <a:pt x="59" y="755"/>
                  </a:lnTo>
                  <a:lnTo>
                    <a:pt x="17" y="634"/>
                  </a:lnTo>
                  <a:lnTo>
                    <a:pt x="0" y="51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27360" y="4304880"/>
              <a:ext cx="346320" cy="510120"/>
            </a:xfrm>
            <a:custGeom>
              <a:avLst/>
              <a:gdLst/>
              <a:ahLst/>
              <a:rect l="l" t="t" r="r" b="b"/>
              <a:pathLst>
                <a:path w="385" h="1306">
                  <a:moveTo>
                    <a:pt x="56" y="85"/>
                  </a:moveTo>
                  <a:lnTo>
                    <a:pt x="104" y="30"/>
                  </a:lnTo>
                  <a:lnTo>
                    <a:pt x="159" y="9"/>
                  </a:lnTo>
                  <a:lnTo>
                    <a:pt x="210" y="0"/>
                  </a:lnTo>
                  <a:lnTo>
                    <a:pt x="279" y="15"/>
                  </a:lnTo>
                  <a:lnTo>
                    <a:pt x="355" y="85"/>
                  </a:lnTo>
                  <a:lnTo>
                    <a:pt x="385" y="210"/>
                  </a:lnTo>
                  <a:lnTo>
                    <a:pt x="385" y="401"/>
                  </a:lnTo>
                  <a:lnTo>
                    <a:pt x="382" y="583"/>
                  </a:lnTo>
                  <a:lnTo>
                    <a:pt x="344" y="859"/>
                  </a:lnTo>
                  <a:lnTo>
                    <a:pt x="313" y="1085"/>
                  </a:lnTo>
                  <a:lnTo>
                    <a:pt x="279" y="1230"/>
                  </a:lnTo>
                  <a:lnTo>
                    <a:pt x="207" y="1306"/>
                  </a:lnTo>
                  <a:lnTo>
                    <a:pt x="104" y="1290"/>
                  </a:lnTo>
                  <a:lnTo>
                    <a:pt x="52" y="1175"/>
                  </a:lnTo>
                  <a:lnTo>
                    <a:pt x="22" y="1004"/>
                  </a:lnTo>
                  <a:lnTo>
                    <a:pt x="4" y="813"/>
                  </a:lnTo>
                  <a:lnTo>
                    <a:pt x="0" y="526"/>
                  </a:lnTo>
                  <a:lnTo>
                    <a:pt x="15" y="325"/>
                  </a:lnTo>
                  <a:lnTo>
                    <a:pt x="35" y="146"/>
                  </a:lnTo>
                  <a:lnTo>
                    <a:pt x="56" y="8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9120" y="4303800"/>
              <a:ext cx="204480" cy="628200"/>
            </a:xfrm>
            <a:custGeom>
              <a:avLst/>
              <a:gdLst/>
              <a:ahLst/>
              <a:rect l="l" t="t" r="r" b="b"/>
              <a:pathLst>
                <a:path w="226" h="1607">
                  <a:moveTo>
                    <a:pt x="154" y="10"/>
                  </a:moveTo>
                  <a:lnTo>
                    <a:pt x="209" y="0"/>
                  </a:lnTo>
                  <a:lnTo>
                    <a:pt x="226" y="71"/>
                  </a:lnTo>
                  <a:lnTo>
                    <a:pt x="198" y="162"/>
                  </a:lnTo>
                  <a:lnTo>
                    <a:pt x="157" y="211"/>
                  </a:lnTo>
                  <a:lnTo>
                    <a:pt x="123" y="331"/>
                  </a:lnTo>
                  <a:lnTo>
                    <a:pt x="82" y="493"/>
                  </a:lnTo>
                  <a:lnTo>
                    <a:pt x="65" y="643"/>
                  </a:lnTo>
                  <a:lnTo>
                    <a:pt x="55" y="898"/>
                  </a:lnTo>
                  <a:lnTo>
                    <a:pt x="65" y="1139"/>
                  </a:lnTo>
                  <a:lnTo>
                    <a:pt x="85" y="1251"/>
                  </a:lnTo>
                  <a:lnTo>
                    <a:pt x="71" y="1371"/>
                  </a:lnTo>
                  <a:lnTo>
                    <a:pt x="55" y="1462"/>
                  </a:lnTo>
                  <a:lnTo>
                    <a:pt x="61" y="1607"/>
                  </a:lnTo>
                  <a:lnTo>
                    <a:pt x="33" y="1597"/>
                  </a:lnTo>
                  <a:lnTo>
                    <a:pt x="10" y="1476"/>
                  </a:lnTo>
                  <a:lnTo>
                    <a:pt x="0" y="1371"/>
                  </a:lnTo>
                  <a:lnTo>
                    <a:pt x="30" y="1230"/>
                  </a:lnTo>
                  <a:lnTo>
                    <a:pt x="20" y="1099"/>
                  </a:lnTo>
                  <a:lnTo>
                    <a:pt x="10" y="888"/>
                  </a:lnTo>
                  <a:lnTo>
                    <a:pt x="10" y="633"/>
                  </a:lnTo>
                  <a:lnTo>
                    <a:pt x="30" y="362"/>
                  </a:lnTo>
                  <a:lnTo>
                    <a:pt x="65" y="162"/>
                  </a:lnTo>
                  <a:lnTo>
                    <a:pt x="103" y="56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32640" y="4320360"/>
              <a:ext cx="128880" cy="596520"/>
            </a:xfrm>
            <a:custGeom>
              <a:avLst/>
              <a:gdLst/>
              <a:ahLst/>
              <a:rect l="l" t="t" r="r" b="b"/>
              <a:pathLst>
                <a:path w="145" h="1528">
                  <a:moveTo>
                    <a:pt x="3" y="5"/>
                  </a:moveTo>
                  <a:lnTo>
                    <a:pt x="62" y="0"/>
                  </a:lnTo>
                  <a:lnTo>
                    <a:pt x="103" y="121"/>
                  </a:lnTo>
                  <a:lnTo>
                    <a:pt x="145" y="452"/>
                  </a:lnTo>
                  <a:lnTo>
                    <a:pt x="145" y="834"/>
                  </a:lnTo>
                  <a:lnTo>
                    <a:pt x="124" y="1161"/>
                  </a:lnTo>
                  <a:lnTo>
                    <a:pt x="145" y="1272"/>
                  </a:lnTo>
                  <a:lnTo>
                    <a:pt x="145" y="1422"/>
                  </a:lnTo>
                  <a:lnTo>
                    <a:pt x="124" y="1528"/>
                  </a:lnTo>
                  <a:lnTo>
                    <a:pt x="97" y="1432"/>
                  </a:lnTo>
                  <a:lnTo>
                    <a:pt x="83" y="1287"/>
                  </a:lnTo>
                  <a:lnTo>
                    <a:pt x="52" y="1175"/>
                  </a:lnTo>
                  <a:lnTo>
                    <a:pt x="87" y="1076"/>
                  </a:lnTo>
                  <a:lnTo>
                    <a:pt x="107" y="834"/>
                  </a:lnTo>
                  <a:lnTo>
                    <a:pt x="107" y="608"/>
                  </a:lnTo>
                  <a:lnTo>
                    <a:pt x="87" y="382"/>
                  </a:lnTo>
                  <a:lnTo>
                    <a:pt x="45" y="216"/>
                  </a:lnTo>
                  <a:lnTo>
                    <a:pt x="0" y="13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28800" y="4712760"/>
              <a:ext cx="290880" cy="716040"/>
            </a:xfrm>
            <a:custGeom>
              <a:avLst/>
              <a:gdLst/>
              <a:ahLst/>
              <a:rect l="l" t="t" r="r" b="b"/>
              <a:pathLst>
                <a:path w="324" h="1831">
                  <a:moveTo>
                    <a:pt x="32" y="0"/>
                  </a:moveTo>
                  <a:lnTo>
                    <a:pt x="69" y="76"/>
                  </a:lnTo>
                  <a:lnTo>
                    <a:pt x="85" y="153"/>
                  </a:lnTo>
                  <a:lnTo>
                    <a:pt x="100" y="419"/>
                  </a:lnTo>
                  <a:lnTo>
                    <a:pt x="107" y="597"/>
                  </a:lnTo>
                  <a:lnTo>
                    <a:pt x="107" y="902"/>
                  </a:lnTo>
                  <a:lnTo>
                    <a:pt x="105" y="1189"/>
                  </a:lnTo>
                  <a:lnTo>
                    <a:pt x="90" y="1417"/>
                  </a:lnTo>
                  <a:lnTo>
                    <a:pt x="77" y="1487"/>
                  </a:lnTo>
                  <a:lnTo>
                    <a:pt x="157" y="1526"/>
                  </a:lnTo>
                  <a:lnTo>
                    <a:pt x="224" y="1571"/>
                  </a:lnTo>
                  <a:lnTo>
                    <a:pt x="314" y="1666"/>
                  </a:lnTo>
                  <a:lnTo>
                    <a:pt x="324" y="1703"/>
                  </a:lnTo>
                  <a:lnTo>
                    <a:pt x="316" y="1774"/>
                  </a:lnTo>
                  <a:lnTo>
                    <a:pt x="271" y="1831"/>
                  </a:lnTo>
                  <a:lnTo>
                    <a:pt x="254" y="1799"/>
                  </a:lnTo>
                  <a:lnTo>
                    <a:pt x="239" y="1722"/>
                  </a:lnTo>
                  <a:lnTo>
                    <a:pt x="196" y="1660"/>
                  </a:lnTo>
                  <a:lnTo>
                    <a:pt x="122" y="1588"/>
                  </a:lnTo>
                  <a:lnTo>
                    <a:pt x="74" y="1571"/>
                  </a:lnTo>
                  <a:lnTo>
                    <a:pt x="18" y="1571"/>
                  </a:lnTo>
                  <a:lnTo>
                    <a:pt x="18" y="1513"/>
                  </a:lnTo>
                  <a:lnTo>
                    <a:pt x="45" y="1449"/>
                  </a:lnTo>
                  <a:lnTo>
                    <a:pt x="69" y="1245"/>
                  </a:lnTo>
                  <a:lnTo>
                    <a:pt x="77" y="1030"/>
                  </a:lnTo>
                  <a:lnTo>
                    <a:pt x="74" y="840"/>
                  </a:lnTo>
                  <a:lnTo>
                    <a:pt x="69" y="597"/>
                  </a:lnTo>
                  <a:lnTo>
                    <a:pt x="54" y="388"/>
                  </a:lnTo>
                  <a:lnTo>
                    <a:pt x="23" y="235"/>
                  </a:lnTo>
                  <a:lnTo>
                    <a:pt x="0" y="95"/>
                  </a:lnTo>
                  <a:lnTo>
                    <a:pt x="7" y="4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21040" y="4713840"/>
              <a:ext cx="269280" cy="644760"/>
            </a:xfrm>
            <a:custGeom>
              <a:avLst/>
              <a:gdLst/>
              <a:ahLst/>
              <a:rect l="l" t="t" r="r" b="b"/>
              <a:pathLst>
                <a:path w="298" h="1650">
                  <a:moveTo>
                    <a:pt x="0" y="130"/>
                  </a:moveTo>
                  <a:lnTo>
                    <a:pt x="0" y="25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112" y="60"/>
                  </a:lnTo>
                  <a:lnTo>
                    <a:pt x="119" y="115"/>
                  </a:lnTo>
                  <a:lnTo>
                    <a:pt x="112" y="236"/>
                  </a:lnTo>
                  <a:lnTo>
                    <a:pt x="89" y="386"/>
                  </a:lnTo>
                  <a:lnTo>
                    <a:pt x="78" y="618"/>
                  </a:lnTo>
                  <a:lnTo>
                    <a:pt x="72" y="768"/>
                  </a:lnTo>
                  <a:lnTo>
                    <a:pt x="72" y="793"/>
                  </a:lnTo>
                  <a:lnTo>
                    <a:pt x="82" y="1004"/>
                  </a:lnTo>
                  <a:lnTo>
                    <a:pt x="99" y="1124"/>
                  </a:lnTo>
                  <a:lnTo>
                    <a:pt x="112" y="1219"/>
                  </a:lnTo>
                  <a:lnTo>
                    <a:pt x="109" y="1259"/>
                  </a:lnTo>
                  <a:lnTo>
                    <a:pt x="154" y="1369"/>
                  </a:lnTo>
                  <a:lnTo>
                    <a:pt x="202" y="1439"/>
                  </a:lnTo>
                  <a:lnTo>
                    <a:pt x="253" y="1505"/>
                  </a:lnTo>
                  <a:lnTo>
                    <a:pt x="298" y="1536"/>
                  </a:lnTo>
                  <a:lnTo>
                    <a:pt x="298" y="1591"/>
                  </a:lnTo>
                  <a:lnTo>
                    <a:pt x="274" y="1635"/>
                  </a:lnTo>
                  <a:lnTo>
                    <a:pt x="216" y="1650"/>
                  </a:lnTo>
                  <a:lnTo>
                    <a:pt x="174" y="1621"/>
                  </a:lnTo>
                  <a:lnTo>
                    <a:pt x="174" y="1580"/>
                  </a:lnTo>
                  <a:lnTo>
                    <a:pt x="140" y="1439"/>
                  </a:lnTo>
                  <a:lnTo>
                    <a:pt x="82" y="1365"/>
                  </a:lnTo>
                  <a:lnTo>
                    <a:pt x="40" y="1289"/>
                  </a:lnTo>
                  <a:lnTo>
                    <a:pt x="10" y="1249"/>
                  </a:lnTo>
                  <a:lnTo>
                    <a:pt x="20" y="1199"/>
                  </a:lnTo>
                  <a:lnTo>
                    <a:pt x="37" y="1063"/>
                  </a:lnTo>
                  <a:lnTo>
                    <a:pt x="37" y="808"/>
                  </a:lnTo>
                  <a:lnTo>
                    <a:pt x="30" y="627"/>
                  </a:lnTo>
                  <a:lnTo>
                    <a:pt x="30" y="447"/>
                  </a:lnTo>
                  <a:lnTo>
                    <a:pt x="27" y="25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143000" y="3927600"/>
            <a:ext cx="498240" cy="1542600"/>
            <a:chOff x="1143000" y="3927600"/>
            <a:chExt cx="498240" cy="1542600"/>
          </a:xfrm>
        </p:grpSpPr>
        <p:sp>
          <p:nvSpPr>
            <p:cNvPr id="750" name=""/>
            <p:cNvSpPr/>
            <p:nvPr/>
          </p:nvSpPr>
          <p:spPr>
            <a:xfrm>
              <a:off x="1289160" y="3927600"/>
              <a:ext cx="326160" cy="330120"/>
            </a:xfrm>
            <a:custGeom>
              <a:avLst/>
              <a:gdLst/>
              <a:ahLst/>
              <a:rect l="l" t="t" r="r" b="b"/>
              <a:pathLst>
                <a:path w="326" h="662">
                  <a:moveTo>
                    <a:pt x="0" y="280"/>
                  </a:moveTo>
                  <a:lnTo>
                    <a:pt x="23" y="145"/>
                  </a:lnTo>
                  <a:lnTo>
                    <a:pt x="55" y="75"/>
                  </a:lnTo>
                  <a:lnTo>
                    <a:pt x="93" y="24"/>
                  </a:lnTo>
                  <a:lnTo>
                    <a:pt x="132" y="0"/>
                  </a:lnTo>
                  <a:lnTo>
                    <a:pt x="184" y="8"/>
                  </a:lnTo>
                  <a:lnTo>
                    <a:pt x="217" y="61"/>
                  </a:lnTo>
                  <a:lnTo>
                    <a:pt x="249" y="161"/>
                  </a:lnTo>
                  <a:lnTo>
                    <a:pt x="262" y="292"/>
                  </a:lnTo>
                  <a:lnTo>
                    <a:pt x="262" y="440"/>
                  </a:lnTo>
                  <a:lnTo>
                    <a:pt x="324" y="543"/>
                  </a:lnTo>
                  <a:lnTo>
                    <a:pt x="326" y="587"/>
                  </a:lnTo>
                  <a:lnTo>
                    <a:pt x="316" y="592"/>
                  </a:lnTo>
                  <a:lnTo>
                    <a:pt x="257" y="501"/>
                  </a:lnTo>
                  <a:lnTo>
                    <a:pt x="238" y="567"/>
                  </a:lnTo>
                  <a:lnTo>
                    <a:pt x="202" y="624"/>
                  </a:lnTo>
                  <a:lnTo>
                    <a:pt x="168" y="653"/>
                  </a:lnTo>
                  <a:lnTo>
                    <a:pt x="114" y="662"/>
                  </a:lnTo>
                  <a:lnTo>
                    <a:pt x="44" y="616"/>
                  </a:lnTo>
                  <a:lnTo>
                    <a:pt x="13" y="517"/>
                  </a:lnTo>
                  <a:lnTo>
                    <a:pt x="0" y="41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7120" y="4286520"/>
              <a:ext cx="285840" cy="537840"/>
            </a:xfrm>
            <a:custGeom>
              <a:avLst/>
              <a:gdLst/>
              <a:ahLst/>
              <a:rect l="l" t="t" r="r" b="b"/>
              <a:pathLst>
                <a:path w="286" h="1074">
                  <a:moveTo>
                    <a:pt x="42" y="69"/>
                  </a:moveTo>
                  <a:lnTo>
                    <a:pt x="77" y="23"/>
                  </a:lnTo>
                  <a:lnTo>
                    <a:pt x="118" y="7"/>
                  </a:lnTo>
                  <a:lnTo>
                    <a:pt x="157" y="0"/>
                  </a:lnTo>
                  <a:lnTo>
                    <a:pt x="207" y="11"/>
                  </a:lnTo>
                  <a:lnTo>
                    <a:pt x="263" y="69"/>
                  </a:lnTo>
                  <a:lnTo>
                    <a:pt x="286" y="172"/>
                  </a:lnTo>
                  <a:lnTo>
                    <a:pt x="286" y="329"/>
                  </a:lnTo>
                  <a:lnTo>
                    <a:pt x="284" y="478"/>
                  </a:lnTo>
                  <a:lnTo>
                    <a:pt x="255" y="705"/>
                  </a:lnTo>
                  <a:lnTo>
                    <a:pt x="233" y="891"/>
                  </a:lnTo>
                  <a:lnTo>
                    <a:pt x="207" y="1011"/>
                  </a:lnTo>
                  <a:lnTo>
                    <a:pt x="154" y="1074"/>
                  </a:lnTo>
                  <a:lnTo>
                    <a:pt x="77" y="1060"/>
                  </a:lnTo>
                  <a:lnTo>
                    <a:pt x="39" y="965"/>
                  </a:lnTo>
                  <a:lnTo>
                    <a:pt x="17" y="826"/>
                  </a:lnTo>
                  <a:lnTo>
                    <a:pt x="3" y="668"/>
                  </a:lnTo>
                  <a:lnTo>
                    <a:pt x="0" y="432"/>
                  </a:lnTo>
                  <a:lnTo>
                    <a:pt x="11" y="267"/>
                  </a:lnTo>
                  <a:lnTo>
                    <a:pt x="27" y="118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3000" y="4286520"/>
              <a:ext cx="168120" cy="659520"/>
            </a:xfrm>
            <a:custGeom>
              <a:avLst/>
              <a:gdLst/>
              <a:ahLst/>
              <a:rect l="l" t="t" r="r" b="b"/>
              <a:pathLst>
                <a:path w="168" h="1319">
                  <a:moveTo>
                    <a:pt x="114" y="8"/>
                  </a:moveTo>
                  <a:lnTo>
                    <a:pt x="155" y="0"/>
                  </a:lnTo>
                  <a:lnTo>
                    <a:pt x="168" y="58"/>
                  </a:lnTo>
                  <a:lnTo>
                    <a:pt x="148" y="132"/>
                  </a:lnTo>
                  <a:lnTo>
                    <a:pt x="117" y="173"/>
                  </a:lnTo>
                  <a:lnTo>
                    <a:pt x="92" y="271"/>
                  </a:lnTo>
                  <a:lnTo>
                    <a:pt x="60" y="404"/>
                  </a:lnTo>
                  <a:lnTo>
                    <a:pt x="48" y="527"/>
                  </a:lnTo>
                  <a:lnTo>
                    <a:pt x="40" y="738"/>
                  </a:lnTo>
                  <a:lnTo>
                    <a:pt x="48" y="936"/>
                  </a:lnTo>
                  <a:lnTo>
                    <a:pt x="64" y="1026"/>
                  </a:lnTo>
                  <a:lnTo>
                    <a:pt x="53" y="1126"/>
                  </a:lnTo>
                  <a:lnTo>
                    <a:pt x="40" y="1200"/>
                  </a:lnTo>
                  <a:lnTo>
                    <a:pt x="45" y="1319"/>
                  </a:lnTo>
                  <a:lnTo>
                    <a:pt x="25" y="1310"/>
                  </a:lnTo>
                  <a:lnTo>
                    <a:pt x="8" y="1212"/>
                  </a:lnTo>
                  <a:lnTo>
                    <a:pt x="0" y="1126"/>
                  </a:lnTo>
                  <a:lnTo>
                    <a:pt x="23" y="1010"/>
                  </a:lnTo>
                  <a:lnTo>
                    <a:pt x="15" y="903"/>
                  </a:lnTo>
                  <a:lnTo>
                    <a:pt x="8" y="729"/>
                  </a:lnTo>
                  <a:lnTo>
                    <a:pt x="8" y="520"/>
                  </a:lnTo>
                  <a:lnTo>
                    <a:pt x="23" y="297"/>
                  </a:lnTo>
                  <a:lnTo>
                    <a:pt x="48" y="132"/>
                  </a:lnTo>
                  <a:lnTo>
                    <a:pt x="76" y="46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13440" y="4301640"/>
              <a:ext cx="106200" cy="628200"/>
            </a:xfrm>
            <a:custGeom>
              <a:avLst/>
              <a:gdLst/>
              <a:ahLst/>
              <a:rect l="l" t="t" r="r" b="b"/>
              <a:pathLst>
                <a:path w="106" h="1253">
                  <a:moveTo>
                    <a:pt x="2" y="3"/>
                  </a:moveTo>
                  <a:lnTo>
                    <a:pt x="46" y="0"/>
                  </a:lnTo>
                  <a:lnTo>
                    <a:pt x="75" y="98"/>
                  </a:lnTo>
                  <a:lnTo>
                    <a:pt x="106" y="370"/>
                  </a:lnTo>
                  <a:lnTo>
                    <a:pt x="106" y="684"/>
                  </a:lnTo>
                  <a:lnTo>
                    <a:pt x="90" y="951"/>
                  </a:lnTo>
                  <a:lnTo>
                    <a:pt x="106" y="1042"/>
                  </a:lnTo>
                  <a:lnTo>
                    <a:pt x="106" y="1165"/>
                  </a:lnTo>
                  <a:lnTo>
                    <a:pt x="90" y="1253"/>
                  </a:lnTo>
                  <a:lnTo>
                    <a:pt x="70" y="1174"/>
                  </a:lnTo>
                  <a:lnTo>
                    <a:pt x="60" y="1054"/>
                  </a:lnTo>
                  <a:lnTo>
                    <a:pt x="38" y="963"/>
                  </a:lnTo>
                  <a:lnTo>
                    <a:pt x="63" y="881"/>
                  </a:lnTo>
                  <a:lnTo>
                    <a:pt x="78" y="684"/>
                  </a:lnTo>
                  <a:lnTo>
                    <a:pt x="78" y="498"/>
                  </a:lnTo>
                  <a:lnTo>
                    <a:pt x="63" y="312"/>
                  </a:lnTo>
                  <a:lnTo>
                    <a:pt x="33" y="177"/>
                  </a:lnTo>
                  <a:lnTo>
                    <a:pt x="0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58920" y="4716000"/>
              <a:ext cx="240120" cy="754200"/>
            </a:xfrm>
            <a:custGeom>
              <a:avLst/>
              <a:gdLst/>
              <a:ahLst/>
              <a:rect l="l" t="t" r="r" b="b"/>
              <a:pathLst>
                <a:path w="241" h="1507">
                  <a:moveTo>
                    <a:pt x="24" y="0"/>
                  </a:moveTo>
                  <a:lnTo>
                    <a:pt x="52" y="63"/>
                  </a:lnTo>
                  <a:lnTo>
                    <a:pt x="62" y="127"/>
                  </a:lnTo>
                  <a:lnTo>
                    <a:pt x="73" y="345"/>
                  </a:lnTo>
                  <a:lnTo>
                    <a:pt x="79" y="492"/>
                  </a:lnTo>
                  <a:lnTo>
                    <a:pt x="79" y="743"/>
                  </a:lnTo>
                  <a:lnTo>
                    <a:pt x="77" y="978"/>
                  </a:lnTo>
                  <a:lnTo>
                    <a:pt x="66" y="1167"/>
                  </a:lnTo>
                  <a:lnTo>
                    <a:pt x="57" y="1225"/>
                  </a:lnTo>
                  <a:lnTo>
                    <a:pt x="116" y="1256"/>
                  </a:lnTo>
                  <a:lnTo>
                    <a:pt x="167" y="1293"/>
                  </a:lnTo>
                  <a:lnTo>
                    <a:pt x="233" y="1370"/>
                  </a:lnTo>
                  <a:lnTo>
                    <a:pt x="241" y="1403"/>
                  </a:lnTo>
                  <a:lnTo>
                    <a:pt x="235" y="1459"/>
                  </a:lnTo>
                  <a:lnTo>
                    <a:pt x="201" y="1507"/>
                  </a:lnTo>
                  <a:lnTo>
                    <a:pt x="188" y="1480"/>
                  </a:lnTo>
                  <a:lnTo>
                    <a:pt x="178" y="1418"/>
                  </a:lnTo>
                  <a:lnTo>
                    <a:pt x="147" y="1366"/>
                  </a:lnTo>
                  <a:lnTo>
                    <a:pt x="91" y="1308"/>
                  </a:lnTo>
                  <a:lnTo>
                    <a:pt x="55" y="1293"/>
                  </a:lnTo>
                  <a:lnTo>
                    <a:pt x="12" y="1293"/>
                  </a:lnTo>
                  <a:lnTo>
                    <a:pt x="12" y="1245"/>
                  </a:lnTo>
                  <a:lnTo>
                    <a:pt x="33" y="1193"/>
                  </a:lnTo>
                  <a:lnTo>
                    <a:pt x="52" y="1025"/>
                  </a:lnTo>
                  <a:lnTo>
                    <a:pt x="57" y="847"/>
                  </a:lnTo>
                  <a:lnTo>
                    <a:pt x="55" y="691"/>
                  </a:lnTo>
                  <a:lnTo>
                    <a:pt x="52" y="492"/>
                  </a:lnTo>
                  <a:lnTo>
                    <a:pt x="41" y="320"/>
                  </a:lnTo>
                  <a:lnTo>
                    <a:pt x="17" y="193"/>
                  </a:lnTo>
                  <a:lnTo>
                    <a:pt x="0" y="79"/>
                  </a:lnTo>
                  <a:lnTo>
                    <a:pt x="5" y="3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16960" y="4716000"/>
              <a:ext cx="224280" cy="679320"/>
            </a:xfrm>
            <a:custGeom>
              <a:avLst/>
              <a:gdLst/>
              <a:ahLst/>
              <a:rect l="l" t="t" r="r" b="b"/>
              <a:pathLst>
                <a:path w="223" h="1355">
                  <a:moveTo>
                    <a:pt x="0" y="107"/>
                  </a:moveTo>
                  <a:lnTo>
                    <a:pt x="0" y="21"/>
                  </a:lnTo>
                  <a:lnTo>
                    <a:pt x="23" y="0"/>
                  </a:lnTo>
                  <a:lnTo>
                    <a:pt x="59" y="0"/>
                  </a:lnTo>
                  <a:lnTo>
                    <a:pt x="85" y="50"/>
                  </a:lnTo>
                  <a:lnTo>
                    <a:pt x="90" y="95"/>
                  </a:lnTo>
                  <a:lnTo>
                    <a:pt x="85" y="194"/>
                  </a:lnTo>
                  <a:lnTo>
                    <a:pt x="67" y="318"/>
                  </a:lnTo>
                  <a:lnTo>
                    <a:pt x="59" y="506"/>
                  </a:lnTo>
                  <a:lnTo>
                    <a:pt x="54" y="631"/>
                  </a:lnTo>
                  <a:lnTo>
                    <a:pt x="54" y="651"/>
                  </a:lnTo>
                  <a:lnTo>
                    <a:pt x="62" y="824"/>
                  </a:lnTo>
                  <a:lnTo>
                    <a:pt x="75" y="922"/>
                  </a:lnTo>
                  <a:lnTo>
                    <a:pt x="85" y="1001"/>
                  </a:lnTo>
                  <a:lnTo>
                    <a:pt x="82" y="1034"/>
                  </a:lnTo>
                  <a:lnTo>
                    <a:pt x="115" y="1125"/>
                  </a:lnTo>
                  <a:lnTo>
                    <a:pt x="151" y="1182"/>
                  </a:lnTo>
                  <a:lnTo>
                    <a:pt x="190" y="1236"/>
                  </a:lnTo>
                  <a:lnTo>
                    <a:pt x="223" y="1261"/>
                  </a:lnTo>
                  <a:lnTo>
                    <a:pt x="223" y="1306"/>
                  </a:lnTo>
                  <a:lnTo>
                    <a:pt x="206" y="1343"/>
                  </a:lnTo>
                  <a:lnTo>
                    <a:pt x="162" y="1355"/>
                  </a:lnTo>
                  <a:lnTo>
                    <a:pt x="131" y="1331"/>
                  </a:lnTo>
                  <a:lnTo>
                    <a:pt x="131" y="1298"/>
                  </a:lnTo>
                  <a:lnTo>
                    <a:pt x="105" y="1182"/>
                  </a:lnTo>
                  <a:lnTo>
                    <a:pt x="62" y="1120"/>
                  </a:lnTo>
                  <a:lnTo>
                    <a:pt x="31" y="1059"/>
                  </a:lnTo>
                  <a:lnTo>
                    <a:pt x="8" y="1026"/>
                  </a:lnTo>
                  <a:lnTo>
                    <a:pt x="15" y="985"/>
                  </a:lnTo>
                  <a:lnTo>
                    <a:pt x="28" y="873"/>
                  </a:lnTo>
                  <a:lnTo>
                    <a:pt x="28" y="664"/>
                  </a:lnTo>
                  <a:lnTo>
                    <a:pt x="23" y="515"/>
                  </a:lnTo>
                  <a:lnTo>
                    <a:pt x="23" y="367"/>
                  </a:lnTo>
                  <a:lnTo>
                    <a:pt x="20" y="20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762120" y="3886200"/>
            <a:ext cx="329760" cy="1566360"/>
            <a:chOff x="762120" y="3886200"/>
            <a:chExt cx="329760" cy="1566360"/>
          </a:xfrm>
        </p:grpSpPr>
        <p:sp>
          <p:nvSpPr>
            <p:cNvPr id="757" name=""/>
            <p:cNvSpPr/>
            <p:nvPr/>
          </p:nvSpPr>
          <p:spPr>
            <a:xfrm>
              <a:off x="858240" y="388620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9880" y="425304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120" y="425088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08720" y="426960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9880" y="468684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43200" y="468900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360520" y="3919680"/>
            <a:ext cx="329760" cy="1566360"/>
            <a:chOff x="2360520" y="3919680"/>
            <a:chExt cx="329760" cy="1566360"/>
          </a:xfrm>
        </p:grpSpPr>
        <p:sp>
          <p:nvSpPr>
            <p:cNvPr id="764" name=""/>
            <p:cNvSpPr/>
            <p:nvPr/>
          </p:nvSpPr>
          <p:spPr>
            <a:xfrm>
              <a:off x="2456640" y="391968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38280" y="428652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60520" y="428436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07120" y="430308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38280" y="472032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41600" y="472248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746440" y="4205160"/>
            <a:ext cx="25876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ogrami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19520" y="213372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On-site customer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2666880"/>
            <a:ext cx="868680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Data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6.11.01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Typ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Nowa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i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Naprawa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__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Rozbudowa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Numer opowieści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OPOWIEŚĆ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i="1" lang="pl-PL" sz="2400" spc="-1" strike="noStrike">
                <a:solidFill>
                  <a:srgbClr val="0000ff"/>
                </a:solidFill>
                <a:latin typeface="Arial"/>
              </a:rPr>
              <a:t>Dla każdego konta oblicz saldo dodając wszystkie wpłaty i odejmując wszystkie wypłaty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Rozmiar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775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04960" y="1415160"/>
              <a:ext cx="41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Opowieści użytkownik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28600" y="3581280"/>
            <a:ext cx="8153280" cy="13716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611440" y="5029200"/>
            <a:ext cx="1198440" cy="1371600"/>
            <a:chOff x="2611440" y="5029200"/>
            <a:chExt cx="1198440" cy="1371600"/>
          </a:xfrm>
        </p:grpSpPr>
        <p:sp>
          <p:nvSpPr>
            <p:cNvPr id="780" name=""/>
            <p:cNvSpPr/>
            <p:nvPr/>
          </p:nvSpPr>
          <p:spPr>
            <a:xfrm>
              <a:off x="2611440" y="5029200"/>
              <a:ext cx="1198440" cy="1371600"/>
            </a:xfrm>
            <a:custGeom>
              <a:avLst/>
              <a:gdLst/>
              <a:ahLst/>
              <a:rect l="l" t="t" r="r" b="b"/>
              <a:pathLst>
                <a:path w="2086" h="2456">
                  <a:moveTo>
                    <a:pt x="729" y="455"/>
                  </a:moveTo>
                  <a:lnTo>
                    <a:pt x="606" y="571"/>
                  </a:lnTo>
                  <a:lnTo>
                    <a:pt x="460" y="688"/>
                  </a:lnTo>
                  <a:lnTo>
                    <a:pt x="303" y="874"/>
                  </a:lnTo>
                  <a:lnTo>
                    <a:pt x="135" y="1118"/>
                  </a:lnTo>
                  <a:lnTo>
                    <a:pt x="45" y="1328"/>
                  </a:lnTo>
                  <a:lnTo>
                    <a:pt x="0" y="1491"/>
                  </a:lnTo>
                  <a:lnTo>
                    <a:pt x="0" y="1595"/>
                  </a:lnTo>
                  <a:lnTo>
                    <a:pt x="12" y="1817"/>
                  </a:lnTo>
                  <a:lnTo>
                    <a:pt x="45" y="1980"/>
                  </a:lnTo>
                  <a:lnTo>
                    <a:pt x="135" y="2084"/>
                  </a:lnTo>
                  <a:lnTo>
                    <a:pt x="314" y="2213"/>
                  </a:lnTo>
                  <a:lnTo>
                    <a:pt x="483" y="2294"/>
                  </a:lnTo>
                  <a:lnTo>
                    <a:pt x="695" y="2375"/>
                  </a:lnTo>
                  <a:lnTo>
                    <a:pt x="818" y="2422"/>
                  </a:lnTo>
                  <a:lnTo>
                    <a:pt x="1032" y="2456"/>
                  </a:lnTo>
                  <a:lnTo>
                    <a:pt x="1357" y="2422"/>
                  </a:lnTo>
                  <a:lnTo>
                    <a:pt x="1637" y="2341"/>
                  </a:lnTo>
                  <a:lnTo>
                    <a:pt x="1816" y="2224"/>
                  </a:lnTo>
                  <a:lnTo>
                    <a:pt x="1929" y="2096"/>
                  </a:lnTo>
                  <a:lnTo>
                    <a:pt x="1996" y="1968"/>
                  </a:lnTo>
                  <a:lnTo>
                    <a:pt x="2063" y="1805"/>
                  </a:lnTo>
                  <a:lnTo>
                    <a:pt x="2086" y="1619"/>
                  </a:lnTo>
                  <a:lnTo>
                    <a:pt x="2086" y="1363"/>
                  </a:lnTo>
                  <a:lnTo>
                    <a:pt x="2041" y="1200"/>
                  </a:lnTo>
                  <a:lnTo>
                    <a:pt x="1951" y="1025"/>
                  </a:lnTo>
                  <a:lnTo>
                    <a:pt x="1827" y="862"/>
                  </a:lnTo>
                  <a:lnTo>
                    <a:pt x="1693" y="733"/>
                  </a:lnTo>
                  <a:lnTo>
                    <a:pt x="1559" y="629"/>
                  </a:lnTo>
                  <a:lnTo>
                    <a:pt x="1368" y="536"/>
                  </a:lnTo>
                  <a:lnTo>
                    <a:pt x="1357" y="478"/>
                  </a:lnTo>
                  <a:lnTo>
                    <a:pt x="1525" y="291"/>
                  </a:lnTo>
                  <a:lnTo>
                    <a:pt x="1536" y="175"/>
                  </a:lnTo>
                  <a:lnTo>
                    <a:pt x="1346" y="291"/>
                  </a:lnTo>
                  <a:lnTo>
                    <a:pt x="1413" y="82"/>
                  </a:lnTo>
                  <a:lnTo>
                    <a:pt x="1391" y="71"/>
                  </a:lnTo>
                  <a:lnTo>
                    <a:pt x="1323" y="71"/>
                  </a:lnTo>
                  <a:lnTo>
                    <a:pt x="1211" y="210"/>
                  </a:lnTo>
                  <a:lnTo>
                    <a:pt x="1144" y="291"/>
                  </a:lnTo>
                  <a:lnTo>
                    <a:pt x="1166" y="140"/>
                  </a:lnTo>
                  <a:lnTo>
                    <a:pt x="1211" y="24"/>
                  </a:lnTo>
                  <a:lnTo>
                    <a:pt x="1177" y="0"/>
                  </a:lnTo>
                  <a:lnTo>
                    <a:pt x="1099" y="71"/>
                  </a:lnTo>
                  <a:lnTo>
                    <a:pt x="1021" y="244"/>
                  </a:lnTo>
                  <a:lnTo>
                    <a:pt x="987" y="152"/>
                  </a:lnTo>
                  <a:lnTo>
                    <a:pt x="920" y="116"/>
                  </a:lnTo>
                  <a:lnTo>
                    <a:pt x="875" y="233"/>
                  </a:lnTo>
                  <a:lnTo>
                    <a:pt x="864" y="303"/>
                  </a:lnTo>
                  <a:lnTo>
                    <a:pt x="740" y="140"/>
                  </a:lnTo>
                  <a:lnTo>
                    <a:pt x="583" y="12"/>
                  </a:lnTo>
                  <a:lnTo>
                    <a:pt x="539" y="35"/>
                  </a:lnTo>
                  <a:lnTo>
                    <a:pt x="527" y="105"/>
                  </a:lnTo>
                  <a:lnTo>
                    <a:pt x="583" y="210"/>
                  </a:lnTo>
                  <a:lnTo>
                    <a:pt x="650" y="338"/>
                  </a:lnTo>
                  <a:lnTo>
                    <a:pt x="818" y="560"/>
                  </a:lnTo>
                  <a:lnTo>
                    <a:pt x="796" y="605"/>
                  </a:lnTo>
                  <a:lnTo>
                    <a:pt x="762" y="629"/>
                  </a:lnTo>
                  <a:lnTo>
                    <a:pt x="785" y="675"/>
                  </a:lnTo>
                  <a:lnTo>
                    <a:pt x="931" y="733"/>
                  </a:lnTo>
                  <a:lnTo>
                    <a:pt x="1166" y="733"/>
                  </a:lnTo>
                  <a:lnTo>
                    <a:pt x="1368" y="711"/>
                  </a:lnTo>
                  <a:lnTo>
                    <a:pt x="1436" y="641"/>
                  </a:lnTo>
                  <a:lnTo>
                    <a:pt x="1391" y="618"/>
                  </a:lnTo>
                  <a:lnTo>
                    <a:pt x="1346" y="652"/>
                  </a:lnTo>
                  <a:lnTo>
                    <a:pt x="1222" y="664"/>
                  </a:lnTo>
                  <a:lnTo>
                    <a:pt x="1099" y="688"/>
                  </a:lnTo>
                  <a:lnTo>
                    <a:pt x="965" y="664"/>
                  </a:lnTo>
                  <a:lnTo>
                    <a:pt x="1166" y="641"/>
                  </a:lnTo>
                  <a:lnTo>
                    <a:pt x="1300" y="594"/>
                  </a:lnTo>
                  <a:lnTo>
                    <a:pt x="1323" y="571"/>
                  </a:lnTo>
                  <a:lnTo>
                    <a:pt x="1267" y="547"/>
                  </a:lnTo>
                  <a:lnTo>
                    <a:pt x="1200" y="583"/>
                  </a:lnTo>
                  <a:lnTo>
                    <a:pt x="1043" y="605"/>
                  </a:lnTo>
                  <a:lnTo>
                    <a:pt x="931" y="594"/>
                  </a:lnTo>
                  <a:lnTo>
                    <a:pt x="875" y="571"/>
                  </a:lnTo>
                  <a:lnTo>
                    <a:pt x="898" y="513"/>
                  </a:lnTo>
                  <a:lnTo>
                    <a:pt x="796" y="432"/>
                  </a:lnTo>
                  <a:lnTo>
                    <a:pt x="695" y="327"/>
                  </a:lnTo>
                  <a:lnTo>
                    <a:pt x="639" y="222"/>
                  </a:lnTo>
                  <a:lnTo>
                    <a:pt x="617" y="152"/>
                  </a:lnTo>
                  <a:lnTo>
                    <a:pt x="617" y="129"/>
                  </a:lnTo>
                  <a:lnTo>
                    <a:pt x="639" y="129"/>
                  </a:lnTo>
                  <a:lnTo>
                    <a:pt x="695" y="175"/>
                  </a:lnTo>
                  <a:lnTo>
                    <a:pt x="773" y="280"/>
                  </a:lnTo>
                  <a:lnTo>
                    <a:pt x="875" y="408"/>
                  </a:lnTo>
                  <a:lnTo>
                    <a:pt x="898" y="443"/>
                  </a:lnTo>
                  <a:lnTo>
                    <a:pt x="942" y="419"/>
                  </a:lnTo>
                  <a:lnTo>
                    <a:pt x="920" y="350"/>
                  </a:lnTo>
                  <a:lnTo>
                    <a:pt x="931" y="303"/>
                  </a:lnTo>
                  <a:lnTo>
                    <a:pt x="942" y="244"/>
                  </a:lnTo>
                  <a:lnTo>
                    <a:pt x="965" y="244"/>
                  </a:lnTo>
                  <a:lnTo>
                    <a:pt x="987" y="315"/>
                  </a:lnTo>
                  <a:lnTo>
                    <a:pt x="998" y="361"/>
                  </a:lnTo>
                  <a:lnTo>
                    <a:pt x="1032" y="373"/>
                  </a:lnTo>
                  <a:lnTo>
                    <a:pt x="1077" y="268"/>
                  </a:lnTo>
                  <a:lnTo>
                    <a:pt x="1099" y="233"/>
                  </a:lnTo>
                  <a:lnTo>
                    <a:pt x="1110" y="291"/>
                  </a:lnTo>
                  <a:lnTo>
                    <a:pt x="1110" y="385"/>
                  </a:lnTo>
                  <a:lnTo>
                    <a:pt x="1144" y="408"/>
                  </a:lnTo>
                  <a:lnTo>
                    <a:pt x="1200" y="327"/>
                  </a:lnTo>
                  <a:lnTo>
                    <a:pt x="1256" y="222"/>
                  </a:lnTo>
                  <a:lnTo>
                    <a:pt x="1312" y="199"/>
                  </a:lnTo>
                  <a:lnTo>
                    <a:pt x="1312" y="210"/>
                  </a:lnTo>
                  <a:lnTo>
                    <a:pt x="1278" y="280"/>
                  </a:lnTo>
                  <a:lnTo>
                    <a:pt x="1244" y="385"/>
                  </a:lnTo>
                  <a:lnTo>
                    <a:pt x="1278" y="396"/>
                  </a:lnTo>
                  <a:lnTo>
                    <a:pt x="1458" y="268"/>
                  </a:lnTo>
                  <a:lnTo>
                    <a:pt x="1480" y="268"/>
                  </a:lnTo>
                  <a:lnTo>
                    <a:pt x="1312" y="443"/>
                  </a:lnTo>
                  <a:lnTo>
                    <a:pt x="1278" y="478"/>
                  </a:lnTo>
                  <a:lnTo>
                    <a:pt x="1267" y="536"/>
                  </a:lnTo>
                  <a:lnTo>
                    <a:pt x="1300" y="560"/>
                  </a:lnTo>
                  <a:lnTo>
                    <a:pt x="1402" y="605"/>
                  </a:lnTo>
                  <a:lnTo>
                    <a:pt x="1570" y="699"/>
                  </a:lnTo>
                  <a:lnTo>
                    <a:pt x="1682" y="792"/>
                  </a:lnTo>
                  <a:lnTo>
                    <a:pt x="1816" y="932"/>
                  </a:lnTo>
                  <a:lnTo>
                    <a:pt x="1918" y="1083"/>
                  </a:lnTo>
                  <a:lnTo>
                    <a:pt x="1985" y="1246"/>
                  </a:lnTo>
                  <a:lnTo>
                    <a:pt x="2030" y="1456"/>
                  </a:lnTo>
                  <a:lnTo>
                    <a:pt x="2018" y="1607"/>
                  </a:lnTo>
                  <a:lnTo>
                    <a:pt x="2007" y="1770"/>
                  </a:lnTo>
                  <a:lnTo>
                    <a:pt x="1940" y="1945"/>
                  </a:lnTo>
                  <a:lnTo>
                    <a:pt x="1873" y="2072"/>
                  </a:lnTo>
                  <a:lnTo>
                    <a:pt x="1794" y="2142"/>
                  </a:lnTo>
                  <a:lnTo>
                    <a:pt x="1704" y="2236"/>
                  </a:lnTo>
                  <a:lnTo>
                    <a:pt x="1536" y="2306"/>
                  </a:lnTo>
                  <a:lnTo>
                    <a:pt x="1334" y="2364"/>
                  </a:lnTo>
                  <a:lnTo>
                    <a:pt x="1233" y="2375"/>
                  </a:lnTo>
                  <a:lnTo>
                    <a:pt x="1043" y="2375"/>
                  </a:lnTo>
                  <a:lnTo>
                    <a:pt x="864" y="2352"/>
                  </a:lnTo>
                  <a:lnTo>
                    <a:pt x="650" y="2294"/>
                  </a:lnTo>
                  <a:lnTo>
                    <a:pt x="449" y="2200"/>
                  </a:lnTo>
                  <a:lnTo>
                    <a:pt x="291" y="2108"/>
                  </a:lnTo>
                  <a:lnTo>
                    <a:pt x="157" y="2003"/>
                  </a:lnTo>
                  <a:lnTo>
                    <a:pt x="101" y="1922"/>
                  </a:lnTo>
                  <a:lnTo>
                    <a:pt x="90" y="1839"/>
                  </a:lnTo>
                  <a:lnTo>
                    <a:pt x="68" y="1595"/>
                  </a:lnTo>
                  <a:lnTo>
                    <a:pt x="79" y="1433"/>
                  </a:lnTo>
                  <a:lnTo>
                    <a:pt x="146" y="1258"/>
                  </a:lnTo>
                  <a:lnTo>
                    <a:pt x="235" y="1060"/>
                  </a:lnTo>
                  <a:lnTo>
                    <a:pt x="393" y="885"/>
                  </a:lnTo>
                  <a:lnTo>
                    <a:pt x="539" y="688"/>
                  </a:lnTo>
                  <a:lnTo>
                    <a:pt x="673" y="583"/>
                  </a:lnTo>
                  <a:lnTo>
                    <a:pt x="751" y="513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82320" y="5569200"/>
              <a:ext cx="244440" cy="421920"/>
            </a:xfrm>
            <a:custGeom>
              <a:avLst/>
              <a:gdLst/>
              <a:ahLst/>
              <a:rect l="l" t="t" r="r" b="b"/>
              <a:pathLst>
                <a:path w="426" h="756">
                  <a:moveTo>
                    <a:pt x="258" y="139"/>
                  </a:moveTo>
                  <a:lnTo>
                    <a:pt x="336" y="150"/>
                  </a:lnTo>
                  <a:lnTo>
                    <a:pt x="403" y="209"/>
                  </a:lnTo>
                  <a:lnTo>
                    <a:pt x="426" y="267"/>
                  </a:lnTo>
                  <a:lnTo>
                    <a:pt x="347" y="290"/>
                  </a:lnTo>
                  <a:lnTo>
                    <a:pt x="302" y="243"/>
                  </a:lnTo>
                  <a:lnTo>
                    <a:pt x="247" y="220"/>
                  </a:lnTo>
                  <a:lnTo>
                    <a:pt x="191" y="209"/>
                  </a:lnTo>
                  <a:lnTo>
                    <a:pt x="101" y="232"/>
                  </a:lnTo>
                  <a:lnTo>
                    <a:pt x="79" y="290"/>
                  </a:lnTo>
                  <a:lnTo>
                    <a:pt x="124" y="337"/>
                  </a:lnTo>
                  <a:lnTo>
                    <a:pt x="235" y="371"/>
                  </a:lnTo>
                  <a:lnTo>
                    <a:pt x="347" y="371"/>
                  </a:lnTo>
                  <a:lnTo>
                    <a:pt x="381" y="406"/>
                  </a:lnTo>
                  <a:lnTo>
                    <a:pt x="403" y="465"/>
                  </a:lnTo>
                  <a:lnTo>
                    <a:pt x="392" y="534"/>
                  </a:lnTo>
                  <a:lnTo>
                    <a:pt x="325" y="581"/>
                  </a:lnTo>
                  <a:lnTo>
                    <a:pt x="247" y="581"/>
                  </a:lnTo>
                  <a:lnTo>
                    <a:pt x="191" y="581"/>
                  </a:lnTo>
                  <a:lnTo>
                    <a:pt x="168" y="639"/>
                  </a:lnTo>
                  <a:lnTo>
                    <a:pt x="179" y="743"/>
                  </a:lnTo>
                  <a:lnTo>
                    <a:pt x="101" y="756"/>
                  </a:lnTo>
                  <a:lnTo>
                    <a:pt x="90" y="674"/>
                  </a:lnTo>
                  <a:lnTo>
                    <a:pt x="112" y="581"/>
                  </a:lnTo>
                  <a:lnTo>
                    <a:pt x="45" y="546"/>
                  </a:lnTo>
                  <a:lnTo>
                    <a:pt x="0" y="511"/>
                  </a:lnTo>
                  <a:lnTo>
                    <a:pt x="68" y="442"/>
                  </a:lnTo>
                  <a:lnTo>
                    <a:pt x="101" y="488"/>
                  </a:lnTo>
                  <a:lnTo>
                    <a:pt x="157" y="499"/>
                  </a:lnTo>
                  <a:lnTo>
                    <a:pt x="235" y="511"/>
                  </a:lnTo>
                  <a:lnTo>
                    <a:pt x="302" y="511"/>
                  </a:lnTo>
                  <a:lnTo>
                    <a:pt x="336" y="499"/>
                  </a:lnTo>
                  <a:lnTo>
                    <a:pt x="314" y="453"/>
                  </a:lnTo>
                  <a:lnTo>
                    <a:pt x="258" y="442"/>
                  </a:lnTo>
                  <a:lnTo>
                    <a:pt x="157" y="418"/>
                  </a:lnTo>
                  <a:lnTo>
                    <a:pt x="56" y="383"/>
                  </a:lnTo>
                  <a:lnTo>
                    <a:pt x="23" y="325"/>
                  </a:lnTo>
                  <a:lnTo>
                    <a:pt x="11" y="255"/>
                  </a:lnTo>
                  <a:lnTo>
                    <a:pt x="68" y="185"/>
                  </a:lnTo>
                  <a:lnTo>
                    <a:pt x="146" y="128"/>
                  </a:lnTo>
                  <a:lnTo>
                    <a:pt x="202" y="128"/>
                  </a:lnTo>
                  <a:lnTo>
                    <a:pt x="224" y="0"/>
                  </a:lnTo>
                  <a:lnTo>
                    <a:pt x="291" y="11"/>
                  </a:lnTo>
                  <a:lnTo>
                    <a:pt x="258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56960" y="5550120"/>
              <a:ext cx="103320" cy="1494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0" y="210"/>
                  </a:moveTo>
                  <a:lnTo>
                    <a:pt x="78" y="70"/>
                  </a:lnTo>
                  <a:lnTo>
                    <a:pt x="179" y="0"/>
                  </a:lnTo>
                  <a:lnTo>
                    <a:pt x="179" y="36"/>
                  </a:lnTo>
                  <a:lnTo>
                    <a:pt x="111" y="117"/>
                  </a:lnTo>
                  <a:lnTo>
                    <a:pt x="33" y="269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46720" y="5926320"/>
              <a:ext cx="64080" cy="103680"/>
            </a:xfrm>
            <a:custGeom>
              <a:avLst/>
              <a:gdLst/>
              <a:ahLst/>
              <a:rect l="l" t="t" r="r" b="b"/>
              <a:pathLst>
                <a:path w="112" h="187">
                  <a:moveTo>
                    <a:pt x="112" y="0"/>
                  </a:moveTo>
                  <a:lnTo>
                    <a:pt x="34" y="116"/>
                  </a:lnTo>
                  <a:lnTo>
                    <a:pt x="0" y="163"/>
                  </a:lnTo>
                  <a:lnTo>
                    <a:pt x="45" y="187"/>
                  </a:lnTo>
                  <a:lnTo>
                    <a:pt x="78" y="163"/>
                  </a:lnTo>
                  <a:lnTo>
                    <a:pt x="112" y="82"/>
                  </a:lnTo>
                  <a:lnTo>
                    <a:pt x="112" y="4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785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4960" y="1415160"/>
              <a:ext cx="41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Opowieści użytkownik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33600" y="4646520"/>
            <a:ext cx="1361880" cy="1417680"/>
            <a:chOff x="1533600" y="4646520"/>
            <a:chExt cx="1361880" cy="1417680"/>
          </a:xfrm>
        </p:grpSpPr>
        <p:sp>
          <p:nvSpPr>
            <p:cNvPr id="788" name=""/>
            <p:cNvSpPr/>
            <p:nvPr/>
          </p:nvSpPr>
          <p:spPr>
            <a:xfrm>
              <a:off x="2655720" y="4654440"/>
              <a:ext cx="228600" cy="192240"/>
            </a:xfrm>
            <a:custGeom>
              <a:avLst/>
              <a:gdLst/>
              <a:ahLst/>
              <a:rect l="l" t="t" r="r" b="b"/>
              <a:pathLst>
                <a:path w="287" h="243">
                  <a:moveTo>
                    <a:pt x="19" y="105"/>
                  </a:moveTo>
                  <a:lnTo>
                    <a:pt x="156" y="0"/>
                  </a:lnTo>
                  <a:lnTo>
                    <a:pt x="254" y="44"/>
                  </a:lnTo>
                  <a:lnTo>
                    <a:pt x="287" y="100"/>
                  </a:lnTo>
                  <a:lnTo>
                    <a:pt x="236" y="161"/>
                  </a:lnTo>
                  <a:lnTo>
                    <a:pt x="156" y="243"/>
                  </a:lnTo>
                  <a:lnTo>
                    <a:pt x="118" y="161"/>
                  </a:lnTo>
                  <a:lnTo>
                    <a:pt x="52" y="143"/>
                  </a:lnTo>
                  <a:lnTo>
                    <a:pt x="0" y="133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0480" y="5826240"/>
              <a:ext cx="176400" cy="191880"/>
            </a:xfrm>
            <a:custGeom>
              <a:avLst/>
              <a:gdLst/>
              <a:ahLst/>
              <a:rect l="l" t="t" r="r" b="b"/>
              <a:pathLst>
                <a:path w="222" h="242">
                  <a:moveTo>
                    <a:pt x="0" y="242"/>
                  </a:moveTo>
                  <a:lnTo>
                    <a:pt x="38" y="143"/>
                  </a:lnTo>
                  <a:lnTo>
                    <a:pt x="103" y="0"/>
                  </a:lnTo>
                  <a:lnTo>
                    <a:pt x="213" y="47"/>
                  </a:lnTo>
                  <a:lnTo>
                    <a:pt x="222" y="137"/>
                  </a:lnTo>
                  <a:lnTo>
                    <a:pt x="151" y="18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3280" y="4745160"/>
              <a:ext cx="1114200" cy="1211040"/>
            </a:xfrm>
            <a:custGeom>
              <a:avLst/>
              <a:gdLst/>
              <a:ahLst/>
              <a:rect l="l" t="t" r="r" b="b"/>
              <a:pathLst>
                <a:path w="1405" h="1527">
                  <a:moveTo>
                    <a:pt x="5" y="1367"/>
                  </a:moveTo>
                  <a:lnTo>
                    <a:pt x="132" y="1264"/>
                  </a:lnTo>
                  <a:lnTo>
                    <a:pt x="233" y="1163"/>
                  </a:lnTo>
                  <a:lnTo>
                    <a:pt x="338" y="1050"/>
                  </a:lnTo>
                  <a:lnTo>
                    <a:pt x="479" y="914"/>
                  </a:lnTo>
                  <a:lnTo>
                    <a:pt x="593" y="791"/>
                  </a:lnTo>
                  <a:lnTo>
                    <a:pt x="712" y="645"/>
                  </a:lnTo>
                  <a:lnTo>
                    <a:pt x="784" y="572"/>
                  </a:lnTo>
                  <a:lnTo>
                    <a:pt x="867" y="491"/>
                  </a:lnTo>
                  <a:lnTo>
                    <a:pt x="972" y="350"/>
                  </a:lnTo>
                  <a:lnTo>
                    <a:pt x="1049" y="236"/>
                  </a:lnTo>
                  <a:lnTo>
                    <a:pt x="1126" y="141"/>
                  </a:lnTo>
                  <a:lnTo>
                    <a:pt x="1209" y="50"/>
                  </a:lnTo>
                  <a:lnTo>
                    <a:pt x="1267" y="0"/>
                  </a:lnTo>
                  <a:lnTo>
                    <a:pt x="1340" y="14"/>
                  </a:lnTo>
                  <a:lnTo>
                    <a:pt x="1372" y="40"/>
                  </a:lnTo>
                  <a:lnTo>
                    <a:pt x="1395" y="81"/>
                  </a:lnTo>
                  <a:lnTo>
                    <a:pt x="1405" y="113"/>
                  </a:lnTo>
                  <a:lnTo>
                    <a:pt x="1295" y="232"/>
                  </a:lnTo>
                  <a:lnTo>
                    <a:pt x="1213" y="318"/>
                  </a:lnTo>
                  <a:lnTo>
                    <a:pt x="1144" y="394"/>
                  </a:lnTo>
                  <a:lnTo>
                    <a:pt x="1071" y="473"/>
                  </a:lnTo>
                  <a:lnTo>
                    <a:pt x="1013" y="546"/>
                  </a:lnTo>
                  <a:lnTo>
                    <a:pt x="930" y="649"/>
                  </a:lnTo>
                  <a:lnTo>
                    <a:pt x="821" y="777"/>
                  </a:lnTo>
                  <a:lnTo>
                    <a:pt x="712" y="900"/>
                  </a:lnTo>
                  <a:lnTo>
                    <a:pt x="607" y="1009"/>
                  </a:lnTo>
                  <a:lnTo>
                    <a:pt x="493" y="1118"/>
                  </a:lnTo>
                  <a:lnTo>
                    <a:pt x="397" y="1213"/>
                  </a:lnTo>
                  <a:lnTo>
                    <a:pt x="279" y="1331"/>
                  </a:lnTo>
                  <a:lnTo>
                    <a:pt x="206" y="1404"/>
                  </a:lnTo>
                  <a:lnTo>
                    <a:pt x="114" y="1491"/>
                  </a:lnTo>
                  <a:lnTo>
                    <a:pt x="73" y="1527"/>
                  </a:lnTo>
                  <a:lnTo>
                    <a:pt x="83" y="1464"/>
                  </a:lnTo>
                  <a:lnTo>
                    <a:pt x="33" y="1472"/>
                  </a:lnTo>
                  <a:lnTo>
                    <a:pt x="51" y="1418"/>
                  </a:lnTo>
                  <a:lnTo>
                    <a:pt x="0" y="1432"/>
                  </a:lnTo>
                  <a:lnTo>
                    <a:pt x="5" y="1367"/>
                  </a:lnTo>
                  <a:close/>
                </a:path>
              </a:pathLst>
            </a:custGeom>
            <a:solidFill>
              <a:srgbClr val="f0e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73160" y="4646520"/>
              <a:ext cx="922320" cy="1025640"/>
            </a:xfrm>
            <a:custGeom>
              <a:avLst/>
              <a:gdLst/>
              <a:ahLst/>
              <a:rect l="l" t="t" r="r" b="b"/>
              <a:pathLst>
                <a:path w="1164" h="1294">
                  <a:moveTo>
                    <a:pt x="0" y="1112"/>
                  </a:moveTo>
                  <a:lnTo>
                    <a:pt x="178" y="941"/>
                  </a:lnTo>
                  <a:lnTo>
                    <a:pt x="327" y="752"/>
                  </a:lnTo>
                  <a:lnTo>
                    <a:pt x="500" y="571"/>
                  </a:lnTo>
                  <a:lnTo>
                    <a:pt x="628" y="403"/>
                  </a:lnTo>
                  <a:lnTo>
                    <a:pt x="719" y="272"/>
                  </a:lnTo>
                  <a:lnTo>
                    <a:pt x="822" y="164"/>
                  </a:lnTo>
                  <a:lnTo>
                    <a:pt x="936" y="52"/>
                  </a:lnTo>
                  <a:lnTo>
                    <a:pt x="1011" y="0"/>
                  </a:lnTo>
                  <a:lnTo>
                    <a:pt x="1059" y="18"/>
                  </a:lnTo>
                  <a:lnTo>
                    <a:pt x="1136" y="59"/>
                  </a:lnTo>
                  <a:lnTo>
                    <a:pt x="1164" y="94"/>
                  </a:lnTo>
                  <a:lnTo>
                    <a:pt x="1154" y="116"/>
                  </a:lnTo>
                  <a:lnTo>
                    <a:pt x="1069" y="210"/>
                  </a:lnTo>
                  <a:lnTo>
                    <a:pt x="986" y="294"/>
                  </a:lnTo>
                  <a:lnTo>
                    <a:pt x="903" y="382"/>
                  </a:lnTo>
                  <a:lnTo>
                    <a:pt x="786" y="517"/>
                  </a:lnTo>
                  <a:lnTo>
                    <a:pt x="657" y="650"/>
                  </a:lnTo>
                  <a:lnTo>
                    <a:pt x="555" y="785"/>
                  </a:lnTo>
                  <a:lnTo>
                    <a:pt x="471" y="888"/>
                  </a:lnTo>
                  <a:lnTo>
                    <a:pt x="315" y="1057"/>
                  </a:lnTo>
                  <a:lnTo>
                    <a:pt x="185" y="1187"/>
                  </a:lnTo>
                  <a:lnTo>
                    <a:pt x="73" y="1294"/>
                  </a:lnTo>
                  <a:lnTo>
                    <a:pt x="73" y="1247"/>
                  </a:lnTo>
                  <a:lnTo>
                    <a:pt x="142" y="1191"/>
                  </a:lnTo>
                  <a:lnTo>
                    <a:pt x="240" y="1095"/>
                  </a:lnTo>
                  <a:lnTo>
                    <a:pt x="341" y="977"/>
                  </a:lnTo>
                  <a:lnTo>
                    <a:pt x="432" y="882"/>
                  </a:lnTo>
                  <a:lnTo>
                    <a:pt x="514" y="785"/>
                  </a:lnTo>
                  <a:lnTo>
                    <a:pt x="588" y="697"/>
                  </a:lnTo>
                  <a:lnTo>
                    <a:pt x="649" y="619"/>
                  </a:lnTo>
                  <a:lnTo>
                    <a:pt x="726" y="540"/>
                  </a:lnTo>
                  <a:lnTo>
                    <a:pt x="798" y="462"/>
                  </a:lnTo>
                  <a:lnTo>
                    <a:pt x="874" y="381"/>
                  </a:lnTo>
                  <a:lnTo>
                    <a:pt x="945" y="298"/>
                  </a:lnTo>
                  <a:lnTo>
                    <a:pt x="1007" y="226"/>
                  </a:lnTo>
                  <a:lnTo>
                    <a:pt x="990" y="182"/>
                  </a:lnTo>
                  <a:lnTo>
                    <a:pt x="945" y="143"/>
                  </a:lnTo>
                  <a:lnTo>
                    <a:pt x="895" y="135"/>
                  </a:lnTo>
                  <a:lnTo>
                    <a:pt x="943" y="121"/>
                  </a:lnTo>
                  <a:lnTo>
                    <a:pt x="979" y="135"/>
                  </a:lnTo>
                  <a:lnTo>
                    <a:pt x="1007" y="150"/>
                  </a:lnTo>
                  <a:lnTo>
                    <a:pt x="1020" y="178"/>
                  </a:lnTo>
                  <a:lnTo>
                    <a:pt x="1031" y="199"/>
                  </a:lnTo>
                  <a:lnTo>
                    <a:pt x="1080" y="163"/>
                  </a:lnTo>
                  <a:lnTo>
                    <a:pt x="1113" y="116"/>
                  </a:lnTo>
                  <a:lnTo>
                    <a:pt x="1120" y="88"/>
                  </a:lnTo>
                  <a:lnTo>
                    <a:pt x="1095" y="62"/>
                  </a:lnTo>
                  <a:lnTo>
                    <a:pt x="1041" y="34"/>
                  </a:lnTo>
                  <a:lnTo>
                    <a:pt x="997" y="34"/>
                  </a:lnTo>
                  <a:lnTo>
                    <a:pt x="957" y="76"/>
                  </a:lnTo>
                  <a:lnTo>
                    <a:pt x="903" y="116"/>
                  </a:lnTo>
                  <a:lnTo>
                    <a:pt x="842" y="178"/>
                  </a:lnTo>
                  <a:lnTo>
                    <a:pt x="773" y="258"/>
                  </a:lnTo>
                  <a:lnTo>
                    <a:pt x="724" y="328"/>
                  </a:lnTo>
                  <a:lnTo>
                    <a:pt x="682" y="389"/>
                  </a:lnTo>
                  <a:lnTo>
                    <a:pt x="614" y="479"/>
                  </a:lnTo>
                  <a:lnTo>
                    <a:pt x="562" y="540"/>
                  </a:lnTo>
                  <a:lnTo>
                    <a:pt x="507" y="608"/>
                  </a:lnTo>
                  <a:lnTo>
                    <a:pt x="472" y="643"/>
                  </a:lnTo>
                  <a:lnTo>
                    <a:pt x="402" y="711"/>
                  </a:lnTo>
                  <a:lnTo>
                    <a:pt x="356" y="770"/>
                  </a:lnTo>
                  <a:lnTo>
                    <a:pt x="293" y="847"/>
                  </a:lnTo>
                  <a:lnTo>
                    <a:pt x="251" y="893"/>
                  </a:lnTo>
                  <a:lnTo>
                    <a:pt x="203" y="955"/>
                  </a:lnTo>
                  <a:lnTo>
                    <a:pt x="149" y="1016"/>
                  </a:lnTo>
                  <a:lnTo>
                    <a:pt x="73" y="1075"/>
                  </a:lnTo>
                  <a:lnTo>
                    <a:pt x="12" y="1137"/>
                  </a:lnTo>
                  <a:lnTo>
                    <a:pt x="0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33600" y="5506920"/>
              <a:ext cx="515880" cy="557280"/>
            </a:xfrm>
            <a:custGeom>
              <a:avLst/>
              <a:gdLst/>
              <a:ahLst/>
              <a:rect l="l" t="t" r="r" b="b"/>
              <a:pathLst>
                <a:path w="651" h="703">
                  <a:moveTo>
                    <a:pt x="589" y="0"/>
                  </a:moveTo>
                  <a:lnTo>
                    <a:pt x="577" y="36"/>
                  </a:lnTo>
                  <a:lnTo>
                    <a:pt x="480" y="137"/>
                  </a:lnTo>
                  <a:lnTo>
                    <a:pt x="382" y="248"/>
                  </a:lnTo>
                  <a:lnTo>
                    <a:pt x="225" y="386"/>
                  </a:lnTo>
                  <a:lnTo>
                    <a:pt x="172" y="430"/>
                  </a:lnTo>
                  <a:lnTo>
                    <a:pt x="125" y="552"/>
                  </a:lnTo>
                  <a:lnTo>
                    <a:pt x="101" y="599"/>
                  </a:lnTo>
                  <a:lnTo>
                    <a:pt x="125" y="623"/>
                  </a:lnTo>
                  <a:lnTo>
                    <a:pt x="272" y="533"/>
                  </a:lnTo>
                  <a:lnTo>
                    <a:pt x="333" y="463"/>
                  </a:lnTo>
                  <a:lnTo>
                    <a:pt x="426" y="372"/>
                  </a:lnTo>
                  <a:lnTo>
                    <a:pt x="515" y="284"/>
                  </a:lnTo>
                  <a:lnTo>
                    <a:pt x="596" y="202"/>
                  </a:lnTo>
                  <a:lnTo>
                    <a:pt x="651" y="147"/>
                  </a:lnTo>
                  <a:lnTo>
                    <a:pt x="640" y="195"/>
                  </a:lnTo>
                  <a:lnTo>
                    <a:pt x="554" y="284"/>
                  </a:lnTo>
                  <a:lnTo>
                    <a:pt x="454" y="381"/>
                  </a:lnTo>
                  <a:lnTo>
                    <a:pt x="389" y="451"/>
                  </a:lnTo>
                  <a:lnTo>
                    <a:pt x="307" y="526"/>
                  </a:lnTo>
                  <a:lnTo>
                    <a:pt x="280" y="559"/>
                  </a:lnTo>
                  <a:lnTo>
                    <a:pt x="186" y="613"/>
                  </a:lnTo>
                  <a:lnTo>
                    <a:pt x="108" y="655"/>
                  </a:lnTo>
                  <a:lnTo>
                    <a:pt x="14" y="703"/>
                  </a:lnTo>
                  <a:lnTo>
                    <a:pt x="0" y="691"/>
                  </a:lnTo>
                  <a:lnTo>
                    <a:pt x="7" y="668"/>
                  </a:lnTo>
                  <a:lnTo>
                    <a:pt x="76" y="588"/>
                  </a:lnTo>
                  <a:lnTo>
                    <a:pt x="118" y="512"/>
                  </a:lnTo>
                  <a:lnTo>
                    <a:pt x="157" y="406"/>
                  </a:lnTo>
                  <a:lnTo>
                    <a:pt x="218" y="354"/>
                  </a:lnTo>
                  <a:lnTo>
                    <a:pt x="293" y="297"/>
                  </a:lnTo>
                  <a:lnTo>
                    <a:pt x="382" y="209"/>
                  </a:lnTo>
                  <a:lnTo>
                    <a:pt x="437" y="151"/>
                  </a:lnTo>
                  <a:lnTo>
                    <a:pt x="493" y="83"/>
                  </a:lnTo>
                  <a:lnTo>
                    <a:pt x="543" y="42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62120" y="5819760"/>
              <a:ext cx="98280" cy="133200"/>
            </a:xfrm>
            <a:custGeom>
              <a:avLst/>
              <a:gdLst/>
              <a:ahLst/>
              <a:rect l="l" t="t" r="r" b="b"/>
              <a:pathLst>
                <a:path w="125" h="168">
                  <a:moveTo>
                    <a:pt x="42" y="7"/>
                  </a:moveTo>
                  <a:lnTo>
                    <a:pt x="35" y="52"/>
                  </a:lnTo>
                  <a:lnTo>
                    <a:pt x="87" y="43"/>
                  </a:lnTo>
                  <a:lnTo>
                    <a:pt x="70" y="99"/>
                  </a:lnTo>
                  <a:lnTo>
                    <a:pt x="125" y="85"/>
                  </a:lnTo>
                  <a:lnTo>
                    <a:pt x="110" y="161"/>
                  </a:lnTo>
                  <a:lnTo>
                    <a:pt x="80" y="168"/>
                  </a:lnTo>
                  <a:lnTo>
                    <a:pt x="103" y="115"/>
                  </a:lnTo>
                  <a:lnTo>
                    <a:pt x="30" y="122"/>
                  </a:lnTo>
                  <a:lnTo>
                    <a:pt x="65" y="59"/>
                  </a:lnTo>
                  <a:lnTo>
                    <a:pt x="0" y="85"/>
                  </a:lnTo>
                  <a:lnTo>
                    <a:pt x="20" y="0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803240" y="4494240"/>
            <a:ext cx="854280" cy="1870200"/>
            <a:chOff x="1803240" y="4494240"/>
            <a:chExt cx="854280" cy="1870200"/>
          </a:xfrm>
        </p:grpSpPr>
        <p:sp>
          <p:nvSpPr>
            <p:cNvPr id="795" name=""/>
            <p:cNvSpPr/>
            <p:nvPr/>
          </p:nvSpPr>
          <p:spPr>
            <a:xfrm>
              <a:off x="1803240" y="4494240"/>
              <a:ext cx="284400" cy="388800"/>
            </a:xfrm>
            <a:custGeom>
              <a:avLst/>
              <a:gdLst/>
              <a:ahLst/>
              <a:rect l="l" t="t" r="r" b="b"/>
              <a:pathLst>
                <a:path w="357" h="492">
                  <a:moveTo>
                    <a:pt x="112" y="339"/>
                  </a:moveTo>
                  <a:lnTo>
                    <a:pt x="63" y="285"/>
                  </a:lnTo>
                  <a:lnTo>
                    <a:pt x="28" y="229"/>
                  </a:lnTo>
                  <a:lnTo>
                    <a:pt x="7" y="175"/>
                  </a:lnTo>
                  <a:lnTo>
                    <a:pt x="0" y="100"/>
                  </a:lnTo>
                  <a:lnTo>
                    <a:pt x="14" y="58"/>
                  </a:lnTo>
                  <a:lnTo>
                    <a:pt x="37" y="28"/>
                  </a:lnTo>
                  <a:lnTo>
                    <a:pt x="77" y="10"/>
                  </a:lnTo>
                  <a:lnTo>
                    <a:pt x="121" y="0"/>
                  </a:lnTo>
                  <a:lnTo>
                    <a:pt x="184" y="17"/>
                  </a:lnTo>
                  <a:lnTo>
                    <a:pt x="231" y="42"/>
                  </a:lnTo>
                  <a:lnTo>
                    <a:pt x="275" y="79"/>
                  </a:lnTo>
                  <a:lnTo>
                    <a:pt x="310" y="128"/>
                  </a:lnTo>
                  <a:lnTo>
                    <a:pt x="336" y="168"/>
                  </a:lnTo>
                  <a:lnTo>
                    <a:pt x="352" y="222"/>
                  </a:lnTo>
                  <a:lnTo>
                    <a:pt x="357" y="266"/>
                  </a:lnTo>
                  <a:lnTo>
                    <a:pt x="350" y="321"/>
                  </a:lnTo>
                  <a:lnTo>
                    <a:pt x="329" y="356"/>
                  </a:lnTo>
                  <a:lnTo>
                    <a:pt x="303" y="381"/>
                  </a:lnTo>
                  <a:lnTo>
                    <a:pt x="252" y="388"/>
                  </a:lnTo>
                  <a:lnTo>
                    <a:pt x="205" y="388"/>
                  </a:lnTo>
                  <a:lnTo>
                    <a:pt x="156" y="374"/>
                  </a:lnTo>
                  <a:lnTo>
                    <a:pt x="133" y="418"/>
                  </a:lnTo>
                  <a:lnTo>
                    <a:pt x="107" y="478"/>
                  </a:lnTo>
                  <a:lnTo>
                    <a:pt x="86" y="492"/>
                  </a:lnTo>
                  <a:lnTo>
                    <a:pt x="63" y="492"/>
                  </a:lnTo>
                  <a:lnTo>
                    <a:pt x="51" y="460"/>
                  </a:lnTo>
                  <a:lnTo>
                    <a:pt x="63" y="425"/>
                  </a:lnTo>
                  <a:lnTo>
                    <a:pt x="98" y="384"/>
                  </a:lnTo>
                  <a:lnTo>
                    <a:pt x="112" y="33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04840" y="4800600"/>
              <a:ext cx="462240" cy="722160"/>
            </a:xfrm>
            <a:custGeom>
              <a:avLst/>
              <a:gdLst/>
              <a:ahLst/>
              <a:rect l="l" t="t" r="r" b="b"/>
              <a:pathLst>
                <a:path w="581" h="911">
                  <a:moveTo>
                    <a:pt x="35" y="47"/>
                  </a:moveTo>
                  <a:lnTo>
                    <a:pt x="83" y="10"/>
                  </a:lnTo>
                  <a:lnTo>
                    <a:pt x="136" y="0"/>
                  </a:lnTo>
                  <a:lnTo>
                    <a:pt x="185" y="7"/>
                  </a:lnTo>
                  <a:lnTo>
                    <a:pt x="239" y="21"/>
                  </a:lnTo>
                  <a:lnTo>
                    <a:pt x="295" y="57"/>
                  </a:lnTo>
                  <a:lnTo>
                    <a:pt x="360" y="112"/>
                  </a:lnTo>
                  <a:lnTo>
                    <a:pt x="413" y="166"/>
                  </a:lnTo>
                  <a:lnTo>
                    <a:pt x="454" y="227"/>
                  </a:lnTo>
                  <a:lnTo>
                    <a:pt x="496" y="294"/>
                  </a:lnTo>
                  <a:lnTo>
                    <a:pt x="532" y="369"/>
                  </a:lnTo>
                  <a:lnTo>
                    <a:pt x="553" y="441"/>
                  </a:lnTo>
                  <a:lnTo>
                    <a:pt x="567" y="534"/>
                  </a:lnTo>
                  <a:lnTo>
                    <a:pt x="581" y="625"/>
                  </a:lnTo>
                  <a:lnTo>
                    <a:pt x="581" y="719"/>
                  </a:lnTo>
                  <a:lnTo>
                    <a:pt x="564" y="792"/>
                  </a:lnTo>
                  <a:lnTo>
                    <a:pt x="538" y="847"/>
                  </a:lnTo>
                  <a:lnTo>
                    <a:pt x="505" y="877"/>
                  </a:lnTo>
                  <a:lnTo>
                    <a:pt x="461" y="897"/>
                  </a:lnTo>
                  <a:lnTo>
                    <a:pt x="406" y="908"/>
                  </a:lnTo>
                  <a:lnTo>
                    <a:pt x="353" y="911"/>
                  </a:lnTo>
                  <a:lnTo>
                    <a:pt x="304" y="897"/>
                  </a:lnTo>
                  <a:lnTo>
                    <a:pt x="270" y="875"/>
                  </a:lnTo>
                  <a:lnTo>
                    <a:pt x="242" y="840"/>
                  </a:lnTo>
                  <a:lnTo>
                    <a:pt x="221" y="809"/>
                  </a:lnTo>
                  <a:lnTo>
                    <a:pt x="213" y="742"/>
                  </a:lnTo>
                  <a:lnTo>
                    <a:pt x="213" y="691"/>
                  </a:lnTo>
                  <a:lnTo>
                    <a:pt x="232" y="639"/>
                  </a:lnTo>
                  <a:lnTo>
                    <a:pt x="253" y="596"/>
                  </a:lnTo>
                  <a:lnTo>
                    <a:pt x="260" y="554"/>
                  </a:lnTo>
                  <a:lnTo>
                    <a:pt x="263" y="502"/>
                  </a:lnTo>
                  <a:lnTo>
                    <a:pt x="249" y="455"/>
                  </a:lnTo>
                  <a:lnTo>
                    <a:pt x="242" y="418"/>
                  </a:lnTo>
                  <a:lnTo>
                    <a:pt x="214" y="379"/>
                  </a:lnTo>
                  <a:lnTo>
                    <a:pt x="174" y="350"/>
                  </a:lnTo>
                  <a:lnTo>
                    <a:pt x="118" y="310"/>
                  </a:lnTo>
                  <a:lnTo>
                    <a:pt x="60" y="289"/>
                  </a:lnTo>
                  <a:lnTo>
                    <a:pt x="28" y="256"/>
                  </a:lnTo>
                  <a:lnTo>
                    <a:pt x="7" y="214"/>
                  </a:lnTo>
                  <a:lnTo>
                    <a:pt x="0" y="164"/>
                  </a:lnTo>
                  <a:lnTo>
                    <a:pt x="4" y="105"/>
                  </a:lnTo>
                  <a:lnTo>
                    <a:pt x="35" y="4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944720" y="4849920"/>
              <a:ext cx="136440" cy="725400"/>
            </a:xfrm>
            <a:custGeom>
              <a:avLst/>
              <a:gdLst/>
              <a:ahLst/>
              <a:rect l="l" t="t" r="r" b="b"/>
              <a:pathLst>
                <a:path w="174" h="914">
                  <a:moveTo>
                    <a:pt x="46" y="158"/>
                  </a:moveTo>
                  <a:lnTo>
                    <a:pt x="66" y="80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154" y="40"/>
                  </a:lnTo>
                  <a:lnTo>
                    <a:pt x="174" y="123"/>
                  </a:lnTo>
                  <a:lnTo>
                    <a:pt x="160" y="178"/>
                  </a:lnTo>
                  <a:lnTo>
                    <a:pt x="118" y="219"/>
                  </a:lnTo>
                  <a:lnTo>
                    <a:pt x="90" y="299"/>
                  </a:lnTo>
                  <a:lnTo>
                    <a:pt x="66" y="404"/>
                  </a:lnTo>
                  <a:lnTo>
                    <a:pt x="53" y="527"/>
                  </a:lnTo>
                  <a:lnTo>
                    <a:pt x="57" y="676"/>
                  </a:lnTo>
                  <a:lnTo>
                    <a:pt x="67" y="779"/>
                  </a:lnTo>
                  <a:lnTo>
                    <a:pt x="87" y="831"/>
                  </a:lnTo>
                  <a:lnTo>
                    <a:pt x="118" y="859"/>
                  </a:lnTo>
                  <a:lnTo>
                    <a:pt x="123" y="886"/>
                  </a:lnTo>
                  <a:lnTo>
                    <a:pt x="87" y="900"/>
                  </a:lnTo>
                  <a:lnTo>
                    <a:pt x="57" y="873"/>
                  </a:lnTo>
                  <a:lnTo>
                    <a:pt x="0" y="914"/>
                  </a:lnTo>
                  <a:lnTo>
                    <a:pt x="3" y="805"/>
                  </a:lnTo>
                  <a:lnTo>
                    <a:pt x="7" y="665"/>
                  </a:lnTo>
                  <a:lnTo>
                    <a:pt x="7" y="506"/>
                  </a:lnTo>
                  <a:lnTo>
                    <a:pt x="10" y="375"/>
                  </a:lnTo>
                  <a:lnTo>
                    <a:pt x="22" y="274"/>
                  </a:lnTo>
                  <a:lnTo>
                    <a:pt x="36" y="205"/>
                  </a:lnTo>
                  <a:lnTo>
                    <a:pt x="46" y="15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33520" y="5421240"/>
              <a:ext cx="324000" cy="857160"/>
            </a:xfrm>
            <a:custGeom>
              <a:avLst/>
              <a:gdLst/>
              <a:ahLst/>
              <a:rect l="l" t="t" r="r" b="b"/>
              <a:pathLst>
                <a:path w="409" h="1081">
                  <a:moveTo>
                    <a:pt x="64" y="0"/>
                  </a:moveTo>
                  <a:lnTo>
                    <a:pt x="130" y="28"/>
                  </a:lnTo>
                  <a:lnTo>
                    <a:pt x="190" y="146"/>
                  </a:lnTo>
                  <a:lnTo>
                    <a:pt x="269" y="315"/>
                  </a:lnTo>
                  <a:lnTo>
                    <a:pt x="288" y="415"/>
                  </a:lnTo>
                  <a:lnTo>
                    <a:pt x="288" y="493"/>
                  </a:lnTo>
                  <a:lnTo>
                    <a:pt x="274" y="616"/>
                  </a:lnTo>
                  <a:lnTo>
                    <a:pt x="232" y="748"/>
                  </a:lnTo>
                  <a:lnTo>
                    <a:pt x="195" y="871"/>
                  </a:lnTo>
                  <a:lnTo>
                    <a:pt x="186" y="931"/>
                  </a:lnTo>
                  <a:lnTo>
                    <a:pt x="190" y="962"/>
                  </a:lnTo>
                  <a:lnTo>
                    <a:pt x="237" y="980"/>
                  </a:lnTo>
                  <a:lnTo>
                    <a:pt x="316" y="990"/>
                  </a:lnTo>
                  <a:lnTo>
                    <a:pt x="371" y="994"/>
                  </a:lnTo>
                  <a:lnTo>
                    <a:pt x="399" y="1016"/>
                  </a:lnTo>
                  <a:lnTo>
                    <a:pt x="409" y="1058"/>
                  </a:lnTo>
                  <a:lnTo>
                    <a:pt x="395" y="1081"/>
                  </a:lnTo>
                  <a:lnTo>
                    <a:pt x="353" y="1081"/>
                  </a:lnTo>
                  <a:lnTo>
                    <a:pt x="283" y="1053"/>
                  </a:lnTo>
                  <a:lnTo>
                    <a:pt x="209" y="1040"/>
                  </a:lnTo>
                  <a:lnTo>
                    <a:pt x="140" y="1026"/>
                  </a:lnTo>
                  <a:lnTo>
                    <a:pt x="106" y="1004"/>
                  </a:lnTo>
                  <a:lnTo>
                    <a:pt x="92" y="949"/>
                  </a:lnTo>
                  <a:lnTo>
                    <a:pt x="116" y="911"/>
                  </a:lnTo>
                  <a:lnTo>
                    <a:pt x="148" y="848"/>
                  </a:lnTo>
                  <a:lnTo>
                    <a:pt x="186" y="752"/>
                  </a:lnTo>
                  <a:lnTo>
                    <a:pt x="209" y="630"/>
                  </a:lnTo>
                  <a:lnTo>
                    <a:pt x="218" y="543"/>
                  </a:lnTo>
                  <a:lnTo>
                    <a:pt x="218" y="457"/>
                  </a:lnTo>
                  <a:lnTo>
                    <a:pt x="204" y="370"/>
                  </a:lnTo>
                  <a:lnTo>
                    <a:pt x="154" y="287"/>
                  </a:lnTo>
                  <a:lnTo>
                    <a:pt x="84" y="192"/>
                  </a:lnTo>
                  <a:lnTo>
                    <a:pt x="28" y="128"/>
                  </a:lnTo>
                  <a:lnTo>
                    <a:pt x="0" y="73"/>
                  </a:lnTo>
                  <a:lnTo>
                    <a:pt x="4" y="2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71880" y="5442120"/>
              <a:ext cx="187200" cy="922320"/>
            </a:xfrm>
            <a:custGeom>
              <a:avLst/>
              <a:gdLst/>
              <a:ahLst/>
              <a:rect l="l" t="t" r="r" b="b"/>
              <a:pathLst>
                <a:path w="237" h="1162">
                  <a:moveTo>
                    <a:pt x="80" y="168"/>
                  </a:moveTo>
                  <a:lnTo>
                    <a:pt x="109" y="40"/>
                  </a:lnTo>
                  <a:lnTo>
                    <a:pt x="179" y="0"/>
                  </a:lnTo>
                  <a:lnTo>
                    <a:pt x="237" y="14"/>
                  </a:lnTo>
                  <a:lnTo>
                    <a:pt x="232" y="68"/>
                  </a:lnTo>
                  <a:lnTo>
                    <a:pt x="185" y="196"/>
                  </a:lnTo>
                  <a:lnTo>
                    <a:pt x="137" y="323"/>
                  </a:lnTo>
                  <a:lnTo>
                    <a:pt x="113" y="469"/>
                  </a:lnTo>
                  <a:lnTo>
                    <a:pt x="99" y="596"/>
                  </a:lnTo>
                  <a:lnTo>
                    <a:pt x="113" y="725"/>
                  </a:lnTo>
                  <a:lnTo>
                    <a:pt x="137" y="828"/>
                  </a:lnTo>
                  <a:lnTo>
                    <a:pt x="171" y="911"/>
                  </a:lnTo>
                  <a:lnTo>
                    <a:pt x="195" y="947"/>
                  </a:lnTo>
                  <a:lnTo>
                    <a:pt x="223" y="975"/>
                  </a:lnTo>
                  <a:lnTo>
                    <a:pt x="223" y="1016"/>
                  </a:lnTo>
                  <a:lnTo>
                    <a:pt x="179" y="1057"/>
                  </a:lnTo>
                  <a:lnTo>
                    <a:pt x="119" y="1107"/>
                  </a:lnTo>
                  <a:lnTo>
                    <a:pt x="66" y="1162"/>
                  </a:lnTo>
                  <a:lnTo>
                    <a:pt x="24" y="1162"/>
                  </a:lnTo>
                  <a:lnTo>
                    <a:pt x="0" y="1075"/>
                  </a:lnTo>
                  <a:lnTo>
                    <a:pt x="4" y="1043"/>
                  </a:lnTo>
                  <a:lnTo>
                    <a:pt x="42" y="1024"/>
                  </a:lnTo>
                  <a:lnTo>
                    <a:pt x="123" y="988"/>
                  </a:lnTo>
                  <a:lnTo>
                    <a:pt x="127" y="961"/>
                  </a:lnTo>
                  <a:lnTo>
                    <a:pt x="113" y="897"/>
                  </a:lnTo>
                  <a:lnTo>
                    <a:pt x="80" y="788"/>
                  </a:lnTo>
                  <a:lnTo>
                    <a:pt x="48" y="675"/>
                  </a:lnTo>
                  <a:lnTo>
                    <a:pt x="38" y="592"/>
                  </a:lnTo>
                  <a:lnTo>
                    <a:pt x="38" y="493"/>
                  </a:lnTo>
                  <a:lnTo>
                    <a:pt x="42" y="400"/>
                  </a:lnTo>
                  <a:lnTo>
                    <a:pt x="62" y="305"/>
                  </a:lnTo>
                  <a:lnTo>
                    <a:pt x="71" y="218"/>
                  </a:lnTo>
                  <a:lnTo>
                    <a:pt x="80" y="16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28680" y="4807080"/>
              <a:ext cx="514440" cy="471240"/>
            </a:xfrm>
            <a:custGeom>
              <a:avLst/>
              <a:gdLst/>
              <a:ahLst/>
              <a:rect l="l" t="t" r="r" b="b"/>
              <a:pathLst>
                <a:path w="649" h="594">
                  <a:moveTo>
                    <a:pt x="40" y="0"/>
                  </a:moveTo>
                  <a:lnTo>
                    <a:pt x="136" y="7"/>
                  </a:lnTo>
                  <a:lnTo>
                    <a:pt x="241" y="25"/>
                  </a:lnTo>
                  <a:lnTo>
                    <a:pt x="377" y="81"/>
                  </a:lnTo>
                  <a:lnTo>
                    <a:pt x="474" y="143"/>
                  </a:lnTo>
                  <a:lnTo>
                    <a:pt x="542" y="191"/>
                  </a:lnTo>
                  <a:lnTo>
                    <a:pt x="591" y="253"/>
                  </a:lnTo>
                  <a:lnTo>
                    <a:pt x="628" y="311"/>
                  </a:lnTo>
                  <a:lnTo>
                    <a:pt x="649" y="378"/>
                  </a:lnTo>
                  <a:lnTo>
                    <a:pt x="649" y="442"/>
                  </a:lnTo>
                  <a:lnTo>
                    <a:pt x="639" y="490"/>
                  </a:lnTo>
                  <a:lnTo>
                    <a:pt x="607" y="525"/>
                  </a:lnTo>
                  <a:lnTo>
                    <a:pt x="537" y="545"/>
                  </a:lnTo>
                  <a:lnTo>
                    <a:pt x="460" y="552"/>
                  </a:lnTo>
                  <a:lnTo>
                    <a:pt x="426" y="577"/>
                  </a:lnTo>
                  <a:lnTo>
                    <a:pt x="387" y="594"/>
                  </a:lnTo>
                  <a:lnTo>
                    <a:pt x="359" y="594"/>
                  </a:lnTo>
                  <a:lnTo>
                    <a:pt x="338" y="577"/>
                  </a:lnTo>
                  <a:lnTo>
                    <a:pt x="336" y="525"/>
                  </a:lnTo>
                  <a:lnTo>
                    <a:pt x="352" y="461"/>
                  </a:lnTo>
                  <a:lnTo>
                    <a:pt x="384" y="428"/>
                  </a:lnTo>
                  <a:lnTo>
                    <a:pt x="427" y="435"/>
                  </a:lnTo>
                  <a:lnTo>
                    <a:pt x="455" y="468"/>
                  </a:lnTo>
                  <a:lnTo>
                    <a:pt x="502" y="475"/>
                  </a:lnTo>
                  <a:lnTo>
                    <a:pt x="552" y="475"/>
                  </a:lnTo>
                  <a:lnTo>
                    <a:pt x="573" y="462"/>
                  </a:lnTo>
                  <a:lnTo>
                    <a:pt x="594" y="442"/>
                  </a:lnTo>
                  <a:lnTo>
                    <a:pt x="598" y="400"/>
                  </a:lnTo>
                  <a:lnTo>
                    <a:pt x="584" y="364"/>
                  </a:lnTo>
                  <a:lnTo>
                    <a:pt x="563" y="318"/>
                  </a:lnTo>
                  <a:lnTo>
                    <a:pt x="537" y="274"/>
                  </a:lnTo>
                  <a:lnTo>
                    <a:pt x="502" y="247"/>
                  </a:lnTo>
                  <a:lnTo>
                    <a:pt x="453" y="212"/>
                  </a:lnTo>
                  <a:lnTo>
                    <a:pt x="387" y="179"/>
                  </a:lnTo>
                  <a:lnTo>
                    <a:pt x="331" y="157"/>
                  </a:lnTo>
                  <a:lnTo>
                    <a:pt x="248" y="136"/>
                  </a:lnTo>
                  <a:lnTo>
                    <a:pt x="191" y="122"/>
                  </a:lnTo>
                  <a:lnTo>
                    <a:pt x="101" y="122"/>
                  </a:lnTo>
                  <a:lnTo>
                    <a:pt x="61" y="118"/>
                  </a:lnTo>
                  <a:lnTo>
                    <a:pt x="21" y="87"/>
                  </a:lnTo>
                  <a:lnTo>
                    <a:pt x="0" y="46"/>
                  </a:lnTo>
                  <a:lnTo>
                    <a:pt x="12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94040" y="5549760"/>
              <a:ext cx="106200" cy="139680"/>
            </a:xfrm>
            <a:custGeom>
              <a:avLst/>
              <a:gdLst/>
              <a:ahLst/>
              <a:rect l="l" t="t" r="r" b="b"/>
              <a:pathLst>
                <a:path w="133" h="176">
                  <a:moveTo>
                    <a:pt x="0" y="154"/>
                  </a:moveTo>
                  <a:lnTo>
                    <a:pt x="15" y="103"/>
                  </a:lnTo>
                  <a:lnTo>
                    <a:pt x="15" y="57"/>
                  </a:lnTo>
                  <a:lnTo>
                    <a:pt x="52" y="30"/>
                  </a:lnTo>
                  <a:lnTo>
                    <a:pt x="116" y="0"/>
                  </a:lnTo>
                  <a:lnTo>
                    <a:pt x="133" y="39"/>
                  </a:lnTo>
                  <a:lnTo>
                    <a:pt x="130" y="100"/>
                  </a:lnTo>
                  <a:lnTo>
                    <a:pt x="81" y="154"/>
                  </a:lnTo>
                  <a:lnTo>
                    <a:pt x="6" y="17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-24120" y="5002200"/>
            <a:ext cx="1974240" cy="1703160"/>
            <a:chOff x="-24120" y="5002200"/>
            <a:chExt cx="1974240" cy="1703160"/>
          </a:xfrm>
        </p:grpSpPr>
        <p:sp>
          <p:nvSpPr>
            <p:cNvPr id="803" name=""/>
            <p:cNvSpPr/>
            <p:nvPr/>
          </p:nvSpPr>
          <p:spPr>
            <a:xfrm>
              <a:off x="157320" y="5335560"/>
              <a:ext cx="468000" cy="1369800"/>
            </a:xfrm>
            <a:custGeom>
              <a:avLst/>
              <a:gdLst/>
              <a:ahLst/>
              <a:rect l="l" t="t" r="r" b="b"/>
              <a:pathLst>
                <a:path w="591" h="1726">
                  <a:moveTo>
                    <a:pt x="0" y="41"/>
                  </a:moveTo>
                  <a:lnTo>
                    <a:pt x="4" y="5"/>
                  </a:lnTo>
                  <a:lnTo>
                    <a:pt x="22" y="0"/>
                  </a:lnTo>
                  <a:lnTo>
                    <a:pt x="42" y="9"/>
                  </a:lnTo>
                  <a:lnTo>
                    <a:pt x="64" y="63"/>
                  </a:lnTo>
                  <a:lnTo>
                    <a:pt x="96" y="178"/>
                  </a:lnTo>
                  <a:lnTo>
                    <a:pt x="134" y="322"/>
                  </a:lnTo>
                  <a:lnTo>
                    <a:pt x="166" y="496"/>
                  </a:lnTo>
                  <a:lnTo>
                    <a:pt x="207" y="695"/>
                  </a:lnTo>
                  <a:lnTo>
                    <a:pt x="227" y="828"/>
                  </a:lnTo>
                  <a:lnTo>
                    <a:pt x="249" y="972"/>
                  </a:lnTo>
                  <a:lnTo>
                    <a:pt x="273" y="1085"/>
                  </a:lnTo>
                  <a:lnTo>
                    <a:pt x="309" y="1227"/>
                  </a:lnTo>
                  <a:lnTo>
                    <a:pt x="337" y="1313"/>
                  </a:lnTo>
                  <a:lnTo>
                    <a:pt x="374" y="1427"/>
                  </a:lnTo>
                  <a:lnTo>
                    <a:pt x="402" y="1563"/>
                  </a:lnTo>
                  <a:lnTo>
                    <a:pt x="420" y="1663"/>
                  </a:lnTo>
                  <a:lnTo>
                    <a:pt x="462" y="1676"/>
                  </a:lnTo>
                  <a:lnTo>
                    <a:pt x="591" y="1645"/>
                  </a:lnTo>
                  <a:lnTo>
                    <a:pt x="549" y="1676"/>
                  </a:lnTo>
                  <a:lnTo>
                    <a:pt x="470" y="1700"/>
                  </a:lnTo>
                  <a:lnTo>
                    <a:pt x="388" y="1726"/>
                  </a:lnTo>
                  <a:lnTo>
                    <a:pt x="374" y="1694"/>
                  </a:lnTo>
                  <a:lnTo>
                    <a:pt x="355" y="1609"/>
                  </a:lnTo>
                  <a:lnTo>
                    <a:pt x="341" y="1490"/>
                  </a:lnTo>
                  <a:lnTo>
                    <a:pt x="318" y="1376"/>
                  </a:lnTo>
                  <a:lnTo>
                    <a:pt x="285" y="1263"/>
                  </a:lnTo>
                  <a:lnTo>
                    <a:pt x="253" y="1150"/>
                  </a:lnTo>
                  <a:lnTo>
                    <a:pt x="227" y="1041"/>
                  </a:lnTo>
                  <a:lnTo>
                    <a:pt x="199" y="909"/>
                  </a:lnTo>
                  <a:lnTo>
                    <a:pt x="189" y="832"/>
                  </a:lnTo>
                  <a:lnTo>
                    <a:pt x="175" y="713"/>
                  </a:lnTo>
                  <a:lnTo>
                    <a:pt x="148" y="587"/>
                  </a:lnTo>
                  <a:lnTo>
                    <a:pt x="124" y="472"/>
                  </a:lnTo>
                  <a:lnTo>
                    <a:pt x="102" y="336"/>
                  </a:lnTo>
                  <a:lnTo>
                    <a:pt x="64" y="196"/>
                  </a:lnTo>
                  <a:lnTo>
                    <a:pt x="32" y="8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8280" y="5068800"/>
              <a:ext cx="1106280" cy="1557360"/>
            </a:xfrm>
            <a:custGeom>
              <a:avLst/>
              <a:gdLst/>
              <a:ahLst/>
              <a:rect l="l" t="t" r="r" b="b"/>
              <a:pathLst>
                <a:path w="1394" h="1961">
                  <a:moveTo>
                    <a:pt x="0" y="1961"/>
                  </a:moveTo>
                  <a:lnTo>
                    <a:pt x="168" y="1888"/>
                  </a:lnTo>
                  <a:lnTo>
                    <a:pt x="333" y="1829"/>
                  </a:lnTo>
                  <a:lnTo>
                    <a:pt x="511" y="1771"/>
                  </a:lnTo>
                  <a:lnTo>
                    <a:pt x="657" y="1738"/>
                  </a:lnTo>
                  <a:lnTo>
                    <a:pt x="811" y="1724"/>
                  </a:lnTo>
                  <a:lnTo>
                    <a:pt x="930" y="1698"/>
                  </a:lnTo>
                  <a:lnTo>
                    <a:pt x="1079" y="1666"/>
                  </a:lnTo>
                  <a:lnTo>
                    <a:pt x="1176" y="1635"/>
                  </a:lnTo>
                  <a:lnTo>
                    <a:pt x="1299" y="1603"/>
                  </a:lnTo>
                  <a:lnTo>
                    <a:pt x="1344" y="1580"/>
                  </a:lnTo>
                  <a:lnTo>
                    <a:pt x="1354" y="1562"/>
                  </a:lnTo>
                  <a:lnTo>
                    <a:pt x="1344" y="1526"/>
                  </a:lnTo>
                  <a:lnTo>
                    <a:pt x="1308" y="1449"/>
                  </a:lnTo>
                  <a:lnTo>
                    <a:pt x="1253" y="1307"/>
                  </a:lnTo>
                  <a:lnTo>
                    <a:pt x="1190" y="1125"/>
                  </a:lnTo>
                  <a:lnTo>
                    <a:pt x="1134" y="1004"/>
                  </a:lnTo>
                  <a:lnTo>
                    <a:pt x="1075" y="848"/>
                  </a:lnTo>
                  <a:lnTo>
                    <a:pt x="1016" y="676"/>
                  </a:lnTo>
                  <a:lnTo>
                    <a:pt x="966" y="500"/>
                  </a:lnTo>
                  <a:lnTo>
                    <a:pt x="893" y="344"/>
                  </a:lnTo>
                  <a:lnTo>
                    <a:pt x="839" y="145"/>
                  </a:lnTo>
                  <a:lnTo>
                    <a:pt x="770" y="0"/>
                  </a:lnTo>
                  <a:lnTo>
                    <a:pt x="816" y="32"/>
                  </a:lnTo>
                  <a:lnTo>
                    <a:pt x="865" y="154"/>
                  </a:lnTo>
                  <a:lnTo>
                    <a:pt x="907" y="291"/>
                  </a:lnTo>
                  <a:lnTo>
                    <a:pt x="948" y="386"/>
                  </a:lnTo>
                  <a:lnTo>
                    <a:pt x="980" y="481"/>
                  </a:lnTo>
                  <a:lnTo>
                    <a:pt x="1016" y="558"/>
                  </a:lnTo>
                  <a:lnTo>
                    <a:pt x="1039" y="658"/>
                  </a:lnTo>
                  <a:lnTo>
                    <a:pt x="1089" y="795"/>
                  </a:lnTo>
                  <a:lnTo>
                    <a:pt x="1140" y="917"/>
                  </a:lnTo>
                  <a:lnTo>
                    <a:pt x="1194" y="1058"/>
                  </a:lnTo>
                  <a:lnTo>
                    <a:pt x="1245" y="1190"/>
                  </a:lnTo>
                  <a:lnTo>
                    <a:pt x="1289" y="1303"/>
                  </a:lnTo>
                  <a:lnTo>
                    <a:pt x="1336" y="1417"/>
                  </a:lnTo>
                  <a:lnTo>
                    <a:pt x="1380" y="1512"/>
                  </a:lnTo>
                  <a:lnTo>
                    <a:pt x="1394" y="1570"/>
                  </a:lnTo>
                  <a:lnTo>
                    <a:pt x="1380" y="1607"/>
                  </a:lnTo>
                  <a:lnTo>
                    <a:pt x="1354" y="1621"/>
                  </a:lnTo>
                  <a:lnTo>
                    <a:pt x="1249" y="1647"/>
                  </a:lnTo>
                  <a:lnTo>
                    <a:pt x="1166" y="1680"/>
                  </a:lnTo>
                  <a:lnTo>
                    <a:pt x="1079" y="1698"/>
                  </a:lnTo>
                  <a:lnTo>
                    <a:pt x="984" y="1716"/>
                  </a:lnTo>
                  <a:lnTo>
                    <a:pt x="879" y="1738"/>
                  </a:lnTo>
                  <a:lnTo>
                    <a:pt x="798" y="1757"/>
                  </a:lnTo>
                  <a:lnTo>
                    <a:pt x="661" y="1757"/>
                  </a:lnTo>
                  <a:lnTo>
                    <a:pt x="566" y="1785"/>
                  </a:lnTo>
                  <a:lnTo>
                    <a:pt x="442" y="1825"/>
                  </a:lnTo>
                  <a:lnTo>
                    <a:pt x="333" y="1862"/>
                  </a:lnTo>
                  <a:lnTo>
                    <a:pt x="196" y="1906"/>
                  </a:lnTo>
                  <a:lnTo>
                    <a:pt x="73" y="1953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8120" y="5002200"/>
              <a:ext cx="1135080" cy="371520"/>
            </a:xfrm>
            <a:custGeom>
              <a:avLst/>
              <a:gdLst/>
              <a:ahLst/>
              <a:rect l="l" t="t" r="r" b="b"/>
              <a:pathLst>
                <a:path w="1431" h="467">
                  <a:moveTo>
                    <a:pt x="0" y="435"/>
                  </a:moveTo>
                  <a:lnTo>
                    <a:pt x="137" y="403"/>
                  </a:lnTo>
                  <a:lnTo>
                    <a:pt x="260" y="375"/>
                  </a:lnTo>
                  <a:lnTo>
                    <a:pt x="432" y="319"/>
                  </a:lnTo>
                  <a:lnTo>
                    <a:pt x="642" y="254"/>
                  </a:lnTo>
                  <a:lnTo>
                    <a:pt x="816" y="198"/>
                  </a:lnTo>
                  <a:lnTo>
                    <a:pt x="966" y="152"/>
                  </a:lnTo>
                  <a:lnTo>
                    <a:pt x="1089" y="102"/>
                  </a:lnTo>
                  <a:lnTo>
                    <a:pt x="1216" y="46"/>
                  </a:lnTo>
                  <a:lnTo>
                    <a:pt x="1317" y="14"/>
                  </a:lnTo>
                  <a:lnTo>
                    <a:pt x="1372" y="0"/>
                  </a:lnTo>
                  <a:lnTo>
                    <a:pt x="1394" y="28"/>
                  </a:lnTo>
                  <a:lnTo>
                    <a:pt x="1412" y="84"/>
                  </a:lnTo>
                  <a:lnTo>
                    <a:pt x="1431" y="184"/>
                  </a:lnTo>
                  <a:lnTo>
                    <a:pt x="1376" y="106"/>
                  </a:lnTo>
                  <a:lnTo>
                    <a:pt x="1348" y="50"/>
                  </a:lnTo>
                  <a:lnTo>
                    <a:pt x="1317" y="42"/>
                  </a:lnTo>
                  <a:lnTo>
                    <a:pt x="1271" y="64"/>
                  </a:lnTo>
                  <a:lnTo>
                    <a:pt x="1170" y="96"/>
                  </a:lnTo>
                  <a:lnTo>
                    <a:pt x="1089" y="134"/>
                  </a:lnTo>
                  <a:lnTo>
                    <a:pt x="994" y="170"/>
                  </a:lnTo>
                  <a:lnTo>
                    <a:pt x="893" y="208"/>
                  </a:lnTo>
                  <a:lnTo>
                    <a:pt x="780" y="250"/>
                  </a:lnTo>
                  <a:lnTo>
                    <a:pt x="642" y="291"/>
                  </a:lnTo>
                  <a:lnTo>
                    <a:pt x="515" y="323"/>
                  </a:lnTo>
                  <a:lnTo>
                    <a:pt x="388" y="356"/>
                  </a:lnTo>
                  <a:lnTo>
                    <a:pt x="287" y="393"/>
                  </a:lnTo>
                  <a:lnTo>
                    <a:pt x="178" y="425"/>
                  </a:lnTo>
                  <a:lnTo>
                    <a:pt x="77" y="453"/>
                  </a:lnTo>
                  <a:lnTo>
                    <a:pt x="10" y="46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3320" y="5629320"/>
              <a:ext cx="210960" cy="720720"/>
            </a:xfrm>
            <a:custGeom>
              <a:avLst/>
              <a:gdLst/>
              <a:ahLst/>
              <a:rect l="l" t="t" r="r" b="b"/>
              <a:pathLst>
                <a:path w="264" h="910">
                  <a:moveTo>
                    <a:pt x="184" y="0"/>
                  </a:moveTo>
                  <a:lnTo>
                    <a:pt x="141" y="252"/>
                  </a:lnTo>
                  <a:lnTo>
                    <a:pt x="103" y="458"/>
                  </a:lnTo>
                  <a:lnTo>
                    <a:pt x="71" y="603"/>
                  </a:lnTo>
                  <a:lnTo>
                    <a:pt x="33" y="736"/>
                  </a:lnTo>
                  <a:lnTo>
                    <a:pt x="0" y="837"/>
                  </a:lnTo>
                  <a:lnTo>
                    <a:pt x="19" y="882"/>
                  </a:lnTo>
                  <a:lnTo>
                    <a:pt x="47" y="906"/>
                  </a:lnTo>
                  <a:lnTo>
                    <a:pt x="79" y="910"/>
                  </a:lnTo>
                  <a:lnTo>
                    <a:pt x="113" y="900"/>
                  </a:lnTo>
                  <a:lnTo>
                    <a:pt x="137" y="754"/>
                  </a:lnTo>
                  <a:lnTo>
                    <a:pt x="179" y="589"/>
                  </a:lnTo>
                  <a:lnTo>
                    <a:pt x="222" y="440"/>
                  </a:lnTo>
                  <a:lnTo>
                    <a:pt x="264" y="339"/>
                  </a:lnTo>
                  <a:lnTo>
                    <a:pt x="246" y="270"/>
                  </a:lnTo>
                  <a:lnTo>
                    <a:pt x="203" y="407"/>
                  </a:lnTo>
                  <a:lnTo>
                    <a:pt x="155" y="571"/>
                  </a:lnTo>
                  <a:lnTo>
                    <a:pt x="123" y="704"/>
                  </a:lnTo>
                  <a:lnTo>
                    <a:pt x="95" y="819"/>
                  </a:lnTo>
                  <a:lnTo>
                    <a:pt x="75" y="859"/>
                  </a:lnTo>
                  <a:lnTo>
                    <a:pt x="47" y="864"/>
                  </a:lnTo>
                  <a:lnTo>
                    <a:pt x="28" y="837"/>
                  </a:lnTo>
                  <a:lnTo>
                    <a:pt x="51" y="750"/>
                  </a:lnTo>
                  <a:lnTo>
                    <a:pt x="89" y="636"/>
                  </a:lnTo>
                  <a:lnTo>
                    <a:pt x="127" y="494"/>
                  </a:lnTo>
                  <a:lnTo>
                    <a:pt x="155" y="343"/>
                  </a:lnTo>
                  <a:lnTo>
                    <a:pt x="189" y="192"/>
                  </a:lnTo>
                  <a:lnTo>
                    <a:pt x="212" y="7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619000">
              <a:off x="86760" y="5255640"/>
              <a:ext cx="17524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It w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not 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57200" y="2286000"/>
            <a:ext cx="3581280" cy="1523880"/>
          </a:xfrm>
          <a:prstGeom prst="cloudCallout">
            <a:avLst>
              <a:gd name="adj1" fmla="val -9087"/>
              <a:gd name="adj2" fmla="val 88023"/>
            </a:avLst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Muszę napisa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opowie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0" y="273996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Opowieść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Jest wstępem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ozmow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Jest kró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Opisuje funkcję/cech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ystem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Ma wartość dla kli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Musi być testowal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rmodynamiczny model projekt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4952880"/>
            <a:ext cx="6629400" cy="68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810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773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625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8672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3480" y="1538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live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0532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42320" y="153828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5308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625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0773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rmodynamiczny model projekt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81080" y="4952880"/>
            <a:ext cx="6629400" cy="68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0773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625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672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63480" y="1538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live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0532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2320" y="153828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5308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9810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9625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8672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0773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81080" y="3225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322596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67280" y="3225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077320" y="322596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rmodynamiczny model projekt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981080" y="4952880"/>
            <a:ext cx="6629400" cy="68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10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0773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625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672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3480" y="1538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live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0532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42320" y="153828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5308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81080" y="2057400"/>
            <a:ext cx="5335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2057400"/>
            <a:ext cx="53316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7280" y="2057400"/>
            <a:ext cx="5335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2057400"/>
            <a:ext cx="53316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62520" y="4343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867280" y="43434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77320" y="4343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133720" y="3657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3657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19920" y="3657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229600" y="3657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57200" y="1600200"/>
            <a:ext cx="8534520" cy="403848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276800" y="2286000"/>
            <a:ext cx="212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mpossible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rmodynamiczny model projekt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81080" y="4952880"/>
            <a:ext cx="6629400" cy="68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773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672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63480" y="1538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live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532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42320" y="153828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810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077320" y="2057400"/>
            <a:ext cx="5331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981080" y="3225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62520" y="322596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867280" y="3225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077320" y="322596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rmodynamiczny model projekt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981080" y="4952880"/>
            <a:ext cx="6629400" cy="68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10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0773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2057400"/>
            <a:ext cx="53316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67280" y="2057400"/>
            <a:ext cx="53352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3480" y="1538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live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42320" y="153828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55308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2057400"/>
            <a:ext cx="53352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962520" y="2057400"/>
            <a:ext cx="53316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67280" y="2057400"/>
            <a:ext cx="533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077320" y="2057400"/>
            <a:ext cx="5331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81080" y="3809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38098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3225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77320" y="23623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133720" y="3124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3124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229600" y="24382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43480" y="6094440"/>
            <a:ext cx="2057400" cy="458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Au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4720" y="3962520"/>
            <a:ext cx="2367000" cy="45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Good gu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40" y="1295280"/>
            <a:ext cx="9140760" cy="914400"/>
            <a:chOff x="3240" y="1295280"/>
            <a:chExt cx="9140760" cy="914400"/>
          </a:xfrm>
        </p:grpSpPr>
        <p:sp>
          <p:nvSpPr>
            <p:cNvPr id="141" name=""/>
            <p:cNvSpPr/>
            <p:nvPr/>
          </p:nvSpPr>
          <p:spPr>
            <a:xfrm>
              <a:off x="3240" y="1295280"/>
              <a:ext cx="9140760" cy="914400"/>
            </a:xfrm>
            <a:custGeom>
              <a:avLst/>
              <a:gdLst>
                <a:gd name="textAreaLeft" fmla="*/ 1218600 w 9140760"/>
                <a:gd name="textAreaRight" fmla="*/ 7922160 w 914076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1415160"/>
              <a:ext cx="67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0099"/>
                  </a:solidFill>
                  <a:latin typeface="Arial"/>
                </a:rPr>
                <a:t>ISO 9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822920" y="3049560"/>
            <a:ext cx="1158840" cy="1528920"/>
          </a:xfrm>
          <a:custGeom>
            <a:avLst/>
            <a:gdLst/>
            <a:ahLst/>
            <a:rect l="l" t="t" r="r" b="b"/>
            <a:pathLst>
              <a:path w="1460" h="1925">
                <a:moveTo>
                  <a:pt x="18" y="404"/>
                </a:moveTo>
                <a:lnTo>
                  <a:pt x="9" y="253"/>
                </a:lnTo>
                <a:lnTo>
                  <a:pt x="82" y="113"/>
                </a:lnTo>
                <a:lnTo>
                  <a:pt x="221" y="0"/>
                </a:lnTo>
                <a:lnTo>
                  <a:pt x="431" y="48"/>
                </a:lnTo>
                <a:lnTo>
                  <a:pt x="615" y="178"/>
                </a:lnTo>
                <a:lnTo>
                  <a:pt x="845" y="282"/>
                </a:lnTo>
                <a:lnTo>
                  <a:pt x="1093" y="385"/>
                </a:lnTo>
                <a:lnTo>
                  <a:pt x="1323" y="527"/>
                </a:lnTo>
                <a:lnTo>
                  <a:pt x="1460" y="657"/>
                </a:lnTo>
                <a:lnTo>
                  <a:pt x="1432" y="695"/>
                </a:lnTo>
                <a:lnTo>
                  <a:pt x="1175" y="939"/>
                </a:lnTo>
                <a:lnTo>
                  <a:pt x="1084" y="1071"/>
                </a:lnTo>
                <a:lnTo>
                  <a:pt x="1065" y="1193"/>
                </a:lnTo>
                <a:lnTo>
                  <a:pt x="1056" y="1352"/>
                </a:lnTo>
                <a:lnTo>
                  <a:pt x="1038" y="1559"/>
                </a:lnTo>
                <a:lnTo>
                  <a:pt x="992" y="1775"/>
                </a:lnTo>
                <a:lnTo>
                  <a:pt x="919" y="1896"/>
                </a:lnTo>
                <a:lnTo>
                  <a:pt x="845" y="1925"/>
                </a:lnTo>
                <a:lnTo>
                  <a:pt x="763" y="1860"/>
                </a:lnTo>
                <a:lnTo>
                  <a:pt x="624" y="1775"/>
                </a:lnTo>
                <a:lnTo>
                  <a:pt x="478" y="1682"/>
                </a:lnTo>
                <a:lnTo>
                  <a:pt x="313" y="1615"/>
                </a:lnTo>
                <a:lnTo>
                  <a:pt x="165" y="1596"/>
                </a:lnTo>
                <a:lnTo>
                  <a:pt x="92" y="1475"/>
                </a:lnTo>
                <a:lnTo>
                  <a:pt x="37" y="1297"/>
                </a:lnTo>
                <a:lnTo>
                  <a:pt x="0" y="1005"/>
                </a:lnTo>
                <a:lnTo>
                  <a:pt x="9" y="751"/>
                </a:lnTo>
                <a:lnTo>
                  <a:pt x="28" y="601"/>
                </a:lnTo>
                <a:lnTo>
                  <a:pt x="92" y="601"/>
                </a:lnTo>
                <a:lnTo>
                  <a:pt x="82" y="854"/>
                </a:lnTo>
                <a:lnTo>
                  <a:pt x="82" y="1126"/>
                </a:lnTo>
                <a:lnTo>
                  <a:pt x="120" y="1287"/>
                </a:lnTo>
                <a:lnTo>
                  <a:pt x="184" y="1475"/>
                </a:lnTo>
                <a:lnTo>
                  <a:pt x="330" y="1550"/>
                </a:lnTo>
                <a:lnTo>
                  <a:pt x="532" y="1605"/>
                </a:lnTo>
                <a:lnTo>
                  <a:pt x="697" y="1699"/>
                </a:lnTo>
                <a:lnTo>
                  <a:pt x="855" y="1812"/>
                </a:lnTo>
                <a:lnTo>
                  <a:pt x="919" y="1737"/>
                </a:lnTo>
                <a:lnTo>
                  <a:pt x="956" y="1578"/>
                </a:lnTo>
                <a:lnTo>
                  <a:pt x="973" y="1371"/>
                </a:lnTo>
                <a:lnTo>
                  <a:pt x="992" y="1155"/>
                </a:lnTo>
                <a:lnTo>
                  <a:pt x="1056" y="967"/>
                </a:lnTo>
                <a:lnTo>
                  <a:pt x="1239" y="770"/>
                </a:lnTo>
                <a:lnTo>
                  <a:pt x="1323" y="667"/>
                </a:lnTo>
                <a:lnTo>
                  <a:pt x="1314" y="628"/>
                </a:lnTo>
                <a:lnTo>
                  <a:pt x="1084" y="469"/>
                </a:lnTo>
                <a:lnTo>
                  <a:pt x="855" y="366"/>
                </a:lnTo>
                <a:lnTo>
                  <a:pt x="662" y="272"/>
                </a:lnTo>
                <a:lnTo>
                  <a:pt x="542" y="216"/>
                </a:lnTo>
                <a:lnTo>
                  <a:pt x="422" y="142"/>
                </a:lnTo>
                <a:lnTo>
                  <a:pt x="349" y="103"/>
                </a:lnTo>
                <a:lnTo>
                  <a:pt x="229" y="94"/>
                </a:lnTo>
                <a:lnTo>
                  <a:pt x="155" y="159"/>
                </a:lnTo>
                <a:lnTo>
                  <a:pt x="101" y="263"/>
                </a:lnTo>
                <a:lnTo>
                  <a:pt x="101" y="356"/>
                </a:lnTo>
                <a:lnTo>
                  <a:pt x="92" y="450"/>
                </a:lnTo>
                <a:lnTo>
                  <a:pt x="18" y="4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44800" y="3220920"/>
            <a:ext cx="1954080" cy="2951280"/>
            <a:chOff x="3844800" y="3220920"/>
            <a:chExt cx="1954080" cy="2951280"/>
          </a:xfrm>
        </p:grpSpPr>
        <p:sp>
          <p:nvSpPr>
            <p:cNvPr id="145" name=""/>
            <p:cNvSpPr/>
            <p:nvPr/>
          </p:nvSpPr>
          <p:spPr>
            <a:xfrm>
              <a:off x="4224240" y="3727440"/>
              <a:ext cx="1574640" cy="544320"/>
            </a:xfrm>
            <a:custGeom>
              <a:avLst/>
              <a:gdLst/>
              <a:ahLst/>
              <a:rect l="l" t="t" r="r" b="b"/>
              <a:pathLst>
                <a:path w="1984" h="686">
                  <a:moveTo>
                    <a:pt x="0" y="535"/>
                  </a:moveTo>
                  <a:lnTo>
                    <a:pt x="45" y="479"/>
                  </a:lnTo>
                  <a:lnTo>
                    <a:pt x="146" y="460"/>
                  </a:lnTo>
                  <a:lnTo>
                    <a:pt x="469" y="525"/>
                  </a:lnTo>
                  <a:lnTo>
                    <a:pt x="780" y="583"/>
                  </a:lnTo>
                  <a:lnTo>
                    <a:pt x="1166" y="573"/>
                  </a:lnTo>
                  <a:lnTo>
                    <a:pt x="1525" y="497"/>
                  </a:lnTo>
                  <a:lnTo>
                    <a:pt x="1746" y="366"/>
                  </a:lnTo>
                  <a:lnTo>
                    <a:pt x="1718" y="263"/>
                  </a:lnTo>
                  <a:lnTo>
                    <a:pt x="1755" y="121"/>
                  </a:lnTo>
                  <a:lnTo>
                    <a:pt x="1838" y="46"/>
                  </a:lnTo>
                  <a:lnTo>
                    <a:pt x="1929" y="0"/>
                  </a:lnTo>
                  <a:lnTo>
                    <a:pt x="1965" y="102"/>
                  </a:lnTo>
                  <a:lnTo>
                    <a:pt x="1984" y="206"/>
                  </a:lnTo>
                  <a:lnTo>
                    <a:pt x="1947" y="403"/>
                  </a:lnTo>
                  <a:lnTo>
                    <a:pt x="1855" y="460"/>
                  </a:lnTo>
                  <a:lnTo>
                    <a:pt x="1635" y="535"/>
                  </a:lnTo>
                  <a:lnTo>
                    <a:pt x="1397" y="600"/>
                  </a:lnTo>
                  <a:lnTo>
                    <a:pt x="1001" y="676"/>
                  </a:lnTo>
                  <a:lnTo>
                    <a:pt x="634" y="686"/>
                  </a:lnTo>
                  <a:lnTo>
                    <a:pt x="137" y="638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0400" y="3340080"/>
              <a:ext cx="852480" cy="774720"/>
            </a:xfrm>
            <a:custGeom>
              <a:avLst/>
              <a:gdLst/>
              <a:ahLst/>
              <a:rect l="l" t="t" r="r" b="b"/>
              <a:pathLst>
                <a:path w="1075" h="977">
                  <a:moveTo>
                    <a:pt x="28" y="977"/>
                  </a:moveTo>
                  <a:lnTo>
                    <a:pt x="0" y="883"/>
                  </a:lnTo>
                  <a:lnTo>
                    <a:pt x="55" y="799"/>
                  </a:lnTo>
                  <a:lnTo>
                    <a:pt x="239" y="724"/>
                  </a:lnTo>
                  <a:lnTo>
                    <a:pt x="450" y="705"/>
                  </a:lnTo>
                  <a:lnTo>
                    <a:pt x="597" y="657"/>
                  </a:lnTo>
                  <a:lnTo>
                    <a:pt x="689" y="573"/>
                  </a:lnTo>
                  <a:lnTo>
                    <a:pt x="790" y="385"/>
                  </a:lnTo>
                  <a:lnTo>
                    <a:pt x="872" y="178"/>
                  </a:lnTo>
                  <a:lnTo>
                    <a:pt x="872" y="75"/>
                  </a:lnTo>
                  <a:lnTo>
                    <a:pt x="919" y="19"/>
                  </a:lnTo>
                  <a:lnTo>
                    <a:pt x="983" y="0"/>
                  </a:lnTo>
                  <a:lnTo>
                    <a:pt x="1047" y="48"/>
                  </a:lnTo>
                  <a:lnTo>
                    <a:pt x="1075" y="149"/>
                  </a:lnTo>
                  <a:lnTo>
                    <a:pt x="1065" y="282"/>
                  </a:lnTo>
                  <a:lnTo>
                    <a:pt x="1030" y="375"/>
                  </a:lnTo>
                  <a:lnTo>
                    <a:pt x="992" y="375"/>
                  </a:lnTo>
                  <a:lnTo>
                    <a:pt x="974" y="339"/>
                  </a:lnTo>
                  <a:lnTo>
                    <a:pt x="919" y="329"/>
                  </a:lnTo>
                  <a:lnTo>
                    <a:pt x="818" y="469"/>
                  </a:lnTo>
                  <a:lnTo>
                    <a:pt x="698" y="686"/>
                  </a:lnTo>
                  <a:lnTo>
                    <a:pt x="615" y="779"/>
                  </a:lnTo>
                  <a:lnTo>
                    <a:pt x="450" y="835"/>
                  </a:lnTo>
                  <a:lnTo>
                    <a:pt x="257" y="892"/>
                  </a:lnTo>
                  <a:lnTo>
                    <a:pt x="130" y="939"/>
                  </a:lnTo>
                  <a:lnTo>
                    <a:pt x="28" y="97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90600" y="4002120"/>
              <a:ext cx="649440" cy="1147680"/>
            </a:xfrm>
            <a:custGeom>
              <a:avLst/>
              <a:gdLst/>
              <a:ahLst/>
              <a:rect l="l" t="t" r="r" b="b"/>
              <a:pathLst>
                <a:path w="817" h="1446">
                  <a:moveTo>
                    <a:pt x="0" y="189"/>
                  </a:moveTo>
                  <a:lnTo>
                    <a:pt x="45" y="76"/>
                  </a:lnTo>
                  <a:lnTo>
                    <a:pt x="109" y="0"/>
                  </a:lnTo>
                  <a:lnTo>
                    <a:pt x="274" y="0"/>
                  </a:lnTo>
                  <a:lnTo>
                    <a:pt x="440" y="76"/>
                  </a:lnTo>
                  <a:lnTo>
                    <a:pt x="634" y="291"/>
                  </a:lnTo>
                  <a:lnTo>
                    <a:pt x="733" y="461"/>
                  </a:lnTo>
                  <a:lnTo>
                    <a:pt x="799" y="695"/>
                  </a:lnTo>
                  <a:lnTo>
                    <a:pt x="817" y="967"/>
                  </a:lnTo>
                  <a:lnTo>
                    <a:pt x="780" y="1258"/>
                  </a:lnTo>
                  <a:lnTo>
                    <a:pt x="688" y="1400"/>
                  </a:lnTo>
                  <a:lnTo>
                    <a:pt x="523" y="1446"/>
                  </a:lnTo>
                  <a:lnTo>
                    <a:pt x="422" y="1438"/>
                  </a:lnTo>
                  <a:lnTo>
                    <a:pt x="339" y="1390"/>
                  </a:lnTo>
                  <a:lnTo>
                    <a:pt x="266" y="1325"/>
                  </a:lnTo>
                  <a:lnTo>
                    <a:pt x="238" y="1212"/>
                  </a:lnTo>
                  <a:lnTo>
                    <a:pt x="257" y="1099"/>
                  </a:lnTo>
                  <a:lnTo>
                    <a:pt x="321" y="1034"/>
                  </a:lnTo>
                  <a:lnTo>
                    <a:pt x="366" y="959"/>
                  </a:lnTo>
                  <a:lnTo>
                    <a:pt x="384" y="865"/>
                  </a:lnTo>
                  <a:lnTo>
                    <a:pt x="384" y="779"/>
                  </a:lnTo>
                  <a:lnTo>
                    <a:pt x="349" y="704"/>
                  </a:lnTo>
                  <a:lnTo>
                    <a:pt x="219" y="574"/>
                  </a:lnTo>
                  <a:lnTo>
                    <a:pt x="64" y="423"/>
                  </a:lnTo>
                  <a:lnTo>
                    <a:pt x="8" y="3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4800" y="3220920"/>
              <a:ext cx="663480" cy="603360"/>
            </a:xfrm>
            <a:custGeom>
              <a:avLst/>
              <a:gdLst/>
              <a:ahLst/>
              <a:rect l="l" t="t" r="r" b="b"/>
              <a:pathLst>
                <a:path w="836" h="761">
                  <a:moveTo>
                    <a:pt x="615" y="414"/>
                  </a:moveTo>
                  <a:lnTo>
                    <a:pt x="551" y="282"/>
                  </a:lnTo>
                  <a:lnTo>
                    <a:pt x="431" y="123"/>
                  </a:lnTo>
                  <a:lnTo>
                    <a:pt x="321" y="19"/>
                  </a:lnTo>
                  <a:lnTo>
                    <a:pt x="192" y="0"/>
                  </a:lnTo>
                  <a:lnTo>
                    <a:pt x="83" y="39"/>
                  </a:lnTo>
                  <a:lnTo>
                    <a:pt x="8" y="132"/>
                  </a:lnTo>
                  <a:lnTo>
                    <a:pt x="0" y="263"/>
                  </a:lnTo>
                  <a:lnTo>
                    <a:pt x="55" y="451"/>
                  </a:lnTo>
                  <a:lnTo>
                    <a:pt x="192" y="629"/>
                  </a:lnTo>
                  <a:lnTo>
                    <a:pt x="349" y="751"/>
                  </a:lnTo>
                  <a:lnTo>
                    <a:pt x="495" y="761"/>
                  </a:lnTo>
                  <a:lnTo>
                    <a:pt x="587" y="723"/>
                  </a:lnTo>
                  <a:lnTo>
                    <a:pt x="606" y="667"/>
                  </a:lnTo>
                  <a:lnTo>
                    <a:pt x="615" y="583"/>
                  </a:lnTo>
                  <a:lnTo>
                    <a:pt x="726" y="602"/>
                  </a:lnTo>
                  <a:lnTo>
                    <a:pt x="799" y="638"/>
                  </a:lnTo>
                  <a:lnTo>
                    <a:pt x="836" y="583"/>
                  </a:lnTo>
                  <a:lnTo>
                    <a:pt x="799" y="544"/>
                  </a:lnTo>
                  <a:lnTo>
                    <a:pt x="679" y="498"/>
                  </a:lnTo>
                  <a:lnTo>
                    <a:pt x="606" y="470"/>
                  </a:lnTo>
                  <a:lnTo>
                    <a:pt x="615" y="4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3240" y="4956120"/>
              <a:ext cx="407880" cy="1133640"/>
            </a:xfrm>
            <a:custGeom>
              <a:avLst/>
              <a:gdLst/>
              <a:ahLst/>
              <a:rect l="l" t="t" r="r" b="b"/>
              <a:pathLst>
                <a:path w="514" h="1427">
                  <a:moveTo>
                    <a:pt x="128" y="0"/>
                  </a:moveTo>
                  <a:lnTo>
                    <a:pt x="219" y="10"/>
                  </a:lnTo>
                  <a:lnTo>
                    <a:pt x="285" y="132"/>
                  </a:lnTo>
                  <a:lnTo>
                    <a:pt x="266" y="255"/>
                  </a:lnTo>
                  <a:lnTo>
                    <a:pt x="238" y="508"/>
                  </a:lnTo>
                  <a:lnTo>
                    <a:pt x="247" y="667"/>
                  </a:lnTo>
                  <a:lnTo>
                    <a:pt x="238" y="828"/>
                  </a:lnTo>
                  <a:lnTo>
                    <a:pt x="165" y="1155"/>
                  </a:lnTo>
                  <a:lnTo>
                    <a:pt x="146" y="1240"/>
                  </a:lnTo>
                  <a:lnTo>
                    <a:pt x="165" y="1259"/>
                  </a:lnTo>
                  <a:lnTo>
                    <a:pt x="266" y="1203"/>
                  </a:lnTo>
                  <a:lnTo>
                    <a:pt x="431" y="1174"/>
                  </a:lnTo>
                  <a:lnTo>
                    <a:pt x="514" y="1213"/>
                  </a:lnTo>
                  <a:lnTo>
                    <a:pt x="504" y="1278"/>
                  </a:lnTo>
                  <a:lnTo>
                    <a:pt x="394" y="1306"/>
                  </a:lnTo>
                  <a:lnTo>
                    <a:pt x="266" y="1316"/>
                  </a:lnTo>
                  <a:lnTo>
                    <a:pt x="137" y="1372"/>
                  </a:lnTo>
                  <a:lnTo>
                    <a:pt x="37" y="1427"/>
                  </a:lnTo>
                  <a:lnTo>
                    <a:pt x="0" y="1400"/>
                  </a:lnTo>
                  <a:lnTo>
                    <a:pt x="0" y="1306"/>
                  </a:lnTo>
                  <a:lnTo>
                    <a:pt x="73" y="1128"/>
                  </a:lnTo>
                  <a:lnTo>
                    <a:pt x="110" y="921"/>
                  </a:lnTo>
                  <a:lnTo>
                    <a:pt x="128" y="630"/>
                  </a:lnTo>
                  <a:lnTo>
                    <a:pt x="92" y="368"/>
                  </a:lnTo>
                  <a:lnTo>
                    <a:pt x="54" y="161"/>
                  </a:lnTo>
                  <a:lnTo>
                    <a:pt x="92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68600" y="4852800"/>
              <a:ext cx="657360" cy="1319400"/>
            </a:xfrm>
            <a:custGeom>
              <a:avLst/>
              <a:gdLst/>
              <a:ahLst/>
              <a:rect l="l" t="t" r="r" b="b"/>
              <a:pathLst>
                <a:path w="827" h="1662">
                  <a:moveTo>
                    <a:pt x="176" y="17"/>
                  </a:moveTo>
                  <a:lnTo>
                    <a:pt x="47" y="0"/>
                  </a:lnTo>
                  <a:lnTo>
                    <a:pt x="0" y="94"/>
                  </a:lnTo>
                  <a:lnTo>
                    <a:pt x="47" y="205"/>
                  </a:lnTo>
                  <a:lnTo>
                    <a:pt x="176" y="393"/>
                  </a:lnTo>
                  <a:lnTo>
                    <a:pt x="276" y="666"/>
                  </a:lnTo>
                  <a:lnTo>
                    <a:pt x="313" y="891"/>
                  </a:lnTo>
                  <a:lnTo>
                    <a:pt x="295" y="1126"/>
                  </a:lnTo>
                  <a:lnTo>
                    <a:pt x="259" y="1427"/>
                  </a:lnTo>
                  <a:lnTo>
                    <a:pt x="221" y="1596"/>
                  </a:lnTo>
                  <a:lnTo>
                    <a:pt x="240" y="1662"/>
                  </a:lnTo>
                  <a:lnTo>
                    <a:pt x="304" y="1662"/>
                  </a:lnTo>
                  <a:lnTo>
                    <a:pt x="424" y="1605"/>
                  </a:lnTo>
                  <a:lnTo>
                    <a:pt x="608" y="1567"/>
                  </a:lnTo>
                  <a:lnTo>
                    <a:pt x="801" y="1567"/>
                  </a:lnTo>
                  <a:lnTo>
                    <a:pt x="827" y="1511"/>
                  </a:lnTo>
                  <a:lnTo>
                    <a:pt x="718" y="1436"/>
                  </a:lnTo>
                  <a:lnTo>
                    <a:pt x="662" y="1436"/>
                  </a:lnTo>
                  <a:lnTo>
                    <a:pt x="424" y="1511"/>
                  </a:lnTo>
                  <a:lnTo>
                    <a:pt x="351" y="1540"/>
                  </a:lnTo>
                  <a:lnTo>
                    <a:pt x="332" y="1502"/>
                  </a:lnTo>
                  <a:lnTo>
                    <a:pt x="368" y="1258"/>
                  </a:lnTo>
                  <a:lnTo>
                    <a:pt x="414" y="994"/>
                  </a:lnTo>
                  <a:lnTo>
                    <a:pt x="424" y="760"/>
                  </a:lnTo>
                  <a:lnTo>
                    <a:pt x="386" y="525"/>
                  </a:lnTo>
                  <a:lnTo>
                    <a:pt x="323" y="253"/>
                  </a:lnTo>
                  <a:lnTo>
                    <a:pt x="249" y="46"/>
                  </a:lnTo>
                  <a:lnTo>
                    <a:pt x="176" y="1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408200">
            <a:off x="4686840" y="3426840"/>
            <a:ext cx="12135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11120" y="4419720"/>
            <a:ext cx="365400" cy="1371240"/>
            <a:chOff x="1311120" y="4419720"/>
            <a:chExt cx="365400" cy="1371240"/>
          </a:xfrm>
        </p:grpSpPr>
        <p:sp>
          <p:nvSpPr>
            <p:cNvPr id="153" name=""/>
            <p:cNvSpPr/>
            <p:nvPr/>
          </p:nvSpPr>
          <p:spPr>
            <a:xfrm>
              <a:off x="1417680" y="4419720"/>
              <a:ext cx="239760" cy="297000"/>
            </a:xfrm>
            <a:custGeom>
              <a:avLst/>
              <a:gdLst/>
              <a:ahLst/>
              <a:rect l="l" t="t" r="r" b="b"/>
              <a:pathLst>
                <a:path w="302" h="374">
                  <a:moveTo>
                    <a:pt x="0" y="159"/>
                  </a:moveTo>
                  <a:lnTo>
                    <a:pt x="22" y="82"/>
                  </a:lnTo>
                  <a:lnTo>
                    <a:pt x="52" y="42"/>
                  </a:lnTo>
                  <a:lnTo>
                    <a:pt x="87" y="15"/>
                  </a:lnTo>
                  <a:lnTo>
                    <a:pt x="123" y="0"/>
                  </a:lnTo>
                  <a:lnTo>
                    <a:pt x="171" y="6"/>
                  </a:lnTo>
                  <a:lnTo>
                    <a:pt x="202" y="35"/>
                  </a:lnTo>
                  <a:lnTo>
                    <a:pt x="231" y="91"/>
                  </a:lnTo>
                  <a:lnTo>
                    <a:pt x="243" y="165"/>
                  </a:lnTo>
                  <a:lnTo>
                    <a:pt x="243" y="249"/>
                  </a:lnTo>
                  <a:lnTo>
                    <a:pt x="301" y="307"/>
                  </a:lnTo>
                  <a:lnTo>
                    <a:pt x="302" y="332"/>
                  </a:lnTo>
                  <a:lnTo>
                    <a:pt x="293" y="334"/>
                  </a:lnTo>
                  <a:lnTo>
                    <a:pt x="238" y="284"/>
                  </a:lnTo>
                  <a:lnTo>
                    <a:pt x="221" y="321"/>
                  </a:lnTo>
                  <a:lnTo>
                    <a:pt x="188" y="354"/>
                  </a:lnTo>
                  <a:lnTo>
                    <a:pt x="157" y="370"/>
                  </a:lnTo>
                  <a:lnTo>
                    <a:pt x="107" y="374"/>
                  </a:lnTo>
                  <a:lnTo>
                    <a:pt x="41" y="349"/>
                  </a:lnTo>
                  <a:lnTo>
                    <a:pt x="13" y="293"/>
                  </a:lnTo>
                  <a:lnTo>
                    <a:pt x="0" y="23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7160" y="4740840"/>
              <a:ext cx="210960" cy="474840"/>
            </a:xfrm>
            <a:custGeom>
              <a:avLst/>
              <a:gdLst/>
              <a:ahLst/>
              <a:rect l="l" t="t" r="r" b="b"/>
              <a:pathLst>
                <a:path w="265" h="598">
                  <a:moveTo>
                    <a:pt x="38" y="39"/>
                  </a:moveTo>
                  <a:lnTo>
                    <a:pt x="71" y="14"/>
                  </a:lnTo>
                  <a:lnTo>
                    <a:pt x="110" y="5"/>
                  </a:lnTo>
                  <a:lnTo>
                    <a:pt x="144" y="0"/>
                  </a:lnTo>
                  <a:lnTo>
                    <a:pt x="192" y="7"/>
                  </a:lnTo>
                  <a:lnTo>
                    <a:pt x="243" y="39"/>
                  </a:lnTo>
                  <a:lnTo>
                    <a:pt x="265" y="97"/>
                  </a:lnTo>
                  <a:lnTo>
                    <a:pt x="265" y="184"/>
                  </a:lnTo>
                  <a:lnTo>
                    <a:pt x="262" y="266"/>
                  </a:lnTo>
                  <a:lnTo>
                    <a:pt x="237" y="393"/>
                  </a:lnTo>
                  <a:lnTo>
                    <a:pt x="215" y="497"/>
                  </a:lnTo>
                  <a:lnTo>
                    <a:pt x="192" y="564"/>
                  </a:lnTo>
                  <a:lnTo>
                    <a:pt x="142" y="598"/>
                  </a:lnTo>
                  <a:lnTo>
                    <a:pt x="71" y="591"/>
                  </a:lnTo>
                  <a:lnTo>
                    <a:pt x="36" y="538"/>
                  </a:lnTo>
                  <a:lnTo>
                    <a:pt x="15" y="460"/>
                  </a:lnTo>
                  <a:lnTo>
                    <a:pt x="3" y="372"/>
                  </a:lnTo>
                  <a:lnTo>
                    <a:pt x="0" y="241"/>
                  </a:lnTo>
                  <a:lnTo>
                    <a:pt x="9" y="150"/>
                  </a:lnTo>
                  <a:lnTo>
                    <a:pt x="24" y="66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11120" y="4740840"/>
              <a:ext cx="125640" cy="586440"/>
            </a:xfrm>
            <a:custGeom>
              <a:avLst/>
              <a:gdLst/>
              <a:ahLst/>
              <a:rect l="l" t="t" r="r" b="b"/>
              <a:pathLst>
                <a:path w="158" h="738">
                  <a:moveTo>
                    <a:pt x="107" y="6"/>
                  </a:moveTo>
                  <a:lnTo>
                    <a:pt x="145" y="0"/>
                  </a:lnTo>
                  <a:lnTo>
                    <a:pt x="158" y="33"/>
                  </a:lnTo>
                  <a:lnTo>
                    <a:pt x="139" y="75"/>
                  </a:lnTo>
                  <a:lnTo>
                    <a:pt x="109" y="98"/>
                  </a:lnTo>
                  <a:lnTo>
                    <a:pt x="86" y="153"/>
                  </a:lnTo>
                  <a:lnTo>
                    <a:pt x="57" y="227"/>
                  </a:lnTo>
                  <a:lnTo>
                    <a:pt x="45" y="296"/>
                  </a:lnTo>
                  <a:lnTo>
                    <a:pt x="38" y="414"/>
                  </a:lnTo>
                  <a:lnTo>
                    <a:pt x="45" y="524"/>
                  </a:lnTo>
                  <a:lnTo>
                    <a:pt x="59" y="575"/>
                  </a:lnTo>
                  <a:lnTo>
                    <a:pt x="50" y="631"/>
                  </a:lnTo>
                  <a:lnTo>
                    <a:pt x="38" y="672"/>
                  </a:lnTo>
                  <a:lnTo>
                    <a:pt x="43" y="738"/>
                  </a:lnTo>
                  <a:lnTo>
                    <a:pt x="23" y="734"/>
                  </a:lnTo>
                  <a:lnTo>
                    <a:pt x="7" y="678"/>
                  </a:lnTo>
                  <a:lnTo>
                    <a:pt x="0" y="631"/>
                  </a:lnTo>
                  <a:lnTo>
                    <a:pt x="21" y="566"/>
                  </a:lnTo>
                  <a:lnTo>
                    <a:pt x="14" y="506"/>
                  </a:lnTo>
                  <a:lnTo>
                    <a:pt x="7" y="409"/>
                  </a:lnTo>
                  <a:lnTo>
                    <a:pt x="7" y="292"/>
                  </a:lnTo>
                  <a:lnTo>
                    <a:pt x="21" y="167"/>
                  </a:lnTo>
                  <a:lnTo>
                    <a:pt x="45" y="75"/>
                  </a:lnTo>
                  <a:lnTo>
                    <a:pt x="71" y="2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4360" y="4754880"/>
              <a:ext cx="77760" cy="556560"/>
            </a:xfrm>
            <a:custGeom>
              <a:avLst/>
              <a:gdLst/>
              <a:ahLst/>
              <a:rect l="l" t="t" r="r" b="b"/>
              <a:pathLst>
                <a:path w="97" h="698">
                  <a:moveTo>
                    <a:pt x="2" y="2"/>
                  </a:moveTo>
                  <a:lnTo>
                    <a:pt x="42" y="0"/>
                  </a:lnTo>
                  <a:lnTo>
                    <a:pt x="69" y="55"/>
                  </a:lnTo>
                  <a:lnTo>
                    <a:pt x="97" y="207"/>
                  </a:lnTo>
                  <a:lnTo>
                    <a:pt x="97" y="381"/>
                  </a:lnTo>
                  <a:lnTo>
                    <a:pt x="83" y="531"/>
                  </a:lnTo>
                  <a:lnTo>
                    <a:pt x="97" y="581"/>
                  </a:lnTo>
                  <a:lnTo>
                    <a:pt x="97" y="649"/>
                  </a:lnTo>
                  <a:lnTo>
                    <a:pt x="83" y="698"/>
                  </a:lnTo>
                  <a:lnTo>
                    <a:pt x="65" y="654"/>
                  </a:lnTo>
                  <a:lnTo>
                    <a:pt x="55" y="587"/>
                  </a:lnTo>
                  <a:lnTo>
                    <a:pt x="34" y="538"/>
                  </a:lnTo>
                  <a:lnTo>
                    <a:pt x="58" y="491"/>
                  </a:lnTo>
                  <a:lnTo>
                    <a:pt x="72" y="381"/>
                  </a:lnTo>
                  <a:lnTo>
                    <a:pt x="72" y="278"/>
                  </a:lnTo>
                  <a:lnTo>
                    <a:pt x="58" y="174"/>
                  </a:lnTo>
                  <a:lnTo>
                    <a:pt x="31" y="98"/>
                  </a:lnTo>
                  <a:lnTo>
                    <a:pt x="0" y="6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7160" y="5122080"/>
              <a:ext cx="176040" cy="668880"/>
            </a:xfrm>
            <a:custGeom>
              <a:avLst/>
              <a:gdLst/>
              <a:ahLst/>
              <a:rect l="l" t="t" r="r" b="b"/>
              <a:pathLst>
                <a:path w="223" h="841">
                  <a:moveTo>
                    <a:pt x="22" y="0"/>
                  </a:moveTo>
                  <a:lnTo>
                    <a:pt x="48" y="35"/>
                  </a:lnTo>
                  <a:lnTo>
                    <a:pt x="58" y="71"/>
                  </a:lnTo>
                  <a:lnTo>
                    <a:pt x="69" y="192"/>
                  </a:lnTo>
                  <a:lnTo>
                    <a:pt x="74" y="275"/>
                  </a:lnTo>
                  <a:lnTo>
                    <a:pt x="74" y="415"/>
                  </a:lnTo>
                  <a:lnTo>
                    <a:pt x="71" y="547"/>
                  </a:lnTo>
                  <a:lnTo>
                    <a:pt x="61" y="651"/>
                  </a:lnTo>
                  <a:lnTo>
                    <a:pt x="53" y="684"/>
                  </a:lnTo>
                  <a:lnTo>
                    <a:pt x="107" y="701"/>
                  </a:lnTo>
                  <a:lnTo>
                    <a:pt x="153" y="721"/>
                  </a:lnTo>
                  <a:lnTo>
                    <a:pt x="215" y="766"/>
                  </a:lnTo>
                  <a:lnTo>
                    <a:pt x="223" y="783"/>
                  </a:lnTo>
                  <a:lnTo>
                    <a:pt x="217" y="816"/>
                  </a:lnTo>
                  <a:lnTo>
                    <a:pt x="187" y="841"/>
                  </a:lnTo>
                  <a:lnTo>
                    <a:pt x="174" y="827"/>
                  </a:lnTo>
                  <a:lnTo>
                    <a:pt x="164" y="792"/>
                  </a:lnTo>
                  <a:lnTo>
                    <a:pt x="135" y="763"/>
                  </a:lnTo>
                  <a:lnTo>
                    <a:pt x="84" y="730"/>
                  </a:lnTo>
                  <a:lnTo>
                    <a:pt x="51" y="721"/>
                  </a:lnTo>
                  <a:lnTo>
                    <a:pt x="12" y="721"/>
                  </a:lnTo>
                  <a:lnTo>
                    <a:pt x="12" y="696"/>
                  </a:lnTo>
                  <a:lnTo>
                    <a:pt x="30" y="666"/>
                  </a:lnTo>
                  <a:lnTo>
                    <a:pt x="48" y="573"/>
                  </a:lnTo>
                  <a:lnTo>
                    <a:pt x="53" y="474"/>
                  </a:lnTo>
                  <a:lnTo>
                    <a:pt x="51" y="385"/>
                  </a:lnTo>
                  <a:lnTo>
                    <a:pt x="48" y="275"/>
                  </a:lnTo>
                  <a:lnTo>
                    <a:pt x="38" y="178"/>
                  </a:lnTo>
                  <a:lnTo>
                    <a:pt x="15" y="108"/>
                  </a:lnTo>
                  <a:lnTo>
                    <a:pt x="0" y="44"/>
                  </a:lnTo>
                  <a:lnTo>
                    <a:pt x="4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2720" y="5123520"/>
              <a:ext cx="163800" cy="599400"/>
            </a:xfrm>
            <a:custGeom>
              <a:avLst/>
              <a:gdLst/>
              <a:ahLst/>
              <a:rect l="l" t="t" r="r" b="b"/>
              <a:pathLst>
                <a:path w="206" h="755">
                  <a:moveTo>
                    <a:pt x="0" y="59"/>
                  </a:moveTo>
                  <a:lnTo>
                    <a:pt x="0" y="11"/>
                  </a:lnTo>
                  <a:lnTo>
                    <a:pt x="21" y="0"/>
                  </a:lnTo>
                  <a:lnTo>
                    <a:pt x="55" y="0"/>
                  </a:lnTo>
                  <a:lnTo>
                    <a:pt x="78" y="27"/>
                  </a:lnTo>
                  <a:lnTo>
                    <a:pt x="83" y="52"/>
                  </a:lnTo>
                  <a:lnTo>
                    <a:pt x="78" y="107"/>
                  </a:lnTo>
                  <a:lnTo>
                    <a:pt x="63" y="176"/>
                  </a:lnTo>
                  <a:lnTo>
                    <a:pt x="55" y="282"/>
                  </a:lnTo>
                  <a:lnTo>
                    <a:pt x="50" y="351"/>
                  </a:lnTo>
                  <a:lnTo>
                    <a:pt x="50" y="362"/>
                  </a:lnTo>
                  <a:lnTo>
                    <a:pt x="57" y="458"/>
                  </a:lnTo>
                  <a:lnTo>
                    <a:pt x="69" y="514"/>
                  </a:lnTo>
                  <a:lnTo>
                    <a:pt x="78" y="558"/>
                  </a:lnTo>
                  <a:lnTo>
                    <a:pt x="77" y="576"/>
                  </a:lnTo>
                  <a:lnTo>
                    <a:pt x="107" y="626"/>
                  </a:lnTo>
                  <a:lnTo>
                    <a:pt x="141" y="658"/>
                  </a:lnTo>
                  <a:lnTo>
                    <a:pt x="176" y="689"/>
                  </a:lnTo>
                  <a:lnTo>
                    <a:pt x="206" y="702"/>
                  </a:lnTo>
                  <a:lnTo>
                    <a:pt x="206" y="727"/>
                  </a:lnTo>
                  <a:lnTo>
                    <a:pt x="190" y="748"/>
                  </a:lnTo>
                  <a:lnTo>
                    <a:pt x="150" y="755"/>
                  </a:lnTo>
                  <a:lnTo>
                    <a:pt x="122" y="742"/>
                  </a:lnTo>
                  <a:lnTo>
                    <a:pt x="122" y="722"/>
                  </a:lnTo>
                  <a:lnTo>
                    <a:pt x="97" y="658"/>
                  </a:lnTo>
                  <a:lnTo>
                    <a:pt x="57" y="624"/>
                  </a:lnTo>
                  <a:lnTo>
                    <a:pt x="29" y="589"/>
                  </a:lnTo>
                  <a:lnTo>
                    <a:pt x="7" y="571"/>
                  </a:lnTo>
                  <a:lnTo>
                    <a:pt x="15" y="549"/>
                  </a:lnTo>
                  <a:lnTo>
                    <a:pt x="27" y="487"/>
                  </a:lnTo>
                  <a:lnTo>
                    <a:pt x="27" y="369"/>
                  </a:lnTo>
                  <a:lnTo>
                    <a:pt x="21" y="287"/>
                  </a:lnTo>
                  <a:lnTo>
                    <a:pt x="21" y="204"/>
                  </a:lnTo>
                  <a:lnTo>
                    <a:pt x="19" y="11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4760" y="4651200"/>
            <a:ext cx="158760" cy="857160"/>
            <a:chOff x="374760" y="4651200"/>
            <a:chExt cx="158760" cy="857160"/>
          </a:xfrm>
        </p:grpSpPr>
        <p:sp>
          <p:nvSpPr>
            <p:cNvPr id="160" name=""/>
            <p:cNvSpPr/>
            <p:nvPr/>
          </p:nvSpPr>
          <p:spPr>
            <a:xfrm>
              <a:off x="414360" y="4651200"/>
              <a:ext cx="90360" cy="185760"/>
            </a:xfrm>
            <a:custGeom>
              <a:avLst/>
              <a:gdLst/>
              <a:ahLst/>
              <a:rect l="l" t="t" r="r" b="b"/>
              <a:pathLst>
                <a:path w="114" h="234">
                  <a:moveTo>
                    <a:pt x="0" y="99"/>
                  </a:moveTo>
                  <a:lnTo>
                    <a:pt x="8" y="51"/>
                  </a:lnTo>
                  <a:lnTo>
                    <a:pt x="19" y="26"/>
                  </a:lnTo>
                  <a:lnTo>
                    <a:pt x="33" y="9"/>
                  </a:lnTo>
                  <a:lnTo>
                    <a:pt x="47" y="0"/>
                  </a:lnTo>
                  <a:lnTo>
                    <a:pt x="65" y="4"/>
                  </a:lnTo>
                  <a:lnTo>
                    <a:pt x="77" y="22"/>
                  </a:lnTo>
                  <a:lnTo>
                    <a:pt x="87" y="56"/>
                  </a:lnTo>
                  <a:lnTo>
                    <a:pt x="92" y="103"/>
                  </a:lnTo>
                  <a:lnTo>
                    <a:pt x="92" y="156"/>
                  </a:lnTo>
                  <a:lnTo>
                    <a:pt x="114" y="191"/>
                  </a:lnTo>
                  <a:lnTo>
                    <a:pt x="114" y="208"/>
                  </a:lnTo>
                  <a:lnTo>
                    <a:pt x="111" y="209"/>
                  </a:lnTo>
                  <a:lnTo>
                    <a:pt x="89" y="177"/>
                  </a:lnTo>
                  <a:lnTo>
                    <a:pt x="83" y="200"/>
                  </a:lnTo>
                  <a:lnTo>
                    <a:pt x="71" y="221"/>
                  </a:lnTo>
                  <a:lnTo>
                    <a:pt x="59" y="231"/>
                  </a:lnTo>
                  <a:lnTo>
                    <a:pt x="41" y="234"/>
                  </a:lnTo>
                  <a:lnTo>
                    <a:pt x="16" y="218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5000" y="4851360"/>
              <a:ext cx="82440" cy="296640"/>
            </a:xfrm>
            <a:custGeom>
              <a:avLst/>
              <a:gdLst/>
              <a:ahLst/>
              <a:rect l="l" t="t" r="r" b="b"/>
              <a:pathLst>
                <a:path w="104" h="375">
                  <a:moveTo>
                    <a:pt x="15" y="25"/>
                  </a:moveTo>
                  <a:lnTo>
                    <a:pt x="28" y="8"/>
                  </a:lnTo>
                  <a:lnTo>
                    <a:pt x="43" y="2"/>
                  </a:lnTo>
                  <a:lnTo>
                    <a:pt x="57" y="0"/>
                  </a:lnTo>
                  <a:lnTo>
                    <a:pt x="75" y="4"/>
                  </a:lnTo>
                  <a:lnTo>
                    <a:pt x="96" y="25"/>
                  </a:lnTo>
                  <a:lnTo>
                    <a:pt x="104" y="60"/>
                  </a:lnTo>
                  <a:lnTo>
                    <a:pt x="104" y="115"/>
                  </a:lnTo>
                  <a:lnTo>
                    <a:pt x="104" y="167"/>
                  </a:lnTo>
                  <a:lnTo>
                    <a:pt x="93" y="246"/>
                  </a:lnTo>
                  <a:lnTo>
                    <a:pt x="84" y="311"/>
                  </a:lnTo>
                  <a:lnTo>
                    <a:pt x="75" y="352"/>
                  </a:lnTo>
                  <a:lnTo>
                    <a:pt x="56" y="375"/>
                  </a:lnTo>
                  <a:lnTo>
                    <a:pt x="28" y="370"/>
                  </a:lnTo>
                  <a:lnTo>
                    <a:pt x="14" y="337"/>
                  </a:lnTo>
                  <a:lnTo>
                    <a:pt x="6" y="287"/>
                  </a:lnTo>
                  <a:lnTo>
                    <a:pt x="1" y="233"/>
                  </a:lnTo>
                  <a:lnTo>
                    <a:pt x="0" y="151"/>
                  </a:lnTo>
                  <a:lnTo>
                    <a:pt x="4" y="94"/>
                  </a:lnTo>
                  <a:lnTo>
                    <a:pt x="10" y="42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760" y="4851360"/>
              <a:ext cx="54000" cy="365040"/>
            </a:xfrm>
            <a:custGeom>
              <a:avLst/>
              <a:gdLst/>
              <a:ahLst/>
              <a:rect l="l" t="t" r="r" b="b"/>
              <a:pathLst>
                <a:path w="68" h="460">
                  <a:moveTo>
                    <a:pt x="48" y="2"/>
                  </a:moveTo>
                  <a:lnTo>
                    <a:pt x="63" y="0"/>
                  </a:lnTo>
                  <a:lnTo>
                    <a:pt x="68" y="19"/>
                  </a:lnTo>
                  <a:lnTo>
                    <a:pt x="61" y="46"/>
                  </a:lnTo>
                  <a:lnTo>
                    <a:pt x="48" y="60"/>
                  </a:lnTo>
                  <a:lnTo>
                    <a:pt x="38" y="95"/>
                  </a:lnTo>
                  <a:lnTo>
                    <a:pt x="26" y="140"/>
                  </a:lnTo>
                  <a:lnTo>
                    <a:pt x="21" y="184"/>
                  </a:lnTo>
                  <a:lnTo>
                    <a:pt x="17" y="257"/>
                  </a:lnTo>
                  <a:lnTo>
                    <a:pt x="21" y="326"/>
                  </a:lnTo>
                  <a:lnTo>
                    <a:pt x="27" y="358"/>
                  </a:lnTo>
                  <a:lnTo>
                    <a:pt x="22" y="392"/>
                  </a:lnTo>
                  <a:lnTo>
                    <a:pt x="17" y="417"/>
                  </a:lnTo>
                  <a:lnTo>
                    <a:pt x="20" y="460"/>
                  </a:lnTo>
                  <a:lnTo>
                    <a:pt x="12" y="457"/>
                  </a:lnTo>
                  <a:lnTo>
                    <a:pt x="4" y="422"/>
                  </a:lnTo>
                  <a:lnTo>
                    <a:pt x="0" y="392"/>
                  </a:lnTo>
                  <a:lnTo>
                    <a:pt x="11" y="351"/>
                  </a:lnTo>
                  <a:lnTo>
                    <a:pt x="7" y="315"/>
                  </a:lnTo>
                  <a:lnTo>
                    <a:pt x="4" y="254"/>
                  </a:lnTo>
                  <a:lnTo>
                    <a:pt x="4" y="181"/>
                  </a:lnTo>
                  <a:lnTo>
                    <a:pt x="11" y="103"/>
                  </a:lnTo>
                  <a:lnTo>
                    <a:pt x="21" y="46"/>
                  </a:lnTo>
                  <a:lnTo>
                    <a:pt x="33" y="15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6280" y="4857480"/>
              <a:ext cx="57240" cy="351000"/>
            </a:xfrm>
            <a:custGeom>
              <a:avLst/>
              <a:gdLst/>
              <a:ahLst/>
              <a:rect l="l" t="t" r="r" b="b"/>
              <a:pathLst>
                <a:path w="70" h="443">
                  <a:moveTo>
                    <a:pt x="2" y="1"/>
                  </a:moveTo>
                  <a:lnTo>
                    <a:pt x="31" y="0"/>
                  </a:lnTo>
                  <a:lnTo>
                    <a:pt x="51" y="35"/>
                  </a:lnTo>
                  <a:lnTo>
                    <a:pt x="70" y="131"/>
                  </a:lnTo>
                  <a:lnTo>
                    <a:pt x="70" y="242"/>
                  </a:lnTo>
                  <a:lnTo>
                    <a:pt x="61" y="336"/>
                  </a:lnTo>
                  <a:lnTo>
                    <a:pt x="70" y="369"/>
                  </a:lnTo>
                  <a:lnTo>
                    <a:pt x="70" y="412"/>
                  </a:lnTo>
                  <a:lnTo>
                    <a:pt x="61" y="443"/>
                  </a:lnTo>
                  <a:lnTo>
                    <a:pt x="47" y="415"/>
                  </a:lnTo>
                  <a:lnTo>
                    <a:pt x="41" y="373"/>
                  </a:lnTo>
                  <a:lnTo>
                    <a:pt x="26" y="341"/>
                  </a:lnTo>
                  <a:lnTo>
                    <a:pt x="42" y="312"/>
                  </a:lnTo>
                  <a:lnTo>
                    <a:pt x="53" y="242"/>
                  </a:lnTo>
                  <a:lnTo>
                    <a:pt x="53" y="177"/>
                  </a:lnTo>
                  <a:lnTo>
                    <a:pt x="42" y="111"/>
                  </a:lnTo>
                  <a:lnTo>
                    <a:pt x="23" y="63"/>
                  </a:lnTo>
                  <a:lnTo>
                    <a:pt x="0" y="4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00" y="5087880"/>
              <a:ext cx="69840" cy="420480"/>
            </a:xfrm>
            <a:custGeom>
              <a:avLst/>
              <a:gdLst/>
              <a:ahLst/>
              <a:rect l="l" t="t" r="r" b="b"/>
              <a:pathLst>
                <a:path w="87" h="529">
                  <a:moveTo>
                    <a:pt x="9" y="0"/>
                  </a:moveTo>
                  <a:lnTo>
                    <a:pt x="19" y="22"/>
                  </a:lnTo>
                  <a:lnTo>
                    <a:pt x="23" y="44"/>
                  </a:lnTo>
                  <a:lnTo>
                    <a:pt x="27" y="121"/>
                  </a:lnTo>
                  <a:lnTo>
                    <a:pt x="28" y="173"/>
                  </a:lnTo>
                  <a:lnTo>
                    <a:pt x="28" y="260"/>
                  </a:lnTo>
                  <a:lnTo>
                    <a:pt x="28" y="344"/>
                  </a:lnTo>
                  <a:lnTo>
                    <a:pt x="24" y="410"/>
                  </a:lnTo>
                  <a:lnTo>
                    <a:pt x="20" y="430"/>
                  </a:lnTo>
                  <a:lnTo>
                    <a:pt x="42" y="441"/>
                  </a:lnTo>
                  <a:lnTo>
                    <a:pt x="60" y="453"/>
                  </a:lnTo>
                  <a:lnTo>
                    <a:pt x="85" y="481"/>
                  </a:lnTo>
                  <a:lnTo>
                    <a:pt x="87" y="492"/>
                  </a:lnTo>
                  <a:lnTo>
                    <a:pt x="85" y="512"/>
                  </a:lnTo>
                  <a:lnTo>
                    <a:pt x="73" y="529"/>
                  </a:lnTo>
                  <a:lnTo>
                    <a:pt x="68" y="519"/>
                  </a:lnTo>
                  <a:lnTo>
                    <a:pt x="64" y="498"/>
                  </a:lnTo>
                  <a:lnTo>
                    <a:pt x="53" y="480"/>
                  </a:lnTo>
                  <a:lnTo>
                    <a:pt x="33" y="459"/>
                  </a:lnTo>
                  <a:lnTo>
                    <a:pt x="20" y="453"/>
                  </a:lnTo>
                  <a:lnTo>
                    <a:pt x="5" y="453"/>
                  </a:lnTo>
                  <a:lnTo>
                    <a:pt x="5" y="437"/>
                  </a:lnTo>
                  <a:lnTo>
                    <a:pt x="12" y="419"/>
                  </a:lnTo>
                  <a:lnTo>
                    <a:pt x="19" y="360"/>
                  </a:lnTo>
                  <a:lnTo>
                    <a:pt x="20" y="298"/>
                  </a:lnTo>
                  <a:lnTo>
                    <a:pt x="20" y="242"/>
                  </a:lnTo>
                  <a:lnTo>
                    <a:pt x="19" y="173"/>
                  </a:lnTo>
                  <a:lnTo>
                    <a:pt x="15" y="112"/>
                  </a:lnTo>
                  <a:lnTo>
                    <a:pt x="6" y="68"/>
                  </a:lnTo>
                  <a:lnTo>
                    <a:pt x="0" y="28"/>
                  </a:lnTo>
                  <a:lnTo>
                    <a:pt x="3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760" y="5089320"/>
              <a:ext cx="60120" cy="376200"/>
            </a:xfrm>
            <a:custGeom>
              <a:avLst/>
              <a:gdLst/>
              <a:ahLst/>
              <a:rect l="l" t="t" r="r" b="b"/>
              <a:pathLst>
                <a:path w="77" h="475">
                  <a:moveTo>
                    <a:pt x="0" y="37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9" y="17"/>
                  </a:lnTo>
                  <a:lnTo>
                    <a:pt x="31" y="32"/>
                  </a:lnTo>
                  <a:lnTo>
                    <a:pt x="29" y="68"/>
                  </a:lnTo>
                  <a:lnTo>
                    <a:pt x="23" y="110"/>
                  </a:lnTo>
                  <a:lnTo>
                    <a:pt x="20" y="177"/>
                  </a:lnTo>
                  <a:lnTo>
                    <a:pt x="19" y="220"/>
                  </a:lnTo>
                  <a:lnTo>
                    <a:pt x="19" y="227"/>
                  </a:lnTo>
                  <a:lnTo>
                    <a:pt x="22" y="288"/>
                  </a:lnTo>
                  <a:lnTo>
                    <a:pt x="26" y="322"/>
                  </a:lnTo>
                  <a:lnTo>
                    <a:pt x="29" y="350"/>
                  </a:lnTo>
                  <a:lnTo>
                    <a:pt x="28" y="362"/>
                  </a:lnTo>
                  <a:lnTo>
                    <a:pt x="40" y="393"/>
                  </a:lnTo>
                  <a:lnTo>
                    <a:pt x="53" y="414"/>
                  </a:lnTo>
                  <a:lnTo>
                    <a:pt x="65" y="432"/>
                  </a:lnTo>
                  <a:lnTo>
                    <a:pt x="77" y="441"/>
                  </a:lnTo>
                  <a:lnTo>
                    <a:pt x="77" y="457"/>
                  </a:lnTo>
                  <a:lnTo>
                    <a:pt x="72" y="470"/>
                  </a:lnTo>
                  <a:lnTo>
                    <a:pt x="56" y="475"/>
                  </a:lnTo>
                  <a:lnTo>
                    <a:pt x="46" y="466"/>
                  </a:lnTo>
                  <a:lnTo>
                    <a:pt x="46" y="454"/>
                  </a:lnTo>
                  <a:lnTo>
                    <a:pt x="37" y="414"/>
                  </a:lnTo>
                  <a:lnTo>
                    <a:pt x="22" y="392"/>
                  </a:lnTo>
                  <a:lnTo>
                    <a:pt x="11" y="370"/>
                  </a:lnTo>
                  <a:lnTo>
                    <a:pt x="2" y="359"/>
                  </a:lnTo>
                  <a:lnTo>
                    <a:pt x="5" y="345"/>
                  </a:lnTo>
                  <a:lnTo>
                    <a:pt x="10" y="305"/>
                  </a:lnTo>
                  <a:lnTo>
                    <a:pt x="10" y="232"/>
                  </a:lnTo>
                  <a:lnTo>
                    <a:pt x="9" y="180"/>
                  </a:lnTo>
                  <a:lnTo>
                    <a:pt x="9" y="128"/>
                  </a:lnTo>
                  <a:lnTo>
                    <a:pt x="8" y="7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7840" y="4792680"/>
            <a:ext cx="127080" cy="595440"/>
            <a:chOff x="177840" y="4792680"/>
            <a:chExt cx="127080" cy="595440"/>
          </a:xfrm>
        </p:grpSpPr>
        <p:sp>
          <p:nvSpPr>
            <p:cNvPr id="167" name=""/>
            <p:cNvSpPr/>
            <p:nvPr/>
          </p:nvSpPr>
          <p:spPr>
            <a:xfrm>
              <a:off x="204840" y="4792680"/>
              <a:ext cx="61920" cy="127080"/>
            </a:xfrm>
            <a:custGeom>
              <a:avLst/>
              <a:gdLst/>
              <a:ahLst/>
              <a:rect l="l" t="t" r="r" b="b"/>
              <a:pathLst>
                <a:path w="78" h="161">
                  <a:moveTo>
                    <a:pt x="0" y="68"/>
                  </a:moveTo>
                  <a:lnTo>
                    <a:pt x="6" y="36"/>
                  </a:lnTo>
                  <a:lnTo>
                    <a:pt x="14" y="18"/>
                  </a:lnTo>
                  <a:lnTo>
                    <a:pt x="23" y="6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3" y="15"/>
                  </a:lnTo>
                  <a:lnTo>
                    <a:pt x="60" y="40"/>
                  </a:lnTo>
                  <a:lnTo>
                    <a:pt x="63" y="71"/>
                  </a:lnTo>
                  <a:lnTo>
                    <a:pt x="63" y="108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7" y="144"/>
                  </a:lnTo>
                  <a:lnTo>
                    <a:pt x="62" y="122"/>
                  </a:lnTo>
                  <a:lnTo>
                    <a:pt x="58" y="138"/>
                  </a:lnTo>
                  <a:lnTo>
                    <a:pt x="49" y="152"/>
                  </a:lnTo>
                  <a:lnTo>
                    <a:pt x="41" y="159"/>
                  </a:lnTo>
                  <a:lnTo>
                    <a:pt x="28" y="161"/>
                  </a:lnTo>
                  <a:lnTo>
                    <a:pt x="11" y="150"/>
                  </a:lnTo>
                  <a:lnTo>
                    <a:pt x="4" y="126"/>
                  </a:lnTo>
                  <a:lnTo>
                    <a:pt x="0" y="10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360" y="4930920"/>
              <a:ext cx="58680" cy="208080"/>
            </a:xfrm>
            <a:custGeom>
              <a:avLst/>
              <a:gdLst/>
              <a:ahLst/>
              <a:rect l="l" t="t" r="r" b="b"/>
              <a:pathLst>
                <a:path w="75" h="262">
                  <a:moveTo>
                    <a:pt x="10" y="17"/>
                  </a:move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4" y="3"/>
                  </a:lnTo>
                  <a:lnTo>
                    <a:pt x="68" y="17"/>
                  </a:lnTo>
                  <a:lnTo>
                    <a:pt x="75" y="42"/>
                  </a:lnTo>
                  <a:lnTo>
                    <a:pt x="75" y="80"/>
                  </a:lnTo>
                  <a:lnTo>
                    <a:pt x="73" y="116"/>
                  </a:lnTo>
                  <a:lnTo>
                    <a:pt x="67" y="172"/>
                  </a:lnTo>
                  <a:lnTo>
                    <a:pt x="61" y="217"/>
                  </a:lnTo>
                  <a:lnTo>
                    <a:pt x="54" y="246"/>
                  </a:lnTo>
                  <a:lnTo>
                    <a:pt x="40" y="262"/>
                  </a:lnTo>
                  <a:lnTo>
                    <a:pt x="21" y="259"/>
                  </a:lnTo>
                  <a:lnTo>
                    <a:pt x="10" y="235"/>
                  </a:lnTo>
                  <a:lnTo>
                    <a:pt x="4" y="201"/>
                  </a:lnTo>
                  <a:lnTo>
                    <a:pt x="2" y="163"/>
                  </a:lnTo>
                  <a:lnTo>
                    <a:pt x="0" y="105"/>
                  </a:lnTo>
                  <a:lnTo>
                    <a:pt x="3" y="65"/>
                  </a:lnTo>
                  <a:lnTo>
                    <a:pt x="7" y="29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840" y="4930920"/>
              <a:ext cx="54000" cy="254160"/>
            </a:xfrm>
            <a:custGeom>
              <a:avLst/>
              <a:gdLst/>
              <a:ahLst/>
              <a:rect l="l" t="t" r="r" b="b"/>
              <a:pathLst>
                <a:path w="68" h="319">
                  <a:moveTo>
                    <a:pt x="48" y="1"/>
                  </a:moveTo>
                  <a:lnTo>
                    <a:pt x="63" y="0"/>
                  </a:lnTo>
                  <a:lnTo>
                    <a:pt x="68" y="13"/>
                  </a:lnTo>
                  <a:lnTo>
                    <a:pt x="61" y="31"/>
                  </a:lnTo>
                  <a:lnTo>
                    <a:pt x="48" y="41"/>
                  </a:lnTo>
                  <a:lnTo>
                    <a:pt x="37" y="65"/>
                  </a:lnTo>
                  <a:lnTo>
                    <a:pt x="26" y="97"/>
                  </a:lnTo>
                  <a:lnTo>
                    <a:pt x="21" y="128"/>
                  </a:lnTo>
                  <a:lnTo>
                    <a:pt x="17" y="178"/>
                  </a:lnTo>
                  <a:lnTo>
                    <a:pt x="21" y="226"/>
                  </a:lnTo>
                  <a:lnTo>
                    <a:pt x="27" y="248"/>
                  </a:lnTo>
                  <a:lnTo>
                    <a:pt x="22" y="272"/>
                  </a:lnTo>
                  <a:lnTo>
                    <a:pt x="17" y="290"/>
                  </a:lnTo>
                  <a:lnTo>
                    <a:pt x="20" y="319"/>
                  </a:lnTo>
                  <a:lnTo>
                    <a:pt x="12" y="317"/>
                  </a:lnTo>
                  <a:lnTo>
                    <a:pt x="4" y="293"/>
                  </a:lnTo>
                  <a:lnTo>
                    <a:pt x="0" y="272"/>
                  </a:lnTo>
                  <a:lnTo>
                    <a:pt x="11" y="244"/>
                  </a:lnTo>
                  <a:lnTo>
                    <a:pt x="7" y="218"/>
                  </a:lnTo>
                  <a:lnTo>
                    <a:pt x="4" y="176"/>
                  </a:lnTo>
                  <a:lnTo>
                    <a:pt x="4" y="126"/>
                  </a:lnTo>
                  <a:lnTo>
                    <a:pt x="11" y="71"/>
                  </a:lnTo>
                  <a:lnTo>
                    <a:pt x="21" y="31"/>
                  </a:lnTo>
                  <a:lnTo>
                    <a:pt x="32" y="1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920" y="4937400"/>
              <a:ext cx="54000" cy="242640"/>
            </a:xfrm>
            <a:custGeom>
              <a:avLst/>
              <a:gdLst/>
              <a:ahLst/>
              <a:rect l="l" t="t" r="r" b="b"/>
              <a:pathLst>
                <a:path w="68" h="305">
                  <a:moveTo>
                    <a:pt x="1" y="0"/>
                  </a:moveTo>
                  <a:lnTo>
                    <a:pt x="28" y="0"/>
                  </a:lnTo>
                  <a:lnTo>
                    <a:pt x="47" y="23"/>
                  </a:lnTo>
                  <a:lnTo>
                    <a:pt x="68" y="90"/>
                  </a:lnTo>
                  <a:lnTo>
                    <a:pt x="68" y="166"/>
                  </a:lnTo>
                  <a:lnTo>
                    <a:pt x="58" y="231"/>
                  </a:lnTo>
                  <a:lnTo>
                    <a:pt x="68" y="254"/>
                  </a:lnTo>
                  <a:lnTo>
                    <a:pt x="68" y="284"/>
                  </a:lnTo>
                  <a:lnTo>
                    <a:pt x="58" y="305"/>
                  </a:lnTo>
                  <a:lnTo>
                    <a:pt x="45" y="286"/>
                  </a:lnTo>
                  <a:lnTo>
                    <a:pt x="38" y="257"/>
                  </a:lnTo>
                  <a:lnTo>
                    <a:pt x="23" y="234"/>
                  </a:lnTo>
                  <a:lnTo>
                    <a:pt x="40" y="214"/>
                  </a:lnTo>
                  <a:lnTo>
                    <a:pt x="50" y="166"/>
                  </a:lnTo>
                  <a:lnTo>
                    <a:pt x="50" y="121"/>
                  </a:lnTo>
                  <a:lnTo>
                    <a:pt x="40" y="76"/>
                  </a:lnTo>
                  <a:lnTo>
                    <a:pt x="20" y="42"/>
                  </a:lnTo>
                  <a:lnTo>
                    <a:pt x="0" y="2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360" y="5097600"/>
              <a:ext cx="55440" cy="290520"/>
            </a:xfrm>
            <a:custGeom>
              <a:avLst/>
              <a:gdLst/>
              <a:ahLst/>
              <a:rect l="l" t="t" r="r" b="b"/>
              <a:pathLst>
                <a:path w="70" h="366">
                  <a:moveTo>
                    <a:pt x="7" y="0"/>
                  </a:moveTo>
                  <a:lnTo>
                    <a:pt x="16" y="15"/>
                  </a:lnTo>
                  <a:lnTo>
                    <a:pt x="18" y="30"/>
                  </a:lnTo>
                  <a:lnTo>
                    <a:pt x="22" y="83"/>
                  </a:lnTo>
                  <a:lnTo>
                    <a:pt x="23" y="119"/>
                  </a:lnTo>
                  <a:lnTo>
                    <a:pt x="23" y="179"/>
                  </a:lnTo>
                  <a:lnTo>
                    <a:pt x="22" y="237"/>
                  </a:lnTo>
                  <a:lnTo>
                    <a:pt x="19" y="283"/>
                  </a:lnTo>
                  <a:lnTo>
                    <a:pt x="17" y="297"/>
                  </a:lnTo>
                  <a:lnTo>
                    <a:pt x="34" y="304"/>
                  </a:lnTo>
                  <a:lnTo>
                    <a:pt x="48" y="313"/>
                  </a:lnTo>
                  <a:lnTo>
                    <a:pt x="67" y="333"/>
                  </a:lnTo>
                  <a:lnTo>
                    <a:pt x="70" y="340"/>
                  </a:lnTo>
                  <a:lnTo>
                    <a:pt x="68" y="354"/>
                  </a:lnTo>
                  <a:lnTo>
                    <a:pt x="58" y="366"/>
                  </a:lnTo>
                  <a:lnTo>
                    <a:pt x="54" y="359"/>
                  </a:lnTo>
                  <a:lnTo>
                    <a:pt x="52" y="344"/>
                  </a:lnTo>
                  <a:lnTo>
                    <a:pt x="43" y="332"/>
                  </a:lnTo>
                  <a:lnTo>
                    <a:pt x="26" y="318"/>
                  </a:lnTo>
                  <a:lnTo>
                    <a:pt x="16" y="313"/>
                  </a:lnTo>
                  <a:lnTo>
                    <a:pt x="4" y="313"/>
                  </a:lnTo>
                  <a:lnTo>
                    <a:pt x="4" y="302"/>
                  </a:lnTo>
                  <a:lnTo>
                    <a:pt x="9" y="289"/>
                  </a:lnTo>
                  <a:lnTo>
                    <a:pt x="16" y="248"/>
                  </a:lnTo>
                  <a:lnTo>
                    <a:pt x="17" y="206"/>
                  </a:lnTo>
                  <a:lnTo>
                    <a:pt x="16" y="167"/>
                  </a:lnTo>
                  <a:lnTo>
                    <a:pt x="16" y="119"/>
                  </a:lnTo>
                  <a:lnTo>
                    <a:pt x="12" y="77"/>
                  </a:lnTo>
                  <a:lnTo>
                    <a:pt x="5" y="46"/>
                  </a:lnTo>
                  <a:lnTo>
                    <a:pt x="0" y="18"/>
                  </a:lnTo>
                  <a:lnTo>
                    <a:pt x="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1840" y="5097600"/>
              <a:ext cx="56880" cy="262080"/>
            </a:xfrm>
            <a:custGeom>
              <a:avLst/>
              <a:gdLst/>
              <a:ahLst/>
              <a:rect l="l" t="t" r="r" b="b"/>
              <a:pathLst>
                <a:path w="72" h="330">
                  <a:moveTo>
                    <a:pt x="0" y="26"/>
                  </a:moveTo>
                  <a:lnTo>
                    <a:pt x="0" y="5"/>
                  </a:lnTo>
                  <a:lnTo>
                    <a:pt x="7" y="0"/>
                  </a:lnTo>
                  <a:lnTo>
                    <a:pt x="19" y="0"/>
                  </a:lnTo>
                  <a:lnTo>
                    <a:pt x="28" y="12"/>
                  </a:lnTo>
                  <a:lnTo>
                    <a:pt x="29" y="23"/>
                  </a:lnTo>
                  <a:lnTo>
                    <a:pt x="28" y="46"/>
                  </a:lnTo>
                  <a:lnTo>
                    <a:pt x="21" y="77"/>
                  </a:lnTo>
                  <a:lnTo>
                    <a:pt x="19" y="123"/>
                  </a:lnTo>
                  <a:lnTo>
                    <a:pt x="18" y="153"/>
                  </a:lnTo>
                  <a:lnTo>
                    <a:pt x="18" y="158"/>
                  </a:lnTo>
                  <a:lnTo>
                    <a:pt x="20" y="201"/>
                  </a:lnTo>
                  <a:lnTo>
                    <a:pt x="24" y="224"/>
                  </a:lnTo>
                  <a:lnTo>
                    <a:pt x="28" y="243"/>
                  </a:lnTo>
                  <a:lnTo>
                    <a:pt x="27" y="252"/>
                  </a:lnTo>
                  <a:lnTo>
                    <a:pt x="37" y="274"/>
                  </a:lnTo>
                  <a:lnTo>
                    <a:pt x="48" y="288"/>
                  </a:lnTo>
                  <a:lnTo>
                    <a:pt x="61" y="300"/>
                  </a:lnTo>
                  <a:lnTo>
                    <a:pt x="72" y="306"/>
                  </a:lnTo>
                  <a:lnTo>
                    <a:pt x="72" y="318"/>
                  </a:lnTo>
                  <a:lnTo>
                    <a:pt x="66" y="327"/>
                  </a:lnTo>
                  <a:lnTo>
                    <a:pt x="52" y="330"/>
                  </a:lnTo>
                  <a:lnTo>
                    <a:pt x="42" y="324"/>
                  </a:lnTo>
                  <a:lnTo>
                    <a:pt x="42" y="315"/>
                  </a:lnTo>
                  <a:lnTo>
                    <a:pt x="34" y="288"/>
                  </a:lnTo>
                  <a:lnTo>
                    <a:pt x="20" y="273"/>
                  </a:lnTo>
                  <a:lnTo>
                    <a:pt x="10" y="258"/>
                  </a:lnTo>
                  <a:lnTo>
                    <a:pt x="2" y="249"/>
                  </a:lnTo>
                  <a:lnTo>
                    <a:pt x="5" y="239"/>
                  </a:lnTo>
                  <a:lnTo>
                    <a:pt x="9" y="212"/>
                  </a:lnTo>
                  <a:lnTo>
                    <a:pt x="9" y="161"/>
                  </a:lnTo>
                  <a:lnTo>
                    <a:pt x="7" y="125"/>
                  </a:lnTo>
                  <a:lnTo>
                    <a:pt x="7" y="89"/>
                  </a:lnTo>
                  <a:lnTo>
                    <a:pt x="6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920" y="4870440"/>
            <a:ext cx="90360" cy="439560"/>
            <a:chOff x="61920" y="4870440"/>
            <a:chExt cx="90360" cy="439560"/>
          </a:xfrm>
        </p:grpSpPr>
        <p:sp>
          <p:nvSpPr>
            <p:cNvPr id="174" name=""/>
            <p:cNvSpPr/>
            <p:nvPr/>
          </p:nvSpPr>
          <p:spPr>
            <a:xfrm>
              <a:off x="76320" y="4870440"/>
              <a:ext cx="55440" cy="9360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0" y="49"/>
                  </a:moveTo>
                  <a:lnTo>
                    <a:pt x="5" y="26"/>
                  </a:lnTo>
                  <a:lnTo>
                    <a:pt x="12" y="13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6" y="11"/>
                  </a:lnTo>
                  <a:lnTo>
                    <a:pt x="53" y="28"/>
                  </a:lnTo>
                  <a:lnTo>
                    <a:pt x="55" y="52"/>
                  </a:lnTo>
                  <a:lnTo>
                    <a:pt x="55" y="78"/>
                  </a:lnTo>
                  <a:lnTo>
                    <a:pt x="69" y="96"/>
                  </a:lnTo>
                  <a:lnTo>
                    <a:pt x="69" y="104"/>
                  </a:lnTo>
                  <a:lnTo>
                    <a:pt x="67" y="105"/>
                  </a:lnTo>
                  <a:lnTo>
                    <a:pt x="54" y="89"/>
                  </a:lnTo>
                  <a:lnTo>
                    <a:pt x="50" y="101"/>
                  </a:lnTo>
                  <a:lnTo>
                    <a:pt x="42" y="111"/>
                  </a:lnTo>
                  <a:lnTo>
                    <a:pt x="36" y="116"/>
                  </a:lnTo>
                  <a:lnTo>
                    <a:pt x="24" y="117"/>
                  </a:lnTo>
                  <a:lnTo>
                    <a:pt x="9" y="109"/>
                  </a:lnTo>
                  <a:lnTo>
                    <a:pt x="3" y="92"/>
                  </a:lnTo>
                  <a:lnTo>
                    <a:pt x="0" y="7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280" y="4971960"/>
              <a:ext cx="55800" cy="15228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0" y="13"/>
                  </a:moveTo>
                  <a:lnTo>
                    <a:pt x="18" y="5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64" y="13"/>
                  </a:lnTo>
                  <a:lnTo>
                    <a:pt x="69" y="32"/>
                  </a:lnTo>
                  <a:lnTo>
                    <a:pt x="69" y="59"/>
                  </a:lnTo>
                  <a:lnTo>
                    <a:pt x="69" y="87"/>
                  </a:lnTo>
                  <a:lnTo>
                    <a:pt x="61" y="127"/>
                  </a:lnTo>
                  <a:lnTo>
                    <a:pt x="56" y="161"/>
                  </a:lnTo>
                  <a:lnTo>
                    <a:pt x="50" y="182"/>
                  </a:lnTo>
                  <a:lnTo>
                    <a:pt x="37" y="193"/>
                  </a:lnTo>
                  <a:lnTo>
                    <a:pt x="18" y="191"/>
                  </a:lnTo>
                  <a:lnTo>
                    <a:pt x="9" y="174"/>
                  </a:lnTo>
                  <a:lnTo>
                    <a:pt x="4" y="149"/>
                  </a:lnTo>
                  <a:lnTo>
                    <a:pt x="0" y="120"/>
                  </a:lnTo>
                  <a:lnTo>
                    <a:pt x="0" y="79"/>
                  </a:lnTo>
                  <a:lnTo>
                    <a:pt x="2" y="49"/>
                  </a:lnTo>
                  <a:lnTo>
                    <a:pt x="6" y="22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20" y="4971960"/>
              <a:ext cx="55440" cy="187200"/>
            </a:xfrm>
            <a:custGeom>
              <a:avLst/>
              <a:gdLst/>
              <a:ahLst/>
              <a:rect l="l" t="t" r="r" b="b"/>
              <a:pathLst>
                <a:path w="69" h="238">
                  <a:moveTo>
                    <a:pt x="48" y="1"/>
                  </a:moveTo>
                  <a:lnTo>
                    <a:pt x="64" y="0"/>
                  </a:lnTo>
                  <a:lnTo>
                    <a:pt x="69" y="11"/>
                  </a:lnTo>
                  <a:lnTo>
                    <a:pt x="60" y="24"/>
                  </a:lnTo>
                  <a:lnTo>
                    <a:pt x="49" y="32"/>
                  </a:lnTo>
                  <a:lnTo>
                    <a:pt x="37" y="49"/>
                  </a:lnTo>
                  <a:lnTo>
                    <a:pt x="26" y="74"/>
                  </a:lnTo>
                  <a:lnTo>
                    <a:pt x="21" y="96"/>
                  </a:lnTo>
                  <a:lnTo>
                    <a:pt x="17" y="133"/>
                  </a:lnTo>
                  <a:lnTo>
                    <a:pt x="21" y="169"/>
                  </a:lnTo>
                  <a:lnTo>
                    <a:pt x="26" y="185"/>
                  </a:lnTo>
                  <a:lnTo>
                    <a:pt x="22" y="203"/>
                  </a:lnTo>
                  <a:lnTo>
                    <a:pt x="17" y="217"/>
                  </a:lnTo>
                  <a:lnTo>
                    <a:pt x="19" y="238"/>
                  </a:lnTo>
                  <a:lnTo>
                    <a:pt x="10" y="237"/>
                  </a:lnTo>
                  <a:lnTo>
                    <a:pt x="3" y="219"/>
                  </a:lnTo>
                  <a:lnTo>
                    <a:pt x="0" y="203"/>
                  </a:lnTo>
                  <a:lnTo>
                    <a:pt x="9" y="182"/>
                  </a:lnTo>
                  <a:lnTo>
                    <a:pt x="6" y="163"/>
                  </a:lnTo>
                  <a:lnTo>
                    <a:pt x="3" y="131"/>
                  </a:lnTo>
                  <a:lnTo>
                    <a:pt x="3" y="94"/>
                  </a:lnTo>
                  <a:lnTo>
                    <a:pt x="9" y="54"/>
                  </a:lnTo>
                  <a:lnTo>
                    <a:pt x="21" y="24"/>
                  </a:lnTo>
                  <a:lnTo>
                    <a:pt x="32" y="9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6840" y="4976640"/>
              <a:ext cx="55440" cy="177840"/>
            </a:xfrm>
            <a:custGeom>
              <a:avLst/>
              <a:gdLst/>
              <a:ahLst/>
              <a:rect l="l" t="t" r="r" b="b"/>
              <a:pathLst>
                <a:path w="68" h="223">
                  <a:moveTo>
                    <a:pt x="1" y="1"/>
                  </a:moveTo>
                  <a:lnTo>
                    <a:pt x="28" y="0"/>
                  </a:lnTo>
                  <a:lnTo>
                    <a:pt x="47" y="17"/>
                  </a:lnTo>
                  <a:lnTo>
                    <a:pt x="68" y="66"/>
                  </a:lnTo>
                  <a:lnTo>
                    <a:pt x="68" y="121"/>
                  </a:lnTo>
                  <a:lnTo>
                    <a:pt x="58" y="169"/>
                  </a:lnTo>
                  <a:lnTo>
                    <a:pt x="68" y="185"/>
                  </a:lnTo>
                  <a:lnTo>
                    <a:pt x="68" y="208"/>
                  </a:lnTo>
                  <a:lnTo>
                    <a:pt x="58" y="223"/>
                  </a:lnTo>
                  <a:lnTo>
                    <a:pt x="45" y="209"/>
                  </a:lnTo>
                  <a:lnTo>
                    <a:pt x="38" y="187"/>
                  </a:lnTo>
                  <a:lnTo>
                    <a:pt x="23" y="171"/>
                  </a:lnTo>
                  <a:lnTo>
                    <a:pt x="40" y="157"/>
                  </a:lnTo>
                  <a:lnTo>
                    <a:pt x="50" y="121"/>
                  </a:lnTo>
                  <a:lnTo>
                    <a:pt x="50" y="89"/>
                  </a:lnTo>
                  <a:lnTo>
                    <a:pt x="40" y="55"/>
                  </a:lnTo>
                  <a:lnTo>
                    <a:pt x="20" y="31"/>
                  </a:lnTo>
                  <a:lnTo>
                    <a:pt x="0" y="2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80" y="5094000"/>
              <a:ext cx="55800" cy="21600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" y="0"/>
                  </a:moveTo>
                  <a:lnTo>
                    <a:pt x="15" y="11"/>
                  </a:lnTo>
                  <a:lnTo>
                    <a:pt x="18" y="22"/>
                  </a:lnTo>
                  <a:lnTo>
                    <a:pt x="22" y="62"/>
                  </a:lnTo>
                  <a:lnTo>
                    <a:pt x="23" y="88"/>
                  </a:lnTo>
                  <a:lnTo>
                    <a:pt x="23" y="134"/>
                  </a:lnTo>
                  <a:lnTo>
                    <a:pt x="22" y="176"/>
                  </a:lnTo>
                  <a:lnTo>
                    <a:pt x="19" y="211"/>
                  </a:lnTo>
                  <a:lnTo>
                    <a:pt x="17" y="221"/>
                  </a:lnTo>
                  <a:lnTo>
                    <a:pt x="33" y="226"/>
                  </a:lnTo>
                  <a:lnTo>
                    <a:pt x="47" y="233"/>
                  </a:lnTo>
                  <a:lnTo>
                    <a:pt x="67" y="247"/>
                  </a:lnTo>
                  <a:lnTo>
                    <a:pt x="69" y="252"/>
                  </a:lnTo>
                  <a:lnTo>
                    <a:pt x="68" y="264"/>
                  </a:lnTo>
                  <a:lnTo>
                    <a:pt x="58" y="272"/>
                  </a:lnTo>
                  <a:lnTo>
                    <a:pt x="54" y="267"/>
                  </a:lnTo>
                  <a:lnTo>
                    <a:pt x="51" y="256"/>
                  </a:lnTo>
                  <a:lnTo>
                    <a:pt x="42" y="246"/>
                  </a:lnTo>
                  <a:lnTo>
                    <a:pt x="26" y="236"/>
                  </a:lnTo>
                  <a:lnTo>
                    <a:pt x="15" y="233"/>
                  </a:lnTo>
                  <a:lnTo>
                    <a:pt x="4" y="233"/>
                  </a:lnTo>
                  <a:lnTo>
                    <a:pt x="4" y="224"/>
                  </a:lnTo>
                  <a:lnTo>
                    <a:pt x="9" y="215"/>
                  </a:lnTo>
                  <a:lnTo>
                    <a:pt x="15" y="184"/>
                  </a:lnTo>
                  <a:lnTo>
                    <a:pt x="17" y="153"/>
                  </a:lnTo>
                  <a:lnTo>
                    <a:pt x="15" y="125"/>
                  </a:lnTo>
                  <a:lnTo>
                    <a:pt x="15" y="88"/>
                  </a:lnTo>
                  <a:lnTo>
                    <a:pt x="11" y="58"/>
                  </a:lnTo>
                  <a:lnTo>
                    <a:pt x="5" y="3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360" y="5094000"/>
              <a:ext cx="54000" cy="193680"/>
            </a:xfrm>
            <a:custGeom>
              <a:avLst/>
              <a:gdLst/>
              <a:ahLst/>
              <a:rect l="l" t="t" r="r" b="b"/>
              <a:pathLst>
                <a:path w="68" h="244">
                  <a:moveTo>
                    <a:pt x="0" y="1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27" y="17"/>
                  </a:lnTo>
                  <a:lnTo>
                    <a:pt x="26" y="34"/>
                  </a:lnTo>
                  <a:lnTo>
                    <a:pt x="21" y="57"/>
                  </a:lnTo>
                  <a:lnTo>
                    <a:pt x="18" y="91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8" y="148"/>
                  </a:lnTo>
                  <a:lnTo>
                    <a:pt x="22" y="166"/>
                  </a:lnTo>
                  <a:lnTo>
                    <a:pt x="26" y="180"/>
                  </a:lnTo>
                  <a:lnTo>
                    <a:pt x="24" y="187"/>
                  </a:lnTo>
                  <a:lnTo>
                    <a:pt x="35" y="203"/>
                  </a:lnTo>
                  <a:lnTo>
                    <a:pt x="46" y="213"/>
                  </a:lnTo>
                  <a:lnTo>
                    <a:pt x="58" y="223"/>
                  </a:lnTo>
                  <a:lnTo>
                    <a:pt x="68" y="227"/>
                  </a:lnTo>
                  <a:lnTo>
                    <a:pt x="68" y="235"/>
                  </a:lnTo>
                  <a:lnTo>
                    <a:pt x="63" y="242"/>
                  </a:lnTo>
                  <a:lnTo>
                    <a:pt x="49" y="244"/>
                  </a:lnTo>
                  <a:lnTo>
                    <a:pt x="40" y="239"/>
                  </a:lnTo>
                  <a:lnTo>
                    <a:pt x="40" y="234"/>
                  </a:lnTo>
                  <a:lnTo>
                    <a:pt x="32" y="213"/>
                  </a:lnTo>
                  <a:lnTo>
                    <a:pt x="18" y="202"/>
                  </a:lnTo>
                  <a:lnTo>
                    <a:pt x="9" y="191"/>
                  </a:lnTo>
                  <a:lnTo>
                    <a:pt x="3" y="184"/>
                  </a:lnTo>
                  <a:lnTo>
                    <a:pt x="4" y="177"/>
                  </a:lnTo>
                  <a:lnTo>
                    <a:pt x="9" y="157"/>
                  </a:lnTo>
                  <a:lnTo>
                    <a:pt x="9" y="120"/>
                  </a:lnTo>
                  <a:lnTo>
                    <a:pt x="6" y="92"/>
                  </a:lnTo>
                  <a:lnTo>
                    <a:pt x="6" y="66"/>
                  </a:lnTo>
                  <a:lnTo>
                    <a:pt x="6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112240" y="4876920"/>
            <a:ext cx="803160" cy="167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803160" cy="1676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624720" y="6399360"/>
            <a:ext cx="2367000" cy="45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gu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4191120"/>
            <a:ext cx="671400" cy="1879200"/>
            <a:chOff x="2590920" y="4191120"/>
            <a:chExt cx="671400" cy="1879200"/>
          </a:xfrm>
        </p:grpSpPr>
        <p:sp>
          <p:nvSpPr>
            <p:cNvPr id="184" name=""/>
            <p:cNvSpPr/>
            <p:nvPr/>
          </p:nvSpPr>
          <p:spPr>
            <a:xfrm>
              <a:off x="2789280" y="4191120"/>
              <a:ext cx="433440" cy="406440"/>
            </a:xfrm>
            <a:custGeom>
              <a:avLst/>
              <a:gdLst/>
              <a:ahLst/>
              <a:rect l="l" t="t" r="r" b="b"/>
              <a:pathLst>
                <a:path w="545" h="554">
                  <a:moveTo>
                    <a:pt x="0" y="233"/>
                  </a:moveTo>
                  <a:lnTo>
                    <a:pt x="39" y="120"/>
                  </a:lnTo>
                  <a:lnTo>
                    <a:pt x="91" y="62"/>
                  </a:lnTo>
                  <a:lnTo>
                    <a:pt x="156" y="20"/>
                  </a:lnTo>
                  <a:lnTo>
                    <a:pt x="222" y="0"/>
                  </a:lnTo>
                  <a:lnTo>
                    <a:pt x="308" y="6"/>
                  </a:lnTo>
                  <a:lnTo>
                    <a:pt x="364" y="52"/>
                  </a:lnTo>
                  <a:lnTo>
                    <a:pt x="416" y="134"/>
                  </a:lnTo>
                  <a:lnTo>
                    <a:pt x="438" y="244"/>
                  </a:lnTo>
                  <a:lnTo>
                    <a:pt x="438" y="368"/>
                  </a:lnTo>
                  <a:lnTo>
                    <a:pt x="542" y="454"/>
                  </a:lnTo>
                  <a:lnTo>
                    <a:pt x="545" y="492"/>
                  </a:lnTo>
                  <a:lnTo>
                    <a:pt x="529" y="495"/>
                  </a:lnTo>
                  <a:lnTo>
                    <a:pt x="429" y="419"/>
                  </a:lnTo>
                  <a:lnTo>
                    <a:pt x="399" y="475"/>
                  </a:lnTo>
                  <a:lnTo>
                    <a:pt x="339" y="523"/>
                  </a:lnTo>
                  <a:lnTo>
                    <a:pt x="282" y="547"/>
                  </a:lnTo>
                  <a:lnTo>
                    <a:pt x="191" y="554"/>
                  </a:lnTo>
                  <a:lnTo>
                    <a:pt x="74" y="516"/>
                  </a:lnTo>
                  <a:lnTo>
                    <a:pt x="21" y="433"/>
                  </a:lnTo>
                  <a:lnTo>
                    <a:pt x="0" y="351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5000" y="4628520"/>
              <a:ext cx="385560" cy="654840"/>
            </a:xfrm>
            <a:custGeom>
              <a:avLst/>
              <a:gdLst/>
              <a:ahLst/>
              <a:rect l="l" t="t" r="r" b="b"/>
              <a:pathLst>
                <a:path w="487" h="892">
                  <a:moveTo>
                    <a:pt x="71" y="58"/>
                  </a:moveTo>
                  <a:lnTo>
                    <a:pt x="131" y="20"/>
                  </a:lnTo>
                  <a:lnTo>
                    <a:pt x="201" y="6"/>
                  </a:lnTo>
                  <a:lnTo>
                    <a:pt x="266" y="0"/>
                  </a:lnTo>
                  <a:lnTo>
                    <a:pt x="353" y="10"/>
                  </a:lnTo>
                  <a:lnTo>
                    <a:pt x="448" y="58"/>
                  </a:lnTo>
                  <a:lnTo>
                    <a:pt x="487" y="143"/>
                  </a:lnTo>
                  <a:lnTo>
                    <a:pt x="487" y="274"/>
                  </a:lnTo>
                  <a:lnTo>
                    <a:pt x="483" y="398"/>
                  </a:lnTo>
                  <a:lnTo>
                    <a:pt x="436" y="587"/>
                  </a:lnTo>
                  <a:lnTo>
                    <a:pt x="396" y="741"/>
                  </a:lnTo>
                  <a:lnTo>
                    <a:pt x="353" y="840"/>
                  </a:lnTo>
                  <a:lnTo>
                    <a:pt x="262" y="892"/>
                  </a:lnTo>
                  <a:lnTo>
                    <a:pt x="131" y="881"/>
                  </a:lnTo>
                  <a:lnTo>
                    <a:pt x="66" y="803"/>
                  </a:lnTo>
                  <a:lnTo>
                    <a:pt x="27" y="686"/>
                  </a:lnTo>
                  <a:lnTo>
                    <a:pt x="5" y="555"/>
                  </a:lnTo>
                  <a:lnTo>
                    <a:pt x="0" y="359"/>
                  </a:lnTo>
                  <a:lnTo>
                    <a:pt x="18" y="222"/>
                  </a:lnTo>
                  <a:lnTo>
                    <a:pt x="44" y="99"/>
                  </a:lnTo>
                  <a:lnTo>
                    <a:pt x="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627080"/>
              <a:ext cx="227160" cy="807480"/>
            </a:xfrm>
            <a:custGeom>
              <a:avLst/>
              <a:gdLst/>
              <a:ahLst/>
              <a:rect l="l" t="t" r="r" b="b"/>
              <a:pathLst>
                <a:path w="287" h="1098">
                  <a:moveTo>
                    <a:pt x="195" y="7"/>
                  </a:moveTo>
                  <a:lnTo>
                    <a:pt x="265" y="0"/>
                  </a:lnTo>
                  <a:lnTo>
                    <a:pt x="287" y="49"/>
                  </a:lnTo>
                  <a:lnTo>
                    <a:pt x="251" y="110"/>
                  </a:lnTo>
                  <a:lnTo>
                    <a:pt x="199" y="144"/>
                  </a:lnTo>
                  <a:lnTo>
                    <a:pt x="156" y="226"/>
                  </a:lnTo>
                  <a:lnTo>
                    <a:pt x="104" y="337"/>
                  </a:lnTo>
                  <a:lnTo>
                    <a:pt x="82" y="439"/>
                  </a:lnTo>
                  <a:lnTo>
                    <a:pt x="70" y="614"/>
                  </a:lnTo>
                  <a:lnTo>
                    <a:pt x="82" y="778"/>
                  </a:lnTo>
                  <a:lnTo>
                    <a:pt x="108" y="855"/>
                  </a:lnTo>
                  <a:lnTo>
                    <a:pt x="90" y="937"/>
                  </a:lnTo>
                  <a:lnTo>
                    <a:pt x="70" y="999"/>
                  </a:lnTo>
                  <a:lnTo>
                    <a:pt x="77" y="1098"/>
                  </a:lnTo>
                  <a:lnTo>
                    <a:pt x="43" y="1091"/>
                  </a:lnTo>
                  <a:lnTo>
                    <a:pt x="13" y="1009"/>
                  </a:lnTo>
                  <a:lnTo>
                    <a:pt x="0" y="937"/>
                  </a:lnTo>
                  <a:lnTo>
                    <a:pt x="39" y="840"/>
                  </a:lnTo>
                  <a:lnTo>
                    <a:pt x="26" y="751"/>
                  </a:lnTo>
                  <a:lnTo>
                    <a:pt x="13" y="607"/>
                  </a:lnTo>
                  <a:lnTo>
                    <a:pt x="13" y="432"/>
                  </a:lnTo>
                  <a:lnTo>
                    <a:pt x="39" y="248"/>
                  </a:lnTo>
                  <a:lnTo>
                    <a:pt x="82" y="110"/>
                  </a:lnTo>
                  <a:lnTo>
                    <a:pt x="130" y="38"/>
                  </a:lnTo>
                  <a:lnTo>
                    <a:pt x="1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86280" y="4649040"/>
              <a:ext cx="144360" cy="764640"/>
            </a:xfrm>
            <a:custGeom>
              <a:avLst/>
              <a:gdLst/>
              <a:ahLst/>
              <a:rect l="l" t="t" r="r" b="b"/>
              <a:pathLst>
                <a:path w="183" h="1044">
                  <a:moveTo>
                    <a:pt x="4" y="3"/>
                  </a:moveTo>
                  <a:lnTo>
                    <a:pt x="79" y="0"/>
                  </a:lnTo>
                  <a:lnTo>
                    <a:pt x="130" y="82"/>
                  </a:lnTo>
                  <a:lnTo>
                    <a:pt x="183" y="309"/>
                  </a:lnTo>
                  <a:lnTo>
                    <a:pt x="183" y="570"/>
                  </a:lnTo>
                  <a:lnTo>
                    <a:pt x="157" y="793"/>
                  </a:lnTo>
                  <a:lnTo>
                    <a:pt x="183" y="869"/>
                  </a:lnTo>
                  <a:lnTo>
                    <a:pt x="183" y="972"/>
                  </a:lnTo>
                  <a:lnTo>
                    <a:pt x="157" y="1044"/>
                  </a:lnTo>
                  <a:lnTo>
                    <a:pt x="122" y="979"/>
                  </a:lnTo>
                  <a:lnTo>
                    <a:pt x="104" y="879"/>
                  </a:lnTo>
                  <a:lnTo>
                    <a:pt x="66" y="803"/>
                  </a:lnTo>
                  <a:lnTo>
                    <a:pt x="110" y="735"/>
                  </a:lnTo>
                  <a:lnTo>
                    <a:pt x="135" y="570"/>
                  </a:lnTo>
                  <a:lnTo>
                    <a:pt x="135" y="415"/>
                  </a:lnTo>
                  <a:lnTo>
                    <a:pt x="110" y="261"/>
                  </a:lnTo>
                  <a:lnTo>
                    <a:pt x="57" y="147"/>
                  </a:lnTo>
                  <a:lnTo>
                    <a:pt x="0" y="9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6440" y="5152680"/>
              <a:ext cx="325440" cy="917640"/>
            </a:xfrm>
            <a:custGeom>
              <a:avLst/>
              <a:gdLst/>
              <a:ahLst/>
              <a:rect l="l" t="t" r="r" b="b"/>
              <a:pathLst>
                <a:path w="410" h="1251">
                  <a:moveTo>
                    <a:pt x="40" y="0"/>
                  </a:moveTo>
                  <a:lnTo>
                    <a:pt x="88" y="52"/>
                  </a:lnTo>
                  <a:lnTo>
                    <a:pt x="107" y="105"/>
                  </a:lnTo>
                  <a:lnTo>
                    <a:pt x="126" y="287"/>
                  </a:lnTo>
                  <a:lnTo>
                    <a:pt x="135" y="408"/>
                  </a:lnTo>
                  <a:lnTo>
                    <a:pt x="135" y="617"/>
                  </a:lnTo>
                  <a:lnTo>
                    <a:pt x="133" y="812"/>
                  </a:lnTo>
                  <a:lnTo>
                    <a:pt x="113" y="969"/>
                  </a:lnTo>
                  <a:lnTo>
                    <a:pt x="98" y="1017"/>
                  </a:lnTo>
                  <a:lnTo>
                    <a:pt x="198" y="1043"/>
                  </a:lnTo>
                  <a:lnTo>
                    <a:pt x="283" y="1073"/>
                  </a:lnTo>
                  <a:lnTo>
                    <a:pt x="397" y="1138"/>
                  </a:lnTo>
                  <a:lnTo>
                    <a:pt x="410" y="1164"/>
                  </a:lnTo>
                  <a:lnTo>
                    <a:pt x="400" y="1212"/>
                  </a:lnTo>
                  <a:lnTo>
                    <a:pt x="343" y="1251"/>
                  </a:lnTo>
                  <a:lnTo>
                    <a:pt x="322" y="1230"/>
                  </a:lnTo>
                  <a:lnTo>
                    <a:pt x="302" y="1177"/>
                  </a:lnTo>
                  <a:lnTo>
                    <a:pt x="248" y="1134"/>
                  </a:lnTo>
                  <a:lnTo>
                    <a:pt x="155" y="1086"/>
                  </a:lnTo>
                  <a:lnTo>
                    <a:pt x="94" y="1073"/>
                  </a:lnTo>
                  <a:lnTo>
                    <a:pt x="22" y="1073"/>
                  </a:lnTo>
                  <a:lnTo>
                    <a:pt x="22" y="1034"/>
                  </a:lnTo>
                  <a:lnTo>
                    <a:pt x="57" y="990"/>
                  </a:lnTo>
                  <a:lnTo>
                    <a:pt x="88" y="851"/>
                  </a:lnTo>
                  <a:lnTo>
                    <a:pt x="98" y="704"/>
                  </a:lnTo>
                  <a:lnTo>
                    <a:pt x="94" y="574"/>
                  </a:lnTo>
                  <a:lnTo>
                    <a:pt x="88" y="408"/>
                  </a:lnTo>
                  <a:lnTo>
                    <a:pt x="69" y="265"/>
                  </a:lnTo>
                  <a:lnTo>
                    <a:pt x="29" y="161"/>
                  </a:lnTo>
                  <a:lnTo>
                    <a:pt x="0" y="65"/>
                  </a:lnTo>
                  <a:lnTo>
                    <a:pt x="9" y="3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62440" y="5154480"/>
              <a:ext cx="299880" cy="828000"/>
            </a:xfrm>
            <a:custGeom>
              <a:avLst/>
              <a:gdLst/>
              <a:ahLst/>
              <a:rect l="l" t="t" r="r" b="b"/>
              <a:pathLst>
                <a:path w="377" h="1128">
                  <a:moveTo>
                    <a:pt x="0" y="90"/>
                  </a:moveTo>
                  <a:lnTo>
                    <a:pt x="0" y="18"/>
                  </a:lnTo>
                  <a:lnTo>
                    <a:pt x="38" y="0"/>
                  </a:lnTo>
                  <a:lnTo>
                    <a:pt x="99" y="0"/>
                  </a:lnTo>
                  <a:lnTo>
                    <a:pt x="142" y="42"/>
                  </a:lnTo>
                  <a:lnTo>
                    <a:pt x="151" y="80"/>
                  </a:lnTo>
                  <a:lnTo>
                    <a:pt x="142" y="162"/>
                  </a:lnTo>
                  <a:lnTo>
                    <a:pt x="113" y="264"/>
                  </a:lnTo>
                  <a:lnTo>
                    <a:pt x="99" y="423"/>
                  </a:lnTo>
                  <a:lnTo>
                    <a:pt x="91" y="525"/>
                  </a:lnTo>
                  <a:lnTo>
                    <a:pt x="91" y="542"/>
                  </a:lnTo>
                  <a:lnTo>
                    <a:pt x="104" y="687"/>
                  </a:lnTo>
                  <a:lnTo>
                    <a:pt x="126" y="769"/>
                  </a:lnTo>
                  <a:lnTo>
                    <a:pt x="142" y="834"/>
                  </a:lnTo>
                  <a:lnTo>
                    <a:pt x="138" y="861"/>
                  </a:lnTo>
                  <a:lnTo>
                    <a:pt x="195" y="936"/>
                  </a:lnTo>
                  <a:lnTo>
                    <a:pt x="255" y="984"/>
                  </a:lnTo>
                  <a:lnTo>
                    <a:pt x="321" y="1029"/>
                  </a:lnTo>
                  <a:lnTo>
                    <a:pt x="377" y="1050"/>
                  </a:lnTo>
                  <a:lnTo>
                    <a:pt x="377" y="1088"/>
                  </a:lnTo>
                  <a:lnTo>
                    <a:pt x="346" y="1118"/>
                  </a:lnTo>
                  <a:lnTo>
                    <a:pt x="273" y="1128"/>
                  </a:lnTo>
                  <a:lnTo>
                    <a:pt x="221" y="1108"/>
                  </a:lnTo>
                  <a:lnTo>
                    <a:pt x="221" y="1080"/>
                  </a:lnTo>
                  <a:lnTo>
                    <a:pt x="177" y="984"/>
                  </a:lnTo>
                  <a:lnTo>
                    <a:pt x="104" y="933"/>
                  </a:lnTo>
                  <a:lnTo>
                    <a:pt x="51" y="882"/>
                  </a:lnTo>
                  <a:lnTo>
                    <a:pt x="13" y="854"/>
                  </a:lnTo>
                  <a:lnTo>
                    <a:pt x="25" y="820"/>
                  </a:lnTo>
                  <a:lnTo>
                    <a:pt x="47" y="727"/>
                  </a:lnTo>
                  <a:lnTo>
                    <a:pt x="47" y="553"/>
                  </a:lnTo>
                  <a:lnTo>
                    <a:pt x="38" y="429"/>
                  </a:lnTo>
                  <a:lnTo>
                    <a:pt x="38" y="306"/>
                  </a:lnTo>
                  <a:lnTo>
                    <a:pt x="34" y="17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3257640"/>
            <a:ext cx="1142640" cy="2685960"/>
            <a:chOff x="1600200" y="3257640"/>
            <a:chExt cx="1142640" cy="2685960"/>
          </a:xfrm>
        </p:grpSpPr>
        <p:grpSp>
          <p:nvGrpSpPr>
            <p:cNvPr id="191" name=""/>
            <p:cNvGrpSpPr/>
            <p:nvPr/>
          </p:nvGrpSpPr>
          <p:grpSpPr>
            <a:xfrm>
              <a:off x="1725480" y="4162320"/>
              <a:ext cx="865080" cy="1781280"/>
              <a:chOff x="1725480" y="4162320"/>
              <a:chExt cx="865080" cy="1781280"/>
            </a:xfrm>
          </p:grpSpPr>
          <p:sp>
            <p:nvSpPr>
              <p:cNvPr id="192" name=""/>
              <p:cNvSpPr/>
              <p:nvPr/>
            </p:nvSpPr>
            <p:spPr>
              <a:xfrm>
                <a:off x="1995480" y="4430520"/>
                <a:ext cx="272880" cy="368640"/>
              </a:xfrm>
              <a:custGeom>
                <a:avLst/>
                <a:gdLst/>
                <a:ahLst/>
                <a:rect l="l" t="t" r="r" b="b"/>
                <a:pathLst>
                  <a:path w="345" h="464">
                    <a:moveTo>
                      <a:pt x="207" y="0"/>
                    </a:moveTo>
                    <a:lnTo>
                      <a:pt x="250" y="6"/>
                    </a:lnTo>
                    <a:lnTo>
                      <a:pt x="292" y="30"/>
                    </a:lnTo>
                    <a:lnTo>
                      <a:pt x="319" y="65"/>
                    </a:lnTo>
                    <a:lnTo>
                      <a:pt x="340" y="119"/>
                    </a:lnTo>
                    <a:lnTo>
                      <a:pt x="345" y="208"/>
                    </a:lnTo>
                    <a:lnTo>
                      <a:pt x="329" y="297"/>
                    </a:lnTo>
                    <a:lnTo>
                      <a:pt x="303" y="363"/>
                    </a:lnTo>
                    <a:lnTo>
                      <a:pt x="266" y="416"/>
                    </a:lnTo>
                    <a:lnTo>
                      <a:pt x="229" y="452"/>
                    </a:lnTo>
                    <a:lnTo>
                      <a:pt x="185" y="464"/>
                    </a:lnTo>
                    <a:lnTo>
                      <a:pt x="143" y="458"/>
                    </a:lnTo>
                    <a:lnTo>
                      <a:pt x="122" y="428"/>
                    </a:lnTo>
                    <a:lnTo>
                      <a:pt x="90" y="381"/>
                    </a:lnTo>
                    <a:lnTo>
                      <a:pt x="79" y="291"/>
                    </a:lnTo>
                    <a:lnTo>
                      <a:pt x="90" y="196"/>
                    </a:lnTo>
                    <a:lnTo>
                      <a:pt x="95" y="184"/>
                    </a:lnTo>
                    <a:lnTo>
                      <a:pt x="0" y="89"/>
                    </a:lnTo>
                    <a:lnTo>
                      <a:pt x="0" y="42"/>
                    </a:lnTo>
                    <a:lnTo>
                      <a:pt x="16" y="36"/>
                    </a:lnTo>
                    <a:lnTo>
                      <a:pt x="111" y="149"/>
                    </a:lnTo>
                    <a:lnTo>
                      <a:pt x="122" y="95"/>
                    </a:lnTo>
                    <a:lnTo>
                      <a:pt x="153" y="36"/>
                    </a:lnTo>
                    <a:lnTo>
                      <a:pt x="185" y="12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8080" y="4162320"/>
                <a:ext cx="312480" cy="763560"/>
              </a:xfrm>
              <a:custGeom>
                <a:avLst/>
                <a:gdLst/>
                <a:ahLst/>
                <a:rect l="l" t="t" r="r" b="b"/>
                <a:pathLst>
                  <a:path w="394" h="963">
                    <a:moveTo>
                      <a:pt x="83" y="797"/>
                    </a:moveTo>
                    <a:lnTo>
                      <a:pt x="53" y="832"/>
                    </a:lnTo>
                    <a:lnTo>
                      <a:pt x="11" y="874"/>
                    </a:lnTo>
                    <a:lnTo>
                      <a:pt x="0" y="939"/>
                    </a:lnTo>
                    <a:lnTo>
                      <a:pt x="23" y="963"/>
                    </a:lnTo>
                    <a:lnTo>
                      <a:pt x="59" y="963"/>
                    </a:lnTo>
                    <a:lnTo>
                      <a:pt x="95" y="927"/>
                    </a:lnTo>
                    <a:lnTo>
                      <a:pt x="142" y="850"/>
                    </a:lnTo>
                    <a:lnTo>
                      <a:pt x="166" y="767"/>
                    </a:lnTo>
                    <a:lnTo>
                      <a:pt x="196" y="708"/>
                    </a:lnTo>
                    <a:lnTo>
                      <a:pt x="238" y="625"/>
                    </a:lnTo>
                    <a:lnTo>
                      <a:pt x="285" y="577"/>
                    </a:lnTo>
                    <a:lnTo>
                      <a:pt x="297" y="464"/>
                    </a:lnTo>
                    <a:lnTo>
                      <a:pt x="309" y="387"/>
                    </a:lnTo>
                    <a:lnTo>
                      <a:pt x="309" y="316"/>
                    </a:lnTo>
                    <a:lnTo>
                      <a:pt x="327" y="221"/>
                    </a:lnTo>
                    <a:lnTo>
                      <a:pt x="357" y="185"/>
                    </a:lnTo>
                    <a:lnTo>
                      <a:pt x="394" y="24"/>
                    </a:lnTo>
                    <a:lnTo>
                      <a:pt x="351" y="0"/>
                    </a:lnTo>
                    <a:lnTo>
                      <a:pt x="279" y="6"/>
                    </a:lnTo>
                    <a:lnTo>
                      <a:pt x="273" y="125"/>
                    </a:lnTo>
                    <a:lnTo>
                      <a:pt x="214" y="101"/>
                    </a:lnTo>
                    <a:lnTo>
                      <a:pt x="190" y="119"/>
                    </a:lnTo>
                    <a:lnTo>
                      <a:pt x="250" y="173"/>
                    </a:lnTo>
                    <a:lnTo>
                      <a:pt x="250" y="239"/>
                    </a:lnTo>
                    <a:lnTo>
                      <a:pt x="256" y="310"/>
                    </a:lnTo>
                    <a:lnTo>
                      <a:pt x="256" y="393"/>
                    </a:lnTo>
                    <a:lnTo>
                      <a:pt x="250" y="464"/>
                    </a:lnTo>
                    <a:lnTo>
                      <a:pt x="214" y="535"/>
                    </a:lnTo>
                    <a:lnTo>
                      <a:pt x="172" y="672"/>
                    </a:lnTo>
                    <a:lnTo>
                      <a:pt x="136" y="731"/>
                    </a:lnTo>
                    <a:lnTo>
                      <a:pt x="83" y="79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25480" y="4199040"/>
                <a:ext cx="317520" cy="736560"/>
              </a:xfrm>
              <a:custGeom>
                <a:avLst/>
                <a:gdLst/>
                <a:ahLst/>
                <a:rect l="l" t="t" r="r" b="b"/>
                <a:pathLst>
                  <a:path w="398" h="928">
                    <a:moveTo>
                      <a:pt x="350" y="761"/>
                    </a:moveTo>
                    <a:lnTo>
                      <a:pt x="380" y="803"/>
                    </a:lnTo>
                    <a:lnTo>
                      <a:pt x="392" y="832"/>
                    </a:lnTo>
                    <a:lnTo>
                      <a:pt x="398" y="886"/>
                    </a:lnTo>
                    <a:lnTo>
                      <a:pt x="392" y="916"/>
                    </a:lnTo>
                    <a:lnTo>
                      <a:pt x="362" y="928"/>
                    </a:lnTo>
                    <a:lnTo>
                      <a:pt x="321" y="922"/>
                    </a:lnTo>
                    <a:lnTo>
                      <a:pt x="291" y="880"/>
                    </a:lnTo>
                    <a:lnTo>
                      <a:pt x="261" y="832"/>
                    </a:lnTo>
                    <a:lnTo>
                      <a:pt x="220" y="737"/>
                    </a:lnTo>
                    <a:lnTo>
                      <a:pt x="172" y="666"/>
                    </a:lnTo>
                    <a:lnTo>
                      <a:pt x="137" y="613"/>
                    </a:lnTo>
                    <a:lnTo>
                      <a:pt x="119" y="512"/>
                    </a:lnTo>
                    <a:lnTo>
                      <a:pt x="101" y="393"/>
                    </a:lnTo>
                    <a:lnTo>
                      <a:pt x="77" y="327"/>
                    </a:lnTo>
                    <a:lnTo>
                      <a:pt x="42" y="268"/>
                    </a:lnTo>
                    <a:lnTo>
                      <a:pt x="24" y="220"/>
                    </a:lnTo>
                    <a:lnTo>
                      <a:pt x="0" y="143"/>
                    </a:lnTo>
                    <a:lnTo>
                      <a:pt x="6" y="59"/>
                    </a:lnTo>
                    <a:lnTo>
                      <a:pt x="48" y="5"/>
                    </a:lnTo>
                    <a:lnTo>
                      <a:pt x="101" y="0"/>
                    </a:lnTo>
                    <a:lnTo>
                      <a:pt x="119" y="131"/>
                    </a:lnTo>
                    <a:lnTo>
                      <a:pt x="149" y="119"/>
                    </a:lnTo>
                    <a:lnTo>
                      <a:pt x="154" y="155"/>
                    </a:lnTo>
                    <a:lnTo>
                      <a:pt x="119" y="185"/>
                    </a:lnTo>
                    <a:lnTo>
                      <a:pt x="119" y="244"/>
                    </a:lnTo>
                    <a:lnTo>
                      <a:pt x="149" y="339"/>
                    </a:lnTo>
                    <a:lnTo>
                      <a:pt x="172" y="440"/>
                    </a:lnTo>
                    <a:lnTo>
                      <a:pt x="190" y="553"/>
                    </a:lnTo>
                    <a:lnTo>
                      <a:pt x="214" y="595"/>
                    </a:lnTo>
                    <a:lnTo>
                      <a:pt x="267" y="666"/>
                    </a:lnTo>
                    <a:lnTo>
                      <a:pt x="321" y="725"/>
                    </a:lnTo>
                    <a:lnTo>
                      <a:pt x="350" y="7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09880" y="4842000"/>
                <a:ext cx="282240" cy="533160"/>
              </a:xfrm>
              <a:custGeom>
                <a:avLst/>
                <a:gdLst/>
                <a:ahLst/>
                <a:rect l="l" t="t" r="r" b="b"/>
                <a:pathLst>
                  <a:path w="357" h="673">
                    <a:moveTo>
                      <a:pt x="136" y="0"/>
                    </a:moveTo>
                    <a:lnTo>
                      <a:pt x="191" y="0"/>
                    </a:lnTo>
                    <a:lnTo>
                      <a:pt x="256" y="12"/>
                    </a:lnTo>
                    <a:lnTo>
                      <a:pt x="292" y="48"/>
                    </a:lnTo>
                    <a:lnTo>
                      <a:pt x="327" y="113"/>
                    </a:lnTo>
                    <a:lnTo>
                      <a:pt x="345" y="162"/>
                    </a:lnTo>
                    <a:lnTo>
                      <a:pt x="357" y="221"/>
                    </a:lnTo>
                    <a:lnTo>
                      <a:pt x="357" y="292"/>
                    </a:lnTo>
                    <a:lnTo>
                      <a:pt x="351" y="364"/>
                    </a:lnTo>
                    <a:lnTo>
                      <a:pt x="345" y="441"/>
                    </a:lnTo>
                    <a:lnTo>
                      <a:pt x="321" y="536"/>
                    </a:lnTo>
                    <a:lnTo>
                      <a:pt x="292" y="602"/>
                    </a:lnTo>
                    <a:lnTo>
                      <a:pt x="238" y="655"/>
                    </a:lnTo>
                    <a:lnTo>
                      <a:pt x="179" y="673"/>
                    </a:lnTo>
                    <a:lnTo>
                      <a:pt x="113" y="655"/>
                    </a:lnTo>
                    <a:lnTo>
                      <a:pt x="71" y="572"/>
                    </a:lnTo>
                    <a:lnTo>
                      <a:pt x="42" y="495"/>
                    </a:lnTo>
                    <a:lnTo>
                      <a:pt x="24" y="405"/>
                    </a:lnTo>
                    <a:lnTo>
                      <a:pt x="0" y="322"/>
                    </a:lnTo>
                    <a:lnTo>
                      <a:pt x="0" y="209"/>
                    </a:lnTo>
                    <a:lnTo>
                      <a:pt x="18" y="131"/>
                    </a:lnTo>
                    <a:lnTo>
                      <a:pt x="42" y="71"/>
                    </a:lnTo>
                    <a:lnTo>
                      <a:pt x="7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98520" y="5300640"/>
                <a:ext cx="217440" cy="612720"/>
              </a:xfrm>
              <a:custGeom>
                <a:avLst/>
                <a:gdLst/>
                <a:ahLst/>
                <a:rect l="l" t="t" r="r" b="b"/>
                <a:pathLst>
                  <a:path w="274" h="773">
                    <a:moveTo>
                      <a:pt x="51" y="89"/>
                    </a:moveTo>
                    <a:lnTo>
                      <a:pt x="15" y="3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104" y="41"/>
                    </a:lnTo>
                    <a:lnTo>
                      <a:pt x="158" y="127"/>
                    </a:lnTo>
                    <a:lnTo>
                      <a:pt x="188" y="209"/>
                    </a:lnTo>
                    <a:lnTo>
                      <a:pt x="214" y="288"/>
                    </a:lnTo>
                    <a:lnTo>
                      <a:pt x="223" y="361"/>
                    </a:lnTo>
                    <a:lnTo>
                      <a:pt x="220" y="400"/>
                    </a:lnTo>
                    <a:lnTo>
                      <a:pt x="194" y="447"/>
                    </a:lnTo>
                    <a:lnTo>
                      <a:pt x="149" y="574"/>
                    </a:lnTo>
                    <a:lnTo>
                      <a:pt x="98" y="646"/>
                    </a:lnTo>
                    <a:lnTo>
                      <a:pt x="86" y="678"/>
                    </a:lnTo>
                    <a:lnTo>
                      <a:pt x="134" y="684"/>
                    </a:lnTo>
                    <a:lnTo>
                      <a:pt x="197" y="684"/>
                    </a:lnTo>
                    <a:lnTo>
                      <a:pt x="274" y="713"/>
                    </a:lnTo>
                    <a:lnTo>
                      <a:pt x="268" y="735"/>
                    </a:lnTo>
                    <a:lnTo>
                      <a:pt x="256" y="760"/>
                    </a:lnTo>
                    <a:lnTo>
                      <a:pt x="232" y="773"/>
                    </a:lnTo>
                    <a:lnTo>
                      <a:pt x="185" y="754"/>
                    </a:lnTo>
                    <a:lnTo>
                      <a:pt x="134" y="726"/>
                    </a:lnTo>
                    <a:lnTo>
                      <a:pt x="63" y="722"/>
                    </a:lnTo>
                    <a:lnTo>
                      <a:pt x="18" y="732"/>
                    </a:lnTo>
                    <a:lnTo>
                      <a:pt x="0" y="716"/>
                    </a:lnTo>
                    <a:lnTo>
                      <a:pt x="0" y="694"/>
                    </a:lnTo>
                    <a:lnTo>
                      <a:pt x="24" y="669"/>
                    </a:lnTo>
                    <a:lnTo>
                      <a:pt x="63" y="627"/>
                    </a:lnTo>
                    <a:lnTo>
                      <a:pt x="131" y="523"/>
                    </a:lnTo>
                    <a:lnTo>
                      <a:pt x="161" y="431"/>
                    </a:lnTo>
                    <a:lnTo>
                      <a:pt x="170" y="342"/>
                    </a:lnTo>
                    <a:lnTo>
                      <a:pt x="167" y="294"/>
                    </a:lnTo>
                    <a:lnTo>
                      <a:pt x="143" y="209"/>
                    </a:lnTo>
                    <a:lnTo>
                      <a:pt x="80" y="117"/>
                    </a:lnTo>
                    <a:lnTo>
                      <a:pt x="36" y="70"/>
                    </a:lnTo>
                    <a:lnTo>
                      <a:pt x="51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9800" y="5291280"/>
                <a:ext cx="217440" cy="652320"/>
              </a:xfrm>
              <a:custGeom>
                <a:avLst/>
                <a:gdLst/>
                <a:ahLst/>
                <a:rect l="l" t="t" r="r" b="b"/>
                <a:pathLst>
                  <a:path w="273" h="824">
                    <a:moveTo>
                      <a:pt x="141" y="148"/>
                    </a:moveTo>
                    <a:lnTo>
                      <a:pt x="183" y="65"/>
                    </a:lnTo>
                    <a:lnTo>
                      <a:pt x="223" y="0"/>
                    </a:lnTo>
                    <a:lnTo>
                      <a:pt x="253" y="0"/>
                    </a:lnTo>
                    <a:lnTo>
                      <a:pt x="270" y="26"/>
                    </a:lnTo>
                    <a:lnTo>
                      <a:pt x="273" y="71"/>
                    </a:lnTo>
                    <a:lnTo>
                      <a:pt x="248" y="103"/>
                    </a:lnTo>
                    <a:lnTo>
                      <a:pt x="205" y="145"/>
                    </a:lnTo>
                    <a:lnTo>
                      <a:pt x="171" y="192"/>
                    </a:lnTo>
                    <a:lnTo>
                      <a:pt x="136" y="257"/>
                    </a:lnTo>
                    <a:lnTo>
                      <a:pt x="121" y="301"/>
                    </a:lnTo>
                    <a:lnTo>
                      <a:pt x="106" y="358"/>
                    </a:lnTo>
                    <a:lnTo>
                      <a:pt x="104" y="430"/>
                    </a:lnTo>
                    <a:lnTo>
                      <a:pt x="109" y="495"/>
                    </a:lnTo>
                    <a:lnTo>
                      <a:pt x="126" y="575"/>
                    </a:lnTo>
                    <a:lnTo>
                      <a:pt x="158" y="646"/>
                    </a:lnTo>
                    <a:lnTo>
                      <a:pt x="186" y="687"/>
                    </a:lnTo>
                    <a:lnTo>
                      <a:pt x="203" y="717"/>
                    </a:lnTo>
                    <a:lnTo>
                      <a:pt x="205" y="741"/>
                    </a:lnTo>
                    <a:lnTo>
                      <a:pt x="191" y="749"/>
                    </a:lnTo>
                    <a:lnTo>
                      <a:pt x="156" y="755"/>
                    </a:lnTo>
                    <a:lnTo>
                      <a:pt x="104" y="773"/>
                    </a:lnTo>
                    <a:lnTo>
                      <a:pt x="64" y="797"/>
                    </a:lnTo>
                    <a:lnTo>
                      <a:pt x="39" y="824"/>
                    </a:lnTo>
                    <a:lnTo>
                      <a:pt x="17" y="818"/>
                    </a:lnTo>
                    <a:lnTo>
                      <a:pt x="0" y="785"/>
                    </a:lnTo>
                    <a:lnTo>
                      <a:pt x="0" y="758"/>
                    </a:lnTo>
                    <a:lnTo>
                      <a:pt x="39" y="735"/>
                    </a:lnTo>
                    <a:lnTo>
                      <a:pt x="106" y="720"/>
                    </a:lnTo>
                    <a:lnTo>
                      <a:pt x="168" y="711"/>
                    </a:lnTo>
                    <a:lnTo>
                      <a:pt x="141" y="678"/>
                    </a:lnTo>
                    <a:lnTo>
                      <a:pt x="124" y="637"/>
                    </a:lnTo>
                    <a:lnTo>
                      <a:pt x="101" y="578"/>
                    </a:lnTo>
                    <a:lnTo>
                      <a:pt x="76" y="516"/>
                    </a:lnTo>
                    <a:lnTo>
                      <a:pt x="69" y="439"/>
                    </a:lnTo>
                    <a:lnTo>
                      <a:pt x="67" y="364"/>
                    </a:lnTo>
                    <a:lnTo>
                      <a:pt x="84" y="293"/>
                    </a:lnTo>
                    <a:lnTo>
                      <a:pt x="116" y="198"/>
                    </a:lnTo>
                    <a:lnTo>
                      <a:pt x="141" y="1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600200" y="3257640"/>
              <a:ext cx="1142640" cy="1209240"/>
              <a:chOff x="1600200" y="3257640"/>
              <a:chExt cx="1142640" cy="1209240"/>
            </a:xfrm>
          </p:grpSpPr>
          <p:sp>
            <p:nvSpPr>
              <p:cNvPr id="199" name=""/>
              <p:cNvSpPr/>
              <p:nvPr/>
            </p:nvSpPr>
            <p:spPr>
              <a:xfrm>
                <a:off x="1678320" y="3394080"/>
                <a:ext cx="808920" cy="103140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49160" y="3743280"/>
                <a:ext cx="183240" cy="36792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27200" y="3924000"/>
                <a:ext cx="454680" cy="51732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09560" y="3267000"/>
                <a:ext cx="534600" cy="32184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22160" y="3541680"/>
                <a:ext cx="569880" cy="30600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22600" y="3687480"/>
                <a:ext cx="429120" cy="40608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84680" y="3340080"/>
                <a:ext cx="519120" cy="14724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76400" y="3873240"/>
                <a:ext cx="81360" cy="15552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17360" y="4029120"/>
                <a:ext cx="134280" cy="9144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81000" y="4130640"/>
                <a:ext cx="749880" cy="28224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76520" y="3770280"/>
                <a:ext cx="965880" cy="65052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37480" y="4024080"/>
                <a:ext cx="186480" cy="6624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65240" y="3849480"/>
                <a:ext cx="84600" cy="17928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81800" y="3332160"/>
                <a:ext cx="437040" cy="18684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87120" y="4008240"/>
                <a:ext cx="186480" cy="11232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79440" y="3589200"/>
                <a:ext cx="143640" cy="45540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97080" y="3570120"/>
                <a:ext cx="148320" cy="48528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34120" y="3757320"/>
                <a:ext cx="250200" cy="25848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29440" y="3690720"/>
                <a:ext cx="284040" cy="19512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22840" y="3800520"/>
                <a:ext cx="712080" cy="33768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91040" y="3654360"/>
                <a:ext cx="421200" cy="22032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31880" y="3590640"/>
                <a:ext cx="437040" cy="29016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05320" y="3404880"/>
                <a:ext cx="879120" cy="35532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49160" y="3265200"/>
                <a:ext cx="940320" cy="475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42720" y="3792240"/>
                <a:ext cx="483480" cy="29340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61360" y="3697200"/>
                <a:ext cx="146880" cy="9792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00200" y="3257640"/>
                <a:ext cx="967320" cy="40608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03080" y="3528720"/>
                <a:ext cx="597240" cy="36000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08560" y="3570120"/>
                <a:ext cx="499320" cy="22032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25080" y="3485880"/>
                <a:ext cx="349560" cy="54900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33440" y="3906720"/>
                <a:ext cx="91080" cy="12816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10480" y="3351240"/>
                <a:ext cx="287280" cy="40572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14680" y="3682800"/>
                <a:ext cx="1028160" cy="47268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36240" y="3887640"/>
                <a:ext cx="94320" cy="1710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40280" y="3958920"/>
                <a:ext cx="149760" cy="6012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49160" y="3747960"/>
                <a:ext cx="962640" cy="55692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75080" y="3873240"/>
                <a:ext cx="172080" cy="48096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22160" y="3914640"/>
                <a:ext cx="1034640" cy="55224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53640" y="4186080"/>
                <a:ext cx="522000" cy="18216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53640" y="4008240"/>
                <a:ext cx="239040" cy="12528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64040" y="4084560"/>
                <a:ext cx="207360" cy="3132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04760" y="3327120"/>
                <a:ext cx="576360" cy="16956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1000" y="3676680"/>
                <a:ext cx="298440" cy="14400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85920" y="3643200"/>
                <a:ext cx="529920" cy="44100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41520" y="4037040"/>
                <a:ext cx="93960" cy="5184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57200" y="3733920"/>
            <a:ext cx="837720" cy="1923120"/>
            <a:chOff x="457200" y="3733920"/>
            <a:chExt cx="837720" cy="1923120"/>
          </a:xfrm>
        </p:grpSpPr>
        <p:grpSp>
          <p:nvGrpSpPr>
            <p:cNvPr id="245" name=""/>
            <p:cNvGrpSpPr/>
            <p:nvPr/>
          </p:nvGrpSpPr>
          <p:grpSpPr>
            <a:xfrm>
              <a:off x="549000" y="4381920"/>
              <a:ext cx="633960" cy="1275120"/>
              <a:chOff x="549000" y="4381920"/>
              <a:chExt cx="633960" cy="1275120"/>
            </a:xfrm>
          </p:grpSpPr>
          <p:sp>
            <p:nvSpPr>
              <p:cNvPr id="246" name=""/>
              <p:cNvSpPr/>
              <p:nvPr/>
            </p:nvSpPr>
            <p:spPr>
              <a:xfrm>
                <a:off x="747000" y="4573800"/>
                <a:ext cx="199800" cy="263880"/>
              </a:xfrm>
              <a:custGeom>
                <a:avLst/>
                <a:gdLst/>
                <a:ahLst/>
                <a:rect l="l" t="t" r="r" b="b"/>
                <a:pathLst>
                  <a:path w="345" h="464">
                    <a:moveTo>
                      <a:pt x="207" y="0"/>
                    </a:moveTo>
                    <a:lnTo>
                      <a:pt x="250" y="6"/>
                    </a:lnTo>
                    <a:lnTo>
                      <a:pt x="292" y="30"/>
                    </a:lnTo>
                    <a:lnTo>
                      <a:pt x="319" y="65"/>
                    </a:lnTo>
                    <a:lnTo>
                      <a:pt x="340" y="119"/>
                    </a:lnTo>
                    <a:lnTo>
                      <a:pt x="345" y="208"/>
                    </a:lnTo>
                    <a:lnTo>
                      <a:pt x="329" y="297"/>
                    </a:lnTo>
                    <a:lnTo>
                      <a:pt x="303" y="363"/>
                    </a:lnTo>
                    <a:lnTo>
                      <a:pt x="266" y="416"/>
                    </a:lnTo>
                    <a:lnTo>
                      <a:pt x="229" y="452"/>
                    </a:lnTo>
                    <a:lnTo>
                      <a:pt x="185" y="464"/>
                    </a:lnTo>
                    <a:lnTo>
                      <a:pt x="143" y="458"/>
                    </a:lnTo>
                    <a:lnTo>
                      <a:pt x="122" y="428"/>
                    </a:lnTo>
                    <a:lnTo>
                      <a:pt x="90" y="381"/>
                    </a:lnTo>
                    <a:lnTo>
                      <a:pt x="79" y="291"/>
                    </a:lnTo>
                    <a:lnTo>
                      <a:pt x="90" y="196"/>
                    </a:lnTo>
                    <a:lnTo>
                      <a:pt x="95" y="184"/>
                    </a:lnTo>
                    <a:lnTo>
                      <a:pt x="0" y="89"/>
                    </a:lnTo>
                    <a:lnTo>
                      <a:pt x="0" y="42"/>
                    </a:lnTo>
                    <a:lnTo>
                      <a:pt x="16" y="36"/>
                    </a:lnTo>
                    <a:lnTo>
                      <a:pt x="111" y="149"/>
                    </a:lnTo>
                    <a:lnTo>
                      <a:pt x="122" y="95"/>
                    </a:lnTo>
                    <a:lnTo>
                      <a:pt x="153" y="36"/>
                    </a:lnTo>
                    <a:lnTo>
                      <a:pt x="185" y="12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54000" y="4381920"/>
                <a:ext cx="228960" cy="546480"/>
              </a:xfrm>
              <a:custGeom>
                <a:avLst/>
                <a:gdLst/>
                <a:ahLst/>
                <a:rect l="l" t="t" r="r" b="b"/>
                <a:pathLst>
                  <a:path w="394" h="963">
                    <a:moveTo>
                      <a:pt x="83" y="797"/>
                    </a:moveTo>
                    <a:lnTo>
                      <a:pt x="53" y="832"/>
                    </a:lnTo>
                    <a:lnTo>
                      <a:pt x="11" y="874"/>
                    </a:lnTo>
                    <a:lnTo>
                      <a:pt x="0" y="939"/>
                    </a:lnTo>
                    <a:lnTo>
                      <a:pt x="23" y="963"/>
                    </a:lnTo>
                    <a:lnTo>
                      <a:pt x="59" y="963"/>
                    </a:lnTo>
                    <a:lnTo>
                      <a:pt x="95" y="927"/>
                    </a:lnTo>
                    <a:lnTo>
                      <a:pt x="142" y="850"/>
                    </a:lnTo>
                    <a:lnTo>
                      <a:pt x="166" y="767"/>
                    </a:lnTo>
                    <a:lnTo>
                      <a:pt x="196" y="708"/>
                    </a:lnTo>
                    <a:lnTo>
                      <a:pt x="238" y="625"/>
                    </a:lnTo>
                    <a:lnTo>
                      <a:pt x="285" y="577"/>
                    </a:lnTo>
                    <a:lnTo>
                      <a:pt x="297" y="464"/>
                    </a:lnTo>
                    <a:lnTo>
                      <a:pt x="309" y="387"/>
                    </a:lnTo>
                    <a:lnTo>
                      <a:pt x="309" y="316"/>
                    </a:lnTo>
                    <a:lnTo>
                      <a:pt x="327" y="221"/>
                    </a:lnTo>
                    <a:lnTo>
                      <a:pt x="357" y="185"/>
                    </a:lnTo>
                    <a:lnTo>
                      <a:pt x="394" y="24"/>
                    </a:lnTo>
                    <a:lnTo>
                      <a:pt x="351" y="0"/>
                    </a:lnTo>
                    <a:lnTo>
                      <a:pt x="279" y="6"/>
                    </a:lnTo>
                    <a:lnTo>
                      <a:pt x="273" y="125"/>
                    </a:lnTo>
                    <a:lnTo>
                      <a:pt x="214" y="101"/>
                    </a:lnTo>
                    <a:lnTo>
                      <a:pt x="190" y="119"/>
                    </a:lnTo>
                    <a:lnTo>
                      <a:pt x="250" y="173"/>
                    </a:lnTo>
                    <a:lnTo>
                      <a:pt x="250" y="239"/>
                    </a:lnTo>
                    <a:lnTo>
                      <a:pt x="256" y="310"/>
                    </a:lnTo>
                    <a:lnTo>
                      <a:pt x="256" y="393"/>
                    </a:lnTo>
                    <a:lnTo>
                      <a:pt x="250" y="464"/>
                    </a:lnTo>
                    <a:lnTo>
                      <a:pt x="214" y="535"/>
                    </a:lnTo>
                    <a:lnTo>
                      <a:pt x="172" y="672"/>
                    </a:lnTo>
                    <a:lnTo>
                      <a:pt x="136" y="731"/>
                    </a:lnTo>
                    <a:lnTo>
                      <a:pt x="83" y="79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9000" y="4408200"/>
                <a:ext cx="232560" cy="527400"/>
              </a:xfrm>
              <a:custGeom>
                <a:avLst/>
                <a:gdLst/>
                <a:ahLst/>
                <a:rect l="l" t="t" r="r" b="b"/>
                <a:pathLst>
                  <a:path w="398" h="928">
                    <a:moveTo>
                      <a:pt x="350" y="761"/>
                    </a:moveTo>
                    <a:lnTo>
                      <a:pt x="380" y="803"/>
                    </a:lnTo>
                    <a:lnTo>
                      <a:pt x="392" y="832"/>
                    </a:lnTo>
                    <a:lnTo>
                      <a:pt x="398" y="886"/>
                    </a:lnTo>
                    <a:lnTo>
                      <a:pt x="392" y="916"/>
                    </a:lnTo>
                    <a:lnTo>
                      <a:pt x="362" y="928"/>
                    </a:lnTo>
                    <a:lnTo>
                      <a:pt x="321" y="922"/>
                    </a:lnTo>
                    <a:lnTo>
                      <a:pt x="291" y="880"/>
                    </a:lnTo>
                    <a:lnTo>
                      <a:pt x="261" y="832"/>
                    </a:lnTo>
                    <a:lnTo>
                      <a:pt x="220" y="737"/>
                    </a:lnTo>
                    <a:lnTo>
                      <a:pt x="172" y="666"/>
                    </a:lnTo>
                    <a:lnTo>
                      <a:pt x="137" y="613"/>
                    </a:lnTo>
                    <a:lnTo>
                      <a:pt x="119" y="512"/>
                    </a:lnTo>
                    <a:lnTo>
                      <a:pt x="101" y="393"/>
                    </a:lnTo>
                    <a:lnTo>
                      <a:pt x="77" y="327"/>
                    </a:lnTo>
                    <a:lnTo>
                      <a:pt x="42" y="268"/>
                    </a:lnTo>
                    <a:lnTo>
                      <a:pt x="24" y="220"/>
                    </a:lnTo>
                    <a:lnTo>
                      <a:pt x="0" y="143"/>
                    </a:lnTo>
                    <a:lnTo>
                      <a:pt x="6" y="59"/>
                    </a:lnTo>
                    <a:lnTo>
                      <a:pt x="48" y="5"/>
                    </a:lnTo>
                    <a:lnTo>
                      <a:pt x="101" y="0"/>
                    </a:lnTo>
                    <a:lnTo>
                      <a:pt x="119" y="131"/>
                    </a:lnTo>
                    <a:lnTo>
                      <a:pt x="149" y="119"/>
                    </a:lnTo>
                    <a:lnTo>
                      <a:pt x="154" y="155"/>
                    </a:lnTo>
                    <a:lnTo>
                      <a:pt x="119" y="185"/>
                    </a:lnTo>
                    <a:lnTo>
                      <a:pt x="119" y="244"/>
                    </a:lnTo>
                    <a:lnTo>
                      <a:pt x="149" y="339"/>
                    </a:lnTo>
                    <a:lnTo>
                      <a:pt x="172" y="440"/>
                    </a:lnTo>
                    <a:lnTo>
                      <a:pt x="190" y="553"/>
                    </a:lnTo>
                    <a:lnTo>
                      <a:pt x="214" y="595"/>
                    </a:lnTo>
                    <a:lnTo>
                      <a:pt x="267" y="666"/>
                    </a:lnTo>
                    <a:lnTo>
                      <a:pt x="321" y="725"/>
                    </a:lnTo>
                    <a:lnTo>
                      <a:pt x="350" y="7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440" y="4868640"/>
                <a:ext cx="206640" cy="381600"/>
              </a:xfrm>
              <a:custGeom>
                <a:avLst/>
                <a:gdLst/>
                <a:ahLst/>
                <a:rect l="l" t="t" r="r" b="b"/>
                <a:pathLst>
                  <a:path w="357" h="673">
                    <a:moveTo>
                      <a:pt x="136" y="0"/>
                    </a:moveTo>
                    <a:lnTo>
                      <a:pt x="191" y="0"/>
                    </a:lnTo>
                    <a:lnTo>
                      <a:pt x="256" y="12"/>
                    </a:lnTo>
                    <a:lnTo>
                      <a:pt x="292" y="48"/>
                    </a:lnTo>
                    <a:lnTo>
                      <a:pt x="327" y="113"/>
                    </a:lnTo>
                    <a:lnTo>
                      <a:pt x="345" y="162"/>
                    </a:lnTo>
                    <a:lnTo>
                      <a:pt x="357" y="221"/>
                    </a:lnTo>
                    <a:lnTo>
                      <a:pt x="357" y="292"/>
                    </a:lnTo>
                    <a:lnTo>
                      <a:pt x="351" y="364"/>
                    </a:lnTo>
                    <a:lnTo>
                      <a:pt x="345" y="441"/>
                    </a:lnTo>
                    <a:lnTo>
                      <a:pt x="321" y="536"/>
                    </a:lnTo>
                    <a:lnTo>
                      <a:pt x="292" y="602"/>
                    </a:lnTo>
                    <a:lnTo>
                      <a:pt x="238" y="655"/>
                    </a:lnTo>
                    <a:lnTo>
                      <a:pt x="179" y="673"/>
                    </a:lnTo>
                    <a:lnTo>
                      <a:pt x="113" y="655"/>
                    </a:lnTo>
                    <a:lnTo>
                      <a:pt x="71" y="572"/>
                    </a:lnTo>
                    <a:lnTo>
                      <a:pt x="42" y="495"/>
                    </a:lnTo>
                    <a:lnTo>
                      <a:pt x="24" y="405"/>
                    </a:lnTo>
                    <a:lnTo>
                      <a:pt x="0" y="322"/>
                    </a:lnTo>
                    <a:lnTo>
                      <a:pt x="0" y="209"/>
                    </a:lnTo>
                    <a:lnTo>
                      <a:pt x="18" y="131"/>
                    </a:lnTo>
                    <a:lnTo>
                      <a:pt x="42" y="71"/>
                    </a:lnTo>
                    <a:lnTo>
                      <a:pt x="7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" y="5196960"/>
                <a:ext cx="159120" cy="438480"/>
              </a:xfrm>
              <a:custGeom>
                <a:avLst/>
                <a:gdLst/>
                <a:ahLst/>
                <a:rect l="l" t="t" r="r" b="b"/>
                <a:pathLst>
                  <a:path w="274" h="773">
                    <a:moveTo>
                      <a:pt x="51" y="89"/>
                    </a:moveTo>
                    <a:lnTo>
                      <a:pt x="15" y="3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104" y="41"/>
                    </a:lnTo>
                    <a:lnTo>
                      <a:pt x="158" y="127"/>
                    </a:lnTo>
                    <a:lnTo>
                      <a:pt x="188" y="209"/>
                    </a:lnTo>
                    <a:lnTo>
                      <a:pt x="214" y="288"/>
                    </a:lnTo>
                    <a:lnTo>
                      <a:pt x="223" y="361"/>
                    </a:lnTo>
                    <a:lnTo>
                      <a:pt x="220" y="400"/>
                    </a:lnTo>
                    <a:lnTo>
                      <a:pt x="194" y="447"/>
                    </a:lnTo>
                    <a:lnTo>
                      <a:pt x="149" y="574"/>
                    </a:lnTo>
                    <a:lnTo>
                      <a:pt x="98" y="646"/>
                    </a:lnTo>
                    <a:lnTo>
                      <a:pt x="86" y="678"/>
                    </a:lnTo>
                    <a:lnTo>
                      <a:pt x="134" y="684"/>
                    </a:lnTo>
                    <a:lnTo>
                      <a:pt x="197" y="684"/>
                    </a:lnTo>
                    <a:lnTo>
                      <a:pt x="274" y="713"/>
                    </a:lnTo>
                    <a:lnTo>
                      <a:pt x="268" y="735"/>
                    </a:lnTo>
                    <a:lnTo>
                      <a:pt x="256" y="760"/>
                    </a:lnTo>
                    <a:lnTo>
                      <a:pt x="232" y="773"/>
                    </a:lnTo>
                    <a:lnTo>
                      <a:pt x="185" y="754"/>
                    </a:lnTo>
                    <a:lnTo>
                      <a:pt x="134" y="726"/>
                    </a:lnTo>
                    <a:lnTo>
                      <a:pt x="63" y="722"/>
                    </a:lnTo>
                    <a:lnTo>
                      <a:pt x="18" y="732"/>
                    </a:lnTo>
                    <a:lnTo>
                      <a:pt x="0" y="716"/>
                    </a:lnTo>
                    <a:lnTo>
                      <a:pt x="0" y="694"/>
                    </a:lnTo>
                    <a:lnTo>
                      <a:pt x="24" y="669"/>
                    </a:lnTo>
                    <a:lnTo>
                      <a:pt x="63" y="627"/>
                    </a:lnTo>
                    <a:lnTo>
                      <a:pt x="131" y="523"/>
                    </a:lnTo>
                    <a:lnTo>
                      <a:pt x="161" y="431"/>
                    </a:lnTo>
                    <a:lnTo>
                      <a:pt x="170" y="342"/>
                    </a:lnTo>
                    <a:lnTo>
                      <a:pt x="167" y="294"/>
                    </a:lnTo>
                    <a:lnTo>
                      <a:pt x="143" y="209"/>
                    </a:lnTo>
                    <a:lnTo>
                      <a:pt x="80" y="117"/>
                    </a:lnTo>
                    <a:lnTo>
                      <a:pt x="36" y="70"/>
                    </a:lnTo>
                    <a:lnTo>
                      <a:pt x="51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4000" y="5190120"/>
                <a:ext cx="159120" cy="466920"/>
              </a:xfrm>
              <a:custGeom>
                <a:avLst/>
                <a:gdLst/>
                <a:ahLst/>
                <a:rect l="l" t="t" r="r" b="b"/>
                <a:pathLst>
                  <a:path w="273" h="824">
                    <a:moveTo>
                      <a:pt x="141" y="148"/>
                    </a:moveTo>
                    <a:lnTo>
                      <a:pt x="183" y="65"/>
                    </a:lnTo>
                    <a:lnTo>
                      <a:pt x="223" y="0"/>
                    </a:lnTo>
                    <a:lnTo>
                      <a:pt x="253" y="0"/>
                    </a:lnTo>
                    <a:lnTo>
                      <a:pt x="270" y="26"/>
                    </a:lnTo>
                    <a:lnTo>
                      <a:pt x="273" y="71"/>
                    </a:lnTo>
                    <a:lnTo>
                      <a:pt x="248" y="103"/>
                    </a:lnTo>
                    <a:lnTo>
                      <a:pt x="205" y="145"/>
                    </a:lnTo>
                    <a:lnTo>
                      <a:pt x="171" y="192"/>
                    </a:lnTo>
                    <a:lnTo>
                      <a:pt x="136" y="257"/>
                    </a:lnTo>
                    <a:lnTo>
                      <a:pt x="121" y="301"/>
                    </a:lnTo>
                    <a:lnTo>
                      <a:pt x="106" y="358"/>
                    </a:lnTo>
                    <a:lnTo>
                      <a:pt x="104" y="430"/>
                    </a:lnTo>
                    <a:lnTo>
                      <a:pt x="109" y="495"/>
                    </a:lnTo>
                    <a:lnTo>
                      <a:pt x="126" y="575"/>
                    </a:lnTo>
                    <a:lnTo>
                      <a:pt x="158" y="646"/>
                    </a:lnTo>
                    <a:lnTo>
                      <a:pt x="186" y="687"/>
                    </a:lnTo>
                    <a:lnTo>
                      <a:pt x="203" y="717"/>
                    </a:lnTo>
                    <a:lnTo>
                      <a:pt x="205" y="741"/>
                    </a:lnTo>
                    <a:lnTo>
                      <a:pt x="191" y="749"/>
                    </a:lnTo>
                    <a:lnTo>
                      <a:pt x="156" y="755"/>
                    </a:lnTo>
                    <a:lnTo>
                      <a:pt x="104" y="773"/>
                    </a:lnTo>
                    <a:lnTo>
                      <a:pt x="64" y="797"/>
                    </a:lnTo>
                    <a:lnTo>
                      <a:pt x="39" y="824"/>
                    </a:lnTo>
                    <a:lnTo>
                      <a:pt x="17" y="818"/>
                    </a:lnTo>
                    <a:lnTo>
                      <a:pt x="0" y="785"/>
                    </a:lnTo>
                    <a:lnTo>
                      <a:pt x="0" y="758"/>
                    </a:lnTo>
                    <a:lnTo>
                      <a:pt x="39" y="735"/>
                    </a:lnTo>
                    <a:lnTo>
                      <a:pt x="106" y="720"/>
                    </a:lnTo>
                    <a:lnTo>
                      <a:pt x="168" y="711"/>
                    </a:lnTo>
                    <a:lnTo>
                      <a:pt x="141" y="678"/>
                    </a:lnTo>
                    <a:lnTo>
                      <a:pt x="124" y="637"/>
                    </a:lnTo>
                    <a:lnTo>
                      <a:pt x="101" y="578"/>
                    </a:lnTo>
                    <a:lnTo>
                      <a:pt x="76" y="516"/>
                    </a:lnTo>
                    <a:lnTo>
                      <a:pt x="69" y="439"/>
                    </a:lnTo>
                    <a:lnTo>
                      <a:pt x="67" y="364"/>
                    </a:lnTo>
                    <a:lnTo>
                      <a:pt x="84" y="293"/>
                    </a:lnTo>
                    <a:lnTo>
                      <a:pt x="116" y="198"/>
                    </a:lnTo>
                    <a:lnTo>
                      <a:pt x="141" y="1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7200" y="3733920"/>
              <a:ext cx="837720" cy="865800"/>
              <a:chOff x="457200" y="3733920"/>
              <a:chExt cx="837720" cy="865800"/>
            </a:xfrm>
          </p:grpSpPr>
          <p:sp>
            <p:nvSpPr>
              <p:cNvPr id="253" name=""/>
              <p:cNvSpPr/>
              <p:nvPr/>
            </p:nvSpPr>
            <p:spPr>
              <a:xfrm>
                <a:off x="514440" y="3831840"/>
                <a:ext cx="593280" cy="73836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3200" y="4081680"/>
                <a:ext cx="134280" cy="26352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7000" y="4210920"/>
                <a:ext cx="333360" cy="37044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4040" y="3740760"/>
                <a:ext cx="392040" cy="23040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3040" y="3937320"/>
                <a:ext cx="417960" cy="21924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7200" y="4041720"/>
                <a:ext cx="314640" cy="29088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9080" y="3792960"/>
                <a:ext cx="380520" cy="10548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2960" y="4174560"/>
                <a:ext cx="59400" cy="11160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9760" y="4286160"/>
                <a:ext cx="98280" cy="6552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3120" y="4358880"/>
                <a:ext cx="550080" cy="20232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3000" y="4101120"/>
                <a:ext cx="708120" cy="46584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97920" y="4282560"/>
                <a:ext cx="136800" cy="4752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5040" y="4157640"/>
                <a:ext cx="61920" cy="12852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6920" y="3787200"/>
                <a:ext cx="320400" cy="13392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7440" y="4271400"/>
                <a:ext cx="136800" cy="8064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1640" y="3971520"/>
                <a:ext cx="105120" cy="32616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94960" y="3957840"/>
                <a:ext cx="108720" cy="34740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5120" y="4091760"/>
                <a:ext cx="183600" cy="18504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1880" y="4043880"/>
                <a:ext cx="208080" cy="13968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7160" y="4122720"/>
                <a:ext cx="522000" cy="24192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63720" y="4017960"/>
                <a:ext cx="308880" cy="15768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240" y="3972240"/>
                <a:ext cx="320400" cy="20772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240" y="3839400"/>
                <a:ext cx="644760" cy="25452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3200" y="3739320"/>
                <a:ext cx="689760" cy="340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5000" y="4116600"/>
                <a:ext cx="354600" cy="21024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95240" y="4048560"/>
                <a:ext cx="107640" cy="7020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200" y="3733920"/>
                <a:ext cx="709200" cy="29088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9000" y="3927960"/>
                <a:ext cx="437760" cy="25776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6760" y="3957840"/>
                <a:ext cx="366120" cy="15768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40" y="3897360"/>
                <a:ext cx="256320" cy="39312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21600" y="4198680"/>
                <a:ext cx="66600" cy="9180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77760" y="3800880"/>
                <a:ext cx="210600" cy="29052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080" y="4038480"/>
                <a:ext cx="753840" cy="33840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50320" y="4185000"/>
                <a:ext cx="69120" cy="1224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26280" y="4236120"/>
                <a:ext cx="109800" cy="4320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3200" y="4084920"/>
                <a:ext cx="705600" cy="39888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1920" y="4174560"/>
                <a:ext cx="126360" cy="34452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3040" y="4204440"/>
                <a:ext cx="758520" cy="39528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2960" y="4398840"/>
                <a:ext cx="382680" cy="13032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2960" y="4271400"/>
                <a:ext cx="175320" cy="8964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943920" y="4326120"/>
                <a:ext cx="151920" cy="2268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0400" y="3783600"/>
                <a:ext cx="422640" cy="12132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92880" y="4034160"/>
                <a:ext cx="218880" cy="10332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86680" y="4010040"/>
                <a:ext cx="388440" cy="31572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73880" y="4291920"/>
                <a:ext cx="68760" cy="3708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375240" y="2286000"/>
            <a:ext cx="2692080" cy="1833480"/>
            <a:chOff x="6375240" y="2286000"/>
            <a:chExt cx="2692080" cy="1833480"/>
          </a:xfrm>
        </p:grpSpPr>
        <p:grpSp>
          <p:nvGrpSpPr>
            <p:cNvPr id="299" name=""/>
            <p:cNvGrpSpPr/>
            <p:nvPr/>
          </p:nvGrpSpPr>
          <p:grpSpPr>
            <a:xfrm>
              <a:off x="6375240" y="2971800"/>
              <a:ext cx="914400" cy="980640"/>
              <a:chOff x="6375240" y="2971800"/>
              <a:chExt cx="914400" cy="980640"/>
            </a:xfrm>
          </p:grpSpPr>
          <p:sp>
            <p:nvSpPr>
              <p:cNvPr id="300" name=""/>
              <p:cNvSpPr/>
              <p:nvPr/>
            </p:nvSpPr>
            <p:spPr>
              <a:xfrm>
                <a:off x="6437520" y="3082680"/>
                <a:ext cx="647280" cy="83628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14480" y="3365640"/>
                <a:ext cx="146520" cy="29844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96840" y="3512160"/>
                <a:ext cx="363600" cy="41940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82440" y="2979360"/>
                <a:ext cx="427680" cy="26100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2880" y="3202200"/>
                <a:ext cx="456120" cy="24840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73160" y="3320280"/>
                <a:ext cx="343440" cy="32940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82680" y="3038760"/>
                <a:ext cx="415080" cy="11952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76200" y="3471120"/>
                <a:ext cx="65160" cy="12636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29040" y="3597480"/>
                <a:ext cx="107280" cy="7416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99880" y="3679920"/>
                <a:ext cx="600120" cy="22896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36080" y="3387600"/>
                <a:ext cx="772560" cy="52740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65280" y="3593520"/>
                <a:ext cx="149400" cy="5400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67200" y="3451680"/>
                <a:ext cx="67680" cy="14544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80520" y="3032280"/>
                <a:ext cx="349560" cy="15156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4920" y="3580560"/>
                <a:ext cx="149400" cy="9108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38560" y="3240720"/>
                <a:ext cx="114840" cy="36936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52600" y="3225240"/>
                <a:ext cx="118440" cy="39348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82160" y="3377160"/>
                <a:ext cx="200160" cy="20952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78560" y="3323160"/>
                <a:ext cx="227160" cy="15840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13280" y="3412080"/>
                <a:ext cx="569520" cy="27396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28200" y="3293640"/>
                <a:ext cx="336960" cy="17892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00440" y="3241800"/>
                <a:ext cx="349560" cy="23544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59480" y="3091320"/>
                <a:ext cx="703440" cy="28836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14480" y="2977920"/>
                <a:ext cx="752400" cy="385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09400" y="3405240"/>
                <a:ext cx="386640" cy="23796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44240" y="3328200"/>
                <a:ext cx="117360" cy="7956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75240" y="2971800"/>
                <a:ext cx="773640" cy="32940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77400" y="3191760"/>
                <a:ext cx="477720" cy="29196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62000" y="3225240"/>
                <a:ext cx="399600" cy="17892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95000" y="3156840"/>
                <a:ext cx="279720" cy="44532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82120" y="3498120"/>
                <a:ext cx="72720" cy="10404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43320" y="3047760"/>
                <a:ext cx="229680" cy="32904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67040" y="3316680"/>
                <a:ext cx="822600" cy="38340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04000" y="3482640"/>
                <a:ext cx="75600" cy="1386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87160" y="3540600"/>
                <a:ext cx="119880" cy="4896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14480" y="3369600"/>
                <a:ext cx="770040" cy="45180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35000" y="3471120"/>
                <a:ext cx="137880" cy="39024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92880" y="3504600"/>
                <a:ext cx="827640" cy="44784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78280" y="3724560"/>
                <a:ext cx="417600" cy="14796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8280" y="3580560"/>
                <a:ext cx="191160" cy="10152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06240" y="3642480"/>
                <a:ext cx="165960" cy="2556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18960" y="3028320"/>
                <a:ext cx="460800" cy="13752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59880" y="3311640"/>
                <a:ext cx="238680" cy="11700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43600" y="3284640"/>
                <a:ext cx="423720" cy="35784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48080" y="3603960"/>
                <a:ext cx="75240" cy="4212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8305920" y="2997360"/>
              <a:ext cx="761400" cy="980640"/>
              <a:chOff x="8305920" y="2997360"/>
              <a:chExt cx="761400" cy="980640"/>
            </a:xfrm>
          </p:grpSpPr>
          <p:sp>
            <p:nvSpPr>
              <p:cNvPr id="346" name=""/>
              <p:cNvSpPr/>
              <p:nvPr/>
            </p:nvSpPr>
            <p:spPr>
              <a:xfrm>
                <a:off x="8357760" y="3108240"/>
                <a:ext cx="539280" cy="836280"/>
              </a:xfrm>
              <a:custGeom>
                <a:avLst/>
                <a:gdLst/>
                <a:ahLst/>
                <a:rect l="l" t="t" r="r" b="b"/>
                <a:pathLst>
                  <a:path w="2028" h="1948">
                    <a:moveTo>
                      <a:pt x="73" y="0"/>
                    </a:moveTo>
                    <a:lnTo>
                      <a:pt x="74" y="218"/>
                    </a:lnTo>
                    <a:lnTo>
                      <a:pt x="8" y="376"/>
                    </a:lnTo>
                    <a:lnTo>
                      <a:pt x="288" y="581"/>
                    </a:lnTo>
                    <a:lnTo>
                      <a:pt x="0" y="1132"/>
                    </a:lnTo>
                    <a:lnTo>
                      <a:pt x="443" y="1948"/>
                    </a:lnTo>
                    <a:lnTo>
                      <a:pt x="1383" y="1839"/>
                    </a:lnTo>
                    <a:lnTo>
                      <a:pt x="2028" y="1337"/>
                    </a:lnTo>
                    <a:lnTo>
                      <a:pt x="1403" y="157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38680" y="3391200"/>
                <a:ext cx="122040" cy="298440"/>
              </a:xfrm>
              <a:custGeom>
                <a:avLst/>
                <a:gdLst/>
                <a:ahLst/>
                <a:rect l="l" t="t" r="r" b="b"/>
                <a:pathLst>
                  <a:path w="459" h="695">
                    <a:moveTo>
                      <a:pt x="237" y="0"/>
                    </a:moveTo>
                    <a:lnTo>
                      <a:pt x="0" y="34"/>
                    </a:lnTo>
                    <a:lnTo>
                      <a:pt x="29" y="96"/>
                    </a:lnTo>
                    <a:lnTo>
                      <a:pt x="459" y="695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323920" y="3537720"/>
                <a:ext cx="302760" cy="419400"/>
              </a:xfrm>
              <a:custGeom>
                <a:avLst/>
                <a:gdLst/>
                <a:ahLst/>
                <a:rect l="l" t="t" r="r" b="b"/>
                <a:pathLst>
                  <a:path w="1142" h="977">
                    <a:moveTo>
                      <a:pt x="195" y="0"/>
                    </a:moveTo>
                    <a:lnTo>
                      <a:pt x="0" y="66"/>
                    </a:lnTo>
                    <a:lnTo>
                      <a:pt x="518" y="977"/>
                    </a:lnTo>
                    <a:lnTo>
                      <a:pt x="1142" y="946"/>
                    </a:lnTo>
                    <a:lnTo>
                      <a:pt x="568" y="840"/>
                    </a:lnTo>
                    <a:lnTo>
                      <a:pt x="161" y="111"/>
                    </a:lnTo>
                    <a:lnTo>
                      <a:pt x="195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312040" y="3004920"/>
                <a:ext cx="356400" cy="261000"/>
              </a:xfrm>
              <a:custGeom>
                <a:avLst/>
                <a:gdLst/>
                <a:ahLst/>
                <a:rect l="l" t="t" r="r" b="b"/>
                <a:pathLst>
                  <a:path w="1337" h="607">
                    <a:moveTo>
                      <a:pt x="1155" y="0"/>
                    </a:moveTo>
                    <a:lnTo>
                      <a:pt x="15" y="195"/>
                    </a:lnTo>
                    <a:lnTo>
                      <a:pt x="0" y="238"/>
                    </a:lnTo>
                    <a:lnTo>
                      <a:pt x="1097" y="607"/>
                    </a:lnTo>
                    <a:lnTo>
                      <a:pt x="1337" y="519"/>
                    </a:lnTo>
                    <a:lnTo>
                      <a:pt x="667" y="323"/>
                    </a:lnTo>
                    <a:lnTo>
                      <a:pt x="1192" y="53"/>
                    </a:lnTo>
                    <a:lnTo>
                      <a:pt x="1155" y="0"/>
                    </a:lnTo>
                    <a:lnTo>
                      <a:pt x="1155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320320" y="3227760"/>
                <a:ext cx="379800" cy="248400"/>
              </a:xfrm>
              <a:custGeom>
                <a:avLst/>
                <a:gdLst/>
                <a:ahLst/>
                <a:rect l="l" t="t" r="r" b="b"/>
                <a:pathLst>
                  <a:path w="1427" h="580">
                    <a:moveTo>
                      <a:pt x="190" y="0"/>
                    </a:moveTo>
                    <a:lnTo>
                      <a:pt x="0" y="71"/>
                    </a:lnTo>
                    <a:lnTo>
                      <a:pt x="0" y="122"/>
                    </a:lnTo>
                    <a:lnTo>
                      <a:pt x="1066" y="580"/>
                    </a:lnTo>
                    <a:lnTo>
                      <a:pt x="1406" y="488"/>
                    </a:lnTo>
                    <a:lnTo>
                      <a:pt x="1427" y="405"/>
                    </a:lnTo>
                    <a:lnTo>
                      <a:pt x="1243" y="391"/>
                    </a:lnTo>
                    <a:lnTo>
                      <a:pt x="1061" y="452"/>
                    </a:lnTo>
                    <a:lnTo>
                      <a:pt x="163" y="91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387640" y="3345840"/>
                <a:ext cx="286200" cy="329400"/>
              </a:xfrm>
              <a:custGeom>
                <a:avLst/>
                <a:gdLst/>
                <a:ahLst/>
                <a:rect l="l" t="t" r="r" b="b"/>
                <a:pathLst>
                  <a:path w="1074" h="768">
                    <a:moveTo>
                      <a:pt x="5" y="42"/>
                    </a:moveTo>
                    <a:lnTo>
                      <a:pt x="0" y="128"/>
                    </a:lnTo>
                    <a:lnTo>
                      <a:pt x="8" y="223"/>
                    </a:lnTo>
                    <a:lnTo>
                      <a:pt x="62" y="273"/>
                    </a:lnTo>
                    <a:lnTo>
                      <a:pt x="179" y="298"/>
                    </a:lnTo>
                    <a:lnTo>
                      <a:pt x="636" y="600"/>
                    </a:lnTo>
                    <a:lnTo>
                      <a:pt x="837" y="739"/>
                    </a:lnTo>
                    <a:lnTo>
                      <a:pt x="983" y="768"/>
                    </a:lnTo>
                    <a:lnTo>
                      <a:pt x="963" y="594"/>
                    </a:lnTo>
                    <a:lnTo>
                      <a:pt x="1074" y="330"/>
                    </a:lnTo>
                    <a:lnTo>
                      <a:pt x="849" y="320"/>
                    </a:lnTo>
                    <a:lnTo>
                      <a:pt x="40" y="0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561880" y="3064320"/>
                <a:ext cx="345960" cy="119520"/>
              </a:xfrm>
              <a:custGeom>
                <a:avLst/>
                <a:gdLst/>
                <a:ahLst/>
                <a:rect l="l" t="t" r="r" b="b"/>
                <a:pathLst>
                  <a:path w="1301" h="277">
                    <a:moveTo>
                      <a:pt x="0" y="208"/>
                    </a:moveTo>
                    <a:lnTo>
                      <a:pt x="42" y="194"/>
                    </a:lnTo>
                    <a:lnTo>
                      <a:pt x="151" y="169"/>
                    </a:lnTo>
                    <a:lnTo>
                      <a:pt x="222" y="153"/>
                    </a:lnTo>
                    <a:lnTo>
                      <a:pt x="302" y="135"/>
                    </a:lnTo>
                    <a:lnTo>
                      <a:pt x="388" y="118"/>
                    </a:lnTo>
                    <a:lnTo>
                      <a:pt x="476" y="99"/>
                    </a:lnTo>
                    <a:lnTo>
                      <a:pt x="565" y="80"/>
                    </a:lnTo>
                    <a:lnTo>
                      <a:pt x="650" y="62"/>
                    </a:lnTo>
                    <a:lnTo>
                      <a:pt x="730" y="45"/>
                    </a:lnTo>
                    <a:lnTo>
                      <a:pt x="802" y="30"/>
                    </a:lnTo>
                    <a:lnTo>
                      <a:pt x="909" y="8"/>
                    </a:lnTo>
                    <a:lnTo>
                      <a:pt x="950" y="0"/>
                    </a:lnTo>
                    <a:lnTo>
                      <a:pt x="1301" y="54"/>
                    </a:lnTo>
                    <a:lnTo>
                      <a:pt x="125" y="277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556840" y="3496680"/>
                <a:ext cx="54000" cy="126360"/>
              </a:xfrm>
              <a:custGeom>
                <a:avLst/>
                <a:gdLst/>
                <a:ahLst/>
                <a:rect l="l" t="t" r="r" b="b"/>
                <a:pathLst>
                  <a:path w="205" h="296">
                    <a:moveTo>
                      <a:pt x="59" y="0"/>
                    </a:moveTo>
                    <a:lnTo>
                      <a:pt x="205" y="15"/>
                    </a:lnTo>
                    <a:lnTo>
                      <a:pt x="107" y="171"/>
                    </a:lnTo>
                    <a:lnTo>
                      <a:pt x="87" y="296"/>
                    </a:lnTo>
                    <a:lnTo>
                      <a:pt x="0" y="249"/>
                    </a:lnTo>
                    <a:lnTo>
                      <a:pt x="20" y="57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517240" y="3623040"/>
                <a:ext cx="89280" cy="74160"/>
              </a:xfrm>
              <a:custGeom>
                <a:avLst/>
                <a:gdLst/>
                <a:ahLst/>
                <a:rect l="l" t="t" r="r" b="b"/>
                <a:pathLst>
                  <a:path w="335" h="175">
                    <a:moveTo>
                      <a:pt x="0" y="12"/>
                    </a:moveTo>
                    <a:lnTo>
                      <a:pt x="138" y="0"/>
                    </a:lnTo>
                    <a:lnTo>
                      <a:pt x="335" y="143"/>
                    </a:lnTo>
                    <a:lnTo>
                      <a:pt x="35" y="17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93120" y="3705480"/>
                <a:ext cx="499680" cy="228960"/>
              </a:xfrm>
              <a:custGeom>
                <a:avLst/>
                <a:gdLst/>
                <a:ahLst/>
                <a:rect l="l" t="t" r="r" b="b"/>
                <a:pathLst>
                  <a:path w="1879" h="534">
                    <a:moveTo>
                      <a:pt x="123" y="214"/>
                    </a:moveTo>
                    <a:lnTo>
                      <a:pt x="103" y="320"/>
                    </a:lnTo>
                    <a:lnTo>
                      <a:pt x="0" y="427"/>
                    </a:lnTo>
                    <a:lnTo>
                      <a:pt x="446" y="534"/>
                    </a:lnTo>
                    <a:lnTo>
                      <a:pt x="1331" y="460"/>
                    </a:lnTo>
                    <a:lnTo>
                      <a:pt x="1394" y="438"/>
                    </a:lnTo>
                    <a:lnTo>
                      <a:pt x="1512" y="460"/>
                    </a:lnTo>
                    <a:lnTo>
                      <a:pt x="1615" y="448"/>
                    </a:lnTo>
                    <a:lnTo>
                      <a:pt x="1729" y="431"/>
                    </a:lnTo>
                    <a:lnTo>
                      <a:pt x="1756" y="412"/>
                    </a:lnTo>
                    <a:lnTo>
                      <a:pt x="1799" y="380"/>
                    </a:lnTo>
                    <a:lnTo>
                      <a:pt x="1839" y="348"/>
                    </a:lnTo>
                    <a:lnTo>
                      <a:pt x="1856" y="335"/>
                    </a:lnTo>
                    <a:lnTo>
                      <a:pt x="1879" y="132"/>
                    </a:lnTo>
                    <a:lnTo>
                      <a:pt x="1753" y="0"/>
                    </a:lnTo>
                    <a:lnTo>
                      <a:pt x="1138" y="100"/>
                    </a:lnTo>
                    <a:lnTo>
                      <a:pt x="123" y="214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356680" y="3413160"/>
                <a:ext cx="643680" cy="527400"/>
              </a:xfrm>
              <a:custGeom>
                <a:avLst/>
                <a:gdLst/>
                <a:ahLst/>
                <a:rect l="l" t="t" r="r" b="b"/>
                <a:pathLst>
                  <a:path w="2420" h="1230">
                    <a:moveTo>
                      <a:pt x="12" y="21"/>
                    </a:moveTo>
                    <a:lnTo>
                      <a:pt x="106" y="0"/>
                    </a:lnTo>
                    <a:lnTo>
                      <a:pt x="162" y="131"/>
                    </a:lnTo>
                    <a:lnTo>
                      <a:pt x="242" y="151"/>
                    </a:lnTo>
                    <a:lnTo>
                      <a:pt x="695" y="448"/>
                    </a:lnTo>
                    <a:lnTo>
                      <a:pt x="529" y="484"/>
                    </a:lnTo>
                    <a:lnTo>
                      <a:pt x="639" y="665"/>
                    </a:lnTo>
                    <a:lnTo>
                      <a:pt x="1015" y="630"/>
                    </a:lnTo>
                    <a:lnTo>
                      <a:pt x="1260" y="697"/>
                    </a:lnTo>
                    <a:lnTo>
                      <a:pt x="1939" y="502"/>
                    </a:lnTo>
                    <a:lnTo>
                      <a:pt x="2278" y="519"/>
                    </a:lnTo>
                    <a:lnTo>
                      <a:pt x="2420" y="689"/>
                    </a:lnTo>
                    <a:lnTo>
                      <a:pt x="2382" y="1015"/>
                    </a:lnTo>
                    <a:lnTo>
                      <a:pt x="2258" y="1106"/>
                    </a:lnTo>
                    <a:lnTo>
                      <a:pt x="2005" y="1148"/>
                    </a:lnTo>
                    <a:lnTo>
                      <a:pt x="1887" y="1124"/>
                    </a:lnTo>
                    <a:lnTo>
                      <a:pt x="1793" y="1152"/>
                    </a:lnTo>
                    <a:lnTo>
                      <a:pt x="881" y="1230"/>
                    </a:lnTo>
                    <a:lnTo>
                      <a:pt x="443" y="1133"/>
                    </a:lnTo>
                    <a:lnTo>
                      <a:pt x="762" y="1091"/>
                    </a:lnTo>
                    <a:lnTo>
                      <a:pt x="2018" y="1002"/>
                    </a:lnTo>
                    <a:lnTo>
                      <a:pt x="2219" y="992"/>
                    </a:lnTo>
                    <a:lnTo>
                      <a:pt x="2298" y="825"/>
                    </a:lnTo>
                    <a:lnTo>
                      <a:pt x="2285" y="806"/>
                    </a:lnTo>
                    <a:lnTo>
                      <a:pt x="2256" y="764"/>
                    </a:lnTo>
                    <a:lnTo>
                      <a:pt x="2240" y="741"/>
                    </a:lnTo>
                    <a:lnTo>
                      <a:pt x="2224" y="720"/>
                    </a:lnTo>
                    <a:lnTo>
                      <a:pt x="2203" y="697"/>
                    </a:lnTo>
                    <a:lnTo>
                      <a:pt x="2004" y="716"/>
                    </a:lnTo>
                    <a:lnTo>
                      <a:pt x="1874" y="731"/>
                    </a:lnTo>
                    <a:lnTo>
                      <a:pt x="1816" y="740"/>
                    </a:lnTo>
                    <a:lnTo>
                      <a:pt x="620" y="864"/>
                    </a:lnTo>
                    <a:lnTo>
                      <a:pt x="555" y="879"/>
                    </a:lnTo>
                    <a:lnTo>
                      <a:pt x="0" y="85"/>
                    </a:lnTo>
                    <a:lnTo>
                      <a:pt x="363" y="505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797320" y="361908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468" h="127">
                    <a:moveTo>
                      <a:pt x="0" y="127"/>
                    </a:moveTo>
                    <a:lnTo>
                      <a:pt x="334" y="114"/>
                    </a:lnTo>
                    <a:lnTo>
                      <a:pt x="468" y="100"/>
                    </a:lnTo>
                    <a:lnTo>
                      <a:pt x="410" y="48"/>
                    </a:lnTo>
                    <a:lnTo>
                      <a:pt x="431" y="0"/>
                    </a:lnTo>
                    <a:lnTo>
                      <a:pt x="300" y="21"/>
                    </a:lnTo>
                    <a:lnTo>
                      <a:pt x="122" y="88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549280" y="3477240"/>
                <a:ext cx="56160" cy="14544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7" y="299"/>
                    </a:moveTo>
                    <a:lnTo>
                      <a:pt x="0" y="189"/>
                    </a:lnTo>
                    <a:lnTo>
                      <a:pt x="47" y="68"/>
                    </a:lnTo>
                    <a:lnTo>
                      <a:pt x="86" y="0"/>
                    </a:lnTo>
                    <a:lnTo>
                      <a:pt x="209" y="58"/>
                    </a:lnTo>
                    <a:lnTo>
                      <a:pt x="169" y="76"/>
                    </a:lnTo>
                    <a:lnTo>
                      <a:pt x="94" y="94"/>
                    </a:lnTo>
                    <a:lnTo>
                      <a:pt x="58" y="174"/>
                    </a:lnTo>
                    <a:lnTo>
                      <a:pt x="58" y="260"/>
                    </a:lnTo>
                    <a:lnTo>
                      <a:pt x="114" y="339"/>
                    </a:lnTo>
                    <a:lnTo>
                      <a:pt x="7" y="299"/>
                    </a:lnTo>
                    <a:lnTo>
                      <a:pt x="7" y="299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560080" y="3057840"/>
                <a:ext cx="291240" cy="151560"/>
              </a:xfrm>
              <a:custGeom>
                <a:avLst/>
                <a:gdLst/>
                <a:ahLst/>
                <a:rect l="l" t="t" r="r" b="b"/>
                <a:pathLst>
                  <a:path w="1094" h="353">
                    <a:moveTo>
                      <a:pt x="0" y="211"/>
                    </a:moveTo>
                    <a:lnTo>
                      <a:pt x="877" y="0"/>
                    </a:lnTo>
                    <a:lnTo>
                      <a:pt x="992" y="22"/>
                    </a:lnTo>
                    <a:lnTo>
                      <a:pt x="213" y="220"/>
                    </a:lnTo>
                    <a:lnTo>
                      <a:pt x="1094" y="86"/>
                    </a:lnTo>
                    <a:lnTo>
                      <a:pt x="230" y="353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497080" y="3606120"/>
                <a:ext cx="124200" cy="91080"/>
              </a:xfrm>
              <a:custGeom>
                <a:avLst/>
                <a:gdLst/>
                <a:ahLst/>
                <a:rect l="l" t="t" r="r" b="b"/>
                <a:pathLst>
                  <a:path w="470" h="213">
                    <a:moveTo>
                      <a:pt x="0" y="32"/>
                    </a:moveTo>
                    <a:lnTo>
                      <a:pt x="148" y="0"/>
                    </a:lnTo>
                    <a:lnTo>
                      <a:pt x="338" y="94"/>
                    </a:lnTo>
                    <a:lnTo>
                      <a:pt x="470" y="179"/>
                    </a:lnTo>
                    <a:lnTo>
                      <a:pt x="387" y="191"/>
                    </a:lnTo>
                    <a:lnTo>
                      <a:pt x="296" y="138"/>
                    </a:lnTo>
                    <a:lnTo>
                      <a:pt x="229" y="78"/>
                    </a:lnTo>
                    <a:lnTo>
                      <a:pt x="122" y="67"/>
                    </a:lnTo>
                    <a:lnTo>
                      <a:pt x="110" y="21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691840" y="3266280"/>
                <a:ext cx="95760" cy="369360"/>
              </a:xfrm>
              <a:custGeom>
                <a:avLst/>
                <a:gdLst/>
                <a:ahLst/>
                <a:rect l="l" t="t" r="r" b="b"/>
                <a:pathLst>
                  <a:path w="357" h="861">
                    <a:moveTo>
                      <a:pt x="56" y="68"/>
                    </a:moveTo>
                    <a:lnTo>
                      <a:pt x="286" y="0"/>
                    </a:lnTo>
                    <a:lnTo>
                      <a:pt x="357" y="79"/>
                    </a:lnTo>
                    <a:lnTo>
                      <a:pt x="254" y="552"/>
                    </a:lnTo>
                    <a:lnTo>
                      <a:pt x="147" y="637"/>
                    </a:lnTo>
                    <a:lnTo>
                      <a:pt x="144" y="861"/>
                    </a:lnTo>
                    <a:lnTo>
                      <a:pt x="56" y="772"/>
                    </a:lnTo>
                    <a:lnTo>
                      <a:pt x="39" y="669"/>
                    </a:lnTo>
                    <a:lnTo>
                      <a:pt x="21" y="598"/>
                    </a:lnTo>
                    <a:lnTo>
                      <a:pt x="4" y="564"/>
                    </a:lnTo>
                    <a:lnTo>
                      <a:pt x="0" y="549"/>
                    </a:lnTo>
                    <a:lnTo>
                      <a:pt x="4" y="509"/>
                    </a:lnTo>
                    <a:lnTo>
                      <a:pt x="24" y="390"/>
                    </a:lnTo>
                    <a:lnTo>
                      <a:pt x="48" y="272"/>
                    </a:lnTo>
                    <a:lnTo>
                      <a:pt x="61" y="217"/>
                    </a:lnTo>
                    <a:lnTo>
                      <a:pt x="29" y="86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703720" y="3250800"/>
                <a:ext cx="98640" cy="393480"/>
              </a:xfrm>
              <a:custGeom>
                <a:avLst/>
                <a:gdLst/>
                <a:ahLst/>
                <a:rect l="l" t="t" r="r" b="b"/>
                <a:pathLst>
                  <a:path w="374" h="917">
                    <a:moveTo>
                      <a:pt x="0" y="78"/>
                    </a:moveTo>
                    <a:lnTo>
                      <a:pt x="292" y="0"/>
                    </a:lnTo>
                    <a:lnTo>
                      <a:pt x="374" y="153"/>
                    </a:lnTo>
                    <a:lnTo>
                      <a:pt x="245" y="490"/>
                    </a:lnTo>
                    <a:lnTo>
                      <a:pt x="343" y="715"/>
                    </a:lnTo>
                    <a:lnTo>
                      <a:pt x="182" y="682"/>
                    </a:lnTo>
                    <a:lnTo>
                      <a:pt x="111" y="917"/>
                    </a:lnTo>
                    <a:lnTo>
                      <a:pt x="45" y="730"/>
                    </a:lnTo>
                    <a:lnTo>
                      <a:pt x="12" y="554"/>
                    </a:lnTo>
                    <a:lnTo>
                      <a:pt x="71" y="362"/>
                    </a:lnTo>
                    <a:lnTo>
                      <a:pt x="27" y="217"/>
                    </a:lnTo>
                    <a:lnTo>
                      <a:pt x="98" y="153"/>
                    </a:lnTo>
                    <a:lnTo>
                      <a:pt x="182" y="174"/>
                    </a:lnTo>
                    <a:lnTo>
                      <a:pt x="150" y="242"/>
                    </a:lnTo>
                    <a:lnTo>
                      <a:pt x="209" y="277"/>
                    </a:lnTo>
                    <a:lnTo>
                      <a:pt x="91" y="490"/>
                    </a:lnTo>
                    <a:lnTo>
                      <a:pt x="150" y="480"/>
                    </a:lnTo>
                    <a:lnTo>
                      <a:pt x="91" y="640"/>
                    </a:lnTo>
                    <a:lnTo>
                      <a:pt x="169" y="559"/>
                    </a:lnTo>
                    <a:lnTo>
                      <a:pt x="205" y="395"/>
                    </a:lnTo>
                    <a:lnTo>
                      <a:pt x="205" y="345"/>
                    </a:lnTo>
                    <a:lnTo>
                      <a:pt x="268" y="224"/>
                    </a:lnTo>
                    <a:lnTo>
                      <a:pt x="225" y="213"/>
                    </a:lnTo>
                    <a:lnTo>
                      <a:pt x="240" y="121"/>
                    </a:lnTo>
                    <a:lnTo>
                      <a:pt x="142" y="106"/>
                    </a:lnTo>
                    <a:lnTo>
                      <a:pt x="157" y="71"/>
                    </a:lnTo>
                    <a:lnTo>
                      <a:pt x="20" y="139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95200" y="3402720"/>
                <a:ext cx="166680" cy="209520"/>
              </a:xfrm>
              <a:custGeom>
                <a:avLst/>
                <a:gdLst/>
                <a:ahLst/>
                <a:rect l="l" t="t" r="r" b="b"/>
                <a:pathLst>
                  <a:path w="628" h="488">
                    <a:moveTo>
                      <a:pt x="0" y="97"/>
                    </a:moveTo>
                    <a:lnTo>
                      <a:pt x="48" y="28"/>
                    </a:lnTo>
                    <a:lnTo>
                      <a:pt x="106" y="0"/>
                    </a:lnTo>
                    <a:lnTo>
                      <a:pt x="114" y="68"/>
                    </a:lnTo>
                    <a:lnTo>
                      <a:pt x="276" y="207"/>
                    </a:lnTo>
                    <a:lnTo>
                      <a:pt x="517" y="332"/>
                    </a:lnTo>
                    <a:lnTo>
                      <a:pt x="628" y="242"/>
                    </a:lnTo>
                    <a:lnTo>
                      <a:pt x="565" y="488"/>
                    </a:lnTo>
                    <a:lnTo>
                      <a:pt x="79" y="164"/>
                    </a:lnTo>
                    <a:lnTo>
                      <a:pt x="16" y="15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391960" y="3348720"/>
                <a:ext cx="189360" cy="158400"/>
              </a:xfrm>
              <a:custGeom>
                <a:avLst/>
                <a:gdLst/>
                <a:ahLst/>
                <a:rect l="l" t="t" r="r" b="b"/>
                <a:pathLst>
                  <a:path w="713" h="370">
                    <a:moveTo>
                      <a:pt x="26" y="28"/>
                    </a:moveTo>
                    <a:lnTo>
                      <a:pt x="0" y="72"/>
                    </a:lnTo>
                    <a:lnTo>
                      <a:pt x="113" y="86"/>
                    </a:lnTo>
                    <a:lnTo>
                      <a:pt x="607" y="317"/>
                    </a:lnTo>
                    <a:lnTo>
                      <a:pt x="642" y="370"/>
                    </a:lnTo>
                    <a:lnTo>
                      <a:pt x="713" y="310"/>
                    </a:lnTo>
                    <a:lnTo>
                      <a:pt x="74" y="0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87440" y="3437640"/>
                <a:ext cx="474480" cy="273960"/>
              </a:xfrm>
              <a:custGeom>
                <a:avLst/>
                <a:gdLst/>
                <a:ahLst/>
                <a:rect l="l" t="t" r="r" b="b"/>
                <a:pathLst>
                  <a:path w="1784" h="640">
                    <a:moveTo>
                      <a:pt x="8" y="366"/>
                    </a:moveTo>
                    <a:lnTo>
                      <a:pt x="71" y="466"/>
                    </a:lnTo>
                    <a:lnTo>
                      <a:pt x="178" y="504"/>
                    </a:lnTo>
                    <a:lnTo>
                      <a:pt x="182" y="363"/>
                    </a:lnTo>
                    <a:lnTo>
                      <a:pt x="253" y="202"/>
                    </a:lnTo>
                    <a:lnTo>
                      <a:pt x="159" y="245"/>
                    </a:lnTo>
                    <a:lnTo>
                      <a:pt x="122" y="269"/>
                    </a:lnTo>
                    <a:lnTo>
                      <a:pt x="111" y="224"/>
                    </a:lnTo>
                    <a:lnTo>
                      <a:pt x="115" y="131"/>
                    </a:lnTo>
                    <a:lnTo>
                      <a:pt x="404" y="0"/>
                    </a:lnTo>
                    <a:lnTo>
                      <a:pt x="398" y="165"/>
                    </a:lnTo>
                    <a:lnTo>
                      <a:pt x="345" y="201"/>
                    </a:lnTo>
                    <a:lnTo>
                      <a:pt x="308" y="384"/>
                    </a:lnTo>
                    <a:lnTo>
                      <a:pt x="380" y="519"/>
                    </a:lnTo>
                    <a:lnTo>
                      <a:pt x="1489" y="217"/>
                    </a:lnTo>
                    <a:lnTo>
                      <a:pt x="1407" y="71"/>
                    </a:lnTo>
                    <a:lnTo>
                      <a:pt x="1784" y="213"/>
                    </a:lnTo>
                    <a:lnTo>
                      <a:pt x="1721" y="253"/>
                    </a:lnTo>
                    <a:lnTo>
                      <a:pt x="392" y="640"/>
                    </a:lnTo>
                    <a:lnTo>
                      <a:pt x="275" y="615"/>
                    </a:lnTo>
                    <a:lnTo>
                      <a:pt x="36" y="526"/>
                    </a:lnTo>
                    <a:lnTo>
                      <a:pt x="0" y="427"/>
                    </a:lnTo>
                    <a:lnTo>
                      <a:pt x="8" y="366"/>
                    </a:lnTo>
                    <a:lnTo>
                      <a:pt x="8" y="36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766360" y="3319200"/>
                <a:ext cx="280800" cy="178920"/>
              </a:xfrm>
              <a:custGeom>
                <a:avLst/>
                <a:gdLst/>
                <a:ahLst/>
                <a:rect l="l" t="t" r="r" b="b"/>
                <a:pathLst>
                  <a:path w="1059" h="416">
                    <a:moveTo>
                      <a:pt x="79" y="149"/>
                    </a:moveTo>
                    <a:lnTo>
                      <a:pt x="501" y="0"/>
                    </a:lnTo>
                    <a:lnTo>
                      <a:pt x="1059" y="121"/>
                    </a:lnTo>
                    <a:lnTo>
                      <a:pt x="955" y="181"/>
                    </a:lnTo>
                    <a:lnTo>
                      <a:pt x="11" y="416"/>
                    </a:lnTo>
                    <a:lnTo>
                      <a:pt x="0" y="309"/>
                    </a:lnTo>
                    <a:lnTo>
                      <a:pt x="79" y="149"/>
                    </a:lnTo>
                    <a:lnTo>
                      <a:pt x="79" y="149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326800" y="3267360"/>
                <a:ext cx="291240" cy="235440"/>
              </a:xfrm>
              <a:custGeom>
                <a:avLst/>
                <a:gdLst/>
                <a:ahLst/>
                <a:rect l="l" t="t" r="r" b="b"/>
                <a:pathLst>
                  <a:path w="1096" h="548">
                    <a:moveTo>
                      <a:pt x="0" y="33"/>
                    </a:moveTo>
                    <a:lnTo>
                      <a:pt x="19" y="0"/>
                    </a:lnTo>
                    <a:lnTo>
                      <a:pt x="1096" y="469"/>
                    </a:lnTo>
                    <a:lnTo>
                      <a:pt x="1072" y="5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76120" y="3116880"/>
                <a:ext cx="586080" cy="288360"/>
              </a:xfrm>
              <a:custGeom>
                <a:avLst/>
                <a:gdLst/>
                <a:ahLst/>
                <a:rect l="l" t="t" r="r" b="b"/>
                <a:pathLst>
                  <a:path w="2207" h="672">
                    <a:moveTo>
                      <a:pt x="7" y="199"/>
                    </a:moveTo>
                    <a:lnTo>
                      <a:pt x="964" y="509"/>
                    </a:lnTo>
                    <a:lnTo>
                      <a:pt x="924" y="672"/>
                    </a:lnTo>
                    <a:lnTo>
                      <a:pt x="1133" y="608"/>
                    </a:lnTo>
                    <a:lnTo>
                      <a:pt x="1252" y="565"/>
                    </a:lnTo>
                    <a:lnTo>
                      <a:pt x="1220" y="419"/>
                    </a:lnTo>
                    <a:lnTo>
                      <a:pt x="1524" y="313"/>
                    </a:lnTo>
                    <a:lnTo>
                      <a:pt x="1583" y="416"/>
                    </a:lnTo>
                    <a:lnTo>
                      <a:pt x="1548" y="594"/>
                    </a:lnTo>
                    <a:lnTo>
                      <a:pt x="1974" y="408"/>
                    </a:lnTo>
                    <a:lnTo>
                      <a:pt x="2093" y="416"/>
                    </a:lnTo>
                    <a:lnTo>
                      <a:pt x="2207" y="220"/>
                    </a:lnTo>
                    <a:lnTo>
                      <a:pt x="2195" y="75"/>
                    </a:lnTo>
                    <a:lnTo>
                      <a:pt x="2045" y="0"/>
                    </a:lnTo>
                    <a:lnTo>
                      <a:pt x="944" y="309"/>
                    </a:lnTo>
                    <a:lnTo>
                      <a:pt x="861" y="348"/>
                    </a:lnTo>
                    <a:lnTo>
                      <a:pt x="0" y="82"/>
                    </a:lnTo>
                    <a:lnTo>
                      <a:pt x="7" y="199"/>
                    </a:lnTo>
                    <a:lnTo>
                      <a:pt x="7" y="199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38680" y="3003480"/>
                <a:ext cx="626760" cy="385920"/>
              </a:xfrm>
              <a:custGeom>
                <a:avLst/>
                <a:gdLst/>
                <a:ahLst/>
                <a:rect l="l" t="t" r="r" b="b"/>
                <a:pathLst>
                  <a:path w="2357" h="901">
                    <a:moveTo>
                      <a:pt x="0" y="225"/>
                    </a:moveTo>
                    <a:lnTo>
                      <a:pt x="1176" y="0"/>
                    </a:lnTo>
                    <a:lnTo>
                      <a:pt x="1804" y="121"/>
                    </a:lnTo>
                    <a:lnTo>
                      <a:pt x="782" y="342"/>
                    </a:lnTo>
                    <a:lnTo>
                      <a:pt x="1019" y="417"/>
                    </a:lnTo>
                    <a:lnTo>
                      <a:pt x="2052" y="189"/>
                    </a:lnTo>
                    <a:lnTo>
                      <a:pt x="2157" y="151"/>
                    </a:lnTo>
                    <a:lnTo>
                      <a:pt x="2294" y="218"/>
                    </a:lnTo>
                    <a:lnTo>
                      <a:pt x="2353" y="299"/>
                    </a:lnTo>
                    <a:lnTo>
                      <a:pt x="2357" y="527"/>
                    </a:lnTo>
                    <a:lnTo>
                      <a:pt x="2231" y="680"/>
                    </a:lnTo>
                    <a:lnTo>
                      <a:pt x="2112" y="688"/>
                    </a:lnTo>
                    <a:lnTo>
                      <a:pt x="2092" y="734"/>
                    </a:lnTo>
                    <a:lnTo>
                      <a:pt x="1986" y="780"/>
                    </a:lnTo>
                    <a:lnTo>
                      <a:pt x="1855" y="816"/>
                    </a:lnTo>
                    <a:lnTo>
                      <a:pt x="1673" y="901"/>
                    </a:lnTo>
                    <a:lnTo>
                      <a:pt x="1686" y="858"/>
                    </a:lnTo>
                    <a:lnTo>
                      <a:pt x="1744" y="730"/>
                    </a:lnTo>
                    <a:lnTo>
                      <a:pt x="2179" y="573"/>
                    </a:lnTo>
                    <a:lnTo>
                      <a:pt x="2262" y="481"/>
                    </a:lnTo>
                    <a:lnTo>
                      <a:pt x="2239" y="317"/>
                    </a:lnTo>
                    <a:lnTo>
                      <a:pt x="2179" y="287"/>
                    </a:lnTo>
                    <a:lnTo>
                      <a:pt x="1085" y="560"/>
                    </a:lnTo>
                    <a:lnTo>
                      <a:pt x="0" y="22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667360" y="3430800"/>
                <a:ext cx="322200" cy="237960"/>
              </a:xfrm>
              <a:custGeom>
                <a:avLst/>
                <a:gdLst/>
                <a:ahLst/>
                <a:rect l="l" t="t" r="r" b="b"/>
                <a:pathLst>
                  <a:path w="1212" h="555">
                    <a:moveTo>
                      <a:pt x="402" y="168"/>
                    </a:moveTo>
                    <a:lnTo>
                      <a:pt x="1121" y="0"/>
                    </a:lnTo>
                    <a:lnTo>
                      <a:pt x="1113" y="98"/>
                    </a:lnTo>
                    <a:lnTo>
                      <a:pt x="1124" y="178"/>
                    </a:lnTo>
                    <a:lnTo>
                      <a:pt x="1212" y="235"/>
                    </a:lnTo>
                    <a:lnTo>
                      <a:pt x="91" y="555"/>
                    </a:lnTo>
                    <a:lnTo>
                      <a:pt x="31" y="527"/>
                    </a:lnTo>
                    <a:lnTo>
                      <a:pt x="0" y="434"/>
                    </a:lnTo>
                    <a:lnTo>
                      <a:pt x="43" y="246"/>
                    </a:lnTo>
                    <a:lnTo>
                      <a:pt x="86" y="225"/>
                    </a:lnTo>
                    <a:lnTo>
                      <a:pt x="193" y="417"/>
                    </a:lnTo>
                    <a:lnTo>
                      <a:pt x="249" y="461"/>
                    </a:lnTo>
                    <a:lnTo>
                      <a:pt x="256" y="292"/>
                    </a:lnTo>
                    <a:lnTo>
                      <a:pt x="323" y="235"/>
                    </a:lnTo>
                    <a:lnTo>
                      <a:pt x="456" y="275"/>
                    </a:lnTo>
                    <a:lnTo>
                      <a:pt x="402" y="168"/>
                    </a:lnTo>
                    <a:lnTo>
                      <a:pt x="402" y="168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613360" y="3353760"/>
                <a:ext cx="97920" cy="79560"/>
              </a:xfrm>
              <a:custGeom>
                <a:avLst/>
                <a:gdLst/>
                <a:ahLst/>
                <a:rect l="l" t="t" r="r" b="b"/>
                <a:pathLst>
                  <a:path w="369" h="187">
                    <a:moveTo>
                      <a:pt x="0" y="162"/>
                    </a:moveTo>
                    <a:lnTo>
                      <a:pt x="245" y="141"/>
                    </a:lnTo>
                    <a:lnTo>
                      <a:pt x="232" y="187"/>
                    </a:lnTo>
                    <a:lnTo>
                      <a:pt x="343" y="149"/>
                    </a:lnTo>
                    <a:lnTo>
                      <a:pt x="369" y="0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05920" y="2997360"/>
                <a:ext cx="644760" cy="329400"/>
              </a:xfrm>
              <a:custGeom>
                <a:avLst/>
                <a:gdLst/>
                <a:ahLst/>
                <a:rect l="l" t="t" r="r" b="b"/>
                <a:pathLst>
                  <a:path w="2425" h="769">
                    <a:moveTo>
                      <a:pt x="20" y="199"/>
                    </a:moveTo>
                    <a:lnTo>
                      <a:pt x="0" y="272"/>
                    </a:lnTo>
                    <a:lnTo>
                      <a:pt x="215" y="369"/>
                    </a:lnTo>
                    <a:lnTo>
                      <a:pt x="241" y="459"/>
                    </a:lnTo>
                    <a:lnTo>
                      <a:pt x="247" y="538"/>
                    </a:lnTo>
                    <a:lnTo>
                      <a:pt x="220" y="629"/>
                    </a:lnTo>
                    <a:lnTo>
                      <a:pt x="288" y="550"/>
                    </a:lnTo>
                    <a:lnTo>
                      <a:pt x="322" y="459"/>
                    </a:lnTo>
                    <a:lnTo>
                      <a:pt x="315" y="393"/>
                    </a:lnTo>
                    <a:lnTo>
                      <a:pt x="1135" y="653"/>
                    </a:lnTo>
                    <a:lnTo>
                      <a:pt x="2303" y="302"/>
                    </a:lnTo>
                    <a:lnTo>
                      <a:pt x="2337" y="393"/>
                    </a:lnTo>
                    <a:lnTo>
                      <a:pt x="2337" y="496"/>
                    </a:lnTo>
                    <a:lnTo>
                      <a:pt x="2257" y="586"/>
                    </a:lnTo>
                    <a:lnTo>
                      <a:pt x="1873" y="729"/>
                    </a:lnTo>
                    <a:lnTo>
                      <a:pt x="1853" y="769"/>
                    </a:lnTo>
                    <a:lnTo>
                      <a:pt x="2298" y="617"/>
                    </a:lnTo>
                    <a:lnTo>
                      <a:pt x="2385" y="562"/>
                    </a:lnTo>
                    <a:lnTo>
                      <a:pt x="2425" y="472"/>
                    </a:lnTo>
                    <a:lnTo>
                      <a:pt x="2412" y="350"/>
                    </a:lnTo>
                    <a:lnTo>
                      <a:pt x="2351" y="284"/>
                    </a:lnTo>
                    <a:lnTo>
                      <a:pt x="2291" y="260"/>
                    </a:lnTo>
                    <a:lnTo>
                      <a:pt x="2130" y="326"/>
                    </a:lnTo>
                    <a:lnTo>
                      <a:pt x="1162" y="532"/>
                    </a:lnTo>
                    <a:lnTo>
                      <a:pt x="223" y="270"/>
                    </a:lnTo>
                    <a:lnTo>
                      <a:pt x="1108" y="575"/>
                    </a:lnTo>
                    <a:lnTo>
                      <a:pt x="1108" y="605"/>
                    </a:lnTo>
                    <a:lnTo>
                      <a:pt x="40" y="254"/>
                    </a:lnTo>
                    <a:lnTo>
                      <a:pt x="73" y="223"/>
                    </a:lnTo>
                    <a:lnTo>
                      <a:pt x="1262" y="30"/>
                    </a:lnTo>
                    <a:lnTo>
                      <a:pt x="1844" y="127"/>
                    </a:lnTo>
                    <a:lnTo>
                      <a:pt x="1229" y="0"/>
                    </a:lnTo>
                    <a:lnTo>
                      <a:pt x="20" y="199"/>
                    </a:lnTo>
                    <a:lnTo>
                      <a:pt x="2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07720" y="3217320"/>
                <a:ext cx="398160" cy="291960"/>
              </a:xfrm>
              <a:custGeom>
                <a:avLst/>
                <a:gdLst/>
                <a:ahLst/>
                <a:rect l="l" t="t" r="r" b="b"/>
                <a:pathLst>
                  <a:path w="1497" h="682">
                    <a:moveTo>
                      <a:pt x="253" y="0"/>
                    </a:moveTo>
                    <a:lnTo>
                      <a:pt x="22" y="74"/>
                    </a:lnTo>
                    <a:lnTo>
                      <a:pt x="0" y="150"/>
                    </a:lnTo>
                    <a:lnTo>
                      <a:pt x="1138" y="682"/>
                    </a:lnTo>
                    <a:lnTo>
                      <a:pt x="1453" y="540"/>
                    </a:lnTo>
                    <a:lnTo>
                      <a:pt x="1497" y="445"/>
                    </a:lnTo>
                    <a:lnTo>
                      <a:pt x="1147" y="567"/>
                    </a:lnTo>
                    <a:lnTo>
                      <a:pt x="355" y="240"/>
                    </a:lnTo>
                    <a:lnTo>
                      <a:pt x="1107" y="590"/>
                    </a:lnTo>
                    <a:lnTo>
                      <a:pt x="1124" y="642"/>
                    </a:lnTo>
                    <a:lnTo>
                      <a:pt x="70" y="150"/>
                    </a:lnTo>
                    <a:lnTo>
                      <a:pt x="61" y="106"/>
                    </a:lnTo>
                    <a:lnTo>
                      <a:pt x="250" y="39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78280" y="3250800"/>
                <a:ext cx="333000" cy="178920"/>
              </a:xfrm>
              <a:custGeom>
                <a:avLst/>
                <a:gdLst/>
                <a:ahLst/>
                <a:rect l="l" t="t" r="r" b="b"/>
                <a:pathLst>
                  <a:path w="1251" h="416">
                    <a:moveTo>
                      <a:pt x="0" y="59"/>
                    </a:moveTo>
                    <a:lnTo>
                      <a:pt x="855" y="416"/>
                    </a:lnTo>
                    <a:lnTo>
                      <a:pt x="1251" y="269"/>
                    </a:lnTo>
                    <a:lnTo>
                      <a:pt x="1251" y="239"/>
                    </a:lnTo>
                    <a:lnTo>
                      <a:pt x="948" y="343"/>
                    </a:lnTo>
                    <a:lnTo>
                      <a:pt x="991" y="256"/>
                    </a:lnTo>
                    <a:lnTo>
                      <a:pt x="1144" y="201"/>
                    </a:lnTo>
                    <a:lnTo>
                      <a:pt x="978" y="218"/>
                    </a:lnTo>
                    <a:lnTo>
                      <a:pt x="969" y="122"/>
                    </a:lnTo>
                    <a:lnTo>
                      <a:pt x="913" y="16"/>
                    </a:lnTo>
                    <a:lnTo>
                      <a:pt x="873" y="40"/>
                    </a:lnTo>
                    <a:lnTo>
                      <a:pt x="921" y="122"/>
                    </a:lnTo>
                    <a:lnTo>
                      <a:pt x="522" y="0"/>
                    </a:lnTo>
                    <a:lnTo>
                      <a:pt x="921" y="178"/>
                    </a:lnTo>
                    <a:lnTo>
                      <a:pt x="933" y="231"/>
                    </a:lnTo>
                    <a:lnTo>
                      <a:pt x="901" y="297"/>
                    </a:lnTo>
                    <a:lnTo>
                      <a:pt x="282" y="79"/>
                    </a:lnTo>
                    <a:lnTo>
                      <a:pt x="898" y="332"/>
                    </a:lnTo>
                    <a:lnTo>
                      <a:pt x="855" y="384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655840" y="3182400"/>
                <a:ext cx="232920" cy="445320"/>
              </a:xfrm>
              <a:custGeom>
                <a:avLst/>
                <a:gdLst/>
                <a:ahLst/>
                <a:rect l="l" t="t" r="r" b="b"/>
                <a:pathLst>
                  <a:path w="876" h="1038">
                    <a:moveTo>
                      <a:pt x="0" y="269"/>
                    </a:moveTo>
                    <a:lnTo>
                      <a:pt x="324" y="181"/>
                    </a:lnTo>
                    <a:lnTo>
                      <a:pt x="876" y="0"/>
                    </a:lnTo>
                    <a:lnTo>
                      <a:pt x="494" y="174"/>
                    </a:lnTo>
                    <a:lnTo>
                      <a:pt x="560" y="245"/>
                    </a:lnTo>
                    <a:lnTo>
                      <a:pt x="560" y="332"/>
                    </a:lnTo>
                    <a:lnTo>
                      <a:pt x="507" y="477"/>
                    </a:lnTo>
                    <a:lnTo>
                      <a:pt x="437" y="636"/>
                    </a:lnTo>
                    <a:lnTo>
                      <a:pt x="434" y="722"/>
                    </a:lnTo>
                    <a:lnTo>
                      <a:pt x="499" y="852"/>
                    </a:lnTo>
                    <a:lnTo>
                      <a:pt x="402" y="750"/>
                    </a:lnTo>
                    <a:lnTo>
                      <a:pt x="389" y="639"/>
                    </a:lnTo>
                    <a:lnTo>
                      <a:pt x="464" y="454"/>
                    </a:lnTo>
                    <a:lnTo>
                      <a:pt x="521" y="320"/>
                    </a:lnTo>
                    <a:lnTo>
                      <a:pt x="434" y="178"/>
                    </a:lnTo>
                    <a:lnTo>
                      <a:pt x="192" y="261"/>
                    </a:lnTo>
                    <a:lnTo>
                      <a:pt x="214" y="304"/>
                    </a:lnTo>
                    <a:lnTo>
                      <a:pt x="232" y="414"/>
                    </a:lnTo>
                    <a:lnTo>
                      <a:pt x="210" y="540"/>
                    </a:lnTo>
                    <a:lnTo>
                      <a:pt x="175" y="663"/>
                    </a:lnTo>
                    <a:lnTo>
                      <a:pt x="162" y="789"/>
                    </a:lnTo>
                    <a:lnTo>
                      <a:pt x="202" y="912"/>
                    </a:lnTo>
                    <a:lnTo>
                      <a:pt x="292" y="1038"/>
                    </a:lnTo>
                    <a:lnTo>
                      <a:pt x="197" y="986"/>
                    </a:lnTo>
                    <a:lnTo>
                      <a:pt x="132" y="852"/>
                    </a:lnTo>
                    <a:lnTo>
                      <a:pt x="118" y="703"/>
                    </a:lnTo>
                    <a:lnTo>
                      <a:pt x="167" y="509"/>
                    </a:lnTo>
                    <a:lnTo>
                      <a:pt x="184" y="391"/>
                    </a:lnTo>
                    <a:lnTo>
                      <a:pt x="118" y="277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28200" y="3523680"/>
                <a:ext cx="60480" cy="104040"/>
              </a:xfrm>
              <a:custGeom>
                <a:avLst/>
                <a:gdLst/>
                <a:ahLst/>
                <a:rect l="l" t="t" r="r" b="b"/>
                <a:pathLst>
                  <a:path w="228" h="245">
                    <a:moveTo>
                      <a:pt x="21" y="245"/>
                    </a:moveTo>
                    <a:lnTo>
                      <a:pt x="0" y="115"/>
                    </a:lnTo>
                    <a:lnTo>
                      <a:pt x="58" y="0"/>
                    </a:lnTo>
                    <a:lnTo>
                      <a:pt x="110" y="4"/>
                    </a:lnTo>
                    <a:lnTo>
                      <a:pt x="228" y="59"/>
                    </a:lnTo>
                    <a:lnTo>
                      <a:pt x="88" y="47"/>
                    </a:lnTo>
                    <a:lnTo>
                      <a:pt x="39" y="119"/>
                    </a:lnTo>
                    <a:lnTo>
                      <a:pt x="21" y="245"/>
                    </a:lnTo>
                    <a:lnTo>
                      <a:pt x="21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779320" y="3073320"/>
                <a:ext cx="191520" cy="329040"/>
              </a:xfrm>
              <a:custGeom>
                <a:avLst/>
                <a:gdLst/>
                <a:ahLst/>
                <a:rect l="l" t="t" r="r" b="b"/>
                <a:pathLst>
                  <a:path w="717" h="769">
                    <a:moveTo>
                      <a:pt x="52" y="675"/>
                    </a:moveTo>
                    <a:lnTo>
                      <a:pt x="455" y="509"/>
                    </a:lnTo>
                    <a:lnTo>
                      <a:pt x="549" y="499"/>
                    </a:lnTo>
                    <a:lnTo>
                      <a:pt x="617" y="442"/>
                    </a:lnTo>
                    <a:lnTo>
                      <a:pt x="679" y="304"/>
                    </a:lnTo>
                    <a:lnTo>
                      <a:pt x="652" y="114"/>
                    </a:lnTo>
                    <a:lnTo>
                      <a:pt x="553" y="37"/>
                    </a:lnTo>
                    <a:lnTo>
                      <a:pt x="378" y="88"/>
                    </a:lnTo>
                    <a:lnTo>
                      <a:pt x="522" y="0"/>
                    </a:lnTo>
                    <a:lnTo>
                      <a:pt x="617" y="28"/>
                    </a:lnTo>
                    <a:lnTo>
                      <a:pt x="696" y="107"/>
                    </a:lnTo>
                    <a:lnTo>
                      <a:pt x="717" y="264"/>
                    </a:lnTo>
                    <a:lnTo>
                      <a:pt x="709" y="375"/>
                    </a:lnTo>
                    <a:lnTo>
                      <a:pt x="627" y="514"/>
                    </a:lnTo>
                    <a:lnTo>
                      <a:pt x="574" y="543"/>
                    </a:lnTo>
                    <a:lnTo>
                      <a:pt x="477" y="540"/>
                    </a:lnTo>
                    <a:lnTo>
                      <a:pt x="0" y="769"/>
                    </a:lnTo>
                    <a:lnTo>
                      <a:pt x="52" y="675"/>
                    </a:lnTo>
                    <a:lnTo>
                      <a:pt x="5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382240" y="3342240"/>
                <a:ext cx="685080" cy="383400"/>
              </a:xfrm>
              <a:custGeom>
                <a:avLst/>
                <a:gdLst/>
                <a:ahLst/>
                <a:rect l="l" t="t" r="r" b="b"/>
                <a:pathLst>
                  <a:path w="2574" h="895">
                    <a:moveTo>
                      <a:pt x="35" y="0"/>
                    </a:moveTo>
                    <a:lnTo>
                      <a:pt x="0" y="71"/>
                    </a:lnTo>
                    <a:lnTo>
                      <a:pt x="5" y="229"/>
                    </a:lnTo>
                    <a:lnTo>
                      <a:pt x="53" y="319"/>
                    </a:lnTo>
                    <a:lnTo>
                      <a:pt x="132" y="343"/>
                    </a:lnTo>
                    <a:lnTo>
                      <a:pt x="267" y="445"/>
                    </a:lnTo>
                    <a:lnTo>
                      <a:pt x="600" y="651"/>
                    </a:lnTo>
                    <a:lnTo>
                      <a:pt x="674" y="662"/>
                    </a:lnTo>
                    <a:lnTo>
                      <a:pt x="770" y="710"/>
                    </a:lnTo>
                    <a:lnTo>
                      <a:pt x="801" y="765"/>
                    </a:lnTo>
                    <a:lnTo>
                      <a:pt x="1054" y="884"/>
                    </a:lnTo>
                    <a:lnTo>
                      <a:pt x="1161" y="895"/>
                    </a:lnTo>
                    <a:lnTo>
                      <a:pt x="2574" y="497"/>
                    </a:lnTo>
                    <a:lnTo>
                      <a:pt x="2561" y="411"/>
                    </a:lnTo>
                    <a:lnTo>
                      <a:pt x="2185" y="304"/>
                    </a:lnTo>
                    <a:lnTo>
                      <a:pt x="2534" y="442"/>
                    </a:lnTo>
                    <a:lnTo>
                      <a:pt x="1143" y="836"/>
                    </a:lnTo>
                    <a:lnTo>
                      <a:pt x="1054" y="765"/>
                    </a:lnTo>
                    <a:lnTo>
                      <a:pt x="1011" y="662"/>
                    </a:lnTo>
                    <a:lnTo>
                      <a:pt x="1046" y="461"/>
                    </a:lnTo>
                    <a:lnTo>
                      <a:pt x="984" y="560"/>
                    </a:lnTo>
                    <a:lnTo>
                      <a:pt x="972" y="662"/>
                    </a:lnTo>
                    <a:lnTo>
                      <a:pt x="1011" y="792"/>
                    </a:lnTo>
                    <a:lnTo>
                      <a:pt x="1046" y="836"/>
                    </a:lnTo>
                    <a:lnTo>
                      <a:pt x="841" y="745"/>
                    </a:lnTo>
                    <a:lnTo>
                      <a:pt x="801" y="658"/>
                    </a:lnTo>
                    <a:lnTo>
                      <a:pt x="792" y="528"/>
                    </a:lnTo>
                    <a:lnTo>
                      <a:pt x="819" y="438"/>
                    </a:lnTo>
                    <a:lnTo>
                      <a:pt x="770" y="505"/>
                    </a:lnTo>
                    <a:lnTo>
                      <a:pt x="752" y="599"/>
                    </a:lnTo>
                    <a:lnTo>
                      <a:pt x="744" y="655"/>
                    </a:lnTo>
                    <a:lnTo>
                      <a:pt x="670" y="611"/>
                    </a:lnTo>
                    <a:lnTo>
                      <a:pt x="657" y="497"/>
                    </a:lnTo>
                    <a:lnTo>
                      <a:pt x="696" y="363"/>
                    </a:lnTo>
                    <a:lnTo>
                      <a:pt x="649" y="422"/>
                    </a:lnTo>
                    <a:lnTo>
                      <a:pt x="614" y="512"/>
                    </a:lnTo>
                    <a:lnTo>
                      <a:pt x="614" y="607"/>
                    </a:lnTo>
                    <a:lnTo>
                      <a:pt x="145" y="315"/>
                    </a:lnTo>
                    <a:lnTo>
                      <a:pt x="140" y="229"/>
                    </a:lnTo>
                    <a:lnTo>
                      <a:pt x="145" y="158"/>
                    </a:lnTo>
                    <a:lnTo>
                      <a:pt x="105" y="205"/>
                    </a:lnTo>
                    <a:lnTo>
                      <a:pt x="83" y="281"/>
                    </a:lnTo>
                    <a:lnTo>
                      <a:pt x="35" y="201"/>
                    </a:lnTo>
                    <a:lnTo>
                      <a:pt x="35" y="86"/>
                    </a:lnTo>
                    <a:lnTo>
                      <a:pt x="118" y="39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663040" y="3508200"/>
                <a:ext cx="62640" cy="138600"/>
              </a:xfrm>
              <a:custGeom>
                <a:avLst/>
                <a:gdLst/>
                <a:ahLst/>
                <a:rect l="l" t="t" r="r" b="b"/>
                <a:pathLst>
                  <a:path w="237" h="324">
                    <a:moveTo>
                      <a:pt x="115" y="0"/>
                    </a:moveTo>
                    <a:lnTo>
                      <a:pt x="62" y="36"/>
                    </a:lnTo>
                    <a:lnTo>
                      <a:pt x="37" y="99"/>
                    </a:lnTo>
                    <a:lnTo>
                      <a:pt x="0" y="249"/>
                    </a:lnTo>
                    <a:lnTo>
                      <a:pt x="37" y="324"/>
                    </a:lnTo>
                    <a:lnTo>
                      <a:pt x="237" y="265"/>
                    </a:lnTo>
                    <a:lnTo>
                      <a:pt x="189" y="221"/>
                    </a:lnTo>
                    <a:lnTo>
                      <a:pt x="62" y="253"/>
                    </a:lnTo>
                    <a:lnTo>
                      <a:pt x="67" y="131"/>
                    </a:lnTo>
                    <a:lnTo>
                      <a:pt x="124" y="8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32520" y="3566160"/>
                <a:ext cx="99720" cy="48960"/>
              </a:xfrm>
              <a:custGeom>
                <a:avLst/>
                <a:gdLst/>
                <a:ahLst/>
                <a:rect l="l" t="t" r="r" b="b"/>
                <a:pathLst>
                  <a:path w="372" h="114">
                    <a:moveTo>
                      <a:pt x="8" y="70"/>
                    </a:moveTo>
                    <a:lnTo>
                      <a:pt x="372" y="0"/>
                    </a:lnTo>
                    <a:lnTo>
                      <a:pt x="0" y="114"/>
                    </a:lnTo>
                    <a:lnTo>
                      <a:pt x="8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38680" y="3395160"/>
                <a:ext cx="641520" cy="451800"/>
              </a:xfrm>
              <a:custGeom>
                <a:avLst/>
                <a:gdLst/>
                <a:ahLst/>
                <a:rect l="l" t="t" r="r" b="b"/>
                <a:pathLst>
                  <a:path w="2412" h="1053">
                    <a:moveTo>
                      <a:pt x="192" y="0"/>
                    </a:moveTo>
                    <a:lnTo>
                      <a:pt x="0" y="26"/>
                    </a:lnTo>
                    <a:lnTo>
                      <a:pt x="6" y="89"/>
                    </a:lnTo>
                    <a:lnTo>
                      <a:pt x="609" y="951"/>
                    </a:lnTo>
                    <a:lnTo>
                      <a:pt x="2219" y="787"/>
                    </a:lnTo>
                    <a:lnTo>
                      <a:pt x="2294" y="818"/>
                    </a:lnTo>
                    <a:lnTo>
                      <a:pt x="2336" y="879"/>
                    </a:lnTo>
                    <a:lnTo>
                      <a:pt x="2285" y="1008"/>
                    </a:lnTo>
                    <a:lnTo>
                      <a:pt x="2017" y="1053"/>
                    </a:lnTo>
                    <a:lnTo>
                      <a:pt x="2296" y="1053"/>
                    </a:lnTo>
                    <a:lnTo>
                      <a:pt x="2412" y="895"/>
                    </a:lnTo>
                    <a:lnTo>
                      <a:pt x="2405" y="766"/>
                    </a:lnTo>
                    <a:lnTo>
                      <a:pt x="2355" y="706"/>
                    </a:lnTo>
                    <a:lnTo>
                      <a:pt x="2075" y="740"/>
                    </a:lnTo>
                    <a:lnTo>
                      <a:pt x="2023" y="760"/>
                    </a:lnTo>
                    <a:lnTo>
                      <a:pt x="1963" y="740"/>
                    </a:lnTo>
                    <a:lnTo>
                      <a:pt x="696" y="874"/>
                    </a:lnTo>
                    <a:lnTo>
                      <a:pt x="303" y="378"/>
                    </a:lnTo>
                    <a:lnTo>
                      <a:pt x="653" y="878"/>
                    </a:lnTo>
                    <a:lnTo>
                      <a:pt x="621" y="920"/>
                    </a:lnTo>
                    <a:lnTo>
                      <a:pt x="24" y="49"/>
                    </a:lnTo>
                    <a:lnTo>
                      <a:pt x="177" y="26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355600" y="3496680"/>
                <a:ext cx="114840" cy="390240"/>
              </a:xfrm>
              <a:custGeom>
                <a:avLst/>
                <a:gdLst/>
                <a:ahLst/>
                <a:rect l="l" t="t" r="r" b="b"/>
                <a:pathLst>
                  <a:path w="432" h="911">
                    <a:moveTo>
                      <a:pt x="56" y="0"/>
                    </a:moveTo>
                    <a:lnTo>
                      <a:pt x="65" y="67"/>
                    </a:lnTo>
                    <a:lnTo>
                      <a:pt x="52" y="124"/>
                    </a:lnTo>
                    <a:lnTo>
                      <a:pt x="30" y="162"/>
                    </a:lnTo>
                    <a:lnTo>
                      <a:pt x="0" y="182"/>
                    </a:lnTo>
                    <a:lnTo>
                      <a:pt x="113" y="375"/>
                    </a:lnTo>
                    <a:lnTo>
                      <a:pt x="432" y="911"/>
                    </a:lnTo>
                    <a:lnTo>
                      <a:pt x="197" y="429"/>
                    </a:lnTo>
                    <a:lnTo>
                      <a:pt x="52" y="182"/>
                    </a:lnTo>
                    <a:lnTo>
                      <a:pt x="192" y="331"/>
                    </a:lnTo>
                    <a:lnTo>
                      <a:pt x="83" y="134"/>
                    </a:lnTo>
                    <a:lnTo>
                      <a:pt x="113" y="6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20320" y="3530160"/>
                <a:ext cx="689400" cy="447840"/>
              </a:xfrm>
              <a:custGeom>
                <a:avLst/>
                <a:gdLst/>
                <a:ahLst/>
                <a:rect l="l" t="t" r="r" b="b"/>
                <a:pathLst>
                  <a:path w="2589" h="1043">
                    <a:moveTo>
                      <a:pt x="202" y="0"/>
                    </a:moveTo>
                    <a:lnTo>
                      <a:pt x="95" y="44"/>
                    </a:lnTo>
                    <a:lnTo>
                      <a:pt x="9" y="61"/>
                    </a:lnTo>
                    <a:lnTo>
                      <a:pt x="0" y="112"/>
                    </a:lnTo>
                    <a:lnTo>
                      <a:pt x="351" y="706"/>
                    </a:lnTo>
                    <a:lnTo>
                      <a:pt x="502" y="1043"/>
                    </a:lnTo>
                    <a:lnTo>
                      <a:pt x="1999" y="877"/>
                    </a:lnTo>
                    <a:lnTo>
                      <a:pt x="2055" y="860"/>
                    </a:lnTo>
                    <a:lnTo>
                      <a:pt x="2134" y="884"/>
                    </a:lnTo>
                    <a:lnTo>
                      <a:pt x="2406" y="852"/>
                    </a:lnTo>
                    <a:lnTo>
                      <a:pt x="2527" y="751"/>
                    </a:lnTo>
                    <a:lnTo>
                      <a:pt x="2589" y="502"/>
                    </a:lnTo>
                    <a:lnTo>
                      <a:pt x="2546" y="324"/>
                    </a:lnTo>
                    <a:lnTo>
                      <a:pt x="2356" y="174"/>
                    </a:lnTo>
                    <a:lnTo>
                      <a:pt x="1984" y="258"/>
                    </a:lnTo>
                    <a:lnTo>
                      <a:pt x="2318" y="264"/>
                    </a:lnTo>
                    <a:lnTo>
                      <a:pt x="2461" y="363"/>
                    </a:lnTo>
                    <a:lnTo>
                      <a:pt x="2525" y="449"/>
                    </a:lnTo>
                    <a:lnTo>
                      <a:pt x="2530" y="577"/>
                    </a:lnTo>
                    <a:lnTo>
                      <a:pt x="2476" y="730"/>
                    </a:lnTo>
                    <a:lnTo>
                      <a:pt x="2407" y="799"/>
                    </a:lnTo>
                    <a:lnTo>
                      <a:pt x="2188" y="826"/>
                    </a:lnTo>
                    <a:lnTo>
                      <a:pt x="2090" y="797"/>
                    </a:lnTo>
                    <a:lnTo>
                      <a:pt x="1957" y="857"/>
                    </a:lnTo>
                    <a:lnTo>
                      <a:pt x="544" y="967"/>
                    </a:lnTo>
                    <a:lnTo>
                      <a:pt x="42" y="77"/>
                    </a:lnTo>
                    <a:lnTo>
                      <a:pt x="214" y="2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474760" y="3750120"/>
                <a:ext cx="347760" cy="147960"/>
              </a:xfrm>
              <a:custGeom>
                <a:avLst/>
                <a:gdLst/>
                <a:ahLst/>
                <a:rect l="l" t="t" r="r" b="b"/>
                <a:pathLst>
                  <a:path w="1309" h="347">
                    <a:moveTo>
                      <a:pt x="0" y="347"/>
                    </a:moveTo>
                    <a:lnTo>
                      <a:pt x="105" y="260"/>
                    </a:lnTo>
                    <a:lnTo>
                      <a:pt x="153" y="181"/>
                    </a:lnTo>
                    <a:lnTo>
                      <a:pt x="140" y="87"/>
                    </a:lnTo>
                    <a:lnTo>
                      <a:pt x="950" y="0"/>
                    </a:lnTo>
                    <a:lnTo>
                      <a:pt x="228" y="111"/>
                    </a:lnTo>
                    <a:lnTo>
                      <a:pt x="196" y="190"/>
                    </a:lnTo>
                    <a:lnTo>
                      <a:pt x="815" y="158"/>
                    </a:lnTo>
                    <a:lnTo>
                      <a:pt x="184" y="241"/>
                    </a:lnTo>
                    <a:lnTo>
                      <a:pt x="149" y="273"/>
                    </a:lnTo>
                    <a:lnTo>
                      <a:pt x="114" y="292"/>
                    </a:lnTo>
                    <a:lnTo>
                      <a:pt x="1309" y="233"/>
                    </a:lnTo>
                    <a:lnTo>
                      <a:pt x="0" y="347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74760" y="3606120"/>
                <a:ext cx="159480" cy="101520"/>
              </a:xfrm>
              <a:custGeom>
                <a:avLst/>
                <a:gdLst/>
                <a:ahLst/>
                <a:rect l="l" t="t" r="r" b="b"/>
                <a:pathLst>
                  <a:path w="599" h="236">
                    <a:moveTo>
                      <a:pt x="231" y="0"/>
                    </a:moveTo>
                    <a:lnTo>
                      <a:pt x="0" y="11"/>
                    </a:lnTo>
                    <a:lnTo>
                      <a:pt x="175" y="236"/>
                    </a:lnTo>
                    <a:lnTo>
                      <a:pt x="599" y="207"/>
                    </a:lnTo>
                    <a:lnTo>
                      <a:pt x="553" y="179"/>
                    </a:lnTo>
                    <a:lnTo>
                      <a:pt x="206" y="189"/>
                    </a:lnTo>
                    <a:lnTo>
                      <a:pt x="114" y="51"/>
                    </a:lnTo>
                    <a:lnTo>
                      <a:pt x="284" y="14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48360" y="3668040"/>
                <a:ext cx="138240" cy="25560"/>
              </a:xfrm>
              <a:custGeom>
                <a:avLst/>
                <a:gdLst/>
                <a:ahLst/>
                <a:rect l="l" t="t" r="r" b="b"/>
                <a:pathLst>
                  <a:path w="519" h="60">
                    <a:moveTo>
                      <a:pt x="0" y="60"/>
                    </a:moveTo>
                    <a:lnTo>
                      <a:pt x="89" y="50"/>
                    </a:lnTo>
                    <a:lnTo>
                      <a:pt x="266" y="30"/>
                    </a:lnTo>
                    <a:lnTo>
                      <a:pt x="441" y="9"/>
                    </a:lnTo>
                    <a:lnTo>
                      <a:pt x="519" y="0"/>
                    </a:lnTo>
                    <a:lnTo>
                      <a:pt x="130" y="13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508960" y="3053880"/>
                <a:ext cx="384120" cy="137520"/>
              </a:xfrm>
              <a:custGeom>
                <a:avLst/>
                <a:gdLst/>
                <a:ahLst/>
                <a:rect l="l" t="t" r="r" b="b"/>
                <a:pathLst>
                  <a:path w="1442" h="321">
                    <a:moveTo>
                      <a:pt x="1442" y="69"/>
                    </a:moveTo>
                    <a:lnTo>
                      <a:pt x="1206" y="33"/>
                    </a:lnTo>
                    <a:lnTo>
                      <a:pt x="1163" y="3"/>
                    </a:lnTo>
                    <a:lnTo>
                      <a:pt x="1099" y="0"/>
                    </a:lnTo>
                    <a:lnTo>
                      <a:pt x="0" y="219"/>
                    </a:lnTo>
                    <a:lnTo>
                      <a:pt x="356" y="321"/>
                    </a:lnTo>
                    <a:lnTo>
                      <a:pt x="1286" y="109"/>
                    </a:lnTo>
                    <a:lnTo>
                      <a:pt x="342" y="274"/>
                    </a:lnTo>
                    <a:lnTo>
                      <a:pt x="245" y="217"/>
                    </a:lnTo>
                    <a:lnTo>
                      <a:pt x="1106" y="30"/>
                    </a:lnTo>
                    <a:lnTo>
                      <a:pt x="1166" y="45"/>
                    </a:lnTo>
                    <a:lnTo>
                      <a:pt x="1442" y="69"/>
                    </a:lnTo>
                    <a:lnTo>
                      <a:pt x="144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793000" y="3337200"/>
                <a:ext cx="199080" cy="117000"/>
              </a:xfrm>
              <a:custGeom>
                <a:avLst/>
                <a:gdLst/>
                <a:ahLst/>
                <a:rect l="l" t="t" r="r" b="b"/>
                <a:pathLst>
                  <a:path w="747" h="272">
                    <a:moveTo>
                      <a:pt x="0" y="272"/>
                    </a:moveTo>
                    <a:lnTo>
                      <a:pt x="215" y="84"/>
                    </a:lnTo>
                    <a:lnTo>
                      <a:pt x="524" y="0"/>
                    </a:lnTo>
                    <a:lnTo>
                      <a:pt x="747" y="84"/>
                    </a:lnTo>
                    <a:lnTo>
                      <a:pt x="0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696160" y="3310200"/>
                <a:ext cx="353160" cy="357840"/>
              </a:xfrm>
              <a:custGeom>
                <a:avLst/>
                <a:gdLst/>
                <a:ahLst/>
                <a:rect l="l" t="t" r="r" b="b"/>
                <a:pathLst>
                  <a:path w="1329" h="834">
                    <a:moveTo>
                      <a:pt x="742" y="0"/>
                    </a:moveTo>
                    <a:lnTo>
                      <a:pt x="1302" y="134"/>
                    </a:lnTo>
                    <a:lnTo>
                      <a:pt x="1329" y="213"/>
                    </a:lnTo>
                    <a:lnTo>
                      <a:pt x="1057" y="296"/>
                    </a:lnTo>
                    <a:lnTo>
                      <a:pt x="1022" y="359"/>
                    </a:lnTo>
                    <a:lnTo>
                      <a:pt x="1040" y="430"/>
                    </a:lnTo>
                    <a:lnTo>
                      <a:pt x="1079" y="481"/>
                    </a:lnTo>
                    <a:lnTo>
                      <a:pt x="1157" y="520"/>
                    </a:lnTo>
                    <a:lnTo>
                      <a:pt x="0" y="834"/>
                    </a:lnTo>
                    <a:lnTo>
                      <a:pt x="1065" y="509"/>
                    </a:lnTo>
                    <a:lnTo>
                      <a:pt x="995" y="470"/>
                    </a:lnTo>
                    <a:lnTo>
                      <a:pt x="655" y="536"/>
                    </a:lnTo>
                    <a:lnTo>
                      <a:pt x="978" y="426"/>
                    </a:lnTo>
                    <a:lnTo>
                      <a:pt x="982" y="336"/>
                    </a:lnTo>
                    <a:lnTo>
                      <a:pt x="291" y="473"/>
                    </a:lnTo>
                    <a:lnTo>
                      <a:pt x="273" y="407"/>
                    </a:lnTo>
                    <a:lnTo>
                      <a:pt x="1297" y="160"/>
                    </a:lnTo>
                    <a:lnTo>
                      <a:pt x="776" y="48"/>
                    </a:lnTo>
                    <a:lnTo>
                      <a:pt x="375" y="167"/>
                    </a:lnTo>
                    <a:lnTo>
                      <a:pt x="742" y="0"/>
                    </a:lnTo>
                    <a:lnTo>
                      <a:pt x="7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866440" y="3629520"/>
                <a:ext cx="62640" cy="42120"/>
              </a:xfrm>
              <a:custGeom>
                <a:avLst/>
                <a:gdLst/>
                <a:ahLst/>
                <a:rect l="l" t="t" r="r" b="b"/>
                <a:pathLst>
                  <a:path w="234" h="100">
                    <a:moveTo>
                      <a:pt x="155" y="0"/>
                    </a:moveTo>
                    <a:lnTo>
                      <a:pt x="234" y="86"/>
                    </a:lnTo>
                    <a:lnTo>
                      <a:pt x="0" y="100"/>
                    </a:lnTo>
                    <a:lnTo>
                      <a:pt x="133" y="63"/>
                    </a:lnTo>
                    <a:lnTo>
                      <a:pt x="101" y="9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35840" y="2286000"/>
              <a:ext cx="1803240" cy="1833480"/>
              <a:chOff x="7035840" y="2286000"/>
              <a:chExt cx="1803240" cy="1833480"/>
            </a:xfrm>
          </p:grpSpPr>
          <p:sp>
            <p:nvSpPr>
              <p:cNvPr id="392" name=""/>
              <p:cNvSpPr/>
              <p:nvPr/>
            </p:nvSpPr>
            <p:spPr>
              <a:xfrm>
                <a:off x="7985160" y="2362320"/>
                <a:ext cx="425520" cy="363240"/>
              </a:xfrm>
              <a:custGeom>
                <a:avLst/>
                <a:gdLst/>
                <a:ahLst/>
                <a:rect l="l" t="t" r="r" b="b"/>
                <a:pathLst>
                  <a:path w="268" h="229">
                    <a:moveTo>
                      <a:pt x="101" y="107"/>
                    </a:moveTo>
                    <a:lnTo>
                      <a:pt x="109" y="67"/>
                    </a:lnTo>
                    <a:lnTo>
                      <a:pt x="123" y="39"/>
                    </a:lnTo>
                    <a:lnTo>
                      <a:pt x="151" y="14"/>
                    </a:lnTo>
                    <a:lnTo>
                      <a:pt x="175" y="8"/>
                    </a:lnTo>
                    <a:lnTo>
                      <a:pt x="202" y="0"/>
                    </a:lnTo>
                    <a:lnTo>
                      <a:pt x="228" y="8"/>
                    </a:lnTo>
                    <a:lnTo>
                      <a:pt x="252" y="26"/>
                    </a:lnTo>
                    <a:lnTo>
                      <a:pt x="264" y="62"/>
                    </a:lnTo>
                    <a:lnTo>
                      <a:pt x="268" y="104"/>
                    </a:lnTo>
                    <a:lnTo>
                      <a:pt x="264" y="148"/>
                    </a:lnTo>
                    <a:lnTo>
                      <a:pt x="250" y="184"/>
                    </a:lnTo>
                    <a:lnTo>
                      <a:pt x="234" y="210"/>
                    </a:lnTo>
                    <a:lnTo>
                      <a:pt x="207" y="225"/>
                    </a:lnTo>
                    <a:lnTo>
                      <a:pt x="184" y="229"/>
                    </a:lnTo>
                    <a:lnTo>
                      <a:pt x="154" y="228"/>
                    </a:lnTo>
                    <a:lnTo>
                      <a:pt x="133" y="211"/>
                    </a:lnTo>
                    <a:lnTo>
                      <a:pt x="114" y="187"/>
                    </a:lnTo>
                    <a:lnTo>
                      <a:pt x="101" y="157"/>
                    </a:lnTo>
                    <a:lnTo>
                      <a:pt x="99" y="136"/>
                    </a:lnTo>
                    <a:lnTo>
                      <a:pt x="56" y="142"/>
                    </a:lnTo>
                    <a:lnTo>
                      <a:pt x="17" y="157"/>
                    </a:lnTo>
                    <a:lnTo>
                      <a:pt x="5" y="154"/>
                    </a:lnTo>
                    <a:lnTo>
                      <a:pt x="0" y="129"/>
                    </a:lnTo>
                    <a:lnTo>
                      <a:pt x="26" y="117"/>
                    </a:lnTo>
                    <a:lnTo>
                      <a:pt x="53" y="113"/>
                    </a:lnTo>
                    <a:lnTo>
                      <a:pt x="101" y="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21600" y="2746440"/>
                <a:ext cx="311040" cy="649080"/>
              </a:xfrm>
              <a:custGeom>
                <a:avLst/>
                <a:gdLst/>
                <a:ahLst/>
                <a:rect l="l" t="t" r="r" b="b"/>
                <a:pathLst>
                  <a:path w="196" h="409">
                    <a:moveTo>
                      <a:pt x="5" y="62"/>
                    </a:moveTo>
                    <a:lnTo>
                      <a:pt x="23" y="27"/>
                    </a:lnTo>
                    <a:lnTo>
                      <a:pt x="54" y="6"/>
                    </a:lnTo>
                    <a:lnTo>
                      <a:pt x="83" y="0"/>
                    </a:lnTo>
                    <a:lnTo>
                      <a:pt x="109" y="6"/>
                    </a:lnTo>
                    <a:lnTo>
                      <a:pt x="128" y="19"/>
                    </a:lnTo>
                    <a:lnTo>
                      <a:pt x="136" y="45"/>
                    </a:lnTo>
                    <a:lnTo>
                      <a:pt x="144" y="75"/>
                    </a:lnTo>
                    <a:lnTo>
                      <a:pt x="139" y="112"/>
                    </a:lnTo>
                    <a:lnTo>
                      <a:pt x="131" y="158"/>
                    </a:lnTo>
                    <a:lnTo>
                      <a:pt x="133" y="206"/>
                    </a:lnTo>
                    <a:lnTo>
                      <a:pt x="144" y="261"/>
                    </a:lnTo>
                    <a:lnTo>
                      <a:pt x="164" y="291"/>
                    </a:lnTo>
                    <a:lnTo>
                      <a:pt x="185" y="309"/>
                    </a:lnTo>
                    <a:lnTo>
                      <a:pt x="194" y="332"/>
                    </a:lnTo>
                    <a:lnTo>
                      <a:pt x="196" y="365"/>
                    </a:lnTo>
                    <a:lnTo>
                      <a:pt x="182" y="391"/>
                    </a:lnTo>
                    <a:lnTo>
                      <a:pt x="136" y="409"/>
                    </a:lnTo>
                    <a:lnTo>
                      <a:pt x="105" y="396"/>
                    </a:lnTo>
                    <a:lnTo>
                      <a:pt x="83" y="393"/>
                    </a:lnTo>
                    <a:lnTo>
                      <a:pt x="49" y="365"/>
                    </a:lnTo>
                    <a:lnTo>
                      <a:pt x="22" y="322"/>
                    </a:lnTo>
                    <a:lnTo>
                      <a:pt x="8" y="265"/>
                    </a:lnTo>
                    <a:lnTo>
                      <a:pt x="0" y="214"/>
                    </a:lnTo>
                    <a:lnTo>
                      <a:pt x="3" y="156"/>
                    </a:lnTo>
                    <a:lnTo>
                      <a:pt x="0" y="96"/>
                    </a:lnTo>
                    <a:lnTo>
                      <a:pt x="5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634160" y="2765520"/>
                <a:ext cx="611280" cy="396720"/>
              </a:xfrm>
              <a:custGeom>
                <a:avLst/>
                <a:gdLst/>
                <a:ahLst/>
                <a:rect l="l" t="t" r="r" b="b"/>
                <a:pathLst>
                  <a:path w="385" h="250">
                    <a:moveTo>
                      <a:pt x="291" y="73"/>
                    </a:moveTo>
                    <a:lnTo>
                      <a:pt x="319" y="28"/>
                    </a:lnTo>
                    <a:lnTo>
                      <a:pt x="365" y="0"/>
                    </a:lnTo>
                    <a:lnTo>
                      <a:pt x="385" y="20"/>
                    </a:lnTo>
                    <a:lnTo>
                      <a:pt x="383" y="71"/>
                    </a:lnTo>
                    <a:lnTo>
                      <a:pt x="341" y="113"/>
                    </a:lnTo>
                    <a:lnTo>
                      <a:pt x="309" y="152"/>
                    </a:lnTo>
                    <a:lnTo>
                      <a:pt x="269" y="202"/>
                    </a:lnTo>
                    <a:lnTo>
                      <a:pt x="225" y="227"/>
                    </a:lnTo>
                    <a:lnTo>
                      <a:pt x="158" y="241"/>
                    </a:lnTo>
                    <a:lnTo>
                      <a:pt x="85" y="244"/>
                    </a:lnTo>
                    <a:lnTo>
                      <a:pt x="45" y="250"/>
                    </a:lnTo>
                    <a:lnTo>
                      <a:pt x="0" y="231"/>
                    </a:lnTo>
                    <a:lnTo>
                      <a:pt x="4" y="210"/>
                    </a:lnTo>
                    <a:lnTo>
                      <a:pt x="30" y="187"/>
                    </a:lnTo>
                    <a:lnTo>
                      <a:pt x="67" y="179"/>
                    </a:lnTo>
                    <a:lnTo>
                      <a:pt x="85" y="215"/>
                    </a:lnTo>
                    <a:lnTo>
                      <a:pt x="112" y="220"/>
                    </a:lnTo>
                    <a:lnTo>
                      <a:pt x="177" y="208"/>
                    </a:lnTo>
                    <a:lnTo>
                      <a:pt x="230" y="182"/>
                    </a:lnTo>
                    <a:lnTo>
                      <a:pt x="256" y="152"/>
                    </a:lnTo>
                    <a:lnTo>
                      <a:pt x="278" y="103"/>
                    </a:lnTo>
                    <a:lnTo>
                      <a:pt x="291" y="7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65960" y="2286000"/>
                <a:ext cx="573120" cy="595440"/>
              </a:xfrm>
              <a:custGeom>
                <a:avLst/>
                <a:gdLst/>
                <a:ahLst/>
                <a:rect l="l" t="t" r="r" b="b"/>
                <a:pathLst>
                  <a:path w="361" h="375">
                    <a:moveTo>
                      <a:pt x="8" y="369"/>
                    </a:moveTo>
                    <a:lnTo>
                      <a:pt x="0" y="345"/>
                    </a:lnTo>
                    <a:lnTo>
                      <a:pt x="26" y="318"/>
                    </a:lnTo>
                    <a:lnTo>
                      <a:pt x="90" y="265"/>
                    </a:lnTo>
                    <a:lnTo>
                      <a:pt x="140" y="234"/>
                    </a:lnTo>
                    <a:lnTo>
                      <a:pt x="177" y="205"/>
                    </a:lnTo>
                    <a:lnTo>
                      <a:pt x="201" y="183"/>
                    </a:lnTo>
                    <a:lnTo>
                      <a:pt x="214" y="157"/>
                    </a:lnTo>
                    <a:lnTo>
                      <a:pt x="222" y="108"/>
                    </a:lnTo>
                    <a:lnTo>
                      <a:pt x="232" y="73"/>
                    </a:lnTo>
                    <a:lnTo>
                      <a:pt x="253" y="39"/>
                    </a:lnTo>
                    <a:lnTo>
                      <a:pt x="270" y="5"/>
                    </a:lnTo>
                    <a:lnTo>
                      <a:pt x="283" y="0"/>
                    </a:lnTo>
                    <a:lnTo>
                      <a:pt x="293" y="12"/>
                    </a:lnTo>
                    <a:lnTo>
                      <a:pt x="283" y="34"/>
                    </a:lnTo>
                    <a:lnTo>
                      <a:pt x="264" y="55"/>
                    </a:lnTo>
                    <a:lnTo>
                      <a:pt x="278" y="68"/>
                    </a:lnTo>
                    <a:lnTo>
                      <a:pt x="323" y="62"/>
                    </a:lnTo>
                    <a:lnTo>
                      <a:pt x="337" y="48"/>
                    </a:lnTo>
                    <a:lnTo>
                      <a:pt x="356" y="62"/>
                    </a:lnTo>
                    <a:lnTo>
                      <a:pt x="343" y="79"/>
                    </a:lnTo>
                    <a:lnTo>
                      <a:pt x="306" y="83"/>
                    </a:lnTo>
                    <a:lnTo>
                      <a:pt x="335" y="88"/>
                    </a:lnTo>
                    <a:lnTo>
                      <a:pt x="361" y="86"/>
                    </a:lnTo>
                    <a:lnTo>
                      <a:pt x="361" y="108"/>
                    </a:lnTo>
                    <a:lnTo>
                      <a:pt x="327" y="108"/>
                    </a:lnTo>
                    <a:lnTo>
                      <a:pt x="291" y="104"/>
                    </a:lnTo>
                    <a:lnTo>
                      <a:pt x="253" y="104"/>
                    </a:lnTo>
                    <a:lnTo>
                      <a:pt x="243" y="117"/>
                    </a:lnTo>
                    <a:lnTo>
                      <a:pt x="240" y="154"/>
                    </a:lnTo>
                    <a:lnTo>
                      <a:pt x="232" y="190"/>
                    </a:lnTo>
                    <a:lnTo>
                      <a:pt x="209" y="218"/>
                    </a:lnTo>
                    <a:lnTo>
                      <a:pt x="164" y="258"/>
                    </a:lnTo>
                    <a:lnTo>
                      <a:pt x="113" y="300"/>
                    </a:lnTo>
                    <a:lnTo>
                      <a:pt x="74" y="348"/>
                    </a:lnTo>
                    <a:lnTo>
                      <a:pt x="55" y="375"/>
                    </a:lnTo>
                    <a:lnTo>
                      <a:pt x="8" y="3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023320" y="3209760"/>
                <a:ext cx="280800" cy="812880"/>
              </a:xfrm>
              <a:custGeom>
                <a:avLst/>
                <a:gdLst/>
                <a:ahLst/>
                <a:rect l="l" t="t" r="r" b="b"/>
                <a:pathLst>
                  <a:path w="177" h="512">
                    <a:moveTo>
                      <a:pt x="90" y="117"/>
                    </a:moveTo>
                    <a:lnTo>
                      <a:pt x="104" y="26"/>
                    </a:lnTo>
                    <a:lnTo>
                      <a:pt x="128" y="0"/>
                    </a:lnTo>
                    <a:lnTo>
                      <a:pt x="174" y="8"/>
                    </a:lnTo>
                    <a:lnTo>
                      <a:pt x="177" y="57"/>
                    </a:lnTo>
                    <a:lnTo>
                      <a:pt x="159" y="91"/>
                    </a:lnTo>
                    <a:lnTo>
                      <a:pt x="135" y="178"/>
                    </a:lnTo>
                    <a:lnTo>
                      <a:pt x="118" y="234"/>
                    </a:lnTo>
                    <a:lnTo>
                      <a:pt x="118" y="293"/>
                    </a:lnTo>
                    <a:lnTo>
                      <a:pt x="135" y="367"/>
                    </a:lnTo>
                    <a:lnTo>
                      <a:pt x="147" y="421"/>
                    </a:lnTo>
                    <a:lnTo>
                      <a:pt x="147" y="444"/>
                    </a:lnTo>
                    <a:lnTo>
                      <a:pt x="128" y="452"/>
                    </a:lnTo>
                    <a:lnTo>
                      <a:pt x="92" y="456"/>
                    </a:lnTo>
                    <a:lnTo>
                      <a:pt x="48" y="491"/>
                    </a:lnTo>
                    <a:lnTo>
                      <a:pt x="35" y="512"/>
                    </a:lnTo>
                    <a:lnTo>
                      <a:pt x="16" y="506"/>
                    </a:lnTo>
                    <a:lnTo>
                      <a:pt x="0" y="469"/>
                    </a:lnTo>
                    <a:lnTo>
                      <a:pt x="14" y="427"/>
                    </a:lnTo>
                    <a:lnTo>
                      <a:pt x="72" y="412"/>
                    </a:lnTo>
                    <a:lnTo>
                      <a:pt x="103" y="406"/>
                    </a:lnTo>
                    <a:lnTo>
                      <a:pt x="109" y="375"/>
                    </a:lnTo>
                    <a:lnTo>
                      <a:pt x="92" y="328"/>
                    </a:lnTo>
                    <a:lnTo>
                      <a:pt x="75" y="284"/>
                    </a:lnTo>
                    <a:lnTo>
                      <a:pt x="74" y="234"/>
                    </a:lnTo>
                    <a:lnTo>
                      <a:pt x="74" y="181"/>
                    </a:lnTo>
                    <a:lnTo>
                      <a:pt x="90" y="11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145360" y="3259080"/>
                <a:ext cx="277920" cy="835200"/>
              </a:xfrm>
              <a:custGeom>
                <a:avLst/>
                <a:gdLst/>
                <a:ahLst/>
                <a:rect l="l" t="t" r="r" b="b"/>
                <a:pathLst>
                  <a:path w="175" h="526">
                    <a:moveTo>
                      <a:pt x="88" y="119"/>
                    </a:moveTo>
                    <a:lnTo>
                      <a:pt x="104" y="28"/>
                    </a:lnTo>
                    <a:lnTo>
                      <a:pt x="127" y="0"/>
                    </a:lnTo>
                    <a:lnTo>
                      <a:pt x="172" y="10"/>
                    </a:lnTo>
                    <a:lnTo>
                      <a:pt x="175" y="59"/>
                    </a:lnTo>
                    <a:lnTo>
                      <a:pt x="157" y="93"/>
                    </a:lnTo>
                    <a:lnTo>
                      <a:pt x="135" y="182"/>
                    </a:lnTo>
                    <a:lnTo>
                      <a:pt x="115" y="241"/>
                    </a:lnTo>
                    <a:lnTo>
                      <a:pt x="115" y="300"/>
                    </a:lnTo>
                    <a:lnTo>
                      <a:pt x="135" y="376"/>
                    </a:lnTo>
                    <a:lnTo>
                      <a:pt x="144" y="433"/>
                    </a:lnTo>
                    <a:lnTo>
                      <a:pt x="144" y="457"/>
                    </a:lnTo>
                    <a:lnTo>
                      <a:pt x="127" y="465"/>
                    </a:lnTo>
                    <a:lnTo>
                      <a:pt x="89" y="468"/>
                    </a:lnTo>
                    <a:lnTo>
                      <a:pt x="48" y="504"/>
                    </a:lnTo>
                    <a:lnTo>
                      <a:pt x="35" y="526"/>
                    </a:lnTo>
                    <a:lnTo>
                      <a:pt x="16" y="518"/>
                    </a:lnTo>
                    <a:lnTo>
                      <a:pt x="0" y="481"/>
                    </a:lnTo>
                    <a:lnTo>
                      <a:pt x="12" y="439"/>
                    </a:lnTo>
                    <a:lnTo>
                      <a:pt x="70" y="425"/>
                    </a:lnTo>
                    <a:lnTo>
                      <a:pt x="103" y="416"/>
                    </a:lnTo>
                    <a:lnTo>
                      <a:pt x="109" y="385"/>
                    </a:lnTo>
                    <a:lnTo>
                      <a:pt x="89" y="336"/>
                    </a:lnTo>
                    <a:lnTo>
                      <a:pt x="75" y="292"/>
                    </a:lnTo>
                    <a:lnTo>
                      <a:pt x="72" y="241"/>
                    </a:lnTo>
                    <a:lnTo>
                      <a:pt x="72" y="186"/>
                    </a:lnTo>
                    <a:lnTo>
                      <a:pt x="88" y="11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7035840" y="2332080"/>
                <a:ext cx="923400" cy="1787400"/>
                <a:chOff x="7035840" y="2332080"/>
                <a:chExt cx="923400" cy="17874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035840" y="2332080"/>
                  <a:ext cx="387000" cy="366480"/>
                </a:xfrm>
                <a:custGeom>
                  <a:avLst/>
                  <a:gdLst/>
                  <a:ahLst/>
                  <a:rect l="l" t="t" r="r" b="b"/>
                  <a:pathLst>
                    <a:path w="244" h="231">
                      <a:moveTo>
                        <a:pt x="162" y="104"/>
                      </a:moveTo>
                      <a:lnTo>
                        <a:pt x="154" y="67"/>
                      </a:lnTo>
                      <a:lnTo>
                        <a:pt x="141" y="39"/>
                      </a:lnTo>
                      <a:lnTo>
                        <a:pt x="122" y="13"/>
                      </a:lnTo>
                      <a:lnTo>
                        <a:pt x="96" y="0"/>
                      </a:lnTo>
                      <a:lnTo>
                        <a:pt x="69" y="4"/>
                      </a:lnTo>
                      <a:lnTo>
                        <a:pt x="43" y="18"/>
                      </a:lnTo>
                      <a:lnTo>
                        <a:pt x="22" y="39"/>
                      </a:lnTo>
                      <a:lnTo>
                        <a:pt x="13" y="70"/>
                      </a:lnTo>
                      <a:lnTo>
                        <a:pt x="5" y="92"/>
                      </a:lnTo>
                      <a:lnTo>
                        <a:pt x="0" y="128"/>
                      </a:lnTo>
                      <a:lnTo>
                        <a:pt x="0" y="166"/>
                      </a:lnTo>
                      <a:lnTo>
                        <a:pt x="11" y="198"/>
                      </a:lnTo>
                      <a:lnTo>
                        <a:pt x="27" y="216"/>
                      </a:lnTo>
                      <a:lnTo>
                        <a:pt x="46" y="224"/>
                      </a:lnTo>
                      <a:lnTo>
                        <a:pt x="74" y="231"/>
                      </a:lnTo>
                      <a:lnTo>
                        <a:pt x="101" y="227"/>
                      </a:lnTo>
                      <a:lnTo>
                        <a:pt x="127" y="214"/>
                      </a:lnTo>
                      <a:lnTo>
                        <a:pt x="146" y="183"/>
                      </a:lnTo>
                      <a:lnTo>
                        <a:pt x="159" y="157"/>
                      </a:lnTo>
                      <a:lnTo>
                        <a:pt x="159" y="130"/>
                      </a:lnTo>
                      <a:lnTo>
                        <a:pt x="204" y="135"/>
                      </a:lnTo>
                      <a:lnTo>
                        <a:pt x="234" y="143"/>
                      </a:lnTo>
                      <a:lnTo>
                        <a:pt x="244" y="130"/>
                      </a:lnTo>
                      <a:lnTo>
                        <a:pt x="239" y="112"/>
                      </a:lnTo>
                      <a:lnTo>
                        <a:pt x="213" y="108"/>
                      </a:lnTo>
                      <a:lnTo>
                        <a:pt x="177" y="103"/>
                      </a:lnTo>
                      <a:lnTo>
                        <a:pt x="162" y="1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081560" y="2725560"/>
                  <a:ext cx="293400" cy="606600"/>
                </a:xfrm>
                <a:custGeom>
                  <a:avLst/>
                  <a:gdLst/>
                  <a:ahLst/>
                  <a:rect l="l" t="t" r="r" b="b"/>
                  <a:pathLst>
                    <a:path w="185" h="382">
                      <a:moveTo>
                        <a:pt x="11" y="33"/>
                      </a:moveTo>
                      <a:lnTo>
                        <a:pt x="19" y="14"/>
                      </a:lnTo>
                      <a:lnTo>
                        <a:pt x="46" y="2"/>
                      </a:lnTo>
                      <a:lnTo>
                        <a:pt x="69" y="0"/>
                      </a:lnTo>
                      <a:lnTo>
                        <a:pt x="101" y="2"/>
                      </a:lnTo>
                      <a:lnTo>
                        <a:pt x="127" y="14"/>
                      </a:lnTo>
                      <a:lnTo>
                        <a:pt x="149" y="43"/>
                      </a:lnTo>
                      <a:lnTo>
                        <a:pt x="164" y="76"/>
                      </a:lnTo>
                      <a:lnTo>
                        <a:pt x="173" y="117"/>
                      </a:lnTo>
                      <a:lnTo>
                        <a:pt x="177" y="160"/>
                      </a:lnTo>
                      <a:lnTo>
                        <a:pt x="182" y="210"/>
                      </a:lnTo>
                      <a:lnTo>
                        <a:pt x="185" y="251"/>
                      </a:lnTo>
                      <a:lnTo>
                        <a:pt x="177" y="295"/>
                      </a:lnTo>
                      <a:lnTo>
                        <a:pt x="173" y="337"/>
                      </a:lnTo>
                      <a:lnTo>
                        <a:pt x="163" y="356"/>
                      </a:lnTo>
                      <a:lnTo>
                        <a:pt x="144" y="374"/>
                      </a:lnTo>
                      <a:lnTo>
                        <a:pt x="112" y="382"/>
                      </a:lnTo>
                      <a:lnTo>
                        <a:pt x="80" y="380"/>
                      </a:lnTo>
                      <a:lnTo>
                        <a:pt x="58" y="375"/>
                      </a:lnTo>
                      <a:lnTo>
                        <a:pt x="41" y="360"/>
                      </a:lnTo>
                      <a:lnTo>
                        <a:pt x="34" y="334"/>
                      </a:lnTo>
                      <a:lnTo>
                        <a:pt x="29" y="295"/>
                      </a:lnTo>
                      <a:lnTo>
                        <a:pt x="37" y="255"/>
                      </a:lnTo>
                      <a:lnTo>
                        <a:pt x="50" y="229"/>
                      </a:lnTo>
                      <a:lnTo>
                        <a:pt x="55" y="207"/>
                      </a:lnTo>
                      <a:lnTo>
                        <a:pt x="50" y="176"/>
                      </a:lnTo>
                      <a:lnTo>
                        <a:pt x="37" y="148"/>
                      </a:lnTo>
                      <a:lnTo>
                        <a:pt x="17" y="123"/>
                      </a:lnTo>
                      <a:lnTo>
                        <a:pt x="6" y="93"/>
                      </a:lnTo>
                      <a:lnTo>
                        <a:pt x="0" y="69"/>
                      </a:lnTo>
                      <a:lnTo>
                        <a:pt x="2" y="50"/>
                      </a:lnTo>
                      <a:lnTo>
                        <a:pt x="11" y="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095960" y="2754360"/>
                  <a:ext cx="661680" cy="403200"/>
                </a:xfrm>
                <a:custGeom>
                  <a:avLst/>
                  <a:gdLst/>
                  <a:ahLst/>
                  <a:rect l="l" t="t" r="r" b="b"/>
                  <a:pathLst>
                    <a:path w="417" h="254">
                      <a:moveTo>
                        <a:pt x="31" y="84"/>
                      </a:moveTo>
                      <a:lnTo>
                        <a:pt x="0" y="48"/>
                      </a:lnTo>
                      <a:lnTo>
                        <a:pt x="5" y="19"/>
                      </a:lnTo>
                      <a:lnTo>
                        <a:pt x="16" y="0"/>
                      </a:lnTo>
                      <a:lnTo>
                        <a:pt x="46" y="10"/>
                      </a:lnTo>
                      <a:lnTo>
                        <a:pt x="64" y="32"/>
                      </a:lnTo>
                      <a:lnTo>
                        <a:pt x="93" y="67"/>
                      </a:lnTo>
                      <a:lnTo>
                        <a:pt x="137" y="108"/>
                      </a:lnTo>
                      <a:lnTo>
                        <a:pt x="178" y="138"/>
                      </a:lnTo>
                      <a:lnTo>
                        <a:pt x="229" y="166"/>
                      </a:lnTo>
                      <a:lnTo>
                        <a:pt x="289" y="188"/>
                      </a:lnTo>
                      <a:lnTo>
                        <a:pt x="333" y="201"/>
                      </a:lnTo>
                      <a:lnTo>
                        <a:pt x="352" y="201"/>
                      </a:lnTo>
                      <a:lnTo>
                        <a:pt x="372" y="187"/>
                      </a:lnTo>
                      <a:lnTo>
                        <a:pt x="385" y="182"/>
                      </a:lnTo>
                      <a:lnTo>
                        <a:pt x="411" y="194"/>
                      </a:lnTo>
                      <a:lnTo>
                        <a:pt x="417" y="222"/>
                      </a:lnTo>
                      <a:lnTo>
                        <a:pt x="399" y="244"/>
                      </a:lnTo>
                      <a:lnTo>
                        <a:pt x="372" y="254"/>
                      </a:lnTo>
                      <a:lnTo>
                        <a:pt x="343" y="254"/>
                      </a:lnTo>
                      <a:lnTo>
                        <a:pt x="320" y="235"/>
                      </a:lnTo>
                      <a:lnTo>
                        <a:pt x="298" y="218"/>
                      </a:lnTo>
                      <a:lnTo>
                        <a:pt x="230" y="201"/>
                      </a:lnTo>
                      <a:lnTo>
                        <a:pt x="174" y="174"/>
                      </a:lnTo>
                      <a:lnTo>
                        <a:pt x="122" y="154"/>
                      </a:lnTo>
                      <a:lnTo>
                        <a:pt x="64" y="125"/>
                      </a:lnTo>
                      <a:lnTo>
                        <a:pt x="31" y="8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161120" y="2732040"/>
                  <a:ext cx="798120" cy="239760"/>
                </a:xfrm>
                <a:custGeom>
                  <a:avLst/>
                  <a:gdLst/>
                  <a:ahLst/>
                  <a:rect l="l" t="t" r="r" b="b"/>
                  <a:pathLst>
                    <a:path w="503" h="151">
                      <a:moveTo>
                        <a:pt x="43" y="5"/>
                      </a:moveTo>
                      <a:lnTo>
                        <a:pt x="91" y="2"/>
                      </a:lnTo>
                      <a:lnTo>
                        <a:pt x="168" y="5"/>
                      </a:lnTo>
                      <a:lnTo>
                        <a:pt x="242" y="10"/>
                      </a:lnTo>
                      <a:lnTo>
                        <a:pt x="303" y="24"/>
                      </a:lnTo>
                      <a:lnTo>
                        <a:pt x="375" y="44"/>
                      </a:lnTo>
                      <a:lnTo>
                        <a:pt x="433" y="50"/>
                      </a:lnTo>
                      <a:lnTo>
                        <a:pt x="446" y="29"/>
                      </a:lnTo>
                      <a:lnTo>
                        <a:pt x="460" y="0"/>
                      </a:lnTo>
                      <a:lnTo>
                        <a:pt x="473" y="2"/>
                      </a:lnTo>
                      <a:lnTo>
                        <a:pt x="482" y="18"/>
                      </a:lnTo>
                      <a:lnTo>
                        <a:pt x="465" y="44"/>
                      </a:lnTo>
                      <a:lnTo>
                        <a:pt x="455" y="55"/>
                      </a:lnTo>
                      <a:lnTo>
                        <a:pt x="470" y="69"/>
                      </a:lnTo>
                      <a:lnTo>
                        <a:pt x="490" y="84"/>
                      </a:lnTo>
                      <a:lnTo>
                        <a:pt x="503" y="107"/>
                      </a:lnTo>
                      <a:lnTo>
                        <a:pt x="503" y="129"/>
                      </a:lnTo>
                      <a:lnTo>
                        <a:pt x="489" y="151"/>
                      </a:lnTo>
                      <a:lnTo>
                        <a:pt x="465" y="148"/>
                      </a:lnTo>
                      <a:lnTo>
                        <a:pt x="455" y="129"/>
                      </a:lnTo>
                      <a:lnTo>
                        <a:pt x="446" y="103"/>
                      </a:lnTo>
                      <a:lnTo>
                        <a:pt x="422" y="78"/>
                      </a:lnTo>
                      <a:lnTo>
                        <a:pt x="380" y="66"/>
                      </a:lnTo>
                      <a:lnTo>
                        <a:pt x="303" y="60"/>
                      </a:lnTo>
                      <a:lnTo>
                        <a:pt x="229" y="45"/>
                      </a:lnTo>
                      <a:lnTo>
                        <a:pt x="155" y="45"/>
                      </a:lnTo>
                      <a:lnTo>
                        <a:pt x="99" y="55"/>
                      </a:lnTo>
                      <a:lnTo>
                        <a:pt x="47" y="55"/>
                      </a:lnTo>
                      <a:lnTo>
                        <a:pt x="22" y="45"/>
                      </a:lnTo>
                      <a:lnTo>
                        <a:pt x="0" y="28"/>
                      </a:lnTo>
                      <a:lnTo>
                        <a:pt x="26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235640" y="3219480"/>
                  <a:ext cx="471240" cy="730080"/>
                </a:xfrm>
                <a:custGeom>
                  <a:avLst/>
                  <a:gdLst/>
                  <a:ahLst/>
                  <a:rect l="l" t="t" r="r" b="b"/>
                  <a:pathLst>
                    <a:path w="297" h="460">
                      <a:moveTo>
                        <a:pt x="13" y="0"/>
                      </a:moveTo>
                      <a:lnTo>
                        <a:pt x="53" y="5"/>
                      </a:lnTo>
                      <a:lnTo>
                        <a:pt x="95" y="41"/>
                      </a:lnTo>
                      <a:lnTo>
                        <a:pt x="150" y="89"/>
                      </a:lnTo>
                      <a:lnTo>
                        <a:pt x="180" y="134"/>
                      </a:lnTo>
                      <a:lnTo>
                        <a:pt x="196" y="172"/>
                      </a:lnTo>
                      <a:lnTo>
                        <a:pt x="201" y="222"/>
                      </a:lnTo>
                      <a:lnTo>
                        <a:pt x="193" y="297"/>
                      </a:lnTo>
                      <a:lnTo>
                        <a:pt x="183" y="360"/>
                      </a:lnTo>
                      <a:lnTo>
                        <a:pt x="188" y="382"/>
                      </a:lnTo>
                      <a:lnTo>
                        <a:pt x="209" y="402"/>
                      </a:lnTo>
                      <a:lnTo>
                        <a:pt x="255" y="411"/>
                      </a:lnTo>
                      <a:lnTo>
                        <a:pt x="293" y="425"/>
                      </a:lnTo>
                      <a:lnTo>
                        <a:pt x="297" y="440"/>
                      </a:lnTo>
                      <a:lnTo>
                        <a:pt x="289" y="450"/>
                      </a:lnTo>
                      <a:lnTo>
                        <a:pt x="236" y="460"/>
                      </a:lnTo>
                      <a:lnTo>
                        <a:pt x="209" y="439"/>
                      </a:lnTo>
                      <a:lnTo>
                        <a:pt x="175" y="425"/>
                      </a:lnTo>
                      <a:lnTo>
                        <a:pt x="148" y="425"/>
                      </a:lnTo>
                      <a:lnTo>
                        <a:pt x="140" y="411"/>
                      </a:lnTo>
                      <a:lnTo>
                        <a:pt x="148" y="389"/>
                      </a:lnTo>
                      <a:lnTo>
                        <a:pt x="154" y="370"/>
                      </a:lnTo>
                      <a:lnTo>
                        <a:pt x="150" y="318"/>
                      </a:lnTo>
                      <a:lnTo>
                        <a:pt x="157" y="266"/>
                      </a:lnTo>
                      <a:lnTo>
                        <a:pt x="162" y="217"/>
                      </a:lnTo>
                      <a:lnTo>
                        <a:pt x="150" y="170"/>
                      </a:lnTo>
                      <a:lnTo>
                        <a:pt x="118" y="146"/>
                      </a:lnTo>
                      <a:lnTo>
                        <a:pt x="79" y="118"/>
                      </a:lnTo>
                      <a:lnTo>
                        <a:pt x="42" y="84"/>
                      </a:lnTo>
                      <a:lnTo>
                        <a:pt x="11" y="54"/>
                      </a:lnTo>
                      <a:lnTo>
                        <a:pt x="0" y="3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103880" y="3259080"/>
                  <a:ext cx="285480" cy="860400"/>
                </a:xfrm>
                <a:custGeom>
                  <a:avLst/>
                  <a:gdLst/>
                  <a:ahLst/>
                  <a:rect l="l" t="t" r="r" b="b"/>
                  <a:pathLst>
                    <a:path w="180" h="542">
                      <a:moveTo>
                        <a:pt x="79" y="0"/>
                      </a:moveTo>
                      <a:lnTo>
                        <a:pt x="45" y="21"/>
                      </a:lnTo>
                      <a:lnTo>
                        <a:pt x="27" y="78"/>
                      </a:lnTo>
                      <a:lnTo>
                        <a:pt x="3" y="147"/>
                      </a:lnTo>
                      <a:lnTo>
                        <a:pt x="0" y="205"/>
                      </a:lnTo>
                      <a:lnTo>
                        <a:pt x="7" y="246"/>
                      </a:lnTo>
                      <a:lnTo>
                        <a:pt x="27" y="292"/>
                      </a:lnTo>
                      <a:lnTo>
                        <a:pt x="74" y="354"/>
                      </a:lnTo>
                      <a:lnTo>
                        <a:pt x="116" y="405"/>
                      </a:lnTo>
                      <a:lnTo>
                        <a:pt x="124" y="430"/>
                      </a:lnTo>
                      <a:lnTo>
                        <a:pt x="114" y="457"/>
                      </a:lnTo>
                      <a:lnTo>
                        <a:pt x="79" y="489"/>
                      </a:lnTo>
                      <a:lnTo>
                        <a:pt x="51" y="521"/>
                      </a:lnTo>
                      <a:lnTo>
                        <a:pt x="56" y="536"/>
                      </a:lnTo>
                      <a:lnTo>
                        <a:pt x="66" y="542"/>
                      </a:lnTo>
                      <a:lnTo>
                        <a:pt x="123" y="523"/>
                      </a:lnTo>
                      <a:lnTo>
                        <a:pt x="135" y="490"/>
                      </a:lnTo>
                      <a:lnTo>
                        <a:pt x="156" y="460"/>
                      </a:lnTo>
                      <a:lnTo>
                        <a:pt x="180" y="445"/>
                      </a:lnTo>
                      <a:lnTo>
                        <a:pt x="178" y="431"/>
                      </a:lnTo>
                      <a:lnTo>
                        <a:pt x="163" y="416"/>
                      </a:lnTo>
                      <a:lnTo>
                        <a:pt x="147" y="401"/>
                      </a:lnTo>
                      <a:lnTo>
                        <a:pt x="124" y="352"/>
                      </a:lnTo>
                      <a:lnTo>
                        <a:pt x="90" y="311"/>
                      </a:lnTo>
                      <a:lnTo>
                        <a:pt x="58" y="272"/>
                      </a:lnTo>
                      <a:lnTo>
                        <a:pt x="45" y="218"/>
                      </a:lnTo>
                      <a:lnTo>
                        <a:pt x="60" y="181"/>
                      </a:lnTo>
                      <a:lnTo>
                        <a:pt x="82" y="139"/>
                      </a:lnTo>
                      <a:lnTo>
                        <a:pt x="98" y="91"/>
                      </a:lnTo>
                      <a:lnTo>
                        <a:pt x="106" y="47"/>
                      </a:lnTo>
                      <a:lnTo>
                        <a:pt x="106" y="2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495680" y="2209680"/>
            <a:ext cx="3505320" cy="1143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cc"/>
                </a:solidFill>
                <a:latin typeface="Arial Narrow"/>
              </a:rPr>
              <a:t>Wydani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2209680"/>
            <a:ext cx="35812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cc"/>
                </a:solidFill>
                <a:latin typeface="Arial Narrow"/>
              </a:rPr>
              <a:t>Wydan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Cykl życia w X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4400" y="2744640"/>
            <a:ext cx="182880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4320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95680" y="2744640"/>
            <a:ext cx="175284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4852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6320" y="4984920"/>
            <a:ext cx="1579320" cy="1644480"/>
            <a:chOff x="76320" y="4984920"/>
            <a:chExt cx="1579320" cy="1644480"/>
          </a:xfrm>
        </p:grpSpPr>
        <p:sp>
          <p:nvSpPr>
            <p:cNvPr id="914" name=""/>
            <p:cNvSpPr/>
            <p:nvPr/>
          </p:nvSpPr>
          <p:spPr>
            <a:xfrm>
              <a:off x="76320" y="4984920"/>
              <a:ext cx="1579320" cy="1644480"/>
            </a:xfrm>
            <a:custGeom>
              <a:avLst/>
              <a:gdLst/>
              <a:ahLst/>
              <a:rect l="l" t="t" r="r" b="b"/>
              <a:pathLst>
                <a:path w="2086" h="2456">
                  <a:moveTo>
                    <a:pt x="729" y="455"/>
                  </a:moveTo>
                  <a:lnTo>
                    <a:pt x="606" y="571"/>
                  </a:lnTo>
                  <a:lnTo>
                    <a:pt x="460" y="688"/>
                  </a:lnTo>
                  <a:lnTo>
                    <a:pt x="303" y="874"/>
                  </a:lnTo>
                  <a:lnTo>
                    <a:pt x="135" y="1118"/>
                  </a:lnTo>
                  <a:lnTo>
                    <a:pt x="45" y="1328"/>
                  </a:lnTo>
                  <a:lnTo>
                    <a:pt x="0" y="1491"/>
                  </a:lnTo>
                  <a:lnTo>
                    <a:pt x="0" y="1595"/>
                  </a:lnTo>
                  <a:lnTo>
                    <a:pt x="12" y="1817"/>
                  </a:lnTo>
                  <a:lnTo>
                    <a:pt x="45" y="1980"/>
                  </a:lnTo>
                  <a:lnTo>
                    <a:pt x="135" y="2084"/>
                  </a:lnTo>
                  <a:lnTo>
                    <a:pt x="314" y="2213"/>
                  </a:lnTo>
                  <a:lnTo>
                    <a:pt x="483" y="2294"/>
                  </a:lnTo>
                  <a:lnTo>
                    <a:pt x="695" y="2375"/>
                  </a:lnTo>
                  <a:lnTo>
                    <a:pt x="818" y="2422"/>
                  </a:lnTo>
                  <a:lnTo>
                    <a:pt x="1032" y="2456"/>
                  </a:lnTo>
                  <a:lnTo>
                    <a:pt x="1357" y="2422"/>
                  </a:lnTo>
                  <a:lnTo>
                    <a:pt x="1637" y="2341"/>
                  </a:lnTo>
                  <a:lnTo>
                    <a:pt x="1816" y="2224"/>
                  </a:lnTo>
                  <a:lnTo>
                    <a:pt x="1929" y="2096"/>
                  </a:lnTo>
                  <a:lnTo>
                    <a:pt x="1996" y="1968"/>
                  </a:lnTo>
                  <a:lnTo>
                    <a:pt x="2063" y="1805"/>
                  </a:lnTo>
                  <a:lnTo>
                    <a:pt x="2086" y="1619"/>
                  </a:lnTo>
                  <a:lnTo>
                    <a:pt x="2086" y="1363"/>
                  </a:lnTo>
                  <a:lnTo>
                    <a:pt x="2041" y="1200"/>
                  </a:lnTo>
                  <a:lnTo>
                    <a:pt x="1951" y="1025"/>
                  </a:lnTo>
                  <a:lnTo>
                    <a:pt x="1827" y="862"/>
                  </a:lnTo>
                  <a:lnTo>
                    <a:pt x="1693" y="733"/>
                  </a:lnTo>
                  <a:lnTo>
                    <a:pt x="1559" y="629"/>
                  </a:lnTo>
                  <a:lnTo>
                    <a:pt x="1368" y="536"/>
                  </a:lnTo>
                  <a:lnTo>
                    <a:pt x="1357" y="478"/>
                  </a:lnTo>
                  <a:lnTo>
                    <a:pt x="1525" y="291"/>
                  </a:lnTo>
                  <a:lnTo>
                    <a:pt x="1536" y="175"/>
                  </a:lnTo>
                  <a:lnTo>
                    <a:pt x="1346" y="291"/>
                  </a:lnTo>
                  <a:lnTo>
                    <a:pt x="1413" y="82"/>
                  </a:lnTo>
                  <a:lnTo>
                    <a:pt x="1391" y="71"/>
                  </a:lnTo>
                  <a:lnTo>
                    <a:pt x="1323" y="71"/>
                  </a:lnTo>
                  <a:lnTo>
                    <a:pt x="1211" y="210"/>
                  </a:lnTo>
                  <a:lnTo>
                    <a:pt x="1144" y="291"/>
                  </a:lnTo>
                  <a:lnTo>
                    <a:pt x="1166" y="140"/>
                  </a:lnTo>
                  <a:lnTo>
                    <a:pt x="1211" y="24"/>
                  </a:lnTo>
                  <a:lnTo>
                    <a:pt x="1177" y="0"/>
                  </a:lnTo>
                  <a:lnTo>
                    <a:pt x="1099" y="71"/>
                  </a:lnTo>
                  <a:lnTo>
                    <a:pt x="1021" y="244"/>
                  </a:lnTo>
                  <a:lnTo>
                    <a:pt x="987" y="152"/>
                  </a:lnTo>
                  <a:lnTo>
                    <a:pt x="920" y="116"/>
                  </a:lnTo>
                  <a:lnTo>
                    <a:pt x="875" y="233"/>
                  </a:lnTo>
                  <a:lnTo>
                    <a:pt x="864" y="303"/>
                  </a:lnTo>
                  <a:lnTo>
                    <a:pt x="740" y="140"/>
                  </a:lnTo>
                  <a:lnTo>
                    <a:pt x="583" y="12"/>
                  </a:lnTo>
                  <a:lnTo>
                    <a:pt x="539" y="35"/>
                  </a:lnTo>
                  <a:lnTo>
                    <a:pt x="527" y="105"/>
                  </a:lnTo>
                  <a:lnTo>
                    <a:pt x="583" y="210"/>
                  </a:lnTo>
                  <a:lnTo>
                    <a:pt x="650" y="338"/>
                  </a:lnTo>
                  <a:lnTo>
                    <a:pt x="818" y="560"/>
                  </a:lnTo>
                  <a:lnTo>
                    <a:pt x="796" y="605"/>
                  </a:lnTo>
                  <a:lnTo>
                    <a:pt x="762" y="629"/>
                  </a:lnTo>
                  <a:lnTo>
                    <a:pt x="785" y="675"/>
                  </a:lnTo>
                  <a:lnTo>
                    <a:pt x="931" y="733"/>
                  </a:lnTo>
                  <a:lnTo>
                    <a:pt x="1166" y="733"/>
                  </a:lnTo>
                  <a:lnTo>
                    <a:pt x="1368" y="711"/>
                  </a:lnTo>
                  <a:lnTo>
                    <a:pt x="1436" y="641"/>
                  </a:lnTo>
                  <a:lnTo>
                    <a:pt x="1391" y="618"/>
                  </a:lnTo>
                  <a:lnTo>
                    <a:pt x="1346" y="652"/>
                  </a:lnTo>
                  <a:lnTo>
                    <a:pt x="1222" y="664"/>
                  </a:lnTo>
                  <a:lnTo>
                    <a:pt x="1099" y="688"/>
                  </a:lnTo>
                  <a:lnTo>
                    <a:pt x="965" y="664"/>
                  </a:lnTo>
                  <a:lnTo>
                    <a:pt x="1166" y="641"/>
                  </a:lnTo>
                  <a:lnTo>
                    <a:pt x="1300" y="594"/>
                  </a:lnTo>
                  <a:lnTo>
                    <a:pt x="1323" y="571"/>
                  </a:lnTo>
                  <a:lnTo>
                    <a:pt x="1267" y="547"/>
                  </a:lnTo>
                  <a:lnTo>
                    <a:pt x="1200" y="583"/>
                  </a:lnTo>
                  <a:lnTo>
                    <a:pt x="1043" y="605"/>
                  </a:lnTo>
                  <a:lnTo>
                    <a:pt x="931" y="594"/>
                  </a:lnTo>
                  <a:lnTo>
                    <a:pt x="875" y="571"/>
                  </a:lnTo>
                  <a:lnTo>
                    <a:pt x="898" y="513"/>
                  </a:lnTo>
                  <a:lnTo>
                    <a:pt x="796" y="432"/>
                  </a:lnTo>
                  <a:lnTo>
                    <a:pt x="695" y="327"/>
                  </a:lnTo>
                  <a:lnTo>
                    <a:pt x="639" y="222"/>
                  </a:lnTo>
                  <a:lnTo>
                    <a:pt x="617" y="152"/>
                  </a:lnTo>
                  <a:lnTo>
                    <a:pt x="617" y="129"/>
                  </a:lnTo>
                  <a:lnTo>
                    <a:pt x="639" y="129"/>
                  </a:lnTo>
                  <a:lnTo>
                    <a:pt x="695" y="175"/>
                  </a:lnTo>
                  <a:lnTo>
                    <a:pt x="773" y="280"/>
                  </a:lnTo>
                  <a:lnTo>
                    <a:pt x="875" y="408"/>
                  </a:lnTo>
                  <a:lnTo>
                    <a:pt x="898" y="443"/>
                  </a:lnTo>
                  <a:lnTo>
                    <a:pt x="942" y="419"/>
                  </a:lnTo>
                  <a:lnTo>
                    <a:pt x="920" y="350"/>
                  </a:lnTo>
                  <a:lnTo>
                    <a:pt x="931" y="303"/>
                  </a:lnTo>
                  <a:lnTo>
                    <a:pt x="942" y="244"/>
                  </a:lnTo>
                  <a:lnTo>
                    <a:pt x="965" y="244"/>
                  </a:lnTo>
                  <a:lnTo>
                    <a:pt x="987" y="315"/>
                  </a:lnTo>
                  <a:lnTo>
                    <a:pt x="998" y="361"/>
                  </a:lnTo>
                  <a:lnTo>
                    <a:pt x="1032" y="373"/>
                  </a:lnTo>
                  <a:lnTo>
                    <a:pt x="1077" y="268"/>
                  </a:lnTo>
                  <a:lnTo>
                    <a:pt x="1099" y="233"/>
                  </a:lnTo>
                  <a:lnTo>
                    <a:pt x="1110" y="291"/>
                  </a:lnTo>
                  <a:lnTo>
                    <a:pt x="1110" y="385"/>
                  </a:lnTo>
                  <a:lnTo>
                    <a:pt x="1144" y="408"/>
                  </a:lnTo>
                  <a:lnTo>
                    <a:pt x="1200" y="327"/>
                  </a:lnTo>
                  <a:lnTo>
                    <a:pt x="1256" y="222"/>
                  </a:lnTo>
                  <a:lnTo>
                    <a:pt x="1312" y="199"/>
                  </a:lnTo>
                  <a:lnTo>
                    <a:pt x="1312" y="210"/>
                  </a:lnTo>
                  <a:lnTo>
                    <a:pt x="1278" y="280"/>
                  </a:lnTo>
                  <a:lnTo>
                    <a:pt x="1244" y="385"/>
                  </a:lnTo>
                  <a:lnTo>
                    <a:pt x="1278" y="396"/>
                  </a:lnTo>
                  <a:lnTo>
                    <a:pt x="1458" y="268"/>
                  </a:lnTo>
                  <a:lnTo>
                    <a:pt x="1480" y="268"/>
                  </a:lnTo>
                  <a:lnTo>
                    <a:pt x="1312" y="443"/>
                  </a:lnTo>
                  <a:lnTo>
                    <a:pt x="1278" y="478"/>
                  </a:lnTo>
                  <a:lnTo>
                    <a:pt x="1267" y="536"/>
                  </a:lnTo>
                  <a:lnTo>
                    <a:pt x="1300" y="560"/>
                  </a:lnTo>
                  <a:lnTo>
                    <a:pt x="1402" y="605"/>
                  </a:lnTo>
                  <a:lnTo>
                    <a:pt x="1570" y="699"/>
                  </a:lnTo>
                  <a:lnTo>
                    <a:pt x="1682" y="792"/>
                  </a:lnTo>
                  <a:lnTo>
                    <a:pt x="1816" y="932"/>
                  </a:lnTo>
                  <a:lnTo>
                    <a:pt x="1918" y="1083"/>
                  </a:lnTo>
                  <a:lnTo>
                    <a:pt x="1985" y="1246"/>
                  </a:lnTo>
                  <a:lnTo>
                    <a:pt x="2030" y="1456"/>
                  </a:lnTo>
                  <a:lnTo>
                    <a:pt x="2018" y="1607"/>
                  </a:lnTo>
                  <a:lnTo>
                    <a:pt x="2007" y="1770"/>
                  </a:lnTo>
                  <a:lnTo>
                    <a:pt x="1940" y="1945"/>
                  </a:lnTo>
                  <a:lnTo>
                    <a:pt x="1873" y="2072"/>
                  </a:lnTo>
                  <a:lnTo>
                    <a:pt x="1794" y="2142"/>
                  </a:lnTo>
                  <a:lnTo>
                    <a:pt x="1704" y="2236"/>
                  </a:lnTo>
                  <a:lnTo>
                    <a:pt x="1536" y="2306"/>
                  </a:lnTo>
                  <a:lnTo>
                    <a:pt x="1334" y="2364"/>
                  </a:lnTo>
                  <a:lnTo>
                    <a:pt x="1233" y="2375"/>
                  </a:lnTo>
                  <a:lnTo>
                    <a:pt x="1043" y="2375"/>
                  </a:lnTo>
                  <a:lnTo>
                    <a:pt x="864" y="2352"/>
                  </a:lnTo>
                  <a:lnTo>
                    <a:pt x="650" y="2294"/>
                  </a:lnTo>
                  <a:lnTo>
                    <a:pt x="449" y="2200"/>
                  </a:lnTo>
                  <a:lnTo>
                    <a:pt x="291" y="2108"/>
                  </a:lnTo>
                  <a:lnTo>
                    <a:pt x="157" y="2003"/>
                  </a:lnTo>
                  <a:lnTo>
                    <a:pt x="101" y="1922"/>
                  </a:lnTo>
                  <a:lnTo>
                    <a:pt x="90" y="1839"/>
                  </a:lnTo>
                  <a:lnTo>
                    <a:pt x="68" y="1595"/>
                  </a:lnTo>
                  <a:lnTo>
                    <a:pt x="79" y="1433"/>
                  </a:lnTo>
                  <a:lnTo>
                    <a:pt x="146" y="1258"/>
                  </a:lnTo>
                  <a:lnTo>
                    <a:pt x="235" y="1060"/>
                  </a:lnTo>
                  <a:lnTo>
                    <a:pt x="393" y="885"/>
                  </a:lnTo>
                  <a:lnTo>
                    <a:pt x="539" y="688"/>
                  </a:lnTo>
                  <a:lnTo>
                    <a:pt x="673" y="583"/>
                  </a:lnTo>
                  <a:lnTo>
                    <a:pt x="751" y="513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6960" y="5632200"/>
              <a:ext cx="322200" cy="505800"/>
            </a:xfrm>
            <a:custGeom>
              <a:avLst/>
              <a:gdLst/>
              <a:ahLst/>
              <a:rect l="l" t="t" r="r" b="b"/>
              <a:pathLst>
                <a:path w="426" h="756">
                  <a:moveTo>
                    <a:pt x="258" y="139"/>
                  </a:moveTo>
                  <a:lnTo>
                    <a:pt x="336" y="150"/>
                  </a:lnTo>
                  <a:lnTo>
                    <a:pt x="403" y="209"/>
                  </a:lnTo>
                  <a:lnTo>
                    <a:pt x="426" y="267"/>
                  </a:lnTo>
                  <a:lnTo>
                    <a:pt x="347" y="290"/>
                  </a:lnTo>
                  <a:lnTo>
                    <a:pt x="302" y="243"/>
                  </a:lnTo>
                  <a:lnTo>
                    <a:pt x="247" y="220"/>
                  </a:lnTo>
                  <a:lnTo>
                    <a:pt x="191" y="209"/>
                  </a:lnTo>
                  <a:lnTo>
                    <a:pt x="101" y="232"/>
                  </a:lnTo>
                  <a:lnTo>
                    <a:pt x="79" y="290"/>
                  </a:lnTo>
                  <a:lnTo>
                    <a:pt x="124" y="337"/>
                  </a:lnTo>
                  <a:lnTo>
                    <a:pt x="235" y="371"/>
                  </a:lnTo>
                  <a:lnTo>
                    <a:pt x="347" y="371"/>
                  </a:lnTo>
                  <a:lnTo>
                    <a:pt x="381" y="406"/>
                  </a:lnTo>
                  <a:lnTo>
                    <a:pt x="403" y="465"/>
                  </a:lnTo>
                  <a:lnTo>
                    <a:pt x="392" y="534"/>
                  </a:lnTo>
                  <a:lnTo>
                    <a:pt x="325" y="581"/>
                  </a:lnTo>
                  <a:lnTo>
                    <a:pt x="247" y="581"/>
                  </a:lnTo>
                  <a:lnTo>
                    <a:pt x="191" y="581"/>
                  </a:lnTo>
                  <a:lnTo>
                    <a:pt x="168" y="639"/>
                  </a:lnTo>
                  <a:lnTo>
                    <a:pt x="179" y="743"/>
                  </a:lnTo>
                  <a:lnTo>
                    <a:pt x="101" y="756"/>
                  </a:lnTo>
                  <a:lnTo>
                    <a:pt x="90" y="674"/>
                  </a:lnTo>
                  <a:lnTo>
                    <a:pt x="112" y="581"/>
                  </a:lnTo>
                  <a:lnTo>
                    <a:pt x="45" y="546"/>
                  </a:lnTo>
                  <a:lnTo>
                    <a:pt x="0" y="511"/>
                  </a:lnTo>
                  <a:lnTo>
                    <a:pt x="68" y="442"/>
                  </a:lnTo>
                  <a:lnTo>
                    <a:pt x="101" y="488"/>
                  </a:lnTo>
                  <a:lnTo>
                    <a:pt x="157" y="499"/>
                  </a:lnTo>
                  <a:lnTo>
                    <a:pt x="235" y="511"/>
                  </a:lnTo>
                  <a:lnTo>
                    <a:pt x="302" y="511"/>
                  </a:lnTo>
                  <a:lnTo>
                    <a:pt x="336" y="499"/>
                  </a:lnTo>
                  <a:lnTo>
                    <a:pt x="314" y="453"/>
                  </a:lnTo>
                  <a:lnTo>
                    <a:pt x="258" y="442"/>
                  </a:lnTo>
                  <a:lnTo>
                    <a:pt x="157" y="418"/>
                  </a:lnTo>
                  <a:lnTo>
                    <a:pt x="56" y="383"/>
                  </a:lnTo>
                  <a:lnTo>
                    <a:pt x="23" y="325"/>
                  </a:lnTo>
                  <a:lnTo>
                    <a:pt x="11" y="255"/>
                  </a:lnTo>
                  <a:lnTo>
                    <a:pt x="68" y="185"/>
                  </a:lnTo>
                  <a:lnTo>
                    <a:pt x="146" y="128"/>
                  </a:lnTo>
                  <a:lnTo>
                    <a:pt x="202" y="128"/>
                  </a:lnTo>
                  <a:lnTo>
                    <a:pt x="224" y="0"/>
                  </a:lnTo>
                  <a:lnTo>
                    <a:pt x="291" y="11"/>
                  </a:lnTo>
                  <a:lnTo>
                    <a:pt x="258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9960" y="5609520"/>
              <a:ext cx="136080" cy="17928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0" y="210"/>
                  </a:moveTo>
                  <a:lnTo>
                    <a:pt x="78" y="70"/>
                  </a:lnTo>
                  <a:lnTo>
                    <a:pt x="179" y="0"/>
                  </a:lnTo>
                  <a:lnTo>
                    <a:pt x="179" y="36"/>
                  </a:lnTo>
                  <a:lnTo>
                    <a:pt x="111" y="117"/>
                  </a:lnTo>
                  <a:lnTo>
                    <a:pt x="33" y="269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08600" y="6060600"/>
              <a:ext cx="84600" cy="124200"/>
            </a:xfrm>
            <a:custGeom>
              <a:avLst/>
              <a:gdLst/>
              <a:ahLst/>
              <a:rect l="l" t="t" r="r" b="b"/>
              <a:pathLst>
                <a:path w="112" h="187">
                  <a:moveTo>
                    <a:pt x="112" y="0"/>
                  </a:moveTo>
                  <a:lnTo>
                    <a:pt x="34" y="116"/>
                  </a:lnTo>
                  <a:lnTo>
                    <a:pt x="0" y="163"/>
                  </a:lnTo>
                  <a:lnTo>
                    <a:pt x="45" y="187"/>
                  </a:lnTo>
                  <a:lnTo>
                    <a:pt x="78" y="163"/>
                  </a:lnTo>
                  <a:lnTo>
                    <a:pt x="112" y="82"/>
                  </a:lnTo>
                  <a:lnTo>
                    <a:pt x="112" y="4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80880" y="3917880"/>
            <a:ext cx="1067040" cy="1992240"/>
            <a:chOff x="380880" y="3917880"/>
            <a:chExt cx="1067040" cy="1992240"/>
          </a:xfrm>
        </p:grpSpPr>
        <p:sp>
          <p:nvSpPr>
            <p:cNvPr id="919" name=""/>
            <p:cNvSpPr/>
            <p:nvPr/>
          </p:nvSpPr>
          <p:spPr>
            <a:xfrm>
              <a:off x="747000" y="4399920"/>
              <a:ext cx="389520" cy="671400"/>
            </a:xfrm>
            <a:custGeom>
              <a:avLst/>
              <a:gdLst/>
              <a:ahLst/>
              <a:rect l="l" t="t" r="r" b="b"/>
              <a:pathLst>
                <a:path w="334" h="504">
                  <a:moveTo>
                    <a:pt x="46" y="241"/>
                  </a:moveTo>
                  <a:lnTo>
                    <a:pt x="73" y="154"/>
                  </a:lnTo>
                  <a:lnTo>
                    <a:pt x="102" y="81"/>
                  </a:lnTo>
                  <a:lnTo>
                    <a:pt x="131" y="22"/>
                  </a:lnTo>
                  <a:lnTo>
                    <a:pt x="182" y="0"/>
                  </a:lnTo>
                  <a:lnTo>
                    <a:pt x="242" y="0"/>
                  </a:lnTo>
                  <a:lnTo>
                    <a:pt x="290" y="22"/>
                  </a:lnTo>
                  <a:lnTo>
                    <a:pt x="322" y="68"/>
                  </a:lnTo>
                  <a:lnTo>
                    <a:pt x="327" y="156"/>
                  </a:lnTo>
                  <a:lnTo>
                    <a:pt x="334" y="266"/>
                  </a:lnTo>
                  <a:lnTo>
                    <a:pt x="322" y="368"/>
                  </a:lnTo>
                  <a:lnTo>
                    <a:pt x="312" y="419"/>
                  </a:lnTo>
                  <a:lnTo>
                    <a:pt x="293" y="460"/>
                  </a:lnTo>
                  <a:lnTo>
                    <a:pt x="261" y="475"/>
                  </a:lnTo>
                  <a:lnTo>
                    <a:pt x="174" y="499"/>
                  </a:lnTo>
                  <a:lnTo>
                    <a:pt x="119" y="504"/>
                  </a:lnTo>
                  <a:lnTo>
                    <a:pt x="31" y="482"/>
                  </a:lnTo>
                  <a:lnTo>
                    <a:pt x="0" y="417"/>
                  </a:lnTo>
                  <a:lnTo>
                    <a:pt x="7" y="353"/>
                  </a:lnTo>
                  <a:lnTo>
                    <a:pt x="39" y="263"/>
                  </a:lnTo>
                  <a:lnTo>
                    <a:pt x="46" y="2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71360" y="4445280"/>
              <a:ext cx="376560" cy="852840"/>
            </a:xfrm>
            <a:custGeom>
              <a:avLst/>
              <a:gdLst/>
              <a:ahLst/>
              <a:rect l="l" t="t" r="r" b="b"/>
              <a:pathLst>
                <a:path w="323" h="640">
                  <a:moveTo>
                    <a:pt x="14" y="8"/>
                  </a:moveTo>
                  <a:lnTo>
                    <a:pt x="51" y="0"/>
                  </a:lnTo>
                  <a:lnTo>
                    <a:pt x="102" y="30"/>
                  </a:lnTo>
                  <a:lnTo>
                    <a:pt x="148" y="96"/>
                  </a:lnTo>
                  <a:lnTo>
                    <a:pt x="204" y="186"/>
                  </a:lnTo>
                  <a:lnTo>
                    <a:pt x="226" y="271"/>
                  </a:lnTo>
                  <a:lnTo>
                    <a:pt x="233" y="376"/>
                  </a:lnTo>
                  <a:lnTo>
                    <a:pt x="228" y="440"/>
                  </a:lnTo>
                  <a:lnTo>
                    <a:pt x="228" y="476"/>
                  </a:lnTo>
                  <a:lnTo>
                    <a:pt x="279" y="515"/>
                  </a:lnTo>
                  <a:lnTo>
                    <a:pt x="306" y="566"/>
                  </a:lnTo>
                  <a:lnTo>
                    <a:pt x="323" y="610"/>
                  </a:lnTo>
                  <a:lnTo>
                    <a:pt x="308" y="640"/>
                  </a:lnTo>
                  <a:lnTo>
                    <a:pt x="279" y="640"/>
                  </a:lnTo>
                  <a:lnTo>
                    <a:pt x="247" y="618"/>
                  </a:lnTo>
                  <a:lnTo>
                    <a:pt x="243" y="579"/>
                  </a:lnTo>
                  <a:lnTo>
                    <a:pt x="226" y="530"/>
                  </a:lnTo>
                  <a:lnTo>
                    <a:pt x="196" y="500"/>
                  </a:lnTo>
                  <a:lnTo>
                    <a:pt x="167" y="491"/>
                  </a:lnTo>
                  <a:lnTo>
                    <a:pt x="138" y="491"/>
                  </a:lnTo>
                  <a:lnTo>
                    <a:pt x="133" y="469"/>
                  </a:lnTo>
                  <a:lnTo>
                    <a:pt x="162" y="461"/>
                  </a:lnTo>
                  <a:lnTo>
                    <a:pt x="192" y="457"/>
                  </a:lnTo>
                  <a:lnTo>
                    <a:pt x="204" y="410"/>
                  </a:lnTo>
                  <a:lnTo>
                    <a:pt x="206" y="337"/>
                  </a:lnTo>
                  <a:lnTo>
                    <a:pt x="196" y="257"/>
                  </a:lnTo>
                  <a:lnTo>
                    <a:pt x="170" y="193"/>
                  </a:lnTo>
                  <a:lnTo>
                    <a:pt x="141" y="140"/>
                  </a:lnTo>
                  <a:lnTo>
                    <a:pt x="111" y="113"/>
                  </a:lnTo>
                  <a:lnTo>
                    <a:pt x="73" y="91"/>
                  </a:lnTo>
                  <a:lnTo>
                    <a:pt x="31" y="69"/>
                  </a:lnTo>
                  <a:lnTo>
                    <a:pt x="2" y="54"/>
                  </a:lnTo>
                  <a:lnTo>
                    <a:pt x="0" y="25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4420080"/>
              <a:ext cx="580680" cy="828360"/>
            </a:xfrm>
            <a:custGeom>
              <a:avLst/>
              <a:gdLst/>
              <a:ahLst/>
              <a:rect l="l" t="t" r="r" b="b"/>
              <a:pathLst>
                <a:path w="498" h="622">
                  <a:moveTo>
                    <a:pt x="243" y="125"/>
                  </a:moveTo>
                  <a:lnTo>
                    <a:pt x="316" y="66"/>
                  </a:lnTo>
                  <a:lnTo>
                    <a:pt x="394" y="15"/>
                  </a:lnTo>
                  <a:lnTo>
                    <a:pt x="440" y="0"/>
                  </a:lnTo>
                  <a:lnTo>
                    <a:pt x="496" y="10"/>
                  </a:lnTo>
                  <a:lnTo>
                    <a:pt x="498" y="51"/>
                  </a:lnTo>
                  <a:lnTo>
                    <a:pt x="469" y="98"/>
                  </a:lnTo>
                  <a:lnTo>
                    <a:pt x="440" y="90"/>
                  </a:lnTo>
                  <a:lnTo>
                    <a:pt x="408" y="73"/>
                  </a:lnTo>
                  <a:lnTo>
                    <a:pt x="367" y="73"/>
                  </a:lnTo>
                  <a:lnTo>
                    <a:pt x="309" y="110"/>
                  </a:lnTo>
                  <a:lnTo>
                    <a:pt x="265" y="154"/>
                  </a:lnTo>
                  <a:lnTo>
                    <a:pt x="190" y="234"/>
                  </a:lnTo>
                  <a:lnTo>
                    <a:pt x="148" y="325"/>
                  </a:lnTo>
                  <a:lnTo>
                    <a:pt x="119" y="388"/>
                  </a:lnTo>
                  <a:lnTo>
                    <a:pt x="105" y="449"/>
                  </a:lnTo>
                  <a:lnTo>
                    <a:pt x="117" y="456"/>
                  </a:lnTo>
                  <a:lnTo>
                    <a:pt x="153" y="456"/>
                  </a:lnTo>
                  <a:lnTo>
                    <a:pt x="192" y="464"/>
                  </a:lnTo>
                  <a:lnTo>
                    <a:pt x="197" y="483"/>
                  </a:lnTo>
                  <a:lnTo>
                    <a:pt x="170" y="500"/>
                  </a:lnTo>
                  <a:lnTo>
                    <a:pt x="131" y="508"/>
                  </a:lnTo>
                  <a:lnTo>
                    <a:pt x="83" y="534"/>
                  </a:lnTo>
                  <a:lnTo>
                    <a:pt x="54" y="573"/>
                  </a:lnTo>
                  <a:lnTo>
                    <a:pt x="46" y="617"/>
                  </a:lnTo>
                  <a:lnTo>
                    <a:pt x="25" y="622"/>
                  </a:lnTo>
                  <a:lnTo>
                    <a:pt x="3" y="600"/>
                  </a:lnTo>
                  <a:lnTo>
                    <a:pt x="0" y="559"/>
                  </a:lnTo>
                  <a:lnTo>
                    <a:pt x="22" y="522"/>
                  </a:lnTo>
                  <a:lnTo>
                    <a:pt x="68" y="469"/>
                  </a:lnTo>
                  <a:lnTo>
                    <a:pt x="88" y="410"/>
                  </a:lnTo>
                  <a:lnTo>
                    <a:pt x="110" y="344"/>
                  </a:lnTo>
                  <a:lnTo>
                    <a:pt x="139" y="266"/>
                  </a:lnTo>
                  <a:lnTo>
                    <a:pt x="175" y="200"/>
                  </a:lnTo>
                  <a:lnTo>
                    <a:pt x="214" y="149"/>
                  </a:lnTo>
                  <a:lnTo>
                    <a:pt x="243" y="12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07920" y="4932000"/>
              <a:ext cx="276480" cy="951120"/>
            </a:xfrm>
            <a:custGeom>
              <a:avLst/>
              <a:gdLst/>
              <a:ahLst/>
              <a:rect l="l" t="t" r="r" b="b"/>
              <a:pathLst>
                <a:path w="237" h="714">
                  <a:moveTo>
                    <a:pt x="95" y="245"/>
                  </a:moveTo>
                  <a:lnTo>
                    <a:pt x="110" y="179"/>
                  </a:lnTo>
                  <a:lnTo>
                    <a:pt x="110" y="149"/>
                  </a:lnTo>
                  <a:lnTo>
                    <a:pt x="83" y="118"/>
                  </a:lnTo>
                  <a:lnTo>
                    <a:pt x="24" y="96"/>
                  </a:lnTo>
                  <a:lnTo>
                    <a:pt x="24" y="62"/>
                  </a:lnTo>
                  <a:lnTo>
                    <a:pt x="61" y="18"/>
                  </a:lnTo>
                  <a:lnTo>
                    <a:pt x="95" y="0"/>
                  </a:lnTo>
                  <a:lnTo>
                    <a:pt x="141" y="3"/>
                  </a:lnTo>
                  <a:lnTo>
                    <a:pt x="161" y="18"/>
                  </a:lnTo>
                  <a:lnTo>
                    <a:pt x="183" y="59"/>
                  </a:lnTo>
                  <a:lnTo>
                    <a:pt x="215" y="103"/>
                  </a:lnTo>
                  <a:lnTo>
                    <a:pt x="234" y="149"/>
                  </a:lnTo>
                  <a:lnTo>
                    <a:pt x="237" y="171"/>
                  </a:lnTo>
                  <a:lnTo>
                    <a:pt x="227" y="198"/>
                  </a:lnTo>
                  <a:lnTo>
                    <a:pt x="200" y="252"/>
                  </a:lnTo>
                  <a:lnTo>
                    <a:pt x="168" y="318"/>
                  </a:lnTo>
                  <a:lnTo>
                    <a:pt x="127" y="396"/>
                  </a:lnTo>
                  <a:lnTo>
                    <a:pt x="102" y="435"/>
                  </a:lnTo>
                  <a:lnTo>
                    <a:pt x="66" y="464"/>
                  </a:lnTo>
                  <a:lnTo>
                    <a:pt x="68" y="484"/>
                  </a:lnTo>
                  <a:lnTo>
                    <a:pt x="97" y="501"/>
                  </a:lnTo>
                  <a:lnTo>
                    <a:pt x="134" y="530"/>
                  </a:lnTo>
                  <a:lnTo>
                    <a:pt x="168" y="572"/>
                  </a:lnTo>
                  <a:lnTo>
                    <a:pt x="183" y="618"/>
                  </a:lnTo>
                  <a:lnTo>
                    <a:pt x="193" y="689"/>
                  </a:lnTo>
                  <a:lnTo>
                    <a:pt x="185" y="714"/>
                  </a:lnTo>
                  <a:lnTo>
                    <a:pt x="163" y="714"/>
                  </a:lnTo>
                  <a:lnTo>
                    <a:pt x="124" y="692"/>
                  </a:lnTo>
                  <a:lnTo>
                    <a:pt x="112" y="677"/>
                  </a:lnTo>
                  <a:lnTo>
                    <a:pt x="112" y="652"/>
                  </a:lnTo>
                  <a:lnTo>
                    <a:pt x="117" y="611"/>
                  </a:lnTo>
                  <a:lnTo>
                    <a:pt x="102" y="567"/>
                  </a:lnTo>
                  <a:lnTo>
                    <a:pt x="73" y="538"/>
                  </a:lnTo>
                  <a:lnTo>
                    <a:pt x="46" y="516"/>
                  </a:lnTo>
                  <a:lnTo>
                    <a:pt x="17" y="516"/>
                  </a:lnTo>
                  <a:lnTo>
                    <a:pt x="0" y="494"/>
                  </a:lnTo>
                  <a:lnTo>
                    <a:pt x="2" y="469"/>
                  </a:lnTo>
                  <a:lnTo>
                    <a:pt x="29" y="440"/>
                  </a:lnTo>
                  <a:lnTo>
                    <a:pt x="61" y="377"/>
                  </a:lnTo>
                  <a:lnTo>
                    <a:pt x="73" y="345"/>
                  </a:lnTo>
                  <a:lnTo>
                    <a:pt x="83" y="301"/>
                  </a:lnTo>
                  <a:lnTo>
                    <a:pt x="95" y="259"/>
                  </a:lnTo>
                  <a:lnTo>
                    <a:pt x="95" y="24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4000" y="4928040"/>
              <a:ext cx="329760" cy="982080"/>
            </a:xfrm>
            <a:custGeom>
              <a:avLst/>
              <a:gdLst/>
              <a:ahLst/>
              <a:rect l="l" t="t" r="r" b="b"/>
              <a:pathLst>
                <a:path w="283" h="737">
                  <a:moveTo>
                    <a:pt x="75" y="132"/>
                  </a:moveTo>
                  <a:lnTo>
                    <a:pt x="109" y="66"/>
                  </a:lnTo>
                  <a:lnTo>
                    <a:pt x="140" y="27"/>
                  </a:lnTo>
                  <a:lnTo>
                    <a:pt x="196" y="0"/>
                  </a:lnTo>
                  <a:lnTo>
                    <a:pt x="254" y="0"/>
                  </a:lnTo>
                  <a:lnTo>
                    <a:pt x="283" y="27"/>
                  </a:lnTo>
                  <a:lnTo>
                    <a:pt x="283" y="57"/>
                  </a:lnTo>
                  <a:lnTo>
                    <a:pt x="246" y="88"/>
                  </a:lnTo>
                  <a:lnTo>
                    <a:pt x="205" y="110"/>
                  </a:lnTo>
                  <a:lnTo>
                    <a:pt x="174" y="137"/>
                  </a:lnTo>
                  <a:lnTo>
                    <a:pt x="159" y="174"/>
                  </a:lnTo>
                  <a:lnTo>
                    <a:pt x="159" y="235"/>
                  </a:lnTo>
                  <a:lnTo>
                    <a:pt x="174" y="293"/>
                  </a:lnTo>
                  <a:lnTo>
                    <a:pt x="176" y="374"/>
                  </a:lnTo>
                  <a:lnTo>
                    <a:pt x="188" y="430"/>
                  </a:lnTo>
                  <a:lnTo>
                    <a:pt x="196" y="484"/>
                  </a:lnTo>
                  <a:lnTo>
                    <a:pt x="196" y="525"/>
                  </a:lnTo>
                  <a:lnTo>
                    <a:pt x="176" y="540"/>
                  </a:lnTo>
                  <a:lnTo>
                    <a:pt x="152" y="535"/>
                  </a:lnTo>
                  <a:lnTo>
                    <a:pt x="116" y="542"/>
                  </a:lnTo>
                  <a:lnTo>
                    <a:pt x="82" y="579"/>
                  </a:lnTo>
                  <a:lnTo>
                    <a:pt x="65" y="635"/>
                  </a:lnTo>
                  <a:lnTo>
                    <a:pt x="60" y="708"/>
                  </a:lnTo>
                  <a:lnTo>
                    <a:pt x="65" y="733"/>
                  </a:lnTo>
                  <a:lnTo>
                    <a:pt x="36" y="737"/>
                  </a:lnTo>
                  <a:lnTo>
                    <a:pt x="17" y="725"/>
                  </a:lnTo>
                  <a:lnTo>
                    <a:pt x="0" y="686"/>
                  </a:lnTo>
                  <a:lnTo>
                    <a:pt x="2" y="650"/>
                  </a:lnTo>
                  <a:lnTo>
                    <a:pt x="24" y="579"/>
                  </a:lnTo>
                  <a:lnTo>
                    <a:pt x="58" y="542"/>
                  </a:lnTo>
                  <a:lnTo>
                    <a:pt x="94" y="506"/>
                  </a:lnTo>
                  <a:lnTo>
                    <a:pt x="123" y="489"/>
                  </a:lnTo>
                  <a:lnTo>
                    <a:pt x="152" y="481"/>
                  </a:lnTo>
                  <a:lnTo>
                    <a:pt x="155" y="459"/>
                  </a:lnTo>
                  <a:lnTo>
                    <a:pt x="133" y="393"/>
                  </a:lnTo>
                  <a:lnTo>
                    <a:pt x="111" y="323"/>
                  </a:lnTo>
                  <a:lnTo>
                    <a:pt x="89" y="271"/>
                  </a:lnTo>
                  <a:lnTo>
                    <a:pt x="75" y="213"/>
                  </a:lnTo>
                  <a:lnTo>
                    <a:pt x="65" y="176"/>
                  </a:lnTo>
                  <a:lnTo>
                    <a:pt x="75" y="13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47520" y="3917880"/>
              <a:ext cx="336960" cy="478080"/>
            </a:xfrm>
            <a:custGeom>
              <a:avLst/>
              <a:gdLst/>
              <a:ahLst/>
              <a:rect l="l" t="t" r="r" b="b"/>
              <a:pathLst>
                <a:path w="289" h="359">
                  <a:moveTo>
                    <a:pt x="102" y="351"/>
                  </a:moveTo>
                  <a:lnTo>
                    <a:pt x="51" y="351"/>
                  </a:lnTo>
                  <a:lnTo>
                    <a:pt x="7" y="312"/>
                  </a:lnTo>
                  <a:lnTo>
                    <a:pt x="0" y="285"/>
                  </a:lnTo>
                  <a:lnTo>
                    <a:pt x="0" y="249"/>
                  </a:lnTo>
                  <a:lnTo>
                    <a:pt x="14" y="176"/>
                  </a:lnTo>
                  <a:lnTo>
                    <a:pt x="43" y="124"/>
                  </a:lnTo>
                  <a:lnTo>
                    <a:pt x="99" y="44"/>
                  </a:lnTo>
                  <a:lnTo>
                    <a:pt x="138" y="14"/>
                  </a:lnTo>
                  <a:lnTo>
                    <a:pt x="194" y="0"/>
                  </a:lnTo>
                  <a:lnTo>
                    <a:pt x="247" y="19"/>
                  </a:lnTo>
                  <a:lnTo>
                    <a:pt x="274" y="51"/>
                  </a:lnTo>
                  <a:lnTo>
                    <a:pt x="281" y="88"/>
                  </a:lnTo>
                  <a:lnTo>
                    <a:pt x="281" y="136"/>
                  </a:lnTo>
                  <a:lnTo>
                    <a:pt x="262" y="198"/>
                  </a:lnTo>
                  <a:lnTo>
                    <a:pt x="247" y="234"/>
                  </a:lnTo>
                  <a:lnTo>
                    <a:pt x="252" y="271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69" y="359"/>
                  </a:lnTo>
                  <a:lnTo>
                    <a:pt x="223" y="278"/>
                  </a:lnTo>
                  <a:lnTo>
                    <a:pt x="187" y="307"/>
                  </a:lnTo>
                  <a:lnTo>
                    <a:pt x="145" y="334"/>
                  </a:lnTo>
                  <a:lnTo>
                    <a:pt x="124" y="342"/>
                  </a:lnTo>
                  <a:lnTo>
                    <a:pt x="102" y="35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286000" y="5638680"/>
            <a:ext cx="1676160" cy="757440"/>
            <a:chOff x="2286000" y="5638680"/>
            <a:chExt cx="1676160" cy="757440"/>
          </a:xfrm>
        </p:grpSpPr>
        <p:sp>
          <p:nvSpPr>
            <p:cNvPr id="926" name=""/>
            <p:cNvSpPr/>
            <p:nvPr/>
          </p:nvSpPr>
          <p:spPr>
            <a:xfrm>
              <a:off x="2725920" y="5638680"/>
              <a:ext cx="731160" cy="418680"/>
            </a:xfrm>
            <a:custGeom>
              <a:avLst/>
              <a:gdLst/>
              <a:ahLst/>
              <a:rect l="l" t="t" r="r" b="b"/>
              <a:pathLst>
                <a:path w="831" h="423">
                  <a:moveTo>
                    <a:pt x="0" y="302"/>
                  </a:moveTo>
                  <a:lnTo>
                    <a:pt x="9" y="203"/>
                  </a:lnTo>
                  <a:lnTo>
                    <a:pt x="79" y="138"/>
                  </a:lnTo>
                  <a:lnTo>
                    <a:pt x="214" y="62"/>
                  </a:lnTo>
                  <a:lnTo>
                    <a:pt x="385" y="17"/>
                  </a:lnTo>
                  <a:lnTo>
                    <a:pt x="530" y="0"/>
                  </a:lnTo>
                  <a:lnTo>
                    <a:pt x="636" y="36"/>
                  </a:lnTo>
                  <a:lnTo>
                    <a:pt x="728" y="102"/>
                  </a:lnTo>
                  <a:lnTo>
                    <a:pt x="778" y="161"/>
                  </a:lnTo>
                  <a:lnTo>
                    <a:pt x="817" y="253"/>
                  </a:lnTo>
                  <a:lnTo>
                    <a:pt x="831" y="331"/>
                  </a:lnTo>
                  <a:lnTo>
                    <a:pt x="798" y="384"/>
                  </a:lnTo>
                  <a:lnTo>
                    <a:pt x="761" y="410"/>
                  </a:lnTo>
                  <a:lnTo>
                    <a:pt x="672" y="423"/>
                  </a:lnTo>
                  <a:lnTo>
                    <a:pt x="590" y="410"/>
                  </a:lnTo>
                  <a:lnTo>
                    <a:pt x="537" y="371"/>
                  </a:lnTo>
                  <a:lnTo>
                    <a:pt x="481" y="328"/>
                  </a:lnTo>
                  <a:lnTo>
                    <a:pt x="431" y="302"/>
                  </a:lnTo>
                  <a:lnTo>
                    <a:pt x="352" y="302"/>
                  </a:lnTo>
                  <a:lnTo>
                    <a:pt x="267" y="315"/>
                  </a:lnTo>
                  <a:lnTo>
                    <a:pt x="164" y="338"/>
                  </a:lnTo>
                  <a:lnTo>
                    <a:pt x="85" y="354"/>
                  </a:lnTo>
                  <a:lnTo>
                    <a:pt x="13" y="35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11280" y="5836680"/>
              <a:ext cx="650880" cy="541440"/>
            </a:xfrm>
            <a:custGeom>
              <a:avLst/>
              <a:gdLst/>
              <a:ahLst/>
              <a:rect l="l" t="t" r="r" b="b"/>
              <a:pathLst>
                <a:path w="740" h="547">
                  <a:moveTo>
                    <a:pt x="53" y="0"/>
                  </a:moveTo>
                  <a:lnTo>
                    <a:pt x="119" y="32"/>
                  </a:lnTo>
                  <a:lnTo>
                    <a:pt x="132" y="79"/>
                  </a:lnTo>
                  <a:lnTo>
                    <a:pt x="172" y="151"/>
                  </a:lnTo>
                  <a:lnTo>
                    <a:pt x="172" y="204"/>
                  </a:lnTo>
                  <a:lnTo>
                    <a:pt x="139" y="309"/>
                  </a:lnTo>
                  <a:lnTo>
                    <a:pt x="99" y="382"/>
                  </a:lnTo>
                  <a:lnTo>
                    <a:pt x="66" y="428"/>
                  </a:lnTo>
                  <a:lnTo>
                    <a:pt x="53" y="487"/>
                  </a:lnTo>
                  <a:lnTo>
                    <a:pt x="73" y="514"/>
                  </a:lnTo>
                  <a:lnTo>
                    <a:pt x="172" y="494"/>
                  </a:lnTo>
                  <a:lnTo>
                    <a:pt x="251" y="454"/>
                  </a:lnTo>
                  <a:lnTo>
                    <a:pt x="350" y="375"/>
                  </a:lnTo>
                  <a:lnTo>
                    <a:pt x="429" y="283"/>
                  </a:lnTo>
                  <a:lnTo>
                    <a:pt x="469" y="204"/>
                  </a:lnTo>
                  <a:lnTo>
                    <a:pt x="489" y="158"/>
                  </a:lnTo>
                  <a:lnTo>
                    <a:pt x="522" y="158"/>
                  </a:lnTo>
                  <a:lnTo>
                    <a:pt x="542" y="164"/>
                  </a:lnTo>
                  <a:lnTo>
                    <a:pt x="568" y="237"/>
                  </a:lnTo>
                  <a:lnTo>
                    <a:pt x="595" y="303"/>
                  </a:lnTo>
                  <a:lnTo>
                    <a:pt x="667" y="349"/>
                  </a:lnTo>
                  <a:lnTo>
                    <a:pt x="740" y="375"/>
                  </a:lnTo>
                  <a:lnTo>
                    <a:pt x="720" y="395"/>
                  </a:lnTo>
                  <a:lnTo>
                    <a:pt x="681" y="415"/>
                  </a:lnTo>
                  <a:lnTo>
                    <a:pt x="614" y="395"/>
                  </a:lnTo>
                  <a:lnTo>
                    <a:pt x="575" y="342"/>
                  </a:lnTo>
                  <a:lnTo>
                    <a:pt x="548" y="296"/>
                  </a:lnTo>
                  <a:lnTo>
                    <a:pt x="529" y="250"/>
                  </a:lnTo>
                  <a:lnTo>
                    <a:pt x="509" y="237"/>
                  </a:lnTo>
                  <a:lnTo>
                    <a:pt x="489" y="257"/>
                  </a:lnTo>
                  <a:lnTo>
                    <a:pt x="449" y="329"/>
                  </a:lnTo>
                  <a:lnTo>
                    <a:pt x="363" y="428"/>
                  </a:lnTo>
                  <a:lnTo>
                    <a:pt x="284" y="474"/>
                  </a:lnTo>
                  <a:lnTo>
                    <a:pt x="198" y="520"/>
                  </a:lnTo>
                  <a:lnTo>
                    <a:pt x="79" y="547"/>
                  </a:lnTo>
                  <a:lnTo>
                    <a:pt x="20" y="540"/>
                  </a:lnTo>
                  <a:lnTo>
                    <a:pt x="0" y="514"/>
                  </a:lnTo>
                  <a:lnTo>
                    <a:pt x="0" y="487"/>
                  </a:lnTo>
                  <a:lnTo>
                    <a:pt x="0" y="448"/>
                  </a:lnTo>
                  <a:lnTo>
                    <a:pt x="26" y="382"/>
                  </a:lnTo>
                  <a:lnTo>
                    <a:pt x="73" y="322"/>
                  </a:lnTo>
                  <a:lnTo>
                    <a:pt x="99" y="230"/>
                  </a:lnTo>
                  <a:lnTo>
                    <a:pt x="106" y="184"/>
                  </a:lnTo>
                  <a:lnTo>
                    <a:pt x="86" y="138"/>
                  </a:lnTo>
                  <a:lnTo>
                    <a:pt x="33" y="92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07240" y="5775120"/>
              <a:ext cx="650880" cy="544320"/>
            </a:xfrm>
            <a:custGeom>
              <a:avLst/>
              <a:gdLst/>
              <a:ahLst/>
              <a:rect l="l" t="t" r="r" b="b"/>
              <a:pathLst>
                <a:path w="740" h="550">
                  <a:moveTo>
                    <a:pt x="53" y="0"/>
                  </a:moveTo>
                  <a:lnTo>
                    <a:pt x="119" y="33"/>
                  </a:lnTo>
                  <a:lnTo>
                    <a:pt x="132" y="80"/>
                  </a:lnTo>
                  <a:lnTo>
                    <a:pt x="172" y="152"/>
                  </a:lnTo>
                  <a:lnTo>
                    <a:pt x="172" y="205"/>
                  </a:lnTo>
                  <a:lnTo>
                    <a:pt x="139" y="311"/>
                  </a:lnTo>
                  <a:lnTo>
                    <a:pt x="99" y="384"/>
                  </a:lnTo>
                  <a:lnTo>
                    <a:pt x="66" y="431"/>
                  </a:lnTo>
                  <a:lnTo>
                    <a:pt x="53" y="490"/>
                  </a:lnTo>
                  <a:lnTo>
                    <a:pt x="73" y="517"/>
                  </a:lnTo>
                  <a:lnTo>
                    <a:pt x="172" y="497"/>
                  </a:lnTo>
                  <a:lnTo>
                    <a:pt x="251" y="457"/>
                  </a:lnTo>
                  <a:lnTo>
                    <a:pt x="350" y="378"/>
                  </a:lnTo>
                  <a:lnTo>
                    <a:pt x="429" y="285"/>
                  </a:lnTo>
                  <a:lnTo>
                    <a:pt x="469" y="205"/>
                  </a:lnTo>
                  <a:lnTo>
                    <a:pt x="489" y="159"/>
                  </a:lnTo>
                  <a:lnTo>
                    <a:pt x="522" y="159"/>
                  </a:lnTo>
                  <a:lnTo>
                    <a:pt x="542" y="166"/>
                  </a:lnTo>
                  <a:lnTo>
                    <a:pt x="568" y="239"/>
                  </a:lnTo>
                  <a:lnTo>
                    <a:pt x="595" y="305"/>
                  </a:lnTo>
                  <a:lnTo>
                    <a:pt x="667" y="351"/>
                  </a:lnTo>
                  <a:lnTo>
                    <a:pt x="740" y="378"/>
                  </a:lnTo>
                  <a:lnTo>
                    <a:pt x="720" y="398"/>
                  </a:lnTo>
                  <a:lnTo>
                    <a:pt x="681" y="417"/>
                  </a:lnTo>
                  <a:lnTo>
                    <a:pt x="614" y="398"/>
                  </a:lnTo>
                  <a:lnTo>
                    <a:pt x="575" y="345"/>
                  </a:lnTo>
                  <a:lnTo>
                    <a:pt x="548" y="298"/>
                  </a:lnTo>
                  <a:lnTo>
                    <a:pt x="529" y="252"/>
                  </a:lnTo>
                  <a:lnTo>
                    <a:pt x="509" y="239"/>
                  </a:lnTo>
                  <a:lnTo>
                    <a:pt x="489" y="258"/>
                  </a:lnTo>
                  <a:lnTo>
                    <a:pt x="449" y="331"/>
                  </a:lnTo>
                  <a:lnTo>
                    <a:pt x="363" y="431"/>
                  </a:lnTo>
                  <a:lnTo>
                    <a:pt x="284" y="477"/>
                  </a:lnTo>
                  <a:lnTo>
                    <a:pt x="198" y="523"/>
                  </a:lnTo>
                  <a:lnTo>
                    <a:pt x="79" y="550"/>
                  </a:lnTo>
                  <a:lnTo>
                    <a:pt x="20" y="543"/>
                  </a:lnTo>
                  <a:lnTo>
                    <a:pt x="0" y="517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26" y="384"/>
                  </a:lnTo>
                  <a:lnTo>
                    <a:pt x="73" y="325"/>
                  </a:lnTo>
                  <a:lnTo>
                    <a:pt x="99" y="232"/>
                  </a:lnTo>
                  <a:lnTo>
                    <a:pt x="106" y="186"/>
                  </a:lnTo>
                  <a:lnTo>
                    <a:pt x="86" y="139"/>
                  </a:lnTo>
                  <a:lnTo>
                    <a:pt x="33" y="93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86000" y="5913000"/>
              <a:ext cx="632520" cy="483120"/>
            </a:xfrm>
            <a:custGeom>
              <a:avLst/>
              <a:gdLst/>
              <a:ahLst/>
              <a:rect l="l" t="t" r="r" b="b"/>
              <a:pathLst>
                <a:path w="719" h="488">
                  <a:moveTo>
                    <a:pt x="620" y="33"/>
                  </a:moveTo>
                  <a:lnTo>
                    <a:pt x="580" y="0"/>
                  </a:lnTo>
                  <a:lnTo>
                    <a:pt x="540" y="0"/>
                  </a:lnTo>
                  <a:lnTo>
                    <a:pt x="521" y="33"/>
                  </a:lnTo>
                  <a:lnTo>
                    <a:pt x="527" y="73"/>
                  </a:lnTo>
                  <a:lnTo>
                    <a:pt x="600" y="198"/>
                  </a:lnTo>
                  <a:lnTo>
                    <a:pt x="666" y="330"/>
                  </a:lnTo>
                  <a:lnTo>
                    <a:pt x="672" y="402"/>
                  </a:lnTo>
                  <a:lnTo>
                    <a:pt x="653" y="442"/>
                  </a:lnTo>
                  <a:lnTo>
                    <a:pt x="600" y="442"/>
                  </a:lnTo>
                  <a:lnTo>
                    <a:pt x="448" y="448"/>
                  </a:lnTo>
                  <a:lnTo>
                    <a:pt x="310" y="435"/>
                  </a:lnTo>
                  <a:lnTo>
                    <a:pt x="237" y="402"/>
                  </a:lnTo>
                  <a:lnTo>
                    <a:pt x="178" y="376"/>
                  </a:lnTo>
                  <a:lnTo>
                    <a:pt x="145" y="376"/>
                  </a:lnTo>
                  <a:lnTo>
                    <a:pt x="105" y="415"/>
                  </a:lnTo>
                  <a:lnTo>
                    <a:pt x="13" y="429"/>
                  </a:lnTo>
                  <a:lnTo>
                    <a:pt x="0" y="455"/>
                  </a:lnTo>
                  <a:lnTo>
                    <a:pt x="59" y="462"/>
                  </a:lnTo>
                  <a:lnTo>
                    <a:pt x="145" y="455"/>
                  </a:lnTo>
                  <a:lnTo>
                    <a:pt x="171" y="442"/>
                  </a:lnTo>
                  <a:lnTo>
                    <a:pt x="244" y="468"/>
                  </a:lnTo>
                  <a:lnTo>
                    <a:pt x="303" y="468"/>
                  </a:lnTo>
                  <a:lnTo>
                    <a:pt x="389" y="481"/>
                  </a:lnTo>
                  <a:lnTo>
                    <a:pt x="514" y="488"/>
                  </a:lnTo>
                  <a:lnTo>
                    <a:pt x="626" y="481"/>
                  </a:lnTo>
                  <a:lnTo>
                    <a:pt x="692" y="462"/>
                  </a:lnTo>
                  <a:lnTo>
                    <a:pt x="719" y="429"/>
                  </a:lnTo>
                  <a:lnTo>
                    <a:pt x="719" y="382"/>
                  </a:lnTo>
                  <a:lnTo>
                    <a:pt x="719" y="297"/>
                  </a:lnTo>
                  <a:lnTo>
                    <a:pt x="686" y="211"/>
                  </a:lnTo>
                  <a:lnTo>
                    <a:pt x="653" y="119"/>
                  </a:lnTo>
                  <a:lnTo>
                    <a:pt x="620" y="3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91040" y="5854680"/>
              <a:ext cx="556920" cy="450360"/>
            </a:xfrm>
            <a:custGeom>
              <a:avLst/>
              <a:gdLst/>
              <a:ahLst/>
              <a:rect l="l" t="t" r="r" b="b"/>
              <a:pathLst>
                <a:path w="633" h="455">
                  <a:moveTo>
                    <a:pt x="547" y="0"/>
                  </a:moveTo>
                  <a:lnTo>
                    <a:pt x="514" y="32"/>
                  </a:lnTo>
                  <a:lnTo>
                    <a:pt x="507" y="85"/>
                  </a:lnTo>
                  <a:lnTo>
                    <a:pt x="514" y="158"/>
                  </a:lnTo>
                  <a:lnTo>
                    <a:pt x="534" y="243"/>
                  </a:lnTo>
                  <a:lnTo>
                    <a:pt x="547" y="342"/>
                  </a:lnTo>
                  <a:lnTo>
                    <a:pt x="560" y="389"/>
                  </a:lnTo>
                  <a:lnTo>
                    <a:pt x="553" y="408"/>
                  </a:lnTo>
                  <a:lnTo>
                    <a:pt x="487" y="415"/>
                  </a:lnTo>
                  <a:lnTo>
                    <a:pt x="362" y="422"/>
                  </a:lnTo>
                  <a:lnTo>
                    <a:pt x="257" y="402"/>
                  </a:lnTo>
                  <a:lnTo>
                    <a:pt x="178" y="362"/>
                  </a:lnTo>
                  <a:lnTo>
                    <a:pt x="138" y="356"/>
                  </a:lnTo>
                  <a:lnTo>
                    <a:pt x="85" y="389"/>
                  </a:lnTo>
                  <a:lnTo>
                    <a:pt x="39" y="395"/>
                  </a:lnTo>
                  <a:lnTo>
                    <a:pt x="0" y="408"/>
                  </a:lnTo>
                  <a:lnTo>
                    <a:pt x="6" y="428"/>
                  </a:lnTo>
                  <a:lnTo>
                    <a:pt x="59" y="428"/>
                  </a:lnTo>
                  <a:lnTo>
                    <a:pt x="112" y="428"/>
                  </a:lnTo>
                  <a:lnTo>
                    <a:pt x="151" y="408"/>
                  </a:lnTo>
                  <a:lnTo>
                    <a:pt x="191" y="415"/>
                  </a:lnTo>
                  <a:lnTo>
                    <a:pt x="237" y="441"/>
                  </a:lnTo>
                  <a:lnTo>
                    <a:pt x="309" y="441"/>
                  </a:lnTo>
                  <a:lnTo>
                    <a:pt x="428" y="455"/>
                  </a:lnTo>
                  <a:lnTo>
                    <a:pt x="540" y="448"/>
                  </a:lnTo>
                  <a:lnTo>
                    <a:pt x="613" y="428"/>
                  </a:lnTo>
                  <a:lnTo>
                    <a:pt x="633" y="395"/>
                  </a:lnTo>
                  <a:lnTo>
                    <a:pt x="593" y="342"/>
                  </a:lnTo>
                  <a:lnTo>
                    <a:pt x="580" y="270"/>
                  </a:lnTo>
                  <a:lnTo>
                    <a:pt x="580" y="197"/>
                  </a:lnTo>
                  <a:lnTo>
                    <a:pt x="586" y="131"/>
                  </a:lnTo>
                  <a:lnTo>
                    <a:pt x="600" y="59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92840" y="5792040"/>
              <a:ext cx="413640" cy="427680"/>
            </a:xfrm>
            <a:custGeom>
              <a:avLst/>
              <a:gdLst/>
              <a:ahLst/>
              <a:rect l="l" t="t" r="r" b="b"/>
              <a:pathLst>
                <a:path w="470" h="432">
                  <a:moveTo>
                    <a:pt x="460" y="171"/>
                  </a:moveTo>
                  <a:lnTo>
                    <a:pt x="470" y="118"/>
                  </a:lnTo>
                  <a:lnTo>
                    <a:pt x="447" y="59"/>
                  </a:lnTo>
                  <a:lnTo>
                    <a:pt x="381" y="16"/>
                  </a:lnTo>
                  <a:lnTo>
                    <a:pt x="256" y="0"/>
                  </a:lnTo>
                  <a:lnTo>
                    <a:pt x="118" y="29"/>
                  </a:lnTo>
                  <a:lnTo>
                    <a:pt x="13" y="89"/>
                  </a:lnTo>
                  <a:lnTo>
                    <a:pt x="0" y="151"/>
                  </a:lnTo>
                  <a:lnTo>
                    <a:pt x="0" y="230"/>
                  </a:lnTo>
                  <a:lnTo>
                    <a:pt x="56" y="277"/>
                  </a:lnTo>
                  <a:lnTo>
                    <a:pt x="111" y="296"/>
                  </a:lnTo>
                  <a:lnTo>
                    <a:pt x="190" y="296"/>
                  </a:lnTo>
                  <a:lnTo>
                    <a:pt x="266" y="293"/>
                  </a:lnTo>
                  <a:lnTo>
                    <a:pt x="318" y="382"/>
                  </a:lnTo>
                  <a:lnTo>
                    <a:pt x="351" y="425"/>
                  </a:lnTo>
                  <a:lnTo>
                    <a:pt x="378" y="432"/>
                  </a:lnTo>
                  <a:lnTo>
                    <a:pt x="378" y="412"/>
                  </a:lnTo>
                  <a:lnTo>
                    <a:pt x="309" y="287"/>
                  </a:lnTo>
                  <a:lnTo>
                    <a:pt x="374" y="257"/>
                  </a:lnTo>
                  <a:lnTo>
                    <a:pt x="437" y="201"/>
                  </a:lnTo>
                  <a:lnTo>
                    <a:pt x="460" y="17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2" name="pcs_transprt_27" descr=""/>
          <p:cNvPicPr/>
          <p:nvPr/>
        </p:nvPicPr>
        <p:blipFill>
          <a:blip r:embed="rId1"/>
          <a:stretch/>
        </p:blipFill>
        <p:spPr>
          <a:xfrm>
            <a:off x="4546440" y="2070000"/>
            <a:ext cx="1954440" cy="304164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914400" y="2666880"/>
            <a:ext cx="3581280" cy="1524240"/>
          </a:xfrm>
          <a:prstGeom prst="cloudCallout">
            <a:avLst>
              <a:gd name="adj1" fmla="val -6694"/>
              <a:gd name="adj2" fmla="val 143023"/>
            </a:avLst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Pierwsze wyd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sterowca gotow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935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69640" y="1415160"/>
              <a:ext cx="52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Stosuj częste krótkie wyda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4419720" y="4981680"/>
            <a:ext cx="4724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Wydani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Ma wartość użytkow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Trafia do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końcowy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940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01320" y="141516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Wydanie podziel na przyros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797040" y="4799160"/>
            <a:ext cx="625320" cy="839520"/>
            <a:chOff x="797040" y="4799160"/>
            <a:chExt cx="625320" cy="839520"/>
          </a:xfrm>
        </p:grpSpPr>
        <p:grpSp>
          <p:nvGrpSpPr>
            <p:cNvPr id="943" name=""/>
            <p:cNvGrpSpPr/>
            <p:nvPr/>
          </p:nvGrpSpPr>
          <p:grpSpPr>
            <a:xfrm>
              <a:off x="947880" y="5406840"/>
              <a:ext cx="338040" cy="106560"/>
              <a:chOff x="947880" y="5406840"/>
              <a:chExt cx="338040" cy="106560"/>
            </a:xfrm>
          </p:grpSpPr>
          <p:sp>
            <p:nvSpPr>
              <p:cNvPr id="944" name=""/>
              <p:cNvSpPr/>
              <p:nvPr/>
            </p:nvSpPr>
            <p:spPr>
              <a:xfrm>
                <a:off x="985680" y="5408640"/>
                <a:ext cx="263520" cy="104760"/>
              </a:xfrm>
              <a:custGeom>
                <a:avLst/>
                <a:gdLst/>
                <a:ahLst/>
                <a:rect l="l" t="t" r="r" b="b"/>
                <a:pathLst>
                  <a:path w="332" h="131">
                    <a:moveTo>
                      <a:pt x="0" y="0"/>
                    </a:moveTo>
                    <a:lnTo>
                      <a:pt x="332" y="0"/>
                    </a:lnTo>
                    <a:lnTo>
                      <a:pt x="292" y="131"/>
                    </a:lnTo>
                    <a:lnTo>
                      <a:pt x="33" y="1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47880" y="5406840"/>
                <a:ext cx="56880" cy="73080"/>
              </a:xfrm>
              <a:custGeom>
                <a:avLst/>
                <a:gdLst/>
                <a:ahLst/>
                <a:rect l="l" t="t" r="r" b="b"/>
                <a:pathLst>
                  <a:path w="73" h="92">
                    <a:moveTo>
                      <a:pt x="48" y="0"/>
                    </a:moveTo>
                    <a:lnTo>
                      <a:pt x="73" y="92"/>
                    </a:lnTo>
                    <a:lnTo>
                      <a:pt x="59" y="80"/>
                    </a:lnTo>
                    <a:lnTo>
                      <a:pt x="0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30480" y="5406840"/>
                <a:ext cx="55440" cy="73080"/>
              </a:xfrm>
              <a:custGeom>
                <a:avLst/>
                <a:gdLst/>
                <a:ahLst/>
                <a:rect l="l" t="t" r="r" b="b"/>
                <a:pathLst>
                  <a:path w="71" h="92">
                    <a:moveTo>
                      <a:pt x="24" y="0"/>
                    </a:moveTo>
                    <a:lnTo>
                      <a:pt x="0" y="92"/>
                    </a:lnTo>
                    <a:lnTo>
                      <a:pt x="14" y="80"/>
                    </a:lnTo>
                    <a:lnTo>
                      <a:pt x="71" y="3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871560" y="4965840"/>
              <a:ext cx="495360" cy="533160"/>
              <a:chOff x="871560" y="4965840"/>
              <a:chExt cx="495360" cy="53316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1211040" y="4965840"/>
                <a:ext cx="155880" cy="528480"/>
                <a:chOff x="1211040" y="4965840"/>
                <a:chExt cx="155880" cy="528480"/>
              </a:xfrm>
            </p:grpSpPr>
            <p:sp>
              <p:nvSpPr>
                <p:cNvPr id="949" name=""/>
                <p:cNvSpPr/>
                <p:nvPr/>
              </p:nvSpPr>
              <p:spPr>
                <a:xfrm flipH="1">
                  <a:off x="1273320" y="4965840"/>
                  <a:ext cx="93600" cy="5079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227240" y="5102280"/>
                  <a:ext cx="48960" cy="358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211040" y="5133960"/>
                  <a:ext cx="27000" cy="360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871560" y="4970520"/>
                <a:ext cx="155520" cy="528480"/>
                <a:chOff x="871560" y="4970520"/>
                <a:chExt cx="155520" cy="52848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871560" y="4970520"/>
                  <a:ext cx="93600" cy="509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958680" y="5106960"/>
                  <a:ext cx="51120" cy="358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000080" y="5140440"/>
                  <a:ext cx="27000" cy="358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797040" y="4799160"/>
              <a:ext cx="625320" cy="225360"/>
              <a:chOff x="797040" y="4799160"/>
              <a:chExt cx="625320" cy="225360"/>
            </a:xfrm>
          </p:grpSpPr>
          <p:sp>
            <p:nvSpPr>
              <p:cNvPr id="957" name=""/>
              <p:cNvSpPr/>
              <p:nvPr/>
            </p:nvSpPr>
            <p:spPr>
              <a:xfrm>
                <a:off x="1108080" y="4799160"/>
                <a:ext cx="1440" cy="222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1161720" y="4799160"/>
                <a:ext cx="260640" cy="225360"/>
                <a:chOff x="1161720" y="4799160"/>
                <a:chExt cx="260640" cy="225360"/>
              </a:xfrm>
            </p:grpSpPr>
            <p:sp>
              <p:nvSpPr>
                <p:cNvPr id="959" name=""/>
                <p:cNvSpPr/>
                <p:nvPr/>
              </p:nvSpPr>
              <p:spPr>
                <a:xfrm flipH="1">
                  <a:off x="1314360" y="4799160"/>
                  <a:ext cx="108000" cy="225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1266840" y="4799160"/>
                  <a:ext cx="79200" cy="2221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1214280" y="4805280"/>
                  <a:ext cx="54000" cy="2160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1161720" y="4802040"/>
                  <a:ext cx="28440" cy="2224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797040" y="4799160"/>
                <a:ext cx="261720" cy="225360"/>
                <a:chOff x="797040" y="4799160"/>
                <a:chExt cx="261720" cy="2253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797040" y="4799160"/>
                  <a:ext cx="106200" cy="225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74800" y="4799160"/>
                  <a:ext cx="79200" cy="2221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952560" y="4805280"/>
                  <a:ext cx="54000" cy="2160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030320" y="4802040"/>
                  <a:ext cx="28440" cy="2224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822240" y="4925880"/>
              <a:ext cx="577800" cy="276480"/>
            </a:xfrm>
            <a:custGeom>
              <a:avLst/>
              <a:gdLst/>
              <a:ahLst/>
              <a:rect l="l" t="t" r="r" b="b"/>
              <a:pathLst>
                <a:path w="729" h="347">
                  <a:moveTo>
                    <a:pt x="0" y="0"/>
                  </a:moveTo>
                  <a:lnTo>
                    <a:pt x="143" y="247"/>
                  </a:lnTo>
                  <a:lnTo>
                    <a:pt x="171" y="281"/>
                  </a:lnTo>
                  <a:lnTo>
                    <a:pt x="200" y="304"/>
                  </a:lnTo>
                  <a:lnTo>
                    <a:pt x="238" y="321"/>
                  </a:lnTo>
                  <a:lnTo>
                    <a:pt x="280" y="333"/>
                  </a:lnTo>
                  <a:lnTo>
                    <a:pt x="327" y="342"/>
                  </a:lnTo>
                  <a:lnTo>
                    <a:pt x="377" y="347"/>
                  </a:lnTo>
                  <a:lnTo>
                    <a:pt x="423" y="342"/>
                  </a:lnTo>
                  <a:lnTo>
                    <a:pt x="463" y="332"/>
                  </a:lnTo>
                  <a:lnTo>
                    <a:pt x="496" y="319"/>
                  </a:lnTo>
                  <a:lnTo>
                    <a:pt x="530" y="302"/>
                  </a:lnTo>
                  <a:lnTo>
                    <a:pt x="558" y="280"/>
                  </a:lnTo>
                  <a:lnTo>
                    <a:pt x="586" y="245"/>
                  </a:lnTo>
                  <a:lnTo>
                    <a:pt x="7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947880" y="5437080"/>
              <a:ext cx="339480" cy="201600"/>
              <a:chOff x="947880" y="5437080"/>
              <a:chExt cx="339480" cy="201600"/>
            </a:xfrm>
          </p:grpSpPr>
          <p:sp>
            <p:nvSpPr>
              <p:cNvPr id="970" name=""/>
              <p:cNvSpPr/>
              <p:nvPr/>
            </p:nvSpPr>
            <p:spPr>
              <a:xfrm>
                <a:off x="947880" y="5437080"/>
                <a:ext cx="69840" cy="201600"/>
              </a:xfrm>
              <a:custGeom>
                <a:avLst/>
                <a:gdLst/>
                <a:ahLst/>
                <a:rect l="l" t="t" r="r" b="b"/>
                <a:pathLst>
                  <a:path w="88" h="254">
                    <a:moveTo>
                      <a:pt x="0" y="0"/>
                    </a:moveTo>
                    <a:lnTo>
                      <a:pt x="59" y="40"/>
                    </a:lnTo>
                    <a:lnTo>
                      <a:pt x="88" y="254"/>
                    </a:lnTo>
                    <a:lnTo>
                      <a:pt x="57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219320" y="5437080"/>
                <a:ext cx="68040" cy="201600"/>
              </a:xfrm>
              <a:custGeom>
                <a:avLst/>
                <a:gdLst/>
                <a:ahLst/>
                <a:rect l="l" t="t" r="r" b="b"/>
                <a:pathLst>
                  <a:path w="86" h="254">
                    <a:moveTo>
                      <a:pt x="86" y="0"/>
                    </a:moveTo>
                    <a:lnTo>
                      <a:pt x="29" y="40"/>
                    </a:lnTo>
                    <a:lnTo>
                      <a:pt x="0" y="254"/>
                    </a:lnTo>
                    <a:lnTo>
                      <a:pt x="31" y="227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993600" y="5470560"/>
                <a:ext cx="247680" cy="168120"/>
              </a:xfrm>
              <a:custGeom>
                <a:avLst/>
                <a:gdLst/>
                <a:ahLst/>
                <a:rect l="l" t="t" r="r" b="b"/>
                <a:pathLst>
                  <a:path w="311" h="212">
                    <a:moveTo>
                      <a:pt x="31" y="212"/>
                    </a:moveTo>
                    <a:lnTo>
                      <a:pt x="280" y="212"/>
                    </a:lnTo>
                    <a:lnTo>
                      <a:pt x="311" y="0"/>
                    </a:lnTo>
                    <a:lnTo>
                      <a:pt x="0" y="0"/>
                    </a:lnTo>
                    <a:lnTo>
                      <a:pt x="31" y="212"/>
                    </a:lnTo>
                    <a:close/>
                  </a:path>
                </a:pathLst>
              </a:custGeom>
              <a:solidFill>
                <a:srgbClr val="b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152280" y="2590920"/>
            <a:ext cx="1946160" cy="2244600"/>
            <a:chOff x="152280" y="2590920"/>
            <a:chExt cx="1946160" cy="2244600"/>
          </a:xfrm>
        </p:grpSpPr>
        <p:grpSp>
          <p:nvGrpSpPr>
            <p:cNvPr id="974" name=""/>
            <p:cNvGrpSpPr/>
            <p:nvPr/>
          </p:nvGrpSpPr>
          <p:grpSpPr>
            <a:xfrm>
              <a:off x="152280" y="2836800"/>
              <a:ext cx="1946160" cy="1978200"/>
              <a:chOff x="152280" y="2836800"/>
              <a:chExt cx="1946160" cy="197820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1387440" y="2838600"/>
                <a:ext cx="711000" cy="1976400"/>
                <a:chOff x="1387440" y="2838600"/>
                <a:chExt cx="711000" cy="1976400"/>
              </a:xfrm>
            </p:grpSpPr>
            <p:grpSp>
              <p:nvGrpSpPr>
                <p:cNvPr id="976" name=""/>
                <p:cNvGrpSpPr/>
                <p:nvPr/>
              </p:nvGrpSpPr>
              <p:grpSpPr>
                <a:xfrm>
                  <a:off x="1780920" y="2838600"/>
                  <a:ext cx="317520" cy="760320"/>
                  <a:chOff x="1780920" y="2838600"/>
                  <a:chExt cx="317520" cy="760320"/>
                </a:xfrm>
              </p:grpSpPr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1780920" y="2838600"/>
                    <a:ext cx="312840" cy="527040"/>
                    <a:chOff x="1780920" y="2838600"/>
                    <a:chExt cx="312840" cy="52704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1780920" y="2838600"/>
                      <a:ext cx="24624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314">
                          <a:moveTo>
                            <a:pt x="36" y="0"/>
                          </a:moveTo>
                          <a:lnTo>
                            <a:pt x="71" y="13"/>
                          </a:lnTo>
                          <a:lnTo>
                            <a:pt x="102" y="34"/>
                          </a:lnTo>
                          <a:lnTo>
                            <a:pt x="131" y="55"/>
                          </a:lnTo>
                          <a:lnTo>
                            <a:pt x="168" y="84"/>
                          </a:lnTo>
                          <a:lnTo>
                            <a:pt x="200" y="122"/>
                          </a:lnTo>
                          <a:lnTo>
                            <a:pt x="233" y="167"/>
                          </a:lnTo>
                          <a:lnTo>
                            <a:pt x="263" y="214"/>
                          </a:lnTo>
                          <a:lnTo>
                            <a:pt x="287" y="257"/>
                          </a:lnTo>
                          <a:lnTo>
                            <a:pt x="311" y="314"/>
                          </a:lnTo>
                          <a:lnTo>
                            <a:pt x="251" y="286"/>
                          </a:lnTo>
                          <a:lnTo>
                            <a:pt x="166" y="203"/>
                          </a:lnTo>
                          <a:lnTo>
                            <a:pt x="78" y="167"/>
                          </a:lnTo>
                          <a:lnTo>
                            <a:pt x="0" y="0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1850760" y="2967120"/>
                      <a:ext cx="243000" cy="39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503">
                          <a:moveTo>
                            <a:pt x="0" y="0"/>
                          </a:moveTo>
                          <a:lnTo>
                            <a:pt x="40" y="7"/>
                          </a:lnTo>
                          <a:lnTo>
                            <a:pt x="76" y="21"/>
                          </a:lnTo>
                          <a:lnTo>
                            <a:pt x="109" y="38"/>
                          </a:lnTo>
                          <a:lnTo>
                            <a:pt x="144" y="62"/>
                          </a:lnTo>
                          <a:lnTo>
                            <a:pt x="175" y="90"/>
                          </a:lnTo>
                          <a:lnTo>
                            <a:pt x="204" y="124"/>
                          </a:lnTo>
                          <a:lnTo>
                            <a:pt x="226" y="154"/>
                          </a:lnTo>
                          <a:lnTo>
                            <a:pt x="240" y="187"/>
                          </a:lnTo>
                          <a:lnTo>
                            <a:pt x="256" y="228"/>
                          </a:lnTo>
                          <a:lnTo>
                            <a:pt x="271" y="276"/>
                          </a:lnTo>
                          <a:lnTo>
                            <a:pt x="282" y="321"/>
                          </a:lnTo>
                          <a:lnTo>
                            <a:pt x="292" y="382"/>
                          </a:lnTo>
                          <a:lnTo>
                            <a:pt x="299" y="434"/>
                          </a:lnTo>
                          <a:lnTo>
                            <a:pt x="306" y="503"/>
                          </a:lnTo>
                          <a:lnTo>
                            <a:pt x="235" y="409"/>
                          </a:lnTo>
                          <a:lnTo>
                            <a:pt x="35" y="25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0" name=""/>
                  <p:cNvSpPr/>
                  <p:nvPr/>
                </p:nvSpPr>
                <p:spPr>
                  <a:xfrm>
                    <a:off x="1898640" y="3084480"/>
                    <a:ext cx="1998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47">
                        <a:moveTo>
                          <a:pt x="5" y="0"/>
                        </a:moveTo>
                        <a:lnTo>
                          <a:pt x="39" y="20"/>
                        </a:lnTo>
                        <a:lnTo>
                          <a:pt x="69" y="44"/>
                        </a:lnTo>
                        <a:lnTo>
                          <a:pt x="108" y="79"/>
                        </a:lnTo>
                        <a:lnTo>
                          <a:pt x="136" y="110"/>
                        </a:lnTo>
                        <a:lnTo>
                          <a:pt x="162" y="141"/>
                        </a:lnTo>
                        <a:lnTo>
                          <a:pt x="190" y="181"/>
                        </a:lnTo>
                        <a:lnTo>
                          <a:pt x="217" y="236"/>
                        </a:lnTo>
                        <a:lnTo>
                          <a:pt x="236" y="285"/>
                        </a:lnTo>
                        <a:lnTo>
                          <a:pt x="243" y="324"/>
                        </a:lnTo>
                        <a:lnTo>
                          <a:pt x="247" y="357"/>
                        </a:lnTo>
                        <a:lnTo>
                          <a:pt x="252" y="407"/>
                        </a:lnTo>
                        <a:lnTo>
                          <a:pt x="248" y="466"/>
                        </a:lnTo>
                        <a:lnTo>
                          <a:pt x="243" y="535"/>
                        </a:lnTo>
                        <a:lnTo>
                          <a:pt x="233" y="592"/>
                        </a:lnTo>
                        <a:lnTo>
                          <a:pt x="217" y="647"/>
                        </a:lnTo>
                        <a:lnTo>
                          <a:pt x="127" y="387"/>
                        </a:lnTo>
                        <a:lnTo>
                          <a:pt x="0" y="22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1" name=""/>
                <p:cNvSpPr/>
                <p:nvPr/>
              </p:nvSpPr>
              <p:spPr>
                <a:xfrm>
                  <a:off x="1865160" y="3254400"/>
                  <a:ext cx="210960" cy="600120"/>
                </a:xfrm>
                <a:custGeom>
                  <a:avLst/>
                  <a:gdLst/>
                  <a:ahLst/>
                  <a:rect l="l" t="t" r="r" b="b"/>
                  <a:pathLst>
                    <a:path w="266" h="757">
                      <a:moveTo>
                        <a:pt x="26" y="0"/>
                      </a:moveTo>
                      <a:lnTo>
                        <a:pt x="68" y="7"/>
                      </a:lnTo>
                      <a:lnTo>
                        <a:pt x="104" y="22"/>
                      </a:lnTo>
                      <a:lnTo>
                        <a:pt x="139" y="52"/>
                      </a:lnTo>
                      <a:lnTo>
                        <a:pt x="170" y="86"/>
                      </a:lnTo>
                      <a:lnTo>
                        <a:pt x="194" y="123"/>
                      </a:lnTo>
                      <a:lnTo>
                        <a:pt x="215" y="168"/>
                      </a:lnTo>
                      <a:lnTo>
                        <a:pt x="239" y="225"/>
                      </a:lnTo>
                      <a:lnTo>
                        <a:pt x="256" y="285"/>
                      </a:lnTo>
                      <a:lnTo>
                        <a:pt x="266" y="361"/>
                      </a:lnTo>
                      <a:lnTo>
                        <a:pt x="265" y="423"/>
                      </a:lnTo>
                      <a:lnTo>
                        <a:pt x="254" y="480"/>
                      </a:lnTo>
                      <a:lnTo>
                        <a:pt x="239" y="544"/>
                      </a:lnTo>
                      <a:lnTo>
                        <a:pt x="216" y="610"/>
                      </a:lnTo>
                      <a:lnTo>
                        <a:pt x="196" y="676"/>
                      </a:lnTo>
                      <a:lnTo>
                        <a:pt x="161" y="757"/>
                      </a:lnTo>
                      <a:lnTo>
                        <a:pt x="0" y="40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769760" y="3435480"/>
                  <a:ext cx="244440" cy="630000"/>
                </a:xfrm>
                <a:custGeom>
                  <a:avLst/>
                  <a:gdLst/>
                  <a:ahLst/>
                  <a:rect l="l" t="t" r="r" b="b"/>
                  <a:pathLst>
                    <a:path w="308" h="793">
                      <a:moveTo>
                        <a:pt x="185" y="0"/>
                      </a:moveTo>
                      <a:lnTo>
                        <a:pt x="214" y="46"/>
                      </a:lnTo>
                      <a:lnTo>
                        <a:pt x="244" y="103"/>
                      </a:lnTo>
                      <a:lnTo>
                        <a:pt x="270" y="159"/>
                      </a:lnTo>
                      <a:lnTo>
                        <a:pt x="289" y="214"/>
                      </a:lnTo>
                      <a:lnTo>
                        <a:pt x="303" y="280"/>
                      </a:lnTo>
                      <a:lnTo>
                        <a:pt x="308" y="354"/>
                      </a:lnTo>
                      <a:lnTo>
                        <a:pt x="303" y="423"/>
                      </a:lnTo>
                      <a:lnTo>
                        <a:pt x="297" y="465"/>
                      </a:lnTo>
                      <a:lnTo>
                        <a:pt x="285" y="516"/>
                      </a:lnTo>
                      <a:lnTo>
                        <a:pt x="266" y="561"/>
                      </a:lnTo>
                      <a:lnTo>
                        <a:pt x="237" y="627"/>
                      </a:lnTo>
                      <a:lnTo>
                        <a:pt x="195" y="710"/>
                      </a:lnTo>
                      <a:lnTo>
                        <a:pt x="142" y="793"/>
                      </a:lnTo>
                      <a:lnTo>
                        <a:pt x="0" y="655"/>
                      </a:lnTo>
                      <a:lnTo>
                        <a:pt x="45" y="454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687320" y="368316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298" h="738">
                      <a:moveTo>
                        <a:pt x="245" y="0"/>
                      </a:moveTo>
                      <a:lnTo>
                        <a:pt x="264" y="55"/>
                      </a:lnTo>
                      <a:lnTo>
                        <a:pt x="281" y="114"/>
                      </a:lnTo>
                      <a:lnTo>
                        <a:pt x="293" y="181"/>
                      </a:lnTo>
                      <a:lnTo>
                        <a:pt x="298" y="249"/>
                      </a:lnTo>
                      <a:lnTo>
                        <a:pt x="293" y="314"/>
                      </a:lnTo>
                      <a:lnTo>
                        <a:pt x="285" y="373"/>
                      </a:lnTo>
                      <a:lnTo>
                        <a:pt x="267" y="435"/>
                      </a:lnTo>
                      <a:lnTo>
                        <a:pt x="241" y="504"/>
                      </a:lnTo>
                      <a:lnTo>
                        <a:pt x="198" y="587"/>
                      </a:lnTo>
                      <a:lnTo>
                        <a:pt x="150" y="661"/>
                      </a:lnTo>
                      <a:lnTo>
                        <a:pt x="100" y="738"/>
                      </a:lnTo>
                      <a:lnTo>
                        <a:pt x="51" y="701"/>
                      </a:lnTo>
                      <a:lnTo>
                        <a:pt x="0" y="584"/>
                      </a:lnTo>
                      <a:lnTo>
                        <a:pt x="86" y="38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569960" y="3911760"/>
                  <a:ext cx="253800" cy="520560"/>
                </a:xfrm>
                <a:custGeom>
                  <a:avLst/>
                  <a:gdLst/>
                  <a:ahLst/>
                  <a:rect l="l" t="t" r="r" b="b"/>
                  <a:pathLst>
                    <a:path w="320" h="657">
                      <a:moveTo>
                        <a:pt x="287" y="0"/>
                      </a:moveTo>
                      <a:lnTo>
                        <a:pt x="304" y="66"/>
                      </a:lnTo>
                      <a:lnTo>
                        <a:pt x="316" y="125"/>
                      </a:lnTo>
                      <a:lnTo>
                        <a:pt x="320" y="185"/>
                      </a:lnTo>
                      <a:lnTo>
                        <a:pt x="313" y="266"/>
                      </a:lnTo>
                      <a:lnTo>
                        <a:pt x="292" y="342"/>
                      </a:lnTo>
                      <a:lnTo>
                        <a:pt x="271" y="405"/>
                      </a:lnTo>
                      <a:lnTo>
                        <a:pt x="242" y="465"/>
                      </a:lnTo>
                      <a:lnTo>
                        <a:pt x="202" y="532"/>
                      </a:lnTo>
                      <a:lnTo>
                        <a:pt x="154" y="596"/>
                      </a:lnTo>
                      <a:lnTo>
                        <a:pt x="104" y="657"/>
                      </a:lnTo>
                      <a:lnTo>
                        <a:pt x="0" y="564"/>
                      </a:lnTo>
                      <a:lnTo>
                        <a:pt x="86" y="406"/>
                      </a:lnTo>
                      <a:lnTo>
                        <a:pt x="28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498320" y="4162320"/>
                  <a:ext cx="203400" cy="419400"/>
                </a:xfrm>
                <a:custGeom>
                  <a:avLst/>
                  <a:gdLst/>
                  <a:ahLst/>
                  <a:rect l="l" t="t" r="r" b="b"/>
                  <a:pathLst>
                    <a:path w="256" h="527">
                      <a:moveTo>
                        <a:pt x="245" y="0"/>
                      </a:moveTo>
                      <a:lnTo>
                        <a:pt x="254" y="66"/>
                      </a:lnTo>
                      <a:lnTo>
                        <a:pt x="256" y="114"/>
                      </a:lnTo>
                      <a:lnTo>
                        <a:pt x="249" y="163"/>
                      </a:lnTo>
                      <a:lnTo>
                        <a:pt x="233" y="229"/>
                      </a:lnTo>
                      <a:lnTo>
                        <a:pt x="218" y="284"/>
                      </a:lnTo>
                      <a:lnTo>
                        <a:pt x="200" y="334"/>
                      </a:lnTo>
                      <a:lnTo>
                        <a:pt x="180" y="384"/>
                      </a:lnTo>
                      <a:lnTo>
                        <a:pt x="147" y="441"/>
                      </a:lnTo>
                      <a:lnTo>
                        <a:pt x="121" y="486"/>
                      </a:lnTo>
                      <a:lnTo>
                        <a:pt x="95" y="527"/>
                      </a:lnTo>
                      <a:lnTo>
                        <a:pt x="0" y="457"/>
                      </a:lnTo>
                      <a:lnTo>
                        <a:pt x="86" y="298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404720" y="4368960"/>
                  <a:ext cx="182520" cy="406440"/>
                </a:xfrm>
                <a:custGeom>
                  <a:avLst/>
                  <a:gdLst/>
                  <a:ahLst/>
                  <a:rect l="l" t="t" r="r" b="b"/>
                  <a:pathLst>
                    <a:path w="229" h="511">
                      <a:moveTo>
                        <a:pt x="229" y="0"/>
                      </a:moveTo>
                      <a:lnTo>
                        <a:pt x="226" y="122"/>
                      </a:lnTo>
                      <a:lnTo>
                        <a:pt x="214" y="262"/>
                      </a:lnTo>
                      <a:lnTo>
                        <a:pt x="65" y="511"/>
                      </a:lnTo>
                      <a:lnTo>
                        <a:pt x="0" y="457"/>
                      </a:lnTo>
                      <a:lnTo>
                        <a:pt x="79" y="300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387440" y="4624560"/>
                  <a:ext cx="72720" cy="190440"/>
                </a:xfrm>
                <a:custGeom>
                  <a:avLst/>
                  <a:gdLst/>
                  <a:ahLst/>
                  <a:rect l="l" t="t" r="r" b="b"/>
                  <a:pathLst>
                    <a:path w="92" h="238">
                      <a:moveTo>
                        <a:pt x="92" y="0"/>
                      </a:moveTo>
                      <a:lnTo>
                        <a:pt x="87" y="188"/>
                      </a:lnTo>
                      <a:lnTo>
                        <a:pt x="73" y="223"/>
                      </a:lnTo>
                      <a:lnTo>
                        <a:pt x="23" y="238"/>
                      </a:lnTo>
                      <a:lnTo>
                        <a:pt x="0" y="202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152280" y="2836800"/>
                <a:ext cx="708120" cy="1976400"/>
                <a:chOff x="152280" y="2836800"/>
                <a:chExt cx="708120" cy="1976400"/>
              </a:xfrm>
            </p:grpSpPr>
            <p:grpSp>
              <p:nvGrpSpPr>
                <p:cNvPr id="989" name=""/>
                <p:cNvGrpSpPr/>
                <p:nvPr/>
              </p:nvGrpSpPr>
              <p:grpSpPr>
                <a:xfrm>
                  <a:off x="152280" y="2836800"/>
                  <a:ext cx="314280" cy="760680"/>
                  <a:chOff x="152280" y="2836800"/>
                  <a:chExt cx="314280" cy="760680"/>
                </a:xfrm>
              </p:grpSpPr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153720" y="2836800"/>
                    <a:ext cx="312840" cy="527040"/>
                    <a:chOff x="153720" y="2836800"/>
                    <a:chExt cx="312840" cy="5270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220320" y="2836800"/>
                      <a:ext cx="24624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314">
                          <a:moveTo>
                            <a:pt x="275" y="0"/>
                          </a:moveTo>
                          <a:lnTo>
                            <a:pt x="240" y="14"/>
                          </a:lnTo>
                          <a:lnTo>
                            <a:pt x="209" y="34"/>
                          </a:lnTo>
                          <a:lnTo>
                            <a:pt x="180" y="55"/>
                          </a:lnTo>
                          <a:lnTo>
                            <a:pt x="143" y="84"/>
                          </a:lnTo>
                          <a:lnTo>
                            <a:pt x="110" y="122"/>
                          </a:lnTo>
                          <a:lnTo>
                            <a:pt x="78" y="167"/>
                          </a:lnTo>
                          <a:lnTo>
                            <a:pt x="48" y="214"/>
                          </a:lnTo>
                          <a:lnTo>
                            <a:pt x="24" y="257"/>
                          </a:lnTo>
                          <a:lnTo>
                            <a:pt x="0" y="314"/>
                          </a:lnTo>
                          <a:lnTo>
                            <a:pt x="60" y="287"/>
                          </a:lnTo>
                          <a:lnTo>
                            <a:pt x="145" y="204"/>
                          </a:lnTo>
                          <a:lnTo>
                            <a:pt x="233" y="167"/>
                          </a:lnTo>
                          <a:lnTo>
                            <a:pt x="311" y="0"/>
                          </a:lnTo>
                          <a:lnTo>
                            <a:pt x="275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53720" y="2965680"/>
                      <a:ext cx="243000" cy="39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503">
                          <a:moveTo>
                            <a:pt x="308" y="0"/>
                          </a:moveTo>
                          <a:lnTo>
                            <a:pt x="268" y="7"/>
                          </a:lnTo>
                          <a:lnTo>
                            <a:pt x="232" y="21"/>
                          </a:lnTo>
                          <a:lnTo>
                            <a:pt x="199" y="38"/>
                          </a:lnTo>
                          <a:lnTo>
                            <a:pt x="164" y="62"/>
                          </a:lnTo>
                          <a:lnTo>
                            <a:pt x="133" y="90"/>
                          </a:lnTo>
                          <a:lnTo>
                            <a:pt x="104" y="125"/>
                          </a:lnTo>
                          <a:lnTo>
                            <a:pt x="81" y="154"/>
                          </a:lnTo>
                          <a:lnTo>
                            <a:pt x="68" y="187"/>
                          </a:lnTo>
                          <a:lnTo>
                            <a:pt x="52" y="228"/>
                          </a:lnTo>
                          <a:lnTo>
                            <a:pt x="36" y="277"/>
                          </a:lnTo>
                          <a:lnTo>
                            <a:pt x="26" y="322"/>
                          </a:lnTo>
                          <a:lnTo>
                            <a:pt x="16" y="382"/>
                          </a:lnTo>
                          <a:lnTo>
                            <a:pt x="9" y="434"/>
                          </a:lnTo>
                          <a:lnTo>
                            <a:pt x="0" y="503"/>
                          </a:lnTo>
                          <a:lnTo>
                            <a:pt x="73" y="410"/>
                          </a:lnTo>
                          <a:lnTo>
                            <a:pt x="273" y="254"/>
                          </a:lnTo>
                          <a:lnTo>
                            <a:pt x="308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3" name=""/>
                  <p:cNvSpPr/>
                  <p:nvPr/>
                </p:nvSpPr>
                <p:spPr>
                  <a:xfrm>
                    <a:off x="152280" y="3083040"/>
                    <a:ext cx="19692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648">
                        <a:moveTo>
                          <a:pt x="244" y="0"/>
                        </a:moveTo>
                        <a:lnTo>
                          <a:pt x="210" y="21"/>
                        </a:lnTo>
                        <a:lnTo>
                          <a:pt x="180" y="45"/>
                        </a:lnTo>
                        <a:lnTo>
                          <a:pt x="140" y="79"/>
                        </a:lnTo>
                        <a:lnTo>
                          <a:pt x="113" y="110"/>
                        </a:lnTo>
                        <a:lnTo>
                          <a:pt x="87" y="141"/>
                        </a:lnTo>
                        <a:lnTo>
                          <a:pt x="61" y="181"/>
                        </a:lnTo>
                        <a:lnTo>
                          <a:pt x="32" y="236"/>
                        </a:lnTo>
                        <a:lnTo>
                          <a:pt x="13" y="285"/>
                        </a:lnTo>
                        <a:lnTo>
                          <a:pt x="4" y="325"/>
                        </a:lnTo>
                        <a:lnTo>
                          <a:pt x="0" y="357"/>
                        </a:lnTo>
                        <a:lnTo>
                          <a:pt x="0" y="408"/>
                        </a:lnTo>
                        <a:lnTo>
                          <a:pt x="0" y="466"/>
                        </a:lnTo>
                        <a:lnTo>
                          <a:pt x="6" y="535"/>
                        </a:lnTo>
                        <a:lnTo>
                          <a:pt x="16" y="592"/>
                        </a:lnTo>
                        <a:lnTo>
                          <a:pt x="32" y="648"/>
                        </a:lnTo>
                        <a:lnTo>
                          <a:pt x="121" y="387"/>
                        </a:lnTo>
                        <a:lnTo>
                          <a:pt x="249" y="223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4" name=""/>
                <p:cNvSpPr/>
                <p:nvPr/>
              </p:nvSpPr>
              <p:spPr>
                <a:xfrm>
                  <a:off x="172800" y="3252960"/>
                  <a:ext cx="211320" cy="601560"/>
                </a:xfrm>
                <a:custGeom>
                  <a:avLst/>
                  <a:gdLst/>
                  <a:ahLst/>
                  <a:rect l="l" t="t" r="r" b="b"/>
                  <a:pathLst>
                    <a:path w="266" h="759">
                      <a:moveTo>
                        <a:pt x="241" y="0"/>
                      </a:moveTo>
                      <a:lnTo>
                        <a:pt x="199" y="7"/>
                      </a:lnTo>
                      <a:lnTo>
                        <a:pt x="163" y="23"/>
                      </a:lnTo>
                      <a:lnTo>
                        <a:pt x="128" y="52"/>
                      </a:lnTo>
                      <a:lnTo>
                        <a:pt x="97" y="87"/>
                      </a:lnTo>
                      <a:lnTo>
                        <a:pt x="73" y="123"/>
                      </a:lnTo>
                      <a:lnTo>
                        <a:pt x="52" y="168"/>
                      </a:lnTo>
                      <a:lnTo>
                        <a:pt x="28" y="225"/>
                      </a:lnTo>
                      <a:lnTo>
                        <a:pt x="11" y="285"/>
                      </a:lnTo>
                      <a:lnTo>
                        <a:pt x="0" y="361"/>
                      </a:lnTo>
                      <a:lnTo>
                        <a:pt x="2" y="424"/>
                      </a:lnTo>
                      <a:lnTo>
                        <a:pt x="12" y="481"/>
                      </a:lnTo>
                      <a:lnTo>
                        <a:pt x="28" y="545"/>
                      </a:lnTo>
                      <a:lnTo>
                        <a:pt x="50" y="610"/>
                      </a:lnTo>
                      <a:lnTo>
                        <a:pt x="71" y="676"/>
                      </a:lnTo>
                      <a:lnTo>
                        <a:pt x="106" y="759"/>
                      </a:lnTo>
                      <a:lnTo>
                        <a:pt x="266" y="408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34720" y="3435480"/>
                  <a:ext cx="243000" cy="628560"/>
                </a:xfrm>
                <a:custGeom>
                  <a:avLst/>
                  <a:gdLst/>
                  <a:ahLst/>
                  <a:rect l="l" t="t" r="r" b="b"/>
                  <a:pathLst>
                    <a:path w="308" h="793">
                      <a:moveTo>
                        <a:pt x="123" y="0"/>
                      </a:moveTo>
                      <a:lnTo>
                        <a:pt x="93" y="47"/>
                      </a:lnTo>
                      <a:lnTo>
                        <a:pt x="64" y="104"/>
                      </a:lnTo>
                      <a:lnTo>
                        <a:pt x="38" y="159"/>
                      </a:lnTo>
                      <a:lnTo>
                        <a:pt x="19" y="214"/>
                      </a:lnTo>
                      <a:lnTo>
                        <a:pt x="5" y="280"/>
                      </a:lnTo>
                      <a:lnTo>
                        <a:pt x="0" y="354"/>
                      </a:lnTo>
                      <a:lnTo>
                        <a:pt x="5" y="423"/>
                      </a:lnTo>
                      <a:lnTo>
                        <a:pt x="10" y="465"/>
                      </a:lnTo>
                      <a:lnTo>
                        <a:pt x="23" y="517"/>
                      </a:lnTo>
                      <a:lnTo>
                        <a:pt x="42" y="562"/>
                      </a:lnTo>
                      <a:lnTo>
                        <a:pt x="71" y="627"/>
                      </a:lnTo>
                      <a:lnTo>
                        <a:pt x="112" y="710"/>
                      </a:lnTo>
                      <a:lnTo>
                        <a:pt x="166" y="793"/>
                      </a:lnTo>
                      <a:lnTo>
                        <a:pt x="308" y="655"/>
                      </a:lnTo>
                      <a:lnTo>
                        <a:pt x="263" y="454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23640" y="3681360"/>
                  <a:ext cx="236520" cy="585720"/>
                </a:xfrm>
                <a:custGeom>
                  <a:avLst/>
                  <a:gdLst/>
                  <a:ahLst/>
                  <a:rect l="l" t="t" r="r" b="b"/>
                  <a:pathLst>
                    <a:path w="299" h="738">
                      <a:moveTo>
                        <a:pt x="54" y="0"/>
                      </a:moveTo>
                      <a:lnTo>
                        <a:pt x="35" y="55"/>
                      </a:lnTo>
                      <a:lnTo>
                        <a:pt x="18" y="114"/>
                      </a:lnTo>
                      <a:lnTo>
                        <a:pt x="6" y="181"/>
                      </a:lnTo>
                      <a:lnTo>
                        <a:pt x="0" y="249"/>
                      </a:lnTo>
                      <a:lnTo>
                        <a:pt x="6" y="314"/>
                      </a:lnTo>
                      <a:lnTo>
                        <a:pt x="14" y="373"/>
                      </a:lnTo>
                      <a:lnTo>
                        <a:pt x="32" y="435"/>
                      </a:lnTo>
                      <a:lnTo>
                        <a:pt x="57" y="505"/>
                      </a:lnTo>
                      <a:lnTo>
                        <a:pt x="101" y="587"/>
                      </a:lnTo>
                      <a:lnTo>
                        <a:pt x="149" y="662"/>
                      </a:lnTo>
                      <a:lnTo>
                        <a:pt x="199" y="738"/>
                      </a:lnTo>
                      <a:lnTo>
                        <a:pt x="247" y="701"/>
                      </a:lnTo>
                      <a:lnTo>
                        <a:pt x="299" y="584"/>
                      </a:lnTo>
                      <a:lnTo>
                        <a:pt x="213" y="385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25160" y="3909960"/>
                  <a:ext cx="252360" cy="522360"/>
                </a:xfrm>
                <a:custGeom>
                  <a:avLst/>
                  <a:gdLst/>
                  <a:ahLst/>
                  <a:rect l="l" t="t" r="r" b="b"/>
                  <a:pathLst>
                    <a:path w="320" h="656">
                      <a:moveTo>
                        <a:pt x="33" y="0"/>
                      </a:moveTo>
                      <a:lnTo>
                        <a:pt x="16" y="65"/>
                      </a:lnTo>
                      <a:lnTo>
                        <a:pt x="4" y="124"/>
                      </a:lnTo>
                      <a:lnTo>
                        <a:pt x="0" y="184"/>
                      </a:lnTo>
                      <a:lnTo>
                        <a:pt x="7" y="266"/>
                      </a:lnTo>
                      <a:lnTo>
                        <a:pt x="28" y="342"/>
                      </a:lnTo>
                      <a:lnTo>
                        <a:pt x="49" y="404"/>
                      </a:lnTo>
                      <a:lnTo>
                        <a:pt x="78" y="464"/>
                      </a:lnTo>
                      <a:lnTo>
                        <a:pt x="118" y="532"/>
                      </a:lnTo>
                      <a:lnTo>
                        <a:pt x="166" y="596"/>
                      </a:lnTo>
                      <a:lnTo>
                        <a:pt x="216" y="656"/>
                      </a:lnTo>
                      <a:lnTo>
                        <a:pt x="320" y="563"/>
                      </a:lnTo>
                      <a:lnTo>
                        <a:pt x="234" y="40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47560" y="4160880"/>
                  <a:ext cx="201600" cy="419040"/>
                </a:xfrm>
                <a:custGeom>
                  <a:avLst/>
                  <a:gdLst/>
                  <a:ahLst/>
                  <a:rect l="l" t="t" r="r" b="b"/>
                  <a:pathLst>
                    <a:path w="256" h="527">
                      <a:moveTo>
                        <a:pt x="10" y="0"/>
                      </a:moveTo>
                      <a:lnTo>
                        <a:pt x="2" y="65"/>
                      </a:lnTo>
                      <a:lnTo>
                        <a:pt x="0" y="114"/>
                      </a:lnTo>
                      <a:lnTo>
                        <a:pt x="7" y="162"/>
                      </a:lnTo>
                      <a:lnTo>
                        <a:pt x="22" y="228"/>
                      </a:lnTo>
                      <a:lnTo>
                        <a:pt x="38" y="283"/>
                      </a:lnTo>
                      <a:lnTo>
                        <a:pt x="55" y="333"/>
                      </a:lnTo>
                      <a:lnTo>
                        <a:pt x="76" y="383"/>
                      </a:lnTo>
                      <a:lnTo>
                        <a:pt x="109" y="440"/>
                      </a:lnTo>
                      <a:lnTo>
                        <a:pt x="135" y="485"/>
                      </a:lnTo>
                      <a:lnTo>
                        <a:pt x="161" y="527"/>
                      </a:lnTo>
                      <a:lnTo>
                        <a:pt x="256" y="456"/>
                      </a:lnTo>
                      <a:lnTo>
                        <a:pt x="169" y="29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60240" y="4367160"/>
                  <a:ext cx="182520" cy="406440"/>
                </a:xfrm>
                <a:custGeom>
                  <a:avLst/>
                  <a:gdLst/>
                  <a:ahLst/>
                  <a:rect l="l" t="t" r="r" b="b"/>
                  <a:pathLst>
                    <a:path w="230" h="511">
                      <a:moveTo>
                        <a:pt x="0" y="0"/>
                      </a:moveTo>
                      <a:lnTo>
                        <a:pt x="4" y="123"/>
                      </a:lnTo>
                      <a:lnTo>
                        <a:pt x="16" y="263"/>
                      </a:lnTo>
                      <a:lnTo>
                        <a:pt x="165" y="511"/>
                      </a:lnTo>
                      <a:lnTo>
                        <a:pt x="230" y="458"/>
                      </a:lnTo>
                      <a:lnTo>
                        <a:pt x="151" y="3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88760" y="4622760"/>
                  <a:ext cx="71640" cy="190440"/>
                </a:xfrm>
                <a:custGeom>
                  <a:avLst/>
                  <a:gdLst/>
                  <a:ahLst/>
                  <a:rect l="l" t="t" r="r" b="b"/>
                  <a:pathLst>
                    <a:path w="92" h="238">
                      <a:moveTo>
                        <a:pt x="0" y="0"/>
                      </a:moveTo>
                      <a:lnTo>
                        <a:pt x="5" y="188"/>
                      </a:lnTo>
                      <a:lnTo>
                        <a:pt x="19" y="223"/>
                      </a:lnTo>
                      <a:lnTo>
                        <a:pt x="69" y="238"/>
                      </a:lnTo>
                      <a:lnTo>
                        <a:pt x="92" y="2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1" name=""/>
            <p:cNvGrpSpPr/>
            <p:nvPr/>
          </p:nvGrpSpPr>
          <p:grpSpPr>
            <a:xfrm>
              <a:off x="299880" y="2705040"/>
              <a:ext cx="1652400" cy="2114640"/>
              <a:chOff x="299880" y="2705040"/>
              <a:chExt cx="1652400" cy="211464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299880" y="2705040"/>
                <a:ext cx="639720" cy="2114640"/>
                <a:chOff x="299880" y="2705040"/>
                <a:chExt cx="639720" cy="211464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299880" y="2705040"/>
                  <a:ext cx="438120" cy="909720"/>
                  <a:chOff x="299880" y="2705040"/>
                  <a:chExt cx="438120" cy="90972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>
                    <a:off x="376200" y="2806920"/>
                    <a:ext cx="2635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432">
                        <a:moveTo>
                          <a:pt x="123" y="0"/>
                        </a:moveTo>
                        <a:lnTo>
                          <a:pt x="85" y="33"/>
                        </a:lnTo>
                        <a:lnTo>
                          <a:pt x="45" y="79"/>
                        </a:lnTo>
                        <a:lnTo>
                          <a:pt x="16" y="126"/>
                        </a:lnTo>
                        <a:lnTo>
                          <a:pt x="0" y="166"/>
                        </a:lnTo>
                        <a:lnTo>
                          <a:pt x="64" y="228"/>
                        </a:lnTo>
                        <a:lnTo>
                          <a:pt x="123" y="287"/>
                        </a:lnTo>
                        <a:lnTo>
                          <a:pt x="181" y="347"/>
                        </a:lnTo>
                        <a:lnTo>
                          <a:pt x="261" y="432"/>
                        </a:lnTo>
                        <a:lnTo>
                          <a:pt x="328" y="380"/>
                        </a:lnTo>
                        <a:lnTo>
                          <a:pt x="334" y="212"/>
                        </a:lnTo>
                        <a:lnTo>
                          <a:pt x="287" y="164"/>
                        </a:lnTo>
                        <a:lnTo>
                          <a:pt x="240" y="110"/>
                        </a:lnTo>
                        <a:lnTo>
                          <a:pt x="192" y="55"/>
                        </a:lnTo>
                        <a:lnTo>
                          <a:pt x="166" y="33"/>
                        </a:lnTo>
                        <a:lnTo>
                          <a:pt x="123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23640" y="2940120"/>
                    <a:ext cx="31428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6" h="565">
                        <a:moveTo>
                          <a:pt x="66" y="0"/>
                        </a:moveTo>
                        <a:lnTo>
                          <a:pt x="47" y="44"/>
                        </a:lnTo>
                        <a:lnTo>
                          <a:pt x="28" y="97"/>
                        </a:lnTo>
                        <a:lnTo>
                          <a:pt x="13" y="149"/>
                        </a:lnTo>
                        <a:lnTo>
                          <a:pt x="4" y="196"/>
                        </a:lnTo>
                        <a:lnTo>
                          <a:pt x="0" y="223"/>
                        </a:lnTo>
                        <a:lnTo>
                          <a:pt x="2" y="258"/>
                        </a:lnTo>
                        <a:lnTo>
                          <a:pt x="19" y="280"/>
                        </a:lnTo>
                        <a:lnTo>
                          <a:pt x="82" y="346"/>
                        </a:lnTo>
                        <a:lnTo>
                          <a:pt x="209" y="481"/>
                        </a:lnTo>
                        <a:lnTo>
                          <a:pt x="363" y="565"/>
                        </a:lnTo>
                        <a:lnTo>
                          <a:pt x="396" y="339"/>
                        </a:lnTo>
                        <a:lnTo>
                          <a:pt x="351" y="273"/>
                        </a:lnTo>
                        <a:lnTo>
                          <a:pt x="298" y="225"/>
                        </a:lnTo>
                        <a:lnTo>
                          <a:pt x="244" y="177"/>
                        </a:lnTo>
                        <a:lnTo>
                          <a:pt x="184" y="114"/>
                        </a:lnTo>
                        <a:lnTo>
                          <a:pt x="127" y="5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71240" y="2705040"/>
                    <a:ext cx="266760" cy="260640"/>
                    <a:chOff x="471240" y="2705040"/>
                    <a:chExt cx="266760" cy="2606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583920" y="2705040"/>
                      <a:ext cx="15408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71">
                          <a:moveTo>
                            <a:pt x="195" y="38"/>
                          </a:moveTo>
                          <a:lnTo>
                            <a:pt x="172" y="19"/>
                          </a:lnTo>
                          <a:lnTo>
                            <a:pt x="148" y="7"/>
                          </a:lnTo>
                          <a:lnTo>
                            <a:pt x="115" y="0"/>
                          </a:lnTo>
                          <a:lnTo>
                            <a:pt x="88" y="2"/>
                          </a:lnTo>
                          <a:lnTo>
                            <a:pt x="53" y="10"/>
                          </a:lnTo>
                          <a:lnTo>
                            <a:pt x="24" y="24"/>
                          </a:lnTo>
                          <a:lnTo>
                            <a:pt x="0" y="38"/>
                          </a:lnTo>
                          <a:lnTo>
                            <a:pt x="114" y="171"/>
                          </a:lnTo>
                          <a:lnTo>
                            <a:pt x="195" y="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471240" y="2733840"/>
                      <a:ext cx="2034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292">
                          <a:moveTo>
                            <a:pt x="143" y="0"/>
                          </a:moveTo>
                          <a:lnTo>
                            <a:pt x="104" y="19"/>
                          </a:lnTo>
                          <a:lnTo>
                            <a:pt x="60" y="47"/>
                          </a:lnTo>
                          <a:lnTo>
                            <a:pt x="24" y="73"/>
                          </a:lnTo>
                          <a:lnTo>
                            <a:pt x="0" y="92"/>
                          </a:lnTo>
                          <a:lnTo>
                            <a:pt x="185" y="290"/>
                          </a:lnTo>
                          <a:lnTo>
                            <a:pt x="223" y="292"/>
                          </a:lnTo>
                          <a:lnTo>
                            <a:pt x="256" y="137"/>
                          </a:lnTo>
                          <a:lnTo>
                            <a:pt x="213" y="73"/>
                          </a:lnTo>
                          <a:lnTo>
                            <a:pt x="176" y="26"/>
                          </a:lnTo>
                          <a:lnTo>
                            <a:pt x="143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9" name=""/>
                  <p:cNvSpPr/>
                  <p:nvPr/>
                </p:nvSpPr>
                <p:spPr>
                  <a:xfrm>
                    <a:off x="299880" y="3102120"/>
                    <a:ext cx="32076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644">
                        <a:moveTo>
                          <a:pt x="31" y="0"/>
                        </a:moveTo>
                        <a:lnTo>
                          <a:pt x="19" y="43"/>
                        </a:lnTo>
                        <a:lnTo>
                          <a:pt x="9" y="97"/>
                        </a:lnTo>
                        <a:lnTo>
                          <a:pt x="2" y="150"/>
                        </a:lnTo>
                        <a:lnTo>
                          <a:pt x="0" y="195"/>
                        </a:lnTo>
                        <a:lnTo>
                          <a:pt x="2" y="254"/>
                        </a:lnTo>
                        <a:lnTo>
                          <a:pt x="85" y="416"/>
                        </a:lnTo>
                        <a:lnTo>
                          <a:pt x="216" y="523"/>
                        </a:lnTo>
                        <a:lnTo>
                          <a:pt x="404" y="644"/>
                        </a:lnTo>
                        <a:lnTo>
                          <a:pt x="385" y="337"/>
                        </a:lnTo>
                        <a:lnTo>
                          <a:pt x="344" y="313"/>
                        </a:lnTo>
                        <a:lnTo>
                          <a:pt x="301" y="283"/>
                        </a:lnTo>
                        <a:lnTo>
                          <a:pt x="263" y="254"/>
                        </a:lnTo>
                        <a:lnTo>
                          <a:pt x="211" y="211"/>
                        </a:lnTo>
                        <a:lnTo>
                          <a:pt x="166" y="166"/>
                        </a:lnTo>
                        <a:lnTo>
                          <a:pt x="123" y="121"/>
                        </a:lnTo>
                        <a:lnTo>
                          <a:pt x="88" y="78"/>
                        </a:lnTo>
                        <a:lnTo>
                          <a:pt x="55" y="4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0" name=""/>
                <p:cNvSpPr/>
                <p:nvPr/>
              </p:nvSpPr>
              <p:spPr>
                <a:xfrm>
                  <a:off x="301320" y="3305160"/>
                  <a:ext cx="370080" cy="593640"/>
                </a:xfrm>
                <a:custGeom>
                  <a:avLst/>
                  <a:gdLst/>
                  <a:ahLst/>
                  <a:rect l="l" t="t" r="r" b="b"/>
                  <a:pathLst>
                    <a:path w="466" h="746">
                      <a:moveTo>
                        <a:pt x="0" y="0"/>
                      </a:moveTo>
                      <a:lnTo>
                        <a:pt x="2" y="65"/>
                      </a:lnTo>
                      <a:lnTo>
                        <a:pt x="5" y="134"/>
                      </a:lnTo>
                      <a:lnTo>
                        <a:pt x="12" y="214"/>
                      </a:lnTo>
                      <a:lnTo>
                        <a:pt x="22" y="273"/>
                      </a:lnTo>
                      <a:lnTo>
                        <a:pt x="40" y="321"/>
                      </a:lnTo>
                      <a:lnTo>
                        <a:pt x="57" y="364"/>
                      </a:lnTo>
                      <a:lnTo>
                        <a:pt x="145" y="489"/>
                      </a:lnTo>
                      <a:lnTo>
                        <a:pt x="276" y="594"/>
                      </a:lnTo>
                      <a:lnTo>
                        <a:pt x="466" y="746"/>
                      </a:lnTo>
                      <a:lnTo>
                        <a:pt x="444" y="611"/>
                      </a:lnTo>
                      <a:lnTo>
                        <a:pt x="425" y="475"/>
                      </a:lnTo>
                      <a:lnTo>
                        <a:pt x="411" y="390"/>
                      </a:lnTo>
                      <a:lnTo>
                        <a:pt x="382" y="371"/>
                      </a:lnTo>
                      <a:lnTo>
                        <a:pt x="330" y="335"/>
                      </a:lnTo>
                      <a:lnTo>
                        <a:pt x="262" y="281"/>
                      </a:lnTo>
                      <a:lnTo>
                        <a:pt x="205" y="235"/>
                      </a:lnTo>
                      <a:lnTo>
                        <a:pt x="159" y="191"/>
                      </a:lnTo>
                      <a:lnTo>
                        <a:pt x="112" y="145"/>
                      </a:lnTo>
                      <a:lnTo>
                        <a:pt x="76" y="103"/>
                      </a:lnTo>
                      <a:lnTo>
                        <a:pt x="33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2480" y="3489480"/>
                  <a:ext cx="424080" cy="606240"/>
                </a:xfrm>
                <a:custGeom>
                  <a:avLst/>
                  <a:gdLst/>
                  <a:ahLst/>
                  <a:rect l="l" t="t" r="r" b="b"/>
                  <a:pathLst>
                    <a:path w="533" h="764">
                      <a:moveTo>
                        <a:pt x="20" y="62"/>
                      </a:moveTo>
                      <a:lnTo>
                        <a:pt x="34" y="90"/>
                      </a:lnTo>
                      <a:lnTo>
                        <a:pt x="53" y="116"/>
                      </a:lnTo>
                      <a:lnTo>
                        <a:pt x="83" y="156"/>
                      </a:lnTo>
                      <a:lnTo>
                        <a:pt x="115" y="192"/>
                      </a:lnTo>
                      <a:lnTo>
                        <a:pt x="155" y="230"/>
                      </a:lnTo>
                      <a:lnTo>
                        <a:pt x="210" y="277"/>
                      </a:lnTo>
                      <a:lnTo>
                        <a:pt x="269" y="325"/>
                      </a:lnTo>
                      <a:lnTo>
                        <a:pt x="326" y="366"/>
                      </a:lnTo>
                      <a:lnTo>
                        <a:pt x="380" y="399"/>
                      </a:lnTo>
                      <a:lnTo>
                        <a:pt x="449" y="436"/>
                      </a:lnTo>
                      <a:lnTo>
                        <a:pt x="487" y="581"/>
                      </a:lnTo>
                      <a:lnTo>
                        <a:pt x="533" y="764"/>
                      </a:lnTo>
                      <a:lnTo>
                        <a:pt x="316" y="596"/>
                      </a:lnTo>
                      <a:lnTo>
                        <a:pt x="233" y="537"/>
                      </a:lnTo>
                      <a:lnTo>
                        <a:pt x="86" y="399"/>
                      </a:lnTo>
                      <a:lnTo>
                        <a:pt x="64" y="334"/>
                      </a:lnTo>
                      <a:lnTo>
                        <a:pt x="45" y="265"/>
                      </a:lnTo>
                      <a:lnTo>
                        <a:pt x="27" y="199"/>
                      </a:lnTo>
                      <a:lnTo>
                        <a:pt x="10" y="123"/>
                      </a:lnTo>
                      <a:lnTo>
                        <a:pt x="1" y="57"/>
                      </a:lnTo>
                      <a:lnTo>
                        <a:pt x="0" y="0"/>
                      </a:lnTo>
                      <a:lnTo>
                        <a:pt x="8" y="33"/>
                      </a:lnTo>
                      <a:lnTo>
                        <a:pt x="20" y="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53880" y="3721320"/>
                  <a:ext cx="446040" cy="620640"/>
                </a:xfrm>
                <a:custGeom>
                  <a:avLst/>
                  <a:gdLst/>
                  <a:ahLst/>
                  <a:rect l="l" t="t" r="r" b="b"/>
                  <a:pathLst>
                    <a:path w="564" h="783">
                      <a:moveTo>
                        <a:pt x="0" y="0"/>
                      </a:moveTo>
                      <a:lnTo>
                        <a:pt x="19" y="74"/>
                      </a:lnTo>
                      <a:lnTo>
                        <a:pt x="47" y="157"/>
                      </a:lnTo>
                      <a:lnTo>
                        <a:pt x="71" y="220"/>
                      </a:lnTo>
                      <a:lnTo>
                        <a:pt x="106" y="301"/>
                      </a:lnTo>
                      <a:lnTo>
                        <a:pt x="133" y="347"/>
                      </a:lnTo>
                      <a:lnTo>
                        <a:pt x="170" y="406"/>
                      </a:lnTo>
                      <a:lnTo>
                        <a:pt x="204" y="465"/>
                      </a:lnTo>
                      <a:lnTo>
                        <a:pt x="341" y="617"/>
                      </a:lnTo>
                      <a:lnTo>
                        <a:pt x="558" y="783"/>
                      </a:lnTo>
                      <a:lnTo>
                        <a:pt x="564" y="745"/>
                      </a:lnTo>
                      <a:lnTo>
                        <a:pt x="527" y="622"/>
                      </a:lnTo>
                      <a:lnTo>
                        <a:pt x="491" y="506"/>
                      </a:lnTo>
                      <a:lnTo>
                        <a:pt x="465" y="417"/>
                      </a:lnTo>
                      <a:lnTo>
                        <a:pt x="398" y="377"/>
                      </a:lnTo>
                      <a:lnTo>
                        <a:pt x="330" y="332"/>
                      </a:lnTo>
                      <a:lnTo>
                        <a:pt x="270" y="285"/>
                      </a:lnTo>
                      <a:lnTo>
                        <a:pt x="209" y="233"/>
                      </a:lnTo>
                      <a:lnTo>
                        <a:pt x="154" y="185"/>
                      </a:lnTo>
                      <a:lnTo>
                        <a:pt x="99" y="133"/>
                      </a:lnTo>
                      <a:lnTo>
                        <a:pt x="51" y="80"/>
                      </a:lnTo>
                      <a:lnTo>
                        <a:pt x="1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36320" y="3957840"/>
                  <a:ext cx="397080" cy="501480"/>
                </a:xfrm>
                <a:custGeom>
                  <a:avLst/>
                  <a:gdLst/>
                  <a:ahLst/>
                  <a:rect l="l" t="t" r="r" b="b"/>
                  <a:pathLst>
                    <a:path w="501" h="633">
                      <a:moveTo>
                        <a:pt x="0" y="0"/>
                      </a:moveTo>
                      <a:lnTo>
                        <a:pt x="28" y="38"/>
                      </a:lnTo>
                      <a:lnTo>
                        <a:pt x="67" y="85"/>
                      </a:lnTo>
                      <a:lnTo>
                        <a:pt x="118" y="135"/>
                      </a:lnTo>
                      <a:lnTo>
                        <a:pt x="168" y="180"/>
                      </a:lnTo>
                      <a:lnTo>
                        <a:pt x="232" y="235"/>
                      </a:lnTo>
                      <a:lnTo>
                        <a:pt x="283" y="277"/>
                      </a:lnTo>
                      <a:lnTo>
                        <a:pt x="351" y="320"/>
                      </a:lnTo>
                      <a:lnTo>
                        <a:pt x="435" y="368"/>
                      </a:lnTo>
                      <a:lnTo>
                        <a:pt x="501" y="633"/>
                      </a:lnTo>
                      <a:lnTo>
                        <a:pt x="377" y="550"/>
                      </a:lnTo>
                      <a:lnTo>
                        <a:pt x="251" y="472"/>
                      </a:lnTo>
                      <a:lnTo>
                        <a:pt x="218" y="431"/>
                      </a:lnTo>
                      <a:lnTo>
                        <a:pt x="145" y="318"/>
                      </a:lnTo>
                      <a:lnTo>
                        <a:pt x="114" y="256"/>
                      </a:lnTo>
                      <a:lnTo>
                        <a:pt x="85" y="197"/>
                      </a:lnTo>
                      <a:lnTo>
                        <a:pt x="52" y="126"/>
                      </a:lnTo>
                      <a:lnTo>
                        <a:pt x="2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52240" y="4210200"/>
                  <a:ext cx="352440" cy="460440"/>
                </a:xfrm>
                <a:custGeom>
                  <a:avLst/>
                  <a:gdLst/>
                  <a:ahLst/>
                  <a:rect l="l" t="t" r="r" b="b"/>
                  <a:pathLst>
                    <a:path w="444" h="579">
                      <a:moveTo>
                        <a:pt x="0" y="0"/>
                      </a:moveTo>
                      <a:lnTo>
                        <a:pt x="24" y="41"/>
                      </a:lnTo>
                      <a:lnTo>
                        <a:pt x="57" y="105"/>
                      </a:lnTo>
                      <a:lnTo>
                        <a:pt x="95" y="173"/>
                      </a:lnTo>
                      <a:lnTo>
                        <a:pt x="130" y="238"/>
                      </a:lnTo>
                      <a:lnTo>
                        <a:pt x="169" y="297"/>
                      </a:lnTo>
                      <a:lnTo>
                        <a:pt x="235" y="387"/>
                      </a:lnTo>
                      <a:lnTo>
                        <a:pt x="287" y="456"/>
                      </a:lnTo>
                      <a:lnTo>
                        <a:pt x="444" y="579"/>
                      </a:lnTo>
                      <a:lnTo>
                        <a:pt x="409" y="427"/>
                      </a:lnTo>
                      <a:lnTo>
                        <a:pt x="375" y="280"/>
                      </a:lnTo>
                      <a:lnTo>
                        <a:pt x="335" y="259"/>
                      </a:lnTo>
                      <a:lnTo>
                        <a:pt x="283" y="230"/>
                      </a:lnTo>
                      <a:lnTo>
                        <a:pt x="252" y="211"/>
                      </a:lnTo>
                      <a:lnTo>
                        <a:pt x="204" y="178"/>
                      </a:lnTo>
                      <a:lnTo>
                        <a:pt x="155" y="143"/>
                      </a:lnTo>
                      <a:lnTo>
                        <a:pt x="111" y="107"/>
                      </a:lnTo>
                      <a:lnTo>
                        <a:pt x="67" y="64"/>
                      </a:lnTo>
                      <a:lnTo>
                        <a:pt x="26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72840" y="4425840"/>
                  <a:ext cx="266760" cy="384480"/>
                </a:xfrm>
                <a:custGeom>
                  <a:avLst/>
                  <a:gdLst/>
                  <a:ahLst/>
                  <a:rect l="l" t="t" r="r" b="b"/>
                  <a:pathLst>
                    <a:path w="337" h="484">
                      <a:moveTo>
                        <a:pt x="0" y="0"/>
                      </a:moveTo>
                      <a:lnTo>
                        <a:pt x="19" y="45"/>
                      </a:lnTo>
                      <a:lnTo>
                        <a:pt x="52" y="109"/>
                      </a:lnTo>
                      <a:lnTo>
                        <a:pt x="85" y="171"/>
                      </a:lnTo>
                      <a:lnTo>
                        <a:pt x="119" y="244"/>
                      </a:lnTo>
                      <a:lnTo>
                        <a:pt x="149" y="304"/>
                      </a:lnTo>
                      <a:lnTo>
                        <a:pt x="180" y="358"/>
                      </a:lnTo>
                      <a:lnTo>
                        <a:pt x="261" y="449"/>
                      </a:lnTo>
                      <a:lnTo>
                        <a:pt x="337" y="484"/>
                      </a:lnTo>
                      <a:lnTo>
                        <a:pt x="292" y="358"/>
                      </a:lnTo>
                      <a:lnTo>
                        <a:pt x="252" y="227"/>
                      </a:lnTo>
                      <a:lnTo>
                        <a:pt x="225" y="206"/>
                      </a:lnTo>
                      <a:lnTo>
                        <a:pt x="185" y="175"/>
                      </a:lnTo>
                      <a:lnTo>
                        <a:pt x="147" y="140"/>
                      </a:lnTo>
                      <a:lnTo>
                        <a:pt x="107" y="107"/>
                      </a:lnTo>
                      <a:lnTo>
                        <a:pt x="5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90560" y="4664160"/>
                  <a:ext cx="149040" cy="155520"/>
                </a:xfrm>
                <a:custGeom>
                  <a:avLst/>
                  <a:gdLst/>
                  <a:ahLst/>
                  <a:rect l="l" t="t" r="r" b="b"/>
                  <a:pathLst>
                    <a:path w="188" h="197">
                      <a:moveTo>
                        <a:pt x="0" y="0"/>
                      </a:moveTo>
                      <a:lnTo>
                        <a:pt x="38" y="83"/>
                      </a:lnTo>
                      <a:lnTo>
                        <a:pt x="77" y="173"/>
                      </a:lnTo>
                      <a:lnTo>
                        <a:pt x="146" y="197"/>
                      </a:lnTo>
                      <a:lnTo>
                        <a:pt x="188" y="185"/>
                      </a:lnTo>
                      <a:lnTo>
                        <a:pt x="174" y="1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1312560" y="2705040"/>
                <a:ext cx="639720" cy="2114640"/>
                <a:chOff x="1312560" y="2705040"/>
                <a:chExt cx="639720" cy="211464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1514160" y="2705040"/>
                  <a:ext cx="438120" cy="909720"/>
                  <a:chOff x="1514160" y="2705040"/>
                  <a:chExt cx="438120" cy="90972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1611000" y="280692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32">
                        <a:moveTo>
                          <a:pt x="212" y="0"/>
                        </a:moveTo>
                        <a:lnTo>
                          <a:pt x="250" y="33"/>
                        </a:lnTo>
                        <a:lnTo>
                          <a:pt x="290" y="79"/>
                        </a:lnTo>
                        <a:lnTo>
                          <a:pt x="319" y="126"/>
                        </a:lnTo>
                        <a:lnTo>
                          <a:pt x="335" y="166"/>
                        </a:lnTo>
                        <a:lnTo>
                          <a:pt x="271" y="228"/>
                        </a:lnTo>
                        <a:lnTo>
                          <a:pt x="212" y="287"/>
                        </a:lnTo>
                        <a:lnTo>
                          <a:pt x="154" y="347"/>
                        </a:lnTo>
                        <a:lnTo>
                          <a:pt x="74" y="432"/>
                        </a:lnTo>
                        <a:lnTo>
                          <a:pt x="7" y="380"/>
                        </a:lnTo>
                        <a:lnTo>
                          <a:pt x="0" y="212"/>
                        </a:lnTo>
                        <a:lnTo>
                          <a:pt x="48" y="164"/>
                        </a:lnTo>
                        <a:lnTo>
                          <a:pt x="95" y="110"/>
                        </a:lnTo>
                        <a:lnTo>
                          <a:pt x="143" y="55"/>
                        </a:lnTo>
                        <a:lnTo>
                          <a:pt x="169" y="33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1614240" y="2940120"/>
                    <a:ext cx="31428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6" h="565">
                        <a:moveTo>
                          <a:pt x="330" y="0"/>
                        </a:moveTo>
                        <a:lnTo>
                          <a:pt x="349" y="44"/>
                        </a:lnTo>
                        <a:lnTo>
                          <a:pt x="368" y="97"/>
                        </a:lnTo>
                        <a:lnTo>
                          <a:pt x="383" y="149"/>
                        </a:lnTo>
                        <a:lnTo>
                          <a:pt x="392" y="196"/>
                        </a:lnTo>
                        <a:lnTo>
                          <a:pt x="396" y="223"/>
                        </a:lnTo>
                        <a:lnTo>
                          <a:pt x="394" y="258"/>
                        </a:lnTo>
                        <a:lnTo>
                          <a:pt x="377" y="280"/>
                        </a:lnTo>
                        <a:lnTo>
                          <a:pt x="314" y="346"/>
                        </a:lnTo>
                        <a:lnTo>
                          <a:pt x="187" y="481"/>
                        </a:lnTo>
                        <a:lnTo>
                          <a:pt x="33" y="565"/>
                        </a:lnTo>
                        <a:lnTo>
                          <a:pt x="0" y="339"/>
                        </a:lnTo>
                        <a:lnTo>
                          <a:pt x="45" y="273"/>
                        </a:lnTo>
                        <a:lnTo>
                          <a:pt x="98" y="225"/>
                        </a:lnTo>
                        <a:lnTo>
                          <a:pt x="152" y="177"/>
                        </a:lnTo>
                        <a:lnTo>
                          <a:pt x="212" y="114"/>
                        </a:lnTo>
                        <a:lnTo>
                          <a:pt x="269" y="57"/>
                        </a:lnTo>
                        <a:lnTo>
                          <a:pt x="33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1514160" y="2705040"/>
                    <a:ext cx="266760" cy="260640"/>
                    <a:chOff x="1514160" y="2705040"/>
                    <a:chExt cx="266760" cy="26064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1514160" y="2705040"/>
                      <a:ext cx="15408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71">
                          <a:moveTo>
                            <a:pt x="0" y="38"/>
                          </a:moveTo>
                          <a:lnTo>
                            <a:pt x="23" y="19"/>
                          </a:lnTo>
                          <a:lnTo>
                            <a:pt x="47" y="7"/>
                          </a:lnTo>
                          <a:lnTo>
                            <a:pt x="80" y="0"/>
                          </a:lnTo>
                          <a:lnTo>
                            <a:pt x="107" y="2"/>
                          </a:lnTo>
                          <a:lnTo>
                            <a:pt x="142" y="10"/>
                          </a:lnTo>
                          <a:lnTo>
                            <a:pt x="171" y="24"/>
                          </a:lnTo>
                          <a:lnTo>
                            <a:pt x="195" y="38"/>
                          </a:lnTo>
                          <a:lnTo>
                            <a:pt x="81" y="171"/>
                          </a:lnTo>
                          <a:lnTo>
                            <a:pt x="0" y="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1577880" y="2733840"/>
                      <a:ext cx="20304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292">
                          <a:moveTo>
                            <a:pt x="113" y="0"/>
                          </a:moveTo>
                          <a:lnTo>
                            <a:pt x="152" y="19"/>
                          </a:lnTo>
                          <a:lnTo>
                            <a:pt x="196" y="47"/>
                          </a:lnTo>
                          <a:lnTo>
                            <a:pt x="232" y="73"/>
                          </a:lnTo>
                          <a:lnTo>
                            <a:pt x="256" y="92"/>
                          </a:lnTo>
                          <a:lnTo>
                            <a:pt x="71" y="290"/>
                          </a:lnTo>
                          <a:lnTo>
                            <a:pt x="33" y="292"/>
                          </a:lnTo>
                          <a:lnTo>
                            <a:pt x="0" y="137"/>
                          </a:lnTo>
                          <a:lnTo>
                            <a:pt x="42" y="73"/>
                          </a:lnTo>
                          <a:lnTo>
                            <a:pt x="80" y="26"/>
                          </a:lnTo>
                          <a:lnTo>
                            <a:pt x="113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1631880" y="3102120"/>
                    <a:ext cx="32040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644">
                        <a:moveTo>
                          <a:pt x="373" y="0"/>
                        </a:moveTo>
                        <a:lnTo>
                          <a:pt x="385" y="43"/>
                        </a:lnTo>
                        <a:lnTo>
                          <a:pt x="395" y="97"/>
                        </a:lnTo>
                        <a:lnTo>
                          <a:pt x="402" y="150"/>
                        </a:lnTo>
                        <a:lnTo>
                          <a:pt x="404" y="195"/>
                        </a:lnTo>
                        <a:lnTo>
                          <a:pt x="402" y="254"/>
                        </a:lnTo>
                        <a:lnTo>
                          <a:pt x="319" y="416"/>
                        </a:lnTo>
                        <a:lnTo>
                          <a:pt x="188" y="523"/>
                        </a:lnTo>
                        <a:lnTo>
                          <a:pt x="0" y="644"/>
                        </a:lnTo>
                        <a:lnTo>
                          <a:pt x="19" y="337"/>
                        </a:lnTo>
                        <a:lnTo>
                          <a:pt x="60" y="313"/>
                        </a:lnTo>
                        <a:lnTo>
                          <a:pt x="103" y="283"/>
                        </a:lnTo>
                        <a:lnTo>
                          <a:pt x="141" y="254"/>
                        </a:lnTo>
                        <a:lnTo>
                          <a:pt x="193" y="211"/>
                        </a:lnTo>
                        <a:lnTo>
                          <a:pt x="238" y="166"/>
                        </a:lnTo>
                        <a:lnTo>
                          <a:pt x="281" y="121"/>
                        </a:lnTo>
                        <a:lnTo>
                          <a:pt x="316" y="78"/>
                        </a:lnTo>
                        <a:lnTo>
                          <a:pt x="349" y="40"/>
                        </a:lnTo>
                        <a:lnTo>
                          <a:pt x="373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"/>
                <p:cNvSpPr/>
                <p:nvPr/>
              </p:nvSpPr>
              <p:spPr>
                <a:xfrm>
                  <a:off x="1581120" y="3305160"/>
                  <a:ext cx="369720" cy="593640"/>
                </a:xfrm>
                <a:custGeom>
                  <a:avLst/>
                  <a:gdLst/>
                  <a:ahLst/>
                  <a:rect l="l" t="t" r="r" b="b"/>
                  <a:pathLst>
                    <a:path w="466" h="746">
                      <a:moveTo>
                        <a:pt x="466" y="0"/>
                      </a:moveTo>
                      <a:lnTo>
                        <a:pt x="464" y="65"/>
                      </a:lnTo>
                      <a:lnTo>
                        <a:pt x="461" y="134"/>
                      </a:lnTo>
                      <a:lnTo>
                        <a:pt x="454" y="214"/>
                      </a:lnTo>
                      <a:lnTo>
                        <a:pt x="442" y="273"/>
                      </a:lnTo>
                      <a:lnTo>
                        <a:pt x="426" y="321"/>
                      </a:lnTo>
                      <a:lnTo>
                        <a:pt x="409" y="364"/>
                      </a:lnTo>
                      <a:lnTo>
                        <a:pt x="321" y="489"/>
                      </a:lnTo>
                      <a:lnTo>
                        <a:pt x="190" y="594"/>
                      </a:lnTo>
                      <a:lnTo>
                        <a:pt x="0" y="746"/>
                      </a:lnTo>
                      <a:lnTo>
                        <a:pt x="22" y="611"/>
                      </a:lnTo>
                      <a:lnTo>
                        <a:pt x="39" y="475"/>
                      </a:lnTo>
                      <a:lnTo>
                        <a:pt x="55" y="390"/>
                      </a:lnTo>
                      <a:lnTo>
                        <a:pt x="84" y="371"/>
                      </a:lnTo>
                      <a:lnTo>
                        <a:pt x="136" y="335"/>
                      </a:lnTo>
                      <a:lnTo>
                        <a:pt x="204" y="281"/>
                      </a:lnTo>
                      <a:lnTo>
                        <a:pt x="261" y="235"/>
                      </a:lnTo>
                      <a:lnTo>
                        <a:pt x="307" y="191"/>
                      </a:lnTo>
                      <a:lnTo>
                        <a:pt x="354" y="145"/>
                      </a:lnTo>
                      <a:lnTo>
                        <a:pt x="390" y="103"/>
                      </a:lnTo>
                      <a:lnTo>
                        <a:pt x="433" y="51"/>
                      </a:lnTo>
                      <a:lnTo>
                        <a:pt x="46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515960" y="3489480"/>
                  <a:ext cx="423720" cy="606240"/>
                </a:xfrm>
                <a:custGeom>
                  <a:avLst/>
                  <a:gdLst/>
                  <a:ahLst/>
                  <a:rect l="l" t="t" r="r" b="b"/>
                  <a:pathLst>
                    <a:path w="533" h="764">
                      <a:moveTo>
                        <a:pt x="513" y="62"/>
                      </a:moveTo>
                      <a:lnTo>
                        <a:pt x="499" y="90"/>
                      </a:lnTo>
                      <a:lnTo>
                        <a:pt x="480" y="116"/>
                      </a:lnTo>
                      <a:lnTo>
                        <a:pt x="450" y="156"/>
                      </a:lnTo>
                      <a:lnTo>
                        <a:pt x="418" y="192"/>
                      </a:lnTo>
                      <a:lnTo>
                        <a:pt x="378" y="230"/>
                      </a:lnTo>
                      <a:lnTo>
                        <a:pt x="323" y="277"/>
                      </a:lnTo>
                      <a:lnTo>
                        <a:pt x="264" y="325"/>
                      </a:lnTo>
                      <a:lnTo>
                        <a:pt x="207" y="366"/>
                      </a:lnTo>
                      <a:lnTo>
                        <a:pt x="153" y="399"/>
                      </a:lnTo>
                      <a:lnTo>
                        <a:pt x="84" y="436"/>
                      </a:lnTo>
                      <a:lnTo>
                        <a:pt x="46" y="581"/>
                      </a:lnTo>
                      <a:lnTo>
                        <a:pt x="0" y="764"/>
                      </a:lnTo>
                      <a:lnTo>
                        <a:pt x="217" y="596"/>
                      </a:lnTo>
                      <a:lnTo>
                        <a:pt x="300" y="537"/>
                      </a:lnTo>
                      <a:lnTo>
                        <a:pt x="447" y="399"/>
                      </a:lnTo>
                      <a:lnTo>
                        <a:pt x="469" y="334"/>
                      </a:lnTo>
                      <a:lnTo>
                        <a:pt x="488" y="265"/>
                      </a:lnTo>
                      <a:lnTo>
                        <a:pt x="506" y="199"/>
                      </a:lnTo>
                      <a:lnTo>
                        <a:pt x="523" y="123"/>
                      </a:lnTo>
                      <a:lnTo>
                        <a:pt x="532" y="57"/>
                      </a:lnTo>
                      <a:lnTo>
                        <a:pt x="533" y="0"/>
                      </a:lnTo>
                      <a:lnTo>
                        <a:pt x="523" y="33"/>
                      </a:lnTo>
                      <a:lnTo>
                        <a:pt x="513" y="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452240" y="3721320"/>
                  <a:ext cx="446400" cy="620640"/>
                </a:xfrm>
                <a:custGeom>
                  <a:avLst/>
                  <a:gdLst/>
                  <a:ahLst/>
                  <a:rect l="l" t="t" r="r" b="b"/>
                  <a:pathLst>
                    <a:path w="564" h="783">
                      <a:moveTo>
                        <a:pt x="564" y="0"/>
                      </a:moveTo>
                      <a:lnTo>
                        <a:pt x="545" y="74"/>
                      </a:lnTo>
                      <a:lnTo>
                        <a:pt x="517" y="157"/>
                      </a:lnTo>
                      <a:lnTo>
                        <a:pt x="493" y="220"/>
                      </a:lnTo>
                      <a:lnTo>
                        <a:pt x="458" y="301"/>
                      </a:lnTo>
                      <a:lnTo>
                        <a:pt x="431" y="347"/>
                      </a:lnTo>
                      <a:lnTo>
                        <a:pt x="394" y="406"/>
                      </a:lnTo>
                      <a:lnTo>
                        <a:pt x="360" y="465"/>
                      </a:lnTo>
                      <a:lnTo>
                        <a:pt x="223" y="617"/>
                      </a:lnTo>
                      <a:lnTo>
                        <a:pt x="6" y="783"/>
                      </a:lnTo>
                      <a:lnTo>
                        <a:pt x="0" y="745"/>
                      </a:lnTo>
                      <a:lnTo>
                        <a:pt x="37" y="622"/>
                      </a:lnTo>
                      <a:lnTo>
                        <a:pt x="73" y="506"/>
                      </a:lnTo>
                      <a:lnTo>
                        <a:pt x="99" y="417"/>
                      </a:lnTo>
                      <a:lnTo>
                        <a:pt x="166" y="377"/>
                      </a:lnTo>
                      <a:lnTo>
                        <a:pt x="234" y="332"/>
                      </a:lnTo>
                      <a:lnTo>
                        <a:pt x="294" y="285"/>
                      </a:lnTo>
                      <a:lnTo>
                        <a:pt x="355" y="233"/>
                      </a:lnTo>
                      <a:lnTo>
                        <a:pt x="410" y="185"/>
                      </a:lnTo>
                      <a:lnTo>
                        <a:pt x="465" y="133"/>
                      </a:lnTo>
                      <a:lnTo>
                        <a:pt x="513" y="80"/>
                      </a:lnTo>
                      <a:lnTo>
                        <a:pt x="545" y="33"/>
                      </a:lnTo>
                      <a:lnTo>
                        <a:pt x="564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419120" y="3957840"/>
                  <a:ext cx="396720" cy="501480"/>
                </a:xfrm>
                <a:custGeom>
                  <a:avLst/>
                  <a:gdLst/>
                  <a:ahLst/>
                  <a:rect l="l" t="t" r="r" b="b"/>
                  <a:pathLst>
                    <a:path w="501" h="633">
                      <a:moveTo>
                        <a:pt x="501" y="0"/>
                      </a:moveTo>
                      <a:lnTo>
                        <a:pt x="473" y="38"/>
                      </a:lnTo>
                      <a:lnTo>
                        <a:pt x="434" y="85"/>
                      </a:lnTo>
                      <a:lnTo>
                        <a:pt x="383" y="135"/>
                      </a:lnTo>
                      <a:lnTo>
                        <a:pt x="333" y="180"/>
                      </a:lnTo>
                      <a:lnTo>
                        <a:pt x="269" y="235"/>
                      </a:lnTo>
                      <a:lnTo>
                        <a:pt x="218" y="277"/>
                      </a:lnTo>
                      <a:lnTo>
                        <a:pt x="150" y="320"/>
                      </a:lnTo>
                      <a:lnTo>
                        <a:pt x="66" y="368"/>
                      </a:lnTo>
                      <a:lnTo>
                        <a:pt x="0" y="633"/>
                      </a:lnTo>
                      <a:lnTo>
                        <a:pt x="126" y="550"/>
                      </a:lnTo>
                      <a:lnTo>
                        <a:pt x="250" y="472"/>
                      </a:lnTo>
                      <a:lnTo>
                        <a:pt x="283" y="431"/>
                      </a:lnTo>
                      <a:lnTo>
                        <a:pt x="356" y="318"/>
                      </a:lnTo>
                      <a:lnTo>
                        <a:pt x="387" y="256"/>
                      </a:lnTo>
                      <a:lnTo>
                        <a:pt x="416" y="197"/>
                      </a:lnTo>
                      <a:lnTo>
                        <a:pt x="449" y="126"/>
                      </a:lnTo>
                      <a:lnTo>
                        <a:pt x="480" y="59"/>
                      </a:lnTo>
                      <a:lnTo>
                        <a:pt x="50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347480" y="4210200"/>
                  <a:ext cx="352440" cy="460440"/>
                </a:xfrm>
                <a:custGeom>
                  <a:avLst/>
                  <a:gdLst/>
                  <a:ahLst/>
                  <a:rect l="l" t="t" r="r" b="b"/>
                  <a:pathLst>
                    <a:path w="444" h="579">
                      <a:moveTo>
                        <a:pt x="444" y="0"/>
                      </a:moveTo>
                      <a:lnTo>
                        <a:pt x="420" y="41"/>
                      </a:lnTo>
                      <a:lnTo>
                        <a:pt x="387" y="105"/>
                      </a:lnTo>
                      <a:lnTo>
                        <a:pt x="349" y="173"/>
                      </a:lnTo>
                      <a:lnTo>
                        <a:pt x="314" y="238"/>
                      </a:lnTo>
                      <a:lnTo>
                        <a:pt x="275" y="297"/>
                      </a:lnTo>
                      <a:lnTo>
                        <a:pt x="209" y="387"/>
                      </a:lnTo>
                      <a:lnTo>
                        <a:pt x="157" y="456"/>
                      </a:lnTo>
                      <a:lnTo>
                        <a:pt x="0" y="579"/>
                      </a:lnTo>
                      <a:lnTo>
                        <a:pt x="35" y="427"/>
                      </a:lnTo>
                      <a:lnTo>
                        <a:pt x="69" y="280"/>
                      </a:lnTo>
                      <a:lnTo>
                        <a:pt x="109" y="259"/>
                      </a:lnTo>
                      <a:lnTo>
                        <a:pt x="161" y="230"/>
                      </a:lnTo>
                      <a:lnTo>
                        <a:pt x="192" y="211"/>
                      </a:lnTo>
                      <a:lnTo>
                        <a:pt x="240" y="178"/>
                      </a:lnTo>
                      <a:lnTo>
                        <a:pt x="289" y="143"/>
                      </a:lnTo>
                      <a:lnTo>
                        <a:pt x="332" y="107"/>
                      </a:lnTo>
                      <a:lnTo>
                        <a:pt x="377" y="64"/>
                      </a:lnTo>
                      <a:lnTo>
                        <a:pt x="418" y="24"/>
                      </a:lnTo>
                      <a:lnTo>
                        <a:pt x="444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312560" y="4425840"/>
                  <a:ext cx="266760" cy="384480"/>
                </a:xfrm>
                <a:custGeom>
                  <a:avLst/>
                  <a:gdLst/>
                  <a:ahLst/>
                  <a:rect l="l" t="t" r="r" b="b"/>
                  <a:pathLst>
                    <a:path w="337" h="484">
                      <a:moveTo>
                        <a:pt x="337" y="0"/>
                      </a:moveTo>
                      <a:lnTo>
                        <a:pt x="318" y="45"/>
                      </a:lnTo>
                      <a:lnTo>
                        <a:pt x="285" y="109"/>
                      </a:lnTo>
                      <a:lnTo>
                        <a:pt x="252" y="171"/>
                      </a:lnTo>
                      <a:lnTo>
                        <a:pt x="218" y="244"/>
                      </a:lnTo>
                      <a:lnTo>
                        <a:pt x="188" y="304"/>
                      </a:lnTo>
                      <a:lnTo>
                        <a:pt x="157" y="358"/>
                      </a:lnTo>
                      <a:lnTo>
                        <a:pt x="76" y="449"/>
                      </a:lnTo>
                      <a:lnTo>
                        <a:pt x="0" y="484"/>
                      </a:lnTo>
                      <a:lnTo>
                        <a:pt x="45" y="358"/>
                      </a:lnTo>
                      <a:lnTo>
                        <a:pt x="85" y="227"/>
                      </a:lnTo>
                      <a:lnTo>
                        <a:pt x="112" y="206"/>
                      </a:lnTo>
                      <a:lnTo>
                        <a:pt x="152" y="175"/>
                      </a:lnTo>
                      <a:lnTo>
                        <a:pt x="190" y="140"/>
                      </a:lnTo>
                      <a:lnTo>
                        <a:pt x="230" y="107"/>
                      </a:lnTo>
                      <a:lnTo>
                        <a:pt x="287" y="52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312560" y="4664160"/>
                  <a:ext cx="149400" cy="155520"/>
                </a:xfrm>
                <a:custGeom>
                  <a:avLst/>
                  <a:gdLst/>
                  <a:ahLst/>
                  <a:rect l="l" t="t" r="r" b="b"/>
                  <a:pathLst>
                    <a:path w="188" h="197">
                      <a:moveTo>
                        <a:pt x="188" y="0"/>
                      </a:moveTo>
                      <a:lnTo>
                        <a:pt x="150" y="83"/>
                      </a:lnTo>
                      <a:lnTo>
                        <a:pt x="111" y="173"/>
                      </a:lnTo>
                      <a:lnTo>
                        <a:pt x="42" y="197"/>
                      </a:lnTo>
                      <a:lnTo>
                        <a:pt x="0" y="185"/>
                      </a:lnTo>
                      <a:lnTo>
                        <a:pt x="14" y="15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2" name=""/>
            <p:cNvGrpSpPr/>
            <p:nvPr/>
          </p:nvGrpSpPr>
          <p:grpSpPr>
            <a:xfrm>
              <a:off x="569880" y="2590920"/>
              <a:ext cx="1110960" cy="2244600"/>
              <a:chOff x="569880" y="2590920"/>
              <a:chExt cx="1110960" cy="224460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569880" y="2617920"/>
                <a:ext cx="512640" cy="2209680"/>
                <a:chOff x="569880" y="2617920"/>
                <a:chExt cx="512640" cy="22096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612720" y="2617920"/>
                  <a:ext cx="379440" cy="323640"/>
                </a:xfrm>
                <a:custGeom>
                  <a:avLst/>
                  <a:gdLst/>
                  <a:ahLst/>
                  <a:rect l="l" t="t" r="r" b="b"/>
                  <a:pathLst>
                    <a:path w="479" h="408">
                      <a:moveTo>
                        <a:pt x="472" y="85"/>
                      </a:moveTo>
                      <a:lnTo>
                        <a:pt x="479" y="75"/>
                      </a:lnTo>
                      <a:lnTo>
                        <a:pt x="479" y="63"/>
                      </a:lnTo>
                      <a:lnTo>
                        <a:pt x="465" y="44"/>
                      </a:lnTo>
                      <a:lnTo>
                        <a:pt x="447" y="28"/>
                      </a:lnTo>
                      <a:lnTo>
                        <a:pt x="427" y="18"/>
                      </a:lnTo>
                      <a:lnTo>
                        <a:pt x="399" y="9"/>
                      </a:lnTo>
                      <a:lnTo>
                        <a:pt x="366" y="4"/>
                      </a:lnTo>
                      <a:lnTo>
                        <a:pt x="330" y="0"/>
                      </a:lnTo>
                      <a:lnTo>
                        <a:pt x="288" y="6"/>
                      </a:lnTo>
                      <a:lnTo>
                        <a:pt x="261" y="14"/>
                      </a:lnTo>
                      <a:lnTo>
                        <a:pt x="233" y="28"/>
                      </a:lnTo>
                      <a:lnTo>
                        <a:pt x="206" y="47"/>
                      </a:lnTo>
                      <a:lnTo>
                        <a:pt x="174" y="71"/>
                      </a:lnTo>
                      <a:lnTo>
                        <a:pt x="149" y="95"/>
                      </a:lnTo>
                      <a:lnTo>
                        <a:pt x="116" y="133"/>
                      </a:lnTo>
                      <a:lnTo>
                        <a:pt x="88" y="171"/>
                      </a:lnTo>
                      <a:lnTo>
                        <a:pt x="60" y="211"/>
                      </a:lnTo>
                      <a:lnTo>
                        <a:pt x="40" y="253"/>
                      </a:lnTo>
                      <a:lnTo>
                        <a:pt x="24" y="285"/>
                      </a:lnTo>
                      <a:lnTo>
                        <a:pt x="10" y="320"/>
                      </a:lnTo>
                      <a:lnTo>
                        <a:pt x="0" y="367"/>
                      </a:lnTo>
                      <a:lnTo>
                        <a:pt x="3" y="408"/>
                      </a:lnTo>
                      <a:lnTo>
                        <a:pt x="178" y="163"/>
                      </a:lnTo>
                      <a:lnTo>
                        <a:pt x="337" y="107"/>
                      </a:lnTo>
                      <a:lnTo>
                        <a:pt x="472" y="85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569880" y="2657520"/>
                  <a:ext cx="512640" cy="2170080"/>
                  <a:chOff x="569880" y="2657520"/>
                  <a:chExt cx="512640" cy="21700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577800" y="2657520"/>
                    <a:ext cx="409320" cy="466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590">
                        <a:moveTo>
                          <a:pt x="517" y="35"/>
                        </a:moveTo>
                        <a:lnTo>
                          <a:pt x="496" y="19"/>
                        </a:lnTo>
                        <a:lnTo>
                          <a:pt x="473" y="9"/>
                        </a:lnTo>
                        <a:lnTo>
                          <a:pt x="451" y="4"/>
                        </a:lnTo>
                        <a:lnTo>
                          <a:pt x="411" y="0"/>
                        </a:lnTo>
                        <a:lnTo>
                          <a:pt x="365" y="4"/>
                        </a:lnTo>
                        <a:lnTo>
                          <a:pt x="332" y="13"/>
                        </a:lnTo>
                        <a:lnTo>
                          <a:pt x="295" y="28"/>
                        </a:lnTo>
                        <a:lnTo>
                          <a:pt x="259" y="45"/>
                        </a:lnTo>
                        <a:lnTo>
                          <a:pt x="226" y="66"/>
                        </a:lnTo>
                        <a:lnTo>
                          <a:pt x="195" y="92"/>
                        </a:lnTo>
                        <a:lnTo>
                          <a:pt x="168" y="123"/>
                        </a:lnTo>
                        <a:lnTo>
                          <a:pt x="137" y="156"/>
                        </a:lnTo>
                        <a:lnTo>
                          <a:pt x="107" y="199"/>
                        </a:lnTo>
                        <a:lnTo>
                          <a:pt x="83" y="237"/>
                        </a:lnTo>
                        <a:lnTo>
                          <a:pt x="62" y="279"/>
                        </a:lnTo>
                        <a:lnTo>
                          <a:pt x="48" y="322"/>
                        </a:lnTo>
                        <a:lnTo>
                          <a:pt x="36" y="365"/>
                        </a:lnTo>
                        <a:lnTo>
                          <a:pt x="26" y="415"/>
                        </a:lnTo>
                        <a:lnTo>
                          <a:pt x="19" y="460"/>
                        </a:lnTo>
                        <a:lnTo>
                          <a:pt x="12" y="507"/>
                        </a:lnTo>
                        <a:lnTo>
                          <a:pt x="0" y="590"/>
                        </a:lnTo>
                        <a:lnTo>
                          <a:pt x="86" y="457"/>
                        </a:lnTo>
                        <a:lnTo>
                          <a:pt x="251" y="279"/>
                        </a:lnTo>
                        <a:lnTo>
                          <a:pt x="451" y="187"/>
                        </a:lnTo>
                        <a:lnTo>
                          <a:pt x="506" y="123"/>
                        </a:lnTo>
                        <a:lnTo>
                          <a:pt x="517" y="75"/>
                        </a:lnTo>
                        <a:lnTo>
                          <a:pt x="517" y="3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69880" y="2749680"/>
                    <a:ext cx="4060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751">
                        <a:moveTo>
                          <a:pt x="512" y="3"/>
                        </a:moveTo>
                        <a:lnTo>
                          <a:pt x="484" y="0"/>
                        </a:lnTo>
                        <a:lnTo>
                          <a:pt x="451" y="2"/>
                        </a:lnTo>
                        <a:lnTo>
                          <a:pt x="424" y="5"/>
                        </a:lnTo>
                        <a:lnTo>
                          <a:pt x="387" y="12"/>
                        </a:lnTo>
                        <a:lnTo>
                          <a:pt x="355" y="24"/>
                        </a:lnTo>
                        <a:lnTo>
                          <a:pt x="308" y="47"/>
                        </a:lnTo>
                        <a:lnTo>
                          <a:pt x="266" y="73"/>
                        </a:lnTo>
                        <a:lnTo>
                          <a:pt x="230" y="100"/>
                        </a:lnTo>
                        <a:lnTo>
                          <a:pt x="197" y="130"/>
                        </a:lnTo>
                        <a:lnTo>
                          <a:pt x="166" y="164"/>
                        </a:lnTo>
                        <a:lnTo>
                          <a:pt x="140" y="195"/>
                        </a:lnTo>
                        <a:lnTo>
                          <a:pt x="116" y="233"/>
                        </a:lnTo>
                        <a:lnTo>
                          <a:pt x="90" y="282"/>
                        </a:lnTo>
                        <a:lnTo>
                          <a:pt x="66" y="333"/>
                        </a:lnTo>
                        <a:lnTo>
                          <a:pt x="44" y="380"/>
                        </a:lnTo>
                        <a:lnTo>
                          <a:pt x="33" y="408"/>
                        </a:lnTo>
                        <a:lnTo>
                          <a:pt x="14" y="460"/>
                        </a:lnTo>
                        <a:lnTo>
                          <a:pt x="4" y="534"/>
                        </a:lnTo>
                        <a:lnTo>
                          <a:pt x="0" y="613"/>
                        </a:lnTo>
                        <a:lnTo>
                          <a:pt x="4" y="675"/>
                        </a:lnTo>
                        <a:lnTo>
                          <a:pt x="9" y="751"/>
                        </a:lnTo>
                        <a:lnTo>
                          <a:pt x="140" y="504"/>
                        </a:lnTo>
                        <a:lnTo>
                          <a:pt x="256" y="385"/>
                        </a:lnTo>
                        <a:lnTo>
                          <a:pt x="436" y="250"/>
                        </a:lnTo>
                        <a:lnTo>
                          <a:pt x="500" y="164"/>
                        </a:lnTo>
                        <a:lnTo>
                          <a:pt x="503" y="112"/>
                        </a:lnTo>
                        <a:lnTo>
                          <a:pt x="505" y="64"/>
                        </a:lnTo>
                        <a:lnTo>
                          <a:pt x="508" y="22"/>
                        </a:lnTo>
                        <a:lnTo>
                          <a:pt x="512" y="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7800" y="2879640"/>
                    <a:ext cx="39024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871">
                        <a:moveTo>
                          <a:pt x="492" y="0"/>
                        </a:moveTo>
                        <a:lnTo>
                          <a:pt x="461" y="9"/>
                        </a:lnTo>
                        <a:lnTo>
                          <a:pt x="422" y="26"/>
                        </a:lnTo>
                        <a:lnTo>
                          <a:pt x="385" y="45"/>
                        </a:lnTo>
                        <a:lnTo>
                          <a:pt x="344" y="73"/>
                        </a:lnTo>
                        <a:lnTo>
                          <a:pt x="304" y="104"/>
                        </a:lnTo>
                        <a:lnTo>
                          <a:pt x="270" y="137"/>
                        </a:lnTo>
                        <a:lnTo>
                          <a:pt x="235" y="175"/>
                        </a:lnTo>
                        <a:lnTo>
                          <a:pt x="192" y="223"/>
                        </a:lnTo>
                        <a:lnTo>
                          <a:pt x="157" y="268"/>
                        </a:lnTo>
                        <a:lnTo>
                          <a:pt x="118" y="329"/>
                        </a:lnTo>
                        <a:lnTo>
                          <a:pt x="88" y="377"/>
                        </a:lnTo>
                        <a:lnTo>
                          <a:pt x="67" y="418"/>
                        </a:lnTo>
                        <a:lnTo>
                          <a:pt x="43" y="472"/>
                        </a:lnTo>
                        <a:lnTo>
                          <a:pt x="17" y="536"/>
                        </a:lnTo>
                        <a:lnTo>
                          <a:pt x="0" y="603"/>
                        </a:lnTo>
                        <a:lnTo>
                          <a:pt x="4" y="666"/>
                        </a:lnTo>
                        <a:lnTo>
                          <a:pt x="21" y="790"/>
                        </a:lnTo>
                        <a:lnTo>
                          <a:pt x="31" y="871"/>
                        </a:lnTo>
                        <a:lnTo>
                          <a:pt x="86" y="792"/>
                        </a:lnTo>
                        <a:lnTo>
                          <a:pt x="192" y="600"/>
                        </a:lnTo>
                        <a:lnTo>
                          <a:pt x="325" y="424"/>
                        </a:lnTo>
                        <a:lnTo>
                          <a:pt x="492" y="239"/>
                        </a:lnTo>
                        <a:lnTo>
                          <a:pt x="49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99760" y="3067200"/>
                    <a:ext cx="370080" cy="74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942">
                        <a:moveTo>
                          <a:pt x="463" y="0"/>
                        </a:moveTo>
                        <a:lnTo>
                          <a:pt x="427" y="29"/>
                        </a:lnTo>
                        <a:lnTo>
                          <a:pt x="389" y="64"/>
                        </a:lnTo>
                        <a:lnTo>
                          <a:pt x="349" y="104"/>
                        </a:lnTo>
                        <a:lnTo>
                          <a:pt x="311" y="143"/>
                        </a:lnTo>
                        <a:lnTo>
                          <a:pt x="270" y="190"/>
                        </a:lnTo>
                        <a:lnTo>
                          <a:pt x="230" y="235"/>
                        </a:lnTo>
                        <a:lnTo>
                          <a:pt x="194" y="283"/>
                        </a:lnTo>
                        <a:lnTo>
                          <a:pt x="156" y="335"/>
                        </a:lnTo>
                        <a:lnTo>
                          <a:pt x="123" y="384"/>
                        </a:lnTo>
                        <a:lnTo>
                          <a:pt x="90" y="444"/>
                        </a:lnTo>
                        <a:lnTo>
                          <a:pt x="56" y="508"/>
                        </a:lnTo>
                        <a:lnTo>
                          <a:pt x="25" y="582"/>
                        </a:lnTo>
                        <a:lnTo>
                          <a:pt x="0" y="644"/>
                        </a:lnTo>
                        <a:lnTo>
                          <a:pt x="9" y="724"/>
                        </a:lnTo>
                        <a:lnTo>
                          <a:pt x="23" y="798"/>
                        </a:lnTo>
                        <a:lnTo>
                          <a:pt x="35" y="867"/>
                        </a:lnTo>
                        <a:lnTo>
                          <a:pt x="51" y="942"/>
                        </a:lnTo>
                        <a:lnTo>
                          <a:pt x="94" y="902"/>
                        </a:lnTo>
                        <a:lnTo>
                          <a:pt x="220" y="676"/>
                        </a:lnTo>
                        <a:lnTo>
                          <a:pt x="398" y="399"/>
                        </a:lnTo>
                        <a:lnTo>
                          <a:pt x="465" y="321"/>
                        </a:lnTo>
                        <a:lnTo>
                          <a:pt x="463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39720" y="3313080"/>
                    <a:ext cx="33012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6" h="883">
                        <a:moveTo>
                          <a:pt x="416" y="0"/>
                        </a:moveTo>
                        <a:lnTo>
                          <a:pt x="359" y="64"/>
                        </a:lnTo>
                        <a:lnTo>
                          <a:pt x="309" y="132"/>
                        </a:lnTo>
                        <a:lnTo>
                          <a:pt x="262" y="192"/>
                        </a:lnTo>
                        <a:lnTo>
                          <a:pt x="210" y="263"/>
                        </a:lnTo>
                        <a:lnTo>
                          <a:pt x="162" y="335"/>
                        </a:lnTo>
                        <a:lnTo>
                          <a:pt x="115" y="411"/>
                        </a:lnTo>
                        <a:lnTo>
                          <a:pt x="72" y="491"/>
                        </a:lnTo>
                        <a:lnTo>
                          <a:pt x="31" y="570"/>
                        </a:lnTo>
                        <a:lnTo>
                          <a:pt x="0" y="629"/>
                        </a:lnTo>
                        <a:lnTo>
                          <a:pt x="19" y="709"/>
                        </a:lnTo>
                        <a:lnTo>
                          <a:pt x="46" y="809"/>
                        </a:lnTo>
                        <a:lnTo>
                          <a:pt x="69" y="883"/>
                        </a:lnTo>
                        <a:lnTo>
                          <a:pt x="385" y="417"/>
                        </a:lnTo>
                        <a:lnTo>
                          <a:pt x="416" y="379"/>
                        </a:lnTo>
                        <a:lnTo>
                          <a:pt x="416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93720" y="3606840"/>
                    <a:ext cx="285480" cy="63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800">
                        <a:moveTo>
                          <a:pt x="347" y="0"/>
                        </a:moveTo>
                        <a:lnTo>
                          <a:pt x="231" y="164"/>
                        </a:lnTo>
                        <a:lnTo>
                          <a:pt x="116" y="332"/>
                        </a:lnTo>
                        <a:lnTo>
                          <a:pt x="52" y="434"/>
                        </a:lnTo>
                        <a:lnTo>
                          <a:pt x="0" y="518"/>
                        </a:lnTo>
                        <a:lnTo>
                          <a:pt x="33" y="646"/>
                        </a:lnTo>
                        <a:lnTo>
                          <a:pt x="83" y="800"/>
                        </a:lnTo>
                        <a:lnTo>
                          <a:pt x="171" y="670"/>
                        </a:lnTo>
                        <a:lnTo>
                          <a:pt x="306" y="439"/>
                        </a:lnTo>
                        <a:lnTo>
                          <a:pt x="361" y="392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53840" y="3878280"/>
                    <a:ext cx="23040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674">
                        <a:moveTo>
                          <a:pt x="282" y="0"/>
                        </a:moveTo>
                        <a:lnTo>
                          <a:pt x="230" y="74"/>
                        </a:lnTo>
                        <a:lnTo>
                          <a:pt x="168" y="171"/>
                        </a:lnTo>
                        <a:lnTo>
                          <a:pt x="107" y="268"/>
                        </a:lnTo>
                        <a:lnTo>
                          <a:pt x="47" y="366"/>
                        </a:lnTo>
                        <a:lnTo>
                          <a:pt x="0" y="440"/>
                        </a:lnTo>
                        <a:lnTo>
                          <a:pt x="45" y="572"/>
                        </a:lnTo>
                        <a:lnTo>
                          <a:pt x="81" y="674"/>
                        </a:lnTo>
                        <a:lnTo>
                          <a:pt x="135" y="629"/>
                        </a:lnTo>
                        <a:lnTo>
                          <a:pt x="264" y="414"/>
                        </a:lnTo>
                        <a:lnTo>
                          <a:pt x="290" y="352"/>
                        </a:lnTo>
                        <a:lnTo>
                          <a:pt x="28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819000" y="4156200"/>
                    <a:ext cx="19512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572">
                        <a:moveTo>
                          <a:pt x="211" y="0"/>
                        </a:moveTo>
                        <a:lnTo>
                          <a:pt x="173" y="67"/>
                        </a:lnTo>
                        <a:lnTo>
                          <a:pt x="116" y="157"/>
                        </a:lnTo>
                        <a:lnTo>
                          <a:pt x="62" y="240"/>
                        </a:lnTo>
                        <a:lnTo>
                          <a:pt x="0" y="328"/>
                        </a:lnTo>
                        <a:lnTo>
                          <a:pt x="19" y="404"/>
                        </a:lnTo>
                        <a:lnTo>
                          <a:pt x="47" y="492"/>
                        </a:lnTo>
                        <a:lnTo>
                          <a:pt x="76" y="572"/>
                        </a:lnTo>
                        <a:lnTo>
                          <a:pt x="173" y="421"/>
                        </a:lnTo>
                        <a:lnTo>
                          <a:pt x="247" y="290"/>
                        </a:lnTo>
                        <a:lnTo>
                          <a:pt x="21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76240" y="4380120"/>
                    <a:ext cx="17136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507">
                        <a:moveTo>
                          <a:pt x="174" y="0"/>
                        </a:moveTo>
                        <a:lnTo>
                          <a:pt x="110" y="101"/>
                        </a:lnTo>
                        <a:lnTo>
                          <a:pt x="55" y="184"/>
                        </a:lnTo>
                        <a:lnTo>
                          <a:pt x="0" y="277"/>
                        </a:lnTo>
                        <a:lnTo>
                          <a:pt x="31" y="389"/>
                        </a:lnTo>
                        <a:lnTo>
                          <a:pt x="69" y="507"/>
                        </a:lnTo>
                        <a:lnTo>
                          <a:pt x="216" y="261"/>
                        </a:lnTo>
                        <a:lnTo>
                          <a:pt x="197" y="139"/>
                        </a:lnTo>
                        <a:lnTo>
                          <a:pt x="174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931680" y="4584600"/>
                    <a:ext cx="15084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05">
                        <a:moveTo>
                          <a:pt x="145" y="0"/>
                        </a:moveTo>
                        <a:lnTo>
                          <a:pt x="100" y="74"/>
                        </a:lnTo>
                        <a:lnTo>
                          <a:pt x="46" y="162"/>
                        </a:lnTo>
                        <a:lnTo>
                          <a:pt x="0" y="247"/>
                        </a:lnTo>
                        <a:lnTo>
                          <a:pt x="12" y="283"/>
                        </a:lnTo>
                        <a:lnTo>
                          <a:pt x="110" y="305"/>
                        </a:lnTo>
                        <a:lnTo>
                          <a:pt x="190" y="283"/>
                        </a:lnTo>
                        <a:lnTo>
                          <a:pt x="169" y="124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6" name=""/>
              <p:cNvGrpSpPr/>
              <p:nvPr/>
            </p:nvGrpSpPr>
            <p:grpSpPr>
              <a:xfrm>
                <a:off x="1217520" y="2625840"/>
                <a:ext cx="463320" cy="2208240"/>
                <a:chOff x="1217520" y="2625840"/>
                <a:chExt cx="463320" cy="22082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258560" y="2625840"/>
                  <a:ext cx="379440" cy="323640"/>
                </a:xfrm>
                <a:custGeom>
                  <a:avLst/>
                  <a:gdLst/>
                  <a:ahLst/>
                  <a:rect l="l" t="t" r="r" b="b"/>
                  <a:pathLst>
                    <a:path w="478" h="407">
                      <a:moveTo>
                        <a:pt x="7" y="84"/>
                      </a:moveTo>
                      <a:lnTo>
                        <a:pt x="0" y="74"/>
                      </a:lnTo>
                      <a:lnTo>
                        <a:pt x="0" y="62"/>
                      </a:lnTo>
                      <a:lnTo>
                        <a:pt x="14" y="43"/>
                      </a:lnTo>
                      <a:lnTo>
                        <a:pt x="31" y="27"/>
                      </a:lnTo>
                      <a:lnTo>
                        <a:pt x="52" y="17"/>
                      </a:lnTo>
                      <a:lnTo>
                        <a:pt x="79" y="8"/>
                      </a:lnTo>
                      <a:lnTo>
                        <a:pt x="112" y="3"/>
                      </a:lnTo>
                      <a:lnTo>
                        <a:pt x="148" y="0"/>
                      </a:lnTo>
                      <a:lnTo>
                        <a:pt x="190" y="5"/>
                      </a:lnTo>
                      <a:lnTo>
                        <a:pt x="217" y="14"/>
                      </a:lnTo>
                      <a:lnTo>
                        <a:pt x="245" y="27"/>
                      </a:lnTo>
                      <a:lnTo>
                        <a:pt x="273" y="46"/>
                      </a:lnTo>
                      <a:lnTo>
                        <a:pt x="304" y="71"/>
                      </a:lnTo>
                      <a:lnTo>
                        <a:pt x="330" y="95"/>
                      </a:lnTo>
                      <a:lnTo>
                        <a:pt x="363" y="133"/>
                      </a:lnTo>
                      <a:lnTo>
                        <a:pt x="390" y="171"/>
                      </a:lnTo>
                      <a:lnTo>
                        <a:pt x="418" y="211"/>
                      </a:lnTo>
                      <a:lnTo>
                        <a:pt x="439" y="252"/>
                      </a:lnTo>
                      <a:lnTo>
                        <a:pt x="454" y="285"/>
                      </a:lnTo>
                      <a:lnTo>
                        <a:pt x="468" y="319"/>
                      </a:lnTo>
                      <a:lnTo>
                        <a:pt x="478" y="366"/>
                      </a:lnTo>
                      <a:lnTo>
                        <a:pt x="475" y="407"/>
                      </a:lnTo>
                      <a:lnTo>
                        <a:pt x="300" y="162"/>
                      </a:lnTo>
                      <a:lnTo>
                        <a:pt x="141" y="107"/>
                      </a:lnTo>
                      <a:lnTo>
                        <a:pt x="7" y="8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263600" y="2665440"/>
                  <a:ext cx="411120" cy="466920"/>
                </a:xfrm>
                <a:custGeom>
                  <a:avLst/>
                  <a:gdLst/>
                  <a:ahLst/>
                  <a:rect l="l" t="t" r="r" b="b"/>
                  <a:pathLst>
                    <a:path w="516" h="589">
                      <a:moveTo>
                        <a:pt x="0" y="34"/>
                      </a:moveTo>
                      <a:lnTo>
                        <a:pt x="20" y="19"/>
                      </a:lnTo>
                      <a:lnTo>
                        <a:pt x="43" y="8"/>
                      </a:lnTo>
                      <a:lnTo>
                        <a:pt x="65" y="3"/>
                      </a:lnTo>
                      <a:lnTo>
                        <a:pt x="105" y="0"/>
                      </a:lnTo>
                      <a:lnTo>
                        <a:pt x="152" y="3"/>
                      </a:lnTo>
                      <a:lnTo>
                        <a:pt x="185" y="12"/>
                      </a:lnTo>
                      <a:lnTo>
                        <a:pt x="221" y="27"/>
                      </a:lnTo>
                      <a:lnTo>
                        <a:pt x="257" y="45"/>
                      </a:lnTo>
                      <a:lnTo>
                        <a:pt x="290" y="65"/>
                      </a:lnTo>
                      <a:lnTo>
                        <a:pt x="321" y="91"/>
                      </a:lnTo>
                      <a:lnTo>
                        <a:pt x="349" y="123"/>
                      </a:lnTo>
                      <a:lnTo>
                        <a:pt x="380" y="155"/>
                      </a:lnTo>
                      <a:lnTo>
                        <a:pt x="409" y="199"/>
                      </a:lnTo>
                      <a:lnTo>
                        <a:pt x="433" y="237"/>
                      </a:lnTo>
                      <a:lnTo>
                        <a:pt x="454" y="278"/>
                      </a:lnTo>
                      <a:lnTo>
                        <a:pt x="468" y="321"/>
                      </a:lnTo>
                      <a:lnTo>
                        <a:pt x="480" y="364"/>
                      </a:lnTo>
                      <a:lnTo>
                        <a:pt x="490" y="414"/>
                      </a:lnTo>
                      <a:lnTo>
                        <a:pt x="497" y="459"/>
                      </a:lnTo>
                      <a:lnTo>
                        <a:pt x="504" y="506"/>
                      </a:lnTo>
                      <a:lnTo>
                        <a:pt x="516" y="589"/>
                      </a:lnTo>
                      <a:lnTo>
                        <a:pt x="430" y="456"/>
                      </a:lnTo>
                      <a:lnTo>
                        <a:pt x="266" y="278"/>
                      </a:lnTo>
                      <a:lnTo>
                        <a:pt x="65" y="186"/>
                      </a:lnTo>
                      <a:lnTo>
                        <a:pt x="10" y="123"/>
                      </a:lnTo>
                      <a:lnTo>
                        <a:pt x="0" y="7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274400" y="2755800"/>
                  <a:ext cx="406440" cy="598680"/>
                </a:xfrm>
                <a:custGeom>
                  <a:avLst/>
                  <a:gdLst/>
                  <a:ahLst/>
                  <a:rect l="l" t="t" r="r" b="b"/>
                  <a:pathLst>
                    <a:path w="512" h="753">
                      <a:moveTo>
                        <a:pt x="0" y="7"/>
                      </a:moveTo>
                      <a:lnTo>
                        <a:pt x="23" y="0"/>
                      </a:lnTo>
                      <a:lnTo>
                        <a:pt x="54" y="2"/>
                      </a:lnTo>
                      <a:lnTo>
                        <a:pt x="89" y="7"/>
                      </a:lnTo>
                      <a:lnTo>
                        <a:pt x="125" y="15"/>
                      </a:lnTo>
                      <a:lnTo>
                        <a:pt x="158" y="28"/>
                      </a:lnTo>
                      <a:lnTo>
                        <a:pt x="204" y="50"/>
                      </a:lnTo>
                      <a:lnTo>
                        <a:pt x="246" y="76"/>
                      </a:lnTo>
                      <a:lnTo>
                        <a:pt x="282" y="104"/>
                      </a:lnTo>
                      <a:lnTo>
                        <a:pt x="315" y="133"/>
                      </a:lnTo>
                      <a:lnTo>
                        <a:pt x="346" y="167"/>
                      </a:lnTo>
                      <a:lnTo>
                        <a:pt x="372" y="199"/>
                      </a:lnTo>
                      <a:lnTo>
                        <a:pt x="396" y="237"/>
                      </a:lnTo>
                      <a:lnTo>
                        <a:pt x="420" y="285"/>
                      </a:lnTo>
                      <a:lnTo>
                        <a:pt x="446" y="337"/>
                      </a:lnTo>
                      <a:lnTo>
                        <a:pt x="469" y="383"/>
                      </a:lnTo>
                      <a:lnTo>
                        <a:pt x="479" y="411"/>
                      </a:lnTo>
                      <a:lnTo>
                        <a:pt x="498" y="463"/>
                      </a:lnTo>
                      <a:lnTo>
                        <a:pt x="508" y="537"/>
                      </a:lnTo>
                      <a:lnTo>
                        <a:pt x="512" y="617"/>
                      </a:lnTo>
                      <a:lnTo>
                        <a:pt x="508" y="679"/>
                      </a:lnTo>
                      <a:lnTo>
                        <a:pt x="503" y="753"/>
                      </a:lnTo>
                      <a:lnTo>
                        <a:pt x="372" y="508"/>
                      </a:lnTo>
                      <a:lnTo>
                        <a:pt x="256" y="389"/>
                      </a:lnTo>
                      <a:lnTo>
                        <a:pt x="76" y="254"/>
                      </a:lnTo>
                      <a:lnTo>
                        <a:pt x="13" y="167"/>
                      </a:lnTo>
                      <a:lnTo>
                        <a:pt x="9" y="114"/>
                      </a:lnTo>
                      <a:lnTo>
                        <a:pt x="7" y="67"/>
                      </a:lnTo>
                      <a:lnTo>
                        <a:pt x="4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280880" y="2887560"/>
                  <a:ext cx="393840" cy="690840"/>
                </a:xfrm>
                <a:custGeom>
                  <a:avLst/>
                  <a:gdLst/>
                  <a:ahLst/>
                  <a:rect l="l" t="t" r="r" b="b"/>
                  <a:pathLst>
                    <a:path w="496" h="870">
                      <a:moveTo>
                        <a:pt x="0" y="0"/>
                      </a:moveTo>
                      <a:lnTo>
                        <a:pt x="35" y="10"/>
                      </a:lnTo>
                      <a:lnTo>
                        <a:pt x="75" y="26"/>
                      </a:lnTo>
                      <a:lnTo>
                        <a:pt x="111" y="45"/>
                      </a:lnTo>
                      <a:lnTo>
                        <a:pt x="152" y="72"/>
                      </a:lnTo>
                      <a:lnTo>
                        <a:pt x="192" y="103"/>
                      </a:lnTo>
                      <a:lnTo>
                        <a:pt x="227" y="136"/>
                      </a:lnTo>
                      <a:lnTo>
                        <a:pt x="261" y="174"/>
                      </a:lnTo>
                      <a:lnTo>
                        <a:pt x="304" y="223"/>
                      </a:lnTo>
                      <a:lnTo>
                        <a:pt x="339" y="268"/>
                      </a:lnTo>
                      <a:lnTo>
                        <a:pt x="379" y="328"/>
                      </a:lnTo>
                      <a:lnTo>
                        <a:pt x="408" y="376"/>
                      </a:lnTo>
                      <a:lnTo>
                        <a:pt x="429" y="418"/>
                      </a:lnTo>
                      <a:lnTo>
                        <a:pt x="453" y="471"/>
                      </a:lnTo>
                      <a:lnTo>
                        <a:pt x="479" y="535"/>
                      </a:lnTo>
                      <a:lnTo>
                        <a:pt x="496" y="603"/>
                      </a:lnTo>
                      <a:lnTo>
                        <a:pt x="493" y="665"/>
                      </a:lnTo>
                      <a:lnTo>
                        <a:pt x="475" y="789"/>
                      </a:lnTo>
                      <a:lnTo>
                        <a:pt x="465" y="870"/>
                      </a:lnTo>
                      <a:lnTo>
                        <a:pt x="410" y="791"/>
                      </a:lnTo>
                      <a:lnTo>
                        <a:pt x="304" y="599"/>
                      </a:lnTo>
                      <a:lnTo>
                        <a:pt x="171" y="423"/>
                      </a:lnTo>
                      <a:lnTo>
                        <a:pt x="4" y="2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282680" y="3075120"/>
                  <a:ext cx="368280" cy="747720"/>
                </a:xfrm>
                <a:custGeom>
                  <a:avLst/>
                  <a:gdLst/>
                  <a:ahLst/>
                  <a:rect l="l" t="t" r="r" b="b"/>
                  <a:pathLst>
                    <a:path w="465" h="942">
                      <a:moveTo>
                        <a:pt x="0" y="0"/>
                      </a:moveTo>
                      <a:lnTo>
                        <a:pt x="38" y="30"/>
                      </a:lnTo>
                      <a:lnTo>
                        <a:pt x="76" y="64"/>
                      </a:lnTo>
                      <a:lnTo>
                        <a:pt x="116" y="104"/>
                      </a:lnTo>
                      <a:lnTo>
                        <a:pt x="154" y="144"/>
                      </a:lnTo>
                      <a:lnTo>
                        <a:pt x="195" y="190"/>
                      </a:lnTo>
                      <a:lnTo>
                        <a:pt x="235" y="235"/>
                      </a:lnTo>
                      <a:lnTo>
                        <a:pt x="271" y="284"/>
                      </a:lnTo>
                      <a:lnTo>
                        <a:pt x="309" y="336"/>
                      </a:lnTo>
                      <a:lnTo>
                        <a:pt x="342" y="384"/>
                      </a:lnTo>
                      <a:lnTo>
                        <a:pt x="375" y="444"/>
                      </a:lnTo>
                      <a:lnTo>
                        <a:pt x="410" y="508"/>
                      </a:lnTo>
                      <a:lnTo>
                        <a:pt x="441" y="583"/>
                      </a:lnTo>
                      <a:lnTo>
                        <a:pt x="465" y="645"/>
                      </a:lnTo>
                      <a:lnTo>
                        <a:pt x="456" y="724"/>
                      </a:lnTo>
                      <a:lnTo>
                        <a:pt x="442" y="799"/>
                      </a:lnTo>
                      <a:lnTo>
                        <a:pt x="430" y="868"/>
                      </a:lnTo>
                      <a:lnTo>
                        <a:pt x="415" y="942"/>
                      </a:lnTo>
                      <a:lnTo>
                        <a:pt x="372" y="902"/>
                      </a:lnTo>
                      <a:lnTo>
                        <a:pt x="245" y="676"/>
                      </a:lnTo>
                      <a:lnTo>
                        <a:pt x="67" y="400"/>
                      </a:lnTo>
                      <a:lnTo>
                        <a:pt x="0" y="3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272960" y="3321000"/>
                  <a:ext cx="336600" cy="700200"/>
                </a:xfrm>
                <a:custGeom>
                  <a:avLst/>
                  <a:gdLst/>
                  <a:ahLst/>
                  <a:rect l="l" t="t" r="r" b="b"/>
                  <a:pathLst>
                    <a:path w="425" h="883">
                      <a:moveTo>
                        <a:pt x="10" y="0"/>
                      </a:moveTo>
                      <a:lnTo>
                        <a:pt x="67" y="64"/>
                      </a:lnTo>
                      <a:lnTo>
                        <a:pt x="117" y="131"/>
                      </a:lnTo>
                      <a:lnTo>
                        <a:pt x="164" y="191"/>
                      </a:lnTo>
                      <a:lnTo>
                        <a:pt x="216" y="262"/>
                      </a:lnTo>
                      <a:lnTo>
                        <a:pt x="264" y="335"/>
                      </a:lnTo>
                      <a:lnTo>
                        <a:pt x="311" y="411"/>
                      </a:lnTo>
                      <a:lnTo>
                        <a:pt x="354" y="490"/>
                      </a:lnTo>
                      <a:lnTo>
                        <a:pt x="396" y="570"/>
                      </a:lnTo>
                      <a:lnTo>
                        <a:pt x="425" y="629"/>
                      </a:lnTo>
                      <a:lnTo>
                        <a:pt x="408" y="708"/>
                      </a:lnTo>
                      <a:lnTo>
                        <a:pt x="380" y="808"/>
                      </a:lnTo>
                      <a:lnTo>
                        <a:pt x="358" y="883"/>
                      </a:lnTo>
                      <a:lnTo>
                        <a:pt x="0" y="416"/>
                      </a:lnTo>
                      <a:lnTo>
                        <a:pt x="5" y="34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266480" y="3602160"/>
                  <a:ext cx="290520" cy="647640"/>
                </a:xfrm>
                <a:custGeom>
                  <a:avLst/>
                  <a:gdLst/>
                  <a:ahLst/>
                  <a:rect l="l" t="t" r="r" b="b"/>
                  <a:pathLst>
                    <a:path w="366" h="815">
                      <a:moveTo>
                        <a:pt x="17" y="0"/>
                      </a:moveTo>
                      <a:lnTo>
                        <a:pt x="135" y="180"/>
                      </a:lnTo>
                      <a:lnTo>
                        <a:pt x="251" y="347"/>
                      </a:lnTo>
                      <a:lnTo>
                        <a:pt x="315" y="449"/>
                      </a:lnTo>
                      <a:lnTo>
                        <a:pt x="366" y="534"/>
                      </a:lnTo>
                      <a:lnTo>
                        <a:pt x="334" y="662"/>
                      </a:lnTo>
                      <a:lnTo>
                        <a:pt x="283" y="815"/>
                      </a:lnTo>
                      <a:lnTo>
                        <a:pt x="195" y="686"/>
                      </a:lnTo>
                      <a:lnTo>
                        <a:pt x="61" y="454"/>
                      </a:lnTo>
                      <a:lnTo>
                        <a:pt x="0" y="4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261800" y="3888000"/>
                  <a:ext cx="235080" cy="534960"/>
                </a:xfrm>
                <a:custGeom>
                  <a:avLst/>
                  <a:gdLst/>
                  <a:ahLst/>
                  <a:rect l="l" t="t" r="r" b="b"/>
                  <a:pathLst>
                    <a:path w="295" h="674">
                      <a:moveTo>
                        <a:pt x="14" y="0"/>
                      </a:moveTo>
                      <a:lnTo>
                        <a:pt x="66" y="74"/>
                      </a:lnTo>
                      <a:lnTo>
                        <a:pt x="128" y="171"/>
                      </a:lnTo>
                      <a:lnTo>
                        <a:pt x="188" y="268"/>
                      </a:lnTo>
                      <a:lnTo>
                        <a:pt x="249" y="366"/>
                      </a:lnTo>
                      <a:lnTo>
                        <a:pt x="295" y="441"/>
                      </a:lnTo>
                      <a:lnTo>
                        <a:pt x="250" y="572"/>
                      </a:lnTo>
                      <a:lnTo>
                        <a:pt x="214" y="674"/>
                      </a:lnTo>
                      <a:lnTo>
                        <a:pt x="161" y="629"/>
                      </a:lnTo>
                      <a:lnTo>
                        <a:pt x="31" y="415"/>
                      </a:lnTo>
                      <a:lnTo>
                        <a:pt x="5" y="353"/>
                      </a:lnTo>
                      <a:lnTo>
                        <a:pt x="0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252440" y="4164120"/>
                  <a:ext cx="180720" cy="453960"/>
                </a:xfrm>
                <a:custGeom>
                  <a:avLst/>
                  <a:gdLst/>
                  <a:ahLst/>
                  <a:rect l="l" t="t" r="r" b="b"/>
                  <a:pathLst>
                    <a:path w="226" h="572">
                      <a:moveTo>
                        <a:pt x="15" y="0"/>
                      </a:moveTo>
                      <a:lnTo>
                        <a:pt x="55" y="68"/>
                      </a:lnTo>
                      <a:lnTo>
                        <a:pt x="110" y="157"/>
                      </a:lnTo>
                      <a:lnTo>
                        <a:pt x="164" y="240"/>
                      </a:lnTo>
                      <a:lnTo>
                        <a:pt x="226" y="328"/>
                      </a:lnTo>
                      <a:lnTo>
                        <a:pt x="207" y="404"/>
                      </a:lnTo>
                      <a:lnTo>
                        <a:pt x="179" y="493"/>
                      </a:lnTo>
                      <a:lnTo>
                        <a:pt x="150" y="572"/>
                      </a:lnTo>
                      <a:lnTo>
                        <a:pt x="36" y="396"/>
                      </a:lnTo>
                      <a:lnTo>
                        <a:pt x="0" y="33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236600" y="4419720"/>
                  <a:ext cx="137880" cy="369720"/>
                </a:xfrm>
                <a:custGeom>
                  <a:avLst/>
                  <a:gdLst/>
                  <a:ahLst/>
                  <a:rect l="l" t="t" r="r" b="b"/>
                  <a:pathLst>
                    <a:path w="175" h="466">
                      <a:moveTo>
                        <a:pt x="21" y="0"/>
                      </a:moveTo>
                      <a:lnTo>
                        <a:pt x="62" y="60"/>
                      </a:lnTo>
                      <a:lnTo>
                        <a:pt x="119" y="143"/>
                      </a:lnTo>
                      <a:lnTo>
                        <a:pt x="175" y="236"/>
                      </a:lnTo>
                      <a:lnTo>
                        <a:pt x="143" y="350"/>
                      </a:lnTo>
                      <a:lnTo>
                        <a:pt x="105" y="466"/>
                      </a:lnTo>
                      <a:lnTo>
                        <a:pt x="0" y="319"/>
                      </a:lnTo>
                      <a:lnTo>
                        <a:pt x="12" y="11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217520" y="4656240"/>
                  <a:ext cx="101520" cy="177840"/>
                </a:xfrm>
                <a:custGeom>
                  <a:avLst/>
                  <a:gdLst/>
                  <a:ahLst/>
                  <a:rect l="l" t="t" r="r" b="b"/>
                  <a:pathLst>
                    <a:path w="128" h="223">
                      <a:moveTo>
                        <a:pt x="26" y="0"/>
                      </a:moveTo>
                      <a:lnTo>
                        <a:pt x="88" y="99"/>
                      </a:lnTo>
                      <a:lnTo>
                        <a:pt x="128" y="168"/>
                      </a:lnTo>
                      <a:lnTo>
                        <a:pt x="117" y="194"/>
                      </a:lnTo>
                      <a:lnTo>
                        <a:pt x="55" y="223"/>
                      </a:lnTo>
                      <a:lnTo>
                        <a:pt x="0" y="20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849240" y="2590920"/>
                <a:ext cx="434880" cy="2244600"/>
                <a:chOff x="849240" y="2590920"/>
                <a:chExt cx="434880" cy="224460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849240" y="2590920"/>
                  <a:ext cx="433440" cy="728640"/>
                  <a:chOff x="849240" y="2590920"/>
                  <a:chExt cx="433440" cy="728640"/>
                </a:xfrm>
              </p:grpSpPr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858600" y="2590920"/>
                    <a:ext cx="412920" cy="382680"/>
                    <a:chOff x="858600" y="2590920"/>
                    <a:chExt cx="412920" cy="38268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873000" y="2590920"/>
                      <a:ext cx="3888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352">
                          <a:moveTo>
                            <a:pt x="489" y="124"/>
                          </a:moveTo>
                          <a:lnTo>
                            <a:pt x="481" y="103"/>
                          </a:lnTo>
                          <a:lnTo>
                            <a:pt x="465" y="84"/>
                          </a:lnTo>
                          <a:lnTo>
                            <a:pt x="439" y="58"/>
                          </a:lnTo>
                          <a:lnTo>
                            <a:pt x="413" y="38"/>
                          </a:lnTo>
                          <a:lnTo>
                            <a:pt x="384" y="20"/>
                          </a:lnTo>
                          <a:lnTo>
                            <a:pt x="344" y="3"/>
                          </a:lnTo>
                          <a:lnTo>
                            <a:pt x="309" y="0"/>
                          </a:lnTo>
                          <a:lnTo>
                            <a:pt x="270" y="0"/>
                          </a:lnTo>
                          <a:lnTo>
                            <a:pt x="233" y="5"/>
                          </a:lnTo>
                          <a:lnTo>
                            <a:pt x="192" y="22"/>
                          </a:lnTo>
                          <a:lnTo>
                            <a:pt x="154" y="50"/>
                          </a:lnTo>
                          <a:lnTo>
                            <a:pt x="123" y="77"/>
                          </a:lnTo>
                          <a:lnTo>
                            <a:pt x="92" y="110"/>
                          </a:lnTo>
                          <a:lnTo>
                            <a:pt x="62" y="150"/>
                          </a:lnTo>
                          <a:lnTo>
                            <a:pt x="37" y="200"/>
                          </a:lnTo>
                          <a:lnTo>
                            <a:pt x="19" y="243"/>
                          </a:lnTo>
                          <a:lnTo>
                            <a:pt x="7" y="298"/>
                          </a:lnTo>
                          <a:lnTo>
                            <a:pt x="0" y="352"/>
                          </a:lnTo>
                          <a:lnTo>
                            <a:pt x="140" y="191"/>
                          </a:lnTo>
                          <a:lnTo>
                            <a:pt x="342" y="74"/>
                          </a:lnTo>
                          <a:lnTo>
                            <a:pt x="489" y="12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858600" y="2640240"/>
                      <a:ext cx="4129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8" h="422">
                          <a:moveTo>
                            <a:pt x="506" y="67"/>
                          </a:moveTo>
                          <a:lnTo>
                            <a:pt x="482" y="45"/>
                          </a:lnTo>
                          <a:lnTo>
                            <a:pt x="451" y="22"/>
                          </a:lnTo>
                          <a:lnTo>
                            <a:pt x="409" y="7"/>
                          </a:lnTo>
                          <a:lnTo>
                            <a:pt x="368" y="0"/>
                          </a:lnTo>
                          <a:lnTo>
                            <a:pt x="339" y="2"/>
                          </a:lnTo>
                          <a:lnTo>
                            <a:pt x="313" y="7"/>
                          </a:lnTo>
                          <a:lnTo>
                            <a:pt x="266" y="26"/>
                          </a:lnTo>
                          <a:lnTo>
                            <a:pt x="230" y="47"/>
                          </a:lnTo>
                          <a:lnTo>
                            <a:pt x="193" y="73"/>
                          </a:lnTo>
                          <a:lnTo>
                            <a:pt x="157" y="104"/>
                          </a:lnTo>
                          <a:lnTo>
                            <a:pt x="128" y="137"/>
                          </a:lnTo>
                          <a:lnTo>
                            <a:pt x="92" y="176"/>
                          </a:lnTo>
                          <a:lnTo>
                            <a:pt x="60" y="218"/>
                          </a:lnTo>
                          <a:lnTo>
                            <a:pt x="35" y="256"/>
                          </a:lnTo>
                          <a:lnTo>
                            <a:pt x="16" y="294"/>
                          </a:lnTo>
                          <a:lnTo>
                            <a:pt x="5" y="378"/>
                          </a:lnTo>
                          <a:lnTo>
                            <a:pt x="0" y="422"/>
                          </a:lnTo>
                          <a:lnTo>
                            <a:pt x="93" y="411"/>
                          </a:lnTo>
                          <a:lnTo>
                            <a:pt x="169" y="285"/>
                          </a:lnTo>
                          <a:lnTo>
                            <a:pt x="287" y="200"/>
                          </a:lnTo>
                          <a:lnTo>
                            <a:pt x="425" y="137"/>
                          </a:lnTo>
                          <a:lnTo>
                            <a:pt x="475" y="143"/>
                          </a:lnTo>
                          <a:lnTo>
                            <a:pt x="518" y="150"/>
                          </a:lnTo>
                          <a:lnTo>
                            <a:pt x="511" y="95"/>
                          </a:lnTo>
                          <a:lnTo>
                            <a:pt x="506" y="67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849240" y="2745000"/>
                    <a:ext cx="43344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724">
                        <a:moveTo>
                          <a:pt x="536" y="21"/>
                        </a:moveTo>
                        <a:lnTo>
                          <a:pt x="510" y="9"/>
                        </a:lnTo>
                        <a:lnTo>
                          <a:pt x="479" y="0"/>
                        </a:lnTo>
                        <a:lnTo>
                          <a:pt x="439" y="0"/>
                        </a:lnTo>
                        <a:lnTo>
                          <a:pt x="396" y="9"/>
                        </a:lnTo>
                        <a:lnTo>
                          <a:pt x="358" y="23"/>
                        </a:lnTo>
                        <a:lnTo>
                          <a:pt x="311" y="45"/>
                        </a:lnTo>
                        <a:lnTo>
                          <a:pt x="270" y="71"/>
                        </a:lnTo>
                        <a:lnTo>
                          <a:pt x="221" y="109"/>
                        </a:lnTo>
                        <a:lnTo>
                          <a:pt x="176" y="150"/>
                        </a:lnTo>
                        <a:lnTo>
                          <a:pt x="138" y="195"/>
                        </a:lnTo>
                        <a:lnTo>
                          <a:pt x="104" y="245"/>
                        </a:lnTo>
                        <a:lnTo>
                          <a:pt x="74" y="292"/>
                        </a:lnTo>
                        <a:lnTo>
                          <a:pt x="40" y="346"/>
                        </a:lnTo>
                        <a:lnTo>
                          <a:pt x="9" y="408"/>
                        </a:lnTo>
                        <a:lnTo>
                          <a:pt x="0" y="475"/>
                        </a:lnTo>
                        <a:lnTo>
                          <a:pt x="4" y="574"/>
                        </a:lnTo>
                        <a:lnTo>
                          <a:pt x="7" y="655"/>
                        </a:lnTo>
                        <a:lnTo>
                          <a:pt x="12" y="724"/>
                        </a:lnTo>
                        <a:lnTo>
                          <a:pt x="40" y="707"/>
                        </a:lnTo>
                        <a:lnTo>
                          <a:pt x="92" y="615"/>
                        </a:lnTo>
                        <a:lnTo>
                          <a:pt x="176" y="494"/>
                        </a:lnTo>
                        <a:lnTo>
                          <a:pt x="308" y="335"/>
                        </a:lnTo>
                        <a:lnTo>
                          <a:pt x="475" y="211"/>
                        </a:lnTo>
                        <a:lnTo>
                          <a:pt x="546" y="181"/>
                        </a:lnTo>
                        <a:lnTo>
                          <a:pt x="544" y="90"/>
                        </a:lnTo>
                        <a:lnTo>
                          <a:pt x="536" y="21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858600" y="2886120"/>
                  <a:ext cx="425520" cy="676440"/>
                </a:xfrm>
                <a:custGeom>
                  <a:avLst/>
                  <a:gdLst/>
                  <a:ahLst/>
                  <a:rect l="l" t="t" r="r" b="b"/>
                  <a:pathLst>
                    <a:path w="538" h="852">
                      <a:moveTo>
                        <a:pt x="538" y="3"/>
                      </a:moveTo>
                      <a:lnTo>
                        <a:pt x="506" y="0"/>
                      </a:lnTo>
                      <a:lnTo>
                        <a:pt x="477" y="5"/>
                      </a:lnTo>
                      <a:lnTo>
                        <a:pt x="437" y="22"/>
                      </a:lnTo>
                      <a:lnTo>
                        <a:pt x="392" y="50"/>
                      </a:lnTo>
                      <a:lnTo>
                        <a:pt x="349" y="81"/>
                      </a:lnTo>
                      <a:lnTo>
                        <a:pt x="303" y="123"/>
                      </a:lnTo>
                      <a:lnTo>
                        <a:pt x="258" y="169"/>
                      </a:lnTo>
                      <a:lnTo>
                        <a:pt x="218" y="214"/>
                      </a:lnTo>
                      <a:lnTo>
                        <a:pt x="171" y="273"/>
                      </a:lnTo>
                      <a:lnTo>
                        <a:pt x="132" y="330"/>
                      </a:lnTo>
                      <a:lnTo>
                        <a:pt x="87" y="396"/>
                      </a:lnTo>
                      <a:lnTo>
                        <a:pt x="61" y="435"/>
                      </a:lnTo>
                      <a:lnTo>
                        <a:pt x="24" y="498"/>
                      </a:lnTo>
                      <a:lnTo>
                        <a:pt x="0" y="546"/>
                      </a:lnTo>
                      <a:lnTo>
                        <a:pt x="5" y="620"/>
                      </a:lnTo>
                      <a:lnTo>
                        <a:pt x="14" y="734"/>
                      </a:lnTo>
                      <a:lnTo>
                        <a:pt x="30" y="852"/>
                      </a:lnTo>
                      <a:lnTo>
                        <a:pt x="356" y="428"/>
                      </a:lnTo>
                      <a:lnTo>
                        <a:pt x="532" y="235"/>
                      </a:lnTo>
                      <a:lnTo>
                        <a:pt x="538" y="121"/>
                      </a:lnTo>
                      <a:lnTo>
                        <a:pt x="538" y="3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879120" y="3075120"/>
                  <a:ext cx="405000" cy="801720"/>
                </a:xfrm>
                <a:custGeom>
                  <a:avLst/>
                  <a:gdLst/>
                  <a:ahLst/>
                  <a:rect l="l" t="t" r="r" b="b"/>
                  <a:pathLst>
                    <a:path w="510" h="1009">
                      <a:moveTo>
                        <a:pt x="504" y="0"/>
                      </a:moveTo>
                      <a:lnTo>
                        <a:pt x="470" y="28"/>
                      </a:lnTo>
                      <a:lnTo>
                        <a:pt x="416" y="78"/>
                      </a:lnTo>
                      <a:lnTo>
                        <a:pt x="368" y="127"/>
                      </a:lnTo>
                      <a:lnTo>
                        <a:pt x="316" y="182"/>
                      </a:lnTo>
                      <a:lnTo>
                        <a:pt x="259" y="247"/>
                      </a:lnTo>
                      <a:lnTo>
                        <a:pt x="205" y="306"/>
                      </a:lnTo>
                      <a:lnTo>
                        <a:pt x="155" y="365"/>
                      </a:lnTo>
                      <a:lnTo>
                        <a:pt x="112" y="425"/>
                      </a:lnTo>
                      <a:lnTo>
                        <a:pt x="62" y="501"/>
                      </a:lnTo>
                      <a:lnTo>
                        <a:pt x="0" y="609"/>
                      </a:lnTo>
                      <a:lnTo>
                        <a:pt x="7" y="707"/>
                      </a:lnTo>
                      <a:lnTo>
                        <a:pt x="24" y="828"/>
                      </a:lnTo>
                      <a:lnTo>
                        <a:pt x="45" y="942"/>
                      </a:lnTo>
                      <a:lnTo>
                        <a:pt x="67" y="1009"/>
                      </a:lnTo>
                      <a:lnTo>
                        <a:pt x="161" y="788"/>
                      </a:lnTo>
                      <a:lnTo>
                        <a:pt x="418" y="455"/>
                      </a:lnTo>
                      <a:lnTo>
                        <a:pt x="504" y="311"/>
                      </a:lnTo>
                      <a:lnTo>
                        <a:pt x="510" y="161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919080" y="3322800"/>
                  <a:ext cx="360360" cy="709560"/>
                </a:xfrm>
                <a:custGeom>
                  <a:avLst/>
                  <a:gdLst/>
                  <a:ahLst/>
                  <a:rect l="l" t="t" r="r" b="b"/>
                  <a:pathLst>
                    <a:path w="455" h="895">
                      <a:moveTo>
                        <a:pt x="455" y="0"/>
                      </a:moveTo>
                      <a:lnTo>
                        <a:pt x="411" y="49"/>
                      </a:lnTo>
                      <a:lnTo>
                        <a:pt x="356" y="118"/>
                      </a:lnTo>
                      <a:lnTo>
                        <a:pt x="297" y="190"/>
                      </a:lnTo>
                      <a:lnTo>
                        <a:pt x="235" y="273"/>
                      </a:lnTo>
                      <a:lnTo>
                        <a:pt x="166" y="370"/>
                      </a:lnTo>
                      <a:lnTo>
                        <a:pt x="133" y="417"/>
                      </a:lnTo>
                      <a:lnTo>
                        <a:pt x="73" y="505"/>
                      </a:lnTo>
                      <a:lnTo>
                        <a:pt x="0" y="617"/>
                      </a:lnTo>
                      <a:lnTo>
                        <a:pt x="16" y="717"/>
                      </a:lnTo>
                      <a:lnTo>
                        <a:pt x="35" y="826"/>
                      </a:lnTo>
                      <a:lnTo>
                        <a:pt x="49" y="895"/>
                      </a:lnTo>
                      <a:lnTo>
                        <a:pt x="135" y="828"/>
                      </a:lnTo>
                      <a:lnTo>
                        <a:pt x="430" y="396"/>
                      </a:lnTo>
                      <a:lnTo>
                        <a:pt x="451" y="360"/>
                      </a:lnTo>
                      <a:lnTo>
                        <a:pt x="455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955440" y="3603600"/>
                  <a:ext cx="322200" cy="738360"/>
                </a:xfrm>
                <a:custGeom>
                  <a:avLst/>
                  <a:gdLst/>
                  <a:ahLst/>
                  <a:rect l="l" t="t" r="r" b="b"/>
                  <a:pathLst>
                    <a:path w="406" h="929">
                      <a:moveTo>
                        <a:pt x="406" y="0"/>
                      </a:moveTo>
                      <a:lnTo>
                        <a:pt x="364" y="55"/>
                      </a:lnTo>
                      <a:lnTo>
                        <a:pt x="309" y="133"/>
                      </a:lnTo>
                      <a:lnTo>
                        <a:pt x="244" y="229"/>
                      </a:lnTo>
                      <a:lnTo>
                        <a:pt x="167" y="324"/>
                      </a:lnTo>
                      <a:lnTo>
                        <a:pt x="95" y="416"/>
                      </a:lnTo>
                      <a:lnTo>
                        <a:pt x="45" y="478"/>
                      </a:lnTo>
                      <a:lnTo>
                        <a:pt x="0" y="540"/>
                      </a:lnTo>
                      <a:lnTo>
                        <a:pt x="19" y="651"/>
                      </a:lnTo>
                      <a:lnTo>
                        <a:pt x="45" y="794"/>
                      </a:lnTo>
                      <a:lnTo>
                        <a:pt x="71" y="929"/>
                      </a:lnTo>
                      <a:lnTo>
                        <a:pt x="145" y="824"/>
                      </a:lnTo>
                      <a:lnTo>
                        <a:pt x="363" y="435"/>
                      </a:lnTo>
                      <a:lnTo>
                        <a:pt x="396" y="368"/>
                      </a:lnTo>
                      <a:lnTo>
                        <a:pt x="404" y="157"/>
                      </a:lnTo>
                      <a:lnTo>
                        <a:pt x="40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990360" y="3888000"/>
                  <a:ext cx="281160" cy="569880"/>
                </a:xfrm>
                <a:custGeom>
                  <a:avLst/>
                  <a:gdLst/>
                  <a:ahLst/>
                  <a:rect l="l" t="t" r="r" b="b"/>
                  <a:pathLst>
                    <a:path w="352" h="717">
                      <a:moveTo>
                        <a:pt x="352" y="0"/>
                      </a:moveTo>
                      <a:lnTo>
                        <a:pt x="295" y="72"/>
                      </a:lnTo>
                      <a:lnTo>
                        <a:pt x="214" y="173"/>
                      </a:lnTo>
                      <a:lnTo>
                        <a:pt x="131" y="266"/>
                      </a:lnTo>
                      <a:lnTo>
                        <a:pt x="59" y="345"/>
                      </a:lnTo>
                      <a:lnTo>
                        <a:pt x="0" y="415"/>
                      </a:lnTo>
                      <a:lnTo>
                        <a:pt x="8" y="485"/>
                      </a:lnTo>
                      <a:lnTo>
                        <a:pt x="27" y="606"/>
                      </a:lnTo>
                      <a:lnTo>
                        <a:pt x="46" y="717"/>
                      </a:lnTo>
                      <a:lnTo>
                        <a:pt x="79" y="713"/>
                      </a:lnTo>
                      <a:lnTo>
                        <a:pt x="295" y="416"/>
                      </a:lnTo>
                      <a:lnTo>
                        <a:pt x="345" y="347"/>
                      </a:lnTo>
                      <a:lnTo>
                        <a:pt x="347" y="237"/>
                      </a:lnTo>
                      <a:lnTo>
                        <a:pt x="352" y="88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020600" y="4164120"/>
                  <a:ext cx="243000" cy="474480"/>
                </a:xfrm>
                <a:custGeom>
                  <a:avLst/>
                  <a:gdLst/>
                  <a:ahLst/>
                  <a:rect l="l" t="t" r="r" b="b"/>
                  <a:pathLst>
                    <a:path w="308" h="598">
                      <a:moveTo>
                        <a:pt x="306" y="0"/>
                      </a:moveTo>
                      <a:lnTo>
                        <a:pt x="242" y="73"/>
                      </a:lnTo>
                      <a:lnTo>
                        <a:pt x="171" y="154"/>
                      </a:lnTo>
                      <a:lnTo>
                        <a:pt x="80" y="240"/>
                      </a:lnTo>
                      <a:lnTo>
                        <a:pt x="0" y="309"/>
                      </a:lnTo>
                      <a:lnTo>
                        <a:pt x="7" y="370"/>
                      </a:lnTo>
                      <a:lnTo>
                        <a:pt x="14" y="434"/>
                      </a:lnTo>
                      <a:lnTo>
                        <a:pt x="29" y="512"/>
                      </a:lnTo>
                      <a:lnTo>
                        <a:pt x="52" y="598"/>
                      </a:lnTo>
                      <a:lnTo>
                        <a:pt x="93" y="579"/>
                      </a:lnTo>
                      <a:lnTo>
                        <a:pt x="213" y="423"/>
                      </a:lnTo>
                      <a:lnTo>
                        <a:pt x="290" y="327"/>
                      </a:lnTo>
                      <a:lnTo>
                        <a:pt x="299" y="240"/>
                      </a:lnTo>
                      <a:lnTo>
                        <a:pt x="308" y="9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047600" y="4419720"/>
                  <a:ext cx="203040" cy="336600"/>
                </a:xfrm>
                <a:custGeom>
                  <a:avLst/>
                  <a:gdLst/>
                  <a:ahLst/>
                  <a:rect l="l" t="t" r="r" b="b"/>
                  <a:pathLst>
                    <a:path w="255" h="425">
                      <a:moveTo>
                        <a:pt x="255" y="0"/>
                      </a:moveTo>
                      <a:lnTo>
                        <a:pt x="200" y="53"/>
                      </a:lnTo>
                      <a:lnTo>
                        <a:pt x="136" y="107"/>
                      </a:lnTo>
                      <a:lnTo>
                        <a:pt x="77" y="157"/>
                      </a:lnTo>
                      <a:lnTo>
                        <a:pt x="0" y="214"/>
                      </a:lnTo>
                      <a:lnTo>
                        <a:pt x="13" y="292"/>
                      </a:lnTo>
                      <a:lnTo>
                        <a:pt x="29" y="387"/>
                      </a:lnTo>
                      <a:lnTo>
                        <a:pt x="38" y="425"/>
                      </a:lnTo>
                      <a:lnTo>
                        <a:pt x="114" y="385"/>
                      </a:lnTo>
                      <a:lnTo>
                        <a:pt x="183" y="338"/>
                      </a:lnTo>
                      <a:lnTo>
                        <a:pt x="236" y="300"/>
                      </a:lnTo>
                      <a:lnTo>
                        <a:pt x="254" y="108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77840" y="4656240"/>
                  <a:ext cx="156960" cy="179280"/>
                </a:xfrm>
                <a:custGeom>
                  <a:avLst/>
                  <a:gdLst/>
                  <a:ahLst/>
                  <a:rect l="l" t="t" r="r" b="b"/>
                  <a:pathLst>
                    <a:path w="198" h="225">
                      <a:moveTo>
                        <a:pt x="198" y="0"/>
                      </a:moveTo>
                      <a:lnTo>
                        <a:pt x="172" y="206"/>
                      </a:lnTo>
                      <a:lnTo>
                        <a:pt x="91" y="225"/>
                      </a:lnTo>
                      <a:lnTo>
                        <a:pt x="8" y="194"/>
                      </a:lnTo>
                      <a:lnTo>
                        <a:pt x="0" y="121"/>
                      </a:lnTo>
                      <a:lnTo>
                        <a:pt x="55" y="94"/>
                      </a:lnTo>
                      <a:lnTo>
                        <a:pt x="107" y="63"/>
                      </a:lnTo>
                      <a:lnTo>
                        <a:pt x="169" y="19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2" name=""/>
          <p:cNvGrpSpPr/>
          <p:nvPr/>
        </p:nvGrpSpPr>
        <p:grpSpPr>
          <a:xfrm>
            <a:off x="1219320" y="4800600"/>
            <a:ext cx="2514600" cy="838080"/>
            <a:chOff x="1219320" y="4800600"/>
            <a:chExt cx="2514600" cy="838080"/>
          </a:xfrm>
        </p:grpSpPr>
        <p:sp>
          <p:nvSpPr>
            <p:cNvPr id="1073" name=""/>
            <p:cNvSpPr/>
            <p:nvPr/>
          </p:nvSpPr>
          <p:spPr>
            <a:xfrm>
              <a:off x="1447920" y="4800600"/>
              <a:ext cx="83808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19320" y="5638680"/>
              <a:ext cx="106668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133720" y="4800600"/>
              <a:ext cx="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33720" y="5029200"/>
              <a:ext cx="160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"/>
                </a:rPr>
                <a:t>Przyrost 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066680" y="2590920"/>
            <a:ext cx="2819520" cy="2209680"/>
            <a:chOff x="1066680" y="2590920"/>
            <a:chExt cx="2819520" cy="2209680"/>
          </a:xfrm>
        </p:grpSpPr>
        <p:sp>
          <p:nvSpPr>
            <p:cNvPr id="1078" name=""/>
            <p:cNvSpPr/>
            <p:nvPr/>
          </p:nvSpPr>
          <p:spPr>
            <a:xfrm>
              <a:off x="1066680" y="2590920"/>
              <a:ext cx="1219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133720" y="2590920"/>
              <a:ext cx="0" cy="22096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33720" y="3429000"/>
              <a:ext cx="175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"/>
                </a:rPr>
                <a:t>Przyrost 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4038480" y="2467080"/>
            <a:ext cx="50292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Przyro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Niepusty zbiór opowieści użytkowni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Charakter wewnętrzny (nie trafia do użytkownika końcoweg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 – 3 tygodnie (7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762120" y="1981080"/>
            <a:ext cx="3962160" cy="2133720"/>
          </a:xfrm>
          <a:prstGeom prst="cloudCallout">
            <a:avLst>
              <a:gd name="adj1" fmla="val 8092"/>
              <a:gd name="adj2" fmla="val 74629"/>
            </a:avLst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Sterowie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To taka łódka, tyle, ż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pływa w powietr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"/>
              </a:rPr>
              <a:t>a nie po wodz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73160" y="4832280"/>
            <a:ext cx="1579320" cy="1644840"/>
            <a:chOff x="173160" y="4832280"/>
            <a:chExt cx="1579320" cy="1644840"/>
          </a:xfrm>
        </p:grpSpPr>
        <p:sp>
          <p:nvSpPr>
            <p:cNvPr id="1085" name=""/>
            <p:cNvSpPr/>
            <p:nvPr/>
          </p:nvSpPr>
          <p:spPr>
            <a:xfrm>
              <a:off x="173160" y="4832280"/>
              <a:ext cx="1579320" cy="1644840"/>
            </a:xfrm>
            <a:custGeom>
              <a:avLst/>
              <a:gdLst/>
              <a:ahLst/>
              <a:rect l="l" t="t" r="r" b="b"/>
              <a:pathLst>
                <a:path w="2086" h="2456">
                  <a:moveTo>
                    <a:pt x="729" y="455"/>
                  </a:moveTo>
                  <a:lnTo>
                    <a:pt x="606" y="571"/>
                  </a:lnTo>
                  <a:lnTo>
                    <a:pt x="460" y="688"/>
                  </a:lnTo>
                  <a:lnTo>
                    <a:pt x="303" y="874"/>
                  </a:lnTo>
                  <a:lnTo>
                    <a:pt x="135" y="1118"/>
                  </a:lnTo>
                  <a:lnTo>
                    <a:pt x="45" y="1328"/>
                  </a:lnTo>
                  <a:lnTo>
                    <a:pt x="0" y="1491"/>
                  </a:lnTo>
                  <a:lnTo>
                    <a:pt x="0" y="1595"/>
                  </a:lnTo>
                  <a:lnTo>
                    <a:pt x="12" y="1817"/>
                  </a:lnTo>
                  <a:lnTo>
                    <a:pt x="45" y="1980"/>
                  </a:lnTo>
                  <a:lnTo>
                    <a:pt x="135" y="2084"/>
                  </a:lnTo>
                  <a:lnTo>
                    <a:pt x="314" y="2213"/>
                  </a:lnTo>
                  <a:lnTo>
                    <a:pt x="483" y="2294"/>
                  </a:lnTo>
                  <a:lnTo>
                    <a:pt x="695" y="2375"/>
                  </a:lnTo>
                  <a:lnTo>
                    <a:pt x="818" y="2422"/>
                  </a:lnTo>
                  <a:lnTo>
                    <a:pt x="1032" y="2456"/>
                  </a:lnTo>
                  <a:lnTo>
                    <a:pt x="1357" y="2422"/>
                  </a:lnTo>
                  <a:lnTo>
                    <a:pt x="1637" y="2341"/>
                  </a:lnTo>
                  <a:lnTo>
                    <a:pt x="1816" y="2224"/>
                  </a:lnTo>
                  <a:lnTo>
                    <a:pt x="1929" y="2096"/>
                  </a:lnTo>
                  <a:lnTo>
                    <a:pt x="1996" y="1968"/>
                  </a:lnTo>
                  <a:lnTo>
                    <a:pt x="2063" y="1805"/>
                  </a:lnTo>
                  <a:lnTo>
                    <a:pt x="2086" y="1619"/>
                  </a:lnTo>
                  <a:lnTo>
                    <a:pt x="2086" y="1363"/>
                  </a:lnTo>
                  <a:lnTo>
                    <a:pt x="2041" y="1200"/>
                  </a:lnTo>
                  <a:lnTo>
                    <a:pt x="1951" y="1025"/>
                  </a:lnTo>
                  <a:lnTo>
                    <a:pt x="1827" y="862"/>
                  </a:lnTo>
                  <a:lnTo>
                    <a:pt x="1693" y="733"/>
                  </a:lnTo>
                  <a:lnTo>
                    <a:pt x="1559" y="629"/>
                  </a:lnTo>
                  <a:lnTo>
                    <a:pt x="1368" y="536"/>
                  </a:lnTo>
                  <a:lnTo>
                    <a:pt x="1357" y="478"/>
                  </a:lnTo>
                  <a:lnTo>
                    <a:pt x="1525" y="291"/>
                  </a:lnTo>
                  <a:lnTo>
                    <a:pt x="1536" y="175"/>
                  </a:lnTo>
                  <a:lnTo>
                    <a:pt x="1346" y="291"/>
                  </a:lnTo>
                  <a:lnTo>
                    <a:pt x="1413" y="82"/>
                  </a:lnTo>
                  <a:lnTo>
                    <a:pt x="1391" y="71"/>
                  </a:lnTo>
                  <a:lnTo>
                    <a:pt x="1323" y="71"/>
                  </a:lnTo>
                  <a:lnTo>
                    <a:pt x="1211" y="210"/>
                  </a:lnTo>
                  <a:lnTo>
                    <a:pt x="1144" y="291"/>
                  </a:lnTo>
                  <a:lnTo>
                    <a:pt x="1166" y="140"/>
                  </a:lnTo>
                  <a:lnTo>
                    <a:pt x="1211" y="24"/>
                  </a:lnTo>
                  <a:lnTo>
                    <a:pt x="1177" y="0"/>
                  </a:lnTo>
                  <a:lnTo>
                    <a:pt x="1099" y="71"/>
                  </a:lnTo>
                  <a:lnTo>
                    <a:pt x="1021" y="244"/>
                  </a:lnTo>
                  <a:lnTo>
                    <a:pt x="987" y="152"/>
                  </a:lnTo>
                  <a:lnTo>
                    <a:pt x="920" y="116"/>
                  </a:lnTo>
                  <a:lnTo>
                    <a:pt x="875" y="233"/>
                  </a:lnTo>
                  <a:lnTo>
                    <a:pt x="864" y="303"/>
                  </a:lnTo>
                  <a:lnTo>
                    <a:pt x="740" y="140"/>
                  </a:lnTo>
                  <a:lnTo>
                    <a:pt x="583" y="12"/>
                  </a:lnTo>
                  <a:lnTo>
                    <a:pt x="539" y="35"/>
                  </a:lnTo>
                  <a:lnTo>
                    <a:pt x="527" y="105"/>
                  </a:lnTo>
                  <a:lnTo>
                    <a:pt x="583" y="210"/>
                  </a:lnTo>
                  <a:lnTo>
                    <a:pt x="650" y="338"/>
                  </a:lnTo>
                  <a:lnTo>
                    <a:pt x="818" y="560"/>
                  </a:lnTo>
                  <a:lnTo>
                    <a:pt x="796" y="605"/>
                  </a:lnTo>
                  <a:lnTo>
                    <a:pt x="762" y="629"/>
                  </a:lnTo>
                  <a:lnTo>
                    <a:pt x="785" y="675"/>
                  </a:lnTo>
                  <a:lnTo>
                    <a:pt x="931" y="733"/>
                  </a:lnTo>
                  <a:lnTo>
                    <a:pt x="1166" y="733"/>
                  </a:lnTo>
                  <a:lnTo>
                    <a:pt x="1368" y="711"/>
                  </a:lnTo>
                  <a:lnTo>
                    <a:pt x="1436" y="641"/>
                  </a:lnTo>
                  <a:lnTo>
                    <a:pt x="1391" y="618"/>
                  </a:lnTo>
                  <a:lnTo>
                    <a:pt x="1346" y="652"/>
                  </a:lnTo>
                  <a:lnTo>
                    <a:pt x="1222" y="664"/>
                  </a:lnTo>
                  <a:lnTo>
                    <a:pt x="1099" y="688"/>
                  </a:lnTo>
                  <a:lnTo>
                    <a:pt x="965" y="664"/>
                  </a:lnTo>
                  <a:lnTo>
                    <a:pt x="1166" y="641"/>
                  </a:lnTo>
                  <a:lnTo>
                    <a:pt x="1300" y="594"/>
                  </a:lnTo>
                  <a:lnTo>
                    <a:pt x="1323" y="571"/>
                  </a:lnTo>
                  <a:lnTo>
                    <a:pt x="1267" y="547"/>
                  </a:lnTo>
                  <a:lnTo>
                    <a:pt x="1200" y="583"/>
                  </a:lnTo>
                  <a:lnTo>
                    <a:pt x="1043" y="605"/>
                  </a:lnTo>
                  <a:lnTo>
                    <a:pt x="931" y="594"/>
                  </a:lnTo>
                  <a:lnTo>
                    <a:pt x="875" y="571"/>
                  </a:lnTo>
                  <a:lnTo>
                    <a:pt x="898" y="513"/>
                  </a:lnTo>
                  <a:lnTo>
                    <a:pt x="796" y="432"/>
                  </a:lnTo>
                  <a:lnTo>
                    <a:pt x="695" y="327"/>
                  </a:lnTo>
                  <a:lnTo>
                    <a:pt x="639" y="222"/>
                  </a:lnTo>
                  <a:lnTo>
                    <a:pt x="617" y="152"/>
                  </a:lnTo>
                  <a:lnTo>
                    <a:pt x="617" y="129"/>
                  </a:lnTo>
                  <a:lnTo>
                    <a:pt x="639" y="129"/>
                  </a:lnTo>
                  <a:lnTo>
                    <a:pt x="695" y="175"/>
                  </a:lnTo>
                  <a:lnTo>
                    <a:pt x="773" y="280"/>
                  </a:lnTo>
                  <a:lnTo>
                    <a:pt x="875" y="408"/>
                  </a:lnTo>
                  <a:lnTo>
                    <a:pt x="898" y="443"/>
                  </a:lnTo>
                  <a:lnTo>
                    <a:pt x="942" y="419"/>
                  </a:lnTo>
                  <a:lnTo>
                    <a:pt x="920" y="350"/>
                  </a:lnTo>
                  <a:lnTo>
                    <a:pt x="931" y="303"/>
                  </a:lnTo>
                  <a:lnTo>
                    <a:pt x="942" y="244"/>
                  </a:lnTo>
                  <a:lnTo>
                    <a:pt x="965" y="244"/>
                  </a:lnTo>
                  <a:lnTo>
                    <a:pt x="987" y="315"/>
                  </a:lnTo>
                  <a:lnTo>
                    <a:pt x="998" y="361"/>
                  </a:lnTo>
                  <a:lnTo>
                    <a:pt x="1032" y="373"/>
                  </a:lnTo>
                  <a:lnTo>
                    <a:pt x="1077" y="268"/>
                  </a:lnTo>
                  <a:lnTo>
                    <a:pt x="1099" y="233"/>
                  </a:lnTo>
                  <a:lnTo>
                    <a:pt x="1110" y="291"/>
                  </a:lnTo>
                  <a:lnTo>
                    <a:pt x="1110" y="385"/>
                  </a:lnTo>
                  <a:lnTo>
                    <a:pt x="1144" y="408"/>
                  </a:lnTo>
                  <a:lnTo>
                    <a:pt x="1200" y="327"/>
                  </a:lnTo>
                  <a:lnTo>
                    <a:pt x="1256" y="222"/>
                  </a:lnTo>
                  <a:lnTo>
                    <a:pt x="1312" y="199"/>
                  </a:lnTo>
                  <a:lnTo>
                    <a:pt x="1312" y="210"/>
                  </a:lnTo>
                  <a:lnTo>
                    <a:pt x="1278" y="280"/>
                  </a:lnTo>
                  <a:lnTo>
                    <a:pt x="1244" y="385"/>
                  </a:lnTo>
                  <a:lnTo>
                    <a:pt x="1278" y="396"/>
                  </a:lnTo>
                  <a:lnTo>
                    <a:pt x="1458" y="268"/>
                  </a:lnTo>
                  <a:lnTo>
                    <a:pt x="1480" y="268"/>
                  </a:lnTo>
                  <a:lnTo>
                    <a:pt x="1312" y="443"/>
                  </a:lnTo>
                  <a:lnTo>
                    <a:pt x="1278" y="478"/>
                  </a:lnTo>
                  <a:lnTo>
                    <a:pt x="1267" y="536"/>
                  </a:lnTo>
                  <a:lnTo>
                    <a:pt x="1300" y="560"/>
                  </a:lnTo>
                  <a:lnTo>
                    <a:pt x="1402" y="605"/>
                  </a:lnTo>
                  <a:lnTo>
                    <a:pt x="1570" y="699"/>
                  </a:lnTo>
                  <a:lnTo>
                    <a:pt x="1682" y="792"/>
                  </a:lnTo>
                  <a:lnTo>
                    <a:pt x="1816" y="932"/>
                  </a:lnTo>
                  <a:lnTo>
                    <a:pt x="1918" y="1083"/>
                  </a:lnTo>
                  <a:lnTo>
                    <a:pt x="1985" y="1246"/>
                  </a:lnTo>
                  <a:lnTo>
                    <a:pt x="2030" y="1456"/>
                  </a:lnTo>
                  <a:lnTo>
                    <a:pt x="2018" y="1607"/>
                  </a:lnTo>
                  <a:lnTo>
                    <a:pt x="2007" y="1770"/>
                  </a:lnTo>
                  <a:lnTo>
                    <a:pt x="1940" y="1945"/>
                  </a:lnTo>
                  <a:lnTo>
                    <a:pt x="1873" y="2072"/>
                  </a:lnTo>
                  <a:lnTo>
                    <a:pt x="1794" y="2142"/>
                  </a:lnTo>
                  <a:lnTo>
                    <a:pt x="1704" y="2236"/>
                  </a:lnTo>
                  <a:lnTo>
                    <a:pt x="1536" y="2306"/>
                  </a:lnTo>
                  <a:lnTo>
                    <a:pt x="1334" y="2364"/>
                  </a:lnTo>
                  <a:lnTo>
                    <a:pt x="1233" y="2375"/>
                  </a:lnTo>
                  <a:lnTo>
                    <a:pt x="1043" y="2375"/>
                  </a:lnTo>
                  <a:lnTo>
                    <a:pt x="864" y="2352"/>
                  </a:lnTo>
                  <a:lnTo>
                    <a:pt x="650" y="2294"/>
                  </a:lnTo>
                  <a:lnTo>
                    <a:pt x="449" y="2200"/>
                  </a:lnTo>
                  <a:lnTo>
                    <a:pt x="291" y="2108"/>
                  </a:lnTo>
                  <a:lnTo>
                    <a:pt x="157" y="2003"/>
                  </a:lnTo>
                  <a:lnTo>
                    <a:pt x="101" y="1922"/>
                  </a:lnTo>
                  <a:lnTo>
                    <a:pt x="90" y="1839"/>
                  </a:lnTo>
                  <a:lnTo>
                    <a:pt x="68" y="1595"/>
                  </a:lnTo>
                  <a:lnTo>
                    <a:pt x="79" y="1433"/>
                  </a:lnTo>
                  <a:lnTo>
                    <a:pt x="146" y="1258"/>
                  </a:lnTo>
                  <a:lnTo>
                    <a:pt x="235" y="1060"/>
                  </a:lnTo>
                  <a:lnTo>
                    <a:pt x="393" y="885"/>
                  </a:lnTo>
                  <a:lnTo>
                    <a:pt x="539" y="688"/>
                  </a:lnTo>
                  <a:lnTo>
                    <a:pt x="673" y="583"/>
                  </a:lnTo>
                  <a:lnTo>
                    <a:pt x="751" y="513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3800" y="5479920"/>
              <a:ext cx="322200" cy="505800"/>
            </a:xfrm>
            <a:custGeom>
              <a:avLst/>
              <a:gdLst/>
              <a:ahLst/>
              <a:rect l="l" t="t" r="r" b="b"/>
              <a:pathLst>
                <a:path w="426" h="756">
                  <a:moveTo>
                    <a:pt x="258" y="139"/>
                  </a:moveTo>
                  <a:lnTo>
                    <a:pt x="336" y="150"/>
                  </a:lnTo>
                  <a:lnTo>
                    <a:pt x="403" y="209"/>
                  </a:lnTo>
                  <a:lnTo>
                    <a:pt x="426" y="267"/>
                  </a:lnTo>
                  <a:lnTo>
                    <a:pt x="347" y="290"/>
                  </a:lnTo>
                  <a:lnTo>
                    <a:pt x="302" y="243"/>
                  </a:lnTo>
                  <a:lnTo>
                    <a:pt x="247" y="220"/>
                  </a:lnTo>
                  <a:lnTo>
                    <a:pt x="191" y="209"/>
                  </a:lnTo>
                  <a:lnTo>
                    <a:pt x="101" y="232"/>
                  </a:lnTo>
                  <a:lnTo>
                    <a:pt x="79" y="290"/>
                  </a:lnTo>
                  <a:lnTo>
                    <a:pt x="124" y="337"/>
                  </a:lnTo>
                  <a:lnTo>
                    <a:pt x="235" y="371"/>
                  </a:lnTo>
                  <a:lnTo>
                    <a:pt x="347" y="371"/>
                  </a:lnTo>
                  <a:lnTo>
                    <a:pt x="381" y="406"/>
                  </a:lnTo>
                  <a:lnTo>
                    <a:pt x="403" y="465"/>
                  </a:lnTo>
                  <a:lnTo>
                    <a:pt x="392" y="534"/>
                  </a:lnTo>
                  <a:lnTo>
                    <a:pt x="325" y="581"/>
                  </a:lnTo>
                  <a:lnTo>
                    <a:pt x="247" y="581"/>
                  </a:lnTo>
                  <a:lnTo>
                    <a:pt x="191" y="581"/>
                  </a:lnTo>
                  <a:lnTo>
                    <a:pt x="168" y="639"/>
                  </a:lnTo>
                  <a:lnTo>
                    <a:pt x="179" y="743"/>
                  </a:lnTo>
                  <a:lnTo>
                    <a:pt x="101" y="756"/>
                  </a:lnTo>
                  <a:lnTo>
                    <a:pt x="90" y="674"/>
                  </a:lnTo>
                  <a:lnTo>
                    <a:pt x="112" y="581"/>
                  </a:lnTo>
                  <a:lnTo>
                    <a:pt x="45" y="546"/>
                  </a:lnTo>
                  <a:lnTo>
                    <a:pt x="0" y="511"/>
                  </a:lnTo>
                  <a:lnTo>
                    <a:pt x="68" y="442"/>
                  </a:lnTo>
                  <a:lnTo>
                    <a:pt x="101" y="488"/>
                  </a:lnTo>
                  <a:lnTo>
                    <a:pt x="157" y="499"/>
                  </a:lnTo>
                  <a:lnTo>
                    <a:pt x="235" y="511"/>
                  </a:lnTo>
                  <a:lnTo>
                    <a:pt x="302" y="511"/>
                  </a:lnTo>
                  <a:lnTo>
                    <a:pt x="336" y="499"/>
                  </a:lnTo>
                  <a:lnTo>
                    <a:pt x="314" y="453"/>
                  </a:lnTo>
                  <a:lnTo>
                    <a:pt x="258" y="442"/>
                  </a:lnTo>
                  <a:lnTo>
                    <a:pt x="157" y="418"/>
                  </a:lnTo>
                  <a:lnTo>
                    <a:pt x="56" y="383"/>
                  </a:lnTo>
                  <a:lnTo>
                    <a:pt x="23" y="325"/>
                  </a:lnTo>
                  <a:lnTo>
                    <a:pt x="11" y="255"/>
                  </a:lnTo>
                  <a:lnTo>
                    <a:pt x="68" y="185"/>
                  </a:lnTo>
                  <a:lnTo>
                    <a:pt x="146" y="128"/>
                  </a:lnTo>
                  <a:lnTo>
                    <a:pt x="202" y="128"/>
                  </a:lnTo>
                  <a:lnTo>
                    <a:pt x="224" y="0"/>
                  </a:lnTo>
                  <a:lnTo>
                    <a:pt x="291" y="11"/>
                  </a:lnTo>
                  <a:lnTo>
                    <a:pt x="258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96800" y="5457240"/>
              <a:ext cx="136080" cy="17928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0" y="210"/>
                  </a:moveTo>
                  <a:lnTo>
                    <a:pt x="78" y="70"/>
                  </a:lnTo>
                  <a:lnTo>
                    <a:pt x="179" y="0"/>
                  </a:lnTo>
                  <a:lnTo>
                    <a:pt x="179" y="36"/>
                  </a:lnTo>
                  <a:lnTo>
                    <a:pt x="111" y="117"/>
                  </a:lnTo>
                  <a:lnTo>
                    <a:pt x="33" y="269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405440" y="5908320"/>
              <a:ext cx="84600" cy="124200"/>
            </a:xfrm>
            <a:custGeom>
              <a:avLst/>
              <a:gdLst/>
              <a:ahLst/>
              <a:rect l="l" t="t" r="r" b="b"/>
              <a:pathLst>
                <a:path w="112" h="187">
                  <a:moveTo>
                    <a:pt x="112" y="0"/>
                  </a:moveTo>
                  <a:lnTo>
                    <a:pt x="34" y="116"/>
                  </a:lnTo>
                  <a:lnTo>
                    <a:pt x="0" y="163"/>
                  </a:lnTo>
                  <a:lnTo>
                    <a:pt x="45" y="187"/>
                  </a:lnTo>
                  <a:lnTo>
                    <a:pt x="78" y="163"/>
                  </a:lnTo>
                  <a:lnTo>
                    <a:pt x="112" y="82"/>
                  </a:lnTo>
                  <a:lnTo>
                    <a:pt x="112" y="4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477720" y="3765600"/>
            <a:ext cx="1067040" cy="1992240"/>
            <a:chOff x="477720" y="3765600"/>
            <a:chExt cx="1067040" cy="1992240"/>
          </a:xfrm>
        </p:grpSpPr>
        <p:sp>
          <p:nvSpPr>
            <p:cNvPr id="1090" name=""/>
            <p:cNvSpPr/>
            <p:nvPr/>
          </p:nvSpPr>
          <p:spPr>
            <a:xfrm>
              <a:off x="843840" y="4247640"/>
              <a:ext cx="389520" cy="671400"/>
            </a:xfrm>
            <a:custGeom>
              <a:avLst/>
              <a:gdLst/>
              <a:ahLst/>
              <a:rect l="l" t="t" r="r" b="b"/>
              <a:pathLst>
                <a:path w="334" h="504">
                  <a:moveTo>
                    <a:pt x="46" y="241"/>
                  </a:moveTo>
                  <a:lnTo>
                    <a:pt x="73" y="154"/>
                  </a:lnTo>
                  <a:lnTo>
                    <a:pt x="102" y="81"/>
                  </a:lnTo>
                  <a:lnTo>
                    <a:pt x="131" y="22"/>
                  </a:lnTo>
                  <a:lnTo>
                    <a:pt x="182" y="0"/>
                  </a:lnTo>
                  <a:lnTo>
                    <a:pt x="242" y="0"/>
                  </a:lnTo>
                  <a:lnTo>
                    <a:pt x="290" y="22"/>
                  </a:lnTo>
                  <a:lnTo>
                    <a:pt x="322" y="68"/>
                  </a:lnTo>
                  <a:lnTo>
                    <a:pt x="327" y="156"/>
                  </a:lnTo>
                  <a:lnTo>
                    <a:pt x="334" y="266"/>
                  </a:lnTo>
                  <a:lnTo>
                    <a:pt x="322" y="368"/>
                  </a:lnTo>
                  <a:lnTo>
                    <a:pt x="312" y="419"/>
                  </a:lnTo>
                  <a:lnTo>
                    <a:pt x="293" y="460"/>
                  </a:lnTo>
                  <a:lnTo>
                    <a:pt x="261" y="475"/>
                  </a:lnTo>
                  <a:lnTo>
                    <a:pt x="174" y="499"/>
                  </a:lnTo>
                  <a:lnTo>
                    <a:pt x="119" y="504"/>
                  </a:lnTo>
                  <a:lnTo>
                    <a:pt x="31" y="482"/>
                  </a:lnTo>
                  <a:lnTo>
                    <a:pt x="0" y="417"/>
                  </a:lnTo>
                  <a:lnTo>
                    <a:pt x="7" y="353"/>
                  </a:lnTo>
                  <a:lnTo>
                    <a:pt x="39" y="263"/>
                  </a:lnTo>
                  <a:lnTo>
                    <a:pt x="46" y="2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68200" y="4293000"/>
              <a:ext cx="376560" cy="852840"/>
            </a:xfrm>
            <a:custGeom>
              <a:avLst/>
              <a:gdLst/>
              <a:ahLst/>
              <a:rect l="l" t="t" r="r" b="b"/>
              <a:pathLst>
                <a:path w="323" h="640">
                  <a:moveTo>
                    <a:pt x="14" y="8"/>
                  </a:moveTo>
                  <a:lnTo>
                    <a:pt x="51" y="0"/>
                  </a:lnTo>
                  <a:lnTo>
                    <a:pt x="102" y="30"/>
                  </a:lnTo>
                  <a:lnTo>
                    <a:pt x="148" y="96"/>
                  </a:lnTo>
                  <a:lnTo>
                    <a:pt x="204" y="186"/>
                  </a:lnTo>
                  <a:lnTo>
                    <a:pt x="226" y="271"/>
                  </a:lnTo>
                  <a:lnTo>
                    <a:pt x="233" y="376"/>
                  </a:lnTo>
                  <a:lnTo>
                    <a:pt x="228" y="440"/>
                  </a:lnTo>
                  <a:lnTo>
                    <a:pt x="228" y="476"/>
                  </a:lnTo>
                  <a:lnTo>
                    <a:pt x="279" y="515"/>
                  </a:lnTo>
                  <a:lnTo>
                    <a:pt x="306" y="566"/>
                  </a:lnTo>
                  <a:lnTo>
                    <a:pt x="323" y="610"/>
                  </a:lnTo>
                  <a:lnTo>
                    <a:pt x="308" y="640"/>
                  </a:lnTo>
                  <a:lnTo>
                    <a:pt x="279" y="640"/>
                  </a:lnTo>
                  <a:lnTo>
                    <a:pt x="247" y="618"/>
                  </a:lnTo>
                  <a:lnTo>
                    <a:pt x="243" y="579"/>
                  </a:lnTo>
                  <a:lnTo>
                    <a:pt x="226" y="530"/>
                  </a:lnTo>
                  <a:lnTo>
                    <a:pt x="196" y="500"/>
                  </a:lnTo>
                  <a:lnTo>
                    <a:pt x="167" y="491"/>
                  </a:lnTo>
                  <a:lnTo>
                    <a:pt x="138" y="491"/>
                  </a:lnTo>
                  <a:lnTo>
                    <a:pt x="133" y="469"/>
                  </a:lnTo>
                  <a:lnTo>
                    <a:pt x="162" y="461"/>
                  </a:lnTo>
                  <a:lnTo>
                    <a:pt x="192" y="457"/>
                  </a:lnTo>
                  <a:lnTo>
                    <a:pt x="204" y="410"/>
                  </a:lnTo>
                  <a:lnTo>
                    <a:pt x="206" y="337"/>
                  </a:lnTo>
                  <a:lnTo>
                    <a:pt x="196" y="257"/>
                  </a:lnTo>
                  <a:lnTo>
                    <a:pt x="170" y="193"/>
                  </a:lnTo>
                  <a:lnTo>
                    <a:pt x="141" y="140"/>
                  </a:lnTo>
                  <a:lnTo>
                    <a:pt x="111" y="113"/>
                  </a:lnTo>
                  <a:lnTo>
                    <a:pt x="73" y="91"/>
                  </a:lnTo>
                  <a:lnTo>
                    <a:pt x="31" y="69"/>
                  </a:lnTo>
                  <a:lnTo>
                    <a:pt x="2" y="54"/>
                  </a:lnTo>
                  <a:lnTo>
                    <a:pt x="0" y="25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720" y="4267800"/>
              <a:ext cx="580680" cy="828360"/>
            </a:xfrm>
            <a:custGeom>
              <a:avLst/>
              <a:gdLst/>
              <a:ahLst/>
              <a:rect l="l" t="t" r="r" b="b"/>
              <a:pathLst>
                <a:path w="498" h="622">
                  <a:moveTo>
                    <a:pt x="243" y="125"/>
                  </a:moveTo>
                  <a:lnTo>
                    <a:pt x="316" y="66"/>
                  </a:lnTo>
                  <a:lnTo>
                    <a:pt x="394" y="15"/>
                  </a:lnTo>
                  <a:lnTo>
                    <a:pt x="440" y="0"/>
                  </a:lnTo>
                  <a:lnTo>
                    <a:pt x="496" y="10"/>
                  </a:lnTo>
                  <a:lnTo>
                    <a:pt x="498" y="51"/>
                  </a:lnTo>
                  <a:lnTo>
                    <a:pt x="469" y="98"/>
                  </a:lnTo>
                  <a:lnTo>
                    <a:pt x="440" y="90"/>
                  </a:lnTo>
                  <a:lnTo>
                    <a:pt x="408" y="73"/>
                  </a:lnTo>
                  <a:lnTo>
                    <a:pt x="367" y="73"/>
                  </a:lnTo>
                  <a:lnTo>
                    <a:pt x="309" y="110"/>
                  </a:lnTo>
                  <a:lnTo>
                    <a:pt x="265" y="154"/>
                  </a:lnTo>
                  <a:lnTo>
                    <a:pt x="190" y="234"/>
                  </a:lnTo>
                  <a:lnTo>
                    <a:pt x="148" y="325"/>
                  </a:lnTo>
                  <a:lnTo>
                    <a:pt x="119" y="388"/>
                  </a:lnTo>
                  <a:lnTo>
                    <a:pt x="105" y="449"/>
                  </a:lnTo>
                  <a:lnTo>
                    <a:pt x="117" y="456"/>
                  </a:lnTo>
                  <a:lnTo>
                    <a:pt x="153" y="456"/>
                  </a:lnTo>
                  <a:lnTo>
                    <a:pt x="192" y="464"/>
                  </a:lnTo>
                  <a:lnTo>
                    <a:pt x="197" y="483"/>
                  </a:lnTo>
                  <a:lnTo>
                    <a:pt x="170" y="500"/>
                  </a:lnTo>
                  <a:lnTo>
                    <a:pt x="131" y="508"/>
                  </a:lnTo>
                  <a:lnTo>
                    <a:pt x="83" y="534"/>
                  </a:lnTo>
                  <a:lnTo>
                    <a:pt x="54" y="573"/>
                  </a:lnTo>
                  <a:lnTo>
                    <a:pt x="46" y="617"/>
                  </a:lnTo>
                  <a:lnTo>
                    <a:pt x="25" y="622"/>
                  </a:lnTo>
                  <a:lnTo>
                    <a:pt x="3" y="600"/>
                  </a:lnTo>
                  <a:lnTo>
                    <a:pt x="0" y="559"/>
                  </a:lnTo>
                  <a:lnTo>
                    <a:pt x="22" y="522"/>
                  </a:lnTo>
                  <a:lnTo>
                    <a:pt x="68" y="469"/>
                  </a:lnTo>
                  <a:lnTo>
                    <a:pt x="88" y="410"/>
                  </a:lnTo>
                  <a:lnTo>
                    <a:pt x="110" y="344"/>
                  </a:lnTo>
                  <a:lnTo>
                    <a:pt x="139" y="266"/>
                  </a:lnTo>
                  <a:lnTo>
                    <a:pt x="175" y="200"/>
                  </a:lnTo>
                  <a:lnTo>
                    <a:pt x="214" y="149"/>
                  </a:lnTo>
                  <a:lnTo>
                    <a:pt x="243" y="12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04760" y="4779720"/>
              <a:ext cx="276480" cy="951120"/>
            </a:xfrm>
            <a:custGeom>
              <a:avLst/>
              <a:gdLst/>
              <a:ahLst/>
              <a:rect l="l" t="t" r="r" b="b"/>
              <a:pathLst>
                <a:path w="237" h="714">
                  <a:moveTo>
                    <a:pt x="95" y="245"/>
                  </a:moveTo>
                  <a:lnTo>
                    <a:pt x="110" y="179"/>
                  </a:lnTo>
                  <a:lnTo>
                    <a:pt x="110" y="149"/>
                  </a:lnTo>
                  <a:lnTo>
                    <a:pt x="83" y="118"/>
                  </a:lnTo>
                  <a:lnTo>
                    <a:pt x="24" y="96"/>
                  </a:lnTo>
                  <a:lnTo>
                    <a:pt x="24" y="62"/>
                  </a:lnTo>
                  <a:lnTo>
                    <a:pt x="61" y="18"/>
                  </a:lnTo>
                  <a:lnTo>
                    <a:pt x="95" y="0"/>
                  </a:lnTo>
                  <a:lnTo>
                    <a:pt x="141" y="3"/>
                  </a:lnTo>
                  <a:lnTo>
                    <a:pt x="161" y="18"/>
                  </a:lnTo>
                  <a:lnTo>
                    <a:pt x="183" y="59"/>
                  </a:lnTo>
                  <a:lnTo>
                    <a:pt x="215" y="103"/>
                  </a:lnTo>
                  <a:lnTo>
                    <a:pt x="234" y="149"/>
                  </a:lnTo>
                  <a:lnTo>
                    <a:pt x="237" y="171"/>
                  </a:lnTo>
                  <a:lnTo>
                    <a:pt x="227" y="198"/>
                  </a:lnTo>
                  <a:lnTo>
                    <a:pt x="200" y="252"/>
                  </a:lnTo>
                  <a:lnTo>
                    <a:pt x="168" y="318"/>
                  </a:lnTo>
                  <a:lnTo>
                    <a:pt x="127" y="396"/>
                  </a:lnTo>
                  <a:lnTo>
                    <a:pt x="102" y="435"/>
                  </a:lnTo>
                  <a:lnTo>
                    <a:pt x="66" y="464"/>
                  </a:lnTo>
                  <a:lnTo>
                    <a:pt x="68" y="484"/>
                  </a:lnTo>
                  <a:lnTo>
                    <a:pt x="97" y="501"/>
                  </a:lnTo>
                  <a:lnTo>
                    <a:pt x="134" y="530"/>
                  </a:lnTo>
                  <a:lnTo>
                    <a:pt x="168" y="572"/>
                  </a:lnTo>
                  <a:lnTo>
                    <a:pt x="183" y="618"/>
                  </a:lnTo>
                  <a:lnTo>
                    <a:pt x="193" y="689"/>
                  </a:lnTo>
                  <a:lnTo>
                    <a:pt x="185" y="714"/>
                  </a:lnTo>
                  <a:lnTo>
                    <a:pt x="163" y="714"/>
                  </a:lnTo>
                  <a:lnTo>
                    <a:pt x="124" y="692"/>
                  </a:lnTo>
                  <a:lnTo>
                    <a:pt x="112" y="677"/>
                  </a:lnTo>
                  <a:lnTo>
                    <a:pt x="112" y="652"/>
                  </a:lnTo>
                  <a:lnTo>
                    <a:pt x="117" y="611"/>
                  </a:lnTo>
                  <a:lnTo>
                    <a:pt x="102" y="567"/>
                  </a:lnTo>
                  <a:lnTo>
                    <a:pt x="73" y="538"/>
                  </a:lnTo>
                  <a:lnTo>
                    <a:pt x="46" y="516"/>
                  </a:lnTo>
                  <a:lnTo>
                    <a:pt x="17" y="516"/>
                  </a:lnTo>
                  <a:lnTo>
                    <a:pt x="0" y="494"/>
                  </a:lnTo>
                  <a:lnTo>
                    <a:pt x="2" y="469"/>
                  </a:lnTo>
                  <a:lnTo>
                    <a:pt x="29" y="440"/>
                  </a:lnTo>
                  <a:lnTo>
                    <a:pt x="61" y="377"/>
                  </a:lnTo>
                  <a:lnTo>
                    <a:pt x="73" y="345"/>
                  </a:lnTo>
                  <a:lnTo>
                    <a:pt x="83" y="301"/>
                  </a:lnTo>
                  <a:lnTo>
                    <a:pt x="95" y="259"/>
                  </a:lnTo>
                  <a:lnTo>
                    <a:pt x="95" y="24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0840" y="4775760"/>
              <a:ext cx="329760" cy="982080"/>
            </a:xfrm>
            <a:custGeom>
              <a:avLst/>
              <a:gdLst/>
              <a:ahLst/>
              <a:rect l="l" t="t" r="r" b="b"/>
              <a:pathLst>
                <a:path w="283" h="737">
                  <a:moveTo>
                    <a:pt x="75" y="132"/>
                  </a:moveTo>
                  <a:lnTo>
                    <a:pt x="109" y="66"/>
                  </a:lnTo>
                  <a:lnTo>
                    <a:pt x="140" y="27"/>
                  </a:lnTo>
                  <a:lnTo>
                    <a:pt x="196" y="0"/>
                  </a:lnTo>
                  <a:lnTo>
                    <a:pt x="254" y="0"/>
                  </a:lnTo>
                  <a:lnTo>
                    <a:pt x="283" y="27"/>
                  </a:lnTo>
                  <a:lnTo>
                    <a:pt x="283" y="57"/>
                  </a:lnTo>
                  <a:lnTo>
                    <a:pt x="246" y="88"/>
                  </a:lnTo>
                  <a:lnTo>
                    <a:pt x="205" y="110"/>
                  </a:lnTo>
                  <a:lnTo>
                    <a:pt x="174" y="137"/>
                  </a:lnTo>
                  <a:lnTo>
                    <a:pt x="159" y="174"/>
                  </a:lnTo>
                  <a:lnTo>
                    <a:pt x="159" y="235"/>
                  </a:lnTo>
                  <a:lnTo>
                    <a:pt x="174" y="293"/>
                  </a:lnTo>
                  <a:lnTo>
                    <a:pt x="176" y="374"/>
                  </a:lnTo>
                  <a:lnTo>
                    <a:pt x="188" y="430"/>
                  </a:lnTo>
                  <a:lnTo>
                    <a:pt x="196" y="484"/>
                  </a:lnTo>
                  <a:lnTo>
                    <a:pt x="196" y="525"/>
                  </a:lnTo>
                  <a:lnTo>
                    <a:pt x="176" y="540"/>
                  </a:lnTo>
                  <a:lnTo>
                    <a:pt x="152" y="535"/>
                  </a:lnTo>
                  <a:lnTo>
                    <a:pt x="116" y="542"/>
                  </a:lnTo>
                  <a:lnTo>
                    <a:pt x="82" y="579"/>
                  </a:lnTo>
                  <a:lnTo>
                    <a:pt x="65" y="635"/>
                  </a:lnTo>
                  <a:lnTo>
                    <a:pt x="60" y="708"/>
                  </a:lnTo>
                  <a:lnTo>
                    <a:pt x="65" y="733"/>
                  </a:lnTo>
                  <a:lnTo>
                    <a:pt x="36" y="737"/>
                  </a:lnTo>
                  <a:lnTo>
                    <a:pt x="17" y="725"/>
                  </a:lnTo>
                  <a:lnTo>
                    <a:pt x="0" y="686"/>
                  </a:lnTo>
                  <a:lnTo>
                    <a:pt x="2" y="650"/>
                  </a:lnTo>
                  <a:lnTo>
                    <a:pt x="24" y="579"/>
                  </a:lnTo>
                  <a:lnTo>
                    <a:pt x="58" y="542"/>
                  </a:lnTo>
                  <a:lnTo>
                    <a:pt x="94" y="506"/>
                  </a:lnTo>
                  <a:lnTo>
                    <a:pt x="123" y="489"/>
                  </a:lnTo>
                  <a:lnTo>
                    <a:pt x="152" y="481"/>
                  </a:lnTo>
                  <a:lnTo>
                    <a:pt x="155" y="459"/>
                  </a:lnTo>
                  <a:lnTo>
                    <a:pt x="133" y="393"/>
                  </a:lnTo>
                  <a:lnTo>
                    <a:pt x="111" y="323"/>
                  </a:lnTo>
                  <a:lnTo>
                    <a:pt x="89" y="271"/>
                  </a:lnTo>
                  <a:lnTo>
                    <a:pt x="75" y="213"/>
                  </a:lnTo>
                  <a:lnTo>
                    <a:pt x="65" y="176"/>
                  </a:lnTo>
                  <a:lnTo>
                    <a:pt x="75" y="13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44360" y="3765600"/>
              <a:ext cx="336960" cy="478080"/>
            </a:xfrm>
            <a:custGeom>
              <a:avLst/>
              <a:gdLst/>
              <a:ahLst/>
              <a:rect l="l" t="t" r="r" b="b"/>
              <a:pathLst>
                <a:path w="289" h="359">
                  <a:moveTo>
                    <a:pt x="102" y="351"/>
                  </a:moveTo>
                  <a:lnTo>
                    <a:pt x="51" y="351"/>
                  </a:lnTo>
                  <a:lnTo>
                    <a:pt x="7" y="312"/>
                  </a:lnTo>
                  <a:lnTo>
                    <a:pt x="0" y="285"/>
                  </a:lnTo>
                  <a:lnTo>
                    <a:pt x="0" y="249"/>
                  </a:lnTo>
                  <a:lnTo>
                    <a:pt x="14" y="176"/>
                  </a:lnTo>
                  <a:lnTo>
                    <a:pt x="43" y="124"/>
                  </a:lnTo>
                  <a:lnTo>
                    <a:pt x="99" y="44"/>
                  </a:lnTo>
                  <a:lnTo>
                    <a:pt x="138" y="14"/>
                  </a:lnTo>
                  <a:lnTo>
                    <a:pt x="194" y="0"/>
                  </a:lnTo>
                  <a:lnTo>
                    <a:pt x="247" y="19"/>
                  </a:lnTo>
                  <a:lnTo>
                    <a:pt x="274" y="51"/>
                  </a:lnTo>
                  <a:lnTo>
                    <a:pt x="281" y="88"/>
                  </a:lnTo>
                  <a:lnTo>
                    <a:pt x="281" y="136"/>
                  </a:lnTo>
                  <a:lnTo>
                    <a:pt x="262" y="198"/>
                  </a:lnTo>
                  <a:lnTo>
                    <a:pt x="247" y="234"/>
                  </a:lnTo>
                  <a:lnTo>
                    <a:pt x="252" y="271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69" y="359"/>
                  </a:lnTo>
                  <a:lnTo>
                    <a:pt x="223" y="278"/>
                  </a:lnTo>
                  <a:lnTo>
                    <a:pt x="187" y="307"/>
                  </a:lnTo>
                  <a:lnTo>
                    <a:pt x="145" y="334"/>
                  </a:lnTo>
                  <a:lnTo>
                    <a:pt x="124" y="342"/>
                  </a:lnTo>
                  <a:lnTo>
                    <a:pt x="102" y="35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1097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49560" y="1415160"/>
              <a:ext cx="50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Znajdź metaforę dla system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829160" y="4648320"/>
            <a:ext cx="1904760" cy="2132640"/>
            <a:chOff x="1829160" y="4648320"/>
            <a:chExt cx="1904760" cy="2132640"/>
          </a:xfrm>
        </p:grpSpPr>
        <p:sp>
          <p:nvSpPr>
            <p:cNvPr id="1100" name=""/>
            <p:cNvSpPr/>
            <p:nvPr/>
          </p:nvSpPr>
          <p:spPr>
            <a:xfrm flipH="1">
              <a:off x="2477160" y="5162400"/>
              <a:ext cx="621360" cy="595080"/>
            </a:xfrm>
            <a:custGeom>
              <a:avLst/>
              <a:gdLst/>
              <a:ahLst/>
              <a:rect l="l" t="t" r="r" b="b"/>
              <a:pathLst>
                <a:path w="515" h="417">
                  <a:moveTo>
                    <a:pt x="12" y="0"/>
                  </a:moveTo>
                  <a:lnTo>
                    <a:pt x="53" y="4"/>
                  </a:lnTo>
                  <a:lnTo>
                    <a:pt x="93" y="25"/>
                  </a:lnTo>
                  <a:lnTo>
                    <a:pt x="153" y="65"/>
                  </a:lnTo>
                  <a:lnTo>
                    <a:pt x="209" y="111"/>
                  </a:lnTo>
                  <a:lnTo>
                    <a:pt x="258" y="159"/>
                  </a:lnTo>
                  <a:lnTo>
                    <a:pt x="297" y="195"/>
                  </a:lnTo>
                  <a:lnTo>
                    <a:pt x="337" y="224"/>
                  </a:lnTo>
                  <a:lnTo>
                    <a:pt x="374" y="250"/>
                  </a:lnTo>
                  <a:lnTo>
                    <a:pt x="413" y="283"/>
                  </a:lnTo>
                  <a:lnTo>
                    <a:pt x="461" y="296"/>
                  </a:lnTo>
                  <a:lnTo>
                    <a:pt x="496" y="305"/>
                  </a:lnTo>
                  <a:lnTo>
                    <a:pt x="515" y="326"/>
                  </a:lnTo>
                  <a:lnTo>
                    <a:pt x="502" y="361"/>
                  </a:lnTo>
                  <a:lnTo>
                    <a:pt x="462" y="388"/>
                  </a:lnTo>
                  <a:lnTo>
                    <a:pt x="438" y="413"/>
                  </a:lnTo>
                  <a:lnTo>
                    <a:pt x="403" y="417"/>
                  </a:lnTo>
                  <a:lnTo>
                    <a:pt x="383" y="396"/>
                  </a:lnTo>
                  <a:lnTo>
                    <a:pt x="368" y="361"/>
                  </a:lnTo>
                  <a:lnTo>
                    <a:pt x="381" y="309"/>
                  </a:lnTo>
                  <a:lnTo>
                    <a:pt x="312" y="250"/>
                  </a:lnTo>
                  <a:lnTo>
                    <a:pt x="250" y="208"/>
                  </a:lnTo>
                  <a:lnTo>
                    <a:pt x="194" y="168"/>
                  </a:lnTo>
                  <a:lnTo>
                    <a:pt x="137" y="140"/>
                  </a:lnTo>
                  <a:lnTo>
                    <a:pt x="74" y="122"/>
                  </a:lnTo>
                  <a:lnTo>
                    <a:pt x="29" y="87"/>
                  </a:lnTo>
                  <a:lnTo>
                    <a:pt x="4" y="47"/>
                  </a:lnTo>
                  <a:lnTo>
                    <a:pt x="0" y="1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741400" y="5154840"/>
              <a:ext cx="505440" cy="1626120"/>
              <a:chOff x="2741400" y="5154840"/>
              <a:chExt cx="505440" cy="162612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2886840" y="5154840"/>
                <a:ext cx="316800" cy="777960"/>
              </a:xfrm>
              <a:custGeom>
                <a:avLst/>
                <a:gdLst/>
                <a:ahLst/>
                <a:rect l="l" t="t" r="r" b="b"/>
                <a:pathLst>
                  <a:path w="263" h="545">
                    <a:moveTo>
                      <a:pt x="52" y="7"/>
                    </a:moveTo>
                    <a:lnTo>
                      <a:pt x="88" y="0"/>
                    </a:lnTo>
                    <a:lnTo>
                      <a:pt x="133" y="13"/>
                    </a:lnTo>
                    <a:lnTo>
                      <a:pt x="166" y="35"/>
                    </a:lnTo>
                    <a:lnTo>
                      <a:pt x="196" y="79"/>
                    </a:lnTo>
                    <a:lnTo>
                      <a:pt x="214" y="126"/>
                    </a:lnTo>
                    <a:lnTo>
                      <a:pt x="233" y="181"/>
                    </a:lnTo>
                    <a:lnTo>
                      <a:pt x="245" y="229"/>
                    </a:lnTo>
                    <a:lnTo>
                      <a:pt x="256" y="289"/>
                    </a:lnTo>
                    <a:lnTo>
                      <a:pt x="260" y="333"/>
                    </a:lnTo>
                    <a:lnTo>
                      <a:pt x="263" y="389"/>
                    </a:lnTo>
                    <a:lnTo>
                      <a:pt x="263" y="442"/>
                    </a:lnTo>
                    <a:lnTo>
                      <a:pt x="247" y="482"/>
                    </a:lnTo>
                    <a:lnTo>
                      <a:pt x="229" y="519"/>
                    </a:lnTo>
                    <a:lnTo>
                      <a:pt x="193" y="539"/>
                    </a:lnTo>
                    <a:lnTo>
                      <a:pt x="142" y="545"/>
                    </a:lnTo>
                    <a:lnTo>
                      <a:pt x="94" y="536"/>
                    </a:lnTo>
                    <a:lnTo>
                      <a:pt x="66" y="517"/>
                    </a:lnTo>
                    <a:lnTo>
                      <a:pt x="48" y="488"/>
                    </a:lnTo>
                    <a:lnTo>
                      <a:pt x="36" y="429"/>
                    </a:lnTo>
                    <a:lnTo>
                      <a:pt x="43" y="378"/>
                    </a:lnTo>
                    <a:lnTo>
                      <a:pt x="61" y="326"/>
                    </a:lnTo>
                    <a:lnTo>
                      <a:pt x="70" y="281"/>
                    </a:lnTo>
                    <a:lnTo>
                      <a:pt x="61" y="245"/>
                    </a:lnTo>
                    <a:lnTo>
                      <a:pt x="40" y="198"/>
                    </a:lnTo>
                    <a:lnTo>
                      <a:pt x="16" y="163"/>
                    </a:lnTo>
                    <a:lnTo>
                      <a:pt x="0" y="109"/>
                    </a:lnTo>
                    <a:lnTo>
                      <a:pt x="0" y="66"/>
                    </a:lnTo>
                    <a:lnTo>
                      <a:pt x="13" y="34"/>
                    </a:lnTo>
                    <a:lnTo>
                      <a:pt x="52" y="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2999880" y="5797080"/>
                <a:ext cx="246960" cy="983880"/>
              </a:xfrm>
              <a:custGeom>
                <a:avLst/>
                <a:gdLst/>
                <a:ahLst/>
                <a:rect l="l" t="t" r="r" b="b"/>
                <a:pathLst>
                  <a:path w="205" h="689">
                    <a:moveTo>
                      <a:pt x="104" y="132"/>
                    </a:moveTo>
                    <a:lnTo>
                      <a:pt x="106" y="44"/>
                    </a:lnTo>
                    <a:lnTo>
                      <a:pt x="128" y="0"/>
                    </a:lnTo>
                    <a:lnTo>
                      <a:pt x="178" y="0"/>
                    </a:lnTo>
                    <a:lnTo>
                      <a:pt x="205" y="56"/>
                    </a:lnTo>
                    <a:lnTo>
                      <a:pt x="205" y="110"/>
                    </a:lnTo>
                    <a:lnTo>
                      <a:pt x="187" y="189"/>
                    </a:lnTo>
                    <a:lnTo>
                      <a:pt x="160" y="271"/>
                    </a:lnTo>
                    <a:lnTo>
                      <a:pt x="145" y="345"/>
                    </a:lnTo>
                    <a:lnTo>
                      <a:pt x="146" y="391"/>
                    </a:lnTo>
                    <a:lnTo>
                      <a:pt x="155" y="446"/>
                    </a:lnTo>
                    <a:lnTo>
                      <a:pt x="154" y="503"/>
                    </a:lnTo>
                    <a:lnTo>
                      <a:pt x="154" y="540"/>
                    </a:lnTo>
                    <a:lnTo>
                      <a:pt x="167" y="571"/>
                    </a:lnTo>
                    <a:lnTo>
                      <a:pt x="158" y="591"/>
                    </a:lnTo>
                    <a:lnTo>
                      <a:pt x="137" y="606"/>
                    </a:lnTo>
                    <a:lnTo>
                      <a:pt x="101" y="628"/>
                    </a:lnTo>
                    <a:lnTo>
                      <a:pt x="74" y="663"/>
                    </a:lnTo>
                    <a:lnTo>
                      <a:pt x="65" y="689"/>
                    </a:lnTo>
                    <a:lnTo>
                      <a:pt x="50" y="688"/>
                    </a:lnTo>
                    <a:lnTo>
                      <a:pt x="29" y="676"/>
                    </a:lnTo>
                    <a:lnTo>
                      <a:pt x="0" y="639"/>
                    </a:lnTo>
                    <a:lnTo>
                      <a:pt x="9" y="606"/>
                    </a:lnTo>
                    <a:lnTo>
                      <a:pt x="54" y="582"/>
                    </a:lnTo>
                    <a:lnTo>
                      <a:pt x="95" y="562"/>
                    </a:lnTo>
                    <a:lnTo>
                      <a:pt x="118" y="534"/>
                    </a:lnTo>
                    <a:lnTo>
                      <a:pt x="119" y="505"/>
                    </a:lnTo>
                    <a:lnTo>
                      <a:pt x="109" y="443"/>
                    </a:lnTo>
                    <a:lnTo>
                      <a:pt x="101" y="385"/>
                    </a:lnTo>
                    <a:lnTo>
                      <a:pt x="99" y="320"/>
                    </a:lnTo>
                    <a:lnTo>
                      <a:pt x="96" y="250"/>
                    </a:lnTo>
                    <a:lnTo>
                      <a:pt x="101" y="189"/>
                    </a:lnTo>
                    <a:lnTo>
                      <a:pt x="104" y="13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2741400" y="5772960"/>
                <a:ext cx="280080" cy="834120"/>
              </a:xfrm>
              <a:custGeom>
                <a:avLst/>
                <a:gdLst/>
                <a:ahLst/>
                <a:rect l="l" t="t" r="r" b="b"/>
                <a:pathLst>
                  <a:path w="232" h="584">
                    <a:moveTo>
                      <a:pt x="27" y="9"/>
                    </a:moveTo>
                    <a:lnTo>
                      <a:pt x="55" y="0"/>
                    </a:lnTo>
                    <a:lnTo>
                      <a:pt x="90" y="22"/>
                    </a:lnTo>
                    <a:lnTo>
                      <a:pt x="108" y="70"/>
                    </a:lnTo>
                    <a:lnTo>
                      <a:pt x="147" y="145"/>
                    </a:lnTo>
                    <a:lnTo>
                      <a:pt x="169" y="215"/>
                    </a:lnTo>
                    <a:lnTo>
                      <a:pt x="180" y="262"/>
                    </a:lnTo>
                    <a:lnTo>
                      <a:pt x="175" y="302"/>
                    </a:lnTo>
                    <a:lnTo>
                      <a:pt x="160" y="341"/>
                    </a:lnTo>
                    <a:lnTo>
                      <a:pt x="118" y="400"/>
                    </a:lnTo>
                    <a:lnTo>
                      <a:pt x="78" y="457"/>
                    </a:lnTo>
                    <a:lnTo>
                      <a:pt x="64" y="501"/>
                    </a:lnTo>
                    <a:lnTo>
                      <a:pt x="64" y="521"/>
                    </a:lnTo>
                    <a:lnTo>
                      <a:pt x="85" y="536"/>
                    </a:lnTo>
                    <a:lnTo>
                      <a:pt x="132" y="531"/>
                    </a:lnTo>
                    <a:lnTo>
                      <a:pt x="180" y="521"/>
                    </a:lnTo>
                    <a:lnTo>
                      <a:pt x="202" y="523"/>
                    </a:lnTo>
                    <a:lnTo>
                      <a:pt x="216" y="536"/>
                    </a:lnTo>
                    <a:lnTo>
                      <a:pt x="232" y="553"/>
                    </a:lnTo>
                    <a:lnTo>
                      <a:pt x="229" y="574"/>
                    </a:lnTo>
                    <a:lnTo>
                      <a:pt x="205" y="580"/>
                    </a:lnTo>
                    <a:lnTo>
                      <a:pt x="157" y="571"/>
                    </a:lnTo>
                    <a:lnTo>
                      <a:pt x="103" y="571"/>
                    </a:lnTo>
                    <a:lnTo>
                      <a:pt x="58" y="580"/>
                    </a:lnTo>
                    <a:lnTo>
                      <a:pt x="36" y="584"/>
                    </a:lnTo>
                    <a:lnTo>
                      <a:pt x="15" y="569"/>
                    </a:lnTo>
                    <a:lnTo>
                      <a:pt x="9" y="552"/>
                    </a:lnTo>
                    <a:lnTo>
                      <a:pt x="24" y="514"/>
                    </a:lnTo>
                    <a:lnTo>
                      <a:pt x="36" y="470"/>
                    </a:lnTo>
                    <a:lnTo>
                      <a:pt x="55" y="413"/>
                    </a:lnTo>
                    <a:lnTo>
                      <a:pt x="82" y="372"/>
                    </a:lnTo>
                    <a:lnTo>
                      <a:pt x="103" y="321"/>
                    </a:lnTo>
                    <a:lnTo>
                      <a:pt x="121" y="293"/>
                    </a:lnTo>
                    <a:lnTo>
                      <a:pt x="117" y="266"/>
                    </a:lnTo>
                    <a:lnTo>
                      <a:pt x="96" y="220"/>
                    </a:lnTo>
                    <a:lnTo>
                      <a:pt x="60" y="167"/>
                    </a:lnTo>
                    <a:lnTo>
                      <a:pt x="28" y="127"/>
                    </a:lnTo>
                    <a:lnTo>
                      <a:pt x="10" y="92"/>
                    </a:lnTo>
                    <a:lnTo>
                      <a:pt x="0" y="60"/>
                    </a:lnTo>
                    <a:lnTo>
                      <a:pt x="4" y="20"/>
                    </a:lnTo>
                    <a:lnTo>
                      <a:pt x="42" y="3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flipH="1">
              <a:off x="2494080" y="5433120"/>
              <a:ext cx="1227240" cy="963000"/>
            </a:xfrm>
            <a:custGeom>
              <a:avLst/>
              <a:gdLst/>
              <a:ahLst/>
              <a:rect l="l" t="t" r="r" b="b"/>
              <a:pathLst>
                <a:path w="1018" h="674">
                  <a:moveTo>
                    <a:pt x="944" y="9"/>
                  </a:moveTo>
                  <a:lnTo>
                    <a:pt x="935" y="0"/>
                  </a:lnTo>
                  <a:lnTo>
                    <a:pt x="846" y="35"/>
                  </a:lnTo>
                  <a:lnTo>
                    <a:pt x="790" y="58"/>
                  </a:lnTo>
                  <a:lnTo>
                    <a:pt x="621" y="165"/>
                  </a:lnTo>
                  <a:lnTo>
                    <a:pt x="454" y="270"/>
                  </a:lnTo>
                  <a:lnTo>
                    <a:pt x="306" y="347"/>
                  </a:lnTo>
                  <a:lnTo>
                    <a:pt x="206" y="398"/>
                  </a:lnTo>
                  <a:lnTo>
                    <a:pt x="82" y="465"/>
                  </a:lnTo>
                  <a:lnTo>
                    <a:pt x="0" y="512"/>
                  </a:lnTo>
                  <a:lnTo>
                    <a:pt x="9" y="551"/>
                  </a:lnTo>
                  <a:lnTo>
                    <a:pt x="42" y="614"/>
                  </a:lnTo>
                  <a:lnTo>
                    <a:pt x="74" y="656"/>
                  </a:lnTo>
                  <a:lnTo>
                    <a:pt x="99" y="674"/>
                  </a:lnTo>
                  <a:lnTo>
                    <a:pt x="267" y="578"/>
                  </a:lnTo>
                  <a:lnTo>
                    <a:pt x="471" y="461"/>
                  </a:lnTo>
                  <a:lnTo>
                    <a:pt x="598" y="386"/>
                  </a:lnTo>
                  <a:lnTo>
                    <a:pt x="700" y="323"/>
                  </a:lnTo>
                  <a:lnTo>
                    <a:pt x="859" y="232"/>
                  </a:lnTo>
                  <a:lnTo>
                    <a:pt x="944" y="184"/>
                  </a:lnTo>
                  <a:lnTo>
                    <a:pt x="987" y="137"/>
                  </a:lnTo>
                  <a:lnTo>
                    <a:pt x="1018" y="88"/>
                  </a:lnTo>
                  <a:lnTo>
                    <a:pt x="986" y="58"/>
                  </a:lnTo>
                  <a:lnTo>
                    <a:pt x="961" y="32"/>
                  </a:lnTo>
                  <a:lnTo>
                    <a:pt x="947" y="1"/>
                  </a:lnTo>
                  <a:lnTo>
                    <a:pt x="944" y="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1844280" y="4660200"/>
              <a:ext cx="878760" cy="1041480"/>
            </a:xfrm>
            <a:custGeom>
              <a:avLst/>
              <a:gdLst/>
              <a:ahLst/>
              <a:rect l="l" t="t" r="r" b="b"/>
              <a:pathLst>
                <a:path w="730" h="730">
                  <a:moveTo>
                    <a:pt x="612" y="429"/>
                  </a:moveTo>
                  <a:lnTo>
                    <a:pt x="470" y="232"/>
                  </a:lnTo>
                  <a:lnTo>
                    <a:pt x="445" y="220"/>
                  </a:lnTo>
                  <a:lnTo>
                    <a:pt x="413" y="210"/>
                  </a:lnTo>
                  <a:lnTo>
                    <a:pt x="391" y="166"/>
                  </a:lnTo>
                  <a:lnTo>
                    <a:pt x="320" y="114"/>
                  </a:lnTo>
                  <a:lnTo>
                    <a:pt x="238" y="67"/>
                  </a:lnTo>
                  <a:lnTo>
                    <a:pt x="164" y="28"/>
                  </a:lnTo>
                  <a:lnTo>
                    <a:pt x="85" y="0"/>
                  </a:lnTo>
                  <a:lnTo>
                    <a:pt x="76" y="13"/>
                  </a:lnTo>
                  <a:lnTo>
                    <a:pt x="234" y="140"/>
                  </a:lnTo>
                  <a:lnTo>
                    <a:pt x="208" y="133"/>
                  </a:lnTo>
                  <a:lnTo>
                    <a:pt x="22" y="63"/>
                  </a:lnTo>
                  <a:lnTo>
                    <a:pt x="0" y="83"/>
                  </a:lnTo>
                  <a:lnTo>
                    <a:pt x="110" y="146"/>
                  </a:lnTo>
                  <a:lnTo>
                    <a:pt x="195" y="210"/>
                  </a:lnTo>
                  <a:lnTo>
                    <a:pt x="241" y="245"/>
                  </a:lnTo>
                  <a:lnTo>
                    <a:pt x="255" y="289"/>
                  </a:lnTo>
                  <a:lnTo>
                    <a:pt x="329" y="356"/>
                  </a:lnTo>
                  <a:lnTo>
                    <a:pt x="329" y="413"/>
                  </a:lnTo>
                  <a:lnTo>
                    <a:pt x="164" y="518"/>
                  </a:lnTo>
                  <a:lnTo>
                    <a:pt x="120" y="540"/>
                  </a:lnTo>
                  <a:lnTo>
                    <a:pt x="105" y="588"/>
                  </a:lnTo>
                  <a:lnTo>
                    <a:pt x="129" y="618"/>
                  </a:lnTo>
                  <a:lnTo>
                    <a:pt x="167" y="628"/>
                  </a:lnTo>
                  <a:lnTo>
                    <a:pt x="199" y="632"/>
                  </a:lnTo>
                  <a:lnTo>
                    <a:pt x="221" y="588"/>
                  </a:lnTo>
                  <a:lnTo>
                    <a:pt x="405" y="496"/>
                  </a:lnTo>
                  <a:lnTo>
                    <a:pt x="449" y="543"/>
                  </a:lnTo>
                  <a:lnTo>
                    <a:pt x="474" y="553"/>
                  </a:lnTo>
                  <a:lnTo>
                    <a:pt x="502" y="561"/>
                  </a:lnTo>
                  <a:lnTo>
                    <a:pt x="522" y="578"/>
                  </a:lnTo>
                  <a:lnTo>
                    <a:pt x="535" y="613"/>
                  </a:lnTo>
                  <a:lnTo>
                    <a:pt x="531" y="641"/>
                  </a:lnTo>
                  <a:lnTo>
                    <a:pt x="513" y="675"/>
                  </a:lnTo>
                  <a:lnTo>
                    <a:pt x="549" y="730"/>
                  </a:lnTo>
                  <a:lnTo>
                    <a:pt x="616" y="727"/>
                  </a:lnTo>
                  <a:lnTo>
                    <a:pt x="654" y="712"/>
                  </a:lnTo>
                  <a:lnTo>
                    <a:pt x="702" y="670"/>
                  </a:lnTo>
                  <a:lnTo>
                    <a:pt x="721" y="635"/>
                  </a:lnTo>
                  <a:lnTo>
                    <a:pt x="730" y="593"/>
                  </a:lnTo>
                  <a:lnTo>
                    <a:pt x="691" y="536"/>
                  </a:lnTo>
                  <a:lnTo>
                    <a:pt x="651" y="536"/>
                  </a:lnTo>
                  <a:lnTo>
                    <a:pt x="616" y="518"/>
                  </a:lnTo>
                  <a:lnTo>
                    <a:pt x="601" y="510"/>
                  </a:lnTo>
                  <a:lnTo>
                    <a:pt x="590" y="479"/>
                  </a:lnTo>
                  <a:lnTo>
                    <a:pt x="601" y="448"/>
                  </a:lnTo>
                  <a:lnTo>
                    <a:pt x="612" y="42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2923560" y="4714920"/>
              <a:ext cx="389520" cy="407160"/>
            </a:xfrm>
            <a:custGeom>
              <a:avLst/>
              <a:gdLst/>
              <a:ahLst/>
              <a:rect l="l" t="t" r="r" b="b"/>
              <a:pathLst>
                <a:path w="323" h="285">
                  <a:moveTo>
                    <a:pt x="218" y="152"/>
                  </a:moveTo>
                  <a:lnTo>
                    <a:pt x="207" y="110"/>
                  </a:lnTo>
                  <a:lnTo>
                    <a:pt x="187" y="67"/>
                  </a:lnTo>
                  <a:lnTo>
                    <a:pt x="164" y="39"/>
                  </a:lnTo>
                  <a:lnTo>
                    <a:pt x="145" y="18"/>
                  </a:lnTo>
                  <a:lnTo>
                    <a:pt x="124" y="7"/>
                  </a:lnTo>
                  <a:lnTo>
                    <a:pt x="101" y="0"/>
                  </a:lnTo>
                  <a:lnTo>
                    <a:pt x="74" y="3"/>
                  </a:lnTo>
                  <a:lnTo>
                    <a:pt x="44" y="16"/>
                  </a:lnTo>
                  <a:lnTo>
                    <a:pt x="21" y="39"/>
                  </a:lnTo>
                  <a:lnTo>
                    <a:pt x="0" y="81"/>
                  </a:lnTo>
                  <a:lnTo>
                    <a:pt x="0" y="121"/>
                  </a:lnTo>
                  <a:lnTo>
                    <a:pt x="3" y="161"/>
                  </a:lnTo>
                  <a:lnTo>
                    <a:pt x="13" y="200"/>
                  </a:lnTo>
                  <a:lnTo>
                    <a:pt x="36" y="228"/>
                  </a:lnTo>
                  <a:lnTo>
                    <a:pt x="61" y="254"/>
                  </a:lnTo>
                  <a:lnTo>
                    <a:pt x="84" y="269"/>
                  </a:lnTo>
                  <a:lnTo>
                    <a:pt x="123" y="281"/>
                  </a:lnTo>
                  <a:lnTo>
                    <a:pt x="163" y="285"/>
                  </a:lnTo>
                  <a:lnTo>
                    <a:pt x="190" y="281"/>
                  </a:lnTo>
                  <a:lnTo>
                    <a:pt x="212" y="263"/>
                  </a:lnTo>
                  <a:lnTo>
                    <a:pt x="218" y="233"/>
                  </a:lnTo>
                  <a:lnTo>
                    <a:pt x="218" y="206"/>
                  </a:lnTo>
                  <a:lnTo>
                    <a:pt x="222" y="187"/>
                  </a:lnTo>
                  <a:lnTo>
                    <a:pt x="267" y="191"/>
                  </a:lnTo>
                  <a:lnTo>
                    <a:pt x="302" y="206"/>
                  </a:lnTo>
                  <a:lnTo>
                    <a:pt x="320" y="201"/>
                  </a:lnTo>
                  <a:lnTo>
                    <a:pt x="323" y="182"/>
                  </a:lnTo>
                  <a:lnTo>
                    <a:pt x="314" y="164"/>
                  </a:lnTo>
                  <a:lnTo>
                    <a:pt x="293" y="157"/>
                  </a:lnTo>
                  <a:lnTo>
                    <a:pt x="253" y="152"/>
                  </a:lnTo>
                  <a:lnTo>
                    <a:pt x="218" y="15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073680" y="5224680"/>
              <a:ext cx="246960" cy="793800"/>
            </a:xfrm>
            <a:custGeom>
              <a:avLst/>
              <a:gdLst/>
              <a:ahLst/>
              <a:rect l="l" t="t" r="r" b="b"/>
              <a:pathLst>
                <a:path w="205" h="556">
                  <a:moveTo>
                    <a:pt x="72" y="109"/>
                  </a:moveTo>
                  <a:lnTo>
                    <a:pt x="81" y="56"/>
                  </a:lnTo>
                  <a:lnTo>
                    <a:pt x="92" y="21"/>
                  </a:lnTo>
                  <a:lnTo>
                    <a:pt x="122" y="0"/>
                  </a:lnTo>
                  <a:lnTo>
                    <a:pt x="142" y="18"/>
                  </a:lnTo>
                  <a:lnTo>
                    <a:pt x="160" y="57"/>
                  </a:lnTo>
                  <a:lnTo>
                    <a:pt x="140" y="95"/>
                  </a:lnTo>
                  <a:lnTo>
                    <a:pt x="127" y="119"/>
                  </a:lnTo>
                  <a:lnTo>
                    <a:pt x="104" y="154"/>
                  </a:lnTo>
                  <a:lnTo>
                    <a:pt x="81" y="211"/>
                  </a:lnTo>
                  <a:lnTo>
                    <a:pt x="56" y="258"/>
                  </a:lnTo>
                  <a:lnTo>
                    <a:pt x="50" y="298"/>
                  </a:lnTo>
                  <a:lnTo>
                    <a:pt x="59" y="349"/>
                  </a:lnTo>
                  <a:lnTo>
                    <a:pt x="81" y="390"/>
                  </a:lnTo>
                  <a:lnTo>
                    <a:pt x="110" y="420"/>
                  </a:lnTo>
                  <a:lnTo>
                    <a:pt x="128" y="428"/>
                  </a:lnTo>
                  <a:lnTo>
                    <a:pt x="160" y="412"/>
                  </a:lnTo>
                  <a:lnTo>
                    <a:pt x="182" y="389"/>
                  </a:lnTo>
                  <a:lnTo>
                    <a:pt x="205" y="398"/>
                  </a:lnTo>
                  <a:lnTo>
                    <a:pt x="205" y="425"/>
                  </a:lnTo>
                  <a:lnTo>
                    <a:pt x="176" y="443"/>
                  </a:lnTo>
                  <a:lnTo>
                    <a:pt x="142" y="450"/>
                  </a:lnTo>
                  <a:lnTo>
                    <a:pt x="133" y="464"/>
                  </a:lnTo>
                  <a:lnTo>
                    <a:pt x="136" y="499"/>
                  </a:lnTo>
                  <a:lnTo>
                    <a:pt x="146" y="521"/>
                  </a:lnTo>
                  <a:lnTo>
                    <a:pt x="163" y="540"/>
                  </a:lnTo>
                  <a:lnTo>
                    <a:pt x="151" y="556"/>
                  </a:lnTo>
                  <a:lnTo>
                    <a:pt x="115" y="556"/>
                  </a:lnTo>
                  <a:lnTo>
                    <a:pt x="109" y="516"/>
                  </a:lnTo>
                  <a:lnTo>
                    <a:pt x="104" y="472"/>
                  </a:lnTo>
                  <a:lnTo>
                    <a:pt x="92" y="464"/>
                  </a:lnTo>
                  <a:lnTo>
                    <a:pt x="74" y="483"/>
                  </a:lnTo>
                  <a:lnTo>
                    <a:pt x="65" y="525"/>
                  </a:lnTo>
                  <a:lnTo>
                    <a:pt x="41" y="521"/>
                  </a:lnTo>
                  <a:lnTo>
                    <a:pt x="33" y="487"/>
                  </a:lnTo>
                  <a:lnTo>
                    <a:pt x="51" y="456"/>
                  </a:lnTo>
                  <a:lnTo>
                    <a:pt x="63" y="442"/>
                  </a:lnTo>
                  <a:lnTo>
                    <a:pt x="65" y="421"/>
                  </a:lnTo>
                  <a:lnTo>
                    <a:pt x="41" y="390"/>
                  </a:lnTo>
                  <a:lnTo>
                    <a:pt x="20" y="351"/>
                  </a:lnTo>
                  <a:lnTo>
                    <a:pt x="0" y="301"/>
                  </a:lnTo>
                  <a:lnTo>
                    <a:pt x="0" y="264"/>
                  </a:lnTo>
                  <a:lnTo>
                    <a:pt x="23" y="227"/>
                  </a:lnTo>
                  <a:lnTo>
                    <a:pt x="42" y="179"/>
                  </a:lnTo>
                  <a:lnTo>
                    <a:pt x="56" y="139"/>
                  </a:lnTo>
                  <a:lnTo>
                    <a:pt x="72" y="109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1829160" y="4648320"/>
              <a:ext cx="1904760" cy="1756800"/>
              <a:chOff x="1829160" y="4648320"/>
              <a:chExt cx="1904760" cy="1756800"/>
            </a:xfrm>
          </p:grpSpPr>
          <p:sp>
            <p:nvSpPr>
              <p:cNvPr id="1110" name=""/>
              <p:cNvSpPr/>
              <p:nvPr/>
            </p:nvSpPr>
            <p:spPr>
              <a:xfrm flipH="1">
                <a:off x="2216160" y="5216760"/>
                <a:ext cx="1517760" cy="1188360"/>
              </a:xfrm>
              <a:custGeom>
                <a:avLst/>
                <a:gdLst/>
                <a:ahLst/>
                <a:rect l="l" t="t" r="r" b="b"/>
                <a:pathLst>
                  <a:path w="1259" h="832">
                    <a:moveTo>
                      <a:pt x="1174" y="0"/>
                    </a:moveTo>
                    <a:lnTo>
                      <a:pt x="1067" y="72"/>
                    </a:lnTo>
                    <a:lnTo>
                      <a:pt x="957" y="142"/>
                    </a:lnTo>
                    <a:lnTo>
                      <a:pt x="873" y="172"/>
                    </a:lnTo>
                    <a:lnTo>
                      <a:pt x="790" y="206"/>
                    </a:lnTo>
                    <a:lnTo>
                      <a:pt x="662" y="285"/>
                    </a:lnTo>
                    <a:lnTo>
                      <a:pt x="459" y="412"/>
                    </a:lnTo>
                    <a:lnTo>
                      <a:pt x="271" y="512"/>
                    </a:lnTo>
                    <a:lnTo>
                      <a:pt x="111" y="598"/>
                    </a:lnTo>
                    <a:lnTo>
                      <a:pt x="0" y="661"/>
                    </a:lnTo>
                    <a:lnTo>
                      <a:pt x="10" y="712"/>
                    </a:lnTo>
                    <a:lnTo>
                      <a:pt x="39" y="758"/>
                    </a:lnTo>
                    <a:lnTo>
                      <a:pt x="74" y="810"/>
                    </a:lnTo>
                    <a:lnTo>
                      <a:pt x="119" y="832"/>
                    </a:lnTo>
                    <a:lnTo>
                      <a:pt x="478" y="622"/>
                    </a:lnTo>
                    <a:lnTo>
                      <a:pt x="717" y="480"/>
                    </a:lnTo>
                    <a:lnTo>
                      <a:pt x="901" y="372"/>
                    </a:lnTo>
                    <a:lnTo>
                      <a:pt x="966" y="337"/>
                    </a:lnTo>
                    <a:lnTo>
                      <a:pt x="1026" y="267"/>
                    </a:lnTo>
                    <a:lnTo>
                      <a:pt x="1071" y="197"/>
                    </a:lnTo>
                    <a:lnTo>
                      <a:pt x="1166" y="149"/>
                    </a:lnTo>
                    <a:lnTo>
                      <a:pt x="1259" y="109"/>
                    </a:lnTo>
                    <a:lnTo>
                      <a:pt x="1244" y="88"/>
                    </a:lnTo>
                    <a:lnTo>
                      <a:pt x="1084" y="171"/>
                    </a:lnTo>
                    <a:lnTo>
                      <a:pt x="1058" y="185"/>
                    </a:lnTo>
                    <a:lnTo>
                      <a:pt x="1043" y="206"/>
                    </a:lnTo>
                    <a:lnTo>
                      <a:pt x="1005" y="258"/>
                    </a:lnTo>
                    <a:lnTo>
                      <a:pt x="965" y="311"/>
                    </a:lnTo>
                    <a:lnTo>
                      <a:pt x="930" y="337"/>
                    </a:lnTo>
                    <a:lnTo>
                      <a:pt x="764" y="432"/>
                    </a:lnTo>
                    <a:lnTo>
                      <a:pt x="612" y="524"/>
                    </a:lnTo>
                    <a:lnTo>
                      <a:pt x="452" y="613"/>
                    </a:lnTo>
                    <a:lnTo>
                      <a:pt x="307" y="699"/>
                    </a:lnTo>
                    <a:lnTo>
                      <a:pt x="185" y="771"/>
                    </a:lnTo>
                    <a:lnTo>
                      <a:pt x="111" y="813"/>
                    </a:lnTo>
                    <a:lnTo>
                      <a:pt x="80" y="791"/>
                    </a:lnTo>
                    <a:lnTo>
                      <a:pt x="57" y="752"/>
                    </a:lnTo>
                    <a:lnTo>
                      <a:pt x="35" y="712"/>
                    </a:lnTo>
                    <a:lnTo>
                      <a:pt x="26" y="664"/>
                    </a:lnTo>
                    <a:lnTo>
                      <a:pt x="185" y="577"/>
                    </a:lnTo>
                    <a:lnTo>
                      <a:pt x="430" y="447"/>
                    </a:lnTo>
                    <a:lnTo>
                      <a:pt x="605" y="344"/>
                    </a:lnTo>
                    <a:lnTo>
                      <a:pt x="750" y="251"/>
                    </a:lnTo>
                    <a:lnTo>
                      <a:pt x="829" y="210"/>
                    </a:lnTo>
                    <a:lnTo>
                      <a:pt x="918" y="172"/>
                    </a:lnTo>
                    <a:lnTo>
                      <a:pt x="978" y="150"/>
                    </a:lnTo>
                    <a:lnTo>
                      <a:pt x="1192" y="18"/>
                    </a:lnTo>
                    <a:lnTo>
                      <a:pt x="1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1976040" y="4648320"/>
                <a:ext cx="770400" cy="728280"/>
              </a:xfrm>
              <a:custGeom>
                <a:avLst/>
                <a:gdLst/>
                <a:ahLst/>
                <a:rect l="l" t="t" r="r" b="b"/>
                <a:pathLst>
                  <a:path w="639" h="510">
                    <a:moveTo>
                      <a:pt x="639" y="439"/>
                    </a:moveTo>
                    <a:lnTo>
                      <a:pt x="488" y="234"/>
                    </a:lnTo>
                    <a:lnTo>
                      <a:pt x="454" y="216"/>
                    </a:lnTo>
                    <a:lnTo>
                      <a:pt x="432" y="207"/>
                    </a:lnTo>
                    <a:lnTo>
                      <a:pt x="424" y="176"/>
                    </a:lnTo>
                    <a:lnTo>
                      <a:pt x="361" y="123"/>
                    </a:lnTo>
                    <a:lnTo>
                      <a:pt x="283" y="82"/>
                    </a:lnTo>
                    <a:lnTo>
                      <a:pt x="204" y="35"/>
                    </a:lnTo>
                    <a:lnTo>
                      <a:pt x="111" y="3"/>
                    </a:lnTo>
                    <a:lnTo>
                      <a:pt x="92" y="0"/>
                    </a:lnTo>
                    <a:lnTo>
                      <a:pt x="75" y="21"/>
                    </a:lnTo>
                    <a:lnTo>
                      <a:pt x="103" y="40"/>
                    </a:lnTo>
                    <a:lnTo>
                      <a:pt x="176" y="97"/>
                    </a:lnTo>
                    <a:lnTo>
                      <a:pt x="220" y="128"/>
                    </a:lnTo>
                    <a:lnTo>
                      <a:pt x="138" y="97"/>
                    </a:lnTo>
                    <a:lnTo>
                      <a:pt x="84" y="75"/>
                    </a:lnTo>
                    <a:lnTo>
                      <a:pt x="35" y="57"/>
                    </a:lnTo>
                    <a:lnTo>
                      <a:pt x="0" y="91"/>
                    </a:lnTo>
                    <a:lnTo>
                      <a:pt x="35" y="109"/>
                    </a:lnTo>
                    <a:lnTo>
                      <a:pt x="119" y="157"/>
                    </a:lnTo>
                    <a:lnTo>
                      <a:pt x="186" y="206"/>
                    </a:lnTo>
                    <a:lnTo>
                      <a:pt x="255" y="259"/>
                    </a:lnTo>
                    <a:lnTo>
                      <a:pt x="264" y="300"/>
                    </a:lnTo>
                    <a:lnTo>
                      <a:pt x="290" y="326"/>
                    </a:lnTo>
                    <a:lnTo>
                      <a:pt x="336" y="370"/>
                    </a:lnTo>
                    <a:lnTo>
                      <a:pt x="347" y="414"/>
                    </a:lnTo>
                    <a:lnTo>
                      <a:pt x="352" y="432"/>
                    </a:lnTo>
                    <a:lnTo>
                      <a:pt x="418" y="510"/>
                    </a:lnTo>
                    <a:lnTo>
                      <a:pt x="435" y="501"/>
                    </a:lnTo>
                    <a:lnTo>
                      <a:pt x="402" y="441"/>
                    </a:lnTo>
                    <a:lnTo>
                      <a:pt x="365" y="406"/>
                    </a:lnTo>
                    <a:lnTo>
                      <a:pt x="358" y="366"/>
                    </a:lnTo>
                    <a:lnTo>
                      <a:pt x="317" y="325"/>
                    </a:lnTo>
                    <a:lnTo>
                      <a:pt x="278" y="294"/>
                    </a:lnTo>
                    <a:lnTo>
                      <a:pt x="265" y="247"/>
                    </a:lnTo>
                    <a:lnTo>
                      <a:pt x="229" y="212"/>
                    </a:lnTo>
                    <a:lnTo>
                      <a:pt x="173" y="179"/>
                    </a:lnTo>
                    <a:lnTo>
                      <a:pt x="125" y="141"/>
                    </a:lnTo>
                    <a:lnTo>
                      <a:pt x="59" y="109"/>
                    </a:lnTo>
                    <a:lnTo>
                      <a:pt x="31" y="88"/>
                    </a:lnTo>
                    <a:lnTo>
                      <a:pt x="48" y="79"/>
                    </a:lnTo>
                    <a:lnTo>
                      <a:pt x="226" y="153"/>
                    </a:lnTo>
                    <a:lnTo>
                      <a:pt x="281" y="185"/>
                    </a:lnTo>
                    <a:lnTo>
                      <a:pt x="308" y="203"/>
                    </a:lnTo>
                    <a:lnTo>
                      <a:pt x="321" y="179"/>
                    </a:lnTo>
                    <a:lnTo>
                      <a:pt x="243" y="122"/>
                    </a:lnTo>
                    <a:lnTo>
                      <a:pt x="195" y="84"/>
                    </a:lnTo>
                    <a:lnTo>
                      <a:pt x="132" y="40"/>
                    </a:lnTo>
                    <a:lnTo>
                      <a:pt x="106" y="16"/>
                    </a:lnTo>
                    <a:lnTo>
                      <a:pt x="182" y="43"/>
                    </a:lnTo>
                    <a:lnTo>
                      <a:pt x="264" y="87"/>
                    </a:lnTo>
                    <a:lnTo>
                      <a:pt x="343" y="135"/>
                    </a:lnTo>
                    <a:lnTo>
                      <a:pt x="400" y="179"/>
                    </a:lnTo>
                    <a:lnTo>
                      <a:pt x="413" y="203"/>
                    </a:lnTo>
                    <a:lnTo>
                      <a:pt x="419" y="228"/>
                    </a:lnTo>
                    <a:lnTo>
                      <a:pt x="463" y="237"/>
                    </a:lnTo>
                    <a:lnTo>
                      <a:pt x="492" y="265"/>
                    </a:lnTo>
                    <a:lnTo>
                      <a:pt x="545" y="347"/>
                    </a:lnTo>
                    <a:lnTo>
                      <a:pt x="607" y="431"/>
                    </a:lnTo>
                    <a:lnTo>
                      <a:pt x="624" y="448"/>
                    </a:lnTo>
                    <a:lnTo>
                      <a:pt x="639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2075400" y="5112360"/>
                <a:ext cx="105840" cy="14688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19" y="0"/>
                    </a:moveTo>
                    <a:lnTo>
                      <a:pt x="45" y="12"/>
                    </a:lnTo>
                    <a:lnTo>
                      <a:pt x="72" y="47"/>
                    </a:lnTo>
                    <a:lnTo>
                      <a:pt x="88" y="84"/>
                    </a:lnTo>
                    <a:lnTo>
                      <a:pt x="83" y="103"/>
                    </a:lnTo>
                    <a:lnTo>
                      <a:pt x="53" y="97"/>
                    </a:lnTo>
                    <a:lnTo>
                      <a:pt x="11" y="52"/>
                    </a:lnTo>
                    <a:lnTo>
                      <a:pt x="0" y="28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1828800" y="5259240"/>
                <a:ext cx="419400" cy="456840"/>
              </a:xfrm>
              <a:custGeom>
                <a:avLst/>
                <a:gdLst/>
                <a:ahLst/>
                <a:rect l="l" t="t" r="r" b="b"/>
                <a:pathLst>
                  <a:path w="348" h="320">
                    <a:moveTo>
                      <a:pt x="204" y="0"/>
                    </a:moveTo>
                    <a:lnTo>
                      <a:pt x="193" y="33"/>
                    </a:lnTo>
                    <a:lnTo>
                      <a:pt x="187" y="53"/>
                    </a:lnTo>
                    <a:lnTo>
                      <a:pt x="195" y="81"/>
                    </a:lnTo>
                    <a:lnTo>
                      <a:pt x="209" y="104"/>
                    </a:lnTo>
                    <a:lnTo>
                      <a:pt x="250" y="121"/>
                    </a:lnTo>
                    <a:lnTo>
                      <a:pt x="275" y="126"/>
                    </a:lnTo>
                    <a:lnTo>
                      <a:pt x="290" y="130"/>
                    </a:lnTo>
                    <a:lnTo>
                      <a:pt x="324" y="175"/>
                    </a:lnTo>
                    <a:lnTo>
                      <a:pt x="315" y="218"/>
                    </a:lnTo>
                    <a:lnTo>
                      <a:pt x="281" y="255"/>
                    </a:lnTo>
                    <a:lnTo>
                      <a:pt x="235" y="289"/>
                    </a:lnTo>
                    <a:lnTo>
                      <a:pt x="195" y="298"/>
                    </a:lnTo>
                    <a:lnTo>
                      <a:pt x="155" y="296"/>
                    </a:lnTo>
                    <a:lnTo>
                      <a:pt x="126" y="250"/>
                    </a:lnTo>
                    <a:lnTo>
                      <a:pt x="142" y="213"/>
                    </a:lnTo>
                    <a:lnTo>
                      <a:pt x="142" y="179"/>
                    </a:lnTo>
                    <a:lnTo>
                      <a:pt x="129" y="144"/>
                    </a:lnTo>
                    <a:lnTo>
                      <a:pt x="99" y="124"/>
                    </a:lnTo>
                    <a:lnTo>
                      <a:pt x="62" y="117"/>
                    </a:lnTo>
                    <a:lnTo>
                      <a:pt x="9" y="64"/>
                    </a:lnTo>
                    <a:lnTo>
                      <a:pt x="0" y="81"/>
                    </a:lnTo>
                    <a:lnTo>
                      <a:pt x="44" y="126"/>
                    </a:lnTo>
                    <a:lnTo>
                      <a:pt x="64" y="135"/>
                    </a:lnTo>
                    <a:lnTo>
                      <a:pt x="99" y="142"/>
                    </a:lnTo>
                    <a:lnTo>
                      <a:pt x="121" y="166"/>
                    </a:lnTo>
                    <a:lnTo>
                      <a:pt x="126" y="201"/>
                    </a:lnTo>
                    <a:lnTo>
                      <a:pt x="117" y="236"/>
                    </a:lnTo>
                    <a:lnTo>
                      <a:pt x="102" y="255"/>
                    </a:lnTo>
                    <a:lnTo>
                      <a:pt x="142" y="316"/>
                    </a:lnTo>
                    <a:lnTo>
                      <a:pt x="188" y="320"/>
                    </a:lnTo>
                    <a:lnTo>
                      <a:pt x="240" y="311"/>
                    </a:lnTo>
                    <a:lnTo>
                      <a:pt x="264" y="296"/>
                    </a:lnTo>
                    <a:lnTo>
                      <a:pt x="293" y="268"/>
                    </a:lnTo>
                    <a:lnTo>
                      <a:pt x="326" y="241"/>
                    </a:lnTo>
                    <a:lnTo>
                      <a:pt x="335" y="218"/>
                    </a:lnTo>
                    <a:lnTo>
                      <a:pt x="348" y="170"/>
                    </a:lnTo>
                    <a:lnTo>
                      <a:pt x="295" y="104"/>
                    </a:lnTo>
                    <a:lnTo>
                      <a:pt x="264" y="108"/>
                    </a:lnTo>
                    <a:lnTo>
                      <a:pt x="232" y="93"/>
                    </a:lnTo>
                    <a:lnTo>
                      <a:pt x="206" y="76"/>
                    </a:lnTo>
                    <a:lnTo>
                      <a:pt x="206" y="50"/>
                    </a:lnTo>
                    <a:lnTo>
                      <a:pt x="213" y="27"/>
                    </a:lnTo>
                    <a:lnTo>
                      <a:pt x="219" y="6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907280" y="5472000"/>
                <a:ext cx="165960" cy="152640"/>
              </a:xfrm>
              <a:custGeom>
                <a:avLst/>
                <a:gdLst/>
                <a:ahLst/>
                <a:rect l="l" t="t" r="r" b="b"/>
                <a:pathLst>
                  <a:path w="138" h="107">
                    <a:moveTo>
                      <a:pt x="138" y="0"/>
                    </a:moveTo>
                    <a:lnTo>
                      <a:pt x="124" y="42"/>
                    </a:lnTo>
                    <a:lnTo>
                      <a:pt x="95" y="82"/>
                    </a:lnTo>
                    <a:lnTo>
                      <a:pt x="54" y="107"/>
                    </a:lnTo>
                    <a:lnTo>
                      <a:pt x="0" y="107"/>
                    </a:lnTo>
                    <a:lnTo>
                      <a:pt x="31" y="93"/>
                    </a:lnTo>
                    <a:lnTo>
                      <a:pt x="78" y="70"/>
                    </a:lnTo>
                    <a:lnTo>
                      <a:pt x="110" y="4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5" name=""/>
          <p:cNvSpPr/>
          <p:nvPr/>
        </p:nvSpPr>
        <p:spPr>
          <a:xfrm>
            <a:off x="4952880" y="3349800"/>
            <a:ext cx="40388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Metaf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yjaśnia działanie systemu w terminach zrozumiałych dla kli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54104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Stosuj grę planistyczn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Aby rzeczy pierwsze były pierwsze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” – S. Co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73160" y="3994200"/>
            <a:ext cx="1579320" cy="1644480"/>
            <a:chOff x="173160" y="3994200"/>
            <a:chExt cx="1579320" cy="1644480"/>
          </a:xfrm>
        </p:grpSpPr>
        <p:sp>
          <p:nvSpPr>
            <p:cNvPr id="1119" name=""/>
            <p:cNvSpPr/>
            <p:nvPr/>
          </p:nvSpPr>
          <p:spPr>
            <a:xfrm>
              <a:off x="173160" y="3994200"/>
              <a:ext cx="1579320" cy="1644480"/>
            </a:xfrm>
            <a:custGeom>
              <a:avLst/>
              <a:gdLst/>
              <a:ahLst/>
              <a:rect l="l" t="t" r="r" b="b"/>
              <a:pathLst>
                <a:path w="2086" h="2456">
                  <a:moveTo>
                    <a:pt x="729" y="455"/>
                  </a:moveTo>
                  <a:lnTo>
                    <a:pt x="606" y="571"/>
                  </a:lnTo>
                  <a:lnTo>
                    <a:pt x="460" y="688"/>
                  </a:lnTo>
                  <a:lnTo>
                    <a:pt x="303" y="874"/>
                  </a:lnTo>
                  <a:lnTo>
                    <a:pt x="135" y="1118"/>
                  </a:lnTo>
                  <a:lnTo>
                    <a:pt x="45" y="1328"/>
                  </a:lnTo>
                  <a:lnTo>
                    <a:pt x="0" y="1491"/>
                  </a:lnTo>
                  <a:lnTo>
                    <a:pt x="0" y="1595"/>
                  </a:lnTo>
                  <a:lnTo>
                    <a:pt x="12" y="1817"/>
                  </a:lnTo>
                  <a:lnTo>
                    <a:pt x="45" y="1980"/>
                  </a:lnTo>
                  <a:lnTo>
                    <a:pt x="135" y="2084"/>
                  </a:lnTo>
                  <a:lnTo>
                    <a:pt x="314" y="2213"/>
                  </a:lnTo>
                  <a:lnTo>
                    <a:pt x="483" y="2294"/>
                  </a:lnTo>
                  <a:lnTo>
                    <a:pt x="695" y="2375"/>
                  </a:lnTo>
                  <a:lnTo>
                    <a:pt x="818" y="2422"/>
                  </a:lnTo>
                  <a:lnTo>
                    <a:pt x="1032" y="2456"/>
                  </a:lnTo>
                  <a:lnTo>
                    <a:pt x="1357" y="2422"/>
                  </a:lnTo>
                  <a:lnTo>
                    <a:pt x="1637" y="2341"/>
                  </a:lnTo>
                  <a:lnTo>
                    <a:pt x="1816" y="2224"/>
                  </a:lnTo>
                  <a:lnTo>
                    <a:pt x="1929" y="2096"/>
                  </a:lnTo>
                  <a:lnTo>
                    <a:pt x="1996" y="1968"/>
                  </a:lnTo>
                  <a:lnTo>
                    <a:pt x="2063" y="1805"/>
                  </a:lnTo>
                  <a:lnTo>
                    <a:pt x="2086" y="1619"/>
                  </a:lnTo>
                  <a:lnTo>
                    <a:pt x="2086" y="1363"/>
                  </a:lnTo>
                  <a:lnTo>
                    <a:pt x="2041" y="1200"/>
                  </a:lnTo>
                  <a:lnTo>
                    <a:pt x="1951" y="1025"/>
                  </a:lnTo>
                  <a:lnTo>
                    <a:pt x="1827" y="862"/>
                  </a:lnTo>
                  <a:lnTo>
                    <a:pt x="1693" y="733"/>
                  </a:lnTo>
                  <a:lnTo>
                    <a:pt x="1559" y="629"/>
                  </a:lnTo>
                  <a:lnTo>
                    <a:pt x="1368" y="536"/>
                  </a:lnTo>
                  <a:lnTo>
                    <a:pt x="1357" y="478"/>
                  </a:lnTo>
                  <a:lnTo>
                    <a:pt x="1525" y="291"/>
                  </a:lnTo>
                  <a:lnTo>
                    <a:pt x="1536" y="175"/>
                  </a:lnTo>
                  <a:lnTo>
                    <a:pt x="1346" y="291"/>
                  </a:lnTo>
                  <a:lnTo>
                    <a:pt x="1413" y="82"/>
                  </a:lnTo>
                  <a:lnTo>
                    <a:pt x="1391" y="71"/>
                  </a:lnTo>
                  <a:lnTo>
                    <a:pt x="1323" y="71"/>
                  </a:lnTo>
                  <a:lnTo>
                    <a:pt x="1211" y="210"/>
                  </a:lnTo>
                  <a:lnTo>
                    <a:pt x="1144" y="291"/>
                  </a:lnTo>
                  <a:lnTo>
                    <a:pt x="1166" y="140"/>
                  </a:lnTo>
                  <a:lnTo>
                    <a:pt x="1211" y="24"/>
                  </a:lnTo>
                  <a:lnTo>
                    <a:pt x="1177" y="0"/>
                  </a:lnTo>
                  <a:lnTo>
                    <a:pt x="1099" y="71"/>
                  </a:lnTo>
                  <a:lnTo>
                    <a:pt x="1021" y="244"/>
                  </a:lnTo>
                  <a:lnTo>
                    <a:pt x="987" y="152"/>
                  </a:lnTo>
                  <a:lnTo>
                    <a:pt x="920" y="116"/>
                  </a:lnTo>
                  <a:lnTo>
                    <a:pt x="875" y="233"/>
                  </a:lnTo>
                  <a:lnTo>
                    <a:pt x="864" y="303"/>
                  </a:lnTo>
                  <a:lnTo>
                    <a:pt x="740" y="140"/>
                  </a:lnTo>
                  <a:lnTo>
                    <a:pt x="583" y="12"/>
                  </a:lnTo>
                  <a:lnTo>
                    <a:pt x="539" y="35"/>
                  </a:lnTo>
                  <a:lnTo>
                    <a:pt x="527" y="105"/>
                  </a:lnTo>
                  <a:lnTo>
                    <a:pt x="583" y="210"/>
                  </a:lnTo>
                  <a:lnTo>
                    <a:pt x="650" y="338"/>
                  </a:lnTo>
                  <a:lnTo>
                    <a:pt x="818" y="560"/>
                  </a:lnTo>
                  <a:lnTo>
                    <a:pt x="796" y="605"/>
                  </a:lnTo>
                  <a:lnTo>
                    <a:pt x="762" y="629"/>
                  </a:lnTo>
                  <a:lnTo>
                    <a:pt x="785" y="675"/>
                  </a:lnTo>
                  <a:lnTo>
                    <a:pt x="931" y="733"/>
                  </a:lnTo>
                  <a:lnTo>
                    <a:pt x="1166" y="733"/>
                  </a:lnTo>
                  <a:lnTo>
                    <a:pt x="1368" y="711"/>
                  </a:lnTo>
                  <a:lnTo>
                    <a:pt x="1436" y="641"/>
                  </a:lnTo>
                  <a:lnTo>
                    <a:pt x="1391" y="618"/>
                  </a:lnTo>
                  <a:lnTo>
                    <a:pt x="1346" y="652"/>
                  </a:lnTo>
                  <a:lnTo>
                    <a:pt x="1222" y="664"/>
                  </a:lnTo>
                  <a:lnTo>
                    <a:pt x="1099" y="688"/>
                  </a:lnTo>
                  <a:lnTo>
                    <a:pt x="965" y="664"/>
                  </a:lnTo>
                  <a:lnTo>
                    <a:pt x="1166" y="641"/>
                  </a:lnTo>
                  <a:lnTo>
                    <a:pt x="1300" y="594"/>
                  </a:lnTo>
                  <a:lnTo>
                    <a:pt x="1323" y="571"/>
                  </a:lnTo>
                  <a:lnTo>
                    <a:pt x="1267" y="547"/>
                  </a:lnTo>
                  <a:lnTo>
                    <a:pt x="1200" y="583"/>
                  </a:lnTo>
                  <a:lnTo>
                    <a:pt x="1043" y="605"/>
                  </a:lnTo>
                  <a:lnTo>
                    <a:pt x="931" y="594"/>
                  </a:lnTo>
                  <a:lnTo>
                    <a:pt x="875" y="571"/>
                  </a:lnTo>
                  <a:lnTo>
                    <a:pt x="898" y="513"/>
                  </a:lnTo>
                  <a:lnTo>
                    <a:pt x="796" y="432"/>
                  </a:lnTo>
                  <a:lnTo>
                    <a:pt x="695" y="327"/>
                  </a:lnTo>
                  <a:lnTo>
                    <a:pt x="639" y="222"/>
                  </a:lnTo>
                  <a:lnTo>
                    <a:pt x="617" y="152"/>
                  </a:lnTo>
                  <a:lnTo>
                    <a:pt x="617" y="129"/>
                  </a:lnTo>
                  <a:lnTo>
                    <a:pt x="639" y="129"/>
                  </a:lnTo>
                  <a:lnTo>
                    <a:pt x="695" y="175"/>
                  </a:lnTo>
                  <a:lnTo>
                    <a:pt x="773" y="280"/>
                  </a:lnTo>
                  <a:lnTo>
                    <a:pt x="875" y="408"/>
                  </a:lnTo>
                  <a:lnTo>
                    <a:pt x="898" y="443"/>
                  </a:lnTo>
                  <a:lnTo>
                    <a:pt x="942" y="419"/>
                  </a:lnTo>
                  <a:lnTo>
                    <a:pt x="920" y="350"/>
                  </a:lnTo>
                  <a:lnTo>
                    <a:pt x="931" y="303"/>
                  </a:lnTo>
                  <a:lnTo>
                    <a:pt x="942" y="244"/>
                  </a:lnTo>
                  <a:lnTo>
                    <a:pt x="965" y="244"/>
                  </a:lnTo>
                  <a:lnTo>
                    <a:pt x="987" y="315"/>
                  </a:lnTo>
                  <a:lnTo>
                    <a:pt x="998" y="361"/>
                  </a:lnTo>
                  <a:lnTo>
                    <a:pt x="1032" y="373"/>
                  </a:lnTo>
                  <a:lnTo>
                    <a:pt x="1077" y="268"/>
                  </a:lnTo>
                  <a:lnTo>
                    <a:pt x="1099" y="233"/>
                  </a:lnTo>
                  <a:lnTo>
                    <a:pt x="1110" y="291"/>
                  </a:lnTo>
                  <a:lnTo>
                    <a:pt x="1110" y="385"/>
                  </a:lnTo>
                  <a:lnTo>
                    <a:pt x="1144" y="408"/>
                  </a:lnTo>
                  <a:lnTo>
                    <a:pt x="1200" y="327"/>
                  </a:lnTo>
                  <a:lnTo>
                    <a:pt x="1256" y="222"/>
                  </a:lnTo>
                  <a:lnTo>
                    <a:pt x="1312" y="199"/>
                  </a:lnTo>
                  <a:lnTo>
                    <a:pt x="1312" y="210"/>
                  </a:lnTo>
                  <a:lnTo>
                    <a:pt x="1278" y="280"/>
                  </a:lnTo>
                  <a:lnTo>
                    <a:pt x="1244" y="385"/>
                  </a:lnTo>
                  <a:lnTo>
                    <a:pt x="1278" y="396"/>
                  </a:lnTo>
                  <a:lnTo>
                    <a:pt x="1458" y="268"/>
                  </a:lnTo>
                  <a:lnTo>
                    <a:pt x="1480" y="268"/>
                  </a:lnTo>
                  <a:lnTo>
                    <a:pt x="1312" y="443"/>
                  </a:lnTo>
                  <a:lnTo>
                    <a:pt x="1278" y="478"/>
                  </a:lnTo>
                  <a:lnTo>
                    <a:pt x="1267" y="536"/>
                  </a:lnTo>
                  <a:lnTo>
                    <a:pt x="1300" y="560"/>
                  </a:lnTo>
                  <a:lnTo>
                    <a:pt x="1402" y="605"/>
                  </a:lnTo>
                  <a:lnTo>
                    <a:pt x="1570" y="699"/>
                  </a:lnTo>
                  <a:lnTo>
                    <a:pt x="1682" y="792"/>
                  </a:lnTo>
                  <a:lnTo>
                    <a:pt x="1816" y="932"/>
                  </a:lnTo>
                  <a:lnTo>
                    <a:pt x="1918" y="1083"/>
                  </a:lnTo>
                  <a:lnTo>
                    <a:pt x="1985" y="1246"/>
                  </a:lnTo>
                  <a:lnTo>
                    <a:pt x="2030" y="1456"/>
                  </a:lnTo>
                  <a:lnTo>
                    <a:pt x="2018" y="1607"/>
                  </a:lnTo>
                  <a:lnTo>
                    <a:pt x="2007" y="1770"/>
                  </a:lnTo>
                  <a:lnTo>
                    <a:pt x="1940" y="1945"/>
                  </a:lnTo>
                  <a:lnTo>
                    <a:pt x="1873" y="2072"/>
                  </a:lnTo>
                  <a:lnTo>
                    <a:pt x="1794" y="2142"/>
                  </a:lnTo>
                  <a:lnTo>
                    <a:pt x="1704" y="2236"/>
                  </a:lnTo>
                  <a:lnTo>
                    <a:pt x="1536" y="2306"/>
                  </a:lnTo>
                  <a:lnTo>
                    <a:pt x="1334" y="2364"/>
                  </a:lnTo>
                  <a:lnTo>
                    <a:pt x="1233" y="2375"/>
                  </a:lnTo>
                  <a:lnTo>
                    <a:pt x="1043" y="2375"/>
                  </a:lnTo>
                  <a:lnTo>
                    <a:pt x="864" y="2352"/>
                  </a:lnTo>
                  <a:lnTo>
                    <a:pt x="650" y="2294"/>
                  </a:lnTo>
                  <a:lnTo>
                    <a:pt x="449" y="2200"/>
                  </a:lnTo>
                  <a:lnTo>
                    <a:pt x="291" y="2108"/>
                  </a:lnTo>
                  <a:lnTo>
                    <a:pt x="157" y="2003"/>
                  </a:lnTo>
                  <a:lnTo>
                    <a:pt x="101" y="1922"/>
                  </a:lnTo>
                  <a:lnTo>
                    <a:pt x="90" y="1839"/>
                  </a:lnTo>
                  <a:lnTo>
                    <a:pt x="68" y="1595"/>
                  </a:lnTo>
                  <a:lnTo>
                    <a:pt x="79" y="1433"/>
                  </a:lnTo>
                  <a:lnTo>
                    <a:pt x="146" y="1258"/>
                  </a:lnTo>
                  <a:lnTo>
                    <a:pt x="235" y="1060"/>
                  </a:lnTo>
                  <a:lnTo>
                    <a:pt x="393" y="885"/>
                  </a:lnTo>
                  <a:lnTo>
                    <a:pt x="539" y="688"/>
                  </a:lnTo>
                  <a:lnTo>
                    <a:pt x="673" y="583"/>
                  </a:lnTo>
                  <a:lnTo>
                    <a:pt x="751" y="513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93800" y="4641480"/>
              <a:ext cx="322200" cy="505800"/>
            </a:xfrm>
            <a:custGeom>
              <a:avLst/>
              <a:gdLst/>
              <a:ahLst/>
              <a:rect l="l" t="t" r="r" b="b"/>
              <a:pathLst>
                <a:path w="426" h="756">
                  <a:moveTo>
                    <a:pt x="258" y="139"/>
                  </a:moveTo>
                  <a:lnTo>
                    <a:pt x="336" y="150"/>
                  </a:lnTo>
                  <a:lnTo>
                    <a:pt x="403" y="209"/>
                  </a:lnTo>
                  <a:lnTo>
                    <a:pt x="426" y="267"/>
                  </a:lnTo>
                  <a:lnTo>
                    <a:pt x="347" y="290"/>
                  </a:lnTo>
                  <a:lnTo>
                    <a:pt x="302" y="243"/>
                  </a:lnTo>
                  <a:lnTo>
                    <a:pt x="247" y="220"/>
                  </a:lnTo>
                  <a:lnTo>
                    <a:pt x="191" y="209"/>
                  </a:lnTo>
                  <a:lnTo>
                    <a:pt x="101" y="232"/>
                  </a:lnTo>
                  <a:lnTo>
                    <a:pt x="79" y="290"/>
                  </a:lnTo>
                  <a:lnTo>
                    <a:pt x="124" y="337"/>
                  </a:lnTo>
                  <a:lnTo>
                    <a:pt x="235" y="371"/>
                  </a:lnTo>
                  <a:lnTo>
                    <a:pt x="347" y="371"/>
                  </a:lnTo>
                  <a:lnTo>
                    <a:pt x="381" y="406"/>
                  </a:lnTo>
                  <a:lnTo>
                    <a:pt x="403" y="465"/>
                  </a:lnTo>
                  <a:lnTo>
                    <a:pt x="392" y="534"/>
                  </a:lnTo>
                  <a:lnTo>
                    <a:pt x="325" y="581"/>
                  </a:lnTo>
                  <a:lnTo>
                    <a:pt x="247" y="581"/>
                  </a:lnTo>
                  <a:lnTo>
                    <a:pt x="191" y="581"/>
                  </a:lnTo>
                  <a:lnTo>
                    <a:pt x="168" y="639"/>
                  </a:lnTo>
                  <a:lnTo>
                    <a:pt x="179" y="743"/>
                  </a:lnTo>
                  <a:lnTo>
                    <a:pt x="101" y="756"/>
                  </a:lnTo>
                  <a:lnTo>
                    <a:pt x="90" y="674"/>
                  </a:lnTo>
                  <a:lnTo>
                    <a:pt x="112" y="581"/>
                  </a:lnTo>
                  <a:lnTo>
                    <a:pt x="45" y="546"/>
                  </a:lnTo>
                  <a:lnTo>
                    <a:pt x="0" y="511"/>
                  </a:lnTo>
                  <a:lnTo>
                    <a:pt x="68" y="442"/>
                  </a:lnTo>
                  <a:lnTo>
                    <a:pt x="101" y="488"/>
                  </a:lnTo>
                  <a:lnTo>
                    <a:pt x="157" y="499"/>
                  </a:lnTo>
                  <a:lnTo>
                    <a:pt x="235" y="511"/>
                  </a:lnTo>
                  <a:lnTo>
                    <a:pt x="302" y="511"/>
                  </a:lnTo>
                  <a:lnTo>
                    <a:pt x="336" y="499"/>
                  </a:lnTo>
                  <a:lnTo>
                    <a:pt x="314" y="453"/>
                  </a:lnTo>
                  <a:lnTo>
                    <a:pt x="258" y="442"/>
                  </a:lnTo>
                  <a:lnTo>
                    <a:pt x="157" y="418"/>
                  </a:lnTo>
                  <a:lnTo>
                    <a:pt x="56" y="383"/>
                  </a:lnTo>
                  <a:lnTo>
                    <a:pt x="23" y="325"/>
                  </a:lnTo>
                  <a:lnTo>
                    <a:pt x="11" y="255"/>
                  </a:lnTo>
                  <a:lnTo>
                    <a:pt x="68" y="185"/>
                  </a:lnTo>
                  <a:lnTo>
                    <a:pt x="146" y="128"/>
                  </a:lnTo>
                  <a:lnTo>
                    <a:pt x="202" y="128"/>
                  </a:lnTo>
                  <a:lnTo>
                    <a:pt x="224" y="0"/>
                  </a:lnTo>
                  <a:lnTo>
                    <a:pt x="291" y="11"/>
                  </a:lnTo>
                  <a:lnTo>
                    <a:pt x="258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6800" y="4618800"/>
              <a:ext cx="136080" cy="17928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0" y="210"/>
                  </a:moveTo>
                  <a:lnTo>
                    <a:pt x="78" y="70"/>
                  </a:lnTo>
                  <a:lnTo>
                    <a:pt x="179" y="0"/>
                  </a:lnTo>
                  <a:lnTo>
                    <a:pt x="179" y="36"/>
                  </a:lnTo>
                  <a:lnTo>
                    <a:pt x="111" y="117"/>
                  </a:lnTo>
                  <a:lnTo>
                    <a:pt x="33" y="269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05440" y="5069880"/>
              <a:ext cx="84600" cy="124200"/>
            </a:xfrm>
            <a:custGeom>
              <a:avLst/>
              <a:gdLst/>
              <a:ahLst/>
              <a:rect l="l" t="t" r="r" b="b"/>
              <a:pathLst>
                <a:path w="112" h="187">
                  <a:moveTo>
                    <a:pt x="112" y="0"/>
                  </a:moveTo>
                  <a:lnTo>
                    <a:pt x="34" y="116"/>
                  </a:lnTo>
                  <a:lnTo>
                    <a:pt x="0" y="163"/>
                  </a:lnTo>
                  <a:lnTo>
                    <a:pt x="45" y="187"/>
                  </a:lnTo>
                  <a:lnTo>
                    <a:pt x="78" y="163"/>
                  </a:lnTo>
                  <a:lnTo>
                    <a:pt x="112" y="82"/>
                  </a:lnTo>
                  <a:lnTo>
                    <a:pt x="112" y="4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477720" y="2927520"/>
            <a:ext cx="1067040" cy="1992240"/>
            <a:chOff x="477720" y="2927520"/>
            <a:chExt cx="1067040" cy="1992240"/>
          </a:xfrm>
        </p:grpSpPr>
        <p:sp>
          <p:nvSpPr>
            <p:cNvPr id="1124" name=""/>
            <p:cNvSpPr/>
            <p:nvPr/>
          </p:nvSpPr>
          <p:spPr>
            <a:xfrm>
              <a:off x="843840" y="3409560"/>
              <a:ext cx="389520" cy="671400"/>
            </a:xfrm>
            <a:custGeom>
              <a:avLst/>
              <a:gdLst/>
              <a:ahLst/>
              <a:rect l="l" t="t" r="r" b="b"/>
              <a:pathLst>
                <a:path w="334" h="504">
                  <a:moveTo>
                    <a:pt x="46" y="241"/>
                  </a:moveTo>
                  <a:lnTo>
                    <a:pt x="73" y="154"/>
                  </a:lnTo>
                  <a:lnTo>
                    <a:pt x="102" y="81"/>
                  </a:lnTo>
                  <a:lnTo>
                    <a:pt x="131" y="22"/>
                  </a:lnTo>
                  <a:lnTo>
                    <a:pt x="182" y="0"/>
                  </a:lnTo>
                  <a:lnTo>
                    <a:pt x="242" y="0"/>
                  </a:lnTo>
                  <a:lnTo>
                    <a:pt x="290" y="22"/>
                  </a:lnTo>
                  <a:lnTo>
                    <a:pt x="322" y="68"/>
                  </a:lnTo>
                  <a:lnTo>
                    <a:pt x="327" y="156"/>
                  </a:lnTo>
                  <a:lnTo>
                    <a:pt x="334" y="266"/>
                  </a:lnTo>
                  <a:lnTo>
                    <a:pt x="322" y="368"/>
                  </a:lnTo>
                  <a:lnTo>
                    <a:pt x="312" y="419"/>
                  </a:lnTo>
                  <a:lnTo>
                    <a:pt x="293" y="460"/>
                  </a:lnTo>
                  <a:lnTo>
                    <a:pt x="261" y="475"/>
                  </a:lnTo>
                  <a:lnTo>
                    <a:pt x="174" y="499"/>
                  </a:lnTo>
                  <a:lnTo>
                    <a:pt x="119" y="504"/>
                  </a:lnTo>
                  <a:lnTo>
                    <a:pt x="31" y="482"/>
                  </a:lnTo>
                  <a:lnTo>
                    <a:pt x="0" y="417"/>
                  </a:lnTo>
                  <a:lnTo>
                    <a:pt x="7" y="353"/>
                  </a:lnTo>
                  <a:lnTo>
                    <a:pt x="39" y="263"/>
                  </a:lnTo>
                  <a:lnTo>
                    <a:pt x="46" y="2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68200" y="3454920"/>
              <a:ext cx="376560" cy="852840"/>
            </a:xfrm>
            <a:custGeom>
              <a:avLst/>
              <a:gdLst/>
              <a:ahLst/>
              <a:rect l="l" t="t" r="r" b="b"/>
              <a:pathLst>
                <a:path w="323" h="640">
                  <a:moveTo>
                    <a:pt x="14" y="8"/>
                  </a:moveTo>
                  <a:lnTo>
                    <a:pt x="51" y="0"/>
                  </a:lnTo>
                  <a:lnTo>
                    <a:pt x="102" y="30"/>
                  </a:lnTo>
                  <a:lnTo>
                    <a:pt x="148" y="96"/>
                  </a:lnTo>
                  <a:lnTo>
                    <a:pt x="204" y="186"/>
                  </a:lnTo>
                  <a:lnTo>
                    <a:pt x="226" y="271"/>
                  </a:lnTo>
                  <a:lnTo>
                    <a:pt x="233" y="376"/>
                  </a:lnTo>
                  <a:lnTo>
                    <a:pt x="228" y="440"/>
                  </a:lnTo>
                  <a:lnTo>
                    <a:pt x="228" y="476"/>
                  </a:lnTo>
                  <a:lnTo>
                    <a:pt x="279" y="515"/>
                  </a:lnTo>
                  <a:lnTo>
                    <a:pt x="306" y="566"/>
                  </a:lnTo>
                  <a:lnTo>
                    <a:pt x="323" y="610"/>
                  </a:lnTo>
                  <a:lnTo>
                    <a:pt x="308" y="640"/>
                  </a:lnTo>
                  <a:lnTo>
                    <a:pt x="279" y="640"/>
                  </a:lnTo>
                  <a:lnTo>
                    <a:pt x="247" y="618"/>
                  </a:lnTo>
                  <a:lnTo>
                    <a:pt x="243" y="579"/>
                  </a:lnTo>
                  <a:lnTo>
                    <a:pt x="226" y="530"/>
                  </a:lnTo>
                  <a:lnTo>
                    <a:pt x="196" y="500"/>
                  </a:lnTo>
                  <a:lnTo>
                    <a:pt x="167" y="491"/>
                  </a:lnTo>
                  <a:lnTo>
                    <a:pt x="138" y="491"/>
                  </a:lnTo>
                  <a:lnTo>
                    <a:pt x="133" y="469"/>
                  </a:lnTo>
                  <a:lnTo>
                    <a:pt x="162" y="461"/>
                  </a:lnTo>
                  <a:lnTo>
                    <a:pt x="192" y="457"/>
                  </a:lnTo>
                  <a:lnTo>
                    <a:pt x="204" y="410"/>
                  </a:lnTo>
                  <a:lnTo>
                    <a:pt x="206" y="337"/>
                  </a:lnTo>
                  <a:lnTo>
                    <a:pt x="196" y="257"/>
                  </a:lnTo>
                  <a:lnTo>
                    <a:pt x="170" y="193"/>
                  </a:lnTo>
                  <a:lnTo>
                    <a:pt x="141" y="140"/>
                  </a:lnTo>
                  <a:lnTo>
                    <a:pt x="111" y="113"/>
                  </a:lnTo>
                  <a:lnTo>
                    <a:pt x="73" y="91"/>
                  </a:lnTo>
                  <a:lnTo>
                    <a:pt x="31" y="69"/>
                  </a:lnTo>
                  <a:lnTo>
                    <a:pt x="2" y="54"/>
                  </a:lnTo>
                  <a:lnTo>
                    <a:pt x="0" y="25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7720" y="3429720"/>
              <a:ext cx="580680" cy="828360"/>
            </a:xfrm>
            <a:custGeom>
              <a:avLst/>
              <a:gdLst/>
              <a:ahLst/>
              <a:rect l="l" t="t" r="r" b="b"/>
              <a:pathLst>
                <a:path w="498" h="622">
                  <a:moveTo>
                    <a:pt x="243" y="125"/>
                  </a:moveTo>
                  <a:lnTo>
                    <a:pt x="316" y="66"/>
                  </a:lnTo>
                  <a:lnTo>
                    <a:pt x="394" y="15"/>
                  </a:lnTo>
                  <a:lnTo>
                    <a:pt x="440" y="0"/>
                  </a:lnTo>
                  <a:lnTo>
                    <a:pt x="496" y="10"/>
                  </a:lnTo>
                  <a:lnTo>
                    <a:pt x="498" y="51"/>
                  </a:lnTo>
                  <a:lnTo>
                    <a:pt x="469" y="98"/>
                  </a:lnTo>
                  <a:lnTo>
                    <a:pt x="440" y="90"/>
                  </a:lnTo>
                  <a:lnTo>
                    <a:pt x="408" y="73"/>
                  </a:lnTo>
                  <a:lnTo>
                    <a:pt x="367" y="73"/>
                  </a:lnTo>
                  <a:lnTo>
                    <a:pt x="309" y="110"/>
                  </a:lnTo>
                  <a:lnTo>
                    <a:pt x="265" y="154"/>
                  </a:lnTo>
                  <a:lnTo>
                    <a:pt x="190" y="234"/>
                  </a:lnTo>
                  <a:lnTo>
                    <a:pt x="148" y="325"/>
                  </a:lnTo>
                  <a:lnTo>
                    <a:pt x="119" y="388"/>
                  </a:lnTo>
                  <a:lnTo>
                    <a:pt x="105" y="449"/>
                  </a:lnTo>
                  <a:lnTo>
                    <a:pt x="117" y="456"/>
                  </a:lnTo>
                  <a:lnTo>
                    <a:pt x="153" y="456"/>
                  </a:lnTo>
                  <a:lnTo>
                    <a:pt x="192" y="464"/>
                  </a:lnTo>
                  <a:lnTo>
                    <a:pt x="197" y="483"/>
                  </a:lnTo>
                  <a:lnTo>
                    <a:pt x="170" y="500"/>
                  </a:lnTo>
                  <a:lnTo>
                    <a:pt x="131" y="508"/>
                  </a:lnTo>
                  <a:lnTo>
                    <a:pt x="83" y="534"/>
                  </a:lnTo>
                  <a:lnTo>
                    <a:pt x="54" y="573"/>
                  </a:lnTo>
                  <a:lnTo>
                    <a:pt x="46" y="617"/>
                  </a:lnTo>
                  <a:lnTo>
                    <a:pt x="25" y="622"/>
                  </a:lnTo>
                  <a:lnTo>
                    <a:pt x="3" y="600"/>
                  </a:lnTo>
                  <a:lnTo>
                    <a:pt x="0" y="559"/>
                  </a:lnTo>
                  <a:lnTo>
                    <a:pt x="22" y="522"/>
                  </a:lnTo>
                  <a:lnTo>
                    <a:pt x="68" y="469"/>
                  </a:lnTo>
                  <a:lnTo>
                    <a:pt x="88" y="410"/>
                  </a:lnTo>
                  <a:lnTo>
                    <a:pt x="110" y="344"/>
                  </a:lnTo>
                  <a:lnTo>
                    <a:pt x="139" y="266"/>
                  </a:lnTo>
                  <a:lnTo>
                    <a:pt x="175" y="200"/>
                  </a:lnTo>
                  <a:lnTo>
                    <a:pt x="214" y="149"/>
                  </a:lnTo>
                  <a:lnTo>
                    <a:pt x="243" y="12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004760" y="3941640"/>
              <a:ext cx="276480" cy="951120"/>
            </a:xfrm>
            <a:custGeom>
              <a:avLst/>
              <a:gdLst/>
              <a:ahLst/>
              <a:rect l="l" t="t" r="r" b="b"/>
              <a:pathLst>
                <a:path w="237" h="714">
                  <a:moveTo>
                    <a:pt x="95" y="245"/>
                  </a:moveTo>
                  <a:lnTo>
                    <a:pt x="110" y="179"/>
                  </a:lnTo>
                  <a:lnTo>
                    <a:pt x="110" y="149"/>
                  </a:lnTo>
                  <a:lnTo>
                    <a:pt x="83" y="118"/>
                  </a:lnTo>
                  <a:lnTo>
                    <a:pt x="24" y="96"/>
                  </a:lnTo>
                  <a:lnTo>
                    <a:pt x="24" y="62"/>
                  </a:lnTo>
                  <a:lnTo>
                    <a:pt x="61" y="18"/>
                  </a:lnTo>
                  <a:lnTo>
                    <a:pt x="95" y="0"/>
                  </a:lnTo>
                  <a:lnTo>
                    <a:pt x="141" y="3"/>
                  </a:lnTo>
                  <a:lnTo>
                    <a:pt x="161" y="18"/>
                  </a:lnTo>
                  <a:lnTo>
                    <a:pt x="183" y="59"/>
                  </a:lnTo>
                  <a:lnTo>
                    <a:pt x="215" y="103"/>
                  </a:lnTo>
                  <a:lnTo>
                    <a:pt x="234" y="149"/>
                  </a:lnTo>
                  <a:lnTo>
                    <a:pt x="237" y="171"/>
                  </a:lnTo>
                  <a:lnTo>
                    <a:pt x="227" y="198"/>
                  </a:lnTo>
                  <a:lnTo>
                    <a:pt x="200" y="252"/>
                  </a:lnTo>
                  <a:lnTo>
                    <a:pt x="168" y="318"/>
                  </a:lnTo>
                  <a:lnTo>
                    <a:pt x="127" y="396"/>
                  </a:lnTo>
                  <a:lnTo>
                    <a:pt x="102" y="435"/>
                  </a:lnTo>
                  <a:lnTo>
                    <a:pt x="66" y="464"/>
                  </a:lnTo>
                  <a:lnTo>
                    <a:pt x="68" y="484"/>
                  </a:lnTo>
                  <a:lnTo>
                    <a:pt x="97" y="501"/>
                  </a:lnTo>
                  <a:lnTo>
                    <a:pt x="134" y="530"/>
                  </a:lnTo>
                  <a:lnTo>
                    <a:pt x="168" y="572"/>
                  </a:lnTo>
                  <a:lnTo>
                    <a:pt x="183" y="618"/>
                  </a:lnTo>
                  <a:lnTo>
                    <a:pt x="193" y="689"/>
                  </a:lnTo>
                  <a:lnTo>
                    <a:pt x="185" y="714"/>
                  </a:lnTo>
                  <a:lnTo>
                    <a:pt x="163" y="714"/>
                  </a:lnTo>
                  <a:lnTo>
                    <a:pt x="124" y="692"/>
                  </a:lnTo>
                  <a:lnTo>
                    <a:pt x="112" y="677"/>
                  </a:lnTo>
                  <a:lnTo>
                    <a:pt x="112" y="652"/>
                  </a:lnTo>
                  <a:lnTo>
                    <a:pt x="117" y="611"/>
                  </a:lnTo>
                  <a:lnTo>
                    <a:pt x="102" y="567"/>
                  </a:lnTo>
                  <a:lnTo>
                    <a:pt x="73" y="538"/>
                  </a:lnTo>
                  <a:lnTo>
                    <a:pt x="46" y="516"/>
                  </a:lnTo>
                  <a:lnTo>
                    <a:pt x="17" y="516"/>
                  </a:lnTo>
                  <a:lnTo>
                    <a:pt x="0" y="494"/>
                  </a:lnTo>
                  <a:lnTo>
                    <a:pt x="2" y="469"/>
                  </a:lnTo>
                  <a:lnTo>
                    <a:pt x="29" y="440"/>
                  </a:lnTo>
                  <a:lnTo>
                    <a:pt x="61" y="377"/>
                  </a:lnTo>
                  <a:lnTo>
                    <a:pt x="73" y="345"/>
                  </a:lnTo>
                  <a:lnTo>
                    <a:pt x="83" y="301"/>
                  </a:lnTo>
                  <a:lnTo>
                    <a:pt x="95" y="259"/>
                  </a:lnTo>
                  <a:lnTo>
                    <a:pt x="95" y="24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90840" y="3937680"/>
              <a:ext cx="329760" cy="982080"/>
            </a:xfrm>
            <a:custGeom>
              <a:avLst/>
              <a:gdLst/>
              <a:ahLst/>
              <a:rect l="l" t="t" r="r" b="b"/>
              <a:pathLst>
                <a:path w="283" h="737">
                  <a:moveTo>
                    <a:pt x="75" y="132"/>
                  </a:moveTo>
                  <a:lnTo>
                    <a:pt x="109" y="66"/>
                  </a:lnTo>
                  <a:lnTo>
                    <a:pt x="140" y="27"/>
                  </a:lnTo>
                  <a:lnTo>
                    <a:pt x="196" y="0"/>
                  </a:lnTo>
                  <a:lnTo>
                    <a:pt x="254" y="0"/>
                  </a:lnTo>
                  <a:lnTo>
                    <a:pt x="283" y="27"/>
                  </a:lnTo>
                  <a:lnTo>
                    <a:pt x="283" y="57"/>
                  </a:lnTo>
                  <a:lnTo>
                    <a:pt x="246" y="88"/>
                  </a:lnTo>
                  <a:lnTo>
                    <a:pt x="205" y="110"/>
                  </a:lnTo>
                  <a:lnTo>
                    <a:pt x="174" y="137"/>
                  </a:lnTo>
                  <a:lnTo>
                    <a:pt x="159" y="174"/>
                  </a:lnTo>
                  <a:lnTo>
                    <a:pt x="159" y="235"/>
                  </a:lnTo>
                  <a:lnTo>
                    <a:pt x="174" y="293"/>
                  </a:lnTo>
                  <a:lnTo>
                    <a:pt x="176" y="374"/>
                  </a:lnTo>
                  <a:lnTo>
                    <a:pt x="188" y="430"/>
                  </a:lnTo>
                  <a:lnTo>
                    <a:pt x="196" y="484"/>
                  </a:lnTo>
                  <a:lnTo>
                    <a:pt x="196" y="525"/>
                  </a:lnTo>
                  <a:lnTo>
                    <a:pt x="176" y="540"/>
                  </a:lnTo>
                  <a:lnTo>
                    <a:pt x="152" y="535"/>
                  </a:lnTo>
                  <a:lnTo>
                    <a:pt x="116" y="542"/>
                  </a:lnTo>
                  <a:lnTo>
                    <a:pt x="82" y="579"/>
                  </a:lnTo>
                  <a:lnTo>
                    <a:pt x="65" y="635"/>
                  </a:lnTo>
                  <a:lnTo>
                    <a:pt x="60" y="708"/>
                  </a:lnTo>
                  <a:lnTo>
                    <a:pt x="65" y="733"/>
                  </a:lnTo>
                  <a:lnTo>
                    <a:pt x="36" y="737"/>
                  </a:lnTo>
                  <a:lnTo>
                    <a:pt x="17" y="725"/>
                  </a:lnTo>
                  <a:lnTo>
                    <a:pt x="0" y="686"/>
                  </a:lnTo>
                  <a:lnTo>
                    <a:pt x="2" y="650"/>
                  </a:lnTo>
                  <a:lnTo>
                    <a:pt x="24" y="579"/>
                  </a:lnTo>
                  <a:lnTo>
                    <a:pt x="58" y="542"/>
                  </a:lnTo>
                  <a:lnTo>
                    <a:pt x="94" y="506"/>
                  </a:lnTo>
                  <a:lnTo>
                    <a:pt x="123" y="489"/>
                  </a:lnTo>
                  <a:lnTo>
                    <a:pt x="152" y="481"/>
                  </a:lnTo>
                  <a:lnTo>
                    <a:pt x="155" y="459"/>
                  </a:lnTo>
                  <a:lnTo>
                    <a:pt x="133" y="393"/>
                  </a:lnTo>
                  <a:lnTo>
                    <a:pt x="111" y="323"/>
                  </a:lnTo>
                  <a:lnTo>
                    <a:pt x="89" y="271"/>
                  </a:lnTo>
                  <a:lnTo>
                    <a:pt x="75" y="213"/>
                  </a:lnTo>
                  <a:lnTo>
                    <a:pt x="65" y="176"/>
                  </a:lnTo>
                  <a:lnTo>
                    <a:pt x="75" y="13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44360" y="2927520"/>
              <a:ext cx="336960" cy="478080"/>
            </a:xfrm>
            <a:custGeom>
              <a:avLst/>
              <a:gdLst/>
              <a:ahLst/>
              <a:rect l="l" t="t" r="r" b="b"/>
              <a:pathLst>
                <a:path w="289" h="359">
                  <a:moveTo>
                    <a:pt x="102" y="351"/>
                  </a:moveTo>
                  <a:lnTo>
                    <a:pt x="51" y="351"/>
                  </a:lnTo>
                  <a:lnTo>
                    <a:pt x="7" y="312"/>
                  </a:lnTo>
                  <a:lnTo>
                    <a:pt x="0" y="285"/>
                  </a:lnTo>
                  <a:lnTo>
                    <a:pt x="0" y="249"/>
                  </a:lnTo>
                  <a:lnTo>
                    <a:pt x="14" y="176"/>
                  </a:lnTo>
                  <a:lnTo>
                    <a:pt x="43" y="124"/>
                  </a:lnTo>
                  <a:lnTo>
                    <a:pt x="99" y="44"/>
                  </a:lnTo>
                  <a:lnTo>
                    <a:pt x="138" y="14"/>
                  </a:lnTo>
                  <a:lnTo>
                    <a:pt x="194" y="0"/>
                  </a:lnTo>
                  <a:lnTo>
                    <a:pt x="247" y="19"/>
                  </a:lnTo>
                  <a:lnTo>
                    <a:pt x="274" y="51"/>
                  </a:lnTo>
                  <a:lnTo>
                    <a:pt x="281" y="88"/>
                  </a:lnTo>
                  <a:lnTo>
                    <a:pt x="281" y="136"/>
                  </a:lnTo>
                  <a:lnTo>
                    <a:pt x="262" y="198"/>
                  </a:lnTo>
                  <a:lnTo>
                    <a:pt x="247" y="234"/>
                  </a:lnTo>
                  <a:lnTo>
                    <a:pt x="252" y="271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69" y="359"/>
                  </a:lnTo>
                  <a:lnTo>
                    <a:pt x="223" y="278"/>
                  </a:lnTo>
                  <a:lnTo>
                    <a:pt x="187" y="307"/>
                  </a:lnTo>
                  <a:lnTo>
                    <a:pt x="145" y="334"/>
                  </a:lnTo>
                  <a:lnTo>
                    <a:pt x="124" y="342"/>
                  </a:lnTo>
                  <a:lnTo>
                    <a:pt x="102" y="35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1295280" y="5567400"/>
            <a:ext cx="1676160" cy="756720"/>
            <a:chOff x="1295280" y="5567400"/>
            <a:chExt cx="1676160" cy="756720"/>
          </a:xfrm>
        </p:grpSpPr>
        <p:sp>
          <p:nvSpPr>
            <p:cNvPr id="1131" name=""/>
            <p:cNvSpPr/>
            <p:nvPr/>
          </p:nvSpPr>
          <p:spPr>
            <a:xfrm>
              <a:off x="1735200" y="5567400"/>
              <a:ext cx="731160" cy="418680"/>
            </a:xfrm>
            <a:custGeom>
              <a:avLst/>
              <a:gdLst/>
              <a:ahLst/>
              <a:rect l="l" t="t" r="r" b="b"/>
              <a:pathLst>
                <a:path w="831" h="423">
                  <a:moveTo>
                    <a:pt x="0" y="302"/>
                  </a:moveTo>
                  <a:lnTo>
                    <a:pt x="9" y="203"/>
                  </a:lnTo>
                  <a:lnTo>
                    <a:pt x="79" y="138"/>
                  </a:lnTo>
                  <a:lnTo>
                    <a:pt x="214" y="62"/>
                  </a:lnTo>
                  <a:lnTo>
                    <a:pt x="385" y="17"/>
                  </a:lnTo>
                  <a:lnTo>
                    <a:pt x="530" y="0"/>
                  </a:lnTo>
                  <a:lnTo>
                    <a:pt x="636" y="36"/>
                  </a:lnTo>
                  <a:lnTo>
                    <a:pt x="728" y="102"/>
                  </a:lnTo>
                  <a:lnTo>
                    <a:pt x="778" y="161"/>
                  </a:lnTo>
                  <a:lnTo>
                    <a:pt x="817" y="253"/>
                  </a:lnTo>
                  <a:lnTo>
                    <a:pt x="831" y="331"/>
                  </a:lnTo>
                  <a:lnTo>
                    <a:pt x="798" y="384"/>
                  </a:lnTo>
                  <a:lnTo>
                    <a:pt x="761" y="410"/>
                  </a:lnTo>
                  <a:lnTo>
                    <a:pt x="672" y="423"/>
                  </a:lnTo>
                  <a:lnTo>
                    <a:pt x="590" y="410"/>
                  </a:lnTo>
                  <a:lnTo>
                    <a:pt x="537" y="371"/>
                  </a:lnTo>
                  <a:lnTo>
                    <a:pt x="481" y="328"/>
                  </a:lnTo>
                  <a:lnTo>
                    <a:pt x="431" y="302"/>
                  </a:lnTo>
                  <a:lnTo>
                    <a:pt x="352" y="302"/>
                  </a:lnTo>
                  <a:lnTo>
                    <a:pt x="267" y="315"/>
                  </a:lnTo>
                  <a:lnTo>
                    <a:pt x="164" y="338"/>
                  </a:lnTo>
                  <a:lnTo>
                    <a:pt x="85" y="354"/>
                  </a:lnTo>
                  <a:lnTo>
                    <a:pt x="13" y="35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20560" y="5765040"/>
              <a:ext cx="650880" cy="541080"/>
            </a:xfrm>
            <a:custGeom>
              <a:avLst/>
              <a:gdLst/>
              <a:ahLst/>
              <a:rect l="l" t="t" r="r" b="b"/>
              <a:pathLst>
                <a:path w="740" h="547">
                  <a:moveTo>
                    <a:pt x="53" y="0"/>
                  </a:moveTo>
                  <a:lnTo>
                    <a:pt x="119" y="32"/>
                  </a:lnTo>
                  <a:lnTo>
                    <a:pt x="132" y="79"/>
                  </a:lnTo>
                  <a:lnTo>
                    <a:pt x="172" y="151"/>
                  </a:lnTo>
                  <a:lnTo>
                    <a:pt x="172" y="204"/>
                  </a:lnTo>
                  <a:lnTo>
                    <a:pt x="139" y="309"/>
                  </a:lnTo>
                  <a:lnTo>
                    <a:pt x="99" y="382"/>
                  </a:lnTo>
                  <a:lnTo>
                    <a:pt x="66" y="428"/>
                  </a:lnTo>
                  <a:lnTo>
                    <a:pt x="53" y="487"/>
                  </a:lnTo>
                  <a:lnTo>
                    <a:pt x="73" y="514"/>
                  </a:lnTo>
                  <a:lnTo>
                    <a:pt x="172" y="494"/>
                  </a:lnTo>
                  <a:lnTo>
                    <a:pt x="251" y="454"/>
                  </a:lnTo>
                  <a:lnTo>
                    <a:pt x="350" y="375"/>
                  </a:lnTo>
                  <a:lnTo>
                    <a:pt x="429" y="283"/>
                  </a:lnTo>
                  <a:lnTo>
                    <a:pt x="469" y="204"/>
                  </a:lnTo>
                  <a:lnTo>
                    <a:pt x="489" y="158"/>
                  </a:lnTo>
                  <a:lnTo>
                    <a:pt x="522" y="158"/>
                  </a:lnTo>
                  <a:lnTo>
                    <a:pt x="542" y="164"/>
                  </a:lnTo>
                  <a:lnTo>
                    <a:pt x="568" y="237"/>
                  </a:lnTo>
                  <a:lnTo>
                    <a:pt x="595" y="303"/>
                  </a:lnTo>
                  <a:lnTo>
                    <a:pt x="667" y="349"/>
                  </a:lnTo>
                  <a:lnTo>
                    <a:pt x="740" y="375"/>
                  </a:lnTo>
                  <a:lnTo>
                    <a:pt x="720" y="395"/>
                  </a:lnTo>
                  <a:lnTo>
                    <a:pt x="681" y="415"/>
                  </a:lnTo>
                  <a:lnTo>
                    <a:pt x="614" y="395"/>
                  </a:lnTo>
                  <a:lnTo>
                    <a:pt x="575" y="342"/>
                  </a:lnTo>
                  <a:lnTo>
                    <a:pt x="548" y="296"/>
                  </a:lnTo>
                  <a:lnTo>
                    <a:pt x="529" y="250"/>
                  </a:lnTo>
                  <a:lnTo>
                    <a:pt x="509" y="237"/>
                  </a:lnTo>
                  <a:lnTo>
                    <a:pt x="489" y="257"/>
                  </a:lnTo>
                  <a:lnTo>
                    <a:pt x="449" y="329"/>
                  </a:lnTo>
                  <a:lnTo>
                    <a:pt x="363" y="428"/>
                  </a:lnTo>
                  <a:lnTo>
                    <a:pt x="284" y="474"/>
                  </a:lnTo>
                  <a:lnTo>
                    <a:pt x="198" y="520"/>
                  </a:lnTo>
                  <a:lnTo>
                    <a:pt x="79" y="547"/>
                  </a:lnTo>
                  <a:lnTo>
                    <a:pt x="20" y="540"/>
                  </a:lnTo>
                  <a:lnTo>
                    <a:pt x="0" y="514"/>
                  </a:lnTo>
                  <a:lnTo>
                    <a:pt x="0" y="487"/>
                  </a:lnTo>
                  <a:lnTo>
                    <a:pt x="0" y="448"/>
                  </a:lnTo>
                  <a:lnTo>
                    <a:pt x="26" y="382"/>
                  </a:lnTo>
                  <a:lnTo>
                    <a:pt x="73" y="322"/>
                  </a:lnTo>
                  <a:lnTo>
                    <a:pt x="99" y="230"/>
                  </a:lnTo>
                  <a:lnTo>
                    <a:pt x="106" y="184"/>
                  </a:lnTo>
                  <a:lnTo>
                    <a:pt x="86" y="138"/>
                  </a:lnTo>
                  <a:lnTo>
                    <a:pt x="33" y="92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16520" y="5703840"/>
              <a:ext cx="650880" cy="543960"/>
            </a:xfrm>
            <a:custGeom>
              <a:avLst/>
              <a:gdLst/>
              <a:ahLst/>
              <a:rect l="l" t="t" r="r" b="b"/>
              <a:pathLst>
                <a:path w="740" h="550">
                  <a:moveTo>
                    <a:pt x="53" y="0"/>
                  </a:moveTo>
                  <a:lnTo>
                    <a:pt x="119" y="33"/>
                  </a:lnTo>
                  <a:lnTo>
                    <a:pt x="132" y="80"/>
                  </a:lnTo>
                  <a:lnTo>
                    <a:pt x="172" y="152"/>
                  </a:lnTo>
                  <a:lnTo>
                    <a:pt x="172" y="205"/>
                  </a:lnTo>
                  <a:lnTo>
                    <a:pt x="139" y="311"/>
                  </a:lnTo>
                  <a:lnTo>
                    <a:pt x="99" y="384"/>
                  </a:lnTo>
                  <a:lnTo>
                    <a:pt x="66" y="431"/>
                  </a:lnTo>
                  <a:lnTo>
                    <a:pt x="53" y="490"/>
                  </a:lnTo>
                  <a:lnTo>
                    <a:pt x="73" y="517"/>
                  </a:lnTo>
                  <a:lnTo>
                    <a:pt x="172" y="497"/>
                  </a:lnTo>
                  <a:lnTo>
                    <a:pt x="251" y="457"/>
                  </a:lnTo>
                  <a:lnTo>
                    <a:pt x="350" y="378"/>
                  </a:lnTo>
                  <a:lnTo>
                    <a:pt x="429" y="285"/>
                  </a:lnTo>
                  <a:lnTo>
                    <a:pt x="469" y="205"/>
                  </a:lnTo>
                  <a:lnTo>
                    <a:pt x="489" y="159"/>
                  </a:lnTo>
                  <a:lnTo>
                    <a:pt x="522" y="159"/>
                  </a:lnTo>
                  <a:lnTo>
                    <a:pt x="542" y="166"/>
                  </a:lnTo>
                  <a:lnTo>
                    <a:pt x="568" y="239"/>
                  </a:lnTo>
                  <a:lnTo>
                    <a:pt x="595" y="305"/>
                  </a:lnTo>
                  <a:lnTo>
                    <a:pt x="667" y="351"/>
                  </a:lnTo>
                  <a:lnTo>
                    <a:pt x="740" y="378"/>
                  </a:lnTo>
                  <a:lnTo>
                    <a:pt x="720" y="398"/>
                  </a:lnTo>
                  <a:lnTo>
                    <a:pt x="681" y="417"/>
                  </a:lnTo>
                  <a:lnTo>
                    <a:pt x="614" y="398"/>
                  </a:lnTo>
                  <a:lnTo>
                    <a:pt x="575" y="345"/>
                  </a:lnTo>
                  <a:lnTo>
                    <a:pt x="548" y="298"/>
                  </a:lnTo>
                  <a:lnTo>
                    <a:pt x="529" y="252"/>
                  </a:lnTo>
                  <a:lnTo>
                    <a:pt x="509" y="239"/>
                  </a:lnTo>
                  <a:lnTo>
                    <a:pt x="489" y="258"/>
                  </a:lnTo>
                  <a:lnTo>
                    <a:pt x="449" y="331"/>
                  </a:lnTo>
                  <a:lnTo>
                    <a:pt x="363" y="431"/>
                  </a:lnTo>
                  <a:lnTo>
                    <a:pt x="284" y="477"/>
                  </a:lnTo>
                  <a:lnTo>
                    <a:pt x="198" y="523"/>
                  </a:lnTo>
                  <a:lnTo>
                    <a:pt x="79" y="550"/>
                  </a:lnTo>
                  <a:lnTo>
                    <a:pt x="20" y="543"/>
                  </a:lnTo>
                  <a:lnTo>
                    <a:pt x="0" y="517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26" y="384"/>
                  </a:lnTo>
                  <a:lnTo>
                    <a:pt x="73" y="325"/>
                  </a:lnTo>
                  <a:lnTo>
                    <a:pt x="99" y="232"/>
                  </a:lnTo>
                  <a:lnTo>
                    <a:pt x="106" y="186"/>
                  </a:lnTo>
                  <a:lnTo>
                    <a:pt x="86" y="139"/>
                  </a:lnTo>
                  <a:lnTo>
                    <a:pt x="33" y="93"/>
                  </a:lnTo>
                  <a:lnTo>
                    <a:pt x="40" y="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95280" y="5841360"/>
              <a:ext cx="632520" cy="482760"/>
            </a:xfrm>
            <a:custGeom>
              <a:avLst/>
              <a:gdLst/>
              <a:ahLst/>
              <a:rect l="l" t="t" r="r" b="b"/>
              <a:pathLst>
                <a:path w="719" h="488">
                  <a:moveTo>
                    <a:pt x="620" y="33"/>
                  </a:moveTo>
                  <a:lnTo>
                    <a:pt x="580" y="0"/>
                  </a:lnTo>
                  <a:lnTo>
                    <a:pt x="540" y="0"/>
                  </a:lnTo>
                  <a:lnTo>
                    <a:pt x="521" y="33"/>
                  </a:lnTo>
                  <a:lnTo>
                    <a:pt x="527" y="73"/>
                  </a:lnTo>
                  <a:lnTo>
                    <a:pt x="600" y="198"/>
                  </a:lnTo>
                  <a:lnTo>
                    <a:pt x="666" y="330"/>
                  </a:lnTo>
                  <a:lnTo>
                    <a:pt x="672" y="402"/>
                  </a:lnTo>
                  <a:lnTo>
                    <a:pt x="653" y="442"/>
                  </a:lnTo>
                  <a:lnTo>
                    <a:pt x="600" y="442"/>
                  </a:lnTo>
                  <a:lnTo>
                    <a:pt x="448" y="448"/>
                  </a:lnTo>
                  <a:lnTo>
                    <a:pt x="310" y="435"/>
                  </a:lnTo>
                  <a:lnTo>
                    <a:pt x="237" y="402"/>
                  </a:lnTo>
                  <a:lnTo>
                    <a:pt x="178" y="376"/>
                  </a:lnTo>
                  <a:lnTo>
                    <a:pt x="145" y="376"/>
                  </a:lnTo>
                  <a:lnTo>
                    <a:pt x="105" y="415"/>
                  </a:lnTo>
                  <a:lnTo>
                    <a:pt x="13" y="429"/>
                  </a:lnTo>
                  <a:lnTo>
                    <a:pt x="0" y="455"/>
                  </a:lnTo>
                  <a:lnTo>
                    <a:pt x="59" y="462"/>
                  </a:lnTo>
                  <a:lnTo>
                    <a:pt x="145" y="455"/>
                  </a:lnTo>
                  <a:lnTo>
                    <a:pt x="171" y="442"/>
                  </a:lnTo>
                  <a:lnTo>
                    <a:pt x="244" y="468"/>
                  </a:lnTo>
                  <a:lnTo>
                    <a:pt x="303" y="468"/>
                  </a:lnTo>
                  <a:lnTo>
                    <a:pt x="389" y="481"/>
                  </a:lnTo>
                  <a:lnTo>
                    <a:pt x="514" y="488"/>
                  </a:lnTo>
                  <a:lnTo>
                    <a:pt x="626" y="481"/>
                  </a:lnTo>
                  <a:lnTo>
                    <a:pt x="692" y="462"/>
                  </a:lnTo>
                  <a:lnTo>
                    <a:pt x="719" y="429"/>
                  </a:lnTo>
                  <a:lnTo>
                    <a:pt x="719" y="382"/>
                  </a:lnTo>
                  <a:lnTo>
                    <a:pt x="719" y="297"/>
                  </a:lnTo>
                  <a:lnTo>
                    <a:pt x="686" y="211"/>
                  </a:lnTo>
                  <a:lnTo>
                    <a:pt x="653" y="119"/>
                  </a:lnTo>
                  <a:lnTo>
                    <a:pt x="620" y="3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300320" y="5783040"/>
              <a:ext cx="556920" cy="450000"/>
            </a:xfrm>
            <a:custGeom>
              <a:avLst/>
              <a:gdLst/>
              <a:ahLst/>
              <a:rect l="l" t="t" r="r" b="b"/>
              <a:pathLst>
                <a:path w="633" h="455">
                  <a:moveTo>
                    <a:pt x="547" y="0"/>
                  </a:moveTo>
                  <a:lnTo>
                    <a:pt x="514" y="32"/>
                  </a:lnTo>
                  <a:lnTo>
                    <a:pt x="507" y="85"/>
                  </a:lnTo>
                  <a:lnTo>
                    <a:pt x="514" y="158"/>
                  </a:lnTo>
                  <a:lnTo>
                    <a:pt x="534" y="243"/>
                  </a:lnTo>
                  <a:lnTo>
                    <a:pt x="547" y="342"/>
                  </a:lnTo>
                  <a:lnTo>
                    <a:pt x="560" y="389"/>
                  </a:lnTo>
                  <a:lnTo>
                    <a:pt x="553" y="408"/>
                  </a:lnTo>
                  <a:lnTo>
                    <a:pt x="487" y="415"/>
                  </a:lnTo>
                  <a:lnTo>
                    <a:pt x="362" y="422"/>
                  </a:lnTo>
                  <a:lnTo>
                    <a:pt x="257" y="402"/>
                  </a:lnTo>
                  <a:lnTo>
                    <a:pt x="178" y="362"/>
                  </a:lnTo>
                  <a:lnTo>
                    <a:pt x="138" y="356"/>
                  </a:lnTo>
                  <a:lnTo>
                    <a:pt x="85" y="389"/>
                  </a:lnTo>
                  <a:lnTo>
                    <a:pt x="39" y="395"/>
                  </a:lnTo>
                  <a:lnTo>
                    <a:pt x="0" y="408"/>
                  </a:lnTo>
                  <a:lnTo>
                    <a:pt x="6" y="428"/>
                  </a:lnTo>
                  <a:lnTo>
                    <a:pt x="59" y="428"/>
                  </a:lnTo>
                  <a:lnTo>
                    <a:pt x="112" y="428"/>
                  </a:lnTo>
                  <a:lnTo>
                    <a:pt x="151" y="408"/>
                  </a:lnTo>
                  <a:lnTo>
                    <a:pt x="191" y="415"/>
                  </a:lnTo>
                  <a:lnTo>
                    <a:pt x="237" y="441"/>
                  </a:lnTo>
                  <a:lnTo>
                    <a:pt x="309" y="441"/>
                  </a:lnTo>
                  <a:lnTo>
                    <a:pt x="428" y="455"/>
                  </a:lnTo>
                  <a:lnTo>
                    <a:pt x="540" y="448"/>
                  </a:lnTo>
                  <a:lnTo>
                    <a:pt x="613" y="428"/>
                  </a:lnTo>
                  <a:lnTo>
                    <a:pt x="633" y="395"/>
                  </a:lnTo>
                  <a:lnTo>
                    <a:pt x="593" y="342"/>
                  </a:lnTo>
                  <a:lnTo>
                    <a:pt x="580" y="270"/>
                  </a:lnTo>
                  <a:lnTo>
                    <a:pt x="580" y="197"/>
                  </a:lnTo>
                  <a:lnTo>
                    <a:pt x="586" y="131"/>
                  </a:lnTo>
                  <a:lnTo>
                    <a:pt x="600" y="59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302120" y="5720760"/>
              <a:ext cx="413640" cy="427320"/>
            </a:xfrm>
            <a:custGeom>
              <a:avLst/>
              <a:gdLst/>
              <a:ahLst/>
              <a:rect l="l" t="t" r="r" b="b"/>
              <a:pathLst>
                <a:path w="470" h="432">
                  <a:moveTo>
                    <a:pt x="460" y="171"/>
                  </a:moveTo>
                  <a:lnTo>
                    <a:pt x="470" y="118"/>
                  </a:lnTo>
                  <a:lnTo>
                    <a:pt x="447" y="59"/>
                  </a:lnTo>
                  <a:lnTo>
                    <a:pt x="381" y="16"/>
                  </a:lnTo>
                  <a:lnTo>
                    <a:pt x="256" y="0"/>
                  </a:lnTo>
                  <a:lnTo>
                    <a:pt x="118" y="29"/>
                  </a:lnTo>
                  <a:lnTo>
                    <a:pt x="13" y="89"/>
                  </a:lnTo>
                  <a:lnTo>
                    <a:pt x="0" y="151"/>
                  </a:lnTo>
                  <a:lnTo>
                    <a:pt x="0" y="230"/>
                  </a:lnTo>
                  <a:lnTo>
                    <a:pt x="56" y="277"/>
                  </a:lnTo>
                  <a:lnTo>
                    <a:pt x="111" y="296"/>
                  </a:lnTo>
                  <a:lnTo>
                    <a:pt x="190" y="296"/>
                  </a:lnTo>
                  <a:lnTo>
                    <a:pt x="266" y="293"/>
                  </a:lnTo>
                  <a:lnTo>
                    <a:pt x="318" y="382"/>
                  </a:lnTo>
                  <a:lnTo>
                    <a:pt x="351" y="425"/>
                  </a:lnTo>
                  <a:lnTo>
                    <a:pt x="378" y="432"/>
                  </a:lnTo>
                  <a:lnTo>
                    <a:pt x="378" y="412"/>
                  </a:lnTo>
                  <a:lnTo>
                    <a:pt x="309" y="287"/>
                  </a:lnTo>
                  <a:lnTo>
                    <a:pt x="374" y="257"/>
                  </a:lnTo>
                  <a:lnTo>
                    <a:pt x="437" y="201"/>
                  </a:lnTo>
                  <a:lnTo>
                    <a:pt x="460" y="17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295280"/>
            <a:ext cx="9144000" cy="914400"/>
          </a:xfrm>
          <a:custGeom>
            <a:avLst/>
            <a:gdLst>
              <a:gd name="textAreaLeft" fmla="*/ 1218960 w 9144000"/>
              <a:gd name="textAreaRight" fmla="*/ 7925040 w 9144000"/>
              <a:gd name="textAreaTop" fmla="*/ 0 h 914400"/>
              <a:gd name="textAreaBottom" fmla="*/ 758520 h 914400"/>
            </a:gdLst>
            <a:ahLst/>
            <a:rect l="textAreaLeft" t="textAreaTop" r="textAreaRight" b="textAreaBottom"/>
            <a:pathLst>
              <a:path w="21600" h="21600">
                <a:moveTo>
                  <a:pt x="5580" y="17918"/>
                </a:moveTo>
                <a:lnTo>
                  <a:pt x="5580" y="20680"/>
                </a:lnTo>
                <a:cubicBezTo>
                  <a:pt x="5580" y="21140"/>
                  <a:pt x="5160" y="21600"/>
                  <a:pt x="4740" y="21600"/>
                </a:cubicBezTo>
                <a:lnTo>
                  <a:pt x="0" y="21600"/>
                </a:lnTo>
                <a:lnTo>
                  <a:pt x="2750" y="12641"/>
                </a:lnTo>
                <a:lnTo>
                  <a:pt x="0" y="3682"/>
                </a:lnTo>
                <a:lnTo>
                  <a:pt x="2880" y="3682"/>
                </a:lnTo>
                <a:lnTo>
                  <a:pt x="2880" y="921"/>
                </a:lnTo>
                <a:cubicBezTo>
                  <a:pt x="2880" y="460"/>
                  <a:pt x="3300" y="0"/>
                  <a:pt x="3720" y="0"/>
                </a:cubicBezTo>
                <a:lnTo>
                  <a:pt x="17880" y="0"/>
                </a:lnTo>
                <a:cubicBezTo>
                  <a:pt x="18300" y="0"/>
                  <a:pt x="18720" y="460"/>
                  <a:pt x="18720" y="921"/>
                </a:cubicBezTo>
                <a:lnTo>
                  <a:pt x="18720" y="3682"/>
                </a:lnTo>
                <a:lnTo>
                  <a:pt x="21600" y="3682"/>
                </a:lnTo>
                <a:lnTo>
                  <a:pt x="18850" y="12641"/>
                </a:lnTo>
                <a:lnTo>
                  <a:pt x="21600" y="21600"/>
                </a:lnTo>
                <a:lnTo>
                  <a:pt x="16860" y="21600"/>
                </a:lnTo>
                <a:cubicBezTo>
                  <a:pt x="16440" y="21600"/>
                  <a:pt x="16020" y="21140"/>
                  <a:pt x="16020" y="20680"/>
                </a:cubicBezTo>
                <a:lnTo>
                  <a:pt x="16020" y="17918"/>
                </a:lnTo>
                <a:close/>
              </a:path>
              <a:path fill="darkenLess" w="21600" h="21600">
                <a:moveTo>
                  <a:pt x="5580" y="17918"/>
                </a:moveTo>
                <a:lnTo>
                  <a:pt x="5580" y="20680"/>
                </a:lnTo>
                <a:cubicBezTo>
                  <a:pt x="5580" y="20219"/>
                  <a:pt x="5160" y="19759"/>
                  <a:pt x="4740" y="19759"/>
                </a:cubicBezTo>
                <a:lnTo>
                  <a:pt x="3720" y="19759"/>
                </a:lnTo>
                <a:cubicBezTo>
                  <a:pt x="3300" y="19759"/>
                  <a:pt x="2880" y="19299"/>
                  <a:pt x="2880" y="18839"/>
                </a:cubicBezTo>
                <a:cubicBezTo>
                  <a:pt x="2880" y="18378"/>
                  <a:pt x="3300" y="17918"/>
                  <a:pt x="3720" y="17918"/>
                </a:cubicBezTo>
                <a:close/>
              </a:path>
              <a:path fill="darkenLess" w="21600" h="21600">
                <a:moveTo>
                  <a:pt x="16020" y="17918"/>
                </a:moveTo>
                <a:lnTo>
                  <a:pt x="16020" y="20680"/>
                </a:lnTo>
                <a:cubicBezTo>
                  <a:pt x="16020" y="20219"/>
                  <a:pt x="16440" y="19759"/>
                  <a:pt x="16860" y="19759"/>
                </a:cubicBezTo>
                <a:lnTo>
                  <a:pt x="17880" y="19759"/>
                </a:lnTo>
                <a:cubicBezTo>
                  <a:pt x="18300" y="19759"/>
                  <a:pt x="18720" y="19299"/>
                  <a:pt x="18720" y="18839"/>
                </a:cubicBezTo>
                <a:cubicBezTo>
                  <a:pt x="18720" y="18378"/>
                  <a:pt x="18300" y="17918"/>
                  <a:pt x="17880" y="17918"/>
                </a:cubicBezTo>
                <a:close/>
              </a:path>
              <a:path fill="darkenLess" w="21600" h="21600">
                <a:moveTo>
                  <a:pt x="2880" y="18839"/>
                </a:moveTo>
                <a:lnTo>
                  <a:pt x="2880" y="3682"/>
                </a:lnTo>
              </a:path>
              <a:path fill="darkenLess" w="21600" h="21600">
                <a:moveTo>
                  <a:pt x="18720" y="18839"/>
                </a:moveTo>
                <a:lnTo>
                  <a:pt x="18720" y="3682"/>
                </a:lnTo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05120" y="14151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Planowanie wyd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523880" y="3200400"/>
            <a:ext cx="1361880" cy="1870200"/>
            <a:chOff x="1523880" y="3200400"/>
            <a:chExt cx="1361880" cy="1870200"/>
          </a:xfrm>
        </p:grpSpPr>
        <p:sp>
          <p:nvSpPr>
            <p:cNvPr id="1141" name=""/>
            <p:cNvSpPr/>
            <p:nvPr/>
          </p:nvSpPr>
          <p:spPr>
            <a:xfrm>
              <a:off x="1793520" y="3200400"/>
              <a:ext cx="284400" cy="388800"/>
            </a:xfrm>
            <a:custGeom>
              <a:avLst/>
              <a:gdLst/>
              <a:ahLst/>
              <a:rect l="l" t="t" r="r" b="b"/>
              <a:pathLst>
                <a:path w="357" h="492">
                  <a:moveTo>
                    <a:pt x="112" y="339"/>
                  </a:moveTo>
                  <a:lnTo>
                    <a:pt x="63" y="285"/>
                  </a:lnTo>
                  <a:lnTo>
                    <a:pt x="28" y="229"/>
                  </a:lnTo>
                  <a:lnTo>
                    <a:pt x="7" y="175"/>
                  </a:lnTo>
                  <a:lnTo>
                    <a:pt x="0" y="100"/>
                  </a:lnTo>
                  <a:lnTo>
                    <a:pt x="14" y="58"/>
                  </a:lnTo>
                  <a:lnTo>
                    <a:pt x="37" y="28"/>
                  </a:lnTo>
                  <a:lnTo>
                    <a:pt x="77" y="10"/>
                  </a:lnTo>
                  <a:lnTo>
                    <a:pt x="121" y="0"/>
                  </a:lnTo>
                  <a:lnTo>
                    <a:pt x="184" y="17"/>
                  </a:lnTo>
                  <a:lnTo>
                    <a:pt x="231" y="42"/>
                  </a:lnTo>
                  <a:lnTo>
                    <a:pt x="275" y="79"/>
                  </a:lnTo>
                  <a:lnTo>
                    <a:pt x="310" y="128"/>
                  </a:lnTo>
                  <a:lnTo>
                    <a:pt x="336" y="168"/>
                  </a:lnTo>
                  <a:lnTo>
                    <a:pt x="352" y="222"/>
                  </a:lnTo>
                  <a:lnTo>
                    <a:pt x="357" y="266"/>
                  </a:lnTo>
                  <a:lnTo>
                    <a:pt x="350" y="321"/>
                  </a:lnTo>
                  <a:lnTo>
                    <a:pt x="329" y="356"/>
                  </a:lnTo>
                  <a:lnTo>
                    <a:pt x="303" y="381"/>
                  </a:lnTo>
                  <a:lnTo>
                    <a:pt x="252" y="388"/>
                  </a:lnTo>
                  <a:lnTo>
                    <a:pt x="205" y="388"/>
                  </a:lnTo>
                  <a:lnTo>
                    <a:pt x="156" y="374"/>
                  </a:lnTo>
                  <a:lnTo>
                    <a:pt x="133" y="418"/>
                  </a:lnTo>
                  <a:lnTo>
                    <a:pt x="107" y="478"/>
                  </a:lnTo>
                  <a:lnTo>
                    <a:pt x="86" y="492"/>
                  </a:lnTo>
                  <a:lnTo>
                    <a:pt x="63" y="492"/>
                  </a:lnTo>
                  <a:lnTo>
                    <a:pt x="51" y="460"/>
                  </a:lnTo>
                  <a:lnTo>
                    <a:pt x="63" y="425"/>
                  </a:lnTo>
                  <a:lnTo>
                    <a:pt x="98" y="384"/>
                  </a:lnTo>
                  <a:lnTo>
                    <a:pt x="112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995120" y="3506760"/>
              <a:ext cx="461880" cy="722160"/>
            </a:xfrm>
            <a:custGeom>
              <a:avLst/>
              <a:gdLst/>
              <a:ahLst/>
              <a:rect l="l" t="t" r="r" b="b"/>
              <a:pathLst>
                <a:path w="581" h="911">
                  <a:moveTo>
                    <a:pt x="35" y="47"/>
                  </a:moveTo>
                  <a:lnTo>
                    <a:pt x="83" y="10"/>
                  </a:lnTo>
                  <a:lnTo>
                    <a:pt x="136" y="0"/>
                  </a:lnTo>
                  <a:lnTo>
                    <a:pt x="185" y="7"/>
                  </a:lnTo>
                  <a:lnTo>
                    <a:pt x="239" y="21"/>
                  </a:lnTo>
                  <a:lnTo>
                    <a:pt x="295" y="57"/>
                  </a:lnTo>
                  <a:lnTo>
                    <a:pt x="360" y="112"/>
                  </a:lnTo>
                  <a:lnTo>
                    <a:pt x="413" y="166"/>
                  </a:lnTo>
                  <a:lnTo>
                    <a:pt x="454" y="227"/>
                  </a:lnTo>
                  <a:lnTo>
                    <a:pt x="496" y="294"/>
                  </a:lnTo>
                  <a:lnTo>
                    <a:pt x="532" y="369"/>
                  </a:lnTo>
                  <a:lnTo>
                    <a:pt x="553" y="441"/>
                  </a:lnTo>
                  <a:lnTo>
                    <a:pt x="567" y="534"/>
                  </a:lnTo>
                  <a:lnTo>
                    <a:pt x="581" y="625"/>
                  </a:lnTo>
                  <a:lnTo>
                    <a:pt x="581" y="719"/>
                  </a:lnTo>
                  <a:lnTo>
                    <a:pt x="564" y="792"/>
                  </a:lnTo>
                  <a:lnTo>
                    <a:pt x="538" y="847"/>
                  </a:lnTo>
                  <a:lnTo>
                    <a:pt x="505" y="877"/>
                  </a:lnTo>
                  <a:lnTo>
                    <a:pt x="461" y="897"/>
                  </a:lnTo>
                  <a:lnTo>
                    <a:pt x="406" y="908"/>
                  </a:lnTo>
                  <a:lnTo>
                    <a:pt x="353" y="911"/>
                  </a:lnTo>
                  <a:lnTo>
                    <a:pt x="304" y="897"/>
                  </a:lnTo>
                  <a:lnTo>
                    <a:pt x="270" y="875"/>
                  </a:lnTo>
                  <a:lnTo>
                    <a:pt x="242" y="840"/>
                  </a:lnTo>
                  <a:lnTo>
                    <a:pt x="221" y="809"/>
                  </a:lnTo>
                  <a:lnTo>
                    <a:pt x="213" y="742"/>
                  </a:lnTo>
                  <a:lnTo>
                    <a:pt x="213" y="691"/>
                  </a:lnTo>
                  <a:lnTo>
                    <a:pt x="232" y="639"/>
                  </a:lnTo>
                  <a:lnTo>
                    <a:pt x="253" y="596"/>
                  </a:lnTo>
                  <a:lnTo>
                    <a:pt x="260" y="554"/>
                  </a:lnTo>
                  <a:lnTo>
                    <a:pt x="263" y="502"/>
                  </a:lnTo>
                  <a:lnTo>
                    <a:pt x="249" y="455"/>
                  </a:lnTo>
                  <a:lnTo>
                    <a:pt x="242" y="418"/>
                  </a:lnTo>
                  <a:lnTo>
                    <a:pt x="214" y="379"/>
                  </a:lnTo>
                  <a:lnTo>
                    <a:pt x="174" y="350"/>
                  </a:lnTo>
                  <a:lnTo>
                    <a:pt x="118" y="310"/>
                  </a:lnTo>
                  <a:lnTo>
                    <a:pt x="60" y="289"/>
                  </a:lnTo>
                  <a:lnTo>
                    <a:pt x="28" y="256"/>
                  </a:lnTo>
                  <a:lnTo>
                    <a:pt x="7" y="214"/>
                  </a:lnTo>
                  <a:lnTo>
                    <a:pt x="0" y="164"/>
                  </a:lnTo>
                  <a:lnTo>
                    <a:pt x="4" y="105"/>
                  </a:lnTo>
                  <a:lnTo>
                    <a:pt x="3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35000" y="3556080"/>
              <a:ext cx="136440" cy="725400"/>
            </a:xfrm>
            <a:custGeom>
              <a:avLst/>
              <a:gdLst/>
              <a:ahLst/>
              <a:rect l="l" t="t" r="r" b="b"/>
              <a:pathLst>
                <a:path w="174" h="914">
                  <a:moveTo>
                    <a:pt x="46" y="158"/>
                  </a:moveTo>
                  <a:lnTo>
                    <a:pt x="66" y="80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154" y="40"/>
                  </a:lnTo>
                  <a:lnTo>
                    <a:pt x="174" y="123"/>
                  </a:lnTo>
                  <a:lnTo>
                    <a:pt x="160" y="178"/>
                  </a:lnTo>
                  <a:lnTo>
                    <a:pt x="118" y="219"/>
                  </a:lnTo>
                  <a:lnTo>
                    <a:pt x="90" y="299"/>
                  </a:lnTo>
                  <a:lnTo>
                    <a:pt x="66" y="404"/>
                  </a:lnTo>
                  <a:lnTo>
                    <a:pt x="53" y="527"/>
                  </a:lnTo>
                  <a:lnTo>
                    <a:pt x="57" y="676"/>
                  </a:lnTo>
                  <a:lnTo>
                    <a:pt x="67" y="779"/>
                  </a:lnTo>
                  <a:lnTo>
                    <a:pt x="87" y="831"/>
                  </a:lnTo>
                  <a:lnTo>
                    <a:pt x="118" y="859"/>
                  </a:lnTo>
                  <a:lnTo>
                    <a:pt x="123" y="886"/>
                  </a:lnTo>
                  <a:lnTo>
                    <a:pt x="87" y="900"/>
                  </a:lnTo>
                  <a:lnTo>
                    <a:pt x="57" y="873"/>
                  </a:lnTo>
                  <a:lnTo>
                    <a:pt x="0" y="914"/>
                  </a:lnTo>
                  <a:lnTo>
                    <a:pt x="3" y="805"/>
                  </a:lnTo>
                  <a:lnTo>
                    <a:pt x="7" y="665"/>
                  </a:lnTo>
                  <a:lnTo>
                    <a:pt x="7" y="506"/>
                  </a:lnTo>
                  <a:lnTo>
                    <a:pt x="10" y="375"/>
                  </a:lnTo>
                  <a:lnTo>
                    <a:pt x="22" y="274"/>
                  </a:lnTo>
                  <a:lnTo>
                    <a:pt x="36" y="205"/>
                  </a:lnTo>
                  <a:lnTo>
                    <a:pt x="4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1523880" y="3352680"/>
              <a:ext cx="1361880" cy="1417680"/>
              <a:chOff x="1523880" y="3352680"/>
              <a:chExt cx="1361880" cy="1417680"/>
            </a:xfrm>
          </p:grpSpPr>
          <p:sp>
            <p:nvSpPr>
              <p:cNvPr id="1145" name=""/>
              <p:cNvSpPr/>
              <p:nvPr/>
            </p:nvSpPr>
            <p:spPr>
              <a:xfrm>
                <a:off x="2646000" y="3360600"/>
                <a:ext cx="228600" cy="192240"/>
              </a:xfrm>
              <a:custGeom>
                <a:avLst/>
                <a:gdLst/>
                <a:ahLst/>
                <a:rect l="l" t="t" r="r" b="b"/>
                <a:pathLst>
                  <a:path w="287" h="243">
                    <a:moveTo>
                      <a:pt x="19" y="105"/>
                    </a:moveTo>
                    <a:lnTo>
                      <a:pt x="156" y="0"/>
                    </a:lnTo>
                    <a:lnTo>
                      <a:pt x="254" y="44"/>
                    </a:lnTo>
                    <a:lnTo>
                      <a:pt x="287" y="100"/>
                    </a:lnTo>
                    <a:lnTo>
                      <a:pt x="236" y="161"/>
                    </a:lnTo>
                    <a:lnTo>
                      <a:pt x="156" y="243"/>
                    </a:lnTo>
                    <a:lnTo>
                      <a:pt x="118" y="161"/>
                    </a:lnTo>
                    <a:lnTo>
                      <a:pt x="52" y="143"/>
                    </a:lnTo>
                    <a:lnTo>
                      <a:pt x="0" y="133"/>
                    </a:lnTo>
                    <a:lnTo>
                      <a:pt x="19" y="105"/>
                    </a:lnTo>
                    <a:close/>
                  </a:path>
                </a:pathLst>
              </a:custGeom>
              <a:solidFill>
                <a:srgbClr val="fd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80760" y="4532400"/>
                <a:ext cx="176400" cy="191880"/>
              </a:xfrm>
              <a:custGeom>
                <a:avLst/>
                <a:gdLst/>
                <a:ahLst/>
                <a:rect l="l" t="t" r="r" b="b"/>
                <a:pathLst>
                  <a:path w="222" h="242">
                    <a:moveTo>
                      <a:pt x="0" y="242"/>
                    </a:moveTo>
                    <a:lnTo>
                      <a:pt x="38" y="143"/>
                    </a:lnTo>
                    <a:lnTo>
                      <a:pt x="103" y="0"/>
                    </a:lnTo>
                    <a:lnTo>
                      <a:pt x="213" y="47"/>
                    </a:lnTo>
                    <a:lnTo>
                      <a:pt x="222" y="137"/>
                    </a:lnTo>
                    <a:lnTo>
                      <a:pt x="151" y="180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663560" y="3451320"/>
                <a:ext cx="1114200" cy="1211040"/>
              </a:xfrm>
              <a:custGeom>
                <a:avLst/>
                <a:gdLst/>
                <a:ahLst/>
                <a:rect l="l" t="t" r="r" b="b"/>
                <a:pathLst>
                  <a:path w="1405" h="1527">
                    <a:moveTo>
                      <a:pt x="5" y="1367"/>
                    </a:moveTo>
                    <a:lnTo>
                      <a:pt x="132" y="1264"/>
                    </a:lnTo>
                    <a:lnTo>
                      <a:pt x="233" y="1163"/>
                    </a:lnTo>
                    <a:lnTo>
                      <a:pt x="338" y="1050"/>
                    </a:lnTo>
                    <a:lnTo>
                      <a:pt x="479" y="914"/>
                    </a:lnTo>
                    <a:lnTo>
                      <a:pt x="593" y="791"/>
                    </a:lnTo>
                    <a:lnTo>
                      <a:pt x="712" y="645"/>
                    </a:lnTo>
                    <a:lnTo>
                      <a:pt x="784" y="572"/>
                    </a:lnTo>
                    <a:lnTo>
                      <a:pt x="867" y="491"/>
                    </a:lnTo>
                    <a:lnTo>
                      <a:pt x="972" y="350"/>
                    </a:lnTo>
                    <a:lnTo>
                      <a:pt x="1049" y="236"/>
                    </a:lnTo>
                    <a:lnTo>
                      <a:pt x="1126" y="141"/>
                    </a:lnTo>
                    <a:lnTo>
                      <a:pt x="1209" y="50"/>
                    </a:lnTo>
                    <a:lnTo>
                      <a:pt x="1267" y="0"/>
                    </a:lnTo>
                    <a:lnTo>
                      <a:pt x="1340" y="14"/>
                    </a:lnTo>
                    <a:lnTo>
                      <a:pt x="1372" y="40"/>
                    </a:lnTo>
                    <a:lnTo>
                      <a:pt x="1395" y="81"/>
                    </a:lnTo>
                    <a:lnTo>
                      <a:pt x="1405" y="113"/>
                    </a:lnTo>
                    <a:lnTo>
                      <a:pt x="1295" y="232"/>
                    </a:lnTo>
                    <a:lnTo>
                      <a:pt x="1213" y="318"/>
                    </a:lnTo>
                    <a:lnTo>
                      <a:pt x="1144" y="394"/>
                    </a:lnTo>
                    <a:lnTo>
                      <a:pt x="1071" y="473"/>
                    </a:lnTo>
                    <a:lnTo>
                      <a:pt x="1013" y="546"/>
                    </a:lnTo>
                    <a:lnTo>
                      <a:pt x="930" y="649"/>
                    </a:lnTo>
                    <a:lnTo>
                      <a:pt x="821" y="777"/>
                    </a:lnTo>
                    <a:lnTo>
                      <a:pt x="712" y="900"/>
                    </a:lnTo>
                    <a:lnTo>
                      <a:pt x="607" y="1009"/>
                    </a:lnTo>
                    <a:lnTo>
                      <a:pt x="493" y="1118"/>
                    </a:lnTo>
                    <a:lnTo>
                      <a:pt x="397" y="1213"/>
                    </a:lnTo>
                    <a:lnTo>
                      <a:pt x="279" y="1331"/>
                    </a:lnTo>
                    <a:lnTo>
                      <a:pt x="206" y="1404"/>
                    </a:lnTo>
                    <a:lnTo>
                      <a:pt x="114" y="1491"/>
                    </a:lnTo>
                    <a:lnTo>
                      <a:pt x="73" y="1527"/>
                    </a:lnTo>
                    <a:lnTo>
                      <a:pt x="83" y="1464"/>
                    </a:lnTo>
                    <a:lnTo>
                      <a:pt x="33" y="1472"/>
                    </a:lnTo>
                    <a:lnTo>
                      <a:pt x="51" y="1418"/>
                    </a:lnTo>
                    <a:lnTo>
                      <a:pt x="0" y="1432"/>
                    </a:lnTo>
                    <a:lnTo>
                      <a:pt x="5" y="1367"/>
                    </a:lnTo>
                    <a:close/>
                  </a:path>
                </a:pathLst>
              </a:custGeom>
              <a:solidFill>
                <a:srgbClr val="f0e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963440" y="3352680"/>
                <a:ext cx="922320" cy="1025640"/>
              </a:xfrm>
              <a:custGeom>
                <a:avLst/>
                <a:gdLst/>
                <a:ahLst/>
                <a:rect l="l" t="t" r="r" b="b"/>
                <a:pathLst>
                  <a:path w="1164" h="1294">
                    <a:moveTo>
                      <a:pt x="0" y="1112"/>
                    </a:moveTo>
                    <a:lnTo>
                      <a:pt x="178" y="941"/>
                    </a:lnTo>
                    <a:lnTo>
                      <a:pt x="327" y="752"/>
                    </a:lnTo>
                    <a:lnTo>
                      <a:pt x="500" y="571"/>
                    </a:lnTo>
                    <a:lnTo>
                      <a:pt x="628" y="403"/>
                    </a:lnTo>
                    <a:lnTo>
                      <a:pt x="719" y="272"/>
                    </a:lnTo>
                    <a:lnTo>
                      <a:pt x="822" y="164"/>
                    </a:lnTo>
                    <a:lnTo>
                      <a:pt x="936" y="52"/>
                    </a:lnTo>
                    <a:lnTo>
                      <a:pt x="1011" y="0"/>
                    </a:lnTo>
                    <a:lnTo>
                      <a:pt x="1059" y="18"/>
                    </a:lnTo>
                    <a:lnTo>
                      <a:pt x="1136" y="59"/>
                    </a:lnTo>
                    <a:lnTo>
                      <a:pt x="1164" y="94"/>
                    </a:lnTo>
                    <a:lnTo>
                      <a:pt x="1154" y="116"/>
                    </a:lnTo>
                    <a:lnTo>
                      <a:pt x="1069" y="210"/>
                    </a:lnTo>
                    <a:lnTo>
                      <a:pt x="986" y="294"/>
                    </a:lnTo>
                    <a:lnTo>
                      <a:pt x="903" y="382"/>
                    </a:lnTo>
                    <a:lnTo>
                      <a:pt x="786" y="517"/>
                    </a:lnTo>
                    <a:lnTo>
                      <a:pt x="657" y="650"/>
                    </a:lnTo>
                    <a:lnTo>
                      <a:pt x="555" y="785"/>
                    </a:lnTo>
                    <a:lnTo>
                      <a:pt x="471" y="888"/>
                    </a:lnTo>
                    <a:lnTo>
                      <a:pt x="315" y="1057"/>
                    </a:lnTo>
                    <a:lnTo>
                      <a:pt x="185" y="1187"/>
                    </a:lnTo>
                    <a:lnTo>
                      <a:pt x="73" y="1294"/>
                    </a:lnTo>
                    <a:lnTo>
                      <a:pt x="73" y="1247"/>
                    </a:lnTo>
                    <a:lnTo>
                      <a:pt x="142" y="1191"/>
                    </a:lnTo>
                    <a:lnTo>
                      <a:pt x="240" y="1095"/>
                    </a:lnTo>
                    <a:lnTo>
                      <a:pt x="341" y="977"/>
                    </a:lnTo>
                    <a:lnTo>
                      <a:pt x="432" y="882"/>
                    </a:lnTo>
                    <a:lnTo>
                      <a:pt x="514" y="785"/>
                    </a:lnTo>
                    <a:lnTo>
                      <a:pt x="588" y="697"/>
                    </a:lnTo>
                    <a:lnTo>
                      <a:pt x="649" y="619"/>
                    </a:lnTo>
                    <a:lnTo>
                      <a:pt x="726" y="540"/>
                    </a:lnTo>
                    <a:lnTo>
                      <a:pt x="798" y="462"/>
                    </a:lnTo>
                    <a:lnTo>
                      <a:pt x="874" y="381"/>
                    </a:lnTo>
                    <a:lnTo>
                      <a:pt x="945" y="298"/>
                    </a:lnTo>
                    <a:lnTo>
                      <a:pt x="1007" y="226"/>
                    </a:lnTo>
                    <a:lnTo>
                      <a:pt x="990" y="182"/>
                    </a:lnTo>
                    <a:lnTo>
                      <a:pt x="945" y="143"/>
                    </a:lnTo>
                    <a:lnTo>
                      <a:pt x="895" y="135"/>
                    </a:lnTo>
                    <a:lnTo>
                      <a:pt x="943" y="121"/>
                    </a:lnTo>
                    <a:lnTo>
                      <a:pt x="979" y="135"/>
                    </a:lnTo>
                    <a:lnTo>
                      <a:pt x="1007" y="150"/>
                    </a:lnTo>
                    <a:lnTo>
                      <a:pt x="1020" y="178"/>
                    </a:lnTo>
                    <a:lnTo>
                      <a:pt x="1031" y="199"/>
                    </a:lnTo>
                    <a:lnTo>
                      <a:pt x="1080" y="163"/>
                    </a:lnTo>
                    <a:lnTo>
                      <a:pt x="1113" y="116"/>
                    </a:lnTo>
                    <a:lnTo>
                      <a:pt x="1120" y="88"/>
                    </a:lnTo>
                    <a:lnTo>
                      <a:pt x="1095" y="62"/>
                    </a:lnTo>
                    <a:lnTo>
                      <a:pt x="1041" y="34"/>
                    </a:lnTo>
                    <a:lnTo>
                      <a:pt x="997" y="34"/>
                    </a:lnTo>
                    <a:lnTo>
                      <a:pt x="957" y="76"/>
                    </a:lnTo>
                    <a:lnTo>
                      <a:pt x="903" y="116"/>
                    </a:lnTo>
                    <a:lnTo>
                      <a:pt x="842" y="178"/>
                    </a:lnTo>
                    <a:lnTo>
                      <a:pt x="773" y="258"/>
                    </a:lnTo>
                    <a:lnTo>
                      <a:pt x="724" y="328"/>
                    </a:lnTo>
                    <a:lnTo>
                      <a:pt x="682" y="389"/>
                    </a:lnTo>
                    <a:lnTo>
                      <a:pt x="614" y="479"/>
                    </a:lnTo>
                    <a:lnTo>
                      <a:pt x="562" y="540"/>
                    </a:lnTo>
                    <a:lnTo>
                      <a:pt x="507" y="608"/>
                    </a:lnTo>
                    <a:lnTo>
                      <a:pt x="472" y="643"/>
                    </a:lnTo>
                    <a:lnTo>
                      <a:pt x="402" y="711"/>
                    </a:lnTo>
                    <a:lnTo>
                      <a:pt x="356" y="770"/>
                    </a:lnTo>
                    <a:lnTo>
                      <a:pt x="293" y="847"/>
                    </a:lnTo>
                    <a:lnTo>
                      <a:pt x="251" y="893"/>
                    </a:lnTo>
                    <a:lnTo>
                      <a:pt x="203" y="955"/>
                    </a:lnTo>
                    <a:lnTo>
                      <a:pt x="149" y="1016"/>
                    </a:lnTo>
                    <a:lnTo>
                      <a:pt x="73" y="1075"/>
                    </a:lnTo>
                    <a:lnTo>
                      <a:pt x="12" y="1137"/>
                    </a:lnTo>
                    <a:lnTo>
                      <a:pt x="0" y="1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23880" y="4213080"/>
                <a:ext cx="515880" cy="557280"/>
              </a:xfrm>
              <a:custGeom>
                <a:avLst/>
                <a:gdLst/>
                <a:ahLst/>
                <a:rect l="l" t="t" r="r" b="b"/>
                <a:pathLst>
                  <a:path w="651" h="703">
                    <a:moveTo>
                      <a:pt x="589" y="0"/>
                    </a:moveTo>
                    <a:lnTo>
                      <a:pt x="577" y="36"/>
                    </a:lnTo>
                    <a:lnTo>
                      <a:pt x="480" y="137"/>
                    </a:lnTo>
                    <a:lnTo>
                      <a:pt x="382" y="248"/>
                    </a:lnTo>
                    <a:lnTo>
                      <a:pt x="225" y="386"/>
                    </a:lnTo>
                    <a:lnTo>
                      <a:pt x="172" y="430"/>
                    </a:lnTo>
                    <a:lnTo>
                      <a:pt x="125" y="552"/>
                    </a:lnTo>
                    <a:lnTo>
                      <a:pt x="101" y="599"/>
                    </a:lnTo>
                    <a:lnTo>
                      <a:pt x="125" y="623"/>
                    </a:lnTo>
                    <a:lnTo>
                      <a:pt x="272" y="533"/>
                    </a:lnTo>
                    <a:lnTo>
                      <a:pt x="333" y="463"/>
                    </a:lnTo>
                    <a:lnTo>
                      <a:pt x="426" y="372"/>
                    </a:lnTo>
                    <a:lnTo>
                      <a:pt x="515" y="284"/>
                    </a:lnTo>
                    <a:lnTo>
                      <a:pt x="596" y="202"/>
                    </a:lnTo>
                    <a:lnTo>
                      <a:pt x="651" y="147"/>
                    </a:lnTo>
                    <a:lnTo>
                      <a:pt x="640" y="195"/>
                    </a:lnTo>
                    <a:lnTo>
                      <a:pt x="554" y="284"/>
                    </a:lnTo>
                    <a:lnTo>
                      <a:pt x="454" y="381"/>
                    </a:lnTo>
                    <a:lnTo>
                      <a:pt x="389" y="451"/>
                    </a:lnTo>
                    <a:lnTo>
                      <a:pt x="307" y="526"/>
                    </a:lnTo>
                    <a:lnTo>
                      <a:pt x="280" y="559"/>
                    </a:lnTo>
                    <a:lnTo>
                      <a:pt x="186" y="613"/>
                    </a:lnTo>
                    <a:lnTo>
                      <a:pt x="108" y="655"/>
                    </a:lnTo>
                    <a:lnTo>
                      <a:pt x="14" y="703"/>
                    </a:lnTo>
                    <a:lnTo>
                      <a:pt x="0" y="691"/>
                    </a:lnTo>
                    <a:lnTo>
                      <a:pt x="7" y="668"/>
                    </a:lnTo>
                    <a:lnTo>
                      <a:pt x="76" y="588"/>
                    </a:lnTo>
                    <a:lnTo>
                      <a:pt x="118" y="512"/>
                    </a:lnTo>
                    <a:lnTo>
                      <a:pt x="157" y="406"/>
                    </a:lnTo>
                    <a:lnTo>
                      <a:pt x="218" y="354"/>
                    </a:lnTo>
                    <a:lnTo>
                      <a:pt x="293" y="297"/>
                    </a:lnTo>
                    <a:lnTo>
                      <a:pt x="382" y="209"/>
                    </a:lnTo>
                    <a:lnTo>
                      <a:pt x="437" y="151"/>
                    </a:lnTo>
                    <a:lnTo>
                      <a:pt x="493" y="83"/>
                    </a:lnTo>
                    <a:lnTo>
                      <a:pt x="543" y="42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652400" y="4525920"/>
                <a:ext cx="98280" cy="133200"/>
              </a:xfrm>
              <a:custGeom>
                <a:avLst/>
                <a:gdLst/>
                <a:ahLst/>
                <a:rect l="l" t="t" r="r" b="b"/>
                <a:pathLst>
                  <a:path w="125" h="168">
                    <a:moveTo>
                      <a:pt x="42" y="7"/>
                    </a:moveTo>
                    <a:lnTo>
                      <a:pt x="35" y="52"/>
                    </a:lnTo>
                    <a:lnTo>
                      <a:pt x="87" y="43"/>
                    </a:lnTo>
                    <a:lnTo>
                      <a:pt x="70" y="99"/>
                    </a:lnTo>
                    <a:lnTo>
                      <a:pt x="125" y="85"/>
                    </a:lnTo>
                    <a:lnTo>
                      <a:pt x="110" y="161"/>
                    </a:lnTo>
                    <a:lnTo>
                      <a:pt x="80" y="168"/>
                    </a:lnTo>
                    <a:lnTo>
                      <a:pt x="103" y="115"/>
                    </a:lnTo>
                    <a:lnTo>
                      <a:pt x="30" y="122"/>
                    </a:lnTo>
                    <a:lnTo>
                      <a:pt x="65" y="59"/>
                    </a:lnTo>
                    <a:lnTo>
                      <a:pt x="0" y="85"/>
                    </a:lnTo>
                    <a:lnTo>
                      <a:pt x="20" y="0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2323800" y="4127400"/>
              <a:ext cx="324000" cy="857160"/>
            </a:xfrm>
            <a:custGeom>
              <a:avLst/>
              <a:gdLst/>
              <a:ahLst/>
              <a:rect l="l" t="t" r="r" b="b"/>
              <a:pathLst>
                <a:path w="409" h="1081">
                  <a:moveTo>
                    <a:pt x="64" y="0"/>
                  </a:moveTo>
                  <a:lnTo>
                    <a:pt x="130" y="28"/>
                  </a:lnTo>
                  <a:lnTo>
                    <a:pt x="190" y="146"/>
                  </a:lnTo>
                  <a:lnTo>
                    <a:pt x="269" y="315"/>
                  </a:lnTo>
                  <a:lnTo>
                    <a:pt x="288" y="415"/>
                  </a:lnTo>
                  <a:lnTo>
                    <a:pt x="288" y="493"/>
                  </a:lnTo>
                  <a:lnTo>
                    <a:pt x="274" y="616"/>
                  </a:lnTo>
                  <a:lnTo>
                    <a:pt x="232" y="748"/>
                  </a:lnTo>
                  <a:lnTo>
                    <a:pt x="195" y="871"/>
                  </a:lnTo>
                  <a:lnTo>
                    <a:pt x="186" y="931"/>
                  </a:lnTo>
                  <a:lnTo>
                    <a:pt x="190" y="962"/>
                  </a:lnTo>
                  <a:lnTo>
                    <a:pt x="237" y="980"/>
                  </a:lnTo>
                  <a:lnTo>
                    <a:pt x="316" y="990"/>
                  </a:lnTo>
                  <a:lnTo>
                    <a:pt x="371" y="994"/>
                  </a:lnTo>
                  <a:lnTo>
                    <a:pt x="399" y="1016"/>
                  </a:lnTo>
                  <a:lnTo>
                    <a:pt x="409" y="1058"/>
                  </a:lnTo>
                  <a:lnTo>
                    <a:pt x="395" y="1081"/>
                  </a:lnTo>
                  <a:lnTo>
                    <a:pt x="353" y="1081"/>
                  </a:lnTo>
                  <a:lnTo>
                    <a:pt x="283" y="1053"/>
                  </a:lnTo>
                  <a:lnTo>
                    <a:pt x="209" y="1040"/>
                  </a:lnTo>
                  <a:lnTo>
                    <a:pt x="140" y="1026"/>
                  </a:lnTo>
                  <a:lnTo>
                    <a:pt x="106" y="1004"/>
                  </a:lnTo>
                  <a:lnTo>
                    <a:pt x="92" y="949"/>
                  </a:lnTo>
                  <a:lnTo>
                    <a:pt x="116" y="911"/>
                  </a:lnTo>
                  <a:lnTo>
                    <a:pt x="148" y="848"/>
                  </a:lnTo>
                  <a:lnTo>
                    <a:pt x="186" y="752"/>
                  </a:lnTo>
                  <a:lnTo>
                    <a:pt x="209" y="630"/>
                  </a:lnTo>
                  <a:lnTo>
                    <a:pt x="218" y="543"/>
                  </a:lnTo>
                  <a:lnTo>
                    <a:pt x="218" y="457"/>
                  </a:lnTo>
                  <a:lnTo>
                    <a:pt x="204" y="370"/>
                  </a:lnTo>
                  <a:lnTo>
                    <a:pt x="154" y="287"/>
                  </a:lnTo>
                  <a:lnTo>
                    <a:pt x="84" y="192"/>
                  </a:lnTo>
                  <a:lnTo>
                    <a:pt x="28" y="128"/>
                  </a:lnTo>
                  <a:lnTo>
                    <a:pt x="0" y="73"/>
                  </a:lnTo>
                  <a:lnTo>
                    <a:pt x="4" y="2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161800" y="4148280"/>
              <a:ext cx="187560" cy="922320"/>
            </a:xfrm>
            <a:custGeom>
              <a:avLst/>
              <a:gdLst/>
              <a:ahLst/>
              <a:rect l="l" t="t" r="r" b="b"/>
              <a:pathLst>
                <a:path w="237" h="1162">
                  <a:moveTo>
                    <a:pt x="80" y="168"/>
                  </a:moveTo>
                  <a:lnTo>
                    <a:pt x="109" y="40"/>
                  </a:lnTo>
                  <a:lnTo>
                    <a:pt x="179" y="0"/>
                  </a:lnTo>
                  <a:lnTo>
                    <a:pt x="237" y="14"/>
                  </a:lnTo>
                  <a:lnTo>
                    <a:pt x="232" y="68"/>
                  </a:lnTo>
                  <a:lnTo>
                    <a:pt x="185" y="196"/>
                  </a:lnTo>
                  <a:lnTo>
                    <a:pt x="137" y="323"/>
                  </a:lnTo>
                  <a:lnTo>
                    <a:pt x="113" y="469"/>
                  </a:lnTo>
                  <a:lnTo>
                    <a:pt x="99" y="596"/>
                  </a:lnTo>
                  <a:lnTo>
                    <a:pt x="113" y="725"/>
                  </a:lnTo>
                  <a:lnTo>
                    <a:pt x="137" y="828"/>
                  </a:lnTo>
                  <a:lnTo>
                    <a:pt x="171" y="911"/>
                  </a:lnTo>
                  <a:lnTo>
                    <a:pt x="195" y="947"/>
                  </a:lnTo>
                  <a:lnTo>
                    <a:pt x="223" y="975"/>
                  </a:lnTo>
                  <a:lnTo>
                    <a:pt x="223" y="1016"/>
                  </a:lnTo>
                  <a:lnTo>
                    <a:pt x="179" y="1057"/>
                  </a:lnTo>
                  <a:lnTo>
                    <a:pt x="119" y="1107"/>
                  </a:lnTo>
                  <a:lnTo>
                    <a:pt x="66" y="1162"/>
                  </a:lnTo>
                  <a:lnTo>
                    <a:pt x="24" y="1162"/>
                  </a:lnTo>
                  <a:lnTo>
                    <a:pt x="0" y="1075"/>
                  </a:lnTo>
                  <a:lnTo>
                    <a:pt x="4" y="1043"/>
                  </a:lnTo>
                  <a:lnTo>
                    <a:pt x="42" y="1024"/>
                  </a:lnTo>
                  <a:lnTo>
                    <a:pt x="123" y="988"/>
                  </a:lnTo>
                  <a:lnTo>
                    <a:pt x="127" y="961"/>
                  </a:lnTo>
                  <a:lnTo>
                    <a:pt x="113" y="897"/>
                  </a:lnTo>
                  <a:lnTo>
                    <a:pt x="80" y="788"/>
                  </a:lnTo>
                  <a:lnTo>
                    <a:pt x="48" y="675"/>
                  </a:lnTo>
                  <a:lnTo>
                    <a:pt x="38" y="592"/>
                  </a:lnTo>
                  <a:lnTo>
                    <a:pt x="38" y="493"/>
                  </a:lnTo>
                  <a:lnTo>
                    <a:pt x="42" y="400"/>
                  </a:lnTo>
                  <a:lnTo>
                    <a:pt x="62" y="305"/>
                  </a:lnTo>
                  <a:lnTo>
                    <a:pt x="71" y="218"/>
                  </a:lnTo>
                  <a:lnTo>
                    <a:pt x="8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18960" y="3513240"/>
              <a:ext cx="514440" cy="471240"/>
            </a:xfrm>
            <a:custGeom>
              <a:avLst/>
              <a:gdLst/>
              <a:ahLst/>
              <a:rect l="l" t="t" r="r" b="b"/>
              <a:pathLst>
                <a:path w="649" h="594">
                  <a:moveTo>
                    <a:pt x="40" y="0"/>
                  </a:moveTo>
                  <a:lnTo>
                    <a:pt x="136" y="7"/>
                  </a:lnTo>
                  <a:lnTo>
                    <a:pt x="241" y="25"/>
                  </a:lnTo>
                  <a:lnTo>
                    <a:pt x="377" y="81"/>
                  </a:lnTo>
                  <a:lnTo>
                    <a:pt x="474" y="143"/>
                  </a:lnTo>
                  <a:lnTo>
                    <a:pt x="542" y="191"/>
                  </a:lnTo>
                  <a:lnTo>
                    <a:pt x="591" y="253"/>
                  </a:lnTo>
                  <a:lnTo>
                    <a:pt x="628" y="311"/>
                  </a:lnTo>
                  <a:lnTo>
                    <a:pt x="649" y="378"/>
                  </a:lnTo>
                  <a:lnTo>
                    <a:pt x="649" y="442"/>
                  </a:lnTo>
                  <a:lnTo>
                    <a:pt x="639" y="490"/>
                  </a:lnTo>
                  <a:lnTo>
                    <a:pt x="607" y="525"/>
                  </a:lnTo>
                  <a:lnTo>
                    <a:pt x="537" y="545"/>
                  </a:lnTo>
                  <a:lnTo>
                    <a:pt x="460" y="552"/>
                  </a:lnTo>
                  <a:lnTo>
                    <a:pt x="426" y="577"/>
                  </a:lnTo>
                  <a:lnTo>
                    <a:pt x="387" y="594"/>
                  </a:lnTo>
                  <a:lnTo>
                    <a:pt x="359" y="594"/>
                  </a:lnTo>
                  <a:lnTo>
                    <a:pt x="338" y="577"/>
                  </a:lnTo>
                  <a:lnTo>
                    <a:pt x="336" y="525"/>
                  </a:lnTo>
                  <a:lnTo>
                    <a:pt x="352" y="461"/>
                  </a:lnTo>
                  <a:lnTo>
                    <a:pt x="384" y="428"/>
                  </a:lnTo>
                  <a:lnTo>
                    <a:pt x="427" y="435"/>
                  </a:lnTo>
                  <a:lnTo>
                    <a:pt x="455" y="468"/>
                  </a:lnTo>
                  <a:lnTo>
                    <a:pt x="502" y="475"/>
                  </a:lnTo>
                  <a:lnTo>
                    <a:pt x="552" y="475"/>
                  </a:lnTo>
                  <a:lnTo>
                    <a:pt x="573" y="462"/>
                  </a:lnTo>
                  <a:lnTo>
                    <a:pt x="594" y="442"/>
                  </a:lnTo>
                  <a:lnTo>
                    <a:pt x="598" y="400"/>
                  </a:lnTo>
                  <a:lnTo>
                    <a:pt x="584" y="364"/>
                  </a:lnTo>
                  <a:lnTo>
                    <a:pt x="563" y="318"/>
                  </a:lnTo>
                  <a:lnTo>
                    <a:pt x="537" y="274"/>
                  </a:lnTo>
                  <a:lnTo>
                    <a:pt x="502" y="247"/>
                  </a:lnTo>
                  <a:lnTo>
                    <a:pt x="453" y="212"/>
                  </a:lnTo>
                  <a:lnTo>
                    <a:pt x="387" y="179"/>
                  </a:lnTo>
                  <a:lnTo>
                    <a:pt x="331" y="157"/>
                  </a:lnTo>
                  <a:lnTo>
                    <a:pt x="248" y="136"/>
                  </a:lnTo>
                  <a:lnTo>
                    <a:pt x="191" y="122"/>
                  </a:lnTo>
                  <a:lnTo>
                    <a:pt x="101" y="122"/>
                  </a:lnTo>
                  <a:lnTo>
                    <a:pt x="61" y="118"/>
                  </a:lnTo>
                  <a:lnTo>
                    <a:pt x="21" y="87"/>
                  </a:lnTo>
                  <a:lnTo>
                    <a:pt x="0" y="46"/>
                  </a:lnTo>
                  <a:lnTo>
                    <a:pt x="12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83960" y="4255920"/>
              <a:ext cx="106560" cy="139680"/>
            </a:xfrm>
            <a:custGeom>
              <a:avLst/>
              <a:gdLst/>
              <a:ahLst/>
              <a:rect l="l" t="t" r="r" b="b"/>
              <a:pathLst>
                <a:path w="133" h="176">
                  <a:moveTo>
                    <a:pt x="0" y="154"/>
                  </a:moveTo>
                  <a:lnTo>
                    <a:pt x="15" y="103"/>
                  </a:lnTo>
                  <a:lnTo>
                    <a:pt x="15" y="57"/>
                  </a:lnTo>
                  <a:lnTo>
                    <a:pt x="52" y="30"/>
                  </a:lnTo>
                  <a:lnTo>
                    <a:pt x="116" y="0"/>
                  </a:lnTo>
                  <a:lnTo>
                    <a:pt x="133" y="39"/>
                  </a:lnTo>
                  <a:lnTo>
                    <a:pt x="130" y="100"/>
                  </a:lnTo>
                  <a:lnTo>
                    <a:pt x="81" y="154"/>
                  </a:lnTo>
                  <a:lnTo>
                    <a:pt x="6" y="17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76320" y="603396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Pisze opowie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0880" y="2438280"/>
            <a:ext cx="2057400" cy="53352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Kli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-33480" y="3708360"/>
            <a:ext cx="1974240" cy="1703160"/>
            <a:chOff x="-33480" y="3708360"/>
            <a:chExt cx="1974240" cy="1703160"/>
          </a:xfrm>
        </p:grpSpPr>
        <p:sp>
          <p:nvSpPr>
            <p:cNvPr id="1158" name=""/>
            <p:cNvSpPr/>
            <p:nvPr/>
          </p:nvSpPr>
          <p:spPr>
            <a:xfrm>
              <a:off x="147960" y="4041720"/>
              <a:ext cx="468000" cy="1369800"/>
            </a:xfrm>
            <a:custGeom>
              <a:avLst/>
              <a:gdLst/>
              <a:ahLst/>
              <a:rect l="l" t="t" r="r" b="b"/>
              <a:pathLst>
                <a:path w="591" h="1726">
                  <a:moveTo>
                    <a:pt x="0" y="41"/>
                  </a:moveTo>
                  <a:lnTo>
                    <a:pt x="4" y="5"/>
                  </a:lnTo>
                  <a:lnTo>
                    <a:pt x="22" y="0"/>
                  </a:lnTo>
                  <a:lnTo>
                    <a:pt x="42" y="9"/>
                  </a:lnTo>
                  <a:lnTo>
                    <a:pt x="64" y="63"/>
                  </a:lnTo>
                  <a:lnTo>
                    <a:pt x="96" y="178"/>
                  </a:lnTo>
                  <a:lnTo>
                    <a:pt x="134" y="322"/>
                  </a:lnTo>
                  <a:lnTo>
                    <a:pt x="166" y="496"/>
                  </a:lnTo>
                  <a:lnTo>
                    <a:pt x="207" y="695"/>
                  </a:lnTo>
                  <a:lnTo>
                    <a:pt x="227" y="828"/>
                  </a:lnTo>
                  <a:lnTo>
                    <a:pt x="249" y="972"/>
                  </a:lnTo>
                  <a:lnTo>
                    <a:pt x="273" y="1085"/>
                  </a:lnTo>
                  <a:lnTo>
                    <a:pt x="309" y="1227"/>
                  </a:lnTo>
                  <a:lnTo>
                    <a:pt x="337" y="1313"/>
                  </a:lnTo>
                  <a:lnTo>
                    <a:pt x="374" y="1427"/>
                  </a:lnTo>
                  <a:lnTo>
                    <a:pt x="402" y="1563"/>
                  </a:lnTo>
                  <a:lnTo>
                    <a:pt x="420" y="1663"/>
                  </a:lnTo>
                  <a:lnTo>
                    <a:pt x="462" y="1676"/>
                  </a:lnTo>
                  <a:lnTo>
                    <a:pt x="591" y="1645"/>
                  </a:lnTo>
                  <a:lnTo>
                    <a:pt x="549" y="1676"/>
                  </a:lnTo>
                  <a:lnTo>
                    <a:pt x="470" y="1700"/>
                  </a:lnTo>
                  <a:lnTo>
                    <a:pt x="388" y="1726"/>
                  </a:lnTo>
                  <a:lnTo>
                    <a:pt x="374" y="1694"/>
                  </a:lnTo>
                  <a:lnTo>
                    <a:pt x="355" y="1609"/>
                  </a:lnTo>
                  <a:lnTo>
                    <a:pt x="341" y="1490"/>
                  </a:lnTo>
                  <a:lnTo>
                    <a:pt x="318" y="1376"/>
                  </a:lnTo>
                  <a:lnTo>
                    <a:pt x="285" y="1263"/>
                  </a:lnTo>
                  <a:lnTo>
                    <a:pt x="253" y="1150"/>
                  </a:lnTo>
                  <a:lnTo>
                    <a:pt x="227" y="1041"/>
                  </a:lnTo>
                  <a:lnTo>
                    <a:pt x="199" y="909"/>
                  </a:lnTo>
                  <a:lnTo>
                    <a:pt x="189" y="832"/>
                  </a:lnTo>
                  <a:lnTo>
                    <a:pt x="175" y="713"/>
                  </a:lnTo>
                  <a:lnTo>
                    <a:pt x="148" y="587"/>
                  </a:lnTo>
                  <a:lnTo>
                    <a:pt x="124" y="472"/>
                  </a:lnTo>
                  <a:lnTo>
                    <a:pt x="102" y="336"/>
                  </a:lnTo>
                  <a:lnTo>
                    <a:pt x="64" y="196"/>
                  </a:lnTo>
                  <a:lnTo>
                    <a:pt x="32" y="8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8920" y="3774960"/>
              <a:ext cx="1106280" cy="1557360"/>
            </a:xfrm>
            <a:custGeom>
              <a:avLst/>
              <a:gdLst/>
              <a:ahLst/>
              <a:rect l="l" t="t" r="r" b="b"/>
              <a:pathLst>
                <a:path w="1394" h="1961">
                  <a:moveTo>
                    <a:pt x="0" y="1961"/>
                  </a:moveTo>
                  <a:lnTo>
                    <a:pt x="168" y="1888"/>
                  </a:lnTo>
                  <a:lnTo>
                    <a:pt x="333" y="1829"/>
                  </a:lnTo>
                  <a:lnTo>
                    <a:pt x="511" y="1771"/>
                  </a:lnTo>
                  <a:lnTo>
                    <a:pt x="657" y="1738"/>
                  </a:lnTo>
                  <a:lnTo>
                    <a:pt x="811" y="1724"/>
                  </a:lnTo>
                  <a:lnTo>
                    <a:pt x="930" y="1698"/>
                  </a:lnTo>
                  <a:lnTo>
                    <a:pt x="1079" y="1666"/>
                  </a:lnTo>
                  <a:lnTo>
                    <a:pt x="1176" y="1635"/>
                  </a:lnTo>
                  <a:lnTo>
                    <a:pt x="1299" y="1603"/>
                  </a:lnTo>
                  <a:lnTo>
                    <a:pt x="1344" y="1580"/>
                  </a:lnTo>
                  <a:lnTo>
                    <a:pt x="1354" y="1562"/>
                  </a:lnTo>
                  <a:lnTo>
                    <a:pt x="1344" y="1526"/>
                  </a:lnTo>
                  <a:lnTo>
                    <a:pt x="1308" y="1449"/>
                  </a:lnTo>
                  <a:lnTo>
                    <a:pt x="1253" y="1307"/>
                  </a:lnTo>
                  <a:lnTo>
                    <a:pt x="1190" y="1125"/>
                  </a:lnTo>
                  <a:lnTo>
                    <a:pt x="1134" y="1004"/>
                  </a:lnTo>
                  <a:lnTo>
                    <a:pt x="1075" y="848"/>
                  </a:lnTo>
                  <a:lnTo>
                    <a:pt x="1016" y="676"/>
                  </a:lnTo>
                  <a:lnTo>
                    <a:pt x="966" y="500"/>
                  </a:lnTo>
                  <a:lnTo>
                    <a:pt x="893" y="344"/>
                  </a:lnTo>
                  <a:lnTo>
                    <a:pt x="839" y="145"/>
                  </a:lnTo>
                  <a:lnTo>
                    <a:pt x="770" y="0"/>
                  </a:lnTo>
                  <a:lnTo>
                    <a:pt x="816" y="32"/>
                  </a:lnTo>
                  <a:lnTo>
                    <a:pt x="865" y="154"/>
                  </a:lnTo>
                  <a:lnTo>
                    <a:pt x="907" y="291"/>
                  </a:lnTo>
                  <a:lnTo>
                    <a:pt x="948" y="386"/>
                  </a:lnTo>
                  <a:lnTo>
                    <a:pt x="980" y="481"/>
                  </a:lnTo>
                  <a:lnTo>
                    <a:pt x="1016" y="558"/>
                  </a:lnTo>
                  <a:lnTo>
                    <a:pt x="1039" y="658"/>
                  </a:lnTo>
                  <a:lnTo>
                    <a:pt x="1089" y="795"/>
                  </a:lnTo>
                  <a:lnTo>
                    <a:pt x="1140" y="917"/>
                  </a:lnTo>
                  <a:lnTo>
                    <a:pt x="1194" y="1058"/>
                  </a:lnTo>
                  <a:lnTo>
                    <a:pt x="1245" y="1190"/>
                  </a:lnTo>
                  <a:lnTo>
                    <a:pt x="1289" y="1303"/>
                  </a:lnTo>
                  <a:lnTo>
                    <a:pt x="1336" y="1417"/>
                  </a:lnTo>
                  <a:lnTo>
                    <a:pt x="1380" y="1512"/>
                  </a:lnTo>
                  <a:lnTo>
                    <a:pt x="1394" y="1570"/>
                  </a:lnTo>
                  <a:lnTo>
                    <a:pt x="1380" y="1607"/>
                  </a:lnTo>
                  <a:lnTo>
                    <a:pt x="1354" y="1621"/>
                  </a:lnTo>
                  <a:lnTo>
                    <a:pt x="1249" y="1647"/>
                  </a:lnTo>
                  <a:lnTo>
                    <a:pt x="1166" y="1680"/>
                  </a:lnTo>
                  <a:lnTo>
                    <a:pt x="1079" y="1698"/>
                  </a:lnTo>
                  <a:lnTo>
                    <a:pt x="984" y="1716"/>
                  </a:lnTo>
                  <a:lnTo>
                    <a:pt x="879" y="1738"/>
                  </a:lnTo>
                  <a:lnTo>
                    <a:pt x="798" y="1757"/>
                  </a:lnTo>
                  <a:lnTo>
                    <a:pt x="661" y="1757"/>
                  </a:lnTo>
                  <a:lnTo>
                    <a:pt x="566" y="1785"/>
                  </a:lnTo>
                  <a:lnTo>
                    <a:pt x="442" y="1825"/>
                  </a:lnTo>
                  <a:lnTo>
                    <a:pt x="333" y="1862"/>
                  </a:lnTo>
                  <a:lnTo>
                    <a:pt x="196" y="1906"/>
                  </a:lnTo>
                  <a:lnTo>
                    <a:pt x="73" y="1953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8760" y="3708360"/>
              <a:ext cx="1135080" cy="371520"/>
            </a:xfrm>
            <a:custGeom>
              <a:avLst/>
              <a:gdLst/>
              <a:ahLst/>
              <a:rect l="l" t="t" r="r" b="b"/>
              <a:pathLst>
                <a:path w="1431" h="467">
                  <a:moveTo>
                    <a:pt x="0" y="435"/>
                  </a:moveTo>
                  <a:lnTo>
                    <a:pt x="137" y="403"/>
                  </a:lnTo>
                  <a:lnTo>
                    <a:pt x="260" y="375"/>
                  </a:lnTo>
                  <a:lnTo>
                    <a:pt x="432" y="319"/>
                  </a:lnTo>
                  <a:lnTo>
                    <a:pt x="642" y="254"/>
                  </a:lnTo>
                  <a:lnTo>
                    <a:pt x="816" y="198"/>
                  </a:lnTo>
                  <a:lnTo>
                    <a:pt x="966" y="152"/>
                  </a:lnTo>
                  <a:lnTo>
                    <a:pt x="1089" y="102"/>
                  </a:lnTo>
                  <a:lnTo>
                    <a:pt x="1216" y="46"/>
                  </a:lnTo>
                  <a:lnTo>
                    <a:pt x="1317" y="14"/>
                  </a:lnTo>
                  <a:lnTo>
                    <a:pt x="1372" y="0"/>
                  </a:lnTo>
                  <a:lnTo>
                    <a:pt x="1394" y="28"/>
                  </a:lnTo>
                  <a:lnTo>
                    <a:pt x="1412" y="84"/>
                  </a:lnTo>
                  <a:lnTo>
                    <a:pt x="1431" y="184"/>
                  </a:lnTo>
                  <a:lnTo>
                    <a:pt x="1376" y="106"/>
                  </a:lnTo>
                  <a:lnTo>
                    <a:pt x="1348" y="50"/>
                  </a:lnTo>
                  <a:lnTo>
                    <a:pt x="1317" y="42"/>
                  </a:lnTo>
                  <a:lnTo>
                    <a:pt x="1271" y="64"/>
                  </a:lnTo>
                  <a:lnTo>
                    <a:pt x="1170" y="96"/>
                  </a:lnTo>
                  <a:lnTo>
                    <a:pt x="1089" y="134"/>
                  </a:lnTo>
                  <a:lnTo>
                    <a:pt x="994" y="170"/>
                  </a:lnTo>
                  <a:lnTo>
                    <a:pt x="893" y="208"/>
                  </a:lnTo>
                  <a:lnTo>
                    <a:pt x="780" y="250"/>
                  </a:lnTo>
                  <a:lnTo>
                    <a:pt x="642" y="291"/>
                  </a:lnTo>
                  <a:lnTo>
                    <a:pt x="515" y="323"/>
                  </a:lnTo>
                  <a:lnTo>
                    <a:pt x="388" y="356"/>
                  </a:lnTo>
                  <a:lnTo>
                    <a:pt x="287" y="393"/>
                  </a:lnTo>
                  <a:lnTo>
                    <a:pt x="178" y="425"/>
                  </a:lnTo>
                  <a:lnTo>
                    <a:pt x="77" y="453"/>
                  </a:lnTo>
                  <a:lnTo>
                    <a:pt x="10" y="46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3960" y="4335480"/>
              <a:ext cx="210960" cy="720720"/>
            </a:xfrm>
            <a:custGeom>
              <a:avLst/>
              <a:gdLst/>
              <a:ahLst/>
              <a:rect l="l" t="t" r="r" b="b"/>
              <a:pathLst>
                <a:path w="264" h="910">
                  <a:moveTo>
                    <a:pt x="184" y="0"/>
                  </a:moveTo>
                  <a:lnTo>
                    <a:pt x="141" y="252"/>
                  </a:lnTo>
                  <a:lnTo>
                    <a:pt x="103" y="458"/>
                  </a:lnTo>
                  <a:lnTo>
                    <a:pt x="71" y="603"/>
                  </a:lnTo>
                  <a:lnTo>
                    <a:pt x="33" y="736"/>
                  </a:lnTo>
                  <a:lnTo>
                    <a:pt x="0" y="837"/>
                  </a:lnTo>
                  <a:lnTo>
                    <a:pt x="19" y="882"/>
                  </a:lnTo>
                  <a:lnTo>
                    <a:pt x="47" y="906"/>
                  </a:lnTo>
                  <a:lnTo>
                    <a:pt x="79" y="910"/>
                  </a:lnTo>
                  <a:lnTo>
                    <a:pt x="113" y="900"/>
                  </a:lnTo>
                  <a:lnTo>
                    <a:pt x="137" y="754"/>
                  </a:lnTo>
                  <a:lnTo>
                    <a:pt x="179" y="589"/>
                  </a:lnTo>
                  <a:lnTo>
                    <a:pt x="222" y="440"/>
                  </a:lnTo>
                  <a:lnTo>
                    <a:pt x="264" y="339"/>
                  </a:lnTo>
                  <a:lnTo>
                    <a:pt x="246" y="270"/>
                  </a:lnTo>
                  <a:lnTo>
                    <a:pt x="203" y="407"/>
                  </a:lnTo>
                  <a:lnTo>
                    <a:pt x="155" y="571"/>
                  </a:lnTo>
                  <a:lnTo>
                    <a:pt x="123" y="704"/>
                  </a:lnTo>
                  <a:lnTo>
                    <a:pt x="95" y="819"/>
                  </a:lnTo>
                  <a:lnTo>
                    <a:pt x="75" y="859"/>
                  </a:lnTo>
                  <a:lnTo>
                    <a:pt x="47" y="864"/>
                  </a:lnTo>
                  <a:lnTo>
                    <a:pt x="28" y="837"/>
                  </a:lnTo>
                  <a:lnTo>
                    <a:pt x="51" y="750"/>
                  </a:lnTo>
                  <a:lnTo>
                    <a:pt x="89" y="636"/>
                  </a:lnTo>
                  <a:lnTo>
                    <a:pt x="127" y="494"/>
                  </a:lnTo>
                  <a:lnTo>
                    <a:pt x="155" y="343"/>
                  </a:lnTo>
                  <a:lnTo>
                    <a:pt x="189" y="192"/>
                  </a:lnTo>
                  <a:lnTo>
                    <a:pt x="212" y="7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20619000">
              <a:off x="77400" y="3961800"/>
              <a:ext cx="17524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It w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not 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095880" y="2286000"/>
            <a:ext cx="2895840" cy="4343400"/>
            <a:chOff x="6095880" y="2286000"/>
            <a:chExt cx="2895840" cy="4343400"/>
          </a:xfrm>
        </p:grpSpPr>
        <p:sp>
          <p:nvSpPr>
            <p:cNvPr id="1164" name=""/>
            <p:cNvSpPr/>
            <p:nvPr/>
          </p:nvSpPr>
          <p:spPr>
            <a:xfrm>
              <a:off x="6248520" y="6033960"/>
              <a:ext cx="2743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Dzieli opowie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7723080" y="3325680"/>
              <a:ext cx="1268280" cy="1850760"/>
              <a:chOff x="7723080" y="3325680"/>
              <a:chExt cx="1268280" cy="185076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8161200" y="3325680"/>
                <a:ext cx="830160" cy="691920"/>
                <a:chOff x="8161200" y="3325680"/>
                <a:chExt cx="830160" cy="6919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8178840" y="3568320"/>
                  <a:ext cx="546120" cy="427320"/>
                </a:xfrm>
                <a:custGeom>
                  <a:avLst/>
                  <a:gdLst/>
                  <a:ahLst/>
                  <a:rect l="l" t="t" r="r" b="b"/>
                  <a:pathLst>
                    <a:path w="689" h="540">
                      <a:moveTo>
                        <a:pt x="612" y="0"/>
                      </a:moveTo>
                      <a:lnTo>
                        <a:pt x="396" y="138"/>
                      </a:lnTo>
                      <a:lnTo>
                        <a:pt x="197" y="240"/>
                      </a:lnTo>
                      <a:lnTo>
                        <a:pt x="100" y="314"/>
                      </a:lnTo>
                      <a:lnTo>
                        <a:pt x="21" y="402"/>
                      </a:lnTo>
                      <a:lnTo>
                        <a:pt x="0" y="460"/>
                      </a:lnTo>
                      <a:lnTo>
                        <a:pt x="35" y="514"/>
                      </a:lnTo>
                      <a:lnTo>
                        <a:pt x="104" y="540"/>
                      </a:lnTo>
                      <a:lnTo>
                        <a:pt x="199" y="424"/>
                      </a:lnTo>
                      <a:lnTo>
                        <a:pt x="292" y="338"/>
                      </a:lnTo>
                      <a:lnTo>
                        <a:pt x="426" y="256"/>
                      </a:lnTo>
                      <a:lnTo>
                        <a:pt x="543" y="194"/>
                      </a:lnTo>
                      <a:lnTo>
                        <a:pt x="689" y="117"/>
                      </a:lnTo>
                      <a:lnTo>
                        <a:pt x="666" y="54"/>
                      </a:lnTo>
                      <a:lnTo>
                        <a:pt x="612" y="0"/>
                      </a:lnTo>
                      <a:close/>
                    </a:path>
                  </a:pathLst>
                </a:custGeom>
                <a:solidFill>
                  <a:srgbClr val="d8c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558280" y="3338280"/>
                  <a:ext cx="422280" cy="568440"/>
                </a:xfrm>
                <a:custGeom>
                  <a:avLst/>
                  <a:gdLst/>
                  <a:ahLst/>
                  <a:rect l="l" t="t" r="r" b="b"/>
                  <a:pathLst>
                    <a:path w="533" h="717">
                      <a:moveTo>
                        <a:pt x="280" y="516"/>
                      </a:moveTo>
                      <a:lnTo>
                        <a:pt x="111" y="280"/>
                      </a:lnTo>
                      <a:lnTo>
                        <a:pt x="77" y="226"/>
                      </a:lnTo>
                      <a:lnTo>
                        <a:pt x="85" y="189"/>
                      </a:lnTo>
                      <a:lnTo>
                        <a:pt x="31" y="181"/>
                      </a:lnTo>
                      <a:lnTo>
                        <a:pt x="0" y="152"/>
                      </a:lnTo>
                      <a:lnTo>
                        <a:pt x="34" y="69"/>
                      </a:lnTo>
                      <a:lnTo>
                        <a:pt x="95" y="23"/>
                      </a:lnTo>
                      <a:lnTo>
                        <a:pt x="170" y="0"/>
                      </a:lnTo>
                      <a:lnTo>
                        <a:pt x="218" y="13"/>
                      </a:lnTo>
                      <a:lnTo>
                        <a:pt x="231" y="90"/>
                      </a:lnTo>
                      <a:lnTo>
                        <a:pt x="272" y="99"/>
                      </a:lnTo>
                      <a:lnTo>
                        <a:pt x="370" y="212"/>
                      </a:lnTo>
                      <a:lnTo>
                        <a:pt x="465" y="349"/>
                      </a:lnTo>
                      <a:lnTo>
                        <a:pt x="517" y="436"/>
                      </a:lnTo>
                      <a:lnTo>
                        <a:pt x="533" y="541"/>
                      </a:lnTo>
                      <a:lnTo>
                        <a:pt x="508" y="631"/>
                      </a:lnTo>
                      <a:lnTo>
                        <a:pt x="469" y="695"/>
                      </a:lnTo>
                      <a:lnTo>
                        <a:pt x="449" y="708"/>
                      </a:lnTo>
                      <a:lnTo>
                        <a:pt x="402" y="684"/>
                      </a:lnTo>
                      <a:lnTo>
                        <a:pt x="423" y="580"/>
                      </a:lnTo>
                      <a:lnTo>
                        <a:pt x="357" y="661"/>
                      </a:lnTo>
                      <a:lnTo>
                        <a:pt x="311" y="717"/>
                      </a:lnTo>
                      <a:lnTo>
                        <a:pt x="277" y="701"/>
                      </a:lnTo>
                      <a:lnTo>
                        <a:pt x="303" y="593"/>
                      </a:lnTo>
                      <a:lnTo>
                        <a:pt x="280" y="51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8161200" y="3325680"/>
                  <a:ext cx="830160" cy="691920"/>
                  <a:chOff x="8161200" y="3325680"/>
                  <a:chExt cx="830160" cy="69192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8161200" y="3325680"/>
                    <a:ext cx="830160" cy="69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5" h="871">
                        <a:moveTo>
                          <a:pt x="653" y="152"/>
                        </a:moveTo>
                        <a:lnTo>
                          <a:pt x="696" y="113"/>
                        </a:lnTo>
                        <a:lnTo>
                          <a:pt x="714" y="75"/>
                        </a:lnTo>
                        <a:lnTo>
                          <a:pt x="706" y="53"/>
                        </a:lnTo>
                        <a:lnTo>
                          <a:pt x="683" y="27"/>
                        </a:lnTo>
                        <a:lnTo>
                          <a:pt x="637" y="43"/>
                        </a:lnTo>
                        <a:lnTo>
                          <a:pt x="584" y="61"/>
                        </a:lnTo>
                        <a:lnTo>
                          <a:pt x="554" y="105"/>
                        </a:lnTo>
                        <a:lnTo>
                          <a:pt x="539" y="142"/>
                        </a:lnTo>
                        <a:lnTo>
                          <a:pt x="539" y="179"/>
                        </a:lnTo>
                        <a:lnTo>
                          <a:pt x="567" y="190"/>
                        </a:lnTo>
                        <a:lnTo>
                          <a:pt x="597" y="187"/>
                        </a:lnTo>
                        <a:lnTo>
                          <a:pt x="605" y="213"/>
                        </a:lnTo>
                        <a:lnTo>
                          <a:pt x="605" y="235"/>
                        </a:lnTo>
                        <a:lnTo>
                          <a:pt x="643" y="312"/>
                        </a:lnTo>
                        <a:lnTo>
                          <a:pt x="517" y="392"/>
                        </a:lnTo>
                        <a:lnTo>
                          <a:pt x="370" y="487"/>
                        </a:lnTo>
                        <a:lnTo>
                          <a:pt x="190" y="575"/>
                        </a:lnTo>
                        <a:lnTo>
                          <a:pt x="104" y="661"/>
                        </a:lnTo>
                        <a:lnTo>
                          <a:pt x="53" y="722"/>
                        </a:lnTo>
                        <a:lnTo>
                          <a:pt x="51" y="767"/>
                        </a:lnTo>
                        <a:lnTo>
                          <a:pt x="91" y="797"/>
                        </a:lnTo>
                        <a:lnTo>
                          <a:pt x="126" y="810"/>
                        </a:lnTo>
                        <a:lnTo>
                          <a:pt x="165" y="759"/>
                        </a:lnTo>
                        <a:lnTo>
                          <a:pt x="243" y="667"/>
                        </a:lnTo>
                        <a:lnTo>
                          <a:pt x="339" y="597"/>
                        </a:lnTo>
                        <a:lnTo>
                          <a:pt x="456" y="536"/>
                        </a:lnTo>
                        <a:lnTo>
                          <a:pt x="575" y="471"/>
                        </a:lnTo>
                        <a:lnTo>
                          <a:pt x="674" y="418"/>
                        </a:lnTo>
                        <a:lnTo>
                          <a:pt x="643" y="362"/>
                        </a:lnTo>
                        <a:lnTo>
                          <a:pt x="658" y="331"/>
                        </a:lnTo>
                        <a:lnTo>
                          <a:pt x="727" y="418"/>
                        </a:lnTo>
                        <a:lnTo>
                          <a:pt x="783" y="499"/>
                        </a:lnTo>
                        <a:lnTo>
                          <a:pt x="813" y="554"/>
                        </a:lnTo>
                        <a:lnTo>
                          <a:pt x="824" y="613"/>
                        </a:lnTo>
                        <a:lnTo>
                          <a:pt x="802" y="704"/>
                        </a:lnTo>
                        <a:lnTo>
                          <a:pt x="848" y="661"/>
                        </a:lnTo>
                        <a:lnTo>
                          <a:pt x="901" y="589"/>
                        </a:lnTo>
                        <a:lnTo>
                          <a:pt x="903" y="506"/>
                        </a:lnTo>
                        <a:lnTo>
                          <a:pt x="901" y="456"/>
                        </a:lnTo>
                        <a:lnTo>
                          <a:pt x="932" y="514"/>
                        </a:lnTo>
                        <a:lnTo>
                          <a:pt x="941" y="583"/>
                        </a:lnTo>
                        <a:lnTo>
                          <a:pt x="927" y="667"/>
                        </a:lnTo>
                        <a:lnTo>
                          <a:pt x="957" y="688"/>
                        </a:lnTo>
                        <a:lnTo>
                          <a:pt x="972" y="674"/>
                        </a:lnTo>
                        <a:lnTo>
                          <a:pt x="1007" y="583"/>
                        </a:lnTo>
                        <a:lnTo>
                          <a:pt x="1010" y="506"/>
                        </a:lnTo>
                        <a:lnTo>
                          <a:pt x="994" y="445"/>
                        </a:lnTo>
                        <a:lnTo>
                          <a:pt x="972" y="392"/>
                        </a:lnTo>
                        <a:lnTo>
                          <a:pt x="911" y="317"/>
                        </a:lnTo>
                        <a:lnTo>
                          <a:pt x="855" y="232"/>
                        </a:lnTo>
                        <a:lnTo>
                          <a:pt x="797" y="179"/>
                        </a:lnTo>
                        <a:lnTo>
                          <a:pt x="763" y="144"/>
                        </a:lnTo>
                        <a:lnTo>
                          <a:pt x="749" y="118"/>
                        </a:lnTo>
                        <a:lnTo>
                          <a:pt x="763" y="88"/>
                        </a:lnTo>
                        <a:lnTo>
                          <a:pt x="866" y="195"/>
                        </a:lnTo>
                        <a:lnTo>
                          <a:pt x="946" y="301"/>
                        </a:lnTo>
                        <a:lnTo>
                          <a:pt x="1007" y="395"/>
                        </a:lnTo>
                        <a:lnTo>
                          <a:pt x="1037" y="469"/>
                        </a:lnTo>
                        <a:lnTo>
                          <a:pt x="1045" y="536"/>
                        </a:lnTo>
                        <a:lnTo>
                          <a:pt x="1040" y="608"/>
                        </a:lnTo>
                        <a:lnTo>
                          <a:pt x="1000" y="706"/>
                        </a:lnTo>
                        <a:lnTo>
                          <a:pt x="949" y="752"/>
                        </a:lnTo>
                        <a:lnTo>
                          <a:pt x="885" y="706"/>
                        </a:lnTo>
                        <a:lnTo>
                          <a:pt x="901" y="631"/>
                        </a:lnTo>
                        <a:lnTo>
                          <a:pt x="818" y="765"/>
                        </a:lnTo>
                        <a:lnTo>
                          <a:pt x="752" y="728"/>
                        </a:lnTo>
                        <a:lnTo>
                          <a:pt x="775" y="650"/>
                        </a:lnTo>
                        <a:lnTo>
                          <a:pt x="779" y="575"/>
                        </a:lnTo>
                        <a:lnTo>
                          <a:pt x="759" y="517"/>
                        </a:lnTo>
                        <a:lnTo>
                          <a:pt x="698" y="445"/>
                        </a:lnTo>
                        <a:lnTo>
                          <a:pt x="570" y="514"/>
                        </a:lnTo>
                        <a:lnTo>
                          <a:pt x="479" y="559"/>
                        </a:lnTo>
                        <a:lnTo>
                          <a:pt x="379" y="615"/>
                        </a:lnTo>
                        <a:lnTo>
                          <a:pt x="288" y="674"/>
                        </a:lnTo>
                        <a:lnTo>
                          <a:pt x="232" y="744"/>
                        </a:lnTo>
                        <a:lnTo>
                          <a:pt x="174" y="805"/>
                        </a:lnTo>
                        <a:lnTo>
                          <a:pt x="130" y="871"/>
                        </a:lnTo>
                        <a:lnTo>
                          <a:pt x="61" y="844"/>
                        </a:lnTo>
                        <a:lnTo>
                          <a:pt x="14" y="802"/>
                        </a:lnTo>
                        <a:lnTo>
                          <a:pt x="0" y="752"/>
                        </a:lnTo>
                        <a:lnTo>
                          <a:pt x="30" y="691"/>
                        </a:lnTo>
                        <a:lnTo>
                          <a:pt x="126" y="592"/>
                        </a:lnTo>
                        <a:lnTo>
                          <a:pt x="227" y="523"/>
                        </a:lnTo>
                        <a:lnTo>
                          <a:pt x="339" y="453"/>
                        </a:lnTo>
                        <a:lnTo>
                          <a:pt x="491" y="378"/>
                        </a:lnTo>
                        <a:lnTo>
                          <a:pt x="597" y="296"/>
                        </a:lnTo>
                        <a:lnTo>
                          <a:pt x="570" y="248"/>
                        </a:lnTo>
                        <a:lnTo>
                          <a:pt x="575" y="218"/>
                        </a:lnTo>
                        <a:lnTo>
                          <a:pt x="514" y="213"/>
                        </a:lnTo>
                        <a:lnTo>
                          <a:pt x="493" y="166"/>
                        </a:lnTo>
                        <a:lnTo>
                          <a:pt x="509" y="113"/>
                        </a:lnTo>
                        <a:lnTo>
                          <a:pt x="539" y="65"/>
                        </a:lnTo>
                        <a:lnTo>
                          <a:pt x="597" y="22"/>
                        </a:lnTo>
                        <a:lnTo>
                          <a:pt x="658" y="5"/>
                        </a:lnTo>
                        <a:lnTo>
                          <a:pt x="704" y="0"/>
                        </a:lnTo>
                        <a:lnTo>
                          <a:pt x="736" y="27"/>
                        </a:lnTo>
                        <a:lnTo>
                          <a:pt x="757" y="57"/>
                        </a:lnTo>
                        <a:lnTo>
                          <a:pt x="741" y="96"/>
                        </a:lnTo>
                        <a:lnTo>
                          <a:pt x="714" y="136"/>
                        </a:lnTo>
                        <a:lnTo>
                          <a:pt x="667" y="179"/>
                        </a:lnTo>
                        <a:lnTo>
                          <a:pt x="619" y="182"/>
                        </a:lnTo>
                        <a:lnTo>
                          <a:pt x="65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8756640" y="3497040"/>
                    <a:ext cx="968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2">
                        <a:moveTo>
                          <a:pt x="38" y="0"/>
                        </a:moveTo>
                        <a:lnTo>
                          <a:pt x="80" y="29"/>
                        </a:lnTo>
                        <a:lnTo>
                          <a:pt x="117" y="71"/>
                        </a:lnTo>
                        <a:lnTo>
                          <a:pt x="121" y="109"/>
                        </a:lnTo>
                        <a:lnTo>
                          <a:pt x="83" y="112"/>
                        </a:lnTo>
                        <a:lnTo>
                          <a:pt x="25" y="63"/>
                        </a:lnTo>
                        <a:lnTo>
                          <a:pt x="0" y="4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23080" y="3771720"/>
                <a:ext cx="668520" cy="1404720"/>
                <a:chOff x="7723080" y="3771720"/>
                <a:chExt cx="668520" cy="14047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819920" y="3992400"/>
                  <a:ext cx="390600" cy="266760"/>
                </a:xfrm>
                <a:custGeom>
                  <a:avLst/>
                  <a:gdLst/>
                  <a:ahLst/>
                  <a:rect l="l" t="t" r="r" b="b"/>
                  <a:pathLst>
                    <a:path w="491" h="336">
                      <a:moveTo>
                        <a:pt x="174" y="104"/>
                      </a:moveTo>
                      <a:lnTo>
                        <a:pt x="221" y="49"/>
                      </a:lnTo>
                      <a:lnTo>
                        <a:pt x="282" y="9"/>
                      </a:lnTo>
                      <a:lnTo>
                        <a:pt x="342" y="0"/>
                      </a:lnTo>
                      <a:lnTo>
                        <a:pt x="406" y="0"/>
                      </a:lnTo>
                      <a:lnTo>
                        <a:pt x="450" y="17"/>
                      </a:lnTo>
                      <a:lnTo>
                        <a:pt x="474" y="49"/>
                      </a:lnTo>
                      <a:lnTo>
                        <a:pt x="488" y="93"/>
                      </a:lnTo>
                      <a:lnTo>
                        <a:pt x="491" y="139"/>
                      </a:lnTo>
                      <a:lnTo>
                        <a:pt x="482" y="185"/>
                      </a:lnTo>
                      <a:lnTo>
                        <a:pt x="443" y="235"/>
                      </a:lnTo>
                      <a:lnTo>
                        <a:pt x="392" y="278"/>
                      </a:lnTo>
                      <a:lnTo>
                        <a:pt x="330" y="312"/>
                      </a:lnTo>
                      <a:lnTo>
                        <a:pt x="274" y="336"/>
                      </a:lnTo>
                      <a:lnTo>
                        <a:pt x="221" y="333"/>
                      </a:lnTo>
                      <a:lnTo>
                        <a:pt x="192" y="320"/>
                      </a:lnTo>
                      <a:lnTo>
                        <a:pt x="170" y="306"/>
                      </a:lnTo>
                      <a:lnTo>
                        <a:pt x="144" y="278"/>
                      </a:lnTo>
                      <a:lnTo>
                        <a:pt x="128" y="219"/>
                      </a:lnTo>
                      <a:lnTo>
                        <a:pt x="138" y="171"/>
                      </a:lnTo>
                      <a:lnTo>
                        <a:pt x="97" y="193"/>
                      </a:lnTo>
                      <a:lnTo>
                        <a:pt x="46" y="211"/>
                      </a:lnTo>
                      <a:lnTo>
                        <a:pt x="17" y="211"/>
                      </a:lnTo>
                      <a:lnTo>
                        <a:pt x="0" y="193"/>
                      </a:lnTo>
                      <a:lnTo>
                        <a:pt x="0" y="171"/>
                      </a:lnTo>
                      <a:lnTo>
                        <a:pt x="35" y="163"/>
                      </a:lnTo>
                      <a:lnTo>
                        <a:pt x="77" y="150"/>
                      </a:lnTo>
                      <a:lnTo>
                        <a:pt x="131" y="126"/>
                      </a:lnTo>
                      <a:lnTo>
                        <a:pt x="17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775640" y="4262040"/>
                  <a:ext cx="258480" cy="419400"/>
                </a:xfrm>
                <a:custGeom>
                  <a:avLst/>
                  <a:gdLst/>
                  <a:ahLst/>
                  <a:rect l="l" t="t" r="r" b="b"/>
                  <a:pathLst>
                    <a:path w="327" h="527">
                      <a:moveTo>
                        <a:pt x="91" y="54"/>
                      </a:moveTo>
                      <a:lnTo>
                        <a:pt x="133" y="17"/>
                      </a:lnTo>
                      <a:lnTo>
                        <a:pt x="187" y="0"/>
                      </a:lnTo>
                      <a:lnTo>
                        <a:pt x="234" y="3"/>
                      </a:lnTo>
                      <a:lnTo>
                        <a:pt x="285" y="16"/>
                      </a:lnTo>
                      <a:lnTo>
                        <a:pt x="317" y="41"/>
                      </a:lnTo>
                      <a:lnTo>
                        <a:pt x="327" y="80"/>
                      </a:lnTo>
                      <a:lnTo>
                        <a:pt x="303" y="128"/>
                      </a:lnTo>
                      <a:lnTo>
                        <a:pt x="263" y="174"/>
                      </a:lnTo>
                      <a:lnTo>
                        <a:pt x="242" y="230"/>
                      </a:lnTo>
                      <a:lnTo>
                        <a:pt x="242" y="282"/>
                      </a:lnTo>
                      <a:lnTo>
                        <a:pt x="263" y="320"/>
                      </a:lnTo>
                      <a:lnTo>
                        <a:pt x="288" y="342"/>
                      </a:lnTo>
                      <a:lnTo>
                        <a:pt x="309" y="373"/>
                      </a:lnTo>
                      <a:lnTo>
                        <a:pt x="311" y="411"/>
                      </a:lnTo>
                      <a:lnTo>
                        <a:pt x="301" y="458"/>
                      </a:lnTo>
                      <a:lnTo>
                        <a:pt x="280" y="488"/>
                      </a:lnTo>
                      <a:lnTo>
                        <a:pt x="234" y="514"/>
                      </a:lnTo>
                      <a:lnTo>
                        <a:pt x="184" y="527"/>
                      </a:lnTo>
                      <a:lnTo>
                        <a:pt x="139" y="519"/>
                      </a:lnTo>
                      <a:lnTo>
                        <a:pt x="91" y="504"/>
                      </a:lnTo>
                      <a:lnTo>
                        <a:pt x="51" y="466"/>
                      </a:lnTo>
                      <a:lnTo>
                        <a:pt x="24" y="419"/>
                      </a:lnTo>
                      <a:lnTo>
                        <a:pt x="5" y="358"/>
                      </a:lnTo>
                      <a:lnTo>
                        <a:pt x="0" y="288"/>
                      </a:lnTo>
                      <a:lnTo>
                        <a:pt x="8" y="213"/>
                      </a:lnTo>
                      <a:lnTo>
                        <a:pt x="29" y="153"/>
                      </a:lnTo>
                      <a:lnTo>
                        <a:pt x="55" y="91"/>
                      </a:lnTo>
                      <a:lnTo>
                        <a:pt x="9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915320" y="4595400"/>
                  <a:ext cx="274680" cy="581040"/>
                </a:xfrm>
                <a:custGeom>
                  <a:avLst/>
                  <a:gdLst/>
                  <a:ahLst/>
                  <a:rect l="l" t="t" r="r" b="b"/>
                  <a:pathLst>
                    <a:path w="344" h="732">
                      <a:moveTo>
                        <a:pt x="26" y="168"/>
                      </a:moveTo>
                      <a:lnTo>
                        <a:pt x="0" y="77"/>
                      </a:lnTo>
                      <a:lnTo>
                        <a:pt x="3" y="16"/>
                      </a:lnTo>
                      <a:lnTo>
                        <a:pt x="38" y="0"/>
                      </a:lnTo>
                      <a:lnTo>
                        <a:pt x="85" y="8"/>
                      </a:lnTo>
                      <a:lnTo>
                        <a:pt x="109" y="39"/>
                      </a:lnTo>
                      <a:lnTo>
                        <a:pt x="117" y="143"/>
                      </a:lnTo>
                      <a:lnTo>
                        <a:pt x="139" y="244"/>
                      </a:lnTo>
                      <a:lnTo>
                        <a:pt x="165" y="333"/>
                      </a:lnTo>
                      <a:lnTo>
                        <a:pt x="202" y="404"/>
                      </a:lnTo>
                      <a:lnTo>
                        <a:pt x="243" y="447"/>
                      </a:lnTo>
                      <a:lnTo>
                        <a:pt x="274" y="511"/>
                      </a:lnTo>
                      <a:lnTo>
                        <a:pt x="302" y="557"/>
                      </a:lnTo>
                      <a:lnTo>
                        <a:pt x="326" y="580"/>
                      </a:lnTo>
                      <a:lnTo>
                        <a:pt x="344" y="610"/>
                      </a:lnTo>
                      <a:lnTo>
                        <a:pt x="336" y="641"/>
                      </a:lnTo>
                      <a:lnTo>
                        <a:pt x="318" y="649"/>
                      </a:lnTo>
                      <a:lnTo>
                        <a:pt x="280" y="661"/>
                      </a:lnTo>
                      <a:lnTo>
                        <a:pt x="227" y="671"/>
                      </a:lnTo>
                      <a:lnTo>
                        <a:pt x="163" y="714"/>
                      </a:lnTo>
                      <a:lnTo>
                        <a:pt x="142" y="732"/>
                      </a:lnTo>
                      <a:lnTo>
                        <a:pt x="117" y="724"/>
                      </a:lnTo>
                      <a:lnTo>
                        <a:pt x="96" y="694"/>
                      </a:lnTo>
                      <a:lnTo>
                        <a:pt x="104" y="668"/>
                      </a:lnTo>
                      <a:lnTo>
                        <a:pt x="142" y="641"/>
                      </a:lnTo>
                      <a:lnTo>
                        <a:pt x="226" y="615"/>
                      </a:lnTo>
                      <a:lnTo>
                        <a:pt x="251" y="607"/>
                      </a:lnTo>
                      <a:lnTo>
                        <a:pt x="264" y="580"/>
                      </a:lnTo>
                      <a:lnTo>
                        <a:pt x="251" y="564"/>
                      </a:lnTo>
                      <a:lnTo>
                        <a:pt x="213" y="511"/>
                      </a:lnTo>
                      <a:lnTo>
                        <a:pt x="173" y="450"/>
                      </a:lnTo>
                      <a:lnTo>
                        <a:pt x="126" y="386"/>
                      </a:lnTo>
                      <a:lnTo>
                        <a:pt x="93" y="317"/>
                      </a:lnTo>
                      <a:lnTo>
                        <a:pt x="58" y="244"/>
                      </a:lnTo>
                      <a:lnTo>
                        <a:pt x="26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723080" y="4581360"/>
                  <a:ext cx="190440" cy="571320"/>
                </a:xfrm>
                <a:custGeom>
                  <a:avLst/>
                  <a:gdLst/>
                  <a:ahLst/>
                  <a:rect l="l" t="t" r="r" b="b"/>
                  <a:pathLst>
                    <a:path w="240" h="719">
                      <a:moveTo>
                        <a:pt x="97" y="206"/>
                      </a:moveTo>
                      <a:lnTo>
                        <a:pt x="113" y="101"/>
                      </a:lnTo>
                      <a:lnTo>
                        <a:pt x="147" y="22"/>
                      </a:lnTo>
                      <a:lnTo>
                        <a:pt x="211" y="0"/>
                      </a:lnTo>
                      <a:lnTo>
                        <a:pt x="240" y="33"/>
                      </a:lnTo>
                      <a:lnTo>
                        <a:pt x="232" y="101"/>
                      </a:lnTo>
                      <a:lnTo>
                        <a:pt x="179" y="190"/>
                      </a:lnTo>
                      <a:lnTo>
                        <a:pt x="153" y="299"/>
                      </a:lnTo>
                      <a:lnTo>
                        <a:pt x="145" y="384"/>
                      </a:lnTo>
                      <a:lnTo>
                        <a:pt x="147" y="419"/>
                      </a:lnTo>
                      <a:lnTo>
                        <a:pt x="176" y="480"/>
                      </a:lnTo>
                      <a:lnTo>
                        <a:pt x="192" y="536"/>
                      </a:lnTo>
                      <a:lnTo>
                        <a:pt x="192" y="602"/>
                      </a:lnTo>
                      <a:lnTo>
                        <a:pt x="187" y="632"/>
                      </a:lnTo>
                      <a:lnTo>
                        <a:pt x="195" y="658"/>
                      </a:lnTo>
                      <a:lnTo>
                        <a:pt x="192" y="685"/>
                      </a:lnTo>
                      <a:lnTo>
                        <a:pt x="163" y="688"/>
                      </a:lnTo>
                      <a:lnTo>
                        <a:pt x="108" y="688"/>
                      </a:lnTo>
                      <a:lnTo>
                        <a:pt x="48" y="701"/>
                      </a:lnTo>
                      <a:lnTo>
                        <a:pt x="16" y="719"/>
                      </a:lnTo>
                      <a:lnTo>
                        <a:pt x="0" y="693"/>
                      </a:lnTo>
                      <a:lnTo>
                        <a:pt x="12" y="654"/>
                      </a:lnTo>
                      <a:lnTo>
                        <a:pt x="52" y="635"/>
                      </a:lnTo>
                      <a:lnTo>
                        <a:pt x="97" y="635"/>
                      </a:lnTo>
                      <a:lnTo>
                        <a:pt x="137" y="627"/>
                      </a:lnTo>
                      <a:lnTo>
                        <a:pt x="147" y="605"/>
                      </a:lnTo>
                      <a:lnTo>
                        <a:pt x="139" y="550"/>
                      </a:lnTo>
                      <a:lnTo>
                        <a:pt x="121" y="472"/>
                      </a:lnTo>
                      <a:lnTo>
                        <a:pt x="89" y="414"/>
                      </a:lnTo>
                      <a:lnTo>
                        <a:pt x="84" y="353"/>
                      </a:lnTo>
                      <a:lnTo>
                        <a:pt x="89" y="297"/>
                      </a:lnTo>
                      <a:lnTo>
                        <a:pt x="97" y="2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953480" y="3847680"/>
                  <a:ext cx="438120" cy="554040"/>
                </a:xfrm>
                <a:custGeom>
                  <a:avLst/>
                  <a:gdLst/>
                  <a:ahLst/>
                  <a:rect l="l" t="t" r="r" b="b"/>
                  <a:pathLst>
                    <a:path w="553" h="698">
                      <a:moveTo>
                        <a:pt x="146" y="559"/>
                      </a:moveTo>
                      <a:lnTo>
                        <a:pt x="68" y="559"/>
                      </a:lnTo>
                      <a:lnTo>
                        <a:pt x="0" y="581"/>
                      </a:lnTo>
                      <a:lnTo>
                        <a:pt x="13" y="641"/>
                      </a:lnTo>
                      <a:lnTo>
                        <a:pt x="60" y="652"/>
                      </a:lnTo>
                      <a:lnTo>
                        <a:pt x="151" y="645"/>
                      </a:lnTo>
                      <a:lnTo>
                        <a:pt x="252" y="660"/>
                      </a:lnTo>
                      <a:lnTo>
                        <a:pt x="391" y="693"/>
                      </a:lnTo>
                      <a:lnTo>
                        <a:pt x="436" y="698"/>
                      </a:lnTo>
                      <a:lnTo>
                        <a:pt x="458" y="671"/>
                      </a:lnTo>
                      <a:lnTo>
                        <a:pt x="476" y="604"/>
                      </a:lnTo>
                      <a:lnTo>
                        <a:pt x="489" y="359"/>
                      </a:lnTo>
                      <a:lnTo>
                        <a:pt x="489" y="255"/>
                      </a:lnTo>
                      <a:lnTo>
                        <a:pt x="484" y="175"/>
                      </a:lnTo>
                      <a:lnTo>
                        <a:pt x="514" y="140"/>
                      </a:lnTo>
                      <a:lnTo>
                        <a:pt x="545" y="95"/>
                      </a:lnTo>
                      <a:lnTo>
                        <a:pt x="549" y="61"/>
                      </a:lnTo>
                      <a:lnTo>
                        <a:pt x="553" y="0"/>
                      </a:lnTo>
                      <a:lnTo>
                        <a:pt x="437" y="109"/>
                      </a:lnTo>
                      <a:lnTo>
                        <a:pt x="420" y="168"/>
                      </a:lnTo>
                      <a:lnTo>
                        <a:pt x="450" y="213"/>
                      </a:lnTo>
                      <a:lnTo>
                        <a:pt x="450" y="351"/>
                      </a:lnTo>
                      <a:lnTo>
                        <a:pt x="436" y="452"/>
                      </a:lnTo>
                      <a:lnTo>
                        <a:pt x="423" y="541"/>
                      </a:lnTo>
                      <a:lnTo>
                        <a:pt x="404" y="602"/>
                      </a:lnTo>
                      <a:lnTo>
                        <a:pt x="381" y="641"/>
                      </a:lnTo>
                      <a:lnTo>
                        <a:pt x="320" y="617"/>
                      </a:lnTo>
                      <a:lnTo>
                        <a:pt x="236" y="586"/>
                      </a:lnTo>
                      <a:lnTo>
                        <a:pt x="146" y="5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756560" y="3771720"/>
                  <a:ext cx="579240" cy="596880"/>
                </a:xfrm>
                <a:custGeom>
                  <a:avLst/>
                  <a:gdLst/>
                  <a:ahLst/>
                  <a:rect l="l" t="t" r="r" b="b"/>
                  <a:pathLst>
                    <a:path w="730" h="751">
                      <a:moveTo>
                        <a:pt x="203" y="669"/>
                      </a:moveTo>
                      <a:lnTo>
                        <a:pt x="221" y="704"/>
                      </a:lnTo>
                      <a:lnTo>
                        <a:pt x="203" y="741"/>
                      </a:lnTo>
                      <a:lnTo>
                        <a:pt x="134" y="751"/>
                      </a:lnTo>
                      <a:lnTo>
                        <a:pt x="120" y="690"/>
                      </a:lnTo>
                      <a:lnTo>
                        <a:pt x="77" y="578"/>
                      </a:lnTo>
                      <a:lnTo>
                        <a:pt x="38" y="454"/>
                      </a:lnTo>
                      <a:lnTo>
                        <a:pt x="8" y="355"/>
                      </a:lnTo>
                      <a:lnTo>
                        <a:pt x="0" y="272"/>
                      </a:lnTo>
                      <a:lnTo>
                        <a:pt x="21" y="221"/>
                      </a:lnTo>
                      <a:lnTo>
                        <a:pt x="73" y="174"/>
                      </a:lnTo>
                      <a:lnTo>
                        <a:pt x="250" y="118"/>
                      </a:lnTo>
                      <a:lnTo>
                        <a:pt x="411" y="91"/>
                      </a:lnTo>
                      <a:lnTo>
                        <a:pt x="526" y="65"/>
                      </a:lnTo>
                      <a:lnTo>
                        <a:pt x="600" y="43"/>
                      </a:lnTo>
                      <a:lnTo>
                        <a:pt x="640" y="21"/>
                      </a:lnTo>
                      <a:lnTo>
                        <a:pt x="691" y="0"/>
                      </a:lnTo>
                      <a:lnTo>
                        <a:pt x="730" y="21"/>
                      </a:lnTo>
                      <a:lnTo>
                        <a:pt x="722" y="65"/>
                      </a:lnTo>
                      <a:lnTo>
                        <a:pt x="687" y="107"/>
                      </a:lnTo>
                      <a:lnTo>
                        <a:pt x="640" y="126"/>
                      </a:lnTo>
                      <a:lnTo>
                        <a:pt x="592" y="107"/>
                      </a:lnTo>
                      <a:lnTo>
                        <a:pt x="554" y="96"/>
                      </a:lnTo>
                      <a:lnTo>
                        <a:pt x="458" y="121"/>
                      </a:lnTo>
                      <a:lnTo>
                        <a:pt x="306" y="157"/>
                      </a:lnTo>
                      <a:lnTo>
                        <a:pt x="182" y="195"/>
                      </a:lnTo>
                      <a:lnTo>
                        <a:pt x="89" y="229"/>
                      </a:lnTo>
                      <a:lnTo>
                        <a:pt x="65" y="259"/>
                      </a:lnTo>
                      <a:lnTo>
                        <a:pt x="61" y="296"/>
                      </a:lnTo>
                      <a:lnTo>
                        <a:pt x="81" y="378"/>
                      </a:lnTo>
                      <a:lnTo>
                        <a:pt x="126" y="499"/>
                      </a:lnTo>
                      <a:lnTo>
                        <a:pt x="181" y="608"/>
                      </a:lnTo>
                      <a:lnTo>
                        <a:pt x="203" y="6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9" name=""/>
            <p:cNvSpPr/>
            <p:nvPr/>
          </p:nvSpPr>
          <p:spPr>
            <a:xfrm>
              <a:off x="6095880" y="2286000"/>
              <a:ext cx="0" cy="43434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6629400" y="2438280"/>
              <a:ext cx="2057400" cy="53352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Klient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6470280" y="3478320"/>
              <a:ext cx="1974240" cy="1703160"/>
              <a:chOff x="6470280" y="3478320"/>
              <a:chExt cx="1974240" cy="1703160"/>
            </a:xfrm>
          </p:grpSpPr>
          <p:sp>
            <p:nvSpPr>
              <p:cNvPr id="1182" name=""/>
              <p:cNvSpPr/>
              <p:nvPr/>
            </p:nvSpPr>
            <p:spPr>
              <a:xfrm>
                <a:off x="6651720" y="3811680"/>
                <a:ext cx="468000" cy="1369800"/>
              </a:xfrm>
              <a:custGeom>
                <a:avLst/>
                <a:gdLst/>
                <a:ahLst/>
                <a:rect l="l" t="t" r="r" b="b"/>
                <a:pathLst>
                  <a:path w="591" h="1726">
                    <a:moveTo>
                      <a:pt x="0" y="41"/>
                    </a:moveTo>
                    <a:lnTo>
                      <a:pt x="4" y="5"/>
                    </a:lnTo>
                    <a:lnTo>
                      <a:pt x="22" y="0"/>
                    </a:lnTo>
                    <a:lnTo>
                      <a:pt x="42" y="9"/>
                    </a:lnTo>
                    <a:lnTo>
                      <a:pt x="64" y="63"/>
                    </a:lnTo>
                    <a:lnTo>
                      <a:pt x="96" y="178"/>
                    </a:lnTo>
                    <a:lnTo>
                      <a:pt x="134" y="322"/>
                    </a:lnTo>
                    <a:lnTo>
                      <a:pt x="166" y="496"/>
                    </a:lnTo>
                    <a:lnTo>
                      <a:pt x="207" y="695"/>
                    </a:lnTo>
                    <a:lnTo>
                      <a:pt x="227" y="828"/>
                    </a:lnTo>
                    <a:lnTo>
                      <a:pt x="249" y="972"/>
                    </a:lnTo>
                    <a:lnTo>
                      <a:pt x="273" y="1085"/>
                    </a:lnTo>
                    <a:lnTo>
                      <a:pt x="309" y="1227"/>
                    </a:lnTo>
                    <a:lnTo>
                      <a:pt x="337" y="1313"/>
                    </a:lnTo>
                    <a:lnTo>
                      <a:pt x="374" y="1427"/>
                    </a:lnTo>
                    <a:lnTo>
                      <a:pt x="402" y="1563"/>
                    </a:lnTo>
                    <a:lnTo>
                      <a:pt x="420" y="1663"/>
                    </a:lnTo>
                    <a:lnTo>
                      <a:pt x="462" y="1676"/>
                    </a:lnTo>
                    <a:lnTo>
                      <a:pt x="591" y="1645"/>
                    </a:lnTo>
                    <a:lnTo>
                      <a:pt x="549" y="1676"/>
                    </a:lnTo>
                    <a:lnTo>
                      <a:pt x="470" y="1700"/>
                    </a:lnTo>
                    <a:lnTo>
                      <a:pt x="388" y="1726"/>
                    </a:lnTo>
                    <a:lnTo>
                      <a:pt x="374" y="1694"/>
                    </a:lnTo>
                    <a:lnTo>
                      <a:pt x="355" y="1609"/>
                    </a:lnTo>
                    <a:lnTo>
                      <a:pt x="341" y="1490"/>
                    </a:lnTo>
                    <a:lnTo>
                      <a:pt x="318" y="1376"/>
                    </a:lnTo>
                    <a:lnTo>
                      <a:pt x="285" y="1263"/>
                    </a:lnTo>
                    <a:lnTo>
                      <a:pt x="253" y="1150"/>
                    </a:lnTo>
                    <a:lnTo>
                      <a:pt x="227" y="1041"/>
                    </a:lnTo>
                    <a:lnTo>
                      <a:pt x="199" y="909"/>
                    </a:lnTo>
                    <a:lnTo>
                      <a:pt x="189" y="832"/>
                    </a:lnTo>
                    <a:lnTo>
                      <a:pt x="175" y="713"/>
                    </a:lnTo>
                    <a:lnTo>
                      <a:pt x="148" y="587"/>
                    </a:lnTo>
                    <a:lnTo>
                      <a:pt x="124" y="472"/>
                    </a:lnTo>
                    <a:lnTo>
                      <a:pt x="102" y="336"/>
                    </a:lnTo>
                    <a:lnTo>
                      <a:pt x="64" y="196"/>
                    </a:lnTo>
                    <a:lnTo>
                      <a:pt x="32" y="8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32680" y="3544920"/>
                <a:ext cx="1106280" cy="1557360"/>
              </a:xfrm>
              <a:custGeom>
                <a:avLst/>
                <a:gdLst/>
                <a:ahLst/>
                <a:rect l="l" t="t" r="r" b="b"/>
                <a:pathLst>
                  <a:path w="1394" h="1961">
                    <a:moveTo>
                      <a:pt x="0" y="1961"/>
                    </a:moveTo>
                    <a:lnTo>
                      <a:pt x="168" y="1888"/>
                    </a:lnTo>
                    <a:lnTo>
                      <a:pt x="333" y="1829"/>
                    </a:lnTo>
                    <a:lnTo>
                      <a:pt x="511" y="1771"/>
                    </a:lnTo>
                    <a:lnTo>
                      <a:pt x="657" y="1738"/>
                    </a:lnTo>
                    <a:lnTo>
                      <a:pt x="811" y="1724"/>
                    </a:lnTo>
                    <a:lnTo>
                      <a:pt x="930" y="1698"/>
                    </a:lnTo>
                    <a:lnTo>
                      <a:pt x="1079" y="1666"/>
                    </a:lnTo>
                    <a:lnTo>
                      <a:pt x="1176" y="1635"/>
                    </a:lnTo>
                    <a:lnTo>
                      <a:pt x="1299" y="1603"/>
                    </a:lnTo>
                    <a:lnTo>
                      <a:pt x="1344" y="1580"/>
                    </a:lnTo>
                    <a:lnTo>
                      <a:pt x="1354" y="1562"/>
                    </a:lnTo>
                    <a:lnTo>
                      <a:pt x="1344" y="1526"/>
                    </a:lnTo>
                    <a:lnTo>
                      <a:pt x="1308" y="1449"/>
                    </a:lnTo>
                    <a:lnTo>
                      <a:pt x="1253" y="1307"/>
                    </a:lnTo>
                    <a:lnTo>
                      <a:pt x="1190" y="1125"/>
                    </a:lnTo>
                    <a:lnTo>
                      <a:pt x="1134" y="1004"/>
                    </a:lnTo>
                    <a:lnTo>
                      <a:pt x="1075" y="848"/>
                    </a:lnTo>
                    <a:lnTo>
                      <a:pt x="1016" y="676"/>
                    </a:lnTo>
                    <a:lnTo>
                      <a:pt x="966" y="500"/>
                    </a:lnTo>
                    <a:lnTo>
                      <a:pt x="893" y="344"/>
                    </a:lnTo>
                    <a:lnTo>
                      <a:pt x="839" y="145"/>
                    </a:lnTo>
                    <a:lnTo>
                      <a:pt x="770" y="0"/>
                    </a:lnTo>
                    <a:lnTo>
                      <a:pt x="816" y="32"/>
                    </a:lnTo>
                    <a:lnTo>
                      <a:pt x="865" y="154"/>
                    </a:lnTo>
                    <a:lnTo>
                      <a:pt x="907" y="291"/>
                    </a:lnTo>
                    <a:lnTo>
                      <a:pt x="948" y="386"/>
                    </a:lnTo>
                    <a:lnTo>
                      <a:pt x="980" y="481"/>
                    </a:lnTo>
                    <a:lnTo>
                      <a:pt x="1016" y="558"/>
                    </a:lnTo>
                    <a:lnTo>
                      <a:pt x="1039" y="658"/>
                    </a:lnTo>
                    <a:lnTo>
                      <a:pt x="1089" y="795"/>
                    </a:lnTo>
                    <a:lnTo>
                      <a:pt x="1140" y="917"/>
                    </a:lnTo>
                    <a:lnTo>
                      <a:pt x="1194" y="1058"/>
                    </a:lnTo>
                    <a:lnTo>
                      <a:pt x="1245" y="1190"/>
                    </a:lnTo>
                    <a:lnTo>
                      <a:pt x="1289" y="1303"/>
                    </a:lnTo>
                    <a:lnTo>
                      <a:pt x="1336" y="1417"/>
                    </a:lnTo>
                    <a:lnTo>
                      <a:pt x="1380" y="1512"/>
                    </a:lnTo>
                    <a:lnTo>
                      <a:pt x="1394" y="1570"/>
                    </a:lnTo>
                    <a:lnTo>
                      <a:pt x="1380" y="1607"/>
                    </a:lnTo>
                    <a:lnTo>
                      <a:pt x="1354" y="1621"/>
                    </a:lnTo>
                    <a:lnTo>
                      <a:pt x="1249" y="1647"/>
                    </a:lnTo>
                    <a:lnTo>
                      <a:pt x="1166" y="1680"/>
                    </a:lnTo>
                    <a:lnTo>
                      <a:pt x="1079" y="1698"/>
                    </a:lnTo>
                    <a:lnTo>
                      <a:pt x="984" y="1716"/>
                    </a:lnTo>
                    <a:lnTo>
                      <a:pt x="879" y="1738"/>
                    </a:lnTo>
                    <a:lnTo>
                      <a:pt x="798" y="1757"/>
                    </a:lnTo>
                    <a:lnTo>
                      <a:pt x="661" y="1757"/>
                    </a:lnTo>
                    <a:lnTo>
                      <a:pt x="566" y="1785"/>
                    </a:lnTo>
                    <a:lnTo>
                      <a:pt x="442" y="1825"/>
                    </a:lnTo>
                    <a:lnTo>
                      <a:pt x="333" y="1862"/>
                    </a:lnTo>
                    <a:lnTo>
                      <a:pt x="196" y="1906"/>
                    </a:lnTo>
                    <a:lnTo>
                      <a:pt x="73" y="1953"/>
                    </a:lnTo>
                    <a:lnTo>
                      <a:pt x="0" y="19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662520" y="3478320"/>
                <a:ext cx="1135080" cy="371520"/>
              </a:xfrm>
              <a:custGeom>
                <a:avLst/>
                <a:gdLst/>
                <a:ahLst/>
                <a:rect l="l" t="t" r="r" b="b"/>
                <a:pathLst>
                  <a:path w="1431" h="467">
                    <a:moveTo>
                      <a:pt x="0" y="435"/>
                    </a:moveTo>
                    <a:lnTo>
                      <a:pt x="137" y="403"/>
                    </a:lnTo>
                    <a:lnTo>
                      <a:pt x="260" y="375"/>
                    </a:lnTo>
                    <a:lnTo>
                      <a:pt x="432" y="319"/>
                    </a:lnTo>
                    <a:lnTo>
                      <a:pt x="642" y="254"/>
                    </a:lnTo>
                    <a:lnTo>
                      <a:pt x="816" y="198"/>
                    </a:lnTo>
                    <a:lnTo>
                      <a:pt x="966" y="152"/>
                    </a:lnTo>
                    <a:lnTo>
                      <a:pt x="1089" y="102"/>
                    </a:lnTo>
                    <a:lnTo>
                      <a:pt x="1216" y="46"/>
                    </a:lnTo>
                    <a:lnTo>
                      <a:pt x="1317" y="14"/>
                    </a:lnTo>
                    <a:lnTo>
                      <a:pt x="1372" y="0"/>
                    </a:lnTo>
                    <a:lnTo>
                      <a:pt x="1394" y="28"/>
                    </a:lnTo>
                    <a:lnTo>
                      <a:pt x="1412" y="84"/>
                    </a:lnTo>
                    <a:lnTo>
                      <a:pt x="1431" y="184"/>
                    </a:lnTo>
                    <a:lnTo>
                      <a:pt x="1376" y="106"/>
                    </a:lnTo>
                    <a:lnTo>
                      <a:pt x="1348" y="50"/>
                    </a:lnTo>
                    <a:lnTo>
                      <a:pt x="1317" y="42"/>
                    </a:lnTo>
                    <a:lnTo>
                      <a:pt x="1271" y="64"/>
                    </a:lnTo>
                    <a:lnTo>
                      <a:pt x="1170" y="96"/>
                    </a:lnTo>
                    <a:lnTo>
                      <a:pt x="1089" y="134"/>
                    </a:lnTo>
                    <a:lnTo>
                      <a:pt x="994" y="170"/>
                    </a:lnTo>
                    <a:lnTo>
                      <a:pt x="893" y="208"/>
                    </a:lnTo>
                    <a:lnTo>
                      <a:pt x="780" y="250"/>
                    </a:lnTo>
                    <a:lnTo>
                      <a:pt x="642" y="291"/>
                    </a:lnTo>
                    <a:lnTo>
                      <a:pt x="515" y="323"/>
                    </a:lnTo>
                    <a:lnTo>
                      <a:pt x="388" y="356"/>
                    </a:lnTo>
                    <a:lnTo>
                      <a:pt x="287" y="393"/>
                    </a:lnTo>
                    <a:lnTo>
                      <a:pt x="178" y="425"/>
                    </a:lnTo>
                    <a:lnTo>
                      <a:pt x="77" y="453"/>
                    </a:lnTo>
                    <a:lnTo>
                      <a:pt x="10" y="467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97720" y="4105440"/>
                <a:ext cx="210960" cy="720720"/>
              </a:xfrm>
              <a:custGeom>
                <a:avLst/>
                <a:gdLst/>
                <a:ahLst/>
                <a:rect l="l" t="t" r="r" b="b"/>
                <a:pathLst>
                  <a:path w="264" h="910">
                    <a:moveTo>
                      <a:pt x="184" y="0"/>
                    </a:moveTo>
                    <a:lnTo>
                      <a:pt x="141" y="252"/>
                    </a:lnTo>
                    <a:lnTo>
                      <a:pt x="103" y="458"/>
                    </a:lnTo>
                    <a:lnTo>
                      <a:pt x="71" y="603"/>
                    </a:lnTo>
                    <a:lnTo>
                      <a:pt x="33" y="736"/>
                    </a:lnTo>
                    <a:lnTo>
                      <a:pt x="0" y="837"/>
                    </a:lnTo>
                    <a:lnTo>
                      <a:pt x="19" y="882"/>
                    </a:lnTo>
                    <a:lnTo>
                      <a:pt x="47" y="906"/>
                    </a:lnTo>
                    <a:lnTo>
                      <a:pt x="79" y="910"/>
                    </a:lnTo>
                    <a:lnTo>
                      <a:pt x="113" y="900"/>
                    </a:lnTo>
                    <a:lnTo>
                      <a:pt x="137" y="754"/>
                    </a:lnTo>
                    <a:lnTo>
                      <a:pt x="179" y="589"/>
                    </a:lnTo>
                    <a:lnTo>
                      <a:pt x="222" y="440"/>
                    </a:lnTo>
                    <a:lnTo>
                      <a:pt x="264" y="339"/>
                    </a:lnTo>
                    <a:lnTo>
                      <a:pt x="246" y="270"/>
                    </a:lnTo>
                    <a:lnTo>
                      <a:pt x="203" y="407"/>
                    </a:lnTo>
                    <a:lnTo>
                      <a:pt x="155" y="571"/>
                    </a:lnTo>
                    <a:lnTo>
                      <a:pt x="123" y="704"/>
                    </a:lnTo>
                    <a:lnTo>
                      <a:pt x="95" y="819"/>
                    </a:lnTo>
                    <a:lnTo>
                      <a:pt x="75" y="859"/>
                    </a:lnTo>
                    <a:lnTo>
                      <a:pt x="47" y="864"/>
                    </a:lnTo>
                    <a:lnTo>
                      <a:pt x="28" y="837"/>
                    </a:lnTo>
                    <a:lnTo>
                      <a:pt x="51" y="750"/>
                    </a:lnTo>
                    <a:lnTo>
                      <a:pt x="89" y="636"/>
                    </a:lnTo>
                    <a:lnTo>
                      <a:pt x="127" y="494"/>
                    </a:lnTo>
                    <a:lnTo>
                      <a:pt x="155" y="343"/>
                    </a:lnTo>
                    <a:lnTo>
                      <a:pt x="189" y="192"/>
                    </a:lnTo>
                    <a:lnTo>
                      <a:pt x="212" y="7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0619000">
                <a:off x="6581160" y="3731760"/>
                <a:ext cx="1752480" cy="10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Arial"/>
                  </a:rPr>
                  <a:t>It w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Arial"/>
                  </a:rPr>
                  <a:t>not OK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7238880" y="3657600"/>
              <a:ext cx="30492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2971800" y="2286000"/>
            <a:ext cx="3048120" cy="4343400"/>
            <a:chOff x="2971800" y="2286000"/>
            <a:chExt cx="3048120" cy="4343400"/>
          </a:xfrm>
        </p:grpSpPr>
        <p:sp>
          <p:nvSpPr>
            <p:cNvPr id="1189" name=""/>
            <p:cNvSpPr/>
            <p:nvPr/>
          </p:nvSpPr>
          <p:spPr>
            <a:xfrm>
              <a:off x="2971800" y="6076800"/>
              <a:ext cx="3048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ff"/>
                  </a:solidFill>
                  <a:latin typeface="Arial"/>
                </a:rPr>
                <a:t>Szacują opowie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3505320" y="5056200"/>
              <a:ext cx="1295280" cy="1039680"/>
              <a:chOff x="3505320" y="5056200"/>
              <a:chExt cx="1295280" cy="1039680"/>
            </a:xfrm>
          </p:grpSpPr>
          <p:sp>
            <p:nvSpPr>
              <p:cNvPr id="1191" name=""/>
              <p:cNvSpPr/>
              <p:nvPr/>
            </p:nvSpPr>
            <p:spPr>
              <a:xfrm>
                <a:off x="3520440" y="5192640"/>
                <a:ext cx="1274760" cy="627120"/>
              </a:xfrm>
              <a:custGeom>
                <a:avLst/>
                <a:gdLst/>
                <a:ahLst/>
                <a:rect l="l" t="t" r="r" b="b"/>
                <a:pathLst>
                  <a:path w="1990" h="791">
                    <a:moveTo>
                      <a:pt x="11" y="144"/>
                    </a:moveTo>
                    <a:lnTo>
                      <a:pt x="0" y="16"/>
                    </a:lnTo>
                    <a:lnTo>
                      <a:pt x="251" y="18"/>
                    </a:lnTo>
                    <a:lnTo>
                      <a:pt x="582" y="13"/>
                    </a:lnTo>
                    <a:lnTo>
                      <a:pt x="870" y="5"/>
                    </a:lnTo>
                    <a:lnTo>
                      <a:pt x="1227" y="0"/>
                    </a:lnTo>
                    <a:lnTo>
                      <a:pt x="1513" y="5"/>
                    </a:lnTo>
                    <a:lnTo>
                      <a:pt x="1767" y="5"/>
                    </a:lnTo>
                    <a:lnTo>
                      <a:pt x="1815" y="24"/>
                    </a:lnTo>
                    <a:lnTo>
                      <a:pt x="1844" y="88"/>
                    </a:lnTo>
                    <a:lnTo>
                      <a:pt x="1865" y="136"/>
                    </a:lnTo>
                    <a:lnTo>
                      <a:pt x="1923" y="162"/>
                    </a:lnTo>
                    <a:lnTo>
                      <a:pt x="1918" y="229"/>
                    </a:lnTo>
                    <a:lnTo>
                      <a:pt x="1905" y="287"/>
                    </a:lnTo>
                    <a:lnTo>
                      <a:pt x="1900" y="383"/>
                    </a:lnTo>
                    <a:lnTo>
                      <a:pt x="1899" y="431"/>
                    </a:lnTo>
                    <a:lnTo>
                      <a:pt x="1889" y="481"/>
                    </a:lnTo>
                    <a:lnTo>
                      <a:pt x="1905" y="541"/>
                    </a:lnTo>
                    <a:lnTo>
                      <a:pt x="1959" y="613"/>
                    </a:lnTo>
                    <a:lnTo>
                      <a:pt x="1990" y="673"/>
                    </a:lnTo>
                    <a:lnTo>
                      <a:pt x="1982" y="791"/>
                    </a:lnTo>
                    <a:lnTo>
                      <a:pt x="1857" y="745"/>
                    </a:lnTo>
                    <a:lnTo>
                      <a:pt x="1839" y="725"/>
                    </a:lnTo>
                    <a:lnTo>
                      <a:pt x="1827" y="695"/>
                    </a:lnTo>
                    <a:lnTo>
                      <a:pt x="1835" y="607"/>
                    </a:lnTo>
                    <a:lnTo>
                      <a:pt x="1823" y="562"/>
                    </a:lnTo>
                    <a:lnTo>
                      <a:pt x="1782" y="485"/>
                    </a:lnTo>
                    <a:lnTo>
                      <a:pt x="1763" y="415"/>
                    </a:lnTo>
                    <a:lnTo>
                      <a:pt x="1761" y="367"/>
                    </a:lnTo>
                    <a:lnTo>
                      <a:pt x="1767" y="335"/>
                    </a:lnTo>
                    <a:lnTo>
                      <a:pt x="1787" y="264"/>
                    </a:lnTo>
                    <a:lnTo>
                      <a:pt x="1796" y="205"/>
                    </a:lnTo>
                    <a:lnTo>
                      <a:pt x="1782" y="162"/>
                    </a:lnTo>
                    <a:lnTo>
                      <a:pt x="1755" y="125"/>
                    </a:lnTo>
                    <a:lnTo>
                      <a:pt x="1516" y="133"/>
                    </a:lnTo>
                    <a:lnTo>
                      <a:pt x="1305" y="138"/>
                    </a:lnTo>
                    <a:lnTo>
                      <a:pt x="1054" y="136"/>
                    </a:lnTo>
                    <a:lnTo>
                      <a:pt x="851" y="127"/>
                    </a:lnTo>
                    <a:lnTo>
                      <a:pt x="731" y="133"/>
                    </a:lnTo>
                    <a:lnTo>
                      <a:pt x="575" y="151"/>
                    </a:lnTo>
                    <a:lnTo>
                      <a:pt x="238" y="144"/>
                    </a:lnTo>
                    <a:lnTo>
                      <a:pt x="30" y="143"/>
                    </a:lnTo>
                    <a:lnTo>
                      <a:pt x="11" y="144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623040" y="5203800"/>
                <a:ext cx="22680" cy="74520"/>
              </a:xfrm>
              <a:custGeom>
                <a:avLst/>
                <a:gdLst/>
                <a:ahLst/>
                <a:rect l="l" t="t" r="r" b="b"/>
                <a:pathLst>
                  <a:path w="36" h="94">
                    <a:moveTo>
                      <a:pt x="0" y="6"/>
                    </a:moveTo>
                    <a:lnTo>
                      <a:pt x="6" y="94"/>
                    </a:lnTo>
                    <a:lnTo>
                      <a:pt x="36" y="9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706200" y="5207040"/>
                <a:ext cx="25560" cy="75960"/>
              </a:xfrm>
              <a:custGeom>
                <a:avLst/>
                <a:gdLst/>
                <a:ahLst/>
                <a:rect l="l" t="t" r="r" b="b"/>
                <a:pathLst>
                  <a:path w="38" h="96">
                    <a:moveTo>
                      <a:pt x="0" y="6"/>
                    </a:moveTo>
                    <a:lnTo>
                      <a:pt x="6" y="96"/>
                    </a:lnTo>
                    <a:lnTo>
                      <a:pt x="38" y="96"/>
                    </a:lnTo>
                    <a:lnTo>
                      <a:pt x="3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88280" y="5207040"/>
                <a:ext cx="22680" cy="75960"/>
              </a:xfrm>
              <a:custGeom>
                <a:avLst/>
                <a:gdLst/>
                <a:ahLst/>
                <a:rect l="l" t="t" r="r" b="b"/>
                <a:pathLst>
                  <a:path w="35" h="96">
                    <a:moveTo>
                      <a:pt x="0" y="6"/>
                    </a:moveTo>
                    <a:lnTo>
                      <a:pt x="6" y="96"/>
                    </a:lnTo>
                    <a:lnTo>
                      <a:pt x="35" y="96"/>
                    </a:lnTo>
                    <a:lnTo>
                      <a:pt x="3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68920" y="5200560"/>
                <a:ext cx="24120" cy="7632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6"/>
                    </a:moveTo>
                    <a:lnTo>
                      <a:pt x="7" y="96"/>
                    </a:lnTo>
                    <a:lnTo>
                      <a:pt x="39" y="96"/>
                    </a:lnTo>
                    <a:lnTo>
                      <a:pt x="3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951000" y="5200560"/>
                <a:ext cx="21600" cy="763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0" y="6"/>
                    </a:moveTo>
                    <a:lnTo>
                      <a:pt x="7" y="96"/>
                    </a:lnTo>
                    <a:lnTo>
                      <a:pt x="36" y="96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030560" y="5200560"/>
                <a:ext cx="24120" cy="7632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6"/>
                    </a:moveTo>
                    <a:lnTo>
                      <a:pt x="7" y="96"/>
                    </a:lnTo>
                    <a:lnTo>
                      <a:pt x="39" y="96"/>
                    </a:lnTo>
                    <a:lnTo>
                      <a:pt x="3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12280" y="5200560"/>
                <a:ext cx="23040" cy="76320"/>
              </a:xfrm>
              <a:custGeom>
                <a:avLst/>
                <a:gdLst/>
                <a:ahLst/>
                <a:rect l="l" t="t" r="r" b="b"/>
                <a:pathLst>
                  <a:path w="35" h="96">
                    <a:moveTo>
                      <a:pt x="0" y="6"/>
                    </a:moveTo>
                    <a:lnTo>
                      <a:pt x="7" y="96"/>
                    </a:lnTo>
                    <a:lnTo>
                      <a:pt x="35" y="96"/>
                    </a:lnTo>
                    <a:lnTo>
                      <a:pt x="3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152240" y="5200560"/>
                <a:ext cx="24120" cy="763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0" y="6"/>
                    </a:moveTo>
                    <a:lnTo>
                      <a:pt x="6" y="96"/>
                    </a:lnTo>
                    <a:lnTo>
                      <a:pt x="36" y="96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193280" y="5197320"/>
                <a:ext cx="24120" cy="7452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6"/>
                    </a:moveTo>
                    <a:lnTo>
                      <a:pt x="6" y="94"/>
                    </a:lnTo>
                    <a:lnTo>
                      <a:pt x="38" y="94"/>
                    </a:lnTo>
                    <a:lnTo>
                      <a:pt x="3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275000" y="5197320"/>
                <a:ext cx="21600" cy="74520"/>
              </a:xfrm>
              <a:custGeom>
                <a:avLst/>
                <a:gdLst/>
                <a:ahLst/>
                <a:rect l="l" t="t" r="r" b="b"/>
                <a:pathLst>
                  <a:path w="35" h="94">
                    <a:moveTo>
                      <a:pt x="0" y="6"/>
                    </a:moveTo>
                    <a:lnTo>
                      <a:pt x="6" y="94"/>
                    </a:lnTo>
                    <a:lnTo>
                      <a:pt x="35" y="94"/>
                    </a:lnTo>
                    <a:lnTo>
                      <a:pt x="3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54920" y="5194080"/>
                <a:ext cx="23760" cy="7488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6"/>
                    </a:moveTo>
                    <a:lnTo>
                      <a:pt x="6" y="94"/>
                    </a:lnTo>
                    <a:lnTo>
                      <a:pt x="38" y="94"/>
                    </a:lnTo>
                    <a:lnTo>
                      <a:pt x="3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36640" y="519408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35" h="94">
                    <a:moveTo>
                      <a:pt x="0" y="6"/>
                    </a:moveTo>
                    <a:lnTo>
                      <a:pt x="6" y="94"/>
                    </a:lnTo>
                    <a:lnTo>
                      <a:pt x="35" y="94"/>
                    </a:lnTo>
                    <a:lnTo>
                      <a:pt x="3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516200" y="5194080"/>
                <a:ext cx="24120" cy="7488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6"/>
                    </a:moveTo>
                    <a:lnTo>
                      <a:pt x="6" y="94"/>
                    </a:lnTo>
                    <a:lnTo>
                      <a:pt x="38" y="94"/>
                    </a:lnTo>
                    <a:lnTo>
                      <a:pt x="3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597920" y="5194080"/>
                <a:ext cx="23040" cy="74880"/>
              </a:xfrm>
              <a:custGeom>
                <a:avLst/>
                <a:gdLst/>
                <a:ahLst/>
                <a:rect l="l" t="t" r="r" b="b"/>
                <a:pathLst>
                  <a:path w="35" h="94">
                    <a:moveTo>
                      <a:pt x="0" y="6"/>
                    </a:moveTo>
                    <a:lnTo>
                      <a:pt x="6" y="94"/>
                    </a:lnTo>
                    <a:lnTo>
                      <a:pt x="35" y="94"/>
                    </a:lnTo>
                    <a:lnTo>
                      <a:pt x="3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505320" y="5181480"/>
                <a:ext cx="1295280" cy="647640"/>
              </a:xfrm>
              <a:custGeom>
                <a:avLst/>
                <a:gdLst/>
                <a:ahLst/>
                <a:rect l="l" t="t" r="r" b="b"/>
                <a:pathLst>
                  <a:path w="2022" h="816">
                    <a:moveTo>
                      <a:pt x="46" y="93"/>
                    </a:moveTo>
                    <a:lnTo>
                      <a:pt x="46" y="45"/>
                    </a:lnTo>
                    <a:lnTo>
                      <a:pt x="361" y="45"/>
                    </a:lnTo>
                    <a:lnTo>
                      <a:pt x="731" y="37"/>
                    </a:lnTo>
                    <a:lnTo>
                      <a:pt x="963" y="26"/>
                    </a:lnTo>
                    <a:lnTo>
                      <a:pt x="1243" y="24"/>
                    </a:lnTo>
                    <a:lnTo>
                      <a:pt x="1545" y="26"/>
                    </a:lnTo>
                    <a:lnTo>
                      <a:pt x="1790" y="30"/>
                    </a:lnTo>
                    <a:lnTo>
                      <a:pt x="1822" y="45"/>
                    </a:lnTo>
                    <a:lnTo>
                      <a:pt x="1843" y="86"/>
                    </a:lnTo>
                    <a:lnTo>
                      <a:pt x="1860" y="128"/>
                    </a:lnTo>
                    <a:lnTo>
                      <a:pt x="1887" y="165"/>
                    </a:lnTo>
                    <a:lnTo>
                      <a:pt x="1932" y="189"/>
                    </a:lnTo>
                    <a:lnTo>
                      <a:pt x="1929" y="242"/>
                    </a:lnTo>
                    <a:lnTo>
                      <a:pt x="1908" y="312"/>
                    </a:lnTo>
                    <a:lnTo>
                      <a:pt x="1908" y="384"/>
                    </a:lnTo>
                    <a:lnTo>
                      <a:pt x="1908" y="445"/>
                    </a:lnTo>
                    <a:lnTo>
                      <a:pt x="1899" y="512"/>
                    </a:lnTo>
                    <a:lnTo>
                      <a:pt x="1923" y="576"/>
                    </a:lnTo>
                    <a:lnTo>
                      <a:pt x="1956" y="613"/>
                    </a:lnTo>
                    <a:lnTo>
                      <a:pt x="1991" y="661"/>
                    </a:lnTo>
                    <a:lnTo>
                      <a:pt x="1998" y="717"/>
                    </a:lnTo>
                    <a:lnTo>
                      <a:pt x="1991" y="789"/>
                    </a:lnTo>
                    <a:lnTo>
                      <a:pt x="1875" y="744"/>
                    </a:lnTo>
                    <a:lnTo>
                      <a:pt x="1857" y="704"/>
                    </a:lnTo>
                    <a:lnTo>
                      <a:pt x="1863" y="626"/>
                    </a:lnTo>
                    <a:lnTo>
                      <a:pt x="1857" y="576"/>
                    </a:lnTo>
                    <a:lnTo>
                      <a:pt x="1822" y="511"/>
                    </a:lnTo>
                    <a:lnTo>
                      <a:pt x="1798" y="438"/>
                    </a:lnTo>
                    <a:lnTo>
                      <a:pt x="1791" y="384"/>
                    </a:lnTo>
                    <a:lnTo>
                      <a:pt x="1807" y="318"/>
                    </a:lnTo>
                    <a:lnTo>
                      <a:pt x="1827" y="261"/>
                    </a:lnTo>
                    <a:lnTo>
                      <a:pt x="1827" y="206"/>
                    </a:lnTo>
                    <a:lnTo>
                      <a:pt x="1809" y="162"/>
                    </a:lnTo>
                    <a:lnTo>
                      <a:pt x="1783" y="128"/>
                    </a:lnTo>
                    <a:lnTo>
                      <a:pt x="1742" y="128"/>
                    </a:lnTo>
                    <a:lnTo>
                      <a:pt x="1580" y="138"/>
                    </a:lnTo>
                    <a:lnTo>
                      <a:pt x="1399" y="144"/>
                    </a:lnTo>
                    <a:lnTo>
                      <a:pt x="1191" y="144"/>
                    </a:lnTo>
                    <a:lnTo>
                      <a:pt x="987" y="138"/>
                    </a:lnTo>
                    <a:lnTo>
                      <a:pt x="833" y="128"/>
                    </a:lnTo>
                    <a:lnTo>
                      <a:pt x="649" y="146"/>
                    </a:lnTo>
                    <a:lnTo>
                      <a:pt x="356" y="150"/>
                    </a:lnTo>
                    <a:lnTo>
                      <a:pt x="164" y="150"/>
                    </a:lnTo>
                    <a:lnTo>
                      <a:pt x="48" y="138"/>
                    </a:lnTo>
                    <a:lnTo>
                      <a:pt x="27" y="165"/>
                    </a:lnTo>
                    <a:lnTo>
                      <a:pt x="124" y="168"/>
                    </a:lnTo>
                    <a:lnTo>
                      <a:pt x="236" y="174"/>
                    </a:lnTo>
                    <a:lnTo>
                      <a:pt x="400" y="174"/>
                    </a:lnTo>
                    <a:lnTo>
                      <a:pt x="531" y="174"/>
                    </a:lnTo>
                    <a:lnTo>
                      <a:pt x="671" y="168"/>
                    </a:lnTo>
                    <a:lnTo>
                      <a:pt x="815" y="152"/>
                    </a:lnTo>
                    <a:lnTo>
                      <a:pt x="863" y="152"/>
                    </a:lnTo>
                    <a:lnTo>
                      <a:pt x="983" y="152"/>
                    </a:lnTo>
                    <a:lnTo>
                      <a:pt x="1100" y="165"/>
                    </a:lnTo>
                    <a:lnTo>
                      <a:pt x="1263" y="162"/>
                    </a:lnTo>
                    <a:lnTo>
                      <a:pt x="1439" y="168"/>
                    </a:lnTo>
                    <a:lnTo>
                      <a:pt x="1547" y="158"/>
                    </a:lnTo>
                    <a:lnTo>
                      <a:pt x="1660" y="152"/>
                    </a:lnTo>
                    <a:lnTo>
                      <a:pt x="1724" y="152"/>
                    </a:lnTo>
                    <a:lnTo>
                      <a:pt x="1772" y="150"/>
                    </a:lnTo>
                    <a:lnTo>
                      <a:pt x="1798" y="181"/>
                    </a:lnTo>
                    <a:lnTo>
                      <a:pt x="1807" y="224"/>
                    </a:lnTo>
                    <a:lnTo>
                      <a:pt x="1798" y="285"/>
                    </a:lnTo>
                    <a:lnTo>
                      <a:pt x="1774" y="354"/>
                    </a:lnTo>
                    <a:lnTo>
                      <a:pt x="1767" y="421"/>
                    </a:lnTo>
                    <a:lnTo>
                      <a:pt x="1790" y="482"/>
                    </a:lnTo>
                    <a:lnTo>
                      <a:pt x="1825" y="560"/>
                    </a:lnTo>
                    <a:lnTo>
                      <a:pt x="1843" y="624"/>
                    </a:lnTo>
                    <a:lnTo>
                      <a:pt x="1838" y="714"/>
                    </a:lnTo>
                    <a:lnTo>
                      <a:pt x="1851" y="757"/>
                    </a:lnTo>
                    <a:lnTo>
                      <a:pt x="1867" y="765"/>
                    </a:lnTo>
                    <a:lnTo>
                      <a:pt x="2006" y="816"/>
                    </a:lnTo>
                    <a:lnTo>
                      <a:pt x="2012" y="783"/>
                    </a:lnTo>
                    <a:lnTo>
                      <a:pt x="2022" y="696"/>
                    </a:lnTo>
                    <a:lnTo>
                      <a:pt x="2015" y="655"/>
                    </a:lnTo>
                    <a:lnTo>
                      <a:pt x="1988" y="615"/>
                    </a:lnTo>
                    <a:lnTo>
                      <a:pt x="1939" y="549"/>
                    </a:lnTo>
                    <a:lnTo>
                      <a:pt x="1923" y="519"/>
                    </a:lnTo>
                    <a:lnTo>
                      <a:pt x="1916" y="480"/>
                    </a:lnTo>
                    <a:lnTo>
                      <a:pt x="1929" y="410"/>
                    </a:lnTo>
                    <a:lnTo>
                      <a:pt x="1929" y="360"/>
                    </a:lnTo>
                    <a:lnTo>
                      <a:pt x="1932" y="306"/>
                    </a:lnTo>
                    <a:lnTo>
                      <a:pt x="1950" y="242"/>
                    </a:lnTo>
                    <a:lnTo>
                      <a:pt x="1950" y="206"/>
                    </a:lnTo>
                    <a:lnTo>
                      <a:pt x="1950" y="170"/>
                    </a:lnTo>
                    <a:lnTo>
                      <a:pt x="1929" y="152"/>
                    </a:lnTo>
                    <a:lnTo>
                      <a:pt x="1899" y="144"/>
                    </a:lnTo>
                    <a:lnTo>
                      <a:pt x="1881" y="117"/>
                    </a:lnTo>
                    <a:lnTo>
                      <a:pt x="1860" y="61"/>
                    </a:lnTo>
                    <a:lnTo>
                      <a:pt x="1831" y="24"/>
                    </a:lnTo>
                    <a:lnTo>
                      <a:pt x="1791" y="0"/>
                    </a:lnTo>
                    <a:lnTo>
                      <a:pt x="1612" y="2"/>
                    </a:lnTo>
                    <a:lnTo>
                      <a:pt x="1404" y="6"/>
                    </a:lnTo>
                    <a:lnTo>
                      <a:pt x="1222" y="0"/>
                    </a:lnTo>
                    <a:lnTo>
                      <a:pt x="1007" y="6"/>
                    </a:lnTo>
                    <a:lnTo>
                      <a:pt x="804" y="8"/>
                    </a:lnTo>
                    <a:lnTo>
                      <a:pt x="553" y="21"/>
                    </a:lnTo>
                    <a:lnTo>
                      <a:pt x="280" y="21"/>
                    </a:lnTo>
                    <a:lnTo>
                      <a:pt x="105" y="24"/>
                    </a:lnTo>
                    <a:lnTo>
                      <a:pt x="0" y="26"/>
                    </a:lnTo>
                    <a:lnTo>
                      <a:pt x="27" y="128"/>
                    </a:lnTo>
                    <a:lnTo>
                      <a:pt x="46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687920" y="531468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56" y="0"/>
                    </a:moveTo>
                    <a:lnTo>
                      <a:pt x="0" y="45"/>
                    </a:lnTo>
                    <a:lnTo>
                      <a:pt x="11" y="64"/>
                    </a:lnTo>
                    <a:lnTo>
                      <a:pt x="85" y="1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682880" y="5392440"/>
                <a:ext cx="57240" cy="3996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89" y="16"/>
                    </a:moveTo>
                    <a:lnTo>
                      <a:pt x="14" y="0"/>
                    </a:lnTo>
                    <a:lnTo>
                      <a:pt x="0" y="31"/>
                    </a:lnTo>
                    <a:lnTo>
                      <a:pt x="78" y="50"/>
                    </a:lnTo>
                    <a:lnTo>
                      <a:pt x="8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668480" y="5491080"/>
                <a:ext cx="67680" cy="30240"/>
              </a:xfrm>
              <a:custGeom>
                <a:avLst/>
                <a:gdLst/>
                <a:ahLst/>
                <a:rect l="l" t="t" r="r" b="b"/>
                <a:pathLst>
                  <a:path w="108" h="39">
                    <a:moveTo>
                      <a:pt x="101" y="4"/>
                    </a:moveTo>
                    <a:lnTo>
                      <a:pt x="0" y="0"/>
                    </a:lnTo>
                    <a:lnTo>
                      <a:pt x="5" y="28"/>
                    </a:lnTo>
                    <a:lnTo>
                      <a:pt x="108" y="39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687920" y="5594400"/>
                <a:ext cx="45000" cy="29880"/>
              </a:xfrm>
              <a:custGeom>
                <a:avLst/>
                <a:gdLst/>
                <a:ahLst/>
                <a:rect l="l" t="t" r="r" b="b"/>
                <a:pathLst>
                  <a:path w="70" h="39">
                    <a:moveTo>
                      <a:pt x="65" y="0"/>
                    </a:moveTo>
                    <a:lnTo>
                      <a:pt x="0" y="10"/>
                    </a:lnTo>
                    <a:lnTo>
                      <a:pt x="13" y="39"/>
                    </a:lnTo>
                    <a:lnTo>
                      <a:pt x="70" y="2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714920" y="5673600"/>
                <a:ext cx="66240" cy="25560"/>
              </a:xfrm>
              <a:custGeom>
                <a:avLst/>
                <a:gdLst/>
                <a:ahLst/>
                <a:rect l="l" t="t" r="r" b="b"/>
                <a:pathLst>
                  <a:path w="106" h="32">
                    <a:moveTo>
                      <a:pt x="93" y="0"/>
                    </a:moveTo>
                    <a:lnTo>
                      <a:pt x="0" y="13"/>
                    </a:lnTo>
                    <a:lnTo>
                      <a:pt x="0" y="32"/>
                    </a:lnTo>
                    <a:lnTo>
                      <a:pt x="106" y="32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4000" y="5738760"/>
                <a:ext cx="56160" cy="36360"/>
              </a:xfrm>
              <a:custGeom>
                <a:avLst/>
                <a:gdLst/>
                <a:ahLst/>
                <a:rect l="l" t="t" r="r" b="b"/>
                <a:pathLst>
                  <a:path w="88" h="46">
                    <a:moveTo>
                      <a:pt x="88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86" y="46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077720" y="5056200"/>
                <a:ext cx="242280" cy="258480"/>
              </a:xfrm>
              <a:custGeom>
                <a:avLst/>
                <a:gdLst/>
                <a:ahLst/>
                <a:rect l="l" t="t" r="r" b="b"/>
                <a:pathLst>
                  <a:path w="377" h="327">
                    <a:moveTo>
                      <a:pt x="232" y="160"/>
                    </a:moveTo>
                    <a:lnTo>
                      <a:pt x="232" y="111"/>
                    </a:lnTo>
                    <a:lnTo>
                      <a:pt x="224" y="74"/>
                    </a:lnTo>
                    <a:lnTo>
                      <a:pt x="201" y="35"/>
                    </a:lnTo>
                    <a:lnTo>
                      <a:pt x="177" y="13"/>
                    </a:lnTo>
                    <a:lnTo>
                      <a:pt x="147" y="5"/>
                    </a:lnTo>
                    <a:lnTo>
                      <a:pt x="97" y="0"/>
                    </a:lnTo>
                    <a:lnTo>
                      <a:pt x="61" y="19"/>
                    </a:lnTo>
                    <a:lnTo>
                      <a:pt x="30" y="56"/>
                    </a:lnTo>
                    <a:lnTo>
                      <a:pt x="13" y="111"/>
                    </a:lnTo>
                    <a:lnTo>
                      <a:pt x="0" y="170"/>
                    </a:lnTo>
                    <a:lnTo>
                      <a:pt x="0" y="227"/>
                    </a:lnTo>
                    <a:lnTo>
                      <a:pt x="16" y="275"/>
                    </a:lnTo>
                    <a:lnTo>
                      <a:pt x="43" y="306"/>
                    </a:lnTo>
                    <a:lnTo>
                      <a:pt x="83" y="325"/>
                    </a:lnTo>
                    <a:lnTo>
                      <a:pt x="123" y="327"/>
                    </a:lnTo>
                    <a:lnTo>
                      <a:pt x="160" y="320"/>
                    </a:lnTo>
                    <a:lnTo>
                      <a:pt x="184" y="306"/>
                    </a:lnTo>
                    <a:lnTo>
                      <a:pt x="201" y="275"/>
                    </a:lnTo>
                    <a:lnTo>
                      <a:pt x="217" y="232"/>
                    </a:lnTo>
                    <a:lnTo>
                      <a:pt x="232" y="223"/>
                    </a:lnTo>
                    <a:lnTo>
                      <a:pt x="280" y="219"/>
                    </a:lnTo>
                    <a:lnTo>
                      <a:pt x="347" y="234"/>
                    </a:lnTo>
                    <a:lnTo>
                      <a:pt x="365" y="239"/>
                    </a:lnTo>
                    <a:lnTo>
                      <a:pt x="377" y="223"/>
                    </a:lnTo>
                    <a:lnTo>
                      <a:pt x="373" y="208"/>
                    </a:lnTo>
                    <a:lnTo>
                      <a:pt x="365" y="191"/>
                    </a:lnTo>
                    <a:lnTo>
                      <a:pt x="323" y="183"/>
                    </a:lnTo>
                    <a:lnTo>
                      <a:pt x="273" y="179"/>
                    </a:lnTo>
                    <a:lnTo>
                      <a:pt x="232" y="16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997080" y="5321160"/>
                <a:ext cx="190800" cy="46368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21" y="116"/>
                    </a:moveTo>
                    <a:lnTo>
                      <a:pt x="76" y="38"/>
                    </a:lnTo>
                    <a:lnTo>
                      <a:pt x="112" y="8"/>
                    </a:lnTo>
                    <a:lnTo>
                      <a:pt x="157" y="0"/>
                    </a:lnTo>
                    <a:lnTo>
                      <a:pt x="194" y="1"/>
                    </a:lnTo>
                    <a:lnTo>
                      <a:pt x="248" y="12"/>
                    </a:lnTo>
                    <a:lnTo>
                      <a:pt x="279" y="36"/>
                    </a:lnTo>
                    <a:lnTo>
                      <a:pt x="298" y="62"/>
                    </a:lnTo>
                    <a:lnTo>
                      <a:pt x="298" y="102"/>
                    </a:lnTo>
                    <a:lnTo>
                      <a:pt x="282" y="134"/>
                    </a:lnTo>
                    <a:lnTo>
                      <a:pt x="256" y="177"/>
                    </a:lnTo>
                    <a:lnTo>
                      <a:pt x="239" y="217"/>
                    </a:lnTo>
                    <a:lnTo>
                      <a:pt x="232" y="262"/>
                    </a:lnTo>
                    <a:lnTo>
                      <a:pt x="229" y="296"/>
                    </a:lnTo>
                    <a:lnTo>
                      <a:pt x="244" y="341"/>
                    </a:lnTo>
                    <a:lnTo>
                      <a:pt x="268" y="387"/>
                    </a:lnTo>
                    <a:lnTo>
                      <a:pt x="288" y="435"/>
                    </a:lnTo>
                    <a:lnTo>
                      <a:pt x="293" y="472"/>
                    </a:lnTo>
                    <a:lnTo>
                      <a:pt x="292" y="515"/>
                    </a:lnTo>
                    <a:lnTo>
                      <a:pt x="268" y="545"/>
                    </a:lnTo>
                    <a:lnTo>
                      <a:pt x="229" y="568"/>
                    </a:lnTo>
                    <a:lnTo>
                      <a:pt x="199" y="582"/>
                    </a:lnTo>
                    <a:lnTo>
                      <a:pt x="151" y="582"/>
                    </a:lnTo>
                    <a:lnTo>
                      <a:pt x="106" y="568"/>
                    </a:lnTo>
                    <a:lnTo>
                      <a:pt x="45" y="544"/>
                    </a:lnTo>
                    <a:lnTo>
                      <a:pt x="21" y="483"/>
                    </a:lnTo>
                    <a:lnTo>
                      <a:pt x="13" y="441"/>
                    </a:lnTo>
                    <a:lnTo>
                      <a:pt x="13" y="389"/>
                    </a:lnTo>
                    <a:lnTo>
                      <a:pt x="7" y="341"/>
                    </a:lnTo>
                    <a:lnTo>
                      <a:pt x="0" y="262"/>
                    </a:lnTo>
                    <a:lnTo>
                      <a:pt x="2" y="200"/>
                    </a:lnTo>
                    <a:lnTo>
                      <a:pt x="13" y="147"/>
                    </a:lnTo>
                    <a:lnTo>
                      <a:pt x="21" y="116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508920" y="5200560"/>
                <a:ext cx="576720" cy="272880"/>
              </a:xfrm>
              <a:custGeom>
                <a:avLst/>
                <a:gdLst/>
                <a:ahLst/>
                <a:rect l="l" t="t" r="r" b="b"/>
                <a:pathLst>
                  <a:path w="901" h="346">
                    <a:moveTo>
                      <a:pt x="787" y="203"/>
                    </a:moveTo>
                    <a:lnTo>
                      <a:pt x="838" y="179"/>
                    </a:lnTo>
                    <a:lnTo>
                      <a:pt x="883" y="168"/>
                    </a:lnTo>
                    <a:lnTo>
                      <a:pt x="901" y="184"/>
                    </a:lnTo>
                    <a:lnTo>
                      <a:pt x="901" y="222"/>
                    </a:lnTo>
                    <a:lnTo>
                      <a:pt x="859" y="270"/>
                    </a:lnTo>
                    <a:lnTo>
                      <a:pt x="814" y="278"/>
                    </a:lnTo>
                    <a:lnTo>
                      <a:pt x="701" y="314"/>
                    </a:lnTo>
                    <a:lnTo>
                      <a:pt x="587" y="333"/>
                    </a:lnTo>
                    <a:lnTo>
                      <a:pt x="486" y="346"/>
                    </a:lnTo>
                    <a:lnTo>
                      <a:pt x="413" y="338"/>
                    </a:lnTo>
                    <a:lnTo>
                      <a:pt x="312" y="314"/>
                    </a:lnTo>
                    <a:lnTo>
                      <a:pt x="198" y="240"/>
                    </a:lnTo>
                    <a:lnTo>
                      <a:pt x="130" y="179"/>
                    </a:lnTo>
                    <a:lnTo>
                      <a:pt x="90" y="155"/>
                    </a:lnTo>
                    <a:lnTo>
                      <a:pt x="54" y="147"/>
                    </a:lnTo>
                    <a:lnTo>
                      <a:pt x="24" y="141"/>
                    </a:lnTo>
                    <a:lnTo>
                      <a:pt x="6" y="110"/>
                    </a:lnTo>
                    <a:lnTo>
                      <a:pt x="0" y="58"/>
                    </a:lnTo>
                    <a:lnTo>
                      <a:pt x="13" y="24"/>
                    </a:lnTo>
                    <a:lnTo>
                      <a:pt x="30" y="0"/>
                    </a:lnTo>
                    <a:lnTo>
                      <a:pt x="58" y="8"/>
                    </a:lnTo>
                    <a:lnTo>
                      <a:pt x="70" y="50"/>
                    </a:lnTo>
                    <a:lnTo>
                      <a:pt x="66" y="94"/>
                    </a:lnTo>
                    <a:lnTo>
                      <a:pt x="102" y="123"/>
                    </a:lnTo>
                    <a:lnTo>
                      <a:pt x="125" y="125"/>
                    </a:lnTo>
                    <a:lnTo>
                      <a:pt x="144" y="106"/>
                    </a:lnTo>
                    <a:lnTo>
                      <a:pt x="150" y="75"/>
                    </a:lnTo>
                    <a:lnTo>
                      <a:pt x="192" y="82"/>
                    </a:lnTo>
                    <a:lnTo>
                      <a:pt x="192" y="130"/>
                    </a:lnTo>
                    <a:lnTo>
                      <a:pt x="168" y="160"/>
                    </a:lnTo>
                    <a:lnTo>
                      <a:pt x="221" y="203"/>
                    </a:lnTo>
                    <a:lnTo>
                      <a:pt x="304" y="240"/>
                    </a:lnTo>
                    <a:lnTo>
                      <a:pt x="378" y="259"/>
                    </a:lnTo>
                    <a:lnTo>
                      <a:pt x="451" y="277"/>
                    </a:lnTo>
                    <a:lnTo>
                      <a:pt x="502" y="277"/>
                    </a:lnTo>
                    <a:lnTo>
                      <a:pt x="568" y="264"/>
                    </a:lnTo>
                    <a:lnTo>
                      <a:pt x="640" y="245"/>
                    </a:lnTo>
                    <a:lnTo>
                      <a:pt x="712" y="222"/>
                    </a:lnTo>
                    <a:lnTo>
                      <a:pt x="787" y="20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116240" y="5207040"/>
                <a:ext cx="577800" cy="274320"/>
              </a:xfrm>
              <a:custGeom>
                <a:avLst/>
                <a:gdLst/>
                <a:ahLst/>
                <a:rect l="l" t="t" r="r" b="b"/>
                <a:pathLst>
                  <a:path w="902" h="345">
                    <a:moveTo>
                      <a:pt x="114" y="203"/>
                    </a:moveTo>
                    <a:lnTo>
                      <a:pt x="62" y="179"/>
                    </a:lnTo>
                    <a:lnTo>
                      <a:pt x="18" y="168"/>
                    </a:lnTo>
                    <a:lnTo>
                      <a:pt x="0" y="184"/>
                    </a:lnTo>
                    <a:lnTo>
                      <a:pt x="0" y="222"/>
                    </a:lnTo>
                    <a:lnTo>
                      <a:pt x="42" y="270"/>
                    </a:lnTo>
                    <a:lnTo>
                      <a:pt x="86" y="278"/>
                    </a:lnTo>
                    <a:lnTo>
                      <a:pt x="200" y="313"/>
                    </a:lnTo>
                    <a:lnTo>
                      <a:pt x="315" y="332"/>
                    </a:lnTo>
                    <a:lnTo>
                      <a:pt x="414" y="345"/>
                    </a:lnTo>
                    <a:lnTo>
                      <a:pt x="490" y="337"/>
                    </a:lnTo>
                    <a:lnTo>
                      <a:pt x="589" y="313"/>
                    </a:lnTo>
                    <a:lnTo>
                      <a:pt x="704" y="240"/>
                    </a:lnTo>
                    <a:lnTo>
                      <a:pt x="773" y="179"/>
                    </a:lnTo>
                    <a:lnTo>
                      <a:pt x="813" y="155"/>
                    </a:lnTo>
                    <a:lnTo>
                      <a:pt x="848" y="147"/>
                    </a:lnTo>
                    <a:lnTo>
                      <a:pt x="878" y="140"/>
                    </a:lnTo>
                    <a:lnTo>
                      <a:pt x="896" y="110"/>
                    </a:lnTo>
                    <a:lnTo>
                      <a:pt x="902" y="57"/>
                    </a:lnTo>
                    <a:lnTo>
                      <a:pt x="890" y="24"/>
                    </a:lnTo>
                    <a:lnTo>
                      <a:pt x="872" y="0"/>
                    </a:lnTo>
                    <a:lnTo>
                      <a:pt x="845" y="8"/>
                    </a:lnTo>
                    <a:lnTo>
                      <a:pt x="832" y="49"/>
                    </a:lnTo>
                    <a:lnTo>
                      <a:pt x="837" y="94"/>
                    </a:lnTo>
                    <a:lnTo>
                      <a:pt x="800" y="123"/>
                    </a:lnTo>
                    <a:lnTo>
                      <a:pt x="778" y="124"/>
                    </a:lnTo>
                    <a:lnTo>
                      <a:pt x="758" y="105"/>
                    </a:lnTo>
                    <a:lnTo>
                      <a:pt x="752" y="75"/>
                    </a:lnTo>
                    <a:lnTo>
                      <a:pt x="710" y="81"/>
                    </a:lnTo>
                    <a:lnTo>
                      <a:pt x="710" y="129"/>
                    </a:lnTo>
                    <a:lnTo>
                      <a:pt x="734" y="160"/>
                    </a:lnTo>
                    <a:lnTo>
                      <a:pt x="682" y="203"/>
                    </a:lnTo>
                    <a:lnTo>
                      <a:pt x="597" y="240"/>
                    </a:lnTo>
                    <a:lnTo>
                      <a:pt x="523" y="259"/>
                    </a:lnTo>
                    <a:lnTo>
                      <a:pt x="451" y="276"/>
                    </a:lnTo>
                    <a:lnTo>
                      <a:pt x="398" y="276"/>
                    </a:lnTo>
                    <a:lnTo>
                      <a:pt x="333" y="264"/>
                    </a:lnTo>
                    <a:lnTo>
                      <a:pt x="261" y="244"/>
                    </a:lnTo>
                    <a:lnTo>
                      <a:pt x="189" y="222"/>
                    </a:lnTo>
                    <a:lnTo>
                      <a:pt x="114" y="20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24280" y="5557680"/>
                <a:ext cx="294480" cy="428760"/>
              </a:xfrm>
              <a:custGeom>
                <a:avLst/>
                <a:gdLst/>
                <a:ahLst/>
                <a:rect l="l" t="t" r="r" b="b"/>
                <a:pathLst>
                  <a:path w="461" h="540">
                    <a:moveTo>
                      <a:pt x="394" y="122"/>
                    </a:moveTo>
                    <a:lnTo>
                      <a:pt x="430" y="140"/>
                    </a:lnTo>
                    <a:lnTo>
                      <a:pt x="451" y="183"/>
                    </a:lnTo>
                    <a:lnTo>
                      <a:pt x="461" y="224"/>
                    </a:lnTo>
                    <a:lnTo>
                      <a:pt x="443" y="268"/>
                    </a:lnTo>
                    <a:lnTo>
                      <a:pt x="424" y="272"/>
                    </a:lnTo>
                    <a:lnTo>
                      <a:pt x="384" y="284"/>
                    </a:lnTo>
                    <a:lnTo>
                      <a:pt x="334" y="279"/>
                    </a:lnTo>
                    <a:lnTo>
                      <a:pt x="286" y="261"/>
                    </a:lnTo>
                    <a:lnTo>
                      <a:pt x="229" y="223"/>
                    </a:lnTo>
                    <a:lnTo>
                      <a:pt x="189" y="180"/>
                    </a:lnTo>
                    <a:lnTo>
                      <a:pt x="146" y="132"/>
                    </a:lnTo>
                    <a:lnTo>
                      <a:pt x="126" y="108"/>
                    </a:lnTo>
                    <a:lnTo>
                      <a:pt x="144" y="157"/>
                    </a:lnTo>
                    <a:lnTo>
                      <a:pt x="157" y="231"/>
                    </a:lnTo>
                    <a:lnTo>
                      <a:pt x="152" y="322"/>
                    </a:lnTo>
                    <a:lnTo>
                      <a:pt x="141" y="394"/>
                    </a:lnTo>
                    <a:lnTo>
                      <a:pt x="131" y="447"/>
                    </a:lnTo>
                    <a:lnTo>
                      <a:pt x="138" y="488"/>
                    </a:lnTo>
                    <a:lnTo>
                      <a:pt x="146" y="516"/>
                    </a:lnTo>
                    <a:lnTo>
                      <a:pt x="144" y="533"/>
                    </a:lnTo>
                    <a:lnTo>
                      <a:pt x="128" y="540"/>
                    </a:lnTo>
                    <a:lnTo>
                      <a:pt x="98" y="540"/>
                    </a:lnTo>
                    <a:lnTo>
                      <a:pt x="77" y="527"/>
                    </a:lnTo>
                    <a:lnTo>
                      <a:pt x="53" y="495"/>
                    </a:lnTo>
                    <a:lnTo>
                      <a:pt x="37" y="455"/>
                    </a:lnTo>
                    <a:lnTo>
                      <a:pt x="5" y="404"/>
                    </a:lnTo>
                    <a:lnTo>
                      <a:pt x="0" y="388"/>
                    </a:lnTo>
                    <a:lnTo>
                      <a:pt x="13" y="376"/>
                    </a:lnTo>
                    <a:lnTo>
                      <a:pt x="59" y="364"/>
                    </a:lnTo>
                    <a:lnTo>
                      <a:pt x="91" y="370"/>
                    </a:lnTo>
                    <a:lnTo>
                      <a:pt x="91" y="362"/>
                    </a:lnTo>
                    <a:lnTo>
                      <a:pt x="91" y="284"/>
                    </a:lnTo>
                    <a:lnTo>
                      <a:pt x="74" y="183"/>
                    </a:lnTo>
                    <a:lnTo>
                      <a:pt x="61" y="116"/>
                    </a:lnTo>
                    <a:lnTo>
                      <a:pt x="59" y="61"/>
                    </a:lnTo>
                    <a:lnTo>
                      <a:pt x="74" y="37"/>
                    </a:lnTo>
                    <a:lnTo>
                      <a:pt x="98" y="5"/>
                    </a:lnTo>
                    <a:lnTo>
                      <a:pt x="138" y="0"/>
                    </a:lnTo>
                    <a:lnTo>
                      <a:pt x="168" y="18"/>
                    </a:lnTo>
                    <a:lnTo>
                      <a:pt x="213" y="55"/>
                    </a:lnTo>
                    <a:lnTo>
                      <a:pt x="274" y="95"/>
                    </a:lnTo>
                    <a:lnTo>
                      <a:pt x="333" y="116"/>
                    </a:lnTo>
                    <a:lnTo>
                      <a:pt x="394" y="12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017600" y="5682960"/>
                <a:ext cx="309960" cy="412920"/>
              </a:xfrm>
              <a:custGeom>
                <a:avLst/>
                <a:gdLst/>
                <a:ahLst/>
                <a:rect l="l" t="t" r="r" b="b"/>
                <a:pathLst>
                  <a:path w="485" h="520">
                    <a:moveTo>
                      <a:pt x="135" y="30"/>
                    </a:moveTo>
                    <a:lnTo>
                      <a:pt x="189" y="0"/>
                    </a:lnTo>
                    <a:lnTo>
                      <a:pt x="229" y="21"/>
                    </a:lnTo>
                    <a:lnTo>
                      <a:pt x="248" y="54"/>
                    </a:lnTo>
                    <a:lnTo>
                      <a:pt x="226" y="121"/>
                    </a:lnTo>
                    <a:lnTo>
                      <a:pt x="188" y="193"/>
                    </a:lnTo>
                    <a:lnTo>
                      <a:pt x="135" y="254"/>
                    </a:lnTo>
                    <a:lnTo>
                      <a:pt x="96" y="280"/>
                    </a:lnTo>
                    <a:lnTo>
                      <a:pt x="98" y="296"/>
                    </a:lnTo>
                    <a:lnTo>
                      <a:pt x="157" y="304"/>
                    </a:lnTo>
                    <a:lnTo>
                      <a:pt x="213" y="310"/>
                    </a:lnTo>
                    <a:lnTo>
                      <a:pt x="309" y="297"/>
                    </a:lnTo>
                    <a:lnTo>
                      <a:pt x="378" y="272"/>
                    </a:lnTo>
                    <a:lnTo>
                      <a:pt x="402" y="254"/>
                    </a:lnTo>
                    <a:lnTo>
                      <a:pt x="432" y="241"/>
                    </a:lnTo>
                    <a:lnTo>
                      <a:pt x="448" y="243"/>
                    </a:lnTo>
                    <a:lnTo>
                      <a:pt x="463" y="262"/>
                    </a:lnTo>
                    <a:lnTo>
                      <a:pt x="463" y="296"/>
                    </a:lnTo>
                    <a:lnTo>
                      <a:pt x="431" y="341"/>
                    </a:lnTo>
                    <a:lnTo>
                      <a:pt x="420" y="393"/>
                    </a:lnTo>
                    <a:lnTo>
                      <a:pt x="437" y="424"/>
                    </a:lnTo>
                    <a:lnTo>
                      <a:pt x="479" y="453"/>
                    </a:lnTo>
                    <a:lnTo>
                      <a:pt x="485" y="473"/>
                    </a:lnTo>
                    <a:lnTo>
                      <a:pt x="468" y="497"/>
                    </a:lnTo>
                    <a:lnTo>
                      <a:pt x="415" y="520"/>
                    </a:lnTo>
                    <a:lnTo>
                      <a:pt x="389" y="510"/>
                    </a:lnTo>
                    <a:lnTo>
                      <a:pt x="376" y="461"/>
                    </a:lnTo>
                    <a:lnTo>
                      <a:pt x="364" y="395"/>
                    </a:lnTo>
                    <a:lnTo>
                      <a:pt x="370" y="333"/>
                    </a:lnTo>
                    <a:lnTo>
                      <a:pt x="348" y="328"/>
                    </a:lnTo>
                    <a:lnTo>
                      <a:pt x="293" y="347"/>
                    </a:lnTo>
                    <a:lnTo>
                      <a:pt x="207" y="363"/>
                    </a:lnTo>
                    <a:lnTo>
                      <a:pt x="146" y="371"/>
                    </a:lnTo>
                    <a:lnTo>
                      <a:pt x="66" y="357"/>
                    </a:lnTo>
                    <a:lnTo>
                      <a:pt x="10" y="344"/>
                    </a:lnTo>
                    <a:lnTo>
                      <a:pt x="0" y="289"/>
                    </a:lnTo>
                    <a:lnTo>
                      <a:pt x="16" y="238"/>
                    </a:lnTo>
                    <a:lnTo>
                      <a:pt x="61" y="145"/>
                    </a:lnTo>
                    <a:lnTo>
                      <a:pt x="85" y="99"/>
                    </a:lnTo>
                    <a:lnTo>
                      <a:pt x="109" y="61"/>
                    </a:lnTo>
                    <a:lnTo>
                      <a:pt x="135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 txBox="1"/>
            <p:nvPr/>
          </p:nvSpPr>
          <p:spPr>
            <a:xfrm>
              <a:off x="3200400" y="2362320"/>
              <a:ext cx="2505240" cy="65700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66ccff"/>
                    </a:solidFill>
                    <a:miter/>
                  </a:ln>
                  <a:solidFill>
                    <a:srgbClr val="0000cc"/>
                  </a:solidFill>
                  <a:effectLst>
                    <a:outerShdw dist="40186" dir="20503642" blurRad="0" rotWithShape="0">
                      <a:srgbClr val="66ccff"/>
                    </a:outerShdw>
                  </a:effectLst>
                  <a:latin typeface="Impact"/>
                </a:rPr>
                <a:t>Informatycy</a:t>
              </a:r>
              <a:endParaRPr b="0" lang="en-US" sz="2400" spc="1" strike="noStrike">
                <a:ln w="12600">
                  <a:solidFill>
                    <a:srgbClr val="66ccff"/>
                  </a:solidFill>
                  <a:miter/>
                </a:ln>
                <a:solidFill>
                  <a:srgbClr val="0000cc"/>
                </a:solidFill>
                <a:effectLst>
                  <a:outerShdw dist="40186" dir="20503642" blurRad="0" rotWithShape="0">
                    <a:srgbClr val="66cc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71800" y="2286000"/>
              <a:ext cx="0" cy="43434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014280" y="3505320"/>
              <a:ext cx="1974240" cy="1703160"/>
              <a:chOff x="3014280" y="3505320"/>
              <a:chExt cx="1974240" cy="1703160"/>
            </a:xfrm>
          </p:grpSpPr>
          <p:sp>
            <p:nvSpPr>
              <p:cNvPr id="1222" name=""/>
              <p:cNvSpPr/>
              <p:nvPr/>
            </p:nvSpPr>
            <p:spPr>
              <a:xfrm>
                <a:off x="3195720" y="3838680"/>
                <a:ext cx="468000" cy="1369800"/>
              </a:xfrm>
              <a:custGeom>
                <a:avLst/>
                <a:gdLst/>
                <a:ahLst/>
                <a:rect l="l" t="t" r="r" b="b"/>
                <a:pathLst>
                  <a:path w="591" h="1726">
                    <a:moveTo>
                      <a:pt x="0" y="41"/>
                    </a:moveTo>
                    <a:lnTo>
                      <a:pt x="4" y="5"/>
                    </a:lnTo>
                    <a:lnTo>
                      <a:pt x="22" y="0"/>
                    </a:lnTo>
                    <a:lnTo>
                      <a:pt x="42" y="9"/>
                    </a:lnTo>
                    <a:lnTo>
                      <a:pt x="64" y="63"/>
                    </a:lnTo>
                    <a:lnTo>
                      <a:pt x="96" y="178"/>
                    </a:lnTo>
                    <a:lnTo>
                      <a:pt x="134" y="322"/>
                    </a:lnTo>
                    <a:lnTo>
                      <a:pt x="166" y="496"/>
                    </a:lnTo>
                    <a:lnTo>
                      <a:pt x="207" y="695"/>
                    </a:lnTo>
                    <a:lnTo>
                      <a:pt x="227" y="828"/>
                    </a:lnTo>
                    <a:lnTo>
                      <a:pt x="249" y="972"/>
                    </a:lnTo>
                    <a:lnTo>
                      <a:pt x="273" y="1085"/>
                    </a:lnTo>
                    <a:lnTo>
                      <a:pt x="309" y="1227"/>
                    </a:lnTo>
                    <a:lnTo>
                      <a:pt x="337" y="1313"/>
                    </a:lnTo>
                    <a:lnTo>
                      <a:pt x="374" y="1427"/>
                    </a:lnTo>
                    <a:lnTo>
                      <a:pt x="402" y="1563"/>
                    </a:lnTo>
                    <a:lnTo>
                      <a:pt x="420" y="1663"/>
                    </a:lnTo>
                    <a:lnTo>
                      <a:pt x="462" y="1676"/>
                    </a:lnTo>
                    <a:lnTo>
                      <a:pt x="591" y="1645"/>
                    </a:lnTo>
                    <a:lnTo>
                      <a:pt x="549" y="1676"/>
                    </a:lnTo>
                    <a:lnTo>
                      <a:pt x="470" y="1700"/>
                    </a:lnTo>
                    <a:lnTo>
                      <a:pt x="388" y="1726"/>
                    </a:lnTo>
                    <a:lnTo>
                      <a:pt x="374" y="1694"/>
                    </a:lnTo>
                    <a:lnTo>
                      <a:pt x="355" y="1609"/>
                    </a:lnTo>
                    <a:lnTo>
                      <a:pt x="341" y="1490"/>
                    </a:lnTo>
                    <a:lnTo>
                      <a:pt x="318" y="1376"/>
                    </a:lnTo>
                    <a:lnTo>
                      <a:pt x="285" y="1263"/>
                    </a:lnTo>
                    <a:lnTo>
                      <a:pt x="253" y="1150"/>
                    </a:lnTo>
                    <a:lnTo>
                      <a:pt x="227" y="1041"/>
                    </a:lnTo>
                    <a:lnTo>
                      <a:pt x="199" y="909"/>
                    </a:lnTo>
                    <a:lnTo>
                      <a:pt x="189" y="832"/>
                    </a:lnTo>
                    <a:lnTo>
                      <a:pt x="175" y="713"/>
                    </a:lnTo>
                    <a:lnTo>
                      <a:pt x="148" y="587"/>
                    </a:lnTo>
                    <a:lnTo>
                      <a:pt x="124" y="472"/>
                    </a:lnTo>
                    <a:lnTo>
                      <a:pt x="102" y="336"/>
                    </a:lnTo>
                    <a:lnTo>
                      <a:pt x="64" y="196"/>
                    </a:lnTo>
                    <a:lnTo>
                      <a:pt x="32" y="8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76680" y="3571920"/>
                <a:ext cx="1106280" cy="1557360"/>
              </a:xfrm>
              <a:custGeom>
                <a:avLst/>
                <a:gdLst/>
                <a:ahLst/>
                <a:rect l="l" t="t" r="r" b="b"/>
                <a:pathLst>
                  <a:path w="1394" h="1961">
                    <a:moveTo>
                      <a:pt x="0" y="1961"/>
                    </a:moveTo>
                    <a:lnTo>
                      <a:pt x="168" y="1888"/>
                    </a:lnTo>
                    <a:lnTo>
                      <a:pt x="333" y="1829"/>
                    </a:lnTo>
                    <a:lnTo>
                      <a:pt x="511" y="1771"/>
                    </a:lnTo>
                    <a:lnTo>
                      <a:pt x="657" y="1738"/>
                    </a:lnTo>
                    <a:lnTo>
                      <a:pt x="811" y="1724"/>
                    </a:lnTo>
                    <a:lnTo>
                      <a:pt x="930" y="1698"/>
                    </a:lnTo>
                    <a:lnTo>
                      <a:pt x="1079" y="1666"/>
                    </a:lnTo>
                    <a:lnTo>
                      <a:pt x="1176" y="1635"/>
                    </a:lnTo>
                    <a:lnTo>
                      <a:pt x="1299" y="1603"/>
                    </a:lnTo>
                    <a:lnTo>
                      <a:pt x="1344" y="1580"/>
                    </a:lnTo>
                    <a:lnTo>
                      <a:pt x="1354" y="1562"/>
                    </a:lnTo>
                    <a:lnTo>
                      <a:pt x="1344" y="1526"/>
                    </a:lnTo>
                    <a:lnTo>
                      <a:pt x="1308" y="1449"/>
                    </a:lnTo>
                    <a:lnTo>
                      <a:pt x="1253" y="1307"/>
                    </a:lnTo>
                    <a:lnTo>
                      <a:pt x="1190" y="1125"/>
                    </a:lnTo>
                    <a:lnTo>
                      <a:pt x="1134" y="1004"/>
                    </a:lnTo>
                    <a:lnTo>
                      <a:pt x="1075" y="848"/>
                    </a:lnTo>
                    <a:lnTo>
                      <a:pt x="1016" y="676"/>
                    </a:lnTo>
                    <a:lnTo>
                      <a:pt x="966" y="500"/>
                    </a:lnTo>
                    <a:lnTo>
                      <a:pt x="893" y="344"/>
                    </a:lnTo>
                    <a:lnTo>
                      <a:pt x="839" y="145"/>
                    </a:lnTo>
                    <a:lnTo>
                      <a:pt x="770" y="0"/>
                    </a:lnTo>
                    <a:lnTo>
                      <a:pt x="816" y="32"/>
                    </a:lnTo>
                    <a:lnTo>
                      <a:pt x="865" y="154"/>
                    </a:lnTo>
                    <a:lnTo>
                      <a:pt x="907" y="291"/>
                    </a:lnTo>
                    <a:lnTo>
                      <a:pt x="948" y="386"/>
                    </a:lnTo>
                    <a:lnTo>
                      <a:pt x="980" y="481"/>
                    </a:lnTo>
                    <a:lnTo>
                      <a:pt x="1016" y="558"/>
                    </a:lnTo>
                    <a:lnTo>
                      <a:pt x="1039" y="658"/>
                    </a:lnTo>
                    <a:lnTo>
                      <a:pt x="1089" y="795"/>
                    </a:lnTo>
                    <a:lnTo>
                      <a:pt x="1140" y="917"/>
                    </a:lnTo>
                    <a:lnTo>
                      <a:pt x="1194" y="1058"/>
                    </a:lnTo>
                    <a:lnTo>
                      <a:pt x="1245" y="1190"/>
                    </a:lnTo>
                    <a:lnTo>
                      <a:pt x="1289" y="1303"/>
                    </a:lnTo>
                    <a:lnTo>
                      <a:pt x="1336" y="1417"/>
                    </a:lnTo>
                    <a:lnTo>
                      <a:pt x="1380" y="1512"/>
                    </a:lnTo>
                    <a:lnTo>
                      <a:pt x="1394" y="1570"/>
                    </a:lnTo>
                    <a:lnTo>
                      <a:pt x="1380" y="1607"/>
                    </a:lnTo>
                    <a:lnTo>
                      <a:pt x="1354" y="1621"/>
                    </a:lnTo>
                    <a:lnTo>
                      <a:pt x="1249" y="1647"/>
                    </a:lnTo>
                    <a:lnTo>
                      <a:pt x="1166" y="1680"/>
                    </a:lnTo>
                    <a:lnTo>
                      <a:pt x="1079" y="1698"/>
                    </a:lnTo>
                    <a:lnTo>
                      <a:pt x="984" y="1716"/>
                    </a:lnTo>
                    <a:lnTo>
                      <a:pt x="879" y="1738"/>
                    </a:lnTo>
                    <a:lnTo>
                      <a:pt x="798" y="1757"/>
                    </a:lnTo>
                    <a:lnTo>
                      <a:pt x="661" y="1757"/>
                    </a:lnTo>
                    <a:lnTo>
                      <a:pt x="566" y="1785"/>
                    </a:lnTo>
                    <a:lnTo>
                      <a:pt x="442" y="1825"/>
                    </a:lnTo>
                    <a:lnTo>
                      <a:pt x="333" y="1862"/>
                    </a:lnTo>
                    <a:lnTo>
                      <a:pt x="196" y="1906"/>
                    </a:lnTo>
                    <a:lnTo>
                      <a:pt x="73" y="1953"/>
                    </a:lnTo>
                    <a:lnTo>
                      <a:pt x="0" y="19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206520" y="3505320"/>
                <a:ext cx="1135080" cy="371520"/>
              </a:xfrm>
              <a:custGeom>
                <a:avLst/>
                <a:gdLst/>
                <a:ahLst/>
                <a:rect l="l" t="t" r="r" b="b"/>
                <a:pathLst>
                  <a:path w="1431" h="467">
                    <a:moveTo>
                      <a:pt x="0" y="435"/>
                    </a:moveTo>
                    <a:lnTo>
                      <a:pt x="137" y="403"/>
                    </a:lnTo>
                    <a:lnTo>
                      <a:pt x="260" y="375"/>
                    </a:lnTo>
                    <a:lnTo>
                      <a:pt x="432" y="319"/>
                    </a:lnTo>
                    <a:lnTo>
                      <a:pt x="642" y="254"/>
                    </a:lnTo>
                    <a:lnTo>
                      <a:pt x="816" y="198"/>
                    </a:lnTo>
                    <a:lnTo>
                      <a:pt x="966" y="152"/>
                    </a:lnTo>
                    <a:lnTo>
                      <a:pt x="1089" y="102"/>
                    </a:lnTo>
                    <a:lnTo>
                      <a:pt x="1216" y="46"/>
                    </a:lnTo>
                    <a:lnTo>
                      <a:pt x="1317" y="14"/>
                    </a:lnTo>
                    <a:lnTo>
                      <a:pt x="1372" y="0"/>
                    </a:lnTo>
                    <a:lnTo>
                      <a:pt x="1394" y="28"/>
                    </a:lnTo>
                    <a:lnTo>
                      <a:pt x="1412" y="84"/>
                    </a:lnTo>
                    <a:lnTo>
                      <a:pt x="1431" y="184"/>
                    </a:lnTo>
                    <a:lnTo>
                      <a:pt x="1376" y="106"/>
                    </a:lnTo>
                    <a:lnTo>
                      <a:pt x="1348" y="50"/>
                    </a:lnTo>
                    <a:lnTo>
                      <a:pt x="1317" y="42"/>
                    </a:lnTo>
                    <a:lnTo>
                      <a:pt x="1271" y="64"/>
                    </a:lnTo>
                    <a:lnTo>
                      <a:pt x="1170" y="96"/>
                    </a:lnTo>
                    <a:lnTo>
                      <a:pt x="1089" y="134"/>
                    </a:lnTo>
                    <a:lnTo>
                      <a:pt x="994" y="170"/>
                    </a:lnTo>
                    <a:lnTo>
                      <a:pt x="893" y="208"/>
                    </a:lnTo>
                    <a:lnTo>
                      <a:pt x="780" y="250"/>
                    </a:lnTo>
                    <a:lnTo>
                      <a:pt x="642" y="291"/>
                    </a:lnTo>
                    <a:lnTo>
                      <a:pt x="515" y="323"/>
                    </a:lnTo>
                    <a:lnTo>
                      <a:pt x="388" y="356"/>
                    </a:lnTo>
                    <a:lnTo>
                      <a:pt x="287" y="393"/>
                    </a:lnTo>
                    <a:lnTo>
                      <a:pt x="178" y="425"/>
                    </a:lnTo>
                    <a:lnTo>
                      <a:pt x="77" y="453"/>
                    </a:lnTo>
                    <a:lnTo>
                      <a:pt x="10" y="467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141720" y="4132440"/>
                <a:ext cx="210960" cy="720720"/>
              </a:xfrm>
              <a:custGeom>
                <a:avLst/>
                <a:gdLst/>
                <a:ahLst/>
                <a:rect l="l" t="t" r="r" b="b"/>
                <a:pathLst>
                  <a:path w="264" h="910">
                    <a:moveTo>
                      <a:pt x="184" y="0"/>
                    </a:moveTo>
                    <a:lnTo>
                      <a:pt x="141" y="252"/>
                    </a:lnTo>
                    <a:lnTo>
                      <a:pt x="103" y="458"/>
                    </a:lnTo>
                    <a:lnTo>
                      <a:pt x="71" y="603"/>
                    </a:lnTo>
                    <a:lnTo>
                      <a:pt x="33" y="736"/>
                    </a:lnTo>
                    <a:lnTo>
                      <a:pt x="0" y="837"/>
                    </a:lnTo>
                    <a:lnTo>
                      <a:pt x="19" y="882"/>
                    </a:lnTo>
                    <a:lnTo>
                      <a:pt x="47" y="906"/>
                    </a:lnTo>
                    <a:lnTo>
                      <a:pt x="79" y="910"/>
                    </a:lnTo>
                    <a:lnTo>
                      <a:pt x="113" y="900"/>
                    </a:lnTo>
                    <a:lnTo>
                      <a:pt x="137" y="754"/>
                    </a:lnTo>
                    <a:lnTo>
                      <a:pt x="179" y="589"/>
                    </a:lnTo>
                    <a:lnTo>
                      <a:pt x="222" y="440"/>
                    </a:lnTo>
                    <a:lnTo>
                      <a:pt x="264" y="339"/>
                    </a:lnTo>
                    <a:lnTo>
                      <a:pt x="246" y="270"/>
                    </a:lnTo>
                    <a:lnTo>
                      <a:pt x="203" y="407"/>
                    </a:lnTo>
                    <a:lnTo>
                      <a:pt x="155" y="571"/>
                    </a:lnTo>
                    <a:lnTo>
                      <a:pt x="123" y="704"/>
                    </a:lnTo>
                    <a:lnTo>
                      <a:pt x="95" y="819"/>
                    </a:lnTo>
                    <a:lnTo>
                      <a:pt x="75" y="859"/>
                    </a:lnTo>
                    <a:lnTo>
                      <a:pt x="47" y="864"/>
                    </a:lnTo>
                    <a:lnTo>
                      <a:pt x="28" y="837"/>
                    </a:lnTo>
                    <a:lnTo>
                      <a:pt x="51" y="750"/>
                    </a:lnTo>
                    <a:lnTo>
                      <a:pt x="89" y="636"/>
                    </a:lnTo>
                    <a:lnTo>
                      <a:pt x="127" y="494"/>
                    </a:lnTo>
                    <a:lnTo>
                      <a:pt x="155" y="343"/>
                    </a:lnTo>
                    <a:lnTo>
                      <a:pt x="189" y="192"/>
                    </a:lnTo>
                    <a:lnTo>
                      <a:pt x="212" y="7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0619000">
                <a:off x="3125160" y="3758760"/>
                <a:ext cx="1752480" cy="10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Arial"/>
                  </a:rPr>
                  <a:t>It w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Arial"/>
                  </a:rPr>
                  <a:t>not OK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4572000" y="4114800"/>
              <a:ext cx="1447920" cy="762120"/>
            </a:xfrm>
            <a:prstGeom prst="cloudCallout">
              <a:avLst>
                <a:gd name="adj1" fmla="val -70722"/>
                <a:gd name="adj2" fmla="val 73333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l-PL" sz="2400" spc="-1" strike="noStrike">
                  <a:solidFill>
                    <a:srgbClr val="0000cc"/>
                  </a:solidFill>
                  <a:latin typeface="Arial"/>
                </a:rPr>
                <a:t>Za duża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lacje z kliente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971800" y="5657760"/>
            <a:ext cx="31622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Pracochł., ryzyko prędk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505320" y="4648320"/>
            <a:ext cx="1295280" cy="1039680"/>
            <a:chOff x="3505320" y="4648320"/>
            <a:chExt cx="1295280" cy="1039680"/>
          </a:xfrm>
        </p:grpSpPr>
        <p:sp>
          <p:nvSpPr>
            <p:cNvPr id="1231" name=""/>
            <p:cNvSpPr/>
            <p:nvPr/>
          </p:nvSpPr>
          <p:spPr>
            <a:xfrm>
              <a:off x="3521160" y="4784760"/>
              <a:ext cx="1274760" cy="627120"/>
            </a:xfrm>
            <a:custGeom>
              <a:avLst/>
              <a:gdLst/>
              <a:ahLst/>
              <a:rect l="l" t="t" r="r" b="b"/>
              <a:pathLst>
                <a:path w="1990" h="791">
                  <a:moveTo>
                    <a:pt x="11" y="144"/>
                  </a:moveTo>
                  <a:lnTo>
                    <a:pt x="0" y="16"/>
                  </a:lnTo>
                  <a:lnTo>
                    <a:pt x="251" y="18"/>
                  </a:lnTo>
                  <a:lnTo>
                    <a:pt x="582" y="13"/>
                  </a:lnTo>
                  <a:lnTo>
                    <a:pt x="870" y="5"/>
                  </a:lnTo>
                  <a:lnTo>
                    <a:pt x="1227" y="0"/>
                  </a:lnTo>
                  <a:lnTo>
                    <a:pt x="1513" y="5"/>
                  </a:lnTo>
                  <a:lnTo>
                    <a:pt x="1767" y="5"/>
                  </a:lnTo>
                  <a:lnTo>
                    <a:pt x="1815" y="24"/>
                  </a:lnTo>
                  <a:lnTo>
                    <a:pt x="1844" y="88"/>
                  </a:lnTo>
                  <a:lnTo>
                    <a:pt x="1865" y="136"/>
                  </a:lnTo>
                  <a:lnTo>
                    <a:pt x="1923" y="162"/>
                  </a:lnTo>
                  <a:lnTo>
                    <a:pt x="1918" y="229"/>
                  </a:lnTo>
                  <a:lnTo>
                    <a:pt x="1905" y="287"/>
                  </a:lnTo>
                  <a:lnTo>
                    <a:pt x="1900" y="383"/>
                  </a:lnTo>
                  <a:lnTo>
                    <a:pt x="1899" y="431"/>
                  </a:lnTo>
                  <a:lnTo>
                    <a:pt x="1889" y="481"/>
                  </a:lnTo>
                  <a:lnTo>
                    <a:pt x="1905" y="541"/>
                  </a:lnTo>
                  <a:lnTo>
                    <a:pt x="1959" y="613"/>
                  </a:lnTo>
                  <a:lnTo>
                    <a:pt x="1990" y="673"/>
                  </a:lnTo>
                  <a:lnTo>
                    <a:pt x="1982" y="791"/>
                  </a:lnTo>
                  <a:lnTo>
                    <a:pt x="1857" y="745"/>
                  </a:lnTo>
                  <a:lnTo>
                    <a:pt x="1839" y="725"/>
                  </a:lnTo>
                  <a:lnTo>
                    <a:pt x="1827" y="695"/>
                  </a:lnTo>
                  <a:lnTo>
                    <a:pt x="1835" y="607"/>
                  </a:lnTo>
                  <a:lnTo>
                    <a:pt x="1823" y="562"/>
                  </a:lnTo>
                  <a:lnTo>
                    <a:pt x="1782" y="485"/>
                  </a:lnTo>
                  <a:lnTo>
                    <a:pt x="1763" y="415"/>
                  </a:lnTo>
                  <a:lnTo>
                    <a:pt x="1761" y="367"/>
                  </a:lnTo>
                  <a:lnTo>
                    <a:pt x="1767" y="335"/>
                  </a:lnTo>
                  <a:lnTo>
                    <a:pt x="1787" y="264"/>
                  </a:lnTo>
                  <a:lnTo>
                    <a:pt x="1796" y="205"/>
                  </a:lnTo>
                  <a:lnTo>
                    <a:pt x="1782" y="162"/>
                  </a:lnTo>
                  <a:lnTo>
                    <a:pt x="1755" y="125"/>
                  </a:lnTo>
                  <a:lnTo>
                    <a:pt x="1516" y="133"/>
                  </a:lnTo>
                  <a:lnTo>
                    <a:pt x="1305" y="138"/>
                  </a:lnTo>
                  <a:lnTo>
                    <a:pt x="1054" y="136"/>
                  </a:lnTo>
                  <a:lnTo>
                    <a:pt x="851" y="127"/>
                  </a:lnTo>
                  <a:lnTo>
                    <a:pt x="731" y="133"/>
                  </a:lnTo>
                  <a:lnTo>
                    <a:pt x="575" y="151"/>
                  </a:lnTo>
                  <a:lnTo>
                    <a:pt x="238" y="144"/>
                  </a:lnTo>
                  <a:lnTo>
                    <a:pt x="30" y="143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fde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22680" y="4795920"/>
              <a:ext cx="23760" cy="74520"/>
            </a:xfrm>
            <a:custGeom>
              <a:avLst/>
              <a:gdLst/>
              <a:ahLst/>
              <a:rect l="l" t="t" r="r" b="b"/>
              <a:pathLst>
                <a:path w="36" h="94">
                  <a:moveTo>
                    <a:pt x="0" y="6"/>
                  </a:moveTo>
                  <a:lnTo>
                    <a:pt x="6" y="94"/>
                  </a:lnTo>
                  <a:lnTo>
                    <a:pt x="36" y="94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06920" y="4799160"/>
              <a:ext cx="25200" cy="75960"/>
            </a:xfrm>
            <a:custGeom>
              <a:avLst/>
              <a:gdLst/>
              <a:ahLst/>
              <a:rect l="l" t="t" r="r" b="b"/>
              <a:pathLst>
                <a:path w="38" h="96">
                  <a:moveTo>
                    <a:pt x="0" y="6"/>
                  </a:moveTo>
                  <a:lnTo>
                    <a:pt x="6" y="96"/>
                  </a:lnTo>
                  <a:lnTo>
                    <a:pt x="38" y="96"/>
                  </a:lnTo>
                  <a:lnTo>
                    <a:pt x="3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87920" y="4799160"/>
              <a:ext cx="23760" cy="75960"/>
            </a:xfrm>
            <a:custGeom>
              <a:avLst/>
              <a:gdLst/>
              <a:ahLst/>
              <a:rect l="l" t="t" r="r" b="b"/>
              <a:pathLst>
                <a:path w="35" h="96">
                  <a:moveTo>
                    <a:pt x="0" y="6"/>
                  </a:moveTo>
                  <a:lnTo>
                    <a:pt x="6" y="96"/>
                  </a:lnTo>
                  <a:lnTo>
                    <a:pt x="35" y="96"/>
                  </a:lnTo>
                  <a:lnTo>
                    <a:pt x="3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68560" y="4792680"/>
              <a:ext cx="2556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6"/>
                  </a:moveTo>
                  <a:lnTo>
                    <a:pt x="7" y="96"/>
                  </a:lnTo>
                  <a:lnTo>
                    <a:pt x="39" y="96"/>
                  </a:lnTo>
                  <a:lnTo>
                    <a:pt x="3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951360" y="4792680"/>
              <a:ext cx="22320" cy="763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0" y="6"/>
                  </a:moveTo>
                  <a:lnTo>
                    <a:pt x="7" y="96"/>
                  </a:lnTo>
                  <a:lnTo>
                    <a:pt x="36" y="96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30560" y="4792680"/>
              <a:ext cx="2376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6"/>
                  </a:moveTo>
                  <a:lnTo>
                    <a:pt x="7" y="96"/>
                  </a:lnTo>
                  <a:lnTo>
                    <a:pt x="39" y="96"/>
                  </a:lnTo>
                  <a:lnTo>
                    <a:pt x="3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113360" y="4792680"/>
              <a:ext cx="21960" cy="76320"/>
            </a:xfrm>
            <a:custGeom>
              <a:avLst/>
              <a:gdLst/>
              <a:ahLst/>
              <a:rect l="l" t="t" r="r" b="b"/>
              <a:pathLst>
                <a:path w="35" h="96">
                  <a:moveTo>
                    <a:pt x="0" y="6"/>
                  </a:moveTo>
                  <a:lnTo>
                    <a:pt x="7" y="96"/>
                  </a:lnTo>
                  <a:lnTo>
                    <a:pt x="35" y="96"/>
                  </a:lnTo>
                  <a:lnTo>
                    <a:pt x="3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52960" y="4792680"/>
              <a:ext cx="23760" cy="763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0" y="6"/>
                  </a:moveTo>
                  <a:lnTo>
                    <a:pt x="6" y="96"/>
                  </a:lnTo>
                  <a:lnTo>
                    <a:pt x="36" y="96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92560" y="4789440"/>
              <a:ext cx="25560" cy="74880"/>
            </a:xfrm>
            <a:custGeom>
              <a:avLst/>
              <a:gdLst/>
              <a:ahLst/>
              <a:rect l="l" t="t" r="r" b="b"/>
              <a:pathLst>
                <a:path w="38" h="94">
                  <a:moveTo>
                    <a:pt x="0" y="6"/>
                  </a:moveTo>
                  <a:lnTo>
                    <a:pt x="6" y="94"/>
                  </a:lnTo>
                  <a:lnTo>
                    <a:pt x="38" y="94"/>
                  </a:lnTo>
                  <a:lnTo>
                    <a:pt x="3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275000" y="4789440"/>
              <a:ext cx="22320" cy="7488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0" y="6"/>
                  </a:moveTo>
                  <a:lnTo>
                    <a:pt x="6" y="94"/>
                  </a:lnTo>
                  <a:lnTo>
                    <a:pt x="35" y="94"/>
                  </a:lnTo>
                  <a:lnTo>
                    <a:pt x="3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4786200"/>
              <a:ext cx="23760" cy="74880"/>
            </a:xfrm>
            <a:custGeom>
              <a:avLst/>
              <a:gdLst/>
              <a:ahLst/>
              <a:rect l="l" t="t" r="r" b="b"/>
              <a:pathLst>
                <a:path w="38" h="94">
                  <a:moveTo>
                    <a:pt x="0" y="6"/>
                  </a:moveTo>
                  <a:lnTo>
                    <a:pt x="6" y="94"/>
                  </a:lnTo>
                  <a:lnTo>
                    <a:pt x="38" y="94"/>
                  </a:lnTo>
                  <a:lnTo>
                    <a:pt x="3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37000" y="4786200"/>
              <a:ext cx="20880" cy="7488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0" y="6"/>
                  </a:moveTo>
                  <a:lnTo>
                    <a:pt x="6" y="94"/>
                  </a:lnTo>
                  <a:lnTo>
                    <a:pt x="35" y="94"/>
                  </a:lnTo>
                  <a:lnTo>
                    <a:pt x="3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16560" y="4786200"/>
              <a:ext cx="23760" cy="74880"/>
            </a:xfrm>
            <a:custGeom>
              <a:avLst/>
              <a:gdLst/>
              <a:ahLst/>
              <a:rect l="l" t="t" r="r" b="b"/>
              <a:pathLst>
                <a:path w="38" h="94">
                  <a:moveTo>
                    <a:pt x="0" y="6"/>
                  </a:moveTo>
                  <a:lnTo>
                    <a:pt x="6" y="94"/>
                  </a:lnTo>
                  <a:lnTo>
                    <a:pt x="38" y="94"/>
                  </a:lnTo>
                  <a:lnTo>
                    <a:pt x="3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97560" y="4786200"/>
              <a:ext cx="23760" cy="7488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0" y="6"/>
                  </a:moveTo>
                  <a:lnTo>
                    <a:pt x="6" y="94"/>
                  </a:lnTo>
                  <a:lnTo>
                    <a:pt x="35" y="94"/>
                  </a:lnTo>
                  <a:lnTo>
                    <a:pt x="3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05320" y="4773600"/>
              <a:ext cx="1295280" cy="647640"/>
            </a:xfrm>
            <a:custGeom>
              <a:avLst/>
              <a:gdLst/>
              <a:ahLst/>
              <a:rect l="l" t="t" r="r" b="b"/>
              <a:pathLst>
                <a:path w="2022" h="816">
                  <a:moveTo>
                    <a:pt x="46" y="93"/>
                  </a:moveTo>
                  <a:lnTo>
                    <a:pt x="46" y="45"/>
                  </a:lnTo>
                  <a:lnTo>
                    <a:pt x="361" y="45"/>
                  </a:lnTo>
                  <a:lnTo>
                    <a:pt x="731" y="37"/>
                  </a:lnTo>
                  <a:lnTo>
                    <a:pt x="963" y="26"/>
                  </a:lnTo>
                  <a:lnTo>
                    <a:pt x="1243" y="24"/>
                  </a:lnTo>
                  <a:lnTo>
                    <a:pt x="1545" y="26"/>
                  </a:lnTo>
                  <a:lnTo>
                    <a:pt x="1790" y="30"/>
                  </a:lnTo>
                  <a:lnTo>
                    <a:pt x="1822" y="45"/>
                  </a:lnTo>
                  <a:lnTo>
                    <a:pt x="1843" y="86"/>
                  </a:lnTo>
                  <a:lnTo>
                    <a:pt x="1860" y="128"/>
                  </a:lnTo>
                  <a:lnTo>
                    <a:pt x="1887" y="165"/>
                  </a:lnTo>
                  <a:lnTo>
                    <a:pt x="1932" y="189"/>
                  </a:lnTo>
                  <a:lnTo>
                    <a:pt x="1929" y="242"/>
                  </a:lnTo>
                  <a:lnTo>
                    <a:pt x="1908" y="312"/>
                  </a:lnTo>
                  <a:lnTo>
                    <a:pt x="1908" y="384"/>
                  </a:lnTo>
                  <a:lnTo>
                    <a:pt x="1908" y="445"/>
                  </a:lnTo>
                  <a:lnTo>
                    <a:pt x="1899" y="512"/>
                  </a:lnTo>
                  <a:lnTo>
                    <a:pt x="1923" y="576"/>
                  </a:lnTo>
                  <a:lnTo>
                    <a:pt x="1956" y="613"/>
                  </a:lnTo>
                  <a:lnTo>
                    <a:pt x="1991" y="661"/>
                  </a:lnTo>
                  <a:lnTo>
                    <a:pt x="1998" y="717"/>
                  </a:lnTo>
                  <a:lnTo>
                    <a:pt x="1991" y="789"/>
                  </a:lnTo>
                  <a:lnTo>
                    <a:pt x="1875" y="744"/>
                  </a:lnTo>
                  <a:lnTo>
                    <a:pt x="1857" y="704"/>
                  </a:lnTo>
                  <a:lnTo>
                    <a:pt x="1863" y="626"/>
                  </a:lnTo>
                  <a:lnTo>
                    <a:pt x="1857" y="576"/>
                  </a:lnTo>
                  <a:lnTo>
                    <a:pt x="1822" y="511"/>
                  </a:lnTo>
                  <a:lnTo>
                    <a:pt x="1798" y="438"/>
                  </a:lnTo>
                  <a:lnTo>
                    <a:pt x="1791" y="384"/>
                  </a:lnTo>
                  <a:lnTo>
                    <a:pt x="1807" y="318"/>
                  </a:lnTo>
                  <a:lnTo>
                    <a:pt x="1827" y="261"/>
                  </a:lnTo>
                  <a:lnTo>
                    <a:pt x="1827" y="206"/>
                  </a:lnTo>
                  <a:lnTo>
                    <a:pt x="1809" y="162"/>
                  </a:lnTo>
                  <a:lnTo>
                    <a:pt x="1783" y="128"/>
                  </a:lnTo>
                  <a:lnTo>
                    <a:pt x="1742" y="128"/>
                  </a:lnTo>
                  <a:lnTo>
                    <a:pt x="1580" y="138"/>
                  </a:lnTo>
                  <a:lnTo>
                    <a:pt x="1399" y="144"/>
                  </a:lnTo>
                  <a:lnTo>
                    <a:pt x="1191" y="144"/>
                  </a:lnTo>
                  <a:lnTo>
                    <a:pt x="987" y="138"/>
                  </a:lnTo>
                  <a:lnTo>
                    <a:pt x="833" y="128"/>
                  </a:lnTo>
                  <a:lnTo>
                    <a:pt x="649" y="146"/>
                  </a:lnTo>
                  <a:lnTo>
                    <a:pt x="356" y="150"/>
                  </a:lnTo>
                  <a:lnTo>
                    <a:pt x="164" y="150"/>
                  </a:lnTo>
                  <a:lnTo>
                    <a:pt x="48" y="138"/>
                  </a:lnTo>
                  <a:lnTo>
                    <a:pt x="27" y="165"/>
                  </a:lnTo>
                  <a:lnTo>
                    <a:pt x="124" y="168"/>
                  </a:lnTo>
                  <a:lnTo>
                    <a:pt x="236" y="174"/>
                  </a:lnTo>
                  <a:lnTo>
                    <a:pt x="400" y="174"/>
                  </a:lnTo>
                  <a:lnTo>
                    <a:pt x="531" y="174"/>
                  </a:lnTo>
                  <a:lnTo>
                    <a:pt x="671" y="168"/>
                  </a:lnTo>
                  <a:lnTo>
                    <a:pt x="815" y="152"/>
                  </a:lnTo>
                  <a:lnTo>
                    <a:pt x="863" y="152"/>
                  </a:lnTo>
                  <a:lnTo>
                    <a:pt x="983" y="152"/>
                  </a:lnTo>
                  <a:lnTo>
                    <a:pt x="1100" y="165"/>
                  </a:lnTo>
                  <a:lnTo>
                    <a:pt x="1263" y="162"/>
                  </a:lnTo>
                  <a:lnTo>
                    <a:pt x="1439" y="168"/>
                  </a:lnTo>
                  <a:lnTo>
                    <a:pt x="1547" y="158"/>
                  </a:lnTo>
                  <a:lnTo>
                    <a:pt x="1660" y="152"/>
                  </a:lnTo>
                  <a:lnTo>
                    <a:pt x="1724" y="152"/>
                  </a:lnTo>
                  <a:lnTo>
                    <a:pt x="1772" y="150"/>
                  </a:lnTo>
                  <a:lnTo>
                    <a:pt x="1798" y="181"/>
                  </a:lnTo>
                  <a:lnTo>
                    <a:pt x="1807" y="224"/>
                  </a:lnTo>
                  <a:lnTo>
                    <a:pt x="1798" y="285"/>
                  </a:lnTo>
                  <a:lnTo>
                    <a:pt x="1774" y="354"/>
                  </a:lnTo>
                  <a:lnTo>
                    <a:pt x="1767" y="421"/>
                  </a:lnTo>
                  <a:lnTo>
                    <a:pt x="1790" y="482"/>
                  </a:lnTo>
                  <a:lnTo>
                    <a:pt x="1825" y="560"/>
                  </a:lnTo>
                  <a:lnTo>
                    <a:pt x="1843" y="624"/>
                  </a:lnTo>
                  <a:lnTo>
                    <a:pt x="1838" y="714"/>
                  </a:lnTo>
                  <a:lnTo>
                    <a:pt x="1851" y="757"/>
                  </a:lnTo>
                  <a:lnTo>
                    <a:pt x="1867" y="765"/>
                  </a:lnTo>
                  <a:lnTo>
                    <a:pt x="2006" y="816"/>
                  </a:lnTo>
                  <a:lnTo>
                    <a:pt x="2012" y="783"/>
                  </a:lnTo>
                  <a:lnTo>
                    <a:pt x="2022" y="696"/>
                  </a:lnTo>
                  <a:lnTo>
                    <a:pt x="2015" y="655"/>
                  </a:lnTo>
                  <a:lnTo>
                    <a:pt x="1988" y="615"/>
                  </a:lnTo>
                  <a:lnTo>
                    <a:pt x="1939" y="549"/>
                  </a:lnTo>
                  <a:lnTo>
                    <a:pt x="1923" y="519"/>
                  </a:lnTo>
                  <a:lnTo>
                    <a:pt x="1916" y="480"/>
                  </a:lnTo>
                  <a:lnTo>
                    <a:pt x="1929" y="410"/>
                  </a:lnTo>
                  <a:lnTo>
                    <a:pt x="1929" y="360"/>
                  </a:lnTo>
                  <a:lnTo>
                    <a:pt x="1932" y="306"/>
                  </a:lnTo>
                  <a:lnTo>
                    <a:pt x="1950" y="242"/>
                  </a:lnTo>
                  <a:lnTo>
                    <a:pt x="1950" y="206"/>
                  </a:lnTo>
                  <a:lnTo>
                    <a:pt x="1950" y="170"/>
                  </a:lnTo>
                  <a:lnTo>
                    <a:pt x="1929" y="152"/>
                  </a:lnTo>
                  <a:lnTo>
                    <a:pt x="1899" y="144"/>
                  </a:lnTo>
                  <a:lnTo>
                    <a:pt x="1881" y="117"/>
                  </a:lnTo>
                  <a:lnTo>
                    <a:pt x="1860" y="61"/>
                  </a:lnTo>
                  <a:lnTo>
                    <a:pt x="1831" y="24"/>
                  </a:lnTo>
                  <a:lnTo>
                    <a:pt x="1791" y="0"/>
                  </a:lnTo>
                  <a:lnTo>
                    <a:pt x="1612" y="2"/>
                  </a:lnTo>
                  <a:lnTo>
                    <a:pt x="1404" y="6"/>
                  </a:lnTo>
                  <a:lnTo>
                    <a:pt x="1222" y="0"/>
                  </a:lnTo>
                  <a:lnTo>
                    <a:pt x="1007" y="6"/>
                  </a:lnTo>
                  <a:lnTo>
                    <a:pt x="804" y="8"/>
                  </a:lnTo>
                  <a:lnTo>
                    <a:pt x="553" y="21"/>
                  </a:lnTo>
                  <a:lnTo>
                    <a:pt x="280" y="21"/>
                  </a:lnTo>
                  <a:lnTo>
                    <a:pt x="105" y="24"/>
                  </a:lnTo>
                  <a:lnTo>
                    <a:pt x="0" y="26"/>
                  </a:lnTo>
                  <a:lnTo>
                    <a:pt x="27" y="128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87920" y="4907160"/>
              <a:ext cx="54000" cy="5076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56" y="0"/>
                  </a:moveTo>
                  <a:lnTo>
                    <a:pt x="0" y="45"/>
                  </a:lnTo>
                  <a:lnTo>
                    <a:pt x="11" y="64"/>
                  </a:lnTo>
                  <a:lnTo>
                    <a:pt x="85" y="1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83240" y="4984920"/>
              <a:ext cx="56880" cy="396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89" y="16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78" y="50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68840" y="5083200"/>
              <a:ext cx="68400" cy="30240"/>
            </a:xfrm>
            <a:custGeom>
              <a:avLst/>
              <a:gdLst/>
              <a:ahLst/>
              <a:rect l="l" t="t" r="r" b="b"/>
              <a:pathLst>
                <a:path w="108" h="39">
                  <a:moveTo>
                    <a:pt x="101" y="4"/>
                  </a:moveTo>
                  <a:lnTo>
                    <a:pt x="0" y="0"/>
                  </a:lnTo>
                  <a:lnTo>
                    <a:pt x="5" y="28"/>
                  </a:lnTo>
                  <a:lnTo>
                    <a:pt x="108" y="39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87920" y="5186520"/>
              <a:ext cx="44280" cy="2988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65" y="0"/>
                  </a:moveTo>
                  <a:lnTo>
                    <a:pt x="0" y="10"/>
                  </a:lnTo>
                  <a:lnTo>
                    <a:pt x="13" y="39"/>
                  </a:lnTo>
                  <a:lnTo>
                    <a:pt x="70" y="2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714920" y="5265720"/>
              <a:ext cx="66600" cy="25560"/>
            </a:xfrm>
            <a:custGeom>
              <a:avLst/>
              <a:gdLst/>
              <a:ahLst/>
              <a:rect l="l" t="t" r="r" b="b"/>
              <a:pathLst>
                <a:path w="106" h="32">
                  <a:moveTo>
                    <a:pt x="93" y="0"/>
                  </a:moveTo>
                  <a:lnTo>
                    <a:pt x="0" y="13"/>
                  </a:lnTo>
                  <a:lnTo>
                    <a:pt x="0" y="32"/>
                  </a:lnTo>
                  <a:lnTo>
                    <a:pt x="106" y="3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734000" y="5330880"/>
              <a:ext cx="57240" cy="3636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88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86" y="46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078440" y="4648320"/>
              <a:ext cx="241200" cy="258840"/>
            </a:xfrm>
            <a:custGeom>
              <a:avLst/>
              <a:gdLst/>
              <a:ahLst/>
              <a:rect l="l" t="t" r="r" b="b"/>
              <a:pathLst>
                <a:path w="377" h="327">
                  <a:moveTo>
                    <a:pt x="232" y="160"/>
                  </a:moveTo>
                  <a:lnTo>
                    <a:pt x="232" y="111"/>
                  </a:lnTo>
                  <a:lnTo>
                    <a:pt x="224" y="74"/>
                  </a:lnTo>
                  <a:lnTo>
                    <a:pt x="201" y="35"/>
                  </a:lnTo>
                  <a:lnTo>
                    <a:pt x="177" y="13"/>
                  </a:lnTo>
                  <a:lnTo>
                    <a:pt x="147" y="5"/>
                  </a:lnTo>
                  <a:lnTo>
                    <a:pt x="97" y="0"/>
                  </a:lnTo>
                  <a:lnTo>
                    <a:pt x="61" y="19"/>
                  </a:lnTo>
                  <a:lnTo>
                    <a:pt x="30" y="56"/>
                  </a:lnTo>
                  <a:lnTo>
                    <a:pt x="13" y="111"/>
                  </a:lnTo>
                  <a:lnTo>
                    <a:pt x="0" y="170"/>
                  </a:lnTo>
                  <a:lnTo>
                    <a:pt x="0" y="227"/>
                  </a:lnTo>
                  <a:lnTo>
                    <a:pt x="16" y="275"/>
                  </a:lnTo>
                  <a:lnTo>
                    <a:pt x="43" y="306"/>
                  </a:lnTo>
                  <a:lnTo>
                    <a:pt x="83" y="325"/>
                  </a:lnTo>
                  <a:lnTo>
                    <a:pt x="123" y="327"/>
                  </a:lnTo>
                  <a:lnTo>
                    <a:pt x="160" y="320"/>
                  </a:lnTo>
                  <a:lnTo>
                    <a:pt x="184" y="306"/>
                  </a:lnTo>
                  <a:lnTo>
                    <a:pt x="201" y="275"/>
                  </a:lnTo>
                  <a:lnTo>
                    <a:pt x="217" y="232"/>
                  </a:lnTo>
                  <a:lnTo>
                    <a:pt x="232" y="223"/>
                  </a:lnTo>
                  <a:lnTo>
                    <a:pt x="280" y="219"/>
                  </a:lnTo>
                  <a:lnTo>
                    <a:pt x="347" y="234"/>
                  </a:lnTo>
                  <a:lnTo>
                    <a:pt x="365" y="239"/>
                  </a:lnTo>
                  <a:lnTo>
                    <a:pt x="377" y="223"/>
                  </a:lnTo>
                  <a:lnTo>
                    <a:pt x="373" y="208"/>
                  </a:lnTo>
                  <a:lnTo>
                    <a:pt x="365" y="191"/>
                  </a:lnTo>
                  <a:lnTo>
                    <a:pt x="323" y="183"/>
                  </a:lnTo>
                  <a:lnTo>
                    <a:pt x="273" y="179"/>
                  </a:lnTo>
                  <a:lnTo>
                    <a:pt x="232" y="16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997440" y="4913280"/>
              <a:ext cx="190440" cy="463680"/>
            </a:xfrm>
            <a:custGeom>
              <a:avLst/>
              <a:gdLst/>
              <a:ahLst/>
              <a:rect l="l" t="t" r="r" b="b"/>
              <a:pathLst>
                <a:path w="298" h="582">
                  <a:moveTo>
                    <a:pt x="21" y="116"/>
                  </a:moveTo>
                  <a:lnTo>
                    <a:pt x="76" y="38"/>
                  </a:lnTo>
                  <a:lnTo>
                    <a:pt x="112" y="8"/>
                  </a:lnTo>
                  <a:lnTo>
                    <a:pt x="157" y="0"/>
                  </a:lnTo>
                  <a:lnTo>
                    <a:pt x="194" y="1"/>
                  </a:lnTo>
                  <a:lnTo>
                    <a:pt x="248" y="12"/>
                  </a:lnTo>
                  <a:lnTo>
                    <a:pt x="279" y="36"/>
                  </a:lnTo>
                  <a:lnTo>
                    <a:pt x="298" y="62"/>
                  </a:lnTo>
                  <a:lnTo>
                    <a:pt x="298" y="102"/>
                  </a:lnTo>
                  <a:lnTo>
                    <a:pt x="282" y="134"/>
                  </a:lnTo>
                  <a:lnTo>
                    <a:pt x="256" y="177"/>
                  </a:lnTo>
                  <a:lnTo>
                    <a:pt x="239" y="217"/>
                  </a:lnTo>
                  <a:lnTo>
                    <a:pt x="232" y="262"/>
                  </a:lnTo>
                  <a:lnTo>
                    <a:pt x="229" y="296"/>
                  </a:lnTo>
                  <a:lnTo>
                    <a:pt x="244" y="341"/>
                  </a:lnTo>
                  <a:lnTo>
                    <a:pt x="268" y="387"/>
                  </a:lnTo>
                  <a:lnTo>
                    <a:pt x="288" y="435"/>
                  </a:lnTo>
                  <a:lnTo>
                    <a:pt x="293" y="472"/>
                  </a:lnTo>
                  <a:lnTo>
                    <a:pt x="292" y="515"/>
                  </a:lnTo>
                  <a:lnTo>
                    <a:pt x="268" y="545"/>
                  </a:lnTo>
                  <a:lnTo>
                    <a:pt x="229" y="568"/>
                  </a:lnTo>
                  <a:lnTo>
                    <a:pt x="199" y="582"/>
                  </a:lnTo>
                  <a:lnTo>
                    <a:pt x="151" y="582"/>
                  </a:lnTo>
                  <a:lnTo>
                    <a:pt x="106" y="568"/>
                  </a:lnTo>
                  <a:lnTo>
                    <a:pt x="45" y="544"/>
                  </a:lnTo>
                  <a:lnTo>
                    <a:pt x="21" y="483"/>
                  </a:lnTo>
                  <a:lnTo>
                    <a:pt x="13" y="441"/>
                  </a:lnTo>
                  <a:lnTo>
                    <a:pt x="13" y="389"/>
                  </a:lnTo>
                  <a:lnTo>
                    <a:pt x="7" y="341"/>
                  </a:lnTo>
                  <a:lnTo>
                    <a:pt x="0" y="262"/>
                  </a:lnTo>
                  <a:lnTo>
                    <a:pt x="2" y="200"/>
                  </a:lnTo>
                  <a:lnTo>
                    <a:pt x="13" y="147"/>
                  </a:lnTo>
                  <a:lnTo>
                    <a:pt x="21" y="11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508200" y="4792680"/>
              <a:ext cx="578160" cy="273240"/>
            </a:xfrm>
            <a:custGeom>
              <a:avLst/>
              <a:gdLst/>
              <a:ahLst/>
              <a:rect l="l" t="t" r="r" b="b"/>
              <a:pathLst>
                <a:path w="901" h="346">
                  <a:moveTo>
                    <a:pt x="787" y="203"/>
                  </a:moveTo>
                  <a:lnTo>
                    <a:pt x="838" y="179"/>
                  </a:lnTo>
                  <a:lnTo>
                    <a:pt x="883" y="168"/>
                  </a:lnTo>
                  <a:lnTo>
                    <a:pt x="901" y="184"/>
                  </a:lnTo>
                  <a:lnTo>
                    <a:pt x="901" y="222"/>
                  </a:lnTo>
                  <a:lnTo>
                    <a:pt x="859" y="270"/>
                  </a:lnTo>
                  <a:lnTo>
                    <a:pt x="814" y="278"/>
                  </a:lnTo>
                  <a:lnTo>
                    <a:pt x="701" y="314"/>
                  </a:lnTo>
                  <a:lnTo>
                    <a:pt x="587" y="333"/>
                  </a:lnTo>
                  <a:lnTo>
                    <a:pt x="486" y="346"/>
                  </a:lnTo>
                  <a:lnTo>
                    <a:pt x="413" y="338"/>
                  </a:lnTo>
                  <a:lnTo>
                    <a:pt x="312" y="314"/>
                  </a:lnTo>
                  <a:lnTo>
                    <a:pt x="198" y="240"/>
                  </a:lnTo>
                  <a:lnTo>
                    <a:pt x="130" y="179"/>
                  </a:lnTo>
                  <a:lnTo>
                    <a:pt x="90" y="155"/>
                  </a:lnTo>
                  <a:lnTo>
                    <a:pt x="54" y="147"/>
                  </a:lnTo>
                  <a:lnTo>
                    <a:pt x="24" y="141"/>
                  </a:lnTo>
                  <a:lnTo>
                    <a:pt x="6" y="110"/>
                  </a:lnTo>
                  <a:lnTo>
                    <a:pt x="0" y="58"/>
                  </a:lnTo>
                  <a:lnTo>
                    <a:pt x="13" y="24"/>
                  </a:lnTo>
                  <a:lnTo>
                    <a:pt x="30" y="0"/>
                  </a:lnTo>
                  <a:lnTo>
                    <a:pt x="58" y="8"/>
                  </a:lnTo>
                  <a:lnTo>
                    <a:pt x="70" y="50"/>
                  </a:lnTo>
                  <a:lnTo>
                    <a:pt x="66" y="94"/>
                  </a:lnTo>
                  <a:lnTo>
                    <a:pt x="102" y="123"/>
                  </a:lnTo>
                  <a:lnTo>
                    <a:pt x="125" y="125"/>
                  </a:lnTo>
                  <a:lnTo>
                    <a:pt x="144" y="106"/>
                  </a:lnTo>
                  <a:lnTo>
                    <a:pt x="150" y="75"/>
                  </a:lnTo>
                  <a:lnTo>
                    <a:pt x="192" y="82"/>
                  </a:lnTo>
                  <a:lnTo>
                    <a:pt x="192" y="130"/>
                  </a:lnTo>
                  <a:lnTo>
                    <a:pt x="168" y="160"/>
                  </a:lnTo>
                  <a:lnTo>
                    <a:pt x="221" y="203"/>
                  </a:lnTo>
                  <a:lnTo>
                    <a:pt x="304" y="240"/>
                  </a:lnTo>
                  <a:lnTo>
                    <a:pt x="378" y="259"/>
                  </a:lnTo>
                  <a:lnTo>
                    <a:pt x="451" y="277"/>
                  </a:lnTo>
                  <a:lnTo>
                    <a:pt x="502" y="277"/>
                  </a:lnTo>
                  <a:lnTo>
                    <a:pt x="568" y="264"/>
                  </a:lnTo>
                  <a:lnTo>
                    <a:pt x="640" y="245"/>
                  </a:lnTo>
                  <a:lnTo>
                    <a:pt x="712" y="222"/>
                  </a:lnTo>
                  <a:lnTo>
                    <a:pt x="787" y="20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116240" y="4799160"/>
              <a:ext cx="578160" cy="274680"/>
            </a:xfrm>
            <a:custGeom>
              <a:avLst/>
              <a:gdLst/>
              <a:ahLst/>
              <a:rect l="l" t="t" r="r" b="b"/>
              <a:pathLst>
                <a:path w="902" h="345">
                  <a:moveTo>
                    <a:pt x="114" y="203"/>
                  </a:moveTo>
                  <a:lnTo>
                    <a:pt x="62" y="179"/>
                  </a:lnTo>
                  <a:lnTo>
                    <a:pt x="18" y="168"/>
                  </a:lnTo>
                  <a:lnTo>
                    <a:pt x="0" y="184"/>
                  </a:lnTo>
                  <a:lnTo>
                    <a:pt x="0" y="222"/>
                  </a:lnTo>
                  <a:lnTo>
                    <a:pt x="42" y="270"/>
                  </a:lnTo>
                  <a:lnTo>
                    <a:pt x="86" y="278"/>
                  </a:lnTo>
                  <a:lnTo>
                    <a:pt x="200" y="313"/>
                  </a:lnTo>
                  <a:lnTo>
                    <a:pt x="315" y="332"/>
                  </a:lnTo>
                  <a:lnTo>
                    <a:pt x="414" y="345"/>
                  </a:lnTo>
                  <a:lnTo>
                    <a:pt x="490" y="337"/>
                  </a:lnTo>
                  <a:lnTo>
                    <a:pt x="589" y="313"/>
                  </a:lnTo>
                  <a:lnTo>
                    <a:pt x="704" y="240"/>
                  </a:lnTo>
                  <a:lnTo>
                    <a:pt x="773" y="179"/>
                  </a:lnTo>
                  <a:lnTo>
                    <a:pt x="813" y="155"/>
                  </a:lnTo>
                  <a:lnTo>
                    <a:pt x="848" y="147"/>
                  </a:lnTo>
                  <a:lnTo>
                    <a:pt x="878" y="140"/>
                  </a:lnTo>
                  <a:lnTo>
                    <a:pt x="896" y="110"/>
                  </a:lnTo>
                  <a:lnTo>
                    <a:pt x="902" y="57"/>
                  </a:lnTo>
                  <a:lnTo>
                    <a:pt x="890" y="24"/>
                  </a:lnTo>
                  <a:lnTo>
                    <a:pt x="872" y="0"/>
                  </a:lnTo>
                  <a:lnTo>
                    <a:pt x="845" y="8"/>
                  </a:lnTo>
                  <a:lnTo>
                    <a:pt x="832" y="49"/>
                  </a:lnTo>
                  <a:lnTo>
                    <a:pt x="837" y="94"/>
                  </a:lnTo>
                  <a:lnTo>
                    <a:pt x="800" y="123"/>
                  </a:lnTo>
                  <a:lnTo>
                    <a:pt x="778" y="124"/>
                  </a:lnTo>
                  <a:lnTo>
                    <a:pt x="758" y="105"/>
                  </a:lnTo>
                  <a:lnTo>
                    <a:pt x="752" y="75"/>
                  </a:lnTo>
                  <a:lnTo>
                    <a:pt x="710" y="81"/>
                  </a:lnTo>
                  <a:lnTo>
                    <a:pt x="710" y="129"/>
                  </a:lnTo>
                  <a:lnTo>
                    <a:pt x="734" y="160"/>
                  </a:lnTo>
                  <a:lnTo>
                    <a:pt x="682" y="203"/>
                  </a:lnTo>
                  <a:lnTo>
                    <a:pt x="597" y="240"/>
                  </a:lnTo>
                  <a:lnTo>
                    <a:pt x="523" y="259"/>
                  </a:lnTo>
                  <a:lnTo>
                    <a:pt x="451" y="276"/>
                  </a:lnTo>
                  <a:lnTo>
                    <a:pt x="398" y="276"/>
                  </a:lnTo>
                  <a:lnTo>
                    <a:pt x="333" y="264"/>
                  </a:lnTo>
                  <a:lnTo>
                    <a:pt x="261" y="244"/>
                  </a:lnTo>
                  <a:lnTo>
                    <a:pt x="189" y="222"/>
                  </a:lnTo>
                  <a:lnTo>
                    <a:pt x="114" y="20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24280" y="5149800"/>
              <a:ext cx="295200" cy="428760"/>
            </a:xfrm>
            <a:custGeom>
              <a:avLst/>
              <a:gdLst/>
              <a:ahLst/>
              <a:rect l="l" t="t" r="r" b="b"/>
              <a:pathLst>
                <a:path w="461" h="540">
                  <a:moveTo>
                    <a:pt x="394" y="122"/>
                  </a:moveTo>
                  <a:lnTo>
                    <a:pt x="430" y="140"/>
                  </a:lnTo>
                  <a:lnTo>
                    <a:pt x="451" y="183"/>
                  </a:lnTo>
                  <a:lnTo>
                    <a:pt x="461" y="224"/>
                  </a:lnTo>
                  <a:lnTo>
                    <a:pt x="443" y="268"/>
                  </a:lnTo>
                  <a:lnTo>
                    <a:pt x="424" y="272"/>
                  </a:lnTo>
                  <a:lnTo>
                    <a:pt x="384" y="284"/>
                  </a:lnTo>
                  <a:lnTo>
                    <a:pt x="334" y="279"/>
                  </a:lnTo>
                  <a:lnTo>
                    <a:pt x="286" y="261"/>
                  </a:lnTo>
                  <a:lnTo>
                    <a:pt x="229" y="223"/>
                  </a:lnTo>
                  <a:lnTo>
                    <a:pt x="189" y="180"/>
                  </a:lnTo>
                  <a:lnTo>
                    <a:pt x="146" y="132"/>
                  </a:lnTo>
                  <a:lnTo>
                    <a:pt x="126" y="108"/>
                  </a:lnTo>
                  <a:lnTo>
                    <a:pt x="144" y="157"/>
                  </a:lnTo>
                  <a:lnTo>
                    <a:pt x="157" y="231"/>
                  </a:lnTo>
                  <a:lnTo>
                    <a:pt x="152" y="322"/>
                  </a:lnTo>
                  <a:lnTo>
                    <a:pt x="141" y="394"/>
                  </a:lnTo>
                  <a:lnTo>
                    <a:pt x="131" y="447"/>
                  </a:lnTo>
                  <a:lnTo>
                    <a:pt x="138" y="488"/>
                  </a:lnTo>
                  <a:lnTo>
                    <a:pt x="146" y="516"/>
                  </a:lnTo>
                  <a:lnTo>
                    <a:pt x="144" y="533"/>
                  </a:lnTo>
                  <a:lnTo>
                    <a:pt x="128" y="540"/>
                  </a:lnTo>
                  <a:lnTo>
                    <a:pt x="98" y="540"/>
                  </a:lnTo>
                  <a:lnTo>
                    <a:pt x="77" y="527"/>
                  </a:lnTo>
                  <a:lnTo>
                    <a:pt x="53" y="495"/>
                  </a:lnTo>
                  <a:lnTo>
                    <a:pt x="37" y="455"/>
                  </a:lnTo>
                  <a:lnTo>
                    <a:pt x="5" y="404"/>
                  </a:lnTo>
                  <a:lnTo>
                    <a:pt x="0" y="388"/>
                  </a:lnTo>
                  <a:lnTo>
                    <a:pt x="13" y="376"/>
                  </a:lnTo>
                  <a:lnTo>
                    <a:pt x="59" y="364"/>
                  </a:lnTo>
                  <a:lnTo>
                    <a:pt x="91" y="370"/>
                  </a:lnTo>
                  <a:lnTo>
                    <a:pt x="91" y="362"/>
                  </a:lnTo>
                  <a:lnTo>
                    <a:pt x="91" y="284"/>
                  </a:lnTo>
                  <a:lnTo>
                    <a:pt x="74" y="183"/>
                  </a:lnTo>
                  <a:lnTo>
                    <a:pt x="61" y="116"/>
                  </a:lnTo>
                  <a:lnTo>
                    <a:pt x="59" y="61"/>
                  </a:lnTo>
                  <a:lnTo>
                    <a:pt x="74" y="37"/>
                  </a:lnTo>
                  <a:lnTo>
                    <a:pt x="98" y="5"/>
                  </a:lnTo>
                  <a:lnTo>
                    <a:pt x="138" y="0"/>
                  </a:lnTo>
                  <a:lnTo>
                    <a:pt x="168" y="18"/>
                  </a:lnTo>
                  <a:lnTo>
                    <a:pt x="213" y="55"/>
                  </a:lnTo>
                  <a:lnTo>
                    <a:pt x="274" y="95"/>
                  </a:lnTo>
                  <a:lnTo>
                    <a:pt x="333" y="116"/>
                  </a:lnTo>
                  <a:lnTo>
                    <a:pt x="394" y="12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17960" y="5275440"/>
              <a:ext cx="309600" cy="412560"/>
            </a:xfrm>
            <a:custGeom>
              <a:avLst/>
              <a:gdLst/>
              <a:ahLst/>
              <a:rect l="l" t="t" r="r" b="b"/>
              <a:pathLst>
                <a:path w="485" h="520">
                  <a:moveTo>
                    <a:pt x="135" y="30"/>
                  </a:moveTo>
                  <a:lnTo>
                    <a:pt x="189" y="0"/>
                  </a:lnTo>
                  <a:lnTo>
                    <a:pt x="229" y="21"/>
                  </a:lnTo>
                  <a:lnTo>
                    <a:pt x="248" y="54"/>
                  </a:lnTo>
                  <a:lnTo>
                    <a:pt x="226" y="121"/>
                  </a:lnTo>
                  <a:lnTo>
                    <a:pt x="188" y="193"/>
                  </a:lnTo>
                  <a:lnTo>
                    <a:pt x="135" y="254"/>
                  </a:lnTo>
                  <a:lnTo>
                    <a:pt x="96" y="280"/>
                  </a:lnTo>
                  <a:lnTo>
                    <a:pt x="98" y="296"/>
                  </a:lnTo>
                  <a:lnTo>
                    <a:pt x="157" y="304"/>
                  </a:lnTo>
                  <a:lnTo>
                    <a:pt x="213" y="310"/>
                  </a:lnTo>
                  <a:lnTo>
                    <a:pt x="309" y="297"/>
                  </a:lnTo>
                  <a:lnTo>
                    <a:pt x="378" y="272"/>
                  </a:lnTo>
                  <a:lnTo>
                    <a:pt x="402" y="254"/>
                  </a:lnTo>
                  <a:lnTo>
                    <a:pt x="432" y="241"/>
                  </a:lnTo>
                  <a:lnTo>
                    <a:pt x="448" y="243"/>
                  </a:lnTo>
                  <a:lnTo>
                    <a:pt x="463" y="262"/>
                  </a:lnTo>
                  <a:lnTo>
                    <a:pt x="463" y="296"/>
                  </a:lnTo>
                  <a:lnTo>
                    <a:pt x="431" y="341"/>
                  </a:lnTo>
                  <a:lnTo>
                    <a:pt x="420" y="393"/>
                  </a:lnTo>
                  <a:lnTo>
                    <a:pt x="437" y="424"/>
                  </a:lnTo>
                  <a:lnTo>
                    <a:pt x="479" y="453"/>
                  </a:lnTo>
                  <a:lnTo>
                    <a:pt x="485" y="473"/>
                  </a:lnTo>
                  <a:lnTo>
                    <a:pt x="468" y="497"/>
                  </a:lnTo>
                  <a:lnTo>
                    <a:pt x="415" y="520"/>
                  </a:lnTo>
                  <a:lnTo>
                    <a:pt x="389" y="510"/>
                  </a:lnTo>
                  <a:lnTo>
                    <a:pt x="376" y="461"/>
                  </a:lnTo>
                  <a:lnTo>
                    <a:pt x="364" y="395"/>
                  </a:lnTo>
                  <a:lnTo>
                    <a:pt x="370" y="333"/>
                  </a:lnTo>
                  <a:lnTo>
                    <a:pt x="348" y="328"/>
                  </a:lnTo>
                  <a:lnTo>
                    <a:pt x="293" y="347"/>
                  </a:lnTo>
                  <a:lnTo>
                    <a:pt x="207" y="363"/>
                  </a:lnTo>
                  <a:lnTo>
                    <a:pt x="146" y="371"/>
                  </a:lnTo>
                  <a:lnTo>
                    <a:pt x="66" y="357"/>
                  </a:lnTo>
                  <a:lnTo>
                    <a:pt x="10" y="344"/>
                  </a:lnTo>
                  <a:lnTo>
                    <a:pt x="0" y="289"/>
                  </a:lnTo>
                  <a:lnTo>
                    <a:pt x="16" y="238"/>
                  </a:lnTo>
                  <a:lnTo>
                    <a:pt x="61" y="145"/>
                  </a:lnTo>
                  <a:lnTo>
                    <a:pt x="85" y="99"/>
                  </a:lnTo>
                  <a:lnTo>
                    <a:pt x="109" y="61"/>
                  </a:lnTo>
                  <a:lnTo>
                    <a:pt x="135" y="3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 txBox="1"/>
          <p:nvPr/>
        </p:nvSpPr>
        <p:spPr>
          <a:xfrm>
            <a:off x="3200400" y="2314440"/>
            <a:ext cx="2505240" cy="6573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6ccff"/>
                  </a:solidFill>
                  <a:miter/>
                </a:ln>
                <a:solidFill>
                  <a:srgbClr val="0000cc"/>
                </a:solidFill>
                <a:effectLst>
                  <a:outerShdw dist="40186" dir="20503642" blurRad="0" rotWithShape="0">
                    <a:srgbClr val="0066ff"/>
                  </a:outerShdw>
                </a:effectLst>
                <a:latin typeface="Impact"/>
              </a:rPr>
              <a:t>Informatycy</a:t>
            </a:r>
            <a:endParaRPr b="0" lang="en-US" sz="2400" spc="1" strike="noStrike">
              <a:ln w="12600">
                <a:solidFill>
                  <a:srgbClr val="66ccff"/>
                </a:solidFill>
                <a:miter/>
              </a:ln>
              <a:solidFill>
                <a:srgbClr val="0000cc"/>
              </a:solidFill>
              <a:effectLst>
                <a:outerShdw dist="40186" dir="20503642" blurRad="0" rotWithShape="0">
                  <a:srgbClr val="0066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0" name=""/>
          <p:cNvSpPr/>
          <p:nvPr/>
        </p:nvSpPr>
        <p:spPr>
          <a:xfrm>
            <a:off x="2971800" y="2133720"/>
            <a:ext cx="0" cy="43434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195720" y="3419640"/>
            <a:ext cx="468360" cy="1369800"/>
          </a:xfrm>
          <a:custGeom>
            <a:avLst/>
            <a:gdLst/>
            <a:ahLst/>
            <a:rect l="l" t="t" r="r" b="b"/>
            <a:pathLst>
              <a:path w="591" h="1726">
                <a:moveTo>
                  <a:pt x="0" y="41"/>
                </a:moveTo>
                <a:lnTo>
                  <a:pt x="4" y="5"/>
                </a:lnTo>
                <a:lnTo>
                  <a:pt x="22" y="0"/>
                </a:lnTo>
                <a:lnTo>
                  <a:pt x="42" y="9"/>
                </a:lnTo>
                <a:lnTo>
                  <a:pt x="64" y="63"/>
                </a:lnTo>
                <a:lnTo>
                  <a:pt x="96" y="178"/>
                </a:lnTo>
                <a:lnTo>
                  <a:pt x="134" y="322"/>
                </a:lnTo>
                <a:lnTo>
                  <a:pt x="166" y="496"/>
                </a:lnTo>
                <a:lnTo>
                  <a:pt x="207" y="695"/>
                </a:lnTo>
                <a:lnTo>
                  <a:pt x="227" y="828"/>
                </a:lnTo>
                <a:lnTo>
                  <a:pt x="249" y="972"/>
                </a:lnTo>
                <a:lnTo>
                  <a:pt x="273" y="1085"/>
                </a:lnTo>
                <a:lnTo>
                  <a:pt x="309" y="1227"/>
                </a:lnTo>
                <a:lnTo>
                  <a:pt x="337" y="1313"/>
                </a:lnTo>
                <a:lnTo>
                  <a:pt x="374" y="1427"/>
                </a:lnTo>
                <a:lnTo>
                  <a:pt x="402" y="1563"/>
                </a:lnTo>
                <a:lnTo>
                  <a:pt x="420" y="1663"/>
                </a:lnTo>
                <a:lnTo>
                  <a:pt x="462" y="1676"/>
                </a:lnTo>
                <a:lnTo>
                  <a:pt x="591" y="1645"/>
                </a:lnTo>
                <a:lnTo>
                  <a:pt x="549" y="1676"/>
                </a:lnTo>
                <a:lnTo>
                  <a:pt x="470" y="1700"/>
                </a:lnTo>
                <a:lnTo>
                  <a:pt x="388" y="1726"/>
                </a:lnTo>
                <a:lnTo>
                  <a:pt x="374" y="1694"/>
                </a:lnTo>
                <a:lnTo>
                  <a:pt x="355" y="1609"/>
                </a:lnTo>
                <a:lnTo>
                  <a:pt x="341" y="1490"/>
                </a:lnTo>
                <a:lnTo>
                  <a:pt x="318" y="1376"/>
                </a:lnTo>
                <a:lnTo>
                  <a:pt x="285" y="1263"/>
                </a:lnTo>
                <a:lnTo>
                  <a:pt x="253" y="1150"/>
                </a:lnTo>
                <a:lnTo>
                  <a:pt x="227" y="1041"/>
                </a:lnTo>
                <a:lnTo>
                  <a:pt x="199" y="909"/>
                </a:lnTo>
                <a:lnTo>
                  <a:pt x="189" y="832"/>
                </a:lnTo>
                <a:lnTo>
                  <a:pt x="175" y="713"/>
                </a:lnTo>
                <a:lnTo>
                  <a:pt x="148" y="587"/>
                </a:lnTo>
                <a:lnTo>
                  <a:pt x="124" y="472"/>
                </a:lnTo>
                <a:lnTo>
                  <a:pt x="102" y="336"/>
                </a:lnTo>
                <a:lnTo>
                  <a:pt x="64" y="196"/>
                </a:lnTo>
                <a:lnTo>
                  <a:pt x="32" y="87"/>
                </a:lnTo>
                <a:lnTo>
                  <a:pt x="0" y="4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76680" y="3152880"/>
            <a:ext cx="1106280" cy="1557360"/>
          </a:xfrm>
          <a:custGeom>
            <a:avLst/>
            <a:gdLst/>
            <a:ahLst/>
            <a:rect l="l" t="t" r="r" b="b"/>
            <a:pathLst>
              <a:path w="1394" h="1961">
                <a:moveTo>
                  <a:pt x="0" y="1961"/>
                </a:moveTo>
                <a:lnTo>
                  <a:pt x="168" y="1888"/>
                </a:lnTo>
                <a:lnTo>
                  <a:pt x="333" y="1829"/>
                </a:lnTo>
                <a:lnTo>
                  <a:pt x="511" y="1771"/>
                </a:lnTo>
                <a:lnTo>
                  <a:pt x="657" y="1738"/>
                </a:lnTo>
                <a:lnTo>
                  <a:pt x="811" y="1724"/>
                </a:lnTo>
                <a:lnTo>
                  <a:pt x="930" y="1698"/>
                </a:lnTo>
                <a:lnTo>
                  <a:pt x="1079" y="1666"/>
                </a:lnTo>
                <a:lnTo>
                  <a:pt x="1176" y="1635"/>
                </a:lnTo>
                <a:lnTo>
                  <a:pt x="1299" y="1603"/>
                </a:lnTo>
                <a:lnTo>
                  <a:pt x="1344" y="1580"/>
                </a:lnTo>
                <a:lnTo>
                  <a:pt x="1354" y="1562"/>
                </a:lnTo>
                <a:lnTo>
                  <a:pt x="1344" y="1526"/>
                </a:lnTo>
                <a:lnTo>
                  <a:pt x="1308" y="1449"/>
                </a:lnTo>
                <a:lnTo>
                  <a:pt x="1253" y="1307"/>
                </a:lnTo>
                <a:lnTo>
                  <a:pt x="1190" y="1125"/>
                </a:lnTo>
                <a:lnTo>
                  <a:pt x="1134" y="1004"/>
                </a:lnTo>
                <a:lnTo>
                  <a:pt x="1075" y="848"/>
                </a:lnTo>
                <a:lnTo>
                  <a:pt x="1016" y="676"/>
                </a:lnTo>
                <a:lnTo>
                  <a:pt x="966" y="500"/>
                </a:lnTo>
                <a:lnTo>
                  <a:pt x="893" y="344"/>
                </a:lnTo>
                <a:lnTo>
                  <a:pt x="839" y="145"/>
                </a:lnTo>
                <a:lnTo>
                  <a:pt x="770" y="0"/>
                </a:lnTo>
                <a:lnTo>
                  <a:pt x="816" y="32"/>
                </a:lnTo>
                <a:lnTo>
                  <a:pt x="865" y="154"/>
                </a:lnTo>
                <a:lnTo>
                  <a:pt x="907" y="291"/>
                </a:lnTo>
                <a:lnTo>
                  <a:pt x="948" y="386"/>
                </a:lnTo>
                <a:lnTo>
                  <a:pt x="980" y="481"/>
                </a:lnTo>
                <a:lnTo>
                  <a:pt x="1016" y="558"/>
                </a:lnTo>
                <a:lnTo>
                  <a:pt x="1039" y="658"/>
                </a:lnTo>
                <a:lnTo>
                  <a:pt x="1089" y="795"/>
                </a:lnTo>
                <a:lnTo>
                  <a:pt x="1140" y="917"/>
                </a:lnTo>
                <a:lnTo>
                  <a:pt x="1194" y="1058"/>
                </a:lnTo>
                <a:lnTo>
                  <a:pt x="1245" y="1190"/>
                </a:lnTo>
                <a:lnTo>
                  <a:pt x="1289" y="1303"/>
                </a:lnTo>
                <a:lnTo>
                  <a:pt x="1336" y="1417"/>
                </a:lnTo>
                <a:lnTo>
                  <a:pt x="1380" y="1512"/>
                </a:lnTo>
                <a:lnTo>
                  <a:pt x="1394" y="1570"/>
                </a:lnTo>
                <a:lnTo>
                  <a:pt x="1380" y="1607"/>
                </a:lnTo>
                <a:lnTo>
                  <a:pt x="1354" y="1621"/>
                </a:lnTo>
                <a:lnTo>
                  <a:pt x="1249" y="1647"/>
                </a:lnTo>
                <a:lnTo>
                  <a:pt x="1166" y="1680"/>
                </a:lnTo>
                <a:lnTo>
                  <a:pt x="1079" y="1698"/>
                </a:lnTo>
                <a:lnTo>
                  <a:pt x="984" y="1716"/>
                </a:lnTo>
                <a:lnTo>
                  <a:pt x="879" y="1738"/>
                </a:lnTo>
                <a:lnTo>
                  <a:pt x="798" y="1757"/>
                </a:lnTo>
                <a:lnTo>
                  <a:pt x="661" y="1757"/>
                </a:lnTo>
                <a:lnTo>
                  <a:pt x="566" y="1785"/>
                </a:lnTo>
                <a:lnTo>
                  <a:pt x="442" y="1825"/>
                </a:lnTo>
                <a:lnTo>
                  <a:pt x="333" y="1862"/>
                </a:lnTo>
                <a:lnTo>
                  <a:pt x="196" y="1906"/>
                </a:lnTo>
                <a:lnTo>
                  <a:pt x="73" y="1953"/>
                </a:lnTo>
                <a:lnTo>
                  <a:pt x="0" y="19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206880" y="3086280"/>
            <a:ext cx="1135080" cy="371160"/>
          </a:xfrm>
          <a:custGeom>
            <a:avLst/>
            <a:gdLst/>
            <a:ahLst/>
            <a:rect l="l" t="t" r="r" b="b"/>
            <a:pathLst>
              <a:path w="1431" h="467">
                <a:moveTo>
                  <a:pt x="0" y="435"/>
                </a:moveTo>
                <a:lnTo>
                  <a:pt x="137" y="403"/>
                </a:lnTo>
                <a:lnTo>
                  <a:pt x="260" y="375"/>
                </a:lnTo>
                <a:lnTo>
                  <a:pt x="432" y="319"/>
                </a:lnTo>
                <a:lnTo>
                  <a:pt x="642" y="254"/>
                </a:lnTo>
                <a:lnTo>
                  <a:pt x="816" y="198"/>
                </a:lnTo>
                <a:lnTo>
                  <a:pt x="966" y="152"/>
                </a:lnTo>
                <a:lnTo>
                  <a:pt x="1089" y="102"/>
                </a:lnTo>
                <a:lnTo>
                  <a:pt x="1216" y="46"/>
                </a:lnTo>
                <a:lnTo>
                  <a:pt x="1317" y="14"/>
                </a:lnTo>
                <a:lnTo>
                  <a:pt x="1372" y="0"/>
                </a:lnTo>
                <a:lnTo>
                  <a:pt x="1394" y="28"/>
                </a:lnTo>
                <a:lnTo>
                  <a:pt x="1412" y="84"/>
                </a:lnTo>
                <a:lnTo>
                  <a:pt x="1431" y="184"/>
                </a:lnTo>
                <a:lnTo>
                  <a:pt x="1376" y="106"/>
                </a:lnTo>
                <a:lnTo>
                  <a:pt x="1348" y="50"/>
                </a:lnTo>
                <a:lnTo>
                  <a:pt x="1317" y="42"/>
                </a:lnTo>
                <a:lnTo>
                  <a:pt x="1271" y="64"/>
                </a:lnTo>
                <a:lnTo>
                  <a:pt x="1170" y="96"/>
                </a:lnTo>
                <a:lnTo>
                  <a:pt x="1089" y="134"/>
                </a:lnTo>
                <a:lnTo>
                  <a:pt x="994" y="170"/>
                </a:lnTo>
                <a:lnTo>
                  <a:pt x="893" y="208"/>
                </a:lnTo>
                <a:lnTo>
                  <a:pt x="780" y="250"/>
                </a:lnTo>
                <a:lnTo>
                  <a:pt x="642" y="291"/>
                </a:lnTo>
                <a:lnTo>
                  <a:pt x="515" y="323"/>
                </a:lnTo>
                <a:lnTo>
                  <a:pt x="388" y="356"/>
                </a:lnTo>
                <a:lnTo>
                  <a:pt x="287" y="393"/>
                </a:lnTo>
                <a:lnTo>
                  <a:pt x="178" y="425"/>
                </a:lnTo>
                <a:lnTo>
                  <a:pt x="77" y="453"/>
                </a:lnTo>
                <a:lnTo>
                  <a:pt x="10" y="467"/>
                </a:lnTo>
                <a:lnTo>
                  <a:pt x="0" y="43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41720" y="3713040"/>
            <a:ext cx="210960" cy="720720"/>
          </a:xfrm>
          <a:custGeom>
            <a:avLst/>
            <a:gdLst/>
            <a:ahLst/>
            <a:rect l="l" t="t" r="r" b="b"/>
            <a:pathLst>
              <a:path w="264" h="910">
                <a:moveTo>
                  <a:pt x="184" y="0"/>
                </a:moveTo>
                <a:lnTo>
                  <a:pt x="141" y="252"/>
                </a:lnTo>
                <a:lnTo>
                  <a:pt x="103" y="458"/>
                </a:lnTo>
                <a:lnTo>
                  <a:pt x="71" y="603"/>
                </a:lnTo>
                <a:lnTo>
                  <a:pt x="33" y="736"/>
                </a:lnTo>
                <a:lnTo>
                  <a:pt x="0" y="837"/>
                </a:lnTo>
                <a:lnTo>
                  <a:pt x="19" y="882"/>
                </a:lnTo>
                <a:lnTo>
                  <a:pt x="47" y="906"/>
                </a:lnTo>
                <a:lnTo>
                  <a:pt x="79" y="910"/>
                </a:lnTo>
                <a:lnTo>
                  <a:pt x="113" y="900"/>
                </a:lnTo>
                <a:lnTo>
                  <a:pt x="137" y="754"/>
                </a:lnTo>
                <a:lnTo>
                  <a:pt x="179" y="589"/>
                </a:lnTo>
                <a:lnTo>
                  <a:pt x="222" y="440"/>
                </a:lnTo>
                <a:lnTo>
                  <a:pt x="264" y="339"/>
                </a:lnTo>
                <a:lnTo>
                  <a:pt x="246" y="270"/>
                </a:lnTo>
                <a:lnTo>
                  <a:pt x="203" y="407"/>
                </a:lnTo>
                <a:lnTo>
                  <a:pt x="155" y="571"/>
                </a:lnTo>
                <a:lnTo>
                  <a:pt x="123" y="704"/>
                </a:lnTo>
                <a:lnTo>
                  <a:pt x="95" y="819"/>
                </a:lnTo>
                <a:lnTo>
                  <a:pt x="75" y="859"/>
                </a:lnTo>
                <a:lnTo>
                  <a:pt x="47" y="864"/>
                </a:lnTo>
                <a:lnTo>
                  <a:pt x="28" y="837"/>
                </a:lnTo>
                <a:lnTo>
                  <a:pt x="51" y="750"/>
                </a:lnTo>
                <a:lnTo>
                  <a:pt x="89" y="636"/>
                </a:lnTo>
                <a:lnTo>
                  <a:pt x="127" y="494"/>
                </a:lnTo>
                <a:lnTo>
                  <a:pt x="155" y="343"/>
                </a:lnTo>
                <a:lnTo>
                  <a:pt x="189" y="192"/>
                </a:lnTo>
                <a:lnTo>
                  <a:pt x="212" y="78"/>
                </a:lnTo>
                <a:lnTo>
                  <a:pt x="18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rot="20619000">
            <a:off x="3125160" y="3339720"/>
            <a:ext cx="17528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Arial"/>
              </a:rPr>
              <a:t>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72000" y="3695760"/>
            <a:ext cx="1447920" cy="762120"/>
          </a:xfrm>
          <a:prstGeom prst="cloudCallout">
            <a:avLst>
              <a:gd name="adj1" fmla="val -70722"/>
              <a:gd name="adj2" fmla="val 73333"/>
            </a:avLst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9 god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320" y="5614920"/>
            <a:ext cx="2666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Pisze opowieści uży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380880" y="2362320"/>
            <a:ext cx="2057400" cy="5331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3366ff"/>
                  </a:outerShdw>
                </a:effectLst>
                <a:latin typeface="Impact"/>
              </a:rPr>
              <a:t>Kli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3366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9" name=""/>
          <p:cNvSpPr/>
          <p:nvPr/>
        </p:nvSpPr>
        <p:spPr>
          <a:xfrm>
            <a:off x="196920" y="3948120"/>
            <a:ext cx="379440" cy="968400"/>
          </a:xfrm>
          <a:custGeom>
            <a:avLst/>
            <a:gdLst/>
            <a:ahLst/>
            <a:rect l="l" t="t" r="r" b="b"/>
            <a:pathLst>
              <a:path w="591" h="1726">
                <a:moveTo>
                  <a:pt x="0" y="41"/>
                </a:moveTo>
                <a:lnTo>
                  <a:pt x="4" y="5"/>
                </a:lnTo>
                <a:lnTo>
                  <a:pt x="22" y="0"/>
                </a:lnTo>
                <a:lnTo>
                  <a:pt x="42" y="9"/>
                </a:lnTo>
                <a:lnTo>
                  <a:pt x="64" y="63"/>
                </a:lnTo>
                <a:lnTo>
                  <a:pt x="96" y="178"/>
                </a:lnTo>
                <a:lnTo>
                  <a:pt x="134" y="322"/>
                </a:lnTo>
                <a:lnTo>
                  <a:pt x="166" y="496"/>
                </a:lnTo>
                <a:lnTo>
                  <a:pt x="207" y="695"/>
                </a:lnTo>
                <a:lnTo>
                  <a:pt x="227" y="828"/>
                </a:lnTo>
                <a:lnTo>
                  <a:pt x="249" y="972"/>
                </a:lnTo>
                <a:lnTo>
                  <a:pt x="273" y="1085"/>
                </a:lnTo>
                <a:lnTo>
                  <a:pt x="309" y="1227"/>
                </a:lnTo>
                <a:lnTo>
                  <a:pt x="337" y="1313"/>
                </a:lnTo>
                <a:lnTo>
                  <a:pt x="374" y="1427"/>
                </a:lnTo>
                <a:lnTo>
                  <a:pt x="402" y="1563"/>
                </a:lnTo>
                <a:lnTo>
                  <a:pt x="420" y="1663"/>
                </a:lnTo>
                <a:lnTo>
                  <a:pt x="462" y="1676"/>
                </a:lnTo>
                <a:lnTo>
                  <a:pt x="591" y="1645"/>
                </a:lnTo>
                <a:lnTo>
                  <a:pt x="549" y="1676"/>
                </a:lnTo>
                <a:lnTo>
                  <a:pt x="470" y="1700"/>
                </a:lnTo>
                <a:lnTo>
                  <a:pt x="388" y="1726"/>
                </a:lnTo>
                <a:lnTo>
                  <a:pt x="374" y="1694"/>
                </a:lnTo>
                <a:lnTo>
                  <a:pt x="355" y="1609"/>
                </a:lnTo>
                <a:lnTo>
                  <a:pt x="341" y="1490"/>
                </a:lnTo>
                <a:lnTo>
                  <a:pt x="318" y="1376"/>
                </a:lnTo>
                <a:lnTo>
                  <a:pt x="285" y="1263"/>
                </a:lnTo>
                <a:lnTo>
                  <a:pt x="253" y="1150"/>
                </a:lnTo>
                <a:lnTo>
                  <a:pt x="227" y="1041"/>
                </a:lnTo>
                <a:lnTo>
                  <a:pt x="199" y="909"/>
                </a:lnTo>
                <a:lnTo>
                  <a:pt x="189" y="832"/>
                </a:lnTo>
                <a:lnTo>
                  <a:pt x="175" y="713"/>
                </a:lnTo>
                <a:lnTo>
                  <a:pt x="148" y="587"/>
                </a:lnTo>
                <a:lnTo>
                  <a:pt x="124" y="472"/>
                </a:lnTo>
                <a:lnTo>
                  <a:pt x="102" y="336"/>
                </a:lnTo>
                <a:lnTo>
                  <a:pt x="64" y="196"/>
                </a:lnTo>
                <a:lnTo>
                  <a:pt x="32" y="87"/>
                </a:lnTo>
                <a:lnTo>
                  <a:pt x="0" y="4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87520" y="3759120"/>
            <a:ext cx="898560" cy="1101960"/>
          </a:xfrm>
          <a:custGeom>
            <a:avLst/>
            <a:gdLst/>
            <a:ahLst/>
            <a:rect l="l" t="t" r="r" b="b"/>
            <a:pathLst>
              <a:path w="1394" h="1961">
                <a:moveTo>
                  <a:pt x="0" y="1961"/>
                </a:moveTo>
                <a:lnTo>
                  <a:pt x="168" y="1888"/>
                </a:lnTo>
                <a:lnTo>
                  <a:pt x="333" y="1829"/>
                </a:lnTo>
                <a:lnTo>
                  <a:pt x="511" y="1771"/>
                </a:lnTo>
                <a:lnTo>
                  <a:pt x="657" y="1738"/>
                </a:lnTo>
                <a:lnTo>
                  <a:pt x="811" y="1724"/>
                </a:lnTo>
                <a:lnTo>
                  <a:pt x="930" y="1698"/>
                </a:lnTo>
                <a:lnTo>
                  <a:pt x="1079" y="1666"/>
                </a:lnTo>
                <a:lnTo>
                  <a:pt x="1176" y="1635"/>
                </a:lnTo>
                <a:lnTo>
                  <a:pt x="1299" y="1603"/>
                </a:lnTo>
                <a:lnTo>
                  <a:pt x="1344" y="1580"/>
                </a:lnTo>
                <a:lnTo>
                  <a:pt x="1354" y="1562"/>
                </a:lnTo>
                <a:lnTo>
                  <a:pt x="1344" y="1526"/>
                </a:lnTo>
                <a:lnTo>
                  <a:pt x="1308" y="1449"/>
                </a:lnTo>
                <a:lnTo>
                  <a:pt x="1253" y="1307"/>
                </a:lnTo>
                <a:lnTo>
                  <a:pt x="1190" y="1125"/>
                </a:lnTo>
                <a:lnTo>
                  <a:pt x="1134" y="1004"/>
                </a:lnTo>
                <a:lnTo>
                  <a:pt x="1075" y="848"/>
                </a:lnTo>
                <a:lnTo>
                  <a:pt x="1016" y="676"/>
                </a:lnTo>
                <a:lnTo>
                  <a:pt x="966" y="500"/>
                </a:lnTo>
                <a:lnTo>
                  <a:pt x="893" y="344"/>
                </a:lnTo>
                <a:lnTo>
                  <a:pt x="839" y="145"/>
                </a:lnTo>
                <a:lnTo>
                  <a:pt x="770" y="0"/>
                </a:lnTo>
                <a:lnTo>
                  <a:pt x="816" y="32"/>
                </a:lnTo>
                <a:lnTo>
                  <a:pt x="865" y="154"/>
                </a:lnTo>
                <a:lnTo>
                  <a:pt x="907" y="291"/>
                </a:lnTo>
                <a:lnTo>
                  <a:pt x="948" y="386"/>
                </a:lnTo>
                <a:lnTo>
                  <a:pt x="980" y="481"/>
                </a:lnTo>
                <a:lnTo>
                  <a:pt x="1016" y="558"/>
                </a:lnTo>
                <a:lnTo>
                  <a:pt x="1039" y="658"/>
                </a:lnTo>
                <a:lnTo>
                  <a:pt x="1089" y="795"/>
                </a:lnTo>
                <a:lnTo>
                  <a:pt x="1140" y="917"/>
                </a:lnTo>
                <a:lnTo>
                  <a:pt x="1194" y="1058"/>
                </a:lnTo>
                <a:lnTo>
                  <a:pt x="1245" y="1190"/>
                </a:lnTo>
                <a:lnTo>
                  <a:pt x="1289" y="1303"/>
                </a:lnTo>
                <a:lnTo>
                  <a:pt x="1336" y="1417"/>
                </a:lnTo>
                <a:lnTo>
                  <a:pt x="1380" y="1512"/>
                </a:lnTo>
                <a:lnTo>
                  <a:pt x="1394" y="1570"/>
                </a:lnTo>
                <a:lnTo>
                  <a:pt x="1380" y="1607"/>
                </a:lnTo>
                <a:lnTo>
                  <a:pt x="1354" y="1621"/>
                </a:lnTo>
                <a:lnTo>
                  <a:pt x="1249" y="1647"/>
                </a:lnTo>
                <a:lnTo>
                  <a:pt x="1166" y="1680"/>
                </a:lnTo>
                <a:lnTo>
                  <a:pt x="1079" y="1698"/>
                </a:lnTo>
                <a:lnTo>
                  <a:pt x="984" y="1716"/>
                </a:lnTo>
                <a:lnTo>
                  <a:pt x="879" y="1738"/>
                </a:lnTo>
                <a:lnTo>
                  <a:pt x="798" y="1757"/>
                </a:lnTo>
                <a:lnTo>
                  <a:pt x="661" y="1757"/>
                </a:lnTo>
                <a:lnTo>
                  <a:pt x="566" y="1785"/>
                </a:lnTo>
                <a:lnTo>
                  <a:pt x="442" y="1825"/>
                </a:lnTo>
                <a:lnTo>
                  <a:pt x="333" y="1862"/>
                </a:lnTo>
                <a:lnTo>
                  <a:pt x="196" y="1906"/>
                </a:lnTo>
                <a:lnTo>
                  <a:pt x="73" y="1953"/>
                </a:lnTo>
                <a:lnTo>
                  <a:pt x="0" y="19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04840" y="3711600"/>
            <a:ext cx="922320" cy="263520"/>
          </a:xfrm>
          <a:custGeom>
            <a:avLst/>
            <a:gdLst/>
            <a:ahLst/>
            <a:rect l="l" t="t" r="r" b="b"/>
            <a:pathLst>
              <a:path w="1431" h="467">
                <a:moveTo>
                  <a:pt x="0" y="435"/>
                </a:moveTo>
                <a:lnTo>
                  <a:pt x="137" y="403"/>
                </a:lnTo>
                <a:lnTo>
                  <a:pt x="260" y="375"/>
                </a:lnTo>
                <a:lnTo>
                  <a:pt x="432" y="319"/>
                </a:lnTo>
                <a:lnTo>
                  <a:pt x="642" y="254"/>
                </a:lnTo>
                <a:lnTo>
                  <a:pt x="816" y="198"/>
                </a:lnTo>
                <a:lnTo>
                  <a:pt x="966" y="152"/>
                </a:lnTo>
                <a:lnTo>
                  <a:pt x="1089" y="102"/>
                </a:lnTo>
                <a:lnTo>
                  <a:pt x="1216" y="46"/>
                </a:lnTo>
                <a:lnTo>
                  <a:pt x="1317" y="14"/>
                </a:lnTo>
                <a:lnTo>
                  <a:pt x="1372" y="0"/>
                </a:lnTo>
                <a:lnTo>
                  <a:pt x="1394" y="28"/>
                </a:lnTo>
                <a:lnTo>
                  <a:pt x="1412" y="84"/>
                </a:lnTo>
                <a:lnTo>
                  <a:pt x="1431" y="184"/>
                </a:lnTo>
                <a:lnTo>
                  <a:pt x="1376" y="106"/>
                </a:lnTo>
                <a:lnTo>
                  <a:pt x="1348" y="50"/>
                </a:lnTo>
                <a:lnTo>
                  <a:pt x="1317" y="42"/>
                </a:lnTo>
                <a:lnTo>
                  <a:pt x="1271" y="64"/>
                </a:lnTo>
                <a:lnTo>
                  <a:pt x="1170" y="96"/>
                </a:lnTo>
                <a:lnTo>
                  <a:pt x="1089" y="134"/>
                </a:lnTo>
                <a:lnTo>
                  <a:pt x="994" y="170"/>
                </a:lnTo>
                <a:lnTo>
                  <a:pt x="893" y="208"/>
                </a:lnTo>
                <a:lnTo>
                  <a:pt x="780" y="250"/>
                </a:lnTo>
                <a:lnTo>
                  <a:pt x="642" y="291"/>
                </a:lnTo>
                <a:lnTo>
                  <a:pt x="515" y="323"/>
                </a:lnTo>
                <a:lnTo>
                  <a:pt x="388" y="356"/>
                </a:lnTo>
                <a:lnTo>
                  <a:pt x="287" y="393"/>
                </a:lnTo>
                <a:lnTo>
                  <a:pt x="178" y="425"/>
                </a:lnTo>
                <a:lnTo>
                  <a:pt x="77" y="453"/>
                </a:lnTo>
                <a:lnTo>
                  <a:pt x="10" y="467"/>
                </a:lnTo>
                <a:lnTo>
                  <a:pt x="0" y="43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2280" y="4154400"/>
            <a:ext cx="171720" cy="511200"/>
          </a:xfrm>
          <a:custGeom>
            <a:avLst/>
            <a:gdLst/>
            <a:ahLst/>
            <a:rect l="l" t="t" r="r" b="b"/>
            <a:pathLst>
              <a:path w="264" h="910">
                <a:moveTo>
                  <a:pt x="184" y="0"/>
                </a:moveTo>
                <a:lnTo>
                  <a:pt x="141" y="252"/>
                </a:lnTo>
                <a:lnTo>
                  <a:pt x="103" y="458"/>
                </a:lnTo>
                <a:lnTo>
                  <a:pt x="71" y="603"/>
                </a:lnTo>
                <a:lnTo>
                  <a:pt x="33" y="736"/>
                </a:lnTo>
                <a:lnTo>
                  <a:pt x="0" y="837"/>
                </a:lnTo>
                <a:lnTo>
                  <a:pt x="19" y="882"/>
                </a:lnTo>
                <a:lnTo>
                  <a:pt x="47" y="906"/>
                </a:lnTo>
                <a:lnTo>
                  <a:pt x="79" y="910"/>
                </a:lnTo>
                <a:lnTo>
                  <a:pt x="113" y="900"/>
                </a:lnTo>
                <a:lnTo>
                  <a:pt x="137" y="754"/>
                </a:lnTo>
                <a:lnTo>
                  <a:pt x="179" y="589"/>
                </a:lnTo>
                <a:lnTo>
                  <a:pt x="222" y="440"/>
                </a:lnTo>
                <a:lnTo>
                  <a:pt x="264" y="339"/>
                </a:lnTo>
                <a:lnTo>
                  <a:pt x="246" y="270"/>
                </a:lnTo>
                <a:lnTo>
                  <a:pt x="203" y="407"/>
                </a:lnTo>
                <a:lnTo>
                  <a:pt x="155" y="571"/>
                </a:lnTo>
                <a:lnTo>
                  <a:pt x="123" y="704"/>
                </a:lnTo>
                <a:lnTo>
                  <a:pt x="95" y="819"/>
                </a:lnTo>
                <a:lnTo>
                  <a:pt x="75" y="859"/>
                </a:lnTo>
                <a:lnTo>
                  <a:pt x="47" y="864"/>
                </a:lnTo>
                <a:lnTo>
                  <a:pt x="28" y="837"/>
                </a:lnTo>
                <a:lnTo>
                  <a:pt x="51" y="750"/>
                </a:lnTo>
                <a:lnTo>
                  <a:pt x="89" y="636"/>
                </a:lnTo>
                <a:lnTo>
                  <a:pt x="127" y="494"/>
                </a:lnTo>
                <a:lnTo>
                  <a:pt x="155" y="343"/>
                </a:lnTo>
                <a:lnTo>
                  <a:pt x="189" y="192"/>
                </a:lnTo>
                <a:lnTo>
                  <a:pt x="212" y="78"/>
                </a:lnTo>
                <a:lnTo>
                  <a:pt x="18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20619000">
            <a:off x="153360" y="3887280"/>
            <a:ext cx="1424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col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33600" y="3352680"/>
            <a:ext cx="231840" cy="274680"/>
          </a:xfrm>
          <a:custGeom>
            <a:avLst/>
            <a:gdLst/>
            <a:ahLst/>
            <a:rect l="l" t="t" r="r" b="b"/>
            <a:pathLst>
              <a:path w="357" h="492">
                <a:moveTo>
                  <a:pt x="112" y="339"/>
                </a:moveTo>
                <a:lnTo>
                  <a:pt x="63" y="285"/>
                </a:lnTo>
                <a:lnTo>
                  <a:pt x="28" y="229"/>
                </a:lnTo>
                <a:lnTo>
                  <a:pt x="7" y="175"/>
                </a:lnTo>
                <a:lnTo>
                  <a:pt x="0" y="100"/>
                </a:lnTo>
                <a:lnTo>
                  <a:pt x="14" y="58"/>
                </a:lnTo>
                <a:lnTo>
                  <a:pt x="37" y="28"/>
                </a:lnTo>
                <a:lnTo>
                  <a:pt x="77" y="10"/>
                </a:lnTo>
                <a:lnTo>
                  <a:pt x="121" y="0"/>
                </a:lnTo>
                <a:lnTo>
                  <a:pt x="184" y="17"/>
                </a:lnTo>
                <a:lnTo>
                  <a:pt x="231" y="42"/>
                </a:lnTo>
                <a:lnTo>
                  <a:pt x="275" y="79"/>
                </a:lnTo>
                <a:lnTo>
                  <a:pt x="310" y="128"/>
                </a:lnTo>
                <a:lnTo>
                  <a:pt x="336" y="168"/>
                </a:lnTo>
                <a:lnTo>
                  <a:pt x="352" y="222"/>
                </a:lnTo>
                <a:lnTo>
                  <a:pt x="357" y="266"/>
                </a:lnTo>
                <a:lnTo>
                  <a:pt x="350" y="321"/>
                </a:lnTo>
                <a:lnTo>
                  <a:pt x="329" y="356"/>
                </a:lnTo>
                <a:lnTo>
                  <a:pt x="303" y="381"/>
                </a:lnTo>
                <a:lnTo>
                  <a:pt x="252" y="388"/>
                </a:lnTo>
                <a:lnTo>
                  <a:pt x="205" y="388"/>
                </a:lnTo>
                <a:lnTo>
                  <a:pt x="156" y="374"/>
                </a:lnTo>
                <a:lnTo>
                  <a:pt x="133" y="418"/>
                </a:lnTo>
                <a:lnTo>
                  <a:pt x="107" y="478"/>
                </a:lnTo>
                <a:lnTo>
                  <a:pt x="86" y="492"/>
                </a:lnTo>
                <a:lnTo>
                  <a:pt x="63" y="492"/>
                </a:lnTo>
                <a:lnTo>
                  <a:pt x="51" y="460"/>
                </a:lnTo>
                <a:lnTo>
                  <a:pt x="63" y="425"/>
                </a:lnTo>
                <a:lnTo>
                  <a:pt x="98" y="384"/>
                </a:lnTo>
                <a:lnTo>
                  <a:pt x="112" y="3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97040" y="3568680"/>
            <a:ext cx="376200" cy="511200"/>
          </a:xfrm>
          <a:custGeom>
            <a:avLst/>
            <a:gdLst/>
            <a:ahLst/>
            <a:rect l="l" t="t" r="r" b="b"/>
            <a:pathLst>
              <a:path w="581" h="911">
                <a:moveTo>
                  <a:pt x="35" y="47"/>
                </a:moveTo>
                <a:lnTo>
                  <a:pt x="83" y="10"/>
                </a:lnTo>
                <a:lnTo>
                  <a:pt x="136" y="0"/>
                </a:lnTo>
                <a:lnTo>
                  <a:pt x="185" y="7"/>
                </a:lnTo>
                <a:lnTo>
                  <a:pt x="239" y="21"/>
                </a:lnTo>
                <a:lnTo>
                  <a:pt x="295" y="57"/>
                </a:lnTo>
                <a:lnTo>
                  <a:pt x="360" y="112"/>
                </a:lnTo>
                <a:lnTo>
                  <a:pt x="413" y="166"/>
                </a:lnTo>
                <a:lnTo>
                  <a:pt x="454" y="227"/>
                </a:lnTo>
                <a:lnTo>
                  <a:pt x="496" y="294"/>
                </a:lnTo>
                <a:lnTo>
                  <a:pt x="532" y="369"/>
                </a:lnTo>
                <a:lnTo>
                  <a:pt x="553" y="441"/>
                </a:lnTo>
                <a:lnTo>
                  <a:pt x="567" y="534"/>
                </a:lnTo>
                <a:lnTo>
                  <a:pt x="581" y="625"/>
                </a:lnTo>
                <a:lnTo>
                  <a:pt x="581" y="719"/>
                </a:lnTo>
                <a:lnTo>
                  <a:pt x="564" y="792"/>
                </a:lnTo>
                <a:lnTo>
                  <a:pt x="538" y="847"/>
                </a:lnTo>
                <a:lnTo>
                  <a:pt x="505" y="877"/>
                </a:lnTo>
                <a:lnTo>
                  <a:pt x="461" y="897"/>
                </a:lnTo>
                <a:lnTo>
                  <a:pt x="406" y="908"/>
                </a:lnTo>
                <a:lnTo>
                  <a:pt x="353" y="911"/>
                </a:lnTo>
                <a:lnTo>
                  <a:pt x="304" y="897"/>
                </a:lnTo>
                <a:lnTo>
                  <a:pt x="270" y="875"/>
                </a:lnTo>
                <a:lnTo>
                  <a:pt x="242" y="840"/>
                </a:lnTo>
                <a:lnTo>
                  <a:pt x="221" y="809"/>
                </a:lnTo>
                <a:lnTo>
                  <a:pt x="213" y="742"/>
                </a:lnTo>
                <a:lnTo>
                  <a:pt x="213" y="691"/>
                </a:lnTo>
                <a:lnTo>
                  <a:pt x="232" y="639"/>
                </a:lnTo>
                <a:lnTo>
                  <a:pt x="253" y="596"/>
                </a:lnTo>
                <a:lnTo>
                  <a:pt x="260" y="554"/>
                </a:lnTo>
                <a:lnTo>
                  <a:pt x="263" y="502"/>
                </a:lnTo>
                <a:lnTo>
                  <a:pt x="249" y="455"/>
                </a:lnTo>
                <a:lnTo>
                  <a:pt x="242" y="418"/>
                </a:lnTo>
                <a:lnTo>
                  <a:pt x="214" y="379"/>
                </a:lnTo>
                <a:lnTo>
                  <a:pt x="174" y="350"/>
                </a:lnTo>
                <a:lnTo>
                  <a:pt x="118" y="310"/>
                </a:lnTo>
                <a:lnTo>
                  <a:pt x="60" y="289"/>
                </a:lnTo>
                <a:lnTo>
                  <a:pt x="28" y="256"/>
                </a:lnTo>
                <a:lnTo>
                  <a:pt x="7" y="214"/>
                </a:lnTo>
                <a:lnTo>
                  <a:pt x="0" y="164"/>
                </a:lnTo>
                <a:lnTo>
                  <a:pt x="4" y="105"/>
                </a:lnTo>
                <a:lnTo>
                  <a:pt x="35" y="4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47720" y="3603600"/>
            <a:ext cx="111240" cy="514440"/>
          </a:xfrm>
          <a:custGeom>
            <a:avLst/>
            <a:gdLst/>
            <a:ahLst/>
            <a:rect l="l" t="t" r="r" b="b"/>
            <a:pathLst>
              <a:path w="174" h="914">
                <a:moveTo>
                  <a:pt x="46" y="158"/>
                </a:moveTo>
                <a:lnTo>
                  <a:pt x="66" y="80"/>
                </a:lnTo>
                <a:lnTo>
                  <a:pt x="90" y="28"/>
                </a:lnTo>
                <a:lnTo>
                  <a:pt x="133" y="0"/>
                </a:lnTo>
                <a:lnTo>
                  <a:pt x="154" y="40"/>
                </a:lnTo>
                <a:lnTo>
                  <a:pt x="174" y="123"/>
                </a:lnTo>
                <a:lnTo>
                  <a:pt x="160" y="178"/>
                </a:lnTo>
                <a:lnTo>
                  <a:pt x="118" y="219"/>
                </a:lnTo>
                <a:lnTo>
                  <a:pt x="90" y="299"/>
                </a:lnTo>
                <a:lnTo>
                  <a:pt x="66" y="404"/>
                </a:lnTo>
                <a:lnTo>
                  <a:pt x="53" y="527"/>
                </a:lnTo>
                <a:lnTo>
                  <a:pt x="57" y="676"/>
                </a:lnTo>
                <a:lnTo>
                  <a:pt x="67" y="779"/>
                </a:lnTo>
                <a:lnTo>
                  <a:pt x="87" y="831"/>
                </a:lnTo>
                <a:lnTo>
                  <a:pt x="118" y="859"/>
                </a:lnTo>
                <a:lnTo>
                  <a:pt x="123" y="886"/>
                </a:lnTo>
                <a:lnTo>
                  <a:pt x="87" y="900"/>
                </a:lnTo>
                <a:lnTo>
                  <a:pt x="57" y="873"/>
                </a:lnTo>
                <a:lnTo>
                  <a:pt x="0" y="914"/>
                </a:lnTo>
                <a:lnTo>
                  <a:pt x="3" y="805"/>
                </a:lnTo>
                <a:lnTo>
                  <a:pt x="7" y="665"/>
                </a:lnTo>
                <a:lnTo>
                  <a:pt x="7" y="506"/>
                </a:lnTo>
                <a:lnTo>
                  <a:pt x="10" y="375"/>
                </a:lnTo>
                <a:lnTo>
                  <a:pt x="22" y="274"/>
                </a:lnTo>
                <a:lnTo>
                  <a:pt x="36" y="205"/>
                </a:lnTo>
                <a:lnTo>
                  <a:pt x="46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1314360" y="3460680"/>
            <a:ext cx="1106280" cy="1001880"/>
            <a:chOff x="1314360" y="3460680"/>
            <a:chExt cx="1106280" cy="1001880"/>
          </a:xfrm>
        </p:grpSpPr>
        <p:sp>
          <p:nvSpPr>
            <p:cNvPr id="1278" name=""/>
            <p:cNvSpPr/>
            <p:nvPr/>
          </p:nvSpPr>
          <p:spPr>
            <a:xfrm>
              <a:off x="2225880" y="3466080"/>
              <a:ext cx="185760" cy="135720"/>
            </a:xfrm>
            <a:custGeom>
              <a:avLst/>
              <a:gdLst/>
              <a:ahLst/>
              <a:rect l="l" t="t" r="r" b="b"/>
              <a:pathLst>
                <a:path w="287" h="243">
                  <a:moveTo>
                    <a:pt x="19" y="105"/>
                  </a:moveTo>
                  <a:lnTo>
                    <a:pt x="156" y="0"/>
                  </a:lnTo>
                  <a:lnTo>
                    <a:pt x="254" y="44"/>
                  </a:lnTo>
                  <a:lnTo>
                    <a:pt x="287" y="100"/>
                  </a:lnTo>
                  <a:lnTo>
                    <a:pt x="236" y="161"/>
                  </a:lnTo>
                  <a:lnTo>
                    <a:pt x="156" y="243"/>
                  </a:lnTo>
                  <a:lnTo>
                    <a:pt x="118" y="161"/>
                  </a:lnTo>
                  <a:lnTo>
                    <a:pt x="52" y="143"/>
                  </a:lnTo>
                  <a:lnTo>
                    <a:pt x="0" y="133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60440" y="4294440"/>
              <a:ext cx="143280" cy="135360"/>
            </a:xfrm>
            <a:custGeom>
              <a:avLst/>
              <a:gdLst/>
              <a:ahLst/>
              <a:rect l="l" t="t" r="r" b="b"/>
              <a:pathLst>
                <a:path w="222" h="242">
                  <a:moveTo>
                    <a:pt x="0" y="242"/>
                  </a:moveTo>
                  <a:lnTo>
                    <a:pt x="38" y="143"/>
                  </a:lnTo>
                  <a:lnTo>
                    <a:pt x="103" y="0"/>
                  </a:lnTo>
                  <a:lnTo>
                    <a:pt x="213" y="47"/>
                  </a:lnTo>
                  <a:lnTo>
                    <a:pt x="222" y="137"/>
                  </a:lnTo>
                  <a:lnTo>
                    <a:pt x="151" y="18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427760" y="3530160"/>
              <a:ext cx="905400" cy="855720"/>
            </a:xfrm>
            <a:custGeom>
              <a:avLst/>
              <a:gdLst/>
              <a:ahLst/>
              <a:rect l="l" t="t" r="r" b="b"/>
              <a:pathLst>
                <a:path w="1405" h="1527">
                  <a:moveTo>
                    <a:pt x="5" y="1367"/>
                  </a:moveTo>
                  <a:lnTo>
                    <a:pt x="132" y="1264"/>
                  </a:lnTo>
                  <a:lnTo>
                    <a:pt x="233" y="1163"/>
                  </a:lnTo>
                  <a:lnTo>
                    <a:pt x="338" y="1050"/>
                  </a:lnTo>
                  <a:lnTo>
                    <a:pt x="479" y="914"/>
                  </a:lnTo>
                  <a:lnTo>
                    <a:pt x="593" y="791"/>
                  </a:lnTo>
                  <a:lnTo>
                    <a:pt x="712" y="645"/>
                  </a:lnTo>
                  <a:lnTo>
                    <a:pt x="784" y="572"/>
                  </a:lnTo>
                  <a:lnTo>
                    <a:pt x="867" y="491"/>
                  </a:lnTo>
                  <a:lnTo>
                    <a:pt x="972" y="350"/>
                  </a:lnTo>
                  <a:lnTo>
                    <a:pt x="1049" y="236"/>
                  </a:lnTo>
                  <a:lnTo>
                    <a:pt x="1126" y="141"/>
                  </a:lnTo>
                  <a:lnTo>
                    <a:pt x="1209" y="50"/>
                  </a:lnTo>
                  <a:lnTo>
                    <a:pt x="1267" y="0"/>
                  </a:lnTo>
                  <a:lnTo>
                    <a:pt x="1340" y="14"/>
                  </a:lnTo>
                  <a:lnTo>
                    <a:pt x="1372" y="40"/>
                  </a:lnTo>
                  <a:lnTo>
                    <a:pt x="1395" y="81"/>
                  </a:lnTo>
                  <a:lnTo>
                    <a:pt x="1405" y="113"/>
                  </a:lnTo>
                  <a:lnTo>
                    <a:pt x="1295" y="232"/>
                  </a:lnTo>
                  <a:lnTo>
                    <a:pt x="1213" y="318"/>
                  </a:lnTo>
                  <a:lnTo>
                    <a:pt x="1144" y="394"/>
                  </a:lnTo>
                  <a:lnTo>
                    <a:pt x="1071" y="473"/>
                  </a:lnTo>
                  <a:lnTo>
                    <a:pt x="1013" y="546"/>
                  </a:lnTo>
                  <a:lnTo>
                    <a:pt x="930" y="649"/>
                  </a:lnTo>
                  <a:lnTo>
                    <a:pt x="821" y="777"/>
                  </a:lnTo>
                  <a:lnTo>
                    <a:pt x="712" y="900"/>
                  </a:lnTo>
                  <a:lnTo>
                    <a:pt x="607" y="1009"/>
                  </a:lnTo>
                  <a:lnTo>
                    <a:pt x="493" y="1118"/>
                  </a:lnTo>
                  <a:lnTo>
                    <a:pt x="397" y="1213"/>
                  </a:lnTo>
                  <a:lnTo>
                    <a:pt x="279" y="1331"/>
                  </a:lnTo>
                  <a:lnTo>
                    <a:pt x="206" y="1404"/>
                  </a:lnTo>
                  <a:lnTo>
                    <a:pt x="114" y="1491"/>
                  </a:lnTo>
                  <a:lnTo>
                    <a:pt x="73" y="1527"/>
                  </a:lnTo>
                  <a:lnTo>
                    <a:pt x="83" y="1464"/>
                  </a:lnTo>
                  <a:lnTo>
                    <a:pt x="33" y="1472"/>
                  </a:lnTo>
                  <a:lnTo>
                    <a:pt x="51" y="1418"/>
                  </a:lnTo>
                  <a:lnTo>
                    <a:pt x="0" y="1432"/>
                  </a:lnTo>
                  <a:lnTo>
                    <a:pt x="5" y="1367"/>
                  </a:lnTo>
                  <a:close/>
                </a:path>
              </a:pathLst>
            </a:custGeom>
            <a:solidFill>
              <a:srgbClr val="f0e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671480" y="3460680"/>
              <a:ext cx="749160" cy="724680"/>
            </a:xfrm>
            <a:custGeom>
              <a:avLst/>
              <a:gdLst/>
              <a:ahLst/>
              <a:rect l="l" t="t" r="r" b="b"/>
              <a:pathLst>
                <a:path w="1164" h="1294">
                  <a:moveTo>
                    <a:pt x="0" y="1112"/>
                  </a:moveTo>
                  <a:lnTo>
                    <a:pt x="178" y="941"/>
                  </a:lnTo>
                  <a:lnTo>
                    <a:pt x="327" y="752"/>
                  </a:lnTo>
                  <a:lnTo>
                    <a:pt x="500" y="571"/>
                  </a:lnTo>
                  <a:lnTo>
                    <a:pt x="628" y="403"/>
                  </a:lnTo>
                  <a:lnTo>
                    <a:pt x="719" y="272"/>
                  </a:lnTo>
                  <a:lnTo>
                    <a:pt x="822" y="164"/>
                  </a:lnTo>
                  <a:lnTo>
                    <a:pt x="936" y="52"/>
                  </a:lnTo>
                  <a:lnTo>
                    <a:pt x="1011" y="0"/>
                  </a:lnTo>
                  <a:lnTo>
                    <a:pt x="1059" y="18"/>
                  </a:lnTo>
                  <a:lnTo>
                    <a:pt x="1136" y="59"/>
                  </a:lnTo>
                  <a:lnTo>
                    <a:pt x="1164" y="94"/>
                  </a:lnTo>
                  <a:lnTo>
                    <a:pt x="1154" y="116"/>
                  </a:lnTo>
                  <a:lnTo>
                    <a:pt x="1069" y="210"/>
                  </a:lnTo>
                  <a:lnTo>
                    <a:pt x="986" y="294"/>
                  </a:lnTo>
                  <a:lnTo>
                    <a:pt x="903" y="382"/>
                  </a:lnTo>
                  <a:lnTo>
                    <a:pt x="786" y="517"/>
                  </a:lnTo>
                  <a:lnTo>
                    <a:pt x="657" y="650"/>
                  </a:lnTo>
                  <a:lnTo>
                    <a:pt x="555" y="785"/>
                  </a:lnTo>
                  <a:lnTo>
                    <a:pt x="471" y="888"/>
                  </a:lnTo>
                  <a:lnTo>
                    <a:pt x="315" y="1057"/>
                  </a:lnTo>
                  <a:lnTo>
                    <a:pt x="185" y="1187"/>
                  </a:lnTo>
                  <a:lnTo>
                    <a:pt x="73" y="1294"/>
                  </a:lnTo>
                  <a:lnTo>
                    <a:pt x="73" y="1247"/>
                  </a:lnTo>
                  <a:lnTo>
                    <a:pt x="142" y="1191"/>
                  </a:lnTo>
                  <a:lnTo>
                    <a:pt x="240" y="1095"/>
                  </a:lnTo>
                  <a:lnTo>
                    <a:pt x="341" y="977"/>
                  </a:lnTo>
                  <a:lnTo>
                    <a:pt x="432" y="882"/>
                  </a:lnTo>
                  <a:lnTo>
                    <a:pt x="514" y="785"/>
                  </a:lnTo>
                  <a:lnTo>
                    <a:pt x="588" y="697"/>
                  </a:lnTo>
                  <a:lnTo>
                    <a:pt x="649" y="619"/>
                  </a:lnTo>
                  <a:lnTo>
                    <a:pt x="726" y="540"/>
                  </a:lnTo>
                  <a:lnTo>
                    <a:pt x="798" y="462"/>
                  </a:lnTo>
                  <a:lnTo>
                    <a:pt x="874" y="381"/>
                  </a:lnTo>
                  <a:lnTo>
                    <a:pt x="945" y="298"/>
                  </a:lnTo>
                  <a:lnTo>
                    <a:pt x="1007" y="226"/>
                  </a:lnTo>
                  <a:lnTo>
                    <a:pt x="990" y="182"/>
                  </a:lnTo>
                  <a:lnTo>
                    <a:pt x="945" y="143"/>
                  </a:lnTo>
                  <a:lnTo>
                    <a:pt x="895" y="135"/>
                  </a:lnTo>
                  <a:lnTo>
                    <a:pt x="943" y="121"/>
                  </a:lnTo>
                  <a:lnTo>
                    <a:pt x="979" y="135"/>
                  </a:lnTo>
                  <a:lnTo>
                    <a:pt x="1007" y="150"/>
                  </a:lnTo>
                  <a:lnTo>
                    <a:pt x="1020" y="178"/>
                  </a:lnTo>
                  <a:lnTo>
                    <a:pt x="1031" y="199"/>
                  </a:lnTo>
                  <a:lnTo>
                    <a:pt x="1080" y="163"/>
                  </a:lnTo>
                  <a:lnTo>
                    <a:pt x="1113" y="116"/>
                  </a:lnTo>
                  <a:lnTo>
                    <a:pt x="1120" y="88"/>
                  </a:lnTo>
                  <a:lnTo>
                    <a:pt x="1095" y="62"/>
                  </a:lnTo>
                  <a:lnTo>
                    <a:pt x="1041" y="34"/>
                  </a:lnTo>
                  <a:lnTo>
                    <a:pt x="997" y="34"/>
                  </a:lnTo>
                  <a:lnTo>
                    <a:pt x="957" y="76"/>
                  </a:lnTo>
                  <a:lnTo>
                    <a:pt x="903" y="116"/>
                  </a:lnTo>
                  <a:lnTo>
                    <a:pt x="842" y="178"/>
                  </a:lnTo>
                  <a:lnTo>
                    <a:pt x="773" y="258"/>
                  </a:lnTo>
                  <a:lnTo>
                    <a:pt x="724" y="328"/>
                  </a:lnTo>
                  <a:lnTo>
                    <a:pt x="682" y="389"/>
                  </a:lnTo>
                  <a:lnTo>
                    <a:pt x="614" y="479"/>
                  </a:lnTo>
                  <a:lnTo>
                    <a:pt x="562" y="540"/>
                  </a:lnTo>
                  <a:lnTo>
                    <a:pt x="507" y="608"/>
                  </a:lnTo>
                  <a:lnTo>
                    <a:pt x="472" y="643"/>
                  </a:lnTo>
                  <a:lnTo>
                    <a:pt x="402" y="711"/>
                  </a:lnTo>
                  <a:lnTo>
                    <a:pt x="356" y="770"/>
                  </a:lnTo>
                  <a:lnTo>
                    <a:pt x="293" y="847"/>
                  </a:lnTo>
                  <a:lnTo>
                    <a:pt x="251" y="893"/>
                  </a:lnTo>
                  <a:lnTo>
                    <a:pt x="203" y="955"/>
                  </a:lnTo>
                  <a:lnTo>
                    <a:pt x="149" y="1016"/>
                  </a:lnTo>
                  <a:lnTo>
                    <a:pt x="73" y="1075"/>
                  </a:lnTo>
                  <a:lnTo>
                    <a:pt x="12" y="1137"/>
                  </a:lnTo>
                  <a:lnTo>
                    <a:pt x="0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314360" y="4068720"/>
              <a:ext cx="419040" cy="393840"/>
            </a:xfrm>
            <a:custGeom>
              <a:avLst/>
              <a:gdLst/>
              <a:ahLst/>
              <a:rect l="l" t="t" r="r" b="b"/>
              <a:pathLst>
                <a:path w="651" h="703">
                  <a:moveTo>
                    <a:pt x="589" y="0"/>
                  </a:moveTo>
                  <a:lnTo>
                    <a:pt x="577" y="36"/>
                  </a:lnTo>
                  <a:lnTo>
                    <a:pt x="480" y="137"/>
                  </a:lnTo>
                  <a:lnTo>
                    <a:pt x="382" y="248"/>
                  </a:lnTo>
                  <a:lnTo>
                    <a:pt x="225" y="386"/>
                  </a:lnTo>
                  <a:lnTo>
                    <a:pt x="172" y="430"/>
                  </a:lnTo>
                  <a:lnTo>
                    <a:pt x="125" y="552"/>
                  </a:lnTo>
                  <a:lnTo>
                    <a:pt x="101" y="599"/>
                  </a:lnTo>
                  <a:lnTo>
                    <a:pt x="125" y="623"/>
                  </a:lnTo>
                  <a:lnTo>
                    <a:pt x="272" y="533"/>
                  </a:lnTo>
                  <a:lnTo>
                    <a:pt x="333" y="463"/>
                  </a:lnTo>
                  <a:lnTo>
                    <a:pt x="426" y="372"/>
                  </a:lnTo>
                  <a:lnTo>
                    <a:pt x="515" y="284"/>
                  </a:lnTo>
                  <a:lnTo>
                    <a:pt x="596" y="202"/>
                  </a:lnTo>
                  <a:lnTo>
                    <a:pt x="651" y="147"/>
                  </a:lnTo>
                  <a:lnTo>
                    <a:pt x="640" y="195"/>
                  </a:lnTo>
                  <a:lnTo>
                    <a:pt x="554" y="284"/>
                  </a:lnTo>
                  <a:lnTo>
                    <a:pt x="454" y="381"/>
                  </a:lnTo>
                  <a:lnTo>
                    <a:pt x="389" y="451"/>
                  </a:lnTo>
                  <a:lnTo>
                    <a:pt x="307" y="526"/>
                  </a:lnTo>
                  <a:lnTo>
                    <a:pt x="280" y="559"/>
                  </a:lnTo>
                  <a:lnTo>
                    <a:pt x="186" y="613"/>
                  </a:lnTo>
                  <a:lnTo>
                    <a:pt x="108" y="655"/>
                  </a:lnTo>
                  <a:lnTo>
                    <a:pt x="14" y="703"/>
                  </a:lnTo>
                  <a:lnTo>
                    <a:pt x="0" y="691"/>
                  </a:lnTo>
                  <a:lnTo>
                    <a:pt x="7" y="668"/>
                  </a:lnTo>
                  <a:lnTo>
                    <a:pt x="76" y="588"/>
                  </a:lnTo>
                  <a:lnTo>
                    <a:pt x="118" y="512"/>
                  </a:lnTo>
                  <a:lnTo>
                    <a:pt x="157" y="406"/>
                  </a:lnTo>
                  <a:lnTo>
                    <a:pt x="218" y="354"/>
                  </a:lnTo>
                  <a:lnTo>
                    <a:pt x="293" y="297"/>
                  </a:lnTo>
                  <a:lnTo>
                    <a:pt x="382" y="209"/>
                  </a:lnTo>
                  <a:lnTo>
                    <a:pt x="437" y="151"/>
                  </a:lnTo>
                  <a:lnTo>
                    <a:pt x="493" y="83"/>
                  </a:lnTo>
                  <a:lnTo>
                    <a:pt x="543" y="42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418760" y="4289760"/>
              <a:ext cx="79560" cy="93960"/>
            </a:xfrm>
            <a:custGeom>
              <a:avLst/>
              <a:gdLst/>
              <a:ahLst/>
              <a:rect l="l" t="t" r="r" b="b"/>
              <a:pathLst>
                <a:path w="125" h="168">
                  <a:moveTo>
                    <a:pt x="42" y="7"/>
                  </a:moveTo>
                  <a:lnTo>
                    <a:pt x="35" y="52"/>
                  </a:lnTo>
                  <a:lnTo>
                    <a:pt x="87" y="43"/>
                  </a:lnTo>
                  <a:lnTo>
                    <a:pt x="70" y="99"/>
                  </a:lnTo>
                  <a:lnTo>
                    <a:pt x="125" y="85"/>
                  </a:lnTo>
                  <a:lnTo>
                    <a:pt x="110" y="161"/>
                  </a:lnTo>
                  <a:lnTo>
                    <a:pt x="80" y="168"/>
                  </a:lnTo>
                  <a:lnTo>
                    <a:pt x="103" y="115"/>
                  </a:lnTo>
                  <a:lnTo>
                    <a:pt x="30" y="122"/>
                  </a:lnTo>
                  <a:lnTo>
                    <a:pt x="65" y="59"/>
                  </a:lnTo>
                  <a:lnTo>
                    <a:pt x="0" y="85"/>
                  </a:lnTo>
                  <a:lnTo>
                    <a:pt x="20" y="0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1963800" y="4008600"/>
            <a:ext cx="263520" cy="606240"/>
          </a:xfrm>
          <a:custGeom>
            <a:avLst/>
            <a:gdLst/>
            <a:ahLst/>
            <a:rect l="l" t="t" r="r" b="b"/>
            <a:pathLst>
              <a:path w="409" h="1081">
                <a:moveTo>
                  <a:pt x="64" y="0"/>
                </a:moveTo>
                <a:lnTo>
                  <a:pt x="130" y="28"/>
                </a:lnTo>
                <a:lnTo>
                  <a:pt x="190" y="146"/>
                </a:lnTo>
                <a:lnTo>
                  <a:pt x="269" y="315"/>
                </a:lnTo>
                <a:lnTo>
                  <a:pt x="288" y="415"/>
                </a:lnTo>
                <a:lnTo>
                  <a:pt x="288" y="493"/>
                </a:lnTo>
                <a:lnTo>
                  <a:pt x="274" y="616"/>
                </a:lnTo>
                <a:lnTo>
                  <a:pt x="232" y="748"/>
                </a:lnTo>
                <a:lnTo>
                  <a:pt x="195" y="871"/>
                </a:lnTo>
                <a:lnTo>
                  <a:pt x="186" y="931"/>
                </a:lnTo>
                <a:lnTo>
                  <a:pt x="190" y="962"/>
                </a:lnTo>
                <a:lnTo>
                  <a:pt x="237" y="980"/>
                </a:lnTo>
                <a:lnTo>
                  <a:pt x="316" y="990"/>
                </a:lnTo>
                <a:lnTo>
                  <a:pt x="371" y="994"/>
                </a:lnTo>
                <a:lnTo>
                  <a:pt x="399" y="1016"/>
                </a:lnTo>
                <a:lnTo>
                  <a:pt x="409" y="1058"/>
                </a:lnTo>
                <a:lnTo>
                  <a:pt x="395" y="1081"/>
                </a:lnTo>
                <a:lnTo>
                  <a:pt x="353" y="1081"/>
                </a:lnTo>
                <a:lnTo>
                  <a:pt x="283" y="1053"/>
                </a:lnTo>
                <a:lnTo>
                  <a:pt x="209" y="1040"/>
                </a:lnTo>
                <a:lnTo>
                  <a:pt x="140" y="1026"/>
                </a:lnTo>
                <a:lnTo>
                  <a:pt x="106" y="1004"/>
                </a:lnTo>
                <a:lnTo>
                  <a:pt x="92" y="949"/>
                </a:lnTo>
                <a:lnTo>
                  <a:pt x="116" y="911"/>
                </a:lnTo>
                <a:lnTo>
                  <a:pt x="148" y="848"/>
                </a:lnTo>
                <a:lnTo>
                  <a:pt x="186" y="752"/>
                </a:lnTo>
                <a:lnTo>
                  <a:pt x="209" y="630"/>
                </a:lnTo>
                <a:lnTo>
                  <a:pt x="218" y="543"/>
                </a:lnTo>
                <a:lnTo>
                  <a:pt x="218" y="457"/>
                </a:lnTo>
                <a:lnTo>
                  <a:pt x="204" y="370"/>
                </a:lnTo>
                <a:lnTo>
                  <a:pt x="154" y="287"/>
                </a:lnTo>
                <a:lnTo>
                  <a:pt x="84" y="192"/>
                </a:lnTo>
                <a:lnTo>
                  <a:pt x="28" y="128"/>
                </a:lnTo>
                <a:lnTo>
                  <a:pt x="0" y="73"/>
                </a:lnTo>
                <a:lnTo>
                  <a:pt x="4" y="23"/>
                </a:lnTo>
                <a:lnTo>
                  <a:pt x="6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33480" y="4022640"/>
            <a:ext cx="150840" cy="652680"/>
          </a:xfrm>
          <a:custGeom>
            <a:avLst/>
            <a:gdLst/>
            <a:ahLst/>
            <a:rect l="l" t="t" r="r" b="b"/>
            <a:pathLst>
              <a:path w="237" h="1162">
                <a:moveTo>
                  <a:pt x="80" y="168"/>
                </a:moveTo>
                <a:lnTo>
                  <a:pt x="109" y="40"/>
                </a:lnTo>
                <a:lnTo>
                  <a:pt x="179" y="0"/>
                </a:lnTo>
                <a:lnTo>
                  <a:pt x="237" y="14"/>
                </a:lnTo>
                <a:lnTo>
                  <a:pt x="232" y="68"/>
                </a:lnTo>
                <a:lnTo>
                  <a:pt x="185" y="196"/>
                </a:lnTo>
                <a:lnTo>
                  <a:pt x="137" y="323"/>
                </a:lnTo>
                <a:lnTo>
                  <a:pt x="113" y="469"/>
                </a:lnTo>
                <a:lnTo>
                  <a:pt x="99" y="596"/>
                </a:lnTo>
                <a:lnTo>
                  <a:pt x="113" y="725"/>
                </a:lnTo>
                <a:lnTo>
                  <a:pt x="137" y="828"/>
                </a:lnTo>
                <a:lnTo>
                  <a:pt x="171" y="911"/>
                </a:lnTo>
                <a:lnTo>
                  <a:pt x="195" y="947"/>
                </a:lnTo>
                <a:lnTo>
                  <a:pt x="223" y="975"/>
                </a:lnTo>
                <a:lnTo>
                  <a:pt x="223" y="1016"/>
                </a:lnTo>
                <a:lnTo>
                  <a:pt x="179" y="1057"/>
                </a:lnTo>
                <a:lnTo>
                  <a:pt x="119" y="1107"/>
                </a:lnTo>
                <a:lnTo>
                  <a:pt x="66" y="1162"/>
                </a:lnTo>
                <a:lnTo>
                  <a:pt x="24" y="1162"/>
                </a:lnTo>
                <a:lnTo>
                  <a:pt x="0" y="1075"/>
                </a:lnTo>
                <a:lnTo>
                  <a:pt x="4" y="1043"/>
                </a:lnTo>
                <a:lnTo>
                  <a:pt x="42" y="1024"/>
                </a:lnTo>
                <a:lnTo>
                  <a:pt x="123" y="988"/>
                </a:lnTo>
                <a:lnTo>
                  <a:pt x="127" y="961"/>
                </a:lnTo>
                <a:lnTo>
                  <a:pt x="113" y="897"/>
                </a:lnTo>
                <a:lnTo>
                  <a:pt x="80" y="788"/>
                </a:lnTo>
                <a:lnTo>
                  <a:pt x="48" y="675"/>
                </a:lnTo>
                <a:lnTo>
                  <a:pt x="38" y="592"/>
                </a:lnTo>
                <a:lnTo>
                  <a:pt x="38" y="493"/>
                </a:lnTo>
                <a:lnTo>
                  <a:pt x="42" y="400"/>
                </a:lnTo>
                <a:lnTo>
                  <a:pt x="62" y="305"/>
                </a:lnTo>
                <a:lnTo>
                  <a:pt x="71" y="218"/>
                </a:lnTo>
                <a:lnTo>
                  <a:pt x="80" y="1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798560" y="3573360"/>
            <a:ext cx="417600" cy="333360"/>
          </a:xfrm>
          <a:custGeom>
            <a:avLst/>
            <a:gdLst/>
            <a:ahLst/>
            <a:rect l="l" t="t" r="r" b="b"/>
            <a:pathLst>
              <a:path w="649" h="594">
                <a:moveTo>
                  <a:pt x="40" y="0"/>
                </a:moveTo>
                <a:lnTo>
                  <a:pt x="136" y="7"/>
                </a:lnTo>
                <a:lnTo>
                  <a:pt x="241" y="25"/>
                </a:lnTo>
                <a:lnTo>
                  <a:pt x="377" y="81"/>
                </a:lnTo>
                <a:lnTo>
                  <a:pt x="474" y="143"/>
                </a:lnTo>
                <a:lnTo>
                  <a:pt x="542" y="191"/>
                </a:lnTo>
                <a:lnTo>
                  <a:pt x="591" y="253"/>
                </a:lnTo>
                <a:lnTo>
                  <a:pt x="628" y="311"/>
                </a:lnTo>
                <a:lnTo>
                  <a:pt x="649" y="378"/>
                </a:lnTo>
                <a:lnTo>
                  <a:pt x="649" y="442"/>
                </a:lnTo>
                <a:lnTo>
                  <a:pt x="639" y="490"/>
                </a:lnTo>
                <a:lnTo>
                  <a:pt x="607" y="525"/>
                </a:lnTo>
                <a:lnTo>
                  <a:pt x="537" y="545"/>
                </a:lnTo>
                <a:lnTo>
                  <a:pt x="460" y="552"/>
                </a:lnTo>
                <a:lnTo>
                  <a:pt x="426" y="577"/>
                </a:lnTo>
                <a:lnTo>
                  <a:pt x="387" y="594"/>
                </a:lnTo>
                <a:lnTo>
                  <a:pt x="359" y="594"/>
                </a:lnTo>
                <a:lnTo>
                  <a:pt x="338" y="577"/>
                </a:lnTo>
                <a:lnTo>
                  <a:pt x="336" y="525"/>
                </a:lnTo>
                <a:lnTo>
                  <a:pt x="352" y="461"/>
                </a:lnTo>
                <a:lnTo>
                  <a:pt x="384" y="428"/>
                </a:lnTo>
                <a:lnTo>
                  <a:pt x="427" y="435"/>
                </a:lnTo>
                <a:lnTo>
                  <a:pt x="455" y="468"/>
                </a:lnTo>
                <a:lnTo>
                  <a:pt x="502" y="475"/>
                </a:lnTo>
                <a:lnTo>
                  <a:pt x="552" y="475"/>
                </a:lnTo>
                <a:lnTo>
                  <a:pt x="573" y="462"/>
                </a:lnTo>
                <a:lnTo>
                  <a:pt x="594" y="442"/>
                </a:lnTo>
                <a:lnTo>
                  <a:pt x="598" y="400"/>
                </a:lnTo>
                <a:lnTo>
                  <a:pt x="584" y="364"/>
                </a:lnTo>
                <a:lnTo>
                  <a:pt x="563" y="318"/>
                </a:lnTo>
                <a:lnTo>
                  <a:pt x="537" y="274"/>
                </a:lnTo>
                <a:lnTo>
                  <a:pt x="502" y="247"/>
                </a:lnTo>
                <a:lnTo>
                  <a:pt x="453" y="212"/>
                </a:lnTo>
                <a:lnTo>
                  <a:pt x="387" y="179"/>
                </a:lnTo>
                <a:lnTo>
                  <a:pt x="331" y="157"/>
                </a:lnTo>
                <a:lnTo>
                  <a:pt x="248" y="136"/>
                </a:lnTo>
                <a:lnTo>
                  <a:pt x="191" y="122"/>
                </a:lnTo>
                <a:lnTo>
                  <a:pt x="101" y="122"/>
                </a:lnTo>
                <a:lnTo>
                  <a:pt x="61" y="118"/>
                </a:lnTo>
                <a:lnTo>
                  <a:pt x="21" y="87"/>
                </a:lnTo>
                <a:lnTo>
                  <a:pt x="0" y="46"/>
                </a:lnTo>
                <a:lnTo>
                  <a:pt x="12" y="4"/>
                </a:lnTo>
                <a:lnTo>
                  <a:pt x="4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89120" y="4098960"/>
            <a:ext cx="85680" cy="98280"/>
          </a:xfrm>
          <a:custGeom>
            <a:avLst/>
            <a:gdLst/>
            <a:ahLst/>
            <a:rect l="l" t="t" r="r" b="b"/>
            <a:pathLst>
              <a:path w="133" h="176">
                <a:moveTo>
                  <a:pt x="0" y="154"/>
                </a:moveTo>
                <a:lnTo>
                  <a:pt x="15" y="103"/>
                </a:lnTo>
                <a:lnTo>
                  <a:pt x="15" y="57"/>
                </a:lnTo>
                <a:lnTo>
                  <a:pt x="52" y="30"/>
                </a:lnTo>
                <a:lnTo>
                  <a:pt x="116" y="0"/>
                </a:lnTo>
                <a:lnTo>
                  <a:pt x="133" y="39"/>
                </a:lnTo>
                <a:lnTo>
                  <a:pt x="130" y="100"/>
                </a:lnTo>
                <a:lnTo>
                  <a:pt x="81" y="154"/>
                </a:lnTo>
                <a:lnTo>
                  <a:pt x="6" y="176"/>
                </a:lnTo>
                <a:lnTo>
                  <a:pt x="0" y="1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2286000" y="3830760"/>
            <a:ext cx="533520" cy="857160"/>
            <a:chOff x="2286000" y="3830760"/>
            <a:chExt cx="533520" cy="857160"/>
          </a:xfrm>
        </p:grpSpPr>
        <p:sp>
          <p:nvSpPr>
            <p:cNvPr id="1289" name=""/>
            <p:cNvSpPr/>
            <p:nvPr/>
          </p:nvSpPr>
          <p:spPr>
            <a:xfrm>
              <a:off x="2286000" y="3830760"/>
              <a:ext cx="533520" cy="857160"/>
            </a:xfrm>
            <a:custGeom>
              <a:avLst/>
              <a:gdLst/>
              <a:ahLst/>
              <a:rect l="l" t="t" r="r" b="b"/>
              <a:pathLst>
                <a:path w="2086" h="2365">
                  <a:moveTo>
                    <a:pt x="730" y="438"/>
                  </a:moveTo>
                  <a:lnTo>
                    <a:pt x="606" y="550"/>
                  </a:lnTo>
                  <a:lnTo>
                    <a:pt x="460" y="662"/>
                  </a:lnTo>
                  <a:lnTo>
                    <a:pt x="304" y="841"/>
                  </a:lnTo>
                  <a:lnTo>
                    <a:pt x="136" y="1077"/>
                  </a:lnTo>
                  <a:lnTo>
                    <a:pt x="46" y="1278"/>
                  </a:lnTo>
                  <a:lnTo>
                    <a:pt x="0" y="1435"/>
                  </a:lnTo>
                  <a:lnTo>
                    <a:pt x="0" y="1535"/>
                  </a:lnTo>
                  <a:lnTo>
                    <a:pt x="12" y="1749"/>
                  </a:lnTo>
                  <a:lnTo>
                    <a:pt x="46" y="1906"/>
                  </a:lnTo>
                  <a:lnTo>
                    <a:pt x="136" y="2006"/>
                  </a:lnTo>
                  <a:lnTo>
                    <a:pt x="315" y="2130"/>
                  </a:lnTo>
                  <a:lnTo>
                    <a:pt x="483" y="2209"/>
                  </a:lnTo>
                  <a:lnTo>
                    <a:pt x="696" y="2287"/>
                  </a:lnTo>
                  <a:lnTo>
                    <a:pt x="819" y="2332"/>
                  </a:lnTo>
                  <a:lnTo>
                    <a:pt x="1032" y="2365"/>
                  </a:lnTo>
                  <a:lnTo>
                    <a:pt x="1357" y="2332"/>
                  </a:lnTo>
                  <a:lnTo>
                    <a:pt x="1637" y="2254"/>
                  </a:lnTo>
                  <a:lnTo>
                    <a:pt x="1817" y="2141"/>
                  </a:lnTo>
                  <a:lnTo>
                    <a:pt x="1929" y="2018"/>
                  </a:lnTo>
                  <a:lnTo>
                    <a:pt x="1996" y="1895"/>
                  </a:lnTo>
                  <a:lnTo>
                    <a:pt x="2063" y="1738"/>
                  </a:lnTo>
                  <a:lnTo>
                    <a:pt x="2086" y="1559"/>
                  </a:lnTo>
                  <a:lnTo>
                    <a:pt x="2086" y="1312"/>
                  </a:lnTo>
                  <a:lnTo>
                    <a:pt x="2041" y="1155"/>
                  </a:lnTo>
                  <a:lnTo>
                    <a:pt x="1951" y="987"/>
                  </a:lnTo>
                  <a:lnTo>
                    <a:pt x="1828" y="830"/>
                  </a:lnTo>
                  <a:lnTo>
                    <a:pt x="1693" y="706"/>
                  </a:lnTo>
                  <a:lnTo>
                    <a:pt x="1559" y="606"/>
                  </a:lnTo>
                  <a:lnTo>
                    <a:pt x="1368" y="516"/>
                  </a:lnTo>
                  <a:lnTo>
                    <a:pt x="1357" y="460"/>
                  </a:lnTo>
                  <a:lnTo>
                    <a:pt x="1525" y="280"/>
                  </a:lnTo>
                  <a:lnTo>
                    <a:pt x="1536" y="168"/>
                  </a:lnTo>
                  <a:lnTo>
                    <a:pt x="1346" y="280"/>
                  </a:lnTo>
                  <a:lnTo>
                    <a:pt x="1413" y="79"/>
                  </a:lnTo>
                  <a:lnTo>
                    <a:pt x="1391" y="68"/>
                  </a:lnTo>
                  <a:lnTo>
                    <a:pt x="1324" y="68"/>
                  </a:lnTo>
                  <a:lnTo>
                    <a:pt x="1211" y="202"/>
                  </a:lnTo>
                  <a:lnTo>
                    <a:pt x="1144" y="280"/>
                  </a:lnTo>
                  <a:lnTo>
                    <a:pt x="1166" y="135"/>
                  </a:lnTo>
                  <a:lnTo>
                    <a:pt x="1211" y="23"/>
                  </a:lnTo>
                  <a:lnTo>
                    <a:pt x="1177" y="0"/>
                  </a:lnTo>
                  <a:lnTo>
                    <a:pt x="1099" y="68"/>
                  </a:lnTo>
                  <a:lnTo>
                    <a:pt x="1021" y="235"/>
                  </a:lnTo>
                  <a:lnTo>
                    <a:pt x="987" y="146"/>
                  </a:lnTo>
                  <a:lnTo>
                    <a:pt x="920" y="112"/>
                  </a:lnTo>
                  <a:lnTo>
                    <a:pt x="875" y="224"/>
                  </a:lnTo>
                  <a:lnTo>
                    <a:pt x="864" y="291"/>
                  </a:lnTo>
                  <a:lnTo>
                    <a:pt x="741" y="135"/>
                  </a:lnTo>
                  <a:lnTo>
                    <a:pt x="583" y="12"/>
                  </a:lnTo>
                  <a:lnTo>
                    <a:pt x="539" y="34"/>
                  </a:lnTo>
                  <a:lnTo>
                    <a:pt x="527" y="101"/>
                  </a:lnTo>
                  <a:lnTo>
                    <a:pt x="583" y="202"/>
                  </a:lnTo>
                  <a:lnTo>
                    <a:pt x="651" y="326"/>
                  </a:lnTo>
                  <a:lnTo>
                    <a:pt x="819" y="539"/>
                  </a:lnTo>
                  <a:lnTo>
                    <a:pt x="797" y="583"/>
                  </a:lnTo>
                  <a:lnTo>
                    <a:pt x="763" y="606"/>
                  </a:lnTo>
                  <a:lnTo>
                    <a:pt x="786" y="650"/>
                  </a:lnTo>
                  <a:lnTo>
                    <a:pt x="931" y="706"/>
                  </a:lnTo>
                  <a:lnTo>
                    <a:pt x="1166" y="706"/>
                  </a:lnTo>
                  <a:lnTo>
                    <a:pt x="1368" y="684"/>
                  </a:lnTo>
                  <a:lnTo>
                    <a:pt x="1436" y="617"/>
                  </a:lnTo>
                  <a:lnTo>
                    <a:pt x="1391" y="595"/>
                  </a:lnTo>
                  <a:lnTo>
                    <a:pt x="1346" y="628"/>
                  </a:lnTo>
                  <a:lnTo>
                    <a:pt x="1223" y="639"/>
                  </a:lnTo>
                  <a:lnTo>
                    <a:pt x="1099" y="662"/>
                  </a:lnTo>
                  <a:lnTo>
                    <a:pt x="965" y="639"/>
                  </a:lnTo>
                  <a:lnTo>
                    <a:pt x="1166" y="617"/>
                  </a:lnTo>
                  <a:lnTo>
                    <a:pt x="1301" y="572"/>
                  </a:lnTo>
                  <a:lnTo>
                    <a:pt x="1324" y="550"/>
                  </a:lnTo>
                  <a:lnTo>
                    <a:pt x="1268" y="527"/>
                  </a:lnTo>
                  <a:lnTo>
                    <a:pt x="1200" y="561"/>
                  </a:lnTo>
                  <a:lnTo>
                    <a:pt x="1043" y="583"/>
                  </a:lnTo>
                  <a:lnTo>
                    <a:pt x="931" y="572"/>
                  </a:lnTo>
                  <a:lnTo>
                    <a:pt x="875" y="550"/>
                  </a:lnTo>
                  <a:lnTo>
                    <a:pt x="898" y="494"/>
                  </a:lnTo>
                  <a:lnTo>
                    <a:pt x="797" y="416"/>
                  </a:lnTo>
                  <a:lnTo>
                    <a:pt x="696" y="315"/>
                  </a:lnTo>
                  <a:lnTo>
                    <a:pt x="640" y="213"/>
                  </a:lnTo>
                  <a:lnTo>
                    <a:pt x="617" y="146"/>
                  </a:lnTo>
                  <a:lnTo>
                    <a:pt x="617" y="124"/>
                  </a:lnTo>
                  <a:lnTo>
                    <a:pt x="640" y="124"/>
                  </a:lnTo>
                  <a:lnTo>
                    <a:pt x="696" y="168"/>
                  </a:lnTo>
                  <a:lnTo>
                    <a:pt x="774" y="269"/>
                  </a:lnTo>
                  <a:lnTo>
                    <a:pt x="875" y="393"/>
                  </a:lnTo>
                  <a:lnTo>
                    <a:pt x="898" y="427"/>
                  </a:lnTo>
                  <a:lnTo>
                    <a:pt x="942" y="404"/>
                  </a:lnTo>
                  <a:lnTo>
                    <a:pt x="920" y="337"/>
                  </a:lnTo>
                  <a:lnTo>
                    <a:pt x="931" y="291"/>
                  </a:lnTo>
                  <a:lnTo>
                    <a:pt x="942" y="235"/>
                  </a:lnTo>
                  <a:lnTo>
                    <a:pt x="965" y="235"/>
                  </a:lnTo>
                  <a:lnTo>
                    <a:pt x="987" y="303"/>
                  </a:lnTo>
                  <a:lnTo>
                    <a:pt x="998" y="348"/>
                  </a:lnTo>
                  <a:lnTo>
                    <a:pt x="1032" y="360"/>
                  </a:lnTo>
                  <a:lnTo>
                    <a:pt x="1077" y="258"/>
                  </a:lnTo>
                  <a:lnTo>
                    <a:pt x="1099" y="224"/>
                  </a:lnTo>
                  <a:lnTo>
                    <a:pt x="1110" y="280"/>
                  </a:lnTo>
                  <a:lnTo>
                    <a:pt x="1110" y="371"/>
                  </a:lnTo>
                  <a:lnTo>
                    <a:pt x="1144" y="393"/>
                  </a:lnTo>
                  <a:lnTo>
                    <a:pt x="1200" y="315"/>
                  </a:lnTo>
                  <a:lnTo>
                    <a:pt x="1257" y="213"/>
                  </a:lnTo>
                  <a:lnTo>
                    <a:pt x="1313" y="191"/>
                  </a:lnTo>
                  <a:lnTo>
                    <a:pt x="1313" y="202"/>
                  </a:lnTo>
                  <a:lnTo>
                    <a:pt x="1279" y="269"/>
                  </a:lnTo>
                  <a:lnTo>
                    <a:pt x="1245" y="371"/>
                  </a:lnTo>
                  <a:lnTo>
                    <a:pt x="1279" y="382"/>
                  </a:lnTo>
                  <a:lnTo>
                    <a:pt x="1458" y="258"/>
                  </a:lnTo>
                  <a:lnTo>
                    <a:pt x="1480" y="258"/>
                  </a:lnTo>
                  <a:lnTo>
                    <a:pt x="1313" y="427"/>
                  </a:lnTo>
                  <a:lnTo>
                    <a:pt x="1279" y="460"/>
                  </a:lnTo>
                  <a:lnTo>
                    <a:pt x="1268" y="516"/>
                  </a:lnTo>
                  <a:lnTo>
                    <a:pt x="1301" y="539"/>
                  </a:lnTo>
                  <a:lnTo>
                    <a:pt x="1402" y="583"/>
                  </a:lnTo>
                  <a:lnTo>
                    <a:pt x="1570" y="673"/>
                  </a:lnTo>
                  <a:lnTo>
                    <a:pt x="1682" y="762"/>
                  </a:lnTo>
                  <a:lnTo>
                    <a:pt x="1817" y="897"/>
                  </a:lnTo>
                  <a:lnTo>
                    <a:pt x="1918" y="1043"/>
                  </a:lnTo>
                  <a:lnTo>
                    <a:pt x="1985" y="1200"/>
                  </a:lnTo>
                  <a:lnTo>
                    <a:pt x="2030" y="1401"/>
                  </a:lnTo>
                  <a:lnTo>
                    <a:pt x="2018" y="1547"/>
                  </a:lnTo>
                  <a:lnTo>
                    <a:pt x="2007" y="1704"/>
                  </a:lnTo>
                  <a:lnTo>
                    <a:pt x="1940" y="1872"/>
                  </a:lnTo>
                  <a:lnTo>
                    <a:pt x="1873" y="1995"/>
                  </a:lnTo>
                  <a:lnTo>
                    <a:pt x="1794" y="2062"/>
                  </a:lnTo>
                  <a:lnTo>
                    <a:pt x="1704" y="2152"/>
                  </a:lnTo>
                  <a:lnTo>
                    <a:pt x="1536" y="2220"/>
                  </a:lnTo>
                  <a:lnTo>
                    <a:pt x="1335" y="2276"/>
                  </a:lnTo>
                  <a:lnTo>
                    <a:pt x="1234" y="2287"/>
                  </a:lnTo>
                  <a:lnTo>
                    <a:pt x="1043" y="2287"/>
                  </a:lnTo>
                  <a:lnTo>
                    <a:pt x="864" y="2265"/>
                  </a:lnTo>
                  <a:lnTo>
                    <a:pt x="651" y="2209"/>
                  </a:lnTo>
                  <a:lnTo>
                    <a:pt x="449" y="2118"/>
                  </a:lnTo>
                  <a:lnTo>
                    <a:pt x="292" y="2029"/>
                  </a:lnTo>
                  <a:lnTo>
                    <a:pt x="158" y="1928"/>
                  </a:lnTo>
                  <a:lnTo>
                    <a:pt x="102" y="1850"/>
                  </a:lnTo>
                  <a:lnTo>
                    <a:pt x="91" y="1771"/>
                  </a:lnTo>
                  <a:lnTo>
                    <a:pt x="69" y="1535"/>
                  </a:lnTo>
                  <a:lnTo>
                    <a:pt x="80" y="1379"/>
                  </a:lnTo>
                  <a:lnTo>
                    <a:pt x="147" y="1211"/>
                  </a:lnTo>
                  <a:lnTo>
                    <a:pt x="236" y="1021"/>
                  </a:lnTo>
                  <a:lnTo>
                    <a:pt x="393" y="852"/>
                  </a:lnTo>
                  <a:lnTo>
                    <a:pt x="539" y="662"/>
                  </a:lnTo>
                  <a:lnTo>
                    <a:pt x="674" y="561"/>
                  </a:lnTo>
                  <a:lnTo>
                    <a:pt x="752" y="494"/>
                  </a:lnTo>
                  <a:lnTo>
                    <a:pt x="730" y="43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95520" y="4168440"/>
              <a:ext cx="108720" cy="263880"/>
            </a:xfrm>
            <a:custGeom>
              <a:avLst/>
              <a:gdLst/>
              <a:ahLst/>
              <a:rect l="l" t="t" r="r" b="b"/>
              <a:pathLst>
                <a:path w="426" h="728">
                  <a:moveTo>
                    <a:pt x="257" y="134"/>
                  </a:moveTo>
                  <a:lnTo>
                    <a:pt x="335" y="145"/>
                  </a:lnTo>
                  <a:lnTo>
                    <a:pt x="403" y="201"/>
                  </a:lnTo>
                  <a:lnTo>
                    <a:pt x="426" y="257"/>
                  </a:lnTo>
                  <a:lnTo>
                    <a:pt x="346" y="279"/>
                  </a:lnTo>
                  <a:lnTo>
                    <a:pt x="301" y="234"/>
                  </a:lnTo>
                  <a:lnTo>
                    <a:pt x="246" y="212"/>
                  </a:lnTo>
                  <a:lnTo>
                    <a:pt x="190" y="201"/>
                  </a:lnTo>
                  <a:lnTo>
                    <a:pt x="100" y="223"/>
                  </a:lnTo>
                  <a:lnTo>
                    <a:pt x="78" y="279"/>
                  </a:lnTo>
                  <a:lnTo>
                    <a:pt x="123" y="324"/>
                  </a:lnTo>
                  <a:lnTo>
                    <a:pt x="234" y="357"/>
                  </a:lnTo>
                  <a:lnTo>
                    <a:pt x="346" y="357"/>
                  </a:lnTo>
                  <a:lnTo>
                    <a:pt x="380" y="391"/>
                  </a:lnTo>
                  <a:lnTo>
                    <a:pt x="403" y="447"/>
                  </a:lnTo>
                  <a:lnTo>
                    <a:pt x="391" y="514"/>
                  </a:lnTo>
                  <a:lnTo>
                    <a:pt x="324" y="559"/>
                  </a:lnTo>
                  <a:lnTo>
                    <a:pt x="246" y="559"/>
                  </a:lnTo>
                  <a:lnTo>
                    <a:pt x="190" y="559"/>
                  </a:lnTo>
                  <a:lnTo>
                    <a:pt x="167" y="615"/>
                  </a:lnTo>
                  <a:lnTo>
                    <a:pt x="178" y="716"/>
                  </a:lnTo>
                  <a:lnTo>
                    <a:pt x="100" y="728"/>
                  </a:lnTo>
                  <a:lnTo>
                    <a:pt x="89" y="649"/>
                  </a:lnTo>
                  <a:lnTo>
                    <a:pt x="111" y="559"/>
                  </a:lnTo>
                  <a:lnTo>
                    <a:pt x="44" y="525"/>
                  </a:lnTo>
                  <a:lnTo>
                    <a:pt x="0" y="492"/>
                  </a:lnTo>
                  <a:lnTo>
                    <a:pt x="67" y="425"/>
                  </a:lnTo>
                  <a:lnTo>
                    <a:pt x="100" y="469"/>
                  </a:lnTo>
                  <a:lnTo>
                    <a:pt x="156" y="480"/>
                  </a:lnTo>
                  <a:lnTo>
                    <a:pt x="234" y="492"/>
                  </a:lnTo>
                  <a:lnTo>
                    <a:pt x="301" y="492"/>
                  </a:lnTo>
                  <a:lnTo>
                    <a:pt x="335" y="480"/>
                  </a:lnTo>
                  <a:lnTo>
                    <a:pt x="313" y="436"/>
                  </a:lnTo>
                  <a:lnTo>
                    <a:pt x="257" y="425"/>
                  </a:lnTo>
                  <a:lnTo>
                    <a:pt x="156" y="402"/>
                  </a:lnTo>
                  <a:lnTo>
                    <a:pt x="55" y="369"/>
                  </a:lnTo>
                  <a:lnTo>
                    <a:pt x="22" y="313"/>
                  </a:lnTo>
                  <a:lnTo>
                    <a:pt x="11" y="246"/>
                  </a:lnTo>
                  <a:lnTo>
                    <a:pt x="67" y="178"/>
                  </a:lnTo>
                  <a:lnTo>
                    <a:pt x="145" y="123"/>
                  </a:lnTo>
                  <a:lnTo>
                    <a:pt x="201" y="123"/>
                  </a:lnTo>
                  <a:lnTo>
                    <a:pt x="223" y="0"/>
                  </a:lnTo>
                  <a:lnTo>
                    <a:pt x="290" y="11"/>
                  </a:lnTo>
                  <a:lnTo>
                    <a:pt x="257" y="1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95080" y="4155840"/>
              <a:ext cx="45720" cy="93960"/>
            </a:xfrm>
            <a:custGeom>
              <a:avLst/>
              <a:gdLst/>
              <a:ahLst/>
              <a:rect l="l" t="t" r="r" b="b"/>
              <a:pathLst>
                <a:path w="179" h="259">
                  <a:moveTo>
                    <a:pt x="0" y="203"/>
                  </a:moveTo>
                  <a:lnTo>
                    <a:pt x="78" y="68"/>
                  </a:lnTo>
                  <a:lnTo>
                    <a:pt x="179" y="0"/>
                  </a:lnTo>
                  <a:lnTo>
                    <a:pt x="179" y="35"/>
                  </a:lnTo>
                  <a:lnTo>
                    <a:pt x="111" y="113"/>
                  </a:lnTo>
                  <a:lnTo>
                    <a:pt x="33" y="25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01800" y="4391640"/>
              <a:ext cx="28440" cy="6516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12" y="0"/>
                  </a:moveTo>
                  <a:lnTo>
                    <a:pt x="34" y="112"/>
                  </a:lnTo>
                  <a:lnTo>
                    <a:pt x="0" y="157"/>
                  </a:lnTo>
                  <a:lnTo>
                    <a:pt x="45" y="180"/>
                  </a:lnTo>
                  <a:lnTo>
                    <a:pt x="78" y="157"/>
                  </a:lnTo>
                  <a:lnTo>
                    <a:pt x="112" y="79"/>
                  </a:lnTo>
                  <a:lnTo>
                    <a:pt x="112" y="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6248520" y="603396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Wybiera zak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5880" y="2133720"/>
            <a:ext cx="0" cy="43434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629400" y="2362320"/>
            <a:ext cx="2057400" cy="5331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66ff"/>
                  </a:outerShdw>
                </a:effectLst>
                <a:latin typeface="Impact"/>
              </a:rPr>
              <a:t>Kli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66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6153120" y="3467160"/>
            <a:ext cx="1158480" cy="1118880"/>
            <a:chOff x="6153120" y="3467160"/>
            <a:chExt cx="1158480" cy="1118880"/>
          </a:xfrm>
        </p:grpSpPr>
        <p:sp>
          <p:nvSpPr>
            <p:cNvPr id="1297" name=""/>
            <p:cNvSpPr/>
            <p:nvPr/>
          </p:nvSpPr>
          <p:spPr>
            <a:xfrm>
              <a:off x="6190920" y="3686040"/>
              <a:ext cx="330480" cy="900000"/>
            </a:xfrm>
            <a:custGeom>
              <a:avLst/>
              <a:gdLst/>
              <a:ahLst/>
              <a:rect l="l" t="t" r="r" b="b"/>
              <a:pathLst>
                <a:path w="591" h="1726">
                  <a:moveTo>
                    <a:pt x="0" y="41"/>
                  </a:moveTo>
                  <a:lnTo>
                    <a:pt x="4" y="5"/>
                  </a:lnTo>
                  <a:lnTo>
                    <a:pt x="22" y="0"/>
                  </a:lnTo>
                  <a:lnTo>
                    <a:pt x="42" y="9"/>
                  </a:lnTo>
                  <a:lnTo>
                    <a:pt x="64" y="63"/>
                  </a:lnTo>
                  <a:lnTo>
                    <a:pt x="96" y="178"/>
                  </a:lnTo>
                  <a:lnTo>
                    <a:pt x="134" y="322"/>
                  </a:lnTo>
                  <a:lnTo>
                    <a:pt x="166" y="496"/>
                  </a:lnTo>
                  <a:lnTo>
                    <a:pt x="207" y="695"/>
                  </a:lnTo>
                  <a:lnTo>
                    <a:pt x="227" y="828"/>
                  </a:lnTo>
                  <a:lnTo>
                    <a:pt x="249" y="972"/>
                  </a:lnTo>
                  <a:lnTo>
                    <a:pt x="273" y="1085"/>
                  </a:lnTo>
                  <a:lnTo>
                    <a:pt x="309" y="1227"/>
                  </a:lnTo>
                  <a:lnTo>
                    <a:pt x="337" y="1313"/>
                  </a:lnTo>
                  <a:lnTo>
                    <a:pt x="374" y="1427"/>
                  </a:lnTo>
                  <a:lnTo>
                    <a:pt x="402" y="1563"/>
                  </a:lnTo>
                  <a:lnTo>
                    <a:pt x="420" y="1663"/>
                  </a:lnTo>
                  <a:lnTo>
                    <a:pt x="462" y="1676"/>
                  </a:lnTo>
                  <a:lnTo>
                    <a:pt x="591" y="1645"/>
                  </a:lnTo>
                  <a:lnTo>
                    <a:pt x="549" y="1676"/>
                  </a:lnTo>
                  <a:lnTo>
                    <a:pt x="470" y="1700"/>
                  </a:lnTo>
                  <a:lnTo>
                    <a:pt x="388" y="1726"/>
                  </a:lnTo>
                  <a:lnTo>
                    <a:pt x="374" y="1694"/>
                  </a:lnTo>
                  <a:lnTo>
                    <a:pt x="355" y="1609"/>
                  </a:lnTo>
                  <a:lnTo>
                    <a:pt x="341" y="1490"/>
                  </a:lnTo>
                  <a:lnTo>
                    <a:pt x="318" y="1376"/>
                  </a:lnTo>
                  <a:lnTo>
                    <a:pt x="285" y="1263"/>
                  </a:lnTo>
                  <a:lnTo>
                    <a:pt x="253" y="1150"/>
                  </a:lnTo>
                  <a:lnTo>
                    <a:pt x="227" y="1041"/>
                  </a:lnTo>
                  <a:lnTo>
                    <a:pt x="199" y="909"/>
                  </a:lnTo>
                  <a:lnTo>
                    <a:pt x="189" y="832"/>
                  </a:lnTo>
                  <a:lnTo>
                    <a:pt x="175" y="713"/>
                  </a:lnTo>
                  <a:lnTo>
                    <a:pt x="148" y="587"/>
                  </a:lnTo>
                  <a:lnTo>
                    <a:pt x="124" y="472"/>
                  </a:lnTo>
                  <a:lnTo>
                    <a:pt x="102" y="336"/>
                  </a:lnTo>
                  <a:lnTo>
                    <a:pt x="64" y="196"/>
                  </a:lnTo>
                  <a:lnTo>
                    <a:pt x="32" y="8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30760" y="3510720"/>
              <a:ext cx="780840" cy="1023480"/>
            </a:xfrm>
            <a:custGeom>
              <a:avLst/>
              <a:gdLst/>
              <a:ahLst/>
              <a:rect l="l" t="t" r="r" b="b"/>
              <a:pathLst>
                <a:path w="1394" h="1961">
                  <a:moveTo>
                    <a:pt x="0" y="1961"/>
                  </a:moveTo>
                  <a:lnTo>
                    <a:pt x="168" y="1888"/>
                  </a:lnTo>
                  <a:lnTo>
                    <a:pt x="333" y="1829"/>
                  </a:lnTo>
                  <a:lnTo>
                    <a:pt x="511" y="1771"/>
                  </a:lnTo>
                  <a:lnTo>
                    <a:pt x="657" y="1738"/>
                  </a:lnTo>
                  <a:lnTo>
                    <a:pt x="811" y="1724"/>
                  </a:lnTo>
                  <a:lnTo>
                    <a:pt x="930" y="1698"/>
                  </a:lnTo>
                  <a:lnTo>
                    <a:pt x="1079" y="1666"/>
                  </a:lnTo>
                  <a:lnTo>
                    <a:pt x="1176" y="1635"/>
                  </a:lnTo>
                  <a:lnTo>
                    <a:pt x="1299" y="1603"/>
                  </a:lnTo>
                  <a:lnTo>
                    <a:pt x="1344" y="1580"/>
                  </a:lnTo>
                  <a:lnTo>
                    <a:pt x="1354" y="1562"/>
                  </a:lnTo>
                  <a:lnTo>
                    <a:pt x="1344" y="1526"/>
                  </a:lnTo>
                  <a:lnTo>
                    <a:pt x="1308" y="1449"/>
                  </a:lnTo>
                  <a:lnTo>
                    <a:pt x="1253" y="1307"/>
                  </a:lnTo>
                  <a:lnTo>
                    <a:pt x="1190" y="1125"/>
                  </a:lnTo>
                  <a:lnTo>
                    <a:pt x="1134" y="1004"/>
                  </a:lnTo>
                  <a:lnTo>
                    <a:pt x="1075" y="848"/>
                  </a:lnTo>
                  <a:lnTo>
                    <a:pt x="1016" y="676"/>
                  </a:lnTo>
                  <a:lnTo>
                    <a:pt x="966" y="500"/>
                  </a:lnTo>
                  <a:lnTo>
                    <a:pt x="893" y="344"/>
                  </a:lnTo>
                  <a:lnTo>
                    <a:pt x="839" y="145"/>
                  </a:lnTo>
                  <a:lnTo>
                    <a:pt x="770" y="0"/>
                  </a:lnTo>
                  <a:lnTo>
                    <a:pt x="816" y="32"/>
                  </a:lnTo>
                  <a:lnTo>
                    <a:pt x="865" y="154"/>
                  </a:lnTo>
                  <a:lnTo>
                    <a:pt x="907" y="291"/>
                  </a:lnTo>
                  <a:lnTo>
                    <a:pt x="948" y="386"/>
                  </a:lnTo>
                  <a:lnTo>
                    <a:pt x="980" y="481"/>
                  </a:lnTo>
                  <a:lnTo>
                    <a:pt x="1016" y="558"/>
                  </a:lnTo>
                  <a:lnTo>
                    <a:pt x="1039" y="658"/>
                  </a:lnTo>
                  <a:lnTo>
                    <a:pt x="1089" y="795"/>
                  </a:lnTo>
                  <a:lnTo>
                    <a:pt x="1140" y="917"/>
                  </a:lnTo>
                  <a:lnTo>
                    <a:pt x="1194" y="1058"/>
                  </a:lnTo>
                  <a:lnTo>
                    <a:pt x="1245" y="1190"/>
                  </a:lnTo>
                  <a:lnTo>
                    <a:pt x="1289" y="1303"/>
                  </a:lnTo>
                  <a:lnTo>
                    <a:pt x="1336" y="1417"/>
                  </a:lnTo>
                  <a:lnTo>
                    <a:pt x="1380" y="1512"/>
                  </a:lnTo>
                  <a:lnTo>
                    <a:pt x="1394" y="1570"/>
                  </a:lnTo>
                  <a:lnTo>
                    <a:pt x="1380" y="1607"/>
                  </a:lnTo>
                  <a:lnTo>
                    <a:pt x="1354" y="1621"/>
                  </a:lnTo>
                  <a:lnTo>
                    <a:pt x="1249" y="1647"/>
                  </a:lnTo>
                  <a:lnTo>
                    <a:pt x="1166" y="1680"/>
                  </a:lnTo>
                  <a:lnTo>
                    <a:pt x="1079" y="1698"/>
                  </a:lnTo>
                  <a:lnTo>
                    <a:pt x="984" y="1716"/>
                  </a:lnTo>
                  <a:lnTo>
                    <a:pt x="879" y="1738"/>
                  </a:lnTo>
                  <a:lnTo>
                    <a:pt x="798" y="1757"/>
                  </a:lnTo>
                  <a:lnTo>
                    <a:pt x="661" y="1757"/>
                  </a:lnTo>
                  <a:lnTo>
                    <a:pt x="566" y="1785"/>
                  </a:lnTo>
                  <a:lnTo>
                    <a:pt x="442" y="1825"/>
                  </a:lnTo>
                  <a:lnTo>
                    <a:pt x="333" y="1862"/>
                  </a:lnTo>
                  <a:lnTo>
                    <a:pt x="196" y="1906"/>
                  </a:lnTo>
                  <a:lnTo>
                    <a:pt x="73" y="1953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198840" y="3467160"/>
              <a:ext cx="801360" cy="243720"/>
            </a:xfrm>
            <a:custGeom>
              <a:avLst/>
              <a:gdLst/>
              <a:ahLst/>
              <a:rect l="l" t="t" r="r" b="b"/>
              <a:pathLst>
                <a:path w="1431" h="467">
                  <a:moveTo>
                    <a:pt x="0" y="435"/>
                  </a:moveTo>
                  <a:lnTo>
                    <a:pt x="137" y="403"/>
                  </a:lnTo>
                  <a:lnTo>
                    <a:pt x="260" y="375"/>
                  </a:lnTo>
                  <a:lnTo>
                    <a:pt x="432" y="319"/>
                  </a:lnTo>
                  <a:lnTo>
                    <a:pt x="642" y="254"/>
                  </a:lnTo>
                  <a:lnTo>
                    <a:pt x="816" y="198"/>
                  </a:lnTo>
                  <a:lnTo>
                    <a:pt x="966" y="152"/>
                  </a:lnTo>
                  <a:lnTo>
                    <a:pt x="1089" y="102"/>
                  </a:lnTo>
                  <a:lnTo>
                    <a:pt x="1216" y="46"/>
                  </a:lnTo>
                  <a:lnTo>
                    <a:pt x="1317" y="14"/>
                  </a:lnTo>
                  <a:lnTo>
                    <a:pt x="1372" y="0"/>
                  </a:lnTo>
                  <a:lnTo>
                    <a:pt x="1394" y="28"/>
                  </a:lnTo>
                  <a:lnTo>
                    <a:pt x="1412" y="84"/>
                  </a:lnTo>
                  <a:lnTo>
                    <a:pt x="1431" y="184"/>
                  </a:lnTo>
                  <a:lnTo>
                    <a:pt x="1376" y="106"/>
                  </a:lnTo>
                  <a:lnTo>
                    <a:pt x="1348" y="50"/>
                  </a:lnTo>
                  <a:lnTo>
                    <a:pt x="1317" y="42"/>
                  </a:lnTo>
                  <a:lnTo>
                    <a:pt x="1271" y="64"/>
                  </a:lnTo>
                  <a:lnTo>
                    <a:pt x="1170" y="96"/>
                  </a:lnTo>
                  <a:lnTo>
                    <a:pt x="1089" y="134"/>
                  </a:lnTo>
                  <a:lnTo>
                    <a:pt x="994" y="170"/>
                  </a:lnTo>
                  <a:lnTo>
                    <a:pt x="893" y="208"/>
                  </a:lnTo>
                  <a:lnTo>
                    <a:pt x="780" y="250"/>
                  </a:lnTo>
                  <a:lnTo>
                    <a:pt x="642" y="291"/>
                  </a:lnTo>
                  <a:lnTo>
                    <a:pt x="515" y="323"/>
                  </a:lnTo>
                  <a:lnTo>
                    <a:pt x="388" y="356"/>
                  </a:lnTo>
                  <a:lnTo>
                    <a:pt x="287" y="393"/>
                  </a:lnTo>
                  <a:lnTo>
                    <a:pt x="178" y="425"/>
                  </a:lnTo>
                  <a:lnTo>
                    <a:pt x="77" y="453"/>
                  </a:lnTo>
                  <a:lnTo>
                    <a:pt x="10" y="46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153120" y="3879000"/>
              <a:ext cx="148680" cy="473400"/>
            </a:xfrm>
            <a:custGeom>
              <a:avLst/>
              <a:gdLst/>
              <a:ahLst/>
              <a:rect l="l" t="t" r="r" b="b"/>
              <a:pathLst>
                <a:path w="264" h="910">
                  <a:moveTo>
                    <a:pt x="184" y="0"/>
                  </a:moveTo>
                  <a:lnTo>
                    <a:pt x="141" y="252"/>
                  </a:lnTo>
                  <a:lnTo>
                    <a:pt x="103" y="458"/>
                  </a:lnTo>
                  <a:lnTo>
                    <a:pt x="71" y="603"/>
                  </a:lnTo>
                  <a:lnTo>
                    <a:pt x="33" y="736"/>
                  </a:lnTo>
                  <a:lnTo>
                    <a:pt x="0" y="837"/>
                  </a:lnTo>
                  <a:lnTo>
                    <a:pt x="19" y="882"/>
                  </a:lnTo>
                  <a:lnTo>
                    <a:pt x="47" y="906"/>
                  </a:lnTo>
                  <a:lnTo>
                    <a:pt x="79" y="910"/>
                  </a:lnTo>
                  <a:lnTo>
                    <a:pt x="113" y="900"/>
                  </a:lnTo>
                  <a:lnTo>
                    <a:pt x="137" y="754"/>
                  </a:lnTo>
                  <a:lnTo>
                    <a:pt x="179" y="589"/>
                  </a:lnTo>
                  <a:lnTo>
                    <a:pt x="222" y="440"/>
                  </a:lnTo>
                  <a:lnTo>
                    <a:pt x="264" y="339"/>
                  </a:lnTo>
                  <a:lnTo>
                    <a:pt x="246" y="270"/>
                  </a:lnTo>
                  <a:lnTo>
                    <a:pt x="203" y="407"/>
                  </a:lnTo>
                  <a:lnTo>
                    <a:pt x="155" y="571"/>
                  </a:lnTo>
                  <a:lnTo>
                    <a:pt x="123" y="704"/>
                  </a:lnTo>
                  <a:lnTo>
                    <a:pt x="95" y="819"/>
                  </a:lnTo>
                  <a:lnTo>
                    <a:pt x="75" y="859"/>
                  </a:lnTo>
                  <a:lnTo>
                    <a:pt x="47" y="864"/>
                  </a:lnTo>
                  <a:lnTo>
                    <a:pt x="28" y="837"/>
                  </a:lnTo>
                  <a:lnTo>
                    <a:pt x="51" y="750"/>
                  </a:lnTo>
                  <a:lnTo>
                    <a:pt x="89" y="636"/>
                  </a:lnTo>
                  <a:lnTo>
                    <a:pt x="127" y="494"/>
                  </a:lnTo>
                  <a:lnTo>
                    <a:pt x="155" y="343"/>
                  </a:lnTo>
                  <a:lnTo>
                    <a:pt x="189" y="192"/>
                  </a:lnTo>
                  <a:lnTo>
                    <a:pt x="212" y="7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 rot="20619000">
            <a:off x="6207840" y="3619440"/>
            <a:ext cx="10144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col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219800" y="3197160"/>
            <a:ext cx="1158840" cy="1118880"/>
            <a:chOff x="7219800" y="3197160"/>
            <a:chExt cx="1158840" cy="1118880"/>
          </a:xfrm>
        </p:grpSpPr>
        <p:sp>
          <p:nvSpPr>
            <p:cNvPr id="1303" name=""/>
            <p:cNvSpPr/>
            <p:nvPr/>
          </p:nvSpPr>
          <p:spPr>
            <a:xfrm>
              <a:off x="7257600" y="3416040"/>
              <a:ext cx="330480" cy="900000"/>
            </a:xfrm>
            <a:custGeom>
              <a:avLst/>
              <a:gdLst/>
              <a:ahLst/>
              <a:rect l="l" t="t" r="r" b="b"/>
              <a:pathLst>
                <a:path w="591" h="1726">
                  <a:moveTo>
                    <a:pt x="0" y="41"/>
                  </a:moveTo>
                  <a:lnTo>
                    <a:pt x="4" y="5"/>
                  </a:lnTo>
                  <a:lnTo>
                    <a:pt x="22" y="0"/>
                  </a:lnTo>
                  <a:lnTo>
                    <a:pt x="42" y="9"/>
                  </a:lnTo>
                  <a:lnTo>
                    <a:pt x="64" y="63"/>
                  </a:lnTo>
                  <a:lnTo>
                    <a:pt x="96" y="178"/>
                  </a:lnTo>
                  <a:lnTo>
                    <a:pt x="134" y="322"/>
                  </a:lnTo>
                  <a:lnTo>
                    <a:pt x="166" y="496"/>
                  </a:lnTo>
                  <a:lnTo>
                    <a:pt x="207" y="695"/>
                  </a:lnTo>
                  <a:lnTo>
                    <a:pt x="227" y="828"/>
                  </a:lnTo>
                  <a:lnTo>
                    <a:pt x="249" y="972"/>
                  </a:lnTo>
                  <a:lnTo>
                    <a:pt x="273" y="1085"/>
                  </a:lnTo>
                  <a:lnTo>
                    <a:pt x="309" y="1227"/>
                  </a:lnTo>
                  <a:lnTo>
                    <a:pt x="337" y="1313"/>
                  </a:lnTo>
                  <a:lnTo>
                    <a:pt x="374" y="1427"/>
                  </a:lnTo>
                  <a:lnTo>
                    <a:pt x="402" y="1563"/>
                  </a:lnTo>
                  <a:lnTo>
                    <a:pt x="420" y="1663"/>
                  </a:lnTo>
                  <a:lnTo>
                    <a:pt x="462" y="1676"/>
                  </a:lnTo>
                  <a:lnTo>
                    <a:pt x="591" y="1645"/>
                  </a:lnTo>
                  <a:lnTo>
                    <a:pt x="549" y="1676"/>
                  </a:lnTo>
                  <a:lnTo>
                    <a:pt x="470" y="1700"/>
                  </a:lnTo>
                  <a:lnTo>
                    <a:pt x="388" y="1726"/>
                  </a:lnTo>
                  <a:lnTo>
                    <a:pt x="374" y="1694"/>
                  </a:lnTo>
                  <a:lnTo>
                    <a:pt x="355" y="1609"/>
                  </a:lnTo>
                  <a:lnTo>
                    <a:pt x="341" y="1490"/>
                  </a:lnTo>
                  <a:lnTo>
                    <a:pt x="318" y="1376"/>
                  </a:lnTo>
                  <a:lnTo>
                    <a:pt x="285" y="1263"/>
                  </a:lnTo>
                  <a:lnTo>
                    <a:pt x="253" y="1150"/>
                  </a:lnTo>
                  <a:lnTo>
                    <a:pt x="227" y="1041"/>
                  </a:lnTo>
                  <a:lnTo>
                    <a:pt x="199" y="909"/>
                  </a:lnTo>
                  <a:lnTo>
                    <a:pt x="189" y="832"/>
                  </a:lnTo>
                  <a:lnTo>
                    <a:pt x="175" y="713"/>
                  </a:lnTo>
                  <a:lnTo>
                    <a:pt x="148" y="587"/>
                  </a:lnTo>
                  <a:lnTo>
                    <a:pt x="124" y="472"/>
                  </a:lnTo>
                  <a:lnTo>
                    <a:pt x="102" y="336"/>
                  </a:lnTo>
                  <a:lnTo>
                    <a:pt x="64" y="196"/>
                  </a:lnTo>
                  <a:lnTo>
                    <a:pt x="32" y="8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97440" y="3240720"/>
              <a:ext cx="781200" cy="1023480"/>
            </a:xfrm>
            <a:custGeom>
              <a:avLst/>
              <a:gdLst/>
              <a:ahLst/>
              <a:rect l="l" t="t" r="r" b="b"/>
              <a:pathLst>
                <a:path w="1394" h="1961">
                  <a:moveTo>
                    <a:pt x="0" y="1961"/>
                  </a:moveTo>
                  <a:lnTo>
                    <a:pt x="168" y="1888"/>
                  </a:lnTo>
                  <a:lnTo>
                    <a:pt x="333" y="1829"/>
                  </a:lnTo>
                  <a:lnTo>
                    <a:pt x="511" y="1771"/>
                  </a:lnTo>
                  <a:lnTo>
                    <a:pt x="657" y="1738"/>
                  </a:lnTo>
                  <a:lnTo>
                    <a:pt x="811" y="1724"/>
                  </a:lnTo>
                  <a:lnTo>
                    <a:pt x="930" y="1698"/>
                  </a:lnTo>
                  <a:lnTo>
                    <a:pt x="1079" y="1666"/>
                  </a:lnTo>
                  <a:lnTo>
                    <a:pt x="1176" y="1635"/>
                  </a:lnTo>
                  <a:lnTo>
                    <a:pt x="1299" y="1603"/>
                  </a:lnTo>
                  <a:lnTo>
                    <a:pt x="1344" y="1580"/>
                  </a:lnTo>
                  <a:lnTo>
                    <a:pt x="1354" y="1562"/>
                  </a:lnTo>
                  <a:lnTo>
                    <a:pt x="1344" y="1526"/>
                  </a:lnTo>
                  <a:lnTo>
                    <a:pt x="1308" y="1449"/>
                  </a:lnTo>
                  <a:lnTo>
                    <a:pt x="1253" y="1307"/>
                  </a:lnTo>
                  <a:lnTo>
                    <a:pt x="1190" y="1125"/>
                  </a:lnTo>
                  <a:lnTo>
                    <a:pt x="1134" y="1004"/>
                  </a:lnTo>
                  <a:lnTo>
                    <a:pt x="1075" y="848"/>
                  </a:lnTo>
                  <a:lnTo>
                    <a:pt x="1016" y="676"/>
                  </a:lnTo>
                  <a:lnTo>
                    <a:pt x="966" y="500"/>
                  </a:lnTo>
                  <a:lnTo>
                    <a:pt x="893" y="344"/>
                  </a:lnTo>
                  <a:lnTo>
                    <a:pt x="839" y="145"/>
                  </a:lnTo>
                  <a:lnTo>
                    <a:pt x="770" y="0"/>
                  </a:lnTo>
                  <a:lnTo>
                    <a:pt x="816" y="32"/>
                  </a:lnTo>
                  <a:lnTo>
                    <a:pt x="865" y="154"/>
                  </a:lnTo>
                  <a:lnTo>
                    <a:pt x="907" y="291"/>
                  </a:lnTo>
                  <a:lnTo>
                    <a:pt x="948" y="386"/>
                  </a:lnTo>
                  <a:lnTo>
                    <a:pt x="980" y="481"/>
                  </a:lnTo>
                  <a:lnTo>
                    <a:pt x="1016" y="558"/>
                  </a:lnTo>
                  <a:lnTo>
                    <a:pt x="1039" y="658"/>
                  </a:lnTo>
                  <a:lnTo>
                    <a:pt x="1089" y="795"/>
                  </a:lnTo>
                  <a:lnTo>
                    <a:pt x="1140" y="917"/>
                  </a:lnTo>
                  <a:lnTo>
                    <a:pt x="1194" y="1058"/>
                  </a:lnTo>
                  <a:lnTo>
                    <a:pt x="1245" y="1190"/>
                  </a:lnTo>
                  <a:lnTo>
                    <a:pt x="1289" y="1303"/>
                  </a:lnTo>
                  <a:lnTo>
                    <a:pt x="1336" y="1417"/>
                  </a:lnTo>
                  <a:lnTo>
                    <a:pt x="1380" y="1512"/>
                  </a:lnTo>
                  <a:lnTo>
                    <a:pt x="1394" y="1570"/>
                  </a:lnTo>
                  <a:lnTo>
                    <a:pt x="1380" y="1607"/>
                  </a:lnTo>
                  <a:lnTo>
                    <a:pt x="1354" y="1621"/>
                  </a:lnTo>
                  <a:lnTo>
                    <a:pt x="1249" y="1647"/>
                  </a:lnTo>
                  <a:lnTo>
                    <a:pt x="1166" y="1680"/>
                  </a:lnTo>
                  <a:lnTo>
                    <a:pt x="1079" y="1698"/>
                  </a:lnTo>
                  <a:lnTo>
                    <a:pt x="984" y="1716"/>
                  </a:lnTo>
                  <a:lnTo>
                    <a:pt x="879" y="1738"/>
                  </a:lnTo>
                  <a:lnTo>
                    <a:pt x="798" y="1757"/>
                  </a:lnTo>
                  <a:lnTo>
                    <a:pt x="661" y="1757"/>
                  </a:lnTo>
                  <a:lnTo>
                    <a:pt x="566" y="1785"/>
                  </a:lnTo>
                  <a:lnTo>
                    <a:pt x="442" y="1825"/>
                  </a:lnTo>
                  <a:lnTo>
                    <a:pt x="333" y="1862"/>
                  </a:lnTo>
                  <a:lnTo>
                    <a:pt x="196" y="1906"/>
                  </a:lnTo>
                  <a:lnTo>
                    <a:pt x="73" y="1953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265520" y="3197160"/>
              <a:ext cx="801720" cy="243720"/>
            </a:xfrm>
            <a:custGeom>
              <a:avLst/>
              <a:gdLst/>
              <a:ahLst/>
              <a:rect l="l" t="t" r="r" b="b"/>
              <a:pathLst>
                <a:path w="1431" h="467">
                  <a:moveTo>
                    <a:pt x="0" y="435"/>
                  </a:moveTo>
                  <a:lnTo>
                    <a:pt x="137" y="403"/>
                  </a:lnTo>
                  <a:lnTo>
                    <a:pt x="260" y="375"/>
                  </a:lnTo>
                  <a:lnTo>
                    <a:pt x="432" y="319"/>
                  </a:lnTo>
                  <a:lnTo>
                    <a:pt x="642" y="254"/>
                  </a:lnTo>
                  <a:lnTo>
                    <a:pt x="816" y="198"/>
                  </a:lnTo>
                  <a:lnTo>
                    <a:pt x="966" y="152"/>
                  </a:lnTo>
                  <a:lnTo>
                    <a:pt x="1089" y="102"/>
                  </a:lnTo>
                  <a:lnTo>
                    <a:pt x="1216" y="46"/>
                  </a:lnTo>
                  <a:lnTo>
                    <a:pt x="1317" y="14"/>
                  </a:lnTo>
                  <a:lnTo>
                    <a:pt x="1372" y="0"/>
                  </a:lnTo>
                  <a:lnTo>
                    <a:pt x="1394" y="28"/>
                  </a:lnTo>
                  <a:lnTo>
                    <a:pt x="1412" y="84"/>
                  </a:lnTo>
                  <a:lnTo>
                    <a:pt x="1431" y="184"/>
                  </a:lnTo>
                  <a:lnTo>
                    <a:pt x="1376" y="106"/>
                  </a:lnTo>
                  <a:lnTo>
                    <a:pt x="1348" y="50"/>
                  </a:lnTo>
                  <a:lnTo>
                    <a:pt x="1317" y="42"/>
                  </a:lnTo>
                  <a:lnTo>
                    <a:pt x="1271" y="64"/>
                  </a:lnTo>
                  <a:lnTo>
                    <a:pt x="1170" y="96"/>
                  </a:lnTo>
                  <a:lnTo>
                    <a:pt x="1089" y="134"/>
                  </a:lnTo>
                  <a:lnTo>
                    <a:pt x="994" y="170"/>
                  </a:lnTo>
                  <a:lnTo>
                    <a:pt x="893" y="208"/>
                  </a:lnTo>
                  <a:lnTo>
                    <a:pt x="780" y="250"/>
                  </a:lnTo>
                  <a:lnTo>
                    <a:pt x="642" y="291"/>
                  </a:lnTo>
                  <a:lnTo>
                    <a:pt x="515" y="323"/>
                  </a:lnTo>
                  <a:lnTo>
                    <a:pt x="388" y="356"/>
                  </a:lnTo>
                  <a:lnTo>
                    <a:pt x="287" y="393"/>
                  </a:lnTo>
                  <a:lnTo>
                    <a:pt x="178" y="425"/>
                  </a:lnTo>
                  <a:lnTo>
                    <a:pt x="77" y="453"/>
                  </a:lnTo>
                  <a:lnTo>
                    <a:pt x="10" y="46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19800" y="3609000"/>
              <a:ext cx="148680" cy="473400"/>
            </a:xfrm>
            <a:custGeom>
              <a:avLst/>
              <a:gdLst/>
              <a:ahLst/>
              <a:rect l="l" t="t" r="r" b="b"/>
              <a:pathLst>
                <a:path w="264" h="910">
                  <a:moveTo>
                    <a:pt x="184" y="0"/>
                  </a:moveTo>
                  <a:lnTo>
                    <a:pt x="141" y="252"/>
                  </a:lnTo>
                  <a:lnTo>
                    <a:pt x="103" y="458"/>
                  </a:lnTo>
                  <a:lnTo>
                    <a:pt x="71" y="603"/>
                  </a:lnTo>
                  <a:lnTo>
                    <a:pt x="33" y="736"/>
                  </a:lnTo>
                  <a:lnTo>
                    <a:pt x="0" y="837"/>
                  </a:lnTo>
                  <a:lnTo>
                    <a:pt x="19" y="882"/>
                  </a:lnTo>
                  <a:lnTo>
                    <a:pt x="47" y="906"/>
                  </a:lnTo>
                  <a:lnTo>
                    <a:pt x="79" y="910"/>
                  </a:lnTo>
                  <a:lnTo>
                    <a:pt x="113" y="900"/>
                  </a:lnTo>
                  <a:lnTo>
                    <a:pt x="137" y="754"/>
                  </a:lnTo>
                  <a:lnTo>
                    <a:pt x="179" y="589"/>
                  </a:lnTo>
                  <a:lnTo>
                    <a:pt x="222" y="440"/>
                  </a:lnTo>
                  <a:lnTo>
                    <a:pt x="264" y="339"/>
                  </a:lnTo>
                  <a:lnTo>
                    <a:pt x="246" y="270"/>
                  </a:lnTo>
                  <a:lnTo>
                    <a:pt x="203" y="407"/>
                  </a:lnTo>
                  <a:lnTo>
                    <a:pt x="155" y="571"/>
                  </a:lnTo>
                  <a:lnTo>
                    <a:pt x="123" y="704"/>
                  </a:lnTo>
                  <a:lnTo>
                    <a:pt x="95" y="819"/>
                  </a:lnTo>
                  <a:lnTo>
                    <a:pt x="75" y="859"/>
                  </a:lnTo>
                  <a:lnTo>
                    <a:pt x="47" y="864"/>
                  </a:lnTo>
                  <a:lnTo>
                    <a:pt x="28" y="837"/>
                  </a:lnTo>
                  <a:lnTo>
                    <a:pt x="51" y="750"/>
                  </a:lnTo>
                  <a:lnTo>
                    <a:pt x="89" y="636"/>
                  </a:lnTo>
                  <a:lnTo>
                    <a:pt x="127" y="494"/>
                  </a:lnTo>
                  <a:lnTo>
                    <a:pt x="155" y="343"/>
                  </a:lnTo>
                  <a:lnTo>
                    <a:pt x="189" y="192"/>
                  </a:lnTo>
                  <a:lnTo>
                    <a:pt x="212" y="7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 rot="20619000">
            <a:off x="7274520" y="3378240"/>
            <a:ext cx="10144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fun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20619000">
            <a:off x="6004080" y="3314520"/>
            <a:ext cx="101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9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20619000">
            <a:off x="7078680" y="3009600"/>
            <a:ext cx="101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ff"/>
                </a:solidFill>
                <a:latin typeface="Arial"/>
              </a:rPr>
              <a:t>6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7162920" y="4205160"/>
            <a:ext cx="811080" cy="1967040"/>
          </a:xfrm>
          <a:prstGeom prst="rect">
            <a:avLst/>
          </a:prstGeom>
          <a:ln w="0">
            <a:noFill/>
          </a:ln>
        </p:spPr>
      </p:pic>
      <p:grpSp>
        <p:nvGrpSpPr>
          <p:cNvPr id="1311" name=""/>
          <p:cNvGrpSpPr/>
          <p:nvPr/>
        </p:nvGrpSpPr>
        <p:grpSpPr>
          <a:xfrm>
            <a:off x="7746840" y="5257800"/>
            <a:ext cx="533520" cy="628560"/>
            <a:chOff x="7746840" y="5257800"/>
            <a:chExt cx="533520" cy="628560"/>
          </a:xfrm>
        </p:grpSpPr>
        <p:sp>
          <p:nvSpPr>
            <p:cNvPr id="1312" name=""/>
            <p:cNvSpPr/>
            <p:nvPr/>
          </p:nvSpPr>
          <p:spPr>
            <a:xfrm>
              <a:off x="7746840" y="5257800"/>
              <a:ext cx="533520" cy="628560"/>
            </a:xfrm>
            <a:custGeom>
              <a:avLst/>
              <a:gdLst/>
              <a:ahLst/>
              <a:rect l="l" t="t" r="r" b="b"/>
              <a:pathLst>
                <a:path w="2086" h="2365">
                  <a:moveTo>
                    <a:pt x="730" y="438"/>
                  </a:moveTo>
                  <a:lnTo>
                    <a:pt x="606" y="550"/>
                  </a:lnTo>
                  <a:lnTo>
                    <a:pt x="460" y="662"/>
                  </a:lnTo>
                  <a:lnTo>
                    <a:pt x="304" y="841"/>
                  </a:lnTo>
                  <a:lnTo>
                    <a:pt x="136" y="1077"/>
                  </a:lnTo>
                  <a:lnTo>
                    <a:pt x="46" y="1278"/>
                  </a:lnTo>
                  <a:lnTo>
                    <a:pt x="0" y="1435"/>
                  </a:lnTo>
                  <a:lnTo>
                    <a:pt x="0" y="1535"/>
                  </a:lnTo>
                  <a:lnTo>
                    <a:pt x="12" y="1749"/>
                  </a:lnTo>
                  <a:lnTo>
                    <a:pt x="46" y="1906"/>
                  </a:lnTo>
                  <a:lnTo>
                    <a:pt x="136" y="2006"/>
                  </a:lnTo>
                  <a:lnTo>
                    <a:pt x="315" y="2130"/>
                  </a:lnTo>
                  <a:lnTo>
                    <a:pt x="483" y="2209"/>
                  </a:lnTo>
                  <a:lnTo>
                    <a:pt x="696" y="2287"/>
                  </a:lnTo>
                  <a:lnTo>
                    <a:pt x="819" y="2332"/>
                  </a:lnTo>
                  <a:lnTo>
                    <a:pt x="1032" y="2365"/>
                  </a:lnTo>
                  <a:lnTo>
                    <a:pt x="1357" y="2332"/>
                  </a:lnTo>
                  <a:lnTo>
                    <a:pt x="1637" y="2254"/>
                  </a:lnTo>
                  <a:lnTo>
                    <a:pt x="1817" y="2141"/>
                  </a:lnTo>
                  <a:lnTo>
                    <a:pt x="1929" y="2018"/>
                  </a:lnTo>
                  <a:lnTo>
                    <a:pt x="1996" y="1895"/>
                  </a:lnTo>
                  <a:lnTo>
                    <a:pt x="2063" y="1738"/>
                  </a:lnTo>
                  <a:lnTo>
                    <a:pt x="2086" y="1559"/>
                  </a:lnTo>
                  <a:lnTo>
                    <a:pt x="2086" y="1312"/>
                  </a:lnTo>
                  <a:lnTo>
                    <a:pt x="2041" y="1155"/>
                  </a:lnTo>
                  <a:lnTo>
                    <a:pt x="1951" y="987"/>
                  </a:lnTo>
                  <a:lnTo>
                    <a:pt x="1828" y="830"/>
                  </a:lnTo>
                  <a:lnTo>
                    <a:pt x="1693" y="706"/>
                  </a:lnTo>
                  <a:lnTo>
                    <a:pt x="1559" y="606"/>
                  </a:lnTo>
                  <a:lnTo>
                    <a:pt x="1368" y="516"/>
                  </a:lnTo>
                  <a:lnTo>
                    <a:pt x="1357" y="460"/>
                  </a:lnTo>
                  <a:lnTo>
                    <a:pt x="1525" y="280"/>
                  </a:lnTo>
                  <a:lnTo>
                    <a:pt x="1536" y="168"/>
                  </a:lnTo>
                  <a:lnTo>
                    <a:pt x="1346" y="280"/>
                  </a:lnTo>
                  <a:lnTo>
                    <a:pt x="1413" y="79"/>
                  </a:lnTo>
                  <a:lnTo>
                    <a:pt x="1391" y="68"/>
                  </a:lnTo>
                  <a:lnTo>
                    <a:pt x="1324" y="68"/>
                  </a:lnTo>
                  <a:lnTo>
                    <a:pt x="1211" y="202"/>
                  </a:lnTo>
                  <a:lnTo>
                    <a:pt x="1144" y="280"/>
                  </a:lnTo>
                  <a:lnTo>
                    <a:pt x="1166" y="135"/>
                  </a:lnTo>
                  <a:lnTo>
                    <a:pt x="1211" y="23"/>
                  </a:lnTo>
                  <a:lnTo>
                    <a:pt x="1177" y="0"/>
                  </a:lnTo>
                  <a:lnTo>
                    <a:pt x="1099" y="68"/>
                  </a:lnTo>
                  <a:lnTo>
                    <a:pt x="1021" y="235"/>
                  </a:lnTo>
                  <a:lnTo>
                    <a:pt x="987" y="146"/>
                  </a:lnTo>
                  <a:lnTo>
                    <a:pt x="920" y="112"/>
                  </a:lnTo>
                  <a:lnTo>
                    <a:pt x="875" y="224"/>
                  </a:lnTo>
                  <a:lnTo>
                    <a:pt x="864" y="291"/>
                  </a:lnTo>
                  <a:lnTo>
                    <a:pt x="741" y="135"/>
                  </a:lnTo>
                  <a:lnTo>
                    <a:pt x="583" y="12"/>
                  </a:lnTo>
                  <a:lnTo>
                    <a:pt x="539" y="34"/>
                  </a:lnTo>
                  <a:lnTo>
                    <a:pt x="527" y="101"/>
                  </a:lnTo>
                  <a:lnTo>
                    <a:pt x="583" y="202"/>
                  </a:lnTo>
                  <a:lnTo>
                    <a:pt x="651" y="326"/>
                  </a:lnTo>
                  <a:lnTo>
                    <a:pt x="819" y="539"/>
                  </a:lnTo>
                  <a:lnTo>
                    <a:pt x="797" y="583"/>
                  </a:lnTo>
                  <a:lnTo>
                    <a:pt x="763" y="606"/>
                  </a:lnTo>
                  <a:lnTo>
                    <a:pt x="786" y="650"/>
                  </a:lnTo>
                  <a:lnTo>
                    <a:pt x="931" y="706"/>
                  </a:lnTo>
                  <a:lnTo>
                    <a:pt x="1166" y="706"/>
                  </a:lnTo>
                  <a:lnTo>
                    <a:pt x="1368" y="684"/>
                  </a:lnTo>
                  <a:lnTo>
                    <a:pt x="1436" y="617"/>
                  </a:lnTo>
                  <a:lnTo>
                    <a:pt x="1391" y="595"/>
                  </a:lnTo>
                  <a:lnTo>
                    <a:pt x="1346" y="628"/>
                  </a:lnTo>
                  <a:lnTo>
                    <a:pt x="1223" y="639"/>
                  </a:lnTo>
                  <a:lnTo>
                    <a:pt x="1099" y="662"/>
                  </a:lnTo>
                  <a:lnTo>
                    <a:pt x="965" y="639"/>
                  </a:lnTo>
                  <a:lnTo>
                    <a:pt x="1166" y="617"/>
                  </a:lnTo>
                  <a:lnTo>
                    <a:pt x="1301" y="572"/>
                  </a:lnTo>
                  <a:lnTo>
                    <a:pt x="1324" y="550"/>
                  </a:lnTo>
                  <a:lnTo>
                    <a:pt x="1268" y="527"/>
                  </a:lnTo>
                  <a:lnTo>
                    <a:pt x="1200" y="561"/>
                  </a:lnTo>
                  <a:lnTo>
                    <a:pt x="1043" y="583"/>
                  </a:lnTo>
                  <a:lnTo>
                    <a:pt x="931" y="572"/>
                  </a:lnTo>
                  <a:lnTo>
                    <a:pt x="875" y="550"/>
                  </a:lnTo>
                  <a:lnTo>
                    <a:pt x="898" y="494"/>
                  </a:lnTo>
                  <a:lnTo>
                    <a:pt x="797" y="416"/>
                  </a:lnTo>
                  <a:lnTo>
                    <a:pt x="696" y="315"/>
                  </a:lnTo>
                  <a:lnTo>
                    <a:pt x="640" y="213"/>
                  </a:lnTo>
                  <a:lnTo>
                    <a:pt x="617" y="146"/>
                  </a:lnTo>
                  <a:lnTo>
                    <a:pt x="617" y="124"/>
                  </a:lnTo>
                  <a:lnTo>
                    <a:pt x="640" y="124"/>
                  </a:lnTo>
                  <a:lnTo>
                    <a:pt x="696" y="168"/>
                  </a:lnTo>
                  <a:lnTo>
                    <a:pt x="774" y="269"/>
                  </a:lnTo>
                  <a:lnTo>
                    <a:pt x="875" y="393"/>
                  </a:lnTo>
                  <a:lnTo>
                    <a:pt x="898" y="427"/>
                  </a:lnTo>
                  <a:lnTo>
                    <a:pt x="942" y="404"/>
                  </a:lnTo>
                  <a:lnTo>
                    <a:pt x="920" y="337"/>
                  </a:lnTo>
                  <a:lnTo>
                    <a:pt x="931" y="291"/>
                  </a:lnTo>
                  <a:lnTo>
                    <a:pt x="942" y="235"/>
                  </a:lnTo>
                  <a:lnTo>
                    <a:pt x="965" y="235"/>
                  </a:lnTo>
                  <a:lnTo>
                    <a:pt x="987" y="303"/>
                  </a:lnTo>
                  <a:lnTo>
                    <a:pt x="998" y="348"/>
                  </a:lnTo>
                  <a:lnTo>
                    <a:pt x="1032" y="360"/>
                  </a:lnTo>
                  <a:lnTo>
                    <a:pt x="1077" y="258"/>
                  </a:lnTo>
                  <a:lnTo>
                    <a:pt x="1099" y="224"/>
                  </a:lnTo>
                  <a:lnTo>
                    <a:pt x="1110" y="280"/>
                  </a:lnTo>
                  <a:lnTo>
                    <a:pt x="1110" y="371"/>
                  </a:lnTo>
                  <a:lnTo>
                    <a:pt x="1144" y="393"/>
                  </a:lnTo>
                  <a:lnTo>
                    <a:pt x="1200" y="315"/>
                  </a:lnTo>
                  <a:lnTo>
                    <a:pt x="1257" y="213"/>
                  </a:lnTo>
                  <a:lnTo>
                    <a:pt x="1313" y="191"/>
                  </a:lnTo>
                  <a:lnTo>
                    <a:pt x="1313" y="202"/>
                  </a:lnTo>
                  <a:lnTo>
                    <a:pt x="1279" y="269"/>
                  </a:lnTo>
                  <a:lnTo>
                    <a:pt x="1245" y="371"/>
                  </a:lnTo>
                  <a:lnTo>
                    <a:pt x="1279" y="382"/>
                  </a:lnTo>
                  <a:lnTo>
                    <a:pt x="1458" y="258"/>
                  </a:lnTo>
                  <a:lnTo>
                    <a:pt x="1480" y="258"/>
                  </a:lnTo>
                  <a:lnTo>
                    <a:pt x="1313" y="427"/>
                  </a:lnTo>
                  <a:lnTo>
                    <a:pt x="1279" y="460"/>
                  </a:lnTo>
                  <a:lnTo>
                    <a:pt x="1268" y="516"/>
                  </a:lnTo>
                  <a:lnTo>
                    <a:pt x="1301" y="539"/>
                  </a:lnTo>
                  <a:lnTo>
                    <a:pt x="1402" y="583"/>
                  </a:lnTo>
                  <a:lnTo>
                    <a:pt x="1570" y="673"/>
                  </a:lnTo>
                  <a:lnTo>
                    <a:pt x="1682" y="762"/>
                  </a:lnTo>
                  <a:lnTo>
                    <a:pt x="1817" y="897"/>
                  </a:lnTo>
                  <a:lnTo>
                    <a:pt x="1918" y="1043"/>
                  </a:lnTo>
                  <a:lnTo>
                    <a:pt x="1985" y="1200"/>
                  </a:lnTo>
                  <a:lnTo>
                    <a:pt x="2030" y="1401"/>
                  </a:lnTo>
                  <a:lnTo>
                    <a:pt x="2018" y="1547"/>
                  </a:lnTo>
                  <a:lnTo>
                    <a:pt x="2007" y="1704"/>
                  </a:lnTo>
                  <a:lnTo>
                    <a:pt x="1940" y="1872"/>
                  </a:lnTo>
                  <a:lnTo>
                    <a:pt x="1873" y="1995"/>
                  </a:lnTo>
                  <a:lnTo>
                    <a:pt x="1794" y="2062"/>
                  </a:lnTo>
                  <a:lnTo>
                    <a:pt x="1704" y="2152"/>
                  </a:lnTo>
                  <a:lnTo>
                    <a:pt x="1536" y="2220"/>
                  </a:lnTo>
                  <a:lnTo>
                    <a:pt x="1335" y="2276"/>
                  </a:lnTo>
                  <a:lnTo>
                    <a:pt x="1234" y="2287"/>
                  </a:lnTo>
                  <a:lnTo>
                    <a:pt x="1043" y="2287"/>
                  </a:lnTo>
                  <a:lnTo>
                    <a:pt x="864" y="2265"/>
                  </a:lnTo>
                  <a:lnTo>
                    <a:pt x="651" y="2209"/>
                  </a:lnTo>
                  <a:lnTo>
                    <a:pt x="449" y="2118"/>
                  </a:lnTo>
                  <a:lnTo>
                    <a:pt x="292" y="2029"/>
                  </a:lnTo>
                  <a:lnTo>
                    <a:pt x="158" y="1928"/>
                  </a:lnTo>
                  <a:lnTo>
                    <a:pt x="102" y="1850"/>
                  </a:lnTo>
                  <a:lnTo>
                    <a:pt x="91" y="1771"/>
                  </a:lnTo>
                  <a:lnTo>
                    <a:pt x="69" y="1535"/>
                  </a:lnTo>
                  <a:lnTo>
                    <a:pt x="80" y="1379"/>
                  </a:lnTo>
                  <a:lnTo>
                    <a:pt x="147" y="1211"/>
                  </a:lnTo>
                  <a:lnTo>
                    <a:pt x="236" y="1021"/>
                  </a:lnTo>
                  <a:lnTo>
                    <a:pt x="393" y="852"/>
                  </a:lnTo>
                  <a:lnTo>
                    <a:pt x="539" y="662"/>
                  </a:lnTo>
                  <a:lnTo>
                    <a:pt x="674" y="561"/>
                  </a:lnTo>
                  <a:lnTo>
                    <a:pt x="752" y="494"/>
                  </a:lnTo>
                  <a:lnTo>
                    <a:pt x="730" y="43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956360" y="5505480"/>
              <a:ext cx="108720" cy="193320"/>
            </a:xfrm>
            <a:custGeom>
              <a:avLst/>
              <a:gdLst/>
              <a:ahLst/>
              <a:rect l="l" t="t" r="r" b="b"/>
              <a:pathLst>
                <a:path w="426" h="728">
                  <a:moveTo>
                    <a:pt x="257" y="134"/>
                  </a:moveTo>
                  <a:lnTo>
                    <a:pt x="335" y="145"/>
                  </a:lnTo>
                  <a:lnTo>
                    <a:pt x="403" y="201"/>
                  </a:lnTo>
                  <a:lnTo>
                    <a:pt x="426" y="257"/>
                  </a:lnTo>
                  <a:lnTo>
                    <a:pt x="346" y="279"/>
                  </a:lnTo>
                  <a:lnTo>
                    <a:pt x="301" y="234"/>
                  </a:lnTo>
                  <a:lnTo>
                    <a:pt x="246" y="212"/>
                  </a:lnTo>
                  <a:lnTo>
                    <a:pt x="190" y="201"/>
                  </a:lnTo>
                  <a:lnTo>
                    <a:pt x="100" y="223"/>
                  </a:lnTo>
                  <a:lnTo>
                    <a:pt x="78" y="279"/>
                  </a:lnTo>
                  <a:lnTo>
                    <a:pt x="123" y="324"/>
                  </a:lnTo>
                  <a:lnTo>
                    <a:pt x="234" y="357"/>
                  </a:lnTo>
                  <a:lnTo>
                    <a:pt x="346" y="357"/>
                  </a:lnTo>
                  <a:lnTo>
                    <a:pt x="380" y="391"/>
                  </a:lnTo>
                  <a:lnTo>
                    <a:pt x="403" y="447"/>
                  </a:lnTo>
                  <a:lnTo>
                    <a:pt x="391" y="514"/>
                  </a:lnTo>
                  <a:lnTo>
                    <a:pt x="324" y="559"/>
                  </a:lnTo>
                  <a:lnTo>
                    <a:pt x="246" y="559"/>
                  </a:lnTo>
                  <a:lnTo>
                    <a:pt x="190" y="559"/>
                  </a:lnTo>
                  <a:lnTo>
                    <a:pt x="167" y="615"/>
                  </a:lnTo>
                  <a:lnTo>
                    <a:pt x="178" y="716"/>
                  </a:lnTo>
                  <a:lnTo>
                    <a:pt x="100" y="728"/>
                  </a:lnTo>
                  <a:lnTo>
                    <a:pt x="89" y="649"/>
                  </a:lnTo>
                  <a:lnTo>
                    <a:pt x="111" y="559"/>
                  </a:lnTo>
                  <a:lnTo>
                    <a:pt x="44" y="525"/>
                  </a:lnTo>
                  <a:lnTo>
                    <a:pt x="0" y="492"/>
                  </a:lnTo>
                  <a:lnTo>
                    <a:pt x="67" y="425"/>
                  </a:lnTo>
                  <a:lnTo>
                    <a:pt x="100" y="469"/>
                  </a:lnTo>
                  <a:lnTo>
                    <a:pt x="156" y="480"/>
                  </a:lnTo>
                  <a:lnTo>
                    <a:pt x="234" y="492"/>
                  </a:lnTo>
                  <a:lnTo>
                    <a:pt x="301" y="492"/>
                  </a:lnTo>
                  <a:lnTo>
                    <a:pt x="335" y="480"/>
                  </a:lnTo>
                  <a:lnTo>
                    <a:pt x="313" y="436"/>
                  </a:lnTo>
                  <a:lnTo>
                    <a:pt x="257" y="425"/>
                  </a:lnTo>
                  <a:lnTo>
                    <a:pt x="156" y="402"/>
                  </a:lnTo>
                  <a:lnTo>
                    <a:pt x="55" y="369"/>
                  </a:lnTo>
                  <a:lnTo>
                    <a:pt x="22" y="313"/>
                  </a:lnTo>
                  <a:lnTo>
                    <a:pt x="11" y="246"/>
                  </a:lnTo>
                  <a:lnTo>
                    <a:pt x="67" y="178"/>
                  </a:lnTo>
                  <a:lnTo>
                    <a:pt x="145" y="123"/>
                  </a:lnTo>
                  <a:lnTo>
                    <a:pt x="201" y="123"/>
                  </a:lnTo>
                  <a:lnTo>
                    <a:pt x="223" y="0"/>
                  </a:lnTo>
                  <a:lnTo>
                    <a:pt x="290" y="11"/>
                  </a:lnTo>
                  <a:lnTo>
                    <a:pt x="257" y="1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55920" y="5496120"/>
              <a:ext cx="45720" cy="68760"/>
            </a:xfrm>
            <a:custGeom>
              <a:avLst/>
              <a:gdLst/>
              <a:ahLst/>
              <a:rect l="l" t="t" r="r" b="b"/>
              <a:pathLst>
                <a:path w="179" h="259">
                  <a:moveTo>
                    <a:pt x="0" y="203"/>
                  </a:moveTo>
                  <a:lnTo>
                    <a:pt x="78" y="68"/>
                  </a:lnTo>
                  <a:lnTo>
                    <a:pt x="179" y="0"/>
                  </a:lnTo>
                  <a:lnTo>
                    <a:pt x="179" y="35"/>
                  </a:lnTo>
                  <a:lnTo>
                    <a:pt x="111" y="113"/>
                  </a:lnTo>
                  <a:lnTo>
                    <a:pt x="33" y="25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162640" y="5668920"/>
              <a:ext cx="28440" cy="4752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12" y="0"/>
                  </a:moveTo>
                  <a:lnTo>
                    <a:pt x="34" y="112"/>
                  </a:lnTo>
                  <a:lnTo>
                    <a:pt x="0" y="157"/>
                  </a:lnTo>
                  <a:lnTo>
                    <a:pt x="45" y="180"/>
                  </a:lnTo>
                  <a:lnTo>
                    <a:pt x="78" y="157"/>
                  </a:lnTo>
                  <a:lnTo>
                    <a:pt x="112" y="79"/>
                  </a:lnTo>
                  <a:lnTo>
                    <a:pt x="112" y="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0" y="1295280"/>
            <a:ext cx="9144000" cy="914400"/>
          </a:xfrm>
          <a:custGeom>
            <a:avLst/>
            <a:gdLst>
              <a:gd name="textAreaLeft" fmla="*/ 1218960 w 9144000"/>
              <a:gd name="textAreaRight" fmla="*/ 7925040 w 9144000"/>
              <a:gd name="textAreaTop" fmla="*/ 0 h 914400"/>
              <a:gd name="textAreaBottom" fmla="*/ 758520 h 914400"/>
            </a:gdLst>
            <a:ahLst/>
            <a:rect l="textAreaLeft" t="textAreaTop" r="textAreaRight" b="textAreaBottom"/>
            <a:pathLst>
              <a:path w="21600" h="21600">
                <a:moveTo>
                  <a:pt x="5580" y="17918"/>
                </a:moveTo>
                <a:lnTo>
                  <a:pt x="5580" y="20680"/>
                </a:lnTo>
                <a:cubicBezTo>
                  <a:pt x="5580" y="21140"/>
                  <a:pt x="5160" y="21600"/>
                  <a:pt x="4740" y="21600"/>
                </a:cubicBezTo>
                <a:lnTo>
                  <a:pt x="0" y="21600"/>
                </a:lnTo>
                <a:lnTo>
                  <a:pt x="2750" y="12641"/>
                </a:lnTo>
                <a:lnTo>
                  <a:pt x="0" y="3682"/>
                </a:lnTo>
                <a:lnTo>
                  <a:pt x="2880" y="3682"/>
                </a:lnTo>
                <a:lnTo>
                  <a:pt x="2880" y="921"/>
                </a:lnTo>
                <a:cubicBezTo>
                  <a:pt x="2880" y="460"/>
                  <a:pt x="3300" y="0"/>
                  <a:pt x="3720" y="0"/>
                </a:cubicBezTo>
                <a:lnTo>
                  <a:pt x="17880" y="0"/>
                </a:lnTo>
                <a:cubicBezTo>
                  <a:pt x="18300" y="0"/>
                  <a:pt x="18720" y="460"/>
                  <a:pt x="18720" y="921"/>
                </a:cubicBezTo>
                <a:lnTo>
                  <a:pt x="18720" y="3682"/>
                </a:lnTo>
                <a:lnTo>
                  <a:pt x="21600" y="3682"/>
                </a:lnTo>
                <a:lnTo>
                  <a:pt x="18850" y="12641"/>
                </a:lnTo>
                <a:lnTo>
                  <a:pt x="21600" y="21600"/>
                </a:lnTo>
                <a:lnTo>
                  <a:pt x="16860" y="21600"/>
                </a:lnTo>
                <a:cubicBezTo>
                  <a:pt x="16440" y="21600"/>
                  <a:pt x="16020" y="21140"/>
                  <a:pt x="16020" y="20680"/>
                </a:cubicBezTo>
                <a:lnTo>
                  <a:pt x="16020" y="17918"/>
                </a:lnTo>
                <a:close/>
              </a:path>
              <a:path fill="darkenLess" w="21600" h="21600">
                <a:moveTo>
                  <a:pt x="5580" y="17918"/>
                </a:moveTo>
                <a:lnTo>
                  <a:pt x="5580" y="20680"/>
                </a:lnTo>
                <a:cubicBezTo>
                  <a:pt x="5580" y="20219"/>
                  <a:pt x="5160" y="19759"/>
                  <a:pt x="4740" y="19759"/>
                </a:cubicBezTo>
                <a:lnTo>
                  <a:pt x="3720" y="19759"/>
                </a:lnTo>
                <a:cubicBezTo>
                  <a:pt x="3300" y="19759"/>
                  <a:pt x="2880" y="19299"/>
                  <a:pt x="2880" y="18839"/>
                </a:cubicBezTo>
                <a:cubicBezTo>
                  <a:pt x="2880" y="18378"/>
                  <a:pt x="3300" y="17918"/>
                  <a:pt x="3720" y="17918"/>
                </a:cubicBezTo>
                <a:close/>
              </a:path>
              <a:path fill="darkenLess" w="21600" h="21600">
                <a:moveTo>
                  <a:pt x="16020" y="17918"/>
                </a:moveTo>
                <a:lnTo>
                  <a:pt x="16020" y="20680"/>
                </a:lnTo>
                <a:cubicBezTo>
                  <a:pt x="16020" y="20219"/>
                  <a:pt x="16440" y="19759"/>
                  <a:pt x="16860" y="19759"/>
                </a:cubicBezTo>
                <a:lnTo>
                  <a:pt x="17880" y="19759"/>
                </a:lnTo>
                <a:cubicBezTo>
                  <a:pt x="18300" y="19759"/>
                  <a:pt x="18720" y="19299"/>
                  <a:pt x="18720" y="18839"/>
                </a:cubicBezTo>
                <a:cubicBezTo>
                  <a:pt x="18720" y="18378"/>
                  <a:pt x="18300" y="17918"/>
                  <a:pt x="17880" y="17918"/>
                </a:cubicBezTo>
                <a:close/>
              </a:path>
              <a:path fill="darkenLess" w="21600" h="21600">
                <a:moveTo>
                  <a:pt x="2880" y="18839"/>
                </a:moveTo>
                <a:lnTo>
                  <a:pt x="2880" y="3682"/>
                </a:lnTo>
              </a:path>
              <a:path fill="darkenLess" w="21600" h="21600">
                <a:moveTo>
                  <a:pt x="18720" y="18839"/>
                </a:moveTo>
                <a:lnTo>
                  <a:pt x="18720" y="3682"/>
                </a:lnTo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05120" y="14151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Planowanie wyd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219320" y="3962520"/>
            <a:ext cx="304560" cy="1828800"/>
          </a:xfrm>
          <a:prstGeom prst="upArrow">
            <a:avLst>
              <a:gd name="adj1" fmla="val 50000"/>
              <a:gd name="adj2" fmla="val 1501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3130200">
            <a:off x="5121000" y="4543200"/>
            <a:ext cx="304920" cy="1067040"/>
          </a:xfrm>
          <a:prstGeom prst="upArrow">
            <a:avLst>
              <a:gd name="adj1" fmla="val 50000"/>
              <a:gd name="adj2" fmla="val 8748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CMM &amp; Zarządzanie zmianą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1322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43000" y="1461240"/>
              <a:ext cx="35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Zarządzanie zmianą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2173320" y="2666880"/>
            <a:ext cx="1407960" cy="841320"/>
            <a:chOff x="2173320" y="2666880"/>
            <a:chExt cx="1407960" cy="841320"/>
          </a:xfrm>
        </p:grpSpPr>
        <p:sp>
          <p:nvSpPr>
            <p:cNvPr id="1325" name=""/>
            <p:cNvSpPr/>
            <p:nvPr/>
          </p:nvSpPr>
          <p:spPr>
            <a:xfrm>
              <a:off x="2209680" y="2666880"/>
              <a:ext cx="137160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58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73320" y="2673360"/>
              <a:ext cx="131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Change requ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52280" y="2666880"/>
            <a:ext cx="914040" cy="937800"/>
            <a:chOff x="152280" y="2666880"/>
            <a:chExt cx="914040" cy="937800"/>
          </a:xfrm>
        </p:grpSpPr>
        <p:sp>
          <p:nvSpPr>
            <p:cNvPr id="1328" name=""/>
            <p:cNvSpPr/>
            <p:nvPr/>
          </p:nvSpPr>
          <p:spPr>
            <a:xfrm>
              <a:off x="161280" y="2678400"/>
              <a:ext cx="901080" cy="91584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48040" y="2844000"/>
              <a:ext cx="527400" cy="37944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152280" y="2666880"/>
              <a:ext cx="914040" cy="937800"/>
              <a:chOff x="152280" y="2666880"/>
              <a:chExt cx="914040" cy="937800"/>
            </a:xfrm>
          </p:grpSpPr>
          <p:sp>
            <p:nvSpPr>
              <p:cNvPr id="1331" name=""/>
              <p:cNvSpPr/>
              <p:nvPr/>
            </p:nvSpPr>
            <p:spPr>
              <a:xfrm>
                <a:off x="160200" y="3140280"/>
                <a:ext cx="906120" cy="46440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7600" y="3297960"/>
                <a:ext cx="468360" cy="10152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55240" y="3469680"/>
                <a:ext cx="48960" cy="4032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45960" y="346464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42960" y="3452040"/>
                <a:ext cx="198720" cy="4752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2280" y="2666880"/>
                <a:ext cx="837720" cy="62532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08080" y="2678400"/>
                <a:ext cx="721440" cy="62352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88720" y="2835000"/>
                <a:ext cx="497880" cy="39888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37600" y="2841120"/>
                <a:ext cx="495000" cy="38808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1066680" y="2286000"/>
            <a:ext cx="838440" cy="1371600"/>
            <a:chOff x="1066680" y="2286000"/>
            <a:chExt cx="838440" cy="1371600"/>
          </a:xfrm>
        </p:grpSpPr>
        <p:sp>
          <p:nvSpPr>
            <p:cNvPr id="1341" name=""/>
            <p:cNvSpPr/>
            <p:nvPr/>
          </p:nvSpPr>
          <p:spPr>
            <a:xfrm>
              <a:off x="1066680" y="2706120"/>
              <a:ext cx="327960" cy="466920"/>
            </a:xfrm>
            <a:custGeom>
              <a:avLst/>
              <a:gdLst/>
              <a:ahLst/>
              <a:rect l="l" t="t" r="r" b="b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59000" y="2685240"/>
              <a:ext cx="227880" cy="446760"/>
            </a:xfrm>
            <a:custGeom>
              <a:avLst/>
              <a:gdLst/>
              <a:ahLst/>
              <a:rect l="l" t="t" r="r" b="b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22000" y="3074040"/>
              <a:ext cx="133200" cy="583560"/>
            </a:xfrm>
            <a:custGeom>
              <a:avLst/>
              <a:gdLst/>
              <a:ahLst/>
              <a:rect l="l" t="t" r="r" b="b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234800" y="3075120"/>
              <a:ext cx="207720" cy="581760"/>
            </a:xfrm>
            <a:custGeom>
              <a:avLst/>
              <a:gdLst/>
              <a:ahLst/>
              <a:rect l="l" t="t" r="r" b="b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74400" y="2350080"/>
              <a:ext cx="267840" cy="303840"/>
            </a:xfrm>
            <a:custGeom>
              <a:avLst/>
              <a:gdLst/>
              <a:ahLst/>
              <a:rect l="l" t="t" r="r" b="b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72680" y="2286000"/>
              <a:ext cx="532440" cy="507960"/>
            </a:xfrm>
            <a:custGeom>
              <a:avLst/>
              <a:gdLst/>
              <a:ahLst/>
              <a:rect l="l" t="t" r="r" b="b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228600" y="28576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r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60020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581280" y="2895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4038480" y="2306520"/>
            <a:ext cx="1128960" cy="135108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990720" y="358128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352680" y="358128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S.C.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5145120" y="2666880"/>
            <a:ext cx="1407960" cy="841320"/>
            <a:chOff x="5145120" y="2666880"/>
            <a:chExt cx="1407960" cy="841320"/>
          </a:xfrm>
        </p:grpSpPr>
        <p:sp>
          <p:nvSpPr>
            <p:cNvPr id="1354" name=""/>
            <p:cNvSpPr/>
            <p:nvPr/>
          </p:nvSpPr>
          <p:spPr>
            <a:xfrm>
              <a:off x="5181480" y="2666880"/>
              <a:ext cx="137160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58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145120" y="2673360"/>
              <a:ext cx="131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Change requ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457200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553080" y="2895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2"/>
          <a:stretch/>
        </p:blipFill>
        <p:spPr>
          <a:xfrm>
            <a:off x="7010280" y="2247840"/>
            <a:ext cx="1067040" cy="144792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6705720" y="3543480"/>
            <a:ext cx="167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7659720" y="4187880"/>
            <a:ext cx="1407960" cy="841320"/>
            <a:chOff x="7659720" y="4187880"/>
            <a:chExt cx="1407960" cy="841320"/>
          </a:xfrm>
        </p:grpSpPr>
        <p:sp>
          <p:nvSpPr>
            <p:cNvPr id="1361" name=""/>
            <p:cNvSpPr/>
            <p:nvPr/>
          </p:nvSpPr>
          <p:spPr>
            <a:xfrm>
              <a:off x="7696080" y="4187880"/>
              <a:ext cx="137160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58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659720" y="4194360"/>
              <a:ext cx="131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Change re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6554880" y="640080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SCC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6553080" y="5257800"/>
            <a:ext cx="1524240" cy="1218600"/>
            <a:chOff x="6553080" y="5257800"/>
            <a:chExt cx="1524240" cy="1218600"/>
          </a:xfrm>
        </p:grpSpPr>
        <p:grpSp>
          <p:nvGrpSpPr>
            <p:cNvPr id="1365" name=""/>
            <p:cNvGrpSpPr/>
            <p:nvPr/>
          </p:nvGrpSpPr>
          <p:grpSpPr>
            <a:xfrm>
              <a:off x="7821360" y="5495400"/>
              <a:ext cx="245880" cy="879120"/>
              <a:chOff x="7821360" y="5495400"/>
              <a:chExt cx="245880" cy="87912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7821360" y="5769000"/>
                <a:ext cx="245880" cy="605520"/>
                <a:chOff x="7821360" y="5769000"/>
                <a:chExt cx="245880" cy="6055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7863120" y="5769000"/>
                  <a:ext cx="165240" cy="127440"/>
                </a:xfrm>
                <a:prstGeom prst="rect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821360" y="5852160"/>
                  <a:ext cx="245880" cy="522360"/>
                </a:xfrm>
                <a:prstGeom prst="rect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7821360" y="5770080"/>
                  <a:ext cx="903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514"/>
                      </a:moveTo>
                      <a:arcTo wR="10800" hR="10800" stAng="-10708955" swAng="51724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14"/>
                      </a:moveTo>
                      <a:arcTo wR="10800" hR="10800" stAng="-10708955" swAng="5172422"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976880" y="5770080"/>
                  <a:ext cx="90000" cy="21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6" y="2"/>
                      </a:moveTo>
                      <a:arcTo wR="10800" hR="10800" stAng="-5468065" swAng="5420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6" y="2"/>
                      </a:moveTo>
                      <a:arcTo wR="10800" hR="10800" stAng="-5468065" swAng="5420479"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"/>
              <p:cNvSpPr/>
              <p:nvPr/>
            </p:nvSpPr>
            <p:spPr>
              <a:xfrm>
                <a:off x="7876440" y="5495400"/>
                <a:ext cx="133560" cy="25272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7569360" y="5257800"/>
              <a:ext cx="246600" cy="878040"/>
              <a:chOff x="7569360" y="5257800"/>
              <a:chExt cx="246600" cy="87804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7569360" y="5529960"/>
                <a:ext cx="246600" cy="605880"/>
                <a:chOff x="7569360" y="5529960"/>
                <a:chExt cx="246600" cy="60588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7610040" y="5529960"/>
                  <a:ext cx="166680" cy="13068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569360" y="5614560"/>
                  <a:ext cx="246600" cy="52128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570080" y="5531400"/>
                  <a:ext cx="8820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58"/>
                      </a:moveTo>
                      <a:arcTo wR="10800" hR="10800" stAng="-10754925" swAng="52859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58"/>
                      </a:moveTo>
                      <a:arcTo wR="10800" hR="10800" stAng="-10754925" swAng="5285942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725240" y="5531400"/>
                  <a:ext cx="90000" cy="21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6" y="2"/>
                      </a:moveTo>
                      <a:arcTo wR="10800" hR="10800" stAng="-5468065" swAng="5420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6" y="2"/>
                      </a:moveTo>
                      <a:arcTo wR="10800" hR="10800" stAng="-5468065" swAng="5420479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7624440" y="5257800"/>
                <a:ext cx="133920" cy="251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6831360" y="5257800"/>
              <a:ext cx="246600" cy="878040"/>
              <a:chOff x="6831360" y="5257800"/>
              <a:chExt cx="246600" cy="87804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6831360" y="5529960"/>
                <a:ext cx="246600" cy="605880"/>
                <a:chOff x="6831360" y="5529960"/>
                <a:chExt cx="246600" cy="605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6872760" y="5529960"/>
                  <a:ext cx="165600" cy="130680"/>
                </a:xfrm>
                <a:prstGeom prst="rect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831360" y="5614560"/>
                  <a:ext cx="246600" cy="521280"/>
                </a:xfrm>
                <a:prstGeom prst="rect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831360" y="5531400"/>
                  <a:ext cx="903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57"/>
                      </a:moveTo>
                      <a:arcTo wR="10800" hR="10800" stAng="-10754470" swAng="52861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57"/>
                      </a:moveTo>
                      <a:arcTo wR="10800" hR="10800" stAng="-10754470" swAng="5286176"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986520" y="5531400"/>
                  <a:ext cx="89640" cy="21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47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4769"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"/>
              <p:cNvSpPr/>
              <p:nvPr/>
            </p:nvSpPr>
            <p:spPr>
              <a:xfrm>
                <a:off x="6887520" y="5257800"/>
                <a:ext cx="133920" cy="25128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571080" y="5495400"/>
              <a:ext cx="246600" cy="879120"/>
              <a:chOff x="6571080" y="5495400"/>
              <a:chExt cx="246600" cy="879120"/>
            </a:xfrm>
          </p:grpSpPr>
          <p:sp>
            <p:nvSpPr>
              <p:cNvPr id="1387" name=""/>
              <p:cNvSpPr/>
              <p:nvPr/>
            </p:nvSpPr>
            <p:spPr>
              <a:xfrm>
                <a:off x="6627240" y="5495400"/>
                <a:ext cx="133200" cy="2527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6571080" y="5769000"/>
                <a:ext cx="246600" cy="605520"/>
                <a:chOff x="6571080" y="5769000"/>
                <a:chExt cx="246600" cy="6055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613560" y="5769000"/>
                  <a:ext cx="164160" cy="12744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571080" y="5852160"/>
                  <a:ext cx="246600" cy="52236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571080" y="5770080"/>
                  <a:ext cx="8964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514"/>
                      </a:moveTo>
                      <a:arcTo wR="10800" hR="10800" stAng="-10708955" swAng="52406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14"/>
                      </a:moveTo>
                      <a:arcTo wR="10800" hR="10800" stAng="-10708955" swAng="5240662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725880" y="5770080"/>
                  <a:ext cx="90360" cy="21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33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3385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3" name=""/>
            <p:cNvSpPr/>
            <p:nvPr/>
          </p:nvSpPr>
          <p:spPr>
            <a:xfrm>
              <a:off x="6553080" y="5509080"/>
              <a:ext cx="1524240" cy="864720"/>
            </a:xfrm>
            <a:custGeom>
              <a:avLst/>
              <a:gdLst/>
              <a:ahLst/>
              <a:rect l="l" t="t" r="r" b="b"/>
              <a:pathLst>
                <a:path w="3360" h="1243">
                  <a:moveTo>
                    <a:pt x="0" y="1243"/>
                  </a:moveTo>
                  <a:lnTo>
                    <a:pt x="1198" y="0"/>
                  </a:lnTo>
                  <a:lnTo>
                    <a:pt x="2113" y="0"/>
                  </a:lnTo>
                  <a:lnTo>
                    <a:pt x="3360" y="1243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7306200" y="5580360"/>
              <a:ext cx="304560" cy="896040"/>
              <a:chOff x="7306200" y="5580360"/>
              <a:chExt cx="304560" cy="896040"/>
            </a:xfrm>
          </p:grpSpPr>
          <p:sp>
            <p:nvSpPr>
              <p:cNvPr id="1395" name=""/>
              <p:cNvSpPr/>
              <p:nvPr/>
            </p:nvSpPr>
            <p:spPr>
              <a:xfrm>
                <a:off x="7375680" y="5580360"/>
                <a:ext cx="163080" cy="3045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96" name=""/>
              <p:cNvGrpSpPr/>
              <p:nvPr/>
            </p:nvGrpSpPr>
            <p:grpSpPr>
              <a:xfrm>
                <a:off x="7306200" y="5910840"/>
                <a:ext cx="304560" cy="565560"/>
                <a:chOff x="7306200" y="5910840"/>
                <a:chExt cx="304560" cy="56556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7357680" y="5910840"/>
                  <a:ext cx="201240" cy="15732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306920" y="6016680"/>
                  <a:ext cx="303840" cy="45972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306200" y="5912280"/>
                  <a:ext cx="111960" cy="24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4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414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498080" y="5913360"/>
                  <a:ext cx="111600" cy="25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87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8720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1" name=""/>
            <p:cNvGrpSpPr/>
            <p:nvPr/>
          </p:nvGrpSpPr>
          <p:grpSpPr>
            <a:xfrm>
              <a:off x="6988320" y="5571720"/>
              <a:ext cx="305280" cy="896040"/>
              <a:chOff x="6988320" y="5571720"/>
              <a:chExt cx="305280" cy="896040"/>
            </a:xfrm>
          </p:grpSpPr>
          <p:sp>
            <p:nvSpPr>
              <p:cNvPr id="1402" name=""/>
              <p:cNvSpPr/>
              <p:nvPr/>
            </p:nvSpPr>
            <p:spPr>
              <a:xfrm>
                <a:off x="7058880" y="5571720"/>
                <a:ext cx="162360" cy="304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6988320" y="5903640"/>
                <a:ext cx="305280" cy="564120"/>
                <a:chOff x="6988320" y="5903640"/>
                <a:chExt cx="305280" cy="5641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7040160" y="5903640"/>
                  <a:ext cx="201240" cy="155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989040" y="6007680"/>
                  <a:ext cx="304560" cy="460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988320" y="5903640"/>
                  <a:ext cx="111960" cy="24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1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107"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182000" y="5903640"/>
                  <a:ext cx="111600" cy="24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8" name=""/>
          <p:cNvSpPr/>
          <p:nvPr/>
        </p:nvSpPr>
        <p:spPr>
          <a:xfrm>
            <a:off x="8077320" y="2895480"/>
            <a:ext cx="609480" cy="304920"/>
          </a:xfrm>
          <a:prstGeom prst="rightArrow">
            <a:avLst>
              <a:gd name="adj1" fmla="val 55556"/>
              <a:gd name="adj2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458200" y="312408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534520" y="5029200"/>
            <a:ext cx="15228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153280" y="5877000"/>
            <a:ext cx="457200" cy="304560"/>
          </a:xfrm>
          <a:prstGeom prst="leftArrow">
            <a:avLst>
              <a:gd name="adj1" fmla="val 43750"/>
              <a:gd name="adj2" fmla="val 562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38280" y="5788080"/>
            <a:ext cx="5838840" cy="841320"/>
            <a:chOff x="638280" y="5788080"/>
            <a:chExt cx="5838840" cy="841320"/>
          </a:xfrm>
        </p:grpSpPr>
        <p:grpSp>
          <p:nvGrpSpPr>
            <p:cNvPr id="1413" name=""/>
            <p:cNvGrpSpPr/>
            <p:nvPr/>
          </p:nvGrpSpPr>
          <p:grpSpPr>
            <a:xfrm>
              <a:off x="638280" y="5788080"/>
              <a:ext cx="1407960" cy="841320"/>
              <a:chOff x="638280" y="5788080"/>
              <a:chExt cx="1407960" cy="841320"/>
            </a:xfrm>
          </p:grpSpPr>
          <p:sp>
            <p:nvSpPr>
              <p:cNvPr id="1414" name=""/>
              <p:cNvSpPr/>
              <p:nvPr/>
            </p:nvSpPr>
            <p:spPr>
              <a:xfrm>
                <a:off x="674640" y="5788080"/>
                <a:ext cx="1371600" cy="8413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58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8280" y="5794560"/>
                <a:ext cx="13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Deci-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2057400" y="6172200"/>
              <a:ext cx="4419720" cy="304920"/>
            </a:xfrm>
            <a:prstGeom prst="leftArrow">
              <a:avLst>
                <a:gd name="adj1" fmla="val 58333"/>
                <a:gd name="adj2" fmla="val 132063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352680" y="5334120"/>
            <a:ext cx="3047760" cy="841320"/>
            <a:chOff x="3352680" y="5334120"/>
            <a:chExt cx="3047760" cy="841320"/>
          </a:xfrm>
        </p:grpSpPr>
        <p:grpSp>
          <p:nvGrpSpPr>
            <p:cNvPr id="1418" name=""/>
            <p:cNvGrpSpPr/>
            <p:nvPr/>
          </p:nvGrpSpPr>
          <p:grpSpPr>
            <a:xfrm>
              <a:off x="3352680" y="5334120"/>
              <a:ext cx="1585800" cy="841320"/>
              <a:chOff x="3352680" y="5334120"/>
              <a:chExt cx="1585800" cy="841320"/>
            </a:xfrm>
          </p:grpSpPr>
          <p:sp>
            <p:nvSpPr>
              <p:cNvPr id="1419" name=""/>
              <p:cNvSpPr/>
              <p:nvPr/>
            </p:nvSpPr>
            <p:spPr>
              <a:xfrm>
                <a:off x="3393360" y="5334120"/>
                <a:ext cx="1545120" cy="8413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58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352680" y="5340600"/>
                <a:ext cx="1478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hange ord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1" name=""/>
            <p:cNvSpPr/>
            <p:nvPr/>
          </p:nvSpPr>
          <p:spPr>
            <a:xfrm>
              <a:off x="4940640" y="5639040"/>
              <a:ext cx="1459800" cy="304920"/>
            </a:xfrm>
            <a:prstGeom prst="leftArrow">
              <a:avLst>
                <a:gd name="adj1" fmla="val 50000"/>
                <a:gd name="adj2" fmla="val 11968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 txBox="1"/>
          <p:nvPr/>
        </p:nvSpPr>
        <p:spPr>
          <a:xfrm>
            <a:off x="6934320" y="4600440"/>
            <a:ext cx="685800" cy="6573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56832" dir="19996359" blurRad="0" rotWithShape="0">
                    <a:srgbClr val="000099"/>
                  </a:outerShdw>
                </a:effectLst>
                <a:latin typeface="Impact"/>
              </a:rPr>
              <a:t>Y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56832" dir="19996359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5105520" y="3882960"/>
            <a:ext cx="1828800" cy="1680840"/>
            <a:chOff x="5105520" y="3882960"/>
            <a:chExt cx="1828800" cy="1680840"/>
          </a:xfrm>
        </p:grpSpPr>
        <p:pic>
          <p:nvPicPr>
            <p:cNvPr id="1424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2960"/>
              <a:ext cx="58104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5105520" y="510552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P. Mana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 rot="3130200">
            <a:off x="6366960" y="37162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arządzanie zmianą w X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020600" y="3551400"/>
            <a:ext cx="1091880" cy="1518840"/>
            <a:chOff x="1020600" y="3551400"/>
            <a:chExt cx="1091880" cy="1518840"/>
          </a:xfrm>
        </p:grpSpPr>
        <p:sp>
          <p:nvSpPr>
            <p:cNvPr id="1429" name=""/>
            <p:cNvSpPr/>
            <p:nvPr/>
          </p:nvSpPr>
          <p:spPr>
            <a:xfrm>
              <a:off x="1400760" y="3551400"/>
              <a:ext cx="244080" cy="381600"/>
            </a:xfrm>
            <a:custGeom>
              <a:avLst/>
              <a:gdLst/>
              <a:ahLst/>
              <a:rect l="l" t="t" r="r" b="b"/>
              <a:pathLst>
                <a:path w="537" h="654">
                  <a:moveTo>
                    <a:pt x="138" y="302"/>
                  </a:moveTo>
                  <a:lnTo>
                    <a:pt x="179" y="171"/>
                  </a:lnTo>
                  <a:lnTo>
                    <a:pt x="248" y="66"/>
                  </a:lnTo>
                  <a:lnTo>
                    <a:pt x="317" y="13"/>
                  </a:lnTo>
                  <a:lnTo>
                    <a:pt x="399" y="0"/>
                  </a:lnTo>
                  <a:lnTo>
                    <a:pt x="455" y="13"/>
                  </a:lnTo>
                  <a:lnTo>
                    <a:pt x="524" y="53"/>
                  </a:lnTo>
                  <a:lnTo>
                    <a:pt x="537" y="144"/>
                  </a:lnTo>
                  <a:lnTo>
                    <a:pt x="537" y="275"/>
                  </a:lnTo>
                  <a:lnTo>
                    <a:pt x="482" y="418"/>
                  </a:lnTo>
                  <a:lnTo>
                    <a:pt x="399" y="511"/>
                  </a:lnTo>
                  <a:lnTo>
                    <a:pt x="359" y="563"/>
                  </a:lnTo>
                  <a:lnTo>
                    <a:pt x="290" y="602"/>
                  </a:lnTo>
                  <a:lnTo>
                    <a:pt x="234" y="589"/>
                  </a:lnTo>
                  <a:lnTo>
                    <a:pt x="193" y="576"/>
                  </a:lnTo>
                  <a:lnTo>
                    <a:pt x="151" y="536"/>
                  </a:lnTo>
                  <a:lnTo>
                    <a:pt x="27" y="654"/>
                  </a:lnTo>
                  <a:lnTo>
                    <a:pt x="0" y="576"/>
                  </a:lnTo>
                  <a:lnTo>
                    <a:pt x="124" y="458"/>
                  </a:lnTo>
                  <a:lnTo>
                    <a:pt x="138" y="30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4120" y="3940200"/>
              <a:ext cx="155880" cy="511560"/>
            </a:xfrm>
            <a:custGeom>
              <a:avLst/>
              <a:gdLst/>
              <a:ahLst/>
              <a:rect l="l" t="t" r="r" b="b"/>
              <a:pathLst>
                <a:path w="345" h="876">
                  <a:moveTo>
                    <a:pt x="111" y="26"/>
                  </a:moveTo>
                  <a:lnTo>
                    <a:pt x="180" y="0"/>
                  </a:lnTo>
                  <a:lnTo>
                    <a:pt x="262" y="26"/>
                  </a:lnTo>
                  <a:lnTo>
                    <a:pt x="318" y="118"/>
                  </a:lnTo>
                  <a:lnTo>
                    <a:pt x="345" y="262"/>
                  </a:lnTo>
                  <a:lnTo>
                    <a:pt x="345" y="483"/>
                  </a:lnTo>
                  <a:lnTo>
                    <a:pt x="303" y="654"/>
                  </a:lnTo>
                  <a:lnTo>
                    <a:pt x="262" y="785"/>
                  </a:lnTo>
                  <a:lnTo>
                    <a:pt x="151" y="876"/>
                  </a:lnTo>
                  <a:lnTo>
                    <a:pt x="55" y="863"/>
                  </a:lnTo>
                  <a:lnTo>
                    <a:pt x="0" y="745"/>
                  </a:lnTo>
                  <a:lnTo>
                    <a:pt x="42" y="614"/>
                  </a:lnTo>
                  <a:lnTo>
                    <a:pt x="82" y="496"/>
                  </a:lnTo>
                  <a:lnTo>
                    <a:pt x="96" y="380"/>
                  </a:lnTo>
                  <a:lnTo>
                    <a:pt x="82" y="222"/>
                  </a:lnTo>
                  <a:lnTo>
                    <a:pt x="82" y="78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20600" y="3947400"/>
              <a:ext cx="505080" cy="390600"/>
            </a:xfrm>
            <a:custGeom>
              <a:avLst/>
              <a:gdLst/>
              <a:ahLst/>
              <a:rect l="l" t="t" r="r" b="b"/>
              <a:pathLst>
                <a:path w="1117" h="667">
                  <a:moveTo>
                    <a:pt x="910" y="104"/>
                  </a:moveTo>
                  <a:lnTo>
                    <a:pt x="992" y="26"/>
                  </a:lnTo>
                  <a:lnTo>
                    <a:pt x="1061" y="0"/>
                  </a:lnTo>
                  <a:lnTo>
                    <a:pt x="1103" y="13"/>
                  </a:lnTo>
                  <a:lnTo>
                    <a:pt x="1117" y="64"/>
                  </a:lnTo>
                  <a:lnTo>
                    <a:pt x="1103" y="117"/>
                  </a:lnTo>
                  <a:lnTo>
                    <a:pt x="1075" y="130"/>
                  </a:lnTo>
                  <a:lnTo>
                    <a:pt x="938" y="209"/>
                  </a:lnTo>
                  <a:lnTo>
                    <a:pt x="800" y="300"/>
                  </a:lnTo>
                  <a:lnTo>
                    <a:pt x="689" y="365"/>
                  </a:lnTo>
                  <a:lnTo>
                    <a:pt x="551" y="418"/>
                  </a:lnTo>
                  <a:lnTo>
                    <a:pt x="386" y="470"/>
                  </a:lnTo>
                  <a:lnTo>
                    <a:pt x="359" y="496"/>
                  </a:lnTo>
                  <a:lnTo>
                    <a:pt x="399" y="640"/>
                  </a:lnTo>
                  <a:lnTo>
                    <a:pt x="372" y="640"/>
                  </a:lnTo>
                  <a:lnTo>
                    <a:pt x="317" y="536"/>
                  </a:lnTo>
                  <a:lnTo>
                    <a:pt x="290" y="536"/>
                  </a:lnTo>
                  <a:lnTo>
                    <a:pt x="221" y="667"/>
                  </a:lnTo>
                  <a:lnTo>
                    <a:pt x="179" y="667"/>
                  </a:lnTo>
                  <a:lnTo>
                    <a:pt x="234" y="536"/>
                  </a:lnTo>
                  <a:lnTo>
                    <a:pt x="221" y="496"/>
                  </a:lnTo>
                  <a:lnTo>
                    <a:pt x="0" y="509"/>
                  </a:lnTo>
                  <a:lnTo>
                    <a:pt x="0" y="470"/>
                  </a:lnTo>
                  <a:lnTo>
                    <a:pt x="207" y="444"/>
                  </a:lnTo>
                  <a:lnTo>
                    <a:pt x="221" y="418"/>
                  </a:lnTo>
                  <a:lnTo>
                    <a:pt x="110" y="340"/>
                  </a:lnTo>
                  <a:lnTo>
                    <a:pt x="152" y="326"/>
                  </a:lnTo>
                  <a:lnTo>
                    <a:pt x="290" y="391"/>
                  </a:lnTo>
                  <a:lnTo>
                    <a:pt x="372" y="391"/>
                  </a:lnTo>
                  <a:lnTo>
                    <a:pt x="510" y="378"/>
                  </a:lnTo>
                  <a:lnTo>
                    <a:pt x="593" y="340"/>
                  </a:lnTo>
                  <a:lnTo>
                    <a:pt x="731" y="274"/>
                  </a:lnTo>
                  <a:lnTo>
                    <a:pt x="841" y="169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551240" y="3794760"/>
              <a:ext cx="561240" cy="213480"/>
            </a:xfrm>
            <a:custGeom>
              <a:avLst/>
              <a:gdLst/>
              <a:ahLst/>
              <a:rect l="l" t="t" r="r" b="b"/>
              <a:pathLst>
                <a:path w="1241" h="367">
                  <a:moveTo>
                    <a:pt x="0" y="289"/>
                  </a:moveTo>
                  <a:lnTo>
                    <a:pt x="15" y="236"/>
                  </a:lnTo>
                  <a:lnTo>
                    <a:pt x="194" y="171"/>
                  </a:lnTo>
                  <a:lnTo>
                    <a:pt x="387" y="105"/>
                  </a:lnTo>
                  <a:lnTo>
                    <a:pt x="690" y="66"/>
                  </a:lnTo>
                  <a:lnTo>
                    <a:pt x="966" y="79"/>
                  </a:lnTo>
                  <a:lnTo>
                    <a:pt x="1063" y="79"/>
                  </a:lnTo>
                  <a:lnTo>
                    <a:pt x="1214" y="0"/>
                  </a:lnTo>
                  <a:lnTo>
                    <a:pt x="1241" y="26"/>
                  </a:lnTo>
                  <a:lnTo>
                    <a:pt x="1104" y="131"/>
                  </a:lnTo>
                  <a:lnTo>
                    <a:pt x="993" y="236"/>
                  </a:lnTo>
                  <a:lnTo>
                    <a:pt x="924" y="341"/>
                  </a:lnTo>
                  <a:lnTo>
                    <a:pt x="884" y="302"/>
                  </a:lnTo>
                  <a:lnTo>
                    <a:pt x="897" y="236"/>
                  </a:lnTo>
                  <a:lnTo>
                    <a:pt x="911" y="158"/>
                  </a:lnTo>
                  <a:lnTo>
                    <a:pt x="842" y="144"/>
                  </a:lnTo>
                  <a:lnTo>
                    <a:pt x="690" y="131"/>
                  </a:lnTo>
                  <a:lnTo>
                    <a:pt x="566" y="131"/>
                  </a:lnTo>
                  <a:lnTo>
                    <a:pt x="373" y="184"/>
                  </a:lnTo>
                  <a:lnTo>
                    <a:pt x="180" y="289"/>
                  </a:lnTo>
                  <a:lnTo>
                    <a:pt x="0" y="36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494720" y="4313520"/>
              <a:ext cx="168480" cy="686880"/>
            </a:xfrm>
            <a:custGeom>
              <a:avLst/>
              <a:gdLst/>
              <a:ahLst/>
              <a:rect l="l" t="t" r="r" b="b"/>
              <a:pathLst>
                <a:path w="374" h="1176">
                  <a:moveTo>
                    <a:pt x="111" y="0"/>
                  </a:moveTo>
                  <a:lnTo>
                    <a:pt x="180" y="26"/>
                  </a:lnTo>
                  <a:lnTo>
                    <a:pt x="236" y="156"/>
                  </a:lnTo>
                  <a:lnTo>
                    <a:pt x="264" y="300"/>
                  </a:lnTo>
                  <a:lnTo>
                    <a:pt x="278" y="496"/>
                  </a:lnTo>
                  <a:lnTo>
                    <a:pt x="222" y="705"/>
                  </a:lnTo>
                  <a:lnTo>
                    <a:pt x="140" y="887"/>
                  </a:lnTo>
                  <a:lnTo>
                    <a:pt x="153" y="953"/>
                  </a:lnTo>
                  <a:lnTo>
                    <a:pt x="347" y="1045"/>
                  </a:lnTo>
                  <a:lnTo>
                    <a:pt x="374" y="1096"/>
                  </a:lnTo>
                  <a:lnTo>
                    <a:pt x="264" y="1176"/>
                  </a:lnTo>
                  <a:lnTo>
                    <a:pt x="209" y="1136"/>
                  </a:lnTo>
                  <a:lnTo>
                    <a:pt x="98" y="1018"/>
                  </a:lnTo>
                  <a:lnTo>
                    <a:pt x="0" y="953"/>
                  </a:lnTo>
                  <a:lnTo>
                    <a:pt x="0" y="914"/>
                  </a:lnTo>
                  <a:lnTo>
                    <a:pt x="56" y="836"/>
                  </a:lnTo>
                  <a:lnTo>
                    <a:pt x="140" y="718"/>
                  </a:lnTo>
                  <a:lnTo>
                    <a:pt x="195" y="535"/>
                  </a:lnTo>
                  <a:lnTo>
                    <a:pt x="195" y="300"/>
                  </a:lnTo>
                  <a:lnTo>
                    <a:pt x="153" y="169"/>
                  </a:lnTo>
                  <a:lnTo>
                    <a:pt x="98" y="10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93840" y="4322160"/>
              <a:ext cx="226080" cy="748080"/>
            </a:xfrm>
            <a:custGeom>
              <a:avLst/>
              <a:gdLst/>
              <a:ahLst/>
              <a:rect l="l" t="t" r="r" b="b"/>
              <a:pathLst>
                <a:path w="498" h="1281">
                  <a:moveTo>
                    <a:pt x="263" y="156"/>
                  </a:moveTo>
                  <a:lnTo>
                    <a:pt x="318" y="38"/>
                  </a:lnTo>
                  <a:lnTo>
                    <a:pt x="456" y="0"/>
                  </a:lnTo>
                  <a:lnTo>
                    <a:pt x="498" y="64"/>
                  </a:lnTo>
                  <a:lnTo>
                    <a:pt x="401" y="169"/>
                  </a:lnTo>
                  <a:lnTo>
                    <a:pt x="345" y="235"/>
                  </a:lnTo>
                  <a:lnTo>
                    <a:pt x="332" y="365"/>
                  </a:lnTo>
                  <a:lnTo>
                    <a:pt x="305" y="587"/>
                  </a:lnTo>
                  <a:lnTo>
                    <a:pt x="318" y="874"/>
                  </a:lnTo>
                  <a:lnTo>
                    <a:pt x="332" y="1005"/>
                  </a:lnTo>
                  <a:lnTo>
                    <a:pt x="360" y="1058"/>
                  </a:lnTo>
                  <a:lnTo>
                    <a:pt x="345" y="1110"/>
                  </a:lnTo>
                  <a:lnTo>
                    <a:pt x="249" y="1150"/>
                  </a:lnTo>
                  <a:lnTo>
                    <a:pt x="98" y="1281"/>
                  </a:lnTo>
                  <a:lnTo>
                    <a:pt x="42" y="1281"/>
                  </a:lnTo>
                  <a:lnTo>
                    <a:pt x="0" y="1176"/>
                  </a:lnTo>
                  <a:lnTo>
                    <a:pt x="98" y="1110"/>
                  </a:lnTo>
                  <a:lnTo>
                    <a:pt x="222" y="1071"/>
                  </a:lnTo>
                  <a:lnTo>
                    <a:pt x="276" y="1045"/>
                  </a:lnTo>
                  <a:lnTo>
                    <a:pt x="263" y="927"/>
                  </a:lnTo>
                  <a:lnTo>
                    <a:pt x="236" y="665"/>
                  </a:lnTo>
                  <a:lnTo>
                    <a:pt x="222" y="444"/>
                  </a:lnTo>
                  <a:lnTo>
                    <a:pt x="236" y="260"/>
                  </a:lnTo>
                  <a:lnTo>
                    <a:pt x="263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1808280" y="3382920"/>
            <a:ext cx="1163160" cy="1609560"/>
            <a:chOff x="1808280" y="3382920"/>
            <a:chExt cx="1163160" cy="1609560"/>
          </a:xfrm>
        </p:grpSpPr>
        <p:sp>
          <p:nvSpPr>
            <p:cNvPr id="1436" name=""/>
            <p:cNvSpPr/>
            <p:nvPr/>
          </p:nvSpPr>
          <p:spPr>
            <a:xfrm>
              <a:off x="1808280" y="3382920"/>
              <a:ext cx="1163160" cy="1609560"/>
            </a:xfrm>
            <a:custGeom>
              <a:avLst/>
              <a:gdLst/>
              <a:ahLst/>
              <a:rect l="l" t="t" r="r" b="b"/>
              <a:pathLst>
                <a:path w="2567" h="2757">
                  <a:moveTo>
                    <a:pt x="898" y="510"/>
                  </a:moveTo>
                  <a:lnTo>
                    <a:pt x="746" y="641"/>
                  </a:lnTo>
                  <a:lnTo>
                    <a:pt x="566" y="772"/>
                  </a:lnTo>
                  <a:lnTo>
                    <a:pt x="374" y="981"/>
                  </a:lnTo>
                  <a:lnTo>
                    <a:pt x="167" y="1255"/>
                  </a:lnTo>
                  <a:lnTo>
                    <a:pt x="56" y="1490"/>
                  </a:lnTo>
                  <a:lnTo>
                    <a:pt x="0" y="1673"/>
                  </a:lnTo>
                  <a:lnTo>
                    <a:pt x="0" y="1790"/>
                  </a:lnTo>
                  <a:lnTo>
                    <a:pt x="15" y="2039"/>
                  </a:lnTo>
                  <a:lnTo>
                    <a:pt x="56" y="2222"/>
                  </a:lnTo>
                  <a:lnTo>
                    <a:pt x="167" y="2339"/>
                  </a:lnTo>
                  <a:lnTo>
                    <a:pt x="387" y="2484"/>
                  </a:lnTo>
                  <a:lnTo>
                    <a:pt x="595" y="2575"/>
                  </a:lnTo>
                  <a:lnTo>
                    <a:pt x="856" y="2666"/>
                  </a:lnTo>
                  <a:lnTo>
                    <a:pt x="1008" y="2718"/>
                  </a:lnTo>
                  <a:lnTo>
                    <a:pt x="1270" y="2757"/>
                  </a:lnTo>
                  <a:lnTo>
                    <a:pt x="1669" y="2718"/>
                  </a:lnTo>
                  <a:lnTo>
                    <a:pt x="2015" y="2627"/>
                  </a:lnTo>
                  <a:lnTo>
                    <a:pt x="2235" y="2496"/>
                  </a:lnTo>
                  <a:lnTo>
                    <a:pt x="2373" y="2353"/>
                  </a:lnTo>
                  <a:lnTo>
                    <a:pt x="2456" y="2209"/>
                  </a:lnTo>
                  <a:lnTo>
                    <a:pt x="2538" y="2026"/>
                  </a:lnTo>
                  <a:lnTo>
                    <a:pt x="2567" y="1817"/>
                  </a:lnTo>
                  <a:lnTo>
                    <a:pt x="2567" y="1530"/>
                  </a:lnTo>
                  <a:lnTo>
                    <a:pt x="2511" y="1346"/>
                  </a:lnTo>
                  <a:lnTo>
                    <a:pt x="2400" y="1150"/>
                  </a:lnTo>
                  <a:lnTo>
                    <a:pt x="2249" y="968"/>
                  </a:lnTo>
                  <a:lnTo>
                    <a:pt x="2084" y="823"/>
                  </a:lnTo>
                  <a:lnTo>
                    <a:pt x="1918" y="706"/>
                  </a:lnTo>
                  <a:lnTo>
                    <a:pt x="1683" y="601"/>
                  </a:lnTo>
                  <a:lnTo>
                    <a:pt x="1669" y="536"/>
                  </a:lnTo>
                  <a:lnTo>
                    <a:pt x="1877" y="327"/>
                  </a:lnTo>
                  <a:lnTo>
                    <a:pt x="1890" y="196"/>
                  </a:lnTo>
                  <a:lnTo>
                    <a:pt x="1656" y="327"/>
                  </a:lnTo>
                  <a:lnTo>
                    <a:pt x="1738" y="92"/>
                  </a:lnTo>
                  <a:lnTo>
                    <a:pt x="1711" y="79"/>
                  </a:lnTo>
                  <a:lnTo>
                    <a:pt x="1629" y="79"/>
                  </a:lnTo>
                  <a:lnTo>
                    <a:pt x="1491" y="236"/>
                  </a:lnTo>
                  <a:lnTo>
                    <a:pt x="1408" y="327"/>
                  </a:lnTo>
                  <a:lnTo>
                    <a:pt x="1435" y="157"/>
                  </a:lnTo>
                  <a:lnTo>
                    <a:pt x="1491" y="27"/>
                  </a:lnTo>
                  <a:lnTo>
                    <a:pt x="1449" y="0"/>
                  </a:lnTo>
                  <a:lnTo>
                    <a:pt x="1353" y="79"/>
                  </a:lnTo>
                  <a:lnTo>
                    <a:pt x="1256" y="274"/>
                  </a:lnTo>
                  <a:lnTo>
                    <a:pt x="1215" y="170"/>
                  </a:lnTo>
                  <a:lnTo>
                    <a:pt x="1132" y="131"/>
                  </a:lnTo>
                  <a:lnTo>
                    <a:pt x="1077" y="261"/>
                  </a:lnTo>
                  <a:lnTo>
                    <a:pt x="1063" y="340"/>
                  </a:lnTo>
                  <a:lnTo>
                    <a:pt x="911" y="157"/>
                  </a:lnTo>
                  <a:lnTo>
                    <a:pt x="718" y="14"/>
                  </a:lnTo>
                  <a:lnTo>
                    <a:pt x="664" y="40"/>
                  </a:lnTo>
                  <a:lnTo>
                    <a:pt x="649" y="118"/>
                  </a:lnTo>
                  <a:lnTo>
                    <a:pt x="718" y="236"/>
                  </a:lnTo>
                  <a:lnTo>
                    <a:pt x="800" y="379"/>
                  </a:lnTo>
                  <a:lnTo>
                    <a:pt x="1008" y="628"/>
                  </a:lnTo>
                  <a:lnTo>
                    <a:pt x="980" y="679"/>
                  </a:lnTo>
                  <a:lnTo>
                    <a:pt x="938" y="706"/>
                  </a:lnTo>
                  <a:lnTo>
                    <a:pt x="967" y="758"/>
                  </a:lnTo>
                  <a:lnTo>
                    <a:pt x="1146" y="823"/>
                  </a:lnTo>
                  <a:lnTo>
                    <a:pt x="1435" y="823"/>
                  </a:lnTo>
                  <a:lnTo>
                    <a:pt x="1683" y="797"/>
                  </a:lnTo>
                  <a:lnTo>
                    <a:pt x="1767" y="719"/>
                  </a:lnTo>
                  <a:lnTo>
                    <a:pt x="1711" y="693"/>
                  </a:lnTo>
                  <a:lnTo>
                    <a:pt x="1656" y="732"/>
                  </a:lnTo>
                  <a:lnTo>
                    <a:pt x="1504" y="745"/>
                  </a:lnTo>
                  <a:lnTo>
                    <a:pt x="1353" y="772"/>
                  </a:lnTo>
                  <a:lnTo>
                    <a:pt x="1187" y="745"/>
                  </a:lnTo>
                  <a:lnTo>
                    <a:pt x="1435" y="719"/>
                  </a:lnTo>
                  <a:lnTo>
                    <a:pt x="1600" y="667"/>
                  </a:lnTo>
                  <a:lnTo>
                    <a:pt x="1629" y="641"/>
                  </a:lnTo>
                  <a:lnTo>
                    <a:pt x="1560" y="614"/>
                  </a:lnTo>
                  <a:lnTo>
                    <a:pt x="1477" y="654"/>
                  </a:lnTo>
                  <a:lnTo>
                    <a:pt x="1284" y="679"/>
                  </a:lnTo>
                  <a:lnTo>
                    <a:pt x="1146" y="667"/>
                  </a:lnTo>
                  <a:lnTo>
                    <a:pt x="1077" y="641"/>
                  </a:lnTo>
                  <a:lnTo>
                    <a:pt x="1105" y="576"/>
                  </a:lnTo>
                  <a:lnTo>
                    <a:pt x="980" y="484"/>
                  </a:lnTo>
                  <a:lnTo>
                    <a:pt x="856" y="367"/>
                  </a:lnTo>
                  <a:lnTo>
                    <a:pt x="787" y="249"/>
                  </a:lnTo>
                  <a:lnTo>
                    <a:pt x="760" y="170"/>
                  </a:lnTo>
                  <a:lnTo>
                    <a:pt x="760" y="145"/>
                  </a:lnTo>
                  <a:lnTo>
                    <a:pt x="787" y="145"/>
                  </a:lnTo>
                  <a:lnTo>
                    <a:pt x="856" y="196"/>
                  </a:lnTo>
                  <a:lnTo>
                    <a:pt x="952" y="314"/>
                  </a:lnTo>
                  <a:lnTo>
                    <a:pt x="1077" y="458"/>
                  </a:lnTo>
                  <a:lnTo>
                    <a:pt x="1105" y="497"/>
                  </a:lnTo>
                  <a:lnTo>
                    <a:pt x="1159" y="470"/>
                  </a:lnTo>
                  <a:lnTo>
                    <a:pt x="1132" y="392"/>
                  </a:lnTo>
                  <a:lnTo>
                    <a:pt x="1146" y="340"/>
                  </a:lnTo>
                  <a:lnTo>
                    <a:pt x="1159" y="274"/>
                  </a:lnTo>
                  <a:lnTo>
                    <a:pt x="1187" y="274"/>
                  </a:lnTo>
                  <a:lnTo>
                    <a:pt x="1215" y="354"/>
                  </a:lnTo>
                  <a:lnTo>
                    <a:pt x="1228" y="405"/>
                  </a:lnTo>
                  <a:lnTo>
                    <a:pt x="1270" y="419"/>
                  </a:lnTo>
                  <a:lnTo>
                    <a:pt x="1326" y="301"/>
                  </a:lnTo>
                  <a:lnTo>
                    <a:pt x="1353" y="261"/>
                  </a:lnTo>
                  <a:lnTo>
                    <a:pt x="1366" y="327"/>
                  </a:lnTo>
                  <a:lnTo>
                    <a:pt x="1366" y="432"/>
                  </a:lnTo>
                  <a:lnTo>
                    <a:pt x="1408" y="458"/>
                  </a:lnTo>
                  <a:lnTo>
                    <a:pt x="1477" y="367"/>
                  </a:lnTo>
                  <a:lnTo>
                    <a:pt x="1546" y="249"/>
                  </a:lnTo>
                  <a:lnTo>
                    <a:pt x="1615" y="223"/>
                  </a:lnTo>
                  <a:lnTo>
                    <a:pt x="1615" y="236"/>
                  </a:lnTo>
                  <a:lnTo>
                    <a:pt x="1573" y="314"/>
                  </a:lnTo>
                  <a:lnTo>
                    <a:pt x="1531" y="432"/>
                  </a:lnTo>
                  <a:lnTo>
                    <a:pt x="1573" y="445"/>
                  </a:lnTo>
                  <a:lnTo>
                    <a:pt x="1794" y="301"/>
                  </a:lnTo>
                  <a:lnTo>
                    <a:pt x="1821" y="301"/>
                  </a:lnTo>
                  <a:lnTo>
                    <a:pt x="1615" y="497"/>
                  </a:lnTo>
                  <a:lnTo>
                    <a:pt x="1573" y="536"/>
                  </a:lnTo>
                  <a:lnTo>
                    <a:pt x="1560" y="601"/>
                  </a:lnTo>
                  <a:lnTo>
                    <a:pt x="1600" y="628"/>
                  </a:lnTo>
                  <a:lnTo>
                    <a:pt x="1725" y="679"/>
                  </a:lnTo>
                  <a:lnTo>
                    <a:pt x="1932" y="785"/>
                  </a:lnTo>
                  <a:lnTo>
                    <a:pt x="2070" y="888"/>
                  </a:lnTo>
                  <a:lnTo>
                    <a:pt x="2235" y="1046"/>
                  </a:lnTo>
                  <a:lnTo>
                    <a:pt x="2360" y="1215"/>
                  </a:lnTo>
                  <a:lnTo>
                    <a:pt x="2442" y="1399"/>
                  </a:lnTo>
                  <a:lnTo>
                    <a:pt x="2498" y="1634"/>
                  </a:lnTo>
                  <a:lnTo>
                    <a:pt x="2483" y="1804"/>
                  </a:lnTo>
                  <a:lnTo>
                    <a:pt x="2469" y="1986"/>
                  </a:lnTo>
                  <a:lnTo>
                    <a:pt x="2387" y="2182"/>
                  </a:lnTo>
                  <a:lnTo>
                    <a:pt x="2304" y="2326"/>
                  </a:lnTo>
                  <a:lnTo>
                    <a:pt x="2208" y="2404"/>
                  </a:lnTo>
                  <a:lnTo>
                    <a:pt x="2097" y="2509"/>
                  </a:lnTo>
                  <a:lnTo>
                    <a:pt x="1890" y="2588"/>
                  </a:lnTo>
                  <a:lnTo>
                    <a:pt x="1642" y="2653"/>
                  </a:lnTo>
                  <a:lnTo>
                    <a:pt x="1518" y="2666"/>
                  </a:lnTo>
                  <a:lnTo>
                    <a:pt x="1284" y="2666"/>
                  </a:lnTo>
                  <a:lnTo>
                    <a:pt x="1063" y="2640"/>
                  </a:lnTo>
                  <a:lnTo>
                    <a:pt x="800" y="2575"/>
                  </a:lnTo>
                  <a:lnTo>
                    <a:pt x="553" y="2470"/>
                  </a:lnTo>
                  <a:lnTo>
                    <a:pt x="359" y="2366"/>
                  </a:lnTo>
                  <a:lnTo>
                    <a:pt x="194" y="2248"/>
                  </a:lnTo>
                  <a:lnTo>
                    <a:pt x="125" y="2157"/>
                  </a:lnTo>
                  <a:lnTo>
                    <a:pt x="111" y="2064"/>
                  </a:lnTo>
                  <a:lnTo>
                    <a:pt x="84" y="1790"/>
                  </a:lnTo>
                  <a:lnTo>
                    <a:pt x="98" y="1608"/>
                  </a:lnTo>
                  <a:lnTo>
                    <a:pt x="180" y="1412"/>
                  </a:lnTo>
                  <a:lnTo>
                    <a:pt x="290" y="1190"/>
                  </a:lnTo>
                  <a:lnTo>
                    <a:pt x="484" y="994"/>
                  </a:lnTo>
                  <a:lnTo>
                    <a:pt x="664" y="772"/>
                  </a:lnTo>
                  <a:lnTo>
                    <a:pt x="829" y="654"/>
                  </a:lnTo>
                  <a:lnTo>
                    <a:pt x="925" y="576"/>
                  </a:lnTo>
                  <a:lnTo>
                    <a:pt x="898" y="5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65120" y="4016880"/>
              <a:ext cx="236880" cy="495720"/>
            </a:xfrm>
            <a:custGeom>
              <a:avLst/>
              <a:gdLst/>
              <a:ahLst/>
              <a:rect l="l" t="t" r="r" b="b"/>
              <a:pathLst>
                <a:path w="524" h="849">
                  <a:moveTo>
                    <a:pt x="317" y="156"/>
                  </a:moveTo>
                  <a:lnTo>
                    <a:pt x="413" y="169"/>
                  </a:lnTo>
                  <a:lnTo>
                    <a:pt x="495" y="235"/>
                  </a:lnTo>
                  <a:lnTo>
                    <a:pt x="524" y="300"/>
                  </a:lnTo>
                  <a:lnTo>
                    <a:pt x="426" y="326"/>
                  </a:lnTo>
                  <a:lnTo>
                    <a:pt x="371" y="273"/>
                  </a:lnTo>
                  <a:lnTo>
                    <a:pt x="303" y="247"/>
                  </a:lnTo>
                  <a:lnTo>
                    <a:pt x="234" y="235"/>
                  </a:lnTo>
                  <a:lnTo>
                    <a:pt x="123" y="260"/>
                  </a:lnTo>
                  <a:lnTo>
                    <a:pt x="96" y="326"/>
                  </a:lnTo>
                  <a:lnTo>
                    <a:pt x="151" y="378"/>
                  </a:lnTo>
                  <a:lnTo>
                    <a:pt x="288" y="417"/>
                  </a:lnTo>
                  <a:lnTo>
                    <a:pt x="426" y="417"/>
                  </a:lnTo>
                  <a:lnTo>
                    <a:pt x="468" y="456"/>
                  </a:lnTo>
                  <a:lnTo>
                    <a:pt x="495" y="522"/>
                  </a:lnTo>
                  <a:lnTo>
                    <a:pt x="482" y="600"/>
                  </a:lnTo>
                  <a:lnTo>
                    <a:pt x="399" y="653"/>
                  </a:lnTo>
                  <a:lnTo>
                    <a:pt x="303" y="653"/>
                  </a:lnTo>
                  <a:lnTo>
                    <a:pt x="234" y="653"/>
                  </a:lnTo>
                  <a:lnTo>
                    <a:pt x="206" y="718"/>
                  </a:lnTo>
                  <a:lnTo>
                    <a:pt x="219" y="835"/>
                  </a:lnTo>
                  <a:lnTo>
                    <a:pt x="123" y="849"/>
                  </a:lnTo>
                  <a:lnTo>
                    <a:pt x="109" y="757"/>
                  </a:lnTo>
                  <a:lnTo>
                    <a:pt x="137" y="653"/>
                  </a:lnTo>
                  <a:lnTo>
                    <a:pt x="54" y="613"/>
                  </a:lnTo>
                  <a:lnTo>
                    <a:pt x="0" y="574"/>
                  </a:lnTo>
                  <a:lnTo>
                    <a:pt x="82" y="496"/>
                  </a:lnTo>
                  <a:lnTo>
                    <a:pt x="123" y="548"/>
                  </a:lnTo>
                  <a:lnTo>
                    <a:pt x="192" y="560"/>
                  </a:lnTo>
                  <a:lnTo>
                    <a:pt x="288" y="574"/>
                  </a:lnTo>
                  <a:lnTo>
                    <a:pt x="371" y="574"/>
                  </a:lnTo>
                  <a:lnTo>
                    <a:pt x="413" y="560"/>
                  </a:lnTo>
                  <a:lnTo>
                    <a:pt x="386" y="509"/>
                  </a:lnTo>
                  <a:lnTo>
                    <a:pt x="317" y="496"/>
                  </a:lnTo>
                  <a:lnTo>
                    <a:pt x="192" y="469"/>
                  </a:lnTo>
                  <a:lnTo>
                    <a:pt x="68" y="431"/>
                  </a:lnTo>
                  <a:lnTo>
                    <a:pt x="27" y="365"/>
                  </a:lnTo>
                  <a:lnTo>
                    <a:pt x="13" y="287"/>
                  </a:lnTo>
                  <a:lnTo>
                    <a:pt x="82" y="208"/>
                  </a:lnTo>
                  <a:lnTo>
                    <a:pt x="178" y="143"/>
                  </a:lnTo>
                  <a:lnTo>
                    <a:pt x="247" y="143"/>
                  </a:lnTo>
                  <a:lnTo>
                    <a:pt x="275" y="0"/>
                  </a:lnTo>
                  <a:lnTo>
                    <a:pt x="357" y="13"/>
                  </a:lnTo>
                  <a:lnTo>
                    <a:pt x="317" y="15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045520" y="3992040"/>
              <a:ext cx="101160" cy="177120"/>
            </a:xfrm>
            <a:custGeom>
              <a:avLst/>
              <a:gdLst/>
              <a:ahLst/>
              <a:rect l="l" t="t" r="r" b="b"/>
              <a:pathLst>
                <a:path w="220" h="301">
                  <a:moveTo>
                    <a:pt x="0" y="236"/>
                  </a:moveTo>
                  <a:lnTo>
                    <a:pt x="96" y="78"/>
                  </a:lnTo>
                  <a:lnTo>
                    <a:pt x="220" y="0"/>
                  </a:lnTo>
                  <a:lnTo>
                    <a:pt x="220" y="40"/>
                  </a:lnTo>
                  <a:lnTo>
                    <a:pt x="136" y="131"/>
                  </a:lnTo>
                  <a:lnTo>
                    <a:pt x="40" y="301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714400" y="4435560"/>
              <a:ext cx="63360" cy="122760"/>
            </a:xfrm>
            <a:custGeom>
              <a:avLst/>
              <a:gdLst/>
              <a:ahLst/>
              <a:rect l="l" t="t" r="r" b="b"/>
              <a:pathLst>
                <a:path w="138" h="209">
                  <a:moveTo>
                    <a:pt x="138" y="0"/>
                  </a:moveTo>
                  <a:lnTo>
                    <a:pt x="42" y="130"/>
                  </a:lnTo>
                  <a:lnTo>
                    <a:pt x="0" y="182"/>
                  </a:lnTo>
                  <a:lnTo>
                    <a:pt x="55" y="209"/>
                  </a:lnTo>
                  <a:lnTo>
                    <a:pt x="96" y="182"/>
                  </a:lnTo>
                  <a:lnTo>
                    <a:pt x="138" y="91"/>
                  </a:lnTo>
                  <a:lnTo>
                    <a:pt x="138" y="5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1278000" y="5146560"/>
            <a:ext cx="1647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7200" y="1066680"/>
            <a:ext cx="3581280" cy="1524240"/>
          </a:xfrm>
          <a:prstGeom prst="cloudCallout">
            <a:avLst>
              <a:gd name="adj1" fmla="val -17462"/>
              <a:gd name="adj2" fmla="val 106041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mieńmy wymag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5181480" y="1981080"/>
            <a:ext cx="3733920" cy="3656160"/>
            <a:chOff x="5181480" y="1981080"/>
            <a:chExt cx="3733920" cy="3656160"/>
          </a:xfrm>
        </p:grpSpPr>
        <p:grpSp>
          <p:nvGrpSpPr>
            <p:cNvPr id="1443" name=""/>
            <p:cNvGrpSpPr/>
            <p:nvPr/>
          </p:nvGrpSpPr>
          <p:grpSpPr>
            <a:xfrm>
              <a:off x="6827760" y="3506400"/>
              <a:ext cx="601560" cy="1465200"/>
              <a:chOff x="6827760" y="3506400"/>
              <a:chExt cx="601560" cy="1465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7005600" y="3506400"/>
                <a:ext cx="387360" cy="31644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966000" y="3847320"/>
                <a:ext cx="346320" cy="510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827760" y="3846240"/>
                <a:ext cx="204480" cy="62856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71280" y="3862800"/>
                <a:ext cx="128880" cy="59652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67800" y="4255560"/>
                <a:ext cx="290880" cy="71604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160040" y="4256640"/>
                <a:ext cx="269280" cy="6447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6281640" y="3470040"/>
              <a:ext cx="498240" cy="1542600"/>
              <a:chOff x="6281640" y="3470040"/>
              <a:chExt cx="498240" cy="1542600"/>
            </a:xfrm>
          </p:grpSpPr>
          <p:sp>
            <p:nvSpPr>
              <p:cNvPr id="1451" name=""/>
              <p:cNvSpPr/>
              <p:nvPr/>
            </p:nvSpPr>
            <p:spPr>
              <a:xfrm>
                <a:off x="6427800" y="3470040"/>
                <a:ext cx="326160" cy="33012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395760" y="3828960"/>
                <a:ext cx="285840" cy="5378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81640" y="3828960"/>
                <a:ext cx="168120" cy="65952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652080" y="3844080"/>
                <a:ext cx="106200" cy="62820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97560" y="4258440"/>
                <a:ext cx="240120" cy="75420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555600" y="4258440"/>
                <a:ext cx="224280" cy="67932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5900760" y="3428640"/>
              <a:ext cx="329760" cy="1566720"/>
              <a:chOff x="5900760" y="3428640"/>
              <a:chExt cx="329760" cy="1566720"/>
            </a:xfrm>
          </p:grpSpPr>
          <p:sp>
            <p:nvSpPr>
              <p:cNvPr id="1458" name=""/>
              <p:cNvSpPr/>
              <p:nvPr/>
            </p:nvSpPr>
            <p:spPr>
              <a:xfrm>
                <a:off x="5996880" y="3428640"/>
                <a:ext cx="215640" cy="33912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978520" y="3795480"/>
                <a:ext cx="19008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900760" y="3793320"/>
                <a:ext cx="112320" cy="67068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147360" y="3812040"/>
                <a:ext cx="70560" cy="63360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978520" y="4229640"/>
                <a:ext cx="159480" cy="76572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081840" y="4231440"/>
                <a:ext cx="148680" cy="68724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7499520" y="3462120"/>
              <a:ext cx="329760" cy="1566360"/>
              <a:chOff x="7499520" y="3462120"/>
              <a:chExt cx="329760" cy="1566360"/>
            </a:xfrm>
          </p:grpSpPr>
          <p:sp>
            <p:nvSpPr>
              <p:cNvPr id="1465" name=""/>
              <p:cNvSpPr/>
              <p:nvPr/>
            </p:nvSpPr>
            <p:spPr>
              <a:xfrm>
                <a:off x="7595640" y="3462120"/>
                <a:ext cx="215640" cy="33912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577280" y="3828960"/>
                <a:ext cx="19008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499520" y="3826800"/>
                <a:ext cx="112320" cy="67068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746120" y="3845520"/>
                <a:ext cx="70560" cy="63324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77280" y="4262760"/>
                <a:ext cx="159480" cy="76572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680600" y="4264920"/>
                <a:ext cx="148680" cy="6868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5850720" y="5070240"/>
              <a:ext cx="1861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ff"/>
                  </a:solidFill>
                  <a:latin typeface="Arial Narrow"/>
                </a:rPr>
                <a:t>Programi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181480" y="1981080"/>
              <a:ext cx="990720" cy="838080"/>
            </a:xfrm>
            <a:prstGeom prst="cloudCallout">
              <a:avLst>
                <a:gd name="adj1" fmla="val 41185"/>
                <a:gd name="adj2" fmla="val 1202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72200" y="1981080"/>
              <a:ext cx="990720" cy="838080"/>
            </a:xfrm>
            <a:prstGeom prst="cloudCallout">
              <a:avLst>
                <a:gd name="adj1" fmla="val -12337"/>
                <a:gd name="adj2" fmla="val 1202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010280" y="1981080"/>
              <a:ext cx="990720" cy="838080"/>
            </a:xfrm>
            <a:prstGeom prst="cloudCallout">
              <a:avLst>
                <a:gd name="adj1" fmla="val -32694"/>
                <a:gd name="adj2" fmla="val 1232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24680" y="2057040"/>
              <a:ext cx="990720" cy="838440"/>
            </a:xfrm>
            <a:prstGeom prst="cloudCallout">
              <a:avLst>
                <a:gd name="adj1" fmla="val -71634"/>
                <a:gd name="adj2" fmla="val 109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OK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 txBox="1"/>
          <p:nvPr/>
        </p:nvSpPr>
        <p:spPr>
          <a:xfrm>
            <a:off x="3124080" y="6019920"/>
            <a:ext cx="2667240" cy="5331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3366ff"/>
                  </a:outerShdw>
                </a:effectLst>
                <a:latin typeface="Impact"/>
              </a:rPr>
              <a:t>Any mom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3366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arządzanie zmianą w X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020600" y="3551400"/>
            <a:ext cx="1091880" cy="1518840"/>
            <a:chOff x="1020600" y="3551400"/>
            <a:chExt cx="1091880" cy="1518840"/>
          </a:xfrm>
        </p:grpSpPr>
        <p:sp>
          <p:nvSpPr>
            <p:cNvPr id="1479" name=""/>
            <p:cNvSpPr/>
            <p:nvPr/>
          </p:nvSpPr>
          <p:spPr>
            <a:xfrm>
              <a:off x="1400760" y="3551400"/>
              <a:ext cx="244080" cy="381600"/>
            </a:xfrm>
            <a:custGeom>
              <a:avLst/>
              <a:gdLst/>
              <a:ahLst/>
              <a:rect l="l" t="t" r="r" b="b"/>
              <a:pathLst>
                <a:path w="537" h="654">
                  <a:moveTo>
                    <a:pt x="138" y="302"/>
                  </a:moveTo>
                  <a:lnTo>
                    <a:pt x="179" y="171"/>
                  </a:lnTo>
                  <a:lnTo>
                    <a:pt x="248" y="66"/>
                  </a:lnTo>
                  <a:lnTo>
                    <a:pt x="317" y="13"/>
                  </a:lnTo>
                  <a:lnTo>
                    <a:pt x="399" y="0"/>
                  </a:lnTo>
                  <a:lnTo>
                    <a:pt x="455" y="13"/>
                  </a:lnTo>
                  <a:lnTo>
                    <a:pt x="524" y="53"/>
                  </a:lnTo>
                  <a:lnTo>
                    <a:pt x="537" y="144"/>
                  </a:lnTo>
                  <a:lnTo>
                    <a:pt x="537" y="275"/>
                  </a:lnTo>
                  <a:lnTo>
                    <a:pt x="482" y="418"/>
                  </a:lnTo>
                  <a:lnTo>
                    <a:pt x="399" y="511"/>
                  </a:lnTo>
                  <a:lnTo>
                    <a:pt x="359" y="563"/>
                  </a:lnTo>
                  <a:lnTo>
                    <a:pt x="290" y="602"/>
                  </a:lnTo>
                  <a:lnTo>
                    <a:pt x="234" y="589"/>
                  </a:lnTo>
                  <a:lnTo>
                    <a:pt x="193" y="576"/>
                  </a:lnTo>
                  <a:lnTo>
                    <a:pt x="151" y="536"/>
                  </a:lnTo>
                  <a:lnTo>
                    <a:pt x="27" y="654"/>
                  </a:lnTo>
                  <a:lnTo>
                    <a:pt x="0" y="576"/>
                  </a:lnTo>
                  <a:lnTo>
                    <a:pt x="124" y="458"/>
                  </a:lnTo>
                  <a:lnTo>
                    <a:pt x="138" y="30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464120" y="3940200"/>
              <a:ext cx="155880" cy="511560"/>
            </a:xfrm>
            <a:custGeom>
              <a:avLst/>
              <a:gdLst/>
              <a:ahLst/>
              <a:rect l="l" t="t" r="r" b="b"/>
              <a:pathLst>
                <a:path w="345" h="876">
                  <a:moveTo>
                    <a:pt x="111" y="26"/>
                  </a:moveTo>
                  <a:lnTo>
                    <a:pt x="180" y="0"/>
                  </a:lnTo>
                  <a:lnTo>
                    <a:pt x="262" y="26"/>
                  </a:lnTo>
                  <a:lnTo>
                    <a:pt x="318" y="118"/>
                  </a:lnTo>
                  <a:lnTo>
                    <a:pt x="345" y="262"/>
                  </a:lnTo>
                  <a:lnTo>
                    <a:pt x="345" y="483"/>
                  </a:lnTo>
                  <a:lnTo>
                    <a:pt x="303" y="654"/>
                  </a:lnTo>
                  <a:lnTo>
                    <a:pt x="262" y="785"/>
                  </a:lnTo>
                  <a:lnTo>
                    <a:pt x="151" y="876"/>
                  </a:lnTo>
                  <a:lnTo>
                    <a:pt x="55" y="863"/>
                  </a:lnTo>
                  <a:lnTo>
                    <a:pt x="0" y="745"/>
                  </a:lnTo>
                  <a:lnTo>
                    <a:pt x="42" y="614"/>
                  </a:lnTo>
                  <a:lnTo>
                    <a:pt x="82" y="496"/>
                  </a:lnTo>
                  <a:lnTo>
                    <a:pt x="96" y="380"/>
                  </a:lnTo>
                  <a:lnTo>
                    <a:pt x="82" y="222"/>
                  </a:lnTo>
                  <a:lnTo>
                    <a:pt x="82" y="78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20600" y="3947400"/>
              <a:ext cx="505080" cy="390600"/>
            </a:xfrm>
            <a:custGeom>
              <a:avLst/>
              <a:gdLst/>
              <a:ahLst/>
              <a:rect l="l" t="t" r="r" b="b"/>
              <a:pathLst>
                <a:path w="1117" h="667">
                  <a:moveTo>
                    <a:pt x="910" y="104"/>
                  </a:moveTo>
                  <a:lnTo>
                    <a:pt x="992" y="26"/>
                  </a:lnTo>
                  <a:lnTo>
                    <a:pt x="1061" y="0"/>
                  </a:lnTo>
                  <a:lnTo>
                    <a:pt x="1103" y="13"/>
                  </a:lnTo>
                  <a:lnTo>
                    <a:pt x="1117" y="64"/>
                  </a:lnTo>
                  <a:lnTo>
                    <a:pt x="1103" y="117"/>
                  </a:lnTo>
                  <a:lnTo>
                    <a:pt x="1075" y="130"/>
                  </a:lnTo>
                  <a:lnTo>
                    <a:pt x="938" y="209"/>
                  </a:lnTo>
                  <a:lnTo>
                    <a:pt x="800" y="300"/>
                  </a:lnTo>
                  <a:lnTo>
                    <a:pt x="689" y="365"/>
                  </a:lnTo>
                  <a:lnTo>
                    <a:pt x="551" y="418"/>
                  </a:lnTo>
                  <a:lnTo>
                    <a:pt x="386" y="470"/>
                  </a:lnTo>
                  <a:lnTo>
                    <a:pt x="359" y="496"/>
                  </a:lnTo>
                  <a:lnTo>
                    <a:pt x="399" y="640"/>
                  </a:lnTo>
                  <a:lnTo>
                    <a:pt x="372" y="640"/>
                  </a:lnTo>
                  <a:lnTo>
                    <a:pt x="317" y="536"/>
                  </a:lnTo>
                  <a:lnTo>
                    <a:pt x="290" y="536"/>
                  </a:lnTo>
                  <a:lnTo>
                    <a:pt x="221" y="667"/>
                  </a:lnTo>
                  <a:lnTo>
                    <a:pt x="179" y="667"/>
                  </a:lnTo>
                  <a:lnTo>
                    <a:pt x="234" y="536"/>
                  </a:lnTo>
                  <a:lnTo>
                    <a:pt x="221" y="496"/>
                  </a:lnTo>
                  <a:lnTo>
                    <a:pt x="0" y="509"/>
                  </a:lnTo>
                  <a:lnTo>
                    <a:pt x="0" y="470"/>
                  </a:lnTo>
                  <a:lnTo>
                    <a:pt x="207" y="444"/>
                  </a:lnTo>
                  <a:lnTo>
                    <a:pt x="221" y="418"/>
                  </a:lnTo>
                  <a:lnTo>
                    <a:pt x="110" y="340"/>
                  </a:lnTo>
                  <a:lnTo>
                    <a:pt x="152" y="326"/>
                  </a:lnTo>
                  <a:lnTo>
                    <a:pt x="290" y="391"/>
                  </a:lnTo>
                  <a:lnTo>
                    <a:pt x="372" y="391"/>
                  </a:lnTo>
                  <a:lnTo>
                    <a:pt x="510" y="378"/>
                  </a:lnTo>
                  <a:lnTo>
                    <a:pt x="593" y="340"/>
                  </a:lnTo>
                  <a:lnTo>
                    <a:pt x="731" y="274"/>
                  </a:lnTo>
                  <a:lnTo>
                    <a:pt x="841" y="169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551240" y="3794760"/>
              <a:ext cx="561240" cy="213480"/>
            </a:xfrm>
            <a:custGeom>
              <a:avLst/>
              <a:gdLst/>
              <a:ahLst/>
              <a:rect l="l" t="t" r="r" b="b"/>
              <a:pathLst>
                <a:path w="1241" h="367">
                  <a:moveTo>
                    <a:pt x="0" y="289"/>
                  </a:moveTo>
                  <a:lnTo>
                    <a:pt x="15" y="236"/>
                  </a:lnTo>
                  <a:lnTo>
                    <a:pt x="194" y="171"/>
                  </a:lnTo>
                  <a:lnTo>
                    <a:pt x="387" y="105"/>
                  </a:lnTo>
                  <a:lnTo>
                    <a:pt x="690" y="66"/>
                  </a:lnTo>
                  <a:lnTo>
                    <a:pt x="966" y="79"/>
                  </a:lnTo>
                  <a:lnTo>
                    <a:pt x="1063" y="79"/>
                  </a:lnTo>
                  <a:lnTo>
                    <a:pt x="1214" y="0"/>
                  </a:lnTo>
                  <a:lnTo>
                    <a:pt x="1241" y="26"/>
                  </a:lnTo>
                  <a:lnTo>
                    <a:pt x="1104" y="131"/>
                  </a:lnTo>
                  <a:lnTo>
                    <a:pt x="993" y="236"/>
                  </a:lnTo>
                  <a:lnTo>
                    <a:pt x="924" y="341"/>
                  </a:lnTo>
                  <a:lnTo>
                    <a:pt x="884" y="302"/>
                  </a:lnTo>
                  <a:lnTo>
                    <a:pt x="897" y="236"/>
                  </a:lnTo>
                  <a:lnTo>
                    <a:pt x="911" y="158"/>
                  </a:lnTo>
                  <a:lnTo>
                    <a:pt x="842" y="144"/>
                  </a:lnTo>
                  <a:lnTo>
                    <a:pt x="690" y="131"/>
                  </a:lnTo>
                  <a:lnTo>
                    <a:pt x="566" y="131"/>
                  </a:lnTo>
                  <a:lnTo>
                    <a:pt x="373" y="184"/>
                  </a:lnTo>
                  <a:lnTo>
                    <a:pt x="180" y="289"/>
                  </a:lnTo>
                  <a:lnTo>
                    <a:pt x="0" y="36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94720" y="4313520"/>
              <a:ext cx="168480" cy="686880"/>
            </a:xfrm>
            <a:custGeom>
              <a:avLst/>
              <a:gdLst/>
              <a:ahLst/>
              <a:rect l="l" t="t" r="r" b="b"/>
              <a:pathLst>
                <a:path w="374" h="1176">
                  <a:moveTo>
                    <a:pt x="111" y="0"/>
                  </a:moveTo>
                  <a:lnTo>
                    <a:pt x="180" y="26"/>
                  </a:lnTo>
                  <a:lnTo>
                    <a:pt x="236" y="156"/>
                  </a:lnTo>
                  <a:lnTo>
                    <a:pt x="264" y="300"/>
                  </a:lnTo>
                  <a:lnTo>
                    <a:pt x="278" y="496"/>
                  </a:lnTo>
                  <a:lnTo>
                    <a:pt x="222" y="705"/>
                  </a:lnTo>
                  <a:lnTo>
                    <a:pt x="140" y="887"/>
                  </a:lnTo>
                  <a:lnTo>
                    <a:pt x="153" y="953"/>
                  </a:lnTo>
                  <a:lnTo>
                    <a:pt x="347" y="1045"/>
                  </a:lnTo>
                  <a:lnTo>
                    <a:pt x="374" y="1096"/>
                  </a:lnTo>
                  <a:lnTo>
                    <a:pt x="264" y="1176"/>
                  </a:lnTo>
                  <a:lnTo>
                    <a:pt x="209" y="1136"/>
                  </a:lnTo>
                  <a:lnTo>
                    <a:pt x="98" y="1018"/>
                  </a:lnTo>
                  <a:lnTo>
                    <a:pt x="0" y="953"/>
                  </a:lnTo>
                  <a:lnTo>
                    <a:pt x="0" y="914"/>
                  </a:lnTo>
                  <a:lnTo>
                    <a:pt x="56" y="836"/>
                  </a:lnTo>
                  <a:lnTo>
                    <a:pt x="140" y="718"/>
                  </a:lnTo>
                  <a:lnTo>
                    <a:pt x="195" y="535"/>
                  </a:lnTo>
                  <a:lnTo>
                    <a:pt x="195" y="300"/>
                  </a:lnTo>
                  <a:lnTo>
                    <a:pt x="153" y="169"/>
                  </a:lnTo>
                  <a:lnTo>
                    <a:pt x="98" y="10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293840" y="4322160"/>
              <a:ext cx="226080" cy="748080"/>
            </a:xfrm>
            <a:custGeom>
              <a:avLst/>
              <a:gdLst/>
              <a:ahLst/>
              <a:rect l="l" t="t" r="r" b="b"/>
              <a:pathLst>
                <a:path w="498" h="1281">
                  <a:moveTo>
                    <a:pt x="263" y="156"/>
                  </a:moveTo>
                  <a:lnTo>
                    <a:pt x="318" y="38"/>
                  </a:lnTo>
                  <a:lnTo>
                    <a:pt x="456" y="0"/>
                  </a:lnTo>
                  <a:lnTo>
                    <a:pt x="498" y="64"/>
                  </a:lnTo>
                  <a:lnTo>
                    <a:pt x="401" y="169"/>
                  </a:lnTo>
                  <a:lnTo>
                    <a:pt x="345" y="235"/>
                  </a:lnTo>
                  <a:lnTo>
                    <a:pt x="332" y="365"/>
                  </a:lnTo>
                  <a:lnTo>
                    <a:pt x="305" y="587"/>
                  </a:lnTo>
                  <a:lnTo>
                    <a:pt x="318" y="874"/>
                  </a:lnTo>
                  <a:lnTo>
                    <a:pt x="332" y="1005"/>
                  </a:lnTo>
                  <a:lnTo>
                    <a:pt x="360" y="1058"/>
                  </a:lnTo>
                  <a:lnTo>
                    <a:pt x="345" y="1110"/>
                  </a:lnTo>
                  <a:lnTo>
                    <a:pt x="249" y="1150"/>
                  </a:lnTo>
                  <a:lnTo>
                    <a:pt x="98" y="1281"/>
                  </a:lnTo>
                  <a:lnTo>
                    <a:pt x="42" y="1281"/>
                  </a:lnTo>
                  <a:lnTo>
                    <a:pt x="0" y="1176"/>
                  </a:lnTo>
                  <a:lnTo>
                    <a:pt x="98" y="1110"/>
                  </a:lnTo>
                  <a:lnTo>
                    <a:pt x="222" y="1071"/>
                  </a:lnTo>
                  <a:lnTo>
                    <a:pt x="276" y="1045"/>
                  </a:lnTo>
                  <a:lnTo>
                    <a:pt x="263" y="927"/>
                  </a:lnTo>
                  <a:lnTo>
                    <a:pt x="236" y="665"/>
                  </a:lnTo>
                  <a:lnTo>
                    <a:pt x="222" y="444"/>
                  </a:lnTo>
                  <a:lnTo>
                    <a:pt x="236" y="260"/>
                  </a:lnTo>
                  <a:lnTo>
                    <a:pt x="263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1808280" y="3382920"/>
            <a:ext cx="1163160" cy="1609560"/>
            <a:chOff x="1808280" y="3382920"/>
            <a:chExt cx="1163160" cy="1609560"/>
          </a:xfrm>
        </p:grpSpPr>
        <p:sp>
          <p:nvSpPr>
            <p:cNvPr id="1486" name=""/>
            <p:cNvSpPr/>
            <p:nvPr/>
          </p:nvSpPr>
          <p:spPr>
            <a:xfrm>
              <a:off x="1808280" y="3382920"/>
              <a:ext cx="1163160" cy="1609560"/>
            </a:xfrm>
            <a:custGeom>
              <a:avLst/>
              <a:gdLst/>
              <a:ahLst/>
              <a:rect l="l" t="t" r="r" b="b"/>
              <a:pathLst>
                <a:path w="2567" h="2757">
                  <a:moveTo>
                    <a:pt x="898" y="510"/>
                  </a:moveTo>
                  <a:lnTo>
                    <a:pt x="746" y="641"/>
                  </a:lnTo>
                  <a:lnTo>
                    <a:pt x="566" y="772"/>
                  </a:lnTo>
                  <a:lnTo>
                    <a:pt x="374" y="981"/>
                  </a:lnTo>
                  <a:lnTo>
                    <a:pt x="167" y="1255"/>
                  </a:lnTo>
                  <a:lnTo>
                    <a:pt x="56" y="1490"/>
                  </a:lnTo>
                  <a:lnTo>
                    <a:pt x="0" y="1673"/>
                  </a:lnTo>
                  <a:lnTo>
                    <a:pt x="0" y="1790"/>
                  </a:lnTo>
                  <a:lnTo>
                    <a:pt x="15" y="2039"/>
                  </a:lnTo>
                  <a:lnTo>
                    <a:pt x="56" y="2222"/>
                  </a:lnTo>
                  <a:lnTo>
                    <a:pt x="167" y="2339"/>
                  </a:lnTo>
                  <a:lnTo>
                    <a:pt x="387" y="2484"/>
                  </a:lnTo>
                  <a:lnTo>
                    <a:pt x="595" y="2575"/>
                  </a:lnTo>
                  <a:lnTo>
                    <a:pt x="856" y="2666"/>
                  </a:lnTo>
                  <a:lnTo>
                    <a:pt x="1008" y="2718"/>
                  </a:lnTo>
                  <a:lnTo>
                    <a:pt x="1270" y="2757"/>
                  </a:lnTo>
                  <a:lnTo>
                    <a:pt x="1669" y="2718"/>
                  </a:lnTo>
                  <a:lnTo>
                    <a:pt x="2015" y="2627"/>
                  </a:lnTo>
                  <a:lnTo>
                    <a:pt x="2235" y="2496"/>
                  </a:lnTo>
                  <a:lnTo>
                    <a:pt x="2373" y="2353"/>
                  </a:lnTo>
                  <a:lnTo>
                    <a:pt x="2456" y="2209"/>
                  </a:lnTo>
                  <a:lnTo>
                    <a:pt x="2538" y="2026"/>
                  </a:lnTo>
                  <a:lnTo>
                    <a:pt x="2567" y="1817"/>
                  </a:lnTo>
                  <a:lnTo>
                    <a:pt x="2567" y="1530"/>
                  </a:lnTo>
                  <a:lnTo>
                    <a:pt x="2511" y="1346"/>
                  </a:lnTo>
                  <a:lnTo>
                    <a:pt x="2400" y="1150"/>
                  </a:lnTo>
                  <a:lnTo>
                    <a:pt x="2249" y="968"/>
                  </a:lnTo>
                  <a:lnTo>
                    <a:pt x="2084" y="823"/>
                  </a:lnTo>
                  <a:lnTo>
                    <a:pt x="1918" y="706"/>
                  </a:lnTo>
                  <a:lnTo>
                    <a:pt x="1683" y="601"/>
                  </a:lnTo>
                  <a:lnTo>
                    <a:pt x="1669" y="536"/>
                  </a:lnTo>
                  <a:lnTo>
                    <a:pt x="1877" y="327"/>
                  </a:lnTo>
                  <a:lnTo>
                    <a:pt x="1890" y="196"/>
                  </a:lnTo>
                  <a:lnTo>
                    <a:pt x="1656" y="327"/>
                  </a:lnTo>
                  <a:lnTo>
                    <a:pt x="1738" y="92"/>
                  </a:lnTo>
                  <a:lnTo>
                    <a:pt x="1711" y="79"/>
                  </a:lnTo>
                  <a:lnTo>
                    <a:pt x="1629" y="79"/>
                  </a:lnTo>
                  <a:lnTo>
                    <a:pt x="1491" y="236"/>
                  </a:lnTo>
                  <a:lnTo>
                    <a:pt x="1408" y="327"/>
                  </a:lnTo>
                  <a:lnTo>
                    <a:pt x="1435" y="157"/>
                  </a:lnTo>
                  <a:lnTo>
                    <a:pt x="1491" y="27"/>
                  </a:lnTo>
                  <a:lnTo>
                    <a:pt x="1449" y="0"/>
                  </a:lnTo>
                  <a:lnTo>
                    <a:pt x="1353" y="79"/>
                  </a:lnTo>
                  <a:lnTo>
                    <a:pt x="1256" y="274"/>
                  </a:lnTo>
                  <a:lnTo>
                    <a:pt x="1215" y="170"/>
                  </a:lnTo>
                  <a:lnTo>
                    <a:pt x="1132" y="131"/>
                  </a:lnTo>
                  <a:lnTo>
                    <a:pt x="1077" y="261"/>
                  </a:lnTo>
                  <a:lnTo>
                    <a:pt x="1063" y="340"/>
                  </a:lnTo>
                  <a:lnTo>
                    <a:pt x="911" y="157"/>
                  </a:lnTo>
                  <a:lnTo>
                    <a:pt x="718" y="14"/>
                  </a:lnTo>
                  <a:lnTo>
                    <a:pt x="664" y="40"/>
                  </a:lnTo>
                  <a:lnTo>
                    <a:pt x="649" y="118"/>
                  </a:lnTo>
                  <a:lnTo>
                    <a:pt x="718" y="236"/>
                  </a:lnTo>
                  <a:lnTo>
                    <a:pt x="800" y="379"/>
                  </a:lnTo>
                  <a:lnTo>
                    <a:pt x="1008" y="628"/>
                  </a:lnTo>
                  <a:lnTo>
                    <a:pt x="980" y="679"/>
                  </a:lnTo>
                  <a:lnTo>
                    <a:pt x="938" y="706"/>
                  </a:lnTo>
                  <a:lnTo>
                    <a:pt x="967" y="758"/>
                  </a:lnTo>
                  <a:lnTo>
                    <a:pt x="1146" y="823"/>
                  </a:lnTo>
                  <a:lnTo>
                    <a:pt x="1435" y="823"/>
                  </a:lnTo>
                  <a:lnTo>
                    <a:pt x="1683" y="797"/>
                  </a:lnTo>
                  <a:lnTo>
                    <a:pt x="1767" y="719"/>
                  </a:lnTo>
                  <a:lnTo>
                    <a:pt x="1711" y="693"/>
                  </a:lnTo>
                  <a:lnTo>
                    <a:pt x="1656" y="732"/>
                  </a:lnTo>
                  <a:lnTo>
                    <a:pt x="1504" y="745"/>
                  </a:lnTo>
                  <a:lnTo>
                    <a:pt x="1353" y="772"/>
                  </a:lnTo>
                  <a:lnTo>
                    <a:pt x="1187" y="745"/>
                  </a:lnTo>
                  <a:lnTo>
                    <a:pt x="1435" y="719"/>
                  </a:lnTo>
                  <a:lnTo>
                    <a:pt x="1600" y="667"/>
                  </a:lnTo>
                  <a:lnTo>
                    <a:pt x="1629" y="641"/>
                  </a:lnTo>
                  <a:lnTo>
                    <a:pt x="1560" y="614"/>
                  </a:lnTo>
                  <a:lnTo>
                    <a:pt x="1477" y="654"/>
                  </a:lnTo>
                  <a:lnTo>
                    <a:pt x="1284" y="679"/>
                  </a:lnTo>
                  <a:lnTo>
                    <a:pt x="1146" y="667"/>
                  </a:lnTo>
                  <a:lnTo>
                    <a:pt x="1077" y="641"/>
                  </a:lnTo>
                  <a:lnTo>
                    <a:pt x="1105" y="576"/>
                  </a:lnTo>
                  <a:lnTo>
                    <a:pt x="980" y="484"/>
                  </a:lnTo>
                  <a:lnTo>
                    <a:pt x="856" y="367"/>
                  </a:lnTo>
                  <a:lnTo>
                    <a:pt x="787" y="249"/>
                  </a:lnTo>
                  <a:lnTo>
                    <a:pt x="760" y="170"/>
                  </a:lnTo>
                  <a:lnTo>
                    <a:pt x="760" y="145"/>
                  </a:lnTo>
                  <a:lnTo>
                    <a:pt x="787" y="145"/>
                  </a:lnTo>
                  <a:lnTo>
                    <a:pt x="856" y="196"/>
                  </a:lnTo>
                  <a:lnTo>
                    <a:pt x="952" y="314"/>
                  </a:lnTo>
                  <a:lnTo>
                    <a:pt x="1077" y="458"/>
                  </a:lnTo>
                  <a:lnTo>
                    <a:pt x="1105" y="497"/>
                  </a:lnTo>
                  <a:lnTo>
                    <a:pt x="1159" y="470"/>
                  </a:lnTo>
                  <a:lnTo>
                    <a:pt x="1132" y="392"/>
                  </a:lnTo>
                  <a:lnTo>
                    <a:pt x="1146" y="340"/>
                  </a:lnTo>
                  <a:lnTo>
                    <a:pt x="1159" y="274"/>
                  </a:lnTo>
                  <a:lnTo>
                    <a:pt x="1187" y="274"/>
                  </a:lnTo>
                  <a:lnTo>
                    <a:pt x="1215" y="354"/>
                  </a:lnTo>
                  <a:lnTo>
                    <a:pt x="1228" y="405"/>
                  </a:lnTo>
                  <a:lnTo>
                    <a:pt x="1270" y="419"/>
                  </a:lnTo>
                  <a:lnTo>
                    <a:pt x="1326" y="301"/>
                  </a:lnTo>
                  <a:lnTo>
                    <a:pt x="1353" y="261"/>
                  </a:lnTo>
                  <a:lnTo>
                    <a:pt x="1366" y="327"/>
                  </a:lnTo>
                  <a:lnTo>
                    <a:pt x="1366" y="432"/>
                  </a:lnTo>
                  <a:lnTo>
                    <a:pt x="1408" y="458"/>
                  </a:lnTo>
                  <a:lnTo>
                    <a:pt x="1477" y="367"/>
                  </a:lnTo>
                  <a:lnTo>
                    <a:pt x="1546" y="249"/>
                  </a:lnTo>
                  <a:lnTo>
                    <a:pt x="1615" y="223"/>
                  </a:lnTo>
                  <a:lnTo>
                    <a:pt x="1615" y="236"/>
                  </a:lnTo>
                  <a:lnTo>
                    <a:pt x="1573" y="314"/>
                  </a:lnTo>
                  <a:lnTo>
                    <a:pt x="1531" y="432"/>
                  </a:lnTo>
                  <a:lnTo>
                    <a:pt x="1573" y="445"/>
                  </a:lnTo>
                  <a:lnTo>
                    <a:pt x="1794" y="301"/>
                  </a:lnTo>
                  <a:lnTo>
                    <a:pt x="1821" y="301"/>
                  </a:lnTo>
                  <a:lnTo>
                    <a:pt x="1615" y="497"/>
                  </a:lnTo>
                  <a:lnTo>
                    <a:pt x="1573" y="536"/>
                  </a:lnTo>
                  <a:lnTo>
                    <a:pt x="1560" y="601"/>
                  </a:lnTo>
                  <a:lnTo>
                    <a:pt x="1600" y="628"/>
                  </a:lnTo>
                  <a:lnTo>
                    <a:pt x="1725" y="679"/>
                  </a:lnTo>
                  <a:lnTo>
                    <a:pt x="1932" y="785"/>
                  </a:lnTo>
                  <a:lnTo>
                    <a:pt x="2070" y="888"/>
                  </a:lnTo>
                  <a:lnTo>
                    <a:pt x="2235" y="1046"/>
                  </a:lnTo>
                  <a:lnTo>
                    <a:pt x="2360" y="1215"/>
                  </a:lnTo>
                  <a:lnTo>
                    <a:pt x="2442" y="1399"/>
                  </a:lnTo>
                  <a:lnTo>
                    <a:pt x="2498" y="1634"/>
                  </a:lnTo>
                  <a:lnTo>
                    <a:pt x="2483" y="1804"/>
                  </a:lnTo>
                  <a:lnTo>
                    <a:pt x="2469" y="1986"/>
                  </a:lnTo>
                  <a:lnTo>
                    <a:pt x="2387" y="2182"/>
                  </a:lnTo>
                  <a:lnTo>
                    <a:pt x="2304" y="2326"/>
                  </a:lnTo>
                  <a:lnTo>
                    <a:pt x="2208" y="2404"/>
                  </a:lnTo>
                  <a:lnTo>
                    <a:pt x="2097" y="2509"/>
                  </a:lnTo>
                  <a:lnTo>
                    <a:pt x="1890" y="2588"/>
                  </a:lnTo>
                  <a:lnTo>
                    <a:pt x="1642" y="2653"/>
                  </a:lnTo>
                  <a:lnTo>
                    <a:pt x="1518" y="2666"/>
                  </a:lnTo>
                  <a:lnTo>
                    <a:pt x="1284" y="2666"/>
                  </a:lnTo>
                  <a:lnTo>
                    <a:pt x="1063" y="2640"/>
                  </a:lnTo>
                  <a:lnTo>
                    <a:pt x="800" y="2575"/>
                  </a:lnTo>
                  <a:lnTo>
                    <a:pt x="553" y="2470"/>
                  </a:lnTo>
                  <a:lnTo>
                    <a:pt x="359" y="2366"/>
                  </a:lnTo>
                  <a:lnTo>
                    <a:pt x="194" y="2248"/>
                  </a:lnTo>
                  <a:lnTo>
                    <a:pt x="125" y="2157"/>
                  </a:lnTo>
                  <a:lnTo>
                    <a:pt x="111" y="2064"/>
                  </a:lnTo>
                  <a:lnTo>
                    <a:pt x="84" y="1790"/>
                  </a:lnTo>
                  <a:lnTo>
                    <a:pt x="98" y="1608"/>
                  </a:lnTo>
                  <a:lnTo>
                    <a:pt x="180" y="1412"/>
                  </a:lnTo>
                  <a:lnTo>
                    <a:pt x="290" y="1190"/>
                  </a:lnTo>
                  <a:lnTo>
                    <a:pt x="484" y="994"/>
                  </a:lnTo>
                  <a:lnTo>
                    <a:pt x="664" y="772"/>
                  </a:lnTo>
                  <a:lnTo>
                    <a:pt x="829" y="654"/>
                  </a:lnTo>
                  <a:lnTo>
                    <a:pt x="925" y="576"/>
                  </a:lnTo>
                  <a:lnTo>
                    <a:pt x="898" y="5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65120" y="4016880"/>
              <a:ext cx="236880" cy="495720"/>
            </a:xfrm>
            <a:custGeom>
              <a:avLst/>
              <a:gdLst/>
              <a:ahLst/>
              <a:rect l="l" t="t" r="r" b="b"/>
              <a:pathLst>
                <a:path w="524" h="849">
                  <a:moveTo>
                    <a:pt x="317" y="156"/>
                  </a:moveTo>
                  <a:lnTo>
                    <a:pt x="413" y="169"/>
                  </a:lnTo>
                  <a:lnTo>
                    <a:pt x="495" y="235"/>
                  </a:lnTo>
                  <a:lnTo>
                    <a:pt x="524" y="300"/>
                  </a:lnTo>
                  <a:lnTo>
                    <a:pt x="426" y="326"/>
                  </a:lnTo>
                  <a:lnTo>
                    <a:pt x="371" y="273"/>
                  </a:lnTo>
                  <a:lnTo>
                    <a:pt x="303" y="247"/>
                  </a:lnTo>
                  <a:lnTo>
                    <a:pt x="234" y="235"/>
                  </a:lnTo>
                  <a:lnTo>
                    <a:pt x="123" y="260"/>
                  </a:lnTo>
                  <a:lnTo>
                    <a:pt x="96" y="326"/>
                  </a:lnTo>
                  <a:lnTo>
                    <a:pt x="151" y="378"/>
                  </a:lnTo>
                  <a:lnTo>
                    <a:pt x="288" y="417"/>
                  </a:lnTo>
                  <a:lnTo>
                    <a:pt x="426" y="417"/>
                  </a:lnTo>
                  <a:lnTo>
                    <a:pt x="468" y="456"/>
                  </a:lnTo>
                  <a:lnTo>
                    <a:pt x="495" y="522"/>
                  </a:lnTo>
                  <a:lnTo>
                    <a:pt x="482" y="600"/>
                  </a:lnTo>
                  <a:lnTo>
                    <a:pt x="399" y="653"/>
                  </a:lnTo>
                  <a:lnTo>
                    <a:pt x="303" y="653"/>
                  </a:lnTo>
                  <a:lnTo>
                    <a:pt x="234" y="653"/>
                  </a:lnTo>
                  <a:lnTo>
                    <a:pt x="206" y="718"/>
                  </a:lnTo>
                  <a:lnTo>
                    <a:pt x="219" y="835"/>
                  </a:lnTo>
                  <a:lnTo>
                    <a:pt x="123" y="849"/>
                  </a:lnTo>
                  <a:lnTo>
                    <a:pt x="109" y="757"/>
                  </a:lnTo>
                  <a:lnTo>
                    <a:pt x="137" y="653"/>
                  </a:lnTo>
                  <a:lnTo>
                    <a:pt x="54" y="613"/>
                  </a:lnTo>
                  <a:lnTo>
                    <a:pt x="0" y="574"/>
                  </a:lnTo>
                  <a:lnTo>
                    <a:pt x="82" y="496"/>
                  </a:lnTo>
                  <a:lnTo>
                    <a:pt x="123" y="548"/>
                  </a:lnTo>
                  <a:lnTo>
                    <a:pt x="192" y="560"/>
                  </a:lnTo>
                  <a:lnTo>
                    <a:pt x="288" y="574"/>
                  </a:lnTo>
                  <a:lnTo>
                    <a:pt x="371" y="574"/>
                  </a:lnTo>
                  <a:lnTo>
                    <a:pt x="413" y="560"/>
                  </a:lnTo>
                  <a:lnTo>
                    <a:pt x="386" y="509"/>
                  </a:lnTo>
                  <a:lnTo>
                    <a:pt x="317" y="496"/>
                  </a:lnTo>
                  <a:lnTo>
                    <a:pt x="192" y="469"/>
                  </a:lnTo>
                  <a:lnTo>
                    <a:pt x="68" y="431"/>
                  </a:lnTo>
                  <a:lnTo>
                    <a:pt x="27" y="365"/>
                  </a:lnTo>
                  <a:lnTo>
                    <a:pt x="13" y="287"/>
                  </a:lnTo>
                  <a:lnTo>
                    <a:pt x="82" y="208"/>
                  </a:lnTo>
                  <a:lnTo>
                    <a:pt x="178" y="143"/>
                  </a:lnTo>
                  <a:lnTo>
                    <a:pt x="247" y="143"/>
                  </a:lnTo>
                  <a:lnTo>
                    <a:pt x="275" y="0"/>
                  </a:lnTo>
                  <a:lnTo>
                    <a:pt x="357" y="13"/>
                  </a:lnTo>
                  <a:lnTo>
                    <a:pt x="317" y="15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5520" y="3992040"/>
              <a:ext cx="101160" cy="177120"/>
            </a:xfrm>
            <a:custGeom>
              <a:avLst/>
              <a:gdLst/>
              <a:ahLst/>
              <a:rect l="l" t="t" r="r" b="b"/>
              <a:pathLst>
                <a:path w="220" h="301">
                  <a:moveTo>
                    <a:pt x="0" y="236"/>
                  </a:moveTo>
                  <a:lnTo>
                    <a:pt x="96" y="78"/>
                  </a:lnTo>
                  <a:lnTo>
                    <a:pt x="220" y="0"/>
                  </a:lnTo>
                  <a:lnTo>
                    <a:pt x="220" y="40"/>
                  </a:lnTo>
                  <a:lnTo>
                    <a:pt x="136" y="131"/>
                  </a:lnTo>
                  <a:lnTo>
                    <a:pt x="40" y="301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14400" y="4435560"/>
              <a:ext cx="63360" cy="122760"/>
            </a:xfrm>
            <a:custGeom>
              <a:avLst/>
              <a:gdLst/>
              <a:ahLst/>
              <a:rect l="l" t="t" r="r" b="b"/>
              <a:pathLst>
                <a:path w="138" h="209">
                  <a:moveTo>
                    <a:pt x="138" y="0"/>
                  </a:moveTo>
                  <a:lnTo>
                    <a:pt x="42" y="130"/>
                  </a:lnTo>
                  <a:lnTo>
                    <a:pt x="0" y="182"/>
                  </a:lnTo>
                  <a:lnTo>
                    <a:pt x="55" y="209"/>
                  </a:lnTo>
                  <a:lnTo>
                    <a:pt x="96" y="182"/>
                  </a:lnTo>
                  <a:lnTo>
                    <a:pt x="138" y="91"/>
                  </a:lnTo>
                  <a:lnTo>
                    <a:pt x="138" y="5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278000" y="5146560"/>
            <a:ext cx="1647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6827760" y="3506760"/>
            <a:ext cx="601560" cy="1464840"/>
            <a:chOff x="6827760" y="3506760"/>
            <a:chExt cx="601560" cy="1464840"/>
          </a:xfrm>
        </p:grpSpPr>
        <p:sp>
          <p:nvSpPr>
            <p:cNvPr id="1492" name=""/>
            <p:cNvSpPr/>
            <p:nvPr/>
          </p:nvSpPr>
          <p:spPr>
            <a:xfrm>
              <a:off x="7005600" y="3506760"/>
              <a:ext cx="387360" cy="316440"/>
            </a:xfrm>
            <a:custGeom>
              <a:avLst/>
              <a:gdLst/>
              <a:ahLst/>
              <a:rect l="l" t="t" r="r" b="b"/>
              <a:pathLst>
                <a:path w="431" h="811">
                  <a:moveTo>
                    <a:pt x="0" y="342"/>
                  </a:moveTo>
                  <a:lnTo>
                    <a:pt x="31" y="175"/>
                  </a:lnTo>
                  <a:lnTo>
                    <a:pt x="72" y="91"/>
                  </a:lnTo>
                  <a:lnTo>
                    <a:pt x="124" y="30"/>
                  </a:lnTo>
                  <a:lnTo>
                    <a:pt x="176" y="0"/>
                  </a:lnTo>
                  <a:lnTo>
                    <a:pt x="244" y="9"/>
                  </a:lnTo>
                  <a:lnTo>
                    <a:pt x="288" y="76"/>
                  </a:lnTo>
                  <a:lnTo>
                    <a:pt x="329" y="196"/>
                  </a:lnTo>
                  <a:lnTo>
                    <a:pt x="346" y="357"/>
                  </a:lnTo>
                  <a:lnTo>
                    <a:pt x="346" y="539"/>
                  </a:lnTo>
                  <a:lnTo>
                    <a:pt x="428" y="664"/>
                  </a:lnTo>
                  <a:lnTo>
                    <a:pt x="431" y="721"/>
                  </a:lnTo>
                  <a:lnTo>
                    <a:pt x="418" y="725"/>
                  </a:lnTo>
                  <a:lnTo>
                    <a:pt x="339" y="614"/>
                  </a:lnTo>
                  <a:lnTo>
                    <a:pt x="316" y="695"/>
                  </a:lnTo>
                  <a:lnTo>
                    <a:pt x="268" y="765"/>
                  </a:lnTo>
                  <a:lnTo>
                    <a:pt x="223" y="801"/>
                  </a:lnTo>
                  <a:lnTo>
                    <a:pt x="151" y="811"/>
                  </a:lnTo>
                  <a:lnTo>
                    <a:pt x="59" y="755"/>
                  </a:lnTo>
                  <a:lnTo>
                    <a:pt x="17" y="634"/>
                  </a:lnTo>
                  <a:lnTo>
                    <a:pt x="0" y="51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66000" y="3847680"/>
              <a:ext cx="346320" cy="510120"/>
            </a:xfrm>
            <a:custGeom>
              <a:avLst/>
              <a:gdLst/>
              <a:ahLst/>
              <a:rect l="l" t="t" r="r" b="b"/>
              <a:pathLst>
                <a:path w="385" h="1306">
                  <a:moveTo>
                    <a:pt x="56" y="85"/>
                  </a:moveTo>
                  <a:lnTo>
                    <a:pt x="104" y="30"/>
                  </a:lnTo>
                  <a:lnTo>
                    <a:pt x="159" y="9"/>
                  </a:lnTo>
                  <a:lnTo>
                    <a:pt x="210" y="0"/>
                  </a:lnTo>
                  <a:lnTo>
                    <a:pt x="279" y="15"/>
                  </a:lnTo>
                  <a:lnTo>
                    <a:pt x="355" y="85"/>
                  </a:lnTo>
                  <a:lnTo>
                    <a:pt x="385" y="210"/>
                  </a:lnTo>
                  <a:lnTo>
                    <a:pt x="385" y="401"/>
                  </a:lnTo>
                  <a:lnTo>
                    <a:pt x="382" y="583"/>
                  </a:lnTo>
                  <a:lnTo>
                    <a:pt x="344" y="859"/>
                  </a:lnTo>
                  <a:lnTo>
                    <a:pt x="313" y="1085"/>
                  </a:lnTo>
                  <a:lnTo>
                    <a:pt x="279" y="1230"/>
                  </a:lnTo>
                  <a:lnTo>
                    <a:pt x="207" y="1306"/>
                  </a:lnTo>
                  <a:lnTo>
                    <a:pt x="104" y="1290"/>
                  </a:lnTo>
                  <a:lnTo>
                    <a:pt x="52" y="1175"/>
                  </a:lnTo>
                  <a:lnTo>
                    <a:pt x="22" y="1004"/>
                  </a:lnTo>
                  <a:lnTo>
                    <a:pt x="4" y="813"/>
                  </a:lnTo>
                  <a:lnTo>
                    <a:pt x="0" y="526"/>
                  </a:lnTo>
                  <a:lnTo>
                    <a:pt x="15" y="325"/>
                  </a:lnTo>
                  <a:lnTo>
                    <a:pt x="35" y="146"/>
                  </a:lnTo>
                  <a:lnTo>
                    <a:pt x="56" y="8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27760" y="3846600"/>
              <a:ext cx="204480" cy="628200"/>
            </a:xfrm>
            <a:custGeom>
              <a:avLst/>
              <a:gdLst/>
              <a:ahLst/>
              <a:rect l="l" t="t" r="r" b="b"/>
              <a:pathLst>
                <a:path w="226" h="1607">
                  <a:moveTo>
                    <a:pt x="154" y="10"/>
                  </a:moveTo>
                  <a:lnTo>
                    <a:pt x="209" y="0"/>
                  </a:lnTo>
                  <a:lnTo>
                    <a:pt x="226" y="71"/>
                  </a:lnTo>
                  <a:lnTo>
                    <a:pt x="198" y="162"/>
                  </a:lnTo>
                  <a:lnTo>
                    <a:pt x="157" y="211"/>
                  </a:lnTo>
                  <a:lnTo>
                    <a:pt x="123" y="331"/>
                  </a:lnTo>
                  <a:lnTo>
                    <a:pt x="82" y="493"/>
                  </a:lnTo>
                  <a:lnTo>
                    <a:pt x="65" y="643"/>
                  </a:lnTo>
                  <a:lnTo>
                    <a:pt x="55" y="898"/>
                  </a:lnTo>
                  <a:lnTo>
                    <a:pt x="65" y="1139"/>
                  </a:lnTo>
                  <a:lnTo>
                    <a:pt x="85" y="1251"/>
                  </a:lnTo>
                  <a:lnTo>
                    <a:pt x="71" y="1371"/>
                  </a:lnTo>
                  <a:lnTo>
                    <a:pt x="55" y="1462"/>
                  </a:lnTo>
                  <a:lnTo>
                    <a:pt x="61" y="1607"/>
                  </a:lnTo>
                  <a:lnTo>
                    <a:pt x="33" y="1597"/>
                  </a:lnTo>
                  <a:lnTo>
                    <a:pt x="10" y="1476"/>
                  </a:lnTo>
                  <a:lnTo>
                    <a:pt x="0" y="1371"/>
                  </a:lnTo>
                  <a:lnTo>
                    <a:pt x="30" y="1230"/>
                  </a:lnTo>
                  <a:lnTo>
                    <a:pt x="20" y="1099"/>
                  </a:lnTo>
                  <a:lnTo>
                    <a:pt x="10" y="888"/>
                  </a:lnTo>
                  <a:lnTo>
                    <a:pt x="10" y="633"/>
                  </a:lnTo>
                  <a:lnTo>
                    <a:pt x="30" y="362"/>
                  </a:lnTo>
                  <a:lnTo>
                    <a:pt x="65" y="162"/>
                  </a:lnTo>
                  <a:lnTo>
                    <a:pt x="103" y="56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71280" y="3863160"/>
              <a:ext cx="128880" cy="596520"/>
            </a:xfrm>
            <a:custGeom>
              <a:avLst/>
              <a:gdLst/>
              <a:ahLst/>
              <a:rect l="l" t="t" r="r" b="b"/>
              <a:pathLst>
                <a:path w="145" h="1528">
                  <a:moveTo>
                    <a:pt x="3" y="5"/>
                  </a:moveTo>
                  <a:lnTo>
                    <a:pt x="62" y="0"/>
                  </a:lnTo>
                  <a:lnTo>
                    <a:pt x="103" y="121"/>
                  </a:lnTo>
                  <a:lnTo>
                    <a:pt x="145" y="452"/>
                  </a:lnTo>
                  <a:lnTo>
                    <a:pt x="145" y="834"/>
                  </a:lnTo>
                  <a:lnTo>
                    <a:pt x="124" y="1161"/>
                  </a:lnTo>
                  <a:lnTo>
                    <a:pt x="145" y="1272"/>
                  </a:lnTo>
                  <a:lnTo>
                    <a:pt x="145" y="1422"/>
                  </a:lnTo>
                  <a:lnTo>
                    <a:pt x="124" y="1528"/>
                  </a:lnTo>
                  <a:lnTo>
                    <a:pt x="97" y="1432"/>
                  </a:lnTo>
                  <a:lnTo>
                    <a:pt x="83" y="1287"/>
                  </a:lnTo>
                  <a:lnTo>
                    <a:pt x="52" y="1175"/>
                  </a:lnTo>
                  <a:lnTo>
                    <a:pt x="87" y="1076"/>
                  </a:lnTo>
                  <a:lnTo>
                    <a:pt x="107" y="834"/>
                  </a:lnTo>
                  <a:lnTo>
                    <a:pt x="107" y="608"/>
                  </a:lnTo>
                  <a:lnTo>
                    <a:pt x="87" y="382"/>
                  </a:lnTo>
                  <a:lnTo>
                    <a:pt x="45" y="216"/>
                  </a:lnTo>
                  <a:lnTo>
                    <a:pt x="0" y="13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67800" y="4255560"/>
              <a:ext cx="290880" cy="716040"/>
            </a:xfrm>
            <a:custGeom>
              <a:avLst/>
              <a:gdLst/>
              <a:ahLst/>
              <a:rect l="l" t="t" r="r" b="b"/>
              <a:pathLst>
                <a:path w="324" h="1831">
                  <a:moveTo>
                    <a:pt x="32" y="0"/>
                  </a:moveTo>
                  <a:lnTo>
                    <a:pt x="69" y="76"/>
                  </a:lnTo>
                  <a:lnTo>
                    <a:pt x="85" y="153"/>
                  </a:lnTo>
                  <a:lnTo>
                    <a:pt x="100" y="419"/>
                  </a:lnTo>
                  <a:lnTo>
                    <a:pt x="107" y="597"/>
                  </a:lnTo>
                  <a:lnTo>
                    <a:pt x="107" y="902"/>
                  </a:lnTo>
                  <a:lnTo>
                    <a:pt x="105" y="1189"/>
                  </a:lnTo>
                  <a:lnTo>
                    <a:pt x="90" y="1417"/>
                  </a:lnTo>
                  <a:lnTo>
                    <a:pt x="77" y="1487"/>
                  </a:lnTo>
                  <a:lnTo>
                    <a:pt x="157" y="1526"/>
                  </a:lnTo>
                  <a:lnTo>
                    <a:pt x="224" y="1571"/>
                  </a:lnTo>
                  <a:lnTo>
                    <a:pt x="314" y="1666"/>
                  </a:lnTo>
                  <a:lnTo>
                    <a:pt x="324" y="1703"/>
                  </a:lnTo>
                  <a:lnTo>
                    <a:pt x="316" y="1774"/>
                  </a:lnTo>
                  <a:lnTo>
                    <a:pt x="271" y="1831"/>
                  </a:lnTo>
                  <a:lnTo>
                    <a:pt x="254" y="1799"/>
                  </a:lnTo>
                  <a:lnTo>
                    <a:pt x="239" y="1722"/>
                  </a:lnTo>
                  <a:lnTo>
                    <a:pt x="196" y="1660"/>
                  </a:lnTo>
                  <a:lnTo>
                    <a:pt x="122" y="1588"/>
                  </a:lnTo>
                  <a:lnTo>
                    <a:pt x="74" y="1571"/>
                  </a:lnTo>
                  <a:lnTo>
                    <a:pt x="18" y="1571"/>
                  </a:lnTo>
                  <a:lnTo>
                    <a:pt x="18" y="1513"/>
                  </a:lnTo>
                  <a:lnTo>
                    <a:pt x="45" y="1449"/>
                  </a:lnTo>
                  <a:lnTo>
                    <a:pt x="69" y="1245"/>
                  </a:lnTo>
                  <a:lnTo>
                    <a:pt x="77" y="1030"/>
                  </a:lnTo>
                  <a:lnTo>
                    <a:pt x="74" y="840"/>
                  </a:lnTo>
                  <a:lnTo>
                    <a:pt x="69" y="597"/>
                  </a:lnTo>
                  <a:lnTo>
                    <a:pt x="54" y="388"/>
                  </a:lnTo>
                  <a:lnTo>
                    <a:pt x="23" y="235"/>
                  </a:lnTo>
                  <a:lnTo>
                    <a:pt x="0" y="95"/>
                  </a:lnTo>
                  <a:lnTo>
                    <a:pt x="7" y="4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160040" y="4256640"/>
              <a:ext cx="269280" cy="644760"/>
            </a:xfrm>
            <a:custGeom>
              <a:avLst/>
              <a:gdLst/>
              <a:ahLst/>
              <a:rect l="l" t="t" r="r" b="b"/>
              <a:pathLst>
                <a:path w="298" h="1650">
                  <a:moveTo>
                    <a:pt x="0" y="130"/>
                  </a:moveTo>
                  <a:lnTo>
                    <a:pt x="0" y="25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112" y="60"/>
                  </a:lnTo>
                  <a:lnTo>
                    <a:pt x="119" y="115"/>
                  </a:lnTo>
                  <a:lnTo>
                    <a:pt x="112" y="236"/>
                  </a:lnTo>
                  <a:lnTo>
                    <a:pt x="89" y="386"/>
                  </a:lnTo>
                  <a:lnTo>
                    <a:pt x="78" y="618"/>
                  </a:lnTo>
                  <a:lnTo>
                    <a:pt x="72" y="768"/>
                  </a:lnTo>
                  <a:lnTo>
                    <a:pt x="72" y="793"/>
                  </a:lnTo>
                  <a:lnTo>
                    <a:pt x="82" y="1004"/>
                  </a:lnTo>
                  <a:lnTo>
                    <a:pt x="99" y="1124"/>
                  </a:lnTo>
                  <a:lnTo>
                    <a:pt x="112" y="1219"/>
                  </a:lnTo>
                  <a:lnTo>
                    <a:pt x="109" y="1259"/>
                  </a:lnTo>
                  <a:lnTo>
                    <a:pt x="154" y="1369"/>
                  </a:lnTo>
                  <a:lnTo>
                    <a:pt x="202" y="1439"/>
                  </a:lnTo>
                  <a:lnTo>
                    <a:pt x="253" y="1505"/>
                  </a:lnTo>
                  <a:lnTo>
                    <a:pt x="298" y="1536"/>
                  </a:lnTo>
                  <a:lnTo>
                    <a:pt x="298" y="1591"/>
                  </a:lnTo>
                  <a:lnTo>
                    <a:pt x="274" y="1635"/>
                  </a:lnTo>
                  <a:lnTo>
                    <a:pt x="216" y="1650"/>
                  </a:lnTo>
                  <a:lnTo>
                    <a:pt x="174" y="1621"/>
                  </a:lnTo>
                  <a:lnTo>
                    <a:pt x="174" y="1580"/>
                  </a:lnTo>
                  <a:lnTo>
                    <a:pt x="140" y="1439"/>
                  </a:lnTo>
                  <a:lnTo>
                    <a:pt x="82" y="1365"/>
                  </a:lnTo>
                  <a:lnTo>
                    <a:pt x="40" y="1289"/>
                  </a:lnTo>
                  <a:lnTo>
                    <a:pt x="10" y="1249"/>
                  </a:lnTo>
                  <a:lnTo>
                    <a:pt x="20" y="1199"/>
                  </a:lnTo>
                  <a:lnTo>
                    <a:pt x="37" y="1063"/>
                  </a:lnTo>
                  <a:lnTo>
                    <a:pt x="37" y="808"/>
                  </a:lnTo>
                  <a:lnTo>
                    <a:pt x="30" y="627"/>
                  </a:lnTo>
                  <a:lnTo>
                    <a:pt x="30" y="447"/>
                  </a:lnTo>
                  <a:lnTo>
                    <a:pt x="27" y="25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6281640" y="3470400"/>
            <a:ext cx="498240" cy="1542600"/>
            <a:chOff x="6281640" y="3470400"/>
            <a:chExt cx="498240" cy="1542600"/>
          </a:xfrm>
        </p:grpSpPr>
        <p:sp>
          <p:nvSpPr>
            <p:cNvPr id="1499" name=""/>
            <p:cNvSpPr/>
            <p:nvPr/>
          </p:nvSpPr>
          <p:spPr>
            <a:xfrm>
              <a:off x="6427800" y="3470400"/>
              <a:ext cx="326160" cy="330120"/>
            </a:xfrm>
            <a:custGeom>
              <a:avLst/>
              <a:gdLst/>
              <a:ahLst/>
              <a:rect l="l" t="t" r="r" b="b"/>
              <a:pathLst>
                <a:path w="326" h="662">
                  <a:moveTo>
                    <a:pt x="0" y="280"/>
                  </a:moveTo>
                  <a:lnTo>
                    <a:pt x="23" y="145"/>
                  </a:lnTo>
                  <a:lnTo>
                    <a:pt x="55" y="75"/>
                  </a:lnTo>
                  <a:lnTo>
                    <a:pt x="93" y="24"/>
                  </a:lnTo>
                  <a:lnTo>
                    <a:pt x="132" y="0"/>
                  </a:lnTo>
                  <a:lnTo>
                    <a:pt x="184" y="8"/>
                  </a:lnTo>
                  <a:lnTo>
                    <a:pt x="217" y="61"/>
                  </a:lnTo>
                  <a:lnTo>
                    <a:pt x="249" y="161"/>
                  </a:lnTo>
                  <a:lnTo>
                    <a:pt x="262" y="292"/>
                  </a:lnTo>
                  <a:lnTo>
                    <a:pt x="262" y="440"/>
                  </a:lnTo>
                  <a:lnTo>
                    <a:pt x="324" y="543"/>
                  </a:lnTo>
                  <a:lnTo>
                    <a:pt x="326" y="587"/>
                  </a:lnTo>
                  <a:lnTo>
                    <a:pt x="316" y="592"/>
                  </a:lnTo>
                  <a:lnTo>
                    <a:pt x="257" y="501"/>
                  </a:lnTo>
                  <a:lnTo>
                    <a:pt x="238" y="567"/>
                  </a:lnTo>
                  <a:lnTo>
                    <a:pt x="202" y="624"/>
                  </a:lnTo>
                  <a:lnTo>
                    <a:pt x="168" y="653"/>
                  </a:lnTo>
                  <a:lnTo>
                    <a:pt x="114" y="662"/>
                  </a:lnTo>
                  <a:lnTo>
                    <a:pt x="44" y="616"/>
                  </a:lnTo>
                  <a:lnTo>
                    <a:pt x="13" y="517"/>
                  </a:lnTo>
                  <a:lnTo>
                    <a:pt x="0" y="41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95760" y="3829320"/>
              <a:ext cx="285840" cy="537840"/>
            </a:xfrm>
            <a:custGeom>
              <a:avLst/>
              <a:gdLst/>
              <a:ahLst/>
              <a:rect l="l" t="t" r="r" b="b"/>
              <a:pathLst>
                <a:path w="286" h="1074">
                  <a:moveTo>
                    <a:pt x="42" y="69"/>
                  </a:moveTo>
                  <a:lnTo>
                    <a:pt x="77" y="23"/>
                  </a:lnTo>
                  <a:lnTo>
                    <a:pt x="118" y="7"/>
                  </a:lnTo>
                  <a:lnTo>
                    <a:pt x="157" y="0"/>
                  </a:lnTo>
                  <a:lnTo>
                    <a:pt x="207" y="11"/>
                  </a:lnTo>
                  <a:lnTo>
                    <a:pt x="263" y="69"/>
                  </a:lnTo>
                  <a:lnTo>
                    <a:pt x="286" y="172"/>
                  </a:lnTo>
                  <a:lnTo>
                    <a:pt x="286" y="329"/>
                  </a:lnTo>
                  <a:lnTo>
                    <a:pt x="284" y="478"/>
                  </a:lnTo>
                  <a:lnTo>
                    <a:pt x="255" y="705"/>
                  </a:lnTo>
                  <a:lnTo>
                    <a:pt x="233" y="891"/>
                  </a:lnTo>
                  <a:lnTo>
                    <a:pt x="207" y="1011"/>
                  </a:lnTo>
                  <a:lnTo>
                    <a:pt x="154" y="1074"/>
                  </a:lnTo>
                  <a:lnTo>
                    <a:pt x="77" y="1060"/>
                  </a:lnTo>
                  <a:lnTo>
                    <a:pt x="39" y="965"/>
                  </a:lnTo>
                  <a:lnTo>
                    <a:pt x="17" y="826"/>
                  </a:lnTo>
                  <a:lnTo>
                    <a:pt x="3" y="668"/>
                  </a:lnTo>
                  <a:lnTo>
                    <a:pt x="0" y="432"/>
                  </a:lnTo>
                  <a:lnTo>
                    <a:pt x="11" y="267"/>
                  </a:lnTo>
                  <a:lnTo>
                    <a:pt x="27" y="118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81640" y="3829320"/>
              <a:ext cx="168120" cy="659520"/>
            </a:xfrm>
            <a:custGeom>
              <a:avLst/>
              <a:gdLst/>
              <a:ahLst/>
              <a:rect l="l" t="t" r="r" b="b"/>
              <a:pathLst>
                <a:path w="168" h="1319">
                  <a:moveTo>
                    <a:pt x="114" y="8"/>
                  </a:moveTo>
                  <a:lnTo>
                    <a:pt x="155" y="0"/>
                  </a:lnTo>
                  <a:lnTo>
                    <a:pt x="168" y="58"/>
                  </a:lnTo>
                  <a:lnTo>
                    <a:pt x="148" y="132"/>
                  </a:lnTo>
                  <a:lnTo>
                    <a:pt x="117" y="173"/>
                  </a:lnTo>
                  <a:lnTo>
                    <a:pt x="92" y="271"/>
                  </a:lnTo>
                  <a:lnTo>
                    <a:pt x="60" y="404"/>
                  </a:lnTo>
                  <a:lnTo>
                    <a:pt x="48" y="527"/>
                  </a:lnTo>
                  <a:lnTo>
                    <a:pt x="40" y="738"/>
                  </a:lnTo>
                  <a:lnTo>
                    <a:pt x="48" y="936"/>
                  </a:lnTo>
                  <a:lnTo>
                    <a:pt x="64" y="1026"/>
                  </a:lnTo>
                  <a:lnTo>
                    <a:pt x="53" y="1126"/>
                  </a:lnTo>
                  <a:lnTo>
                    <a:pt x="40" y="1200"/>
                  </a:lnTo>
                  <a:lnTo>
                    <a:pt x="45" y="1319"/>
                  </a:lnTo>
                  <a:lnTo>
                    <a:pt x="25" y="1310"/>
                  </a:lnTo>
                  <a:lnTo>
                    <a:pt x="8" y="1212"/>
                  </a:lnTo>
                  <a:lnTo>
                    <a:pt x="0" y="1126"/>
                  </a:lnTo>
                  <a:lnTo>
                    <a:pt x="23" y="1010"/>
                  </a:lnTo>
                  <a:lnTo>
                    <a:pt x="15" y="903"/>
                  </a:lnTo>
                  <a:lnTo>
                    <a:pt x="8" y="729"/>
                  </a:lnTo>
                  <a:lnTo>
                    <a:pt x="8" y="520"/>
                  </a:lnTo>
                  <a:lnTo>
                    <a:pt x="23" y="297"/>
                  </a:lnTo>
                  <a:lnTo>
                    <a:pt x="48" y="132"/>
                  </a:lnTo>
                  <a:lnTo>
                    <a:pt x="76" y="46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52080" y="3844440"/>
              <a:ext cx="106200" cy="628200"/>
            </a:xfrm>
            <a:custGeom>
              <a:avLst/>
              <a:gdLst/>
              <a:ahLst/>
              <a:rect l="l" t="t" r="r" b="b"/>
              <a:pathLst>
                <a:path w="106" h="1253">
                  <a:moveTo>
                    <a:pt x="2" y="3"/>
                  </a:moveTo>
                  <a:lnTo>
                    <a:pt x="46" y="0"/>
                  </a:lnTo>
                  <a:lnTo>
                    <a:pt x="75" y="98"/>
                  </a:lnTo>
                  <a:lnTo>
                    <a:pt x="106" y="370"/>
                  </a:lnTo>
                  <a:lnTo>
                    <a:pt x="106" y="684"/>
                  </a:lnTo>
                  <a:lnTo>
                    <a:pt x="90" y="951"/>
                  </a:lnTo>
                  <a:lnTo>
                    <a:pt x="106" y="1042"/>
                  </a:lnTo>
                  <a:lnTo>
                    <a:pt x="106" y="1165"/>
                  </a:lnTo>
                  <a:lnTo>
                    <a:pt x="90" y="1253"/>
                  </a:lnTo>
                  <a:lnTo>
                    <a:pt x="70" y="1174"/>
                  </a:lnTo>
                  <a:lnTo>
                    <a:pt x="60" y="1054"/>
                  </a:lnTo>
                  <a:lnTo>
                    <a:pt x="38" y="963"/>
                  </a:lnTo>
                  <a:lnTo>
                    <a:pt x="63" y="881"/>
                  </a:lnTo>
                  <a:lnTo>
                    <a:pt x="78" y="684"/>
                  </a:lnTo>
                  <a:lnTo>
                    <a:pt x="78" y="498"/>
                  </a:lnTo>
                  <a:lnTo>
                    <a:pt x="63" y="312"/>
                  </a:lnTo>
                  <a:lnTo>
                    <a:pt x="33" y="177"/>
                  </a:lnTo>
                  <a:lnTo>
                    <a:pt x="0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97560" y="4258800"/>
              <a:ext cx="240120" cy="754200"/>
            </a:xfrm>
            <a:custGeom>
              <a:avLst/>
              <a:gdLst/>
              <a:ahLst/>
              <a:rect l="l" t="t" r="r" b="b"/>
              <a:pathLst>
                <a:path w="241" h="1507">
                  <a:moveTo>
                    <a:pt x="24" y="0"/>
                  </a:moveTo>
                  <a:lnTo>
                    <a:pt x="52" y="63"/>
                  </a:lnTo>
                  <a:lnTo>
                    <a:pt x="62" y="127"/>
                  </a:lnTo>
                  <a:lnTo>
                    <a:pt x="73" y="345"/>
                  </a:lnTo>
                  <a:lnTo>
                    <a:pt x="79" y="492"/>
                  </a:lnTo>
                  <a:lnTo>
                    <a:pt x="79" y="743"/>
                  </a:lnTo>
                  <a:lnTo>
                    <a:pt x="77" y="978"/>
                  </a:lnTo>
                  <a:lnTo>
                    <a:pt x="66" y="1167"/>
                  </a:lnTo>
                  <a:lnTo>
                    <a:pt x="57" y="1225"/>
                  </a:lnTo>
                  <a:lnTo>
                    <a:pt x="116" y="1256"/>
                  </a:lnTo>
                  <a:lnTo>
                    <a:pt x="167" y="1293"/>
                  </a:lnTo>
                  <a:lnTo>
                    <a:pt x="233" y="1370"/>
                  </a:lnTo>
                  <a:lnTo>
                    <a:pt x="241" y="1403"/>
                  </a:lnTo>
                  <a:lnTo>
                    <a:pt x="235" y="1459"/>
                  </a:lnTo>
                  <a:lnTo>
                    <a:pt x="201" y="1507"/>
                  </a:lnTo>
                  <a:lnTo>
                    <a:pt x="188" y="1480"/>
                  </a:lnTo>
                  <a:lnTo>
                    <a:pt x="178" y="1418"/>
                  </a:lnTo>
                  <a:lnTo>
                    <a:pt x="147" y="1366"/>
                  </a:lnTo>
                  <a:lnTo>
                    <a:pt x="91" y="1308"/>
                  </a:lnTo>
                  <a:lnTo>
                    <a:pt x="55" y="1293"/>
                  </a:lnTo>
                  <a:lnTo>
                    <a:pt x="12" y="1293"/>
                  </a:lnTo>
                  <a:lnTo>
                    <a:pt x="12" y="1245"/>
                  </a:lnTo>
                  <a:lnTo>
                    <a:pt x="33" y="1193"/>
                  </a:lnTo>
                  <a:lnTo>
                    <a:pt x="52" y="1025"/>
                  </a:lnTo>
                  <a:lnTo>
                    <a:pt x="57" y="847"/>
                  </a:lnTo>
                  <a:lnTo>
                    <a:pt x="55" y="691"/>
                  </a:lnTo>
                  <a:lnTo>
                    <a:pt x="52" y="492"/>
                  </a:lnTo>
                  <a:lnTo>
                    <a:pt x="41" y="320"/>
                  </a:lnTo>
                  <a:lnTo>
                    <a:pt x="17" y="193"/>
                  </a:lnTo>
                  <a:lnTo>
                    <a:pt x="0" y="79"/>
                  </a:lnTo>
                  <a:lnTo>
                    <a:pt x="5" y="3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5600" y="4258800"/>
              <a:ext cx="224280" cy="679320"/>
            </a:xfrm>
            <a:custGeom>
              <a:avLst/>
              <a:gdLst/>
              <a:ahLst/>
              <a:rect l="l" t="t" r="r" b="b"/>
              <a:pathLst>
                <a:path w="223" h="1355">
                  <a:moveTo>
                    <a:pt x="0" y="107"/>
                  </a:moveTo>
                  <a:lnTo>
                    <a:pt x="0" y="21"/>
                  </a:lnTo>
                  <a:lnTo>
                    <a:pt x="23" y="0"/>
                  </a:lnTo>
                  <a:lnTo>
                    <a:pt x="59" y="0"/>
                  </a:lnTo>
                  <a:lnTo>
                    <a:pt x="85" y="50"/>
                  </a:lnTo>
                  <a:lnTo>
                    <a:pt x="90" y="95"/>
                  </a:lnTo>
                  <a:lnTo>
                    <a:pt x="85" y="194"/>
                  </a:lnTo>
                  <a:lnTo>
                    <a:pt x="67" y="318"/>
                  </a:lnTo>
                  <a:lnTo>
                    <a:pt x="59" y="506"/>
                  </a:lnTo>
                  <a:lnTo>
                    <a:pt x="54" y="631"/>
                  </a:lnTo>
                  <a:lnTo>
                    <a:pt x="54" y="651"/>
                  </a:lnTo>
                  <a:lnTo>
                    <a:pt x="62" y="824"/>
                  </a:lnTo>
                  <a:lnTo>
                    <a:pt x="75" y="922"/>
                  </a:lnTo>
                  <a:lnTo>
                    <a:pt x="85" y="1001"/>
                  </a:lnTo>
                  <a:lnTo>
                    <a:pt x="82" y="1034"/>
                  </a:lnTo>
                  <a:lnTo>
                    <a:pt x="115" y="1125"/>
                  </a:lnTo>
                  <a:lnTo>
                    <a:pt x="151" y="1182"/>
                  </a:lnTo>
                  <a:lnTo>
                    <a:pt x="190" y="1236"/>
                  </a:lnTo>
                  <a:lnTo>
                    <a:pt x="223" y="1261"/>
                  </a:lnTo>
                  <a:lnTo>
                    <a:pt x="223" y="1306"/>
                  </a:lnTo>
                  <a:lnTo>
                    <a:pt x="206" y="1343"/>
                  </a:lnTo>
                  <a:lnTo>
                    <a:pt x="162" y="1355"/>
                  </a:lnTo>
                  <a:lnTo>
                    <a:pt x="131" y="1331"/>
                  </a:lnTo>
                  <a:lnTo>
                    <a:pt x="131" y="1298"/>
                  </a:lnTo>
                  <a:lnTo>
                    <a:pt x="105" y="1182"/>
                  </a:lnTo>
                  <a:lnTo>
                    <a:pt x="62" y="1120"/>
                  </a:lnTo>
                  <a:lnTo>
                    <a:pt x="31" y="1059"/>
                  </a:lnTo>
                  <a:lnTo>
                    <a:pt x="8" y="1026"/>
                  </a:lnTo>
                  <a:lnTo>
                    <a:pt x="15" y="985"/>
                  </a:lnTo>
                  <a:lnTo>
                    <a:pt x="28" y="873"/>
                  </a:lnTo>
                  <a:lnTo>
                    <a:pt x="28" y="664"/>
                  </a:lnTo>
                  <a:lnTo>
                    <a:pt x="23" y="515"/>
                  </a:lnTo>
                  <a:lnTo>
                    <a:pt x="23" y="367"/>
                  </a:lnTo>
                  <a:lnTo>
                    <a:pt x="20" y="20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5900760" y="3429000"/>
            <a:ext cx="329760" cy="1566360"/>
            <a:chOff x="5900760" y="3429000"/>
            <a:chExt cx="329760" cy="1566360"/>
          </a:xfrm>
        </p:grpSpPr>
        <p:sp>
          <p:nvSpPr>
            <p:cNvPr id="1506" name=""/>
            <p:cNvSpPr/>
            <p:nvPr/>
          </p:nvSpPr>
          <p:spPr>
            <a:xfrm>
              <a:off x="5996880" y="342900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78520" y="379584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00760" y="379368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147360" y="381240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78520" y="422964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81840" y="423180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499520" y="3462480"/>
            <a:ext cx="329760" cy="1566360"/>
            <a:chOff x="7499520" y="3462480"/>
            <a:chExt cx="329760" cy="1566360"/>
          </a:xfrm>
        </p:grpSpPr>
        <p:sp>
          <p:nvSpPr>
            <p:cNvPr id="1513" name=""/>
            <p:cNvSpPr/>
            <p:nvPr/>
          </p:nvSpPr>
          <p:spPr>
            <a:xfrm>
              <a:off x="7595640" y="346248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577280" y="382932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99520" y="382716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746120" y="3845880"/>
              <a:ext cx="70560" cy="633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577280" y="426312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80600" y="4265280"/>
              <a:ext cx="148680" cy="68688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5850720" y="5070600"/>
            <a:ext cx="1861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ogrami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410080" y="914400"/>
            <a:ext cx="3733920" cy="1828800"/>
          </a:xfrm>
          <a:prstGeom prst="cloudCallout">
            <a:avLst>
              <a:gd name="adj1" fmla="val -29675"/>
              <a:gd name="adj2" fmla="val 81509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Mamy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Zmieńmy wymag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990720" y="1828800"/>
            <a:ext cx="990360" cy="838080"/>
          </a:xfrm>
          <a:prstGeom prst="cloudCallout">
            <a:avLst>
              <a:gd name="adj1" fmla="val 12337"/>
              <a:gd name="adj2" fmla="val 139962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124080" y="6019920"/>
            <a:ext cx="2667240" cy="53316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3366ff"/>
                  </a:outerShdw>
                </a:effectLst>
                <a:latin typeface="Impact"/>
              </a:rPr>
              <a:t>Any mom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3366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49400" y="2971800"/>
            <a:ext cx="1679400" cy="2057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5334120"/>
            <a:ext cx="3276720" cy="761760"/>
          </a:xfrm>
          <a:prstGeom prst="cube">
            <a:avLst>
              <a:gd name="adj" fmla="val 4583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4876920"/>
            <a:ext cx="2819520" cy="761760"/>
          </a:xfrm>
          <a:prstGeom prst="cube">
            <a:avLst>
              <a:gd name="adj" fmla="val 45833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4419720"/>
            <a:ext cx="2362320" cy="761760"/>
          </a:xfrm>
          <a:prstGeom prst="cube">
            <a:avLst>
              <a:gd name="adj" fmla="val 4583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3962520"/>
            <a:ext cx="1981440" cy="761760"/>
          </a:xfrm>
          <a:prstGeom prst="cube">
            <a:avLst>
              <a:gd name="adj" fmla="val 4583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1080" y="3505320"/>
            <a:ext cx="1524240" cy="761760"/>
          </a:xfrm>
          <a:prstGeom prst="cube">
            <a:avLst>
              <a:gd name="adj" fmla="val 4583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1679400" cy="20574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981080" y="5592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99"/>
                </a:solidFill>
                <a:latin typeface="Arial"/>
              </a:rPr>
              <a:t>C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733560" y="29714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Departament Obrony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SEI, Carnegie-Mellon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1989 - 9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99"/>
                </a:solidFill>
                <a:latin typeface="Arial"/>
              </a:rPr>
              <a:t>CMMI: grudzień,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41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41320" y="1461240"/>
              <a:ext cx="573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CMM – Capability Maturity Mode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Testy akceptacyjn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477800" y="1082520"/>
            <a:ext cx="1091880" cy="1518840"/>
            <a:chOff x="1477800" y="1082520"/>
            <a:chExt cx="1091880" cy="1518840"/>
          </a:xfrm>
        </p:grpSpPr>
        <p:sp>
          <p:nvSpPr>
            <p:cNvPr id="1525" name=""/>
            <p:cNvSpPr/>
            <p:nvPr/>
          </p:nvSpPr>
          <p:spPr>
            <a:xfrm>
              <a:off x="1857960" y="1082520"/>
              <a:ext cx="244080" cy="381960"/>
            </a:xfrm>
            <a:custGeom>
              <a:avLst/>
              <a:gdLst/>
              <a:ahLst/>
              <a:rect l="l" t="t" r="r" b="b"/>
              <a:pathLst>
                <a:path w="537" h="654">
                  <a:moveTo>
                    <a:pt x="138" y="302"/>
                  </a:moveTo>
                  <a:lnTo>
                    <a:pt x="179" y="171"/>
                  </a:lnTo>
                  <a:lnTo>
                    <a:pt x="248" y="66"/>
                  </a:lnTo>
                  <a:lnTo>
                    <a:pt x="317" y="13"/>
                  </a:lnTo>
                  <a:lnTo>
                    <a:pt x="399" y="0"/>
                  </a:lnTo>
                  <a:lnTo>
                    <a:pt x="455" y="13"/>
                  </a:lnTo>
                  <a:lnTo>
                    <a:pt x="524" y="53"/>
                  </a:lnTo>
                  <a:lnTo>
                    <a:pt x="537" y="144"/>
                  </a:lnTo>
                  <a:lnTo>
                    <a:pt x="537" y="275"/>
                  </a:lnTo>
                  <a:lnTo>
                    <a:pt x="482" y="418"/>
                  </a:lnTo>
                  <a:lnTo>
                    <a:pt x="399" y="511"/>
                  </a:lnTo>
                  <a:lnTo>
                    <a:pt x="359" y="563"/>
                  </a:lnTo>
                  <a:lnTo>
                    <a:pt x="290" y="602"/>
                  </a:lnTo>
                  <a:lnTo>
                    <a:pt x="234" y="589"/>
                  </a:lnTo>
                  <a:lnTo>
                    <a:pt x="193" y="576"/>
                  </a:lnTo>
                  <a:lnTo>
                    <a:pt x="151" y="536"/>
                  </a:lnTo>
                  <a:lnTo>
                    <a:pt x="27" y="654"/>
                  </a:lnTo>
                  <a:lnTo>
                    <a:pt x="0" y="576"/>
                  </a:lnTo>
                  <a:lnTo>
                    <a:pt x="124" y="458"/>
                  </a:lnTo>
                  <a:lnTo>
                    <a:pt x="138" y="30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21320" y="1471320"/>
              <a:ext cx="155880" cy="511920"/>
            </a:xfrm>
            <a:custGeom>
              <a:avLst/>
              <a:gdLst/>
              <a:ahLst/>
              <a:rect l="l" t="t" r="r" b="b"/>
              <a:pathLst>
                <a:path w="345" h="876">
                  <a:moveTo>
                    <a:pt x="111" y="26"/>
                  </a:moveTo>
                  <a:lnTo>
                    <a:pt x="180" y="0"/>
                  </a:lnTo>
                  <a:lnTo>
                    <a:pt x="262" y="26"/>
                  </a:lnTo>
                  <a:lnTo>
                    <a:pt x="318" y="118"/>
                  </a:lnTo>
                  <a:lnTo>
                    <a:pt x="345" y="262"/>
                  </a:lnTo>
                  <a:lnTo>
                    <a:pt x="345" y="483"/>
                  </a:lnTo>
                  <a:lnTo>
                    <a:pt x="303" y="654"/>
                  </a:lnTo>
                  <a:lnTo>
                    <a:pt x="262" y="785"/>
                  </a:lnTo>
                  <a:lnTo>
                    <a:pt x="151" y="876"/>
                  </a:lnTo>
                  <a:lnTo>
                    <a:pt x="55" y="863"/>
                  </a:lnTo>
                  <a:lnTo>
                    <a:pt x="0" y="745"/>
                  </a:lnTo>
                  <a:lnTo>
                    <a:pt x="42" y="614"/>
                  </a:lnTo>
                  <a:lnTo>
                    <a:pt x="82" y="496"/>
                  </a:lnTo>
                  <a:lnTo>
                    <a:pt x="96" y="380"/>
                  </a:lnTo>
                  <a:lnTo>
                    <a:pt x="82" y="222"/>
                  </a:lnTo>
                  <a:lnTo>
                    <a:pt x="82" y="78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77800" y="1478520"/>
              <a:ext cx="505080" cy="390600"/>
            </a:xfrm>
            <a:custGeom>
              <a:avLst/>
              <a:gdLst/>
              <a:ahLst/>
              <a:rect l="l" t="t" r="r" b="b"/>
              <a:pathLst>
                <a:path w="1117" h="667">
                  <a:moveTo>
                    <a:pt x="910" y="104"/>
                  </a:moveTo>
                  <a:lnTo>
                    <a:pt x="992" y="26"/>
                  </a:lnTo>
                  <a:lnTo>
                    <a:pt x="1061" y="0"/>
                  </a:lnTo>
                  <a:lnTo>
                    <a:pt x="1103" y="13"/>
                  </a:lnTo>
                  <a:lnTo>
                    <a:pt x="1117" y="64"/>
                  </a:lnTo>
                  <a:lnTo>
                    <a:pt x="1103" y="117"/>
                  </a:lnTo>
                  <a:lnTo>
                    <a:pt x="1075" y="130"/>
                  </a:lnTo>
                  <a:lnTo>
                    <a:pt x="938" y="209"/>
                  </a:lnTo>
                  <a:lnTo>
                    <a:pt x="800" y="300"/>
                  </a:lnTo>
                  <a:lnTo>
                    <a:pt x="689" y="365"/>
                  </a:lnTo>
                  <a:lnTo>
                    <a:pt x="551" y="418"/>
                  </a:lnTo>
                  <a:lnTo>
                    <a:pt x="386" y="470"/>
                  </a:lnTo>
                  <a:lnTo>
                    <a:pt x="359" y="496"/>
                  </a:lnTo>
                  <a:lnTo>
                    <a:pt x="399" y="640"/>
                  </a:lnTo>
                  <a:lnTo>
                    <a:pt x="372" y="640"/>
                  </a:lnTo>
                  <a:lnTo>
                    <a:pt x="317" y="536"/>
                  </a:lnTo>
                  <a:lnTo>
                    <a:pt x="290" y="536"/>
                  </a:lnTo>
                  <a:lnTo>
                    <a:pt x="221" y="667"/>
                  </a:lnTo>
                  <a:lnTo>
                    <a:pt x="179" y="667"/>
                  </a:lnTo>
                  <a:lnTo>
                    <a:pt x="234" y="536"/>
                  </a:lnTo>
                  <a:lnTo>
                    <a:pt x="221" y="496"/>
                  </a:lnTo>
                  <a:lnTo>
                    <a:pt x="0" y="509"/>
                  </a:lnTo>
                  <a:lnTo>
                    <a:pt x="0" y="470"/>
                  </a:lnTo>
                  <a:lnTo>
                    <a:pt x="207" y="444"/>
                  </a:lnTo>
                  <a:lnTo>
                    <a:pt x="221" y="418"/>
                  </a:lnTo>
                  <a:lnTo>
                    <a:pt x="110" y="340"/>
                  </a:lnTo>
                  <a:lnTo>
                    <a:pt x="152" y="326"/>
                  </a:lnTo>
                  <a:lnTo>
                    <a:pt x="290" y="391"/>
                  </a:lnTo>
                  <a:lnTo>
                    <a:pt x="372" y="391"/>
                  </a:lnTo>
                  <a:lnTo>
                    <a:pt x="510" y="378"/>
                  </a:lnTo>
                  <a:lnTo>
                    <a:pt x="593" y="340"/>
                  </a:lnTo>
                  <a:lnTo>
                    <a:pt x="731" y="274"/>
                  </a:lnTo>
                  <a:lnTo>
                    <a:pt x="841" y="169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08440" y="1325880"/>
              <a:ext cx="561240" cy="213480"/>
            </a:xfrm>
            <a:custGeom>
              <a:avLst/>
              <a:gdLst/>
              <a:ahLst/>
              <a:rect l="l" t="t" r="r" b="b"/>
              <a:pathLst>
                <a:path w="1241" h="367">
                  <a:moveTo>
                    <a:pt x="0" y="289"/>
                  </a:moveTo>
                  <a:lnTo>
                    <a:pt x="15" y="236"/>
                  </a:lnTo>
                  <a:lnTo>
                    <a:pt x="194" y="171"/>
                  </a:lnTo>
                  <a:lnTo>
                    <a:pt x="387" y="105"/>
                  </a:lnTo>
                  <a:lnTo>
                    <a:pt x="690" y="66"/>
                  </a:lnTo>
                  <a:lnTo>
                    <a:pt x="966" y="79"/>
                  </a:lnTo>
                  <a:lnTo>
                    <a:pt x="1063" y="79"/>
                  </a:lnTo>
                  <a:lnTo>
                    <a:pt x="1214" y="0"/>
                  </a:lnTo>
                  <a:lnTo>
                    <a:pt x="1241" y="26"/>
                  </a:lnTo>
                  <a:lnTo>
                    <a:pt x="1104" y="131"/>
                  </a:lnTo>
                  <a:lnTo>
                    <a:pt x="993" y="236"/>
                  </a:lnTo>
                  <a:lnTo>
                    <a:pt x="924" y="341"/>
                  </a:lnTo>
                  <a:lnTo>
                    <a:pt x="884" y="302"/>
                  </a:lnTo>
                  <a:lnTo>
                    <a:pt x="897" y="236"/>
                  </a:lnTo>
                  <a:lnTo>
                    <a:pt x="911" y="158"/>
                  </a:lnTo>
                  <a:lnTo>
                    <a:pt x="842" y="144"/>
                  </a:lnTo>
                  <a:lnTo>
                    <a:pt x="690" y="131"/>
                  </a:lnTo>
                  <a:lnTo>
                    <a:pt x="566" y="131"/>
                  </a:lnTo>
                  <a:lnTo>
                    <a:pt x="373" y="184"/>
                  </a:lnTo>
                  <a:lnTo>
                    <a:pt x="180" y="289"/>
                  </a:lnTo>
                  <a:lnTo>
                    <a:pt x="0" y="36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951920" y="1844640"/>
              <a:ext cx="168480" cy="686880"/>
            </a:xfrm>
            <a:custGeom>
              <a:avLst/>
              <a:gdLst/>
              <a:ahLst/>
              <a:rect l="l" t="t" r="r" b="b"/>
              <a:pathLst>
                <a:path w="374" h="1176">
                  <a:moveTo>
                    <a:pt x="111" y="0"/>
                  </a:moveTo>
                  <a:lnTo>
                    <a:pt x="180" y="26"/>
                  </a:lnTo>
                  <a:lnTo>
                    <a:pt x="236" y="156"/>
                  </a:lnTo>
                  <a:lnTo>
                    <a:pt x="264" y="300"/>
                  </a:lnTo>
                  <a:lnTo>
                    <a:pt x="278" y="496"/>
                  </a:lnTo>
                  <a:lnTo>
                    <a:pt x="222" y="705"/>
                  </a:lnTo>
                  <a:lnTo>
                    <a:pt x="140" y="887"/>
                  </a:lnTo>
                  <a:lnTo>
                    <a:pt x="153" y="953"/>
                  </a:lnTo>
                  <a:lnTo>
                    <a:pt x="347" y="1045"/>
                  </a:lnTo>
                  <a:lnTo>
                    <a:pt x="374" y="1096"/>
                  </a:lnTo>
                  <a:lnTo>
                    <a:pt x="264" y="1176"/>
                  </a:lnTo>
                  <a:lnTo>
                    <a:pt x="209" y="1136"/>
                  </a:lnTo>
                  <a:lnTo>
                    <a:pt x="98" y="1018"/>
                  </a:lnTo>
                  <a:lnTo>
                    <a:pt x="0" y="953"/>
                  </a:lnTo>
                  <a:lnTo>
                    <a:pt x="0" y="914"/>
                  </a:lnTo>
                  <a:lnTo>
                    <a:pt x="56" y="836"/>
                  </a:lnTo>
                  <a:lnTo>
                    <a:pt x="140" y="718"/>
                  </a:lnTo>
                  <a:lnTo>
                    <a:pt x="195" y="535"/>
                  </a:lnTo>
                  <a:lnTo>
                    <a:pt x="195" y="300"/>
                  </a:lnTo>
                  <a:lnTo>
                    <a:pt x="153" y="169"/>
                  </a:lnTo>
                  <a:lnTo>
                    <a:pt x="98" y="10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51040" y="1853280"/>
              <a:ext cx="226080" cy="748080"/>
            </a:xfrm>
            <a:custGeom>
              <a:avLst/>
              <a:gdLst/>
              <a:ahLst/>
              <a:rect l="l" t="t" r="r" b="b"/>
              <a:pathLst>
                <a:path w="498" h="1281">
                  <a:moveTo>
                    <a:pt x="263" y="156"/>
                  </a:moveTo>
                  <a:lnTo>
                    <a:pt x="318" y="38"/>
                  </a:lnTo>
                  <a:lnTo>
                    <a:pt x="456" y="0"/>
                  </a:lnTo>
                  <a:lnTo>
                    <a:pt x="498" y="64"/>
                  </a:lnTo>
                  <a:lnTo>
                    <a:pt x="401" y="169"/>
                  </a:lnTo>
                  <a:lnTo>
                    <a:pt x="345" y="235"/>
                  </a:lnTo>
                  <a:lnTo>
                    <a:pt x="332" y="365"/>
                  </a:lnTo>
                  <a:lnTo>
                    <a:pt x="305" y="587"/>
                  </a:lnTo>
                  <a:lnTo>
                    <a:pt x="318" y="874"/>
                  </a:lnTo>
                  <a:lnTo>
                    <a:pt x="332" y="1005"/>
                  </a:lnTo>
                  <a:lnTo>
                    <a:pt x="360" y="1058"/>
                  </a:lnTo>
                  <a:lnTo>
                    <a:pt x="345" y="1110"/>
                  </a:lnTo>
                  <a:lnTo>
                    <a:pt x="249" y="1150"/>
                  </a:lnTo>
                  <a:lnTo>
                    <a:pt x="98" y="1281"/>
                  </a:lnTo>
                  <a:lnTo>
                    <a:pt x="42" y="1281"/>
                  </a:lnTo>
                  <a:lnTo>
                    <a:pt x="0" y="1176"/>
                  </a:lnTo>
                  <a:lnTo>
                    <a:pt x="98" y="1110"/>
                  </a:lnTo>
                  <a:lnTo>
                    <a:pt x="222" y="1071"/>
                  </a:lnTo>
                  <a:lnTo>
                    <a:pt x="276" y="1045"/>
                  </a:lnTo>
                  <a:lnTo>
                    <a:pt x="263" y="927"/>
                  </a:lnTo>
                  <a:lnTo>
                    <a:pt x="236" y="665"/>
                  </a:lnTo>
                  <a:lnTo>
                    <a:pt x="222" y="444"/>
                  </a:lnTo>
                  <a:lnTo>
                    <a:pt x="236" y="260"/>
                  </a:lnTo>
                  <a:lnTo>
                    <a:pt x="263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265480" y="914400"/>
            <a:ext cx="1163160" cy="1609200"/>
            <a:chOff x="2265480" y="914400"/>
            <a:chExt cx="1163160" cy="1609200"/>
          </a:xfrm>
        </p:grpSpPr>
        <p:sp>
          <p:nvSpPr>
            <p:cNvPr id="1532" name=""/>
            <p:cNvSpPr/>
            <p:nvPr/>
          </p:nvSpPr>
          <p:spPr>
            <a:xfrm>
              <a:off x="2265480" y="914400"/>
              <a:ext cx="1163160" cy="1609200"/>
            </a:xfrm>
            <a:custGeom>
              <a:avLst/>
              <a:gdLst/>
              <a:ahLst/>
              <a:rect l="l" t="t" r="r" b="b"/>
              <a:pathLst>
                <a:path w="2567" h="2757">
                  <a:moveTo>
                    <a:pt x="898" y="510"/>
                  </a:moveTo>
                  <a:lnTo>
                    <a:pt x="746" y="641"/>
                  </a:lnTo>
                  <a:lnTo>
                    <a:pt x="566" y="772"/>
                  </a:lnTo>
                  <a:lnTo>
                    <a:pt x="374" y="981"/>
                  </a:lnTo>
                  <a:lnTo>
                    <a:pt x="167" y="1255"/>
                  </a:lnTo>
                  <a:lnTo>
                    <a:pt x="56" y="1490"/>
                  </a:lnTo>
                  <a:lnTo>
                    <a:pt x="0" y="1673"/>
                  </a:lnTo>
                  <a:lnTo>
                    <a:pt x="0" y="1790"/>
                  </a:lnTo>
                  <a:lnTo>
                    <a:pt x="15" y="2039"/>
                  </a:lnTo>
                  <a:lnTo>
                    <a:pt x="56" y="2222"/>
                  </a:lnTo>
                  <a:lnTo>
                    <a:pt x="167" y="2339"/>
                  </a:lnTo>
                  <a:lnTo>
                    <a:pt x="387" y="2484"/>
                  </a:lnTo>
                  <a:lnTo>
                    <a:pt x="595" y="2575"/>
                  </a:lnTo>
                  <a:lnTo>
                    <a:pt x="856" y="2666"/>
                  </a:lnTo>
                  <a:lnTo>
                    <a:pt x="1008" y="2718"/>
                  </a:lnTo>
                  <a:lnTo>
                    <a:pt x="1270" y="2757"/>
                  </a:lnTo>
                  <a:lnTo>
                    <a:pt x="1669" y="2718"/>
                  </a:lnTo>
                  <a:lnTo>
                    <a:pt x="2015" y="2627"/>
                  </a:lnTo>
                  <a:lnTo>
                    <a:pt x="2235" y="2496"/>
                  </a:lnTo>
                  <a:lnTo>
                    <a:pt x="2373" y="2353"/>
                  </a:lnTo>
                  <a:lnTo>
                    <a:pt x="2456" y="2209"/>
                  </a:lnTo>
                  <a:lnTo>
                    <a:pt x="2538" y="2026"/>
                  </a:lnTo>
                  <a:lnTo>
                    <a:pt x="2567" y="1817"/>
                  </a:lnTo>
                  <a:lnTo>
                    <a:pt x="2567" y="1530"/>
                  </a:lnTo>
                  <a:lnTo>
                    <a:pt x="2511" y="1346"/>
                  </a:lnTo>
                  <a:lnTo>
                    <a:pt x="2400" y="1150"/>
                  </a:lnTo>
                  <a:lnTo>
                    <a:pt x="2249" y="968"/>
                  </a:lnTo>
                  <a:lnTo>
                    <a:pt x="2084" y="823"/>
                  </a:lnTo>
                  <a:lnTo>
                    <a:pt x="1918" y="706"/>
                  </a:lnTo>
                  <a:lnTo>
                    <a:pt x="1683" y="601"/>
                  </a:lnTo>
                  <a:lnTo>
                    <a:pt x="1669" y="536"/>
                  </a:lnTo>
                  <a:lnTo>
                    <a:pt x="1877" y="327"/>
                  </a:lnTo>
                  <a:lnTo>
                    <a:pt x="1890" y="196"/>
                  </a:lnTo>
                  <a:lnTo>
                    <a:pt x="1656" y="327"/>
                  </a:lnTo>
                  <a:lnTo>
                    <a:pt x="1738" y="92"/>
                  </a:lnTo>
                  <a:lnTo>
                    <a:pt x="1711" y="79"/>
                  </a:lnTo>
                  <a:lnTo>
                    <a:pt x="1629" y="79"/>
                  </a:lnTo>
                  <a:lnTo>
                    <a:pt x="1491" y="236"/>
                  </a:lnTo>
                  <a:lnTo>
                    <a:pt x="1408" y="327"/>
                  </a:lnTo>
                  <a:lnTo>
                    <a:pt x="1435" y="157"/>
                  </a:lnTo>
                  <a:lnTo>
                    <a:pt x="1491" y="27"/>
                  </a:lnTo>
                  <a:lnTo>
                    <a:pt x="1449" y="0"/>
                  </a:lnTo>
                  <a:lnTo>
                    <a:pt x="1353" y="79"/>
                  </a:lnTo>
                  <a:lnTo>
                    <a:pt x="1256" y="274"/>
                  </a:lnTo>
                  <a:lnTo>
                    <a:pt x="1215" y="170"/>
                  </a:lnTo>
                  <a:lnTo>
                    <a:pt x="1132" y="131"/>
                  </a:lnTo>
                  <a:lnTo>
                    <a:pt x="1077" y="261"/>
                  </a:lnTo>
                  <a:lnTo>
                    <a:pt x="1063" y="340"/>
                  </a:lnTo>
                  <a:lnTo>
                    <a:pt x="911" y="157"/>
                  </a:lnTo>
                  <a:lnTo>
                    <a:pt x="718" y="14"/>
                  </a:lnTo>
                  <a:lnTo>
                    <a:pt x="664" y="40"/>
                  </a:lnTo>
                  <a:lnTo>
                    <a:pt x="649" y="118"/>
                  </a:lnTo>
                  <a:lnTo>
                    <a:pt x="718" y="236"/>
                  </a:lnTo>
                  <a:lnTo>
                    <a:pt x="800" y="379"/>
                  </a:lnTo>
                  <a:lnTo>
                    <a:pt x="1008" y="628"/>
                  </a:lnTo>
                  <a:lnTo>
                    <a:pt x="980" y="679"/>
                  </a:lnTo>
                  <a:lnTo>
                    <a:pt x="938" y="706"/>
                  </a:lnTo>
                  <a:lnTo>
                    <a:pt x="967" y="758"/>
                  </a:lnTo>
                  <a:lnTo>
                    <a:pt x="1146" y="823"/>
                  </a:lnTo>
                  <a:lnTo>
                    <a:pt x="1435" y="823"/>
                  </a:lnTo>
                  <a:lnTo>
                    <a:pt x="1683" y="797"/>
                  </a:lnTo>
                  <a:lnTo>
                    <a:pt x="1767" y="719"/>
                  </a:lnTo>
                  <a:lnTo>
                    <a:pt x="1711" y="693"/>
                  </a:lnTo>
                  <a:lnTo>
                    <a:pt x="1656" y="732"/>
                  </a:lnTo>
                  <a:lnTo>
                    <a:pt x="1504" y="745"/>
                  </a:lnTo>
                  <a:lnTo>
                    <a:pt x="1353" y="772"/>
                  </a:lnTo>
                  <a:lnTo>
                    <a:pt x="1187" y="745"/>
                  </a:lnTo>
                  <a:lnTo>
                    <a:pt x="1435" y="719"/>
                  </a:lnTo>
                  <a:lnTo>
                    <a:pt x="1600" y="667"/>
                  </a:lnTo>
                  <a:lnTo>
                    <a:pt x="1629" y="641"/>
                  </a:lnTo>
                  <a:lnTo>
                    <a:pt x="1560" y="614"/>
                  </a:lnTo>
                  <a:lnTo>
                    <a:pt x="1477" y="654"/>
                  </a:lnTo>
                  <a:lnTo>
                    <a:pt x="1284" y="679"/>
                  </a:lnTo>
                  <a:lnTo>
                    <a:pt x="1146" y="667"/>
                  </a:lnTo>
                  <a:lnTo>
                    <a:pt x="1077" y="641"/>
                  </a:lnTo>
                  <a:lnTo>
                    <a:pt x="1105" y="576"/>
                  </a:lnTo>
                  <a:lnTo>
                    <a:pt x="980" y="484"/>
                  </a:lnTo>
                  <a:lnTo>
                    <a:pt x="856" y="367"/>
                  </a:lnTo>
                  <a:lnTo>
                    <a:pt x="787" y="249"/>
                  </a:lnTo>
                  <a:lnTo>
                    <a:pt x="760" y="170"/>
                  </a:lnTo>
                  <a:lnTo>
                    <a:pt x="760" y="145"/>
                  </a:lnTo>
                  <a:lnTo>
                    <a:pt x="787" y="145"/>
                  </a:lnTo>
                  <a:lnTo>
                    <a:pt x="856" y="196"/>
                  </a:lnTo>
                  <a:lnTo>
                    <a:pt x="952" y="314"/>
                  </a:lnTo>
                  <a:lnTo>
                    <a:pt x="1077" y="458"/>
                  </a:lnTo>
                  <a:lnTo>
                    <a:pt x="1105" y="497"/>
                  </a:lnTo>
                  <a:lnTo>
                    <a:pt x="1159" y="470"/>
                  </a:lnTo>
                  <a:lnTo>
                    <a:pt x="1132" y="392"/>
                  </a:lnTo>
                  <a:lnTo>
                    <a:pt x="1146" y="340"/>
                  </a:lnTo>
                  <a:lnTo>
                    <a:pt x="1159" y="274"/>
                  </a:lnTo>
                  <a:lnTo>
                    <a:pt x="1187" y="274"/>
                  </a:lnTo>
                  <a:lnTo>
                    <a:pt x="1215" y="354"/>
                  </a:lnTo>
                  <a:lnTo>
                    <a:pt x="1228" y="405"/>
                  </a:lnTo>
                  <a:lnTo>
                    <a:pt x="1270" y="419"/>
                  </a:lnTo>
                  <a:lnTo>
                    <a:pt x="1326" y="301"/>
                  </a:lnTo>
                  <a:lnTo>
                    <a:pt x="1353" y="261"/>
                  </a:lnTo>
                  <a:lnTo>
                    <a:pt x="1366" y="327"/>
                  </a:lnTo>
                  <a:lnTo>
                    <a:pt x="1366" y="432"/>
                  </a:lnTo>
                  <a:lnTo>
                    <a:pt x="1408" y="458"/>
                  </a:lnTo>
                  <a:lnTo>
                    <a:pt x="1477" y="367"/>
                  </a:lnTo>
                  <a:lnTo>
                    <a:pt x="1546" y="249"/>
                  </a:lnTo>
                  <a:lnTo>
                    <a:pt x="1615" y="223"/>
                  </a:lnTo>
                  <a:lnTo>
                    <a:pt x="1615" y="236"/>
                  </a:lnTo>
                  <a:lnTo>
                    <a:pt x="1573" y="314"/>
                  </a:lnTo>
                  <a:lnTo>
                    <a:pt x="1531" y="432"/>
                  </a:lnTo>
                  <a:lnTo>
                    <a:pt x="1573" y="445"/>
                  </a:lnTo>
                  <a:lnTo>
                    <a:pt x="1794" y="301"/>
                  </a:lnTo>
                  <a:lnTo>
                    <a:pt x="1821" y="301"/>
                  </a:lnTo>
                  <a:lnTo>
                    <a:pt x="1615" y="497"/>
                  </a:lnTo>
                  <a:lnTo>
                    <a:pt x="1573" y="536"/>
                  </a:lnTo>
                  <a:lnTo>
                    <a:pt x="1560" y="601"/>
                  </a:lnTo>
                  <a:lnTo>
                    <a:pt x="1600" y="628"/>
                  </a:lnTo>
                  <a:lnTo>
                    <a:pt x="1725" y="679"/>
                  </a:lnTo>
                  <a:lnTo>
                    <a:pt x="1932" y="785"/>
                  </a:lnTo>
                  <a:lnTo>
                    <a:pt x="2070" y="888"/>
                  </a:lnTo>
                  <a:lnTo>
                    <a:pt x="2235" y="1046"/>
                  </a:lnTo>
                  <a:lnTo>
                    <a:pt x="2360" y="1215"/>
                  </a:lnTo>
                  <a:lnTo>
                    <a:pt x="2442" y="1399"/>
                  </a:lnTo>
                  <a:lnTo>
                    <a:pt x="2498" y="1634"/>
                  </a:lnTo>
                  <a:lnTo>
                    <a:pt x="2483" y="1804"/>
                  </a:lnTo>
                  <a:lnTo>
                    <a:pt x="2469" y="1986"/>
                  </a:lnTo>
                  <a:lnTo>
                    <a:pt x="2387" y="2182"/>
                  </a:lnTo>
                  <a:lnTo>
                    <a:pt x="2304" y="2326"/>
                  </a:lnTo>
                  <a:lnTo>
                    <a:pt x="2208" y="2404"/>
                  </a:lnTo>
                  <a:lnTo>
                    <a:pt x="2097" y="2509"/>
                  </a:lnTo>
                  <a:lnTo>
                    <a:pt x="1890" y="2588"/>
                  </a:lnTo>
                  <a:lnTo>
                    <a:pt x="1642" y="2653"/>
                  </a:lnTo>
                  <a:lnTo>
                    <a:pt x="1518" y="2666"/>
                  </a:lnTo>
                  <a:lnTo>
                    <a:pt x="1284" y="2666"/>
                  </a:lnTo>
                  <a:lnTo>
                    <a:pt x="1063" y="2640"/>
                  </a:lnTo>
                  <a:lnTo>
                    <a:pt x="800" y="2575"/>
                  </a:lnTo>
                  <a:lnTo>
                    <a:pt x="553" y="2470"/>
                  </a:lnTo>
                  <a:lnTo>
                    <a:pt x="359" y="2366"/>
                  </a:lnTo>
                  <a:lnTo>
                    <a:pt x="194" y="2248"/>
                  </a:lnTo>
                  <a:lnTo>
                    <a:pt x="125" y="2157"/>
                  </a:lnTo>
                  <a:lnTo>
                    <a:pt x="111" y="2064"/>
                  </a:lnTo>
                  <a:lnTo>
                    <a:pt x="84" y="1790"/>
                  </a:lnTo>
                  <a:lnTo>
                    <a:pt x="98" y="1608"/>
                  </a:lnTo>
                  <a:lnTo>
                    <a:pt x="180" y="1412"/>
                  </a:lnTo>
                  <a:lnTo>
                    <a:pt x="290" y="1190"/>
                  </a:lnTo>
                  <a:lnTo>
                    <a:pt x="484" y="994"/>
                  </a:lnTo>
                  <a:lnTo>
                    <a:pt x="664" y="772"/>
                  </a:lnTo>
                  <a:lnTo>
                    <a:pt x="829" y="654"/>
                  </a:lnTo>
                  <a:lnTo>
                    <a:pt x="925" y="576"/>
                  </a:lnTo>
                  <a:lnTo>
                    <a:pt x="898" y="51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722320" y="1548000"/>
              <a:ext cx="236880" cy="495720"/>
            </a:xfrm>
            <a:custGeom>
              <a:avLst/>
              <a:gdLst/>
              <a:ahLst/>
              <a:rect l="l" t="t" r="r" b="b"/>
              <a:pathLst>
                <a:path w="524" h="849">
                  <a:moveTo>
                    <a:pt x="317" y="156"/>
                  </a:moveTo>
                  <a:lnTo>
                    <a:pt x="413" y="169"/>
                  </a:lnTo>
                  <a:lnTo>
                    <a:pt x="495" y="235"/>
                  </a:lnTo>
                  <a:lnTo>
                    <a:pt x="524" y="300"/>
                  </a:lnTo>
                  <a:lnTo>
                    <a:pt x="426" y="326"/>
                  </a:lnTo>
                  <a:lnTo>
                    <a:pt x="371" y="273"/>
                  </a:lnTo>
                  <a:lnTo>
                    <a:pt x="303" y="247"/>
                  </a:lnTo>
                  <a:lnTo>
                    <a:pt x="234" y="235"/>
                  </a:lnTo>
                  <a:lnTo>
                    <a:pt x="123" y="260"/>
                  </a:lnTo>
                  <a:lnTo>
                    <a:pt x="96" y="326"/>
                  </a:lnTo>
                  <a:lnTo>
                    <a:pt x="151" y="378"/>
                  </a:lnTo>
                  <a:lnTo>
                    <a:pt x="288" y="417"/>
                  </a:lnTo>
                  <a:lnTo>
                    <a:pt x="426" y="417"/>
                  </a:lnTo>
                  <a:lnTo>
                    <a:pt x="468" y="456"/>
                  </a:lnTo>
                  <a:lnTo>
                    <a:pt x="495" y="522"/>
                  </a:lnTo>
                  <a:lnTo>
                    <a:pt x="482" y="600"/>
                  </a:lnTo>
                  <a:lnTo>
                    <a:pt x="399" y="653"/>
                  </a:lnTo>
                  <a:lnTo>
                    <a:pt x="303" y="653"/>
                  </a:lnTo>
                  <a:lnTo>
                    <a:pt x="234" y="653"/>
                  </a:lnTo>
                  <a:lnTo>
                    <a:pt x="206" y="718"/>
                  </a:lnTo>
                  <a:lnTo>
                    <a:pt x="219" y="835"/>
                  </a:lnTo>
                  <a:lnTo>
                    <a:pt x="123" y="849"/>
                  </a:lnTo>
                  <a:lnTo>
                    <a:pt x="109" y="757"/>
                  </a:lnTo>
                  <a:lnTo>
                    <a:pt x="137" y="653"/>
                  </a:lnTo>
                  <a:lnTo>
                    <a:pt x="54" y="613"/>
                  </a:lnTo>
                  <a:lnTo>
                    <a:pt x="0" y="574"/>
                  </a:lnTo>
                  <a:lnTo>
                    <a:pt x="82" y="496"/>
                  </a:lnTo>
                  <a:lnTo>
                    <a:pt x="123" y="548"/>
                  </a:lnTo>
                  <a:lnTo>
                    <a:pt x="192" y="560"/>
                  </a:lnTo>
                  <a:lnTo>
                    <a:pt x="288" y="574"/>
                  </a:lnTo>
                  <a:lnTo>
                    <a:pt x="371" y="574"/>
                  </a:lnTo>
                  <a:lnTo>
                    <a:pt x="413" y="560"/>
                  </a:lnTo>
                  <a:lnTo>
                    <a:pt x="386" y="509"/>
                  </a:lnTo>
                  <a:lnTo>
                    <a:pt x="317" y="496"/>
                  </a:lnTo>
                  <a:lnTo>
                    <a:pt x="192" y="469"/>
                  </a:lnTo>
                  <a:lnTo>
                    <a:pt x="68" y="431"/>
                  </a:lnTo>
                  <a:lnTo>
                    <a:pt x="27" y="365"/>
                  </a:lnTo>
                  <a:lnTo>
                    <a:pt x="13" y="287"/>
                  </a:lnTo>
                  <a:lnTo>
                    <a:pt x="82" y="208"/>
                  </a:lnTo>
                  <a:lnTo>
                    <a:pt x="178" y="143"/>
                  </a:lnTo>
                  <a:lnTo>
                    <a:pt x="247" y="143"/>
                  </a:lnTo>
                  <a:lnTo>
                    <a:pt x="275" y="0"/>
                  </a:lnTo>
                  <a:lnTo>
                    <a:pt x="357" y="13"/>
                  </a:lnTo>
                  <a:lnTo>
                    <a:pt x="317" y="15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02720" y="1523520"/>
              <a:ext cx="101160" cy="177120"/>
            </a:xfrm>
            <a:custGeom>
              <a:avLst/>
              <a:gdLst/>
              <a:ahLst/>
              <a:rect l="l" t="t" r="r" b="b"/>
              <a:pathLst>
                <a:path w="220" h="301">
                  <a:moveTo>
                    <a:pt x="0" y="236"/>
                  </a:moveTo>
                  <a:lnTo>
                    <a:pt x="96" y="78"/>
                  </a:lnTo>
                  <a:lnTo>
                    <a:pt x="220" y="0"/>
                  </a:lnTo>
                  <a:lnTo>
                    <a:pt x="220" y="40"/>
                  </a:lnTo>
                  <a:lnTo>
                    <a:pt x="136" y="131"/>
                  </a:lnTo>
                  <a:lnTo>
                    <a:pt x="40" y="301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171600" y="1966680"/>
              <a:ext cx="63360" cy="122400"/>
            </a:xfrm>
            <a:custGeom>
              <a:avLst/>
              <a:gdLst/>
              <a:ahLst/>
              <a:rect l="l" t="t" r="r" b="b"/>
              <a:pathLst>
                <a:path w="138" h="209">
                  <a:moveTo>
                    <a:pt x="138" y="0"/>
                  </a:moveTo>
                  <a:lnTo>
                    <a:pt x="42" y="130"/>
                  </a:lnTo>
                  <a:lnTo>
                    <a:pt x="0" y="182"/>
                  </a:lnTo>
                  <a:lnTo>
                    <a:pt x="55" y="209"/>
                  </a:lnTo>
                  <a:lnTo>
                    <a:pt x="96" y="182"/>
                  </a:lnTo>
                  <a:lnTo>
                    <a:pt x="138" y="91"/>
                  </a:lnTo>
                  <a:lnTo>
                    <a:pt x="138" y="5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630440" y="2514600"/>
            <a:ext cx="1647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7" name="Frustrat" descr=""/>
          <p:cNvPicPr/>
          <p:nvPr/>
        </p:nvPicPr>
        <p:blipFill>
          <a:blip r:embed="rId1"/>
          <a:stretch/>
        </p:blipFill>
        <p:spPr>
          <a:xfrm>
            <a:off x="6019920" y="1001880"/>
            <a:ext cx="1720800" cy="136980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/>
          <p:nvPr/>
        </p:nvSpPr>
        <p:spPr>
          <a:xfrm>
            <a:off x="6264360" y="2460600"/>
            <a:ext cx="1155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T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1447920" y="3200400"/>
          <a:ext cx="6248160" cy="321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200400"/>
                    <a:ext cx="624816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1" name=""/>
          <p:cNvSpPr/>
          <p:nvPr/>
        </p:nvSpPr>
        <p:spPr>
          <a:xfrm>
            <a:off x="1905120" y="3733920"/>
            <a:ext cx="1523880" cy="685800"/>
          </a:xfrm>
          <a:prstGeom prst="wedgeRoundRectCallout">
            <a:avLst>
              <a:gd name="adj1" fmla="val 33648"/>
              <a:gd name="adj2" fmla="val 133333"/>
              <a:gd name="adj3" fmla="val 16667"/>
            </a:avLst>
          </a:prstGeom>
          <a:solidFill>
            <a:srgbClr val="ffccff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657600" y="3276720"/>
            <a:ext cx="1523880" cy="685800"/>
          </a:xfrm>
          <a:prstGeom prst="wedgeRoundRectCallout">
            <a:avLst>
              <a:gd name="adj1" fmla="val 41981"/>
              <a:gd name="adj2" fmla="val 179861"/>
              <a:gd name="adj3" fmla="val 16667"/>
            </a:avLst>
          </a:prstGeom>
          <a:solidFill>
            <a:srgbClr val="ccec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Plan </a:t>
            </a: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ykład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2514600" y="274320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Relacje z klien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apewnianie jakoś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Programowanie par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304920" y="2743200"/>
            <a:ext cx="1676160" cy="2286000"/>
            <a:chOff x="304920" y="2743200"/>
            <a:chExt cx="1676160" cy="2286000"/>
          </a:xfrm>
        </p:grpSpPr>
        <p:sp>
          <p:nvSpPr>
            <p:cNvPr id="1546" name=""/>
            <p:cNvSpPr/>
            <p:nvPr/>
          </p:nvSpPr>
          <p:spPr>
            <a:xfrm>
              <a:off x="304920" y="2743200"/>
              <a:ext cx="167616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9480" y="32763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09480" y="34290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09480" y="36576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480" y="39621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9480" y="426708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apewnianie jakośc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2514240" y="2438280"/>
            <a:ext cx="61722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Dbaj o prostot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Unikaj optymalizac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Dla każdej jednostki kodu opracuj 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AJPIERW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zestaw testów, potem pisz k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Automatyczne wykonanie tes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Refaktoryza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85680" y="3657600"/>
            <a:ext cx="258120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Refacto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813840" y="106668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Big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14600" y="1190520"/>
            <a:ext cx="1295280" cy="1013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3809880" y="1190520"/>
            <a:ext cx="2971800" cy="1013760"/>
            <a:chOff x="3809880" y="1190520"/>
            <a:chExt cx="2971800" cy="1013760"/>
          </a:xfrm>
        </p:grpSpPr>
        <p:sp>
          <p:nvSpPr>
            <p:cNvPr id="1559" name=""/>
            <p:cNvSpPr/>
            <p:nvPr/>
          </p:nvSpPr>
          <p:spPr>
            <a:xfrm>
              <a:off x="5486400" y="1190520"/>
              <a:ext cx="1295280" cy="101376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Ne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ver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09880" y="1647720"/>
              <a:ext cx="167652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2365560" y="32767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Refac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066680" y="3414600"/>
            <a:ext cx="1295640" cy="1013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292720" y="327672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Smal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315200" y="3414600"/>
            <a:ext cx="1295280" cy="101376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362320" y="3427560"/>
            <a:ext cx="4952880" cy="1013760"/>
            <a:chOff x="2362320" y="3427560"/>
            <a:chExt cx="4952880" cy="1013760"/>
          </a:xfrm>
        </p:grpSpPr>
        <p:sp>
          <p:nvSpPr>
            <p:cNvPr id="1566" name=""/>
            <p:cNvSpPr/>
            <p:nvPr/>
          </p:nvSpPr>
          <p:spPr>
            <a:xfrm>
              <a:off x="2362320" y="3871800"/>
              <a:ext cx="167616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257800" y="3903840"/>
              <a:ext cx="205740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038480" y="3427560"/>
              <a:ext cx="1295640" cy="10137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Bet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ver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3429000" y="5029200"/>
            <a:ext cx="1981080" cy="990720"/>
          </a:xfrm>
          <a:prstGeom prst="wedgeRoundRectCallout">
            <a:avLst>
              <a:gd name="adj1" fmla="val 41666"/>
              <a:gd name="adj2" fmla="val -113944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Zapewnianie jakośc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895120" y="23619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Kod musi przejść wszystkie testy jednostkowe zanim przekażesz go do eksploatac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Dla każdego wykrytego błędu utwórz zestaw tes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zęsto integruj k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zęsto wykonuj testy akceptacyjne i publikuj ich wy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85680" y="3657600"/>
            <a:ext cx="258120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Plan </a:t>
            </a: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ykład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2514600" y="274320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Relacje z klien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"/>
              </a:rPr>
              <a:t>Zapewnianie jakoś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gramowanie par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304920" y="2743200"/>
            <a:ext cx="1676160" cy="2286000"/>
            <a:chOff x="304920" y="2743200"/>
            <a:chExt cx="1676160" cy="2286000"/>
          </a:xfrm>
        </p:grpSpPr>
        <p:sp>
          <p:nvSpPr>
            <p:cNvPr id="1576" name=""/>
            <p:cNvSpPr/>
            <p:nvPr/>
          </p:nvSpPr>
          <p:spPr>
            <a:xfrm>
              <a:off x="304920" y="2743200"/>
              <a:ext cx="167616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9480" y="32763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9480" y="34290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9480" y="365760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9480" y="396216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9480" y="4267080"/>
              <a:ext cx="1066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gramowanie para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095880" y="4387680"/>
            <a:ext cx="1025640" cy="1563480"/>
            <a:chOff x="6095880" y="4387680"/>
            <a:chExt cx="1025640" cy="1563480"/>
          </a:xfrm>
        </p:grpSpPr>
        <p:sp>
          <p:nvSpPr>
            <p:cNvPr id="1584" name=""/>
            <p:cNvSpPr/>
            <p:nvPr/>
          </p:nvSpPr>
          <p:spPr>
            <a:xfrm>
              <a:off x="6095880" y="4866480"/>
              <a:ext cx="401760" cy="532080"/>
            </a:xfrm>
            <a:custGeom>
              <a:avLst/>
              <a:gdLst/>
              <a:ahLst/>
              <a:rect l="l" t="t" r="r" b="b"/>
              <a:pathLst>
                <a:path w="505" h="834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89"/>
                  </a:lnTo>
                  <a:lnTo>
                    <a:pt x="133" y="268"/>
                  </a:lnTo>
                  <a:lnTo>
                    <a:pt x="75" y="288"/>
                  </a:lnTo>
                  <a:lnTo>
                    <a:pt x="55" y="319"/>
                  </a:lnTo>
                  <a:lnTo>
                    <a:pt x="75" y="350"/>
                  </a:lnTo>
                  <a:lnTo>
                    <a:pt x="195" y="466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4"/>
                  </a:lnTo>
                  <a:lnTo>
                    <a:pt x="154" y="834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6"/>
                  </a:lnTo>
                  <a:lnTo>
                    <a:pt x="65" y="415"/>
                  </a:lnTo>
                  <a:lnTo>
                    <a:pt x="20" y="360"/>
                  </a:lnTo>
                  <a:lnTo>
                    <a:pt x="0" y="298"/>
                  </a:lnTo>
                  <a:lnTo>
                    <a:pt x="13" y="261"/>
                  </a:lnTo>
                  <a:lnTo>
                    <a:pt x="92" y="237"/>
                  </a:lnTo>
                  <a:lnTo>
                    <a:pt x="188" y="196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453360" y="4842000"/>
              <a:ext cx="279360" cy="510480"/>
            </a:xfrm>
            <a:custGeom>
              <a:avLst/>
              <a:gdLst/>
              <a:ahLst/>
              <a:rect l="l" t="t" r="r" b="b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6"/>
                  </a:lnTo>
                  <a:lnTo>
                    <a:pt x="351" y="335"/>
                  </a:lnTo>
                  <a:lnTo>
                    <a:pt x="351" y="483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7"/>
                  </a:lnTo>
                  <a:lnTo>
                    <a:pt x="41" y="257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531120" y="5286240"/>
              <a:ext cx="163440" cy="664920"/>
            </a:xfrm>
            <a:custGeom>
              <a:avLst/>
              <a:gdLst/>
              <a:ahLst/>
              <a:rect l="l" t="t" r="r" b="b"/>
              <a:pathLst>
                <a:path w="205" h="1042">
                  <a:moveTo>
                    <a:pt x="99" y="184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5"/>
                  </a:lnTo>
                  <a:lnTo>
                    <a:pt x="205" y="369"/>
                  </a:lnTo>
                  <a:lnTo>
                    <a:pt x="194" y="503"/>
                  </a:lnTo>
                  <a:lnTo>
                    <a:pt x="174" y="647"/>
                  </a:lnTo>
                  <a:lnTo>
                    <a:pt x="174" y="822"/>
                  </a:lnTo>
                  <a:lnTo>
                    <a:pt x="201" y="894"/>
                  </a:lnTo>
                  <a:lnTo>
                    <a:pt x="191" y="928"/>
                  </a:lnTo>
                  <a:lnTo>
                    <a:pt x="143" y="939"/>
                  </a:lnTo>
                  <a:lnTo>
                    <a:pt x="92" y="987"/>
                  </a:lnTo>
                  <a:lnTo>
                    <a:pt x="68" y="1028"/>
                  </a:lnTo>
                  <a:lnTo>
                    <a:pt x="10" y="1042"/>
                  </a:lnTo>
                  <a:lnTo>
                    <a:pt x="0" y="997"/>
                  </a:lnTo>
                  <a:lnTo>
                    <a:pt x="20" y="959"/>
                  </a:lnTo>
                  <a:lnTo>
                    <a:pt x="92" y="928"/>
                  </a:lnTo>
                  <a:lnTo>
                    <a:pt x="143" y="905"/>
                  </a:lnTo>
                  <a:lnTo>
                    <a:pt x="160" y="884"/>
                  </a:lnTo>
                  <a:lnTo>
                    <a:pt x="140" y="826"/>
                  </a:lnTo>
                  <a:lnTo>
                    <a:pt x="123" y="709"/>
                  </a:lnTo>
                  <a:lnTo>
                    <a:pt x="119" y="568"/>
                  </a:lnTo>
                  <a:lnTo>
                    <a:pt x="123" y="475"/>
                  </a:lnTo>
                  <a:lnTo>
                    <a:pt x="129" y="349"/>
                  </a:lnTo>
                  <a:lnTo>
                    <a:pt x="119" y="236"/>
                  </a:lnTo>
                  <a:lnTo>
                    <a:pt x="99" y="1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302520" y="5287680"/>
              <a:ext cx="253800" cy="662400"/>
            </a:xfrm>
            <a:custGeom>
              <a:avLst/>
              <a:gdLst/>
              <a:ahLst/>
              <a:rect l="l" t="t" r="r" b="b"/>
              <a:pathLst>
                <a:path w="320" h="1039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6"/>
                  </a:lnTo>
                  <a:lnTo>
                    <a:pt x="180" y="342"/>
                  </a:lnTo>
                  <a:lnTo>
                    <a:pt x="156" y="455"/>
                  </a:lnTo>
                  <a:lnTo>
                    <a:pt x="159" y="565"/>
                  </a:lnTo>
                  <a:lnTo>
                    <a:pt x="197" y="713"/>
                  </a:lnTo>
                  <a:lnTo>
                    <a:pt x="228" y="854"/>
                  </a:lnTo>
                  <a:lnTo>
                    <a:pt x="272" y="915"/>
                  </a:lnTo>
                  <a:lnTo>
                    <a:pt x="269" y="950"/>
                  </a:lnTo>
                  <a:lnTo>
                    <a:pt x="231" y="967"/>
                  </a:lnTo>
                  <a:lnTo>
                    <a:pt x="145" y="980"/>
                  </a:lnTo>
                  <a:lnTo>
                    <a:pt x="84" y="1018"/>
                  </a:lnTo>
                  <a:lnTo>
                    <a:pt x="52" y="1039"/>
                  </a:lnTo>
                  <a:lnTo>
                    <a:pt x="0" y="991"/>
                  </a:lnTo>
                  <a:lnTo>
                    <a:pt x="11" y="960"/>
                  </a:lnTo>
                  <a:lnTo>
                    <a:pt x="62" y="939"/>
                  </a:lnTo>
                  <a:lnTo>
                    <a:pt x="128" y="929"/>
                  </a:lnTo>
                  <a:lnTo>
                    <a:pt x="190" y="929"/>
                  </a:lnTo>
                  <a:lnTo>
                    <a:pt x="200" y="909"/>
                  </a:lnTo>
                  <a:lnTo>
                    <a:pt x="190" y="874"/>
                  </a:lnTo>
                  <a:lnTo>
                    <a:pt x="138" y="741"/>
                  </a:lnTo>
                  <a:lnTo>
                    <a:pt x="104" y="609"/>
                  </a:lnTo>
                  <a:lnTo>
                    <a:pt x="87" y="514"/>
                  </a:lnTo>
                  <a:lnTo>
                    <a:pt x="84" y="425"/>
                  </a:lnTo>
                  <a:lnTo>
                    <a:pt x="97" y="339"/>
                  </a:lnTo>
                  <a:lnTo>
                    <a:pt x="128" y="250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51480" y="4460400"/>
              <a:ext cx="327240" cy="345600"/>
            </a:xfrm>
            <a:custGeom>
              <a:avLst/>
              <a:gdLst/>
              <a:ahLst/>
              <a:rect l="l" t="t" r="r" b="b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5"/>
                  </a:lnTo>
                  <a:lnTo>
                    <a:pt x="398" y="202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7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0640" y="4387680"/>
              <a:ext cx="650880" cy="579240"/>
            </a:xfrm>
            <a:custGeom>
              <a:avLst/>
              <a:gdLst/>
              <a:ahLst/>
              <a:rect l="l" t="t" r="r" b="b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4"/>
                  </a:lnTo>
                  <a:lnTo>
                    <a:pt x="634" y="319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2"/>
                  </a:lnTo>
                  <a:lnTo>
                    <a:pt x="607" y="353"/>
                  </a:lnTo>
                  <a:lnTo>
                    <a:pt x="668" y="384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1600200" y="595800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15000" y="59119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ecenz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3054240" y="3124080"/>
            <a:ext cx="2811960" cy="2818440"/>
            <a:chOff x="3054240" y="3124080"/>
            <a:chExt cx="2811960" cy="2818440"/>
          </a:xfrm>
        </p:grpSpPr>
        <p:sp>
          <p:nvSpPr>
            <p:cNvPr id="1593" name=""/>
            <p:cNvSpPr/>
            <p:nvPr/>
          </p:nvSpPr>
          <p:spPr>
            <a:xfrm>
              <a:off x="3081960" y="3159000"/>
              <a:ext cx="2772000" cy="2751840"/>
            </a:xfrm>
            <a:custGeom>
              <a:avLst/>
              <a:gdLst/>
              <a:ahLst/>
              <a:rect l="l" t="t" r="r" b="b"/>
              <a:pathLst>
                <a:path w="1765" h="1891">
                  <a:moveTo>
                    <a:pt x="332" y="1263"/>
                  </a:moveTo>
                  <a:lnTo>
                    <a:pt x="196" y="1385"/>
                  </a:lnTo>
                  <a:lnTo>
                    <a:pt x="26" y="1533"/>
                  </a:lnTo>
                  <a:lnTo>
                    <a:pt x="26" y="1659"/>
                  </a:lnTo>
                  <a:lnTo>
                    <a:pt x="54" y="1891"/>
                  </a:lnTo>
                  <a:lnTo>
                    <a:pt x="340" y="1881"/>
                  </a:lnTo>
                  <a:lnTo>
                    <a:pt x="660" y="1847"/>
                  </a:lnTo>
                  <a:lnTo>
                    <a:pt x="1135" y="1837"/>
                  </a:lnTo>
                  <a:lnTo>
                    <a:pt x="1493" y="1847"/>
                  </a:lnTo>
                  <a:lnTo>
                    <a:pt x="1617" y="1617"/>
                  </a:lnTo>
                  <a:lnTo>
                    <a:pt x="1765" y="1169"/>
                  </a:lnTo>
                  <a:lnTo>
                    <a:pt x="1737" y="1034"/>
                  </a:lnTo>
                  <a:lnTo>
                    <a:pt x="1683" y="980"/>
                  </a:lnTo>
                  <a:lnTo>
                    <a:pt x="1523" y="990"/>
                  </a:lnTo>
                  <a:lnTo>
                    <a:pt x="1597" y="650"/>
                  </a:lnTo>
                  <a:lnTo>
                    <a:pt x="1607" y="544"/>
                  </a:lnTo>
                  <a:lnTo>
                    <a:pt x="1569" y="280"/>
                  </a:lnTo>
                  <a:lnTo>
                    <a:pt x="1531" y="84"/>
                  </a:lnTo>
                  <a:lnTo>
                    <a:pt x="1465" y="0"/>
                  </a:lnTo>
                  <a:lnTo>
                    <a:pt x="1415" y="0"/>
                  </a:lnTo>
                  <a:lnTo>
                    <a:pt x="1285" y="22"/>
                  </a:lnTo>
                  <a:lnTo>
                    <a:pt x="1077" y="32"/>
                  </a:lnTo>
                  <a:lnTo>
                    <a:pt x="941" y="12"/>
                  </a:lnTo>
                  <a:lnTo>
                    <a:pt x="794" y="4"/>
                  </a:lnTo>
                  <a:lnTo>
                    <a:pt x="738" y="18"/>
                  </a:lnTo>
                  <a:lnTo>
                    <a:pt x="612" y="76"/>
                  </a:lnTo>
                  <a:lnTo>
                    <a:pt x="426" y="126"/>
                  </a:lnTo>
                  <a:lnTo>
                    <a:pt x="190" y="208"/>
                  </a:lnTo>
                  <a:lnTo>
                    <a:pt x="100" y="260"/>
                  </a:lnTo>
                  <a:lnTo>
                    <a:pt x="18" y="348"/>
                  </a:lnTo>
                  <a:lnTo>
                    <a:pt x="0" y="478"/>
                  </a:lnTo>
                  <a:lnTo>
                    <a:pt x="0" y="694"/>
                  </a:lnTo>
                  <a:lnTo>
                    <a:pt x="10" y="950"/>
                  </a:lnTo>
                  <a:lnTo>
                    <a:pt x="28" y="1100"/>
                  </a:lnTo>
                  <a:lnTo>
                    <a:pt x="64" y="1187"/>
                  </a:lnTo>
                  <a:lnTo>
                    <a:pt x="120" y="1231"/>
                  </a:lnTo>
                  <a:lnTo>
                    <a:pt x="186" y="1249"/>
                  </a:lnTo>
                  <a:lnTo>
                    <a:pt x="332" y="1263"/>
                  </a:lnTo>
                  <a:close/>
                </a:path>
              </a:pathLst>
            </a:custGeom>
            <a:solidFill>
              <a:srgbClr val="c3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348720" y="3656880"/>
              <a:ext cx="1622880" cy="1138320"/>
            </a:xfrm>
            <a:custGeom>
              <a:avLst/>
              <a:gdLst/>
              <a:ahLst/>
              <a:rect l="l" t="t" r="r" b="b"/>
              <a:pathLst>
                <a:path w="1033" h="784">
                  <a:moveTo>
                    <a:pt x="6" y="214"/>
                  </a:moveTo>
                  <a:lnTo>
                    <a:pt x="16" y="70"/>
                  </a:lnTo>
                  <a:lnTo>
                    <a:pt x="38" y="28"/>
                  </a:lnTo>
                  <a:lnTo>
                    <a:pt x="102" y="12"/>
                  </a:lnTo>
                  <a:lnTo>
                    <a:pt x="358" y="4"/>
                  </a:lnTo>
                  <a:lnTo>
                    <a:pt x="672" y="0"/>
                  </a:lnTo>
                  <a:lnTo>
                    <a:pt x="855" y="4"/>
                  </a:lnTo>
                  <a:lnTo>
                    <a:pt x="899" y="32"/>
                  </a:lnTo>
                  <a:lnTo>
                    <a:pt x="931" y="86"/>
                  </a:lnTo>
                  <a:lnTo>
                    <a:pt x="979" y="318"/>
                  </a:lnTo>
                  <a:lnTo>
                    <a:pt x="1023" y="574"/>
                  </a:lnTo>
                  <a:lnTo>
                    <a:pt x="1033" y="736"/>
                  </a:lnTo>
                  <a:lnTo>
                    <a:pt x="1017" y="764"/>
                  </a:lnTo>
                  <a:lnTo>
                    <a:pt x="961" y="784"/>
                  </a:lnTo>
                  <a:lnTo>
                    <a:pt x="692" y="778"/>
                  </a:lnTo>
                  <a:lnTo>
                    <a:pt x="276" y="758"/>
                  </a:lnTo>
                  <a:lnTo>
                    <a:pt x="72" y="740"/>
                  </a:lnTo>
                  <a:lnTo>
                    <a:pt x="38" y="698"/>
                  </a:lnTo>
                  <a:lnTo>
                    <a:pt x="20" y="616"/>
                  </a:lnTo>
                  <a:lnTo>
                    <a:pt x="0" y="414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3054240" y="3124080"/>
              <a:ext cx="2811960" cy="2818440"/>
              <a:chOff x="3054240" y="3124080"/>
              <a:chExt cx="2811960" cy="2818440"/>
            </a:xfrm>
          </p:grpSpPr>
          <p:sp>
            <p:nvSpPr>
              <p:cNvPr id="1596" name=""/>
              <p:cNvSpPr/>
              <p:nvPr/>
            </p:nvSpPr>
            <p:spPr>
              <a:xfrm>
                <a:off x="3079080" y="4545000"/>
                <a:ext cx="2787120" cy="1397520"/>
              </a:xfrm>
              <a:custGeom>
                <a:avLst/>
                <a:gdLst/>
                <a:ahLst/>
                <a:rect l="l" t="t" r="r" b="b"/>
                <a:pathLst>
                  <a:path w="1775" h="959">
                    <a:moveTo>
                      <a:pt x="0" y="579"/>
                    </a:moveTo>
                    <a:lnTo>
                      <a:pt x="220" y="389"/>
                    </a:lnTo>
                    <a:lnTo>
                      <a:pt x="226" y="433"/>
                    </a:lnTo>
                    <a:lnTo>
                      <a:pt x="76" y="569"/>
                    </a:lnTo>
                    <a:lnTo>
                      <a:pt x="340" y="557"/>
                    </a:lnTo>
                    <a:lnTo>
                      <a:pt x="898" y="559"/>
                    </a:lnTo>
                    <a:lnTo>
                      <a:pt x="1193" y="537"/>
                    </a:lnTo>
                    <a:lnTo>
                      <a:pt x="1379" y="503"/>
                    </a:lnTo>
                    <a:lnTo>
                      <a:pt x="1425" y="491"/>
                    </a:lnTo>
                    <a:lnTo>
                      <a:pt x="1643" y="54"/>
                    </a:lnTo>
                    <a:lnTo>
                      <a:pt x="1541" y="26"/>
                    </a:lnTo>
                    <a:lnTo>
                      <a:pt x="1693" y="0"/>
                    </a:lnTo>
                    <a:lnTo>
                      <a:pt x="1749" y="48"/>
                    </a:lnTo>
                    <a:lnTo>
                      <a:pt x="1775" y="209"/>
                    </a:lnTo>
                    <a:lnTo>
                      <a:pt x="1731" y="341"/>
                    </a:lnTo>
                    <a:lnTo>
                      <a:pt x="1589" y="769"/>
                    </a:lnTo>
                    <a:lnTo>
                      <a:pt x="1523" y="901"/>
                    </a:lnTo>
                    <a:lnTo>
                      <a:pt x="1463" y="917"/>
                    </a:lnTo>
                    <a:lnTo>
                      <a:pt x="1013" y="909"/>
                    </a:lnTo>
                    <a:lnTo>
                      <a:pt x="542" y="921"/>
                    </a:lnTo>
                    <a:lnTo>
                      <a:pt x="94" y="955"/>
                    </a:lnTo>
                    <a:lnTo>
                      <a:pt x="28" y="959"/>
                    </a:lnTo>
                    <a:lnTo>
                      <a:pt x="22" y="833"/>
                    </a:lnTo>
                    <a:lnTo>
                      <a:pt x="12" y="709"/>
                    </a:lnTo>
                    <a:lnTo>
                      <a:pt x="10" y="643"/>
                    </a:lnTo>
                    <a:lnTo>
                      <a:pt x="48" y="683"/>
                    </a:lnTo>
                    <a:lnTo>
                      <a:pt x="56" y="785"/>
                    </a:lnTo>
                    <a:lnTo>
                      <a:pt x="70" y="893"/>
                    </a:lnTo>
                    <a:lnTo>
                      <a:pt x="198" y="911"/>
                    </a:lnTo>
                    <a:lnTo>
                      <a:pt x="492" y="883"/>
                    </a:lnTo>
                    <a:lnTo>
                      <a:pt x="740" y="863"/>
                    </a:lnTo>
                    <a:lnTo>
                      <a:pt x="947" y="863"/>
                    </a:lnTo>
                    <a:lnTo>
                      <a:pt x="1259" y="863"/>
                    </a:lnTo>
                    <a:lnTo>
                      <a:pt x="1457" y="861"/>
                    </a:lnTo>
                    <a:lnTo>
                      <a:pt x="1463" y="803"/>
                    </a:lnTo>
                    <a:lnTo>
                      <a:pt x="1445" y="681"/>
                    </a:lnTo>
                    <a:lnTo>
                      <a:pt x="1429" y="547"/>
                    </a:lnTo>
                    <a:lnTo>
                      <a:pt x="1457" y="579"/>
                    </a:lnTo>
                    <a:lnTo>
                      <a:pt x="1485" y="727"/>
                    </a:lnTo>
                    <a:lnTo>
                      <a:pt x="1511" y="803"/>
                    </a:lnTo>
                    <a:lnTo>
                      <a:pt x="1541" y="765"/>
                    </a:lnTo>
                    <a:lnTo>
                      <a:pt x="1595" y="617"/>
                    </a:lnTo>
                    <a:lnTo>
                      <a:pt x="1675" y="407"/>
                    </a:lnTo>
                    <a:lnTo>
                      <a:pt x="1731" y="237"/>
                    </a:lnTo>
                    <a:lnTo>
                      <a:pt x="1741" y="186"/>
                    </a:lnTo>
                    <a:lnTo>
                      <a:pt x="1713" y="66"/>
                    </a:lnTo>
                    <a:lnTo>
                      <a:pt x="1683" y="58"/>
                    </a:lnTo>
                    <a:lnTo>
                      <a:pt x="1623" y="199"/>
                    </a:lnTo>
                    <a:lnTo>
                      <a:pt x="1519" y="385"/>
                    </a:lnTo>
                    <a:lnTo>
                      <a:pt x="1445" y="529"/>
                    </a:lnTo>
                    <a:lnTo>
                      <a:pt x="1369" y="551"/>
                    </a:lnTo>
                    <a:lnTo>
                      <a:pt x="1097" y="585"/>
                    </a:lnTo>
                    <a:lnTo>
                      <a:pt x="778" y="605"/>
                    </a:lnTo>
                    <a:lnTo>
                      <a:pt x="462" y="605"/>
                    </a:lnTo>
                    <a:lnTo>
                      <a:pt x="104" y="607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593520" y="5019480"/>
                <a:ext cx="1441080" cy="305640"/>
              </a:xfrm>
              <a:custGeom>
                <a:avLst/>
                <a:gdLst/>
                <a:ahLst/>
                <a:rect l="l" t="t" r="r" b="b"/>
                <a:pathLst>
                  <a:path w="917" h="210">
                    <a:moveTo>
                      <a:pt x="22" y="38"/>
                    </a:moveTo>
                    <a:lnTo>
                      <a:pt x="86" y="0"/>
                    </a:lnTo>
                    <a:lnTo>
                      <a:pt x="118" y="10"/>
                    </a:lnTo>
                    <a:lnTo>
                      <a:pt x="98" y="58"/>
                    </a:lnTo>
                    <a:lnTo>
                      <a:pt x="50" y="88"/>
                    </a:lnTo>
                    <a:lnTo>
                      <a:pt x="142" y="132"/>
                    </a:lnTo>
                    <a:lnTo>
                      <a:pt x="280" y="138"/>
                    </a:lnTo>
                    <a:lnTo>
                      <a:pt x="400" y="128"/>
                    </a:lnTo>
                    <a:lnTo>
                      <a:pt x="486" y="118"/>
                    </a:lnTo>
                    <a:lnTo>
                      <a:pt x="647" y="102"/>
                    </a:lnTo>
                    <a:lnTo>
                      <a:pt x="751" y="92"/>
                    </a:lnTo>
                    <a:lnTo>
                      <a:pt x="819" y="72"/>
                    </a:lnTo>
                    <a:lnTo>
                      <a:pt x="885" y="30"/>
                    </a:lnTo>
                    <a:lnTo>
                      <a:pt x="879" y="0"/>
                    </a:lnTo>
                    <a:lnTo>
                      <a:pt x="917" y="10"/>
                    </a:lnTo>
                    <a:lnTo>
                      <a:pt x="907" y="112"/>
                    </a:lnTo>
                    <a:lnTo>
                      <a:pt x="809" y="160"/>
                    </a:lnTo>
                    <a:lnTo>
                      <a:pt x="594" y="172"/>
                    </a:lnTo>
                    <a:lnTo>
                      <a:pt x="374" y="194"/>
                    </a:lnTo>
                    <a:lnTo>
                      <a:pt x="248" y="210"/>
                    </a:lnTo>
                    <a:lnTo>
                      <a:pt x="96" y="172"/>
                    </a:lnTo>
                    <a:lnTo>
                      <a:pt x="22" y="150"/>
                    </a:lnTo>
                    <a:lnTo>
                      <a:pt x="0" y="92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70680" y="553536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50400" y="552096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63720" y="5482440"/>
                <a:ext cx="612000" cy="142560"/>
              </a:xfrm>
              <a:custGeom>
                <a:avLst/>
                <a:gdLst/>
                <a:ahLst/>
                <a:rect l="l" t="t" r="r" b="b"/>
                <a:pathLst>
                  <a:path w="390" h="98">
                    <a:moveTo>
                      <a:pt x="0" y="30"/>
                    </a:moveTo>
                    <a:lnTo>
                      <a:pt x="380" y="0"/>
                    </a:lnTo>
                    <a:lnTo>
                      <a:pt x="390" y="64"/>
                    </a:lnTo>
                    <a:lnTo>
                      <a:pt x="0" y="9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054240" y="3124080"/>
                <a:ext cx="2576520" cy="1878480"/>
              </a:xfrm>
              <a:custGeom>
                <a:avLst/>
                <a:gdLst/>
                <a:ahLst/>
                <a:rect l="l" t="t" r="r" b="b"/>
                <a:pathLst>
                  <a:path w="1641" h="1291">
                    <a:moveTo>
                      <a:pt x="138" y="1231"/>
                    </a:moveTo>
                    <a:lnTo>
                      <a:pt x="92" y="1183"/>
                    </a:lnTo>
                    <a:lnTo>
                      <a:pt x="64" y="1102"/>
                    </a:lnTo>
                    <a:lnTo>
                      <a:pt x="54" y="920"/>
                    </a:lnTo>
                    <a:lnTo>
                      <a:pt x="54" y="618"/>
                    </a:lnTo>
                    <a:lnTo>
                      <a:pt x="64" y="390"/>
                    </a:lnTo>
                    <a:lnTo>
                      <a:pt x="92" y="338"/>
                    </a:lnTo>
                    <a:lnTo>
                      <a:pt x="142" y="272"/>
                    </a:lnTo>
                    <a:lnTo>
                      <a:pt x="264" y="224"/>
                    </a:lnTo>
                    <a:lnTo>
                      <a:pt x="480" y="160"/>
                    </a:lnTo>
                    <a:lnTo>
                      <a:pt x="658" y="114"/>
                    </a:lnTo>
                    <a:lnTo>
                      <a:pt x="738" y="66"/>
                    </a:lnTo>
                    <a:lnTo>
                      <a:pt x="880" y="54"/>
                    </a:lnTo>
                    <a:lnTo>
                      <a:pt x="1131" y="76"/>
                    </a:lnTo>
                    <a:lnTo>
                      <a:pt x="1339" y="64"/>
                    </a:lnTo>
                    <a:lnTo>
                      <a:pt x="1427" y="44"/>
                    </a:lnTo>
                    <a:lnTo>
                      <a:pt x="1499" y="64"/>
                    </a:lnTo>
                    <a:lnTo>
                      <a:pt x="1547" y="190"/>
                    </a:lnTo>
                    <a:lnTo>
                      <a:pt x="1577" y="420"/>
                    </a:lnTo>
                    <a:lnTo>
                      <a:pt x="1607" y="602"/>
                    </a:lnTo>
                    <a:lnTo>
                      <a:pt x="1593" y="686"/>
                    </a:lnTo>
                    <a:lnTo>
                      <a:pt x="1537" y="892"/>
                    </a:lnTo>
                    <a:lnTo>
                      <a:pt x="1465" y="1100"/>
                    </a:lnTo>
                    <a:lnTo>
                      <a:pt x="1417" y="1177"/>
                    </a:lnTo>
                    <a:lnTo>
                      <a:pt x="1385" y="1215"/>
                    </a:lnTo>
                    <a:lnTo>
                      <a:pt x="1433" y="1243"/>
                    </a:lnTo>
                    <a:lnTo>
                      <a:pt x="1483" y="1156"/>
                    </a:lnTo>
                    <a:lnTo>
                      <a:pt x="1559" y="970"/>
                    </a:lnTo>
                    <a:lnTo>
                      <a:pt x="1615" y="772"/>
                    </a:lnTo>
                    <a:lnTo>
                      <a:pt x="1635" y="674"/>
                    </a:lnTo>
                    <a:lnTo>
                      <a:pt x="1641" y="582"/>
                    </a:lnTo>
                    <a:lnTo>
                      <a:pt x="1623" y="428"/>
                    </a:lnTo>
                    <a:lnTo>
                      <a:pt x="1593" y="198"/>
                    </a:lnTo>
                    <a:lnTo>
                      <a:pt x="1549" y="72"/>
                    </a:lnTo>
                    <a:lnTo>
                      <a:pt x="1509" y="16"/>
                    </a:lnTo>
                    <a:lnTo>
                      <a:pt x="1443" y="0"/>
                    </a:lnTo>
                    <a:lnTo>
                      <a:pt x="1357" y="26"/>
                    </a:lnTo>
                    <a:lnTo>
                      <a:pt x="1229" y="34"/>
                    </a:lnTo>
                    <a:lnTo>
                      <a:pt x="1065" y="34"/>
                    </a:lnTo>
                    <a:lnTo>
                      <a:pt x="896" y="10"/>
                    </a:lnTo>
                    <a:lnTo>
                      <a:pt x="782" y="16"/>
                    </a:lnTo>
                    <a:lnTo>
                      <a:pt x="724" y="38"/>
                    </a:lnTo>
                    <a:lnTo>
                      <a:pt x="596" y="100"/>
                    </a:lnTo>
                    <a:lnTo>
                      <a:pt x="350" y="168"/>
                    </a:lnTo>
                    <a:lnTo>
                      <a:pt x="114" y="246"/>
                    </a:lnTo>
                    <a:lnTo>
                      <a:pt x="48" y="328"/>
                    </a:lnTo>
                    <a:lnTo>
                      <a:pt x="6" y="438"/>
                    </a:lnTo>
                    <a:lnTo>
                      <a:pt x="0" y="658"/>
                    </a:lnTo>
                    <a:lnTo>
                      <a:pt x="10" y="866"/>
                    </a:lnTo>
                    <a:lnTo>
                      <a:pt x="18" y="1080"/>
                    </a:lnTo>
                    <a:lnTo>
                      <a:pt x="56" y="1203"/>
                    </a:lnTo>
                    <a:lnTo>
                      <a:pt x="94" y="1269"/>
                    </a:lnTo>
                    <a:lnTo>
                      <a:pt x="160" y="1291"/>
                    </a:lnTo>
                    <a:lnTo>
                      <a:pt x="198" y="1279"/>
                    </a:lnTo>
                    <a:lnTo>
                      <a:pt x="138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227040" y="3159000"/>
                <a:ext cx="2218680" cy="1872360"/>
              </a:xfrm>
              <a:custGeom>
                <a:avLst/>
                <a:gdLst/>
                <a:ahLst/>
                <a:rect l="l" t="t" r="r" b="b"/>
                <a:pathLst>
                  <a:path w="1413" h="1287">
                    <a:moveTo>
                      <a:pt x="22" y="1221"/>
                    </a:moveTo>
                    <a:lnTo>
                      <a:pt x="258" y="1237"/>
                    </a:lnTo>
                    <a:lnTo>
                      <a:pt x="588" y="1245"/>
                    </a:lnTo>
                    <a:lnTo>
                      <a:pt x="851" y="1245"/>
                    </a:lnTo>
                    <a:lnTo>
                      <a:pt x="1087" y="1217"/>
                    </a:lnTo>
                    <a:lnTo>
                      <a:pt x="1243" y="1193"/>
                    </a:lnTo>
                    <a:lnTo>
                      <a:pt x="1287" y="1171"/>
                    </a:lnTo>
                    <a:lnTo>
                      <a:pt x="1287" y="1058"/>
                    </a:lnTo>
                    <a:lnTo>
                      <a:pt x="1229" y="754"/>
                    </a:lnTo>
                    <a:lnTo>
                      <a:pt x="1163" y="386"/>
                    </a:lnTo>
                    <a:lnTo>
                      <a:pt x="1129" y="252"/>
                    </a:lnTo>
                    <a:lnTo>
                      <a:pt x="1097" y="202"/>
                    </a:lnTo>
                    <a:lnTo>
                      <a:pt x="692" y="246"/>
                    </a:lnTo>
                    <a:lnTo>
                      <a:pt x="294" y="256"/>
                    </a:lnTo>
                    <a:lnTo>
                      <a:pt x="76" y="262"/>
                    </a:lnTo>
                    <a:lnTo>
                      <a:pt x="0" y="272"/>
                    </a:lnTo>
                    <a:lnTo>
                      <a:pt x="42" y="218"/>
                    </a:lnTo>
                    <a:lnTo>
                      <a:pt x="136" y="228"/>
                    </a:lnTo>
                    <a:lnTo>
                      <a:pt x="408" y="218"/>
                    </a:lnTo>
                    <a:lnTo>
                      <a:pt x="666" y="202"/>
                    </a:lnTo>
                    <a:lnTo>
                      <a:pt x="893" y="184"/>
                    </a:lnTo>
                    <a:lnTo>
                      <a:pt x="1111" y="164"/>
                    </a:lnTo>
                    <a:lnTo>
                      <a:pt x="1281" y="86"/>
                    </a:lnTo>
                    <a:lnTo>
                      <a:pt x="1375" y="0"/>
                    </a:lnTo>
                    <a:lnTo>
                      <a:pt x="1413" y="42"/>
                    </a:lnTo>
                    <a:lnTo>
                      <a:pt x="1325" y="94"/>
                    </a:lnTo>
                    <a:lnTo>
                      <a:pt x="1195" y="180"/>
                    </a:lnTo>
                    <a:lnTo>
                      <a:pt x="1155" y="208"/>
                    </a:lnTo>
                    <a:lnTo>
                      <a:pt x="1201" y="404"/>
                    </a:lnTo>
                    <a:lnTo>
                      <a:pt x="1239" y="594"/>
                    </a:lnTo>
                    <a:lnTo>
                      <a:pt x="1271" y="768"/>
                    </a:lnTo>
                    <a:lnTo>
                      <a:pt x="1299" y="934"/>
                    </a:lnTo>
                    <a:lnTo>
                      <a:pt x="1325" y="1058"/>
                    </a:lnTo>
                    <a:lnTo>
                      <a:pt x="1337" y="1163"/>
                    </a:lnTo>
                    <a:lnTo>
                      <a:pt x="1319" y="1221"/>
                    </a:lnTo>
                    <a:lnTo>
                      <a:pt x="1139" y="1265"/>
                    </a:lnTo>
                    <a:lnTo>
                      <a:pt x="824" y="1287"/>
                    </a:lnTo>
                    <a:lnTo>
                      <a:pt x="492" y="1275"/>
                    </a:lnTo>
                    <a:lnTo>
                      <a:pt x="250" y="1275"/>
                    </a:lnTo>
                    <a:lnTo>
                      <a:pt x="50" y="1269"/>
                    </a:lnTo>
                    <a:lnTo>
                      <a:pt x="22" y="1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474720" y="3630960"/>
                <a:ext cx="1531440" cy="1196280"/>
              </a:xfrm>
              <a:custGeom>
                <a:avLst/>
                <a:gdLst/>
                <a:ahLst/>
                <a:rect l="l" t="t" r="r" b="b"/>
                <a:pathLst>
                  <a:path w="975" h="824">
                    <a:moveTo>
                      <a:pt x="0" y="22"/>
                    </a:moveTo>
                    <a:lnTo>
                      <a:pt x="324" y="10"/>
                    </a:lnTo>
                    <a:lnTo>
                      <a:pt x="546" y="0"/>
                    </a:lnTo>
                    <a:lnTo>
                      <a:pt x="793" y="4"/>
                    </a:lnTo>
                    <a:lnTo>
                      <a:pt x="831" y="32"/>
                    </a:lnTo>
                    <a:lnTo>
                      <a:pt x="861" y="76"/>
                    </a:lnTo>
                    <a:lnTo>
                      <a:pt x="915" y="308"/>
                    </a:lnTo>
                    <a:lnTo>
                      <a:pt x="955" y="572"/>
                    </a:lnTo>
                    <a:lnTo>
                      <a:pt x="975" y="754"/>
                    </a:lnTo>
                    <a:lnTo>
                      <a:pt x="955" y="812"/>
                    </a:lnTo>
                    <a:lnTo>
                      <a:pt x="905" y="824"/>
                    </a:lnTo>
                    <a:lnTo>
                      <a:pt x="620" y="792"/>
                    </a:lnTo>
                    <a:lnTo>
                      <a:pt x="917" y="766"/>
                    </a:lnTo>
                    <a:lnTo>
                      <a:pt x="933" y="758"/>
                    </a:lnTo>
                    <a:lnTo>
                      <a:pt x="927" y="634"/>
                    </a:lnTo>
                    <a:lnTo>
                      <a:pt x="905" y="458"/>
                    </a:lnTo>
                    <a:lnTo>
                      <a:pt x="857" y="220"/>
                    </a:lnTo>
                    <a:lnTo>
                      <a:pt x="819" y="70"/>
                    </a:lnTo>
                    <a:lnTo>
                      <a:pt x="781" y="48"/>
                    </a:lnTo>
                    <a:lnTo>
                      <a:pt x="604" y="38"/>
                    </a:lnTo>
                    <a:lnTo>
                      <a:pt x="362" y="48"/>
                    </a:lnTo>
                    <a:lnTo>
                      <a:pt x="162" y="4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317400" y="3648240"/>
                <a:ext cx="1522440" cy="1164600"/>
              </a:xfrm>
              <a:custGeom>
                <a:avLst/>
                <a:gdLst/>
                <a:ahLst/>
                <a:rect l="l" t="t" r="r" b="b"/>
                <a:pathLst>
                  <a:path w="969" h="802">
                    <a:moveTo>
                      <a:pt x="448" y="0"/>
                    </a:moveTo>
                    <a:lnTo>
                      <a:pt x="134" y="0"/>
                    </a:lnTo>
                    <a:lnTo>
                      <a:pt x="44" y="10"/>
                    </a:lnTo>
                    <a:lnTo>
                      <a:pt x="28" y="44"/>
                    </a:lnTo>
                    <a:lnTo>
                      <a:pt x="10" y="114"/>
                    </a:lnTo>
                    <a:lnTo>
                      <a:pt x="0" y="302"/>
                    </a:lnTo>
                    <a:lnTo>
                      <a:pt x="10" y="486"/>
                    </a:lnTo>
                    <a:lnTo>
                      <a:pt x="34" y="668"/>
                    </a:lnTo>
                    <a:lnTo>
                      <a:pt x="74" y="742"/>
                    </a:lnTo>
                    <a:lnTo>
                      <a:pt x="92" y="760"/>
                    </a:lnTo>
                    <a:lnTo>
                      <a:pt x="292" y="780"/>
                    </a:lnTo>
                    <a:lnTo>
                      <a:pt x="550" y="790"/>
                    </a:lnTo>
                    <a:lnTo>
                      <a:pt x="742" y="792"/>
                    </a:lnTo>
                    <a:lnTo>
                      <a:pt x="969" y="802"/>
                    </a:lnTo>
                    <a:lnTo>
                      <a:pt x="959" y="774"/>
                    </a:lnTo>
                    <a:lnTo>
                      <a:pt x="782" y="760"/>
                    </a:lnTo>
                    <a:lnTo>
                      <a:pt x="550" y="744"/>
                    </a:lnTo>
                    <a:lnTo>
                      <a:pt x="228" y="742"/>
                    </a:lnTo>
                    <a:lnTo>
                      <a:pt x="112" y="706"/>
                    </a:lnTo>
                    <a:lnTo>
                      <a:pt x="76" y="678"/>
                    </a:lnTo>
                    <a:lnTo>
                      <a:pt x="64" y="626"/>
                    </a:lnTo>
                    <a:lnTo>
                      <a:pt x="48" y="474"/>
                    </a:lnTo>
                    <a:lnTo>
                      <a:pt x="44" y="284"/>
                    </a:lnTo>
                    <a:lnTo>
                      <a:pt x="58" y="92"/>
                    </a:lnTo>
                    <a:lnTo>
                      <a:pt x="76" y="48"/>
                    </a:lnTo>
                    <a:lnTo>
                      <a:pt x="286" y="2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5" name=""/>
          <p:cNvSpPr/>
          <p:nvPr/>
        </p:nvSpPr>
        <p:spPr>
          <a:xfrm>
            <a:off x="3314880" y="3886200"/>
            <a:ext cx="16761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f (x=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2209680" y="4648320"/>
            <a:ext cx="1060200" cy="1447200"/>
            <a:chOff x="2209680" y="4648320"/>
            <a:chExt cx="1060200" cy="1447200"/>
          </a:xfrm>
        </p:grpSpPr>
        <p:sp>
          <p:nvSpPr>
            <p:cNvPr id="1607" name=""/>
            <p:cNvSpPr/>
            <p:nvPr/>
          </p:nvSpPr>
          <p:spPr>
            <a:xfrm>
              <a:off x="2762280" y="4648320"/>
              <a:ext cx="409680" cy="280800"/>
            </a:xfrm>
            <a:custGeom>
              <a:avLst/>
              <a:gdLst/>
              <a:ahLst/>
              <a:rect l="l" t="t" r="r" b="b"/>
              <a:pathLst>
                <a:path w="553" h="470">
                  <a:moveTo>
                    <a:pt x="382" y="275"/>
                  </a:moveTo>
                  <a:lnTo>
                    <a:pt x="429" y="195"/>
                  </a:lnTo>
                  <a:lnTo>
                    <a:pt x="451" y="117"/>
                  </a:lnTo>
                  <a:lnTo>
                    <a:pt x="436" y="63"/>
                  </a:lnTo>
                  <a:lnTo>
                    <a:pt x="412" y="24"/>
                  </a:lnTo>
                  <a:lnTo>
                    <a:pt x="351" y="0"/>
                  </a:lnTo>
                  <a:lnTo>
                    <a:pt x="280" y="0"/>
                  </a:lnTo>
                  <a:lnTo>
                    <a:pt x="180" y="32"/>
                  </a:lnTo>
                  <a:lnTo>
                    <a:pt x="78" y="125"/>
                  </a:lnTo>
                  <a:lnTo>
                    <a:pt x="15" y="227"/>
                  </a:lnTo>
                  <a:lnTo>
                    <a:pt x="0" y="336"/>
                  </a:lnTo>
                  <a:lnTo>
                    <a:pt x="24" y="399"/>
                  </a:lnTo>
                  <a:lnTo>
                    <a:pt x="78" y="446"/>
                  </a:lnTo>
                  <a:lnTo>
                    <a:pt x="148" y="470"/>
                  </a:lnTo>
                  <a:lnTo>
                    <a:pt x="226" y="455"/>
                  </a:lnTo>
                  <a:lnTo>
                    <a:pt x="312" y="399"/>
                  </a:lnTo>
                  <a:lnTo>
                    <a:pt x="358" y="345"/>
                  </a:lnTo>
                  <a:lnTo>
                    <a:pt x="451" y="392"/>
                  </a:lnTo>
                  <a:lnTo>
                    <a:pt x="514" y="431"/>
                  </a:lnTo>
                  <a:lnTo>
                    <a:pt x="538" y="431"/>
                  </a:lnTo>
                  <a:lnTo>
                    <a:pt x="553" y="384"/>
                  </a:lnTo>
                  <a:lnTo>
                    <a:pt x="529" y="353"/>
                  </a:lnTo>
                  <a:lnTo>
                    <a:pt x="468" y="360"/>
                  </a:lnTo>
                  <a:lnTo>
                    <a:pt x="421" y="336"/>
                  </a:lnTo>
                  <a:lnTo>
                    <a:pt x="382" y="27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25680" y="4936680"/>
              <a:ext cx="401040" cy="462240"/>
            </a:xfrm>
            <a:custGeom>
              <a:avLst/>
              <a:gdLst/>
              <a:ahLst/>
              <a:rect l="l" t="t" r="r" b="b"/>
              <a:pathLst>
                <a:path w="540" h="775">
                  <a:moveTo>
                    <a:pt x="195" y="117"/>
                  </a:moveTo>
                  <a:lnTo>
                    <a:pt x="314" y="31"/>
                  </a:lnTo>
                  <a:lnTo>
                    <a:pt x="399" y="0"/>
                  </a:lnTo>
                  <a:lnTo>
                    <a:pt x="455" y="0"/>
                  </a:lnTo>
                  <a:lnTo>
                    <a:pt x="501" y="24"/>
                  </a:lnTo>
                  <a:lnTo>
                    <a:pt x="540" y="85"/>
                  </a:lnTo>
                  <a:lnTo>
                    <a:pt x="540" y="139"/>
                  </a:lnTo>
                  <a:lnTo>
                    <a:pt x="494" y="240"/>
                  </a:lnTo>
                  <a:lnTo>
                    <a:pt x="407" y="303"/>
                  </a:lnTo>
                  <a:lnTo>
                    <a:pt x="353" y="372"/>
                  </a:lnTo>
                  <a:lnTo>
                    <a:pt x="314" y="457"/>
                  </a:lnTo>
                  <a:lnTo>
                    <a:pt x="297" y="565"/>
                  </a:lnTo>
                  <a:lnTo>
                    <a:pt x="321" y="651"/>
                  </a:lnTo>
                  <a:lnTo>
                    <a:pt x="314" y="714"/>
                  </a:lnTo>
                  <a:lnTo>
                    <a:pt x="275" y="751"/>
                  </a:lnTo>
                  <a:lnTo>
                    <a:pt x="204" y="775"/>
                  </a:lnTo>
                  <a:lnTo>
                    <a:pt x="110" y="736"/>
                  </a:lnTo>
                  <a:lnTo>
                    <a:pt x="39" y="667"/>
                  </a:lnTo>
                  <a:lnTo>
                    <a:pt x="0" y="535"/>
                  </a:lnTo>
                  <a:lnTo>
                    <a:pt x="0" y="426"/>
                  </a:lnTo>
                  <a:lnTo>
                    <a:pt x="32" y="310"/>
                  </a:lnTo>
                  <a:lnTo>
                    <a:pt x="86" y="225"/>
                  </a:lnTo>
                  <a:lnTo>
                    <a:pt x="134" y="163"/>
                  </a:lnTo>
                  <a:lnTo>
                    <a:pt x="195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209680" y="4922280"/>
              <a:ext cx="543240" cy="434880"/>
            </a:xfrm>
            <a:custGeom>
              <a:avLst/>
              <a:gdLst/>
              <a:ahLst/>
              <a:rect l="l" t="t" r="r" b="b"/>
              <a:pathLst>
                <a:path w="730" h="729">
                  <a:moveTo>
                    <a:pt x="598" y="0"/>
                  </a:moveTo>
                  <a:lnTo>
                    <a:pt x="730" y="24"/>
                  </a:lnTo>
                  <a:lnTo>
                    <a:pt x="715" y="78"/>
                  </a:lnTo>
                  <a:lnTo>
                    <a:pt x="637" y="93"/>
                  </a:lnTo>
                  <a:lnTo>
                    <a:pt x="551" y="78"/>
                  </a:lnTo>
                  <a:lnTo>
                    <a:pt x="427" y="85"/>
                  </a:lnTo>
                  <a:lnTo>
                    <a:pt x="280" y="124"/>
                  </a:lnTo>
                  <a:lnTo>
                    <a:pt x="148" y="163"/>
                  </a:lnTo>
                  <a:lnTo>
                    <a:pt x="101" y="210"/>
                  </a:lnTo>
                  <a:lnTo>
                    <a:pt x="109" y="240"/>
                  </a:lnTo>
                  <a:lnTo>
                    <a:pt x="172" y="349"/>
                  </a:lnTo>
                  <a:lnTo>
                    <a:pt x="226" y="450"/>
                  </a:lnTo>
                  <a:lnTo>
                    <a:pt x="287" y="519"/>
                  </a:lnTo>
                  <a:lnTo>
                    <a:pt x="319" y="543"/>
                  </a:lnTo>
                  <a:lnTo>
                    <a:pt x="311" y="597"/>
                  </a:lnTo>
                  <a:lnTo>
                    <a:pt x="241" y="636"/>
                  </a:lnTo>
                  <a:lnTo>
                    <a:pt x="187" y="682"/>
                  </a:lnTo>
                  <a:lnTo>
                    <a:pt x="164" y="729"/>
                  </a:lnTo>
                  <a:lnTo>
                    <a:pt x="118" y="729"/>
                  </a:lnTo>
                  <a:lnTo>
                    <a:pt x="109" y="675"/>
                  </a:lnTo>
                  <a:lnTo>
                    <a:pt x="164" y="612"/>
                  </a:lnTo>
                  <a:lnTo>
                    <a:pt x="233" y="558"/>
                  </a:lnTo>
                  <a:lnTo>
                    <a:pt x="226" y="535"/>
                  </a:lnTo>
                  <a:lnTo>
                    <a:pt x="164" y="450"/>
                  </a:lnTo>
                  <a:lnTo>
                    <a:pt x="94" y="349"/>
                  </a:lnTo>
                  <a:lnTo>
                    <a:pt x="32" y="240"/>
                  </a:lnTo>
                  <a:lnTo>
                    <a:pt x="0" y="178"/>
                  </a:lnTo>
                  <a:lnTo>
                    <a:pt x="47" y="132"/>
                  </a:lnTo>
                  <a:lnTo>
                    <a:pt x="148" y="85"/>
                  </a:lnTo>
                  <a:lnTo>
                    <a:pt x="326" y="24"/>
                  </a:lnTo>
                  <a:lnTo>
                    <a:pt x="490" y="7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55800" y="4975920"/>
              <a:ext cx="514080" cy="437040"/>
            </a:xfrm>
            <a:custGeom>
              <a:avLst/>
              <a:gdLst/>
              <a:ahLst/>
              <a:rect l="l" t="t" r="r" b="b"/>
              <a:pathLst>
                <a:path w="692" h="731">
                  <a:moveTo>
                    <a:pt x="78" y="0"/>
                  </a:moveTo>
                  <a:lnTo>
                    <a:pt x="0" y="24"/>
                  </a:lnTo>
                  <a:lnTo>
                    <a:pt x="0" y="78"/>
                  </a:lnTo>
                  <a:lnTo>
                    <a:pt x="39" y="117"/>
                  </a:lnTo>
                  <a:lnTo>
                    <a:pt x="132" y="171"/>
                  </a:lnTo>
                  <a:lnTo>
                    <a:pt x="303" y="281"/>
                  </a:lnTo>
                  <a:lnTo>
                    <a:pt x="404" y="350"/>
                  </a:lnTo>
                  <a:lnTo>
                    <a:pt x="467" y="450"/>
                  </a:lnTo>
                  <a:lnTo>
                    <a:pt x="545" y="584"/>
                  </a:lnTo>
                  <a:lnTo>
                    <a:pt x="552" y="692"/>
                  </a:lnTo>
                  <a:lnTo>
                    <a:pt x="599" y="731"/>
                  </a:lnTo>
                  <a:lnTo>
                    <a:pt x="692" y="645"/>
                  </a:lnTo>
                  <a:lnTo>
                    <a:pt x="621" y="606"/>
                  </a:lnTo>
                  <a:lnTo>
                    <a:pt x="552" y="489"/>
                  </a:lnTo>
                  <a:lnTo>
                    <a:pt x="489" y="381"/>
                  </a:lnTo>
                  <a:lnTo>
                    <a:pt x="467" y="318"/>
                  </a:lnTo>
                  <a:lnTo>
                    <a:pt x="413" y="249"/>
                  </a:lnTo>
                  <a:lnTo>
                    <a:pt x="311" y="171"/>
                  </a:lnTo>
                  <a:lnTo>
                    <a:pt x="194" y="93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563560" y="5303880"/>
              <a:ext cx="280800" cy="711360"/>
            </a:xfrm>
            <a:custGeom>
              <a:avLst/>
              <a:gdLst/>
              <a:ahLst/>
              <a:rect l="l" t="t" r="r" b="b"/>
              <a:pathLst>
                <a:path w="378" h="1190">
                  <a:moveTo>
                    <a:pt x="55" y="0"/>
                  </a:moveTo>
                  <a:lnTo>
                    <a:pt x="0" y="23"/>
                  </a:lnTo>
                  <a:lnTo>
                    <a:pt x="7" y="86"/>
                  </a:lnTo>
                  <a:lnTo>
                    <a:pt x="31" y="123"/>
                  </a:lnTo>
                  <a:lnTo>
                    <a:pt x="94" y="248"/>
                  </a:lnTo>
                  <a:lnTo>
                    <a:pt x="157" y="471"/>
                  </a:lnTo>
                  <a:lnTo>
                    <a:pt x="174" y="603"/>
                  </a:lnTo>
                  <a:lnTo>
                    <a:pt x="118" y="795"/>
                  </a:lnTo>
                  <a:lnTo>
                    <a:pt x="55" y="950"/>
                  </a:lnTo>
                  <a:lnTo>
                    <a:pt x="31" y="1082"/>
                  </a:lnTo>
                  <a:lnTo>
                    <a:pt x="55" y="1113"/>
                  </a:lnTo>
                  <a:lnTo>
                    <a:pt x="118" y="1128"/>
                  </a:lnTo>
                  <a:lnTo>
                    <a:pt x="259" y="1182"/>
                  </a:lnTo>
                  <a:lnTo>
                    <a:pt x="315" y="1190"/>
                  </a:lnTo>
                  <a:lnTo>
                    <a:pt x="378" y="1136"/>
                  </a:lnTo>
                  <a:lnTo>
                    <a:pt x="283" y="1104"/>
                  </a:lnTo>
                  <a:lnTo>
                    <a:pt x="150" y="1082"/>
                  </a:lnTo>
                  <a:lnTo>
                    <a:pt x="102" y="1043"/>
                  </a:lnTo>
                  <a:lnTo>
                    <a:pt x="94" y="989"/>
                  </a:lnTo>
                  <a:lnTo>
                    <a:pt x="150" y="888"/>
                  </a:lnTo>
                  <a:lnTo>
                    <a:pt x="196" y="749"/>
                  </a:lnTo>
                  <a:lnTo>
                    <a:pt x="244" y="579"/>
                  </a:lnTo>
                  <a:lnTo>
                    <a:pt x="237" y="503"/>
                  </a:lnTo>
                  <a:lnTo>
                    <a:pt x="228" y="386"/>
                  </a:lnTo>
                  <a:lnTo>
                    <a:pt x="189" y="248"/>
                  </a:lnTo>
                  <a:lnTo>
                    <a:pt x="157" y="123"/>
                  </a:lnTo>
                  <a:lnTo>
                    <a:pt x="111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50520" y="5296680"/>
              <a:ext cx="207000" cy="798840"/>
            </a:xfrm>
            <a:custGeom>
              <a:avLst/>
              <a:gdLst/>
              <a:ahLst/>
              <a:rect l="l" t="t" r="r" b="b"/>
              <a:pathLst>
                <a:path w="279" h="1339">
                  <a:moveTo>
                    <a:pt x="64" y="54"/>
                  </a:moveTo>
                  <a:lnTo>
                    <a:pt x="111" y="0"/>
                  </a:lnTo>
                  <a:lnTo>
                    <a:pt x="175" y="15"/>
                  </a:lnTo>
                  <a:lnTo>
                    <a:pt x="192" y="76"/>
                  </a:lnTo>
                  <a:lnTo>
                    <a:pt x="214" y="331"/>
                  </a:lnTo>
                  <a:lnTo>
                    <a:pt x="207" y="538"/>
                  </a:lnTo>
                  <a:lnTo>
                    <a:pt x="192" y="685"/>
                  </a:lnTo>
                  <a:lnTo>
                    <a:pt x="135" y="970"/>
                  </a:lnTo>
                  <a:lnTo>
                    <a:pt x="96" y="1108"/>
                  </a:lnTo>
                  <a:lnTo>
                    <a:pt x="111" y="1155"/>
                  </a:lnTo>
                  <a:lnTo>
                    <a:pt x="214" y="1224"/>
                  </a:lnTo>
                  <a:lnTo>
                    <a:pt x="279" y="1308"/>
                  </a:lnTo>
                  <a:lnTo>
                    <a:pt x="262" y="1332"/>
                  </a:lnTo>
                  <a:lnTo>
                    <a:pt x="183" y="1339"/>
                  </a:lnTo>
                  <a:lnTo>
                    <a:pt x="135" y="1324"/>
                  </a:lnTo>
                  <a:lnTo>
                    <a:pt x="120" y="1278"/>
                  </a:lnTo>
                  <a:lnTo>
                    <a:pt x="111" y="1231"/>
                  </a:lnTo>
                  <a:lnTo>
                    <a:pt x="48" y="1162"/>
                  </a:lnTo>
                  <a:lnTo>
                    <a:pt x="0" y="1116"/>
                  </a:lnTo>
                  <a:lnTo>
                    <a:pt x="16" y="1047"/>
                  </a:lnTo>
                  <a:lnTo>
                    <a:pt x="72" y="978"/>
                  </a:lnTo>
                  <a:lnTo>
                    <a:pt x="111" y="808"/>
                  </a:lnTo>
                  <a:lnTo>
                    <a:pt x="127" y="624"/>
                  </a:lnTo>
                  <a:lnTo>
                    <a:pt x="120" y="430"/>
                  </a:lnTo>
                  <a:lnTo>
                    <a:pt x="87" y="238"/>
                  </a:lnTo>
                  <a:lnTo>
                    <a:pt x="48" y="10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3276720" y="4264200"/>
            <a:ext cx="16761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z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617880" y="2565720"/>
            <a:ext cx="2039400" cy="1405440"/>
          </a:xfrm>
          <a:prstGeom prst="cloudCallout">
            <a:avLst>
              <a:gd name="adj1" fmla="val -39236"/>
              <a:gd name="adj2" fmla="val 71814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Ma by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x==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gramowanie para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1617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19320" y="1447200"/>
              <a:ext cx="67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Po pewnym czasie</a:t>
              </a:r>
              <a:r>
                <a:rPr b="1" lang="en-GB" sz="2800" spc="-1" strike="noStrike">
                  <a:solidFill>
                    <a:srgbClr val="330099"/>
                  </a:solidFill>
                  <a:latin typeface="Arial"/>
                </a:rPr>
                <a:t>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5410080" y="588168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19320" y="58816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ecenz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054240" y="3062160"/>
            <a:ext cx="2811960" cy="2818440"/>
            <a:chOff x="3054240" y="3062160"/>
            <a:chExt cx="2811960" cy="2818440"/>
          </a:xfrm>
        </p:grpSpPr>
        <p:sp>
          <p:nvSpPr>
            <p:cNvPr id="1622" name=""/>
            <p:cNvSpPr/>
            <p:nvPr/>
          </p:nvSpPr>
          <p:spPr>
            <a:xfrm>
              <a:off x="3081960" y="3097080"/>
              <a:ext cx="2772000" cy="2751840"/>
            </a:xfrm>
            <a:custGeom>
              <a:avLst/>
              <a:gdLst/>
              <a:ahLst/>
              <a:rect l="l" t="t" r="r" b="b"/>
              <a:pathLst>
                <a:path w="1765" h="1891">
                  <a:moveTo>
                    <a:pt x="332" y="1263"/>
                  </a:moveTo>
                  <a:lnTo>
                    <a:pt x="196" y="1385"/>
                  </a:lnTo>
                  <a:lnTo>
                    <a:pt x="26" y="1533"/>
                  </a:lnTo>
                  <a:lnTo>
                    <a:pt x="26" y="1659"/>
                  </a:lnTo>
                  <a:lnTo>
                    <a:pt x="54" y="1891"/>
                  </a:lnTo>
                  <a:lnTo>
                    <a:pt x="340" y="1881"/>
                  </a:lnTo>
                  <a:lnTo>
                    <a:pt x="660" y="1847"/>
                  </a:lnTo>
                  <a:lnTo>
                    <a:pt x="1135" y="1837"/>
                  </a:lnTo>
                  <a:lnTo>
                    <a:pt x="1493" y="1847"/>
                  </a:lnTo>
                  <a:lnTo>
                    <a:pt x="1617" y="1617"/>
                  </a:lnTo>
                  <a:lnTo>
                    <a:pt x="1765" y="1169"/>
                  </a:lnTo>
                  <a:lnTo>
                    <a:pt x="1737" y="1034"/>
                  </a:lnTo>
                  <a:lnTo>
                    <a:pt x="1683" y="980"/>
                  </a:lnTo>
                  <a:lnTo>
                    <a:pt x="1523" y="990"/>
                  </a:lnTo>
                  <a:lnTo>
                    <a:pt x="1597" y="650"/>
                  </a:lnTo>
                  <a:lnTo>
                    <a:pt x="1607" y="544"/>
                  </a:lnTo>
                  <a:lnTo>
                    <a:pt x="1569" y="280"/>
                  </a:lnTo>
                  <a:lnTo>
                    <a:pt x="1531" y="84"/>
                  </a:lnTo>
                  <a:lnTo>
                    <a:pt x="1465" y="0"/>
                  </a:lnTo>
                  <a:lnTo>
                    <a:pt x="1415" y="0"/>
                  </a:lnTo>
                  <a:lnTo>
                    <a:pt x="1285" y="22"/>
                  </a:lnTo>
                  <a:lnTo>
                    <a:pt x="1077" y="32"/>
                  </a:lnTo>
                  <a:lnTo>
                    <a:pt x="941" y="12"/>
                  </a:lnTo>
                  <a:lnTo>
                    <a:pt x="794" y="4"/>
                  </a:lnTo>
                  <a:lnTo>
                    <a:pt x="738" y="18"/>
                  </a:lnTo>
                  <a:lnTo>
                    <a:pt x="612" y="76"/>
                  </a:lnTo>
                  <a:lnTo>
                    <a:pt x="426" y="126"/>
                  </a:lnTo>
                  <a:lnTo>
                    <a:pt x="190" y="208"/>
                  </a:lnTo>
                  <a:lnTo>
                    <a:pt x="100" y="260"/>
                  </a:lnTo>
                  <a:lnTo>
                    <a:pt x="18" y="348"/>
                  </a:lnTo>
                  <a:lnTo>
                    <a:pt x="0" y="478"/>
                  </a:lnTo>
                  <a:lnTo>
                    <a:pt x="0" y="694"/>
                  </a:lnTo>
                  <a:lnTo>
                    <a:pt x="10" y="950"/>
                  </a:lnTo>
                  <a:lnTo>
                    <a:pt x="28" y="1100"/>
                  </a:lnTo>
                  <a:lnTo>
                    <a:pt x="64" y="1187"/>
                  </a:lnTo>
                  <a:lnTo>
                    <a:pt x="120" y="1231"/>
                  </a:lnTo>
                  <a:lnTo>
                    <a:pt x="186" y="1249"/>
                  </a:lnTo>
                  <a:lnTo>
                    <a:pt x="332" y="1263"/>
                  </a:lnTo>
                  <a:close/>
                </a:path>
              </a:pathLst>
            </a:custGeom>
            <a:solidFill>
              <a:srgbClr val="c3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348720" y="3594960"/>
              <a:ext cx="1622880" cy="1138320"/>
            </a:xfrm>
            <a:custGeom>
              <a:avLst/>
              <a:gdLst/>
              <a:ahLst/>
              <a:rect l="l" t="t" r="r" b="b"/>
              <a:pathLst>
                <a:path w="1033" h="784">
                  <a:moveTo>
                    <a:pt x="6" y="214"/>
                  </a:moveTo>
                  <a:lnTo>
                    <a:pt x="16" y="70"/>
                  </a:lnTo>
                  <a:lnTo>
                    <a:pt x="38" y="28"/>
                  </a:lnTo>
                  <a:lnTo>
                    <a:pt x="102" y="12"/>
                  </a:lnTo>
                  <a:lnTo>
                    <a:pt x="358" y="4"/>
                  </a:lnTo>
                  <a:lnTo>
                    <a:pt x="672" y="0"/>
                  </a:lnTo>
                  <a:lnTo>
                    <a:pt x="855" y="4"/>
                  </a:lnTo>
                  <a:lnTo>
                    <a:pt x="899" y="32"/>
                  </a:lnTo>
                  <a:lnTo>
                    <a:pt x="931" y="86"/>
                  </a:lnTo>
                  <a:lnTo>
                    <a:pt x="979" y="318"/>
                  </a:lnTo>
                  <a:lnTo>
                    <a:pt x="1023" y="574"/>
                  </a:lnTo>
                  <a:lnTo>
                    <a:pt x="1033" y="736"/>
                  </a:lnTo>
                  <a:lnTo>
                    <a:pt x="1017" y="764"/>
                  </a:lnTo>
                  <a:lnTo>
                    <a:pt x="961" y="784"/>
                  </a:lnTo>
                  <a:lnTo>
                    <a:pt x="692" y="778"/>
                  </a:lnTo>
                  <a:lnTo>
                    <a:pt x="276" y="758"/>
                  </a:lnTo>
                  <a:lnTo>
                    <a:pt x="72" y="740"/>
                  </a:lnTo>
                  <a:lnTo>
                    <a:pt x="38" y="698"/>
                  </a:lnTo>
                  <a:lnTo>
                    <a:pt x="20" y="616"/>
                  </a:lnTo>
                  <a:lnTo>
                    <a:pt x="0" y="414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3054240" y="3062160"/>
              <a:ext cx="2811960" cy="2818440"/>
              <a:chOff x="3054240" y="3062160"/>
              <a:chExt cx="2811960" cy="2818440"/>
            </a:xfrm>
          </p:grpSpPr>
          <p:sp>
            <p:nvSpPr>
              <p:cNvPr id="1625" name=""/>
              <p:cNvSpPr/>
              <p:nvPr/>
            </p:nvSpPr>
            <p:spPr>
              <a:xfrm>
                <a:off x="3079080" y="4483080"/>
                <a:ext cx="2787120" cy="1397520"/>
              </a:xfrm>
              <a:custGeom>
                <a:avLst/>
                <a:gdLst/>
                <a:ahLst/>
                <a:rect l="l" t="t" r="r" b="b"/>
                <a:pathLst>
                  <a:path w="1775" h="959">
                    <a:moveTo>
                      <a:pt x="0" y="579"/>
                    </a:moveTo>
                    <a:lnTo>
                      <a:pt x="220" y="389"/>
                    </a:lnTo>
                    <a:lnTo>
                      <a:pt x="226" y="433"/>
                    </a:lnTo>
                    <a:lnTo>
                      <a:pt x="76" y="569"/>
                    </a:lnTo>
                    <a:lnTo>
                      <a:pt x="340" y="557"/>
                    </a:lnTo>
                    <a:lnTo>
                      <a:pt x="898" y="559"/>
                    </a:lnTo>
                    <a:lnTo>
                      <a:pt x="1193" y="537"/>
                    </a:lnTo>
                    <a:lnTo>
                      <a:pt x="1379" y="503"/>
                    </a:lnTo>
                    <a:lnTo>
                      <a:pt x="1425" y="491"/>
                    </a:lnTo>
                    <a:lnTo>
                      <a:pt x="1643" y="54"/>
                    </a:lnTo>
                    <a:lnTo>
                      <a:pt x="1541" y="26"/>
                    </a:lnTo>
                    <a:lnTo>
                      <a:pt x="1693" y="0"/>
                    </a:lnTo>
                    <a:lnTo>
                      <a:pt x="1749" y="48"/>
                    </a:lnTo>
                    <a:lnTo>
                      <a:pt x="1775" y="209"/>
                    </a:lnTo>
                    <a:lnTo>
                      <a:pt x="1731" y="341"/>
                    </a:lnTo>
                    <a:lnTo>
                      <a:pt x="1589" y="769"/>
                    </a:lnTo>
                    <a:lnTo>
                      <a:pt x="1523" y="901"/>
                    </a:lnTo>
                    <a:lnTo>
                      <a:pt x="1463" y="917"/>
                    </a:lnTo>
                    <a:lnTo>
                      <a:pt x="1013" y="909"/>
                    </a:lnTo>
                    <a:lnTo>
                      <a:pt x="542" y="921"/>
                    </a:lnTo>
                    <a:lnTo>
                      <a:pt x="94" y="955"/>
                    </a:lnTo>
                    <a:lnTo>
                      <a:pt x="28" y="959"/>
                    </a:lnTo>
                    <a:lnTo>
                      <a:pt x="22" y="833"/>
                    </a:lnTo>
                    <a:lnTo>
                      <a:pt x="12" y="709"/>
                    </a:lnTo>
                    <a:lnTo>
                      <a:pt x="10" y="643"/>
                    </a:lnTo>
                    <a:lnTo>
                      <a:pt x="48" y="683"/>
                    </a:lnTo>
                    <a:lnTo>
                      <a:pt x="56" y="785"/>
                    </a:lnTo>
                    <a:lnTo>
                      <a:pt x="70" y="893"/>
                    </a:lnTo>
                    <a:lnTo>
                      <a:pt x="198" y="911"/>
                    </a:lnTo>
                    <a:lnTo>
                      <a:pt x="492" y="883"/>
                    </a:lnTo>
                    <a:lnTo>
                      <a:pt x="740" y="863"/>
                    </a:lnTo>
                    <a:lnTo>
                      <a:pt x="947" y="863"/>
                    </a:lnTo>
                    <a:lnTo>
                      <a:pt x="1259" y="863"/>
                    </a:lnTo>
                    <a:lnTo>
                      <a:pt x="1457" y="861"/>
                    </a:lnTo>
                    <a:lnTo>
                      <a:pt x="1463" y="803"/>
                    </a:lnTo>
                    <a:lnTo>
                      <a:pt x="1445" y="681"/>
                    </a:lnTo>
                    <a:lnTo>
                      <a:pt x="1429" y="547"/>
                    </a:lnTo>
                    <a:lnTo>
                      <a:pt x="1457" y="579"/>
                    </a:lnTo>
                    <a:lnTo>
                      <a:pt x="1485" y="727"/>
                    </a:lnTo>
                    <a:lnTo>
                      <a:pt x="1511" y="803"/>
                    </a:lnTo>
                    <a:lnTo>
                      <a:pt x="1541" y="765"/>
                    </a:lnTo>
                    <a:lnTo>
                      <a:pt x="1595" y="617"/>
                    </a:lnTo>
                    <a:lnTo>
                      <a:pt x="1675" y="407"/>
                    </a:lnTo>
                    <a:lnTo>
                      <a:pt x="1731" y="237"/>
                    </a:lnTo>
                    <a:lnTo>
                      <a:pt x="1741" y="186"/>
                    </a:lnTo>
                    <a:lnTo>
                      <a:pt x="1713" y="66"/>
                    </a:lnTo>
                    <a:lnTo>
                      <a:pt x="1683" y="58"/>
                    </a:lnTo>
                    <a:lnTo>
                      <a:pt x="1623" y="199"/>
                    </a:lnTo>
                    <a:lnTo>
                      <a:pt x="1519" y="385"/>
                    </a:lnTo>
                    <a:lnTo>
                      <a:pt x="1445" y="529"/>
                    </a:lnTo>
                    <a:lnTo>
                      <a:pt x="1369" y="551"/>
                    </a:lnTo>
                    <a:lnTo>
                      <a:pt x="1097" y="585"/>
                    </a:lnTo>
                    <a:lnTo>
                      <a:pt x="778" y="605"/>
                    </a:lnTo>
                    <a:lnTo>
                      <a:pt x="462" y="605"/>
                    </a:lnTo>
                    <a:lnTo>
                      <a:pt x="104" y="607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593520" y="4957560"/>
                <a:ext cx="1441080" cy="305640"/>
              </a:xfrm>
              <a:custGeom>
                <a:avLst/>
                <a:gdLst/>
                <a:ahLst/>
                <a:rect l="l" t="t" r="r" b="b"/>
                <a:pathLst>
                  <a:path w="917" h="210">
                    <a:moveTo>
                      <a:pt x="22" y="38"/>
                    </a:moveTo>
                    <a:lnTo>
                      <a:pt x="86" y="0"/>
                    </a:lnTo>
                    <a:lnTo>
                      <a:pt x="118" y="10"/>
                    </a:lnTo>
                    <a:lnTo>
                      <a:pt x="98" y="58"/>
                    </a:lnTo>
                    <a:lnTo>
                      <a:pt x="50" y="88"/>
                    </a:lnTo>
                    <a:lnTo>
                      <a:pt x="142" y="132"/>
                    </a:lnTo>
                    <a:lnTo>
                      <a:pt x="280" y="138"/>
                    </a:lnTo>
                    <a:lnTo>
                      <a:pt x="400" y="128"/>
                    </a:lnTo>
                    <a:lnTo>
                      <a:pt x="486" y="118"/>
                    </a:lnTo>
                    <a:lnTo>
                      <a:pt x="647" y="102"/>
                    </a:lnTo>
                    <a:lnTo>
                      <a:pt x="751" y="92"/>
                    </a:lnTo>
                    <a:lnTo>
                      <a:pt x="819" y="72"/>
                    </a:lnTo>
                    <a:lnTo>
                      <a:pt x="885" y="30"/>
                    </a:lnTo>
                    <a:lnTo>
                      <a:pt x="879" y="0"/>
                    </a:lnTo>
                    <a:lnTo>
                      <a:pt x="917" y="10"/>
                    </a:lnTo>
                    <a:lnTo>
                      <a:pt x="907" y="112"/>
                    </a:lnTo>
                    <a:lnTo>
                      <a:pt x="809" y="160"/>
                    </a:lnTo>
                    <a:lnTo>
                      <a:pt x="594" y="172"/>
                    </a:lnTo>
                    <a:lnTo>
                      <a:pt x="374" y="194"/>
                    </a:lnTo>
                    <a:lnTo>
                      <a:pt x="248" y="210"/>
                    </a:lnTo>
                    <a:lnTo>
                      <a:pt x="96" y="172"/>
                    </a:lnTo>
                    <a:lnTo>
                      <a:pt x="22" y="150"/>
                    </a:lnTo>
                    <a:lnTo>
                      <a:pt x="0" y="92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70680" y="547344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50400" y="545904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563720" y="5420520"/>
                <a:ext cx="612000" cy="142560"/>
              </a:xfrm>
              <a:custGeom>
                <a:avLst/>
                <a:gdLst/>
                <a:ahLst/>
                <a:rect l="l" t="t" r="r" b="b"/>
                <a:pathLst>
                  <a:path w="390" h="98">
                    <a:moveTo>
                      <a:pt x="0" y="30"/>
                    </a:moveTo>
                    <a:lnTo>
                      <a:pt x="380" y="0"/>
                    </a:lnTo>
                    <a:lnTo>
                      <a:pt x="390" y="64"/>
                    </a:lnTo>
                    <a:lnTo>
                      <a:pt x="0" y="9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054240" y="3062160"/>
                <a:ext cx="2576520" cy="1878480"/>
              </a:xfrm>
              <a:custGeom>
                <a:avLst/>
                <a:gdLst/>
                <a:ahLst/>
                <a:rect l="l" t="t" r="r" b="b"/>
                <a:pathLst>
                  <a:path w="1641" h="1291">
                    <a:moveTo>
                      <a:pt x="138" y="1231"/>
                    </a:moveTo>
                    <a:lnTo>
                      <a:pt x="92" y="1183"/>
                    </a:lnTo>
                    <a:lnTo>
                      <a:pt x="64" y="1102"/>
                    </a:lnTo>
                    <a:lnTo>
                      <a:pt x="54" y="920"/>
                    </a:lnTo>
                    <a:lnTo>
                      <a:pt x="54" y="618"/>
                    </a:lnTo>
                    <a:lnTo>
                      <a:pt x="64" y="390"/>
                    </a:lnTo>
                    <a:lnTo>
                      <a:pt x="92" y="338"/>
                    </a:lnTo>
                    <a:lnTo>
                      <a:pt x="142" y="272"/>
                    </a:lnTo>
                    <a:lnTo>
                      <a:pt x="264" y="224"/>
                    </a:lnTo>
                    <a:lnTo>
                      <a:pt x="480" y="160"/>
                    </a:lnTo>
                    <a:lnTo>
                      <a:pt x="658" y="114"/>
                    </a:lnTo>
                    <a:lnTo>
                      <a:pt x="738" y="66"/>
                    </a:lnTo>
                    <a:lnTo>
                      <a:pt x="880" y="54"/>
                    </a:lnTo>
                    <a:lnTo>
                      <a:pt x="1131" y="76"/>
                    </a:lnTo>
                    <a:lnTo>
                      <a:pt x="1339" y="64"/>
                    </a:lnTo>
                    <a:lnTo>
                      <a:pt x="1427" y="44"/>
                    </a:lnTo>
                    <a:lnTo>
                      <a:pt x="1499" y="64"/>
                    </a:lnTo>
                    <a:lnTo>
                      <a:pt x="1547" y="190"/>
                    </a:lnTo>
                    <a:lnTo>
                      <a:pt x="1577" y="420"/>
                    </a:lnTo>
                    <a:lnTo>
                      <a:pt x="1607" y="602"/>
                    </a:lnTo>
                    <a:lnTo>
                      <a:pt x="1593" y="686"/>
                    </a:lnTo>
                    <a:lnTo>
                      <a:pt x="1537" y="892"/>
                    </a:lnTo>
                    <a:lnTo>
                      <a:pt x="1465" y="1100"/>
                    </a:lnTo>
                    <a:lnTo>
                      <a:pt x="1417" y="1177"/>
                    </a:lnTo>
                    <a:lnTo>
                      <a:pt x="1385" y="1215"/>
                    </a:lnTo>
                    <a:lnTo>
                      <a:pt x="1433" y="1243"/>
                    </a:lnTo>
                    <a:lnTo>
                      <a:pt x="1483" y="1156"/>
                    </a:lnTo>
                    <a:lnTo>
                      <a:pt x="1559" y="970"/>
                    </a:lnTo>
                    <a:lnTo>
                      <a:pt x="1615" y="772"/>
                    </a:lnTo>
                    <a:lnTo>
                      <a:pt x="1635" y="674"/>
                    </a:lnTo>
                    <a:lnTo>
                      <a:pt x="1641" y="582"/>
                    </a:lnTo>
                    <a:lnTo>
                      <a:pt x="1623" y="428"/>
                    </a:lnTo>
                    <a:lnTo>
                      <a:pt x="1593" y="198"/>
                    </a:lnTo>
                    <a:lnTo>
                      <a:pt x="1549" y="72"/>
                    </a:lnTo>
                    <a:lnTo>
                      <a:pt x="1509" y="16"/>
                    </a:lnTo>
                    <a:lnTo>
                      <a:pt x="1443" y="0"/>
                    </a:lnTo>
                    <a:lnTo>
                      <a:pt x="1357" y="26"/>
                    </a:lnTo>
                    <a:lnTo>
                      <a:pt x="1229" y="34"/>
                    </a:lnTo>
                    <a:lnTo>
                      <a:pt x="1065" y="34"/>
                    </a:lnTo>
                    <a:lnTo>
                      <a:pt x="896" y="10"/>
                    </a:lnTo>
                    <a:lnTo>
                      <a:pt x="782" y="16"/>
                    </a:lnTo>
                    <a:lnTo>
                      <a:pt x="724" y="38"/>
                    </a:lnTo>
                    <a:lnTo>
                      <a:pt x="596" y="100"/>
                    </a:lnTo>
                    <a:lnTo>
                      <a:pt x="350" y="168"/>
                    </a:lnTo>
                    <a:lnTo>
                      <a:pt x="114" y="246"/>
                    </a:lnTo>
                    <a:lnTo>
                      <a:pt x="48" y="328"/>
                    </a:lnTo>
                    <a:lnTo>
                      <a:pt x="6" y="438"/>
                    </a:lnTo>
                    <a:lnTo>
                      <a:pt x="0" y="658"/>
                    </a:lnTo>
                    <a:lnTo>
                      <a:pt x="10" y="866"/>
                    </a:lnTo>
                    <a:lnTo>
                      <a:pt x="18" y="1080"/>
                    </a:lnTo>
                    <a:lnTo>
                      <a:pt x="56" y="1203"/>
                    </a:lnTo>
                    <a:lnTo>
                      <a:pt x="94" y="1269"/>
                    </a:lnTo>
                    <a:lnTo>
                      <a:pt x="160" y="1291"/>
                    </a:lnTo>
                    <a:lnTo>
                      <a:pt x="198" y="1279"/>
                    </a:lnTo>
                    <a:lnTo>
                      <a:pt x="138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227040" y="3097080"/>
                <a:ext cx="2218680" cy="1872360"/>
              </a:xfrm>
              <a:custGeom>
                <a:avLst/>
                <a:gdLst/>
                <a:ahLst/>
                <a:rect l="l" t="t" r="r" b="b"/>
                <a:pathLst>
                  <a:path w="1413" h="1287">
                    <a:moveTo>
                      <a:pt x="22" y="1221"/>
                    </a:moveTo>
                    <a:lnTo>
                      <a:pt x="258" y="1237"/>
                    </a:lnTo>
                    <a:lnTo>
                      <a:pt x="588" y="1245"/>
                    </a:lnTo>
                    <a:lnTo>
                      <a:pt x="851" y="1245"/>
                    </a:lnTo>
                    <a:lnTo>
                      <a:pt x="1087" y="1217"/>
                    </a:lnTo>
                    <a:lnTo>
                      <a:pt x="1243" y="1193"/>
                    </a:lnTo>
                    <a:lnTo>
                      <a:pt x="1287" y="1171"/>
                    </a:lnTo>
                    <a:lnTo>
                      <a:pt x="1287" y="1058"/>
                    </a:lnTo>
                    <a:lnTo>
                      <a:pt x="1229" y="754"/>
                    </a:lnTo>
                    <a:lnTo>
                      <a:pt x="1163" y="386"/>
                    </a:lnTo>
                    <a:lnTo>
                      <a:pt x="1129" y="252"/>
                    </a:lnTo>
                    <a:lnTo>
                      <a:pt x="1097" y="202"/>
                    </a:lnTo>
                    <a:lnTo>
                      <a:pt x="692" y="246"/>
                    </a:lnTo>
                    <a:lnTo>
                      <a:pt x="294" y="256"/>
                    </a:lnTo>
                    <a:lnTo>
                      <a:pt x="76" y="262"/>
                    </a:lnTo>
                    <a:lnTo>
                      <a:pt x="0" y="272"/>
                    </a:lnTo>
                    <a:lnTo>
                      <a:pt x="42" y="218"/>
                    </a:lnTo>
                    <a:lnTo>
                      <a:pt x="136" y="228"/>
                    </a:lnTo>
                    <a:lnTo>
                      <a:pt x="408" y="218"/>
                    </a:lnTo>
                    <a:lnTo>
                      <a:pt x="666" y="202"/>
                    </a:lnTo>
                    <a:lnTo>
                      <a:pt x="893" y="184"/>
                    </a:lnTo>
                    <a:lnTo>
                      <a:pt x="1111" y="164"/>
                    </a:lnTo>
                    <a:lnTo>
                      <a:pt x="1281" y="86"/>
                    </a:lnTo>
                    <a:lnTo>
                      <a:pt x="1375" y="0"/>
                    </a:lnTo>
                    <a:lnTo>
                      <a:pt x="1413" y="42"/>
                    </a:lnTo>
                    <a:lnTo>
                      <a:pt x="1325" y="94"/>
                    </a:lnTo>
                    <a:lnTo>
                      <a:pt x="1195" y="180"/>
                    </a:lnTo>
                    <a:lnTo>
                      <a:pt x="1155" y="208"/>
                    </a:lnTo>
                    <a:lnTo>
                      <a:pt x="1201" y="404"/>
                    </a:lnTo>
                    <a:lnTo>
                      <a:pt x="1239" y="594"/>
                    </a:lnTo>
                    <a:lnTo>
                      <a:pt x="1271" y="768"/>
                    </a:lnTo>
                    <a:lnTo>
                      <a:pt x="1299" y="934"/>
                    </a:lnTo>
                    <a:lnTo>
                      <a:pt x="1325" y="1058"/>
                    </a:lnTo>
                    <a:lnTo>
                      <a:pt x="1337" y="1163"/>
                    </a:lnTo>
                    <a:lnTo>
                      <a:pt x="1319" y="1221"/>
                    </a:lnTo>
                    <a:lnTo>
                      <a:pt x="1139" y="1265"/>
                    </a:lnTo>
                    <a:lnTo>
                      <a:pt x="824" y="1287"/>
                    </a:lnTo>
                    <a:lnTo>
                      <a:pt x="492" y="1275"/>
                    </a:lnTo>
                    <a:lnTo>
                      <a:pt x="250" y="1275"/>
                    </a:lnTo>
                    <a:lnTo>
                      <a:pt x="50" y="1269"/>
                    </a:lnTo>
                    <a:lnTo>
                      <a:pt x="22" y="1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474720" y="3569040"/>
                <a:ext cx="1531440" cy="1196280"/>
              </a:xfrm>
              <a:custGeom>
                <a:avLst/>
                <a:gdLst/>
                <a:ahLst/>
                <a:rect l="l" t="t" r="r" b="b"/>
                <a:pathLst>
                  <a:path w="975" h="824">
                    <a:moveTo>
                      <a:pt x="0" y="22"/>
                    </a:moveTo>
                    <a:lnTo>
                      <a:pt x="324" y="10"/>
                    </a:lnTo>
                    <a:lnTo>
                      <a:pt x="546" y="0"/>
                    </a:lnTo>
                    <a:lnTo>
                      <a:pt x="793" y="4"/>
                    </a:lnTo>
                    <a:lnTo>
                      <a:pt x="831" y="32"/>
                    </a:lnTo>
                    <a:lnTo>
                      <a:pt x="861" y="76"/>
                    </a:lnTo>
                    <a:lnTo>
                      <a:pt x="915" y="308"/>
                    </a:lnTo>
                    <a:lnTo>
                      <a:pt x="955" y="572"/>
                    </a:lnTo>
                    <a:lnTo>
                      <a:pt x="975" y="754"/>
                    </a:lnTo>
                    <a:lnTo>
                      <a:pt x="955" y="812"/>
                    </a:lnTo>
                    <a:lnTo>
                      <a:pt x="905" y="824"/>
                    </a:lnTo>
                    <a:lnTo>
                      <a:pt x="620" y="792"/>
                    </a:lnTo>
                    <a:lnTo>
                      <a:pt x="917" y="766"/>
                    </a:lnTo>
                    <a:lnTo>
                      <a:pt x="933" y="758"/>
                    </a:lnTo>
                    <a:lnTo>
                      <a:pt x="927" y="634"/>
                    </a:lnTo>
                    <a:lnTo>
                      <a:pt x="905" y="458"/>
                    </a:lnTo>
                    <a:lnTo>
                      <a:pt x="857" y="220"/>
                    </a:lnTo>
                    <a:lnTo>
                      <a:pt x="819" y="70"/>
                    </a:lnTo>
                    <a:lnTo>
                      <a:pt x="781" y="48"/>
                    </a:lnTo>
                    <a:lnTo>
                      <a:pt x="604" y="38"/>
                    </a:lnTo>
                    <a:lnTo>
                      <a:pt x="362" y="48"/>
                    </a:lnTo>
                    <a:lnTo>
                      <a:pt x="162" y="4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17400" y="3586320"/>
                <a:ext cx="1522440" cy="1164600"/>
              </a:xfrm>
              <a:custGeom>
                <a:avLst/>
                <a:gdLst/>
                <a:ahLst/>
                <a:rect l="l" t="t" r="r" b="b"/>
                <a:pathLst>
                  <a:path w="969" h="802">
                    <a:moveTo>
                      <a:pt x="448" y="0"/>
                    </a:moveTo>
                    <a:lnTo>
                      <a:pt x="134" y="0"/>
                    </a:lnTo>
                    <a:lnTo>
                      <a:pt x="44" y="10"/>
                    </a:lnTo>
                    <a:lnTo>
                      <a:pt x="28" y="44"/>
                    </a:lnTo>
                    <a:lnTo>
                      <a:pt x="10" y="114"/>
                    </a:lnTo>
                    <a:lnTo>
                      <a:pt x="0" y="302"/>
                    </a:lnTo>
                    <a:lnTo>
                      <a:pt x="10" y="486"/>
                    </a:lnTo>
                    <a:lnTo>
                      <a:pt x="34" y="668"/>
                    </a:lnTo>
                    <a:lnTo>
                      <a:pt x="74" y="742"/>
                    </a:lnTo>
                    <a:lnTo>
                      <a:pt x="92" y="760"/>
                    </a:lnTo>
                    <a:lnTo>
                      <a:pt x="292" y="780"/>
                    </a:lnTo>
                    <a:lnTo>
                      <a:pt x="550" y="790"/>
                    </a:lnTo>
                    <a:lnTo>
                      <a:pt x="742" y="792"/>
                    </a:lnTo>
                    <a:lnTo>
                      <a:pt x="969" y="802"/>
                    </a:lnTo>
                    <a:lnTo>
                      <a:pt x="959" y="774"/>
                    </a:lnTo>
                    <a:lnTo>
                      <a:pt x="782" y="760"/>
                    </a:lnTo>
                    <a:lnTo>
                      <a:pt x="550" y="744"/>
                    </a:lnTo>
                    <a:lnTo>
                      <a:pt x="228" y="742"/>
                    </a:lnTo>
                    <a:lnTo>
                      <a:pt x="112" y="706"/>
                    </a:lnTo>
                    <a:lnTo>
                      <a:pt x="76" y="678"/>
                    </a:lnTo>
                    <a:lnTo>
                      <a:pt x="64" y="626"/>
                    </a:lnTo>
                    <a:lnTo>
                      <a:pt x="48" y="474"/>
                    </a:lnTo>
                    <a:lnTo>
                      <a:pt x="44" y="284"/>
                    </a:lnTo>
                    <a:lnTo>
                      <a:pt x="58" y="92"/>
                    </a:lnTo>
                    <a:lnTo>
                      <a:pt x="76" y="48"/>
                    </a:lnTo>
                    <a:lnTo>
                      <a:pt x="286" y="2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4" name=""/>
          <p:cNvSpPr/>
          <p:nvPr/>
        </p:nvSpPr>
        <p:spPr>
          <a:xfrm>
            <a:off x="3200400" y="3595680"/>
            <a:ext cx="167652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-=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3897360"/>
            <a:ext cx="167652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1830240" y="4056120"/>
            <a:ext cx="912960" cy="1859040"/>
            <a:chOff x="1830240" y="4056120"/>
            <a:chExt cx="912960" cy="1859040"/>
          </a:xfrm>
        </p:grpSpPr>
        <p:sp>
          <p:nvSpPr>
            <p:cNvPr id="1637" name=""/>
            <p:cNvSpPr/>
            <p:nvPr/>
          </p:nvSpPr>
          <p:spPr>
            <a:xfrm>
              <a:off x="2120760" y="4160880"/>
              <a:ext cx="357480" cy="404640"/>
            </a:xfrm>
            <a:custGeom>
              <a:avLst/>
              <a:gdLst/>
              <a:ahLst/>
              <a:rect l="l" t="t" r="r" b="b"/>
              <a:pathLst>
                <a:path w="675" h="511">
                  <a:moveTo>
                    <a:pt x="352" y="118"/>
                  </a:moveTo>
                  <a:lnTo>
                    <a:pt x="293" y="65"/>
                  </a:lnTo>
                  <a:lnTo>
                    <a:pt x="210" y="26"/>
                  </a:lnTo>
                  <a:lnTo>
                    <a:pt x="136" y="0"/>
                  </a:lnTo>
                  <a:lnTo>
                    <a:pt x="77" y="7"/>
                  </a:lnTo>
                  <a:lnTo>
                    <a:pt x="34" y="36"/>
                  </a:lnTo>
                  <a:lnTo>
                    <a:pt x="0" y="125"/>
                  </a:lnTo>
                  <a:lnTo>
                    <a:pt x="14" y="227"/>
                  </a:lnTo>
                  <a:lnTo>
                    <a:pt x="49" y="324"/>
                  </a:lnTo>
                  <a:lnTo>
                    <a:pt x="88" y="400"/>
                  </a:lnTo>
                  <a:lnTo>
                    <a:pt x="161" y="479"/>
                  </a:lnTo>
                  <a:lnTo>
                    <a:pt x="225" y="511"/>
                  </a:lnTo>
                  <a:lnTo>
                    <a:pt x="312" y="511"/>
                  </a:lnTo>
                  <a:lnTo>
                    <a:pt x="401" y="489"/>
                  </a:lnTo>
                  <a:lnTo>
                    <a:pt x="445" y="432"/>
                  </a:lnTo>
                  <a:lnTo>
                    <a:pt x="469" y="361"/>
                  </a:lnTo>
                  <a:lnTo>
                    <a:pt x="460" y="272"/>
                  </a:lnTo>
                  <a:lnTo>
                    <a:pt x="665" y="282"/>
                  </a:lnTo>
                  <a:lnTo>
                    <a:pt x="675" y="243"/>
                  </a:lnTo>
                  <a:lnTo>
                    <a:pt x="440" y="227"/>
                  </a:lnTo>
                  <a:lnTo>
                    <a:pt x="381" y="135"/>
                  </a:lnTo>
                  <a:lnTo>
                    <a:pt x="352" y="1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830240" y="4056120"/>
              <a:ext cx="411480" cy="650880"/>
            </a:xfrm>
            <a:custGeom>
              <a:avLst/>
              <a:gdLst/>
              <a:ahLst/>
              <a:rect l="l" t="t" r="r" b="b"/>
              <a:pathLst>
                <a:path w="777" h="819">
                  <a:moveTo>
                    <a:pt x="453" y="19"/>
                  </a:moveTo>
                  <a:lnTo>
                    <a:pt x="551" y="0"/>
                  </a:lnTo>
                  <a:lnTo>
                    <a:pt x="629" y="3"/>
                  </a:lnTo>
                  <a:lnTo>
                    <a:pt x="688" y="32"/>
                  </a:lnTo>
                  <a:lnTo>
                    <a:pt x="728" y="78"/>
                  </a:lnTo>
                  <a:lnTo>
                    <a:pt x="713" y="127"/>
                  </a:lnTo>
                  <a:lnTo>
                    <a:pt x="659" y="127"/>
                  </a:lnTo>
                  <a:lnTo>
                    <a:pt x="673" y="87"/>
                  </a:lnTo>
                  <a:lnTo>
                    <a:pt x="629" y="52"/>
                  </a:lnTo>
                  <a:lnTo>
                    <a:pt x="586" y="39"/>
                  </a:lnTo>
                  <a:lnTo>
                    <a:pt x="512" y="52"/>
                  </a:lnTo>
                  <a:lnTo>
                    <a:pt x="542" y="91"/>
                  </a:lnTo>
                  <a:lnTo>
                    <a:pt x="551" y="127"/>
                  </a:lnTo>
                  <a:lnTo>
                    <a:pt x="542" y="157"/>
                  </a:lnTo>
                  <a:lnTo>
                    <a:pt x="468" y="170"/>
                  </a:lnTo>
                  <a:lnTo>
                    <a:pt x="390" y="160"/>
                  </a:lnTo>
                  <a:lnTo>
                    <a:pt x="375" y="137"/>
                  </a:lnTo>
                  <a:lnTo>
                    <a:pt x="292" y="199"/>
                  </a:lnTo>
                  <a:lnTo>
                    <a:pt x="244" y="268"/>
                  </a:lnTo>
                  <a:lnTo>
                    <a:pt x="176" y="357"/>
                  </a:lnTo>
                  <a:lnTo>
                    <a:pt x="131" y="435"/>
                  </a:lnTo>
                  <a:lnTo>
                    <a:pt x="112" y="511"/>
                  </a:lnTo>
                  <a:lnTo>
                    <a:pt x="127" y="550"/>
                  </a:lnTo>
                  <a:lnTo>
                    <a:pt x="205" y="600"/>
                  </a:lnTo>
                  <a:lnTo>
                    <a:pt x="366" y="642"/>
                  </a:lnTo>
                  <a:lnTo>
                    <a:pt x="453" y="661"/>
                  </a:lnTo>
                  <a:lnTo>
                    <a:pt x="542" y="671"/>
                  </a:lnTo>
                  <a:lnTo>
                    <a:pt x="673" y="707"/>
                  </a:lnTo>
                  <a:lnTo>
                    <a:pt x="771" y="731"/>
                  </a:lnTo>
                  <a:lnTo>
                    <a:pt x="777" y="776"/>
                  </a:lnTo>
                  <a:lnTo>
                    <a:pt x="728" y="809"/>
                  </a:lnTo>
                  <a:lnTo>
                    <a:pt x="669" y="819"/>
                  </a:lnTo>
                  <a:lnTo>
                    <a:pt x="580" y="789"/>
                  </a:lnTo>
                  <a:lnTo>
                    <a:pt x="375" y="718"/>
                  </a:lnTo>
                  <a:lnTo>
                    <a:pt x="205" y="668"/>
                  </a:lnTo>
                  <a:lnTo>
                    <a:pt x="87" y="613"/>
                  </a:lnTo>
                  <a:lnTo>
                    <a:pt x="9" y="563"/>
                  </a:lnTo>
                  <a:lnTo>
                    <a:pt x="0" y="504"/>
                  </a:lnTo>
                  <a:lnTo>
                    <a:pt x="43" y="425"/>
                  </a:lnTo>
                  <a:lnTo>
                    <a:pt x="131" y="307"/>
                  </a:lnTo>
                  <a:lnTo>
                    <a:pt x="214" y="209"/>
                  </a:lnTo>
                  <a:lnTo>
                    <a:pt x="317" y="108"/>
                  </a:lnTo>
                  <a:lnTo>
                    <a:pt x="396" y="48"/>
                  </a:lnTo>
                  <a:lnTo>
                    <a:pt x="493" y="19"/>
                  </a:lnTo>
                  <a:lnTo>
                    <a:pt x="453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217600" y="4595760"/>
              <a:ext cx="216000" cy="611280"/>
            </a:xfrm>
            <a:custGeom>
              <a:avLst/>
              <a:gdLst/>
              <a:ahLst/>
              <a:rect l="l" t="t" r="r" b="b"/>
              <a:pathLst>
                <a:path w="406" h="770">
                  <a:moveTo>
                    <a:pt x="25" y="60"/>
                  </a:moveTo>
                  <a:lnTo>
                    <a:pt x="39" y="20"/>
                  </a:lnTo>
                  <a:lnTo>
                    <a:pt x="103" y="0"/>
                  </a:lnTo>
                  <a:lnTo>
                    <a:pt x="160" y="0"/>
                  </a:lnTo>
                  <a:lnTo>
                    <a:pt x="234" y="29"/>
                  </a:lnTo>
                  <a:lnTo>
                    <a:pt x="304" y="99"/>
                  </a:lnTo>
                  <a:lnTo>
                    <a:pt x="352" y="171"/>
                  </a:lnTo>
                  <a:lnTo>
                    <a:pt x="376" y="268"/>
                  </a:lnTo>
                  <a:lnTo>
                    <a:pt x="397" y="383"/>
                  </a:lnTo>
                  <a:lnTo>
                    <a:pt x="406" y="494"/>
                  </a:lnTo>
                  <a:lnTo>
                    <a:pt x="406" y="639"/>
                  </a:lnTo>
                  <a:lnTo>
                    <a:pt x="376" y="727"/>
                  </a:lnTo>
                  <a:lnTo>
                    <a:pt x="323" y="760"/>
                  </a:lnTo>
                  <a:lnTo>
                    <a:pt x="230" y="770"/>
                  </a:lnTo>
                  <a:lnTo>
                    <a:pt x="132" y="767"/>
                  </a:lnTo>
                  <a:lnTo>
                    <a:pt x="82" y="727"/>
                  </a:lnTo>
                  <a:lnTo>
                    <a:pt x="54" y="659"/>
                  </a:lnTo>
                  <a:lnTo>
                    <a:pt x="29" y="590"/>
                  </a:lnTo>
                  <a:lnTo>
                    <a:pt x="10" y="465"/>
                  </a:lnTo>
                  <a:lnTo>
                    <a:pt x="0" y="325"/>
                  </a:lnTo>
                  <a:lnTo>
                    <a:pt x="0" y="161"/>
                  </a:lnTo>
                  <a:lnTo>
                    <a:pt x="25" y="89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317680" y="4613400"/>
              <a:ext cx="327240" cy="468360"/>
            </a:xfrm>
            <a:custGeom>
              <a:avLst/>
              <a:gdLst/>
              <a:ahLst/>
              <a:rect l="l" t="t" r="r" b="b"/>
              <a:pathLst>
                <a:path w="620" h="591">
                  <a:moveTo>
                    <a:pt x="34" y="0"/>
                  </a:moveTo>
                  <a:lnTo>
                    <a:pt x="161" y="11"/>
                  </a:lnTo>
                  <a:lnTo>
                    <a:pt x="293" y="27"/>
                  </a:lnTo>
                  <a:lnTo>
                    <a:pt x="430" y="79"/>
                  </a:lnTo>
                  <a:lnTo>
                    <a:pt x="527" y="118"/>
                  </a:lnTo>
                  <a:lnTo>
                    <a:pt x="591" y="175"/>
                  </a:lnTo>
                  <a:lnTo>
                    <a:pt x="620" y="207"/>
                  </a:lnTo>
                  <a:lnTo>
                    <a:pt x="561" y="303"/>
                  </a:lnTo>
                  <a:lnTo>
                    <a:pt x="468" y="361"/>
                  </a:lnTo>
                  <a:lnTo>
                    <a:pt x="356" y="404"/>
                  </a:lnTo>
                  <a:lnTo>
                    <a:pt x="297" y="430"/>
                  </a:lnTo>
                  <a:lnTo>
                    <a:pt x="195" y="443"/>
                  </a:lnTo>
                  <a:lnTo>
                    <a:pt x="191" y="469"/>
                  </a:lnTo>
                  <a:lnTo>
                    <a:pt x="269" y="492"/>
                  </a:lnTo>
                  <a:lnTo>
                    <a:pt x="381" y="513"/>
                  </a:lnTo>
                  <a:lnTo>
                    <a:pt x="487" y="552"/>
                  </a:lnTo>
                  <a:lnTo>
                    <a:pt x="445" y="581"/>
                  </a:lnTo>
                  <a:lnTo>
                    <a:pt x="400" y="591"/>
                  </a:lnTo>
                  <a:lnTo>
                    <a:pt x="337" y="548"/>
                  </a:lnTo>
                  <a:lnTo>
                    <a:pt x="239" y="522"/>
                  </a:lnTo>
                  <a:lnTo>
                    <a:pt x="161" y="503"/>
                  </a:lnTo>
                  <a:lnTo>
                    <a:pt x="161" y="463"/>
                  </a:lnTo>
                  <a:lnTo>
                    <a:pt x="176" y="421"/>
                  </a:lnTo>
                  <a:lnTo>
                    <a:pt x="225" y="404"/>
                  </a:lnTo>
                  <a:lnTo>
                    <a:pt x="381" y="361"/>
                  </a:lnTo>
                  <a:lnTo>
                    <a:pt x="468" y="296"/>
                  </a:lnTo>
                  <a:lnTo>
                    <a:pt x="532" y="227"/>
                  </a:lnTo>
                  <a:lnTo>
                    <a:pt x="517" y="194"/>
                  </a:lnTo>
                  <a:lnTo>
                    <a:pt x="468" y="155"/>
                  </a:lnTo>
                  <a:lnTo>
                    <a:pt x="352" y="99"/>
                  </a:lnTo>
                  <a:lnTo>
                    <a:pt x="210" y="79"/>
                  </a:lnTo>
                  <a:lnTo>
                    <a:pt x="117" y="76"/>
                  </a:lnTo>
                  <a:lnTo>
                    <a:pt x="34" y="76"/>
                  </a:lnTo>
                  <a:lnTo>
                    <a:pt x="0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43240" y="5143320"/>
              <a:ext cx="399960" cy="758880"/>
            </a:xfrm>
            <a:custGeom>
              <a:avLst/>
              <a:gdLst/>
              <a:ahLst/>
              <a:rect l="l" t="t" r="r" b="b"/>
              <a:pathLst>
                <a:path w="755" h="955">
                  <a:moveTo>
                    <a:pt x="87" y="0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49" y="109"/>
                  </a:lnTo>
                  <a:lnTo>
                    <a:pt x="205" y="204"/>
                  </a:lnTo>
                  <a:lnTo>
                    <a:pt x="342" y="325"/>
                  </a:lnTo>
                  <a:lnTo>
                    <a:pt x="431" y="450"/>
                  </a:lnTo>
                  <a:lnTo>
                    <a:pt x="444" y="531"/>
                  </a:lnTo>
                  <a:lnTo>
                    <a:pt x="440" y="591"/>
                  </a:lnTo>
                  <a:lnTo>
                    <a:pt x="402" y="725"/>
                  </a:lnTo>
                  <a:lnTo>
                    <a:pt x="351" y="834"/>
                  </a:lnTo>
                  <a:lnTo>
                    <a:pt x="308" y="896"/>
                  </a:lnTo>
                  <a:lnTo>
                    <a:pt x="298" y="936"/>
                  </a:lnTo>
                  <a:lnTo>
                    <a:pt x="342" y="936"/>
                  </a:lnTo>
                  <a:lnTo>
                    <a:pt x="410" y="923"/>
                  </a:lnTo>
                  <a:lnTo>
                    <a:pt x="431" y="926"/>
                  </a:lnTo>
                  <a:lnTo>
                    <a:pt x="573" y="932"/>
                  </a:lnTo>
                  <a:lnTo>
                    <a:pt x="681" y="955"/>
                  </a:lnTo>
                  <a:lnTo>
                    <a:pt x="719" y="942"/>
                  </a:lnTo>
                  <a:lnTo>
                    <a:pt x="755" y="892"/>
                  </a:lnTo>
                  <a:lnTo>
                    <a:pt x="719" y="866"/>
                  </a:lnTo>
                  <a:lnTo>
                    <a:pt x="558" y="863"/>
                  </a:lnTo>
                  <a:lnTo>
                    <a:pt x="444" y="873"/>
                  </a:lnTo>
                  <a:lnTo>
                    <a:pt x="387" y="892"/>
                  </a:lnTo>
                  <a:lnTo>
                    <a:pt x="396" y="847"/>
                  </a:lnTo>
                  <a:lnTo>
                    <a:pt x="455" y="777"/>
                  </a:lnTo>
                  <a:lnTo>
                    <a:pt x="503" y="670"/>
                  </a:lnTo>
                  <a:lnTo>
                    <a:pt x="543" y="578"/>
                  </a:lnTo>
                  <a:lnTo>
                    <a:pt x="514" y="473"/>
                  </a:lnTo>
                  <a:lnTo>
                    <a:pt x="469" y="361"/>
                  </a:lnTo>
                  <a:lnTo>
                    <a:pt x="381" y="233"/>
                  </a:lnTo>
                  <a:lnTo>
                    <a:pt x="254" y="115"/>
                  </a:lnTo>
                  <a:lnTo>
                    <a:pt x="146" y="2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092320" y="5141880"/>
              <a:ext cx="268200" cy="773280"/>
            </a:xfrm>
            <a:custGeom>
              <a:avLst/>
              <a:gdLst/>
              <a:ahLst/>
              <a:rect l="l" t="t" r="r" b="b"/>
              <a:pathLst>
                <a:path w="508" h="973">
                  <a:moveTo>
                    <a:pt x="351" y="0"/>
                  </a:moveTo>
                  <a:lnTo>
                    <a:pt x="288" y="92"/>
                  </a:lnTo>
                  <a:lnTo>
                    <a:pt x="243" y="226"/>
                  </a:lnTo>
                  <a:lnTo>
                    <a:pt x="190" y="374"/>
                  </a:lnTo>
                  <a:lnTo>
                    <a:pt x="142" y="524"/>
                  </a:lnTo>
                  <a:lnTo>
                    <a:pt x="142" y="580"/>
                  </a:lnTo>
                  <a:lnTo>
                    <a:pt x="190" y="679"/>
                  </a:lnTo>
                  <a:lnTo>
                    <a:pt x="258" y="731"/>
                  </a:lnTo>
                  <a:lnTo>
                    <a:pt x="322" y="797"/>
                  </a:lnTo>
                  <a:lnTo>
                    <a:pt x="366" y="845"/>
                  </a:lnTo>
                  <a:lnTo>
                    <a:pt x="347" y="868"/>
                  </a:lnTo>
                  <a:lnTo>
                    <a:pt x="235" y="878"/>
                  </a:lnTo>
                  <a:lnTo>
                    <a:pt x="53" y="897"/>
                  </a:lnTo>
                  <a:lnTo>
                    <a:pt x="0" y="928"/>
                  </a:lnTo>
                  <a:lnTo>
                    <a:pt x="44" y="954"/>
                  </a:lnTo>
                  <a:lnTo>
                    <a:pt x="146" y="973"/>
                  </a:lnTo>
                  <a:lnTo>
                    <a:pt x="264" y="934"/>
                  </a:lnTo>
                  <a:lnTo>
                    <a:pt x="351" y="907"/>
                  </a:lnTo>
                  <a:lnTo>
                    <a:pt x="463" y="897"/>
                  </a:lnTo>
                  <a:lnTo>
                    <a:pt x="508" y="888"/>
                  </a:lnTo>
                  <a:lnTo>
                    <a:pt x="493" y="855"/>
                  </a:lnTo>
                  <a:lnTo>
                    <a:pt x="366" y="770"/>
                  </a:lnTo>
                  <a:lnTo>
                    <a:pt x="292" y="682"/>
                  </a:lnTo>
                  <a:lnTo>
                    <a:pt x="229" y="622"/>
                  </a:lnTo>
                  <a:lnTo>
                    <a:pt x="220" y="564"/>
                  </a:lnTo>
                  <a:lnTo>
                    <a:pt x="249" y="466"/>
                  </a:lnTo>
                  <a:lnTo>
                    <a:pt x="317" y="364"/>
                  </a:lnTo>
                  <a:lnTo>
                    <a:pt x="391" y="191"/>
                  </a:lnTo>
                  <a:lnTo>
                    <a:pt x="455" y="89"/>
                  </a:lnTo>
                  <a:lnTo>
                    <a:pt x="449" y="29"/>
                  </a:lnTo>
                  <a:lnTo>
                    <a:pt x="391" y="0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334120" y="4186080"/>
            <a:ext cx="1185840" cy="1771560"/>
            <a:chOff x="5334120" y="4186080"/>
            <a:chExt cx="1185840" cy="1771560"/>
          </a:xfrm>
        </p:grpSpPr>
        <p:sp>
          <p:nvSpPr>
            <p:cNvPr id="1644" name=""/>
            <p:cNvSpPr/>
            <p:nvPr/>
          </p:nvSpPr>
          <p:spPr>
            <a:xfrm>
              <a:off x="5859360" y="4186080"/>
              <a:ext cx="360360" cy="395280"/>
            </a:xfrm>
            <a:custGeom>
              <a:avLst/>
              <a:gdLst/>
              <a:ahLst/>
              <a:rect l="l" t="t" r="r" b="b"/>
              <a:pathLst>
                <a:path w="680" h="746">
                  <a:moveTo>
                    <a:pt x="182" y="507"/>
                  </a:moveTo>
                  <a:lnTo>
                    <a:pt x="126" y="372"/>
                  </a:lnTo>
                  <a:lnTo>
                    <a:pt x="80" y="203"/>
                  </a:lnTo>
                  <a:lnTo>
                    <a:pt x="92" y="113"/>
                  </a:lnTo>
                  <a:lnTo>
                    <a:pt x="137" y="45"/>
                  </a:lnTo>
                  <a:lnTo>
                    <a:pt x="261" y="0"/>
                  </a:lnTo>
                  <a:lnTo>
                    <a:pt x="408" y="33"/>
                  </a:lnTo>
                  <a:lnTo>
                    <a:pt x="522" y="123"/>
                  </a:lnTo>
                  <a:lnTo>
                    <a:pt x="579" y="203"/>
                  </a:lnTo>
                  <a:lnTo>
                    <a:pt x="647" y="338"/>
                  </a:lnTo>
                  <a:lnTo>
                    <a:pt x="680" y="452"/>
                  </a:lnTo>
                  <a:lnTo>
                    <a:pt x="680" y="564"/>
                  </a:lnTo>
                  <a:lnTo>
                    <a:pt x="635" y="699"/>
                  </a:lnTo>
                  <a:lnTo>
                    <a:pt x="567" y="722"/>
                  </a:lnTo>
                  <a:lnTo>
                    <a:pt x="477" y="746"/>
                  </a:lnTo>
                  <a:lnTo>
                    <a:pt x="386" y="722"/>
                  </a:lnTo>
                  <a:lnTo>
                    <a:pt x="284" y="666"/>
                  </a:lnTo>
                  <a:lnTo>
                    <a:pt x="227" y="599"/>
                  </a:lnTo>
                  <a:lnTo>
                    <a:pt x="92" y="711"/>
                  </a:lnTo>
                  <a:lnTo>
                    <a:pt x="47" y="711"/>
                  </a:lnTo>
                  <a:lnTo>
                    <a:pt x="12" y="654"/>
                  </a:lnTo>
                  <a:lnTo>
                    <a:pt x="0" y="621"/>
                  </a:lnTo>
                  <a:lnTo>
                    <a:pt x="194" y="542"/>
                  </a:lnTo>
                  <a:lnTo>
                    <a:pt x="182" y="50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34120" y="4628880"/>
              <a:ext cx="831600" cy="436680"/>
            </a:xfrm>
            <a:custGeom>
              <a:avLst/>
              <a:gdLst/>
              <a:ahLst/>
              <a:rect l="l" t="t" r="r" b="b"/>
              <a:pathLst>
                <a:path w="1573" h="825">
                  <a:moveTo>
                    <a:pt x="1300" y="135"/>
                  </a:moveTo>
                  <a:lnTo>
                    <a:pt x="1414" y="35"/>
                  </a:lnTo>
                  <a:lnTo>
                    <a:pt x="1504" y="0"/>
                  </a:lnTo>
                  <a:lnTo>
                    <a:pt x="1561" y="12"/>
                  </a:lnTo>
                  <a:lnTo>
                    <a:pt x="1573" y="102"/>
                  </a:lnTo>
                  <a:lnTo>
                    <a:pt x="1516" y="192"/>
                  </a:lnTo>
                  <a:lnTo>
                    <a:pt x="1369" y="259"/>
                  </a:lnTo>
                  <a:lnTo>
                    <a:pt x="1108" y="373"/>
                  </a:lnTo>
                  <a:lnTo>
                    <a:pt x="825" y="543"/>
                  </a:lnTo>
                  <a:lnTo>
                    <a:pt x="554" y="621"/>
                  </a:lnTo>
                  <a:lnTo>
                    <a:pt x="384" y="690"/>
                  </a:lnTo>
                  <a:lnTo>
                    <a:pt x="260" y="790"/>
                  </a:lnTo>
                  <a:lnTo>
                    <a:pt x="170" y="825"/>
                  </a:lnTo>
                  <a:lnTo>
                    <a:pt x="23" y="790"/>
                  </a:lnTo>
                  <a:lnTo>
                    <a:pt x="0" y="678"/>
                  </a:lnTo>
                  <a:lnTo>
                    <a:pt x="0" y="543"/>
                  </a:lnTo>
                  <a:lnTo>
                    <a:pt x="125" y="543"/>
                  </a:lnTo>
                  <a:lnTo>
                    <a:pt x="225" y="621"/>
                  </a:lnTo>
                  <a:lnTo>
                    <a:pt x="339" y="621"/>
                  </a:lnTo>
                  <a:lnTo>
                    <a:pt x="566" y="565"/>
                  </a:lnTo>
                  <a:lnTo>
                    <a:pt x="780" y="451"/>
                  </a:lnTo>
                  <a:lnTo>
                    <a:pt x="927" y="396"/>
                  </a:lnTo>
                  <a:lnTo>
                    <a:pt x="1143" y="294"/>
                  </a:lnTo>
                  <a:lnTo>
                    <a:pt x="1267" y="182"/>
                  </a:lnTo>
                  <a:lnTo>
                    <a:pt x="1300" y="1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753160" y="4605120"/>
              <a:ext cx="766800" cy="1352520"/>
              <a:chOff x="5753160" y="4605120"/>
              <a:chExt cx="766800" cy="1352520"/>
            </a:xfrm>
          </p:grpSpPr>
          <p:sp>
            <p:nvSpPr>
              <p:cNvPr id="1647" name=""/>
              <p:cNvSpPr/>
              <p:nvPr/>
            </p:nvSpPr>
            <p:spPr>
              <a:xfrm>
                <a:off x="6100920" y="4605120"/>
                <a:ext cx="280800" cy="641160"/>
              </a:xfrm>
              <a:custGeom>
                <a:avLst/>
                <a:gdLst/>
                <a:ahLst/>
                <a:rect l="l" t="t" r="r" b="b"/>
                <a:pathLst>
                  <a:path w="531" h="1210">
                    <a:moveTo>
                      <a:pt x="34" y="78"/>
                    </a:moveTo>
                    <a:lnTo>
                      <a:pt x="102" y="11"/>
                    </a:lnTo>
                    <a:lnTo>
                      <a:pt x="169" y="0"/>
                    </a:lnTo>
                    <a:lnTo>
                      <a:pt x="259" y="23"/>
                    </a:lnTo>
                    <a:lnTo>
                      <a:pt x="327" y="123"/>
                    </a:lnTo>
                    <a:lnTo>
                      <a:pt x="396" y="294"/>
                    </a:lnTo>
                    <a:lnTo>
                      <a:pt x="441" y="441"/>
                    </a:lnTo>
                    <a:lnTo>
                      <a:pt x="486" y="598"/>
                    </a:lnTo>
                    <a:lnTo>
                      <a:pt x="519" y="757"/>
                    </a:lnTo>
                    <a:lnTo>
                      <a:pt x="531" y="904"/>
                    </a:lnTo>
                    <a:lnTo>
                      <a:pt x="531" y="1006"/>
                    </a:lnTo>
                    <a:lnTo>
                      <a:pt x="486" y="1119"/>
                    </a:lnTo>
                    <a:lnTo>
                      <a:pt x="418" y="1176"/>
                    </a:lnTo>
                    <a:lnTo>
                      <a:pt x="294" y="1210"/>
                    </a:lnTo>
                    <a:lnTo>
                      <a:pt x="169" y="1210"/>
                    </a:lnTo>
                    <a:lnTo>
                      <a:pt x="67" y="1141"/>
                    </a:lnTo>
                    <a:lnTo>
                      <a:pt x="12" y="984"/>
                    </a:lnTo>
                    <a:lnTo>
                      <a:pt x="0" y="790"/>
                    </a:lnTo>
                    <a:lnTo>
                      <a:pt x="0" y="496"/>
                    </a:lnTo>
                    <a:lnTo>
                      <a:pt x="0" y="282"/>
                    </a:lnTo>
                    <a:lnTo>
                      <a:pt x="12" y="15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219720" y="4622400"/>
                <a:ext cx="300240" cy="635040"/>
              </a:xfrm>
              <a:custGeom>
                <a:avLst/>
                <a:gdLst/>
                <a:ahLst/>
                <a:rect l="l" t="t" r="r" b="b"/>
                <a:pathLst>
                  <a:path w="566" h="1200">
                    <a:moveTo>
                      <a:pt x="23" y="0"/>
                    </a:moveTo>
                    <a:lnTo>
                      <a:pt x="78" y="0"/>
                    </a:lnTo>
                    <a:lnTo>
                      <a:pt x="192" y="90"/>
                    </a:lnTo>
                    <a:lnTo>
                      <a:pt x="327" y="227"/>
                    </a:lnTo>
                    <a:lnTo>
                      <a:pt x="464" y="363"/>
                    </a:lnTo>
                    <a:lnTo>
                      <a:pt x="542" y="453"/>
                    </a:lnTo>
                    <a:lnTo>
                      <a:pt x="542" y="498"/>
                    </a:lnTo>
                    <a:lnTo>
                      <a:pt x="531" y="588"/>
                    </a:lnTo>
                    <a:lnTo>
                      <a:pt x="429" y="724"/>
                    </a:lnTo>
                    <a:lnTo>
                      <a:pt x="350" y="826"/>
                    </a:lnTo>
                    <a:lnTo>
                      <a:pt x="317" y="906"/>
                    </a:lnTo>
                    <a:lnTo>
                      <a:pt x="350" y="951"/>
                    </a:lnTo>
                    <a:lnTo>
                      <a:pt x="407" y="1030"/>
                    </a:lnTo>
                    <a:lnTo>
                      <a:pt x="497" y="1075"/>
                    </a:lnTo>
                    <a:lnTo>
                      <a:pt x="554" y="1087"/>
                    </a:lnTo>
                    <a:lnTo>
                      <a:pt x="566" y="1132"/>
                    </a:lnTo>
                    <a:lnTo>
                      <a:pt x="554" y="1200"/>
                    </a:lnTo>
                    <a:lnTo>
                      <a:pt x="452" y="1155"/>
                    </a:lnTo>
                    <a:lnTo>
                      <a:pt x="362" y="1075"/>
                    </a:lnTo>
                    <a:lnTo>
                      <a:pt x="305" y="973"/>
                    </a:lnTo>
                    <a:lnTo>
                      <a:pt x="294" y="883"/>
                    </a:lnTo>
                    <a:lnTo>
                      <a:pt x="294" y="837"/>
                    </a:lnTo>
                    <a:lnTo>
                      <a:pt x="350" y="747"/>
                    </a:lnTo>
                    <a:lnTo>
                      <a:pt x="407" y="679"/>
                    </a:lnTo>
                    <a:lnTo>
                      <a:pt x="452" y="600"/>
                    </a:lnTo>
                    <a:lnTo>
                      <a:pt x="474" y="532"/>
                    </a:lnTo>
                    <a:lnTo>
                      <a:pt x="441" y="487"/>
                    </a:lnTo>
                    <a:lnTo>
                      <a:pt x="372" y="396"/>
                    </a:lnTo>
                    <a:lnTo>
                      <a:pt x="282" y="328"/>
                    </a:lnTo>
                    <a:lnTo>
                      <a:pt x="192" y="249"/>
                    </a:lnTo>
                    <a:lnTo>
                      <a:pt x="90" y="182"/>
                    </a:lnTo>
                    <a:lnTo>
                      <a:pt x="0" y="13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100920" y="5082840"/>
                <a:ext cx="280800" cy="874800"/>
              </a:xfrm>
              <a:custGeom>
                <a:avLst/>
                <a:gdLst/>
                <a:ahLst/>
                <a:rect l="l" t="t" r="r" b="b"/>
                <a:pathLst>
                  <a:path w="531" h="1652">
                    <a:moveTo>
                      <a:pt x="316" y="91"/>
                    </a:moveTo>
                    <a:lnTo>
                      <a:pt x="361" y="0"/>
                    </a:lnTo>
                    <a:lnTo>
                      <a:pt x="463" y="0"/>
                    </a:lnTo>
                    <a:lnTo>
                      <a:pt x="496" y="46"/>
                    </a:lnTo>
                    <a:lnTo>
                      <a:pt x="519" y="226"/>
                    </a:lnTo>
                    <a:lnTo>
                      <a:pt x="486" y="510"/>
                    </a:lnTo>
                    <a:lnTo>
                      <a:pt x="384" y="848"/>
                    </a:lnTo>
                    <a:lnTo>
                      <a:pt x="226" y="1177"/>
                    </a:lnTo>
                    <a:lnTo>
                      <a:pt x="135" y="1324"/>
                    </a:lnTo>
                    <a:lnTo>
                      <a:pt x="147" y="1357"/>
                    </a:lnTo>
                    <a:lnTo>
                      <a:pt x="214" y="1381"/>
                    </a:lnTo>
                    <a:lnTo>
                      <a:pt x="396" y="1436"/>
                    </a:lnTo>
                    <a:lnTo>
                      <a:pt x="519" y="1516"/>
                    </a:lnTo>
                    <a:lnTo>
                      <a:pt x="531" y="1561"/>
                    </a:lnTo>
                    <a:lnTo>
                      <a:pt x="508" y="1618"/>
                    </a:lnTo>
                    <a:lnTo>
                      <a:pt x="384" y="1652"/>
                    </a:lnTo>
                    <a:lnTo>
                      <a:pt x="349" y="1606"/>
                    </a:lnTo>
                    <a:lnTo>
                      <a:pt x="349" y="1550"/>
                    </a:lnTo>
                    <a:lnTo>
                      <a:pt x="249" y="1481"/>
                    </a:lnTo>
                    <a:lnTo>
                      <a:pt x="135" y="1436"/>
                    </a:lnTo>
                    <a:lnTo>
                      <a:pt x="45" y="1426"/>
                    </a:lnTo>
                    <a:lnTo>
                      <a:pt x="0" y="1391"/>
                    </a:lnTo>
                    <a:lnTo>
                      <a:pt x="12" y="1357"/>
                    </a:lnTo>
                    <a:lnTo>
                      <a:pt x="102" y="1232"/>
                    </a:lnTo>
                    <a:lnTo>
                      <a:pt x="204" y="1063"/>
                    </a:lnTo>
                    <a:lnTo>
                      <a:pt x="304" y="871"/>
                    </a:lnTo>
                    <a:lnTo>
                      <a:pt x="339" y="701"/>
                    </a:lnTo>
                    <a:lnTo>
                      <a:pt x="373" y="498"/>
                    </a:lnTo>
                    <a:lnTo>
                      <a:pt x="361" y="328"/>
                    </a:lnTo>
                    <a:lnTo>
                      <a:pt x="349" y="171"/>
                    </a:lnTo>
                    <a:lnTo>
                      <a:pt x="316" y="9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753160" y="5160600"/>
                <a:ext cx="479520" cy="773280"/>
              </a:xfrm>
              <a:custGeom>
                <a:avLst/>
                <a:gdLst/>
                <a:ahLst/>
                <a:rect l="l" t="t" r="r" b="b"/>
                <a:pathLst>
                  <a:path w="906" h="1460">
                    <a:moveTo>
                      <a:pt x="634" y="261"/>
                    </a:moveTo>
                    <a:lnTo>
                      <a:pt x="736" y="69"/>
                    </a:lnTo>
                    <a:lnTo>
                      <a:pt x="816" y="0"/>
                    </a:lnTo>
                    <a:lnTo>
                      <a:pt x="883" y="12"/>
                    </a:lnTo>
                    <a:lnTo>
                      <a:pt x="906" y="79"/>
                    </a:lnTo>
                    <a:lnTo>
                      <a:pt x="906" y="136"/>
                    </a:lnTo>
                    <a:lnTo>
                      <a:pt x="849" y="226"/>
                    </a:lnTo>
                    <a:lnTo>
                      <a:pt x="724" y="328"/>
                    </a:lnTo>
                    <a:lnTo>
                      <a:pt x="657" y="442"/>
                    </a:lnTo>
                    <a:lnTo>
                      <a:pt x="612" y="577"/>
                    </a:lnTo>
                    <a:lnTo>
                      <a:pt x="555" y="769"/>
                    </a:lnTo>
                    <a:lnTo>
                      <a:pt x="510" y="950"/>
                    </a:lnTo>
                    <a:lnTo>
                      <a:pt x="520" y="1132"/>
                    </a:lnTo>
                    <a:lnTo>
                      <a:pt x="555" y="1222"/>
                    </a:lnTo>
                    <a:lnTo>
                      <a:pt x="555" y="1289"/>
                    </a:lnTo>
                    <a:lnTo>
                      <a:pt x="520" y="1312"/>
                    </a:lnTo>
                    <a:lnTo>
                      <a:pt x="396" y="1324"/>
                    </a:lnTo>
                    <a:lnTo>
                      <a:pt x="283" y="1369"/>
                    </a:lnTo>
                    <a:lnTo>
                      <a:pt x="147" y="1448"/>
                    </a:lnTo>
                    <a:lnTo>
                      <a:pt x="57" y="1460"/>
                    </a:lnTo>
                    <a:lnTo>
                      <a:pt x="0" y="1414"/>
                    </a:lnTo>
                    <a:lnTo>
                      <a:pt x="12" y="1381"/>
                    </a:lnTo>
                    <a:lnTo>
                      <a:pt x="147" y="1324"/>
                    </a:lnTo>
                    <a:lnTo>
                      <a:pt x="306" y="1289"/>
                    </a:lnTo>
                    <a:lnTo>
                      <a:pt x="430" y="1267"/>
                    </a:lnTo>
                    <a:lnTo>
                      <a:pt x="453" y="1234"/>
                    </a:lnTo>
                    <a:lnTo>
                      <a:pt x="441" y="1075"/>
                    </a:lnTo>
                    <a:lnTo>
                      <a:pt x="441" y="916"/>
                    </a:lnTo>
                    <a:lnTo>
                      <a:pt x="475" y="791"/>
                    </a:lnTo>
                    <a:lnTo>
                      <a:pt x="532" y="577"/>
                    </a:lnTo>
                    <a:lnTo>
                      <a:pt x="600" y="385"/>
                    </a:lnTo>
                    <a:lnTo>
                      <a:pt x="634" y="26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1" name=""/>
          <p:cNvSpPr/>
          <p:nvPr/>
        </p:nvSpPr>
        <p:spPr>
          <a:xfrm>
            <a:off x="-41040" y="2235240"/>
            <a:ext cx="2736720" cy="1457640"/>
          </a:xfrm>
          <a:prstGeom prst="cloudCallout">
            <a:avLst>
              <a:gd name="adj1" fmla="val 26125"/>
              <a:gd name="adj2" fmla="val 7343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Jak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testować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gramowanie para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274284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ały produkt jest kodowany w par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Standard kodowa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zęste integrac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Tylko jedna para integruje kod w danej chwi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Pary się zmieniaj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533520" y="3505320"/>
            <a:ext cx="1446840" cy="1371240"/>
            <a:chOff x="533520" y="3505320"/>
            <a:chExt cx="1446840" cy="1371240"/>
          </a:xfrm>
        </p:grpSpPr>
        <p:sp>
          <p:nvSpPr>
            <p:cNvPr id="1655" name=""/>
            <p:cNvSpPr/>
            <p:nvPr/>
          </p:nvSpPr>
          <p:spPr>
            <a:xfrm>
              <a:off x="547560" y="3522240"/>
              <a:ext cx="1426320" cy="1338840"/>
            </a:xfrm>
            <a:custGeom>
              <a:avLst/>
              <a:gdLst/>
              <a:ahLst/>
              <a:rect l="l" t="t" r="r" b="b"/>
              <a:pathLst>
                <a:path w="1765" h="1891">
                  <a:moveTo>
                    <a:pt x="332" y="1263"/>
                  </a:moveTo>
                  <a:lnTo>
                    <a:pt x="196" y="1385"/>
                  </a:lnTo>
                  <a:lnTo>
                    <a:pt x="26" y="1533"/>
                  </a:lnTo>
                  <a:lnTo>
                    <a:pt x="26" y="1659"/>
                  </a:lnTo>
                  <a:lnTo>
                    <a:pt x="54" y="1891"/>
                  </a:lnTo>
                  <a:lnTo>
                    <a:pt x="340" y="1881"/>
                  </a:lnTo>
                  <a:lnTo>
                    <a:pt x="660" y="1847"/>
                  </a:lnTo>
                  <a:lnTo>
                    <a:pt x="1135" y="1837"/>
                  </a:lnTo>
                  <a:lnTo>
                    <a:pt x="1493" y="1847"/>
                  </a:lnTo>
                  <a:lnTo>
                    <a:pt x="1617" y="1617"/>
                  </a:lnTo>
                  <a:lnTo>
                    <a:pt x="1765" y="1169"/>
                  </a:lnTo>
                  <a:lnTo>
                    <a:pt x="1737" y="1034"/>
                  </a:lnTo>
                  <a:lnTo>
                    <a:pt x="1683" y="980"/>
                  </a:lnTo>
                  <a:lnTo>
                    <a:pt x="1523" y="990"/>
                  </a:lnTo>
                  <a:lnTo>
                    <a:pt x="1597" y="650"/>
                  </a:lnTo>
                  <a:lnTo>
                    <a:pt x="1607" y="544"/>
                  </a:lnTo>
                  <a:lnTo>
                    <a:pt x="1569" y="280"/>
                  </a:lnTo>
                  <a:lnTo>
                    <a:pt x="1531" y="84"/>
                  </a:lnTo>
                  <a:lnTo>
                    <a:pt x="1465" y="0"/>
                  </a:lnTo>
                  <a:lnTo>
                    <a:pt x="1415" y="0"/>
                  </a:lnTo>
                  <a:lnTo>
                    <a:pt x="1285" y="22"/>
                  </a:lnTo>
                  <a:lnTo>
                    <a:pt x="1077" y="32"/>
                  </a:lnTo>
                  <a:lnTo>
                    <a:pt x="941" y="12"/>
                  </a:lnTo>
                  <a:lnTo>
                    <a:pt x="794" y="4"/>
                  </a:lnTo>
                  <a:lnTo>
                    <a:pt x="738" y="18"/>
                  </a:lnTo>
                  <a:lnTo>
                    <a:pt x="612" y="76"/>
                  </a:lnTo>
                  <a:lnTo>
                    <a:pt x="426" y="126"/>
                  </a:lnTo>
                  <a:lnTo>
                    <a:pt x="190" y="208"/>
                  </a:lnTo>
                  <a:lnTo>
                    <a:pt x="100" y="260"/>
                  </a:lnTo>
                  <a:lnTo>
                    <a:pt x="18" y="348"/>
                  </a:lnTo>
                  <a:lnTo>
                    <a:pt x="0" y="478"/>
                  </a:lnTo>
                  <a:lnTo>
                    <a:pt x="0" y="694"/>
                  </a:lnTo>
                  <a:lnTo>
                    <a:pt x="10" y="950"/>
                  </a:lnTo>
                  <a:lnTo>
                    <a:pt x="28" y="1100"/>
                  </a:lnTo>
                  <a:lnTo>
                    <a:pt x="64" y="1187"/>
                  </a:lnTo>
                  <a:lnTo>
                    <a:pt x="120" y="1231"/>
                  </a:lnTo>
                  <a:lnTo>
                    <a:pt x="186" y="1249"/>
                  </a:lnTo>
                  <a:lnTo>
                    <a:pt x="332" y="1263"/>
                  </a:lnTo>
                  <a:close/>
                </a:path>
              </a:pathLst>
            </a:custGeom>
            <a:solidFill>
              <a:srgbClr val="c3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5080" y="3764520"/>
              <a:ext cx="835200" cy="553680"/>
            </a:xfrm>
            <a:custGeom>
              <a:avLst/>
              <a:gdLst/>
              <a:ahLst/>
              <a:rect l="l" t="t" r="r" b="b"/>
              <a:pathLst>
                <a:path w="1033" h="784">
                  <a:moveTo>
                    <a:pt x="6" y="214"/>
                  </a:moveTo>
                  <a:lnTo>
                    <a:pt x="16" y="70"/>
                  </a:lnTo>
                  <a:lnTo>
                    <a:pt x="38" y="28"/>
                  </a:lnTo>
                  <a:lnTo>
                    <a:pt x="102" y="12"/>
                  </a:lnTo>
                  <a:lnTo>
                    <a:pt x="358" y="4"/>
                  </a:lnTo>
                  <a:lnTo>
                    <a:pt x="672" y="0"/>
                  </a:lnTo>
                  <a:lnTo>
                    <a:pt x="855" y="4"/>
                  </a:lnTo>
                  <a:lnTo>
                    <a:pt x="899" y="32"/>
                  </a:lnTo>
                  <a:lnTo>
                    <a:pt x="931" y="86"/>
                  </a:lnTo>
                  <a:lnTo>
                    <a:pt x="979" y="318"/>
                  </a:lnTo>
                  <a:lnTo>
                    <a:pt x="1023" y="574"/>
                  </a:lnTo>
                  <a:lnTo>
                    <a:pt x="1033" y="736"/>
                  </a:lnTo>
                  <a:lnTo>
                    <a:pt x="1017" y="764"/>
                  </a:lnTo>
                  <a:lnTo>
                    <a:pt x="961" y="784"/>
                  </a:lnTo>
                  <a:lnTo>
                    <a:pt x="692" y="778"/>
                  </a:lnTo>
                  <a:lnTo>
                    <a:pt x="276" y="758"/>
                  </a:lnTo>
                  <a:lnTo>
                    <a:pt x="72" y="740"/>
                  </a:lnTo>
                  <a:lnTo>
                    <a:pt x="38" y="698"/>
                  </a:lnTo>
                  <a:lnTo>
                    <a:pt x="20" y="616"/>
                  </a:lnTo>
                  <a:lnTo>
                    <a:pt x="0" y="414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533520" y="3505320"/>
              <a:ext cx="1446840" cy="1371240"/>
              <a:chOff x="533520" y="3505320"/>
              <a:chExt cx="1446840" cy="1371240"/>
            </a:xfrm>
          </p:grpSpPr>
          <p:sp>
            <p:nvSpPr>
              <p:cNvPr id="1658" name=""/>
              <p:cNvSpPr/>
              <p:nvPr/>
            </p:nvSpPr>
            <p:spPr>
              <a:xfrm>
                <a:off x="546120" y="4196520"/>
                <a:ext cx="1434240" cy="680040"/>
              </a:xfrm>
              <a:custGeom>
                <a:avLst/>
                <a:gdLst/>
                <a:ahLst/>
                <a:rect l="l" t="t" r="r" b="b"/>
                <a:pathLst>
                  <a:path w="1775" h="959">
                    <a:moveTo>
                      <a:pt x="0" y="579"/>
                    </a:moveTo>
                    <a:lnTo>
                      <a:pt x="220" y="389"/>
                    </a:lnTo>
                    <a:lnTo>
                      <a:pt x="226" y="433"/>
                    </a:lnTo>
                    <a:lnTo>
                      <a:pt x="76" y="569"/>
                    </a:lnTo>
                    <a:lnTo>
                      <a:pt x="340" y="557"/>
                    </a:lnTo>
                    <a:lnTo>
                      <a:pt x="898" y="559"/>
                    </a:lnTo>
                    <a:lnTo>
                      <a:pt x="1193" y="537"/>
                    </a:lnTo>
                    <a:lnTo>
                      <a:pt x="1379" y="503"/>
                    </a:lnTo>
                    <a:lnTo>
                      <a:pt x="1425" y="491"/>
                    </a:lnTo>
                    <a:lnTo>
                      <a:pt x="1643" y="54"/>
                    </a:lnTo>
                    <a:lnTo>
                      <a:pt x="1541" y="26"/>
                    </a:lnTo>
                    <a:lnTo>
                      <a:pt x="1693" y="0"/>
                    </a:lnTo>
                    <a:lnTo>
                      <a:pt x="1749" y="48"/>
                    </a:lnTo>
                    <a:lnTo>
                      <a:pt x="1775" y="209"/>
                    </a:lnTo>
                    <a:lnTo>
                      <a:pt x="1731" y="341"/>
                    </a:lnTo>
                    <a:lnTo>
                      <a:pt x="1589" y="769"/>
                    </a:lnTo>
                    <a:lnTo>
                      <a:pt x="1523" y="901"/>
                    </a:lnTo>
                    <a:lnTo>
                      <a:pt x="1463" y="917"/>
                    </a:lnTo>
                    <a:lnTo>
                      <a:pt x="1013" y="909"/>
                    </a:lnTo>
                    <a:lnTo>
                      <a:pt x="542" y="921"/>
                    </a:lnTo>
                    <a:lnTo>
                      <a:pt x="94" y="955"/>
                    </a:lnTo>
                    <a:lnTo>
                      <a:pt x="28" y="959"/>
                    </a:lnTo>
                    <a:lnTo>
                      <a:pt x="22" y="833"/>
                    </a:lnTo>
                    <a:lnTo>
                      <a:pt x="12" y="709"/>
                    </a:lnTo>
                    <a:lnTo>
                      <a:pt x="10" y="643"/>
                    </a:lnTo>
                    <a:lnTo>
                      <a:pt x="48" y="683"/>
                    </a:lnTo>
                    <a:lnTo>
                      <a:pt x="56" y="785"/>
                    </a:lnTo>
                    <a:lnTo>
                      <a:pt x="70" y="893"/>
                    </a:lnTo>
                    <a:lnTo>
                      <a:pt x="198" y="911"/>
                    </a:lnTo>
                    <a:lnTo>
                      <a:pt x="492" y="883"/>
                    </a:lnTo>
                    <a:lnTo>
                      <a:pt x="740" y="863"/>
                    </a:lnTo>
                    <a:lnTo>
                      <a:pt x="947" y="863"/>
                    </a:lnTo>
                    <a:lnTo>
                      <a:pt x="1259" y="863"/>
                    </a:lnTo>
                    <a:lnTo>
                      <a:pt x="1457" y="861"/>
                    </a:lnTo>
                    <a:lnTo>
                      <a:pt x="1463" y="803"/>
                    </a:lnTo>
                    <a:lnTo>
                      <a:pt x="1445" y="681"/>
                    </a:lnTo>
                    <a:lnTo>
                      <a:pt x="1429" y="547"/>
                    </a:lnTo>
                    <a:lnTo>
                      <a:pt x="1457" y="579"/>
                    </a:lnTo>
                    <a:lnTo>
                      <a:pt x="1485" y="727"/>
                    </a:lnTo>
                    <a:lnTo>
                      <a:pt x="1511" y="803"/>
                    </a:lnTo>
                    <a:lnTo>
                      <a:pt x="1541" y="765"/>
                    </a:lnTo>
                    <a:lnTo>
                      <a:pt x="1595" y="617"/>
                    </a:lnTo>
                    <a:lnTo>
                      <a:pt x="1675" y="407"/>
                    </a:lnTo>
                    <a:lnTo>
                      <a:pt x="1731" y="237"/>
                    </a:lnTo>
                    <a:lnTo>
                      <a:pt x="1741" y="186"/>
                    </a:lnTo>
                    <a:lnTo>
                      <a:pt x="1713" y="66"/>
                    </a:lnTo>
                    <a:lnTo>
                      <a:pt x="1683" y="58"/>
                    </a:lnTo>
                    <a:lnTo>
                      <a:pt x="1623" y="199"/>
                    </a:lnTo>
                    <a:lnTo>
                      <a:pt x="1519" y="385"/>
                    </a:lnTo>
                    <a:lnTo>
                      <a:pt x="1445" y="529"/>
                    </a:lnTo>
                    <a:lnTo>
                      <a:pt x="1369" y="551"/>
                    </a:lnTo>
                    <a:lnTo>
                      <a:pt x="1097" y="585"/>
                    </a:lnTo>
                    <a:lnTo>
                      <a:pt x="778" y="605"/>
                    </a:lnTo>
                    <a:lnTo>
                      <a:pt x="462" y="605"/>
                    </a:lnTo>
                    <a:lnTo>
                      <a:pt x="104" y="607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11080" y="4427640"/>
                <a:ext cx="741600" cy="148680"/>
              </a:xfrm>
              <a:custGeom>
                <a:avLst/>
                <a:gdLst/>
                <a:ahLst/>
                <a:rect l="l" t="t" r="r" b="b"/>
                <a:pathLst>
                  <a:path w="917" h="210">
                    <a:moveTo>
                      <a:pt x="22" y="38"/>
                    </a:moveTo>
                    <a:lnTo>
                      <a:pt x="86" y="0"/>
                    </a:lnTo>
                    <a:lnTo>
                      <a:pt x="118" y="10"/>
                    </a:lnTo>
                    <a:lnTo>
                      <a:pt x="98" y="58"/>
                    </a:lnTo>
                    <a:lnTo>
                      <a:pt x="50" y="88"/>
                    </a:lnTo>
                    <a:lnTo>
                      <a:pt x="142" y="132"/>
                    </a:lnTo>
                    <a:lnTo>
                      <a:pt x="280" y="138"/>
                    </a:lnTo>
                    <a:lnTo>
                      <a:pt x="400" y="128"/>
                    </a:lnTo>
                    <a:lnTo>
                      <a:pt x="486" y="118"/>
                    </a:lnTo>
                    <a:lnTo>
                      <a:pt x="647" y="102"/>
                    </a:lnTo>
                    <a:lnTo>
                      <a:pt x="751" y="92"/>
                    </a:lnTo>
                    <a:lnTo>
                      <a:pt x="819" y="72"/>
                    </a:lnTo>
                    <a:lnTo>
                      <a:pt x="885" y="30"/>
                    </a:lnTo>
                    <a:lnTo>
                      <a:pt x="879" y="0"/>
                    </a:lnTo>
                    <a:lnTo>
                      <a:pt x="917" y="10"/>
                    </a:lnTo>
                    <a:lnTo>
                      <a:pt x="907" y="112"/>
                    </a:lnTo>
                    <a:lnTo>
                      <a:pt x="809" y="160"/>
                    </a:lnTo>
                    <a:lnTo>
                      <a:pt x="594" y="172"/>
                    </a:lnTo>
                    <a:lnTo>
                      <a:pt x="374" y="194"/>
                    </a:lnTo>
                    <a:lnTo>
                      <a:pt x="248" y="210"/>
                    </a:lnTo>
                    <a:lnTo>
                      <a:pt x="96" y="172"/>
                    </a:lnTo>
                    <a:lnTo>
                      <a:pt x="22" y="150"/>
                    </a:lnTo>
                    <a:lnTo>
                      <a:pt x="0" y="92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96240" y="4678560"/>
                <a:ext cx="77400" cy="594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40240" y="4671360"/>
                <a:ext cx="77400" cy="594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310400" y="4653000"/>
                <a:ext cx="315000" cy="69120"/>
              </a:xfrm>
              <a:custGeom>
                <a:avLst/>
                <a:gdLst/>
                <a:ahLst/>
                <a:rect l="l" t="t" r="r" b="b"/>
                <a:pathLst>
                  <a:path w="390" h="98">
                    <a:moveTo>
                      <a:pt x="0" y="30"/>
                    </a:moveTo>
                    <a:lnTo>
                      <a:pt x="380" y="0"/>
                    </a:lnTo>
                    <a:lnTo>
                      <a:pt x="390" y="64"/>
                    </a:lnTo>
                    <a:lnTo>
                      <a:pt x="0" y="9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3520" y="3505320"/>
                <a:ext cx="1325880" cy="914040"/>
              </a:xfrm>
              <a:custGeom>
                <a:avLst/>
                <a:gdLst/>
                <a:ahLst/>
                <a:rect l="l" t="t" r="r" b="b"/>
                <a:pathLst>
                  <a:path w="1641" h="1291">
                    <a:moveTo>
                      <a:pt x="138" y="1231"/>
                    </a:moveTo>
                    <a:lnTo>
                      <a:pt x="92" y="1183"/>
                    </a:lnTo>
                    <a:lnTo>
                      <a:pt x="64" y="1102"/>
                    </a:lnTo>
                    <a:lnTo>
                      <a:pt x="54" y="920"/>
                    </a:lnTo>
                    <a:lnTo>
                      <a:pt x="54" y="618"/>
                    </a:lnTo>
                    <a:lnTo>
                      <a:pt x="64" y="390"/>
                    </a:lnTo>
                    <a:lnTo>
                      <a:pt x="92" y="338"/>
                    </a:lnTo>
                    <a:lnTo>
                      <a:pt x="142" y="272"/>
                    </a:lnTo>
                    <a:lnTo>
                      <a:pt x="264" y="224"/>
                    </a:lnTo>
                    <a:lnTo>
                      <a:pt x="480" y="160"/>
                    </a:lnTo>
                    <a:lnTo>
                      <a:pt x="658" y="114"/>
                    </a:lnTo>
                    <a:lnTo>
                      <a:pt x="738" y="66"/>
                    </a:lnTo>
                    <a:lnTo>
                      <a:pt x="880" y="54"/>
                    </a:lnTo>
                    <a:lnTo>
                      <a:pt x="1131" y="76"/>
                    </a:lnTo>
                    <a:lnTo>
                      <a:pt x="1339" y="64"/>
                    </a:lnTo>
                    <a:lnTo>
                      <a:pt x="1427" y="44"/>
                    </a:lnTo>
                    <a:lnTo>
                      <a:pt x="1499" y="64"/>
                    </a:lnTo>
                    <a:lnTo>
                      <a:pt x="1547" y="190"/>
                    </a:lnTo>
                    <a:lnTo>
                      <a:pt x="1577" y="420"/>
                    </a:lnTo>
                    <a:lnTo>
                      <a:pt x="1607" y="602"/>
                    </a:lnTo>
                    <a:lnTo>
                      <a:pt x="1593" y="686"/>
                    </a:lnTo>
                    <a:lnTo>
                      <a:pt x="1537" y="892"/>
                    </a:lnTo>
                    <a:lnTo>
                      <a:pt x="1465" y="1100"/>
                    </a:lnTo>
                    <a:lnTo>
                      <a:pt x="1417" y="1177"/>
                    </a:lnTo>
                    <a:lnTo>
                      <a:pt x="1385" y="1215"/>
                    </a:lnTo>
                    <a:lnTo>
                      <a:pt x="1433" y="1243"/>
                    </a:lnTo>
                    <a:lnTo>
                      <a:pt x="1483" y="1156"/>
                    </a:lnTo>
                    <a:lnTo>
                      <a:pt x="1559" y="970"/>
                    </a:lnTo>
                    <a:lnTo>
                      <a:pt x="1615" y="772"/>
                    </a:lnTo>
                    <a:lnTo>
                      <a:pt x="1635" y="674"/>
                    </a:lnTo>
                    <a:lnTo>
                      <a:pt x="1641" y="582"/>
                    </a:lnTo>
                    <a:lnTo>
                      <a:pt x="1623" y="428"/>
                    </a:lnTo>
                    <a:lnTo>
                      <a:pt x="1593" y="198"/>
                    </a:lnTo>
                    <a:lnTo>
                      <a:pt x="1549" y="72"/>
                    </a:lnTo>
                    <a:lnTo>
                      <a:pt x="1509" y="16"/>
                    </a:lnTo>
                    <a:lnTo>
                      <a:pt x="1443" y="0"/>
                    </a:lnTo>
                    <a:lnTo>
                      <a:pt x="1357" y="26"/>
                    </a:lnTo>
                    <a:lnTo>
                      <a:pt x="1229" y="34"/>
                    </a:lnTo>
                    <a:lnTo>
                      <a:pt x="1065" y="34"/>
                    </a:lnTo>
                    <a:lnTo>
                      <a:pt x="896" y="10"/>
                    </a:lnTo>
                    <a:lnTo>
                      <a:pt x="782" y="16"/>
                    </a:lnTo>
                    <a:lnTo>
                      <a:pt x="724" y="38"/>
                    </a:lnTo>
                    <a:lnTo>
                      <a:pt x="596" y="100"/>
                    </a:lnTo>
                    <a:lnTo>
                      <a:pt x="350" y="168"/>
                    </a:lnTo>
                    <a:lnTo>
                      <a:pt x="114" y="246"/>
                    </a:lnTo>
                    <a:lnTo>
                      <a:pt x="48" y="328"/>
                    </a:lnTo>
                    <a:lnTo>
                      <a:pt x="6" y="438"/>
                    </a:lnTo>
                    <a:lnTo>
                      <a:pt x="0" y="658"/>
                    </a:lnTo>
                    <a:lnTo>
                      <a:pt x="10" y="866"/>
                    </a:lnTo>
                    <a:lnTo>
                      <a:pt x="18" y="1080"/>
                    </a:lnTo>
                    <a:lnTo>
                      <a:pt x="56" y="1203"/>
                    </a:lnTo>
                    <a:lnTo>
                      <a:pt x="94" y="1269"/>
                    </a:lnTo>
                    <a:lnTo>
                      <a:pt x="160" y="1291"/>
                    </a:lnTo>
                    <a:lnTo>
                      <a:pt x="198" y="1279"/>
                    </a:lnTo>
                    <a:lnTo>
                      <a:pt x="138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22440" y="3522240"/>
                <a:ext cx="1141560" cy="911160"/>
              </a:xfrm>
              <a:custGeom>
                <a:avLst/>
                <a:gdLst/>
                <a:ahLst/>
                <a:rect l="l" t="t" r="r" b="b"/>
                <a:pathLst>
                  <a:path w="1413" h="1287">
                    <a:moveTo>
                      <a:pt x="22" y="1221"/>
                    </a:moveTo>
                    <a:lnTo>
                      <a:pt x="258" y="1237"/>
                    </a:lnTo>
                    <a:lnTo>
                      <a:pt x="588" y="1245"/>
                    </a:lnTo>
                    <a:lnTo>
                      <a:pt x="851" y="1245"/>
                    </a:lnTo>
                    <a:lnTo>
                      <a:pt x="1087" y="1217"/>
                    </a:lnTo>
                    <a:lnTo>
                      <a:pt x="1243" y="1193"/>
                    </a:lnTo>
                    <a:lnTo>
                      <a:pt x="1287" y="1171"/>
                    </a:lnTo>
                    <a:lnTo>
                      <a:pt x="1287" y="1058"/>
                    </a:lnTo>
                    <a:lnTo>
                      <a:pt x="1229" y="754"/>
                    </a:lnTo>
                    <a:lnTo>
                      <a:pt x="1163" y="386"/>
                    </a:lnTo>
                    <a:lnTo>
                      <a:pt x="1129" y="252"/>
                    </a:lnTo>
                    <a:lnTo>
                      <a:pt x="1097" y="202"/>
                    </a:lnTo>
                    <a:lnTo>
                      <a:pt x="692" y="246"/>
                    </a:lnTo>
                    <a:lnTo>
                      <a:pt x="294" y="256"/>
                    </a:lnTo>
                    <a:lnTo>
                      <a:pt x="76" y="262"/>
                    </a:lnTo>
                    <a:lnTo>
                      <a:pt x="0" y="272"/>
                    </a:lnTo>
                    <a:lnTo>
                      <a:pt x="42" y="218"/>
                    </a:lnTo>
                    <a:lnTo>
                      <a:pt x="136" y="228"/>
                    </a:lnTo>
                    <a:lnTo>
                      <a:pt x="408" y="218"/>
                    </a:lnTo>
                    <a:lnTo>
                      <a:pt x="666" y="202"/>
                    </a:lnTo>
                    <a:lnTo>
                      <a:pt x="893" y="184"/>
                    </a:lnTo>
                    <a:lnTo>
                      <a:pt x="1111" y="164"/>
                    </a:lnTo>
                    <a:lnTo>
                      <a:pt x="1281" y="86"/>
                    </a:lnTo>
                    <a:lnTo>
                      <a:pt x="1375" y="0"/>
                    </a:lnTo>
                    <a:lnTo>
                      <a:pt x="1413" y="42"/>
                    </a:lnTo>
                    <a:lnTo>
                      <a:pt x="1325" y="94"/>
                    </a:lnTo>
                    <a:lnTo>
                      <a:pt x="1195" y="180"/>
                    </a:lnTo>
                    <a:lnTo>
                      <a:pt x="1155" y="208"/>
                    </a:lnTo>
                    <a:lnTo>
                      <a:pt x="1201" y="404"/>
                    </a:lnTo>
                    <a:lnTo>
                      <a:pt x="1239" y="594"/>
                    </a:lnTo>
                    <a:lnTo>
                      <a:pt x="1271" y="768"/>
                    </a:lnTo>
                    <a:lnTo>
                      <a:pt x="1299" y="934"/>
                    </a:lnTo>
                    <a:lnTo>
                      <a:pt x="1325" y="1058"/>
                    </a:lnTo>
                    <a:lnTo>
                      <a:pt x="1337" y="1163"/>
                    </a:lnTo>
                    <a:lnTo>
                      <a:pt x="1319" y="1221"/>
                    </a:lnTo>
                    <a:lnTo>
                      <a:pt x="1139" y="1265"/>
                    </a:lnTo>
                    <a:lnTo>
                      <a:pt x="824" y="1287"/>
                    </a:lnTo>
                    <a:lnTo>
                      <a:pt x="492" y="1275"/>
                    </a:lnTo>
                    <a:lnTo>
                      <a:pt x="250" y="1275"/>
                    </a:lnTo>
                    <a:lnTo>
                      <a:pt x="50" y="1269"/>
                    </a:lnTo>
                    <a:lnTo>
                      <a:pt x="22" y="1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49880" y="3751920"/>
                <a:ext cx="788040" cy="582120"/>
              </a:xfrm>
              <a:custGeom>
                <a:avLst/>
                <a:gdLst/>
                <a:ahLst/>
                <a:rect l="l" t="t" r="r" b="b"/>
                <a:pathLst>
                  <a:path w="975" h="824">
                    <a:moveTo>
                      <a:pt x="0" y="22"/>
                    </a:moveTo>
                    <a:lnTo>
                      <a:pt x="324" y="10"/>
                    </a:lnTo>
                    <a:lnTo>
                      <a:pt x="546" y="0"/>
                    </a:lnTo>
                    <a:lnTo>
                      <a:pt x="793" y="4"/>
                    </a:lnTo>
                    <a:lnTo>
                      <a:pt x="831" y="32"/>
                    </a:lnTo>
                    <a:lnTo>
                      <a:pt x="861" y="76"/>
                    </a:lnTo>
                    <a:lnTo>
                      <a:pt x="915" y="308"/>
                    </a:lnTo>
                    <a:lnTo>
                      <a:pt x="955" y="572"/>
                    </a:lnTo>
                    <a:lnTo>
                      <a:pt x="975" y="754"/>
                    </a:lnTo>
                    <a:lnTo>
                      <a:pt x="955" y="812"/>
                    </a:lnTo>
                    <a:lnTo>
                      <a:pt x="905" y="824"/>
                    </a:lnTo>
                    <a:lnTo>
                      <a:pt x="620" y="792"/>
                    </a:lnTo>
                    <a:lnTo>
                      <a:pt x="917" y="766"/>
                    </a:lnTo>
                    <a:lnTo>
                      <a:pt x="933" y="758"/>
                    </a:lnTo>
                    <a:lnTo>
                      <a:pt x="927" y="634"/>
                    </a:lnTo>
                    <a:lnTo>
                      <a:pt x="905" y="458"/>
                    </a:lnTo>
                    <a:lnTo>
                      <a:pt x="857" y="220"/>
                    </a:lnTo>
                    <a:lnTo>
                      <a:pt x="819" y="70"/>
                    </a:lnTo>
                    <a:lnTo>
                      <a:pt x="781" y="48"/>
                    </a:lnTo>
                    <a:lnTo>
                      <a:pt x="604" y="38"/>
                    </a:lnTo>
                    <a:lnTo>
                      <a:pt x="362" y="48"/>
                    </a:lnTo>
                    <a:lnTo>
                      <a:pt x="162" y="4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68880" y="3760200"/>
                <a:ext cx="783360" cy="566640"/>
              </a:xfrm>
              <a:custGeom>
                <a:avLst/>
                <a:gdLst/>
                <a:ahLst/>
                <a:rect l="l" t="t" r="r" b="b"/>
                <a:pathLst>
                  <a:path w="969" h="802">
                    <a:moveTo>
                      <a:pt x="448" y="0"/>
                    </a:moveTo>
                    <a:lnTo>
                      <a:pt x="134" y="0"/>
                    </a:lnTo>
                    <a:lnTo>
                      <a:pt x="44" y="10"/>
                    </a:lnTo>
                    <a:lnTo>
                      <a:pt x="28" y="44"/>
                    </a:lnTo>
                    <a:lnTo>
                      <a:pt x="10" y="114"/>
                    </a:lnTo>
                    <a:lnTo>
                      <a:pt x="0" y="302"/>
                    </a:lnTo>
                    <a:lnTo>
                      <a:pt x="10" y="486"/>
                    </a:lnTo>
                    <a:lnTo>
                      <a:pt x="34" y="668"/>
                    </a:lnTo>
                    <a:lnTo>
                      <a:pt x="74" y="742"/>
                    </a:lnTo>
                    <a:lnTo>
                      <a:pt x="92" y="760"/>
                    </a:lnTo>
                    <a:lnTo>
                      <a:pt x="292" y="780"/>
                    </a:lnTo>
                    <a:lnTo>
                      <a:pt x="550" y="790"/>
                    </a:lnTo>
                    <a:lnTo>
                      <a:pt x="742" y="792"/>
                    </a:lnTo>
                    <a:lnTo>
                      <a:pt x="969" y="802"/>
                    </a:lnTo>
                    <a:lnTo>
                      <a:pt x="959" y="774"/>
                    </a:lnTo>
                    <a:lnTo>
                      <a:pt x="782" y="760"/>
                    </a:lnTo>
                    <a:lnTo>
                      <a:pt x="550" y="744"/>
                    </a:lnTo>
                    <a:lnTo>
                      <a:pt x="228" y="742"/>
                    </a:lnTo>
                    <a:lnTo>
                      <a:pt x="112" y="706"/>
                    </a:lnTo>
                    <a:lnTo>
                      <a:pt x="76" y="678"/>
                    </a:lnTo>
                    <a:lnTo>
                      <a:pt x="64" y="626"/>
                    </a:lnTo>
                    <a:lnTo>
                      <a:pt x="48" y="474"/>
                    </a:lnTo>
                    <a:lnTo>
                      <a:pt x="44" y="284"/>
                    </a:lnTo>
                    <a:lnTo>
                      <a:pt x="58" y="92"/>
                    </a:lnTo>
                    <a:lnTo>
                      <a:pt x="76" y="48"/>
                    </a:lnTo>
                    <a:lnTo>
                      <a:pt x="286" y="2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7" name=""/>
          <p:cNvGrpSpPr/>
          <p:nvPr/>
        </p:nvGrpSpPr>
        <p:grpSpPr>
          <a:xfrm>
            <a:off x="77760" y="4876920"/>
            <a:ext cx="988560" cy="1764720"/>
            <a:chOff x="77760" y="4876920"/>
            <a:chExt cx="988560" cy="1764720"/>
          </a:xfrm>
        </p:grpSpPr>
        <p:sp>
          <p:nvSpPr>
            <p:cNvPr id="1668" name=""/>
            <p:cNvSpPr/>
            <p:nvPr/>
          </p:nvSpPr>
          <p:spPr>
            <a:xfrm>
              <a:off x="392400" y="4976280"/>
              <a:ext cx="387000" cy="384120"/>
            </a:xfrm>
            <a:custGeom>
              <a:avLst/>
              <a:gdLst/>
              <a:ahLst/>
              <a:rect l="l" t="t" r="r" b="b"/>
              <a:pathLst>
                <a:path w="675" h="511">
                  <a:moveTo>
                    <a:pt x="352" y="118"/>
                  </a:moveTo>
                  <a:lnTo>
                    <a:pt x="293" y="65"/>
                  </a:lnTo>
                  <a:lnTo>
                    <a:pt x="210" y="26"/>
                  </a:lnTo>
                  <a:lnTo>
                    <a:pt x="136" y="0"/>
                  </a:lnTo>
                  <a:lnTo>
                    <a:pt x="77" y="7"/>
                  </a:lnTo>
                  <a:lnTo>
                    <a:pt x="34" y="36"/>
                  </a:lnTo>
                  <a:lnTo>
                    <a:pt x="0" y="125"/>
                  </a:lnTo>
                  <a:lnTo>
                    <a:pt x="14" y="227"/>
                  </a:lnTo>
                  <a:lnTo>
                    <a:pt x="49" y="324"/>
                  </a:lnTo>
                  <a:lnTo>
                    <a:pt x="88" y="400"/>
                  </a:lnTo>
                  <a:lnTo>
                    <a:pt x="161" y="479"/>
                  </a:lnTo>
                  <a:lnTo>
                    <a:pt x="225" y="511"/>
                  </a:lnTo>
                  <a:lnTo>
                    <a:pt x="312" y="511"/>
                  </a:lnTo>
                  <a:lnTo>
                    <a:pt x="401" y="489"/>
                  </a:lnTo>
                  <a:lnTo>
                    <a:pt x="445" y="432"/>
                  </a:lnTo>
                  <a:lnTo>
                    <a:pt x="469" y="361"/>
                  </a:lnTo>
                  <a:lnTo>
                    <a:pt x="460" y="272"/>
                  </a:lnTo>
                  <a:lnTo>
                    <a:pt x="665" y="282"/>
                  </a:lnTo>
                  <a:lnTo>
                    <a:pt x="675" y="243"/>
                  </a:lnTo>
                  <a:lnTo>
                    <a:pt x="440" y="227"/>
                  </a:lnTo>
                  <a:lnTo>
                    <a:pt x="381" y="135"/>
                  </a:lnTo>
                  <a:lnTo>
                    <a:pt x="352" y="1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7760" y="4876920"/>
              <a:ext cx="445680" cy="617760"/>
            </a:xfrm>
            <a:custGeom>
              <a:avLst/>
              <a:gdLst/>
              <a:ahLst/>
              <a:rect l="l" t="t" r="r" b="b"/>
              <a:pathLst>
                <a:path w="777" h="819">
                  <a:moveTo>
                    <a:pt x="453" y="19"/>
                  </a:moveTo>
                  <a:lnTo>
                    <a:pt x="551" y="0"/>
                  </a:lnTo>
                  <a:lnTo>
                    <a:pt x="629" y="3"/>
                  </a:lnTo>
                  <a:lnTo>
                    <a:pt x="688" y="32"/>
                  </a:lnTo>
                  <a:lnTo>
                    <a:pt x="728" y="78"/>
                  </a:lnTo>
                  <a:lnTo>
                    <a:pt x="713" y="127"/>
                  </a:lnTo>
                  <a:lnTo>
                    <a:pt x="659" y="127"/>
                  </a:lnTo>
                  <a:lnTo>
                    <a:pt x="673" y="87"/>
                  </a:lnTo>
                  <a:lnTo>
                    <a:pt x="629" y="52"/>
                  </a:lnTo>
                  <a:lnTo>
                    <a:pt x="586" y="39"/>
                  </a:lnTo>
                  <a:lnTo>
                    <a:pt x="512" y="52"/>
                  </a:lnTo>
                  <a:lnTo>
                    <a:pt x="542" y="91"/>
                  </a:lnTo>
                  <a:lnTo>
                    <a:pt x="551" y="127"/>
                  </a:lnTo>
                  <a:lnTo>
                    <a:pt x="542" y="157"/>
                  </a:lnTo>
                  <a:lnTo>
                    <a:pt x="468" y="170"/>
                  </a:lnTo>
                  <a:lnTo>
                    <a:pt x="390" y="160"/>
                  </a:lnTo>
                  <a:lnTo>
                    <a:pt x="375" y="137"/>
                  </a:lnTo>
                  <a:lnTo>
                    <a:pt x="292" y="199"/>
                  </a:lnTo>
                  <a:lnTo>
                    <a:pt x="244" y="268"/>
                  </a:lnTo>
                  <a:lnTo>
                    <a:pt x="176" y="357"/>
                  </a:lnTo>
                  <a:lnTo>
                    <a:pt x="131" y="435"/>
                  </a:lnTo>
                  <a:lnTo>
                    <a:pt x="112" y="511"/>
                  </a:lnTo>
                  <a:lnTo>
                    <a:pt x="127" y="550"/>
                  </a:lnTo>
                  <a:lnTo>
                    <a:pt x="205" y="600"/>
                  </a:lnTo>
                  <a:lnTo>
                    <a:pt x="366" y="642"/>
                  </a:lnTo>
                  <a:lnTo>
                    <a:pt x="453" y="661"/>
                  </a:lnTo>
                  <a:lnTo>
                    <a:pt x="542" y="671"/>
                  </a:lnTo>
                  <a:lnTo>
                    <a:pt x="673" y="707"/>
                  </a:lnTo>
                  <a:lnTo>
                    <a:pt x="771" y="731"/>
                  </a:lnTo>
                  <a:lnTo>
                    <a:pt x="777" y="776"/>
                  </a:lnTo>
                  <a:lnTo>
                    <a:pt x="728" y="809"/>
                  </a:lnTo>
                  <a:lnTo>
                    <a:pt x="669" y="819"/>
                  </a:lnTo>
                  <a:lnTo>
                    <a:pt x="580" y="789"/>
                  </a:lnTo>
                  <a:lnTo>
                    <a:pt x="375" y="718"/>
                  </a:lnTo>
                  <a:lnTo>
                    <a:pt x="205" y="668"/>
                  </a:lnTo>
                  <a:lnTo>
                    <a:pt x="87" y="613"/>
                  </a:lnTo>
                  <a:lnTo>
                    <a:pt x="9" y="563"/>
                  </a:lnTo>
                  <a:lnTo>
                    <a:pt x="0" y="504"/>
                  </a:lnTo>
                  <a:lnTo>
                    <a:pt x="43" y="425"/>
                  </a:lnTo>
                  <a:lnTo>
                    <a:pt x="131" y="307"/>
                  </a:lnTo>
                  <a:lnTo>
                    <a:pt x="214" y="209"/>
                  </a:lnTo>
                  <a:lnTo>
                    <a:pt x="317" y="108"/>
                  </a:lnTo>
                  <a:lnTo>
                    <a:pt x="396" y="48"/>
                  </a:lnTo>
                  <a:lnTo>
                    <a:pt x="493" y="19"/>
                  </a:lnTo>
                  <a:lnTo>
                    <a:pt x="453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7160" y="5389200"/>
              <a:ext cx="233640" cy="580320"/>
            </a:xfrm>
            <a:custGeom>
              <a:avLst/>
              <a:gdLst/>
              <a:ahLst/>
              <a:rect l="l" t="t" r="r" b="b"/>
              <a:pathLst>
                <a:path w="406" h="770">
                  <a:moveTo>
                    <a:pt x="25" y="60"/>
                  </a:moveTo>
                  <a:lnTo>
                    <a:pt x="39" y="20"/>
                  </a:lnTo>
                  <a:lnTo>
                    <a:pt x="103" y="0"/>
                  </a:lnTo>
                  <a:lnTo>
                    <a:pt x="160" y="0"/>
                  </a:lnTo>
                  <a:lnTo>
                    <a:pt x="234" y="29"/>
                  </a:lnTo>
                  <a:lnTo>
                    <a:pt x="304" y="99"/>
                  </a:lnTo>
                  <a:lnTo>
                    <a:pt x="352" y="171"/>
                  </a:lnTo>
                  <a:lnTo>
                    <a:pt x="376" y="268"/>
                  </a:lnTo>
                  <a:lnTo>
                    <a:pt x="397" y="383"/>
                  </a:lnTo>
                  <a:lnTo>
                    <a:pt x="406" y="494"/>
                  </a:lnTo>
                  <a:lnTo>
                    <a:pt x="406" y="639"/>
                  </a:lnTo>
                  <a:lnTo>
                    <a:pt x="376" y="727"/>
                  </a:lnTo>
                  <a:lnTo>
                    <a:pt x="323" y="760"/>
                  </a:lnTo>
                  <a:lnTo>
                    <a:pt x="230" y="770"/>
                  </a:lnTo>
                  <a:lnTo>
                    <a:pt x="132" y="767"/>
                  </a:lnTo>
                  <a:lnTo>
                    <a:pt x="82" y="727"/>
                  </a:lnTo>
                  <a:lnTo>
                    <a:pt x="54" y="659"/>
                  </a:lnTo>
                  <a:lnTo>
                    <a:pt x="29" y="590"/>
                  </a:lnTo>
                  <a:lnTo>
                    <a:pt x="10" y="465"/>
                  </a:lnTo>
                  <a:lnTo>
                    <a:pt x="0" y="325"/>
                  </a:lnTo>
                  <a:lnTo>
                    <a:pt x="0" y="161"/>
                  </a:lnTo>
                  <a:lnTo>
                    <a:pt x="25" y="89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5520" y="5405760"/>
              <a:ext cx="354240" cy="444600"/>
            </a:xfrm>
            <a:custGeom>
              <a:avLst/>
              <a:gdLst/>
              <a:ahLst/>
              <a:rect l="l" t="t" r="r" b="b"/>
              <a:pathLst>
                <a:path w="620" h="591">
                  <a:moveTo>
                    <a:pt x="34" y="0"/>
                  </a:moveTo>
                  <a:lnTo>
                    <a:pt x="161" y="11"/>
                  </a:lnTo>
                  <a:lnTo>
                    <a:pt x="293" y="27"/>
                  </a:lnTo>
                  <a:lnTo>
                    <a:pt x="430" y="79"/>
                  </a:lnTo>
                  <a:lnTo>
                    <a:pt x="527" y="118"/>
                  </a:lnTo>
                  <a:lnTo>
                    <a:pt x="591" y="175"/>
                  </a:lnTo>
                  <a:lnTo>
                    <a:pt x="620" y="207"/>
                  </a:lnTo>
                  <a:lnTo>
                    <a:pt x="561" y="303"/>
                  </a:lnTo>
                  <a:lnTo>
                    <a:pt x="468" y="361"/>
                  </a:lnTo>
                  <a:lnTo>
                    <a:pt x="356" y="404"/>
                  </a:lnTo>
                  <a:lnTo>
                    <a:pt x="297" y="430"/>
                  </a:lnTo>
                  <a:lnTo>
                    <a:pt x="195" y="443"/>
                  </a:lnTo>
                  <a:lnTo>
                    <a:pt x="191" y="469"/>
                  </a:lnTo>
                  <a:lnTo>
                    <a:pt x="269" y="492"/>
                  </a:lnTo>
                  <a:lnTo>
                    <a:pt x="381" y="513"/>
                  </a:lnTo>
                  <a:lnTo>
                    <a:pt x="487" y="552"/>
                  </a:lnTo>
                  <a:lnTo>
                    <a:pt x="445" y="581"/>
                  </a:lnTo>
                  <a:lnTo>
                    <a:pt x="400" y="591"/>
                  </a:lnTo>
                  <a:lnTo>
                    <a:pt x="337" y="548"/>
                  </a:lnTo>
                  <a:lnTo>
                    <a:pt x="239" y="522"/>
                  </a:lnTo>
                  <a:lnTo>
                    <a:pt x="161" y="503"/>
                  </a:lnTo>
                  <a:lnTo>
                    <a:pt x="161" y="463"/>
                  </a:lnTo>
                  <a:lnTo>
                    <a:pt x="176" y="421"/>
                  </a:lnTo>
                  <a:lnTo>
                    <a:pt x="225" y="404"/>
                  </a:lnTo>
                  <a:lnTo>
                    <a:pt x="381" y="361"/>
                  </a:lnTo>
                  <a:lnTo>
                    <a:pt x="468" y="296"/>
                  </a:lnTo>
                  <a:lnTo>
                    <a:pt x="532" y="227"/>
                  </a:lnTo>
                  <a:lnTo>
                    <a:pt x="517" y="194"/>
                  </a:lnTo>
                  <a:lnTo>
                    <a:pt x="468" y="155"/>
                  </a:lnTo>
                  <a:lnTo>
                    <a:pt x="352" y="99"/>
                  </a:lnTo>
                  <a:lnTo>
                    <a:pt x="210" y="79"/>
                  </a:lnTo>
                  <a:lnTo>
                    <a:pt x="117" y="76"/>
                  </a:lnTo>
                  <a:lnTo>
                    <a:pt x="34" y="76"/>
                  </a:lnTo>
                  <a:lnTo>
                    <a:pt x="0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33240" y="5909040"/>
              <a:ext cx="433080" cy="720360"/>
            </a:xfrm>
            <a:custGeom>
              <a:avLst/>
              <a:gdLst/>
              <a:ahLst/>
              <a:rect l="l" t="t" r="r" b="b"/>
              <a:pathLst>
                <a:path w="755" h="955">
                  <a:moveTo>
                    <a:pt x="87" y="0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49" y="109"/>
                  </a:lnTo>
                  <a:lnTo>
                    <a:pt x="205" y="204"/>
                  </a:lnTo>
                  <a:lnTo>
                    <a:pt x="342" y="325"/>
                  </a:lnTo>
                  <a:lnTo>
                    <a:pt x="431" y="450"/>
                  </a:lnTo>
                  <a:lnTo>
                    <a:pt x="444" y="531"/>
                  </a:lnTo>
                  <a:lnTo>
                    <a:pt x="440" y="591"/>
                  </a:lnTo>
                  <a:lnTo>
                    <a:pt x="402" y="725"/>
                  </a:lnTo>
                  <a:lnTo>
                    <a:pt x="351" y="834"/>
                  </a:lnTo>
                  <a:lnTo>
                    <a:pt x="308" y="896"/>
                  </a:lnTo>
                  <a:lnTo>
                    <a:pt x="298" y="936"/>
                  </a:lnTo>
                  <a:lnTo>
                    <a:pt x="342" y="936"/>
                  </a:lnTo>
                  <a:lnTo>
                    <a:pt x="410" y="923"/>
                  </a:lnTo>
                  <a:lnTo>
                    <a:pt x="431" y="926"/>
                  </a:lnTo>
                  <a:lnTo>
                    <a:pt x="573" y="932"/>
                  </a:lnTo>
                  <a:lnTo>
                    <a:pt x="681" y="955"/>
                  </a:lnTo>
                  <a:lnTo>
                    <a:pt x="719" y="942"/>
                  </a:lnTo>
                  <a:lnTo>
                    <a:pt x="755" y="892"/>
                  </a:lnTo>
                  <a:lnTo>
                    <a:pt x="719" y="866"/>
                  </a:lnTo>
                  <a:lnTo>
                    <a:pt x="558" y="863"/>
                  </a:lnTo>
                  <a:lnTo>
                    <a:pt x="444" y="873"/>
                  </a:lnTo>
                  <a:lnTo>
                    <a:pt x="387" y="892"/>
                  </a:lnTo>
                  <a:lnTo>
                    <a:pt x="396" y="847"/>
                  </a:lnTo>
                  <a:lnTo>
                    <a:pt x="455" y="777"/>
                  </a:lnTo>
                  <a:lnTo>
                    <a:pt x="503" y="670"/>
                  </a:lnTo>
                  <a:lnTo>
                    <a:pt x="543" y="578"/>
                  </a:lnTo>
                  <a:lnTo>
                    <a:pt x="514" y="473"/>
                  </a:lnTo>
                  <a:lnTo>
                    <a:pt x="469" y="361"/>
                  </a:lnTo>
                  <a:lnTo>
                    <a:pt x="381" y="233"/>
                  </a:lnTo>
                  <a:lnTo>
                    <a:pt x="254" y="115"/>
                  </a:lnTo>
                  <a:lnTo>
                    <a:pt x="146" y="2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1440" y="5907600"/>
              <a:ext cx="290160" cy="734040"/>
            </a:xfrm>
            <a:custGeom>
              <a:avLst/>
              <a:gdLst/>
              <a:ahLst/>
              <a:rect l="l" t="t" r="r" b="b"/>
              <a:pathLst>
                <a:path w="508" h="973">
                  <a:moveTo>
                    <a:pt x="351" y="0"/>
                  </a:moveTo>
                  <a:lnTo>
                    <a:pt x="288" y="92"/>
                  </a:lnTo>
                  <a:lnTo>
                    <a:pt x="243" y="226"/>
                  </a:lnTo>
                  <a:lnTo>
                    <a:pt x="190" y="374"/>
                  </a:lnTo>
                  <a:lnTo>
                    <a:pt x="142" y="524"/>
                  </a:lnTo>
                  <a:lnTo>
                    <a:pt x="142" y="580"/>
                  </a:lnTo>
                  <a:lnTo>
                    <a:pt x="190" y="679"/>
                  </a:lnTo>
                  <a:lnTo>
                    <a:pt x="258" y="731"/>
                  </a:lnTo>
                  <a:lnTo>
                    <a:pt x="322" y="797"/>
                  </a:lnTo>
                  <a:lnTo>
                    <a:pt x="366" y="845"/>
                  </a:lnTo>
                  <a:lnTo>
                    <a:pt x="347" y="868"/>
                  </a:lnTo>
                  <a:lnTo>
                    <a:pt x="235" y="878"/>
                  </a:lnTo>
                  <a:lnTo>
                    <a:pt x="53" y="897"/>
                  </a:lnTo>
                  <a:lnTo>
                    <a:pt x="0" y="928"/>
                  </a:lnTo>
                  <a:lnTo>
                    <a:pt x="44" y="954"/>
                  </a:lnTo>
                  <a:lnTo>
                    <a:pt x="146" y="973"/>
                  </a:lnTo>
                  <a:lnTo>
                    <a:pt x="264" y="934"/>
                  </a:lnTo>
                  <a:lnTo>
                    <a:pt x="351" y="907"/>
                  </a:lnTo>
                  <a:lnTo>
                    <a:pt x="463" y="897"/>
                  </a:lnTo>
                  <a:lnTo>
                    <a:pt x="508" y="888"/>
                  </a:lnTo>
                  <a:lnTo>
                    <a:pt x="493" y="855"/>
                  </a:lnTo>
                  <a:lnTo>
                    <a:pt x="366" y="770"/>
                  </a:lnTo>
                  <a:lnTo>
                    <a:pt x="292" y="682"/>
                  </a:lnTo>
                  <a:lnTo>
                    <a:pt x="229" y="622"/>
                  </a:lnTo>
                  <a:lnTo>
                    <a:pt x="220" y="564"/>
                  </a:lnTo>
                  <a:lnTo>
                    <a:pt x="249" y="466"/>
                  </a:lnTo>
                  <a:lnTo>
                    <a:pt x="317" y="364"/>
                  </a:lnTo>
                  <a:lnTo>
                    <a:pt x="391" y="191"/>
                  </a:lnTo>
                  <a:lnTo>
                    <a:pt x="455" y="89"/>
                  </a:lnTo>
                  <a:lnTo>
                    <a:pt x="449" y="29"/>
                  </a:lnTo>
                  <a:lnTo>
                    <a:pt x="391" y="0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1447920" y="4800600"/>
            <a:ext cx="912240" cy="1859040"/>
            <a:chOff x="1447920" y="4800600"/>
            <a:chExt cx="912240" cy="1859040"/>
          </a:xfrm>
        </p:grpSpPr>
        <p:sp>
          <p:nvSpPr>
            <p:cNvPr id="1675" name=""/>
            <p:cNvSpPr/>
            <p:nvPr/>
          </p:nvSpPr>
          <p:spPr>
            <a:xfrm flipH="1">
              <a:off x="1712880" y="4905360"/>
              <a:ext cx="357120" cy="404640"/>
            </a:xfrm>
            <a:custGeom>
              <a:avLst/>
              <a:gdLst/>
              <a:ahLst/>
              <a:rect l="l" t="t" r="r" b="b"/>
              <a:pathLst>
                <a:path w="675" h="511">
                  <a:moveTo>
                    <a:pt x="352" y="118"/>
                  </a:moveTo>
                  <a:lnTo>
                    <a:pt x="293" y="65"/>
                  </a:lnTo>
                  <a:lnTo>
                    <a:pt x="210" y="26"/>
                  </a:lnTo>
                  <a:lnTo>
                    <a:pt x="136" y="0"/>
                  </a:lnTo>
                  <a:lnTo>
                    <a:pt x="77" y="7"/>
                  </a:lnTo>
                  <a:lnTo>
                    <a:pt x="34" y="36"/>
                  </a:lnTo>
                  <a:lnTo>
                    <a:pt x="0" y="125"/>
                  </a:lnTo>
                  <a:lnTo>
                    <a:pt x="14" y="227"/>
                  </a:lnTo>
                  <a:lnTo>
                    <a:pt x="49" y="324"/>
                  </a:lnTo>
                  <a:lnTo>
                    <a:pt x="88" y="400"/>
                  </a:lnTo>
                  <a:lnTo>
                    <a:pt x="161" y="479"/>
                  </a:lnTo>
                  <a:lnTo>
                    <a:pt x="225" y="511"/>
                  </a:lnTo>
                  <a:lnTo>
                    <a:pt x="312" y="511"/>
                  </a:lnTo>
                  <a:lnTo>
                    <a:pt x="401" y="489"/>
                  </a:lnTo>
                  <a:lnTo>
                    <a:pt x="445" y="432"/>
                  </a:lnTo>
                  <a:lnTo>
                    <a:pt x="469" y="361"/>
                  </a:lnTo>
                  <a:lnTo>
                    <a:pt x="460" y="272"/>
                  </a:lnTo>
                  <a:lnTo>
                    <a:pt x="665" y="282"/>
                  </a:lnTo>
                  <a:lnTo>
                    <a:pt x="675" y="243"/>
                  </a:lnTo>
                  <a:lnTo>
                    <a:pt x="440" y="227"/>
                  </a:lnTo>
                  <a:lnTo>
                    <a:pt x="381" y="135"/>
                  </a:lnTo>
                  <a:lnTo>
                    <a:pt x="352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1949040" y="4800600"/>
              <a:ext cx="411120" cy="650880"/>
            </a:xfrm>
            <a:custGeom>
              <a:avLst/>
              <a:gdLst/>
              <a:ahLst/>
              <a:rect l="l" t="t" r="r" b="b"/>
              <a:pathLst>
                <a:path w="777" h="819">
                  <a:moveTo>
                    <a:pt x="453" y="19"/>
                  </a:moveTo>
                  <a:lnTo>
                    <a:pt x="551" y="0"/>
                  </a:lnTo>
                  <a:lnTo>
                    <a:pt x="629" y="3"/>
                  </a:lnTo>
                  <a:lnTo>
                    <a:pt x="688" y="32"/>
                  </a:lnTo>
                  <a:lnTo>
                    <a:pt x="728" y="78"/>
                  </a:lnTo>
                  <a:lnTo>
                    <a:pt x="713" y="127"/>
                  </a:lnTo>
                  <a:lnTo>
                    <a:pt x="659" y="127"/>
                  </a:lnTo>
                  <a:lnTo>
                    <a:pt x="673" y="87"/>
                  </a:lnTo>
                  <a:lnTo>
                    <a:pt x="629" y="52"/>
                  </a:lnTo>
                  <a:lnTo>
                    <a:pt x="586" y="39"/>
                  </a:lnTo>
                  <a:lnTo>
                    <a:pt x="512" y="52"/>
                  </a:lnTo>
                  <a:lnTo>
                    <a:pt x="542" y="91"/>
                  </a:lnTo>
                  <a:lnTo>
                    <a:pt x="551" y="127"/>
                  </a:lnTo>
                  <a:lnTo>
                    <a:pt x="542" y="157"/>
                  </a:lnTo>
                  <a:lnTo>
                    <a:pt x="468" y="170"/>
                  </a:lnTo>
                  <a:lnTo>
                    <a:pt x="390" y="160"/>
                  </a:lnTo>
                  <a:lnTo>
                    <a:pt x="375" y="137"/>
                  </a:lnTo>
                  <a:lnTo>
                    <a:pt x="292" y="199"/>
                  </a:lnTo>
                  <a:lnTo>
                    <a:pt x="244" y="268"/>
                  </a:lnTo>
                  <a:lnTo>
                    <a:pt x="176" y="357"/>
                  </a:lnTo>
                  <a:lnTo>
                    <a:pt x="131" y="435"/>
                  </a:lnTo>
                  <a:lnTo>
                    <a:pt x="112" y="511"/>
                  </a:lnTo>
                  <a:lnTo>
                    <a:pt x="127" y="550"/>
                  </a:lnTo>
                  <a:lnTo>
                    <a:pt x="205" y="600"/>
                  </a:lnTo>
                  <a:lnTo>
                    <a:pt x="366" y="642"/>
                  </a:lnTo>
                  <a:lnTo>
                    <a:pt x="453" y="661"/>
                  </a:lnTo>
                  <a:lnTo>
                    <a:pt x="542" y="671"/>
                  </a:lnTo>
                  <a:lnTo>
                    <a:pt x="673" y="707"/>
                  </a:lnTo>
                  <a:lnTo>
                    <a:pt x="771" y="731"/>
                  </a:lnTo>
                  <a:lnTo>
                    <a:pt x="777" y="776"/>
                  </a:lnTo>
                  <a:lnTo>
                    <a:pt x="728" y="809"/>
                  </a:lnTo>
                  <a:lnTo>
                    <a:pt x="669" y="819"/>
                  </a:lnTo>
                  <a:lnTo>
                    <a:pt x="580" y="789"/>
                  </a:lnTo>
                  <a:lnTo>
                    <a:pt x="375" y="718"/>
                  </a:lnTo>
                  <a:lnTo>
                    <a:pt x="205" y="668"/>
                  </a:lnTo>
                  <a:lnTo>
                    <a:pt x="87" y="613"/>
                  </a:lnTo>
                  <a:lnTo>
                    <a:pt x="9" y="563"/>
                  </a:lnTo>
                  <a:lnTo>
                    <a:pt x="0" y="504"/>
                  </a:lnTo>
                  <a:lnTo>
                    <a:pt x="43" y="425"/>
                  </a:lnTo>
                  <a:lnTo>
                    <a:pt x="131" y="307"/>
                  </a:lnTo>
                  <a:lnTo>
                    <a:pt x="214" y="209"/>
                  </a:lnTo>
                  <a:lnTo>
                    <a:pt x="317" y="108"/>
                  </a:lnTo>
                  <a:lnTo>
                    <a:pt x="396" y="48"/>
                  </a:lnTo>
                  <a:lnTo>
                    <a:pt x="493" y="19"/>
                  </a:lnTo>
                  <a:lnTo>
                    <a:pt x="453" y="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1757160" y="5340240"/>
              <a:ext cx="215640" cy="611280"/>
            </a:xfrm>
            <a:custGeom>
              <a:avLst/>
              <a:gdLst/>
              <a:ahLst/>
              <a:rect l="l" t="t" r="r" b="b"/>
              <a:pathLst>
                <a:path w="406" h="770">
                  <a:moveTo>
                    <a:pt x="25" y="60"/>
                  </a:moveTo>
                  <a:lnTo>
                    <a:pt x="39" y="20"/>
                  </a:lnTo>
                  <a:lnTo>
                    <a:pt x="103" y="0"/>
                  </a:lnTo>
                  <a:lnTo>
                    <a:pt x="160" y="0"/>
                  </a:lnTo>
                  <a:lnTo>
                    <a:pt x="234" y="29"/>
                  </a:lnTo>
                  <a:lnTo>
                    <a:pt x="304" y="99"/>
                  </a:lnTo>
                  <a:lnTo>
                    <a:pt x="352" y="171"/>
                  </a:lnTo>
                  <a:lnTo>
                    <a:pt x="376" y="268"/>
                  </a:lnTo>
                  <a:lnTo>
                    <a:pt x="397" y="383"/>
                  </a:lnTo>
                  <a:lnTo>
                    <a:pt x="406" y="494"/>
                  </a:lnTo>
                  <a:lnTo>
                    <a:pt x="406" y="639"/>
                  </a:lnTo>
                  <a:lnTo>
                    <a:pt x="376" y="727"/>
                  </a:lnTo>
                  <a:lnTo>
                    <a:pt x="323" y="760"/>
                  </a:lnTo>
                  <a:lnTo>
                    <a:pt x="230" y="770"/>
                  </a:lnTo>
                  <a:lnTo>
                    <a:pt x="132" y="767"/>
                  </a:lnTo>
                  <a:lnTo>
                    <a:pt x="82" y="727"/>
                  </a:lnTo>
                  <a:lnTo>
                    <a:pt x="54" y="659"/>
                  </a:lnTo>
                  <a:lnTo>
                    <a:pt x="29" y="590"/>
                  </a:lnTo>
                  <a:lnTo>
                    <a:pt x="10" y="465"/>
                  </a:lnTo>
                  <a:lnTo>
                    <a:pt x="0" y="325"/>
                  </a:lnTo>
                  <a:lnTo>
                    <a:pt x="0" y="161"/>
                  </a:lnTo>
                  <a:lnTo>
                    <a:pt x="25" y="89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1546200" y="5357880"/>
              <a:ext cx="326880" cy="468360"/>
            </a:xfrm>
            <a:custGeom>
              <a:avLst/>
              <a:gdLst/>
              <a:ahLst/>
              <a:rect l="l" t="t" r="r" b="b"/>
              <a:pathLst>
                <a:path w="620" h="591">
                  <a:moveTo>
                    <a:pt x="34" y="0"/>
                  </a:moveTo>
                  <a:lnTo>
                    <a:pt x="161" y="11"/>
                  </a:lnTo>
                  <a:lnTo>
                    <a:pt x="293" y="27"/>
                  </a:lnTo>
                  <a:lnTo>
                    <a:pt x="430" y="79"/>
                  </a:lnTo>
                  <a:lnTo>
                    <a:pt x="527" y="118"/>
                  </a:lnTo>
                  <a:lnTo>
                    <a:pt x="591" y="175"/>
                  </a:lnTo>
                  <a:lnTo>
                    <a:pt x="620" y="207"/>
                  </a:lnTo>
                  <a:lnTo>
                    <a:pt x="561" y="303"/>
                  </a:lnTo>
                  <a:lnTo>
                    <a:pt x="468" y="361"/>
                  </a:lnTo>
                  <a:lnTo>
                    <a:pt x="356" y="404"/>
                  </a:lnTo>
                  <a:lnTo>
                    <a:pt x="297" y="430"/>
                  </a:lnTo>
                  <a:lnTo>
                    <a:pt x="195" y="443"/>
                  </a:lnTo>
                  <a:lnTo>
                    <a:pt x="191" y="469"/>
                  </a:lnTo>
                  <a:lnTo>
                    <a:pt x="269" y="492"/>
                  </a:lnTo>
                  <a:lnTo>
                    <a:pt x="381" y="513"/>
                  </a:lnTo>
                  <a:lnTo>
                    <a:pt x="487" y="552"/>
                  </a:lnTo>
                  <a:lnTo>
                    <a:pt x="445" y="581"/>
                  </a:lnTo>
                  <a:lnTo>
                    <a:pt x="400" y="591"/>
                  </a:lnTo>
                  <a:lnTo>
                    <a:pt x="337" y="548"/>
                  </a:lnTo>
                  <a:lnTo>
                    <a:pt x="239" y="522"/>
                  </a:lnTo>
                  <a:lnTo>
                    <a:pt x="161" y="503"/>
                  </a:lnTo>
                  <a:lnTo>
                    <a:pt x="161" y="463"/>
                  </a:lnTo>
                  <a:lnTo>
                    <a:pt x="176" y="421"/>
                  </a:lnTo>
                  <a:lnTo>
                    <a:pt x="225" y="404"/>
                  </a:lnTo>
                  <a:lnTo>
                    <a:pt x="381" y="361"/>
                  </a:lnTo>
                  <a:lnTo>
                    <a:pt x="468" y="296"/>
                  </a:lnTo>
                  <a:lnTo>
                    <a:pt x="532" y="227"/>
                  </a:lnTo>
                  <a:lnTo>
                    <a:pt x="517" y="194"/>
                  </a:lnTo>
                  <a:lnTo>
                    <a:pt x="468" y="155"/>
                  </a:lnTo>
                  <a:lnTo>
                    <a:pt x="352" y="99"/>
                  </a:lnTo>
                  <a:lnTo>
                    <a:pt x="210" y="79"/>
                  </a:lnTo>
                  <a:lnTo>
                    <a:pt x="117" y="76"/>
                  </a:lnTo>
                  <a:lnTo>
                    <a:pt x="34" y="76"/>
                  </a:lnTo>
                  <a:lnTo>
                    <a:pt x="0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1447920" y="5887800"/>
              <a:ext cx="399600" cy="758880"/>
            </a:xfrm>
            <a:custGeom>
              <a:avLst/>
              <a:gdLst/>
              <a:ahLst/>
              <a:rect l="l" t="t" r="r" b="b"/>
              <a:pathLst>
                <a:path w="755" h="955">
                  <a:moveTo>
                    <a:pt x="87" y="0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49" y="109"/>
                  </a:lnTo>
                  <a:lnTo>
                    <a:pt x="205" y="204"/>
                  </a:lnTo>
                  <a:lnTo>
                    <a:pt x="342" y="325"/>
                  </a:lnTo>
                  <a:lnTo>
                    <a:pt x="431" y="450"/>
                  </a:lnTo>
                  <a:lnTo>
                    <a:pt x="444" y="531"/>
                  </a:lnTo>
                  <a:lnTo>
                    <a:pt x="440" y="591"/>
                  </a:lnTo>
                  <a:lnTo>
                    <a:pt x="402" y="725"/>
                  </a:lnTo>
                  <a:lnTo>
                    <a:pt x="351" y="834"/>
                  </a:lnTo>
                  <a:lnTo>
                    <a:pt x="308" y="896"/>
                  </a:lnTo>
                  <a:lnTo>
                    <a:pt x="298" y="936"/>
                  </a:lnTo>
                  <a:lnTo>
                    <a:pt x="342" y="936"/>
                  </a:lnTo>
                  <a:lnTo>
                    <a:pt x="410" y="923"/>
                  </a:lnTo>
                  <a:lnTo>
                    <a:pt x="431" y="926"/>
                  </a:lnTo>
                  <a:lnTo>
                    <a:pt x="573" y="932"/>
                  </a:lnTo>
                  <a:lnTo>
                    <a:pt x="681" y="955"/>
                  </a:lnTo>
                  <a:lnTo>
                    <a:pt x="719" y="942"/>
                  </a:lnTo>
                  <a:lnTo>
                    <a:pt x="755" y="892"/>
                  </a:lnTo>
                  <a:lnTo>
                    <a:pt x="719" y="866"/>
                  </a:lnTo>
                  <a:lnTo>
                    <a:pt x="558" y="863"/>
                  </a:lnTo>
                  <a:lnTo>
                    <a:pt x="444" y="873"/>
                  </a:lnTo>
                  <a:lnTo>
                    <a:pt x="387" y="892"/>
                  </a:lnTo>
                  <a:lnTo>
                    <a:pt x="396" y="847"/>
                  </a:lnTo>
                  <a:lnTo>
                    <a:pt x="455" y="777"/>
                  </a:lnTo>
                  <a:lnTo>
                    <a:pt x="503" y="670"/>
                  </a:lnTo>
                  <a:lnTo>
                    <a:pt x="543" y="578"/>
                  </a:lnTo>
                  <a:lnTo>
                    <a:pt x="514" y="473"/>
                  </a:lnTo>
                  <a:lnTo>
                    <a:pt x="469" y="361"/>
                  </a:lnTo>
                  <a:lnTo>
                    <a:pt x="381" y="233"/>
                  </a:lnTo>
                  <a:lnTo>
                    <a:pt x="254" y="115"/>
                  </a:lnTo>
                  <a:lnTo>
                    <a:pt x="146" y="2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1830600" y="5886360"/>
              <a:ext cx="267840" cy="773280"/>
            </a:xfrm>
            <a:custGeom>
              <a:avLst/>
              <a:gdLst/>
              <a:ahLst/>
              <a:rect l="l" t="t" r="r" b="b"/>
              <a:pathLst>
                <a:path w="508" h="973">
                  <a:moveTo>
                    <a:pt x="351" y="0"/>
                  </a:moveTo>
                  <a:lnTo>
                    <a:pt x="288" y="92"/>
                  </a:lnTo>
                  <a:lnTo>
                    <a:pt x="243" y="226"/>
                  </a:lnTo>
                  <a:lnTo>
                    <a:pt x="190" y="374"/>
                  </a:lnTo>
                  <a:lnTo>
                    <a:pt x="142" y="524"/>
                  </a:lnTo>
                  <a:lnTo>
                    <a:pt x="142" y="580"/>
                  </a:lnTo>
                  <a:lnTo>
                    <a:pt x="190" y="679"/>
                  </a:lnTo>
                  <a:lnTo>
                    <a:pt x="258" y="731"/>
                  </a:lnTo>
                  <a:lnTo>
                    <a:pt x="322" y="797"/>
                  </a:lnTo>
                  <a:lnTo>
                    <a:pt x="366" y="845"/>
                  </a:lnTo>
                  <a:lnTo>
                    <a:pt x="347" y="868"/>
                  </a:lnTo>
                  <a:lnTo>
                    <a:pt x="235" y="878"/>
                  </a:lnTo>
                  <a:lnTo>
                    <a:pt x="53" y="897"/>
                  </a:lnTo>
                  <a:lnTo>
                    <a:pt x="0" y="928"/>
                  </a:lnTo>
                  <a:lnTo>
                    <a:pt x="44" y="954"/>
                  </a:lnTo>
                  <a:lnTo>
                    <a:pt x="146" y="973"/>
                  </a:lnTo>
                  <a:lnTo>
                    <a:pt x="264" y="934"/>
                  </a:lnTo>
                  <a:lnTo>
                    <a:pt x="351" y="907"/>
                  </a:lnTo>
                  <a:lnTo>
                    <a:pt x="463" y="897"/>
                  </a:lnTo>
                  <a:lnTo>
                    <a:pt x="508" y="888"/>
                  </a:lnTo>
                  <a:lnTo>
                    <a:pt x="493" y="855"/>
                  </a:lnTo>
                  <a:lnTo>
                    <a:pt x="366" y="770"/>
                  </a:lnTo>
                  <a:lnTo>
                    <a:pt x="292" y="682"/>
                  </a:lnTo>
                  <a:lnTo>
                    <a:pt x="229" y="622"/>
                  </a:lnTo>
                  <a:lnTo>
                    <a:pt x="220" y="564"/>
                  </a:lnTo>
                  <a:lnTo>
                    <a:pt x="249" y="466"/>
                  </a:lnTo>
                  <a:lnTo>
                    <a:pt x="317" y="364"/>
                  </a:lnTo>
                  <a:lnTo>
                    <a:pt x="391" y="191"/>
                  </a:lnTo>
                  <a:lnTo>
                    <a:pt x="455" y="89"/>
                  </a:lnTo>
                  <a:lnTo>
                    <a:pt x="449" y="29"/>
                  </a:lnTo>
                  <a:lnTo>
                    <a:pt x="391" y="0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660240" y="3809880"/>
            <a:ext cx="990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rogramowanie para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274284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Kod jest własnością całego zespoł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System zarządzania wersjam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Otwarta przestrzeń pracy dla zespoł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533520" y="3505320"/>
            <a:ext cx="1446840" cy="1371240"/>
            <a:chOff x="533520" y="3505320"/>
            <a:chExt cx="1446840" cy="1371240"/>
          </a:xfrm>
        </p:grpSpPr>
        <p:sp>
          <p:nvSpPr>
            <p:cNvPr id="1685" name=""/>
            <p:cNvSpPr/>
            <p:nvPr/>
          </p:nvSpPr>
          <p:spPr>
            <a:xfrm>
              <a:off x="547560" y="3522240"/>
              <a:ext cx="1426320" cy="1338840"/>
            </a:xfrm>
            <a:custGeom>
              <a:avLst/>
              <a:gdLst/>
              <a:ahLst/>
              <a:rect l="l" t="t" r="r" b="b"/>
              <a:pathLst>
                <a:path w="1765" h="1891">
                  <a:moveTo>
                    <a:pt x="332" y="1263"/>
                  </a:moveTo>
                  <a:lnTo>
                    <a:pt x="196" y="1385"/>
                  </a:lnTo>
                  <a:lnTo>
                    <a:pt x="26" y="1533"/>
                  </a:lnTo>
                  <a:lnTo>
                    <a:pt x="26" y="1659"/>
                  </a:lnTo>
                  <a:lnTo>
                    <a:pt x="54" y="1891"/>
                  </a:lnTo>
                  <a:lnTo>
                    <a:pt x="340" y="1881"/>
                  </a:lnTo>
                  <a:lnTo>
                    <a:pt x="660" y="1847"/>
                  </a:lnTo>
                  <a:lnTo>
                    <a:pt x="1135" y="1837"/>
                  </a:lnTo>
                  <a:lnTo>
                    <a:pt x="1493" y="1847"/>
                  </a:lnTo>
                  <a:lnTo>
                    <a:pt x="1617" y="1617"/>
                  </a:lnTo>
                  <a:lnTo>
                    <a:pt x="1765" y="1169"/>
                  </a:lnTo>
                  <a:lnTo>
                    <a:pt x="1737" y="1034"/>
                  </a:lnTo>
                  <a:lnTo>
                    <a:pt x="1683" y="980"/>
                  </a:lnTo>
                  <a:lnTo>
                    <a:pt x="1523" y="990"/>
                  </a:lnTo>
                  <a:lnTo>
                    <a:pt x="1597" y="650"/>
                  </a:lnTo>
                  <a:lnTo>
                    <a:pt x="1607" y="544"/>
                  </a:lnTo>
                  <a:lnTo>
                    <a:pt x="1569" y="280"/>
                  </a:lnTo>
                  <a:lnTo>
                    <a:pt x="1531" y="84"/>
                  </a:lnTo>
                  <a:lnTo>
                    <a:pt x="1465" y="0"/>
                  </a:lnTo>
                  <a:lnTo>
                    <a:pt x="1415" y="0"/>
                  </a:lnTo>
                  <a:lnTo>
                    <a:pt x="1285" y="22"/>
                  </a:lnTo>
                  <a:lnTo>
                    <a:pt x="1077" y="32"/>
                  </a:lnTo>
                  <a:lnTo>
                    <a:pt x="941" y="12"/>
                  </a:lnTo>
                  <a:lnTo>
                    <a:pt x="794" y="4"/>
                  </a:lnTo>
                  <a:lnTo>
                    <a:pt x="738" y="18"/>
                  </a:lnTo>
                  <a:lnTo>
                    <a:pt x="612" y="76"/>
                  </a:lnTo>
                  <a:lnTo>
                    <a:pt x="426" y="126"/>
                  </a:lnTo>
                  <a:lnTo>
                    <a:pt x="190" y="208"/>
                  </a:lnTo>
                  <a:lnTo>
                    <a:pt x="100" y="260"/>
                  </a:lnTo>
                  <a:lnTo>
                    <a:pt x="18" y="348"/>
                  </a:lnTo>
                  <a:lnTo>
                    <a:pt x="0" y="478"/>
                  </a:lnTo>
                  <a:lnTo>
                    <a:pt x="0" y="694"/>
                  </a:lnTo>
                  <a:lnTo>
                    <a:pt x="10" y="950"/>
                  </a:lnTo>
                  <a:lnTo>
                    <a:pt x="28" y="1100"/>
                  </a:lnTo>
                  <a:lnTo>
                    <a:pt x="64" y="1187"/>
                  </a:lnTo>
                  <a:lnTo>
                    <a:pt x="120" y="1231"/>
                  </a:lnTo>
                  <a:lnTo>
                    <a:pt x="186" y="1249"/>
                  </a:lnTo>
                  <a:lnTo>
                    <a:pt x="332" y="1263"/>
                  </a:lnTo>
                  <a:close/>
                </a:path>
              </a:pathLst>
            </a:custGeom>
            <a:solidFill>
              <a:srgbClr val="c3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080" y="3764520"/>
              <a:ext cx="835200" cy="553680"/>
            </a:xfrm>
            <a:custGeom>
              <a:avLst/>
              <a:gdLst/>
              <a:ahLst/>
              <a:rect l="l" t="t" r="r" b="b"/>
              <a:pathLst>
                <a:path w="1033" h="784">
                  <a:moveTo>
                    <a:pt x="6" y="214"/>
                  </a:moveTo>
                  <a:lnTo>
                    <a:pt x="16" y="70"/>
                  </a:lnTo>
                  <a:lnTo>
                    <a:pt x="38" y="28"/>
                  </a:lnTo>
                  <a:lnTo>
                    <a:pt x="102" y="12"/>
                  </a:lnTo>
                  <a:lnTo>
                    <a:pt x="358" y="4"/>
                  </a:lnTo>
                  <a:lnTo>
                    <a:pt x="672" y="0"/>
                  </a:lnTo>
                  <a:lnTo>
                    <a:pt x="855" y="4"/>
                  </a:lnTo>
                  <a:lnTo>
                    <a:pt x="899" y="32"/>
                  </a:lnTo>
                  <a:lnTo>
                    <a:pt x="931" y="86"/>
                  </a:lnTo>
                  <a:lnTo>
                    <a:pt x="979" y="318"/>
                  </a:lnTo>
                  <a:lnTo>
                    <a:pt x="1023" y="574"/>
                  </a:lnTo>
                  <a:lnTo>
                    <a:pt x="1033" y="736"/>
                  </a:lnTo>
                  <a:lnTo>
                    <a:pt x="1017" y="764"/>
                  </a:lnTo>
                  <a:lnTo>
                    <a:pt x="961" y="784"/>
                  </a:lnTo>
                  <a:lnTo>
                    <a:pt x="692" y="778"/>
                  </a:lnTo>
                  <a:lnTo>
                    <a:pt x="276" y="758"/>
                  </a:lnTo>
                  <a:lnTo>
                    <a:pt x="72" y="740"/>
                  </a:lnTo>
                  <a:lnTo>
                    <a:pt x="38" y="698"/>
                  </a:lnTo>
                  <a:lnTo>
                    <a:pt x="20" y="616"/>
                  </a:lnTo>
                  <a:lnTo>
                    <a:pt x="0" y="414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533520" y="3505320"/>
              <a:ext cx="1446840" cy="1371240"/>
              <a:chOff x="533520" y="3505320"/>
              <a:chExt cx="1446840" cy="1371240"/>
            </a:xfrm>
          </p:grpSpPr>
          <p:sp>
            <p:nvSpPr>
              <p:cNvPr id="1688" name=""/>
              <p:cNvSpPr/>
              <p:nvPr/>
            </p:nvSpPr>
            <p:spPr>
              <a:xfrm>
                <a:off x="546120" y="4196520"/>
                <a:ext cx="1434240" cy="680040"/>
              </a:xfrm>
              <a:custGeom>
                <a:avLst/>
                <a:gdLst/>
                <a:ahLst/>
                <a:rect l="l" t="t" r="r" b="b"/>
                <a:pathLst>
                  <a:path w="1775" h="959">
                    <a:moveTo>
                      <a:pt x="0" y="579"/>
                    </a:moveTo>
                    <a:lnTo>
                      <a:pt x="220" y="389"/>
                    </a:lnTo>
                    <a:lnTo>
                      <a:pt x="226" y="433"/>
                    </a:lnTo>
                    <a:lnTo>
                      <a:pt x="76" y="569"/>
                    </a:lnTo>
                    <a:lnTo>
                      <a:pt x="340" y="557"/>
                    </a:lnTo>
                    <a:lnTo>
                      <a:pt x="898" y="559"/>
                    </a:lnTo>
                    <a:lnTo>
                      <a:pt x="1193" y="537"/>
                    </a:lnTo>
                    <a:lnTo>
                      <a:pt x="1379" y="503"/>
                    </a:lnTo>
                    <a:lnTo>
                      <a:pt x="1425" y="491"/>
                    </a:lnTo>
                    <a:lnTo>
                      <a:pt x="1643" y="54"/>
                    </a:lnTo>
                    <a:lnTo>
                      <a:pt x="1541" y="26"/>
                    </a:lnTo>
                    <a:lnTo>
                      <a:pt x="1693" y="0"/>
                    </a:lnTo>
                    <a:lnTo>
                      <a:pt x="1749" y="48"/>
                    </a:lnTo>
                    <a:lnTo>
                      <a:pt x="1775" y="209"/>
                    </a:lnTo>
                    <a:lnTo>
                      <a:pt x="1731" y="341"/>
                    </a:lnTo>
                    <a:lnTo>
                      <a:pt x="1589" y="769"/>
                    </a:lnTo>
                    <a:lnTo>
                      <a:pt x="1523" y="901"/>
                    </a:lnTo>
                    <a:lnTo>
                      <a:pt x="1463" y="917"/>
                    </a:lnTo>
                    <a:lnTo>
                      <a:pt x="1013" y="909"/>
                    </a:lnTo>
                    <a:lnTo>
                      <a:pt x="542" y="921"/>
                    </a:lnTo>
                    <a:lnTo>
                      <a:pt x="94" y="955"/>
                    </a:lnTo>
                    <a:lnTo>
                      <a:pt x="28" y="959"/>
                    </a:lnTo>
                    <a:lnTo>
                      <a:pt x="22" y="833"/>
                    </a:lnTo>
                    <a:lnTo>
                      <a:pt x="12" y="709"/>
                    </a:lnTo>
                    <a:lnTo>
                      <a:pt x="10" y="643"/>
                    </a:lnTo>
                    <a:lnTo>
                      <a:pt x="48" y="683"/>
                    </a:lnTo>
                    <a:lnTo>
                      <a:pt x="56" y="785"/>
                    </a:lnTo>
                    <a:lnTo>
                      <a:pt x="70" y="893"/>
                    </a:lnTo>
                    <a:lnTo>
                      <a:pt x="198" y="911"/>
                    </a:lnTo>
                    <a:lnTo>
                      <a:pt x="492" y="883"/>
                    </a:lnTo>
                    <a:lnTo>
                      <a:pt x="740" y="863"/>
                    </a:lnTo>
                    <a:lnTo>
                      <a:pt x="947" y="863"/>
                    </a:lnTo>
                    <a:lnTo>
                      <a:pt x="1259" y="863"/>
                    </a:lnTo>
                    <a:lnTo>
                      <a:pt x="1457" y="861"/>
                    </a:lnTo>
                    <a:lnTo>
                      <a:pt x="1463" y="803"/>
                    </a:lnTo>
                    <a:lnTo>
                      <a:pt x="1445" y="681"/>
                    </a:lnTo>
                    <a:lnTo>
                      <a:pt x="1429" y="547"/>
                    </a:lnTo>
                    <a:lnTo>
                      <a:pt x="1457" y="579"/>
                    </a:lnTo>
                    <a:lnTo>
                      <a:pt x="1485" y="727"/>
                    </a:lnTo>
                    <a:lnTo>
                      <a:pt x="1511" y="803"/>
                    </a:lnTo>
                    <a:lnTo>
                      <a:pt x="1541" y="765"/>
                    </a:lnTo>
                    <a:lnTo>
                      <a:pt x="1595" y="617"/>
                    </a:lnTo>
                    <a:lnTo>
                      <a:pt x="1675" y="407"/>
                    </a:lnTo>
                    <a:lnTo>
                      <a:pt x="1731" y="237"/>
                    </a:lnTo>
                    <a:lnTo>
                      <a:pt x="1741" y="186"/>
                    </a:lnTo>
                    <a:lnTo>
                      <a:pt x="1713" y="66"/>
                    </a:lnTo>
                    <a:lnTo>
                      <a:pt x="1683" y="58"/>
                    </a:lnTo>
                    <a:lnTo>
                      <a:pt x="1623" y="199"/>
                    </a:lnTo>
                    <a:lnTo>
                      <a:pt x="1519" y="385"/>
                    </a:lnTo>
                    <a:lnTo>
                      <a:pt x="1445" y="529"/>
                    </a:lnTo>
                    <a:lnTo>
                      <a:pt x="1369" y="551"/>
                    </a:lnTo>
                    <a:lnTo>
                      <a:pt x="1097" y="585"/>
                    </a:lnTo>
                    <a:lnTo>
                      <a:pt x="778" y="605"/>
                    </a:lnTo>
                    <a:lnTo>
                      <a:pt x="462" y="605"/>
                    </a:lnTo>
                    <a:lnTo>
                      <a:pt x="104" y="607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11080" y="4427640"/>
                <a:ext cx="741600" cy="148680"/>
              </a:xfrm>
              <a:custGeom>
                <a:avLst/>
                <a:gdLst/>
                <a:ahLst/>
                <a:rect l="l" t="t" r="r" b="b"/>
                <a:pathLst>
                  <a:path w="917" h="210">
                    <a:moveTo>
                      <a:pt x="22" y="38"/>
                    </a:moveTo>
                    <a:lnTo>
                      <a:pt x="86" y="0"/>
                    </a:lnTo>
                    <a:lnTo>
                      <a:pt x="118" y="10"/>
                    </a:lnTo>
                    <a:lnTo>
                      <a:pt x="98" y="58"/>
                    </a:lnTo>
                    <a:lnTo>
                      <a:pt x="50" y="88"/>
                    </a:lnTo>
                    <a:lnTo>
                      <a:pt x="142" y="132"/>
                    </a:lnTo>
                    <a:lnTo>
                      <a:pt x="280" y="138"/>
                    </a:lnTo>
                    <a:lnTo>
                      <a:pt x="400" y="128"/>
                    </a:lnTo>
                    <a:lnTo>
                      <a:pt x="486" y="118"/>
                    </a:lnTo>
                    <a:lnTo>
                      <a:pt x="647" y="102"/>
                    </a:lnTo>
                    <a:lnTo>
                      <a:pt x="751" y="92"/>
                    </a:lnTo>
                    <a:lnTo>
                      <a:pt x="819" y="72"/>
                    </a:lnTo>
                    <a:lnTo>
                      <a:pt x="885" y="30"/>
                    </a:lnTo>
                    <a:lnTo>
                      <a:pt x="879" y="0"/>
                    </a:lnTo>
                    <a:lnTo>
                      <a:pt x="917" y="10"/>
                    </a:lnTo>
                    <a:lnTo>
                      <a:pt x="907" y="112"/>
                    </a:lnTo>
                    <a:lnTo>
                      <a:pt x="809" y="160"/>
                    </a:lnTo>
                    <a:lnTo>
                      <a:pt x="594" y="172"/>
                    </a:lnTo>
                    <a:lnTo>
                      <a:pt x="374" y="194"/>
                    </a:lnTo>
                    <a:lnTo>
                      <a:pt x="248" y="210"/>
                    </a:lnTo>
                    <a:lnTo>
                      <a:pt x="96" y="172"/>
                    </a:lnTo>
                    <a:lnTo>
                      <a:pt x="22" y="150"/>
                    </a:lnTo>
                    <a:lnTo>
                      <a:pt x="0" y="92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96240" y="4678560"/>
                <a:ext cx="77400" cy="594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40240" y="4671360"/>
                <a:ext cx="77400" cy="594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" y="4"/>
                    </a:moveTo>
                    <a:lnTo>
                      <a:pt x="92" y="0"/>
                    </a:lnTo>
                    <a:lnTo>
                      <a:pt x="96" y="84"/>
                    </a:lnTo>
                    <a:lnTo>
                      <a:pt x="0" y="8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0400" y="4653000"/>
                <a:ext cx="315000" cy="69120"/>
              </a:xfrm>
              <a:custGeom>
                <a:avLst/>
                <a:gdLst/>
                <a:ahLst/>
                <a:rect l="l" t="t" r="r" b="b"/>
                <a:pathLst>
                  <a:path w="390" h="98">
                    <a:moveTo>
                      <a:pt x="0" y="30"/>
                    </a:moveTo>
                    <a:lnTo>
                      <a:pt x="380" y="0"/>
                    </a:lnTo>
                    <a:lnTo>
                      <a:pt x="390" y="64"/>
                    </a:lnTo>
                    <a:lnTo>
                      <a:pt x="0" y="9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33520" y="3505320"/>
                <a:ext cx="1325880" cy="914040"/>
              </a:xfrm>
              <a:custGeom>
                <a:avLst/>
                <a:gdLst/>
                <a:ahLst/>
                <a:rect l="l" t="t" r="r" b="b"/>
                <a:pathLst>
                  <a:path w="1641" h="1291">
                    <a:moveTo>
                      <a:pt x="138" y="1231"/>
                    </a:moveTo>
                    <a:lnTo>
                      <a:pt x="92" y="1183"/>
                    </a:lnTo>
                    <a:lnTo>
                      <a:pt x="64" y="1102"/>
                    </a:lnTo>
                    <a:lnTo>
                      <a:pt x="54" y="920"/>
                    </a:lnTo>
                    <a:lnTo>
                      <a:pt x="54" y="618"/>
                    </a:lnTo>
                    <a:lnTo>
                      <a:pt x="64" y="390"/>
                    </a:lnTo>
                    <a:lnTo>
                      <a:pt x="92" y="338"/>
                    </a:lnTo>
                    <a:lnTo>
                      <a:pt x="142" y="272"/>
                    </a:lnTo>
                    <a:lnTo>
                      <a:pt x="264" y="224"/>
                    </a:lnTo>
                    <a:lnTo>
                      <a:pt x="480" y="160"/>
                    </a:lnTo>
                    <a:lnTo>
                      <a:pt x="658" y="114"/>
                    </a:lnTo>
                    <a:lnTo>
                      <a:pt x="738" y="66"/>
                    </a:lnTo>
                    <a:lnTo>
                      <a:pt x="880" y="54"/>
                    </a:lnTo>
                    <a:lnTo>
                      <a:pt x="1131" y="76"/>
                    </a:lnTo>
                    <a:lnTo>
                      <a:pt x="1339" y="64"/>
                    </a:lnTo>
                    <a:lnTo>
                      <a:pt x="1427" y="44"/>
                    </a:lnTo>
                    <a:lnTo>
                      <a:pt x="1499" y="64"/>
                    </a:lnTo>
                    <a:lnTo>
                      <a:pt x="1547" y="190"/>
                    </a:lnTo>
                    <a:lnTo>
                      <a:pt x="1577" y="420"/>
                    </a:lnTo>
                    <a:lnTo>
                      <a:pt x="1607" y="602"/>
                    </a:lnTo>
                    <a:lnTo>
                      <a:pt x="1593" y="686"/>
                    </a:lnTo>
                    <a:lnTo>
                      <a:pt x="1537" y="892"/>
                    </a:lnTo>
                    <a:lnTo>
                      <a:pt x="1465" y="1100"/>
                    </a:lnTo>
                    <a:lnTo>
                      <a:pt x="1417" y="1177"/>
                    </a:lnTo>
                    <a:lnTo>
                      <a:pt x="1385" y="1215"/>
                    </a:lnTo>
                    <a:lnTo>
                      <a:pt x="1433" y="1243"/>
                    </a:lnTo>
                    <a:lnTo>
                      <a:pt x="1483" y="1156"/>
                    </a:lnTo>
                    <a:lnTo>
                      <a:pt x="1559" y="970"/>
                    </a:lnTo>
                    <a:lnTo>
                      <a:pt x="1615" y="772"/>
                    </a:lnTo>
                    <a:lnTo>
                      <a:pt x="1635" y="674"/>
                    </a:lnTo>
                    <a:lnTo>
                      <a:pt x="1641" y="582"/>
                    </a:lnTo>
                    <a:lnTo>
                      <a:pt x="1623" y="428"/>
                    </a:lnTo>
                    <a:lnTo>
                      <a:pt x="1593" y="198"/>
                    </a:lnTo>
                    <a:lnTo>
                      <a:pt x="1549" y="72"/>
                    </a:lnTo>
                    <a:lnTo>
                      <a:pt x="1509" y="16"/>
                    </a:lnTo>
                    <a:lnTo>
                      <a:pt x="1443" y="0"/>
                    </a:lnTo>
                    <a:lnTo>
                      <a:pt x="1357" y="26"/>
                    </a:lnTo>
                    <a:lnTo>
                      <a:pt x="1229" y="34"/>
                    </a:lnTo>
                    <a:lnTo>
                      <a:pt x="1065" y="34"/>
                    </a:lnTo>
                    <a:lnTo>
                      <a:pt x="896" y="10"/>
                    </a:lnTo>
                    <a:lnTo>
                      <a:pt x="782" y="16"/>
                    </a:lnTo>
                    <a:lnTo>
                      <a:pt x="724" y="38"/>
                    </a:lnTo>
                    <a:lnTo>
                      <a:pt x="596" y="100"/>
                    </a:lnTo>
                    <a:lnTo>
                      <a:pt x="350" y="168"/>
                    </a:lnTo>
                    <a:lnTo>
                      <a:pt x="114" y="246"/>
                    </a:lnTo>
                    <a:lnTo>
                      <a:pt x="48" y="328"/>
                    </a:lnTo>
                    <a:lnTo>
                      <a:pt x="6" y="438"/>
                    </a:lnTo>
                    <a:lnTo>
                      <a:pt x="0" y="658"/>
                    </a:lnTo>
                    <a:lnTo>
                      <a:pt x="10" y="866"/>
                    </a:lnTo>
                    <a:lnTo>
                      <a:pt x="18" y="1080"/>
                    </a:lnTo>
                    <a:lnTo>
                      <a:pt x="56" y="1203"/>
                    </a:lnTo>
                    <a:lnTo>
                      <a:pt x="94" y="1269"/>
                    </a:lnTo>
                    <a:lnTo>
                      <a:pt x="160" y="1291"/>
                    </a:lnTo>
                    <a:lnTo>
                      <a:pt x="198" y="1279"/>
                    </a:lnTo>
                    <a:lnTo>
                      <a:pt x="138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22440" y="3522240"/>
                <a:ext cx="1141560" cy="911160"/>
              </a:xfrm>
              <a:custGeom>
                <a:avLst/>
                <a:gdLst/>
                <a:ahLst/>
                <a:rect l="l" t="t" r="r" b="b"/>
                <a:pathLst>
                  <a:path w="1413" h="1287">
                    <a:moveTo>
                      <a:pt x="22" y="1221"/>
                    </a:moveTo>
                    <a:lnTo>
                      <a:pt x="258" y="1237"/>
                    </a:lnTo>
                    <a:lnTo>
                      <a:pt x="588" y="1245"/>
                    </a:lnTo>
                    <a:lnTo>
                      <a:pt x="851" y="1245"/>
                    </a:lnTo>
                    <a:lnTo>
                      <a:pt x="1087" y="1217"/>
                    </a:lnTo>
                    <a:lnTo>
                      <a:pt x="1243" y="1193"/>
                    </a:lnTo>
                    <a:lnTo>
                      <a:pt x="1287" y="1171"/>
                    </a:lnTo>
                    <a:lnTo>
                      <a:pt x="1287" y="1058"/>
                    </a:lnTo>
                    <a:lnTo>
                      <a:pt x="1229" y="754"/>
                    </a:lnTo>
                    <a:lnTo>
                      <a:pt x="1163" y="386"/>
                    </a:lnTo>
                    <a:lnTo>
                      <a:pt x="1129" y="252"/>
                    </a:lnTo>
                    <a:lnTo>
                      <a:pt x="1097" y="202"/>
                    </a:lnTo>
                    <a:lnTo>
                      <a:pt x="692" y="246"/>
                    </a:lnTo>
                    <a:lnTo>
                      <a:pt x="294" y="256"/>
                    </a:lnTo>
                    <a:lnTo>
                      <a:pt x="76" y="262"/>
                    </a:lnTo>
                    <a:lnTo>
                      <a:pt x="0" y="272"/>
                    </a:lnTo>
                    <a:lnTo>
                      <a:pt x="42" y="218"/>
                    </a:lnTo>
                    <a:lnTo>
                      <a:pt x="136" y="228"/>
                    </a:lnTo>
                    <a:lnTo>
                      <a:pt x="408" y="218"/>
                    </a:lnTo>
                    <a:lnTo>
                      <a:pt x="666" y="202"/>
                    </a:lnTo>
                    <a:lnTo>
                      <a:pt x="893" y="184"/>
                    </a:lnTo>
                    <a:lnTo>
                      <a:pt x="1111" y="164"/>
                    </a:lnTo>
                    <a:lnTo>
                      <a:pt x="1281" y="86"/>
                    </a:lnTo>
                    <a:lnTo>
                      <a:pt x="1375" y="0"/>
                    </a:lnTo>
                    <a:lnTo>
                      <a:pt x="1413" y="42"/>
                    </a:lnTo>
                    <a:lnTo>
                      <a:pt x="1325" y="94"/>
                    </a:lnTo>
                    <a:lnTo>
                      <a:pt x="1195" y="180"/>
                    </a:lnTo>
                    <a:lnTo>
                      <a:pt x="1155" y="208"/>
                    </a:lnTo>
                    <a:lnTo>
                      <a:pt x="1201" y="404"/>
                    </a:lnTo>
                    <a:lnTo>
                      <a:pt x="1239" y="594"/>
                    </a:lnTo>
                    <a:lnTo>
                      <a:pt x="1271" y="768"/>
                    </a:lnTo>
                    <a:lnTo>
                      <a:pt x="1299" y="934"/>
                    </a:lnTo>
                    <a:lnTo>
                      <a:pt x="1325" y="1058"/>
                    </a:lnTo>
                    <a:lnTo>
                      <a:pt x="1337" y="1163"/>
                    </a:lnTo>
                    <a:lnTo>
                      <a:pt x="1319" y="1221"/>
                    </a:lnTo>
                    <a:lnTo>
                      <a:pt x="1139" y="1265"/>
                    </a:lnTo>
                    <a:lnTo>
                      <a:pt x="824" y="1287"/>
                    </a:lnTo>
                    <a:lnTo>
                      <a:pt x="492" y="1275"/>
                    </a:lnTo>
                    <a:lnTo>
                      <a:pt x="250" y="1275"/>
                    </a:lnTo>
                    <a:lnTo>
                      <a:pt x="50" y="1269"/>
                    </a:lnTo>
                    <a:lnTo>
                      <a:pt x="22" y="1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49880" y="3751920"/>
                <a:ext cx="788040" cy="582120"/>
              </a:xfrm>
              <a:custGeom>
                <a:avLst/>
                <a:gdLst/>
                <a:ahLst/>
                <a:rect l="l" t="t" r="r" b="b"/>
                <a:pathLst>
                  <a:path w="975" h="824">
                    <a:moveTo>
                      <a:pt x="0" y="22"/>
                    </a:moveTo>
                    <a:lnTo>
                      <a:pt x="324" y="10"/>
                    </a:lnTo>
                    <a:lnTo>
                      <a:pt x="546" y="0"/>
                    </a:lnTo>
                    <a:lnTo>
                      <a:pt x="793" y="4"/>
                    </a:lnTo>
                    <a:lnTo>
                      <a:pt x="831" y="32"/>
                    </a:lnTo>
                    <a:lnTo>
                      <a:pt x="861" y="76"/>
                    </a:lnTo>
                    <a:lnTo>
                      <a:pt x="915" y="308"/>
                    </a:lnTo>
                    <a:lnTo>
                      <a:pt x="955" y="572"/>
                    </a:lnTo>
                    <a:lnTo>
                      <a:pt x="975" y="754"/>
                    </a:lnTo>
                    <a:lnTo>
                      <a:pt x="955" y="812"/>
                    </a:lnTo>
                    <a:lnTo>
                      <a:pt x="905" y="824"/>
                    </a:lnTo>
                    <a:lnTo>
                      <a:pt x="620" y="792"/>
                    </a:lnTo>
                    <a:lnTo>
                      <a:pt x="917" y="766"/>
                    </a:lnTo>
                    <a:lnTo>
                      <a:pt x="933" y="758"/>
                    </a:lnTo>
                    <a:lnTo>
                      <a:pt x="927" y="634"/>
                    </a:lnTo>
                    <a:lnTo>
                      <a:pt x="905" y="458"/>
                    </a:lnTo>
                    <a:lnTo>
                      <a:pt x="857" y="220"/>
                    </a:lnTo>
                    <a:lnTo>
                      <a:pt x="819" y="70"/>
                    </a:lnTo>
                    <a:lnTo>
                      <a:pt x="781" y="48"/>
                    </a:lnTo>
                    <a:lnTo>
                      <a:pt x="604" y="38"/>
                    </a:lnTo>
                    <a:lnTo>
                      <a:pt x="362" y="48"/>
                    </a:lnTo>
                    <a:lnTo>
                      <a:pt x="162" y="4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68880" y="3760200"/>
                <a:ext cx="783360" cy="566640"/>
              </a:xfrm>
              <a:custGeom>
                <a:avLst/>
                <a:gdLst/>
                <a:ahLst/>
                <a:rect l="l" t="t" r="r" b="b"/>
                <a:pathLst>
                  <a:path w="969" h="802">
                    <a:moveTo>
                      <a:pt x="448" y="0"/>
                    </a:moveTo>
                    <a:lnTo>
                      <a:pt x="134" y="0"/>
                    </a:lnTo>
                    <a:lnTo>
                      <a:pt x="44" y="10"/>
                    </a:lnTo>
                    <a:lnTo>
                      <a:pt x="28" y="44"/>
                    </a:lnTo>
                    <a:lnTo>
                      <a:pt x="10" y="114"/>
                    </a:lnTo>
                    <a:lnTo>
                      <a:pt x="0" y="302"/>
                    </a:lnTo>
                    <a:lnTo>
                      <a:pt x="10" y="486"/>
                    </a:lnTo>
                    <a:lnTo>
                      <a:pt x="34" y="668"/>
                    </a:lnTo>
                    <a:lnTo>
                      <a:pt x="74" y="742"/>
                    </a:lnTo>
                    <a:lnTo>
                      <a:pt x="92" y="760"/>
                    </a:lnTo>
                    <a:lnTo>
                      <a:pt x="292" y="780"/>
                    </a:lnTo>
                    <a:lnTo>
                      <a:pt x="550" y="790"/>
                    </a:lnTo>
                    <a:lnTo>
                      <a:pt x="742" y="792"/>
                    </a:lnTo>
                    <a:lnTo>
                      <a:pt x="969" y="802"/>
                    </a:lnTo>
                    <a:lnTo>
                      <a:pt x="959" y="774"/>
                    </a:lnTo>
                    <a:lnTo>
                      <a:pt x="782" y="760"/>
                    </a:lnTo>
                    <a:lnTo>
                      <a:pt x="550" y="744"/>
                    </a:lnTo>
                    <a:lnTo>
                      <a:pt x="228" y="742"/>
                    </a:lnTo>
                    <a:lnTo>
                      <a:pt x="112" y="706"/>
                    </a:lnTo>
                    <a:lnTo>
                      <a:pt x="76" y="678"/>
                    </a:lnTo>
                    <a:lnTo>
                      <a:pt x="64" y="626"/>
                    </a:lnTo>
                    <a:lnTo>
                      <a:pt x="48" y="474"/>
                    </a:lnTo>
                    <a:lnTo>
                      <a:pt x="44" y="284"/>
                    </a:lnTo>
                    <a:lnTo>
                      <a:pt x="58" y="92"/>
                    </a:lnTo>
                    <a:lnTo>
                      <a:pt x="76" y="48"/>
                    </a:lnTo>
                    <a:lnTo>
                      <a:pt x="286" y="2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7" name=""/>
          <p:cNvGrpSpPr/>
          <p:nvPr/>
        </p:nvGrpSpPr>
        <p:grpSpPr>
          <a:xfrm>
            <a:off x="77760" y="4876920"/>
            <a:ext cx="988560" cy="1764720"/>
            <a:chOff x="77760" y="4876920"/>
            <a:chExt cx="988560" cy="1764720"/>
          </a:xfrm>
        </p:grpSpPr>
        <p:sp>
          <p:nvSpPr>
            <p:cNvPr id="1698" name=""/>
            <p:cNvSpPr/>
            <p:nvPr/>
          </p:nvSpPr>
          <p:spPr>
            <a:xfrm>
              <a:off x="392400" y="4976280"/>
              <a:ext cx="387000" cy="384120"/>
            </a:xfrm>
            <a:custGeom>
              <a:avLst/>
              <a:gdLst/>
              <a:ahLst/>
              <a:rect l="l" t="t" r="r" b="b"/>
              <a:pathLst>
                <a:path w="675" h="511">
                  <a:moveTo>
                    <a:pt x="352" y="118"/>
                  </a:moveTo>
                  <a:lnTo>
                    <a:pt x="293" y="65"/>
                  </a:lnTo>
                  <a:lnTo>
                    <a:pt x="210" y="26"/>
                  </a:lnTo>
                  <a:lnTo>
                    <a:pt x="136" y="0"/>
                  </a:lnTo>
                  <a:lnTo>
                    <a:pt x="77" y="7"/>
                  </a:lnTo>
                  <a:lnTo>
                    <a:pt x="34" y="36"/>
                  </a:lnTo>
                  <a:lnTo>
                    <a:pt x="0" y="125"/>
                  </a:lnTo>
                  <a:lnTo>
                    <a:pt x="14" y="227"/>
                  </a:lnTo>
                  <a:lnTo>
                    <a:pt x="49" y="324"/>
                  </a:lnTo>
                  <a:lnTo>
                    <a:pt x="88" y="400"/>
                  </a:lnTo>
                  <a:lnTo>
                    <a:pt x="161" y="479"/>
                  </a:lnTo>
                  <a:lnTo>
                    <a:pt x="225" y="511"/>
                  </a:lnTo>
                  <a:lnTo>
                    <a:pt x="312" y="511"/>
                  </a:lnTo>
                  <a:lnTo>
                    <a:pt x="401" y="489"/>
                  </a:lnTo>
                  <a:lnTo>
                    <a:pt x="445" y="432"/>
                  </a:lnTo>
                  <a:lnTo>
                    <a:pt x="469" y="361"/>
                  </a:lnTo>
                  <a:lnTo>
                    <a:pt x="460" y="272"/>
                  </a:lnTo>
                  <a:lnTo>
                    <a:pt x="665" y="282"/>
                  </a:lnTo>
                  <a:lnTo>
                    <a:pt x="675" y="243"/>
                  </a:lnTo>
                  <a:lnTo>
                    <a:pt x="440" y="227"/>
                  </a:lnTo>
                  <a:lnTo>
                    <a:pt x="381" y="135"/>
                  </a:lnTo>
                  <a:lnTo>
                    <a:pt x="352" y="1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7760" y="4876920"/>
              <a:ext cx="445680" cy="617760"/>
            </a:xfrm>
            <a:custGeom>
              <a:avLst/>
              <a:gdLst/>
              <a:ahLst/>
              <a:rect l="l" t="t" r="r" b="b"/>
              <a:pathLst>
                <a:path w="777" h="819">
                  <a:moveTo>
                    <a:pt x="453" y="19"/>
                  </a:moveTo>
                  <a:lnTo>
                    <a:pt x="551" y="0"/>
                  </a:lnTo>
                  <a:lnTo>
                    <a:pt x="629" y="3"/>
                  </a:lnTo>
                  <a:lnTo>
                    <a:pt x="688" y="32"/>
                  </a:lnTo>
                  <a:lnTo>
                    <a:pt x="728" y="78"/>
                  </a:lnTo>
                  <a:lnTo>
                    <a:pt x="713" y="127"/>
                  </a:lnTo>
                  <a:lnTo>
                    <a:pt x="659" y="127"/>
                  </a:lnTo>
                  <a:lnTo>
                    <a:pt x="673" y="87"/>
                  </a:lnTo>
                  <a:lnTo>
                    <a:pt x="629" y="52"/>
                  </a:lnTo>
                  <a:lnTo>
                    <a:pt x="586" y="39"/>
                  </a:lnTo>
                  <a:lnTo>
                    <a:pt x="512" y="52"/>
                  </a:lnTo>
                  <a:lnTo>
                    <a:pt x="542" y="91"/>
                  </a:lnTo>
                  <a:lnTo>
                    <a:pt x="551" y="127"/>
                  </a:lnTo>
                  <a:lnTo>
                    <a:pt x="542" y="157"/>
                  </a:lnTo>
                  <a:lnTo>
                    <a:pt x="468" y="170"/>
                  </a:lnTo>
                  <a:lnTo>
                    <a:pt x="390" y="160"/>
                  </a:lnTo>
                  <a:lnTo>
                    <a:pt x="375" y="137"/>
                  </a:lnTo>
                  <a:lnTo>
                    <a:pt x="292" y="199"/>
                  </a:lnTo>
                  <a:lnTo>
                    <a:pt x="244" y="268"/>
                  </a:lnTo>
                  <a:lnTo>
                    <a:pt x="176" y="357"/>
                  </a:lnTo>
                  <a:lnTo>
                    <a:pt x="131" y="435"/>
                  </a:lnTo>
                  <a:lnTo>
                    <a:pt x="112" y="511"/>
                  </a:lnTo>
                  <a:lnTo>
                    <a:pt x="127" y="550"/>
                  </a:lnTo>
                  <a:lnTo>
                    <a:pt x="205" y="600"/>
                  </a:lnTo>
                  <a:lnTo>
                    <a:pt x="366" y="642"/>
                  </a:lnTo>
                  <a:lnTo>
                    <a:pt x="453" y="661"/>
                  </a:lnTo>
                  <a:lnTo>
                    <a:pt x="542" y="671"/>
                  </a:lnTo>
                  <a:lnTo>
                    <a:pt x="673" y="707"/>
                  </a:lnTo>
                  <a:lnTo>
                    <a:pt x="771" y="731"/>
                  </a:lnTo>
                  <a:lnTo>
                    <a:pt x="777" y="776"/>
                  </a:lnTo>
                  <a:lnTo>
                    <a:pt x="728" y="809"/>
                  </a:lnTo>
                  <a:lnTo>
                    <a:pt x="669" y="819"/>
                  </a:lnTo>
                  <a:lnTo>
                    <a:pt x="580" y="789"/>
                  </a:lnTo>
                  <a:lnTo>
                    <a:pt x="375" y="718"/>
                  </a:lnTo>
                  <a:lnTo>
                    <a:pt x="205" y="668"/>
                  </a:lnTo>
                  <a:lnTo>
                    <a:pt x="87" y="613"/>
                  </a:lnTo>
                  <a:lnTo>
                    <a:pt x="9" y="563"/>
                  </a:lnTo>
                  <a:lnTo>
                    <a:pt x="0" y="504"/>
                  </a:lnTo>
                  <a:lnTo>
                    <a:pt x="43" y="425"/>
                  </a:lnTo>
                  <a:lnTo>
                    <a:pt x="131" y="307"/>
                  </a:lnTo>
                  <a:lnTo>
                    <a:pt x="214" y="209"/>
                  </a:lnTo>
                  <a:lnTo>
                    <a:pt x="317" y="108"/>
                  </a:lnTo>
                  <a:lnTo>
                    <a:pt x="396" y="48"/>
                  </a:lnTo>
                  <a:lnTo>
                    <a:pt x="493" y="19"/>
                  </a:lnTo>
                  <a:lnTo>
                    <a:pt x="453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97160" y="5389200"/>
              <a:ext cx="233640" cy="580320"/>
            </a:xfrm>
            <a:custGeom>
              <a:avLst/>
              <a:gdLst/>
              <a:ahLst/>
              <a:rect l="l" t="t" r="r" b="b"/>
              <a:pathLst>
                <a:path w="406" h="770">
                  <a:moveTo>
                    <a:pt x="25" y="60"/>
                  </a:moveTo>
                  <a:lnTo>
                    <a:pt x="39" y="20"/>
                  </a:lnTo>
                  <a:lnTo>
                    <a:pt x="103" y="0"/>
                  </a:lnTo>
                  <a:lnTo>
                    <a:pt x="160" y="0"/>
                  </a:lnTo>
                  <a:lnTo>
                    <a:pt x="234" y="29"/>
                  </a:lnTo>
                  <a:lnTo>
                    <a:pt x="304" y="99"/>
                  </a:lnTo>
                  <a:lnTo>
                    <a:pt x="352" y="171"/>
                  </a:lnTo>
                  <a:lnTo>
                    <a:pt x="376" y="268"/>
                  </a:lnTo>
                  <a:lnTo>
                    <a:pt x="397" y="383"/>
                  </a:lnTo>
                  <a:lnTo>
                    <a:pt x="406" y="494"/>
                  </a:lnTo>
                  <a:lnTo>
                    <a:pt x="406" y="639"/>
                  </a:lnTo>
                  <a:lnTo>
                    <a:pt x="376" y="727"/>
                  </a:lnTo>
                  <a:lnTo>
                    <a:pt x="323" y="760"/>
                  </a:lnTo>
                  <a:lnTo>
                    <a:pt x="230" y="770"/>
                  </a:lnTo>
                  <a:lnTo>
                    <a:pt x="132" y="767"/>
                  </a:lnTo>
                  <a:lnTo>
                    <a:pt x="82" y="727"/>
                  </a:lnTo>
                  <a:lnTo>
                    <a:pt x="54" y="659"/>
                  </a:lnTo>
                  <a:lnTo>
                    <a:pt x="29" y="590"/>
                  </a:lnTo>
                  <a:lnTo>
                    <a:pt x="10" y="465"/>
                  </a:lnTo>
                  <a:lnTo>
                    <a:pt x="0" y="325"/>
                  </a:lnTo>
                  <a:lnTo>
                    <a:pt x="0" y="161"/>
                  </a:lnTo>
                  <a:lnTo>
                    <a:pt x="25" y="89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05520" y="5405760"/>
              <a:ext cx="354240" cy="444600"/>
            </a:xfrm>
            <a:custGeom>
              <a:avLst/>
              <a:gdLst/>
              <a:ahLst/>
              <a:rect l="l" t="t" r="r" b="b"/>
              <a:pathLst>
                <a:path w="620" h="591">
                  <a:moveTo>
                    <a:pt x="34" y="0"/>
                  </a:moveTo>
                  <a:lnTo>
                    <a:pt x="161" y="11"/>
                  </a:lnTo>
                  <a:lnTo>
                    <a:pt x="293" y="27"/>
                  </a:lnTo>
                  <a:lnTo>
                    <a:pt x="430" y="79"/>
                  </a:lnTo>
                  <a:lnTo>
                    <a:pt x="527" y="118"/>
                  </a:lnTo>
                  <a:lnTo>
                    <a:pt x="591" y="175"/>
                  </a:lnTo>
                  <a:lnTo>
                    <a:pt x="620" y="207"/>
                  </a:lnTo>
                  <a:lnTo>
                    <a:pt x="561" y="303"/>
                  </a:lnTo>
                  <a:lnTo>
                    <a:pt x="468" y="361"/>
                  </a:lnTo>
                  <a:lnTo>
                    <a:pt x="356" y="404"/>
                  </a:lnTo>
                  <a:lnTo>
                    <a:pt x="297" y="430"/>
                  </a:lnTo>
                  <a:lnTo>
                    <a:pt x="195" y="443"/>
                  </a:lnTo>
                  <a:lnTo>
                    <a:pt x="191" y="469"/>
                  </a:lnTo>
                  <a:lnTo>
                    <a:pt x="269" y="492"/>
                  </a:lnTo>
                  <a:lnTo>
                    <a:pt x="381" y="513"/>
                  </a:lnTo>
                  <a:lnTo>
                    <a:pt x="487" y="552"/>
                  </a:lnTo>
                  <a:lnTo>
                    <a:pt x="445" y="581"/>
                  </a:lnTo>
                  <a:lnTo>
                    <a:pt x="400" y="591"/>
                  </a:lnTo>
                  <a:lnTo>
                    <a:pt x="337" y="548"/>
                  </a:lnTo>
                  <a:lnTo>
                    <a:pt x="239" y="522"/>
                  </a:lnTo>
                  <a:lnTo>
                    <a:pt x="161" y="503"/>
                  </a:lnTo>
                  <a:lnTo>
                    <a:pt x="161" y="463"/>
                  </a:lnTo>
                  <a:lnTo>
                    <a:pt x="176" y="421"/>
                  </a:lnTo>
                  <a:lnTo>
                    <a:pt x="225" y="404"/>
                  </a:lnTo>
                  <a:lnTo>
                    <a:pt x="381" y="361"/>
                  </a:lnTo>
                  <a:lnTo>
                    <a:pt x="468" y="296"/>
                  </a:lnTo>
                  <a:lnTo>
                    <a:pt x="532" y="227"/>
                  </a:lnTo>
                  <a:lnTo>
                    <a:pt x="517" y="194"/>
                  </a:lnTo>
                  <a:lnTo>
                    <a:pt x="468" y="155"/>
                  </a:lnTo>
                  <a:lnTo>
                    <a:pt x="352" y="99"/>
                  </a:lnTo>
                  <a:lnTo>
                    <a:pt x="210" y="79"/>
                  </a:lnTo>
                  <a:lnTo>
                    <a:pt x="117" y="76"/>
                  </a:lnTo>
                  <a:lnTo>
                    <a:pt x="34" y="76"/>
                  </a:lnTo>
                  <a:lnTo>
                    <a:pt x="0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3240" y="5909040"/>
              <a:ext cx="433080" cy="720360"/>
            </a:xfrm>
            <a:custGeom>
              <a:avLst/>
              <a:gdLst/>
              <a:ahLst/>
              <a:rect l="l" t="t" r="r" b="b"/>
              <a:pathLst>
                <a:path w="755" h="955">
                  <a:moveTo>
                    <a:pt x="87" y="0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49" y="109"/>
                  </a:lnTo>
                  <a:lnTo>
                    <a:pt x="205" y="204"/>
                  </a:lnTo>
                  <a:lnTo>
                    <a:pt x="342" y="325"/>
                  </a:lnTo>
                  <a:lnTo>
                    <a:pt x="431" y="450"/>
                  </a:lnTo>
                  <a:lnTo>
                    <a:pt x="444" y="531"/>
                  </a:lnTo>
                  <a:lnTo>
                    <a:pt x="440" y="591"/>
                  </a:lnTo>
                  <a:lnTo>
                    <a:pt x="402" y="725"/>
                  </a:lnTo>
                  <a:lnTo>
                    <a:pt x="351" y="834"/>
                  </a:lnTo>
                  <a:lnTo>
                    <a:pt x="308" y="896"/>
                  </a:lnTo>
                  <a:lnTo>
                    <a:pt x="298" y="936"/>
                  </a:lnTo>
                  <a:lnTo>
                    <a:pt x="342" y="936"/>
                  </a:lnTo>
                  <a:lnTo>
                    <a:pt x="410" y="923"/>
                  </a:lnTo>
                  <a:lnTo>
                    <a:pt x="431" y="926"/>
                  </a:lnTo>
                  <a:lnTo>
                    <a:pt x="573" y="932"/>
                  </a:lnTo>
                  <a:lnTo>
                    <a:pt x="681" y="955"/>
                  </a:lnTo>
                  <a:lnTo>
                    <a:pt x="719" y="942"/>
                  </a:lnTo>
                  <a:lnTo>
                    <a:pt x="755" y="892"/>
                  </a:lnTo>
                  <a:lnTo>
                    <a:pt x="719" y="866"/>
                  </a:lnTo>
                  <a:lnTo>
                    <a:pt x="558" y="863"/>
                  </a:lnTo>
                  <a:lnTo>
                    <a:pt x="444" y="873"/>
                  </a:lnTo>
                  <a:lnTo>
                    <a:pt x="387" y="892"/>
                  </a:lnTo>
                  <a:lnTo>
                    <a:pt x="396" y="847"/>
                  </a:lnTo>
                  <a:lnTo>
                    <a:pt x="455" y="777"/>
                  </a:lnTo>
                  <a:lnTo>
                    <a:pt x="503" y="670"/>
                  </a:lnTo>
                  <a:lnTo>
                    <a:pt x="543" y="578"/>
                  </a:lnTo>
                  <a:lnTo>
                    <a:pt x="514" y="473"/>
                  </a:lnTo>
                  <a:lnTo>
                    <a:pt x="469" y="361"/>
                  </a:lnTo>
                  <a:lnTo>
                    <a:pt x="381" y="233"/>
                  </a:lnTo>
                  <a:lnTo>
                    <a:pt x="254" y="115"/>
                  </a:lnTo>
                  <a:lnTo>
                    <a:pt x="146" y="2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1440" y="5907600"/>
              <a:ext cx="290160" cy="734040"/>
            </a:xfrm>
            <a:custGeom>
              <a:avLst/>
              <a:gdLst/>
              <a:ahLst/>
              <a:rect l="l" t="t" r="r" b="b"/>
              <a:pathLst>
                <a:path w="508" h="973">
                  <a:moveTo>
                    <a:pt x="351" y="0"/>
                  </a:moveTo>
                  <a:lnTo>
                    <a:pt x="288" y="92"/>
                  </a:lnTo>
                  <a:lnTo>
                    <a:pt x="243" y="226"/>
                  </a:lnTo>
                  <a:lnTo>
                    <a:pt x="190" y="374"/>
                  </a:lnTo>
                  <a:lnTo>
                    <a:pt x="142" y="524"/>
                  </a:lnTo>
                  <a:lnTo>
                    <a:pt x="142" y="580"/>
                  </a:lnTo>
                  <a:lnTo>
                    <a:pt x="190" y="679"/>
                  </a:lnTo>
                  <a:lnTo>
                    <a:pt x="258" y="731"/>
                  </a:lnTo>
                  <a:lnTo>
                    <a:pt x="322" y="797"/>
                  </a:lnTo>
                  <a:lnTo>
                    <a:pt x="366" y="845"/>
                  </a:lnTo>
                  <a:lnTo>
                    <a:pt x="347" y="868"/>
                  </a:lnTo>
                  <a:lnTo>
                    <a:pt x="235" y="878"/>
                  </a:lnTo>
                  <a:lnTo>
                    <a:pt x="53" y="897"/>
                  </a:lnTo>
                  <a:lnTo>
                    <a:pt x="0" y="928"/>
                  </a:lnTo>
                  <a:lnTo>
                    <a:pt x="44" y="954"/>
                  </a:lnTo>
                  <a:lnTo>
                    <a:pt x="146" y="973"/>
                  </a:lnTo>
                  <a:lnTo>
                    <a:pt x="264" y="934"/>
                  </a:lnTo>
                  <a:lnTo>
                    <a:pt x="351" y="907"/>
                  </a:lnTo>
                  <a:lnTo>
                    <a:pt x="463" y="897"/>
                  </a:lnTo>
                  <a:lnTo>
                    <a:pt x="508" y="888"/>
                  </a:lnTo>
                  <a:lnTo>
                    <a:pt x="493" y="855"/>
                  </a:lnTo>
                  <a:lnTo>
                    <a:pt x="366" y="770"/>
                  </a:lnTo>
                  <a:lnTo>
                    <a:pt x="292" y="682"/>
                  </a:lnTo>
                  <a:lnTo>
                    <a:pt x="229" y="622"/>
                  </a:lnTo>
                  <a:lnTo>
                    <a:pt x="220" y="564"/>
                  </a:lnTo>
                  <a:lnTo>
                    <a:pt x="249" y="466"/>
                  </a:lnTo>
                  <a:lnTo>
                    <a:pt x="317" y="364"/>
                  </a:lnTo>
                  <a:lnTo>
                    <a:pt x="391" y="191"/>
                  </a:lnTo>
                  <a:lnTo>
                    <a:pt x="455" y="89"/>
                  </a:lnTo>
                  <a:lnTo>
                    <a:pt x="449" y="29"/>
                  </a:lnTo>
                  <a:lnTo>
                    <a:pt x="391" y="0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1447920" y="4800600"/>
            <a:ext cx="912240" cy="1859040"/>
            <a:chOff x="1447920" y="4800600"/>
            <a:chExt cx="912240" cy="1859040"/>
          </a:xfrm>
        </p:grpSpPr>
        <p:sp>
          <p:nvSpPr>
            <p:cNvPr id="1705" name=""/>
            <p:cNvSpPr/>
            <p:nvPr/>
          </p:nvSpPr>
          <p:spPr>
            <a:xfrm flipH="1">
              <a:off x="1712880" y="4905360"/>
              <a:ext cx="357120" cy="404640"/>
            </a:xfrm>
            <a:custGeom>
              <a:avLst/>
              <a:gdLst/>
              <a:ahLst/>
              <a:rect l="l" t="t" r="r" b="b"/>
              <a:pathLst>
                <a:path w="675" h="511">
                  <a:moveTo>
                    <a:pt x="352" y="118"/>
                  </a:moveTo>
                  <a:lnTo>
                    <a:pt x="293" y="65"/>
                  </a:lnTo>
                  <a:lnTo>
                    <a:pt x="210" y="26"/>
                  </a:lnTo>
                  <a:lnTo>
                    <a:pt x="136" y="0"/>
                  </a:lnTo>
                  <a:lnTo>
                    <a:pt x="77" y="7"/>
                  </a:lnTo>
                  <a:lnTo>
                    <a:pt x="34" y="36"/>
                  </a:lnTo>
                  <a:lnTo>
                    <a:pt x="0" y="125"/>
                  </a:lnTo>
                  <a:lnTo>
                    <a:pt x="14" y="227"/>
                  </a:lnTo>
                  <a:lnTo>
                    <a:pt x="49" y="324"/>
                  </a:lnTo>
                  <a:lnTo>
                    <a:pt x="88" y="400"/>
                  </a:lnTo>
                  <a:lnTo>
                    <a:pt x="161" y="479"/>
                  </a:lnTo>
                  <a:lnTo>
                    <a:pt x="225" y="511"/>
                  </a:lnTo>
                  <a:lnTo>
                    <a:pt x="312" y="511"/>
                  </a:lnTo>
                  <a:lnTo>
                    <a:pt x="401" y="489"/>
                  </a:lnTo>
                  <a:lnTo>
                    <a:pt x="445" y="432"/>
                  </a:lnTo>
                  <a:lnTo>
                    <a:pt x="469" y="361"/>
                  </a:lnTo>
                  <a:lnTo>
                    <a:pt x="460" y="272"/>
                  </a:lnTo>
                  <a:lnTo>
                    <a:pt x="665" y="282"/>
                  </a:lnTo>
                  <a:lnTo>
                    <a:pt x="675" y="243"/>
                  </a:lnTo>
                  <a:lnTo>
                    <a:pt x="440" y="227"/>
                  </a:lnTo>
                  <a:lnTo>
                    <a:pt x="381" y="135"/>
                  </a:lnTo>
                  <a:lnTo>
                    <a:pt x="352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949040" y="4800600"/>
              <a:ext cx="411120" cy="650880"/>
            </a:xfrm>
            <a:custGeom>
              <a:avLst/>
              <a:gdLst/>
              <a:ahLst/>
              <a:rect l="l" t="t" r="r" b="b"/>
              <a:pathLst>
                <a:path w="777" h="819">
                  <a:moveTo>
                    <a:pt x="453" y="19"/>
                  </a:moveTo>
                  <a:lnTo>
                    <a:pt x="551" y="0"/>
                  </a:lnTo>
                  <a:lnTo>
                    <a:pt x="629" y="3"/>
                  </a:lnTo>
                  <a:lnTo>
                    <a:pt x="688" y="32"/>
                  </a:lnTo>
                  <a:lnTo>
                    <a:pt x="728" y="78"/>
                  </a:lnTo>
                  <a:lnTo>
                    <a:pt x="713" y="127"/>
                  </a:lnTo>
                  <a:lnTo>
                    <a:pt x="659" y="127"/>
                  </a:lnTo>
                  <a:lnTo>
                    <a:pt x="673" y="87"/>
                  </a:lnTo>
                  <a:lnTo>
                    <a:pt x="629" y="52"/>
                  </a:lnTo>
                  <a:lnTo>
                    <a:pt x="586" y="39"/>
                  </a:lnTo>
                  <a:lnTo>
                    <a:pt x="512" y="52"/>
                  </a:lnTo>
                  <a:lnTo>
                    <a:pt x="542" y="91"/>
                  </a:lnTo>
                  <a:lnTo>
                    <a:pt x="551" y="127"/>
                  </a:lnTo>
                  <a:lnTo>
                    <a:pt x="542" y="157"/>
                  </a:lnTo>
                  <a:lnTo>
                    <a:pt x="468" y="170"/>
                  </a:lnTo>
                  <a:lnTo>
                    <a:pt x="390" y="160"/>
                  </a:lnTo>
                  <a:lnTo>
                    <a:pt x="375" y="137"/>
                  </a:lnTo>
                  <a:lnTo>
                    <a:pt x="292" y="199"/>
                  </a:lnTo>
                  <a:lnTo>
                    <a:pt x="244" y="268"/>
                  </a:lnTo>
                  <a:lnTo>
                    <a:pt x="176" y="357"/>
                  </a:lnTo>
                  <a:lnTo>
                    <a:pt x="131" y="435"/>
                  </a:lnTo>
                  <a:lnTo>
                    <a:pt x="112" y="511"/>
                  </a:lnTo>
                  <a:lnTo>
                    <a:pt x="127" y="550"/>
                  </a:lnTo>
                  <a:lnTo>
                    <a:pt x="205" y="600"/>
                  </a:lnTo>
                  <a:lnTo>
                    <a:pt x="366" y="642"/>
                  </a:lnTo>
                  <a:lnTo>
                    <a:pt x="453" y="661"/>
                  </a:lnTo>
                  <a:lnTo>
                    <a:pt x="542" y="671"/>
                  </a:lnTo>
                  <a:lnTo>
                    <a:pt x="673" y="707"/>
                  </a:lnTo>
                  <a:lnTo>
                    <a:pt x="771" y="731"/>
                  </a:lnTo>
                  <a:lnTo>
                    <a:pt x="777" y="776"/>
                  </a:lnTo>
                  <a:lnTo>
                    <a:pt x="728" y="809"/>
                  </a:lnTo>
                  <a:lnTo>
                    <a:pt x="669" y="819"/>
                  </a:lnTo>
                  <a:lnTo>
                    <a:pt x="580" y="789"/>
                  </a:lnTo>
                  <a:lnTo>
                    <a:pt x="375" y="718"/>
                  </a:lnTo>
                  <a:lnTo>
                    <a:pt x="205" y="668"/>
                  </a:lnTo>
                  <a:lnTo>
                    <a:pt x="87" y="613"/>
                  </a:lnTo>
                  <a:lnTo>
                    <a:pt x="9" y="563"/>
                  </a:lnTo>
                  <a:lnTo>
                    <a:pt x="0" y="504"/>
                  </a:lnTo>
                  <a:lnTo>
                    <a:pt x="43" y="425"/>
                  </a:lnTo>
                  <a:lnTo>
                    <a:pt x="131" y="307"/>
                  </a:lnTo>
                  <a:lnTo>
                    <a:pt x="214" y="209"/>
                  </a:lnTo>
                  <a:lnTo>
                    <a:pt x="317" y="108"/>
                  </a:lnTo>
                  <a:lnTo>
                    <a:pt x="396" y="48"/>
                  </a:lnTo>
                  <a:lnTo>
                    <a:pt x="493" y="19"/>
                  </a:lnTo>
                  <a:lnTo>
                    <a:pt x="453" y="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57160" y="5340240"/>
              <a:ext cx="215640" cy="611280"/>
            </a:xfrm>
            <a:custGeom>
              <a:avLst/>
              <a:gdLst/>
              <a:ahLst/>
              <a:rect l="l" t="t" r="r" b="b"/>
              <a:pathLst>
                <a:path w="406" h="770">
                  <a:moveTo>
                    <a:pt x="25" y="60"/>
                  </a:moveTo>
                  <a:lnTo>
                    <a:pt x="39" y="20"/>
                  </a:lnTo>
                  <a:lnTo>
                    <a:pt x="103" y="0"/>
                  </a:lnTo>
                  <a:lnTo>
                    <a:pt x="160" y="0"/>
                  </a:lnTo>
                  <a:lnTo>
                    <a:pt x="234" y="29"/>
                  </a:lnTo>
                  <a:lnTo>
                    <a:pt x="304" y="99"/>
                  </a:lnTo>
                  <a:lnTo>
                    <a:pt x="352" y="171"/>
                  </a:lnTo>
                  <a:lnTo>
                    <a:pt x="376" y="268"/>
                  </a:lnTo>
                  <a:lnTo>
                    <a:pt x="397" y="383"/>
                  </a:lnTo>
                  <a:lnTo>
                    <a:pt x="406" y="494"/>
                  </a:lnTo>
                  <a:lnTo>
                    <a:pt x="406" y="639"/>
                  </a:lnTo>
                  <a:lnTo>
                    <a:pt x="376" y="727"/>
                  </a:lnTo>
                  <a:lnTo>
                    <a:pt x="323" y="760"/>
                  </a:lnTo>
                  <a:lnTo>
                    <a:pt x="230" y="770"/>
                  </a:lnTo>
                  <a:lnTo>
                    <a:pt x="132" y="767"/>
                  </a:lnTo>
                  <a:lnTo>
                    <a:pt x="82" y="727"/>
                  </a:lnTo>
                  <a:lnTo>
                    <a:pt x="54" y="659"/>
                  </a:lnTo>
                  <a:lnTo>
                    <a:pt x="29" y="590"/>
                  </a:lnTo>
                  <a:lnTo>
                    <a:pt x="10" y="465"/>
                  </a:lnTo>
                  <a:lnTo>
                    <a:pt x="0" y="325"/>
                  </a:lnTo>
                  <a:lnTo>
                    <a:pt x="0" y="161"/>
                  </a:lnTo>
                  <a:lnTo>
                    <a:pt x="25" y="89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1546200" y="5357880"/>
              <a:ext cx="326880" cy="468360"/>
            </a:xfrm>
            <a:custGeom>
              <a:avLst/>
              <a:gdLst/>
              <a:ahLst/>
              <a:rect l="l" t="t" r="r" b="b"/>
              <a:pathLst>
                <a:path w="620" h="591">
                  <a:moveTo>
                    <a:pt x="34" y="0"/>
                  </a:moveTo>
                  <a:lnTo>
                    <a:pt x="161" y="11"/>
                  </a:lnTo>
                  <a:lnTo>
                    <a:pt x="293" y="27"/>
                  </a:lnTo>
                  <a:lnTo>
                    <a:pt x="430" y="79"/>
                  </a:lnTo>
                  <a:lnTo>
                    <a:pt x="527" y="118"/>
                  </a:lnTo>
                  <a:lnTo>
                    <a:pt x="591" y="175"/>
                  </a:lnTo>
                  <a:lnTo>
                    <a:pt x="620" y="207"/>
                  </a:lnTo>
                  <a:lnTo>
                    <a:pt x="561" y="303"/>
                  </a:lnTo>
                  <a:lnTo>
                    <a:pt x="468" y="361"/>
                  </a:lnTo>
                  <a:lnTo>
                    <a:pt x="356" y="404"/>
                  </a:lnTo>
                  <a:lnTo>
                    <a:pt x="297" y="430"/>
                  </a:lnTo>
                  <a:lnTo>
                    <a:pt x="195" y="443"/>
                  </a:lnTo>
                  <a:lnTo>
                    <a:pt x="191" y="469"/>
                  </a:lnTo>
                  <a:lnTo>
                    <a:pt x="269" y="492"/>
                  </a:lnTo>
                  <a:lnTo>
                    <a:pt x="381" y="513"/>
                  </a:lnTo>
                  <a:lnTo>
                    <a:pt x="487" y="552"/>
                  </a:lnTo>
                  <a:lnTo>
                    <a:pt x="445" y="581"/>
                  </a:lnTo>
                  <a:lnTo>
                    <a:pt x="400" y="591"/>
                  </a:lnTo>
                  <a:lnTo>
                    <a:pt x="337" y="548"/>
                  </a:lnTo>
                  <a:lnTo>
                    <a:pt x="239" y="522"/>
                  </a:lnTo>
                  <a:lnTo>
                    <a:pt x="161" y="503"/>
                  </a:lnTo>
                  <a:lnTo>
                    <a:pt x="161" y="463"/>
                  </a:lnTo>
                  <a:lnTo>
                    <a:pt x="176" y="421"/>
                  </a:lnTo>
                  <a:lnTo>
                    <a:pt x="225" y="404"/>
                  </a:lnTo>
                  <a:lnTo>
                    <a:pt x="381" y="361"/>
                  </a:lnTo>
                  <a:lnTo>
                    <a:pt x="468" y="296"/>
                  </a:lnTo>
                  <a:lnTo>
                    <a:pt x="532" y="227"/>
                  </a:lnTo>
                  <a:lnTo>
                    <a:pt x="517" y="194"/>
                  </a:lnTo>
                  <a:lnTo>
                    <a:pt x="468" y="155"/>
                  </a:lnTo>
                  <a:lnTo>
                    <a:pt x="352" y="99"/>
                  </a:lnTo>
                  <a:lnTo>
                    <a:pt x="210" y="79"/>
                  </a:lnTo>
                  <a:lnTo>
                    <a:pt x="117" y="76"/>
                  </a:lnTo>
                  <a:lnTo>
                    <a:pt x="34" y="76"/>
                  </a:lnTo>
                  <a:lnTo>
                    <a:pt x="0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1447920" y="5887800"/>
              <a:ext cx="399600" cy="758880"/>
            </a:xfrm>
            <a:custGeom>
              <a:avLst/>
              <a:gdLst/>
              <a:ahLst/>
              <a:rect l="l" t="t" r="r" b="b"/>
              <a:pathLst>
                <a:path w="755" h="955">
                  <a:moveTo>
                    <a:pt x="87" y="0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49" y="109"/>
                  </a:lnTo>
                  <a:lnTo>
                    <a:pt x="205" y="204"/>
                  </a:lnTo>
                  <a:lnTo>
                    <a:pt x="342" y="325"/>
                  </a:lnTo>
                  <a:lnTo>
                    <a:pt x="431" y="450"/>
                  </a:lnTo>
                  <a:lnTo>
                    <a:pt x="444" y="531"/>
                  </a:lnTo>
                  <a:lnTo>
                    <a:pt x="440" y="591"/>
                  </a:lnTo>
                  <a:lnTo>
                    <a:pt x="402" y="725"/>
                  </a:lnTo>
                  <a:lnTo>
                    <a:pt x="351" y="834"/>
                  </a:lnTo>
                  <a:lnTo>
                    <a:pt x="308" y="896"/>
                  </a:lnTo>
                  <a:lnTo>
                    <a:pt x="298" y="936"/>
                  </a:lnTo>
                  <a:lnTo>
                    <a:pt x="342" y="936"/>
                  </a:lnTo>
                  <a:lnTo>
                    <a:pt x="410" y="923"/>
                  </a:lnTo>
                  <a:lnTo>
                    <a:pt x="431" y="926"/>
                  </a:lnTo>
                  <a:lnTo>
                    <a:pt x="573" y="932"/>
                  </a:lnTo>
                  <a:lnTo>
                    <a:pt x="681" y="955"/>
                  </a:lnTo>
                  <a:lnTo>
                    <a:pt x="719" y="942"/>
                  </a:lnTo>
                  <a:lnTo>
                    <a:pt x="755" y="892"/>
                  </a:lnTo>
                  <a:lnTo>
                    <a:pt x="719" y="866"/>
                  </a:lnTo>
                  <a:lnTo>
                    <a:pt x="558" y="863"/>
                  </a:lnTo>
                  <a:lnTo>
                    <a:pt x="444" y="873"/>
                  </a:lnTo>
                  <a:lnTo>
                    <a:pt x="387" y="892"/>
                  </a:lnTo>
                  <a:lnTo>
                    <a:pt x="396" y="847"/>
                  </a:lnTo>
                  <a:lnTo>
                    <a:pt x="455" y="777"/>
                  </a:lnTo>
                  <a:lnTo>
                    <a:pt x="503" y="670"/>
                  </a:lnTo>
                  <a:lnTo>
                    <a:pt x="543" y="578"/>
                  </a:lnTo>
                  <a:lnTo>
                    <a:pt x="514" y="473"/>
                  </a:lnTo>
                  <a:lnTo>
                    <a:pt x="469" y="361"/>
                  </a:lnTo>
                  <a:lnTo>
                    <a:pt x="381" y="233"/>
                  </a:lnTo>
                  <a:lnTo>
                    <a:pt x="254" y="115"/>
                  </a:lnTo>
                  <a:lnTo>
                    <a:pt x="146" y="2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1830600" y="5886360"/>
              <a:ext cx="267840" cy="773280"/>
            </a:xfrm>
            <a:custGeom>
              <a:avLst/>
              <a:gdLst/>
              <a:ahLst/>
              <a:rect l="l" t="t" r="r" b="b"/>
              <a:pathLst>
                <a:path w="508" h="973">
                  <a:moveTo>
                    <a:pt x="351" y="0"/>
                  </a:moveTo>
                  <a:lnTo>
                    <a:pt x="288" y="92"/>
                  </a:lnTo>
                  <a:lnTo>
                    <a:pt x="243" y="226"/>
                  </a:lnTo>
                  <a:lnTo>
                    <a:pt x="190" y="374"/>
                  </a:lnTo>
                  <a:lnTo>
                    <a:pt x="142" y="524"/>
                  </a:lnTo>
                  <a:lnTo>
                    <a:pt x="142" y="580"/>
                  </a:lnTo>
                  <a:lnTo>
                    <a:pt x="190" y="679"/>
                  </a:lnTo>
                  <a:lnTo>
                    <a:pt x="258" y="731"/>
                  </a:lnTo>
                  <a:lnTo>
                    <a:pt x="322" y="797"/>
                  </a:lnTo>
                  <a:lnTo>
                    <a:pt x="366" y="845"/>
                  </a:lnTo>
                  <a:lnTo>
                    <a:pt x="347" y="868"/>
                  </a:lnTo>
                  <a:lnTo>
                    <a:pt x="235" y="878"/>
                  </a:lnTo>
                  <a:lnTo>
                    <a:pt x="53" y="897"/>
                  </a:lnTo>
                  <a:lnTo>
                    <a:pt x="0" y="928"/>
                  </a:lnTo>
                  <a:lnTo>
                    <a:pt x="44" y="954"/>
                  </a:lnTo>
                  <a:lnTo>
                    <a:pt x="146" y="973"/>
                  </a:lnTo>
                  <a:lnTo>
                    <a:pt x="264" y="934"/>
                  </a:lnTo>
                  <a:lnTo>
                    <a:pt x="351" y="907"/>
                  </a:lnTo>
                  <a:lnTo>
                    <a:pt x="463" y="897"/>
                  </a:lnTo>
                  <a:lnTo>
                    <a:pt x="508" y="888"/>
                  </a:lnTo>
                  <a:lnTo>
                    <a:pt x="493" y="855"/>
                  </a:lnTo>
                  <a:lnTo>
                    <a:pt x="366" y="770"/>
                  </a:lnTo>
                  <a:lnTo>
                    <a:pt x="292" y="682"/>
                  </a:lnTo>
                  <a:lnTo>
                    <a:pt x="229" y="622"/>
                  </a:lnTo>
                  <a:lnTo>
                    <a:pt x="220" y="564"/>
                  </a:lnTo>
                  <a:lnTo>
                    <a:pt x="249" y="466"/>
                  </a:lnTo>
                  <a:lnTo>
                    <a:pt x="317" y="364"/>
                  </a:lnTo>
                  <a:lnTo>
                    <a:pt x="391" y="191"/>
                  </a:lnTo>
                  <a:lnTo>
                    <a:pt x="455" y="89"/>
                  </a:lnTo>
                  <a:lnTo>
                    <a:pt x="449" y="29"/>
                  </a:lnTo>
                  <a:lnTo>
                    <a:pt x="391" y="0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660240" y="3809880"/>
            <a:ext cx="990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6840" y="3157560"/>
            <a:ext cx="1370160" cy="2422440"/>
          </a:xfrm>
          <a:custGeom>
            <a:avLst/>
            <a:gdLst/>
            <a:ahLst/>
            <a:rect l="l" t="t" r="r" b="b"/>
            <a:pathLst>
              <a:path w="405" h="666">
                <a:moveTo>
                  <a:pt x="230" y="0"/>
                </a:moveTo>
                <a:lnTo>
                  <a:pt x="171" y="3"/>
                </a:lnTo>
                <a:lnTo>
                  <a:pt x="137" y="56"/>
                </a:lnTo>
                <a:lnTo>
                  <a:pt x="42" y="143"/>
                </a:lnTo>
                <a:lnTo>
                  <a:pt x="0" y="191"/>
                </a:lnTo>
                <a:lnTo>
                  <a:pt x="28" y="317"/>
                </a:lnTo>
                <a:lnTo>
                  <a:pt x="50" y="412"/>
                </a:lnTo>
                <a:lnTo>
                  <a:pt x="107" y="523"/>
                </a:lnTo>
                <a:lnTo>
                  <a:pt x="205" y="601"/>
                </a:lnTo>
                <a:lnTo>
                  <a:pt x="315" y="666"/>
                </a:lnTo>
                <a:lnTo>
                  <a:pt x="318" y="649"/>
                </a:lnTo>
                <a:lnTo>
                  <a:pt x="326" y="646"/>
                </a:lnTo>
                <a:lnTo>
                  <a:pt x="326" y="638"/>
                </a:lnTo>
                <a:lnTo>
                  <a:pt x="326" y="629"/>
                </a:lnTo>
                <a:lnTo>
                  <a:pt x="326" y="621"/>
                </a:lnTo>
                <a:lnTo>
                  <a:pt x="326" y="613"/>
                </a:lnTo>
                <a:lnTo>
                  <a:pt x="335" y="610"/>
                </a:lnTo>
                <a:lnTo>
                  <a:pt x="343" y="610"/>
                </a:lnTo>
                <a:lnTo>
                  <a:pt x="352" y="610"/>
                </a:lnTo>
                <a:lnTo>
                  <a:pt x="360" y="604"/>
                </a:lnTo>
                <a:lnTo>
                  <a:pt x="360" y="596"/>
                </a:lnTo>
                <a:lnTo>
                  <a:pt x="360" y="587"/>
                </a:lnTo>
                <a:lnTo>
                  <a:pt x="360" y="579"/>
                </a:lnTo>
                <a:lnTo>
                  <a:pt x="369" y="576"/>
                </a:lnTo>
                <a:lnTo>
                  <a:pt x="377" y="576"/>
                </a:lnTo>
                <a:lnTo>
                  <a:pt x="385" y="576"/>
                </a:lnTo>
                <a:lnTo>
                  <a:pt x="391" y="568"/>
                </a:lnTo>
                <a:lnTo>
                  <a:pt x="388" y="559"/>
                </a:lnTo>
                <a:lnTo>
                  <a:pt x="388" y="551"/>
                </a:lnTo>
                <a:lnTo>
                  <a:pt x="397" y="545"/>
                </a:lnTo>
                <a:lnTo>
                  <a:pt x="405" y="543"/>
                </a:lnTo>
                <a:lnTo>
                  <a:pt x="255" y="478"/>
                </a:lnTo>
                <a:lnTo>
                  <a:pt x="109" y="289"/>
                </a:lnTo>
                <a:lnTo>
                  <a:pt x="115" y="177"/>
                </a:lnTo>
                <a:lnTo>
                  <a:pt x="216" y="59"/>
                </a:lnTo>
                <a:lnTo>
                  <a:pt x="230" y="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840" y="3135240"/>
            <a:ext cx="1665360" cy="1997280"/>
          </a:xfrm>
          <a:custGeom>
            <a:avLst/>
            <a:gdLst/>
            <a:ahLst/>
            <a:rect l="l" t="t" r="r" b="b"/>
            <a:pathLst>
              <a:path w="492" h="549">
                <a:moveTo>
                  <a:pt x="191" y="59"/>
                </a:moveTo>
                <a:lnTo>
                  <a:pt x="220" y="152"/>
                </a:lnTo>
                <a:lnTo>
                  <a:pt x="253" y="194"/>
                </a:lnTo>
                <a:lnTo>
                  <a:pt x="329" y="242"/>
                </a:lnTo>
                <a:lnTo>
                  <a:pt x="439" y="253"/>
                </a:lnTo>
                <a:lnTo>
                  <a:pt x="492" y="256"/>
                </a:lnTo>
                <a:lnTo>
                  <a:pt x="484" y="343"/>
                </a:lnTo>
                <a:lnTo>
                  <a:pt x="444" y="444"/>
                </a:lnTo>
                <a:lnTo>
                  <a:pt x="374" y="527"/>
                </a:lnTo>
                <a:lnTo>
                  <a:pt x="352" y="549"/>
                </a:lnTo>
                <a:lnTo>
                  <a:pt x="216" y="530"/>
                </a:lnTo>
                <a:lnTo>
                  <a:pt x="112" y="474"/>
                </a:lnTo>
                <a:lnTo>
                  <a:pt x="64" y="416"/>
                </a:lnTo>
                <a:lnTo>
                  <a:pt x="22" y="293"/>
                </a:lnTo>
                <a:lnTo>
                  <a:pt x="0" y="194"/>
                </a:lnTo>
                <a:lnTo>
                  <a:pt x="121" y="74"/>
                </a:lnTo>
                <a:lnTo>
                  <a:pt x="180" y="0"/>
                </a:lnTo>
                <a:lnTo>
                  <a:pt x="191" y="5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5120" y="3532320"/>
            <a:ext cx="1268280" cy="1379520"/>
          </a:xfrm>
          <a:custGeom>
            <a:avLst/>
            <a:gdLst/>
            <a:ahLst/>
            <a:rect l="l" t="t" r="r" b="b"/>
            <a:pathLst>
              <a:path w="375" h="379">
                <a:moveTo>
                  <a:pt x="0" y="110"/>
                </a:moveTo>
                <a:lnTo>
                  <a:pt x="107" y="0"/>
                </a:lnTo>
                <a:lnTo>
                  <a:pt x="119" y="51"/>
                </a:lnTo>
                <a:lnTo>
                  <a:pt x="138" y="104"/>
                </a:lnTo>
                <a:lnTo>
                  <a:pt x="170" y="138"/>
                </a:lnTo>
                <a:lnTo>
                  <a:pt x="218" y="164"/>
                </a:lnTo>
                <a:lnTo>
                  <a:pt x="274" y="183"/>
                </a:lnTo>
                <a:lnTo>
                  <a:pt x="328" y="183"/>
                </a:lnTo>
                <a:lnTo>
                  <a:pt x="375" y="186"/>
                </a:lnTo>
                <a:lnTo>
                  <a:pt x="373" y="223"/>
                </a:lnTo>
                <a:lnTo>
                  <a:pt x="356" y="279"/>
                </a:lnTo>
                <a:lnTo>
                  <a:pt x="325" y="324"/>
                </a:lnTo>
                <a:lnTo>
                  <a:pt x="291" y="362"/>
                </a:lnTo>
                <a:lnTo>
                  <a:pt x="277" y="379"/>
                </a:lnTo>
                <a:lnTo>
                  <a:pt x="204" y="373"/>
                </a:lnTo>
                <a:lnTo>
                  <a:pt x="138" y="359"/>
                </a:lnTo>
                <a:lnTo>
                  <a:pt x="90" y="327"/>
                </a:lnTo>
                <a:lnTo>
                  <a:pt x="65" y="293"/>
                </a:lnTo>
                <a:lnTo>
                  <a:pt x="40" y="251"/>
                </a:lnTo>
                <a:lnTo>
                  <a:pt x="23" y="200"/>
                </a:lnTo>
                <a:lnTo>
                  <a:pt x="9" y="147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20" y="3124080"/>
            <a:ext cx="1904760" cy="2467080"/>
          </a:xfrm>
          <a:custGeom>
            <a:avLst/>
            <a:gdLst/>
            <a:ahLst/>
            <a:rect l="l" t="t" r="r" b="b"/>
            <a:pathLst>
              <a:path w="563" h="678">
                <a:moveTo>
                  <a:pt x="56" y="191"/>
                </a:moveTo>
                <a:lnTo>
                  <a:pt x="135" y="115"/>
                </a:lnTo>
                <a:lnTo>
                  <a:pt x="171" y="76"/>
                </a:lnTo>
                <a:lnTo>
                  <a:pt x="216" y="17"/>
                </a:lnTo>
                <a:lnTo>
                  <a:pt x="183" y="20"/>
                </a:lnTo>
                <a:lnTo>
                  <a:pt x="146" y="76"/>
                </a:lnTo>
                <a:lnTo>
                  <a:pt x="110" y="107"/>
                </a:lnTo>
                <a:lnTo>
                  <a:pt x="39" y="174"/>
                </a:lnTo>
                <a:lnTo>
                  <a:pt x="14" y="202"/>
                </a:lnTo>
                <a:lnTo>
                  <a:pt x="34" y="284"/>
                </a:lnTo>
                <a:lnTo>
                  <a:pt x="56" y="371"/>
                </a:lnTo>
                <a:lnTo>
                  <a:pt x="65" y="421"/>
                </a:lnTo>
                <a:lnTo>
                  <a:pt x="84" y="470"/>
                </a:lnTo>
                <a:lnTo>
                  <a:pt x="107" y="515"/>
                </a:lnTo>
                <a:lnTo>
                  <a:pt x="141" y="549"/>
                </a:lnTo>
                <a:lnTo>
                  <a:pt x="200" y="591"/>
                </a:lnTo>
                <a:lnTo>
                  <a:pt x="253" y="627"/>
                </a:lnTo>
                <a:lnTo>
                  <a:pt x="304" y="655"/>
                </a:lnTo>
                <a:lnTo>
                  <a:pt x="316" y="655"/>
                </a:lnTo>
                <a:lnTo>
                  <a:pt x="316" y="644"/>
                </a:lnTo>
                <a:lnTo>
                  <a:pt x="244" y="602"/>
                </a:lnTo>
                <a:lnTo>
                  <a:pt x="163" y="552"/>
                </a:lnTo>
                <a:lnTo>
                  <a:pt x="118" y="509"/>
                </a:lnTo>
                <a:lnTo>
                  <a:pt x="84" y="444"/>
                </a:lnTo>
                <a:lnTo>
                  <a:pt x="73" y="388"/>
                </a:lnTo>
                <a:lnTo>
                  <a:pt x="90" y="430"/>
                </a:lnTo>
                <a:lnTo>
                  <a:pt x="124" y="498"/>
                </a:lnTo>
                <a:lnTo>
                  <a:pt x="163" y="532"/>
                </a:lnTo>
                <a:lnTo>
                  <a:pt x="200" y="557"/>
                </a:lnTo>
                <a:lnTo>
                  <a:pt x="242" y="582"/>
                </a:lnTo>
                <a:lnTo>
                  <a:pt x="293" y="619"/>
                </a:lnTo>
                <a:lnTo>
                  <a:pt x="319" y="627"/>
                </a:lnTo>
                <a:lnTo>
                  <a:pt x="324" y="613"/>
                </a:lnTo>
                <a:lnTo>
                  <a:pt x="259" y="577"/>
                </a:lnTo>
                <a:lnTo>
                  <a:pt x="302" y="591"/>
                </a:lnTo>
                <a:lnTo>
                  <a:pt x="335" y="605"/>
                </a:lnTo>
                <a:lnTo>
                  <a:pt x="352" y="605"/>
                </a:lnTo>
                <a:lnTo>
                  <a:pt x="355" y="585"/>
                </a:lnTo>
                <a:lnTo>
                  <a:pt x="278" y="566"/>
                </a:lnTo>
                <a:lnTo>
                  <a:pt x="219" y="546"/>
                </a:lnTo>
                <a:lnTo>
                  <a:pt x="171" y="515"/>
                </a:lnTo>
                <a:lnTo>
                  <a:pt x="141" y="481"/>
                </a:lnTo>
                <a:lnTo>
                  <a:pt x="121" y="441"/>
                </a:lnTo>
                <a:lnTo>
                  <a:pt x="163" y="487"/>
                </a:lnTo>
                <a:lnTo>
                  <a:pt x="216" y="526"/>
                </a:lnTo>
                <a:lnTo>
                  <a:pt x="273" y="549"/>
                </a:lnTo>
                <a:lnTo>
                  <a:pt x="330" y="563"/>
                </a:lnTo>
                <a:lnTo>
                  <a:pt x="355" y="571"/>
                </a:lnTo>
                <a:lnTo>
                  <a:pt x="372" y="574"/>
                </a:lnTo>
                <a:lnTo>
                  <a:pt x="386" y="574"/>
                </a:lnTo>
                <a:lnTo>
                  <a:pt x="389" y="563"/>
                </a:lnTo>
                <a:lnTo>
                  <a:pt x="386" y="554"/>
                </a:lnTo>
                <a:lnTo>
                  <a:pt x="313" y="543"/>
                </a:lnTo>
                <a:lnTo>
                  <a:pt x="256" y="529"/>
                </a:lnTo>
                <a:lnTo>
                  <a:pt x="230" y="515"/>
                </a:lnTo>
                <a:lnTo>
                  <a:pt x="191" y="490"/>
                </a:lnTo>
                <a:lnTo>
                  <a:pt x="169" y="476"/>
                </a:lnTo>
                <a:lnTo>
                  <a:pt x="149" y="452"/>
                </a:lnTo>
                <a:lnTo>
                  <a:pt x="124" y="424"/>
                </a:lnTo>
                <a:lnTo>
                  <a:pt x="101" y="371"/>
                </a:lnTo>
                <a:lnTo>
                  <a:pt x="84" y="317"/>
                </a:lnTo>
                <a:lnTo>
                  <a:pt x="67" y="253"/>
                </a:lnTo>
                <a:lnTo>
                  <a:pt x="56" y="211"/>
                </a:lnTo>
                <a:lnTo>
                  <a:pt x="59" y="202"/>
                </a:lnTo>
                <a:lnTo>
                  <a:pt x="67" y="208"/>
                </a:lnTo>
                <a:lnTo>
                  <a:pt x="84" y="278"/>
                </a:lnTo>
                <a:lnTo>
                  <a:pt x="101" y="337"/>
                </a:lnTo>
                <a:lnTo>
                  <a:pt x="124" y="396"/>
                </a:lnTo>
                <a:lnTo>
                  <a:pt x="149" y="435"/>
                </a:lnTo>
                <a:lnTo>
                  <a:pt x="180" y="470"/>
                </a:lnTo>
                <a:lnTo>
                  <a:pt x="230" y="501"/>
                </a:lnTo>
                <a:lnTo>
                  <a:pt x="273" y="518"/>
                </a:lnTo>
                <a:lnTo>
                  <a:pt x="321" y="532"/>
                </a:lnTo>
                <a:lnTo>
                  <a:pt x="372" y="538"/>
                </a:lnTo>
                <a:lnTo>
                  <a:pt x="414" y="540"/>
                </a:lnTo>
                <a:lnTo>
                  <a:pt x="451" y="504"/>
                </a:lnTo>
                <a:lnTo>
                  <a:pt x="476" y="473"/>
                </a:lnTo>
                <a:lnTo>
                  <a:pt x="504" y="433"/>
                </a:lnTo>
                <a:lnTo>
                  <a:pt x="524" y="390"/>
                </a:lnTo>
                <a:lnTo>
                  <a:pt x="538" y="345"/>
                </a:lnTo>
                <a:lnTo>
                  <a:pt x="543" y="303"/>
                </a:lnTo>
                <a:lnTo>
                  <a:pt x="546" y="264"/>
                </a:lnTo>
                <a:lnTo>
                  <a:pt x="484" y="258"/>
                </a:lnTo>
                <a:lnTo>
                  <a:pt x="442" y="256"/>
                </a:lnTo>
                <a:lnTo>
                  <a:pt x="411" y="253"/>
                </a:lnTo>
                <a:lnTo>
                  <a:pt x="386" y="244"/>
                </a:lnTo>
                <a:lnTo>
                  <a:pt x="352" y="230"/>
                </a:lnTo>
                <a:lnTo>
                  <a:pt x="321" y="211"/>
                </a:lnTo>
                <a:lnTo>
                  <a:pt x="290" y="185"/>
                </a:lnTo>
                <a:lnTo>
                  <a:pt x="270" y="152"/>
                </a:lnTo>
                <a:lnTo>
                  <a:pt x="261" y="121"/>
                </a:lnTo>
                <a:lnTo>
                  <a:pt x="247" y="67"/>
                </a:lnTo>
                <a:lnTo>
                  <a:pt x="236" y="31"/>
                </a:lnTo>
                <a:lnTo>
                  <a:pt x="236" y="22"/>
                </a:lnTo>
                <a:lnTo>
                  <a:pt x="242" y="6"/>
                </a:lnTo>
                <a:lnTo>
                  <a:pt x="253" y="45"/>
                </a:lnTo>
                <a:lnTo>
                  <a:pt x="261" y="73"/>
                </a:lnTo>
                <a:lnTo>
                  <a:pt x="273" y="115"/>
                </a:lnTo>
                <a:lnTo>
                  <a:pt x="288" y="152"/>
                </a:lnTo>
                <a:lnTo>
                  <a:pt x="307" y="183"/>
                </a:lnTo>
                <a:lnTo>
                  <a:pt x="333" y="199"/>
                </a:lnTo>
                <a:lnTo>
                  <a:pt x="363" y="216"/>
                </a:lnTo>
                <a:lnTo>
                  <a:pt x="392" y="230"/>
                </a:lnTo>
                <a:lnTo>
                  <a:pt x="425" y="236"/>
                </a:lnTo>
                <a:lnTo>
                  <a:pt x="470" y="242"/>
                </a:lnTo>
                <a:lnTo>
                  <a:pt x="518" y="247"/>
                </a:lnTo>
                <a:lnTo>
                  <a:pt x="557" y="250"/>
                </a:lnTo>
                <a:lnTo>
                  <a:pt x="563" y="250"/>
                </a:lnTo>
                <a:lnTo>
                  <a:pt x="563" y="267"/>
                </a:lnTo>
                <a:lnTo>
                  <a:pt x="557" y="331"/>
                </a:lnTo>
                <a:lnTo>
                  <a:pt x="543" y="396"/>
                </a:lnTo>
                <a:lnTo>
                  <a:pt x="512" y="449"/>
                </a:lnTo>
                <a:lnTo>
                  <a:pt x="490" y="484"/>
                </a:lnTo>
                <a:lnTo>
                  <a:pt x="462" y="518"/>
                </a:lnTo>
                <a:lnTo>
                  <a:pt x="434" y="546"/>
                </a:lnTo>
                <a:lnTo>
                  <a:pt x="423" y="566"/>
                </a:lnTo>
                <a:lnTo>
                  <a:pt x="406" y="574"/>
                </a:lnTo>
                <a:lnTo>
                  <a:pt x="406" y="585"/>
                </a:lnTo>
                <a:lnTo>
                  <a:pt x="400" y="594"/>
                </a:lnTo>
                <a:lnTo>
                  <a:pt x="392" y="599"/>
                </a:lnTo>
                <a:lnTo>
                  <a:pt x="378" y="599"/>
                </a:lnTo>
                <a:lnTo>
                  <a:pt x="375" y="605"/>
                </a:lnTo>
                <a:lnTo>
                  <a:pt x="375" y="613"/>
                </a:lnTo>
                <a:lnTo>
                  <a:pt x="366" y="622"/>
                </a:lnTo>
                <a:lnTo>
                  <a:pt x="349" y="622"/>
                </a:lnTo>
                <a:lnTo>
                  <a:pt x="344" y="636"/>
                </a:lnTo>
                <a:lnTo>
                  <a:pt x="341" y="647"/>
                </a:lnTo>
                <a:lnTo>
                  <a:pt x="335" y="655"/>
                </a:lnTo>
                <a:lnTo>
                  <a:pt x="327" y="670"/>
                </a:lnTo>
                <a:lnTo>
                  <a:pt x="310" y="678"/>
                </a:lnTo>
                <a:lnTo>
                  <a:pt x="267" y="653"/>
                </a:lnTo>
                <a:lnTo>
                  <a:pt x="194" y="608"/>
                </a:lnTo>
                <a:lnTo>
                  <a:pt x="160" y="577"/>
                </a:lnTo>
                <a:lnTo>
                  <a:pt x="112" y="543"/>
                </a:lnTo>
                <a:lnTo>
                  <a:pt x="90" y="515"/>
                </a:lnTo>
                <a:lnTo>
                  <a:pt x="70" y="473"/>
                </a:lnTo>
                <a:lnTo>
                  <a:pt x="53" y="430"/>
                </a:lnTo>
                <a:lnTo>
                  <a:pt x="42" y="399"/>
                </a:lnTo>
                <a:lnTo>
                  <a:pt x="34" y="340"/>
                </a:lnTo>
                <a:lnTo>
                  <a:pt x="20" y="281"/>
                </a:lnTo>
                <a:lnTo>
                  <a:pt x="3" y="228"/>
                </a:lnTo>
                <a:lnTo>
                  <a:pt x="0" y="194"/>
                </a:lnTo>
                <a:lnTo>
                  <a:pt x="51" y="140"/>
                </a:lnTo>
                <a:lnTo>
                  <a:pt x="101" y="95"/>
                </a:lnTo>
                <a:lnTo>
                  <a:pt x="138" y="62"/>
                </a:lnTo>
                <a:lnTo>
                  <a:pt x="152" y="36"/>
                </a:lnTo>
                <a:lnTo>
                  <a:pt x="171" y="0"/>
                </a:lnTo>
                <a:lnTo>
                  <a:pt x="242" y="6"/>
                </a:lnTo>
                <a:lnTo>
                  <a:pt x="219" y="39"/>
                </a:lnTo>
                <a:lnTo>
                  <a:pt x="188" y="79"/>
                </a:lnTo>
                <a:lnTo>
                  <a:pt x="135" y="129"/>
                </a:lnTo>
                <a:lnTo>
                  <a:pt x="96" y="166"/>
                </a:lnTo>
                <a:lnTo>
                  <a:pt x="56" y="191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 rot="18000000">
            <a:off x="973800" y="4375800"/>
            <a:ext cx="752400" cy="37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cc"/>
                </a:solidFill>
                <a:latin typeface="Impact"/>
              </a:rPr>
              <a:t>Proc</a:t>
            </a:r>
            <a:endParaRPr b="0" lang="en-US" sz="2400" spc="1" strike="noStrike">
              <a:ln w="0">
                <a:noFill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425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80080" y="1461240"/>
              <a:ext cx="515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Procedury dla CMM Poziom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0570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przeglądy zobowiązań zewnętrz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opracowywanie planu przedsięwzię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szacowanie rozmiaru, pracochłonności</a:t>
            </a:r>
            <a:r>
              <a:rPr b="1" lang="en-GB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kosztu</a:t>
            </a:r>
            <a:r>
              <a:rPr b="1" lang="en-GB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krytycznych zasobów obliczeniowych</a:t>
            </a:r>
            <a:r>
              <a:rPr b="1" lang="en-GB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i</a:t>
            </a:r>
            <a:r>
              <a:rPr b="1" lang="en-GB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harmonogr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dokonywanie zmian w pl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przeglądy przedsięwzięcia przy kamieniach milow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planowanie zapewnienia jakoś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5667480"/>
            <a:ext cx="701640" cy="6570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56832" dir="19996359" blurRad="0" rotWithShape="0">
                    <a:srgbClr val="000099"/>
                  </a:outerShdw>
                </a:effectLst>
                <a:latin typeface="Impact"/>
              </a:rPr>
              <a:t>x 1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56832" dir="19996359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Podsumowani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505320" y="159984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XP: Małe przedsięwzięcia programistyczne (do 10 osób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odstawowe czynniki ryzyka X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brak dokumentacji – pielęgnacja produktu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oblemy z dostępnością klient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tylko 1 przedstawiciel kli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nne metodyki: DSDM, RUP, Scrum, Cry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76320" y="3244680"/>
            <a:ext cx="2971800" cy="2698920"/>
          </a:xfrm>
          <a:prstGeom prst="rect">
            <a:avLst/>
          </a:prstGeom>
          <a:ln w="0">
            <a:noFill/>
          </a:ln>
        </p:spPr>
      </p:pic>
      <p:sp>
        <p:nvSpPr>
          <p:cNvPr id="1715" name=""/>
          <p:cNvSpPr/>
          <p:nvPr/>
        </p:nvSpPr>
        <p:spPr>
          <a:xfrm>
            <a:off x="380880" y="2209680"/>
            <a:ext cx="3124440" cy="1219320"/>
          </a:xfrm>
          <a:prstGeom prst="cloudCallout">
            <a:avLst>
              <a:gd name="adj1" fmla="val -20884"/>
              <a:gd name="adj2" fmla="val 6627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14400" y="26049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reszci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Ocena wykładu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719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726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6840" y="3157560"/>
            <a:ext cx="1370160" cy="2422440"/>
          </a:xfrm>
          <a:custGeom>
            <a:avLst/>
            <a:gdLst/>
            <a:ahLst/>
            <a:rect l="l" t="t" r="r" b="b"/>
            <a:pathLst>
              <a:path w="405" h="666">
                <a:moveTo>
                  <a:pt x="230" y="0"/>
                </a:moveTo>
                <a:lnTo>
                  <a:pt x="171" y="3"/>
                </a:lnTo>
                <a:lnTo>
                  <a:pt x="137" y="56"/>
                </a:lnTo>
                <a:lnTo>
                  <a:pt x="42" y="143"/>
                </a:lnTo>
                <a:lnTo>
                  <a:pt x="0" y="191"/>
                </a:lnTo>
                <a:lnTo>
                  <a:pt x="28" y="317"/>
                </a:lnTo>
                <a:lnTo>
                  <a:pt x="50" y="412"/>
                </a:lnTo>
                <a:lnTo>
                  <a:pt x="107" y="523"/>
                </a:lnTo>
                <a:lnTo>
                  <a:pt x="205" y="601"/>
                </a:lnTo>
                <a:lnTo>
                  <a:pt x="315" y="666"/>
                </a:lnTo>
                <a:lnTo>
                  <a:pt x="318" y="649"/>
                </a:lnTo>
                <a:lnTo>
                  <a:pt x="326" y="646"/>
                </a:lnTo>
                <a:lnTo>
                  <a:pt x="326" y="638"/>
                </a:lnTo>
                <a:lnTo>
                  <a:pt x="326" y="629"/>
                </a:lnTo>
                <a:lnTo>
                  <a:pt x="326" y="621"/>
                </a:lnTo>
                <a:lnTo>
                  <a:pt x="326" y="613"/>
                </a:lnTo>
                <a:lnTo>
                  <a:pt x="335" y="610"/>
                </a:lnTo>
                <a:lnTo>
                  <a:pt x="343" y="610"/>
                </a:lnTo>
                <a:lnTo>
                  <a:pt x="352" y="610"/>
                </a:lnTo>
                <a:lnTo>
                  <a:pt x="360" y="604"/>
                </a:lnTo>
                <a:lnTo>
                  <a:pt x="360" y="596"/>
                </a:lnTo>
                <a:lnTo>
                  <a:pt x="360" y="587"/>
                </a:lnTo>
                <a:lnTo>
                  <a:pt x="360" y="579"/>
                </a:lnTo>
                <a:lnTo>
                  <a:pt x="369" y="576"/>
                </a:lnTo>
                <a:lnTo>
                  <a:pt x="377" y="576"/>
                </a:lnTo>
                <a:lnTo>
                  <a:pt x="385" y="576"/>
                </a:lnTo>
                <a:lnTo>
                  <a:pt x="391" y="568"/>
                </a:lnTo>
                <a:lnTo>
                  <a:pt x="388" y="559"/>
                </a:lnTo>
                <a:lnTo>
                  <a:pt x="388" y="551"/>
                </a:lnTo>
                <a:lnTo>
                  <a:pt x="397" y="545"/>
                </a:lnTo>
                <a:lnTo>
                  <a:pt x="405" y="543"/>
                </a:lnTo>
                <a:lnTo>
                  <a:pt x="255" y="478"/>
                </a:lnTo>
                <a:lnTo>
                  <a:pt x="109" y="289"/>
                </a:lnTo>
                <a:lnTo>
                  <a:pt x="115" y="177"/>
                </a:lnTo>
                <a:lnTo>
                  <a:pt x="216" y="59"/>
                </a:lnTo>
                <a:lnTo>
                  <a:pt x="230" y="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5840" y="3135240"/>
            <a:ext cx="1665360" cy="1997280"/>
          </a:xfrm>
          <a:custGeom>
            <a:avLst/>
            <a:gdLst/>
            <a:ahLst/>
            <a:rect l="l" t="t" r="r" b="b"/>
            <a:pathLst>
              <a:path w="492" h="549">
                <a:moveTo>
                  <a:pt x="191" y="59"/>
                </a:moveTo>
                <a:lnTo>
                  <a:pt x="220" y="152"/>
                </a:lnTo>
                <a:lnTo>
                  <a:pt x="253" y="194"/>
                </a:lnTo>
                <a:lnTo>
                  <a:pt x="329" y="242"/>
                </a:lnTo>
                <a:lnTo>
                  <a:pt x="439" y="253"/>
                </a:lnTo>
                <a:lnTo>
                  <a:pt x="492" y="256"/>
                </a:lnTo>
                <a:lnTo>
                  <a:pt x="484" y="343"/>
                </a:lnTo>
                <a:lnTo>
                  <a:pt x="444" y="444"/>
                </a:lnTo>
                <a:lnTo>
                  <a:pt x="374" y="527"/>
                </a:lnTo>
                <a:lnTo>
                  <a:pt x="352" y="549"/>
                </a:lnTo>
                <a:lnTo>
                  <a:pt x="216" y="530"/>
                </a:lnTo>
                <a:lnTo>
                  <a:pt x="112" y="474"/>
                </a:lnTo>
                <a:lnTo>
                  <a:pt x="64" y="416"/>
                </a:lnTo>
                <a:lnTo>
                  <a:pt x="22" y="293"/>
                </a:lnTo>
                <a:lnTo>
                  <a:pt x="0" y="194"/>
                </a:lnTo>
                <a:lnTo>
                  <a:pt x="121" y="74"/>
                </a:lnTo>
                <a:lnTo>
                  <a:pt x="180" y="0"/>
                </a:lnTo>
                <a:lnTo>
                  <a:pt x="191" y="5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5120" y="3532320"/>
            <a:ext cx="1268280" cy="1379520"/>
          </a:xfrm>
          <a:custGeom>
            <a:avLst/>
            <a:gdLst/>
            <a:ahLst/>
            <a:rect l="l" t="t" r="r" b="b"/>
            <a:pathLst>
              <a:path w="375" h="379">
                <a:moveTo>
                  <a:pt x="0" y="110"/>
                </a:moveTo>
                <a:lnTo>
                  <a:pt x="107" y="0"/>
                </a:lnTo>
                <a:lnTo>
                  <a:pt x="119" y="51"/>
                </a:lnTo>
                <a:lnTo>
                  <a:pt x="138" y="104"/>
                </a:lnTo>
                <a:lnTo>
                  <a:pt x="170" y="138"/>
                </a:lnTo>
                <a:lnTo>
                  <a:pt x="218" y="164"/>
                </a:lnTo>
                <a:lnTo>
                  <a:pt x="274" y="183"/>
                </a:lnTo>
                <a:lnTo>
                  <a:pt x="328" y="183"/>
                </a:lnTo>
                <a:lnTo>
                  <a:pt x="375" y="186"/>
                </a:lnTo>
                <a:lnTo>
                  <a:pt x="373" y="223"/>
                </a:lnTo>
                <a:lnTo>
                  <a:pt x="356" y="279"/>
                </a:lnTo>
                <a:lnTo>
                  <a:pt x="325" y="324"/>
                </a:lnTo>
                <a:lnTo>
                  <a:pt x="291" y="362"/>
                </a:lnTo>
                <a:lnTo>
                  <a:pt x="277" y="379"/>
                </a:lnTo>
                <a:lnTo>
                  <a:pt x="204" y="373"/>
                </a:lnTo>
                <a:lnTo>
                  <a:pt x="138" y="359"/>
                </a:lnTo>
                <a:lnTo>
                  <a:pt x="90" y="327"/>
                </a:lnTo>
                <a:lnTo>
                  <a:pt x="65" y="293"/>
                </a:lnTo>
                <a:lnTo>
                  <a:pt x="40" y="251"/>
                </a:lnTo>
                <a:lnTo>
                  <a:pt x="23" y="200"/>
                </a:lnTo>
                <a:lnTo>
                  <a:pt x="9" y="147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320" y="3124080"/>
            <a:ext cx="1904760" cy="2467080"/>
          </a:xfrm>
          <a:custGeom>
            <a:avLst/>
            <a:gdLst/>
            <a:ahLst/>
            <a:rect l="l" t="t" r="r" b="b"/>
            <a:pathLst>
              <a:path w="563" h="678">
                <a:moveTo>
                  <a:pt x="56" y="191"/>
                </a:moveTo>
                <a:lnTo>
                  <a:pt x="135" y="115"/>
                </a:lnTo>
                <a:lnTo>
                  <a:pt x="171" y="76"/>
                </a:lnTo>
                <a:lnTo>
                  <a:pt x="216" y="17"/>
                </a:lnTo>
                <a:lnTo>
                  <a:pt x="183" y="20"/>
                </a:lnTo>
                <a:lnTo>
                  <a:pt x="146" y="76"/>
                </a:lnTo>
                <a:lnTo>
                  <a:pt x="110" y="107"/>
                </a:lnTo>
                <a:lnTo>
                  <a:pt x="39" y="174"/>
                </a:lnTo>
                <a:lnTo>
                  <a:pt x="14" y="202"/>
                </a:lnTo>
                <a:lnTo>
                  <a:pt x="34" y="284"/>
                </a:lnTo>
                <a:lnTo>
                  <a:pt x="56" y="371"/>
                </a:lnTo>
                <a:lnTo>
                  <a:pt x="65" y="421"/>
                </a:lnTo>
                <a:lnTo>
                  <a:pt x="84" y="470"/>
                </a:lnTo>
                <a:lnTo>
                  <a:pt x="107" y="515"/>
                </a:lnTo>
                <a:lnTo>
                  <a:pt x="141" y="549"/>
                </a:lnTo>
                <a:lnTo>
                  <a:pt x="200" y="591"/>
                </a:lnTo>
                <a:lnTo>
                  <a:pt x="253" y="627"/>
                </a:lnTo>
                <a:lnTo>
                  <a:pt x="304" y="655"/>
                </a:lnTo>
                <a:lnTo>
                  <a:pt x="316" y="655"/>
                </a:lnTo>
                <a:lnTo>
                  <a:pt x="316" y="644"/>
                </a:lnTo>
                <a:lnTo>
                  <a:pt x="244" y="602"/>
                </a:lnTo>
                <a:lnTo>
                  <a:pt x="163" y="552"/>
                </a:lnTo>
                <a:lnTo>
                  <a:pt x="118" y="509"/>
                </a:lnTo>
                <a:lnTo>
                  <a:pt x="84" y="444"/>
                </a:lnTo>
                <a:lnTo>
                  <a:pt x="73" y="388"/>
                </a:lnTo>
                <a:lnTo>
                  <a:pt x="90" y="430"/>
                </a:lnTo>
                <a:lnTo>
                  <a:pt x="124" y="498"/>
                </a:lnTo>
                <a:lnTo>
                  <a:pt x="163" y="532"/>
                </a:lnTo>
                <a:lnTo>
                  <a:pt x="200" y="557"/>
                </a:lnTo>
                <a:lnTo>
                  <a:pt x="242" y="582"/>
                </a:lnTo>
                <a:lnTo>
                  <a:pt x="293" y="619"/>
                </a:lnTo>
                <a:lnTo>
                  <a:pt x="319" y="627"/>
                </a:lnTo>
                <a:lnTo>
                  <a:pt x="324" y="613"/>
                </a:lnTo>
                <a:lnTo>
                  <a:pt x="259" y="577"/>
                </a:lnTo>
                <a:lnTo>
                  <a:pt x="302" y="591"/>
                </a:lnTo>
                <a:lnTo>
                  <a:pt x="335" y="605"/>
                </a:lnTo>
                <a:lnTo>
                  <a:pt x="352" y="605"/>
                </a:lnTo>
                <a:lnTo>
                  <a:pt x="355" y="585"/>
                </a:lnTo>
                <a:lnTo>
                  <a:pt x="278" y="566"/>
                </a:lnTo>
                <a:lnTo>
                  <a:pt x="219" y="546"/>
                </a:lnTo>
                <a:lnTo>
                  <a:pt x="171" y="515"/>
                </a:lnTo>
                <a:lnTo>
                  <a:pt x="141" y="481"/>
                </a:lnTo>
                <a:lnTo>
                  <a:pt x="121" y="441"/>
                </a:lnTo>
                <a:lnTo>
                  <a:pt x="163" y="487"/>
                </a:lnTo>
                <a:lnTo>
                  <a:pt x="216" y="526"/>
                </a:lnTo>
                <a:lnTo>
                  <a:pt x="273" y="549"/>
                </a:lnTo>
                <a:lnTo>
                  <a:pt x="330" y="563"/>
                </a:lnTo>
                <a:lnTo>
                  <a:pt x="355" y="571"/>
                </a:lnTo>
                <a:lnTo>
                  <a:pt x="372" y="574"/>
                </a:lnTo>
                <a:lnTo>
                  <a:pt x="386" y="574"/>
                </a:lnTo>
                <a:lnTo>
                  <a:pt x="389" y="563"/>
                </a:lnTo>
                <a:lnTo>
                  <a:pt x="386" y="554"/>
                </a:lnTo>
                <a:lnTo>
                  <a:pt x="313" y="543"/>
                </a:lnTo>
                <a:lnTo>
                  <a:pt x="256" y="529"/>
                </a:lnTo>
                <a:lnTo>
                  <a:pt x="230" y="515"/>
                </a:lnTo>
                <a:lnTo>
                  <a:pt x="191" y="490"/>
                </a:lnTo>
                <a:lnTo>
                  <a:pt x="169" y="476"/>
                </a:lnTo>
                <a:lnTo>
                  <a:pt x="149" y="452"/>
                </a:lnTo>
                <a:lnTo>
                  <a:pt x="124" y="424"/>
                </a:lnTo>
                <a:lnTo>
                  <a:pt x="101" y="371"/>
                </a:lnTo>
                <a:lnTo>
                  <a:pt x="84" y="317"/>
                </a:lnTo>
                <a:lnTo>
                  <a:pt x="67" y="253"/>
                </a:lnTo>
                <a:lnTo>
                  <a:pt x="56" y="211"/>
                </a:lnTo>
                <a:lnTo>
                  <a:pt x="59" y="202"/>
                </a:lnTo>
                <a:lnTo>
                  <a:pt x="67" y="208"/>
                </a:lnTo>
                <a:lnTo>
                  <a:pt x="84" y="278"/>
                </a:lnTo>
                <a:lnTo>
                  <a:pt x="101" y="337"/>
                </a:lnTo>
                <a:lnTo>
                  <a:pt x="124" y="396"/>
                </a:lnTo>
                <a:lnTo>
                  <a:pt x="149" y="435"/>
                </a:lnTo>
                <a:lnTo>
                  <a:pt x="180" y="470"/>
                </a:lnTo>
                <a:lnTo>
                  <a:pt x="230" y="501"/>
                </a:lnTo>
                <a:lnTo>
                  <a:pt x="273" y="518"/>
                </a:lnTo>
                <a:lnTo>
                  <a:pt x="321" y="532"/>
                </a:lnTo>
                <a:lnTo>
                  <a:pt x="372" y="538"/>
                </a:lnTo>
                <a:lnTo>
                  <a:pt x="414" y="540"/>
                </a:lnTo>
                <a:lnTo>
                  <a:pt x="451" y="504"/>
                </a:lnTo>
                <a:lnTo>
                  <a:pt x="476" y="473"/>
                </a:lnTo>
                <a:lnTo>
                  <a:pt x="504" y="433"/>
                </a:lnTo>
                <a:lnTo>
                  <a:pt x="524" y="390"/>
                </a:lnTo>
                <a:lnTo>
                  <a:pt x="538" y="345"/>
                </a:lnTo>
                <a:lnTo>
                  <a:pt x="543" y="303"/>
                </a:lnTo>
                <a:lnTo>
                  <a:pt x="546" y="264"/>
                </a:lnTo>
                <a:lnTo>
                  <a:pt x="484" y="258"/>
                </a:lnTo>
                <a:lnTo>
                  <a:pt x="442" y="256"/>
                </a:lnTo>
                <a:lnTo>
                  <a:pt x="411" y="253"/>
                </a:lnTo>
                <a:lnTo>
                  <a:pt x="386" y="244"/>
                </a:lnTo>
                <a:lnTo>
                  <a:pt x="352" y="230"/>
                </a:lnTo>
                <a:lnTo>
                  <a:pt x="321" y="211"/>
                </a:lnTo>
                <a:lnTo>
                  <a:pt x="290" y="185"/>
                </a:lnTo>
                <a:lnTo>
                  <a:pt x="270" y="152"/>
                </a:lnTo>
                <a:lnTo>
                  <a:pt x="261" y="121"/>
                </a:lnTo>
                <a:lnTo>
                  <a:pt x="247" y="67"/>
                </a:lnTo>
                <a:lnTo>
                  <a:pt x="236" y="31"/>
                </a:lnTo>
                <a:lnTo>
                  <a:pt x="236" y="22"/>
                </a:lnTo>
                <a:lnTo>
                  <a:pt x="242" y="6"/>
                </a:lnTo>
                <a:lnTo>
                  <a:pt x="253" y="45"/>
                </a:lnTo>
                <a:lnTo>
                  <a:pt x="261" y="73"/>
                </a:lnTo>
                <a:lnTo>
                  <a:pt x="273" y="115"/>
                </a:lnTo>
                <a:lnTo>
                  <a:pt x="288" y="152"/>
                </a:lnTo>
                <a:lnTo>
                  <a:pt x="307" y="183"/>
                </a:lnTo>
                <a:lnTo>
                  <a:pt x="333" y="199"/>
                </a:lnTo>
                <a:lnTo>
                  <a:pt x="363" y="216"/>
                </a:lnTo>
                <a:lnTo>
                  <a:pt x="392" y="230"/>
                </a:lnTo>
                <a:lnTo>
                  <a:pt x="425" y="236"/>
                </a:lnTo>
                <a:lnTo>
                  <a:pt x="470" y="242"/>
                </a:lnTo>
                <a:lnTo>
                  <a:pt x="518" y="247"/>
                </a:lnTo>
                <a:lnTo>
                  <a:pt x="557" y="250"/>
                </a:lnTo>
                <a:lnTo>
                  <a:pt x="563" y="250"/>
                </a:lnTo>
                <a:lnTo>
                  <a:pt x="563" y="267"/>
                </a:lnTo>
                <a:lnTo>
                  <a:pt x="557" y="331"/>
                </a:lnTo>
                <a:lnTo>
                  <a:pt x="543" y="396"/>
                </a:lnTo>
                <a:lnTo>
                  <a:pt x="512" y="449"/>
                </a:lnTo>
                <a:lnTo>
                  <a:pt x="490" y="484"/>
                </a:lnTo>
                <a:lnTo>
                  <a:pt x="462" y="518"/>
                </a:lnTo>
                <a:lnTo>
                  <a:pt x="434" y="546"/>
                </a:lnTo>
                <a:lnTo>
                  <a:pt x="423" y="566"/>
                </a:lnTo>
                <a:lnTo>
                  <a:pt x="406" y="574"/>
                </a:lnTo>
                <a:lnTo>
                  <a:pt x="406" y="585"/>
                </a:lnTo>
                <a:lnTo>
                  <a:pt x="400" y="594"/>
                </a:lnTo>
                <a:lnTo>
                  <a:pt x="392" y="599"/>
                </a:lnTo>
                <a:lnTo>
                  <a:pt x="378" y="599"/>
                </a:lnTo>
                <a:lnTo>
                  <a:pt x="375" y="605"/>
                </a:lnTo>
                <a:lnTo>
                  <a:pt x="375" y="613"/>
                </a:lnTo>
                <a:lnTo>
                  <a:pt x="366" y="622"/>
                </a:lnTo>
                <a:lnTo>
                  <a:pt x="349" y="622"/>
                </a:lnTo>
                <a:lnTo>
                  <a:pt x="344" y="636"/>
                </a:lnTo>
                <a:lnTo>
                  <a:pt x="341" y="647"/>
                </a:lnTo>
                <a:lnTo>
                  <a:pt x="335" y="655"/>
                </a:lnTo>
                <a:lnTo>
                  <a:pt x="327" y="670"/>
                </a:lnTo>
                <a:lnTo>
                  <a:pt x="310" y="678"/>
                </a:lnTo>
                <a:lnTo>
                  <a:pt x="267" y="653"/>
                </a:lnTo>
                <a:lnTo>
                  <a:pt x="194" y="608"/>
                </a:lnTo>
                <a:lnTo>
                  <a:pt x="160" y="577"/>
                </a:lnTo>
                <a:lnTo>
                  <a:pt x="112" y="543"/>
                </a:lnTo>
                <a:lnTo>
                  <a:pt x="90" y="515"/>
                </a:lnTo>
                <a:lnTo>
                  <a:pt x="70" y="473"/>
                </a:lnTo>
                <a:lnTo>
                  <a:pt x="53" y="430"/>
                </a:lnTo>
                <a:lnTo>
                  <a:pt x="42" y="399"/>
                </a:lnTo>
                <a:lnTo>
                  <a:pt x="34" y="340"/>
                </a:lnTo>
                <a:lnTo>
                  <a:pt x="20" y="281"/>
                </a:lnTo>
                <a:lnTo>
                  <a:pt x="3" y="228"/>
                </a:lnTo>
                <a:lnTo>
                  <a:pt x="0" y="194"/>
                </a:lnTo>
                <a:lnTo>
                  <a:pt x="51" y="140"/>
                </a:lnTo>
                <a:lnTo>
                  <a:pt x="101" y="95"/>
                </a:lnTo>
                <a:lnTo>
                  <a:pt x="138" y="62"/>
                </a:lnTo>
                <a:lnTo>
                  <a:pt x="152" y="36"/>
                </a:lnTo>
                <a:lnTo>
                  <a:pt x="171" y="0"/>
                </a:lnTo>
                <a:lnTo>
                  <a:pt x="242" y="6"/>
                </a:lnTo>
                <a:lnTo>
                  <a:pt x="219" y="39"/>
                </a:lnTo>
                <a:lnTo>
                  <a:pt x="188" y="79"/>
                </a:lnTo>
                <a:lnTo>
                  <a:pt x="135" y="129"/>
                </a:lnTo>
                <a:lnTo>
                  <a:pt x="96" y="166"/>
                </a:lnTo>
                <a:lnTo>
                  <a:pt x="56" y="191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 rot="18000000">
            <a:off x="973800" y="4375800"/>
            <a:ext cx="752400" cy="37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cc"/>
                </a:solidFill>
                <a:latin typeface="Impact"/>
              </a:rPr>
              <a:t>IEEE</a:t>
            </a:r>
            <a:endParaRPr b="0" lang="en-US" sz="2400" spc="1" strike="noStrike">
              <a:ln w="0">
                <a:noFill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43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52960" y="1461240"/>
              <a:ext cx="28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Standardy IEE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80720" y="259092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EEE Std 829: Tes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EEE Std 830: Requiremen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EEE Std 982.1: Measures to Produce Reliable 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EEE Std 1012: Software Verification &amp; Valid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IEEE Std 1028: Re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40" name="notere_dame" descr=""/>
          <p:cNvPicPr/>
          <p:nvPr/>
        </p:nvPicPr>
        <p:blipFill>
          <a:blip r:embed="rId1"/>
          <a:stretch/>
        </p:blipFill>
        <p:spPr>
          <a:xfrm>
            <a:off x="1486080" y="1219320"/>
            <a:ext cx="7429320" cy="533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443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5280" y="1415160"/>
              <a:ext cx="655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0099"/>
                  </a:solidFill>
                  <a:latin typeface="Arial"/>
                </a:rPr>
                <a:t>Problem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838080" y="3668760"/>
            <a:ext cx="2438640" cy="2960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209680"/>
            <a:ext cx="3048120" cy="1371600"/>
          </a:xfrm>
          <a:prstGeom prst="cloudCallout">
            <a:avLst>
              <a:gd name="adj1" fmla="val -3333"/>
              <a:gd name="adj2" fmla="val 98148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Za duż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papierów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486400" y="4495680"/>
            <a:ext cx="2895480" cy="1600200"/>
            <a:chOff x="5486400" y="4495680"/>
            <a:chExt cx="2895480" cy="1600200"/>
          </a:xfrm>
        </p:grpSpPr>
        <p:grpSp>
          <p:nvGrpSpPr>
            <p:cNvPr id="448" name=""/>
            <p:cNvGrpSpPr/>
            <p:nvPr/>
          </p:nvGrpSpPr>
          <p:grpSpPr>
            <a:xfrm>
              <a:off x="6688080" y="4495680"/>
              <a:ext cx="505440" cy="866520"/>
              <a:chOff x="6688080" y="4495680"/>
              <a:chExt cx="505440" cy="866520"/>
            </a:xfrm>
          </p:grpSpPr>
          <p:sp>
            <p:nvSpPr>
              <p:cNvPr id="449" name=""/>
              <p:cNvSpPr/>
              <p:nvPr/>
            </p:nvSpPr>
            <p:spPr>
              <a:xfrm>
                <a:off x="6805080" y="4495680"/>
                <a:ext cx="267840" cy="2948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6688080" y="4815360"/>
                <a:ext cx="505440" cy="546840"/>
                <a:chOff x="6688080" y="4815360"/>
                <a:chExt cx="505440" cy="5468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774120" y="4815360"/>
                  <a:ext cx="333000" cy="15120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688080" y="4917240"/>
                  <a:ext cx="505440" cy="44496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88080" y="4816440"/>
                  <a:ext cx="185400" cy="24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501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50117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008120" y="4815360"/>
                  <a:ext cx="185400" cy="24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7895880" y="5064120"/>
              <a:ext cx="466920" cy="925560"/>
              <a:chOff x="7895880" y="5064120"/>
              <a:chExt cx="466920" cy="9255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895880" y="5351400"/>
                <a:ext cx="466920" cy="638280"/>
                <a:chOff x="7895880" y="5351400"/>
                <a:chExt cx="466920" cy="638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974720" y="5351400"/>
                  <a:ext cx="313560" cy="135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95880" y="5440320"/>
                  <a:ext cx="466920" cy="5493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97320" y="5351400"/>
                  <a:ext cx="16884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4"/>
                      </a:moveTo>
                      <a:arcTo wR="10800" hR="10800" stAng="-10702681" swAng="51788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4"/>
                      </a:moveTo>
                      <a:arcTo wR="10800" hR="10800" stAng="-10702681" swAng="5178853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88200" y="5353200"/>
                  <a:ext cx="172440" cy="22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0000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8001000" y="5064120"/>
                <a:ext cx="253440" cy="2649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416360" y="4815000"/>
              <a:ext cx="470160" cy="922320"/>
              <a:chOff x="7416360" y="4815000"/>
              <a:chExt cx="470160" cy="9223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7416360" y="5100480"/>
                <a:ext cx="470160" cy="636840"/>
                <a:chOff x="7416360" y="5100480"/>
                <a:chExt cx="470160" cy="6368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495200" y="5100480"/>
                  <a:ext cx="315360" cy="136800"/>
                </a:xfrm>
                <a:prstGeom prst="rect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416360" y="5189400"/>
                  <a:ext cx="470160" cy="547920"/>
                </a:xfrm>
                <a:prstGeom prst="rect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17800" y="5102280"/>
                  <a:ext cx="168840" cy="21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46"/>
                      </a:moveTo>
                      <a:arcTo wR="10800" hR="10800" stAng="-10750981" swAng="52280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46"/>
                      </a:moveTo>
                      <a:arcTo wR="10800" hR="10800" stAng="-10750981" swAng="5228036"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711920" y="5102280"/>
                  <a:ext cx="17208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09" y="2"/>
                      </a:moveTo>
                      <a:arcTo wR="10800" hR="10800" stAng="-5460839" swAng="54094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09" y="2"/>
                      </a:moveTo>
                      <a:arcTo wR="10800" hR="10800" stAng="-5460839" swAng="5409458"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7521480" y="4815000"/>
                <a:ext cx="255240" cy="2635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015240" y="4815000"/>
              <a:ext cx="468360" cy="922320"/>
              <a:chOff x="6015240" y="4815000"/>
              <a:chExt cx="468360" cy="9223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6015240" y="5100480"/>
                <a:ext cx="468360" cy="636840"/>
                <a:chOff x="6015240" y="5100480"/>
                <a:chExt cx="468360" cy="6368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095520" y="5100480"/>
                  <a:ext cx="313920" cy="1368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015240" y="5189400"/>
                  <a:ext cx="468360" cy="547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15240" y="5102280"/>
                  <a:ext cx="172440" cy="21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45"/>
                      </a:moveTo>
                      <a:arcTo wR="10800" hR="10800" stAng="-10750540" swAng="52895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45"/>
                      </a:moveTo>
                      <a:arcTo wR="10800" hR="10800" stAng="-10750540" swAng="5289596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10440" y="5102280"/>
                  <a:ext cx="17244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0000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6121800" y="4815000"/>
                <a:ext cx="254880" cy="2635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520240" y="5064120"/>
              <a:ext cx="468360" cy="925560"/>
              <a:chOff x="5520240" y="5064120"/>
              <a:chExt cx="468360" cy="925560"/>
            </a:xfrm>
          </p:grpSpPr>
          <p:sp>
            <p:nvSpPr>
              <p:cNvPr id="477" name=""/>
              <p:cNvSpPr/>
              <p:nvPr/>
            </p:nvSpPr>
            <p:spPr>
              <a:xfrm>
                <a:off x="5626800" y="5064120"/>
                <a:ext cx="253440" cy="2649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5520240" y="5351400"/>
                <a:ext cx="468360" cy="638280"/>
                <a:chOff x="5520240" y="5351400"/>
                <a:chExt cx="468360" cy="6382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600520" y="5351400"/>
                  <a:ext cx="313560" cy="135000"/>
                </a:xfrm>
                <a:prstGeom prst="rect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520240" y="5440320"/>
                  <a:ext cx="468360" cy="549360"/>
                </a:xfrm>
                <a:prstGeom prst="rect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20240" y="5351400"/>
                  <a:ext cx="17244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2"/>
                      </a:moveTo>
                      <a:arcTo wR="10800" hR="10800" stAng="-10701805" swAng="524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2"/>
                      </a:moveTo>
                      <a:arcTo wR="10800" hR="10800" stAng="-10701805" swAng="5240424"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814000" y="5353200"/>
                  <a:ext cx="172440" cy="22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0000"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" name=""/>
            <p:cNvSpPr/>
            <p:nvPr/>
          </p:nvSpPr>
          <p:spPr>
            <a:xfrm>
              <a:off x="5486400" y="5079960"/>
              <a:ext cx="2895480" cy="907920"/>
            </a:xfrm>
            <a:custGeom>
              <a:avLst/>
              <a:gdLst/>
              <a:ahLst/>
              <a:rect l="l" t="t" r="r" b="b"/>
              <a:pathLst>
                <a:path w="3744" h="1145">
                  <a:moveTo>
                    <a:pt x="0" y="1145"/>
                  </a:moveTo>
                  <a:lnTo>
                    <a:pt x="1335" y="0"/>
                  </a:lnTo>
                  <a:lnTo>
                    <a:pt x="2354" y="0"/>
                  </a:lnTo>
                  <a:lnTo>
                    <a:pt x="3744" y="1145"/>
                  </a:lnTo>
                  <a:lnTo>
                    <a:pt x="0" y="1145"/>
                  </a:lnTo>
                  <a:close/>
                </a:path>
              </a:pathLst>
            </a:custGeom>
            <a:solidFill>
              <a:srgbClr val="66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917040" y="5153040"/>
              <a:ext cx="577800" cy="942840"/>
              <a:chOff x="6917040" y="5153040"/>
              <a:chExt cx="577800" cy="942840"/>
            </a:xfrm>
          </p:grpSpPr>
          <p:sp>
            <p:nvSpPr>
              <p:cNvPr id="485" name=""/>
              <p:cNvSpPr/>
              <p:nvPr/>
            </p:nvSpPr>
            <p:spPr>
              <a:xfrm>
                <a:off x="7049880" y="5153040"/>
                <a:ext cx="309240" cy="320760"/>
              </a:xfrm>
              <a:prstGeom prst="ellipse">
                <a:avLst/>
              </a:pr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6917040" y="5502240"/>
                <a:ext cx="577800" cy="593640"/>
                <a:chOff x="6917040" y="5502240"/>
                <a:chExt cx="577800" cy="5936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14240" y="5502240"/>
                  <a:ext cx="383040" cy="16344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18120" y="5611680"/>
                  <a:ext cx="576720" cy="48420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7040" y="5502240"/>
                  <a:ext cx="212760" cy="26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9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9656"/>
                    </a:path>
                  </a:pathLst>
                </a:custGeom>
                <a:solidFill>
                  <a:srgbClr val="33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81000" y="5504040"/>
                  <a:ext cx="212400" cy="26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420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42090"/>
                    </a:path>
                  </a:pathLst>
                </a:custGeom>
                <a:solidFill>
                  <a:srgbClr val="33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" name=""/>
            <p:cNvGrpSpPr/>
            <p:nvPr/>
          </p:nvGrpSpPr>
          <p:grpSpPr>
            <a:xfrm>
              <a:off x="6313680" y="5145120"/>
              <a:ext cx="579960" cy="942840"/>
              <a:chOff x="6313680" y="5145120"/>
              <a:chExt cx="579960" cy="942840"/>
            </a:xfrm>
          </p:grpSpPr>
          <p:sp>
            <p:nvSpPr>
              <p:cNvPr id="492" name=""/>
              <p:cNvSpPr/>
              <p:nvPr/>
            </p:nvSpPr>
            <p:spPr>
              <a:xfrm>
                <a:off x="6448320" y="5145120"/>
                <a:ext cx="307440" cy="3207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6313680" y="5492880"/>
                <a:ext cx="579960" cy="595080"/>
                <a:chOff x="6313680" y="5492880"/>
                <a:chExt cx="579960" cy="5950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412320" y="5492880"/>
                  <a:ext cx="381960" cy="1648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313680" y="5603760"/>
                  <a:ext cx="579960" cy="484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313680" y="5494320"/>
                  <a:ext cx="212760" cy="26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501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50117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680520" y="5492880"/>
                  <a:ext cx="21240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8" name=""/>
          <p:cNvSpPr/>
          <p:nvPr/>
        </p:nvSpPr>
        <p:spPr>
          <a:xfrm>
            <a:off x="5791320" y="2590920"/>
            <a:ext cx="3047760" cy="1447560"/>
          </a:xfrm>
          <a:prstGeom prst="cloudCallout">
            <a:avLst>
              <a:gd name="adj1" fmla="val 9481"/>
              <a:gd name="adj2" fmla="val 92435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Za duż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zebrań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Arial"/>
              </a:rPr>
              <a:t>Wstęp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0" name="notere_dame" descr=""/>
          <p:cNvPicPr/>
          <p:nvPr/>
        </p:nvPicPr>
        <p:blipFill>
          <a:blip r:embed="rId1"/>
          <a:stretch/>
        </p:blipFill>
        <p:spPr>
          <a:xfrm>
            <a:off x="1438200" y="1143000"/>
            <a:ext cx="7429680" cy="533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Nawrocki, Zwinne metodyki ..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9:15:04Z</dcterms:created>
  <dc:creator>Jerzy R. Nawrocki</dc:creator>
  <dc:description/>
  <dc:language>en-US</dc:language>
  <cp:lastModifiedBy>Jerzy Nawrocki</cp:lastModifiedBy>
  <cp:lastPrinted>2000-03-01T10:26:02Z</cp:lastPrinted>
  <dcterms:modified xsi:type="dcterms:W3CDTF">2005-06-10T12:57:55Z</dcterms:modified>
  <cp:revision>189</cp:revision>
  <dc:subject>Personal Software Process</dc:subject>
  <dc:title>Introduction to PSP</dc:title>
</cp:coreProperties>
</file>