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3983-4A68-442E-B99D-3904C92FC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909C-4BD2-48DB-ACAF-73CBC0A5A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D969-C0BE-4FFD-AC6E-83FD97D9C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728B-C284-4DAD-9C78-617F4F273B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1BA2-510A-4901-8F55-097EACD831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D85D8-B25E-4388-BD98-44803B601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23A2-6DC3-437B-AE85-218E21131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0B6C-E0FD-44F1-BC86-166747852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5120" y="0"/>
            <a:ext cx="7238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4903F-1B6E-4D07-BF32-499FB3F37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2208-1693-44E6-AF45-766ACA4E98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114F-6050-4D4D-B07B-0A2AE1478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08C44-7341-4BC2-AA2F-3D3E2A6DD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8D27-36D2-47E5-B5AA-7C0E1A9E8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763640" cy="6858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01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76364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23800" y="20520"/>
            <a:ext cx="2813040" cy="19386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34920" y="6357960"/>
            <a:ext cx="1692360" cy="4222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.wm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image" Target="../media/image8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.wm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20.jpe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4.wm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wmf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5120" y="5105520"/>
            <a:ext cx="1485720" cy="148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19640" y="5805360"/>
            <a:ext cx="5257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nań University of Technology, Po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tp://www.put.poznan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0" y="5013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am men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89360"/>
            <a:ext cx="1940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am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3789360"/>
            <a:ext cx="2101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hał Kowal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rtosz Nowier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hał Re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Łukasz Szajkow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5680" y="50133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n Kniat, Ph. 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17760" y="1327320"/>
            <a:ext cx="593532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vantGarde Md BT"/>
              </a:rPr>
              <a:t>CarTooth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Project</a:t>
            </a:r>
            <a:br>
              <a:rPr sz="5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r Payment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32000" y="3284640"/>
            <a:ext cx="1440000" cy="50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643280" y="2852640"/>
            <a:ext cx="1297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>
            <a:lum contrast="-90000"/>
          </a:blip>
          <a:stretch/>
        </p:blipFill>
        <p:spPr>
          <a:xfrm>
            <a:off x="2411280" y="1628640"/>
            <a:ext cx="822600" cy="98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>
            <a:lum contrast="-90000"/>
          </a:blip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1773360"/>
            <a:ext cx="136872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1773360"/>
            <a:ext cx="71640" cy="143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6">
            <a:lum contrast="-74000"/>
          </a:blip>
          <a:stretch/>
        </p:blipFill>
        <p:spPr>
          <a:xfrm>
            <a:off x="4356000" y="3500280"/>
            <a:ext cx="426960" cy="7207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 flipV="1">
            <a:off x="3132000" y="2852640"/>
            <a:ext cx="158436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716360" y="2420640"/>
            <a:ext cx="1224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7">
            <a:lum contrast="-70000"/>
          </a:blip>
          <a:stretch/>
        </p:blipFill>
        <p:spPr>
          <a:xfrm>
            <a:off x="1979640" y="907920"/>
            <a:ext cx="2160720" cy="1621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" descr=""/>
          <p:cNvPicPr/>
          <p:nvPr/>
        </p:nvPicPr>
        <p:blipFill>
          <a:blip r:embed="rId10">
            <a:lum contrast="-90000"/>
          </a:blip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340000" y="4437000"/>
            <a:ext cx="6172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ying at toll roads – Tollboot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looking for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st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V="1">
            <a:off x="4643280" y="2852640"/>
            <a:ext cx="1297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3284640"/>
            <a:ext cx="1440000" cy="50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tion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39640" y="4653000"/>
            <a:ext cx="65898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Communication Server (C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perators Module (S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>
            <a:lum contrast="-90000"/>
          </a:blip>
          <a:stretch/>
        </p:blipFill>
        <p:spPr>
          <a:xfrm>
            <a:off x="3708360" y="234936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>
            <a:lum contrast="-90000"/>
          </a:blip>
          <a:stretch/>
        </p:blipFill>
        <p:spPr>
          <a:xfrm>
            <a:off x="2411280" y="1628640"/>
            <a:ext cx="822600" cy="984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>
            <a:lum contrast="-90000"/>
          </a:blip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>
            <a:lum contrast="-90000"/>
          </a:blip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>
            <a:lum contrast="-90000"/>
          </a:blip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32000" y="1773360"/>
            <a:ext cx="136872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32000" y="1773360"/>
            <a:ext cx="71640" cy="143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6">
            <a:lum contrast="-90000"/>
          </a:blip>
          <a:stretch/>
        </p:blipFill>
        <p:spPr>
          <a:xfrm>
            <a:off x="4356000" y="3500280"/>
            <a:ext cx="426960" cy="720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flipV="1">
            <a:off x="3132000" y="2852640"/>
            <a:ext cx="158436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7">
            <a:lum contrast="-90000"/>
          </a:blip>
          <a:stretch/>
        </p:blipFill>
        <p:spPr>
          <a:xfrm>
            <a:off x="1979640" y="907920"/>
            <a:ext cx="2160720" cy="1621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4716360" y="2420640"/>
            <a:ext cx="1224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" descr=""/>
          <p:cNvPicPr/>
          <p:nvPr/>
        </p:nvPicPr>
        <p:blipFill>
          <a:blip r:embed="rId10"/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C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S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 flipV="1">
            <a:off x="4643280" y="2852640"/>
            <a:ext cx="1297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3284640"/>
            <a:ext cx="1440000" cy="50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ral Communication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700000" y="4409640"/>
            <a:ext cx="425916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hering trans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zing trans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f-t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an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arms from PM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>
            <a:lum contrast="-90000"/>
          </a:blip>
          <a:stretch/>
        </p:blipFill>
        <p:spPr>
          <a:xfrm>
            <a:off x="2411280" y="1628640"/>
            <a:ext cx="822600" cy="9842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>
            <a:lum contrast="-90000"/>
          </a:blip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>
            <a:lum contrast="-90000"/>
          </a:blip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773360"/>
            <a:ext cx="136872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32000" y="1773360"/>
            <a:ext cx="71640" cy="143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356000" y="3500280"/>
            <a:ext cx="426960" cy="720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flipV="1">
            <a:off x="3132000" y="2852640"/>
            <a:ext cx="158436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7">
            <a:lum contrast="-90000"/>
          </a:blip>
          <a:stretch/>
        </p:blipFill>
        <p:spPr>
          <a:xfrm>
            <a:off x="1979640" y="907920"/>
            <a:ext cx="2160720" cy="1621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V="1">
            <a:off x="4716360" y="2420640"/>
            <a:ext cx="1224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C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S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411280" y="4653000"/>
            <a:ext cx="62499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type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ermanent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4360" y="0"/>
            <a:ext cx="6659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cation with C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>
            <a:lum contrast="-90000"/>
          </a:blip>
          <a:stretch/>
        </p:blipFill>
        <p:spPr>
          <a:xfrm>
            <a:off x="2411280" y="1628640"/>
            <a:ext cx="822600" cy="9842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>
            <a:lum contrast="-74000"/>
          </a:blip>
          <a:stretch/>
        </p:blipFill>
        <p:spPr>
          <a:xfrm>
            <a:off x="1979640" y="90792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>
            <a:lum contrast="-90000"/>
          </a:blip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1773360"/>
            <a:ext cx="136872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32000" y="1773360"/>
            <a:ext cx="71640" cy="143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4643280" y="2852640"/>
            <a:ext cx="1297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32000" y="3284640"/>
            <a:ext cx="1440000" cy="50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3708360" y="2349360"/>
            <a:ext cx="1513080" cy="1135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9"/>
          <a:stretch/>
        </p:blipFill>
        <p:spPr>
          <a:xfrm>
            <a:off x="4356000" y="3500280"/>
            <a:ext cx="426960" cy="720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 flipV="1">
            <a:off x="3132000" y="2852640"/>
            <a:ext cx="158436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716360" y="2420640"/>
            <a:ext cx="1224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C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S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0">
            <a:lum contrast="-90000"/>
          </a:blip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 flipV="1">
            <a:off x="4643280" y="2852640"/>
            <a:ext cx="1297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32000" y="3284640"/>
            <a:ext cx="1440000" cy="50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40000" y="0"/>
            <a:ext cx="680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 Operators Mo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411280" y="4365360"/>
            <a:ext cx="64072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of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f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riting out invo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tistics for cit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contrast="-90000"/>
          </a:blip>
          <a:stretch/>
        </p:blipFill>
        <p:spPr>
          <a:xfrm>
            <a:off x="3708360" y="234936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>
            <a:lum contrast="-90000"/>
          </a:blip>
          <a:stretch/>
        </p:blipFill>
        <p:spPr>
          <a:xfrm>
            <a:off x="2411280" y="1628640"/>
            <a:ext cx="822600" cy="984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>
            <a:lum contrast="-90000"/>
          </a:blip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>
            <a:lum contrast="-90000"/>
          </a:blip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5">
            <a:lum contrast="-90000"/>
          </a:blip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2000" y="1773360"/>
            <a:ext cx="136872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1773360"/>
            <a:ext cx="71640" cy="143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6">
            <a:lum contrast="-90000"/>
          </a:blip>
          <a:stretch/>
        </p:blipFill>
        <p:spPr>
          <a:xfrm>
            <a:off x="4356000" y="3500280"/>
            <a:ext cx="426960" cy="7207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 flipV="1">
            <a:off x="3132000" y="2852640"/>
            <a:ext cx="158436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7">
            <a:lum contrast="-90000"/>
          </a:blip>
          <a:stretch/>
        </p:blipFill>
        <p:spPr>
          <a:xfrm>
            <a:off x="1979640" y="907920"/>
            <a:ext cx="2160720" cy="16210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V="1">
            <a:off x="4716360" y="2420640"/>
            <a:ext cx="1224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C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S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0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 flipV="1">
            <a:off x="4643280" y="2852640"/>
            <a:ext cx="1297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2000" y="3284640"/>
            <a:ext cx="1440000" cy="50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702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4121280"/>
            <a:ext cx="67816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for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horization (RS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phering (A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negotiation (RSA+MD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Fraud Detection Algorith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08360" y="234936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822600" cy="9842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32000" y="1773360"/>
            <a:ext cx="136872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32000" y="1773360"/>
            <a:ext cx="71640" cy="143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6"/>
          <a:stretch/>
        </p:blipFill>
        <p:spPr>
          <a:xfrm>
            <a:off x="4356000" y="3500280"/>
            <a:ext cx="426960" cy="720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 flipV="1">
            <a:off x="3132000" y="2852640"/>
            <a:ext cx="158436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1979640" y="907920"/>
            <a:ext cx="2160720" cy="1621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flipV="1">
            <a:off x="4716360" y="2420640"/>
            <a:ext cx="1224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0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5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" dur="5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0" y="1506600"/>
            <a:ext cx="2863800" cy="19224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2484360" y="907920"/>
            <a:ext cx="1473120" cy="3529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700360" y="4724280"/>
            <a:ext cx="553068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ost of CarToo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-scale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impler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9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4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394160" y="981000"/>
            <a:ext cx="355680" cy="962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067280" y="3141720"/>
            <a:ext cx="355320" cy="961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3276720" y="3789360"/>
            <a:ext cx="355320" cy="961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11280" y="2948040"/>
            <a:ext cx="355680" cy="961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7451640" y="1628640"/>
            <a:ext cx="355680" cy="962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5940360" y="3573360"/>
            <a:ext cx="474840" cy="1044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7"/>
          <a:stretch/>
        </p:blipFill>
        <p:spPr>
          <a:xfrm>
            <a:off x="6084720" y="1989000"/>
            <a:ext cx="474840" cy="1044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7236000" y="3141720"/>
            <a:ext cx="474480" cy="1044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2340000" y="1484280"/>
            <a:ext cx="474480" cy="10447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0"/>
          <a:stretch/>
        </p:blipFill>
        <p:spPr>
          <a:xfrm>
            <a:off x="3348000" y="2133720"/>
            <a:ext cx="474840" cy="1044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1"/>
          <a:stretch/>
        </p:blipFill>
        <p:spPr>
          <a:xfrm>
            <a:off x="4334040" y="3860640"/>
            <a:ext cx="474480" cy="10447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2"/>
          <a:stretch/>
        </p:blipFill>
        <p:spPr>
          <a:xfrm>
            <a:off x="4427640" y="2060640"/>
            <a:ext cx="863640" cy="7826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2195640" y="4869000"/>
            <a:ext cx="3581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NewRomanPS-Bold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MT"/>
              </a:rPr>
              <a:t>Initial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NewRomanPS-Bold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MT"/>
              </a:rPr>
              <a:t>Transitional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NewRomanPS-Bold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MT"/>
              </a:rPr>
              <a:t>Ultimate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3581280"/>
            <a:ext cx="457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3"/>
          <a:stretch/>
        </p:blipFill>
        <p:spPr>
          <a:xfrm>
            <a:off x="6156360" y="3860640"/>
            <a:ext cx="503280" cy="3384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4"/>
          <a:stretch/>
        </p:blipFill>
        <p:spPr>
          <a:xfrm>
            <a:off x="4572000" y="4149720"/>
            <a:ext cx="503280" cy="338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5"/>
          <a:stretch/>
        </p:blipFill>
        <p:spPr>
          <a:xfrm>
            <a:off x="7451640" y="3429000"/>
            <a:ext cx="503280" cy="338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6"/>
          <a:stretch/>
        </p:blipFill>
        <p:spPr>
          <a:xfrm>
            <a:off x="7596360" y="1844640"/>
            <a:ext cx="502920" cy="338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7"/>
          <a:stretch/>
        </p:blipFill>
        <p:spPr>
          <a:xfrm>
            <a:off x="6227640" y="2276640"/>
            <a:ext cx="503280" cy="338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18"/>
          <a:stretch/>
        </p:blipFill>
        <p:spPr>
          <a:xfrm>
            <a:off x="4572000" y="1268280"/>
            <a:ext cx="503280" cy="338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9"/>
          <a:stretch/>
        </p:blipFill>
        <p:spPr>
          <a:xfrm>
            <a:off x="3419640" y="4005360"/>
            <a:ext cx="502920" cy="3380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0"/>
          <a:stretch/>
        </p:blipFill>
        <p:spPr>
          <a:xfrm>
            <a:off x="4319640" y="3429000"/>
            <a:ext cx="503280" cy="3380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1"/>
          <a:stretch/>
        </p:blipFill>
        <p:spPr>
          <a:xfrm>
            <a:off x="2556000" y="3090960"/>
            <a:ext cx="503280" cy="3380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2"/>
          <a:stretch/>
        </p:blipFill>
        <p:spPr>
          <a:xfrm>
            <a:off x="3564000" y="2492280"/>
            <a:ext cx="503280" cy="3384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3"/>
          <a:stretch/>
        </p:blipFill>
        <p:spPr>
          <a:xfrm>
            <a:off x="2556000" y="1844640"/>
            <a:ext cx="503280" cy="3380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4"/>
          <a:stretch/>
        </p:blipFill>
        <p:spPr>
          <a:xfrm>
            <a:off x="4932360" y="213372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5"/>
          <a:stretch/>
        </p:blipFill>
        <p:spPr>
          <a:xfrm>
            <a:off x="5364000" y="1197000"/>
            <a:ext cx="1511640" cy="1133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6"/>
          <a:stretch/>
        </p:blipFill>
        <p:spPr>
          <a:xfrm>
            <a:off x="2700360" y="292428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7"/>
          <a:stretch/>
        </p:blipFill>
        <p:spPr>
          <a:xfrm>
            <a:off x="6372360" y="229536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28"/>
          <a:stretch/>
        </p:blipFill>
        <p:spPr>
          <a:xfrm>
            <a:off x="4572000" y="321300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9"/>
          <a:stretch/>
        </p:blipFill>
        <p:spPr>
          <a:xfrm>
            <a:off x="5724360" y="2997360"/>
            <a:ext cx="1511640" cy="1133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0"/>
          <a:stretch/>
        </p:blipFill>
        <p:spPr>
          <a:xfrm>
            <a:off x="7236000" y="386064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1"/>
          <a:stretch/>
        </p:blipFill>
        <p:spPr>
          <a:xfrm>
            <a:off x="2987640" y="1052640"/>
            <a:ext cx="1511280" cy="11332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4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V="1">
            <a:off x="4643280" y="2852640"/>
            <a:ext cx="1297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32000" y="3284640"/>
            <a:ext cx="1440000" cy="50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84000" y="0"/>
            <a:ext cx="6659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>
            <a:lum contrast="-90000"/>
          </a:blip>
          <a:stretch/>
        </p:blipFill>
        <p:spPr>
          <a:xfrm>
            <a:off x="3708360" y="234936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>
            <a:lum contrast="-90000"/>
          </a:blip>
          <a:stretch/>
        </p:blipFill>
        <p:spPr>
          <a:xfrm>
            <a:off x="2411280" y="1628640"/>
            <a:ext cx="822600" cy="9842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>
            <a:lum contrast="-90000"/>
          </a:blip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2000" y="1773360"/>
            <a:ext cx="136872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2000" y="1773360"/>
            <a:ext cx="71640" cy="143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6">
            <a:lum contrast="-74000"/>
          </a:blip>
          <a:stretch/>
        </p:blipFill>
        <p:spPr>
          <a:xfrm>
            <a:off x="4356000" y="3500280"/>
            <a:ext cx="426960" cy="720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 flipV="1">
            <a:off x="3132000" y="2852640"/>
            <a:ext cx="158436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716360" y="2420640"/>
            <a:ext cx="1224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7">
            <a:lum contrast="-70000"/>
          </a:blip>
          <a:stretch/>
        </p:blipFill>
        <p:spPr>
          <a:xfrm>
            <a:off x="1979640" y="907920"/>
            <a:ext cx="2160720" cy="1621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5" name="" descr=""/>
          <p:cNvPicPr/>
          <p:nvPr/>
        </p:nvPicPr>
        <p:blipFill>
          <a:blip r:embed="rId10">
            <a:lum contrast="-90000"/>
          </a:blip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556000" y="4437000"/>
            <a:ext cx="6172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ying at parking 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ying at gas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ying at drive-th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8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 flipV="1">
            <a:off x="4570560" y="3932280"/>
            <a:ext cx="129672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59280" y="4363920"/>
            <a:ext cx="1439640" cy="5050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875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635280" y="3429000"/>
            <a:ext cx="1513080" cy="11350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2338560" y="2708280"/>
            <a:ext cx="822240" cy="9842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2340000" y="4219560"/>
            <a:ext cx="860400" cy="5778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3562200" y="2492280"/>
            <a:ext cx="1656000" cy="12416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2411280" y="378792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 flipV="1">
            <a:off x="3059280" y="3139560"/>
            <a:ext cx="136836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130560" y="321300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59280" y="2852640"/>
            <a:ext cx="136836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59280" y="2852640"/>
            <a:ext cx="71280" cy="1440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4282920" y="4579920"/>
            <a:ext cx="427320" cy="720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 flipV="1">
            <a:off x="3059280" y="3931920"/>
            <a:ext cx="1584000" cy="43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1906560" y="1987560"/>
            <a:ext cx="2160720" cy="1620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 flipV="1">
            <a:off x="4643280" y="3500280"/>
            <a:ext cx="122400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12000" y="3860640"/>
            <a:ext cx="647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570560" y="3068640"/>
            <a:ext cx="129672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5794200" y="2779560"/>
          <a:ext cx="408240" cy="2122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94200" y="277956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8" name="" descr=""/>
          <p:cNvPicPr/>
          <p:nvPr/>
        </p:nvPicPr>
        <p:blipFill>
          <a:blip r:embed="rId10"/>
          <a:stretch/>
        </p:blipFill>
        <p:spPr>
          <a:xfrm>
            <a:off x="6515280" y="3213000"/>
            <a:ext cx="2304720" cy="1422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68000" y="2060640"/>
            <a:ext cx="687564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problems from everyday lif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5600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2781360"/>
            <a:ext cx="701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 automation of paying for p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ging for actual time of p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49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73080"/>
            <a:ext cx="176364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11280" y="0"/>
            <a:ext cx="673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of th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79640" y="4292640"/>
            <a:ext cx="69850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ide Unit - Parking Meter Unit (P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king with Car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Working engi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o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>
            <a:lum contrast="-90000"/>
          </a:blip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6">
            <a:lum contrast="-90000"/>
          </a:blip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3640" y="3716280"/>
            <a:ext cx="42498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nd h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inst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pular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ow power-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board and L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r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king with Car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Working engi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60600" y="4292640"/>
            <a:ext cx="66834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king places with P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U-less parking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0"/>
            <a:ext cx="6732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king with CarTo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6">
            <a:lum contrast="-90000"/>
          </a:blip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r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rking with Car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Working engi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95640" y="4114800"/>
            <a:ext cx="31622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zing place of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96000" y="4114800"/>
            <a:ext cx="3124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r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king with Car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Working engi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00360" y="0"/>
            <a:ext cx="644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ing engine de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609624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411280" y="3789360"/>
            <a:ext cx="609624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6096240" cy="95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484360" y="1628640"/>
            <a:ext cx="590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not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3284640"/>
            <a:ext cx="590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 starting and wor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4941720"/>
            <a:ext cx="590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mbling a c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ar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king with CarTo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orking engin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822600" cy="984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979640" y="907920"/>
            <a:ext cx="2160720" cy="162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1773360"/>
            <a:ext cx="136872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1773360"/>
            <a:ext cx="71640" cy="143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8">
            <a:lum contrast="-86000"/>
          </a:blip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56000" y="4221000"/>
            <a:ext cx="4919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pectors - Inspecto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to P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U-less parking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3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32000" y="3284640"/>
            <a:ext cx="1440000" cy="504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3280" y="2852640"/>
            <a:ext cx="129708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4581360"/>
            <a:ext cx="61722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l electronic accoun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ash Box Uni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rking credi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>
            <a:lum contrast="-90000"/>
          </a:blip>
          <a:stretch/>
        </p:blipFill>
        <p:spPr>
          <a:xfrm>
            <a:off x="2411280" y="1628640"/>
            <a:ext cx="822600" cy="984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413080" y="3139920"/>
            <a:ext cx="860400" cy="578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>
            <a:lum contrast="-90000"/>
          </a:blip>
          <a:stretch/>
        </p:blipFill>
        <p:spPr>
          <a:xfrm>
            <a:off x="3635280" y="141300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484360" y="270828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3132000" y="2060280"/>
            <a:ext cx="1368720" cy="108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203640" y="213372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773360"/>
            <a:ext cx="136872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1773360"/>
            <a:ext cx="71640" cy="1439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356000" y="3500280"/>
            <a:ext cx="42696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>
            <a:lum contrast="-90000"/>
          </a:blip>
          <a:stretch/>
        </p:blipFill>
        <p:spPr>
          <a:xfrm>
            <a:off x="1979640" y="907920"/>
            <a:ext cx="2160720" cy="1621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084720" y="278136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3280" y="1989000"/>
            <a:ext cx="12970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867280" y="1700280"/>
          <a:ext cx="408240" cy="2122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1700280"/>
                    <a:ext cx="408240" cy="21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6588000" y="2133720"/>
            <a:ext cx="2305080" cy="1422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1873080"/>
            <a:ext cx="1763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or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Admin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rketing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16:59:17Z</dcterms:created>
  <dc:creator>Lech Nowierski</dc:creator>
  <dc:description/>
  <dc:language>en-US</dc:language>
  <cp:lastModifiedBy>BlueTooth</cp:lastModifiedBy>
  <dcterms:modified xsi:type="dcterms:W3CDTF">2002-07-01T12:18:03Z</dcterms:modified>
  <cp:revision>205</cp:revision>
  <dc:subject/>
  <dc:title>CarTooth Project Car Payment System</dc:title>
</cp:coreProperties>
</file>