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lick to move the slide</a:t>
            </a:r>
            <a:endParaRPr b="0" lang="en-US" sz="20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A082-423A-40EA-AADE-ADD3AD3FAEA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B9EF-281C-412E-9426-8FBD9749FC9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9E1-4123-4D6D-AA55-EC0E1DB5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6C2-AECF-4904-8A92-6BDB770D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9FC-410F-4033-9780-CC25AE1C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BC5-B34F-4CD1-9788-903E5EFC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9B9F-D509-41C2-95CF-F6F3F732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8287-AB13-4B67-B41E-6D0B3FB4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98D5-BBE7-49B1-9519-556230CB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B2B6-405B-4498-BE61-BC4E32FE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3E07-E328-4684-B828-93C99563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960" y="50760"/>
            <a:ext cx="80787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80B9-579C-4A06-8492-FA4CEB5F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DABF-B0B6-4B17-A093-ADC09804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394-CD82-4338-A4E1-591EC3F9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7841-8617-4997-B86C-D236BF9E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1513-C8BC-4707-B540-56EB2A8B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54EF-88C2-4009-9FCB-87326D6E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86C1-2AE2-49F3-A508-E28FB9BA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3833-ADF9-4195-8C7D-1E11E464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3D8-DE23-4D0C-8A43-A8C80200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849-6467-4D8C-A32A-1E8F57AA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38B-C6F8-4B17-AB29-1EFE272A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50760"/>
            <a:ext cx="80787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A9E-14CD-48EF-B8E9-F7623421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964-BC3B-4CE0-9A1D-82D85D8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DEC-30B5-4625-A928-3E50F0F7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E6C-9418-4013-882C-476EF9A7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D788-86DD-4684-B7BA-23EF23EA90FB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3526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lick to edit the title text format</a:t>
            </a:r>
            <a:endParaRPr b="0" lang="en-US" sz="20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6139-9B45-4C03-8B67-85124F69391B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logopp-biale" descr=""/>
          <p:cNvPicPr/>
          <p:nvPr/>
        </p:nvPicPr>
        <p:blipFill>
          <a:blip r:embed="rId2"/>
          <a:stretch/>
        </p:blipFill>
        <p:spPr>
          <a:xfrm>
            <a:off x="0" y="2743200"/>
            <a:ext cx="2343240" cy="2233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43430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VII Wiosenny Turniej</a:t>
            </a:r>
            <a:br>
              <a:rPr sz="3600"/>
            </a:b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w Programowaniu Zespołowym</a:t>
            </a:r>
            <a:endParaRPr b="0" lang="en-US" sz="36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28800" y="57913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ccff"/>
                </a:solidFill>
                <a:latin typeface="Arial Narrow"/>
              </a:rPr>
              <a:t>Instytut Informaty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ccff"/>
                </a:solidFill>
                <a:latin typeface="Arial Narrow"/>
              </a:rPr>
              <a:t>Politechnika Poznańs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666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Poznań, 7 czerwca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laton_04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28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Organizatorzy Turnieju w Programowaniu Zespołowym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2322360"/>
            <a:ext cx="510552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Szczególne podziękowan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76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Bartosz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Nowier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chał 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R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 Narrow"/>
              </a:rPr>
              <a:t>Piotr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Zieliń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 Narrow"/>
              </a:rPr>
              <a:t>Łukasz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Gaj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 Narrow"/>
              </a:rPr>
              <a:t>Michał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Kowal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 Narrow"/>
              </a:rPr>
              <a:t>Bartosz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Ra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 Narrow"/>
              </a:rPr>
              <a:t>Rafał</a:t>
            </a:r>
            <a:r>
              <a:rPr b="1" lang="pl-PL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Staniszew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Łukasz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Szajkow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weł </a:t>
            </a:r>
            <a:r>
              <a:rPr b="1" lang="pl-PL" sz="2800" spc="-1" strike="noStrike">
                <a:solidFill>
                  <a:srgbClr val="99ccff"/>
                </a:solidFill>
                <a:latin typeface="Arial Narrow"/>
              </a:rPr>
              <a:t>Wid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795240"/>
            <a:ext cx="845820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nstytut Informatyki Politechniki Poznańskie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Koło Naukowe Studentów Informatyki Boob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olskie Towarzystwo Informatyczne, Oddział Wielkopol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VII Wiosenny Turniej w Programowaniu Zespołowym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57200" y="4572000"/>
            <a:ext cx="8229240" cy="2133360"/>
            <a:chOff x="457200" y="4572000"/>
            <a:chExt cx="8229240" cy="2133360"/>
          </a:xfrm>
        </p:grpSpPr>
        <p:sp>
          <p:nvSpPr>
            <p:cNvPr id="100" name=""/>
            <p:cNvSpPr/>
            <p:nvPr/>
          </p:nvSpPr>
          <p:spPr>
            <a:xfrm>
              <a:off x="457200" y="5193720"/>
              <a:ext cx="2743200" cy="1511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00400" y="4572000"/>
              <a:ext cx="2742480" cy="2133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3240" y="5816160"/>
              <a:ext cx="2743200" cy="888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2280" y="1981080"/>
            <a:ext cx="3124440" cy="2901240"/>
            <a:chOff x="152280" y="1981080"/>
            <a:chExt cx="3124440" cy="2901240"/>
          </a:xfrm>
        </p:grpSpPr>
        <p:sp>
          <p:nvSpPr>
            <p:cNvPr id="104" name=""/>
            <p:cNvSpPr/>
            <p:nvPr/>
          </p:nvSpPr>
          <p:spPr>
            <a:xfrm>
              <a:off x="152280" y="3016080"/>
              <a:ext cx="3124440" cy="18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Jan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Chmie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Wojciech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Jaśkows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Bartosz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Wielo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66ccff"/>
                  </a:solidFill>
                  <a:latin typeface="Arial Narrow"/>
                </a:rPr>
                <a:t>Politechnika Poznańsk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28600" y="1981080"/>
              <a:ext cx="2869920" cy="916920"/>
              <a:chOff x="228600" y="1981080"/>
              <a:chExt cx="2869920" cy="9169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228600" y="2057400"/>
                <a:ext cx="990720" cy="838080"/>
                <a:chOff x="228600" y="2057400"/>
                <a:chExt cx="990720" cy="8380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28600" y="2057400"/>
                  <a:ext cx="990720" cy="838080"/>
                </a:xfrm>
                <a:prstGeom prst="flowChartMultidocument">
                  <a:avLst/>
                </a:prstGeom>
                <a:solidFill>
                  <a:srgbClr val="eaeaea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28600" y="2209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800" spc="-1" strike="noStrike">
                      <a:solidFill>
                        <a:srgbClr val="0000ff"/>
                      </a:solidFill>
                      <a:latin typeface="Arial Black"/>
                    </a:rPr>
                    <a:t>5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295280" y="1981080"/>
                <a:ext cx="1803240" cy="916920"/>
                <a:chOff x="1295280" y="1981080"/>
                <a:chExt cx="1803240" cy="9169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95280" y="1981080"/>
                  <a:ext cx="8380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54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</a:t>
                  </a:r>
                  <a:endParaRPr b="0" lang="en-US" sz="5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55520" y="2135160"/>
                  <a:ext cx="1143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3200" spc="-1" strike="noStrike">
                      <a:solidFill>
                        <a:srgbClr val="ffffff"/>
                      </a:solidFill>
                      <a:latin typeface="Arial"/>
                    </a:rPr>
                    <a:t>571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2" name=""/>
          <p:cNvGrpSpPr/>
          <p:nvPr/>
        </p:nvGrpSpPr>
        <p:grpSpPr>
          <a:xfrm>
            <a:off x="3200400" y="1752480"/>
            <a:ext cx="3124080" cy="2519280"/>
            <a:chOff x="3200400" y="1752480"/>
            <a:chExt cx="3124080" cy="2519280"/>
          </a:xfrm>
        </p:grpSpPr>
        <p:sp>
          <p:nvSpPr>
            <p:cNvPr id="113" name=""/>
            <p:cNvSpPr/>
            <p:nvPr/>
          </p:nvSpPr>
          <p:spPr>
            <a:xfrm>
              <a:off x="3200400" y="2876400"/>
              <a:ext cx="3124080" cy="13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Stanisław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Skowrone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Władysław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Bodze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66ccff"/>
                  </a:solidFill>
                  <a:latin typeface="Arial Narrow"/>
                </a:rPr>
                <a:t>Politechnika Poznańsk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276360" y="1752480"/>
              <a:ext cx="2819520" cy="990360"/>
              <a:chOff x="3276360" y="1752480"/>
              <a:chExt cx="2819520" cy="9903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276360" y="1904760"/>
                <a:ext cx="990720" cy="838080"/>
                <a:chOff x="3276360" y="1904760"/>
                <a:chExt cx="990720" cy="8380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276360" y="1904760"/>
                  <a:ext cx="990720" cy="838080"/>
                </a:xfrm>
                <a:prstGeom prst="flowChartMultidocument">
                  <a:avLst/>
                </a:prstGeom>
                <a:solidFill>
                  <a:srgbClr val="eaeaea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276360" y="205704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800" spc="-1" strike="noStrike">
                      <a:solidFill>
                        <a:srgbClr val="0000ff"/>
                      </a:solidFill>
                      <a:latin typeface="Arial Black"/>
                    </a:rPr>
                    <a:t>7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292640" y="1752480"/>
                <a:ext cx="1803240" cy="916920"/>
                <a:chOff x="4292640" y="1752480"/>
                <a:chExt cx="1803240" cy="9169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292640" y="1752480"/>
                  <a:ext cx="8380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54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</a:t>
                  </a:r>
                  <a:endParaRPr b="0" lang="en-US" sz="5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52880" y="1906560"/>
                  <a:ext cx="1143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3200" spc="-1" strike="noStrike">
                      <a:solidFill>
                        <a:srgbClr val="ffffff"/>
                      </a:solidFill>
                      <a:latin typeface="Arial"/>
                    </a:rPr>
                    <a:t>1180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" name=""/>
          <p:cNvGrpSpPr/>
          <p:nvPr/>
        </p:nvGrpSpPr>
        <p:grpSpPr>
          <a:xfrm>
            <a:off x="6248520" y="2711520"/>
            <a:ext cx="2971800" cy="2856960"/>
            <a:chOff x="6248520" y="2711520"/>
            <a:chExt cx="2971800" cy="2856960"/>
          </a:xfrm>
        </p:grpSpPr>
        <p:sp>
          <p:nvSpPr>
            <p:cNvPr id="122" name=""/>
            <p:cNvSpPr/>
            <p:nvPr/>
          </p:nvSpPr>
          <p:spPr>
            <a:xfrm>
              <a:off x="6248520" y="3702240"/>
              <a:ext cx="2971800" cy="18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Jakub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Radoszews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Dawid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Sieradz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Szymon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Wąsi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66ccff"/>
                  </a:solidFill>
                  <a:latin typeface="Arial Narrow"/>
                </a:rPr>
                <a:t>VIII L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401160" y="2711520"/>
              <a:ext cx="2793600" cy="990360"/>
              <a:chOff x="6401160" y="2711520"/>
              <a:chExt cx="2793600" cy="9903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6401160" y="2863800"/>
                <a:ext cx="990360" cy="838080"/>
                <a:chOff x="6401160" y="2863800"/>
                <a:chExt cx="990360" cy="8380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1160" y="2863800"/>
                  <a:ext cx="990360" cy="838080"/>
                </a:xfrm>
                <a:prstGeom prst="flowChartMultidocument">
                  <a:avLst/>
                </a:prstGeom>
                <a:solidFill>
                  <a:srgbClr val="eaeaea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401160" y="3016080"/>
                  <a:ext cx="837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800" spc="-1" strike="noStrike">
                      <a:solidFill>
                        <a:srgbClr val="0000ff"/>
                      </a:solidFill>
                      <a:latin typeface="Arial Black"/>
                    </a:rPr>
                    <a:t>5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391520" y="2711520"/>
                <a:ext cx="1803240" cy="916920"/>
                <a:chOff x="7391520" y="2711520"/>
                <a:chExt cx="1803240" cy="9169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391520" y="2711520"/>
                  <a:ext cx="8380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54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</a:t>
                  </a:r>
                  <a:endParaRPr b="0" lang="en-US" sz="5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051760" y="2865600"/>
                  <a:ext cx="1143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3200" spc="-1" strike="noStrike">
                      <a:solidFill>
                        <a:srgbClr val="ffffff"/>
                      </a:solidFill>
                      <a:latin typeface="Arial"/>
                    </a:rPr>
                    <a:t>593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59092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5076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Do zobaczenia w przyszłym roku akademickim!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2895480"/>
            <a:ext cx="8686800" cy="12193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Dziękujemy i gratulujemy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zy Nawrocki</cp:lastModifiedBy>
  <dcterms:modified xsi:type="dcterms:W3CDTF">2003-06-07T13:12:21Z</dcterms:modified>
  <cp:revision>23</cp:revision>
  <dc:subject/>
  <dc:title>Prezentacja programu PowerPoint</dc:title>
</cp:coreProperties>
</file>