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lick to move the slide</a:t>
            </a:r>
            <a:endParaRPr b="0" lang="en-US" sz="20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F1F0-154C-4F6F-8A70-599AEBDD1B7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D2A4-0838-4631-9DB9-FAC101496A7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5560" y="4712760"/>
            <a:ext cx="604332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D2B-3FE0-4401-9942-A561E72D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758-2EA7-48E0-861B-1FCDE118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B7D-A966-4CC1-9033-0C8E5A6B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FD0-4343-4D25-94A1-07FB7C2F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2347-1422-4F56-B77F-9BEE5D37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CC9D-2C73-4E31-9022-1D1F4FF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E0B1-82C6-4C7B-9015-0D1AFF3E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B118-F41A-4855-8745-FF2791CE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8FCA-F23D-4EC8-A0AA-3834552D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960" y="50760"/>
            <a:ext cx="80787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AFC6-EEB8-4A6E-86AB-63C121DD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B2BE-AFAA-4072-BE70-EBAAB802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45C-2B1C-4044-9ACB-0976468B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ECB4-CEF8-40F4-8E2C-889D432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BDB2-2E75-43CA-ABFB-F03111FC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E3B8-DFE5-4E6A-BCAB-C571A0B6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9367-7309-4928-87AD-E5806D6D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236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0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236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0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AB64-9456-4806-9BED-2AA7898F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60C-250D-4A76-BDA4-ABE0CFD3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9E0-DC68-490F-B5CB-DC9EDEB3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464-C02B-4916-B874-FA2D2D06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50760"/>
            <a:ext cx="80787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F4A-B399-444E-9323-2F6C1582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83F-31F0-49D9-B748-2C556A1A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8D6-53A6-4FDE-97C0-06EE6902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27720"/>
            <a:ext cx="80787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A5A-08A5-4F25-B830-4303357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5120" y="6324120"/>
            <a:ext cx="19051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D2B5-0F61-40C6-80E0-1C4994D3848B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3526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lick to edit the title text format</a:t>
            </a:r>
            <a:endParaRPr b="0" lang="en-US" sz="20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5169-C595-48C8-ADB8-DB0161F6C670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logopp-biale" descr=""/>
          <p:cNvPicPr/>
          <p:nvPr/>
        </p:nvPicPr>
        <p:blipFill>
          <a:blip r:embed="rId2"/>
          <a:stretch/>
        </p:blipFill>
        <p:spPr>
          <a:xfrm>
            <a:off x="0" y="2743200"/>
            <a:ext cx="2343240" cy="2233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43430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Sparing</a:t>
            </a:r>
            <a:br>
              <a:rPr sz="3600"/>
            </a:b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w Programowaniu Zespołowym</a:t>
            </a:r>
            <a:endParaRPr b="0" lang="en-US" sz="36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28800" y="57913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ccff"/>
                </a:solidFill>
                <a:latin typeface="Arial Narrow"/>
              </a:rPr>
              <a:t>Instytut Informaty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ccff"/>
                </a:solidFill>
                <a:latin typeface="Arial Narrow"/>
              </a:rPr>
              <a:t>Politechnika Poznań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666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99ff"/>
                </a:solidFill>
                <a:latin typeface="Arial Narrow"/>
              </a:rPr>
              <a:t>Poznań, 13 marca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laton_04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28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Sparing w Programowaniu Zespołowym - Lokalnie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80880" y="4581360"/>
            <a:ext cx="8229240" cy="2133360"/>
            <a:chOff x="380880" y="4581360"/>
            <a:chExt cx="8229240" cy="2133360"/>
          </a:xfrm>
        </p:grpSpPr>
        <p:sp>
          <p:nvSpPr>
            <p:cNvPr id="97" name=""/>
            <p:cNvSpPr/>
            <p:nvPr/>
          </p:nvSpPr>
          <p:spPr>
            <a:xfrm>
              <a:off x="380880" y="5203080"/>
              <a:ext cx="2743200" cy="1511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4080" y="4581360"/>
              <a:ext cx="2742480" cy="2133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6920" y="5825520"/>
              <a:ext cx="2743200" cy="888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6320" y="1990800"/>
            <a:ext cx="3124080" cy="2883960"/>
            <a:chOff x="76320" y="1990800"/>
            <a:chExt cx="3124080" cy="2883960"/>
          </a:xfrm>
        </p:grpSpPr>
        <p:sp>
          <p:nvSpPr>
            <p:cNvPr id="101" name=""/>
            <p:cNvSpPr/>
            <p:nvPr/>
          </p:nvSpPr>
          <p:spPr>
            <a:xfrm>
              <a:off x="76320" y="3025800"/>
              <a:ext cx="3124080" cy="18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Michał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Drapiews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afał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Jezior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Kuba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Berlińs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300" spc="-1" strike="noStrike">
                  <a:solidFill>
                    <a:srgbClr val="66ccff"/>
                  </a:solidFill>
                  <a:latin typeface="Arial Narrow"/>
                </a:rPr>
                <a:t>UAM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52280" y="1990800"/>
              <a:ext cx="2869560" cy="916920"/>
              <a:chOff x="152280" y="1990800"/>
              <a:chExt cx="2869560" cy="91692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152280" y="2067120"/>
                <a:ext cx="990360" cy="838080"/>
                <a:chOff x="152280" y="2067120"/>
                <a:chExt cx="990360" cy="838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2280" y="2067120"/>
                  <a:ext cx="990360" cy="838080"/>
                </a:xfrm>
                <a:prstGeom prst="flowChartMultidocument">
                  <a:avLst/>
                </a:prstGeom>
                <a:solidFill>
                  <a:srgbClr val="eaeaea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2280" y="2219400"/>
                  <a:ext cx="837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ff"/>
                      </a:solidFill>
                      <a:latin typeface="Arial Black"/>
                    </a:rPr>
                    <a:t>4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218600" y="1990800"/>
                <a:ext cx="1803240" cy="916920"/>
                <a:chOff x="1218600" y="1990800"/>
                <a:chExt cx="1803240" cy="9169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218600" y="1990800"/>
                  <a:ext cx="838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54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</a:t>
                  </a:r>
                  <a:endParaRPr b="0" lang="en-US" sz="5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878840" y="2144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800" spc="-1" strike="noStrike">
                      <a:solidFill>
                        <a:srgbClr val="ffffff"/>
                      </a:solidFill>
                      <a:latin typeface="Arial"/>
                    </a:rPr>
                    <a:t>13:55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3352680" y="1228680"/>
            <a:ext cx="3124080" cy="2966760"/>
            <a:chOff x="3352680" y="1228680"/>
            <a:chExt cx="3124080" cy="2966760"/>
          </a:xfrm>
        </p:grpSpPr>
        <p:sp>
          <p:nvSpPr>
            <p:cNvPr id="110" name=""/>
            <p:cNvSpPr/>
            <p:nvPr/>
          </p:nvSpPr>
          <p:spPr>
            <a:xfrm>
              <a:off x="3352680" y="2352600"/>
              <a:ext cx="312408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Wojciech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Jaśkows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Dawid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Sieradz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Szymon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Wąsik</a:t>
              </a:r>
              <a:r>
                <a:rPr b="1" lang="pl-PL" sz="2400" spc="-1" strike="noStrike">
                  <a:solidFill>
                    <a:srgbClr val="66ccff"/>
                  </a:solidFill>
                  <a:latin typeface="Arial Narrow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300" spc="-1" strike="noStrike">
                  <a:solidFill>
                    <a:srgbClr val="66ccff"/>
                  </a:solidFill>
                  <a:latin typeface="Arial Narrow"/>
                </a:rPr>
                <a:t>PP + VIII LO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428640" y="1228680"/>
              <a:ext cx="2819520" cy="990360"/>
              <a:chOff x="3428640" y="1228680"/>
              <a:chExt cx="2819520" cy="9903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3428640" y="1380960"/>
                <a:ext cx="990720" cy="838080"/>
                <a:chOff x="3428640" y="1380960"/>
                <a:chExt cx="990720" cy="8380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428640" y="1380960"/>
                  <a:ext cx="990720" cy="838080"/>
                </a:xfrm>
                <a:prstGeom prst="flowChartMultidocument">
                  <a:avLst/>
                </a:prstGeom>
                <a:solidFill>
                  <a:srgbClr val="eaeaea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428640" y="153324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ff"/>
                      </a:solidFill>
                      <a:latin typeface="Arial Black"/>
                    </a:rPr>
                    <a:t>4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444920" y="1228680"/>
                <a:ext cx="1803240" cy="916920"/>
                <a:chOff x="4444920" y="1228680"/>
                <a:chExt cx="1803240" cy="9169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444920" y="1228680"/>
                  <a:ext cx="838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54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</a:t>
                  </a:r>
                  <a:endParaRPr b="0" lang="en-US" sz="5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105160" y="138276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3200" spc="-1" strike="noStrike">
                      <a:solidFill>
                        <a:srgbClr val="ffffff"/>
                      </a:solidFill>
                      <a:latin typeface="Arial"/>
                    </a:rPr>
                    <a:t>8:34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6172200" y="2720880"/>
            <a:ext cx="2971800" cy="2839680"/>
            <a:chOff x="6172200" y="2720880"/>
            <a:chExt cx="2971800" cy="2839680"/>
          </a:xfrm>
        </p:grpSpPr>
        <p:sp>
          <p:nvSpPr>
            <p:cNvPr id="119" name=""/>
            <p:cNvSpPr/>
            <p:nvPr/>
          </p:nvSpPr>
          <p:spPr>
            <a:xfrm>
              <a:off x="6172200" y="3711600"/>
              <a:ext cx="2971800" cy="18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Łukasz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Cieśni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Roman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Kamy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Marcin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Nowa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300" spc="-1" strike="noStrike">
                  <a:solidFill>
                    <a:srgbClr val="66ccff"/>
                  </a:solidFill>
                  <a:latin typeface="Arial Narrow"/>
                </a:rPr>
                <a:t>Politechnika Poznańska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324840" y="2720880"/>
              <a:ext cx="2793600" cy="990360"/>
              <a:chOff x="6324840" y="2720880"/>
              <a:chExt cx="2793600" cy="99036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6324840" y="2873160"/>
                <a:ext cx="990360" cy="838080"/>
                <a:chOff x="6324840" y="2873160"/>
                <a:chExt cx="990360" cy="8380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24840" y="2873160"/>
                  <a:ext cx="990360" cy="838080"/>
                </a:xfrm>
                <a:prstGeom prst="flowChartMultidocument">
                  <a:avLst/>
                </a:prstGeom>
                <a:solidFill>
                  <a:srgbClr val="eaeaea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24840" y="3025440"/>
                  <a:ext cx="837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ff"/>
                      </a:solidFill>
                      <a:latin typeface="Arial Black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315200" y="2720880"/>
                <a:ext cx="1803240" cy="916920"/>
                <a:chOff x="7315200" y="2720880"/>
                <a:chExt cx="1803240" cy="9169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315200" y="2720880"/>
                  <a:ext cx="838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54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</a:t>
                  </a:r>
                  <a:endParaRPr b="0" lang="en-US" sz="5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75440" y="287496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3200" spc="-1" strike="noStrike">
                      <a:solidFill>
                        <a:srgbClr val="ffffff"/>
                      </a:solidFill>
                      <a:latin typeface="Arial"/>
                    </a:rPr>
                    <a:t>8:05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078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Sparing – Najlepsza 10-ka lokalnie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914400"/>
            <a:ext cx="8839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4: W. Mruczkiewicz [LO 10], P. Gawron [PP], P.Biliński [LO 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5: R. Witkowski, K. Krzywdziński, P. Długosz [UAM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6: K. Witkowski, P. Polewski, P. Lichocki [PP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7: R. Malinowski, P. Hołubowicz, M. Maćkowiak [PP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8: M. Ignac, Sz. Wybrański [PP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9: J. Gorgolewski, W. Bodzek, M. Płaza [PP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 Narrow"/>
              </a:rPr>
              <a:t>10: J. Bartkowiak, Ł. Goral, B. Kukawka [ LO 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960" y="5076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Sparing w Programowaniu Zespołowym - Globalnie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920" y="4572000"/>
            <a:ext cx="8229240" cy="2133360"/>
            <a:chOff x="304920" y="4572000"/>
            <a:chExt cx="8229240" cy="2133360"/>
          </a:xfrm>
        </p:grpSpPr>
        <p:sp>
          <p:nvSpPr>
            <p:cNvPr id="131" name=""/>
            <p:cNvSpPr/>
            <p:nvPr/>
          </p:nvSpPr>
          <p:spPr>
            <a:xfrm>
              <a:off x="304920" y="5193720"/>
              <a:ext cx="2743200" cy="1511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4572000"/>
              <a:ext cx="2742480" cy="2133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0960" y="5816160"/>
              <a:ext cx="2743200" cy="888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66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1981080"/>
            <a:ext cx="3124080" cy="2901240"/>
            <a:chOff x="0" y="1981080"/>
            <a:chExt cx="3124080" cy="2901240"/>
          </a:xfrm>
        </p:grpSpPr>
        <p:sp>
          <p:nvSpPr>
            <p:cNvPr id="135" name=""/>
            <p:cNvSpPr/>
            <p:nvPr/>
          </p:nvSpPr>
          <p:spPr>
            <a:xfrm>
              <a:off x="0" y="3016080"/>
              <a:ext cx="3124080" cy="18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Michał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Adamasze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Marcin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Pilipczu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Marcin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Michals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66ccff"/>
                  </a:solidFill>
                  <a:latin typeface="Arial Narrow"/>
                </a:rPr>
                <a:t>Uniwersytet Warszawsk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5960" y="1981080"/>
              <a:ext cx="2869560" cy="916920"/>
              <a:chOff x="75960" y="1981080"/>
              <a:chExt cx="2869560" cy="91692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75960" y="2057400"/>
                <a:ext cx="990360" cy="838080"/>
                <a:chOff x="75960" y="2057400"/>
                <a:chExt cx="990360" cy="838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5960" y="2057400"/>
                  <a:ext cx="990360" cy="838080"/>
                </a:xfrm>
                <a:prstGeom prst="flowChartMultidocument">
                  <a:avLst/>
                </a:prstGeom>
                <a:solidFill>
                  <a:srgbClr val="eaeaea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960" y="2209680"/>
                  <a:ext cx="837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ff"/>
                      </a:solidFill>
                      <a:latin typeface="Arial Black"/>
                    </a:rPr>
                    <a:t>6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142280" y="1981080"/>
                <a:ext cx="1803240" cy="916920"/>
                <a:chOff x="1142280" y="1981080"/>
                <a:chExt cx="1803240" cy="9169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142280" y="1981080"/>
                  <a:ext cx="838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54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</a:t>
                  </a:r>
                  <a:endParaRPr b="0" lang="en-US" sz="5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02520" y="213516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800" spc="-1" strike="noStrike">
                      <a:solidFill>
                        <a:srgbClr val="ffffff"/>
                      </a:solidFill>
                      <a:latin typeface="Arial"/>
                    </a:rPr>
                    <a:t>11:26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" name=""/>
          <p:cNvGrpSpPr/>
          <p:nvPr/>
        </p:nvGrpSpPr>
        <p:grpSpPr>
          <a:xfrm>
            <a:off x="3124080" y="1219320"/>
            <a:ext cx="3124080" cy="2984040"/>
            <a:chOff x="3124080" y="1219320"/>
            <a:chExt cx="3124080" cy="2984040"/>
          </a:xfrm>
        </p:grpSpPr>
        <p:sp>
          <p:nvSpPr>
            <p:cNvPr id="144" name=""/>
            <p:cNvSpPr/>
            <p:nvPr/>
          </p:nvSpPr>
          <p:spPr>
            <a:xfrm>
              <a:off x="3124080" y="2343240"/>
              <a:ext cx="3124080" cy="18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Tomasz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Malesińs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Paweł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Pary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Krzysztof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Onak</a:t>
              </a:r>
              <a:r>
                <a:rPr b="1" lang="pl-PL" sz="2400" spc="-1" strike="noStrike">
                  <a:solidFill>
                    <a:srgbClr val="66ccff"/>
                  </a:solidFill>
                  <a:latin typeface="Arial Narrow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66ccff"/>
                  </a:solidFill>
                  <a:latin typeface="Arial Narrow"/>
                </a:rPr>
                <a:t>Uniwersytet Warszawsk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200040" y="1219320"/>
              <a:ext cx="2819520" cy="990360"/>
              <a:chOff x="3200040" y="1219320"/>
              <a:chExt cx="2819520" cy="9903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200040" y="1371600"/>
                <a:ext cx="990720" cy="838080"/>
                <a:chOff x="3200040" y="1371600"/>
                <a:chExt cx="990720" cy="8380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200040" y="1371600"/>
                  <a:ext cx="990720" cy="838080"/>
                </a:xfrm>
                <a:prstGeom prst="flowChartMultidocument">
                  <a:avLst/>
                </a:prstGeom>
                <a:solidFill>
                  <a:srgbClr val="eaeaea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00040" y="15238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ff"/>
                      </a:solidFill>
                      <a:latin typeface="Arial Black"/>
                    </a:rPr>
                    <a:t>8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216320" y="1219320"/>
                <a:ext cx="1803240" cy="916920"/>
                <a:chOff x="4216320" y="1219320"/>
                <a:chExt cx="1803240" cy="9169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216320" y="1219320"/>
                  <a:ext cx="838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54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</a:t>
                  </a:r>
                  <a:endParaRPr b="0" lang="en-US" sz="5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876560" y="137340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800" spc="-1" strike="noStrike">
                      <a:solidFill>
                        <a:srgbClr val="ffffff"/>
                      </a:solidFill>
                      <a:latin typeface="Arial"/>
                    </a:rPr>
                    <a:t>17:15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6095880" y="2711520"/>
            <a:ext cx="3124080" cy="2385720"/>
            <a:chOff x="6095880" y="2711520"/>
            <a:chExt cx="3124080" cy="2385720"/>
          </a:xfrm>
        </p:grpSpPr>
        <p:sp>
          <p:nvSpPr>
            <p:cNvPr id="153" name=""/>
            <p:cNvSpPr/>
            <p:nvPr/>
          </p:nvSpPr>
          <p:spPr>
            <a:xfrm>
              <a:off x="6095880" y="3701880"/>
              <a:ext cx="3124080" cy="13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Paweł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Gawrychows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Arial Narrow"/>
                </a:rPr>
                <a:t>Jakub </a:t>
              </a:r>
              <a:r>
                <a:rPr b="1" lang="pl-PL" sz="2800" spc="-1" strike="noStrike">
                  <a:solidFill>
                    <a:srgbClr val="ffff00"/>
                  </a:solidFill>
                  <a:latin typeface="Arial Narrow"/>
                </a:rPr>
                <a:t>Łopuszańsk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66ccff"/>
                  </a:solidFill>
                  <a:latin typeface="Arial Narrow"/>
                </a:rPr>
                <a:t>Uniwersytet Wrocławsk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256080" y="2711520"/>
              <a:ext cx="2936520" cy="990000"/>
              <a:chOff x="6256080" y="2711520"/>
              <a:chExt cx="2936520" cy="9900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6256080" y="2863440"/>
                <a:ext cx="1040760" cy="838080"/>
                <a:chOff x="6256080" y="2863440"/>
                <a:chExt cx="1040760" cy="8380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256080" y="2863440"/>
                  <a:ext cx="1040760" cy="838080"/>
                </a:xfrm>
                <a:prstGeom prst="flowChartMultidocument">
                  <a:avLst/>
                </a:prstGeom>
                <a:solidFill>
                  <a:srgbClr val="eaeaea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56080" y="3015720"/>
                  <a:ext cx="88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800" spc="-1" strike="noStrike">
                      <a:solidFill>
                        <a:srgbClr val="0000ff"/>
                      </a:solidFill>
                      <a:latin typeface="Arial Black"/>
                    </a:rPr>
                    <a:t>6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297200" y="2711520"/>
                <a:ext cx="1895400" cy="916920"/>
                <a:chOff x="7297200" y="2711520"/>
                <a:chExt cx="1895400" cy="9169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297200" y="2711520"/>
                  <a:ext cx="8809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5400" spc="-1" strike="noStrike">
                      <a:solidFill>
                        <a:srgbClr val="ffffff"/>
                      </a:solidFill>
                      <a:latin typeface="Wingdings"/>
                      <a:ea typeface="Wingdings"/>
                    </a:rPr>
                    <a:t></a:t>
                  </a:r>
                  <a:endParaRPr b="0" lang="en-US" sz="5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991280" y="2865240"/>
                  <a:ext cx="1201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800" spc="-1" strike="noStrike">
                      <a:solidFill>
                        <a:srgbClr val="ffffff"/>
                      </a:solidFill>
                      <a:latin typeface="Arial"/>
                    </a:rPr>
                    <a:t>18:24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59092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99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0066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20" y="5076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66"/>
                </a:solidFill>
                <a:latin typeface="Arial Narrow"/>
              </a:rPr>
              <a:t>Do zobaczenia na następnych zawodach!</a:t>
            </a:r>
            <a:endParaRPr b="0" lang="en-US" sz="3200" spc="-1" strike="noStrike">
              <a:solidFill>
                <a:srgbClr val="ffff66"/>
              </a:solidFill>
              <a:latin typeface="Arial Narrow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2895480"/>
            <a:ext cx="8686800" cy="1219320"/>
          </a:xfrm>
          <a:prstGeom prst="rect">
            <a:avLst/>
          </a:prstGeom>
        </p:spPr>
        <p:txBody>
          <a:bodyPr wrap="none" lIns="90000" rIns="90000" tIns="91440" bIns="9144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3399ff"/>
                  </a:outerShdw>
                </a:effectLst>
                <a:latin typeface="Arial Black"/>
              </a:rPr>
              <a:t>Dziękujemy i gratulujemy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4303641" blurRad="0" rotWithShape="0">
                  <a:srgbClr val="33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tosz Nowierski</cp:lastModifiedBy>
  <dcterms:modified xsi:type="dcterms:W3CDTF">2004-03-17T16:19:05Z</dcterms:modified>
  <cp:revision>29</cp:revision>
  <dc:subject/>
  <dc:title>Prezentacja programu PowerPoint</dc:title>
</cp:coreProperties>
</file>